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B48A-7DA9-4943-8ADF-FE7A688DF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508F-3DFF-4436-B4F8-4A85EDE83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8779-5210-4522-B2EA-E0FD56639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7D4D-EE71-429A-AAA1-07B2DB2F3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900E-CBF5-4815-9F69-B63FB73E9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D236-0119-47B8-B4C9-6C19D54F9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0C4A-1300-47C0-93D6-2454DAE5A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AD76-05D6-402B-A6DA-E5AABA033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8DA3-F6A7-4DFB-ACCE-DDCC82ED0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874B-DAA1-4C0D-A889-294914A21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4436-27AE-4311-B8B9-0747CFD16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DC19-F438-4FCE-A0C0-4A5290246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42003-4809-4A8A-BD43-FB95D7C15F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Λ(1405) in a hybrid quark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42920" y="4076280"/>
            <a:ext cx="2890800" cy="16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9640" y="1988640"/>
            <a:ext cx="54100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. Nakamoto (Suzuka College of Technolog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. Nemura (Advanced Meson Science Laboratory, DRI, RIK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NIC05    24OCT2005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70ED-BAEB-48AB-9F3E-E14E71C189A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any-body calculation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⇒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tochastic Variational Method 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　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 K.Varga and Y. Suzuki,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PRC52 (1995) 288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solve the five-body problem dynamical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26920" y="1557360"/>
            <a:ext cx="4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NIC05    24OCT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93F9-F044-4CF9-BB2F-E8DA07709B1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000" y="1483920"/>
            <a:ext cx="388764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Baryon groun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Ｎ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939)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: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949 MeV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Δ(1232) : 1245 M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Λ(1116) : 1116 Me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1193)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1235 M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Ξ(1318) : 1320 M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NIC05    24OCT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FA69-E748-403C-9B6E-69E206C1BE8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4000" y="1483920"/>
            <a:ext cx="388764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Baryon groun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Ｎ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939)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: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949 MeV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Δ(1232) : 1245 M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Λ(1116) : 1116 Me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1193)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1235 M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Ξ(1318) : 1320 M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55640" y="4437000"/>
            <a:ext cx="295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eson spectr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π(140) : 250 M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K(496) : 526 M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K*(892) : 905 M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NIC05    24OCT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A82C-6076-4E7F-8F11-05B229C32F4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000" y="1483920"/>
            <a:ext cx="388764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Baryon groun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Ｎ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939)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: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949 MeV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Δ(1232) : 1245 M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Λ(1116) : 1116 Me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1193)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1235 M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Ξ(1318) : 1320 M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716360" y="1484280"/>
            <a:ext cx="360072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Baryon exc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N(1440) : 1399 M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Δ(1600) : 1609 M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Λ(1600) : 1568 M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Σ(1660) : 1648 M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Ξ(unknown) : 1750 M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55640" y="4437000"/>
            <a:ext cx="295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eson spectr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π(140) : 250 M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K(496) : 526 M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K*(892) : 905 M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NIC05    24OCT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EEB8-C21D-4412-A0D6-638DA868500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50752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ontribution from each te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N(949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K:1745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</a:rPr>
              <a:t>conf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:291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</a:rPr>
              <a:t>cc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:-911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</a:rPr>
              <a:t>cm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:-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</a:rPr>
              <a:t>π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:(36 –148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</a:rPr>
              <a:t>σ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:(–148 +9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Ｎ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1398) K:1711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</a:rPr>
              <a:t>conf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:489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</a:rPr>
              <a:t>cc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:-659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</a:rPr>
              <a:t>cm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:-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</a:rPr>
              <a:t>π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:(25 </a:t>
            </a:r>
            <a:r>
              <a:rPr b="0" lang="ja-JP" sz="2800" spc="-1" strike="noStrike">
                <a:solidFill>
                  <a:srgbClr val="ff0000"/>
                </a:solidFill>
                <a:latin typeface="Arial"/>
              </a:rPr>
              <a:t>–105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</a:rPr>
              <a:t>σ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:(</a:t>
            </a:r>
            <a:r>
              <a:rPr b="0" lang="ja-JP" sz="2800" spc="-1" strike="noStrike">
                <a:solidFill>
                  <a:srgbClr val="ff0000"/>
                </a:solidFill>
                <a:latin typeface="Arial"/>
              </a:rPr>
              <a:t>–99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+6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4292640"/>
            <a:ext cx="81374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ja-JP" sz="2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/(4π)μ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/(12m</a:t>
            </a:r>
            <a:r>
              <a:rPr b="0" lang="ja-JP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ja-JP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×[ exp(-μr)/r </a:t>
            </a:r>
            <a:r>
              <a:rPr b="0" lang="ja-JP" sz="2800" spc="-1" strike="noStrike">
                <a:solidFill>
                  <a:srgbClr val="ff0000"/>
                </a:solidFill>
                <a:latin typeface="Arial"/>
              </a:rPr>
              <a:t>– (Λ/μ)</a:t>
            </a:r>
            <a:r>
              <a:rPr b="0" lang="ja-JP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ja-JP" sz="2800" spc="-1" strike="noStrike">
                <a:solidFill>
                  <a:srgbClr val="ff0000"/>
                </a:solidFill>
                <a:latin typeface="Arial"/>
              </a:rPr>
              <a:t> exp(-Λr)/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](τ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τ)(σ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5280" y="5373720"/>
            <a:ext cx="784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- g</a:t>
            </a:r>
            <a:r>
              <a:rPr b="0" lang="ja-JP" sz="2800" spc="-1" strike="noStrike" baseline="-25000">
                <a:solidFill>
                  <a:srgbClr val="000000"/>
                </a:solidFill>
                <a:latin typeface="Arial"/>
              </a:rPr>
              <a:t>σ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/(4π) [ </a:t>
            </a:r>
            <a:r>
              <a:rPr b="0" lang="ja-JP" sz="2800" spc="-1" strike="noStrike">
                <a:solidFill>
                  <a:srgbClr val="ff0000"/>
                </a:solidFill>
                <a:latin typeface="Arial"/>
              </a:rPr>
              <a:t>exp(-μr)/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–  exp(-Λr)/r 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NIC05    24OCT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3817-7DE6-4509-A63B-7609A155E35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000" y="1483920"/>
            <a:ext cx="388764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Baryon groun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Ｎ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939)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: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949 MeV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Δ(1232) : 1245 M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Λ(1116) : 1116 Me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1193)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1235 M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Ξ(1318) : 1320 M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16360" y="1484280"/>
            <a:ext cx="360072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Baryon exc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N(1440) : 1399 M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Δ(1600) : 1609 M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Λ(1600) : 1568 M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Σ(1660) : 1648 M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Ξ(unknown) : 1750 M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5640" y="4437000"/>
            <a:ext cx="295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eson spectr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π(140) : 250 M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K(496) : 526 M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K*(892) : 905 M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56000" y="4508640"/>
            <a:ext cx="41767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Arial"/>
              </a:rPr>
              <a:t>Λ(14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400" spc="-1" strike="noStrike">
                <a:solidFill>
                  <a:srgbClr val="ff0000"/>
                </a:solidFill>
                <a:latin typeface="ＭＳ Ｐゴシック"/>
              </a:rPr>
              <a:t>q</a:t>
            </a:r>
            <a:r>
              <a:rPr b="0" lang="ja-JP" sz="24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  : 1421 M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400" spc="-1" strike="noStrike">
                <a:solidFill>
                  <a:srgbClr val="ff0000"/>
                </a:solidFill>
                <a:latin typeface="ＭＳ Ｐゴシック"/>
              </a:rPr>
              <a:t>q</a:t>
            </a:r>
            <a:r>
              <a:rPr b="0" lang="ja-JP" sz="2400" spc="-1" strike="noStrike" baseline="30000">
                <a:solidFill>
                  <a:srgbClr val="ff0000"/>
                </a:solidFill>
                <a:latin typeface="Arial"/>
              </a:rPr>
              <a:t>4</a:t>
            </a:r>
            <a:r>
              <a:rPr b="0" i="1" lang="ja-JP" sz="2400" spc="-1" strike="noStrike">
                <a:solidFill>
                  <a:srgbClr val="ff0000"/>
                </a:solidFill>
                <a:latin typeface="ＭＳ Ｐゴシック"/>
              </a:rPr>
              <a:t>q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 : 1388 M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0" y="5373720"/>
            <a:ext cx="43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ff0000"/>
                </a:solidFill>
                <a:latin typeface="Times New Roman"/>
              </a:rPr>
              <a:t>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NIC05    24OCT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2ED2-F381-4049-8C27-B2030A69331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investigated the baryon spectrum and the Λ(1405) in the minimum realistic quark model, involving a confinement potential, a one-gluon exchange potential and π, K and σ-exchange potentia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Free parameters were determined to reproduce the baryon ground states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Light mesons and some positive parity excited baryons including Roper resonance were reproduced reasonabl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Arial"/>
              </a:rPr>
              <a:t>Reproduction of Roper resonance may be due to the large contribution from short-range π-exchange potential because owing to the small cut-off parameter, and the introduction of σ-exchange potential between quarks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nergy of </a:t>
            </a:r>
            <a:r>
              <a:rPr b="0" i="1" lang="en-US" sz="2000" spc="-1" strike="noStrike">
                <a:solidFill>
                  <a:srgbClr val="ff0000"/>
                </a:solidFill>
                <a:latin typeface="ＭＳ Ｐゴシック"/>
              </a:rPr>
              <a:t>q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4</a:t>
            </a:r>
            <a:r>
              <a:rPr b="0" i="1" lang="en-US" sz="2000" spc="-1" strike="noStrike">
                <a:solidFill>
                  <a:srgbClr val="ff0000"/>
                </a:solidFill>
                <a:latin typeface="ＭＳ Ｐゴシック"/>
              </a:rPr>
              <a:t>q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– state as Λ(1405) become lower than that of </a:t>
            </a:r>
            <a:r>
              <a:rPr b="0" i="1" lang="en-US" sz="2000" spc="-1" strike="noStrike">
                <a:solidFill>
                  <a:srgbClr val="ff0000"/>
                </a:solidFill>
                <a:latin typeface="ＭＳ Ｐゴシック"/>
              </a:rPr>
              <a:t>q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state in the present mod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We will investigate further ; other set of parameters, contribution from the non-central force, channel-coupling effec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00360" y="4221000"/>
            <a:ext cx="43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0000"/>
                </a:solidFill>
                <a:latin typeface="Times New Roman"/>
              </a:rPr>
              <a:t>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NIC05    24OCT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990F-92B3-4D7A-A493-01999DF8A68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924360" y="-1108080"/>
            <a:ext cx="6200640" cy="85597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-252360" y="-963720"/>
            <a:ext cx="5192640" cy="850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NIC05    24OCT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8700-8880-4D0E-9E21-C9BD3259FFC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476360" y="-963720"/>
            <a:ext cx="6197760" cy="8556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NIC05    24OCT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E93F-33FD-47AF-845A-54BBF24E05F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95280" y="5373360"/>
            <a:ext cx="82296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762120" indent="-76212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589720"/>
            <a:ext cx="8229600" cy="9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765000"/>
            <a:ext cx="83739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1268280"/>
            <a:ext cx="62643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762120" indent="-762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(1405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⇒　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4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42920" y="3500280"/>
            <a:ext cx="69850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762120" indent="-762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If we introduce </a:t>
            </a:r>
            <a:r>
              <a:rPr b="0" lang="ja-JP" sz="3200" spc="-1" strike="noStrike">
                <a:solidFill>
                  <a:srgbClr val="0033cc"/>
                </a:solidFill>
                <a:latin typeface="Arial"/>
              </a:rPr>
              <a:t>the minimum realistic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ja-JP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ja-JP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interaction in a quark model, 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ow is Λ(1405) represented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88000" y="2421000"/>
            <a:ext cx="43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ff0000"/>
                </a:solidFill>
                <a:latin typeface="Times New Roman"/>
              </a:rPr>
              <a:t>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24360" y="17733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NIC05    24OCT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8011-0B1E-43F8-847C-6F77966620C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9640" y="692280"/>
            <a:ext cx="820908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762120" indent="-762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‘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e minimum realist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’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26920" y="1413000"/>
            <a:ext cx="75614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838080" indent="-83808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nfinement mechanism between quarks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16000" y="4005360"/>
            <a:ext cx="698508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762120" indent="-762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quark-Hamiltonian includes  these effects and reproduces the baryon ground state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is Λ(1405) represen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71640" y="234936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（２）　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luon-exchange effect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71640" y="2997360"/>
            <a:ext cx="77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（３）　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eson-exchange effect to describ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 nuclear fo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NIC05    24OCT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3280-9C8C-43A9-9266-E2D41998704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497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1) Confinement mechanism between qu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⇒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confinement potential : - (λ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・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λ) </a:t>
            </a:r>
            <a:r>
              <a:rPr b="1" i="1" lang="ja-JP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ja-JP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 free parameter </a:t>
            </a:r>
            <a:r>
              <a:rPr b="1" i="1" lang="ja-JP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mainly determines the energy shift of the baryon ground stat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It is determined to reproduce the overall baryon ground st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ja-JP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= 43.5 MeV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fm</a:t>
            </a:r>
            <a:r>
              <a:rPr b="0" lang="ja-JP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２．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NIC05    24OCT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B225-5094-4638-AA29-BA283C070C3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42472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2) Gluon-exchange ef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⇒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one-gluon exchange pote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1/4 </a:t>
            </a: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(λ</a:t>
            </a: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・</a:t>
            </a: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λ)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ja-JP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×[1/r-π/2{1/m</a:t>
            </a:r>
            <a:r>
              <a:rPr b="0" lang="ja-JP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+1/m</a:t>
            </a:r>
            <a:r>
              <a:rPr b="0" lang="ja-JP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+4/(3m</a:t>
            </a:r>
            <a:r>
              <a:rPr b="0" lang="ja-JP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ja-JP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(σ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σ)}δ(r)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・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finite spatial extent of the constituent qua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δ(r) ⇒ Λ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/(8π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</a:rPr>
              <a:t>3/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exp[-1/2(Λr)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ja-JP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= 1.38 (free parame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ja-JP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ja-JP" sz="2800" spc="-1" strike="noStrike" baseline="-25000">
                <a:solidFill>
                  <a:srgbClr val="000000"/>
                </a:solidFill>
                <a:latin typeface="Times New Roman"/>
              </a:rPr>
              <a:t>ud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= 340 MeV, </a:t>
            </a:r>
            <a:r>
              <a:rPr b="0" i="1" lang="ja-JP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ja-JP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= 580 MeV (free parame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Λ= 5 fm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NIC05    24OCT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E8D9-6C5A-403B-977A-5FD6D968648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94920" y="404640"/>
            <a:ext cx="84978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3) Meson-exchange ef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⇒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NG-boson exchange pote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・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πand </a:t>
            </a:r>
            <a:r>
              <a:rPr b="0" i="1" lang="ja-JP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-exchange potential with each form fa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ja-JP" sz="2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/(4π)μ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/(12m</a:t>
            </a:r>
            <a:r>
              <a:rPr b="0" lang="ja-JP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ja-JP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×[ exp(-μr)/r – (Λ/μ)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xp(-Λr)/r 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×(τ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τ or 2</a:t>
            </a:r>
            <a:r>
              <a:rPr b="0" i="1" lang="ja-JP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ja-JP" sz="2800" spc="-1" strike="noStrike" baseline="30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(σ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ja-JP" sz="2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/(4π) = (3/5)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ja-JP" sz="2800" spc="-1" strike="noStrike" baseline="-25000">
                <a:solidFill>
                  <a:srgbClr val="000000"/>
                </a:solidFill>
                <a:latin typeface="Arial"/>
              </a:rPr>
              <a:t>πN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/(4π)</a:t>
            </a:r>
            <a:r>
              <a:rPr b="0" i="1" lang="ja-JP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ja-JP" sz="28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ja-JP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ja-JP" sz="2800" spc="-1" strike="noStrike">
                <a:solidFill>
                  <a:srgbClr val="000000"/>
                </a:solidFill>
                <a:latin typeface="Times New Roman"/>
              </a:rPr>
              <a:t>/m</a:t>
            </a:r>
            <a:r>
              <a:rPr b="0" i="1" lang="ja-JP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ja-JP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ja-JP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= 0.6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ja-JP" sz="2800" spc="-1" strike="noStrike" baseline="-25000">
                <a:solidFill>
                  <a:srgbClr val="000000"/>
                </a:solidFill>
                <a:latin typeface="Arial"/>
              </a:rPr>
              <a:t>π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= 1.8 fm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</a:rPr>
              <a:t>-1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 free parame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i="1" lang="ja-JP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= 2.3 fm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</a:rPr>
              <a:t>-1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 free parame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NIC05    24OCT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0F5B-F251-48B5-A99A-B66890D2A6D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・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σ- exchange potential as the chiral partner of 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- g</a:t>
            </a:r>
            <a:r>
              <a:rPr b="0" lang="ja-JP" sz="3200" spc="-1" strike="noStrike" baseline="-25000">
                <a:solidFill>
                  <a:srgbClr val="000000"/>
                </a:solidFill>
                <a:latin typeface="Arial"/>
              </a:rPr>
              <a:t>σ</a:t>
            </a:r>
            <a:r>
              <a:rPr b="0" lang="ja-JP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/(4π) [ exp(-μr)/r – </a:t>
            </a:r>
            <a:r>
              <a:rPr b="0" lang="ja-JP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exp(-Λr)/r 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ja-JP" sz="3200" spc="-1" strike="noStrike" baseline="-25000">
                <a:solidFill>
                  <a:srgbClr val="000000"/>
                </a:solidFill>
                <a:latin typeface="Arial"/>
              </a:rPr>
              <a:t>σ</a:t>
            </a:r>
            <a:r>
              <a:rPr b="0" lang="ja-JP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/(4π) = g</a:t>
            </a:r>
            <a:r>
              <a:rPr b="0" lang="ja-JP" sz="32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ja-JP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/(4π) = 0.6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ja-JP" sz="3200" spc="-1" strike="noStrike" baseline="-25000">
                <a:solidFill>
                  <a:srgbClr val="000000"/>
                </a:solidFill>
                <a:latin typeface="Arial"/>
              </a:rPr>
              <a:t>σ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= √{(2</a:t>
            </a:r>
            <a:r>
              <a:rPr b="0" i="1" lang="ja-JP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ja-JP" sz="32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ja-JP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ja-JP" sz="3200" spc="-1" strike="noStrike" baseline="-25000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ja-JP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} = 694 M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ja-JP" sz="3200" spc="-1" strike="noStrike" baseline="-25000">
                <a:solidFill>
                  <a:srgbClr val="000000"/>
                </a:solidFill>
                <a:latin typeface="Arial"/>
              </a:rPr>
              <a:t>σ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= 5 fm</a:t>
            </a:r>
            <a:r>
              <a:rPr b="0" lang="ja-JP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NIC05    24OCT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2CE8-6D1F-4670-90A7-95BA6142232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8360" y="620280"/>
            <a:ext cx="822960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rk-Hamilton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26920" y="1341360"/>
            <a:ext cx="7704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3200" spc="-1" strike="noStrike">
                <a:solidFill>
                  <a:srgbClr val="000000"/>
                </a:solidFill>
                <a:latin typeface="Times New Roman"/>
              </a:rPr>
              <a:t>H = </a:t>
            </a:r>
            <a:r>
              <a:rPr b="0" i="1" lang="ja-JP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i="1" lang="ja-JP" sz="3200" spc="-1" strike="noStrike">
                <a:solidFill>
                  <a:srgbClr val="000000"/>
                </a:solidFill>
                <a:latin typeface="Times New Roman"/>
              </a:rPr>
              <a:t>　  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ja-JP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ja-JP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ja-JP" sz="3200" spc="-1" strike="noStrike">
                <a:solidFill>
                  <a:srgbClr val="000000"/>
                </a:solidFill>
                <a:latin typeface="Times New Roman"/>
              </a:rPr>
              <a:t>+p</a:t>
            </a:r>
            <a:r>
              <a:rPr b="1" i="1" lang="ja-JP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ja-JP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ja-JP" sz="3200" spc="-1" strike="noStrike">
                <a:solidFill>
                  <a:srgbClr val="000000"/>
                </a:solidFill>
                <a:latin typeface="Times New Roman"/>
              </a:rPr>
              <a:t>/2m</a:t>
            </a:r>
            <a:r>
              <a:rPr b="1" i="1" lang="ja-JP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i="1" lang="ja-JP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ja-JP" sz="3200" spc="-1" strike="noStrike" baseline="-25000">
                <a:solidFill>
                  <a:srgbClr val="000000"/>
                </a:solidFill>
                <a:latin typeface="Times New Roman"/>
              </a:rPr>
              <a:t>cm</a:t>
            </a:r>
            <a:r>
              <a:rPr b="1" i="1" lang="ja-JP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58920" y="2060640"/>
            <a:ext cx="7488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3200" spc="-1" strike="noStrike">
                <a:solidFill>
                  <a:srgbClr val="000000"/>
                </a:solidFill>
                <a:latin typeface="Times New Roman"/>
              </a:rPr>
              <a:t>+        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ja-JP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ja-JP" sz="3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1" lang="ja-JP" sz="3200" spc="-1" strike="noStrike" baseline="30000">
                <a:solidFill>
                  <a:srgbClr val="000000"/>
                </a:solidFill>
                <a:latin typeface="Times New Roman"/>
              </a:rPr>
              <a:t>Conf</a:t>
            </a:r>
            <a:r>
              <a:rPr b="1" i="1" lang="ja-JP" sz="3200" spc="-1" strike="noStrike">
                <a:solidFill>
                  <a:srgbClr val="000000"/>
                </a:solidFill>
                <a:latin typeface="Times New Roman"/>
              </a:rPr>
              <a:t>+U</a:t>
            </a:r>
            <a:r>
              <a:rPr b="1" i="1" lang="ja-JP" sz="3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1" lang="ja-JP" sz="3200" spc="-1" strike="noStrike" baseline="30000">
                <a:solidFill>
                  <a:srgbClr val="000000"/>
                </a:solidFill>
                <a:latin typeface="Times New Roman"/>
              </a:rPr>
              <a:t>OGEP</a:t>
            </a:r>
            <a:r>
              <a:rPr b="1" i="1" lang="ja-JP" sz="3200" spc="-1" strike="noStrike">
                <a:solidFill>
                  <a:srgbClr val="000000"/>
                </a:solidFill>
                <a:latin typeface="Times New Roman"/>
              </a:rPr>
              <a:t>+U</a:t>
            </a:r>
            <a:r>
              <a:rPr b="1" i="1" lang="ja-JP" sz="3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1" lang="ja-JP" sz="3200" spc="-1" strike="noStrike" baseline="30000">
                <a:solidFill>
                  <a:srgbClr val="000000"/>
                </a:solidFill>
                <a:latin typeface="Times New Roman"/>
              </a:rPr>
              <a:t>π</a:t>
            </a:r>
            <a:r>
              <a:rPr b="1" i="1" lang="ja-JP" sz="3200" spc="-1" strike="noStrike">
                <a:solidFill>
                  <a:srgbClr val="000000"/>
                </a:solidFill>
                <a:latin typeface="Times New Roman"/>
              </a:rPr>
              <a:t>+U</a:t>
            </a:r>
            <a:r>
              <a:rPr b="1" i="1" lang="ja-JP" sz="3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1" i="1" lang="ja-JP" sz="3200" spc="-1" strike="noStrike" baseline="30000">
                <a:solidFill>
                  <a:srgbClr val="000000"/>
                </a:solidFill>
                <a:latin typeface="Times New Roman"/>
              </a:rPr>
              <a:t>K </a:t>
            </a:r>
            <a:r>
              <a:rPr b="1" i="1" lang="ja-JP" sz="3200" spc="-1" strike="noStrike">
                <a:solidFill>
                  <a:srgbClr val="000000"/>
                </a:solidFill>
                <a:latin typeface="Times New Roman"/>
              </a:rPr>
              <a:t>+U</a:t>
            </a:r>
            <a:r>
              <a:rPr b="1" i="1" lang="ja-JP" sz="3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1" lang="ja-JP" sz="3200" spc="-1" strike="noStrike" baseline="30000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1547640" y="2060640"/>
            <a:ext cx="896400" cy="703800"/>
            <a:chOff x="1547640" y="2060640"/>
            <a:chExt cx="896400" cy="703800"/>
          </a:xfrm>
        </p:grpSpPr>
        <p:sp>
          <p:nvSpPr>
            <p:cNvPr id="66" name=""/>
            <p:cNvSpPr/>
            <p:nvPr/>
          </p:nvSpPr>
          <p:spPr>
            <a:xfrm>
              <a:off x="1973520" y="2060640"/>
              <a:ext cx="470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&lt;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547640" y="2060640"/>
              <a:ext cx="754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∑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1607760" y="1341360"/>
            <a:ext cx="863640" cy="703800"/>
            <a:chOff x="1607760" y="1341360"/>
            <a:chExt cx="863640" cy="703800"/>
          </a:xfrm>
        </p:grpSpPr>
        <p:sp>
          <p:nvSpPr>
            <p:cNvPr id="69" name=""/>
            <p:cNvSpPr/>
            <p:nvPr/>
          </p:nvSpPr>
          <p:spPr>
            <a:xfrm>
              <a:off x="1929240" y="1341360"/>
              <a:ext cx="542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07760" y="1371240"/>
              <a:ext cx="47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∑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755640" y="2924280"/>
            <a:ext cx="784872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1" i="1" lang="ja-JP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ja-JP" sz="3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1" lang="ja-JP" sz="3200" spc="-1" strike="noStrike" baseline="30000">
                <a:solidFill>
                  <a:srgbClr val="000000"/>
                </a:solidFill>
                <a:latin typeface="Times New Roman"/>
              </a:rPr>
              <a:t>Conf 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： 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confinement potent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1" i="1" lang="ja-JP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ja-JP" sz="3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1" lang="ja-JP" sz="3200" spc="-1" strike="noStrike" baseline="30000">
                <a:solidFill>
                  <a:srgbClr val="000000"/>
                </a:solidFill>
                <a:latin typeface="Times New Roman"/>
              </a:rPr>
              <a:t>OGEP 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: one-gluon exchange potenti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1" i="1" lang="ja-JP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ja-JP" sz="3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1" lang="ja-JP" sz="3200" spc="-1" strike="noStrike" baseline="30000">
                <a:solidFill>
                  <a:srgbClr val="000000"/>
                </a:solidFill>
                <a:latin typeface="Times New Roman"/>
              </a:rPr>
              <a:t>π 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: π exchan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・</a:t>
            </a:r>
            <a:r>
              <a:rPr b="1" i="1" lang="ja-JP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ja-JP" sz="3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1" i="1" lang="ja-JP" sz="32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ja-JP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ja-JP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-meson exchan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・</a:t>
            </a:r>
            <a:r>
              <a:rPr b="1" i="1" lang="ja-JP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ja-JP" sz="3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1" lang="ja-JP" sz="3200" spc="-1" strike="noStrike" baseline="30000">
                <a:solidFill>
                  <a:srgbClr val="000000"/>
                </a:solidFill>
                <a:latin typeface="Times New Roman"/>
              </a:rPr>
              <a:t>σ 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: σ-meson ex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NIC05    24OCT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D82E-A1EA-49D5-829C-5E6529CDD04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08000" y="-316080"/>
            <a:ext cx="8856720" cy="13178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NIC05    24OCT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B456-B66A-4C33-9904-DCADCA5E39C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2T15:14:23Z</dcterms:created>
  <dc:creator>NAKAMOTO, Choki </dc:creator>
  <dc:description/>
  <dc:language>en-US</dc:language>
  <cp:lastModifiedBy>NAKAMOTO, Choki </cp:lastModifiedBy>
  <dcterms:modified xsi:type="dcterms:W3CDTF">2005-10-24T22:18:38Z</dcterms:modified>
  <cp:revision>135</cp:revision>
  <dc:subject/>
  <dc:title>Quark-model potentials  in the B8B8 systems</dc:title>
</cp:coreProperties>
</file>