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364-6D6D-4457-B134-B5ED49C1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0C3-D234-43C5-B9E0-498AEE3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5B9-6736-49B5-BEBE-A3802759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6B2-5D89-4334-A1AE-A519A540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F44-D074-4AB5-94B6-9C0F050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BEE-254C-4283-8C44-F9A839F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6A7-4334-49AF-84F1-24CB0F9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8B0-E75C-4B5E-AF82-EF01C34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30456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977-9C92-41CD-9F93-28E2EA4E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14B-D1A3-41E8-B7AF-C444169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1D8-0B95-414C-BC87-246D744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350-C94D-4224-8C7B-C18258FF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D7BF-025F-4AE4-8EF8-A7663253C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5680" y="76320"/>
          <a:ext cx="3419640" cy="15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76320"/>
                    <a:ext cx="341964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940120"/>
            <a:ext cx="815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Customer Briefing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ovember 18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59738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erry Lohfink,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reas for Improvemen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ome members of help desk perceived as “gate-keepers” or “go-betweens”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ome question adequacy of staffing level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x Agency issues require better coordination across organizational lin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FC’s pricing structure needs further  transparenc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ystems’ evolution should be WEB-based  and focus on availability of data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reate Customer Service Improvement Project Team with Customer involvemen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engineer pricing methodology to become more transparent and responsive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crease communication channels to obtain your feedback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e Hear You !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ign the organization and staffing levels to best serve customer expectation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staffing levels and service delivery mix in light of “best practice revie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priority on filling payroll service-related vaca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taff with additional training and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dica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e Hear You !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te Web deployment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xpand the deployment of sensitive data in the Reporting Center for interested customer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rove post-Bear reporting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-engineer disaster recovery business continuity program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e Hear You !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28954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ayroll/Personnel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419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enny For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sponded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2,000 Custome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cessed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,000 Separa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,500 Retirement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ssued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,000 Personnel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4,000 DPRS’ premium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ponsored Visits to NFC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eld Training Session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ordinated HR Briefing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dividualized Support Through Customer Representativ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ublished NFC Newsletter, Informer, and Updated NFC Home Page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ed Electronic Bulletin Deliver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pported the Community via the  Payroll/Personnel System Policy Staff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d with O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advice and guidance to clie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d as the Chairperson for C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community work groups including EPIC, T&amp;A, Awards, and Leave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 Support Offic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s training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gencies Implemented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Government Printing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 Reorganiz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 and Tobacco Tax and Trade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, Tobacco, Firearms, and Explos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Homel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ndated/User Requested – 48 Staff Yea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2 W-2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 Pay 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Flexible Spending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Days to Hours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 Tax Upd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of SSN from E&amp;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intenance/Operations - 44 Staff Yea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tired PACT/PRES/FINQ/SINQ/HCUP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FC Customer Briefing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096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cussion with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01336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cheduled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220968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:00 – 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:00 – 3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4983120"/>
            <a:ext cx="2819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:30 – 4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PP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anual payment and adjustment transactions for separated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yment by agency of certain types of federally insured student loans as a recruitment or retention bo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ayroll transaction types including Overtime, Overtime with Night Differential, Life Cycle Amount, and Standby/Administratively Uncontrollable Overtime (AU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600 users processing over 13,000 T&amp;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ed Web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PP/ES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s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H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ccommodate Open Season and Life Changing Even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porting Cent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o Pay Rais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Outstanding Advanc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an Employment SF-113A and SF-113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Spending Account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Balance and Leave Liability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requirements and designed new Reduction in Workforce (RIF)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ersonnel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307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907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F-50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49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052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y Adjustment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154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6,2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95920"/>
            <a:ext cx="80010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yroll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cord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2,000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10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tail Transactions     11,000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129,000,000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828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erage P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828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ro Pay 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he Gift That Keeps on Giving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172200" y="2057400"/>
            <a:ext cx="1752120" cy="1295280"/>
            <a:chOff x="6172200" y="2057400"/>
            <a:chExt cx="1752120" cy="1295280"/>
          </a:xfrm>
        </p:grpSpPr>
        <p:sp>
          <p:nvSpPr>
            <p:cNvPr id="100" name=""/>
            <p:cNvSpPr/>
            <p:nvPr/>
          </p:nvSpPr>
          <p:spPr>
            <a:xfrm>
              <a:off x="6172200" y="2057400"/>
              <a:ext cx="1752120" cy="1295280"/>
            </a:xfrm>
            <a:prstGeom prst="irregularSeal2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51400" y="2422440"/>
              <a:ext cx="143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7% Without Customer Inter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48520" y="3733920"/>
            <a:ext cx="1676160" cy="1295280"/>
            <a:chOff x="6248520" y="3733920"/>
            <a:chExt cx="1676160" cy="1295280"/>
          </a:xfrm>
        </p:grpSpPr>
        <p:sp>
          <p:nvSpPr>
            <p:cNvPr id="103" name=""/>
            <p:cNvSpPr/>
            <p:nvPr/>
          </p:nvSpPr>
          <p:spPr>
            <a:xfrm>
              <a:off x="6248520" y="3733920"/>
              <a:ext cx="1676160" cy="1295280"/>
            </a:xfrm>
            <a:prstGeom prst="irregularSeal2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40989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9+%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</a:t>
            </a:r>
            <a:br>
              <a:rPr sz="44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ecurity Adva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iance with NIST 800-18 Requiremen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ecurity Plans and Risk Assessmen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/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Billings and Col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Premium Remit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/Personnel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ivacy Impact Statemen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Payroll Implementation Window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Period 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rmed Forces Retirement Home (AFRH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Period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ffice of Thrift Supervision (OT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Period 1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Federal Regulatory Commission (FERC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epartment of Labor (DoL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nvironmental Protection Agency (EPA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-2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 Tax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mpleted user acceptance testing in PP2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duction process January 200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Tax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ystem test in April 200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04 Pay Rais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04 Personal Statement of Benefi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on E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inue Support of PKI Enablemen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moval of SSNs from Child Support and   Alimony Check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SI Windows - February and Jun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PP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bruar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Web version availabl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Quick Service Reques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ntinue to deploy current Web versio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ew version with enhanced Web featur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efined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oday’s Presentation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133720"/>
            <a:ext cx="914400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                                                                            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 Improvement Project                         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/Personnel Update                                                     Penny For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Update                                                              Robert Varn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ster Recovery/Business Continuity Re-Engineering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Key Infra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Randy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ing Model Changes                                                         Pat H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ayroll                                                       Janet Dubbert, Chuck Lewis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porting Cent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User Acceptance Phase for RIF Register Repor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duction for RIF Register Repor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nvert EARN and W–2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28954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echnolog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4419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ob Varn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ur Direction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sponding to your requirements to  move to web-based business architectur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inue to deliver reliable, predictable, and valued servic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spite increasing market costs, continue to provide value at reduced cos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terprise Serve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IBM Processors (1786 MI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/OS – the late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D - 31 Teraby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media (1,050 Tera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200,000 Standard Tapes (320 Terabyte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5,500 High Density Tapes (330 Terabyte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500,000 “Virtual” Standard Tapes  (400 Terabyte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drange Serve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 Window/NT and Windows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nd othe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vailability clustering fo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Area Network backup with robo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atabase Suppor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MS: Core Payroll Systems,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: StarWeb, EARN, EPIC, SPPS, FF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EPP, Reporting Center, P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base: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lecommunic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nd customer dedicat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protection &amp; intru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kia Firewal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encryp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ystem Software Produc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100 Tools and Utilities supporting applications and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ntrol-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DSF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z/OS operating system software maintained at latest vers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on to z/OS version 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targeted for 2nd Quart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usiness Continuity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rills twice a year (ROC and AWS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dditional local testing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 testing participat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valuating alternative methodology and technolog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usiness Continuity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FC assures connectivity for: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DA’s 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s using other networks must: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ROC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e i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Surve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974960"/>
            <a:ext cx="83059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  As a customer, what I value about NFC service is: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  If you could change three things at the NFC to add value to the customer, these changes would be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  Related to the services provided to you by NFC, what keeps you awake at n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33720" y="251460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isaster Recovery Business Continuity Re-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9831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erry Lohf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Reengineering Disaster Recovery and Business Continuit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usiness Impact Analysi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chnology Alternativ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isk Assessmen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Zone Stud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asibility Repor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utcomes of Analysi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alidation of Business Requiremen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wo Changes to 48-Hour Requiremen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ift Saving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roll/Personnel Report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ze and Complexity Threaten Success of       48-Hour Window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ew Consider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(physical &amp; cy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threat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ext St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igh-level Pla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unding Alternativ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tailed Action Pla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00200" y="28954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ublic Key Infrastructur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4525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ndy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ublic Key Infrastructure (PKI)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PKI?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971800"/>
            <a:ext cx="6477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use of digital certificates ensures that your electronic transactions can be conducted with confidentiality, data integrity, proper user authentication, and non-repudi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Benefits of PKI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cure auditable manner to access sensitive data over the interne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Digital signatur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ngle/reduced sign-on for many government applic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ingle point of control for authenticat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Authorization handled by business process own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Assists agencies in compliance with Government mandates (i.e., GPEA, FICC,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-Gov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FC is a CSP and Application Owner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FC established a Certification Authority in 1996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ross-certified with Federal Bridge and Interoperable with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Authentication Gatewa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&amp;A completed by independent third part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s benefit from PKI without the cost of establishing and maintaining their own CA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Government-wide Initiativ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Authentication Initiativ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edentials can be reused across govern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deral Bridge Certification Authorit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agencies, governments, and industry to agree to a common certificate poli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deral Identity Credentialing Committe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redentials for Federal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service provider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ojected Milestones for FY04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 enabled applications into production (STARWeb, Reporting Center, and CLER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te Annual External Audi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 an automated training tool for Local Registration Authorities at the agency sit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28800" y="28954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ustomer Service Improvement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754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erry Lohf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2711520"/>
            <a:ext cx="6095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KI Web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http://sig.nfc.usda.gov/pki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33720" y="28954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ricing Model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4419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at 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oa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ckground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urrent Model 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eedback from the Customer Service Improvement Project 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uture Direction 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alleng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oa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perceived as our customers’ “best value” servic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572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ckground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’s: influence customer behavior in a few key cost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sts based on historical volumes/budget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sts allocated propor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through annual information booklet to managers (“Blue Book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urrent Mod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to use different activity-based costing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on of some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costs moved from core processing to agency-specific agre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Book replaced by a description of services attached to the reimbursement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eedback from the Customer Service Improvement Projec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FC’s pricing structure is difficult to understand and not transparent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any customers do not know exactly what they are paying for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ome customers are not able to fully ascertain the “value for money” they receive for their investment in NFC’s servi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 1999, they changed the algorithm, and nothing’s made sense since then.”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ew Direct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pricing strategy on transparencies and strategic initiatives that impact customer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dentify additional high-effort activiti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Encourage automated self-servic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customer service costs/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ore pricing options that recognize the differences in customers’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ore detail on the components of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st price/workload communication linked to the 2-year budget planning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alleng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communication to increase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information to righ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 detail to inform, not con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ful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between stable price structure and dynamic cost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re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strategy that enables organizations to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33720" y="28954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-Pay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4694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anet Dub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mproving Customer Service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gaged contractor assistanc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customer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measures to improve customer’s 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76520" y="2743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AG00171_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337968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90720" y="24703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lease join us in wishing Margaret the best in her upcoming retirement after 28 years of Federal servic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fternoon Session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2209680"/>
            <a:ext cx="921996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:50 p.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sh Margaret well on her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:00 p.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Exchange with NFC Senior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Personnel System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 Initi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/Privacy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omorrow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8:30 a.m. – 4:00 p.m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828800"/>
            <a:ext cx="921996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FC System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o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Center (R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 Personal Page (E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 Self-Service (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Base System (K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 for Time and Attendance Repor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AR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b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Payroll Processing System (SPP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Display and Search Facility (SDS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Key Infrastructure (PKI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3080" y="4495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9528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410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7913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33720" y="28954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THANK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btained Your Inpu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views conducted by Accenture in person/by telephon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gencies selected for interviews based on: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service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centralization/decent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ived profici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btained Your Inpu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views focused on two categories of interviewe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 &amp; Financial Execu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 Line Staff &amp; Technical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viewed 50 individuals from              16 different agenci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ositive Feedback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niversally expressed that payroll done wel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ost feel they are getting “best value” for their investment in NFC’s servic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re is a recognition that NFC performs a difficult and often thankless job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aise for NFC Team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igh praise for many individual NFC team membe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4:15:17Z</dcterms:created>
  <dc:creator>NFC</dc:creator>
  <dc:description/>
  <dc:language>en-US</dc:language>
  <cp:lastModifiedBy>NFC</cp:lastModifiedBy>
  <dcterms:modified xsi:type="dcterms:W3CDTF">2003-11-20T12:58:36Z</dcterms:modified>
  <cp:revision>152</cp:revision>
  <dc:subject/>
  <dc:title>PowerPoint Presentation</dc:title>
</cp:coreProperties>
</file>