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711E-A8DE-428F-AF00-2F2237C81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F008-8457-4955-88A3-AB62E7C8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3458-DF8E-42EB-AADD-3467732F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6CF7-83EA-4913-9ECF-9B7C9FD5D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4D24-F2BF-4171-B07A-D093C9210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484D-3947-49CD-9543-E32945B4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7ADC-E39F-4F92-AC9C-017C08C7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5582-AB93-4DB9-A358-FB480896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5828-E14B-4E0B-B142-D6E60050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04BA-E807-4AB4-BE4E-F0473833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D66E-6D95-4B9C-9D47-5172C8B5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8C4C-DCBB-44DE-B3DA-6123CEF3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59A0-DFB6-4916-AC7D-2EC770CB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D77F-C6A7-4FF0-913E-11DC17F7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D26D-ED2A-4452-801F-629C0DE8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3A48-21E5-423B-A32A-FE607F96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3D8E-6243-4039-8286-585438B1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03A3-9421-45D3-80F5-85071813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910E-7F01-4E17-AE25-37279FBD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5F2F-472B-48BB-ADF1-3D7204D9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3AD2-7958-41BC-928F-689ABC35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1F13-F143-43DE-8996-011F983A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341A-840A-4897-9A7C-2A6F15C6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A41A-487D-4AFE-B7BB-3EE67935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11BB-7019-44FB-A519-7764B1292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67AA-1519-4252-AC79-94CD96FAA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F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Distribu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vic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8240" cy="695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7734240" y="6296040"/>
            <a:ext cx="14097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51665" t="29352" r="20860" b="22130"/>
          <a:stretch/>
        </p:blipFill>
        <p:spPr>
          <a:xfrm>
            <a:off x="2971800" y="838080"/>
            <a:ext cx="3648240" cy="48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51665" t="28257" r="21661" b="23228"/>
          <a:stretch/>
        </p:blipFill>
        <p:spPr>
          <a:xfrm>
            <a:off x="2971800" y="762120"/>
            <a:ext cx="353700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51665" t="28714" r="21661" b="23869"/>
          <a:stretch/>
        </p:blipFill>
        <p:spPr>
          <a:xfrm>
            <a:off x="2971800" y="838080"/>
            <a:ext cx="353700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Servic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a web brows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NAIP Viewer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ttp://gdw.apfo.usda.gov/naip/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a Arc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Add ArcIMS site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Y06 data and p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ttp://gdw.apfo.usda.gov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Add ArcGIS Server site –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State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Y07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ttp://gis.apfo.usda.gov/arcgis/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8240" cy="695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7734240" y="6296040"/>
            <a:ext cx="14097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SA and APFO Joint Ventur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 Centr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ly redeveloped the replication mechanism this year to eliminate issues caused by null geometry features, residual to the shapefile data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FO has received complete county datasets from all 3,066 counties with CLU (36,500,000 polyg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nt 2 weeks “cleansing” the data, in preparation for loading into UTM based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ing for cyclic delivery of monthly trans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plug Gateway into SDE databases for CLU delivery once other processes are in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8240" cy="695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734240" y="6296040"/>
            <a:ext cx="14097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SA and APFO Joint Ventur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 Client Application Centr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A is in process on centralizing the Desktop environments currently deployed to COF/S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trix will be utilized to provide thin client access to existing Desktop GIS tool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lot of 17 counties planned for Febru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FO and GIS Office working with OCIO to capture benchmarks for capacity planning and evaluation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IP web services accessed by the Citrix applications farm in Kansas 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8240" cy="695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734240" y="6296040"/>
            <a:ext cx="14097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SA and APFO Joint Ventur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Globe ArcGIS Explorer De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A will be deploying ArcGIS Explorer to COF and SOF in FY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FO is currently working to re-deploy the NAIP hosting and technical architecture implemented in 2003 in the GD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GIS Server hosted 3-D Globe cache of best available NAIP, updated each year, for use in ArcGIS Explorer in COF/S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e Server hosted suite of state based NAIP  services for each year of NAIP acquired to date, for use in FSA Desktop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GIS Server hosted 2-D Map cache of best available NAIP, updated each year, for use as base map in  web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8240" cy="695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7734240" y="6296040"/>
            <a:ext cx="14097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lk Data Distribu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V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TO4 Tape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New this y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D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or has the option of using drives provided by APFO or providing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New, unopen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rd driv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based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8240" cy="695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734240" y="6296040"/>
            <a:ext cx="14097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Data Gate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effort between NRCS and AP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ed” CC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M’s uploaded upon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ccess – no account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U requires Level 2 E-A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 download per session is 4G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8240" cy="695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734240" y="6296040"/>
            <a:ext cx="14097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stomer Order Entry System (COES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 required, no PII data is retain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er Quads – “Canned Produc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upon completion of con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or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I determines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http://199.158.165.58/oe/search.j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8240" cy="695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734240" y="6296040"/>
            <a:ext cx="14097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Provisioning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ount required, user must make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request to lori.uhlhorn@slc.usda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ount valid for 90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ailable at no cost for Emergency respo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ows user to “customize”  QQ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aic &amp; Combiner Mosaic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ion &amp; Datum Options Collapse 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ion  Albers Conical Equal Area Geographic Lambert Conformal Conic State Plane Transverse Mercator UT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um  NAD27 CONUS NAD27 CONUS (ERDAS Imagine) NAD27 NADCON NAD83 CONUS NAD83 NADCON WGS 1972 WGS 1984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ic Projection Op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Plane Projection Op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TM Projection Op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ampling Op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hod  Bilinear Interpolation Cubic Convolution Nearest Neighb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SD (X)  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SD (Y)  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My Defaults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xel Type Point  Area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or Options Collap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yscale    3-Band Color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or Ba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yscale Band:  1 2 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gram-based Color Enhanc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gram Mode  NONE Match Linear Contrast Stretc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ttp://199.158.166.107/earthwhere/index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8240" cy="695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7734240" y="6296040"/>
            <a:ext cx="14097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3200" cy="69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53724" t="21698" r="9144" b="22900"/>
          <a:stretch/>
        </p:blipFill>
        <p:spPr>
          <a:xfrm>
            <a:off x="2133720" y="380880"/>
            <a:ext cx="49719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20:13:41Z</dcterms:created>
  <dc:creator>lori.uhlhorn</dc:creator>
  <dc:description/>
  <dc:language>en-US</dc:language>
  <cp:lastModifiedBy>lori.uhlhorn</cp:lastModifiedBy>
  <dcterms:modified xsi:type="dcterms:W3CDTF">2008-12-04T14:15:45Z</dcterms:modified>
  <cp:revision>11</cp:revision>
  <dc:subject/>
  <dc:title>Data Distribution  and  Services </dc:title>
</cp:coreProperties>
</file>