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3985200"/>
            <a:ext cx="77724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8520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0760" y="398520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398520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080" y="398520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3720" y="398520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38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31640" y="91800"/>
            <a:ext cx="860616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8080" y="398520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38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20760" y="398520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3985200"/>
            <a:ext cx="77724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8080" y="3985200"/>
            <a:ext cx="77724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398520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20760" y="398520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8080" y="398520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6080" y="398520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93720" y="3985200"/>
            <a:ext cx="250236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1640" y="91800"/>
            <a:ext cx="860616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398520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0760" y="398520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85200"/>
            <a:ext cx="7772400" cy="182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  <a:p>
            <a:pPr lvl="1" marL="562680" indent="-329760">
              <a:lnSpc>
                <a:spcPct val="95000"/>
              </a:lnSpc>
              <a:spcBef>
                <a:spcPts val="1463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  <a:p>
            <a:pPr lvl="2" marL="1018440" indent="-342720">
              <a:lnSpc>
                <a:spcPct val="95000"/>
              </a:lnSpc>
              <a:spcBef>
                <a:spcPts val="1463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  <a:p>
            <a:pPr lvl="3" marL="1366920" indent="-235440">
              <a:lnSpc>
                <a:spcPct val="95000"/>
              </a:lnSpc>
              <a:spcBef>
                <a:spcPts val="1463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  <a:p>
            <a:pPr lvl="4" marL="2036520" indent="-226080">
              <a:lnSpc>
                <a:spcPct val="95000"/>
              </a:lnSpc>
              <a:spcBef>
                <a:spcPts val="1463"/>
              </a:spcBef>
              <a:buClr>
                <a:srgbClr val="d073c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  <a:p>
            <a:pPr lvl="5" marL="2036520" indent="-226080">
              <a:lnSpc>
                <a:spcPct val="95000"/>
              </a:lnSpc>
              <a:spcBef>
                <a:spcPts val="1463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  <a:p>
            <a:pPr lvl="6" marL="2036520" indent="-226080">
              <a:lnSpc>
                <a:spcPct val="95000"/>
              </a:lnSpc>
              <a:spcBef>
                <a:spcPts val="1463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7840" y="1120680"/>
            <a:ext cx="8696160" cy="42840"/>
          </a:xfrm>
          <a:prstGeom prst="rect">
            <a:avLst/>
          </a:prstGeom>
          <a:solidFill>
            <a:srgbClr val="317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106080"/>
            <a:ext cx="77724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Informed Consen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Risk of Cheese Reaction</a:t>
            </a: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2680" y="1663560"/>
            <a:ext cx="8402760" cy="43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ossible risk of using selegiline is uncontrolled hypertension (high blood pressure), the so-called “cheese reaction”, which can occur if you eat foods containing tyramine, e.g., aged cheese, liquor, dry sausage, yogurt, raisins, liver, pickled herring, Fava beans, sauerkraut, and over-the-counter cough/cold medications.  Therefore, it is important that you te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doctor immediately if you have any of the following symptoms:  headache, heart palpitations, a sense of constriction in the throat or chest, sweating, dizziness, neck stiffness, nausea, or vomiting.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34400" y="6464160"/>
            <a:ext cx="12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"/>
              </a:rPr>
              <a:t>1b - 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640" y="585720"/>
            <a:ext cx="86061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roposed Label for 30-40 mg Diet (excerpt)</a:t>
            </a: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0720" y="1682640"/>
          <a:ext cx="8343720" cy="4300560"/>
        </p:xfrm>
        <a:graphic>
          <a:graphicData uri="http://schemas.openxmlformats.org/drawingml/2006/table">
            <a:tbl>
              <a:tblPr/>
              <a:tblGrid>
                <a:gridCol w="2352600"/>
                <a:gridCol w="2633760"/>
                <a:gridCol w="3357360"/>
              </a:tblGrid>
              <a:tr h="67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yramine Foods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o Avo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afe, No or Low Tyramin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t, Poultry, Fis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d &amp; Spoile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sh &amp; Fresh processe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geta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va bean pod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other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ry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d chees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ed cheeses, yogur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verag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p beers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pasteurized beer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cohol not recommended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tled &amp; canned be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cellaneou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mite, sauerkraut, soy product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wer’s &amp; Baker’s yeast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rcial chain restaurant pizz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934400" y="6464160"/>
            <a:ext cx="12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"/>
              </a:rPr>
              <a:t>4a -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640" y="585720"/>
            <a:ext cx="86061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atient Information on Dietary Modifications</a:t>
            </a: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3040" y="132516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562680" indent="-32976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odified diet is not necessary when taking EMSAM 6mg/24 hours (20m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680" indent="-32976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nsumption of certain foods and beverages during treatment with EMSAM  9mg/24 hours (30mg) o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mg/24 hours (40mg) dose may lead to a sudden, large increase in blood pressure, called a ‘‘hypertensive crisis’’ (a potentially life-threatening situation). (See What are the possible side effects of EMS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Dietary Modifications:</a:t>
            </a:r>
            <a:endParaRPr b="1" lang="en-US" sz="2000" spc="-1" strike="noStrike">
              <a:solidFill>
                <a:srgbClr val="ccffff"/>
              </a:solidFill>
              <a:latin typeface="Arial"/>
            </a:endParaRPr>
          </a:p>
          <a:p>
            <a:pPr lvl="1" marL="562680" indent="-32976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revent a hypertensive crisis, the following foods and beverages should be avoided beginning on the first day of EMSAM 9mg/24 hours (30mg) or 12mg/24 hours (40mg) treatment and continue until 2 weeks after a dose reduction to EMSAM 6mg/24 hours (20mg) or stopping EMSAM 9mg/24 hours (30mg) or 12mg/24 hours (40mg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34400" y="6464160"/>
            <a:ext cx="12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"/>
              </a:rPr>
              <a:t>4b -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146880"/>
            <a:ext cx="8606160" cy="9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atient Information on Dietary Modifications 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(Continued)</a:t>
            </a:r>
            <a:endParaRPr b="1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3040" y="1325520"/>
            <a:ext cx="7772400" cy="52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Dietary Modifications:</a:t>
            </a:r>
            <a:endParaRPr b="1" lang="en-US" sz="1800" spc="-1" strike="noStrike">
              <a:solidFill>
                <a:srgbClr val="ccffff"/>
              </a:solidFill>
              <a:latin typeface="Arial"/>
            </a:endParaRPr>
          </a:p>
          <a:p>
            <a:pPr lvl="1" marL="514440" indent="-333360">
              <a:lnSpc>
                <a:spcPct val="95000"/>
              </a:lnSpc>
              <a:spcBef>
                <a:spcPts val="1012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mg/24 hours (40mg)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6320">
              <a:lnSpc>
                <a:spcPct val="95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 dried, aged and fermented meats, sausages and salamis (including cacciatore, hard salami and mortadella); pickled herring; and any spoiled or improperly stored meat, poultry and fish (e.g., foods that have undergone changes in coloration, odor, or become mol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6320">
              <a:lnSpc>
                <a:spcPct val="95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 bean pods (fava bean pod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6320">
              <a:lnSpc>
                <a:spcPct val="95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d chee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6320">
              <a:lnSpc>
                <a:spcPct val="95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varieties of tap beer, and beers that have not been pasteurized so as to allow for ongoing fermentation should be avoided during EMSAM treat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6320">
              <a:lnSpc>
                <a:spcPct val="95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entrated yeast extract (e.g., Marmite), sauerkraut, all soybean products (including soy sauce and tof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333360">
              <a:lnSpc>
                <a:spcPct val="95000"/>
              </a:lnSpc>
              <a:spcBef>
                <a:spcPts val="1012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foods must be fresh or properly froz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333360">
              <a:lnSpc>
                <a:spcPct val="95000"/>
              </a:lnSpc>
              <a:spcBef>
                <a:spcPts val="1012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oid foods when you are unaware of storage condi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34400" y="6464160"/>
            <a:ext cx="12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"/>
              </a:rPr>
              <a:t>4b - 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Informed Consen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Description of Symptoms of Hypertensive Crisis</a:t>
            </a: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647720"/>
            <a:ext cx="7772400" cy="299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re headache, flushing, sudden elevation of blood pressure, awareness of rapid or pounding heart, nausea, vomitting, sweating, fever, and chest pain.  Although rare, hypertensive crisis may be a life-threatening reaction that requires immediate medical attention.</a:t>
            </a:r>
            <a:endParaRPr b="1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34400" y="6464160"/>
            <a:ext cx="12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"/>
              </a:rPr>
              <a:t>1b - 8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Transdermal Selegilin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ivotal Trial II: P0052 Acute MDD</a:t>
            </a: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1523880"/>
          <a:ext cx="805176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05176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768760" y="1371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MD-28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2960" y="1371600"/>
            <a:ext cx="31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lt; 0.03                 p &lt;0.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7880" y="2905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34400" y="6464160"/>
            <a:ext cx="12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"/>
              </a:rPr>
              <a:t>2 -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Transdermal Selegilin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ivotal Trial II: P0052 Acute MDD</a:t>
            </a: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59000" y="1079640"/>
          <a:ext cx="7313400" cy="31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1079640"/>
                    <a:ext cx="73134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952560" y="3835440"/>
          <a:ext cx="7962840" cy="30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3835440"/>
                    <a:ext cx="796284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6320" y="24382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MD-2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17840" y="1384200"/>
            <a:ext cx="31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 &lt; 0.03                  p &lt;0.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00" y="5129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34400" y="6464160"/>
            <a:ext cx="12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"/>
              </a:rPr>
              <a:t>2 -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91800"/>
            <a:ext cx="8606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Responder Rates* for MDD Patients in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lacebo-Controlled Studies</a:t>
            </a:r>
            <a:endParaRPr b="1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93800" y="2281320"/>
          <a:ext cx="7772400" cy="24955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2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tud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MSA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laceb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-10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005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980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41240" y="482292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Defined as CGI-I score of 1 o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83920" y="1778040"/>
            <a:ext cx="17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% Improv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34400" y="6464160"/>
            <a:ext cx="12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"/>
              </a:rPr>
              <a:t>2 -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1640" y="256680"/>
            <a:ext cx="860616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Tyramine Pressor Dose and TSF Values for Individual Subjects Challenged in the Fasted and Fed States</a:t>
            </a:r>
            <a:endParaRPr b="1" lang="en-US" sz="30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76440" y="1554120"/>
          <a:ext cx="7684920" cy="4514760"/>
        </p:xfrm>
        <a:graphic>
          <a:graphicData uri="http://schemas.openxmlformats.org/drawingml/2006/table">
            <a:tbl>
              <a:tblPr/>
              <a:tblGrid>
                <a:gridCol w="1920600"/>
                <a:gridCol w="2041560"/>
                <a:gridCol w="1960560"/>
                <a:gridCol w="17622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yramine Pressor Dose (mg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ubjec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asted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ed/Fast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08080" y="6340320"/>
            <a:ext cx="76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Fasted - lowest value obtained during 30-90 days of EMSAM 40 mg 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34400" y="6464160"/>
            <a:ext cx="12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91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ff"/>
                </a:solidFill>
                <a:latin typeface="Arial"/>
              </a:rPr>
              <a:t>3a -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3:33:46Z</dcterms:created>
  <dc:creator>parkerbr</dc:creator>
  <dc:description/>
  <dc:language>en-US</dc:language>
  <cp:lastModifiedBy>P</cp:lastModifiedBy>
  <cp:lastPrinted>2004-04-22T12:02:06Z</cp:lastPrinted>
  <dcterms:modified xsi:type="dcterms:W3CDTF">2005-10-26T16:57:09Z</dcterms:modified>
  <cp:revision>221</cp:revision>
  <dc:subject/>
  <dc:title>FDA Advisory Committee Meeting</dc:title>
</cp:coreProperties>
</file>