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1F3-B981-4FA9-A0DF-FE70052F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5889-CDD1-4C2F-BA3E-292A1C73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2EA-B8C9-4E20-A8CE-D6E6E132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648-961D-458F-99F4-0BAD4C75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3D1C-A2CE-4F68-82DC-012C7BB8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1ECA-05A1-4904-BB71-8310AC1C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AB2A-B7F4-48D0-9FBE-DD4B89C8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484D-3ED0-4B87-AD39-B5C4C3EA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5E16-77F6-4D9F-8993-32B2EEC1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CC0A-6BE8-4B4F-8282-4B6D4FCC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9D44-52C7-45C7-93CF-F79065BA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1D6-903E-449B-8761-A6560931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5BA9-01DC-4F40-9AC4-0ACD3E8B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460B-46A2-45A4-ACFB-4BEBE492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3F1D-2F7E-420D-BB15-8958288E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DE56-2544-4B6B-9DA8-C0DB5D43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72B3-6485-4784-BBF3-4F1E30BC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BCFC-FC58-48FD-8F95-BC920AF8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335-EAC2-4B99-9BAE-A81B5C23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9CE-4FC3-4369-9B77-CCBD6D27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30F-44FF-43FD-A30D-9908329A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C0D-2A9F-46C9-AEE2-C187C648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883-1468-4B7D-AE29-41F03904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C50-C31E-4D84-B852-0F0FEDEC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C270-3C4F-4528-A9B8-7217E89A87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7543800" y="6388200"/>
            <a:ext cx="160020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EBF2-23F6-457E-8BD3-96EF2C1D61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im.heald@wdc.usda.gov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USDA 2008 Imagery Planning Meet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rley H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 Service Ag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00600" y="5581800"/>
            <a:ext cx="43434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eb Only, Pros and C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alized Environment/Databases supports most FSA current and future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icient for many types of GIS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full integration with Business Apps (SCIMS, Farm Recor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d Security of Data and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d Software 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aper Workstation Refre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alized Management.  Reduced dependence on Service Center sta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ower Transi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gnificant new software development and Database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y not be ready when current Environment reaches critical fail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ormance for heavy editing applications using ArcGIS Server is unpro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nd Use would be very risk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ment of Full Function GIS apps would be very difficult and s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U Mainten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cation with Sys/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Option 4, Centralized Hybrid Web and Terminal Servic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ized Servers replace Service Center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Applications “Desktop”/Term Sv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s needing More GIS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vy Polygon editing, Cartographic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U Mainte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-term Tran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Apps go to the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Editing, Canned Maps, Canned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n Tool, TERRA, CLU View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ybrid Centralized, Pros and C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ized Environment/Databases support all FSA current and future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ic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ster Transition (limited software development to utilize the environ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s that will remain in Terminal Services long-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s moved to Term Svcs for an interim peri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full integration with Business Apps (SCIMS, Farm Recor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mid and long term transition to full Web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d Security of Data and Infra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d Software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aper Workstation Refre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ized Management.  Reduced dependence on Service Center 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s additional software licensing for Term Sv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ion with Sys/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completing new Business Case and Cost Benefit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esting Terminal Services on a Small Test network using current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 to Pilot Test Citrix Terminal Services for Geospatial Applications later this Fiscal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U – Farm Records Data Reconcil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tac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m Heald 202-720-07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Jim.heald@wdc.usda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d Payne 202-720-21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d.payne@wdc.usda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SA Compliance Chang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5652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O Aud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sed Statistical Sampling Method Establ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r Selection – All Programs/All Farms Review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Y 2007 – 2000+ Fa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dependent site visits required throughout the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r Selection for 2008 in Janu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hanges Under Review for NAIP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re focus on over-all programmatic support and less on compliance (acreage spot check) activ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ve to 1 meter on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vise the cycle timefra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SA area of concern is only CLU ar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ill Leaf-On/Growing Season, but look at extending collection windo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termine if flexibility can be provided in delivery timefram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ther long term opportunitie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Remains Consta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nership Parti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 Measures with USGS for 17 Western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 to work to stabilize f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collect/publicize benefits of NAIP and impacts if the program goes 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ous Program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IP continues to fit into the IFTN Propo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arget States for 2008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 “next in line” based on acquisition cycle schedule: *MN, OK, *IN, VA, MA, *NH, *VT, RI, NY*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 of Cycle States with potential partnership contributions identified:  TN, TX, KS, WI,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 of Cycle States that have more recently indicated potential partnership: NC, 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Potential State partners ident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*FSA planned repla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n-going Activiti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cile/review requirement submiss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ing at other issues and opportunities (e.g., discontinue public CCM Downloads, how to handle out of cycle collec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rm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ransiti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funding and subsequent 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announcement of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 with planned RFP and selection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ystem of Records Chang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1180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gram Compliance Cha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4133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nging Imagery Needs and NAIP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27960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IS Centralization Eff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1462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arm Service Agenc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ystem of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 Federal Notices of System of Records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MS (12/11/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(12/12/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haring CLU and other data with other Federal, State, local partners for conservation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 users of the data to FSA ethical standards and not to disclose the information without customer per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Move to GIS Centralization: The Problem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Center Servers are old and out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urrent Server Hardware does not adequately support High Performance for GIS Apps Like Land U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placement is Cost Prohibiti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eed a Solution So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fresh for Workstations are also very Cost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Distributed Environment Doesn’t Support FSA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al time access to CLU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b Distribution and other Data Sha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Management of Out of County L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tribution Costs of Image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ta Backup and other Data Vulnerability Iss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pendency on Service Center Staff for Routine Data Management tasks (DB compression, history table updat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Option 1 Enhanced Distributed Environmen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Servers at Every Service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 Real Time Replication of Databases to a Centraliz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Access and View Only Web Access to Geospatial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ed Desktop Business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 Use, CRP, Price Support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age to SCIMS, Farm Records and other Data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stributed, Pros and C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es current applications/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inless” tran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ely stable update p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with Sys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nsive 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350+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,000 Workstations to Manage and Refre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Management Exp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ware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Support for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 security of servers and works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Security, more points of access for P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Option 2 – Centralized, Terminal Services Environment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ized Servers Replace Service Center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es Current Desktop Applications running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apps would be added as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integration of Business Apps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access and View Only Web access to Geospatial D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rm Svcs Only, Pros and C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ralized Environment/Databases Support most FSA current and future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ffic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n High Performance GIS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ster Transi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mited software development to utilize the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ows full integration with Business Apps (SCIMS, Farm Recor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d Security of Data and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d Software 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sier Database and Hardware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aper Workstation Refre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ralized Management.  Reduced dependence on Service Center sta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additional software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the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not meet all FSA requirements (unknow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unication with Sys/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tion 3 Centralized, All Web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b Servers replace all Service Center Serv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gration of all Apps to Web Inte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grated Business Ap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blic Access and read-write Web Access to Geospatial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0:30:01Z</dcterms:created>
  <dc:creator>Shirley.Hall</dc:creator>
  <dc:description/>
  <dc:language>en-US</dc:language>
  <cp:lastModifiedBy>sal</cp:lastModifiedBy>
  <dcterms:modified xsi:type="dcterms:W3CDTF">2007-12-12T20:35:38Z</dcterms:modified>
  <cp:revision>10</cp:revision>
  <dc:subject/>
  <dc:title>USDA 2008 Imagery Planning Meeting</dc:title>
</cp:coreProperties>
</file>