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4" name="PlaceHolder 1"/>
          <p:cNvSpPr>
            <a:spLocks noGrp="1"/>
          </p:cNvSpPr>
          <p:nvPr>
            <p:ph type="hdr"/>
          </p:nvPr>
        </p:nvSpPr>
        <p:spPr>
          <a:xfrm>
            <a:off x="0" y="-360"/>
            <a:ext cx="3005280" cy="461880"/>
          </a:xfrm>
          <a:prstGeom prst="rect">
            <a:avLst/>
          </a:prstGeom>
          <a:noFill/>
          <a:ln w="0">
            <a:noFill/>
          </a:ln>
        </p:spPr>
        <p:txBody>
          <a:bodyPr lIns="90720" rIns="90720" tIns="45360" bIns="45360" anchor="t">
            <a:noAutofit/>
          </a:bodyPr>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7"/>
          </p:nvPr>
        </p:nvSpPr>
        <p:spPr>
          <a:xfrm>
            <a:off x="3927240" y="-360"/>
            <a:ext cx="3004920" cy="461880"/>
          </a:xfrm>
          <a:prstGeom prst="rect">
            <a:avLst/>
          </a:prstGeom>
          <a:noFill/>
          <a:ln w="0">
            <a:noFill/>
          </a:ln>
        </p:spPr>
        <p:txBody>
          <a:bodyPr lIns="90720" rIns="90720" tIns="45360" bIns="45360" anchor="t">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58840" y="692280"/>
            <a:ext cx="461808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7" name="PlaceHolder 4"/>
          <p:cNvSpPr>
            <a:spLocks noGrp="1"/>
          </p:cNvSpPr>
          <p:nvPr>
            <p:ph type="body"/>
          </p:nvPr>
        </p:nvSpPr>
        <p:spPr>
          <a:xfrm>
            <a:off x="693720" y="4385880"/>
            <a:ext cx="5546880" cy="415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8"/>
          </p:nvPr>
        </p:nvSpPr>
        <p:spPr>
          <a:xfrm>
            <a:off x="0" y="8770680"/>
            <a:ext cx="3005280" cy="461880"/>
          </a:xfrm>
          <a:prstGeom prst="rect">
            <a:avLst/>
          </a:prstGeom>
          <a:noFill/>
          <a:ln w="0">
            <a:noFill/>
          </a:ln>
        </p:spPr>
        <p:txBody>
          <a:bodyPr lIns="90720" rIns="90720" tIns="45360" bIns="45360" anchor="b">
            <a:noAutofit/>
          </a:bodyPr>
          <a:lstStyle>
            <a:lvl1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9"/>
          </p:nvPr>
        </p:nvSpPr>
        <p:spPr>
          <a:xfrm>
            <a:off x="3927240" y="8770680"/>
            <a:ext cx="3004920" cy="46188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B5E07BC-1884-4FA9-BFBF-58A14862A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8840" y="692280"/>
            <a:ext cx="4618080" cy="3463920"/>
          </a:xfrm>
          <a:prstGeom prst="rect">
            <a:avLst/>
          </a:prstGeom>
          <a:ln w="0">
            <a:noFill/>
          </a:ln>
        </p:spPr>
      </p:sp>
      <p:sp>
        <p:nvSpPr>
          <p:cNvPr id="186" name="PlaceHolder 2"/>
          <p:cNvSpPr>
            <a:spLocks noGrp="1"/>
          </p:cNvSpPr>
          <p:nvPr>
            <p:ph type="body"/>
          </p:nvPr>
        </p:nvSpPr>
        <p:spPr>
          <a:xfrm>
            <a:off x="693720" y="4385880"/>
            <a:ext cx="5546880" cy="415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p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8840" y="692280"/>
            <a:ext cx="4618080" cy="3463920"/>
          </a:xfrm>
          <a:prstGeom prst="rect">
            <a:avLst/>
          </a:prstGeom>
          <a:ln w="0">
            <a:noFill/>
          </a:ln>
        </p:spPr>
      </p:sp>
      <p:sp>
        <p:nvSpPr>
          <p:cNvPr id="188" name="PlaceHolder 2"/>
          <p:cNvSpPr>
            <a:spLocks noGrp="1"/>
          </p:cNvSpPr>
          <p:nvPr>
            <p:ph type="body"/>
          </p:nvPr>
        </p:nvSpPr>
        <p:spPr>
          <a:xfrm>
            <a:off x="693720" y="4385880"/>
            <a:ext cx="5546880" cy="415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sk Group should participate with private sector efforts, including the AABB Inter-organizational Task Force on Biovigilance, to advance public health in this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B569F-10A9-4007-8566-8FBD1F7BF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0F8BE-4F3C-4532-A66D-5A73E2BA3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137ED-86E5-40AC-87C8-3CF822C84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E2ACF-E55E-40ED-918D-782FE2CB7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B6DFB-A2D7-4523-A9EB-FA6951915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BD24E-D129-431E-95E8-A6BE7DB2A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D5C90-79DF-4D7E-9149-82315205D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D1817-BA98-445C-BF90-1E19D289B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3CA5B-5649-4067-8D20-BC8F8C101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6F6D8-4615-411E-A503-0F5448ECE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26F17-374C-4660-BD83-A0B735EC5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8FFDE-835E-4FCC-8706-8E8596C06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BF791-C304-4325-A667-C53DE8C15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603E3-B038-48A7-BE76-897B31242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C2BB4-DA6E-4CB4-A6C1-F13F4D16A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C5DDF-8A26-4FCF-8B07-0F1BFA65B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312D3-A917-4423-BA4E-0870AF351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C9AE0-EAFE-4089-9297-A4C7ED3EF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B7F03-6211-4E48-9288-D397829BC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71795-7FE3-4554-B57C-58BCE7BB3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36D1B-F707-41AF-8073-C2668445D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D5EAF-5146-44FE-BE51-6995BFA2D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1AC87-A4E7-462A-A43A-141654A97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BE1B-606C-46BF-8318-1183E8B9E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E2C6-3DAD-4B5A-8BEA-3C37755B50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49DE-E893-4E77-BA9C-D60B8AF3F2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pic>
        <p:nvPicPr>
          <p:cNvPr id="124" name="" descr=""/>
          <p:cNvPicPr/>
          <p:nvPr/>
        </p:nvPicPr>
        <p:blipFill>
          <a:blip r:embed="rId2"/>
          <a:stretch/>
        </p:blipFill>
        <p:spPr>
          <a:xfrm>
            <a:off x="0" y="0"/>
            <a:ext cx="9144000" cy="1768320"/>
          </a:xfrm>
          <a:prstGeom prst="rect">
            <a:avLst/>
          </a:prstGeom>
          <a:ln w="0">
            <a:noFill/>
          </a:ln>
        </p:spPr>
      </p:pic>
      <p:sp>
        <p:nvSpPr>
          <p:cNvPr id="12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447920" y="2514240"/>
            <a:ext cx="6400800" cy="34290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isory Committee on Blood Safety and Availability</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gust 2006</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rry A. Holmberg, Ph.D.</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a:t>
            </a:r>
            <a:endParaRPr b="0" lang="en-US" sz="4400" spc="-1" strike="noStrike">
              <a:solidFill>
                <a:srgbClr val="ffffff"/>
              </a:solidFill>
              <a:latin typeface="Arial"/>
            </a:endParaRPr>
          </a:p>
        </p:txBody>
      </p:sp>
      <p:sp>
        <p:nvSpPr>
          <p:cNvPr id="172"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essential components or basic elements of a biovigilance syst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iovigilance be considered part of a comprehensive quality standard as expressed in cGMP, cGTP, or CLI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characteristics of a biovigilance system are already in place within the United Stat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act</a:t>
            </a:r>
            <a:endParaRPr b="0" lang="en-US" sz="4400" spc="-1" strike="noStrike">
              <a:solidFill>
                <a:srgbClr val="ffffff"/>
              </a:solidFill>
              <a:latin typeface="Arial"/>
            </a:endParaRPr>
          </a:p>
        </p:txBody>
      </p:sp>
      <p:sp>
        <p:nvSpPr>
          <p:cNvPr id="174"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the US need a biovigilance system to ensure blood safety and availabilit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ould be the Strength, Weakness, Opportunity and Threat (SWOT) of a biovigilance syste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would a biovigilance system contribute to, and integrate with the transformation of the health care system within the United State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a biovigilance system integrate with international systems, either planned or currently in existenc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above question, what does integrate mean to the Committee?</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ized definitions?</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ized data elements?</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ized platform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sharing?</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is?</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um to discuss analysis?</a:t>
            </a:r>
            <a:endParaRPr b="0" lang="en-US" sz="16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ponsibility</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role of the federal government and the private sector in a biovigilance system?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commendation(s) does (do) the Committee have in regards to the government’s role and function in the development, operation and support of a national biovigilance system?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ommendation</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fety of the US blood supply is a principal activity of the Advisory Committee on Blood Safety and Availability, and inclusion of efforts to improve organ and other tissue safety and availability also need to be considered, we recommend that the Secretary coordinate Federal actions and programs to support and facilitate biovigilance in partnership with initiatives in the private sector.</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ommendation</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iovigilance” is defined as a comprehensive and integrated national patient safety program to collect,  analyze and report on the outcomes of collection and transfusion and/or transplantation of blood components and derivatives, cells, tissues, and organs.  The program should be outcome driven with the objectives of providing early warning systems of safety issues, exchanging of safety information, and promoting education and the application of evidence for practice improvement. </a:t>
            </a:r>
            <a:endParaRPr b="0" lang="en-US" sz="2800" spc="-1" strike="noStrike">
              <a:solidFill>
                <a:srgbClr val="ffffff"/>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ommendation</a:t>
            </a:r>
            <a:endParaRPr b="0" lang="en-US" sz="4400" spc="-1" strike="noStrike">
              <a:solidFill>
                <a:srgbClr val="ffffff"/>
              </a:solidFill>
              <a:latin typeface="Arial"/>
            </a:endParaRPr>
          </a:p>
        </p:txBody>
      </p:sp>
      <p:sp>
        <p:nvSpPr>
          <p:cNvPr id="182" name="PlaceHolder 2"/>
          <p:cNvSpPr>
            <a:spLocks noGrp="1"/>
          </p:cNvSpPr>
          <p:nvPr>
            <p:ph/>
          </p:nvPr>
        </p:nvSpPr>
        <p:spPr>
          <a:xfrm>
            <a:off x="609480" y="1523520"/>
            <a:ext cx="8229600" cy="533412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ation of a HHS and PHS Biovigilance Task Group would be an important step for identification of the vision, goals, and processes needed to advance these objectives.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HS task group should produce an analysis and operational proposal concurrently with the AABB Inter-organizational Task Force on Biovigilance and other private sector efforts to include: </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r>
              <a:rPr b="1" lang="en-US" sz="1800" spc="-1" strike="noStrike">
                <a:solidFill>
                  <a:srgbClr val="ffffff"/>
                </a:solidFill>
                <a:latin typeface="Arial"/>
              </a:rPr>
              <a:t>gap analysis</a:t>
            </a:r>
            <a:r>
              <a:rPr b="0" lang="en-US" sz="1800" spc="-1" strike="noStrike">
                <a:solidFill>
                  <a:srgbClr val="ffffff"/>
                </a:solidFill>
                <a:latin typeface="Arial"/>
              </a:rPr>
              <a:t> regarding the effectiveness of the current activiti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need for mandatory versus non-mandatory</a:t>
            </a:r>
            <a:r>
              <a:rPr b="0" lang="en-US" sz="1800" spc="-1" strike="noStrike">
                <a:solidFill>
                  <a:srgbClr val="ffffff"/>
                </a:solidFill>
                <a:latin typeface="Arial"/>
              </a:rPr>
              <a:t>, and regulatory versus non-regulatory reporting;</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pe of reporting</a:t>
            </a:r>
            <a:r>
              <a:rPr b="0" lang="en-US" sz="1800" spc="-1" strike="noStrike">
                <a:solidFill>
                  <a:srgbClr val="ffffff"/>
                </a:solidFill>
                <a:latin typeface="Arial"/>
              </a:rPr>
              <a:t> with regard to product problems, medical errors and clinical adverse events including recognized and novel event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base centralization</a:t>
            </a:r>
            <a:r>
              <a:rPr b="0" lang="en-US" sz="1800" spc="-1" strike="noStrike">
                <a:solidFill>
                  <a:srgbClr val="ffffff"/>
                </a:solidFill>
                <a:latin typeface="Arial"/>
              </a:rPr>
              <a:t> versus data sharing;</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base governance</a:t>
            </a:r>
            <a:r>
              <a:rPr b="0" lang="en-US" sz="1800" spc="-1" strike="noStrike">
                <a:solidFill>
                  <a:srgbClr val="ffffff"/>
                </a:solidFill>
                <a:latin typeface="Arial"/>
              </a:rPr>
              <a:t>, ownership and accessibility;</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mat and standards for data reporting including confidentiality</a:t>
            </a: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for </a:t>
            </a:r>
            <a:r>
              <a:rPr b="1" lang="en-US" sz="1800" spc="-1" strike="noStrike">
                <a:solidFill>
                  <a:srgbClr val="ffffff"/>
                </a:solidFill>
                <a:latin typeface="Arial"/>
              </a:rPr>
              <a:t>coordination with non-U.S. safety</a:t>
            </a:r>
            <a:r>
              <a:rPr b="0" lang="en-US" sz="1800" spc="-1" strike="noStrike">
                <a:solidFill>
                  <a:srgbClr val="ffffff"/>
                </a:solidFill>
                <a:latin typeface="Arial"/>
              </a:rPr>
              <a:t> reporting systems;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ding</a:t>
            </a:r>
            <a:r>
              <a:rPr b="0" lang="en-US" sz="1800" spc="-1" strike="noStrike">
                <a:solidFill>
                  <a:srgbClr val="ffffff"/>
                </a:solidFill>
                <a:latin typeface="Arial"/>
              </a:rPr>
              <a:t> mechanisms for a sustainable system; an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gn and feasibility of suitable pilot programs</a:t>
            </a:r>
            <a:r>
              <a:rPr b="0" lang="en-US" sz="1800" spc="-1" strike="noStrike">
                <a:solidFill>
                  <a:srgbClr val="ffffff"/>
                </a:solidFill>
                <a:latin typeface="Arial"/>
              </a:rPr>
              <a:t> to determine the characteristics of a value-added system.</a:t>
            </a:r>
            <a:endParaRPr b="0" lang="en-US" sz="18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on </a:t>
            </a:r>
            <a:endParaRPr b="0" lang="en-US" sz="4400" spc="-1" strike="noStrike">
              <a:solidFill>
                <a:srgbClr val="ffffff"/>
              </a:solidFill>
              <a:latin typeface="Arial"/>
            </a:endParaRPr>
          </a:p>
        </p:txBody>
      </p:sp>
      <p:sp>
        <p:nvSpPr>
          <p:cNvPr id="18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BSA Charter revised and renew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 scope to transfusion and transplantation safe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ed government (non-voting)</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BER Office of Cell, Tissue and Gene Therapy</a:t>
            </a:r>
            <a:endParaRPr b="0" lang="en-US" sz="24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RSA, Department of Transplantation</a:t>
            </a:r>
            <a:endParaRPr b="0" lang="en-US" sz="24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ing group formed within HHS OPDIVs to develop gap analysi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Kuehnert, CD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Goldsmith, FDA</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4:16:01Z</dcterms:created>
  <dc:creator>JHolmberg</dc:creator>
  <dc:description/>
  <dc:language>en-US</dc:language>
  <cp:lastModifiedBy>Jerry Holmberg</cp:lastModifiedBy>
  <dcterms:modified xsi:type="dcterms:W3CDTF">2007-04-26T18:22:51Z</dcterms:modified>
  <cp:revision>28</cp:revision>
  <dc:subject/>
  <dc:title>Slide 1</dc:title>
</cp:coreProperties>
</file>