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B931-D0C3-4964-BF25-FE69FBB54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98200" y="4017960"/>
            <a:ext cx="74674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D430-C1BA-406E-83DA-EEFDEBF60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364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569960"/>
            <a:ext cx="364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98200" y="4017960"/>
            <a:ext cx="364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4017960"/>
            <a:ext cx="364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1748-75C0-4F60-98D9-A526B5EF0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2404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3240" y="1569960"/>
            <a:ext cx="2404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8280" y="1569960"/>
            <a:ext cx="2404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98200" y="4017960"/>
            <a:ext cx="2404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23240" y="4017960"/>
            <a:ext cx="2404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8280" y="4017960"/>
            <a:ext cx="2404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E007-5B1D-4C6A-A3F1-840AE3E433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AEBD-C6BD-4C46-91D3-15826A4EAE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33BD-E354-41B8-8B9C-A7BC3C7EE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36439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569960"/>
            <a:ext cx="36439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0C03-FF04-4E6E-B994-C7DD2E500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8A97-29D7-413B-AE7F-69B4784E8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120" y="7596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5F90-B7EA-4CC4-8622-71576BD79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364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569960"/>
            <a:ext cx="36439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98200" y="4017960"/>
            <a:ext cx="364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1A8D-195A-44CE-9A21-6887364AD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36439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569960"/>
            <a:ext cx="364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4017960"/>
            <a:ext cx="364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BC02-95EA-4B30-9064-4BC4CEACD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364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569960"/>
            <a:ext cx="364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98200" y="4017960"/>
            <a:ext cx="74674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60BF-25EA-4FCF-BB0C-ECE62C2EB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Fullerton Composite Squadron 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155600"/>
            <a:ext cx="838224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6375240"/>
            <a:ext cx="838224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722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E179-FDF1-45A5-8583-32471D8268AE}" type="slidenum">
              <a:rPr b="0" lang="en-US" sz="10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84040" y="154080"/>
            <a:ext cx="900360" cy="89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wipeoutwestnile.com/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46080" y="171000"/>
            <a:ext cx="6188040" cy="8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West Nile Viru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26680" y="5160960"/>
            <a:ext cx="6627960" cy="5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You Can Do To Protect Yoursel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43440" y="5834160"/>
            <a:ext cx="301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81400" y="1398600"/>
            <a:ext cx="5019480" cy="3513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19280" y="5029200"/>
            <a:ext cx="794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92120" y="5538960"/>
            <a:ext cx="6704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esented by 1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Lt. Chris Storey,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ptember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Arial"/>
              </a:rPr>
              <a:t>If You Are Bitten By A Mosquito</a:t>
            </a: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85600" y="1389240"/>
            <a:ext cx="7684920" cy="493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h the bite with soap and wa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 good idea for any bug bit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’t scratch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-the-counter itch relief remedies can help relieve itc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 your doctor if you later develop  WMV type symptom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et them know you were bitten, and whe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et them know what you are feeling now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ollow their instruction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How Likely Is It?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8200" y="141444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all mosquitoes carry WN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st because a mosquito bites you does not mean you will get WN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bitten by one that does carry WNV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pprox 80% will show no symptom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pprox 20% will develop mild symptom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pprox 1person out of every 150 will  develop severe symptoms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Arial"/>
              </a:rPr>
              <a:t>How Can You Protect Yourself?</a:t>
            </a: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oid mosquito bi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quito-proof your ho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quito-proof your communit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Avoid Mosquito Bite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insect repellen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pply to exposed skin when outdoo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thing can help reduce bi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ear long sleeves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ear long pants and sock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ear light colored clothing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ware of peak mosquito hou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usk to Dawn are peak mosquito hou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arly evening and early morning hours are peak mosquito feeding period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Insect Repellan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nsect repellent is best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s containing DE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N,N-diethyl-m-toluamid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e most effective flying insect repellent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an be used on skin and clothing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FF! Insect Repellent”, “Cutter” brand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lso works well against many flying insect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s containing Permathrin also go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or use on clothing only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How Long Will DEET Work?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s containing DEET will provide protection for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23.8% - average of 5 hours protec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20% - almost 4 hours of protec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6.65% - almost 2 hours of protec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4.75% - roughly 90 minutes of protec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s containing 50% or more DEET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on’t offer additional protec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re not proven to be any bett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Insect Repellent Do’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follow instructions on the lab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don’t need to use a lo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pply after swimming or heavy swea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h treated skin with soap &amp; water when returning indo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ver exposed skin and clot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ck a product you are likely to use and use it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Insect Repellent Don’t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apply to cuts, wounds, or irritated sk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apply under clot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Use on exposed skin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spray in enclosed pl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athroom, car, trailer, etc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spray directly to your 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pply product to your hands first then apply to your fa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hildren And Insect Repellen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y to your own hands first then rub product onto your chil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apply repellent to small children's ha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ey may put their hands in their mouth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ep insect repellent out of the reach of small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ike you would for any household clean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let small children apply insect repellent themsel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Mosquito-proof Your Home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ndow scree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stall and maintain tight fitting window and door screen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ep unscreened doors and windows close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iminate mosquito breeding groun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osquitoes lay their eggs in standing wat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imit the number of places for mosquitoes to bree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What is West Nile Viru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st Nile virus (WNV) is a mosquito-borne dise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NV affects mosquitoes, horses, birds, and peo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MV affects the central nervous system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 in Africa, west Asia and the Middle Eas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detected in New York in 199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detected in California in 200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Mosquito-proof Your Home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71200" y="1698480"/>
            <a:ext cx="7467480" cy="441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ucket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otted plant saucer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heelbarrow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Unused swimming pool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Unused “kiddie pools”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rash cans and dumpster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ld tires or tire swing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irdbath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Leaking faucet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Lawn ornaments and fountain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Rain gutter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ool or garden shed roof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atio umbrella stands and base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5600" y="1365120"/>
            <a:ext cx="6753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of standing  wat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Arial"/>
              </a:rPr>
              <a:t>Mosquito-proof Your Community</a:t>
            </a: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ort dead bi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wipeoutwestnile.com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877) WNV-BIRD (877-968-247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n up your y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osquitoes don’t care about fences - keep your yard free of standing wat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ncourage others to keep their yards free of standing wat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ose of dead bi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Handling Dead Bird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handle dead animals with bare ha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Or any animal (raccoons, possums, rabbits, squirrels, rats, mice, cats, dogs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a shovel or glo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a plastic trash ba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ut your hand into a large plastic bag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ick up the bird using the bag as a glo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rap the bag around the bir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ouble bag and dispose of in the trash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For More Information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ww.wipeoutwestnile.c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ww.westnile.ca.go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ww.westnilevefer.c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ww.cdc.gov/westn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West Nile Virus In California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06640" y="1141560"/>
            <a:ext cx="393228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West Nile Virus In California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55640" y="1452600"/>
          <a:ext cx="7740360" cy="4582800"/>
        </p:xfrm>
        <a:graphic>
          <a:graphicData uri="http://schemas.openxmlformats.org/drawingml/2006/table">
            <a:tbl>
              <a:tblPr/>
              <a:tblGrid>
                <a:gridCol w="3056040"/>
                <a:gridCol w="1702800"/>
                <a:gridCol w="1539000"/>
                <a:gridCol w="1442520"/>
              </a:tblGrid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o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 20, 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,4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Ange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Bernard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vers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Die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How It Spread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quitoes become infected when they feed on infected bi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73 different species of birds can carry WNV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st Nile Virus lives in the mosquito's salivary gland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cted mosquitoes can then transmit West Nile Virus to humans, birds, and animals while feed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osquitoes feed on the blood of warm blooded animal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osquitoes use their saliva to keep blood from clotting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How It Spread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31840" y="1287360"/>
            <a:ext cx="6748560" cy="50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The Signs &amp; Symptom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8560" y="1261800"/>
            <a:ext cx="7493040" cy="511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people will not develop any sympto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pprox 80 %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x 20% of people will have mild Sympto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ever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Headach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ody ache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Nausea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Vomiting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etimes swollen lymph gland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etimes a skin rash on the chest or back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ptoms typically develop 3 to 14 days after being bit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The Signs &amp; Symptom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x 1 in 150 people will have severe sympto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High fever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Headache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Neck stiffnes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tupor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isorientation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oma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uscle tremor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onvulsion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ptoms are worse i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e elderly (over 50 years old)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e immunocompromised (chronic poor health)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Arial"/>
              </a:rPr>
              <a:t>How Is WNV Infection Treated?</a:t>
            </a:r>
            <a:br>
              <a:rPr sz="3400"/>
            </a:b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is no specific treatment for WN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MV is a viru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ntibiotics do not work on viruse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is no human WNV vaccin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mild c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ymptoms usually pass on their own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ost people don’t even think they have WNV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severe c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upportive treatment in a hospital is necessary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600200" indent="-457200">
              <a:spcBef>
                <a:spcPts val="45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ntravenous fluid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600200" indent="-457200">
              <a:spcBef>
                <a:spcPts val="45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Help with breathing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600200" indent="-457200">
              <a:spcBef>
                <a:spcPts val="45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General nursing care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3:54:00Z</dcterms:created>
  <dc:creator>1LT CHris Storey</dc:creator>
  <dc:description/>
  <dc:language>en-US</dc:language>
  <cp:lastModifiedBy>Chris R. Storey</cp:lastModifiedBy>
  <dcterms:modified xsi:type="dcterms:W3CDTF">2004-09-29T23:03:45Z</dcterms:modified>
  <cp:revision>119</cp:revision>
  <dc:subject>WNV safety</dc:subject>
  <dc:title>West Nile Vir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45225799</vt:r8>
  </property>
  <property fmtid="{D5CDD505-2E9C-101B-9397-08002B2CF9AE}" pid="3" name="_AuthorEmail">
    <vt:lpwstr>crstorey@earthlink.net</vt:lpwstr>
  </property>
  <property fmtid="{D5CDD505-2E9C-101B-9397-08002B2CF9AE}" pid="4" name="_AuthorEmailDisplayName">
    <vt:lpwstr>Chris Storey</vt:lpwstr>
  </property>
  <property fmtid="{D5CDD505-2E9C-101B-9397-08002B2CF9AE}" pid="5" name="_EmailSubject">
    <vt:lpwstr>Latest version with corrections</vt:lpwstr>
  </property>
</Properties>
</file>