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png" ContentType="image/png"/>
  <Override PartName="/ppt/media/image1.gif" ContentType="image/gi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DD8C-386F-4D31-9247-1002EB2ED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may be standardized way of addressing issues or catered to a country’s specific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make a wish list – priorit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y should not cause h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ew skills and practices will be required to maximize value of LIMS investment? (Resources requir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LIMS alter interdepartmental relationships? (Build consens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value of the LIMS in supporting medium to longer-term strategic objectiv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et suppo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152C6-C807-4B0D-A5D8-E8E83C6C9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38523-E202-4AE4-BBDD-05404370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97BD2-97F2-4718-9C8E-35B255033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A3DC7-8E4A-41AA-A871-8F1401F9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C5A5-3BC1-4C33-B26D-8794C841E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22E2-3BE2-4DA6-909E-C88BFA2B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A037-E1C9-4BA3-9894-E44D7739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FE69-02E0-48FB-8DEB-41CD8119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AD88-6CB1-445E-9E1B-0F61AD3F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ABED-D075-494A-9870-F3C41BD4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8F10-9580-49BD-B791-77FF3E97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69170-D1A6-40CF-8F53-3A739EE4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9539-1B43-432B-B25A-0ECB2F04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61F4-0F50-4932-B08C-BC6E8D38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1B9D-E3FB-49FA-B73F-FD2F8CCF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416A-367A-40A8-9F72-BBA979032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9FC4-B762-4726-B81E-FF75EF96E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FE123-CDBE-47B2-95C3-643032D6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F844B-1969-4571-A5A4-93FC47FB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8DA82-9262-498A-9ED9-022A7636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E3643-F872-4FDF-B8D0-17F2CAB8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2969E-99FD-4EDB-AB79-11753FD0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E5E40-6BF7-426B-8E6F-FF8EBDDA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5DB98-1395-4CDF-90B1-2111BFC0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EF0E-3E53-4BDE-B3D9-9655F6AAA7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E450-72E0-4348-971A-6B06160E91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Laboratory Information Management Systems (LIMS)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eshma Kakka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GA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olutions detailed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S Plus – CDC developed tool for building applications to support lab processes – recommended for public health/reference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i Info – CDC developed tool usable for building applications to for labs – recommended for small clinical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S Access – commercially available tool that can be used in conjunction with VB to build applica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6259680"/>
            <a:ext cx="3124080" cy="598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267080" y="6229440"/>
            <a:ext cx="838440" cy="628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5715000" y="6248520"/>
            <a:ext cx="838080" cy="59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IMS decis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of l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ference/research/public health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linica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Hybri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ume of specim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s and number of te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ze of staff/u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ing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etermine which areas will be affect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 and expec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void ‘culture shock’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Keep in mind …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ation of LIMS requires close collaboration between lab and 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S needs to be a priority for both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-thinking of lab operations may be requi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ff required to build and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 of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urrent Statu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ganda: LITS Plus in production; using Epi Info 2002 for accessioning specimens, Visual Basic for some aspects of specimen manage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imbabwe: LITS Plus in p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nya: Considering LITS Plu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686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04400" cy="1066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840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Goals of GAP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assistance with development of systems that support best lab practices and allow for timely management and retrieval of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ote use of generic, portable systems that can be developed once and deployed in multiple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Next step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P Atlan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Improve information managemen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rovide technical expertis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acilitate collaborat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P 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Resources and commitmen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erson ti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IMS is the sum of …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ware, software, people, procedur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62520" y="2819520"/>
            <a:ext cx="952560" cy="819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867280" y="3276720"/>
            <a:ext cx="1198800" cy="1403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800600" y="4800600"/>
            <a:ext cx="851040" cy="1336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3057480" y="5029200"/>
            <a:ext cx="905040" cy="952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2270160" y="3429000"/>
            <a:ext cx="1235160" cy="1073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rot="6819000">
            <a:off x="5790600" y="4876200"/>
            <a:ext cx="533520" cy="381240"/>
          </a:xfrm>
          <a:custGeom>
            <a:avLst/>
            <a:gdLst>
              <a:gd name="textAreaLeft" fmla="*/ 0 w 533520"/>
              <a:gd name="textAreaRight" fmla="*/ 533880 w 5335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78800">
            <a:off x="5257440" y="304776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0800000">
            <a:off x="4038480" y="5409720"/>
            <a:ext cx="533520" cy="381240"/>
          </a:xfrm>
          <a:custGeom>
            <a:avLst/>
            <a:gdLst>
              <a:gd name="textAreaLeft" fmla="*/ 0 w 533520"/>
              <a:gd name="textAreaRight" fmla="*/ 533880 w 5335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8305400">
            <a:off x="3276360" y="3047760"/>
            <a:ext cx="533520" cy="381240"/>
          </a:xfrm>
          <a:custGeom>
            <a:avLst/>
            <a:gdLst>
              <a:gd name="textAreaLeft" fmla="*/ 0 w 533520"/>
              <a:gd name="textAreaRight" fmla="*/ 533880 w 5335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3398600">
            <a:off x="2819160" y="4571640"/>
            <a:ext cx="533160" cy="380880"/>
          </a:xfrm>
          <a:custGeom>
            <a:avLst/>
            <a:gdLst>
              <a:gd name="textAreaLeft" fmla="*/ 0 w 533160"/>
              <a:gd name="textAreaRight" fmla="*/ 533520 w 5331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ole of LIM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mana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Work flow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hanging business needs/process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xisting systems and improving where require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QA/QC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Why have a LIMS?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data management in lab to increase lab potenti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able centralization of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and enhance business processes of the lab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advantage of new lab information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easy access to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nterprise LIM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081840" y="2895480"/>
            <a:ext cx="1415880" cy="2057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447920" y="3048120"/>
            <a:ext cx="2522520" cy="195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5257800" y="4114800"/>
          <a:ext cx="3414600" cy="197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4114800"/>
                    <a:ext cx="3414600" cy="19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986040" y="5297400"/>
            <a:ext cx="29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imen Tra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23840" y="5257800"/>
            <a:ext cx="255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ient Tra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pecimen tracking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k specimens from receipt, processing, testing, reporting to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ically capture results from lab diagnostic equipment and store with specimen deta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cols and algorithms for testing and final result deter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086600" y="533520"/>
            <a:ext cx="1566720" cy="130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atient Tracking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able determination of patient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e patient and specimen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patient management and care/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451640" y="457200"/>
            <a:ext cx="11588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ossible Solutions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S P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i Info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T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S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ual Bas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S (statistical/analytical softwa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5T18:21:11Z</dcterms:created>
  <dc:creator>DHAP_USER</dc:creator>
  <dc:description/>
  <dc:language>en-US</dc:language>
  <cp:lastModifiedBy>sam5</cp:lastModifiedBy>
  <dcterms:modified xsi:type="dcterms:W3CDTF">2003-05-13T17:09:41Z</dcterms:modified>
  <cp:revision>28</cp:revision>
  <dc:subject/>
  <dc:title>Laboratory Information Management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0056421</vt:r8>
  </property>
  <property fmtid="{D5CDD505-2E9C-101B-9397-08002B2CF9AE}" pid="3" name="_AuthorEmail">
    <vt:lpwstr>rmk5@cdc.gov</vt:lpwstr>
  </property>
  <property fmtid="{D5CDD505-2E9C-101B-9397-08002B2CF9AE}" pid="4" name="_AuthorEmailDisplayName">
    <vt:lpwstr>Kakkar, Reshma</vt:lpwstr>
  </property>
  <property fmtid="{D5CDD505-2E9C-101B-9397-08002B2CF9AE}" pid="5" name="_EmailSubject">
    <vt:lpwstr>Presentation</vt:lpwstr>
  </property>
  <property fmtid="{D5CDD505-2E9C-101B-9397-08002B2CF9AE}" pid="6" name="_ReviewingToolsShownOnce">
    <vt:lpwstr/>
  </property>
</Properties>
</file>