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D8E-0638-4177-A695-7BBFFB27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B56-127C-4882-B7FF-39B387C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4CB-650F-4F3E-B824-E1058C48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BD2-0523-47C2-A5BD-247D2556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FB3-16CA-4B8D-AF25-CC173382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2B5-A489-4791-A421-717E82D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E30-5479-422F-B3C4-43FD50C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82F-4858-43CB-B746-3531570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15192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0F8-2CD0-4B57-BAE1-AE2FC023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C2D-45E6-4374-81A5-BF2F057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A15-2BC8-4AD9-BA4D-FCC67245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277-32F3-4004-92F2-0EE6246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D6F-7185-4341-8C0E-5BF08116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vaccines/programs/vmbip/downloads/nic/05-distrib-order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tional Immunization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ashington, D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ch 20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MBIP Distribution Team 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design of the distribution and ordering processes has required significant collabor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mbership of the distribution working team includes representatives from NIP and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P team members represent the Program Operations Branch, Program Support Branch, Immunization Services Division, the Office of the Director and the Procurement and Grant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M team members represent Alaska, California, Georgia, Kentucky, Maine, Montana, New York, New York City, Oregon, Texas, Utah and Virgi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am has held weekly conference calls since early October; attendance and participation has been exceptionall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am met its goal of drafting business rules recommendations in time to post the Request For Information (RFI) in mid-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business rules to support order management with the doses administered accountability method and were presented to AIM in January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1633680"/>
            <a:ext cx="6854760" cy="438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20387400">
            <a:off x="254160" y="1507680"/>
            <a:ext cx="18032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JANUARY VER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"/>
          <p:cNvSpPr/>
          <p:nvPr/>
        </p:nvSpPr>
        <p:spPr>
          <a:xfrm>
            <a:off x="2382840" y="1371600"/>
            <a:ext cx="424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ft Business Rules Presented to AIM in Jan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eedback from grantees led to further investigation and a better understanding of the wide variety of data collection and accountability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9800" y="1663560"/>
            <a:ext cx="7751880" cy="4197600"/>
          </a:xfrm>
          <a:prstGeom prst="rect">
            <a:avLst/>
          </a:prstGeom>
          <a:ln w="0">
            <a:noFill/>
          </a:ln>
        </p:spPr>
      </p:pic>
      <p:sp>
        <p:nvSpPr>
          <p:cNvPr id="51" name="Title"/>
          <p:cNvSpPr/>
          <p:nvPr/>
        </p:nvSpPr>
        <p:spPr>
          <a:xfrm>
            <a:off x="3077640" y="1376280"/>
            <a:ext cx="302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untability Methods Case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"/>
          <p:cNvSpPr/>
          <p:nvPr/>
        </p:nvSpPr>
        <p:spPr>
          <a:xfrm>
            <a:off x="1970280" y="1523880"/>
            <a:ext cx="538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FT – Current Thinking Around Business Rules for Or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828800"/>
          <a:ext cx="7924680" cy="401004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4800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Data 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 (doses on h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roviders will be required to submit inventory data to support NIP goal of vaccine inventory vi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Data 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s administered, wastage, transf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llection of aggregate doses administered (by antigen) and inventory adjustment data will be supported to facilitate grantee accountability revi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Business R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 provider order will be subject to a size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roviders will be asked to order no more than a set number of times per year (except in emergenc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Business R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por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s admin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temp or temp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choose to have the system hold provider orders based on missing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-specific fla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choose to have the system hold provider orders based on accountability or QA checks that occur outside the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“Pass-Through”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s administered by age/series/eligibility, temperature 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choose to have the call center collect additional detailed data and forward the information to th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rot="20387400">
            <a:off x="228600" y="1507680"/>
            <a:ext cx="115560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NDER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lthough the business rules are still being finalized, we expect they will require less provider behavior change than the original recomme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current VMBIP implementation plan separates the development effort for centralized distribution, centralized ordering and common accountability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2209680"/>
            <a:ext cx="858960" cy="798480"/>
          </a:xfrm>
          <a:custGeom>
            <a:avLst/>
            <a:gdLst>
              <a:gd name="textAreaLeft" fmla="*/ 0 w 858960"/>
              <a:gd name="textAreaRight" fmla="*/ 859320 w 8589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6600" y="2362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ot centralize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528560" y="2579040"/>
            <a:ext cx="84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527120" y="3548880"/>
            <a:ext cx="84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462320" y="4514760"/>
            <a:ext cx="97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19400" y="2222640"/>
            <a:ext cx="1257480" cy="7984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4" y="0"/>
                </a:lnTo>
                <a:lnTo>
                  <a:pt x="21600" y="10800"/>
                </a:lnTo>
                <a:lnTo>
                  <a:pt x="19284" y="21600"/>
                </a:lnTo>
                <a:lnTo>
                  <a:pt x="0" y="21600"/>
                </a:lnTo>
                <a:lnTo>
                  <a:pt x="2316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236232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ntralized distribution roll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166920"/>
            <a:ext cx="885960" cy="798480"/>
          </a:xfrm>
          <a:custGeom>
            <a:avLst/>
            <a:gdLst>
              <a:gd name="textAreaLeft" fmla="*/ 0 w 885960"/>
              <a:gd name="textAreaRight" fmla="*/ 886320 w 8859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40160" y="3343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order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0640" y="3166920"/>
            <a:ext cx="884160" cy="798480"/>
          </a:xfrm>
          <a:custGeom>
            <a:avLst/>
            <a:gdLst>
              <a:gd name="textAreaLeft" fmla="*/ 0 w 884160"/>
              <a:gd name="textAreaRight" fmla="*/ 884520 w 8841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05160" y="3343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ilo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der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13280" y="3166920"/>
            <a:ext cx="1412640" cy="798480"/>
          </a:xfrm>
          <a:custGeom>
            <a:avLst/>
            <a:gdLst>
              <a:gd name="textAreaLeft" fmla="*/ 0 w 1412640"/>
              <a:gd name="textAreaRight" fmla="*/ 1413000 w 1412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7" y="0"/>
                </a:lnTo>
                <a:lnTo>
                  <a:pt x="21600" y="10800"/>
                </a:lnTo>
                <a:lnTo>
                  <a:pt x="19247" y="21600"/>
                </a:lnTo>
                <a:lnTo>
                  <a:pt x="0" y="21600"/>
                </a:lnTo>
                <a:lnTo>
                  <a:pt x="2353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9400" y="3343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alized ordering roll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08320" y="4146480"/>
            <a:ext cx="2248200" cy="798480"/>
          </a:xfrm>
          <a:custGeom>
            <a:avLst/>
            <a:gdLst>
              <a:gd name="textAreaLeft" fmla="*/ 0 w 2248200"/>
              <a:gd name="textAreaRight" fmla="*/ 2248560 w 224820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7" y="0"/>
                </a:lnTo>
                <a:lnTo>
                  <a:pt x="21600" y="10800"/>
                </a:lnTo>
                <a:lnTo>
                  <a:pt x="19247" y="21600"/>
                </a:lnTo>
                <a:lnTo>
                  <a:pt x="0" y="21600"/>
                </a:lnTo>
                <a:lnTo>
                  <a:pt x="2353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324320"/>
            <a:ext cx="166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lement common accountability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through VMAP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90880" y="3095640"/>
            <a:ext cx="4636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0880" y="4052880"/>
            <a:ext cx="4636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5160" y="5086440"/>
            <a:ext cx="502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1588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9356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160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576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3380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1148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5520" y="513252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"/>
          <p:cNvSpPr/>
          <p:nvPr/>
        </p:nvSpPr>
        <p:spPr>
          <a:xfrm>
            <a:off x="3009240" y="1692360"/>
            <a:ext cx="330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BIP Implementation – Key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387400">
            <a:off x="1219320" y="1752120"/>
            <a:ext cx="115560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 R A F T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 I M E L I 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distribution team is putting together the distribution RFP and designing the central order management system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am is working toward an RFP (Request For Proposal) that will kick off the centralization of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am is working to finalize the business requirements for a centralized ordering managemen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am will work together to identify additional functionality (e.g. accountability data collection) that would be beneficial to gran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centralization of distribution and ordering is underway, the focus will shift to investigating and incorporating accountability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uestions &amp; Contact Inf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7000" y="2695680"/>
            <a:ext cx="82458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Mul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MBIP Distribution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dc.gov/vaccines/programs/vmbip/downloads/nic/05-distrib-order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4:38:59Z</dcterms:created>
  <dc:creator>CDC/NIP</dc:creator>
  <dc:description/>
  <cp:keywords>VMBIP distribution overview National Immunization Conference May 20 2005 ordering process NIP AIM RFI request for information draft business rules VMAP centralized ordering accountability </cp:keywords>
  <dc:language>en-US</dc:language>
  <cp:lastModifiedBy>gyj6</cp:lastModifiedBy>
  <dcterms:modified xsi:type="dcterms:W3CDTF">2008-02-19T13:49:28Z</dcterms:modified>
  <cp:revision>15</cp:revision>
  <dc:subject>VMBIP</dc:subject>
  <dc:title>VMBIP Distribution Team Overview</dc:title>
</cp:coreProperties>
</file>