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515-3196-4170-A8E1-0ACDBB57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592-8F6B-4DEB-8316-3219FDD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BD8-B92B-44CD-86DD-E130236C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3CB-5BDF-4157-8A59-58D8C834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DBE-C5A9-41AB-857E-4CCE8BE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7A3-A109-4B33-9831-13DEABD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2BA-DBF3-4B19-8398-A45C4A5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A9A-0C19-46D3-B516-80FB9AB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62C-E082-4F82-A55B-2C60BDFB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F09-8347-4D35-9431-C23C6C3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6A1-4A22-437D-89EA-3BEFC0F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D4D-AAED-4E1C-812C-A970E91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Transportation in Parks and Public Lands Program Webinar – January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al Transit Administration – U.S. Department of Transpor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4D5-4A19-467C-A47E-0001CE0F39D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562720"/>
            <a:ext cx="8229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8960" y="304920"/>
            <a:ext cx="6212160" cy="632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19720" y="533520"/>
            <a:ext cx="2819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 Transport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arks and Public 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ebin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January 16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deral Transit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ww.fta.dot.gov/atp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Cabeza Prieta National Wildlife Refuge, Arizo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DFA-A664-4793-A37F-6C6F63B08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islativ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, DOI cooperate to conduct program-level activities, such as technical assistance (up to 10% of ATPPL program funding can be used for this purp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 to Con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-DOI Memorandum of Agreement (MO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PP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gency work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ndertake major program tasks: technical assistance, developing documentation and procedures, evaluating project proposals, providing oversight, monitoring project and program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5F6-E30E-48CA-B892-97E131A38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44792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formation about metropolitan and statewide planning, se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planning.dot.gov/state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609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ACD-67B1-4310-B3ED-CB123B6471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447920"/>
            <a:ext cx="73911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meetings of the interagency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published in the Feder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web sit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and outreach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ctivities (such as this web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d agency point of contact (HQ, reg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distribution list for news, updates, annou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825-8F57-466C-810F-42C85F50F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447920"/>
            <a:ext cx="7391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ar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 federally owned or managed park, refuge, or recreational area open to the general public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ark Service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ildlife Refuge System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Reclamation recreation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Land Management recreation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Forest System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175-DB8A-45E3-8764-D9AEE611C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447920"/>
            <a:ext cx="7391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applic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federal land management agency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a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Fish and Wildlif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Recla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L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Fores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, local, or tribal governments with jurisdiction over land in the vicinity of an eligible area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ng with the cons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elevant federal land management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747-5C03-4D27-95EC-B5305C2B27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project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ning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tended to identify potential solutions to alternative transportation problems, and to justify possible capital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lementation (“capital”)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lly involve purchasing, designing, or constructing alternative transportation facilities or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le projec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ext slid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in or near an eligible area, be “alternative transportation,” and contribute to the goals of the ATPPL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assistance (e.g., driver salaries)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058-ADA5-4650-833E-3CA27337D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447920"/>
            <a:ext cx="7391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transportation planning studies, including evaluation of no-build and other alternatives, traffic studies, visitor utilization studies, transportation analysis, and environment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to comply with metropolitan and statewide plann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803-6C48-461E-8355-01A8810A95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447920"/>
            <a:ext cx="73911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: General capital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ing, constructing, inspecting, or supervising equipment or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cost of service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/commercialization of alternative transportation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97A-8B05-4056-A78C-04D5E171DA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447920"/>
            <a:ext cx="7391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: Fixed guideway and bus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guid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new fixed guideway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bilitation, modernization, or expansion of existing fixed-guidewa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, rehabilitation, replacement of buses and relate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of bus-related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714-7FB6-4D05-8556-C520BBB75A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391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: “Other”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costs of coordinating with external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torized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-borne acces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alternative transporta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5BA-E53F-4391-8414-340DBAAE66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echnical introduction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Eric Plosky, U.S. DOT Volpe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47920"/>
            <a:ext cx="7391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ebinar has three compon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(teleconference)—phone number was provided when you 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—software plug-in was provided when you registe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resentation also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questions can be sent to the presenters via the webinar interface (o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c@volpe.dot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scussion during the web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echnical questions or problems with the webin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it is running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ease call the Verizon help desk, at 1-866-449-07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2A1-2B26-42BA-BB7B-978DF625C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447920"/>
            <a:ext cx="73911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ligible projects for implementation an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torized projects involving facilities for bicycling, walking, and watercraft need to meet the following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or mitigate the number of automobile trips by providing an alternative to travel by private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high degree of connectivity with a transport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safety for motorized and nonmotorized transportation system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n-motorized transi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0A8-4A9A-4AE8-8A8C-ED11CF4805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application process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Dwayne Weeks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447920"/>
            <a:ext cx="7391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project typ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and implementation projects have different forms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correc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posal forms and th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data an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hasis: purpose and need—why is it necessary to consider transportation alternati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hasis: good projects with sound cost-estimate, solid financial plan, strong implementation strategy, local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C69-5CF3-4448-A337-58D57CF488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ning project evalua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5146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 of Need (5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Mobility and Experience (1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5146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Benefits (1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Feasibility (2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752480"/>
            <a:ext cx="3809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2840" y="17524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roposal Overall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51460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Transportation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124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Traffic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Visitor 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1240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4197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d Education Recreation health 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of Natur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124080"/>
            <a:ext cx="19047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2004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in Meeting Managemen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038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of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124080"/>
            <a:ext cx="190512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5181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hip/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04E-AE3B-4A88-9EDE-45C4D8DB46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lementation project evalua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5146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 of Need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Mobility and Experience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5146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Benefits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Feasibility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1752480"/>
            <a:ext cx="4724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752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Proposal Overall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51460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Transportation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124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Traffic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Visitor 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1240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4197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d Education Recreation health 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of Natur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124080"/>
            <a:ext cx="19047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2004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in Meeting Managemen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4038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of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124080"/>
            <a:ext cx="190512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5181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hip/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CCA-E074-45E5-BE29-C6A705BA12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: helpful 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447920"/>
            <a:ext cx="73911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st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project necessary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benefits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homework: use previous studi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environmental impacts and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definition of the project: length, mode, stations, vehicles, capital cost, operat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of project and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284-09F1-4707-8770-2AD85FF508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: helpful 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447920"/>
            <a:ext cx="73911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 – make it real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ual cost estimate – request only the amount of funding necessar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unding needed –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funding needed –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apital and operating funding fo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other funding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documentation – commitment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01B-31A8-47E3-9E83-CA060E6043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37160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s submitted to land management agencies (February 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89540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management agency internal screening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24638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eened proposals distributed for technical working group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0272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s rated by the technical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6068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s are compiled; projects are ranked based upon sc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160880"/>
            <a:ext cx="6019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working group prioritizes project selection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s project funding lev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90212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st-ranked projects are recommended for funding to D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770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elections by DOI; concurred by FTA (summer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9" idx="2"/>
            <a:endCxn id="220" idx="0"/>
          </p:cNvCxnSpPr>
          <p:nvPr/>
        </p:nvCxnSpPr>
        <p:spPr>
          <a:xfrm>
            <a:off x="4533480" y="16858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0" idx="2"/>
            <a:endCxn id="221" idx="0"/>
          </p:cNvCxnSpPr>
          <p:nvPr/>
        </p:nvCxnSpPr>
        <p:spPr>
          <a:xfrm>
            <a:off x="4533480" y="220968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1" idx="2"/>
            <a:endCxn id="222" idx="0"/>
          </p:cNvCxnSpPr>
          <p:nvPr/>
        </p:nvCxnSpPr>
        <p:spPr>
          <a:xfrm>
            <a:off x="4533480" y="277812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2" idx="2"/>
            <a:endCxn id="223" idx="0"/>
          </p:cNvCxnSpPr>
          <p:nvPr/>
        </p:nvCxnSpPr>
        <p:spPr>
          <a:xfrm>
            <a:off x="4533480" y="334116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2"/>
            <a:endCxn id="224" idx="0"/>
          </p:cNvCxnSpPr>
          <p:nvPr/>
        </p:nvCxnSpPr>
        <p:spPr>
          <a:xfrm>
            <a:off x="4533480" y="392112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4" idx="2"/>
            <a:endCxn id="225" idx="0"/>
          </p:cNvCxnSpPr>
          <p:nvPr/>
        </p:nvCxnSpPr>
        <p:spPr>
          <a:xfrm>
            <a:off x="4533480" y="46875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5" idx="2"/>
            <a:endCxn id="226" idx="0"/>
          </p:cNvCxnSpPr>
          <p:nvPr/>
        </p:nvCxnSpPr>
        <p:spPr>
          <a:xfrm>
            <a:off x="4533480" y="5216400"/>
            <a:ext cx="1080" cy="26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D3B-05C5-45B2-BF61-4AD53BE72B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447920"/>
            <a:ext cx="73911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partners to develop the best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ata to support the benefits of your project—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and cit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strong financial plan and leverage fu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ft the best project proposal to meet identified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023-8F52-42B1-8D9C-FFF598012D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proposal forms (two typ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365" t="25170" r="13278" b="19100"/>
          <a:stretch/>
        </p:blipFill>
        <p:spPr>
          <a:xfrm>
            <a:off x="1447920" y="1371600"/>
            <a:ext cx="6186240" cy="44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521-5B56-40B3-A701-465B405A2F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unds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44792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warded to FLMAs will be made through interagency agreements between FTA and the F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warded to state, local, and tribal entities will be made through grants directly from F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B51-B638-4C8C-A205-7B74A1DC74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09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ebinar agenda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Scott Faulk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447920"/>
            <a:ext cx="73911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and int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overview: background, legislation, and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program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 and project eligibility and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appl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ject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reference documentation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4FD-052C-403E-8815-A74A6FE5A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quirements for funding recip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447920"/>
            <a:ext cx="792468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quirements triggered by AT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specific requirements as contained in the 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that apply to all FTA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referenced in 49 U.S.C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53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ll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requirements is available on the ATPPL web site at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fta.dot.gov/documents/ATPPL_FY_2006_Requirements_Final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A4B-8BC2-40FB-A9A5-46B34ED14C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gram documentation and referenc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44792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PL program man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entral referenc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PL web 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links to other program documentation and reference material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ing FY 2007 project application forms and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E92-4FF5-4079-AD92-F8ECE459DB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Question-and-answ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447920"/>
            <a:ext cx="7391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&amp;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use the webinar interface to submit question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you may e-mail question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c@volpe.dot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52E-8715-450D-ABEC-1A46B76625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ebinar close-out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Scott Fa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447920"/>
            <a:ext cx="73911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all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eedback will be solicited, and the webinar will be archived, on the ATPPL web page: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www.fta.dot.gov/atp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questions or would like to follow up, please contact Scott Faulk at scott.faulk@dot.gov or 202-366-16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3C8-1355-4F78-B6C9-7FFB048F37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1447920"/>
            <a:ext cx="73911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all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provide feedback on the webinar by visi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vide web site addres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ebinar will be archived on the ATPPL web page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questions or would like to follow up, please contact Scott Faulk at scott.faulk@dot.gov or 202-366-16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1430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WEB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ank you for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29200" y="4114800"/>
            <a:ext cx="126180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FFF-059F-4C5F-AA4C-E923430A94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ederal Transit Administration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447920"/>
            <a:ext cx="7391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ry Rosap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puty Associate Administrator for Program Management (T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ika Buchanan-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Fau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yne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3FF-1ED1-4808-B224-535230459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ederal lands management agency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447920"/>
            <a:ext cx="7391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u DeLor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Department of the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han Caldw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Fish and Wildlif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da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reau of L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Hartso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ational Pa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n LaFaye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Fores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DE4-E781-4401-B11A-EB4C784EE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1447920"/>
            <a:ext cx="73911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fe, Accountable, Flexible, Efficient Transportation Equity Act: A Legacy for Users (SAFETEA-LU) (2005) authorize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Transportation in Parks and Public Lands (ATPPL)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deral Lands Alternative Transportation Systems Stu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7 million authorized during FY 2006 – F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troduction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Terry Rosapep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F00-5584-4A7B-8C42-197464BBA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Y 2006 (first year of the progra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70 project proposals were submitted, totaling more than $40 million in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planning and implementation projects were selected for a total of $19,631,170 in funding (full list of projects is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planning projects ($3.6 millio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capital projects ($16 m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projects were under $250,0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projects were between $250,000 and $500,000; 11 projects were above $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6B7-A3C2-454A-B481-C52BC35995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447920"/>
            <a:ext cx="7391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broad objectives specified in legislation, relating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sitor exper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ource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specific program goals identif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 natural, historical, cul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ngestion and 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visitor mobility and 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visitor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access to all, including persons with dis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D34-1D34-494E-AD33-B723C610D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447920"/>
            <a:ext cx="73911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me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nd eval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most meritorious projects for funding, based on a quantitative evalu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monstrated ne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 the best possible solutions to current or anticipate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ncial efficiency and sustaina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federal dollars wisely, and stimulate funding from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nd, integrated, and participatory plann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objective analysis and cooperative planning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varie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ographic diversity, urban/rural, project size, new/existing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17B-CEEC-4D0D-9629-5AB389DEB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41:13Z</dcterms:created>
  <dc:creator>Eric Plosky</dc:creator>
  <dc:description/>
  <dc:language>en-US</dc:language>
  <cp:lastModifiedBy>scott.faulk</cp:lastModifiedBy>
  <dcterms:modified xsi:type="dcterms:W3CDTF">2007-01-16T16:04:43Z</dcterms:modified>
  <cp:revision>43</cp:revision>
  <dc:subject/>
  <dc:title>PowerPoint Presentation</dc:title>
</cp:coreProperties>
</file>