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033-84FE-4E9A-92D7-487ECDE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080-D02A-4AB5-B6B6-3577747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825-1AFD-4A03-8065-AE1100BD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637-9A1D-468B-8ABD-3A70675B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276-4187-452B-BAB8-09B9DEB6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87D-D7DB-40A7-BDFB-B916B96D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2CBC-952F-4104-80AE-9C2D4036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409C-A491-455C-9021-39FC1815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9DB5-B478-481A-AE23-03B46638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9BA-5F32-41E3-B80D-DFC5113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D70C-61BE-4E8E-8ED4-F958470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126-9929-46F3-9E07-45F6A5CB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31AF-ED48-492A-9BB2-65F62C9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3005-9F61-4C3A-BBD8-C4B5D5C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2A24-FA1B-4EBB-AD7B-26219BED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2344-8A9B-4817-8C24-0E7B9A46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3A30-2E3B-4A7D-A1FB-EDE87CBD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374-642A-4546-A65B-2B4428F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0CE-7AC4-424B-9D85-8DFD86F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87A-0258-44FE-A55B-E5D1083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6A0-E208-41DD-97B7-60F087BC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32A-81FE-4239-B69D-F29F761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AB0-6692-4D78-A2B1-AC832D6B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751-306E-4D31-80E2-0DFA856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EA62-E7B8-4F71-9574-0BE33A5A8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3B5-14D3-496F-BD65-E8E070D98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TAR reconstruction overview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816680" y="5740560"/>
          <a:ext cx="9367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6680" y="5740560"/>
                    <a:ext cx="9367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7560" y="3276720"/>
            <a:ext cx="70102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os Margetis (Kent State University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Collab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is similar to A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i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rel TPC as central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licon based Vertex Det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R (SSD+SD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CE (+Pixel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reconstruction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ster/Hit/Track finders/fit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obal combinators (tracks, PID, verti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ibrations, Alignment, Control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R  Year-1 / Year-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-1 tracking det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PC + one SVT plane (ladder) + FTP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r integrated tracking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erial, trackers, matching, relative align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-2, 2’,2”...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ly + SVT, then +S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er integrated tracking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ion sequence less obvi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ctor&lt;-&gt;Global handsha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ftware design - Bad new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Initial Desi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cy code was put together and effort concentrated in maintenance and algorithm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environment, new 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(STAR dedicated) manpower/frequent infra changes (much better n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-existence of Fortran/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rs and p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code, same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box/Don’t touch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ood new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algorithmic approaches to cluster/track f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previous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 tasks are covered even if not in an optimum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uge holes in the syste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looking for common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ion (GEANE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tting (Kalman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hm handshake/streamlining/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PC (similar chart for SV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data are repor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TAR coor. Sy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tpc" descr=""/>
          <p:cNvPicPr/>
          <p:nvPr/>
        </p:nvPicPr>
        <p:blipFill>
          <a:blip r:embed="rId1"/>
          <a:stretch/>
        </p:blipFill>
        <p:spPr>
          <a:xfrm>
            <a:off x="3429000" y="685800"/>
            <a:ext cx="545796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re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detector specific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s D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global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441936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la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tuning / develop existing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t from other’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best we can for upcom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er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rid of leg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y Analysis/Reco framework (StEvent 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will be ready to reconstruct its day-one data, but sw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-2 is more challenging than year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hope for increased participation in developing/rewriting code as data/analysis needs app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collaboration with outside exp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7:38:22Z</dcterms:created>
  <dc:creator>lbarnby</dc:creator>
  <dc:description/>
  <dc:language>en-US</dc:language>
  <cp:lastModifiedBy>margetis</cp:lastModifiedBy>
  <cp:lastPrinted>2000-04-07T15:35:36Z</cp:lastPrinted>
  <dcterms:modified xsi:type="dcterms:W3CDTF">2000-04-08T18:27:22Z</dcterms:modified>
  <cp:revision>31</cp:revision>
  <dc:subject/>
  <dc:title>STAR Year 1 Global Tra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NT\Profiles\lbarnby\Personal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04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