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4C3-792E-4418-B304-A8D7C9FE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F74-D597-4DDA-BF33-CEC6972F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176-0DC6-41B6-8384-90D78F70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B7A-BAC8-44D5-BC76-0D6B7168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7B9E-186B-411B-B219-30C0C2B5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CFE8-1EA6-4C52-AA36-8163C44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C29-998C-40B5-879C-9219ED42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8B00-75DD-431C-B1A2-5ABCE19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8529-CC7E-4FC9-ADE5-4BFC9F0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E2D-C7E8-405A-983E-BC8D6CA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99AE-3445-404B-B91B-B7C6149C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2A6-45A0-472C-B34A-759A316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240A-9631-4642-807F-D531623F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2B5-C139-472E-9CDA-1D85EA3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3785-E6C4-4278-B9E6-6E8E384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809C-0F22-4207-B70D-E209922B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968-C9FD-41E1-8792-5B4C68FA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4AF-5B99-4A2C-9375-CFCBD27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C63-3E3A-492E-A11C-EB7260D3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6C6-F87F-488C-B813-7F2EE3E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12C-F652-40F1-9619-A881715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29D-630C-4E49-9007-2766ACD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80D-888E-48D6-B18C-9D391EE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1F7-69A0-4338-A707-69EFA1D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990720"/>
            <a:ext cx="7769160" cy="0"/>
          </a:xfrm>
          <a:prstGeom prst="line">
            <a:avLst/>
          </a:prstGeom>
          <a:ln w="3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8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1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4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457200" y="60199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9978-3C85-451B-A89B-B4C4BB213772}" type="slidenum">
              <a:rPr b="0" lang="en-US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8028000" y="38088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Untitled"/>
              </a:rPr>
              <a:t>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DC5-1F46-441D-B7F9-766AEC535EBA}" type="slidenum">
              <a:rPr b="0" lang="en-US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70400" y="304812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Untitled"/>
              </a:rPr>
              <a:t>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en-std.org/jtc1/sc22/wg21/docs/papers/2004/n1737.pdf" TargetMode="External"/><Relationship Id="rId2" Type="http://schemas.openxmlformats.org/officeDocument/2006/relationships/hyperlink" Target="http://www.open-std.org/jtc1/sc22/wg21/docs/papers/2005/n1913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Fermilab’s C++0X Work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Walter E. Brow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f8f8"/>
                </a:solidFill>
                <a:latin typeface="Tahoma"/>
                <a:ea typeface="Tahoma"/>
              </a:rPr>
              <a:t>Computing Division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Fermi National Accelerator Laboratory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2006-08-08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3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Optimization opportuniti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call-site improvement for “pure” functions (no side effect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Potential for huge payoff in improved run tim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 form of the feature is already experimentally implemented by gcc (and others?); no known experiential reports, howev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ffer of assistance from head of UK delegation to co-author a paper by mid-Septemb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s there enough time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150-4B3A-47ED-BB1C-550CB1A1D513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4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Template alias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extend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ypedef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emplate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ccepted in princi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ead of French delegation plans to provide wording in the direction we wanted by Octob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ference implementation likely to be in g++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77A-1334-4463-B1AB-6EB6DC22D0AD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5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Opaque typedef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permits distinctions among otherwise-identical typ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e would have used this a half-dozen times in CMS code if the feature existed today.”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onceptual details worked out and already writte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precise wording for text of C++0X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ill need reference implementati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asonable likelihood of adoption—badly want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6C3-78FF-4733-9B04-A4A1E99EF676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6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Implicitly-callable funct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let niladic functions stand in for variables; has numerous application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lid theoretical bas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me recent public discussion on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omp.std.c++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considerable work to rise to active proposa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F90-8EF8-4919-A931-E43C9360BB17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Fermilab’s C++0X Work</a:t>
            </a: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Walter E. Brow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f8f8"/>
                </a:solidFill>
                <a:latin typeface="Tahoma"/>
                <a:ea typeface="Tahoma"/>
              </a:rPr>
              <a:t>Computing Division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Fermi National Accelerator Laboratory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2006-08-08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Today’s talk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cap of our goals in contributing to C++0X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s of our impact on HEP cod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enefits of disseminating our library cod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oposals at a critical jun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B5F-ACCB-4D44-9132-2852626A7E46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Our goals (recap from 2006-04-18)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facilitate C++ programming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Fermilab’s HEP problem domain, an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the general scientific user community in which Fermilab plays a significant par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provide programming features that can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e used safely and efficiently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both the C++ core language and the accompanying standard library 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 that we and our colleagues can focus on coding physics application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4B1-2643-495D-8FEB-2953AA85EE02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Example: impact of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Narrow"/>
                <a:hlinkClick r:id="rId1"/>
              </a:rPr>
              <a:t>N1737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Narrow"/>
                <a:hlinkClick r:id="rId2"/>
              </a:rPr>
              <a:t>N1913</a:t>
            </a: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447920"/>
            <a:ext cx="7769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N1737:  … Multi-declarator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auto</a:t>
            </a: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 Declarat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N1913:  … Improv[ing]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const_iterator</a:t>
            </a: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 Use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362320"/>
            <a:ext cx="77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// today’s code:  wordy, hard-to-read, repetitious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//</a:t>
            </a: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involves a type conversion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for( std::vector&lt;sometype&gt;::const_iterato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it  =  v.begin(),  end  =  v.end(); 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38480"/>
            <a:ext cx="77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// C++0X code:  compact, straightforward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//</a:t>
            </a: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	</a:t>
            </a: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repetition-free, conversion-fre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for( auto  it  =  v.cbegin(),  end  =  v.cend(); 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189-0380-40FE-B40F-CC9802B9502E}" type="slidenum">
              <a:t>4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Example: generating random numbers in C++0X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523880"/>
            <a:ext cx="77691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want Poisson-distributed samp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std::ranlux48  e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std::poisson_distribution  d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int  sample[100]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or( int  i = 0 ;  i != 100;  ++i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ample[i]  =  </a:t>
            </a: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d(e)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A2E-F994-4FF7-8253-C1C69D5F0440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y contribute our hep_random library?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monstrate our compete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btain benefits of peer review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nerally improve our credibilit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monstrate willingness to work with other knowledgable software specialists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btain increased recognition for FNAL as doing good work for the communit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mprove our code for our own us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289-804F-4B51-BE5D-390B590931F8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Critical juncture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ittee deadlines approach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ikely to need completed proposals this year to give Committee time to polish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oof-of-concept implementations needed this year for library, next year for language co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e’ve been focussing on random numbers to the near-exclusion of our other proposal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C1D-4C53-4DF5-B0B5-9C5A7B10DF74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1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Reflec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f supreme importance to HEP communit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attention by someone who can devote significant resources to developing the proposal and a reference implementation, and who will shepherd the proposa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cent opportunity:  J. Siek, research professor, UC—Bould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ow to support him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915-C8ED-46C6-A509-4D0AE81322B3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2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Mathematical special function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Proposal is complete (and code is even being shipped by one vendor) and is part of TR1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Unlikely to be adopted without a publicly-available reference implementation—viewed by vendors as too much work to benefit a small customer bas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BB1-90C7-47D9-AB9F-2A371CB0735B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5:48:08Z</dcterms:created>
  <dc:creator>W. E. Brown</dc:creator>
  <dc:description/>
  <dc:language>en-US</dc:language>
  <cp:lastModifiedBy>W. E. Brown</cp:lastModifiedBy>
  <dcterms:modified xsi:type="dcterms:W3CDTF">2006-08-08T15:28:25Z</dcterms:modified>
  <cp:revision>20</cp:revision>
  <dc:subject/>
  <dc:title>Fermilab's Contributions to C++0x</dc:title>
</cp:coreProperties>
</file>