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21-4DE4-4B40-885A-F38352F0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86C-764B-43F7-96DB-87566E9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FCF-9D57-4165-B19E-D0AE7210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81D-2712-4228-B172-83BCD20E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400-21B3-4325-BD36-1CAE7D8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DDE-B0CD-416A-AB39-09BB198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E2C-7EFA-4269-B18E-C134B008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BD1-977E-4F0E-9DE9-1D0A783C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20E-106C-4454-8308-D4937D9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1A5-46B1-4454-ADBA-7D1AB0C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BF2-19F7-414E-B377-A514A98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4CD-A474-42E4-81CD-25B3B72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FC76-15AF-45F4-93F6-5662E587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-Scale Educational Research in Multiple Sit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se of Scaling-UP 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 Fu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across s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esters (Tex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eachers in treatment implementation requires specification and 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 fidelity of treat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accuracy in scoring protocols, creating data fi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Loulee Yen in Yea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Recruitment across Sites and across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ceptions of K-PALS in Nashville vs. Mpls. Vs. South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ing in South Texas across years and implications for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cal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in IES’s so-called scaling-up studies is treatment i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ixed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fixed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ing boundaries of “custo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6:27:04Z</dcterms:created>
  <dc:creator>Doug Fuchs</dc:creator>
  <dc:description/>
  <dc:language>en-US</dc:language>
  <cp:lastModifiedBy>sheryl.lazarus</cp:lastModifiedBy>
  <dcterms:modified xsi:type="dcterms:W3CDTF">2006-07-05T15:53:48Z</dcterms:modified>
  <cp:revision>7</cp:revision>
  <dc:subject/>
  <dc:title>Implementing Large-Scale Educational Research in Multiple Sites: </dc:title>
</cp:coreProperties>
</file>