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F27-8E0D-422D-8746-89D38EE0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818-16C1-4EAE-A4E0-307E2DB3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9A2-3ACC-41C0-B2A1-A31A094B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BF7-9F0F-4F6C-80BC-D194CCC5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014-092A-4DA2-9BE5-9B1E1E94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1E8-618C-4C87-BD6A-8DF31CFB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EBC-6C83-44E7-B0E5-4C28117F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5D8-2A65-421D-A619-BABB3ADD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3DE-C2E5-432D-99B4-A37D6951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18A-A5D4-42B7-B692-ABDB5E19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828-42B1-4910-9B4B-350A9FF4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86E-C307-44C7-AC95-5697B3E9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94D2-F5CC-42E8-826A-4C4E62FBC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Clinical Use of Plasma for Trans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286000"/>
            <a:ext cx="6683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ma Szymanski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 of Pathology, Eme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versity of Massachusetts Medic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elayed blood processing. Percentage of FVIII remaining when blood kept at 4C or 22C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523880"/>
          <a:ext cx="6933960" cy="3810240"/>
        </p:xfrm>
        <a:graphic>
          <a:graphicData uri="http://schemas.openxmlformats.org/drawingml/2006/table">
            <a:tbl>
              <a:tblPr/>
              <a:tblGrid>
                <a:gridCol w="2311200"/>
                <a:gridCol w="2311560"/>
                <a:gridCol w="231120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of the delay (hou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at 2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at 4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- 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227600" y="5638680"/>
            <a:ext cx="43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Hughes et as. Transfusion 1988;28:566-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95360" y="0"/>
            <a:ext cx="63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yoprecipitated AHF (Cryoprecipi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yoprecipitate is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e cold insoluble portion of plas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remains when FFP is thawed at 1-6 C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supernate (Cryo-poor Plasm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removed by centrifugation and the cryoprecipitate, in a small volume of plasma (about 15 mL), is refrozen and stored at -18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echnical 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arating plasma from whole blood, such as the temperature and length of whole blood storage before separation, as well as the method of freezing (temperature, rate of freezing)  influenc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e amount of cryoprecipitable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yoprecip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R states that each bag of cryoprecipitate shall contain no less tha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0 units of FVIII per b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ryoprecipitated AHF (Cryoprecipitate). Total amount of different proteins per bag prepared in different cen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A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, 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B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get S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C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, PA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D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. Tx. 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VIII, IU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WF, IU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inoge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–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–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–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XIII, IU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necti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- 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533520" y="6324480"/>
            <a:ext cx="571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Flash freezing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yoprecipitated AHF (Cryoprecipi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se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ment of Bleeding i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ongenital hypo- or dysfibrinogenem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used for treatment of hemophilia A or vWD because purified products are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ed for treatment of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ongenital FXIII deficiency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rified product, Fibrogammin P (Aventis (Behring)) is available in Eur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ource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purification of coagulat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brin G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: Fibrin glue is a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iological tissue adhes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sed by surgeons; it initiates the final stages of coagulation, when a solution of human fibrinogen is activated by thromb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brin glue is prepared dur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urger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combining equal volumes of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ryoprecipita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usually one or two bags) and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rombi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lution contain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aCl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sometimes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ntifibrinolytic agen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Tranexamic acid* or epsilonaminocaproic acid, EACA). The concentrations of the ingredients vary in different re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mmercial preparation”Tisseel VH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Baxter Healthcare) is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120" y="6248520"/>
            <a:ext cx="27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Not available in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brin G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Used to se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leaks in dura m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traumatized bleeding surfaces in life-threatening conditions, e.g., liver trauma, cardiac surgery, leaking vascular sutur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le ear or microsurgical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tic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bovine thrombin  may cause immunization to thrombin and F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thrombin is used in Europe, recombinant human thrombin is going to be available in future in the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FFP/FP24 transfusions. Role of the blood gro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52480"/>
            <a:ext cx="8701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 group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 of the FFP should b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dentical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 to that of the pat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The next choice is to gi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“compatible FFP”,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 the isoagglutinins of which do not sensitize patient’s RB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It is said that Rh group identity is not important. However, I want to bring to your attention,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h negative patients, who have anti-D, may develop autoimmune hemolysis when given Rh+ FF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This is because FFP may contain some RBC stro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*IO Szymanski, V Smith. Transfusion 2003;43, No 9S, S75-040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mmediateTransfusion Reactions to 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7840" y="1862280"/>
            <a:ext cx="82040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ller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mild urticaria. Exact cause often not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patient has high levels of I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Storage-induced changes in plasma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aphylac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patient has antibodies to 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s FFP without 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ebrile non-hemoly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: recipient suspected to have WBC antibod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ctions not eliminated by WBC-poor blood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?? (Release of pyrogens from WBC during Hold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or plasma contains antibodies to recipient’s W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re FFP and FP24 infused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guidelines for transfusion of plasma products have been published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U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dicate that between 1993 and 2000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34% of FFP transfusions were outside the guidel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U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r. Dzik et al. reported in 2004 that at the Massachusetts General Hospital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bout 30% of the FFP transfusions were given to “prepare” patients with an increased INR for an invasive procedur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authors could not find any published evidence that such transfusions reduce bleeding at the time of the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sh Frozen Plasma (F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hawed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Frozen within 24 hours of Collection (FP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iquid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, Cryoprecipitate Reduced (Cryo-poor Plas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oprecipitated AHF (Cryoprecipitate, Cry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brin G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6520" y="57312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LASMA PRODUCTS FOR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Indications for FFP Transf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Category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 In patients with a single coagulation factor or plasma protein deficiency, whenever purified, virus-reduced, components are no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1,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Congenital FV  deficiency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re, autosomal, recessive disord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FF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commeded for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blee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eeding due to inhibitors to F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elets (contain FV),  immunosuppression, maybe PEX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, Congenital F XI deficienc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utosomal recessive inheritance, occurs mostly in Ashkenazy Jews. Mild to moderate bleeding tendency related to trauma. Severity of bleeding site-related, because FXI prevents clot ly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66"/>
                </a:solidFill>
                <a:latin typeface="Arial"/>
              </a:rPr>
              <a:t>FFP or FP2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hould be given for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major surger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t sites with high local fibrinolytic activity 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dental, urologica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, together with antifibrinolytic ag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ntal extraction does not require replacement therapy, only antifibrinolytic ag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rus-inactivated FXI concentrates (exist in Europe) are not used because of a chance of DI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dications for FFP/FP24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rombotic Thrombocytopenic Purpura (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is is a serious condition resulting in over 90% mortality if not trea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Caus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genital or acquired 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deficiency of the vWF metalloprotease, ADAMTS13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which may also be at low levels because of autoantibodies to ADAMTS1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Treatment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Plasma exchange therapy with a replacement solution containing ADAMTS1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3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Thrombotic Thrombocytopenic Purpura, (TTP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the best replacement sol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ecommend the use of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ryo-poor Plas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ecause it contains less vWF multimers tha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F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Recent data, however, show that FFP and Cryo-poor Plasma are equally effective*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D/FF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practically no vWF multimers, and causes less allergic reactions, but because of reduced level of Protein S, its use has been associated with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romb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have found the following protocol very useful: during PEX replace the first half of patient’s plasma with 5% albumin, and the last 50% with FFP or with Cryoprecipitate Reduced Pla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5320" y="5845320"/>
            <a:ext cx="42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eigler ZR et al. J Clin Apheresis 2001; 16:19-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ications for FFP/FP24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17600" y="2514600"/>
            <a:ext cx="9561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4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-1 esterase inhibitor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FP is recommended to treat angio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prevent angioed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airway mani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urified concentrate, “Cetor”, exis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yet available in the 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dications for FFP/FP24 Transfusions,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atego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ultiple coagulation factor deficiencies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1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; Disseminated Intravascular Coagulation (D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auses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arious causes may trigger the hemostatic system. It can be only a laboratory abnormality or result in microvascular bleeding or microvascular thrombosis. Platelets and all coagulation factors are deple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eatment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reat the primary cause, but when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leeding occu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blood component therapy is indicated. This includes platelets,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ryoprecipitate, FFP (or FP24?)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th careful clinical and coagulation test follow-up q 8 h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ment therapy in the absence of bleeding is not necessa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iver dise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otting factor synthesis,  PT, aggravated by dysfibrinogenemia, thrombocytopenia, and  fibrinolysis. Bleeding occurs due to a trigger, i.e. surgery, liver biopsy, or variceal rupt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900" spc="-1" strike="noStrike">
                <a:solidFill>
                  <a:srgbClr val="ff0066"/>
                </a:solidFill>
                <a:latin typeface="Arial"/>
              </a:rPr>
              <a:t>bleeding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ccurs, transfusion of FFP (?FP24) and cryoprecipitate is indicated. Prothrombin Complex Concentrates may confer a risk of DI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ny clinicians do not want to attempt liver biopsy without FFP infusions if PT is more than 4 sec. over normal. However, there is no evidence that this is benefici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efore and during liver transplantation, large amounts of FFP are transfus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8862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3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ssive Transfusions (M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ment formulae should be avo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ibrinogen defici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irst coagulation factor deficiency which develops after the loss of about 150% of blood volume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bleeding occurs, Cryoprecipitate, FFP (or FP24), (and platelet)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ransfusions should be guided by coagulation te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reach a PT and PTT ratios of 1.5 and fibrinogen concentration above 100 mg/d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6080" y="5715000"/>
            <a:ext cx="60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Hiippala ST et al. Anesthesia and Analgesia 1995;81:360-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B4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pen heart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atients do not need any transfusions. The large amount of heparin used during surgery is usually well handled by anesthesiologists. In our hospital,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TI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be requested whe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epar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e does not produce sufficient anticoa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ve observed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ibronectin consum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patients during CABG surgery when they need transfu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operative bleeding from chest tube could indicate surgical blood loss rather than coagulation factor de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ation of RBC, FFP, FP24, and Liquid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1600200"/>
            <a:ext cx="9144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335268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7"/>
                </a:solidFill>
                <a:latin typeface="Arial"/>
              </a:rPr>
              <a:t>Spin at 4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5334120"/>
            <a:ext cx="91440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5257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514600"/>
            <a:ext cx="7632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5146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647960" y="2514600"/>
            <a:ext cx="15228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88560" y="14590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ld at 1-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67040" y="2322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8 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62840" y="27795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24 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514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97180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7840" y="22464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5 days follo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 Expiration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23920" y="25146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60320" y="51656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P store -18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715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5573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P24 store -1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6095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38800" y="592776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quid Plasma at 1-6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8320" y="5394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BC store at 1-6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6880" y="411480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419112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7640" y="17524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5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, Reversal of Warfari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coagulation by Warfarin is caused by inhibition of vitamin K-facilitated carboxylation of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II, FVII, FIX and F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oteins C and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veranticoagu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ing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NR of 10 or more and/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eeding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when patient requires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urgent surgery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reat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drawal of the drug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itamin K p.o. or s.c., and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FP or FP2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rFVI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urp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lasma transfusions is to correc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icien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lasma proteins and coagulation factors caus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rious, even life-threatening sympto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purpose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paration and storage of Plasma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optimum methods should 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ined on the basis of current knowledge and accurate 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specific protein content - eventually, also ADAMTS13- in the final products prepared by the current and newly described methods (including flash freez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ummary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 current use of Plasma Products deviates from the guidelines established worldwide, mor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resear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out the effectiveness of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lasma Transfu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 conducted to provide data for clear guidelines, acceptable to physicians both in clinical and laboratory speci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uid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nici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lasma transfusion therapy, the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ed to know the content of specific proteins in Plasma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us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int of care tes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monitor the effectiveness of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 of RBC, FFP, and 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447920"/>
            <a:ext cx="3406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at 22C for up to 8 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66688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Spin at 2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C at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6960" y="365760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 Rich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181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93920" y="5410080"/>
            <a:ext cx="348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41280" y="5105520"/>
            <a:ext cx="447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79440" y="5029200"/>
            <a:ext cx="443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2670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Spin at 2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5334120"/>
            <a:ext cx="36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 Concentrate, at 2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5760" y="53341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P at -1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295280"/>
            <a:ext cx="121896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36232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35053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4191120"/>
            <a:ext cx="76212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4952880"/>
            <a:ext cx="838080" cy="990720"/>
          </a:xfrm>
          <a:prstGeom prst="rect">
            <a:avLst/>
          </a:prstGeom>
          <a:solidFill>
            <a:srgbClr val="ff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952880"/>
            <a:ext cx="7621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76360" y="2438280"/>
            <a:ext cx="2286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33360" y="3124080"/>
            <a:ext cx="53316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1240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11480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038480" y="4572000"/>
            <a:ext cx="9907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4648320"/>
            <a:ext cx="9144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Outdat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of FFP, FP24, Thawed Plasma, Liquid Plasma, Cryoprecipitate and Cryo-poor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1981080"/>
            <a:ext cx="0" cy="373392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676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th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5480" y="1600200"/>
            <a:ext cx="401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rozen Storage at -18C for up to 1 y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9810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rage before transfusion at 4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74320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1160" y="22636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36232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42900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7480" y="29494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743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19920" y="3048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3048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2514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wed Plasma,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3434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23880" y="38862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3886200"/>
            <a:ext cx="350532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85320" y="34322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oprecip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6960" y="35053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ls, 4 hrs at 2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4343400"/>
            <a:ext cx="457200" cy="53352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4876920"/>
            <a:ext cx="403884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2560" y="49309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yo-poor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4956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1447920"/>
            <a:ext cx="6248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Which factors influence the recovery of proteins in plasma separated from whole bloo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914400"/>
            <a:ext cx="769608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nticoagu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emperature and Length of 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ate of cooling to the temperature of the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ate and Temperature of freezing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Length and Temperature of frozen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emperature and Length of Storage after th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hemicals in the Currently used anticoagulants (mg in 63 mL) added to 450 mL of whole blood (AABB Technical Man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3520" y="1600200"/>
          <a:ext cx="8229600" cy="3833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oag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DA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c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basic Na 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555480" y="5791320"/>
            <a:ext cx="355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5715000"/>
            <a:ext cx="241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6 mg stated on the label of b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at affects the recovery of  factors V and VIII in plasma separated from RB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5530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hen WB is kept at 4C for 8 hours, FV decreases very little, but FVIII…(according to A. Farrugia, Ph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2743200"/>
          <a:ext cx="6553080" cy="3687840"/>
        </p:xfrm>
        <a:graphic>
          <a:graphicData uri="http://schemas.openxmlformats.org/drawingml/2006/table">
            <a:tbl>
              <a:tblPr/>
              <a:tblGrid>
                <a:gridCol w="3200400"/>
                <a:gridCol w="3352680"/>
              </a:tblGrid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ing temp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VIII, IU/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4 C (n=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C (n=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1:46:28Z</dcterms:created>
  <dc:creator>Irma Szymanski</dc:creator>
  <dc:description/>
  <dc:language>en-US</dc:language>
  <cp:lastModifiedBy>OC</cp:lastModifiedBy>
  <dcterms:modified xsi:type="dcterms:W3CDTF">2005-05-20T18:17:21Z</dcterms:modified>
  <cp:revision>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3430857</vt:r8>
  </property>
  <property fmtid="{D5CDD505-2E9C-101B-9397-08002B2CF9AE}" pid="3" name="_AuthorEmail">
    <vt:lpwstr>brownj@cber.FDA.gov</vt:lpwstr>
  </property>
  <property fmtid="{D5CDD505-2E9C-101B-9397-08002B2CF9AE}" pid="4" name="_AuthorEmailDisplayName">
    <vt:lpwstr>Brown, Jane</vt:lpwstr>
  </property>
  <property fmtid="{D5CDD505-2E9C-101B-9397-08002B2CF9AE}" pid="5" name="_EmailSubject">
    <vt:lpwstr>BPAC 5-4096  March 17-18, 2005</vt:lpwstr>
  </property>
</Properties>
</file>