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098413" cy="38098413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220320" cy="11062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075840"/>
            <a:ext cx="815328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220320" cy="11062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39787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523520"/>
            <a:ext cx="39787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075840"/>
            <a:ext cx="39787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075840"/>
            <a:ext cx="39787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220320" cy="11062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251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523520"/>
            <a:ext cx="26251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523520"/>
            <a:ext cx="26251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075840"/>
            <a:ext cx="26251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075840"/>
            <a:ext cx="26251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075840"/>
            <a:ext cx="26251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220320" cy="11062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220320" cy="11062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220320" cy="11062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3978720" cy="29718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523520"/>
            <a:ext cx="3978720" cy="29718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220320" cy="11062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220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220320" cy="11062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39787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523520"/>
            <a:ext cx="3978720" cy="29718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075840"/>
            <a:ext cx="39787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220320" cy="11062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3978720" cy="29718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523520"/>
            <a:ext cx="39787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075840"/>
            <a:ext cx="39787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9220320" cy="11062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39787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523520"/>
            <a:ext cx="397872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075840"/>
            <a:ext cx="8153280" cy="141732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354560"/>
                <a:tab algn="l" pos="8709120"/>
              </a:tabLst>
            </a:pP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HIC_bkg_3" descr="The image “http://www.bnl.gov/rhic/images/RHIC_bkg_3.gif” cannot be displayed, because it contains errors."/>
          <p:cNvPicPr/>
          <p:nvPr/>
        </p:nvPicPr>
        <p:blipFill>
          <a:blip r:embed="rId2"/>
          <a:srcRect l="5961" t="0" r="6414" b="0"/>
          <a:stretch/>
        </p:blipFill>
        <p:spPr>
          <a:xfrm>
            <a:off x="9564840" y="9448920"/>
            <a:ext cx="18970560" cy="1954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354560"/>
                <a:tab algn="l" pos="870912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5235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 fontScale="63000"/>
          </a:bodyPr>
          <a:p>
            <a:pPr marL="180000" indent="-180000">
              <a:spcBef>
                <a:spcPts val="799"/>
              </a:spcBef>
              <a:buClr>
                <a:srgbClr val="009900"/>
              </a:buClr>
              <a:buFont typeface="Verdana"/>
              <a:buChar char="•"/>
              <a:tabLst>
                <a:tab algn="l" pos="4354560"/>
                <a:tab algn="l" pos="870912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  <a:p>
            <a:pPr lvl="1" marL="540000" indent="-179640">
              <a:spcBef>
                <a:spcPts val="799"/>
              </a:spcBef>
              <a:buClr>
                <a:srgbClr val="3333cc"/>
              </a:buClr>
              <a:buFont typeface="Verdana"/>
              <a:buChar char="–"/>
              <a:tabLst>
                <a:tab algn="l" pos="4354560"/>
                <a:tab algn="l" pos="870912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  <a:p>
            <a:pPr lvl="2" marL="839880" indent="-1198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4354560"/>
                <a:tab algn="l" pos="870912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  <a:p>
            <a:pPr lvl="3" marL="1260000" indent="-1796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4354560"/>
                <a:tab algn="l" pos="870912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  <a:p>
            <a:pPr lvl="4" marL="1620000" indent="-119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4354560"/>
                <a:tab algn="l" pos="870912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  <a:p>
            <a:pPr lvl="5" marL="1620000" indent="-119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4354560"/>
                <a:tab algn="l" pos="870912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  <a:p>
            <a:pPr lvl="6" marL="1620000" indent="-119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4354560"/>
                <a:tab algn="l" pos="870912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4572000"/>
            <a:ext cx="28813320" cy="28879920"/>
          </a:xfrm>
          <a:prstGeom prst="blockArc">
            <a:avLst>
              <a:gd name="adj1" fmla="val 5497732"/>
              <a:gd name="adj2" fmla="val 5302268"/>
              <a:gd name="adj3" fmla="val 175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5257800" y="5561640"/>
            <a:ext cx="27400320" cy="26593560"/>
          </a:xfrm>
          <a:prstGeom prst="blockArc">
            <a:avLst>
              <a:gd name="adj1" fmla="val 10795016"/>
              <a:gd name="adj2" fmla="val 4984"/>
              <a:gd name="adj3" fmla="val 148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05720" y="30327480"/>
            <a:ext cx="246888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7094240" y="17102160"/>
            <a:ext cx="3886200" cy="3886200"/>
            <a:chOff x="17094240" y="17102160"/>
            <a:chExt cx="3886200" cy="3886200"/>
          </a:xfrm>
        </p:grpSpPr>
        <p:sp>
          <p:nvSpPr>
            <p:cNvPr id="43" name=""/>
            <p:cNvSpPr/>
            <p:nvPr/>
          </p:nvSpPr>
          <p:spPr>
            <a:xfrm>
              <a:off x="17094240" y="17102160"/>
              <a:ext cx="3886200" cy="3886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ev2_front1" descr="The image “http://www.bnl.gov/rhic/images/ev2_front1.jpg” cannot be displayed, because it contains errors."/>
            <p:cNvPicPr/>
            <p:nvPr/>
          </p:nvPicPr>
          <p:blipFill>
            <a:blip r:embed="rId1"/>
            <a:srcRect l="14111" t="3485" r="14187" b="3470"/>
            <a:stretch/>
          </p:blipFill>
          <p:spPr>
            <a:xfrm>
              <a:off x="17716680" y="17714880"/>
              <a:ext cx="265428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19801800">
              <a:off x="17745120" y="17435160"/>
              <a:ext cx="10382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9801800">
              <a:off x="19429560" y="20115360"/>
              <a:ext cx="942840" cy="488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801800">
              <a:off x="20143800" y="17765280"/>
              <a:ext cx="522360" cy="914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7986800">
              <a:off x="17267040" y="18007920"/>
              <a:ext cx="871560" cy="462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018000">
              <a:off x="19624680" y="17236440"/>
              <a:ext cx="490680" cy="9288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9801800">
              <a:off x="17447760" y="19408680"/>
              <a:ext cx="500040" cy="914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8001800">
              <a:off x="17971920" y="19933560"/>
              <a:ext cx="485640" cy="882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7995800">
              <a:off x="19968840" y="19616760"/>
              <a:ext cx="836640" cy="4968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 txBox="1"/>
          <p:nvPr/>
        </p:nvSpPr>
        <p:spPr>
          <a:xfrm>
            <a:off x="13411080" y="13395240"/>
            <a:ext cx="11293560" cy="1129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32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latin typeface="Comic Sans MS"/>
              </a:rPr>
              <a:t>Centrarity Dependence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636880" y="14638320"/>
            <a:ext cx="8832600" cy="883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287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latin typeface="Comic Sans MS"/>
              </a:rPr>
              <a:t>of Chemical Freeze-out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801840" y="15811560"/>
            <a:ext cx="6516720" cy="651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821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latin typeface="Comic Sans MS"/>
              </a:rPr>
              <a:t>in Au+Au Collisions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764120" y="16764120"/>
            <a:ext cx="4533840" cy="4533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6096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latin typeface="Comic Sans MS"/>
              </a:rPr>
              <a:t>at RHIC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3430160" y="13449240"/>
            <a:ext cx="11147040" cy="11147040"/>
            <a:chOff x="13430160" y="13449240"/>
            <a:chExt cx="11147040" cy="11147040"/>
          </a:xfrm>
        </p:grpSpPr>
        <p:sp>
          <p:nvSpPr>
            <p:cNvPr id="58" name=""/>
            <p:cNvSpPr txBox="1"/>
            <p:nvPr/>
          </p:nvSpPr>
          <p:spPr>
            <a:xfrm>
              <a:off x="15804000" y="15834600"/>
              <a:ext cx="6381360" cy="6369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6960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9900"/>
                  </a:solidFill>
                  <a:latin typeface="Comic Sans MS"/>
                </a:rPr>
                <a:t>Masashi Kaneta</a:t>
              </a:r>
              <a:endParaRPr b="0" lang="en-US" sz="2400" spc="1" strike="noStrike">
                <a:ln w="0">
                  <a:noFill/>
                </a:ln>
                <a:solidFill>
                  <a:srgbClr val="0099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14657760" y="14676840"/>
              <a:ext cx="8685360" cy="8685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37976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9900"/>
                  </a:solidFill>
                  <a:latin typeface="Comic Sans MS"/>
                </a:rPr>
                <a:t>and Nu Xu</a:t>
              </a:r>
              <a:endParaRPr b="0" lang="en-US" sz="2400" spc="1" strike="noStrike">
                <a:ln w="0">
                  <a:noFill/>
                </a:ln>
                <a:solidFill>
                  <a:srgbClr val="0099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13430160" y="13449240"/>
              <a:ext cx="11147040" cy="11147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32397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33cc"/>
                  </a:solidFill>
                  <a:latin typeface="Comic Sans MS"/>
                </a:rPr>
                <a:t>RIKEN-BNL and LBL</a:t>
              </a:r>
              <a:endParaRPr b="0" lang="en-US" sz="2400" spc="1" strike="noStrike">
                <a:ln w="0">
                  <a:noFill/>
                </a:ln>
                <a:solidFill>
                  <a:srgbClr val="3333cc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5800" y="6934320"/>
            <a:ext cx="8305920" cy="6629400"/>
            <a:chOff x="685800" y="6934320"/>
            <a:chExt cx="8305920" cy="6629400"/>
          </a:xfrm>
        </p:grpSpPr>
        <p:sp>
          <p:nvSpPr>
            <p:cNvPr id="62" name=""/>
            <p:cNvSpPr/>
            <p:nvPr/>
          </p:nvSpPr>
          <p:spPr>
            <a:xfrm>
              <a:off x="685800" y="6934320"/>
              <a:ext cx="8305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54560"/>
                  <a:tab algn="l" pos="8709120"/>
                </a:tabLst>
              </a:pPr>
              <a:r>
                <a:rPr b="0" lang="en-US" sz="5400" spc="-1" strike="noStrike">
                  <a:solidFill>
                    <a:srgbClr val="ff9933"/>
                  </a:solidFill>
                  <a:latin typeface="Comic Sans MS"/>
                </a:rPr>
                <a:t>Introductio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14400" y="7620120"/>
              <a:ext cx="784872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606600"/>
                  <a:tab algn="l" pos="1212840"/>
                  <a:tab algn="l" pos="1819440"/>
                  <a:tab algn="l" pos="2425680"/>
                  <a:tab algn="l" pos="3032280"/>
                  <a:tab algn="l" pos="3638520"/>
                  <a:tab algn="l" pos="4245120"/>
                  <a:tab algn="l" pos="4851360"/>
                  <a:tab algn="l" pos="5457960"/>
                  <a:tab algn="l" pos="6064200"/>
                  <a:tab algn="l" pos="6670800"/>
                  <a:tab algn="l" pos="7277040"/>
                  <a:tab algn="l" pos="7883640"/>
                  <a:tab algn="l" pos="8489880"/>
                  <a:tab algn="l" pos="9096480"/>
                  <a:tab algn="l" pos="9702720"/>
                  <a:tab algn="l" pos="10309320"/>
                  <a:tab algn="l" pos="1091556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The statistical model approach is established</a:t>
              </a:r>
              <a:r>
                <a:rPr b="0" lang="en-US" sz="1400" spc="-1" strike="noStrike">
                  <a:solidFill>
                    <a:srgbClr val="009900"/>
                  </a:solidFill>
                  <a:latin typeface="Verdana"/>
                </a:rPr>
                <a:t> by analysis of particle ratios of the high energy heavy ion collisions in GSI-SIS to CERN-SPS energy [1-7] and elementary collisions (</a:t>
              </a:r>
              <a:r>
                <a:rPr b="0" i="1" lang="en-US" sz="1400" spc="-1" strike="noStrike">
                  <a:solidFill>
                    <a:srgbClr val="009900"/>
                  </a:solidFill>
                  <a:latin typeface="Verdana"/>
                </a:rPr>
                <a:t>e</a:t>
              </a:r>
              <a:r>
                <a:rPr b="0" i="1" lang="en-US" sz="1400" spc="-1" strike="noStrike" baseline="30000">
                  <a:solidFill>
                    <a:srgbClr val="009900"/>
                  </a:solidFill>
                  <a:latin typeface="Verdana"/>
                </a:rPr>
                <a:t>+</a:t>
              </a:r>
              <a:r>
                <a:rPr b="0" i="1" lang="en-US" sz="1400" spc="-1" strike="noStrike">
                  <a:solidFill>
                    <a:srgbClr val="009900"/>
                  </a:solidFill>
                  <a:latin typeface="Verdana"/>
                </a:rPr>
                <a:t>e</a:t>
              </a:r>
              <a:r>
                <a:rPr b="0" i="1" lang="en-US" sz="1400" spc="-1" strike="noStrike" baseline="30000">
                  <a:solidFill>
                    <a:srgbClr val="009900"/>
                  </a:solidFill>
                  <a:latin typeface="Verdana"/>
                </a:rPr>
                <a:t>-</a:t>
              </a:r>
              <a:r>
                <a:rPr b="0" lang="en-US" sz="1400" spc="-1" strike="noStrike">
                  <a:solidFill>
                    <a:srgbClr val="009900"/>
                  </a:solidFill>
                  <a:latin typeface="Verdana"/>
                </a:rPr>
                <a:t>, </a:t>
              </a:r>
              <a:r>
                <a:rPr b="0" i="1" lang="en-US" sz="1400" spc="-1" strike="noStrike">
                  <a:solidFill>
                    <a:srgbClr val="009900"/>
                  </a:solidFill>
                  <a:latin typeface="Verdana"/>
                </a:rPr>
                <a:t>pp</a:t>
              </a:r>
              <a:r>
                <a:rPr b="0" lang="en-US" sz="1400" spc="-1" strike="noStrike">
                  <a:solidFill>
                    <a:srgbClr val="009900"/>
                  </a:solidFill>
                  <a:latin typeface="Verdana"/>
                </a:rPr>
                <a:t>, and </a:t>
              </a:r>
              <a:r>
                <a:rPr b="0" i="1" lang="en-US" sz="1400" spc="-1" strike="noStrike">
                  <a:solidFill>
                    <a:srgbClr val="009900"/>
                  </a:solidFill>
                  <a:latin typeface="Verdana"/>
                </a:rPr>
                <a:t>pp</a:t>
              </a:r>
              <a:r>
                <a:rPr b="0" lang="en-US" sz="1400" spc="-1" strike="noStrike">
                  <a:solidFill>
                    <a:srgbClr val="009900"/>
                  </a:solidFill>
                  <a:latin typeface="Verdana"/>
                </a:rPr>
                <a:t>) [8,9]. The model describes the particle ratios by the chemical freeze-out temperature (</a:t>
              </a:r>
              <a:r>
                <a:rPr b="0" i="1" lang="en-US" sz="1400" spc="-1" strike="noStrike">
                  <a:solidFill>
                    <a:srgbClr val="009900"/>
                  </a:solidFill>
                  <a:latin typeface="Verdana"/>
                </a:rPr>
                <a:t>T</a:t>
              </a:r>
              <a:r>
                <a:rPr b="0" i="1" lang="en-US" sz="1400" spc="-1" strike="noStrike" baseline="-25000">
                  <a:solidFill>
                    <a:srgbClr val="009900"/>
                  </a:solidFill>
                  <a:latin typeface="Verdana"/>
                </a:rPr>
                <a:t>ch</a:t>
              </a:r>
              <a:r>
                <a:rPr b="0" lang="en-US" sz="1400" spc="-1" strike="noStrike">
                  <a:solidFill>
                    <a:srgbClr val="009900"/>
                  </a:solidFill>
                  <a:latin typeface="Verdana"/>
                </a:rPr>
                <a:t>), the chemical potential (</a:t>
              </a:r>
              <a:r>
                <a:rPr b="0" i="1" lang="en-US" sz="1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9900"/>
                  </a:solidFill>
                  <a:latin typeface="Verdana"/>
                </a:rPr>
                <a:t>), and the strangeness saturation factor (</a:t>
              </a:r>
              <a:r>
                <a:rPr b="0" i="1" lang="en-US" sz="1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</a:t>
              </a:r>
              <a:r>
                <a:rPr b="0" i="1" lang="en-US" sz="1400" spc="-1" strike="noStrike" baseline="-25000">
                  <a:solidFill>
                    <a:srgbClr val="009900"/>
                  </a:solidFill>
                  <a:latin typeface="Verdana"/>
                </a:rPr>
                <a:t>s</a:t>
              </a:r>
              <a:r>
                <a:rPr b="0" lang="en-US" sz="1400" spc="-1" strike="noStrike">
                  <a:solidFill>
                    <a:srgbClr val="009900"/>
                  </a:solidFill>
                  <a:latin typeface="Verdana"/>
                </a:rPr>
                <a:t>). Many feature of the data imply that a large degree of the chemical equilibration may be reached both at AGS and SPS energies excepting strangeness hadrons. There are the four most important resul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80880" indent="-190440">
                <a:lnSpc>
                  <a:spcPct val="120000"/>
                </a:lnSpc>
                <a:spcBef>
                  <a:spcPts val="349"/>
                </a:spcBef>
                <a:buClr>
                  <a:srgbClr val="3333cc"/>
                </a:buClr>
                <a:buFont typeface="Verdana"/>
                <a:buAutoNum type="arabicPeriod"/>
                <a:tabLst>
                  <a:tab algn="l" pos="606600"/>
                  <a:tab algn="l" pos="1212840"/>
                  <a:tab algn="l" pos="1819440"/>
                  <a:tab algn="l" pos="2425680"/>
                  <a:tab algn="l" pos="3032280"/>
                  <a:tab algn="l" pos="3638520"/>
                  <a:tab algn="l" pos="4245120"/>
                  <a:tab algn="l" pos="4851360"/>
                  <a:tab algn="l" pos="5457960"/>
                  <a:tab algn="l" pos="6064200"/>
                  <a:tab algn="l" pos="6670800"/>
                  <a:tab algn="l" pos="7277040"/>
                  <a:tab algn="l" pos="7883640"/>
                  <a:tab algn="l" pos="8489880"/>
                  <a:tab algn="l" pos="9096480"/>
                  <a:tab algn="l" pos="9702720"/>
                  <a:tab algn="l" pos="10309320"/>
                  <a:tab algn="l" pos="1091556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At high energy collisions the chemical freeze-out (inelastic collisions cease) occurs at about 150-170 MeV and it is `universal' to both elementary and the heavy ion collision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80880" indent="-190440">
                <a:lnSpc>
                  <a:spcPct val="120000"/>
                </a:lnSpc>
                <a:spcBef>
                  <a:spcPts val="349"/>
                </a:spcBef>
                <a:buClr>
                  <a:srgbClr val="3333cc"/>
                </a:buClr>
                <a:buFont typeface="Verdana"/>
                <a:buAutoNum type="arabicPeriod"/>
                <a:tabLst>
                  <a:tab algn="l" pos="606600"/>
                  <a:tab algn="l" pos="1212840"/>
                  <a:tab algn="l" pos="1819440"/>
                  <a:tab algn="l" pos="2425680"/>
                  <a:tab algn="l" pos="3032280"/>
                  <a:tab algn="l" pos="3638520"/>
                  <a:tab algn="l" pos="4245120"/>
                  <a:tab algn="l" pos="4851360"/>
                  <a:tab algn="l" pos="5457960"/>
                  <a:tab algn="l" pos="6064200"/>
                  <a:tab algn="l" pos="6670800"/>
                  <a:tab algn="l" pos="7277040"/>
                  <a:tab algn="l" pos="7883640"/>
                  <a:tab algn="l" pos="8489880"/>
                  <a:tab algn="l" pos="9096480"/>
                  <a:tab algn="l" pos="9702720"/>
                  <a:tab algn="l" pos="10309320"/>
                  <a:tab algn="l" pos="1091556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The strangeness is not fully equilibrated because </a:t>
              </a:r>
              <a:r>
                <a:rPr b="0" i="1" lang="en-US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r>
                <a:rPr b="0" i="1" lang="en-US" sz="1400" spc="-1" strike="noStrike" baseline="-25000">
                  <a:solidFill>
                    <a:srgbClr val="3333cc"/>
                  </a:solidFill>
                  <a:latin typeface="Verdana"/>
                </a:rPr>
                <a:t>s</a:t>
              </a: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 is 0.5-0.8 [5,8,9]                    (if strangeness is in equilibration, </a:t>
              </a:r>
              <a:r>
                <a:rPr b="0" i="1" lang="en-US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</a:t>
              </a:r>
              <a:r>
                <a:rPr b="0" i="1" lang="en-US" sz="1400" spc="-1" strike="noStrike" baseline="-25000">
                  <a:solidFill>
                    <a:srgbClr val="3333cc"/>
                  </a:solidFill>
                  <a:latin typeface="Verdana"/>
                </a:rPr>
                <a:t>s</a:t>
              </a: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=1 [1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80880" indent="-190440">
                <a:lnSpc>
                  <a:spcPct val="120000"/>
                </a:lnSpc>
                <a:spcBef>
                  <a:spcPts val="349"/>
                </a:spcBef>
                <a:buClr>
                  <a:srgbClr val="3333cc"/>
                </a:buClr>
                <a:buFont typeface="Verdana"/>
                <a:buAutoNum type="arabicPeriod"/>
                <a:tabLst>
                  <a:tab algn="l" pos="606600"/>
                  <a:tab algn="l" pos="1212840"/>
                  <a:tab algn="l" pos="1819440"/>
                  <a:tab algn="l" pos="2425680"/>
                  <a:tab algn="l" pos="3032280"/>
                  <a:tab algn="l" pos="3638520"/>
                  <a:tab algn="l" pos="4245120"/>
                  <a:tab algn="l" pos="4851360"/>
                  <a:tab algn="l" pos="5457960"/>
                  <a:tab algn="l" pos="6064200"/>
                  <a:tab algn="l" pos="6670800"/>
                  <a:tab algn="l" pos="7277040"/>
                  <a:tab algn="l" pos="7883640"/>
                  <a:tab algn="l" pos="8489880"/>
                  <a:tab algn="l" pos="9096480"/>
                  <a:tab algn="l" pos="9702720"/>
                  <a:tab algn="l" pos="10309320"/>
                  <a:tab algn="l" pos="1091556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The kinetic freeze-out (elastic scatterings cease) occurs at a lower temperature </a:t>
              </a:r>
              <a:r>
                <a:rPr b="0" lang="en-US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100-120 MeV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80880" indent="-190440">
                <a:lnSpc>
                  <a:spcPct val="120000"/>
                </a:lnSpc>
                <a:spcBef>
                  <a:spcPts val="349"/>
                </a:spcBef>
                <a:buClr>
                  <a:srgbClr val="3333cc"/>
                </a:buClr>
                <a:buFont typeface="Verdana"/>
                <a:buAutoNum type="arabicPeriod"/>
                <a:tabLst>
                  <a:tab algn="l" pos="606600"/>
                  <a:tab algn="l" pos="1212840"/>
                  <a:tab algn="l" pos="1819440"/>
                  <a:tab algn="l" pos="2425680"/>
                  <a:tab algn="l" pos="3032280"/>
                  <a:tab algn="l" pos="3638520"/>
                  <a:tab algn="l" pos="4245120"/>
                  <a:tab algn="l" pos="4851360"/>
                  <a:tab algn="l" pos="5457960"/>
                  <a:tab algn="l" pos="6064200"/>
                  <a:tab algn="l" pos="6670800"/>
                  <a:tab algn="l" pos="7277040"/>
                  <a:tab algn="l" pos="7883640"/>
                  <a:tab algn="l" pos="8489880"/>
                  <a:tab algn="l" pos="9096480"/>
                  <a:tab algn="l" pos="9702720"/>
                  <a:tab algn="l" pos="10309320"/>
                  <a:tab algn="l" pos="1091556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The compilation of the freeze-out parameters [10] in the heavy ion collisions in the energy range from 1 - 200 A·GeV shows that a constant energy per particle &lt;E&gt;/&lt;N&gt; ~ 1 GeV can reproduce the behavior in the temperature-potential (</a:t>
              </a:r>
              <a:r>
                <a:rPr b="0" i="1" lang="en-US" sz="14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r>
                <a:rPr b="0" i="1" lang="en-US" sz="1400" spc="-1" strike="noStrike" baseline="-25000">
                  <a:solidFill>
                    <a:srgbClr val="3333cc"/>
                  </a:solidFill>
                  <a:latin typeface="Verdana"/>
                </a:rPr>
                <a:t>ch</a:t>
              </a: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 - </a:t>
              </a:r>
              <a:r>
                <a:rPr b="0" i="1" lang="en-US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0" i="1" lang="en-US" sz="1400" spc="-1" strike="noStrike" baseline="-25000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) plane [10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606600"/>
                  <a:tab algn="l" pos="1212840"/>
                  <a:tab algn="l" pos="1819440"/>
                  <a:tab algn="l" pos="2425680"/>
                  <a:tab algn="l" pos="3032280"/>
                  <a:tab algn="l" pos="3638520"/>
                  <a:tab algn="l" pos="4245120"/>
                  <a:tab algn="l" pos="4851360"/>
                  <a:tab algn="l" pos="5457960"/>
                  <a:tab algn="l" pos="6064200"/>
                  <a:tab algn="l" pos="6670800"/>
                  <a:tab algn="l" pos="7277040"/>
                  <a:tab algn="l" pos="7883640"/>
                  <a:tab algn="l" pos="8489880"/>
                  <a:tab algn="l" pos="9096480"/>
                  <a:tab algn="l" pos="9702720"/>
                  <a:tab algn="l" pos="10309320"/>
                  <a:tab algn="l" pos="1091556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9900"/>
                  </a:solidFill>
                  <a:latin typeface="Verdana"/>
                </a:rPr>
                <a:t>We have many hadron yields and ratios including multi-strange hadrons as a function of centrality in Au+Au collisions at </a:t>
              </a:r>
              <a:r>
                <a:rPr b="0" lang="en-US" sz="1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</a:t>
              </a:r>
              <a:r>
                <a:rPr b="0" i="1" lang="en-US" sz="1400" spc="-1" strike="noStrike">
                  <a:solidFill>
                    <a:srgbClr val="009900"/>
                  </a:solidFill>
                  <a:latin typeface="Verdana"/>
                </a:rPr>
                <a:t>s</a:t>
              </a:r>
              <a:r>
                <a:rPr b="0" i="1" lang="en-US" sz="1400" spc="-1" strike="noStrike" baseline="-25000">
                  <a:solidFill>
                    <a:srgbClr val="009900"/>
                  </a:solidFill>
                  <a:latin typeface="Verdana"/>
                </a:rPr>
                <a:t>NN</a:t>
              </a:r>
              <a:r>
                <a:rPr b="0" lang="en-US" sz="1400" spc="-1" strike="noStrike">
                  <a:solidFill>
                    <a:srgbClr val="009900"/>
                  </a:solidFill>
                  <a:latin typeface="Verdana"/>
                </a:rPr>
                <a:t> = 130 and 200 GeV at RHIC. They allow us to study centrality dependence of chemical freeze-out at RHIC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91240" y="8325000"/>
              <a:ext cx="7596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763120" y="533520"/>
            <a:ext cx="9144000" cy="6553080"/>
            <a:chOff x="8763120" y="533520"/>
            <a:chExt cx="9144000" cy="6553080"/>
          </a:xfrm>
        </p:grpSpPr>
        <p:sp>
          <p:nvSpPr>
            <p:cNvPr id="66" name=""/>
            <p:cNvSpPr/>
            <p:nvPr/>
          </p:nvSpPr>
          <p:spPr>
            <a:xfrm>
              <a:off x="8763120" y="53352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63120" y="533520"/>
              <a:ext cx="9144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54560"/>
                  <a:tab algn="l" pos="8709120"/>
                </a:tabLst>
              </a:pPr>
              <a:r>
                <a:rPr b="0" lang="en-US" sz="5400" spc="-1" strike="noStrike">
                  <a:solidFill>
                    <a:srgbClr val="ff9933"/>
                  </a:solidFill>
                  <a:latin typeface="Comic Sans MS"/>
                </a:rPr>
                <a:t>Model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372960" y="1371600"/>
              <a:ext cx="8153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Verdana"/>
                </a:rPr>
                <a:t>Based on Ref[11] and used in Ref.[12-1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Verdana"/>
                </a:rPr>
                <a:t>Density of particle </a:t>
              </a:r>
              <a:r>
                <a:rPr b="0" i="1" lang="en-US" sz="24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9900"/>
                  </a:solidFill>
                  <a:latin typeface="Verdana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Verdana"/>
                </a:rPr>
                <a:t>Compute particle densities for resonances (mass&lt;1.7GeV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Verdana"/>
                </a:rPr>
                <a:t>And then we can obtain particle ratios to compare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Verdana"/>
                </a:rPr>
                <a:t>Resonances in this model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137960" y="3581640"/>
              <a:ext cx="2921040" cy="15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entury"/>
                  <a:ea typeface="ＭＳ Ｐゴシック"/>
                </a:rPr>
                <a:t>Q</a:t>
              </a:r>
              <a:r>
                <a:rPr b="0" i="1" lang="en-US" sz="1800" spc="-1" strike="noStrike" baseline="-16000">
                  <a:solidFill>
                    <a:srgbClr val="000000"/>
                  </a:solidFill>
                  <a:latin typeface="Times New Roman"/>
                  <a:ea typeface="ＭＳ Ｐゴシック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: 1 for u and d, -1 for u and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</a:t>
              </a:r>
              <a:r>
                <a:rPr b="0" i="1" lang="en-US" sz="1800" spc="-1" strike="noStrike" baseline="-16000">
                  <a:solidFill>
                    <a:srgbClr val="000000"/>
                  </a:solidFill>
                  <a:latin typeface="Times New Roman"/>
                  <a:ea typeface="ＭＳ Ｐゴシック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: 1 for s, -1 for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</a:t>
              </a:r>
              <a:r>
                <a:rPr b="0" i="1" lang="en-US" sz="1800" spc="-1" strike="noStrike" baseline="-16000">
                  <a:solidFill>
                    <a:srgbClr val="000000"/>
                  </a:solidFill>
                  <a:latin typeface="Times New Roman"/>
                  <a:ea typeface="ＭＳ Ｐゴシック"/>
                </a:rPr>
                <a:t>i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: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pin-isospin freed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</a:t>
              </a:r>
              <a:r>
                <a:rPr b="0" i="1" lang="en-US" sz="1800" spc="-1" strike="noStrike" baseline="-16000">
                  <a:solidFill>
                    <a:srgbClr val="000000"/>
                  </a:solidFill>
                  <a:latin typeface="Times New Roman"/>
                  <a:ea typeface="ＭＳ Ｐゴシック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: particle m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fugacity" descr=""/>
            <p:cNvPicPr/>
            <p:nvPr/>
          </p:nvPicPr>
          <p:blipFill>
            <a:blip r:embed="rId2"/>
            <a:stretch/>
          </p:blipFill>
          <p:spPr>
            <a:xfrm>
              <a:off x="11125440" y="3048120"/>
              <a:ext cx="38005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3487760" y="3581640"/>
              <a:ext cx="358128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78000"/>
                  <a:tab algn="l" pos="755640"/>
                  <a:tab algn="l" pos="1133640"/>
                  <a:tab algn="l" pos="1511280"/>
                  <a:tab algn="l" pos="1889280"/>
                  <a:tab algn="l" pos="2266920"/>
                  <a:tab algn="l" pos="2644920"/>
                  <a:tab algn="l" pos="3022560"/>
                  <a:tab algn="l" pos="3400560"/>
                  <a:tab algn="l" pos="3778200"/>
                  <a:tab algn="l" pos="4156200"/>
                  <a:tab algn="l" pos="4533840"/>
                  <a:tab algn="l" pos="4911840"/>
                  <a:tab algn="l" pos="5289480"/>
                  <a:tab algn="l" pos="5667480"/>
                  <a:tab algn="l" pos="6045120"/>
                  <a:tab algn="l" pos="6423120"/>
                  <a:tab algn="l" pos="6800760"/>
                  <a:tab algn="l" pos="7178760"/>
                  <a:tab algn="l" pos="7556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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ＭＳ Ｐゴシック"/>
                </a:rPr>
                <a:t>ch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: Chemical freeze-out tempe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8000"/>
                  <a:tab algn="l" pos="755640"/>
                  <a:tab algn="l" pos="1133640"/>
                  <a:tab algn="l" pos="1511280"/>
                  <a:tab algn="l" pos="1889280"/>
                  <a:tab algn="l" pos="2266920"/>
                  <a:tab algn="l" pos="2644920"/>
                  <a:tab algn="l" pos="3022560"/>
                  <a:tab algn="l" pos="3400560"/>
                  <a:tab algn="l" pos="3778200"/>
                  <a:tab algn="l" pos="4156200"/>
                  <a:tab algn="l" pos="4533840"/>
                  <a:tab algn="l" pos="4911840"/>
                  <a:tab algn="l" pos="5289480"/>
                  <a:tab algn="l" pos="5667480"/>
                  <a:tab algn="l" pos="6045120"/>
                  <a:tab algn="l" pos="6423120"/>
                  <a:tab algn="l" pos="6800760"/>
                  <a:tab algn="l" pos="7178760"/>
                  <a:tab algn="l" pos="7556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ＭＳ Ｐゴシック"/>
                </a:rPr>
                <a:t>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: light-quark chemical pot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8000"/>
                  <a:tab algn="l" pos="755640"/>
                  <a:tab algn="l" pos="1133640"/>
                  <a:tab algn="l" pos="1511280"/>
                  <a:tab algn="l" pos="1889280"/>
                  <a:tab algn="l" pos="2266920"/>
                  <a:tab algn="l" pos="2644920"/>
                  <a:tab algn="l" pos="3022560"/>
                  <a:tab algn="l" pos="3400560"/>
                  <a:tab algn="l" pos="3778200"/>
                  <a:tab algn="l" pos="4156200"/>
                  <a:tab algn="l" pos="4533840"/>
                  <a:tab algn="l" pos="4911840"/>
                  <a:tab algn="l" pos="5289480"/>
                  <a:tab algn="l" pos="5667480"/>
                  <a:tab algn="l" pos="6045120"/>
                  <a:tab algn="l" pos="6423120"/>
                  <a:tab algn="l" pos="6800760"/>
                  <a:tab algn="l" pos="7178760"/>
                  <a:tab algn="l" pos="7556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ＭＳ Ｐゴシック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: strangeness chemical pot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78000"/>
                  <a:tab algn="l" pos="755640"/>
                  <a:tab algn="l" pos="1133640"/>
                  <a:tab algn="l" pos="1511280"/>
                  <a:tab algn="l" pos="1889280"/>
                  <a:tab algn="l" pos="2266920"/>
                  <a:tab algn="l" pos="2644920"/>
                  <a:tab algn="l" pos="3022560"/>
                  <a:tab algn="l" pos="3400560"/>
                  <a:tab algn="l" pos="3778200"/>
                  <a:tab algn="l" pos="4156200"/>
                  <a:tab algn="l" pos="4533840"/>
                  <a:tab algn="l" pos="4911840"/>
                  <a:tab algn="l" pos="5289480"/>
                  <a:tab algn="l" pos="5667480"/>
                  <a:tab algn="l" pos="6045120"/>
                  <a:tab algn="l" pos="6423120"/>
                  <a:tab algn="l" pos="6800760"/>
                  <a:tab algn="l" pos="7178760"/>
                  <a:tab algn="l" pos="7556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  <a:ea typeface="ＭＳ Ｐゴシック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: strangeness saturation 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dencity" descr=""/>
            <p:cNvPicPr/>
            <p:nvPr/>
          </p:nvPicPr>
          <p:blipFill>
            <a:blip r:embed="rId3"/>
            <a:stretch/>
          </p:blipFill>
          <p:spPr>
            <a:xfrm>
              <a:off x="10412640" y="2210040"/>
              <a:ext cx="5894280" cy="72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9524880" y="7418520"/>
            <a:ext cx="95252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’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,  f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980) , a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(980), h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170), b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(1235), a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(1260), f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270), f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(1285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295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300), a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320), f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37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44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420), f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(142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450), f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(1500),  f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(1510), f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’(1525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0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70), 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8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3(1690),  f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710), 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70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K, K*, K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270), K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400), K*(1410), K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*(1430),  K</a:t>
            </a:r>
            <a:r>
              <a:rPr b="0" lang="en-US" sz="1800" spc="-1" strike="noStrike" baseline="-12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*(1430),  K*(16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p, n, N(1440), N(1520), N(1535),  N(1650), N(1675), N(1680), N(17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232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0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20), 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7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45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52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0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7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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385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6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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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530),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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16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07160" y="1962000"/>
            <a:ext cx="121474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54560"/>
                <a:tab algn="l" pos="870912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Comic Sans MS"/>
              </a:rPr>
              <a:t>Data from RHIC experim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134000" y="3048120"/>
            <a:ext cx="806940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4354560"/>
                <a:tab algn="l" pos="870912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Now we have many set of data for dN/dy and ratios from RHIC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4354560"/>
                <a:tab algn="l" pos="870912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However, the centrality bin selection is not the same among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4354560"/>
                <a:tab algn="l" pos="870912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We need to adjust ratios as a function of “common” centrality to combine all of data for centrality dependence of chemical freeze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–"/>
              <a:tabLst>
                <a:tab algn="l" pos="4354560"/>
                <a:tab algn="l" pos="870912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4354560"/>
                <a:tab algn="l" pos="8709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N/dy is linearly scaled by &lt;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4354560"/>
                <a:tab algn="l" pos="8709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ually, the data looks like that depend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–"/>
              <a:tabLst>
                <a:tab algn="l" pos="4354560"/>
                <a:tab algn="l" pos="870912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elect one set of centrality b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4354560"/>
                <a:tab algn="l" pos="8709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polate dN/dy for the centrality as a function of &lt;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pa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3545800" y="7772400"/>
            <a:ext cx="3962520" cy="2660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8041480" y="2971800"/>
            <a:ext cx="4743720" cy="7696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03840" y="29149560"/>
            <a:ext cx="11322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54560"/>
                <a:tab algn="l" pos="870912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Comic Sans MS"/>
              </a:rPr>
              <a:t>Particle combinations for the f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6640" y="30186360"/>
            <a:ext cx="77724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4354560"/>
                <a:tab algn="l" pos="870912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The chemical freeze-out parameter seems to be sensitive to combination of particle ratios as discussed in Ref.[1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4354560"/>
                <a:tab algn="l" pos="870912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Hence we checked the following six combinations of particle ratios for the f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354560"/>
                <a:tab algn="l" pos="870912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1)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K, and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354560"/>
                <a:tab algn="l" pos="870912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2)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K, p and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354560"/>
                <a:tab algn="l" pos="870912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3)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K, p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  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and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354560"/>
                <a:tab algn="l" pos="870912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4)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K, p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K</a:t>
            </a:r>
            <a:r>
              <a:rPr b="0" lang="en-US" sz="1800" spc="-1" strike="noStrike" baseline="30000">
                <a:solidFill>
                  <a:srgbClr val="3333cc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and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354560"/>
                <a:tab algn="l" pos="870912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5)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K, p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    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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and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354560"/>
                <a:tab algn="l" pos="870912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6)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K, p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K</a:t>
            </a:r>
            <a:r>
              <a:rPr b="0" lang="en-US" sz="1800" spc="-1" strike="noStrike" baseline="30000">
                <a:solidFill>
                  <a:srgbClr val="3333cc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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, and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Symbol" charset="2"/>
              <a:buChar char=""/>
              <a:tabLst>
                <a:tab algn="l" pos="4354560"/>
                <a:tab algn="l" pos="87091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rcRect l="8192" t="8274" r="4025" b="13960"/>
          <a:stretch/>
        </p:blipFill>
        <p:spPr>
          <a:xfrm>
            <a:off x="13335120" y="30138840"/>
            <a:ext cx="5715000" cy="7162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rcRect l="7057" t="7482" r="14138" b="23519"/>
          <a:stretch/>
        </p:blipFill>
        <p:spPr>
          <a:xfrm>
            <a:off x="19937520" y="28589400"/>
            <a:ext cx="7532640" cy="93297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8285920" y="12279240"/>
            <a:ext cx="8305560" cy="4038480"/>
            <a:chOff x="28285920" y="12279240"/>
            <a:chExt cx="8305560" cy="4038480"/>
          </a:xfrm>
        </p:grpSpPr>
        <p:sp>
          <p:nvSpPr>
            <p:cNvPr id="83" name=""/>
            <p:cNvSpPr/>
            <p:nvPr/>
          </p:nvSpPr>
          <p:spPr>
            <a:xfrm>
              <a:off x="28285920" y="12279240"/>
              <a:ext cx="671328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54560"/>
                  <a:tab algn="l" pos="8709120"/>
                </a:tabLst>
              </a:pPr>
              <a:r>
                <a:rPr b="0" lang="en-US" sz="5400" spc="-1" strike="noStrike">
                  <a:solidFill>
                    <a:srgbClr val="ff9933"/>
                  </a:solidFill>
                  <a:latin typeface="Comic Sans MS"/>
                </a:rPr>
                <a:t>Does it work well?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812960" y="13193640"/>
              <a:ext cx="777852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5400" indent="-95400">
                <a:lnSpc>
                  <a:spcPct val="100000"/>
                </a:lnSpc>
                <a:spcBef>
                  <a:spcPts val="799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4354560"/>
                  <a:tab algn="l" pos="870912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Verdana"/>
                </a:rPr>
                <a:t>Yes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400" indent="-95400">
                <a:lnSpc>
                  <a:spcPct val="100000"/>
                </a:lnSpc>
                <a:spcBef>
                  <a:spcPts val="799"/>
                </a:spcBef>
                <a:buClr>
                  <a:srgbClr val="009900"/>
                </a:buClr>
                <a:buFont typeface="Verdana"/>
                <a:buChar char="•"/>
                <a:tabLst>
                  <a:tab algn="l" pos="4354560"/>
                  <a:tab algn="l" pos="870912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Verdana"/>
                </a:rPr>
                <a:t>Demonst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76320">
                <a:lnSpc>
                  <a:spcPct val="100000"/>
                </a:lnSpc>
                <a:spcBef>
                  <a:spcPts val="601"/>
                </a:spcBef>
                <a:buClr>
                  <a:srgbClr val="3333cc"/>
                </a:buClr>
                <a:buFont typeface="Verdana"/>
                <a:buChar char="–"/>
                <a:tabLst>
                  <a:tab algn="l" pos="4354560"/>
                  <a:tab algn="l" pos="870912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for 130 GeV Au+Au, &lt;N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Verdana"/>
                </a:rPr>
                <a:t>part</a:t>
              </a: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&gt;=3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76320">
                <a:lnSpc>
                  <a:spcPct val="100000"/>
                </a:lnSpc>
                <a:spcBef>
                  <a:spcPts val="601"/>
                </a:spcBef>
                <a:buClr>
                  <a:srgbClr val="3333cc"/>
                </a:buClr>
                <a:buFont typeface="Verdana"/>
                <a:buChar char="–"/>
                <a:tabLst>
                  <a:tab algn="l" pos="4354560"/>
                  <a:tab algn="l" pos="870912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Three data set for f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857160" indent="-9504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4354560"/>
                  <a:tab algn="l" pos="87091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et (4) :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K, p,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K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Verdana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857160" indent="-9504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4354560"/>
                  <a:tab algn="l" pos="87091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et (5) :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K, p,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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857160" indent="-95040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4354560"/>
                  <a:tab algn="l" pos="87091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et (6) :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K, p,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K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Verdana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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8"/>
          <a:srcRect l="7057" t="18405" r="3553" b="25078"/>
          <a:stretch/>
        </p:blipFill>
        <p:spPr>
          <a:xfrm>
            <a:off x="29278440" y="16459200"/>
            <a:ext cx="5790960" cy="5181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rcRect l="7057" t="18289" r="3553" b="25184"/>
          <a:stretch/>
        </p:blipFill>
        <p:spPr>
          <a:xfrm>
            <a:off x="29267280" y="21961440"/>
            <a:ext cx="5790960" cy="5181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rcRect l="7057" t="18289" r="3553" b="25182"/>
          <a:stretch/>
        </p:blipFill>
        <p:spPr>
          <a:xfrm>
            <a:off x="29260800" y="27446400"/>
            <a:ext cx="5791320" cy="5181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21488400"/>
            <a:ext cx="9220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54560"/>
                <a:tab algn="l" pos="8709120"/>
              </a:tabLst>
            </a:pPr>
            <a:r>
              <a:rPr b="0" lang="en-US" sz="6800" spc="-1" strike="noStrike">
                <a:solidFill>
                  <a:srgbClr val="ff9933"/>
                </a:solidFill>
                <a:latin typeface="Comic Sans MS"/>
              </a:rPr>
              <a:t>Summary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2936320"/>
            <a:ext cx="8778600" cy="46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T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Verdana"/>
              </a:rPr>
              <a:t>ch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Verdana"/>
              </a:rPr>
              <a:t>s 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seems to be flat in 130 and 200 GeV Au+Au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Verdana"/>
              </a:rPr>
              <a:t>ch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 ~ 150-170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  ~ 10 MeV (small net Baryon den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Verdana"/>
              </a:rPr>
              <a:t>s  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~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0 MeV (close to phase bound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There is a dependence of ratio combinations for the fit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he deviation is &lt;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 increasing with &lt;N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Verdana"/>
              </a:rPr>
              <a:t>part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Full strangeness equilibration only central Au+Au collisions at R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eems to be reached around &lt;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Verdana"/>
              </a:rPr>
              <a:t>part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&gt;~100-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84400" y="15105240"/>
            <a:ext cx="7175520" cy="5614920"/>
            <a:chOff x="1184400" y="15105240"/>
            <a:chExt cx="7175520" cy="5614920"/>
          </a:xfrm>
        </p:grpSpPr>
        <p:pic>
          <p:nvPicPr>
            <p:cNvPr id="91" name="" descr=""/>
            <p:cNvPicPr/>
            <p:nvPr/>
          </p:nvPicPr>
          <p:blipFill>
            <a:blip r:embed="rId11"/>
            <a:srcRect l="0" t="1990" r="0" b="0"/>
            <a:stretch/>
          </p:blipFill>
          <p:spPr>
            <a:xfrm>
              <a:off x="1349280" y="18212040"/>
              <a:ext cx="3378240" cy="24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2"/>
            <a:srcRect l="0" t="26388" r="0" b="1087"/>
            <a:stretch/>
          </p:blipFill>
          <p:spPr>
            <a:xfrm>
              <a:off x="4873680" y="16716600"/>
              <a:ext cx="3346560" cy="26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3"/>
            <a:srcRect l="0" t="0" r="0" b="58818"/>
            <a:stretch/>
          </p:blipFill>
          <p:spPr>
            <a:xfrm>
              <a:off x="4862520" y="19332720"/>
              <a:ext cx="344160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4"/>
            <a:srcRect l="0" t="0" r="0" b="2731"/>
            <a:stretch/>
          </p:blipFill>
          <p:spPr>
            <a:xfrm>
              <a:off x="1184400" y="15791040"/>
              <a:ext cx="3525840" cy="24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5"/>
            <a:srcRect l="0" t="15205" r="0" b="0"/>
            <a:stretch/>
          </p:blipFill>
          <p:spPr>
            <a:xfrm>
              <a:off x="4886280" y="15873480"/>
              <a:ext cx="3378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97000" y="15105240"/>
              <a:ext cx="716292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54560"/>
                  <a:tab algn="l" pos="870912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Comic Sans MS"/>
                </a:rPr>
                <a:t>Reference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6"/>
            <a:srcRect l="0" t="0" r="0" b="85322"/>
            <a:stretch/>
          </p:blipFill>
          <p:spPr>
            <a:xfrm>
              <a:off x="1339920" y="20564640"/>
              <a:ext cx="3378240" cy="14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logo150w" descr=""/>
          <p:cNvPicPr/>
          <p:nvPr/>
        </p:nvPicPr>
        <p:blipFill>
          <a:blip r:embed="rId17"/>
          <a:stretch/>
        </p:blipFill>
        <p:spPr>
          <a:xfrm>
            <a:off x="0" y="0"/>
            <a:ext cx="1676520" cy="1866960"/>
          </a:xfrm>
          <a:prstGeom prst="rect">
            <a:avLst/>
          </a:prstGeom>
          <a:ln w="0">
            <a:noFill/>
          </a:ln>
        </p:spPr>
      </p:pic>
      <p:pic>
        <p:nvPicPr>
          <p:cNvPr id="99" name="sm3" descr=""/>
          <p:cNvPicPr/>
          <p:nvPr/>
        </p:nvPicPr>
        <p:blipFill>
          <a:blip r:embed="rId18"/>
          <a:stretch/>
        </p:blipFill>
        <p:spPr>
          <a:xfrm>
            <a:off x="0" y="36855360"/>
            <a:ext cx="2057400" cy="1244520"/>
          </a:xfrm>
          <a:prstGeom prst="rect">
            <a:avLst/>
          </a:prstGeom>
          <a:ln w="0">
            <a:noFill/>
          </a:ln>
        </p:spPr>
      </p:pic>
      <p:pic>
        <p:nvPicPr>
          <p:cNvPr id="100" name="RIKEN-BNL-logo" descr=""/>
          <p:cNvPicPr/>
          <p:nvPr/>
        </p:nvPicPr>
        <p:blipFill>
          <a:blip r:embed="rId19"/>
          <a:stretch/>
        </p:blipFill>
        <p:spPr>
          <a:xfrm>
            <a:off x="34128000" y="36825120"/>
            <a:ext cx="3971880" cy="1274760"/>
          </a:xfrm>
          <a:prstGeom prst="rect">
            <a:avLst/>
          </a:prstGeom>
          <a:ln w="0">
            <a:noFill/>
          </a:ln>
        </p:spPr>
      </p:pic>
      <p:pic>
        <p:nvPicPr>
          <p:cNvPr id="101" name="id_bar" descr=""/>
          <p:cNvPicPr/>
          <p:nvPr/>
        </p:nvPicPr>
        <p:blipFill>
          <a:blip r:embed="rId20"/>
          <a:srcRect l="21071" t="0" r="0" b="0"/>
          <a:stretch/>
        </p:blipFill>
        <p:spPr>
          <a:xfrm>
            <a:off x="33842160" y="0"/>
            <a:ext cx="4257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3:26:53Z</dcterms:created>
  <dc:creator> </dc:creator>
  <dc:description/>
  <dc:language>en-US</dc:language>
  <cp:lastModifiedBy> </cp:lastModifiedBy>
  <dcterms:modified xsi:type="dcterms:W3CDTF">2004-01-08T04:51:10Z</dcterms:modified>
  <cp:revision>3</cp:revision>
  <dc:subject/>
  <dc:title>PowerPoint Presentation</dc:title>
</cp:coreProperties>
</file>