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15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A9DA7-0FAE-4797-90E6-3061CE5DAA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953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31686-2517-4636-B069-D50F243249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391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953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391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608B4-D435-477C-9233-C1587C9FB6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974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94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953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974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94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FCDDE-B163-4658-912F-C6DFC457DA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FD77-F788-45A8-B236-20B8D150F6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953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9CE2-41CF-4565-B324-DC0B83FCFA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49B1-90D8-4A67-9E6D-E8F797DA8A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91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0098-9635-4E63-9313-A68D6D6F10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596D-AE66-45FF-A9E3-91A25295D50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95320" y="2743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F435-D11F-44B1-9DC4-CDF19DCD3A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91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953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E936-3580-41F9-A20B-66F572C98D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953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57C5C-B857-4333-B9E7-9B6668A3FB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391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391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4058-99B6-4D04-874F-4352409973D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391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953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1F6E-76F0-441B-8033-F5F7D7B898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953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A8A3-8981-48E2-9AD6-E73C98BFE7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91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953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391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C77B-6C64-4657-8E9D-BF8BB3C5B9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974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994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953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974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994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7E14-4A1E-4263-9E0E-0D627499AC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892A2-5CFE-41A1-B4A4-D521921364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391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47390-7550-4C63-9CB9-D60CF21612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F1FE8-6903-4603-892B-AEA7C34E5A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95320" y="2743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14654-BE9F-42FC-99B7-0A6530E439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391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953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6D4F4-D786-4D50-9EC0-23991228F4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391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391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BB441-EF52-4717-ACEC-55D4993FD2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391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953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7AECD-E0F4-473C-9F18-22E4B20E16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6324480"/>
            <a:ext cx="853452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2b85b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39720" y="0"/>
            <a:ext cx="8504280" cy="533520"/>
          </a:xfrm>
          <a:prstGeom prst="rect">
            <a:avLst/>
          </a:prstGeom>
          <a:gradFill rotWithShape="0">
            <a:gsLst>
              <a:gs pos="0">
                <a:srgbClr val="2b85bb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953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52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b85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9992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82740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1BA6FC01-8F9B-4E86-B020-EA6947FC29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701640" cy="6858000"/>
          </a:xfrm>
          <a:prstGeom prst="rect">
            <a:avLst/>
          </a:prstGeom>
          <a:solidFill>
            <a:srgbClr val="ff5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5400000">
            <a:off x="-3314160" y="2863080"/>
            <a:ext cx="7164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742f"/>
                </a:solidFill>
                <a:latin typeface="Kabel Ult BT"/>
              </a:rPr>
              <a:t>Family Education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6324480"/>
            <a:ext cx="853452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2b85b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82760" y="1295280"/>
            <a:ext cx="69343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682740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C04FEF31-D240-4967-900D-44EA223AE16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9720" y="0"/>
            <a:ext cx="8504280" cy="533520"/>
          </a:xfrm>
          <a:prstGeom prst="rect">
            <a:avLst/>
          </a:prstGeom>
          <a:gradFill rotWithShape="0">
            <a:gsLst>
              <a:gs pos="0">
                <a:srgbClr val="2b85bb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01640" cy="6858000"/>
          </a:xfrm>
          <a:prstGeom prst="rect">
            <a:avLst/>
          </a:prstGeom>
          <a:solidFill>
            <a:srgbClr val="ff5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-3314160" y="2863080"/>
            <a:ext cx="7164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742f"/>
                </a:solidFill>
                <a:latin typeface="Kabel Ult BT"/>
              </a:rPr>
              <a:t>Family Education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943600" y="457200"/>
            <a:ext cx="2998800" cy="914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143000" y="5105520"/>
            <a:ext cx="5019840" cy="10508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2b85b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1882800"/>
            <a:ext cx="693432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ssion 2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lcohol and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766A-20DF-4CCF-8721-81CE19BF8FB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ng-Term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y drinking over time damage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diovascula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ocri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rix I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CB138-046C-4F0E-940A-56A4D3EF1D9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coholic hepat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rh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cohol dependence is the leading cause of liver-related deaths in the United Stat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495680" y="1447920"/>
            <a:ext cx="308160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rix I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BB36E-C291-41DE-BFEA-729D36F010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ammation of the esophag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ophageal canc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larged blood vessels in the esophagus (often fa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creatit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cers of the throat, colon, rec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rix I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1F42C-5043-48FF-B264-EB2B7BA0F1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diovascular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ious heart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regular and/or weak heartbe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blood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risk of stro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maged platelets/increas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 of bl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095880" y="2590920"/>
            <a:ext cx="2529000" cy="342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rix I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C24A4-E9DB-4E93-B6B5-B64CC7C5C7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mun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maged white and red blood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risk of infectious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une system attack on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rix I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1DB0A-7131-4F2A-A648-FBA40E2184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ocrin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be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ed release of reproductive hormones, growth hormone, and testoste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d testicle and ovary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rupted sperm and egg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xual dysfunction in both men and 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rix I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71DF1-2B77-4C58-BC75-5D2C7EA85A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pheral neuropat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rnicke’s synd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rsakoff’s synd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of mental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brain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in the function of brain cel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34120" y="1676520"/>
            <a:ext cx="2571480" cy="218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rix I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1F946-185B-4CF2-8EF0-FBE30410B0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havioral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estic violence and child ab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i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y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ined relationships with collea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ence from or lateness to wo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of employment because of decreased produ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itting or being the victim of vio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ing under the influence ar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rix I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F8846-35F7-408C-9CA1-13C0F35044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cohol and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0" y="1752120"/>
            <a:ext cx="4191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d with men, women develop alcohol-related disease more quickly and with less alcoh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492360" cy="376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rix I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9BE6B-0676-4DFE-80A3-5D11733DCF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cohol and Pregn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626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bies born to mothers who drank during pregnancy may have mental retardation or other learning and behavioral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629400" y="1523880"/>
            <a:ext cx="1800360" cy="439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rix I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A931A-390E-4971-9ECF-37EFC856A53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cohol in th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cohol upsets a delicate balance between chemical systems t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imul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hemical systems t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hibi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s of the brain and bo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191120" y="2971800"/>
            <a:ext cx="4140000" cy="316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rix I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6E694-C178-4ADE-A659-D6A88D8A6B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tal Alcohol Spectrum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9496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st serious risk during pregnancy is fetal alcohol spectrum disorders (FAS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D is the leading known cause of mental retardation in the United St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895480" y="3429000"/>
            <a:ext cx="3772080" cy="288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rix I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130E1-626F-4741-AC4D-B25615EE594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95320" y="3805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tal Alcohol Spectrum Disorders</a:t>
            </a:r>
            <a:br>
              <a:rPr sz="32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gnitive and Behavioral Impair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8020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ral and neurological problems associated with FASD may lead to poor academic performance and legal and employment difficulties in adolescence and adulth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rix I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20403-0AEE-412A-BCC6-D96537A8200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tal Alcohol Spectrum Disorders</a:t>
            </a:r>
            <a:br>
              <a:rPr sz="32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raniofacial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52480" y="1868400"/>
            <a:ext cx="5943600" cy="396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rix IO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2057B-BFCE-4D1C-82D8-16C7F02468F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Abstin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s in Matrix treatment are asked to stop using all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icit drug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coh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48320" y="2971800"/>
            <a:ext cx="3062160" cy="29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rix I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61997-92EF-4B62-AC98-722E784644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cohol Triggers Are Ever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ertis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V show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ends and family who dr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ebration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holi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3352680"/>
            <a:ext cx="3809880" cy="2814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rix I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6E92C-EE35-4042-ACBB-8BDB7EF7F1B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nal Trig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x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el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l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114800" y="1447920"/>
            <a:ext cx="4122720" cy="412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rix I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58CFA-01D8-4E73-BCAA-5B6A7E12349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pse W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in recovery who drink alcohol are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8 tim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re likely to relapse to stimulant use than those who don’t dri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rix I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C758B-6511-4AA3-8B98-578095B3B3C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9496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cohol          Lowered inhib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trigger, and the result may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ulsive use of stimulants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52680" y="2362320"/>
            <a:ext cx="577800" cy="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rix I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A428F-133C-4968-96C2-4E016C72D46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her Reasons for Abst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nking prevents people in recovery from directly confronting their stimulant use dis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nking puts people in recovery at risk of becoming dependent on alcoh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rix I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8FB30-E56C-405B-921A-F07FFA6AB82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Not To Dr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about other ways of celebrat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being around others who are drink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about other ways of spending time with frien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friends with others in recov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saying “no thank you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going to bars and part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k to your fami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95880" y="4191120"/>
            <a:ext cx="2048040" cy="214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rix I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86579-A42F-4E98-86B6-92A70ED30E8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ation           Dependence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ence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drawal Sympto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2895480"/>
            <a:ext cx="577800" cy="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52680" y="3962520"/>
            <a:ext cx="577800" cy="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rix I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A1E30-84D6-41A6-BE8B-BFDFB3FC68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To 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nd 12-Step or mutual-help group meet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your feelings in 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ain a 12-Step spons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relaxation techniq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HA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ind yourself that uncomfortable feelings are normal and will p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ain help from a therap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rix I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33647-8DF9-423B-A9CF-48D031C166E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drawal Symp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iz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m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tory or visual hallucin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om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i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rix I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BC907-D22F-4755-B0E3-54C63481E8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irium Trem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pid heart r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d body temper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em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ss of ability to control muscle mov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d blood press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normally fast breath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wea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tered mental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llucin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rdiovascular collapse and dea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rix I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5C5B3-FCBD-446E-8993-46A49E5F6A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half of Americans ages 12 and older report drinking alcoho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3 in 10 (30 percent) American adults drink at levels that increase their risk for physical, emotional, and social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se heavy drinkers, about 1 in 4 currently has an alcohol abuse or dependence dis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rix I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D7E37-850A-4453-85E6-91508813B7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idence by Gender and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756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en report being current drinkers than do wo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ate of alcoho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pend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lso lower for women than for 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cidence of heavy alcohol use is highest among young adults between ages 21 and 29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cidence of alcohol problems is lowest among adults ages 65 and ol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rix I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374FD-8B3E-425D-9815-BCF2609B58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itial Effects of Alcoh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lings of euph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kativeness, soc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ed inhib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114800" y="2743200"/>
            <a:ext cx="3986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rix I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DFEA7-85FB-4A2B-9AD2-916679A011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ter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dation and drow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uble with bal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ired peripheral vi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ayed reaction ti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urring of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e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black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rix I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F3327-56F2-4F4B-B11B-AB0F14E5FE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9:28:38Z</dcterms:created>
  <dc:creator>Candace Baker</dc:creator>
  <dc:description/>
  <dc:language>en-US</dc:language>
  <cp:lastModifiedBy>Wendy Caron</cp:lastModifiedBy>
  <dcterms:modified xsi:type="dcterms:W3CDTF">2006-04-28T14:36:50Z</dcterms:modified>
  <cp:revision>39</cp:revision>
  <dc:subject/>
  <dc:title>Alcohol</dc:title>
</cp:coreProperties>
</file>