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3B2-8968-4591-B084-7FD6BC65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3E4-7594-4C15-869B-655312FC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65C-9A80-4AA0-BADA-A3AEE74C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1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980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1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980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CE5-EA9C-4D4F-BA8E-90A1915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9196-1E72-41D2-8087-DF17509B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B82E-E285-4708-8BEF-F5B69C33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3577-0F38-44F7-BA38-A37D7F7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282A-BE68-48FB-9062-7D4EBCA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48B3-3B4E-42B9-A221-E46E9759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9976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0C5-C00F-4A39-A9DB-F40E263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C2A8-3489-4B9D-9602-653BBAB4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66C-4FCF-406B-A9F1-72460DE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A140-BF34-4838-9352-B37C999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04C-9909-4392-835F-978F003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FF51-C9CC-49DD-81F2-7A38B333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8DB-3526-455C-8E17-3BFDC066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980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980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FE55-E24E-4F98-AC1C-3FF28275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FC2-9C72-45E1-959A-DC288DE5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F23-507E-48EC-A369-FAF91FB1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A1F-68DE-4807-8736-8E1193D7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976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5BF-A3EA-4153-B4DA-2DBB4999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950-60EC-45E4-8187-3A24443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2DC-E538-4F81-B719-D6B0641E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8DA-2AFA-4B09-9CDA-61D50FB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32840" y="5925960"/>
            <a:ext cx="609480" cy="482760"/>
            <a:chOff x="9132840" y="5925960"/>
            <a:chExt cx="609480" cy="482760"/>
          </a:xfrm>
        </p:grpSpPr>
        <p:sp>
          <p:nvSpPr>
            <p:cNvPr id="1" name=""/>
            <p:cNvSpPr/>
            <p:nvPr/>
          </p:nvSpPr>
          <p:spPr>
            <a:xfrm>
              <a:off x="9132840" y="5925960"/>
              <a:ext cx="60948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" name="HIGHRES" descr=""/>
            <p:cNvPicPr/>
            <p:nvPr/>
          </p:nvPicPr>
          <p:blipFill>
            <a:blip r:embed="rId2"/>
            <a:stretch/>
          </p:blipFill>
          <p:spPr>
            <a:xfrm>
              <a:off x="9151920" y="5951520"/>
              <a:ext cx="585720" cy="42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3720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3E7B-0D59-4E89-8FB1-0C47046CD5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3720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B6B2-035E-4E70-96C7-2B13C6A465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erspectives on HIV Prevention Counseling from the RESPECT-2 Study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8591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Kevin Malotte, Suzanne Padilla, and Carol Metcalf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on behalf of the RESPECT-2 Study Group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657600" y="3581280"/>
            <a:ext cx="312408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905120"/>
            <a:ext cx="9906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hrough the 12-month study, 20% fewer participants in the enhanced counseling and brief counseling arms had new STD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Findings were consistent across all study sit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esul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1676520"/>
            <a:ext cx="99061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ject RESPECT demonstrated that 2-visit HIV counseling is effective at reducing incident ST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non-research settings, however, many clients do not return for HIV test results and do not receive the second counseling ses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counseling intervention was effective at preventing STDs in the first 6 months, but effectiveness lessened over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Background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21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Background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9525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Rapid HIV testing technologies allow people to be tested and receive their results during a single clinic visit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2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Rapid HIV tests are </a:t>
            </a:r>
            <a:r>
              <a:rPr b="0" lang="en-US" sz="3200" spc="-1" strike="noStrike">
                <a:solidFill>
                  <a:srgbClr val="ffff66"/>
                </a:solidFill>
                <a:latin typeface="ZapfHumnst BT"/>
              </a:rPr>
              <a:t>now available* 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and likely to become widely used in the future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ZapfHumnst BT"/>
              </a:rPr>
              <a:t>* the only licensed test has had limited availability and other tests awaiting FDA licensure</a:t>
            </a:r>
            <a:endParaRPr b="0" lang="en-US" sz="1800" spc="-1" strike="noStrike">
              <a:solidFill>
                <a:srgbClr val="ffffff"/>
              </a:solidFill>
              <a:latin typeface="ZapfHumnst BT"/>
            </a:endParaRPr>
          </a:p>
        </p:txBody>
      </p:sp>
      <p:pic>
        <p:nvPicPr>
          <p:cNvPr id="124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9296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Randomized Clinical Trial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Participants randomized to receive one of two interventions at enrollment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One half of each group randomized to receive a second intervention six months later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Participants followed for 12 months with follow-up visits at 3-month intervals (4 total)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Study Design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27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9829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Research Setting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1" marL="653760" indent="-251280">
              <a:lnSpc>
                <a:spcPct val="12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Three Public STD Clinics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005840" indent="-200880">
              <a:lnSpc>
                <a:spcPct val="125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</a:rPr>
              <a:t>Long Beach, Denver, and Newark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Enrollment February 1999 to December 2001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Follow-up ongoing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Investigators still blinded to participant intervention assignment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2" marL="100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apfHumnst BT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Setting &amp; Stage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30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RESPECT-2 Study Sites 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8094600" cy="448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00360" y="4191120"/>
            <a:ext cx="8568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36576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2680" y="32004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7680" y="4052880"/>
            <a:ext cx="1476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ng Be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3480" y="3505320"/>
            <a:ext cx="97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n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2440" y="3124080"/>
            <a:ext cx="1371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9601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HIV-negative patients who came into clinic for STD examinations and provided informed consent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15-39 years of age (Denver/Long Beach);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18-39 years of age (Newark)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Participants must live in the local area, speak English, and have had sex in the past 3 months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Participan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42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9601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Participants Randomly Assigned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Arm 1:  Standard Testing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1" marL="735480" indent="-282960">
              <a:lnSpc>
                <a:spcPct val="10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</a:rPr>
              <a:t>Standard HIV test and two risk-reduction counseling sessions 5 to 10 days apart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Arm 2:  Rapid Testing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1" marL="735480" indent="-282960">
              <a:lnSpc>
                <a:spcPct val="10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</a:rPr>
              <a:t>Rapid HIV test (SUDS) and two risk-reduction counseling sessions completed in a single visit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Half of the participants are randomly assigned to receive a booster counseling session during the 6-month follow-up visit (Arms 3 and 4)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Interventions 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45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ZapfHumnst BT"/>
              </a:rPr>
              <a:t>RESPECT-2 Enrollment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295280"/>
          <a:ext cx="62578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95280"/>
                    <a:ext cx="625788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logo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1828440"/>
            <a:ext cx="9829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Behavioral 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ZapfHumnst BT"/>
              </a:rPr>
              <a:t>Audio Computer-Assisted Self Interview (Audio-CASI) behavioral questionnaire at baseline and each follow-up visit</a:t>
            </a: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STD 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ZapfHumnst BT"/>
              </a:rPr>
              <a:t>Tests for gonorrhea, chlamydia, and trichomonas at enrollment and each follow-up visit</a:t>
            </a: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ZapfHumnst BT"/>
              </a:rPr>
              <a:t>Tests for HIV and syphilis at baseline and 12-month visit</a:t>
            </a: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Outcomes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52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09680"/>
            <a:ext cx="10287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RESPECT 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-2 Study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or Observations on HIV Rapid Test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 Preferences Regarding HIV Testing and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at Achieving Client-Generated Risk-Reducti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Session Outline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89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998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54%  Male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46%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Race/ethnicity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47%  African American 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24%  White 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19%  Latino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10%  Other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Mean age 26 years (age restricted to 15-39)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Nearly 6% men who have sex with men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Participant Demographic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55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apid Tes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7440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Approximately 1660 participants received SUDS 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Results: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28880" y="3429000"/>
          <a:ext cx="8400960" cy="2611440"/>
        </p:xfrm>
        <a:graphic>
          <a:graphicData uri="http://schemas.openxmlformats.org/drawingml/2006/table">
            <a:tbl>
              <a:tblPr/>
              <a:tblGrid>
                <a:gridCol w="1628640"/>
                <a:gridCol w="1731960"/>
                <a:gridCol w="1679400"/>
                <a:gridCol w="1679760"/>
                <a:gridCol w="1681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Si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reliminary SUDS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Confirmed SUDS + by W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reliminary EI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Confirmed EIA + by W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L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Den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New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apid Tests (continued)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Total HIV discrepant results: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*In Long Beach, one SUDS positive/indeterminate WB at baseline; WB negative at 3 and 6 month follow-up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3124080"/>
          <a:ext cx="7286400" cy="1311480"/>
        </p:xfrm>
        <a:graphic>
          <a:graphicData uri="http://schemas.openxmlformats.org/drawingml/2006/table">
            <a:tbl>
              <a:tblPr/>
              <a:tblGrid>
                <a:gridCol w="2571480"/>
                <a:gridCol w="2286000"/>
                <a:gridCol w="242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SUDS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o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EIA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o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WB 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057400"/>
          <a:ext cx="9172440" cy="4276800"/>
        </p:xfrm>
        <a:graphic>
          <a:graphicData uri="http://schemas.openxmlformats.org/drawingml/2006/table">
            <a:tbl>
              <a:tblPr/>
              <a:tblGrid>
                <a:gridCol w="1671480"/>
                <a:gridCol w="1866960"/>
                <a:gridCol w="1878120"/>
                <a:gridCol w="1877760"/>
                <a:gridCol w="18781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% retur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(number   eligib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3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9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2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Long Bea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6%  (9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2%  (85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1% (7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3% (55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Den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7% (123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5% (11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5% (92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6% (6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New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8%  (10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5%  (91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3% (7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58% (5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(All Sit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4% (32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1% (289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0% (236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0% (171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 - </a:t>
            </a: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Follow-Up </a:t>
            </a:r>
            <a:br>
              <a:rPr sz="3200"/>
            </a:br>
            <a:r>
              <a:rPr b="1" i="1" lang="en-US" sz="2400" spc="-1" strike="noStrike">
                <a:solidFill>
                  <a:srgbClr val="ffff00"/>
                </a:solidFill>
                <a:latin typeface="ZapfHumnst BT"/>
              </a:rPr>
              <a:t>(for those reaching end of follow-up window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ZapfHumnst BT"/>
              </a:rPr>
              <a:t>and target date of 2/28/2001)</a:t>
            </a:r>
            <a:endParaRPr b="1" lang="en-US" sz="24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66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447920"/>
            <a:ext cx="9982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public STD cli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Beach, San Francisco, Denver, Baltimore, and New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1993-September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icip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758 heterosexual, HIV-negative patients aged 14 years or older who came into the clinic for STD exam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Overview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 Study Sites 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8094600" cy="448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57280" y="3505320"/>
            <a:ext cx="8568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0360" y="4191120"/>
            <a:ext cx="8568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6576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72680" y="32004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00960" y="358128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560" y="3276720"/>
            <a:ext cx="1872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rancisc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7680" y="4052880"/>
            <a:ext cx="1476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ng Be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3480" y="3505320"/>
            <a:ext cx="97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n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2440" y="3124080"/>
            <a:ext cx="1371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43680" y="3470400"/>
            <a:ext cx="138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13960" y="3505320"/>
            <a:ext cx="1269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lti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57280" y="3581280"/>
            <a:ext cx="8568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600200"/>
            <a:ext cx="9982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icipants Randomly Assign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 1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hanced counseling/4-theory-based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 2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rief counseling/2 interactive risk-reduction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 3/Arm 4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dactic messages/2 brief sessions typical of current care at the time of the stud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Incentives were provided for attendance at intervention se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Intervention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ZapfHumnst BT"/>
              </a:rPr>
              <a:t>Project RESPECT Enrollment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95480" y="1311120"/>
          <a:ext cx="629280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1311120"/>
                    <a:ext cx="62928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28880" y="1828800"/>
            <a:ext cx="9258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Participants followed for 12 month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elf-reported condom use/sexual risk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New diagnosis of STDs by laboratory test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onorrhe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yphili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IV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Outcome Measure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523880"/>
            <a:ext cx="9906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gnificantly lower incidence of STDs among both men and women participating in interactive counseling sessions (Arms 1 and 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est impact among adolescents and individuals diagnosed with an STD at their initial vis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esul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371600"/>
            <a:ext cx="9906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3- and 6-month follow-up visits, self-reported 100% condom use was higher in both the enhanced counseling and brief counseling arms (1 and 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ough the 6-month interval, 30% fewer participants had new STDs in both the enhanced counseling and brief counseling arms (1-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esul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2:34:11Z</dcterms:created>
  <dc:creator>DHAP USER</dc:creator>
  <dc:description/>
  <dc:language>en-US</dc:language>
  <cp:lastModifiedBy>vem4</cp:lastModifiedBy>
  <cp:lastPrinted>1998-03-24T21:02:47Z</cp:lastPrinted>
  <dcterms:modified xsi:type="dcterms:W3CDTF">2001-08-23T17:07:30Z</dcterms:modified>
  <cp:revision>86</cp:revision>
  <dc:subject/>
  <dc:title>No Slide Title</dc:title>
</cp:coreProperties>
</file>