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62400" cy="292608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14C-E940-4FC3-A756-5CE6991D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03480" y="6829200"/>
            <a:ext cx="378554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03480" y="16913520"/>
            <a:ext cx="378554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798-F4F3-4587-BFEC-2A2CF648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03480" y="682920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501000" y="682920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03480" y="1691352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501000" y="1691352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20C-CE54-4285-87F1-114EBAA8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03480" y="6829200"/>
            <a:ext cx="121892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902560" y="6829200"/>
            <a:ext cx="121892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701640" y="6829200"/>
            <a:ext cx="121892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03480" y="16913520"/>
            <a:ext cx="121892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902560" y="16913520"/>
            <a:ext cx="121892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701640" y="16913520"/>
            <a:ext cx="121892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D28-E2F8-4CFB-B643-B5ED043D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03480" y="6829200"/>
            <a:ext cx="37855440" cy="193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26"/>
              </a:spcBef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3AA-78EB-44D9-B136-4CE6C8FF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03480" y="6829200"/>
            <a:ext cx="37855440" cy="19307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6B5-6C55-47AB-9166-BDE7675D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03480" y="6829200"/>
            <a:ext cx="18473400" cy="19307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501000" y="6829200"/>
            <a:ext cx="18473400" cy="19307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D8F-F5CE-41BE-B5F8-D01BEB0B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2CA-8E9D-448B-9863-46D6815D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03480" y="1171080"/>
            <a:ext cx="37855440" cy="226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26"/>
              </a:spcBef>
              <a:tabLst>
                <a:tab algn="l" pos="0"/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5CF-114B-4A97-AE4D-EE39F078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03480" y="682920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501000" y="6829200"/>
            <a:ext cx="18473400" cy="19307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03480" y="1691352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524-EB28-4976-BC99-244F9947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03480" y="6829200"/>
            <a:ext cx="18473400" cy="19307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501000" y="682920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501000" y="1691352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DA0-018C-44AB-BABF-3DCA31D5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03480" y="682920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501000" y="682920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03480" y="16913520"/>
            <a:ext cx="378554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ECF-48A9-4D79-B5AE-16A77168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r>
              <a:rPr b="0" lang="en-US" sz="2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3480" y="6829200"/>
            <a:ext cx="37855440" cy="19307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95000"/>
          </a:bodyPr>
          <a:p>
            <a:pPr marL="1600200" indent="-1600200">
              <a:spcBef>
                <a:spcPts val="3926"/>
              </a:spcBef>
              <a:buClr>
                <a:srgbClr val="000000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  <a:p>
            <a:pPr lvl="1" marL="3467160" indent="-1333080">
              <a:spcBef>
                <a:spcPts val="3926"/>
              </a:spcBef>
              <a:buClr>
                <a:srgbClr val="000000"/>
              </a:buClr>
              <a:buFont typeface="Arial"/>
              <a:buChar char="–"/>
              <a:tabLst>
                <a:tab algn="l" pos="4492800"/>
                <a:tab algn="l" pos="8985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  <a:p>
            <a:pPr lvl="2" marL="5334120" indent="-1065960">
              <a:spcBef>
                <a:spcPts val="3926"/>
              </a:spcBef>
              <a:buClr>
                <a:srgbClr val="000000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  <a:p>
            <a:pPr lvl="3" marL="7468200" indent="-1066320">
              <a:spcBef>
                <a:spcPts val="3926"/>
              </a:spcBef>
              <a:buClr>
                <a:srgbClr val="000000"/>
              </a:buClr>
              <a:buFont typeface="Arial"/>
              <a:buChar char="–"/>
              <a:tabLst>
                <a:tab algn="l" pos="4492800"/>
                <a:tab algn="l" pos="8985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  <a:p>
            <a:pPr lvl="4" marL="9602280" indent="-1064880">
              <a:spcBef>
                <a:spcPts val="3926"/>
              </a:spcBef>
              <a:buClr>
                <a:srgbClr val="000000"/>
              </a:buClr>
              <a:buFont typeface="Arial"/>
              <a:buChar char="»"/>
              <a:tabLst>
                <a:tab algn="l" pos="4492800"/>
                <a:tab algn="l" pos="8985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  <a:p>
            <a:pPr lvl="5" marL="9602280" indent="-1064880">
              <a:spcBef>
                <a:spcPts val="3926"/>
              </a:spcBef>
              <a:buClr>
                <a:srgbClr val="000000"/>
              </a:buClr>
              <a:buFont typeface="Arial"/>
              <a:buChar char="»"/>
              <a:tabLst>
                <a:tab algn="l" pos="4492800"/>
                <a:tab algn="l" pos="8985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  <a:p>
            <a:pPr lvl="6" marL="9602280" indent="-1064880">
              <a:spcBef>
                <a:spcPts val="3926"/>
              </a:spcBef>
              <a:buClr>
                <a:srgbClr val="000000"/>
              </a:buClr>
              <a:buFont typeface="Arial"/>
              <a:buChar char="»"/>
              <a:tabLst>
                <a:tab algn="l" pos="4492800"/>
                <a:tab algn="l" pos="8985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3120" y="26644680"/>
            <a:ext cx="9813960" cy="203184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>
              <a:buNone/>
              <a:tabLst>
                <a:tab algn="l" pos="0"/>
                <a:tab algn="l" pos="4492800"/>
                <a:tab algn="l" pos="8985240"/>
              </a:tabLst>
              <a:defRPr b="0" lang="en-US" sz="6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0"/>
                <a:tab algn="l" pos="89852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71560" y="26644680"/>
            <a:ext cx="13319280" cy="203184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 algn="ctr">
              <a:buNone/>
              <a:tabLst>
                <a:tab algn="l" pos="0"/>
                <a:tab algn="l" pos="4492800"/>
                <a:tab algn="l" pos="8985240"/>
              </a:tabLst>
              <a:defRPr b="0" lang="en-US" sz="6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4600" y="26644680"/>
            <a:ext cx="9813960" cy="203184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 algn="r">
              <a:buNone/>
              <a:tabLst>
                <a:tab algn="l" pos="0"/>
                <a:tab algn="l" pos="4492800"/>
                <a:tab algn="l" pos="8985240"/>
              </a:tabLst>
              <a:defRPr b="0" lang="en-US" sz="6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0"/>
                <a:tab algn="l" pos="8985240"/>
              </a:tabLst>
            </a:pPr>
            <a:fld id="{916F7FBF-AA23-4553-9075-A113B61A28B2}" type="slidenum">
              <a:rPr b="0" lang="en-US" sz="6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package" Target="../embeddings/oleObject1.xlsx"/><Relationship Id="rId16" Type="http://schemas.openxmlformats.org/officeDocument/2006/relationships/image" Target="../media/image12.png"/><Relationship Id="rId17" Type="http://schemas.openxmlformats.org/officeDocument/2006/relationships/package" Target="../embeddings/oleObject2.xlsx"/><Relationship Id="rId18" Type="http://schemas.openxmlformats.org/officeDocument/2006/relationships/image" Target="../media/image13.png"/><Relationship Id="rId19" Type="http://schemas.openxmlformats.org/officeDocument/2006/relationships/package" Target="../embeddings/oleObject3.xlsx"/><Relationship Id="rId20" Type="http://schemas.openxmlformats.org/officeDocument/2006/relationships/image" Target="../media/image14.png"/><Relationship Id="rId21" Type="http://schemas.openxmlformats.org/officeDocument/2006/relationships/package" Target="../embeddings/oleObject4.xlsx"/><Relationship Id="rId22" Type="http://schemas.openxmlformats.org/officeDocument/2006/relationships/image" Target="../media/image15.png"/><Relationship Id="rId23" Type="http://schemas.openxmlformats.org/officeDocument/2006/relationships/package" Target="../embeddings/oleObject5.xlsx"/><Relationship Id="rId24" Type="http://schemas.openxmlformats.org/officeDocument/2006/relationships/image" Target="../media/image16.png"/><Relationship Id="rId25" Type="http://schemas.openxmlformats.org/officeDocument/2006/relationships/package" Target="../embeddings/oleObject6.xlsx"/><Relationship Id="rId26" Type="http://schemas.openxmlformats.org/officeDocument/2006/relationships/image" Target="../media/image17.png"/><Relationship Id="rId27" Type="http://schemas.openxmlformats.org/officeDocument/2006/relationships/package" Target="../embeddings/oleObject7.xlsx"/><Relationship Id="rId28" Type="http://schemas.openxmlformats.org/officeDocument/2006/relationships/image" Target="../media/image18.png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5600" y="2832120"/>
            <a:ext cx="21222000" cy="1108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669280" y="6853320"/>
            <a:ext cx="2208240" cy="21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1840" y="13903200"/>
            <a:ext cx="20975760" cy="1356372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360" y="8258040"/>
            <a:ext cx="20418480" cy="1920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7920" y="19931040"/>
            <a:ext cx="19262880" cy="752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548" t="4615" r="2481" b="4152"/>
          <a:stretch/>
        </p:blipFill>
        <p:spPr>
          <a:xfrm>
            <a:off x="21613680" y="15747840"/>
            <a:ext cx="4570560" cy="291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3360" y="2832120"/>
            <a:ext cx="20418480" cy="5425920"/>
          </a:xfrm>
          <a:prstGeom prst="rect">
            <a:avLst/>
          </a:prstGeom>
          <a:solidFill>
            <a:srgbClr val="dd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10560" y="309600"/>
            <a:ext cx="2666196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ahoma"/>
              </a:rPr>
              <a:t>Biogenic Contributions to Methane Trends from 1990 to 20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41520" y="1547640"/>
            <a:ext cx="3717936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 algn="ctr">
              <a:tabLst>
                <a:tab algn="l" pos="0"/>
                <a:tab algn="l" pos="449280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rlene M. Fiore</a:t>
            </a:r>
            <a:r>
              <a:rPr b="1" lang="en-US" sz="38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(arlene.fiore@noaa.gov), Larry W. Horowitz</a:t>
            </a:r>
            <a:r>
              <a:rPr b="1" lang="en-US" sz="3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, Ed Dlugokencky</a:t>
            </a:r>
            <a:r>
              <a:rPr b="1" lang="en-US" sz="3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, J. Jason West</a:t>
            </a:r>
            <a:r>
              <a:rPr b="1" lang="en-US" sz="3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0"/>
                <a:tab algn="l" pos="89852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AA Geophysical Fluid Dynamics Laboratory, Princeton, NJ 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AA Global Monitoring Division, Earth System Research Laboratory, Boulder, CO 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mospheric and Oceanic Sciences Program and Woodrow Wilson School, Princeton University, Princeton, N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3360" y="2822400"/>
            <a:ext cx="537516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4492800"/>
                <a:tab algn="l" pos="898524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4600" spc="-1" strike="noStrike">
                <a:solidFill>
                  <a:srgbClr val="0000ff"/>
                </a:solidFill>
                <a:latin typeface="Tahoma"/>
              </a:rPr>
              <a:t>1. Introduc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1400" y="27466920"/>
            <a:ext cx="100663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 marL="314280" indent="-314280">
              <a:tabLst>
                <a:tab algn="l" pos="0"/>
                <a:tab algn="l" pos="4121280"/>
                <a:tab algn="l" pos="82422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tabLst>
                <a:tab algn="l" pos="0"/>
                <a:tab algn="l" pos="4121280"/>
                <a:tab algn="l" pos="824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ntener, F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(2003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. Geophys. Res., 1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4442, doi:10.1029/2002JD00291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tabLst>
                <a:tab algn="l" pos="0"/>
                <a:tab algn="l" pos="4121280"/>
                <a:tab algn="l" pos="824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ugokencky, E.J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(2003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ophys. Res. Lett., 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992, doi:10.1029/2003GL01812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tabLst>
                <a:tab algn="l" pos="0"/>
                <a:tab algn="l" pos="4121280"/>
                <a:tab algn="l" pos="824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ugokencky, E.J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(2005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. Geophys. Res., 1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18306, doi:10.1029/2005JD0060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tabLst>
                <a:tab algn="l" pos="0"/>
                <a:tab algn="l" pos="4121280"/>
                <a:tab algn="l" pos="824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owitz, L.W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(2003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. Geophys. Res., 1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784, doi:10.1029/2002JD00285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37720" y="5784840"/>
            <a:ext cx="9767880" cy="179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>
              <a:tabLst>
                <a:tab algn="l" pos="0"/>
                <a:tab algn="l" pos="4121280"/>
                <a:tab algn="l" pos="82422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is the contribution from each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824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82422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 existing bottom-up C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emission invento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82422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r the 1990s consistent with observations?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323600" y="2860560"/>
            <a:ext cx="1034064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4492800"/>
                <a:tab algn="l" pos="898524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Tahoma"/>
              </a:rPr>
              <a:t>2. Methane in the MOZART-2 CT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640" y="8358120"/>
            <a:ext cx="1946916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4492800"/>
                <a:tab algn="l" pos="898524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Tahoma"/>
              </a:rPr>
              <a:t>3. Influence of Sources on Surface CH</a:t>
            </a:r>
            <a:r>
              <a:rPr b="1" lang="en-US" sz="4600" spc="-1" strike="noStrike" baseline="-25000">
                <a:solidFill>
                  <a:srgbClr val="0000ff"/>
                </a:solidFill>
                <a:latin typeface="Tahoma"/>
              </a:rPr>
              <a:t>4</a:t>
            </a:r>
            <a:r>
              <a:rPr b="1" lang="en-US" sz="4600" spc="-1" strike="noStrike">
                <a:solidFill>
                  <a:srgbClr val="0000ff"/>
                </a:solidFill>
                <a:latin typeface="Tahoma"/>
              </a:rPr>
              <a:t> Distribution and Tren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24005" t="24288" r="21652" b="34201"/>
          <a:stretch/>
        </p:blipFill>
        <p:spPr>
          <a:xfrm>
            <a:off x="911160" y="314280"/>
            <a:ext cx="2495520" cy="246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22004" t="29381" r="21888" b="28747"/>
          <a:stretch/>
        </p:blipFill>
        <p:spPr>
          <a:xfrm>
            <a:off x="38649240" y="306360"/>
            <a:ext cx="2568600" cy="2481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858040" y="14006520"/>
            <a:ext cx="1767996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4492800"/>
                <a:tab algn="l" pos="898524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Tahoma"/>
              </a:rPr>
              <a:t>4. Meteorologically-driven Changes in the CH</a:t>
            </a:r>
            <a:r>
              <a:rPr b="1" lang="en-US" sz="4600" spc="-1" strike="noStrike" baseline="-25000">
                <a:solidFill>
                  <a:srgbClr val="0000ff"/>
                </a:solidFill>
                <a:latin typeface="Tahoma"/>
              </a:rPr>
              <a:t>4</a:t>
            </a:r>
            <a:r>
              <a:rPr b="1" lang="en-US" sz="4600" spc="-1" strike="noStrike">
                <a:solidFill>
                  <a:srgbClr val="0000ff"/>
                </a:solidFill>
                <a:latin typeface="Tahoma"/>
              </a:rPr>
              <a:t> Lifetim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rcRect l="2323" t="2898" r="2481" b="4013"/>
          <a:stretch/>
        </p:blipFill>
        <p:spPr>
          <a:xfrm>
            <a:off x="36083880" y="6634080"/>
            <a:ext cx="4817880" cy="3268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85640" y="3699000"/>
            <a:ext cx="194770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ane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emission controls are a cost-effective strategy for abating global surface ozone, while simultaneously slowing greenhouse warming 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st and Fi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2005].  Sources of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shown to the right; the major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nk is reaction with the hydroxyl radical (OH) in the troposphere. Surfac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centrations rose by 5-6 ppb y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 average until 1999 when they leveled off (see Figure below). There is no clear consensus on the driving mecha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640" y="5440320"/>
            <a:ext cx="1026324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ssible explanations suggested by previous stud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urce changes of C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[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.g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Langenfelds et 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, 2002;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Wang et 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,  2004] or other species [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.g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Karlsd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tir and Isaks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20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teorologically-driven changes in the C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sink [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.g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Warwick et  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, 2002;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entener et 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, 2003;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Wang et 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, 20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pproach to steady-state with constant life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lugokencky et 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, 200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853360" y="4610160"/>
            <a:ext cx="547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onstant emissions (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394880" y="3816360"/>
            <a:ext cx="1194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itivity simulations applying different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 invento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98160" y="10845720"/>
            <a:ext cx="2455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itud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1990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i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ach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69160" y="4560840"/>
            <a:ext cx="600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ANTH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ime-varying anthrop. e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335800" y="4535640"/>
            <a:ext cx="50072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ahoma"/>
              </a:rPr>
              <a:t>ANTH + B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Time-varying anthrop.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wetland e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35071560" y="8147880"/>
            <a:ext cx="153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g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516400" y="10572840"/>
            <a:ext cx="4613400" cy="31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DGAR v3.2 1990 and 1995 ant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missions [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Olivier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 200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DGAR “FAST-TRACK” for 20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van Aardenne et al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., 2005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inear interpolation applied f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intermediate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ogenic source adjusted to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maintain same global to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missions in 1990 as in 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0804040" y="10334520"/>
            <a:ext cx="4728240" cy="3570120"/>
            <a:chOff x="20804040" y="10334520"/>
            <a:chExt cx="4728240" cy="3570120"/>
          </a:xfrm>
        </p:grpSpPr>
        <p:pic>
          <p:nvPicPr>
            <p:cNvPr id="69" name="" descr=""/>
            <p:cNvPicPr/>
            <p:nvPr/>
          </p:nvPicPr>
          <p:blipFill>
            <a:blip r:embed="rId5"/>
            <a:srcRect l="10123" t="0" r="0" b="7799"/>
            <a:stretch/>
          </p:blipFill>
          <p:spPr>
            <a:xfrm>
              <a:off x="21556800" y="10334520"/>
              <a:ext cx="394632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1607920" y="10494720"/>
              <a:ext cx="16131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BAS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ANT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200" spc="-1" strike="noStrike">
                  <a:solidFill>
                    <a:srgbClr val="33cc33"/>
                  </a:solidFill>
                  <a:latin typeface="Arial"/>
                </a:rPr>
                <a:t>ANTH+BI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524760" y="13317120"/>
              <a:ext cx="4007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90          -50                0                50            90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959360" y="1353636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titu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183120" y="10353240"/>
              <a:ext cx="378720" cy="323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20345040" y="11785680"/>
              <a:ext cx="1323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g 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yr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6185400" y="11076120"/>
            <a:ext cx="43992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Combine wetland emissions f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i="1" lang="en-US" sz="2200" spc="-1" strike="noStrike">
                <a:solidFill>
                  <a:srgbClr val="008000"/>
                </a:solidFill>
                <a:latin typeface="Arial"/>
              </a:rPr>
              <a:t>Wang et al</a:t>
            </a: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. [2004] (above)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anthropogenic emissions fr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ANTH, constraining global me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1990-1998 wetland emiss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o equal those in AN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193400" y="8253360"/>
            <a:ext cx="3505320" cy="2363400"/>
            <a:chOff x="37193400" y="8253360"/>
            <a:chExt cx="3505320" cy="2363400"/>
          </a:xfrm>
        </p:grpSpPr>
        <p:sp>
          <p:nvSpPr>
            <p:cNvPr id="77" name=""/>
            <p:cNvSpPr/>
            <p:nvPr/>
          </p:nvSpPr>
          <p:spPr>
            <a:xfrm>
              <a:off x="38793600" y="8253360"/>
              <a:ext cx="1905120" cy="762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193400" y="9974160"/>
              <a:ext cx="32004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pply climatological me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224 Tg yr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) post-199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9708000" y="9091440"/>
              <a:ext cx="152640" cy="99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4036480" y="15865560"/>
            <a:ext cx="0" cy="2471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045840" y="17816400"/>
            <a:ext cx="3760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cycled NCEP 1990-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430200">
            <a:off x="23694480" y="16212960"/>
            <a:ext cx="1649520" cy="544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78640" y="18930960"/>
            <a:ext cx="668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teorological drivers for observed tr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t just simple approach to steady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189960" y="14903280"/>
            <a:ext cx="623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-weighted global mean surfac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BASE simulation (constant emi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8007200">
            <a:off x="21548160" y="17209080"/>
            <a:ext cx="2066760" cy="563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rcRect l="2162" t="2544" r="1664" b="4842"/>
          <a:stretch/>
        </p:blipFill>
        <p:spPr>
          <a:xfrm>
            <a:off x="1554120" y="10586880"/>
            <a:ext cx="7934400" cy="5510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19360" y="10534680"/>
            <a:ext cx="276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SE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tures observed rate of increase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90-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 leveling o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fter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12452400"/>
            <a:ext cx="0" cy="750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200040" y="14325480"/>
            <a:ext cx="2690280" cy="459720"/>
            <a:chOff x="3200040" y="14325480"/>
            <a:chExt cx="2690280" cy="459720"/>
          </a:xfrm>
        </p:grpSpPr>
        <p:sp>
          <p:nvSpPr>
            <p:cNvPr id="90" name=""/>
            <p:cNvSpPr/>
            <p:nvPr/>
          </p:nvSpPr>
          <p:spPr>
            <a:xfrm>
              <a:off x="4002840" y="1432548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BSER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200040" y="14554080"/>
              <a:ext cx="834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038560" y="12574080"/>
            <a:ext cx="2314800" cy="1564200"/>
            <a:chOff x="5038560" y="12574080"/>
            <a:chExt cx="2314800" cy="1564200"/>
          </a:xfrm>
        </p:grpSpPr>
        <p:sp>
          <p:nvSpPr>
            <p:cNvPr id="93" name=""/>
            <p:cNvSpPr/>
            <p:nvPr/>
          </p:nvSpPr>
          <p:spPr>
            <a:xfrm>
              <a:off x="5038560" y="13312800"/>
              <a:ext cx="23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ASE too low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ost-19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6292800" y="12574080"/>
              <a:ext cx="541440" cy="738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277040" y="11824920"/>
            <a:ext cx="2475000" cy="2916720"/>
            <a:chOff x="7277040" y="11824920"/>
            <a:chExt cx="2475000" cy="2916720"/>
          </a:xfrm>
        </p:grpSpPr>
        <p:sp>
          <p:nvSpPr>
            <p:cNvPr id="96" name=""/>
            <p:cNvSpPr/>
            <p:nvPr/>
          </p:nvSpPr>
          <p:spPr>
            <a:xfrm>
              <a:off x="7277040" y="13500000"/>
              <a:ext cx="24750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ANTH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improv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vs. OB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post-19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058240" y="11824920"/>
              <a:ext cx="0" cy="17226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957240" y="16200360"/>
            <a:ext cx="9408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ean surface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s as measured (or sampled in the model) at 42 Global Monitoring Division (GMD) stations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ugokencky et 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, 2005] with an 8-year minimum record. Values are area-weighted after averaging in latitudinal bands (60-90N, 30-60N, 0-30N, 0-30S, 30-90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4488360" y="16476840"/>
            <a:ext cx="2751120" cy="1084680"/>
            <a:chOff x="34488360" y="16476840"/>
            <a:chExt cx="2751120" cy="108468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5182080" y="16476840"/>
                  <a:ext cx="20574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H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H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34488360" y="16553160"/>
              <a:ext cx="69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3571080" y="17457840"/>
            <a:ext cx="1855440" cy="597240"/>
            <a:chOff x="33571080" y="17457840"/>
            <a:chExt cx="1855440" cy="597240"/>
          </a:xfrm>
        </p:grpSpPr>
        <p:sp>
          <p:nvSpPr>
            <p:cNvPr id="103" name=""/>
            <p:cNvSpPr/>
            <p:nvPr/>
          </p:nvSpPr>
          <p:spPr>
            <a:xfrm>
              <a:off x="33571080" y="17656200"/>
              <a:ext cx="185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Temper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4877520" y="17457840"/>
              <a:ext cx="3808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4883640" y="17519760"/>
            <a:ext cx="6602400" cy="1951560"/>
            <a:chOff x="34883640" y="17519760"/>
            <a:chExt cx="6602400" cy="1951560"/>
          </a:xfrm>
        </p:grpSpPr>
        <p:sp>
          <p:nvSpPr>
            <p:cNvPr id="106" name=""/>
            <p:cNvSpPr/>
            <p:nvPr/>
          </p:nvSpPr>
          <p:spPr>
            <a:xfrm>
              <a:off x="34883640" y="18092880"/>
              <a:ext cx="6602400" cy="13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Humidit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Lightning NO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Photolysis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changes in stratospheric 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columns neglected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Changes in emissions of other spec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neglecte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36020160" y="17519760"/>
              <a:ext cx="6120" cy="598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4058520" y="15887880"/>
            <a:ext cx="3387240" cy="641160"/>
            <a:chOff x="34058520" y="15887880"/>
            <a:chExt cx="3387240" cy="641160"/>
          </a:xfrm>
        </p:grpSpPr>
        <p:sp>
          <p:nvSpPr>
            <p:cNvPr id="109" name=""/>
            <p:cNvSpPr/>
            <p:nvPr/>
          </p:nvSpPr>
          <p:spPr>
            <a:xfrm>
              <a:off x="34058520" y="15887880"/>
              <a:ext cx="338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Transport to sink reg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348840" y="1622448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4559640" y="14955840"/>
            <a:ext cx="53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might meteorology affec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0748880" y="9764640"/>
            <a:ext cx="9578160" cy="9620280"/>
            <a:chOff x="10748880" y="9764640"/>
            <a:chExt cx="9578160" cy="9620280"/>
          </a:xfrm>
        </p:grpSpPr>
        <p:sp>
          <p:nvSpPr>
            <p:cNvPr id="113" name=""/>
            <p:cNvSpPr/>
            <p:nvPr/>
          </p:nvSpPr>
          <p:spPr>
            <a:xfrm>
              <a:off x="10828440" y="9764640"/>
              <a:ext cx="707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0"/>
                  <a:tab algn="l" pos="89852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n model bias and correlation with 1990-2004 monthly mean surface GMD observation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0748880" y="10682280"/>
              <a:ext cx="6316920" cy="8702640"/>
              <a:chOff x="10748880" y="10682280"/>
              <a:chExt cx="6316920" cy="87026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11437920" y="10788840"/>
                <a:ext cx="5627880" cy="8111880"/>
                <a:chOff x="11437920" y="10788840"/>
                <a:chExt cx="5627880" cy="8111880"/>
              </a:xfrm>
            </p:grpSpPr>
            <p:pic>
              <p:nvPicPr>
                <p:cNvPr id="116" name="" descr=""/>
                <p:cNvPicPr/>
                <p:nvPr/>
              </p:nvPicPr>
              <p:blipFill>
                <a:blip r:embed="rId7"/>
                <a:srcRect l="13670" t="5654" r="0" b="10911"/>
                <a:stretch/>
              </p:blipFill>
              <p:spPr>
                <a:xfrm>
                  <a:off x="11437920" y="10788840"/>
                  <a:ext cx="5624640" cy="400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8"/>
                <a:srcRect l="13620" t="5324" r="0" b="10581"/>
                <a:stretch/>
              </p:blipFill>
              <p:spPr>
                <a:xfrm>
                  <a:off x="11437920" y="14864040"/>
                  <a:ext cx="5627880" cy="403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"/>
                <p:cNvSpPr/>
                <p:nvPr/>
              </p:nvSpPr>
              <p:spPr>
                <a:xfrm>
                  <a:off x="11492640" y="10807920"/>
                  <a:ext cx="1613160" cy="109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0"/>
                      <a:tab algn="l" pos="8985240"/>
                    </a:tabLst>
                  </a:pPr>
                  <a:r>
                    <a:rPr b="1" lang="en-US" sz="2200" spc="-1" strike="noStrike">
                      <a:solidFill>
                        <a:srgbClr val="ff0000"/>
                      </a:solidFill>
                      <a:latin typeface="Arial"/>
                    </a:rPr>
                    <a:t>BASE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0"/>
                      <a:tab algn="l" pos="8985240"/>
                    </a:tabLst>
                  </a:pPr>
                  <a:r>
                    <a:rPr b="1" lang="en-US" sz="2200" spc="-1" strike="noStrike">
                      <a:solidFill>
                        <a:srgbClr val="0000ff"/>
                      </a:solidFill>
                      <a:latin typeface="Arial"/>
                    </a:rPr>
                    <a:t>ANT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0"/>
                      <a:tab algn="l" pos="8985240"/>
                    </a:tabLst>
                  </a:pPr>
                  <a:r>
                    <a:rPr b="1" lang="en-US" sz="2200" spc="-1" strike="noStrike">
                      <a:solidFill>
                        <a:srgbClr val="33cc33"/>
                      </a:solidFill>
                      <a:latin typeface="Arial"/>
                    </a:rPr>
                    <a:t>ANTH+BI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11467080" y="18842040"/>
                <a:ext cx="52768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90               -50                   0                     50               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3533120" y="19016640"/>
                <a:ext cx="107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atitu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935360" y="10682280"/>
                <a:ext cx="586080" cy="420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6200000">
                <a:off x="10410480" y="12581280"/>
                <a:ext cx="129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ias (ppb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10761840" y="16341120"/>
                <a:ext cx="34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954800" y="14793840"/>
                <a:ext cx="529560" cy="41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0.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7046720" y="10974240"/>
              <a:ext cx="3045960" cy="18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ANTH+BIO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e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aptures the 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terhemispher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radien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025120" y="15982920"/>
              <a:ext cx="330192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ANTH+BI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mproves th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rrelation wi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ith observations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specially at high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orthern latitude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023680" y="13206240"/>
              <a:ext cx="29286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BASE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wetl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missions yiel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 closer match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ith observ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in tropic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14096880" y="13006440"/>
              <a:ext cx="2965680" cy="1022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16094160" y="15982920"/>
              <a:ext cx="968400" cy="301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810080" y="26319240"/>
            <a:ext cx="63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 (GMD)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SE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TH 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NTH+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960" y="26876520"/>
            <a:ext cx="85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del captures the observed seasonal cy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299320" y="14781240"/>
            <a:ext cx="334260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fetime Again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opospheric OH 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756520" y="10034640"/>
            <a:ext cx="737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751840" y="4413240"/>
            <a:ext cx="2095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28960" y="4413240"/>
            <a:ext cx="0" cy="948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018640" y="4413240"/>
            <a:ext cx="0" cy="948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060560" y="18930960"/>
            <a:ext cx="561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"/>
              <a:tabLst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an annual C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ifetime shor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9"/>
          <a:srcRect l="1750" t="3570" r="2768" b="4933"/>
          <a:stretch/>
        </p:blipFill>
        <p:spPr>
          <a:xfrm>
            <a:off x="28573560" y="15751080"/>
            <a:ext cx="4570200" cy="2916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257560" y="16293960"/>
            <a:ext cx="111132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651560" y="17003880"/>
            <a:ext cx="1103400" cy="10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20824920" y="2917800"/>
            <a:ext cx="1493640" cy="1417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57240" y="19288080"/>
            <a:ext cx="7855560" cy="7046280"/>
            <a:chOff x="957240" y="19288080"/>
            <a:chExt cx="7855560" cy="7046280"/>
          </a:xfrm>
        </p:grpSpPr>
        <p:grpSp>
          <p:nvGrpSpPr>
            <p:cNvPr id="143" name=""/>
            <p:cNvGrpSpPr/>
            <p:nvPr/>
          </p:nvGrpSpPr>
          <p:grpSpPr>
            <a:xfrm>
              <a:off x="957240" y="19288080"/>
              <a:ext cx="7855560" cy="7046280"/>
              <a:chOff x="957240" y="19288080"/>
              <a:chExt cx="7855560" cy="7046280"/>
            </a:xfrm>
          </p:grpSpPr>
          <p:sp>
            <p:nvSpPr>
              <p:cNvPr id="144" name=""/>
              <p:cNvSpPr/>
              <p:nvPr/>
            </p:nvSpPr>
            <p:spPr>
              <a:xfrm>
                <a:off x="957240" y="19294200"/>
                <a:ext cx="609480" cy="6993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9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8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8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8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8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8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7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7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7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8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7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7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7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7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7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423440" y="19288080"/>
                <a:ext cx="7389360" cy="7046280"/>
                <a:chOff x="1423440" y="19288080"/>
                <a:chExt cx="7389360" cy="7046280"/>
              </a:xfrm>
            </p:grpSpPr>
            <p:pic>
              <p:nvPicPr>
                <p:cNvPr id="146" name="" descr=""/>
                <p:cNvPicPr/>
                <p:nvPr/>
              </p:nvPicPr>
              <p:blipFill>
                <a:blip r:embed="rId11"/>
                <a:srcRect l="6945" t="23217" r="3562" b="61370"/>
                <a:stretch/>
              </p:blipFill>
              <p:spPr>
                <a:xfrm>
                  <a:off x="1488960" y="20964240"/>
                  <a:ext cx="7305480" cy="169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" descr=""/>
                <p:cNvPicPr/>
                <p:nvPr/>
              </p:nvPicPr>
              <p:blipFill>
                <a:blip r:embed="rId12"/>
                <a:srcRect l="6945" t="42301" r="3562" b="42360"/>
                <a:stretch/>
              </p:blipFill>
              <p:spPr>
                <a:xfrm>
                  <a:off x="1488960" y="22637520"/>
                  <a:ext cx="7305480" cy="1685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" descr=""/>
                <p:cNvPicPr/>
                <p:nvPr/>
              </p:nvPicPr>
              <p:blipFill>
                <a:blip r:embed="rId13"/>
                <a:srcRect l="6945" t="4162" r="3562" b="80587"/>
                <a:stretch/>
              </p:blipFill>
              <p:spPr>
                <a:xfrm>
                  <a:off x="1488960" y="19288080"/>
                  <a:ext cx="730548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9" name=""/>
                <p:cNvGrpSpPr/>
                <p:nvPr/>
              </p:nvGrpSpPr>
              <p:grpSpPr>
                <a:xfrm>
                  <a:off x="1423440" y="24318720"/>
                  <a:ext cx="7389360" cy="2015640"/>
                  <a:chOff x="1423440" y="24318720"/>
                  <a:chExt cx="7389360" cy="201564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423440" y="25966080"/>
                    <a:ext cx="73893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990                           1995                           2000                           200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51" name="" descr=""/>
                  <p:cNvPicPr/>
                  <p:nvPr/>
                </p:nvPicPr>
                <p:blipFill>
                  <a:blip r:embed="rId14"/>
                  <a:srcRect l="6945" t="61316" r="3562" b="23173"/>
                  <a:stretch/>
                </p:blipFill>
                <p:spPr>
                  <a:xfrm>
                    <a:off x="1488960" y="24318720"/>
                    <a:ext cx="7305480" cy="17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152" name=""/>
            <p:cNvSpPr/>
            <p:nvPr/>
          </p:nvSpPr>
          <p:spPr>
            <a:xfrm>
              <a:off x="6371640" y="20534040"/>
              <a:ext cx="22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ert (82.4N,62.5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09600" y="25577640"/>
              <a:ext cx="291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uth Pole (89.9S,24.8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86280" y="23913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he Island (4.7S,55.2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37120" y="22212000"/>
              <a:ext cx="26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dway (28.2N,177.4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295280" y="18724680"/>
            <a:ext cx="74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s at selected GM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445240" y="19580400"/>
            <a:ext cx="2959200" cy="5776920"/>
            <a:chOff x="8445240" y="19580400"/>
            <a:chExt cx="2959200" cy="5776920"/>
          </a:xfrm>
        </p:grpSpPr>
        <p:sp>
          <p:nvSpPr>
            <p:cNvPr id="158" name=""/>
            <p:cNvSpPr/>
            <p:nvPr/>
          </p:nvSpPr>
          <p:spPr>
            <a:xfrm>
              <a:off x="9005760" y="19580400"/>
              <a:ext cx="2398680" cy="57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ANTH+B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improve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99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high 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latitu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seas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cyc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2) Tre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3) Low bia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at S Pole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especially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post-199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445240" y="20375640"/>
              <a:ext cx="858600" cy="97776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8445240" y="22032720"/>
              <a:ext cx="677880" cy="76500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8445240" y="24280920"/>
              <a:ext cx="858600" cy="52236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1893680" y="20850120"/>
            <a:ext cx="18803880" cy="68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449280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ASE simulation (constant emissions) captures observed rate of C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increase from 1990-1997, and leveling off post-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449280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NTH emissions (EDGAR 3.2 + FT-2000 inventories) improve modeled C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post-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449280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449280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NTH+BIO spatial and temporal distribution of wetland C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emissions is critical for reproducing the observed seasonality, interhemispheric gradient, and global mean tr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n-US" sz="3400" spc="-1" strike="noStrike" baseline="-25000">
                <a:solidFill>
                  <a:srgbClr val="ff0000"/>
                </a:solidFill>
                <a:latin typeface="Tahoma"/>
              </a:rPr>
              <a:t>CH4</a:t>
            </a: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 decreases by ~2% from 91-95 to 00-04 due to warmer temperatures (35%) and higher OH (65%, resulting from a ~10% increase in lightning NO</a:t>
            </a:r>
            <a:r>
              <a:rPr b="1" lang="en-US" sz="3400" spc="-1" strike="noStrike" baseline="-25000">
                <a:solidFill>
                  <a:srgbClr val="ff0000"/>
                </a:solidFill>
                <a:latin typeface="Tahoma"/>
              </a:rPr>
              <a:t>x </a:t>
            </a: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emission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449280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ture research shou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ider climate-driven feedbacks from biogenic emissions and fires (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CO, 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NMVOC) on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CH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9280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velop more physically-based parameterizations of lightning 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emissions to determine wheth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gher emissions are a robust feature of a warmer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363040" y="162590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.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64960" y="16521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.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540440" y="27777960"/>
            <a:ext cx="1337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ardenne, J.A., F. Dentener, J.G.J. Olivier and J.A.H.W. Peters (2005), The EDGAR 3.2 Fast Track 2000 dataset (32FT2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g , J.S., et al. (2004), Global Biogeochem. Cycles, 18, GB3011, doi:10.1029/2003GB00218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arwick, N.J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(2002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ophys. Res. Lett., 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20), 1947, doi:10.1029/2002GL0152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st, J.J. and A.M. Fiore (2005)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viron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i. &amp; Technol., 39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685-469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0360" y="25271280"/>
            <a:ext cx="1007568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H increases in the model by +1.4% from 1991-1995 to 2000-200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ue to a 0.3 Tg N yr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(~10%) increase in lightning 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rge uncertainties in magnitude (and trend) of lightning 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missions in the real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907280" y="27777960"/>
            <a:ext cx="17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rlsdóttir, S., and I.S.A. Isaksen (2000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ophys. Res. Lett., 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1), 93-9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enfelds, R.L., et al. (2002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lobal Biogeochem. Cycles, 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48, doi:10.1029/2001GB0014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ier, J.G.J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(1999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vironmental Science &amp; Policy,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41-2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livier, J.G.J. (2002) In: "CO2 emissions from fuel combustion 1971-2000", 2002 Edition, pp. III.1-III.31. International Energy Agency (IEA), Paris. ISBN 92-64-09794-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-575640" y="1301040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mol/mol = ppb in dry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1147320" y="2267028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mol/mol = ppb in dry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534760" y="19948680"/>
            <a:ext cx="1767996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4492800"/>
                <a:tab algn="l" pos="898524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Tahoma"/>
              </a:rPr>
              <a:t>5. Conclusion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062840" y="2846520"/>
            <a:ext cx="765828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4492800"/>
                <a:tab algn="l" pos="898524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100 gas and aerosol species, ~200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CEP meteorology 1990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atitude x 1.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itude x 64 vertic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description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rowitz et 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[200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1601080" y="5854680"/>
            <a:ext cx="5878800" cy="3986280"/>
            <a:chOff x="21601080" y="5854680"/>
            <a:chExt cx="5878800" cy="3986280"/>
          </a:xfrm>
        </p:grpSpPr>
        <p:grpSp>
          <p:nvGrpSpPr>
            <p:cNvPr id="173" name=""/>
            <p:cNvGrpSpPr/>
            <p:nvPr/>
          </p:nvGrpSpPr>
          <p:grpSpPr>
            <a:xfrm>
              <a:off x="22039200" y="6237360"/>
              <a:ext cx="1646280" cy="3603600"/>
              <a:chOff x="22039200" y="6237360"/>
              <a:chExt cx="1646280" cy="3603600"/>
            </a:xfrm>
          </p:grpSpPr>
          <p:graphicFrame>
            <p:nvGraphicFramePr>
              <p:cNvPr id="174" name=""/>
              <p:cNvGraphicFramePr/>
              <p:nvPr/>
            </p:nvGraphicFramePr>
            <p:xfrm>
              <a:off x="22039200" y="6245280"/>
              <a:ext cx="1602000" cy="3595680"/>
            </p:xfrm>
            <a:graphic>
              <a:graphicData uri="http://schemas.openxmlformats.org/presentationml/2006/ole">
                <p:oleObj progId="Excel.Sheet.12" r:id="rId15" spid="">
                  <p:embed/>
                  <p:pic>
                    <p:nvPicPr>
                      <p:cNvPr id="175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039200" y="6245280"/>
                        <a:ext cx="1602000" cy="359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6" name=""/>
              <p:cNvGraphicFramePr/>
              <p:nvPr/>
            </p:nvGraphicFramePr>
            <p:xfrm>
              <a:off x="23641200" y="6237360"/>
              <a:ext cx="44280" cy="3531960"/>
            </p:xfrm>
            <a:graphic>
              <a:graphicData uri="http://schemas.openxmlformats.org/presentationml/2006/ole">
                <p:oleObj progId="Excel.Sheet.12" r:id="rId17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3641200" y="6237360"/>
                        <a:ext cx="44280" cy="353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78" name=""/>
            <p:cNvSpPr/>
            <p:nvPr/>
          </p:nvSpPr>
          <p:spPr>
            <a:xfrm>
              <a:off x="22707720" y="5854680"/>
              <a:ext cx="646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547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21072960" y="7598520"/>
              <a:ext cx="1531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g CH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yr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080400" y="6251400"/>
              <a:ext cx="33994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Biogenic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400" spc="-1" strike="noStrike">
                  <a:solidFill>
                    <a:srgbClr val="dbb7ff"/>
                  </a:solidFill>
                  <a:latin typeface="Arial"/>
                </a:rPr>
                <a:t>biomass burnin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orowitz et a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[2003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078600" y="7896240"/>
              <a:ext cx="2964960" cy="192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thropoge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erg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400" spc="-1" strike="noStrike">
                  <a:solidFill>
                    <a:srgbClr val="00c7f6"/>
                  </a:solidFill>
                  <a:latin typeface="Arial"/>
                </a:rPr>
                <a:t>ric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ruminant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om EDGAR 2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livier et a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, 1999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2424840" y="2004372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onstruc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-0.17 years) from 1991-199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 2000-2004 into individual contributions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ying temperature and OH sepa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985000" y="21493080"/>
            <a:ext cx="6080040" cy="3652920"/>
            <a:chOff x="32985000" y="21493080"/>
            <a:chExt cx="6080040" cy="3652920"/>
          </a:xfrm>
        </p:grpSpPr>
        <p:sp>
          <p:nvSpPr>
            <p:cNvPr id="184" name=""/>
            <p:cNvSpPr/>
            <p:nvPr/>
          </p:nvSpPr>
          <p:spPr>
            <a:xfrm>
              <a:off x="32985000" y="21493080"/>
              <a:ext cx="6080040" cy="365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00000">
              <a:off x="31928760" y="22684680"/>
              <a:ext cx="302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 in mean 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) fro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990-1995 to 2000-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year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764000" y="24672960"/>
              <a:ext cx="814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86640" y="24669720"/>
              <a:ext cx="1229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(+0.3K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94880" y="24669720"/>
              <a:ext cx="1469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H(+1.4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9" name=""/>
            <p:cNvGraphicFramePr/>
            <p:nvPr/>
          </p:nvGraphicFramePr>
          <p:xfrm>
            <a:off x="33921720" y="21650400"/>
            <a:ext cx="5046480" cy="2960640"/>
          </p:xfrm>
          <a:graphic>
            <a:graphicData uri="http://schemas.openxmlformats.org/presentationml/2006/ole">
              <p:oleObj progId="Excel.Sheet.12" r:id="rId19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3921720" y="21650400"/>
                      <a:ext cx="5046480" cy="29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34753680" y="22299480"/>
              <a:ext cx="787320" cy="2311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263160" y="22299480"/>
              <a:ext cx="830520" cy="2311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668440" y="2279808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251360" y="2281248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8548000" y="5911920"/>
            <a:ext cx="6176880" cy="4422600"/>
            <a:chOff x="28548000" y="5911920"/>
            <a:chExt cx="6176880" cy="4422600"/>
          </a:xfrm>
        </p:grpSpPr>
        <p:graphicFrame>
          <p:nvGraphicFramePr>
            <p:cNvPr id="196" name=""/>
            <p:cNvGraphicFramePr/>
            <p:nvPr/>
          </p:nvGraphicFramePr>
          <p:xfrm>
            <a:off x="32664240" y="8053560"/>
            <a:ext cx="1676520" cy="914400"/>
          </p:xfrm>
          <a:graphic>
            <a:graphicData uri="http://schemas.openxmlformats.org/presentationml/2006/ole">
              <p:oleObj progId="Excel.Sheet.12" r:id="rId21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2664240" y="8053560"/>
                      <a:ext cx="16765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"/>
            <p:cNvGraphicFramePr/>
            <p:nvPr/>
          </p:nvGraphicFramePr>
          <p:xfrm>
            <a:off x="32667480" y="6853320"/>
            <a:ext cx="2057400" cy="1218960"/>
          </p:xfrm>
          <a:graphic>
            <a:graphicData uri="http://schemas.openxmlformats.org/presentationml/2006/ole">
              <p:oleObj progId="Excel.Sheet.12" r:id="rId23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2667480" y="6853320"/>
                      <a:ext cx="2057400" cy="12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0" name=""/>
            <p:cNvGrpSpPr/>
            <p:nvPr/>
          </p:nvGrpSpPr>
          <p:grpSpPr>
            <a:xfrm>
              <a:off x="29676960" y="5911920"/>
              <a:ext cx="2637360" cy="429120"/>
              <a:chOff x="29676960" y="5911920"/>
              <a:chExt cx="2637360" cy="429120"/>
            </a:xfrm>
          </p:grpSpPr>
          <p:sp>
            <p:nvSpPr>
              <p:cNvPr id="201" name=""/>
              <p:cNvSpPr/>
              <p:nvPr/>
            </p:nvSpPr>
            <p:spPr>
              <a:xfrm>
                <a:off x="29676960" y="5911920"/>
                <a:ext cx="646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547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657960" y="5911920"/>
                <a:ext cx="646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548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667400" y="5911920"/>
                <a:ext cx="646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557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rot="16200000">
              <a:off x="28019880" y="7803360"/>
              <a:ext cx="1531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g CH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yr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28960920" y="9764640"/>
              <a:ext cx="3543120" cy="569880"/>
              <a:chOff x="28960920" y="9764640"/>
              <a:chExt cx="3543120" cy="569880"/>
            </a:xfrm>
          </p:grpSpPr>
          <p:sp>
            <p:nvSpPr>
              <p:cNvPr id="206" name=""/>
              <p:cNvSpPr/>
              <p:nvPr/>
            </p:nvSpPr>
            <p:spPr>
              <a:xfrm>
                <a:off x="28960920" y="9764640"/>
                <a:ext cx="354312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9592720" y="9813960"/>
                <a:ext cx="7761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99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616560" y="9813960"/>
                <a:ext cx="7761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99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648320" y="9813960"/>
                <a:ext cx="7765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10" name=""/>
            <p:cNvGraphicFramePr/>
            <p:nvPr/>
          </p:nvGraphicFramePr>
          <p:xfrm>
            <a:off x="28960920" y="6281640"/>
            <a:ext cx="631800" cy="3692520"/>
          </p:xfrm>
          <a:graphic>
            <a:graphicData uri="http://schemas.openxmlformats.org/presentationml/2006/ole">
              <p:oleObj progId="Excel.Sheet.12" r:id="rId25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8960920" y="6281640"/>
                      <a:ext cx="631800" cy="36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29532240" y="6281640"/>
            <a:ext cx="2971800" cy="3621240"/>
          </p:xfrm>
          <a:graphic>
            <a:graphicData uri="http://schemas.openxmlformats.org/presentationml/2006/ole">
              <p:oleObj progId="Excel.Sheet.12" r:id="rId27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9532240" y="6281640"/>
                      <a:ext cx="2971800" cy="36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4" name=""/>
          <p:cNvGrpSpPr/>
          <p:nvPr/>
        </p:nvGrpSpPr>
        <p:grpSpPr>
          <a:xfrm>
            <a:off x="4514760" y="9564840"/>
            <a:ext cx="7008840" cy="3073320"/>
            <a:chOff x="4514760" y="9564840"/>
            <a:chExt cx="7008840" cy="3073320"/>
          </a:xfrm>
        </p:grpSpPr>
        <p:grpSp>
          <p:nvGrpSpPr>
            <p:cNvPr id="215" name=""/>
            <p:cNvGrpSpPr/>
            <p:nvPr/>
          </p:nvGrpSpPr>
          <p:grpSpPr>
            <a:xfrm>
              <a:off x="4514760" y="9564840"/>
              <a:ext cx="4206960" cy="3073320"/>
              <a:chOff x="4514760" y="9564840"/>
              <a:chExt cx="4206960" cy="3073320"/>
            </a:xfrm>
          </p:grpSpPr>
          <p:sp>
            <p:nvSpPr>
              <p:cNvPr id="216" name=""/>
              <p:cNvSpPr/>
              <p:nvPr/>
            </p:nvSpPr>
            <p:spPr>
              <a:xfrm>
                <a:off x="4514760" y="9564840"/>
                <a:ext cx="4206960" cy="825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</a:rPr>
                  <a:t>ANTH+BIO best captures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</a:rPr>
                  <a:t>measured abundances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5224320" y="10477800"/>
                <a:ext cx="1068480" cy="2160360"/>
              </a:xfrm>
              <a:prstGeom prst="line">
                <a:avLst/>
              </a:prstGeom>
              <a:ln w="7632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292800" y="10434960"/>
                <a:ext cx="1098360" cy="1116000"/>
              </a:xfrm>
              <a:prstGeom prst="line">
                <a:avLst/>
              </a:prstGeom>
              <a:ln w="7632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6292800" y="10434600"/>
              <a:ext cx="5230800" cy="1679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9:27:41Z</dcterms:created>
  <dc:creator>Larry Horowitz</dc:creator>
  <dc:description/>
  <dc:language>en-US</dc:language>
  <cp:lastModifiedBy>Arlene Fiore</cp:lastModifiedBy>
  <dcterms:modified xsi:type="dcterms:W3CDTF">2006-01-18T13:11:57Z</dcterms:modified>
  <cp:revision>473</cp:revision>
  <dc:subject/>
  <dc:title>Slide 1</dc:title>
</cp:coreProperties>
</file>