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29E-7DB9-46C6-8B51-A9EBE09B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35A-F4AC-4379-9855-843FC60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399-7F22-4576-B8BF-6BCEED17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175-D887-439E-A0B5-63E50D9E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9631-9465-409F-B059-28D39BE0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B989-71F1-4E15-9C41-CE45976D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6DD1-0964-4258-A238-49FEC77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01BF-95BD-46A8-B8E6-C8349B8C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F3BD-08E8-4623-AF5D-0F5D8BC6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1257-F1F3-4A5E-B56D-942F00A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054-DA32-40A8-BC45-E3C9FE44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C30-E1DC-490B-8223-CE1E187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4D5B-A55D-4937-91CA-48E363E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3342-97F9-4FA5-A2A2-8338AA7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355-08F3-4C42-9E3A-F00E97FE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E7E-8204-4A45-9E60-8970A8C9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EF2-BC38-41DB-95EC-3E79C826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F4B-6C67-45BB-A517-7F1B3C2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E0D-0697-4C44-911F-A976E57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AF1-89F1-47FA-B4A8-E948F34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47D-AB7B-4EAE-A8CC-C57A1361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DDD-A82A-4DB6-940A-F00768D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A92-A19B-4E88-AC07-0FFE5332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82E-2141-4356-953A-3E29D43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F72D-A49B-4FBE-858A-32301E34B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6DE-3B34-4813-B21A-DE5E0868C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UTS AND BOLTS OF LIBRARY DISASTERS AND RECOVERY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PANEL DISCUS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Katrina’s Library Crossings:  Which Turns to Take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a M. Selt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ofessor and Cha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cademic Information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rector, Rowland Medic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University of Mississippi Medica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Jackson,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s for Improving Health Sciences Library Disaster Traffic Circ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57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ocally self reliant – strong formal connections to a colleague-library network (hospital libra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ior designation of authority and responsibility and centralization for local coordination of relief and respon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e-contract/arrange salvage and debris remo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pport for libraries affected by disaster, but still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Fewer staff, increased demand, lack needed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ic Health Sciences Library Disaster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isaster buddy program for librar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 of state storage of online records, OP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hapter or NN/LM level “adopt-a-library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e-disaster communications Web servic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mail lists, bulletin board, debris team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mation, tips for disaster recovery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rectories of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alth Sciences Library Designs (continue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re-established, pre-arranged core health e-source collection for quick and temporary access – r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e-established, pre-arranged core health collection for relief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ne Web site for ALL library relief and recovery assistance lis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ior arrangements for services to tent cities, trailer areas, communities agencies or public libraries about chronic diseases, mental health services, disease preventio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include children’s health iss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As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ississippi Library Com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urricanearchives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mithsonian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brary and hospital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rry Hall, UMC Program Administ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stance for Mississippi Libr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928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ends of Mississippi Libra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build Mississippi Libraries F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ttn:  AmSouth 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10 E. Capital Str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ackson, MS  392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urns to Ta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urns to Avoid:  Assessing Katrina’s Cross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at we have learned so f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signs for Improving Disaster Traffic Cir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as and suggestions for disaster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88027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uge human level of disaster/recovery -takes precedence over all else – will last for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d Cross - 1-2 wee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EMA policies prevent making changes on what was learn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laces – does not rebu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lan for worst case sce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vide backup emergency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voiding turns (continue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grate local disaster planning with neighboring communities, regions within states, multi-state regions, and/or fed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unicate persons/agencies authorized and/or responsible for emergency relief prior to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stablish standards and coordinate private donations of goods for rapid distribution and use: sorted, boxed or packaged, labe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man 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02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commend personal items to take when evacu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epare to survive on your own for 7 days: hand sanitizers, wet wipes, toiletries, plastic b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lan for gasoline shor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view insurance policies and be informed about legal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intain a list of emergency relief agencies and type of service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lth 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New location for generat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Evacuate patients from first and top flo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Electronic health record a necessity – with offsite cap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Disaster planning for health professionals in private pract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Emergency communications backup – linked with other health units, health professionals and emergency response un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Improved and coordinated planning and emergency response between communities, local areas, state, regional and federal lev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brary 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Become informed about what libraries needed to know to endure a disas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id not know what we did not kn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Become knowledgeable about scope of insurance and legal righ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form library staff about who is in charge of disaster response and what response will b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Have processes and relationships in place prior to the 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voiding Library Turns (continue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crease level of emergency supplies available: generators, dehumidifiers, contr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rrange for temporary storage for donations, staff, building for temporary work space prior to 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entralize coordination for relie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cknowledge community’s understanding of library roles resulting from disaster and take leadership role in recovery 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s for Improving Library Disaster Traffic Circ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Form state alliance to better utilize re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Arts Council, Archives &amp; History, MS Lib. Com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Train alliance members and clearly define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ffer risk management workshops for libraries - processes and relationships that must be in place prior to dis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S Lib. Commission – clearinghouse for library/librarian communications &amp; information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Gates Foundation planning for Katrina libraries – where they want to go - how to get there given FEMA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upport and relief to libraries providing relief to evacu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14:14Z</dcterms:created>
  <dc:creator>thall</dc:creator>
  <dc:description/>
  <dc:language>en-US</dc:language>
  <cp:lastModifiedBy>sjbarnes</cp:lastModifiedBy>
  <dcterms:modified xsi:type="dcterms:W3CDTF">2007-01-25T20:09:51Z</dcterms:modified>
  <cp:revision>23</cp:revision>
  <dc:subject/>
  <dc:title>NUTS AND BOLTS OF LIBRARY DISASTERS AND RECOVERY</dc:title>
</cp:coreProperties>
</file>