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2213-9622-45C9-87A0-A4D4E198A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7F7B-1268-4A08-ABF9-9527F155F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5379-1BBB-4C99-ABAD-F4732EDA3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EDE2-7098-43F7-B8CE-E92E8D658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C3B4-EB14-4C0C-B3D7-382C69590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25EC-EFA1-4207-990B-D886280D3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B4F1-F00F-49BD-AC11-FEB341E94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F62F-EE4B-4468-AA7E-A7E632042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6B15-7B88-48FC-A138-67FEB0A16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FF2B-5F07-46D8-9E3A-7059A4F5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23E7-4688-4BBA-8002-12AE892C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5BC7-74FC-4F7D-855E-A0E4E500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9219B-DC36-47AD-91EF-5B19E2EBD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09680" y="6521400"/>
            <a:ext cx="556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ra Validation Working Group Report / Oct. 3,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600200" y="2438280"/>
            <a:ext cx="6324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ra Validation Working Group Rep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Lucien Froideva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S Future Validation Analy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bias in nadir ozone, improvement in nadir temperature profi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urrent set of sonde measu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 V004 data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d validation of limb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O, Meth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dir ozone in the stratosphere, limb ozone using MLS, HIRD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52280"/>
            <a:ext cx="9144000" cy="70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nt/New campaigns (Overviews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Balloons: Kiruna, Ft. Sumner 2007                                            J. Margitan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Table Mountain NO</a:t>
            </a:r>
            <a:r>
              <a:rPr b="1" lang="en-US" sz="1800" spc="-1" strike="noStrike" baseline="-18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tercompariso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Kiruna, Sweden balloon campaig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2007 Jan 24:  FIRS2/SLS/Oz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7 Feb. 22: MkIV (ascent data only – balloon burst at floa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ights deep in very cold, perturbed vort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recent comparisons have been produced [also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achnik et al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esentatio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2007 Sep. 22 Ft. Sumner, NM  balloon campa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kIV/SLS/FIRS2/BOH/Oz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 hour flight (but no FIRS2 data due to malfun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WAVES                                                                                                 D. White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oordinated measurements from Beltsville area; clean and polluted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VES 2006 (June 27 – August 12, 20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VES 2007 (July 14 – August 8, 2007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ndes (includes PTU, ozonesondes, CFH); Microwave Radiometer, 7 lida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 baseline="-18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0" lang="en-US" sz="1800" spc="-1" strike="noStrike" baseline="-18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, aerosols, Temperature data; coordinated with A-train overpa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ome Vaisala sonde calibration issues vs CF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Precipitable water: AIRS and TES biased high vs MWR (and G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ome airborne lidar data also mentioned for TES/CALIPSO validation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H</a:t>
            </a:r>
            <a:r>
              <a:rPr b="0" lang="en-US" sz="1800" spc="-1" strike="noStrike" baseline="-18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, aerosol variabil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ura results included as part of several validation papers (JGR special iss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280" y="152280"/>
            <a:ext cx="8991720" cy="64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nt/New campaigns (Overview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 MOHAVE                                                                                                  T.  Leblan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OHAVE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mpaign (October 2006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to assess the measuring capabilities of Water Vapor Raman lidars (part of NDAC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lidars, 50+ PTU sondes, 10 CFH sondes, 2 GPS, 1 microwave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t bias of Raman lidars versus CFH above ~12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jor Finding: Fluorescence in lidar receiver optic fiber, can be removed by block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so, Miloshevic’s empirical correction to Vaisala RS92 seems to work w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OHAVE-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mpaign (October 2007) planned to now refine comparisons, check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sitivity limits (lidars probably need more power, etc… to measure higher 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Short-term variability in H2O observed by lidars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plicates Aura validation (some good results anyway, on-go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T/LS H2O validation issues                                                  K. Rosenlof / D. Fah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 main topics of current intere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Establishing the frequency and temperature dependence of supersatu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ous datasets indicate persistent S &gt; 1.2 inside and S &gt; 1.6 outside clou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uses under investigation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Establishing instrumental accuracy at low water vapor values and low temper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comparison campaign of water vapour measurement techniques to be held i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IDA  Chamber in Karlsuhe, Germany October 8th - November 2nd, 2007;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wide range of T, P, H</a:t>
            </a:r>
            <a:r>
              <a:rPr b="0" lang="en-US" sz="1800" spc="-1" strike="noStrike" baseline="-18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will be tested (with/without aerosols, ice partic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52280" y="174600"/>
            <a:ext cx="8991720" cy="64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nt/New campaigns (Overview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4  (Costa Rica; mid-July to early August 2007)                               M. Schoeberl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aircraft + son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ER2 - mostly full participation - but landed before Aura overp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DC8 - mostly full participation - bulk of Aura vali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WB57 - Only 3 CR flights near the end of the mission - landed before overpa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validation data despite mission problems - SO</a:t>
            </a:r>
            <a:r>
              <a:rPr b="0" lang="en-US" sz="1800" spc="-1" strike="noStrike" baseline="-18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NO</a:t>
            </a:r>
            <a:r>
              <a:rPr b="0" lang="en-US" sz="1800" spc="-1" strike="noStrike" baseline="-18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Oz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s much TTL data as we would have li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shop early next ye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SAUNA                                                                                                   R. McPet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otal column O</a:t>
            </a:r>
            <a:r>
              <a:rPr b="0" lang="en-US" sz="1800" spc="-1" strike="noStrike" baseline="-18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atellite measurements agree within 2-3% glob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ces at low sun, high column amounts, high reflectivitie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verify the accuracy of GB measurements for satellite validation purpo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AUNA: March-April 2006 ;          SAUNA 2: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ebruary-April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ed network instruments: Dobsons, Brewers, DOAS, sondes and LI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Conclude that data from double Brewers should be used for Aura O3 val at high S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The state of the network calibration (Brewer and Dobson) is uncerta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With improved GB calibration, differences between OMI and GB most probably due to ozone X-sections uncertainties; high spectral resolution X-sections required which can be used by both satellites and ground-based instr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457200"/>
            <a:ext cx="8534520" cy="72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SAR                                                                                                     P. Leve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1800" spc="-1" strike="noStrike" baseline="-18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O</a:t>
            </a:r>
            <a:r>
              <a:rPr b="0" lang="en-US" sz="1800" spc="-1" strike="noStrike" baseline="-18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mpaign in May 2008, Cabauw, The Netherlands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long with the EUCAARI IOP campaign – clouds and aerosols)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Also intend to play a part in the AMFIC project (SO2 and NO2 in China) with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ini-MAX DO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ous measurements at De Bilt (KNMI) and / or Cabauw of NO2 and 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you wish to get involved, please contact Piet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ARCTAS                                                                                                   D. Jac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lanning two 3-week deployments: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pril 2008 (Fairbanks/Thule), July 2008   (Edmont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NASA aircraft: DC-8 (in situ chemistry and aerosols), P-3B (radiation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in situ aerosols), B-200 (aerosol remote sensing &amp; CALIPSO valid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cience Theme 1: Transport of mid-latitudes pollution to the Arc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cience Theme 2: Boreal forest fire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cience Theme 3: Aerosol radiative for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C-8: in situ chemistry and aeros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kely Payload: O3, H2O, CO, CO2, CH4,  NOx and HOx chemistry, BrO, mercury, NMVOCs, halocarbons,  SO2. HCN/CH3CN, actinic fluxes, aerosol composition/concentrations/properties, remote ozone and aeros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relevant (high lat. April / July) Aura Validation needs/wishes,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ease contact Daniel with requests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[see also Aura needs lists above (some still to come)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533520"/>
            <a:ext cx="83818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DC Statu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. Retscher / B. Bojko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upport continuing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Aura teams like this!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HDF5 read/write in final testing for correlativ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Focus shifting to long-term vali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 and update ground data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complet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e ESA/NDACC eff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 datasets and coordinate submi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active on AVDC side but need support from cal/val and instrument te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ease provide inputs to AVWG chairs + Aura instr. val. re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future campaign wishes/needs, and AVWG activities &amp; structure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the futu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306360" y="242280"/>
            <a:ext cx="945036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ENDA: Aura Validation Working Group Mee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L. Froidevaux, A. Dougla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ONDAY, OCTOBER 1, 2007, 1:30 – 5:30 p.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idation Status, Issues, Plans                                                              100 mi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- HIRDLS                                                           J. Gille/B. Nardi                   [25 mins.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LS                                                                   L. Froidevaux                            [25 mins.]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OMI                                                                  M. Kroon                             [25 mins.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ES                                                                     G. Osterman                      [25 mins.]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ent/New campaigns                                                                               90 mi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Large Balloons: Kiruna, Ft. Sumner 2007         J. Margitan                         [10 mins.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Table Mountain NO2 Intercomparison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WAVES                                                           D. Whiteman                        [10 mins.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OHAVE                                                           T. Leblanc                          [10 mins.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T/LS H2O validation issues                   K. Rosenlof / D. Fahey                [10 mins.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C4                                                                    M. Schoeberl                      [10 mins.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AUNA                                                              R. McPeters                       [10 mins.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ESAR                                                                 P. Levelt                            [10 mins.]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RCTAS                                                              D. Jacob                           [15 mins.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VDC Statu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C. Retscher / B. Bojkov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10 mins.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cussion (data access, longer-term plans,…)                                           5 mi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ture goals / suggestions for the working grou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Discussion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mi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112680"/>
            <a:ext cx="8458200" cy="65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HIRDLS: Summary of quality of validation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Temperat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-Range: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1-300 h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recision: 0.5K at 10-100 hPa;  1K @ 1 hPa (v2.02.0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ccuracy: ±2K at 1-100 h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zon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Range: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1-100+ hPa (mid-high Lat), 1-50 hPa (tropic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recision: 5-10%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ccuracy: 2-10% at 1-10 hPa; biased generally 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5% high bias ~10-30 h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0-20% low bias, ~30-100+ hPa (mid &amp; high latitud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Nitric Aci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Range: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10-100 hPa, 10-50 hPa (tropic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recision: 10-35% at 100-10h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ccuracy: ~10% (at 10hPa) to 30% (at 100hPa); biased low [ACE-FTS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Clouds/Aeroso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Range: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400 hPa- 10 h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Correlation with other instrumen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AGE &amp; HALOE (cloud-top pressure): 0.85 - .9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CALIPSO horizontal cloud scale: 0.99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xtinction retrieval successful at rate 70%: needs improv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tical Resolution: 1-2 k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01920" y="800280"/>
            <a:ext cx="773208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Status of HIRDLS data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1. Temperature, Ozone, HNO3, clouds – Released [v2.04.09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2. H2O, CFC-11, CFC-12 – Not ready to release; 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  now most promising for future rel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3. CH4, NO2, N2O, ClONO2, N2O5 – Not ready to rele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380880" y="469800"/>
          <a:ext cx="8534520" cy="6102360"/>
        </p:xfrm>
        <a:graphic>
          <a:graphicData uri="http://schemas.openxmlformats.org/drawingml/2006/table">
            <a:tbl>
              <a:tblPr/>
              <a:tblGrid>
                <a:gridCol w="2286000"/>
                <a:gridCol w="3200400"/>
                <a:gridCol w="3048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ation                                  Issue / Investig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Source                          Needs / Rea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b3"/>
                          </a:solidFill>
                          <a:latin typeface="Arial"/>
                        </a:rPr>
                        <a:t>Temperature                  and GP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 retrieval biases,            2-3K vertical structure issu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b3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2000" spc="-1" strike="noStrike" baseline="-25000">
                          <a:solidFill>
                            <a:srgbClr val="0066b3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66b3"/>
                          </a:solidFill>
                          <a:latin typeface="Arial"/>
                        </a:rPr>
                        <a:t>O (and            relative humidit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nk” in MLS profiles near                 30 hPa.  Low bias near 200 hPa vs CFH and Vaisala; high bias for VMR &gt; 500 ppmv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lve aircraft in situ vs CFH profile diffs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mprove validation robustnes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b3"/>
                          </a:solidFill>
                          <a:latin typeface="Arial"/>
                        </a:rPr>
                        <a:t>N</a:t>
                      </a:r>
                      <a:r>
                        <a:rPr b="1" lang="en-US" sz="2000" spc="-1" strike="noStrike" baseline="-25000">
                          <a:solidFill>
                            <a:srgbClr val="0066b3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66b3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y extension of  vertical range (to 150 hPa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b3"/>
                          </a:solidFill>
                          <a:latin typeface="Arial"/>
                        </a:rPr>
                        <a:t>O</a:t>
                      </a:r>
                      <a:r>
                        <a:rPr b="1" lang="en-US" sz="2000" spc="-1" strike="noStrike" baseline="-25000">
                          <a:solidFill>
                            <a:srgbClr val="0066b3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nsion of vertical range (UT); more MOZAIC and UT studi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 sonde matches under enhanced O</a:t>
                      </a:r>
                      <a:r>
                        <a:rPr b="0" lang="en-US" sz="1800" spc="-1" strike="noStrike" baseline="-18000">
                          <a:solidFill>
                            <a:srgbClr val="000000"/>
                          </a:solidFill>
                          <a:latin typeface="Arial"/>
                        </a:rPr>
                        <a:t>3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itions     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in U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for better statistic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b3"/>
                          </a:solidFill>
                          <a:latin typeface="Arial"/>
                        </a:rPr>
                        <a:t>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lve UT biases              (P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≥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5 hPa); extend data to higher 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 UT CO data; mainly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a MOZAIC (+ sat cross-val.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ARCTAS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b3"/>
                          </a:solidFill>
                          <a:latin typeface="Arial"/>
                        </a:rPr>
                        <a:t>H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ter understand diffs. in 2007 Kiruna campaign; also, some small notches in MLS profil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ends on Kiruna data investigation (Kiruna 2?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457200" y="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 MLS Validation Issues / Need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380880" y="487440"/>
          <a:ext cx="8534520" cy="6043680"/>
        </p:xfrm>
        <a:graphic>
          <a:graphicData uri="http://schemas.openxmlformats.org/drawingml/2006/table">
            <a:tbl>
              <a:tblPr/>
              <a:tblGrid>
                <a:gridCol w="2210040"/>
                <a:gridCol w="3124080"/>
                <a:gridCol w="3200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ation                               Issue / Investig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Source                            Needs / Rea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b3"/>
                          </a:solidFill>
                          <a:latin typeface="Arial"/>
                        </a:rPr>
                        <a:t>HNO</a:t>
                      </a:r>
                      <a:r>
                        <a:rPr b="1" lang="en-US" sz="2000" spc="-1" strike="noStrike" baseline="-25000">
                          <a:solidFill>
                            <a:srgbClr val="0066b3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LS low bias                                           (~1 ppbv or 10 – 3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b3"/>
                          </a:solidFill>
                          <a:latin typeface="Arial"/>
                        </a:rPr>
                        <a:t>Cl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ove retrievals for negative biases at                     P &gt;  ~ 30 hPa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y more validation in polar vort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b3"/>
                          </a:solidFill>
                          <a:latin typeface="Arial"/>
                        </a:rPr>
                        <a:t>B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nd vertical range; reduce biases and latitudinal oscillatio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b3"/>
                          </a:solidFill>
                          <a:latin typeface="Arial"/>
                        </a:rPr>
                        <a:t>OH, HO</a:t>
                      </a:r>
                      <a:r>
                        <a:rPr b="0" lang="en-US" sz="2000" spc="-1" strike="noStrike" baseline="-18000">
                          <a:solidFill>
                            <a:srgbClr val="0066b3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ter understand residual diffs. in compariso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loon flight in Ft. Sumner, Fall 2008 (for reason at lef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HOC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uing validation; extension of vertical range (into LS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 balloon flight data to resolve differences between model &amp; data (balloon, ML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Cloud 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oader multi-sensor comparisons (IWC, IWP, cloud fraction) + enhanced MLS retrievals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oved “climatology” of cloud particle characteristic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457200" y="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 MLS Validation Issues / Need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228600" y="457200"/>
          <a:ext cx="8839080" cy="6095880"/>
        </p:xfrm>
        <a:graphic>
          <a:graphicData uri="http://schemas.openxmlformats.org/drawingml/2006/table">
            <a:tbl>
              <a:tblPr/>
              <a:tblGrid>
                <a:gridCol w="2057400"/>
                <a:gridCol w="3276720"/>
                <a:gridCol w="3504960"/>
              </a:tblGrid>
              <a:tr h="72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rieval Nee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ation Nee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itrogen diox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total and trop. NO2 colum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face in-situ and Vertical Profiles in polluted reg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ctive Cloud Fraction and Effective Cloud Heig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face Albedo data at OMI spatial resol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nd Truth Standard in-situ detection networ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NO2 column network of remote sensing standard (e.g. direct su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opospheric Columns in polluted regio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zon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total and trop. O3 column, O3 profil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O3 columns and profiles at high SZA (SAUNA-II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face Albedo data at OMI spatial resol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uation Brewer net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 Double Brewers at high lat. and in 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DOZ balloons, trop. ozone lidar, MaxDO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eroso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AOD and SS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physics (type, size, chem, phys, distributio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erosols type statist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face Albedo data at OMI spatial resol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uation Aeronet network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rborne campaigns gathering aerosol microphysics statistics (in particular, polluted regio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457200" y="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 OMI Retrieval / Validation Need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152280" y="457200"/>
          <a:ext cx="8839440" cy="6178320"/>
        </p:xfrm>
        <a:graphic>
          <a:graphicData uri="http://schemas.openxmlformats.org/drawingml/2006/table">
            <a:tbl>
              <a:tblPr/>
              <a:tblGrid>
                <a:gridCol w="2425680"/>
                <a:gridCol w="3208320"/>
                <a:gridCol w="3205440"/>
              </a:tblGrid>
              <a:tr h="71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rieval Nee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ation Nee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ulphur Diox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total SO2 column [PBL, 5 km, 15 km]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iles in polluted regions and regions of outf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hasis on PB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canic plume tomograph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ultaneous observation of aerosols and SO2 profi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face Albedo data at OMI spatial resol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uble Brewer instrum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anced Double Brewer SO2 algorith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DOAS instruments for total column and profi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rcraft observations of plumes (volcanic and industria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lou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effective fraction and heigh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ud model (LER, MLER, plane paralle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face Albedo data at OMI spatial resol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 comparisons of cloud fraction by sat-sat comparis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ctive Cloud Height by ground radar / lid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inor trace g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total BrO, HCHO, CHO-CHO colum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slant OClO colum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face Albedo data at OMI spatial resol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DOAS instru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ellite 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457200" y="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 OMI Retrieval / Validation Need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304920" y="533520"/>
          <a:ext cx="8534160" cy="6003720"/>
        </p:xfrm>
        <a:graphic>
          <a:graphicData uri="http://schemas.openxmlformats.org/drawingml/2006/table">
            <a:tbl>
              <a:tblPr/>
              <a:tblGrid>
                <a:gridCol w="2361960"/>
                <a:gridCol w="3048120"/>
                <a:gridCol w="3124080"/>
              </a:tblGrid>
              <a:tr h="68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ation Iss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Sour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b3"/>
                          </a:solidFill>
                          <a:latin typeface="Arial"/>
                        </a:rPr>
                        <a:t>L1B Radian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iometric stability, Emissivity issues over cold surfa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 Scanning-HIS flights (ARCTAS?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b3"/>
                          </a:solidFill>
                          <a:latin typeface="Arial"/>
                        </a:rPr>
                        <a:t>Temperature, Water Vap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oving nadir retriev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 CFH sondes, particularly in clear-sky ocean conditions timed with Aura overpass (Closure experiment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b3"/>
                          </a:solidFill>
                          <a:latin typeface="Arial"/>
                        </a:rPr>
                        <a:t>Nadir Oz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bias in troposp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 high latitude sondes  (ARCTAS?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b3"/>
                          </a:solidFill>
                          <a:latin typeface="Arial"/>
                        </a:rPr>
                        <a:t>H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ck of validation 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know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b3"/>
                          </a:solidFill>
                          <a:latin typeface="Arial"/>
                        </a:rPr>
                        <a:t>Metha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bi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ile Inform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50 to 500 hP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COM (ARCTA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"/>
          <p:cNvSpPr/>
          <p:nvPr/>
        </p:nvSpPr>
        <p:spPr>
          <a:xfrm>
            <a:off x="380880" y="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 TES Validation Issues / Need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2T18:12:46Z</dcterms:created>
  <dc:creator>Lucien Froidevaux</dc:creator>
  <dc:description/>
  <dc:language>en-US</dc:language>
  <cp:lastModifiedBy>lucien</cp:lastModifiedBy>
  <dcterms:modified xsi:type="dcterms:W3CDTF">2007-10-03T21:11:34Z</dcterms:modified>
  <cp:revision>71</cp:revision>
  <dc:subject/>
  <dc:title>Slide 1</dc:title>
</cp:coreProperties>
</file>