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te ability to track photons… resolve vertex and look for activity (find it here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rtoon of the detector: walk through from insid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phasize: active and upstream targets, magnetized O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annels: dominated by ID and nuclear targets (~20% from calorimeters, ~20% from OD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dominated by O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ro: optimizing detector: granularity and the other is OD siz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ght sharing gets us good resolu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mization: pick width well matched with multiple-scattering limitations, light yield limitations (photostatistic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gmentation in z set by need for efficiency with short tracks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ter detector: need to contain most particles in events, or else lose high multiplicity events (DIS) with energy leakag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OD width is a cost driv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wo compromises: step granularity (5cm-&gt;10cm); and step in z since most US part is not populated (backwards particles sof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B52E-7BA4-429B-A2CD-2312B9FE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93AE-D8CC-441B-8374-C8D9E03F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8600" y="39884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D18C-3700-4D9F-B294-A89064D4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4400" y="16002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4600" y="16002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4400" y="39884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4600" y="39884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81B5-506D-407B-9716-AAB672E0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D997-8451-46AE-86E0-C0162061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ED74-3809-4FC0-9EFA-8DCBDEB7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1F27-1E59-4ECD-8FE2-CABCAE1C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D4E6-7848-4245-9F85-82485B74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655308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524F-7D9E-42C1-8A29-C7A58283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EDF3-B728-4BD1-A167-D32A1CA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8600" y="39884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E3EB-C808-4492-ACF3-7BCD0F7A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9F97-A69A-4EAA-9ED8-E8224D36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48720" y="6399360"/>
            <a:ext cx="838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182-00B5-4524-9D5F-FCCF0511A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304920"/>
            <a:ext cx="838440" cy="760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0" y="63244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77320" y="9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MINER</a:t>
            </a:r>
            <a:r>
              <a:rPr b="1" lang="en-US" sz="10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29600" y="106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Nu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2600" y="152280"/>
            <a:ext cx="133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MINER</a:t>
            </a:r>
            <a:r>
              <a:rPr b="0" lang="en-US" sz="12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Director’s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10 January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Kevin McFa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Univ. of Ro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169560" y="428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336840" y="5965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3124080" y="6381360"/>
            <a:ext cx="327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Response Regarding Detector Optimization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vin McFarl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Roches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ERvA Director’s Revie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-11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257800" cy="3344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ize of OD (cont’d)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hos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ronic energy resolution of approximately 20-30%/sqrt(E) for 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average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S fluctuations are five times larger than average leakage due to tail (could not dig up this plot; sor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goal was to keep leakage contribution to this to &lt;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ionale was that this resolution effect would be hard to under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go… 5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hinned upstream part to 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5035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Containment in Nuclear Target Region vs. Outer Detector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14800" y="1752120"/>
            <a:ext cx="6094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5909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ckest part of 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A8D5-917E-4B30-9665-6C84EFF61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Example Events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si-elasti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 and muon tracks are clearly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d energy deposit is shown as size of hit; can clearly see larger proton dE/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se determination of vertex and measurement of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505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0" y="2436840"/>
            <a:ext cx="4952880" cy="2135160"/>
            <a:chOff x="2286000" y="2436840"/>
            <a:chExt cx="4952880" cy="21351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2286000" y="2436840"/>
              <a:ext cx="4929120" cy="213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2286000" y="2438280"/>
              <a:ext cx="4952880" cy="2133720"/>
              <a:chOff x="2286000" y="2438280"/>
              <a:chExt cx="4952880" cy="2133720"/>
            </a:xfrm>
          </p:grpSpPr>
          <p:sp>
            <p:nvSpPr>
              <p:cNvPr id="121" name=""/>
              <p:cNvSpPr/>
              <p:nvPr/>
            </p:nvSpPr>
            <p:spPr>
              <a:xfrm>
                <a:off x="2286000" y="2438280"/>
                <a:ext cx="533520" cy="2133720"/>
              </a:xfrm>
              <a:prstGeom prst="rect">
                <a:avLst/>
              </a:prstGeom>
              <a:solidFill>
                <a:srgbClr val="fc332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19520" y="2743200"/>
                <a:ext cx="2895480" cy="1523880"/>
              </a:xfrm>
              <a:prstGeom prst="rect">
                <a:avLst/>
              </a:prstGeom>
              <a:solidFill>
                <a:srgbClr val="00ff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19520" y="243828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lnTo>
                      <a:pt x="0" y="192"/>
                    </a:lnTo>
                    <a:lnTo>
                      <a:pt x="1824" y="192"/>
                    </a:lnTo>
                    <a:lnTo>
                      <a:pt x="1824" y="1152"/>
                    </a:lnTo>
                    <a:lnTo>
                      <a:pt x="0" y="1152"/>
                    </a:lnTo>
                    <a:lnTo>
                      <a:pt x="0" y="1344"/>
                    </a:lnTo>
                    <a:lnTo>
                      <a:pt x="2160" y="1344"/>
                    </a:lnTo>
                    <a:lnTo>
                      <a:pt x="2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0093">
                  <a:alpha val="3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48520" y="2438280"/>
                <a:ext cx="990360" cy="2133720"/>
              </a:xfrm>
              <a:prstGeom prst="rect">
                <a:avLst/>
              </a:prstGeom>
              <a:solidFill>
                <a:srgbClr val="ffc521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7238880" y="2819520"/>
            <a:ext cx="1828800" cy="1448280"/>
            <a:chOff x="7238880" y="2819520"/>
            <a:chExt cx="1828800" cy="1448280"/>
          </a:xfrm>
        </p:grpSpPr>
        <p:grpSp>
          <p:nvGrpSpPr>
            <p:cNvPr id="126" name=""/>
            <p:cNvGrpSpPr/>
            <p:nvPr/>
          </p:nvGrpSpPr>
          <p:grpSpPr>
            <a:xfrm>
              <a:off x="7238880" y="2819520"/>
              <a:ext cx="1828800" cy="337320"/>
              <a:chOff x="7238880" y="2819520"/>
              <a:chExt cx="1828800" cy="3373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67480" y="2819520"/>
                <a:ext cx="1295280" cy="304920"/>
              </a:xfrm>
              <a:prstGeom prst="rect">
                <a:avLst/>
              </a:prstGeom>
              <a:solidFill>
                <a:srgbClr val="fc332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38880" y="281952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uclear targe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38880" y="3168720"/>
              <a:ext cx="1828800" cy="337320"/>
              <a:chOff x="7238880" y="3168720"/>
              <a:chExt cx="1828800" cy="337320"/>
            </a:xfrm>
          </p:grpSpPr>
          <p:sp>
            <p:nvSpPr>
              <p:cNvPr id="130" name=""/>
              <p:cNvSpPr/>
              <p:nvPr/>
            </p:nvSpPr>
            <p:spPr>
              <a:xfrm>
                <a:off x="7467480" y="3200760"/>
                <a:ext cx="1295280" cy="304560"/>
              </a:xfrm>
              <a:prstGeom prst="rect">
                <a:avLst/>
              </a:prstGeom>
              <a:solidFill>
                <a:srgbClr val="20ff4a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38880" y="316872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tive dete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7238880" y="3517920"/>
              <a:ext cx="1828800" cy="337320"/>
              <a:chOff x="7238880" y="3517920"/>
              <a:chExt cx="1828800" cy="337320"/>
            </a:xfrm>
          </p:grpSpPr>
          <p:sp>
            <p:nvSpPr>
              <p:cNvPr id="133" name=""/>
              <p:cNvSpPr/>
              <p:nvPr/>
            </p:nvSpPr>
            <p:spPr>
              <a:xfrm>
                <a:off x="7467480" y="3549600"/>
                <a:ext cx="1295280" cy="304920"/>
              </a:xfrm>
              <a:prstGeom prst="rect">
                <a:avLst/>
              </a:prstGeom>
              <a:solidFill>
                <a:srgbClr val="d6009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38880" y="351792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238880" y="3930480"/>
              <a:ext cx="1828800" cy="337320"/>
              <a:chOff x="7238880" y="3930480"/>
              <a:chExt cx="1828800" cy="337320"/>
            </a:xfrm>
          </p:grpSpPr>
          <p:sp>
            <p:nvSpPr>
              <p:cNvPr id="136" name=""/>
              <p:cNvSpPr/>
              <p:nvPr/>
            </p:nvSpPr>
            <p:spPr>
              <a:xfrm>
                <a:off x="7467480" y="3930480"/>
                <a:ext cx="1295280" cy="304560"/>
              </a:xfrm>
              <a:prstGeom prst="rect">
                <a:avLst/>
              </a:prstGeom>
              <a:solidFill>
                <a:srgbClr val="ffc521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38880" y="393048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8AE5-78F0-4B91-A412-98DC3D2F4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Example Events (cont’d)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hotons clearly resolved (tracked).  can find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hotons shower in I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n side ECAL (Pb absorber)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resolution is ~6%/sqrt(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ver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505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14600" y="2362320"/>
            <a:ext cx="4952880" cy="2209680"/>
            <a:chOff x="2514600" y="2362320"/>
            <a:chExt cx="4952880" cy="22096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514600" y="2362320"/>
              <a:ext cx="4952880" cy="220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2514600" y="2362320"/>
              <a:ext cx="4952880" cy="2209680"/>
              <a:chOff x="2514600" y="2362320"/>
              <a:chExt cx="4952880" cy="2209680"/>
            </a:xfrm>
          </p:grpSpPr>
          <p:sp>
            <p:nvSpPr>
              <p:cNvPr id="147" name=""/>
              <p:cNvSpPr/>
              <p:nvPr/>
            </p:nvSpPr>
            <p:spPr>
              <a:xfrm>
                <a:off x="2514600" y="2362320"/>
                <a:ext cx="533520" cy="2209680"/>
              </a:xfrm>
              <a:prstGeom prst="rect">
                <a:avLst/>
              </a:prstGeom>
              <a:solidFill>
                <a:srgbClr val="fc332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48120" y="2678040"/>
                <a:ext cx="2895480" cy="1577880"/>
              </a:xfrm>
              <a:prstGeom prst="rect">
                <a:avLst/>
              </a:prstGeom>
              <a:solidFill>
                <a:srgbClr val="00ff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48120" y="2362320"/>
                <a:ext cx="3429000" cy="220968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lnTo>
                      <a:pt x="0" y="192"/>
                    </a:lnTo>
                    <a:lnTo>
                      <a:pt x="1824" y="192"/>
                    </a:lnTo>
                    <a:lnTo>
                      <a:pt x="1824" y="1152"/>
                    </a:lnTo>
                    <a:lnTo>
                      <a:pt x="0" y="1152"/>
                    </a:lnTo>
                    <a:lnTo>
                      <a:pt x="0" y="1344"/>
                    </a:lnTo>
                    <a:lnTo>
                      <a:pt x="2160" y="1344"/>
                    </a:lnTo>
                    <a:lnTo>
                      <a:pt x="2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0093">
                  <a:alpha val="3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77120" y="2362320"/>
                <a:ext cx="990360" cy="2209680"/>
              </a:xfrm>
              <a:prstGeom prst="rect">
                <a:avLst/>
              </a:prstGeom>
              <a:solidFill>
                <a:srgbClr val="ffc521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7391520" y="2057400"/>
            <a:ext cx="1828800" cy="1448280"/>
            <a:chOff x="7391520" y="2057400"/>
            <a:chExt cx="1828800" cy="1448280"/>
          </a:xfrm>
        </p:grpSpPr>
        <p:grpSp>
          <p:nvGrpSpPr>
            <p:cNvPr id="152" name=""/>
            <p:cNvGrpSpPr/>
            <p:nvPr/>
          </p:nvGrpSpPr>
          <p:grpSpPr>
            <a:xfrm>
              <a:off x="7391520" y="2057400"/>
              <a:ext cx="1828800" cy="337320"/>
              <a:chOff x="7391520" y="2057400"/>
              <a:chExt cx="1828800" cy="337320"/>
            </a:xfrm>
          </p:grpSpPr>
          <p:sp>
            <p:nvSpPr>
              <p:cNvPr id="153" name=""/>
              <p:cNvSpPr/>
              <p:nvPr/>
            </p:nvSpPr>
            <p:spPr>
              <a:xfrm>
                <a:off x="7620120" y="2057400"/>
                <a:ext cx="1295280" cy="304920"/>
              </a:xfrm>
              <a:prstGeom prst="rect">
                <a:avLst/>
              </a:prstGeom>
              <a:solidFill>
                <a:srgbClr val="fc332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1520" y="205740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uclear targe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391520" y="2406600"/>
              <a:ext cx="1828800" cy="337320"/>
              <a:chOff x="7391520" y="2406600"/>
              <a:chExt cx="1828800" cy="337320"/>
            </a:xfrm>
          </p:grpSpPr>
          <p:sp>
            <p:nvSpPr>
              <p:cNvPr id="156" name=""/>
              <p:cNvSpPr/>
              <p:nvPr/>
            </p:nvSpPr>
            <p:spPr>
              <a:xfrm>
                <a:off x="7620120" y="2438640"/>
                <a:ext cx="1295280" cy="304560"/>
              </a:xfrm>
              <a:prstGeom prst="rect">
                <a:avLst/>
              </a:prstGeom>
              <a:solidFill>
                <a:srgbClr val="20ff4a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240660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tive dete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391520" y="2755800"/>
              <a:ext cx="1828800" cy="337320"/>
              <a:chOff x="7391520" y="2755800"/>
              <a:chExt cx="1828800" cy="337320"/>
            </a:xfrm>
          </p:grpSpPr>
          <p:sp>
            <p:nvSpPr>
              <p:cNvPr id="159" name=""/>
              <p:cNvSpPr/>
              <p:nvPr/>
            </p:nvSpPr>
            <p:spPr>
              <a:xfrm>
                <a:off x="7620120" y="2787480"/>
                <a:ext cx="1295280" cy="304920"/>
              </a:xfrm>
              <a:prstGeom prst="rect">
                <a:avLst/>
              </a:prstGeom>
              <a:solidFill>
                <a:srgbClr val="d6009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91520" y="275580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391520" y="3168360"/>
              <a:ext cx="1828800" cy="337320"/>
              <a:chOff x="7391520" y="3168360"/>
              <a:chExt cx="1828800" cy="337320"/>
            </a:xfrm>
          </p:grpSpPr>
          <p:sp>
            <p:nvSpPr>
              <p:cNvPr id="162" name=""/>
              <p:cNvSpPr/>
              <p:nvPr/>
            </p:nvSpPr>
            <p:spPr>
              <a:xfrm>
                <a:off x="7620120" y="3168360"/>
                <a:ext cx="1295280" cy="304560"/>
              </a:xfrm>
              <a:prstGeom prst="rect">
                <a:avLst/>
              </a:prstGeom>
              <a:solidFill>
                <a:srgbClr val="ffc521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91520" y="316836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E1A6-6D50-4276-B7FE-792DDB97FD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Basic Detector Geometry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520" y="3422520"/>
            <a:ext cx="3581280" cy="3054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181480" y="541008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1450800"/>
            <a:ext cx="5943600" cy="3959280"/>
            <a:chOff x="228600" y="1450800"/>
            <a:chExt cx="5943600" cy="39592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28600" y="1450800"/>
              <a:ext cx="487656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flipH="1">
              <a:off x="5028840" y="3355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000" y="3127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971800" y="5184720"/>
              <a:ext cx="91440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49561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Co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81120" y="1523880"/>
            <a:ext cx="39625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segmented scint. detector 5.87 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 ton of US nuclear target planes (C, Fe, P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25780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 Cals, Nucl. Targets just add absorber to scintillator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zed OD (HCAL)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B797-3D90-43BA-9D11-37E6B1C6C8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Vital Statistics of MINERvA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1447920"/>
          <a:ext cx="6629400" cy="5111640"/>
        </p:xfrm>
        <a:graphic>
          <a:graphicData uri="http://schemas.openxmlformats.org/drawingml/2006/table">
            <a:tbl>
              <a:tblPr/>
              <a:tblGrid>
                <a:gridCol w="5348160"/>
                <a:gridCol w="12812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nels in ID+C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nels in 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of Scintillator (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S Fiber 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ar Fiber 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M-64 PM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ID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OD in ID region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CALS, Nuclear Targets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OD in CAL region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MINERvA Mass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Region Mass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Rate (bits/sp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E+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12AC-9A46-497C-9BB4-31FC9518AF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ost Summaries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619280"/>
            <a:ext cx="7162560" cy="432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8C40-F3C9-4D4F-8E62-866B750126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What Does it Take to Reduce Costs in Channels and Modules?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hanne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ghly, I guestimate the marginal channel cost to be 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st items: ~$20 for electronics, ~$35 for PMT and testing, $30 for PMT box, ~$15 for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saving $1M takes approximately 9K channels (of 31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… there are granularity issues that make this tough to re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gains by reducing number o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on channels, module and plan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49 modules in current design, 30 fully active, 9 nuclear targets, 10 downstream calorimeters, each with roughly 2% of the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uestimate marginal cost of a module to be 0.11M$, about $0.7M of which is in the channel count; so that means 9 modules away to save $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take this with very large grains of salt; it is based on quick fudges to a costing model we had when optim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20B7-33E5-4E74-A90E-8664C85699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onstraints on Extrusions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S experience: 1x4cm extrusions are near limit of surface are to volume ratio for successful extr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the largest granularity we might consider is 5x2.5cm triangles, just on technical grounds?  we certainly never considered anything beyond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mparison, 3cm^2 MINERvA cross-section is same as SciBar at 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we looked at our key desig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resolution: width and thickness both con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 for quasi-elastics: primarily thickness of extr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end, we took a hit on the latter in exchange for preserving the 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fiducial volume: want roughly a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acceptance studies, particles go at wide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on fiducial volume targe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0A48-B75A-4F31-8C7A-8C62B6B6E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Optimization of </a:t>
            </a:r>
            <a:br>
              <a:rPr sz="2800"/>
            </a:b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racking in Active Targe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0680" y="557964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 pioneered by D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pre-show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547640"/>
            <a:ext cx="4267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tracking resolution w/ triangular extr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3 mm in transverse direction from light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ffective than rectangles (resolution/segmenta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resolution parame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se segmentation and light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itudinal segmentation for z vertex deter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78400" y="5256360"/>
            <a:ext cx="3308400" cy="1524960"/>
            <a:chOff x="5378400" y="5256360"/>
            <a:chExt cx="3308400" cy="1524960"/>
          </a:xfrm>
        </p:grpSpPr>
        <p:grpSp>
          <p:nvGrpSpPr>
            <p:cNvPr id="78" name=""/>
            <p:cNvGrpSpPr/>
            <p:nvPr/>
          </p:nvGrpSpPr>
          <p:grpSpPr>
            <a:xfrm>
              <a:off x="5378400" y="5715000"/>
              <a:ext cx="2133720" cy="532800"/>
              <a:chOff x="5378400" y="5715000"/>
              <a:chExt cx="2133720" cy="532800"/>
            </a:xfrm>
          </p:grpSpPr>
          <p:sp>
            <p:nvSpPr>
              <p:cNvPr id="79" name=""/>
              <p:cNvSpPr/>
              <p:nvPr/>
            </p:nvSpPr>
            <p:spPr>
              <a:xfrm>
                <a:off x="5378400" y="5715000"/>
                <a:ext cx="2133720" cy="53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ff">
                      <a:alpha val="60392"/>
                    </a:srgbClr>
                  </a:gs>
                  <a:gs pos="100000">
                    <a:srgbClr val="fed8fe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369120" y="5943240"/>
                <a:ext cx="152280" cy="151920"/>
              </a:xfrm>
              <a:prstGeom prst="ellipse">
                <a:avLst/>
              </a:prstGeom>
              <a:solidFill>
                <a:srgbClr val="00ff00">
                  <a:alpha val="6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521040" y="5715000"/>
              <a:ext cx="2133720" cy="532800"/>
              <a:chOff x="6521040" y="5715000"/>
              <a:chExt cx="2133720" cy="532800"/>
            </a:xfrm>
          </p:grpSpPr>
          <p:sp>
            <p:nvSpPr>
              <p:cNvPr id="82" name=""/>
              <p:cNvSpPr/>
              <p:nvPr/>
            </p:nvSpPr>
            <p:spPr>
              <a:xfrm rot="10800000">
                <a:off x="6521040" y="5715000"/>
                <a:ext cx="2133720" cy="53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ff">
                      <a:alpha val="60392"/>
                    </a:srgbClr>
                  </a:gs>
                  <a:gs pos="100000">
                    <a:srgbClr val="fed8fe"/>
                  </a:gs>
                </a:gsLst>
                <a:lin ang="162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0800000">
                <a:off x="7511760" y="5866920"/>
                <a:ext cx="152280" cy="151920"/>
              </a:xfrm>
              <a:prstGeom prst="ellipse">
                <a:avLst/>
              </a:prstGeom>
              <a:solidFill>
                <a:srgbClr val="00ff00">
                  <a:alpha val="6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6521400" y="5257800"/>
              <a:ext cx="380880" cy="152352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59480" y="558468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42200" y="5256360"/>
              <a:ext cx="84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3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57200" y="1728720"/>
            <a:ext cx="4038480" cy="3753000"/>
            <a:chOff x="457200" y="1728720"/>
            <a:chExt cx="4038480" cy="37530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457200" y="1728720"/>
              <a:ext cx="4038480" cy="375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914400" y="1905120"/>
              <a:ext cx="144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ordinate residual for different strip wid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52480" y="41148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cm wid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95480" y="2743200"/>
              <a:ext cx="1447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 width</a:t>
              </a:r>
              <a:br>
                <a:rPr sz="18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lue and green are different thickness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2742840" y="25909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182880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96F4-F2DC-4E3F-9747-5733160472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CQE Vertex Efficiency vs. Absorber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598760"/>
            <a:ext cx="4729320" cy="464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36240" y="2895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Q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what is being studied is the resolution (and efficiency) of reconstructing CCQE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is 1.0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is 1.5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is 2.0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 opted for 1.7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viously, this one hurt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effect is inability to pick up short proton tr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nuclear targets, require resolution &lt; 1c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F734-6E9B-4D64-B2CF-50F69BD410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ize of the Outer Detector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Detector (OD) steel is a cost-driver (and mass-driver) for th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d for: containment of hadronic energy in DIS ev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cking of sideways going muons (B-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” in detector is result of shaving upstream end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3878280"/>
            <a:ext cx="3637080" cy="297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572000" cy="2388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09480" y="4495680"/>
            <a:ext cx="2971800" cy="1752840"/>
            <a:chOff x="609480" y="4495680"/>
            <a:chExt cx="2971800" cy="1752840"/>
          </a:xfrm>
        </p:grpSpPr>
        <p:sp>
          <p:nvSpPr>
            <p:cNvPr id="104" name=""/>
            <p:cNvSpPr/>
            <p:nvPr/>
          </p:nvSpPr>
          <p:spPr>
            <a:xfrm>
              <a:off x="609480" y="4495680"/>
              <a:ext cx="2971800" cy="152640"/>
            </a:xfrm>
            <a:custGeom>
              <a:avLst/>
              <a:gdLst/>
              <a:ahLst/>
              <a:rect l="l" t="t" r="r" b="b"/>
              <a:pathLst>
                <a:path w="1872" h="96">
                  <a:moveTo>
                    <a:pt x="0" y="96"/>
                  </a:moveTo>
                  <a:lnTo>
                    <a:pt x="912" y="96"/>
                  </a:lnTo>
                  <a:lnTo>
                    <a:pt x="912" y="0"/>
                  </a:lnTo>
                  <a:lnTo>
                    <a:pt x="1872" y="0"/>
                  </a:lnTo>
                  <a:lnTo>
                    <a:pt x="1824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09480" y="6095880"/>
              <a:ext cx="2971800" cy="152640"/>
            </a:xfrm>
            <a:custGeom>
              <a:avLst/>
              <a:gdLst/>
              <a:ahLst/>
              <a:rect l="l" t="t" r="r" b="b"/>
              <a:pathLst>
                <a:path w="1872" h="96">
                  <a:moveTo>
                    <a:pt x="0" y="96"/>
                  </a:moveTo>
                  <a:lnTo>
                    <a:pt x="912" y="96"/>
                  </a:lnTo>
                  <a:lnTo>
                    <a:pt x="912" y="0"/>
                  </a:lnTo>
                  <a:lnTo>
                    <a:pt x="1872" y="0"/>
                  </a:lnTo>
                  <a:lnTo>
                    <a:pt x="1824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EFAA-F144-45F6-9945-657D5C2BE7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7:30:34Z</dcterms:created>
  <dc:creator>Kevin McFarland</dc:creator>
  <dc:description/>
  <cp:keywords/>
  <dc:language>en-US</dc:language>
  <cp:lastModifiedBy>Kevin McFarland</cp:lastModifiedBy>
  <cp:lastPrinted>2003-12-08T15:24:08Z</cp:lastPrinted>
  <dcterms:modified xsi:type="dcterms:W3CDTF">2005-01-11T17:59:31Z</dcterms:modified>
  <cp:revision>93</cp:revision>
  <dc:subject/>
  <dc:title>MINERvA: Detector Overview</dc:title>
</cp:coreProperties>
</file>