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B75-039E-4D34-A5D3-D033302C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982-4E3A-4494-A05E-CF676E78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B17-137D-4890-8089-426AF7C6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D81-4122-4CA3-8553-126CF0B3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5D9-5729-42DE-ADCD-CE5C0B79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9E9-3EE9-4177-8FDB-66DC4C74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15C-1863-4843-BD73-B415C819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E48-4DBE-4276-9AFE-5466F4B6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8D8-33E2-4121-8FA9-0451F771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4D5-2747-43D7-ABED-8E2F46E5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BA9-6F9D-4D55-92DF-ED31C0ED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317-8F6E-4AD1-A75D-AE711718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EA05-48D5-4CC5-B313-E9B74F8FC654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16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eter Lilienth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96AE-F29A-42B2-93E4-A42555835E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85800" y="6172200"/>
          <a:ext cx="40644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1722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rel.gov/international/homer/" TargetMode="External"/><Relationship Id="rId2" Type="http://schemas.openxmlformats.org/officeDocument/2006/relationships/hyperlink" Target="http://analysis.nrel.gov/homer" TargetMode="External"/><Relationship Id="rId3" Type="http://schemas.openxmlformats.org/officeDocument/2006/relationships/hyperlink" Target="mailto:peter_lilienthal@nrel.gov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Power Analysis with NREL’s HOM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ter Lilien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anuary 1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osed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by/backup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-of-use and seasonal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t me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urly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tchet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ock pricing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cilitate comparing stand-alone and grid-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eate beta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se studies; verify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559-22EC-43FF-971A-0011BC3A4B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Main%20-%20cat" descr=""/>
          <p:cNvPicPr/>
          <p:nvPr/>
        </p:nvPicPr>
        <p:blipFill>
          <a:blip r:embed="rId1"/>
          <a:stretch/>
        </p:blipFill>
        <p:spPr>
          <a:xfrm>
            <a:off x="1406520" y="1333440"/>
            <a:ext cx="67467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34E-2F13-4DFA-ADD7-47639BE728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ain%20-%20cat%20highlit%20inputs" descr=""/>
          <p:cNvPicPr/>
          <p:nvPr/>
        </p:nvPicPr>
        <p:blipFill>
          <a:blip r:embed="rId1"/>
          <a:stretch/>
        </p:blipFill>
        <p:spPr>
          <a:xfrm>
            <a:off x="1406520" y="1333440"/>
            <a:ext cx="6746760" cy="4152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47920" y="5791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re are 4 types of in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7D9-0BC0-4985-8095-4B57534AF8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Inputs%20-%20primary%20load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9132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puts – electric 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579132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5715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ypes of loads, can vary month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408-E8EE-4302-A398-F9BE49AB2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puts%20-%20wind" descr=""/>
          <p:cNvPicPr/>
          <p:nvPr/>
        </p:nvPicPr>
        <p:blipFill>
          <a:blip r:embed="rId1"/>
          <a:stretch/>
        </p:blipFill>
        <p:spPr>
          <a:xfrm>
            <a:off x="1614600" y="1338120"/>
            <a:ext cx="5538600" cy="3915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puts – wind re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5638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ta can be entered from a file or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554-D0FB-486C-A401-51A2BBB0F6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Inputs%20-%20wind%20turbine" descr=""/>
          <p:cNvPicPr/>
          <p:nvPr/>
        </p:nvPicPr>
        <p:blipFill>
          <a:blip r:embed="rId1"/>
          <a:stretch/>
        </p:blipFill>
        <p:spPr>
          <a:xfrm>
            <a:off x="1614600" y="1338120"/>
            <a:ext cx="5538600" cy="391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puts – wind turb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53341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ch component requires simple cost and performanc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1FE-89A7-4096-BDC6-73ADF4319B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Inputs%20-%20optimization" descr=""/>
          <p:cNvPicPr/>
          <p:nvPr/>
        </p:nvPicPr>
        <p:blipFill>
          <a:blip r:embed="rId1"/>
          <a:stretch/>
        </p:blipFill>
        <p:spPr>
          <a:xfrm>
            <a:off x="1785960" y="1833480"/>
            <a:ext cx="5229360" cy="2994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puts –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51814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user has to tell HOMER what types of systems to consi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689-7E74-436B-8D8E-597893A427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Main%20-%20ovr%20highlit%20outputs" descr=""/>
          <p:cNvPicPr/>
          <p:nvPr/>
        </p:nvPicPr>
        <p:blipFill>
          <a:blip r:embed="rId1"/>
          <a:stretch/>
        </p:blipFill>
        <p:spPr>
          <a:xfrm>
            <a:off x="1406520" y="1333440"/>
            <a:ext cx="6746760" cy="4076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95280" y="5638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MER rank orders the solutions by Net Pres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C4A-E59B-425D-B11B-ACF75BC64D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in%20-%20cat%20highlit%20outputs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46760" cy="4267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6680" y="56386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MER also categorizes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C9D-BBB5-4CE7-A7B3-0F7D868C97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ain%20-%20cat%20highlit%20sv" descr=""/>
          <p:cNvPicPr/>
          <p:nvPr/>
        </p:nvPicPr>
        <p:blipFill>
          <a:blip r:embed="rId1"/>
          <a:stretch/>
        </p:blipFill>
        <p:spPr>
          <a:xfrm>
            <a:off x="1406520" y="1333440"/>
            <a:ext cx="6746760" cy="3772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95280" y="5486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eful for uncertain parameters; technology, market and policy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390-80CB-442A-A4F7-7D49DC8326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is HO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ff-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id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ort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mpl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0A8-02C8-4C23-A5CF-B571F43622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Main%20-%20grph" descr=""/>
          <p:cNvPicPr/>
          <p:nvPr/>
        </p:nvPicPr>
        <p:blipFill>
          <a:blip r:embed="rId1"/>
          <a:stretch/>
        </p:blipFill>
        <p:spPr>
          <a:xfrm>
            <a:off x="1406520" y="1333440"/>
            <a:ext cx="6746760" cy="4076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95280" y="5562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ch technology is best at different wind speeds or fuel p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AD1-6C56-460C-A0CA-BB9EF3F5AC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llage power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Results%20-%20village%20surf%20coe" descr=""/>
          <p:cNvPicPr/>
          <p:nvPr/>
        </p:nvPicPr>
        <p:blipFill>
          <a:blip r:embed="rId1"/>
          <a:stretch/>
        </p:blipFill>
        <p:spPr>
          <a:xfrm>
            <a:off x="1103400" y="1378080"/>
            <a:ext cx="7202520" cy="403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90720" y="5715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w does the cost of energy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CF1-F59C-4048-AA8A-5C4FC6F7C2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llage power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Results%20-%20village%20surface%20plot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0252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5867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w does the fuel use v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CA9-556F-48E3-AE6E-878556A549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ket Impact of Carbon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533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E24-B83F-48A8-A9E1-BFC70F840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ket Impact of Tax 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162920" cy="43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A33-FD60-424C-9E4F-93F2C333A9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bri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533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CAC-020D-4DF9-A738-777B11B457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gine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15364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A95-2227-4FA7-BBCA-126B3BB50B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planation of Counter-intuitive Res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5410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less efficient technology is chosen at higher fuel prices because it is only used for peak sh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2EB-059C-4CAE-B787-96CF718751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34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53A-D5AC-4153-A5DF-C0799EC9EA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R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eHOMER%20components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78240" cy="419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5715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ry simplified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49E-C6F1-4943-8EF6-1F0A6D17AB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HO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lectrification of remote vill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ff-grid 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dicate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lecom sites, water pump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generation (grid-conne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ee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generation (combined heat and pow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492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ce00"/>
                </a:solidFill>
                <a:latin typeface="Verdana"/>
              </a:rPr>
              <a:t>HOMER is a computer model for designing small electric power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114-A9B1-4CC5-AACA-14B7164F75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R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eHOMER%20results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365800" cy="4190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4300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l of the outputs are still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539-0AA5-4061-AC97-EBD7532343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in web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nrel.gov/international/homer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MER On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nalysis.nrel.gov/ho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ter_lilienthal@nrel.gov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FEB-AD71-4314-B1E9-03A49540CB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conomic optimization for least-cost desig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ete technologies - consistent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760 hour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newable resource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tensive 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phical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F5F-D294-4B0B-95AE-A736D15A4D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R’s capabilit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391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nd turb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mall hydro (run-of-ri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nerator (fossil fuel or biom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ttery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id extension or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523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ce00"/>
                </a:solidFill>
                <a:latin typeface="Verdana"/>
              </a:rPr>
              <a:t>HOMER can model any combination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02A-6037-4033-B8A5-56047D9EDB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brid Optimization Model for Electric Renew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veloped by NREL’s Village Power Program in 199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jor redesign in 1997 to make it accessible to general publ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as become an international standard for off-grid power design and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300 users in 110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FC3-6807-43BD-993B-BF81287CD4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0% funds-in CRADA with ESKOM (South Africa) to incorporate into their G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ining in Argentina, Philippines &amp;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DRD for grid-connected DG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mplified web interface in beta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llaborate with 7 NREL center/off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BEF-3545-4F4A-8189-25A6D5E177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hancements for Grid-connected D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ariff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dditional Technolo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dular and decentraliz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T’s compe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cro-turb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ue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B18-4D90-402C-8182-C141018648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rrent Accomplish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w technologies have been ad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omass, micro-hy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fuel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re flexible generator module that can handle micro-turbines and fue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re kinds of hybr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rmal loads for co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mplified Rat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tail, buyback &amp;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rbon 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CB2-4C6E-4C7A-828C-5AF7F1F7E6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21:53:09Z</dcterms:created>
  <dc:creator>NREL</dc:creator>
  <dc:description/>
  <dc:language>en-US</dc:language>
  <cp:lastModifiedBy>Wanda Addison</cp:lastModifiedBy>
  <dcterms:modified xsi:type="dcterms:W3CDTF">2002-01-28T18:11:06Z</dcterms:modified>
  <cp:revision>14</cp:revision>
  <dc:subject/>
  <dc:title>Interim Report  Enhancing HOMER for Grid Applications</dc:title>
</cp:coreProperties>
</file>