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3F2-1FCA-4892-A269-4519DD89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66C-568F-42EE-8992-17B8E883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4B1-819C-482E-B41F-3DA0421D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00C-E00D-4431-AD04-8808E357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8B6-DB79-4F8C-8890-26F483D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91E-DA64-4F81-A9FA-F4EC643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168-BF83-4CF3-944D-8004B9E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F4A-D3CA-4562-9DF4-DC26C75D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E46-27E8-4960-BB45-930FC3F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BE4-5C03-4C3B-BE6A-EE95EBC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014-3605-4C6D-8943-00D29D1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9B5-BA3F-40AF-AB28-08DCBDA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6395-A4AD-4FE8-964F-D2F0370DD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Thresholds and Criteria:  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and Reasonable Suspicion Decision-mak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16680" y="53341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: Leila Procopio-Maku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38C-591C-4432-8443-FDB530374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OUTSIDE OF FTA CRITE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employer’s own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Non safety-sensitiv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Damage within a certain dolla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ny-owned veh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More extensive drug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B68-4F25-4E25-B3A1-FCF89FB63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OUTSIDE OF FTA CRITERIA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se non-Federal or non-DOT testing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se a separate urine v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included in annual DAMIS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B85-E4FE-42E5-9CAF-ECFA14EAAB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CCEPTANCE OF OTHER TEST RESUL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unable to test within the required time period, the employer may accept the result of a test performed by Federal, State, or local officials having independent authority for the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ployer may use the test result(s) only if it is able to obtain the result from the testing authori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3CA-4D8C-4462-903A-0D68805ABB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OMMON PROBLEMS IN POST-ACCIDENT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does not clearly define circumstances when testing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often omitted or significantly delayed without proper document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ly trained supervisors making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upervisor empower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A8-4DB7-4236-934E-BC533A247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TESTING SCENARI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est or Not To Test – YOU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xp40394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1855800" cy="26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64D-7D45-4F97-92C2-7F66E1248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REASONABLE SUSPICION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5EE-59E3-4AF4-BA6A-76042C859D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e suspicion testing is NOT a diagnostic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used only to rule out the possibility that the unusual behavior or appearance being observed may be caused by drug abuse or alcohol mi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3C2-16BD-40F5-AFE9-C4F7B89B08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MAKES A REASONABLE SUSPICION REFERRAL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pervisor or company official trained in detecting the signs and symptoms of drug use and alcohol mis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ervisor or company official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oon as possible, document each reasonable suspicion testing referral. (See Sample Reasonable Suspicion Testing Referral For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3CC-3349-45FC-A95D-E38AE965A1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IS A REASONABLE SUSPICION INTERVIEW NECESSARY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ined supervisor or company official (not a third party) observes an employee exhibiting signs and symptoms consistent with drug use or alcohol mi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to test or not to test must be based on specific, contemporaneous, and articulable observations concerning the employee’s appearance, behavior, speech, or body od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C0B-0B6D-49C8-853A-3ABD576B5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UPERVISOR TRAIN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nimum Requir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the training required of all safety-sensitive employees, supervisors and company officials must rece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t least 60 minutes of training on the physical, behavioral, and performance indicators of probable drug use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t least 60 minutes on the physical, behavioral, speech and performance indicators of probable alcohol mis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2CE-5FA6-4A99-9C15-1D3D9E96E2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TEST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bus%20crash" descr=""/>
          <p:cNvPicPr/>
          <p:nvPr/>
        </p:nvPicPr>
        <p:blipFill>
          <a:blip r:embed="rId1"/>
          <a:stretch/>
        </p:blipFill>
        <p:spPr>
          <a:xfrm>
            <a:off x="3971880" y="2982960"/>
            <a:ext cx="1200240" cy="892080"/>
          </a:xfrm>
          <a:prstGeom prst="rect">
            <a:avLst/>
          </a:prstGeom>
          <a:ln w="0">
            <a:noFill/>
          </a:ln>
        </p:spPr>
      </p:pic>
      <p:pic>
        <p:nvPicPr>
          <p:cNvPr id="45" name="12-1-041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5651280" cy="37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895-EF0C-47FB-B891-7E0DCC658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UPERVISOR TRAINING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recommend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60 more minute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how to conduct the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how to “make the c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employer’s addi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other circumstances that require drug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ohol t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BF0-50AF-4429-AD08-E6D505BE1C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NDICATORS OF PROBABLE DRUG USE OR ALCOHOL MIS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648240" cy="35812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O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A040015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429000" cy="315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28D-498B-4368-B8B8-E11E3B4427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YSICAL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7760" cy="4114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ed or very pale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ive sweating or skin clamm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shot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ated or constricte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cused, blank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heveled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empt gr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006-0409-0716-1951_S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19051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ACE-151B-4C96-9F1F-B8B5065D1C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YSICAL INDICATORS – cont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639900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y or bleeding 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punctur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y mouth, wetting lips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stagmus (involuntary jerky eye m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ation of bugs crawling on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715-C2C6-40C4-A0E1-D61443AA5C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EHAVIORAL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724640" cy="4343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mbling, unsteady gait, poo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activity, fidgety, agitated, disor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ing, tremors, twi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ing irregularly or with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 or vom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fatigue, sleeping on th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s131044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8480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CE5-6DB6-4C7F-A2EE-965A8920F6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EHAVIORAL INDICATOR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2362320"/>
            <a:ext cx="5484600" cy="36576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ble, moody, bellig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icious, para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ed, with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adaisical at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598-48BC-47DF-B746-A55C6E271C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PEECH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2057040"/>
            <a:ext cx="5484960" cy="4343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rred, thick, s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herent, nonsensical, s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titious, ramb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, boist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6F7-5864-438F-9F0C-733729C957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PEECH INDICATOR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552132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, pres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talka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ggerated enun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sing, inappropriate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615-CD83-4C24-A0EE-5953AEC08D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ERFORMANCE INDICATOR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59440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bility to concen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ive, unusual risk-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ished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A98-834C-434F-B1A2-9D106EFED6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ERFORMANCE INDICATORS – cont’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0384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ed mental functioning and aler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and extended absences from meetings or work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quality/quantity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increase in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F11-B6C3-42B6-8C63-E9AD3FBFA3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TA Definition of “Accident”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ccurrence associated with the operation of a vehicle (including operation of its lift) result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n individual’s death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bodily injury requiring immediate medical treatment away from the scen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8FE-951F-4C72-8933-24D83C457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ODY OD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13000" cy="4114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r of alcohol on br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pungent aroma on clothing o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0179029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324320" cy="235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D18-0AB9-43BE-8239-049F664FB7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TO CONDUCT REASONABLE SUSPICION TES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nytime the employee is on duty, regardless of current assig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uthorized only if the observations are made during, just before, or just after the employee’s performance of safety-sensitive du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0D9-FBFF-4802-ACE6-15014620A2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LINESS OF REASONABLE SUSPICION TES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reasonable suspicion determination, employee must proceed immediately to the test site. (For safety reasons, employee should be escort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cohol test is not conducted within 2 hours, document reason for de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8 hours, cease all attempts and document reason for inability to t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5E0-B8BF-4D55-800F-44336C8A59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OMMON PROBLEMS IN  REASONABLE SUSPICION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utilized in the transit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superviso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visors unwilling to “make the c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X63-28_www-harrycutting-com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687760" cy="21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6FA-878C-4A69-8728-F2F125B5FF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REASONABLE SUSPICION TESTING CASE STUDI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4" name="s0179049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067280" cy="4037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C57-1F92-498E-B464-430FBA32C2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mployers with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Tole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(termination aft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mmediately remove employee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fer to a qualified Substance Abu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(S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nitiate termination procee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3E5-F4B2-4D2D-A12B-128CF9B69F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mployers with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Ch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mmediately remove employee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fer employee to a qualified 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nitiate disciplinary proceedings (e.g.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1C2-5166-48B7-95B3-031E15F154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ch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– cont’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Ensure that employee successfu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s the SAP referral, evaluation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reatment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Ensure that employee has a neg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to-Duty drug and / or alcohol te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allowing him / her to retur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DC9-7F33-4897-B631-B084108F54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RAP-UP QUESTIONS and ANSW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s1027030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079960" cy="3797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02C-730B-4184-9130-7B4BC8BF5C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an employee be terminated based on a positive test result or test refusal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ABF-03E6-490D-B33D-11315CC892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TA DEFINITION OF “ACCIDENT” - cont’d.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disabling damage to one or more of the vehicles (if bus, electric bus, van, or automobile) and requires the vehicle to be transported from the scen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moval from operation of the vehicle (if rail car, trolley car, trolley bus, or vesse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C62-E4AB-4C40-A14B-C42B87D42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would a supervisor require an employee to undergo a Reasonable Suspicion drug / alcohol test?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69C-2A11-47A6-9FF9-B14B8FDA1A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f a bus is taken out of service after an accident, but there is no bodily injury or disabling damage, is the operator required to be test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437-0AAB-4C28-8892-C10BAAE4C11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supervisors make reasonable suspicion testing referrals of other supervisor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B16-E585-4854-A618-DB6A6345A53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a supervisor be held liable for defamation of character if the reasonable suspicion test results are negativ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C70-C80D-4100-8CD3-7200F1BBF9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n operator stayed in the hospital for 24 hours after an accident for medical treatment and observation. Can you still send him for testing after he’s releas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86C-019F-4620-93CF-B4621DFFDA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is in charge of making post-accident testing decision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1E1-EADF-405C-B9C3-8731497E07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f testing does not occur within the required time frame, what must the employer do?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9D0-C898-4330-AB7E-9CFC0A237B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you send an employee for Reasonable Suspicion testing based on a “tip” you received from a passenger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8B6-58B7-4A78-85EC-65FE67255B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you send an employee for Post-Accident testing based solely on the amount of the damage on the vehicl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0D8-1112-493E-8DBF-B2788C27E7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re supervisors, if they have the proper training, allowed to collect urine specimens  or conduct alcohol tests on their employee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2CB-485D-4C3C-B625-54B567AAD84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TO TES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ever there is a human fat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n-fatal accident meets the FTA definition of “accident,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employee can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letely discou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contributing factor to the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3A1-448D-459D-B358-D3EA2BDFE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TO TES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tor of the mass transit vehicle. Employee must remain readily available for testing and must provide con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ther covered employee whose performance could have contributed to the accid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106-D7A3-4B6E-914E-660A8ADA5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MAKES THE DECISION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ployer – based on the best information available at the time of the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must document decision to test or not to test for every accident. (See sample Post-Accident Testing Decision-Maker For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BD8-C046-4A56-8656-CE8CB6BE3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 REQUIREMENTS FOR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 soon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2 hours following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dent, document reason for delay,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ttempt to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8 hours, cease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and document reason for fail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291-2BBF-4041-9B1C-69D05FF27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 REQUIREMENTS FOR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 soon as possible, but within 32 hours of the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32 hours, cease all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F7-4C5E-45E3-802A-4AEA8D251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21:03:31Z</dcterms:created>
  <dc:creator> Emachines</dc:creator>
  <dc:description/>
  <dc:language>en-US</dc:language>
  <cp:lastModifiedBy>Felicity Dickenson</cp:lastModifiedBy>
  <dcterms:modified xsi:type="dcterms:W3CDTF">2006-03-07T22:34:13Z</dcterms:modified>
  <cp:revision>50</cp:revision>
  <dc:subject/>
  <dc:title>POST-ACCIDENT and REASONABLE SUSPICION  DECISION-MAKING</dc:title>
</cp:coreProperties>
</file>