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F67-E4C0-4E02-9E7C-4AD7F235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E31-9B7D-4389-8F16-75A630F7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46CA-36FF-4478-866B-C0D46748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9D82-F97D-4F41-ABCE-3FB8D22D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61B8-4E83-4620-84AE-C8869359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F355-3C38-43D6-9ABC-912BB16B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FB6E-5C62-4F87-87EF-3C738BE4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3476-C506-4EC8-9DAD-E233C7F2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EEF9-A6C5-4884-B84A-ED9014DB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9FA3-5043-49AD-9959-EBA35F80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8D70-87C7-4EEA-8593-34FFD154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D142-6714-4D99-BEB6-AD1352FD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9C5D-3093-47CA-BC43-2150F62A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BC37-F01F-407C-B3B0-EE9E561B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776B-F625-4816-B8C1-1497E3A2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B667-3C1E-4578-AA12-51C938AF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6A35-755B-4BC5-8741-7F1D8661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2D47-5587-4B27-ADE2-FD05E912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7A0C-BD90-4269-85B8-EEB9EE5F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21B-9421-4B0A-9434-04F3D20B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918-1EE8-4E3D-8AAC-90881EF3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D25F-DEC4-4B8D-AF03-666BE84E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A34-1326-48B5-BFF7-54CFF794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65DE-4603-4FB7-A4F1-225E8B6F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52C7-3A50-4ECD-AFA6-C6BEFDA273A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6E5B-6B0E-4F84-9302-DD801795699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467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IST Training Seminar</a:t>
            </a:r>
            <a:br>
              <a:rPr sz="44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ugusta Maine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ugust  14-18, 2000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6002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oading Rack Meters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23EA-A8A8-44CE-AABB-9EDFBB0F34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retest Determinations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815328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er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 current calibration certificat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als must be in plac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 compatible with system (top/bottom load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acity sufficient to hold one minute flow at max rate and not less than  200 L ( 50 gal 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.3.5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ition - no dents, rust, water, or foreign material ,   sight glass clean and not leak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top loading prover inlet lower than meter outlet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mometer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ge 0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 to 120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 , 0.5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 increments, 0.2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 accurac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D67-7041-428D-B92F-932C61FFF3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retest Determinations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Flui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.1.1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characteristics as that measured  commercially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ble Requiremen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-T, T.1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Toleran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.2.3.3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 test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eptance tolera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2 %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ntenance tolera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3 %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test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eptance tolerance and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ntenance tolera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 %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3E17-21F4-4ED6-8260-F799FE2A10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2057040"/>
            <a:ext cx="7315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Arial"/>
              </a:rPr>
              <a:t>Inspection</a:t>
            </a:r>
            <a:endParaRPr b="0" lang="en-US" sz="8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B4A-966C-4F33-8568-1609139EA6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Inspection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cating and recording elemen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have indicating element, may have recording el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.1.1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s in liters or gallons or binary-submultiples or decimal subdivis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1.2., S.1.2.3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abi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cating and recording elements clear, definite, and easily rea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-S.5., S.1.4., S.1.5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d markings distinct, easily readable and permane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-S.6., G-S.7.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6FC-C860-4B99-9D99-A46A7502B8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Inspection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cating and recording elem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 of interval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form throughout se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-S.5.3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designed to indicate more than one unit - value must be appropriately identifie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-S.5.3.1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ment and return to zer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may only be advanced 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.1.3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ot be stopped until zero is reached or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cations are automatically obscured until zero is reach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F2FA-A15C-4857-88F3-8831C05ECA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Inspection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cating and recording elem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sion for sealin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 must be made for sealing electronic adjustable compon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G-S.8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ecurity seal must be affixed to any adjustment mechanism designed to be sealed       G-UR.4.5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30B2-D3C9-424D-B5E8-2F250BE078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Inspection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ing elemen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vapor elimination syst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.2.1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 lines suitably rigid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s provided for determination of product tempera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.2.6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sion for applying security seals to meter and automatic temperature compensating system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security seals inta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-UR.4.5., S.2.2., S2.7.3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4D50-B655-4ABA-AE24-688BFFCEAE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Inspection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at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ly accessible for testing    G-UR.2.3., G-UR.4.4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ance provided if requir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 cannot be diverted from measuring chamber or discharge line and directional flow  valve are automa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.2.3., S.3.1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eaks on meter outlet si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-UR.4.1., S.3.1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ks on inlet side noted and called to users atten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28E-21E3-4090-95B7-D9160B21FD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Inspection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360" y="2044800"/>
            <a:ext cx="80010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associated equipment installation, and construction do not facilitate fraud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-S.2.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lation is proper and does not adversely affect system performa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G-UR2.1., UR.2.1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ual maximum discharge rate does not exceed manufacturer’s specifica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.2.2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CD4-A63F-4FC8-AE34-B46EF88BC4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Inspection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on and us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ice suitable for applic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G-UR.1.1., G-UR.1.2.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 r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ing  capability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cating and recording element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 of smallest unit and unit pric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1368-71C4-4F2F-A27F-EF6F782A4C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Loading Rack Meters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PO No. 25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test Determination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st Note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st Procedu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4332-B5C6-436D-9492-3DBE0BBE4A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Inspection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on and u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ice and associated equipment operated in manner intended by manufactur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-UR.3.1., G-UR.4.1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quipped with mechanical ATC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UR.3.6.1.1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ed and operabl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use at all tim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4E92-0AD8-4C2D-B7B8-9A30AEA2E1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Inspection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, model, and serial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-S.1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tches, lights, displays, pushbuttons, controls, and features clearly identified       G-S.6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 of use clearly and permanently mark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.4.1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and maximum discharge rate clearly mark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.4.3.1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um cannot exceed 20 % of maximum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E324-4022-444F-A833-83855BDA8C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Inspection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ices equipped with ATC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sion to deactiv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.2.7.2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 well provided for determination of product temperature  S.2.7.4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indicating and recording elements marked to show delivered volume has been adjusted to 6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.4.3.2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1B8-89C8-4FD0-941C-F3CCEC5655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25142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Arial"/>
              </a:rPr>
              <a:t>Test Notes</a:t>
            </a:r>
            <a:endParaRPr b="0" lang="en-US" sz="9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C80-A166-4BA1-AA60-A1F20DBB7B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Arial"/>
              </a:rPr>
              <a:t>Test Notes</a:t>
            </a:r>
            <a:endParaRPr b="0" lang="en-US" sz="9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l Prove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l indicators working properl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 safety interlock, ground cable and vapor recovery hose if applicabl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ify all valves closed and pumping mechanism function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totalizer read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and after each draf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6424-FEDA-4EFF-8FAC-313E517D33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Arial"/>
              </a:rPr>
              <a:t>Test Notes</a:t>
            </a:r>
            <a:endParaRPr b="0" lang="en-US" sz="9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ize temperature differences between meter and pr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.2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ize splashing in top loading provers and maintain fill spout in consistent posi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printed tickets and invoic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t after every draf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.S.5.6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ing typ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ck comput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.1.7.2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volume and unit price must accompany total price  either printed or handscrip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.3.4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4ED-4818-4EB5-83D6-34B78A8029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Arial"/>
              </a:rPr>
              <a:t>Test Notes</a:t>
            </a:r>
            <a:endParaRPr b="0" lang="en-US" sz="9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printed tickets and invoic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indicated and recorded values for comparabil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-S.5.2.2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ATCS check invoices for         UR.3.6.1.2. a &amp; b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ice that volume has been adjusted to 60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lectronic systems, listing of API gravity, specific gravity, or coefficient of expansion, product temperature, and gross meter reading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out ATC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.3.6.2.1., UR.3.6.2.2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djusted, notice that volume has been adjusted to 60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 of product used to make adjustment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9ED9-BB7B-4563-9772-87BFE757705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Arial"/>
              </a:rPr>
              <a:t>Test Notes</a:t>
            </a:r>
            <a:endParaRPr b="0" lang="en-US" sz="9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ing meniscu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for transparent liqui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for opaque liqui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ining prove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sight glas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 drain valve before liquid reaches zero, wait 30 seconds, open small zero drain valve till zer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not readjust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lower sight glas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drips start wait 30 seconds, close drain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4F94-85A4-45DC-B46C-5FE3F12465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Arial"/>
              </a:rPr>
              <a:t>Test Notes</a:t>
            </a:r>
            <a:endParaRPr b="0" lang="en-US" sz="9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mperature reading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to nearest 0.5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matching thermometer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prover temperature immediately after each accuracy test ru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readings if prover has multiple well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meter temperature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meter well in measuring chamber or immediately adjac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at 1/3 and 2/3 of prover capacity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83A7-977E-4434-9DF0-1D076404B43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Arial"/>
              </a:rPr>
              <a:t>Test Notes</a:t>
            </a:r>
            <a:endParaRPr b="0" lang="en-US" sz="9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atic stop mechanism (preset) must stop within one-half the minimum indicated interval             G-UR.4.1.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04A5-7CDB-421A-8DC3-486AD0B5A4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276360"/>
            <a:ext cx="73152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Arial"/>
              </a:rPr>
              <a:t>Safety</a:t>
            </a:r>
            <a:endParaRPr b="0" lang="en-US" sz="9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9CC7-2D61-4230-B06D-AEB404EFB5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251460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9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1D8-5F4D-4A0B-A6EC-98083FEFE6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20448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t prove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ty prover using 30 second drai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ticket &amp; set preset to prover  volum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ro mete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pump then open delivery valv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end of each run read prover &amp; determine meter erro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 run if test result is near or out of toleranc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E70-707F-422A-8867-4AEC077B04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s for Repair Personn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least two runs at same flow rate to determine repeatabilit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runs within applicable toleranc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ce not to exceed 40 % of applied toleranc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just meter if out of toleranc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ctivate ATCS if necessary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performance of temperature senso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637-DFEB-40AD-958B-C7E5DC3B80A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tests 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 ATC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.5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test - full fl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.4.1., N.4.1.1., T.2.3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 rate within meter rating G-UR.3.1., G-UR.2.2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test - slow fl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.4.2., N.4.2.4., T.2.3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l prover at minimum flow rate marked on mete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temperature at meter and prover make corrections for meter and prover reading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F75-676A-48AD-91B4-CFF96DADB4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tests 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 ATC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.5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test - full fl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.4.1., N.4.1.1., T.2.3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 rate within meter rating G-UR.3.1., G-UR.2.2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product temperature at meter - read at  1/3 &amp; 2/3 of prover capacity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 temperature in prove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 prover, product in prover, &amp; meter readings for temperature difference from 6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BE0-FEC1-4B6C-8E3F-9E3F4B1C4A5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tests 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 ATC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.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test - slow fl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.4.2., N.4.2.4., T.2.3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l prover at minimum flow rate marked on mete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product temperature at meter - read at  1/3 &amp; 2/3 of prover capacity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 temperature in prove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 prover, product in prover, &amp; meter readings for temperature difference from 6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2AE-1572-449E-8034-D11827B248E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uracy tests of temperature compensated meter - indication in “net” gallon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full flow test -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ith ATC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ctivate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product temperature at meter - read at  1/3 &amp; 2/3 of prover capacity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to note large variation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 temperature in prover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 prover reading &amp; product in prover for temperature difference from 6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A0F-E1D7-4E69-BF76-9B0FF3BEB12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tests of temperature compensated meter -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TC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activate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full flow tes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product temperature at meter - read at  1/3 &amp; 2/3 of prover capacity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 temperature in prover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 prover, product in prover, &amp; meter readings for temperature difference from      6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A56-3733-4025-9A33-5A724AE101D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tests of temperature compensated mete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test slow flow -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C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activate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product temperature at meter - read at  1/3 &amp; 2/3 of prover capacity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 temperature in prover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 prover, product in prover, &amp; meter readings for temperature difference from      6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D31-7A3C-4EB4-9D40-B07FAE3F28F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tests - For meters that display both “net” and “gross” deliveri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“gross” delivery indication use correction procedure for meter without temperature compensation for normal &amp; special tes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“net” delivery indication use procedure for meter with ATCS for normal &amp; special tes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74F4-103A-40A1-A62C-8A97BA9BE7D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Safety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Synthetic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al Hazard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sed wir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rces of Ignition (heat or spark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Procedur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ne Numbers for Emergency Servic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 First Aid Train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ye Protectio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ggles or Safety Glass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ye Wash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521B-64E0-490A-8AE1-55E48F4977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2514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system with ATC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meter error with ATCS activated and ATCS deactivated shall not excee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2 % for mechanical ATCS an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1% for electronic ATC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.2.3.3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AFF-65C2-4C8E-A86C-7F74450F031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sea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sion for security seal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.2.2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ls in place &amp; inta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G-UR.4.5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t-hose 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3.9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effectiveness of anti-drain valv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y-hose 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3.6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for complete drainage of hos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639-B952-4B48-936C-5C032E0D4D9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FI/EMI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with associated equipment onl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only if a problem is suspecte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-N.2., G-UR.1.2., G-UR.3.2., G.UR.4.2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95E7-0D79-4024-B9CD-4CD60CAB4D8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     </a:t>
            </a: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Safety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77724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Extinguisher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table (20 lb or larger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y Chemica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Aid Ki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 Suppli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in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nding Cable and lug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ully System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4BAD-4918-4403-B7A5-1442B4ABF2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     </a:t>
            </a: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Safety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gnition Source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 wiring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osed Light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per Extension Cord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table Heater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ting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er Lifting Technique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ight Limitation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dition (wet/slick )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tructions, Overhead Hazard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troleum Products,  Hazardous Materials of Chemicals  (MSDS’s)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8FB-053B-4B68-870A-79D8B1CF19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     </a:t>
            </a: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Safety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 Data Sheet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ure of Produ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 Protection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fety Sho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ctive Clothing, Gloves, Eye Wear, Respirator, Barrier Cream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 Hat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 Cones/Warning Sign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c Discharg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nd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2CEC-F66D-4288-B506-18A1E78255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     </a:t>
            </a: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Safety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for Prove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er Leveling Jack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el Chock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 Loading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esel Fuel First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ffic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ation of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0933-1F2F-47BD-B5D2-D0F5B7812A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20574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Pretest Determinations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517-E49A-40EC-B7FF-F2ACED5B29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16:10:33Z</dcterms:created>
  <dc:creator>Richard</dc:creator>
  <dc:description/>
  <dc:language>en-US</dc:language>
  <cp:lastModifiedBy>RSuiter</cp:lastModifiedBy>
  <cp:lastPrinted>2000-08-09T22:40:41Z</cp:lastPrinted>
  <dcterms:modified xsi:type="dcterms:W3CDTF">2001-06-25T20:23:31Z</dcterms:modified>
  <cp:revision>29</cp:revision>
  <dc:subject/>
  <dc:title>NIST Training Seminar Augusta Maine August  14-18, 2000</dc:title>
</cp:coreProperties>
</file>