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99D9-7DEE-4976-AD7E-8ABF02570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70FE-EEAE-4C76-882F-6DDAFD9F8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039F-AB23-456E-B3E9-867EF7E47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47DB-99D7-4C37-B14B-8CAEFBC75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F346-50E1-497A-AE5D-6FD15093B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9DA6-4019-4D79-92EB-7D655F273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B9E8-28FB-4302-A727-612F49AA5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D57C-554F-48F9-83B8-3C8E814FC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1640" y="611280"/>
            <a:ext cx="7772400" cy="26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EC00-C08E-41E0-834D-3AB2F9503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100E-D179-421D-97BC-C523D7A13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0F62-3524-40EA-A98D-C6CD3B988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70B2-7A7A-4792-BDCB-1580B0705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kg2" descr=""/>
          <p:cNvPicPr/>
          <p:nvPr/>
        </p:nvPicPr>
        <p:blipFill>
          <a:blip r:embed="rId2"/>
          <a:srcRect l="0" t="1351" r="0" b="0"/>
          <a:stretch/>
        </p:blipFill>
        <p:spPr>
          <a:xfrm>
            <a:off x="0" y="0"/>
            <a:ext cx="9144000" cy="1697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4" marL="20574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5" marL="20574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6" marL="20574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763800" y="6586560"/>
            <a:ext cx="5042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R0299.336-</a:t>
            </a:r>
            <a:fld id="{E0667CC2-7136-40BD-8B37-462CE6E925F1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60280" y="981000"/>
            <a:ext cx="68022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Gill Sans"/>
              </a:rPr>
              <a:t>A New Approach to Developing Position Classification Standards</a:t>
            </a:r>
            <a:endParaRPr b="0" lang="en-US" sz="36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1160640" y="5999040"/>
            <a:ext cx="6802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Gill Sans"/>
              </a:rPr>
              <a:t>“</a:t>
            </a:r>
            <a:r>
              <a:rPr b="0" i="1" lang="en-US" sz="1400" spc="-1" strike="noStrike">
                <a:solidFill>
                  <a:srgbClr val="000066"/>
                </a:solidFill>
                <a:latin typeface="Gill Sans"/>
              </a:rPr>
              <a:t>Optimizing People, Processes and Technolog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473280" y="2673360"/>
          <a:ext cx="2357640" cy="23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2673360"/>
                    <a:ext cx="235764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674520" y="508464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ugust 2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611280"/>
            <a:ext cx="78800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Reengineering Methodology and Approach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ore Reengineering Team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PD subject matter exper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OPCSD/CPD Program leadership</a:t>
            </a: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 . . .</a:t>
            </a: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 An active sponsor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Booz Allen consultan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engineering effort simultaneously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onsiders other OPM initiatives 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Builds on current program improvement effor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onsiders process, organizational, technological, and informational factor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Allows for continuous process improvement over tim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32642"/>
          <a:stretch/>
        </p:blipFill>
        <p:spPr>
          <a:xfrm>
            <a:off x="2803680" y="1752480"/>
            <a:ext cx="3671640" cy="1625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5400000">
            <a:off x="4157640" y="379080"/>
            <a:ext cx="984240" cy="345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81" y="1644"/>
                  <a:pt x="9162" y="5080"/>
                  <a:pt x="9162" y="10800"/>
                </a:cubicBezTo>
                <a:cubicBezTo>
                  <a:pt x="9162" y="16520"/>
                  <a:pt x="15381" y="1995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7320" y="406440"/>
            <a:ext cx="6530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How Process, Technology, and Organization Must be Considered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874880"/>
            <a:ext cx="3770280" cy="4302000"/>
          </a:xfrm>
          <a:custGeom>
            <a:avLst/>
            <a:gdLst/>
            <a:ahLst/>
            <a:rect l="l" t="t" r="r" b="b"/>
            <a:pathLst>
              <a:path w="2375" h="2710">
                <a:moveTo>
                  <a:pt x="0" y="0"/>
                </a:moveTo>
                <a:lnTo>
                  <a:pt x="1986" y="724"/>
                </a:lnTo>
                <a:lnTo>
                  <a:pt x="1934" y="487"/>
                </a:lnTo>
                <a:lnTo>
                  <a:pt x="2375" y="925"/>
                </a:lnTo>
                <a:lnTo>
                  <a:pt x="1965" y="1479"/>
                </a:lnTo>
                <a:lnTo>
                  <a:pt x="1996" y="1221"/>
                </a:lnTo>
                <a:lnTo>
                  <a:pt x="10" y="2710"/>
                </a:lnTo>
                <a:lnTo>
                  <a:pt x="10" y="21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333399"/>
            </a:solidFill>
            <a:round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77800" y="3375000"/>
            <a:ext cx="6158160" cy="3049560"/>
          </a:xfrm>
          <a:custGeom>
            <a:avLst/>
            <a:gdLst/>
            <a:ahLst/>
            <a:rect l="l" t="t" r="r" b="b"/>
            <a:pathLst>
              <a:path w="3879" h="1921">
                <a:moveTo>
                  <a:pt x="3869" y="1921"/>
                </a:moveTo>
                <a:lnTo>
                  <a:pt x="2048" y="432"/>
                </a:lnTo>
                <a:lnTo>
                  <a:pt x="2245" y="494"/>
                </a:lnTo>
                <a:lnTo>
                  <a:pt x="2234" y="463"/>
                </a:lnTo>
                <a:lnTo>
                  <a:pt x="1924" y="0"/>
                </a:lnTo>
                <a:lnTo>
                  <a:pt x="1603" y="504"/>
                </a:lnTo>
                <a:lnTo>
                  <a:pt x="1800" y="432"/>
                </a:lnTo>
                <a:lnTo>
                  <a:pt x="0" y="1900"/>
                </a:lnTo>
                <a:lnTo>
                  <a:pt x="3879" y="191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333399"/>
            </a:solidFill>
            <a:round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22200">
            <a:off x="-437040" y="368352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Gill Sans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2200">
            <a:off x="3533760" y="641016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Gill Sans"/>
              </a:rPr>
              <a:t>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3160" y="2768760"/>
            <a:ext cx="2633760" cy="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61640" indent="-1616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nalyze “Where We Are”</a:t>
            </a:r>
            <a:endParaRPr b="0" lang="en-US" sz="1400" spc="-1" strike="noStrike">
              <a:solidFill>
                <a:srgbClr val="000066"/>
              </a:solidFill>
              <a:latin typeface="Gill Sans"/>
            </a:endParaRPr>
          </a:p>
          <a:p>
            <a:pPr marL="161640" indent="-1616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Identify Capability Gaps</a:t>
            </a:r>
            <a:endParaRPr b="0" lang="en-US" sz="1400" spc="-1" strike="noStrike">
              <a:solidFill>
                <a:srgbClr val="000066"/>
              </a:solidFill>
              <a:latin typeface="Gill Sans"/>
            </a:endParaRPr>
          </a:p>
          <a:p>
            <a:pPr marL="161640" indent="-1616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engineer Processes That:</a:t>
            </a:r>
            <a:endParaRPr b="0" lang="en-US" sz="1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30360" y="3606840"/>
            <a:ext cx="23922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re Strategy-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se The Best Ideas From Government and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Produce Quantifiable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an Change as Requirem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66600" y="1874880"/>
            <a:ext cx="3770280" cy="4302000"/>
          </a:xfrm>
          <a:custGeom>
            <a:avLst/>
            <a:gdLst/>
            <a:ahLst/>
            <a:rect l="l" t="t" r="r" b="b"/>
            <a:pathLst>
              <a:path w="2375" h="2710">
                <a:moveTo>
                  <a:pt x="0" y="0"/>
                </a:moveTo>
                <a:lnTo>
                  <a:pt x="1986" y="724"/>
                </a:lnTo>
                <a:lnTo>
                  <a:pt x="1934" y="487"/>
                </a:lnTo>
                <a:lnTo>
                  <a:pt x="2375" y="925"/>
                </a:lnTo>
                <a:lnTo>
                  <a:pt x="1965" y="1479"/>
                </a:lnTo>
                <a:lnTo>
                  <a:pt x="1996" y="1221"/>
                </a:lnTo>
                <a:lnTo>
                  <a:pt x="10" y="2710"/>
                </a:lnTo>
                <a:lnTo>
                  <a:pt x="10" y="21"/>
                </a:lnTo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333399"/>
            </a:solidFill>
            <a:round/>
          </a:ln>
          <a:effectLst>
            <a:outerShdw dist="52300" dir="836435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22200">
            <a:off x="7640640" y="372348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Gill Sans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8680" y="4579920"/>
            <a:ext cx="36338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3" marL="1253160" indent="-20088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hink and Pla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trateg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7480" indent="-20088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Know What Customers W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440" indent="-20232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Develop Knowledge, Skills, and Abilities Required for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hare the 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Manage for Continuou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24600" y="2727360"/>
            <a:ext cx="24019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04480" indent="-20448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se Technology as a Process and Performance Ena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480" indent="-20448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se Technology to support Effective Decision M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480" indent="-20448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Invest Intelligent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219800">
            <a:off x="1581840" y="495432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2380200">
            <a:off x="5542920" y="495432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005280" y="4257720"/>
            <a:ext cx="706320" cy="536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353200" y="4257720"/>
            <a:ext cx="706320" cy="536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78320" y="1924200"/>
            <a:ext cx="2333520" cy="26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Gill Sans"/>
              </a:rPr>
              <a:t>MISSION FULFILL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Gill Sans"/>
              <a:ea typeface="Gill Sans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48240" y="2419200"/>
            <a:ext cx="0" cy="919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48240" y="2484000"/>
            <a:ext cx="493560" cy="8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071600" y="2512800"/>
            <a:ext cx="47628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2200">
            <a:off x="783720" y="2339640"/>
            <a:ext cx="119088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</a:rPr>
              <a:t>How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2200">
            <a:off x="6965640" y="2339640"/>
            <a:ext cx="119052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</a:rPr>
              <a:t>How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200">
            <a:off x="3930120" y="4279680"/>
            <a:ext cx="119088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</a:rPr>
              <a:t>How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280" y="604440"/>
            <a:ext cx="75250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Results of “As-Is” Analysis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1952640"/>
            <a:ext cx="7772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 criteria for identifying classification stud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tandardize key document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Enhance information sharing via web-based technology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Develop new tools and methods to better balance workload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Develop more efficient approaches to conducting site visits and information gathering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 customer relationship managemen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 internal documentation management procedures and practic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01400"/>
            <a:ext cx="75758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Emerging Concepts for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Proces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Improvement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192420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-222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Process/Procedural Improvements: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review cycles via standardized templates for regular agency correspondenc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Develop and maintain “evergreen” agency contact lis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22840" indent="-222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Technology Improvements: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OPM process scheduling and workload planning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use of web-based information technology and other productivity tool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22840" indent="-222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Organizational Improvements: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Develop “Working with OPM Classification Programs Division” Job Aid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Utilize highly coordinated, “super” focus groups for data gathering and more accurate insight into occupation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8040"/>
            <a:ext cx="7575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Benefits to OPM Customers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2600" y="184788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duced study duration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d coordination of various process activit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More useful classification documents 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Less administrative burden to agenc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d quality of information exchange and analysis between OPM and agenc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Enhanced opportunity for OPM to provide value-added consulting to stakeholder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Introduction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Ms. Judith A. Davis, Chief, Classification Programs Division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OPM Project Manager for the OPM Classification Reengineering Project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Manages the  OPM Classification Programs Division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16000" indent="-2160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Mr. Keith Phillips, Senior Associate and Team Leader for Change Management, Booz Allen &amp; Hamilton Inc.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Project Director for the OPM Classification Reengineering Project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Leads process and performance improvement projects for Government and Commercial clients world-wid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160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61092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Overview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Drivers for Change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Need for Reengineering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engineering Methodology and Approach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sults of “As-Is” Analysi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Emerging Concepts for Process Improvemen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Benefits to Customers and Stakeholder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4840" y="630360"/>
            <a:ext cx="76388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Drivers for Change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7200" y="2061720"/>
            <a:ext cx="74390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Pressures for a Government “That Works Better and Costs Less”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Government Transformation into “Results-Based Business Models”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OPM Government-wide Improvement Initiativ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customer servic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relationships with stakeholder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lassification Programs Division Challeng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Update and maintain classification documen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Optimize data collection effor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Ensure process integrity and stakeholder flexibility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4840" y="592200"/>
            <a:ext cx="763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Need for Reengineering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1840" y="1890360"/>
            <a:ext cx="8601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0680" indent="-220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lassification Programs Division (CPD)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Transition from single to multiple series stud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ontinued interest in consolidating and integrating classification documents. 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20680" indent="-220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Above factors indicate a need for significant process improvemen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Eliminate non-value added activit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dentify opportunities for centralization/decentralization of activit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up-front planning and coordination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dentify opportunities to automate current manual activit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dentify opportunities to use information technology as a process enabler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cross-functional and CPD-to-Agency communication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477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ill Sans"/>
              </a:rPr>
              <a:t>Our Approach:  Performance-based Business Process Reengineering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92120" y="1981080"/>
            <a:ext cx="635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317160"/>
            <a:ext cx="66596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engineering Must Combine the Best Ideas From Government and Industry To Achieve Demonstrable Performance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209520" y="1770120"/>
            <a:ext cx="7631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Experience With Performance-Driven Organizations Reveals a Recurring Pattern for Succes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040" y="3848040"/>
            <a:ext cx="125424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marL="109440" indent="-109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Customer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e Needs in Terms of Performanc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velop Broad Goals To Satisfy Performanc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1120" y="3241800"/>
            <a:ext cx="13683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ssess Current Capabilities To Achieve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Capability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velop Specific Performanc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3840" y="2573280"/>
            <a:ext cx="18115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0000"/>
          </a:bodyPr>
          <a:p>
            <a:pPr marL="114120" indent="-114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sign Processes That Achieve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he Best Ideas From Government and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ut Required Business Infrastructure in Place (I.e., Quality, Communication, Performance Measurement, and Feedback Syste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0240" y="4902120"/>
            <a:ext cx="13683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124200" indent="-124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echnology as a Decision Support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4200" indent="-124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echnology To Stay Close to the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4200" indent="-124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echnology To Continuously Imp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15240" y="4538520"/>
            <a:ext cx="136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sign the Organization That Optimizes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ffectively Manage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sign Flat, Nimble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40000" y="2516040"/>
            <a:ext cx="3579840" cy="4235760"/>
            <a:chOff x="3240000" y="2516040"/>
            <a:chExt cx="3579840" cy="4235760"/>
          </a:xfrm>
        </p:grpSpPr>
        <p:sp>
          <p:nvSpPr>
            <p:cNvPr id="63" name=""/>
            <p:cNvSpPr/>
            <p:nvPr/>
          </p:nvSpPr>
          <p:spPr>
            <a:xfrm>
              <a:off x="3240000" y="2516040"/>
              <a:ext cx="0" cy="42357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19840" y="2516040"/>
              <a:ext cx="0" cy="42357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92640" y="2516040"/>
              <a:ext cx="0" cy="42357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51000" y="5764320"/>
            <a:ext cx="1263600" cy="89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5920" y="5981760"/>
            <a:ext cx="1164960" cy="5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Know What You Must Achi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87480" y="4943520"/>
            <a:ext cx="1263600" cy="89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2400" y="5160960"/>
            <a:ext cx="116532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lan To Achi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3320" y="4600440"/>
            <a:ext cx="1263600" cy="8971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8240" y="4707000"/>
            <a:ext cx="1164960" cy="5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Design Processes That Achi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657600"/>
            <a:ext cx="1263600" cy="89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00720" y="3697200"/>
            <a:ext cx="1165320" cy="76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Use Technology as an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Ena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2852640"/>
            <a:ext cx="1197000" cy="1274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61040" y="3062160"/>
            <a:ext cx="1165320" cy="95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stain a Learning Organization Focused on 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800000">
            <a:off x="1617840" y="5633640"/>
            <a:ext cx="35208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800000">
            <a:off x="3200400" y="5086080"/>
            <a:ext cx="35244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800000">
            <a:off x="4952880" y="4381200"/>
            <a:ext cx="35244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800000">
            <a:off x="6629400" y="3504960"/>
            <a:ext cx="35244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84680" y="4147920"/>
            <a:ext cx="4245120" cy="507960"/>
          </a:xfrm>
          <a:prstGeom prst="rightArrow">
            <a:avLst>
              <a:gd name="adj1" fmla="val 53759"/>
              <a:gd name="adj2" fmla="val 70340"/>
            </a:avLst>
          </a:prstGeom>
          <a:gradFill rotWithShape="0">
            <a:gsLst>
              <a:gs pos="0">
                <a:srgbClr val="3333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764120" y="4430880"/>
            <a:ext cx="1700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9040" y="62150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62200" y="55562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3440" y="30448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2960" y="244152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29280" y="2924280"/>
            <a:ext cx="1620720" cy="1199880"/>
          </a:xfrm>
          <a:custGeom>
            <a:avLst/>
            <a:gdLst/>
            <a:ahLst/>
            <a:rect l="l" t="t" r="r" b="b"/>
            <a:pathLst>
              <a:path w="1021" h="756">
                <a:moveTo>
                  <a:pt x="1" y="189"/>
                </a:moveTo>
                <a:lnTo>
                  <a:pt x="673" y="189"/>
                </a:lnTo>
                <a:lnTo>
                  <a:pt x="673" y="0"/>
                </a:lnTo>
                <a:lnTo>
                  <a:pt x="1021" y="379"/>
                </a:lnTo>
                <a:lnTo>
                  <a:pt x="678" y="756"/>
                </a:lnTo>
                <a:lnTo>
                  <a:pt x="679" y="574"/>
                </a:lnTo>
                <a:lnTo>
                  <a:pt x="0" y="574"/>
                </a:lnTo>
                <a:lnTo>
                  <a:pt x="1" y="18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9280" y="4562640"/>
            <a:ext cx="1647720" cy="1199880"/>
          </a:xfrm>
          <a:custGeom>
            <a:avLst/>
            <a:gdLst/>
            <a:ahLst/>
            <a:rect l="l" t="t" r="r" b="b"/>
            <a:pathLst>
              <a:path w="1038" h="756">
                <a:moveTo>
                  <a:pt x="1" y="189"/>
                </a:moveTo>
                <a:lnTo>
                  <a:pt x="673" y="189"/>
                </a:lnTo>
                <a:lnTo>
                  <a:pt x="673" y="0"/>
                </a:lnTo>
                <a:lnTo>
                  <a:pt x="1038" y="366"/>
                </a:lnTo>
                <a:lnTo>
                  <a:pt x="678" y="756"/>
                </a:lnTo>
                <a:lnTo>
                  <a:pt x="679" y="574"/>
                </a:lnTo>
                <a:lnTo>
                  <a:pt x="0" y="574"/>
                </a:lnTo>
                <a:lnTo>
                  <a:pt x="1" y="18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61600" y="3114360"/>
            <a:ext cx="2408040" cy="2410200"/>
            <a:chOff x="5061600" y="3114360"/>
            <a:chExt cx="2408040" cy="2410200"/>
          </a:xfrm>
        </p:grpSpPr>
        <p:sp>
          <p:nvSpPr>
            <p:cNvPr id="89" name=""/>
            <p:cNvSpPr/>
            <p:nvPr/>
          </p:nvSpPr>
          <p:spPr>
            <a:xfrm rot="18703800">
              <a:off x="5405040" y="3473280"/>
              <a:ext cx="1720800" cy="1692000"/>
            </a:xfrm>
            <a:prstGeom prst="bevel">
              <a:avLst>
                <a:gd name="adj" fmla="val 4898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8703800">
              <a:off x="5507640" y="3578400"/>
              <a:ext cx="1542600" cy="1485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440320" y="3664080"/>
            <a:ext cx="1604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Gill Sans"/>
              </a:rPr>
              <a:t>Solutions </a:t>
            </a:r>
            <a:br>
              <a:rPr sz="1500"/>
            </a:br>
            <a:r>
              <a:rPr b="1" lang="en-US" sz="1500" spc="-1" strike="noStrike">
                <a:solidFill>
                  <a:srgbClr val="000066"/>
                </a:solidFill>
                <a:latin typeface="Gill Sans"/>
              </a:rPr>
              <a:t>That Make Sense for Federal Organiz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9280" y="3619440"/>
            <a:ext cx="1620720" cy="1181160"/>
          </a:xfrm>
          <a:custGeom>
            <a:avLst/>
            <a:gdLst/>
            <a:ahLst/>
            <a:rect l="l" t="t" r="r" b="b"/>
            <a:pathLst>
              <a:path w="1021" h="684">
                <a:moveTo>
                  <a:pt x="1" y="174"/>
                </a:moveTo>
                <a:lnTo>
                  <a:pt x="673" y="174"/>
                </a:lnTo>
                <a:lnTo>
                  <a:pt x="673" y="0"/>
                </a:lnTo>
                <a:lnTo>
                  <a:pt x="1021" y="348"/>
                </a:lnTo>
                <a:lnTo>
                  <a:pt x="679" y="684"/>
                </a:lnTo>
                <a:lnTo>
                  <a:pt x="679" y="528"/>
                </a:lnTo>
                <a:lnTo>
                  <a:pt x="0" y="528"/>
                </a:lnTo>
                <a:lnTo>
                  <a:pt x="180" y="340"/>
                </a:lnTo>
                <a:lnTo>
                  <a:pt x="1" y="174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57960" y="3911760"/>
            <a:ext cx="1604880" cy="61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ill Sans"/>
              </a:rPr>
              <a:t>Long-Term Perform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74760" y="1890720"/>
            <a:ext cx="3854520" cy="2717640"/>
            <a:chOff x="374760" y="1890720"/>
            <a:chExt cx="3854520" cy="2717640"/>
          </a:xfrm>
        </p:grpSpPr>
        <p:sp>
          <p:nvSpPr>
            <p:cNvPr id="95" name=""/>
            <p:cNvSpPr/>
            <p:nvPr/>
          </p:nvSpPr>
          <p:spPr>
            <a:xfrm>
              <a:off x="374760" y="1890720"/>
              <a:ext cx="3854520" cy="2717640"/>
            </a:xfrm>
            <a:prstGeom prst="bevel">
              <a:avLst>
                <a:gd name="adj" fmla="val 3444"/>
              </a:avLst>
            </a:prstGeom>
            <a:solidFill>
              <a:srgbClr val="9999ff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9520" y="1998720"/>
              <a:ext cx="3654720" cy="252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4840" y="611280"/>
            <a:ext cx="7638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Use The Best Ideas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74760" y="1887480"/>
            <a:ext cx="3854160" cy="459000"/>
            <a:chOff x="374760" y="1887480"/>
            <a:chExt cx="3854160" cy="459000"/>
          </a:xfrm>
        </p:grpSpPr>
        <p:sp>
          <p:nvSpPr>
            <p:cNvPr id="99" name=""/>
            <p:cNvSpPr/>
            <p:nvPr/>
          </p:nvSpPr>
          <p:spPr>
            <a:xfrm>
              <a:off x="374760" y="1887480"/>
              <a:ext cx="3854160" cy="459000"/>
            </a:xfrm>
            <a:prstGeom prst="bevel">
              <a:avLst>
                <a:gd name="adj" fmla="val 9903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440" y="1922400"/>
              <a:ext cx="3640680" cy="376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79600" y="2424240"/>
            <a:ext cx="35985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Fifteen Industry Sectors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Energy and Environ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Aerospace and Automo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Insurance and Ba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Materials and Consumer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rocurement a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Partnerships With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Academia and Professional Socie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1952640"/>
            <a:ext cx="3208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Gill Sans"/>
              </a:rPr>
              <a:t>Commercial Best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760" y="4395960"/>
            <a:ext cx="3854520" cy="2131920"/>
          </a:xfrm>
          <a:prstGeom prst="bevel">
            <a:avLst>
              <a:gd name="adj" fmla="val 3444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9520" y="4503600"/>
            <a:ext cx="365436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4760" y="4392720"/>
            <a:ext cx="3854160" cy="458640"/>
            <a:chOff x="374760" y="4392720"/>
            <a:chExt cx="3854160" cy="458640"/>
          </a:xfrm>
        </p:grpSpPr>
        <p:sp>
          <p:nvSpPr>
            <p:cNvPr id="106" name=""/>
            <p:cNvSpPr/>
            <p:nvPr/>
          </p:nvSpPr>
          <p:spPr>
            <a:xfrm>
              <a:off x="374760" y="4392720"/>
              <a:ext cx="3854160" cy="458640"/>
            </a:xfrm>
            <a:prstGeom prst="bevel">
              <a:avLst>
                <a:gd name="adj" fmla="val 9903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440" y="4427640"/>
              <a:ext cx="3640680" cy="37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93640" y="4886280"/>
            <a:ext cx="35989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Hammer Award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Presidential Quality Award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The Best Ideas From Booz·Allen’s Projects in Defense, Civil Markets, Information Technology, Transportation, and National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400" y="4457880"/>
            <a:ext cx="3453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Gill Sans"/>
              </a:rPr>
              <a:t>Government Top Per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952720"/>
            <a:ext cx="1554120" cy="1143000"/>
          </a:xfrm>
          <a:custGeom>
            <a:avLst/>
            <a:gdLst/>
            <a:ahLst/>
            <a:rect l="l" t="t" r="r" b="b"/>
            <a:pathLst>
              <a:path w="1021" h="756">
                <a:moveTo>
                  <a:pt x="1" y="189"/>
                </a:moveTo>
                <a:lnTo>
                  <a:pt x="673" y="189"/>
                </a:lnTo>
                <a:lnTo>
                  <a:pt x="673" y="0"/>
                </a:lnTo>
                <a:lnTo>
                  <a:pt x="1021" y="379"/>
                </a:lnTo>
                <a:lnTo>
                  <a:pt x="678" y="756"/>
                </a:lnTo>
                <a:lnTo>
                  <a:pt x="679" y="574"/>
                </a:lnTo>
                <a:lnTo>
                  <a:pt x="0" y="574"/>
                </a:lnTo>
                <a:lnTo>
                  <a:pt x="1" y="1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638600"/>
            <a:ext cx="1581120" cy="1095480"/>
          </a:xfrm>
          <a:custGeom>
            <a:avLst/>
            <a:gdLst/>
            <a:ahLst/>
            <a:rect l="l" t="t" r="r" b="b"/>
            <a:pathLst>
              <a:path w="996" h="690">
                <a:moveTo>
                  <a:pt x="1" y="150"/>
                </a:moveTo>
                <a:lnTo>
                  <a:pt x="646" y="150"/>
                </a:lnTo>
                <a:lnTo>
                  <a:pt x="648" y="0"/>
                </a:lnTo>
                <a:lnTo>
                  <a:pt x="996" y="319"/>
                </a:lnTo>
                <a:lnTo>
                  <a:pt x="651" y="690"/>
                </a:lnTo>
                <a:lnTo>
                  <a:pt x="652" y="517"/>
                </a:lnTo>
                <a:lnTo>
                  <a:pt x="0" y="517"/>
                </a:lnTo>
                <a:lnTo>
                  <a:pt x="1" y="15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4840" y="611280"/>
            <a:ext cx="7638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Best Practices in Action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7745040" y="3473280"/>
            <a:ext cx="2067120" cy="507960"/>
          </a:xfrm>
          <a:prstGeom prst="rightArrow">
            <a:avLst>
              <a:gd name="adj1" fmla="val 48759"/>
              <a:gd name="adj2" fmla="val 76679"/>
            </a:avLst>
          </a:prstGeom>
          <a:gradFill rotWithShape="0">
            <a:gsLst>
              <a:gs pos="0">
                <a:srgbClr val="3333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600" y="4957920"/>
            <a:ext cx="248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Where Are We and Where Are We Go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90920" y="1824120"/>
            <a:ext cx="2974680" cy="4997160"/>
            <a:chOff x="2590920" y="1824120"/>
            <a:chExt cx="2974680" cy="4997160"/>
          </a:xfrm>
        </p:grpSpPr>
        <p:sp>
          <p:nvSpPr>
            <p:cNvPr id="116" name=""/>
            <p:cNvSpPr/>
            <p:nvPr/>
          </p:nvSpPr>
          <p:spPr>
            <a:xfrm>
              <a:off x="2590920" y="1824120"/>
              <a:ext cx="0" cy="4997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5600" y="1824120"/>
              <a:ext cx="0" cy="4997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12680" y="1717560"/>
            <a:ext cx="23734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HAS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lanning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“</a:t>
            </a: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As-Is”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6760" y="1746360"/>
            <a:ext cx="29350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HAS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erformance-Based Process Reengineering and Technology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2160" y="1746360"/>
            <a:ext cx="27730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HASE I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Implementation and Continuou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6240" y="5389560"/>
            <a:ext cx="2428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7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Best Practices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Strategic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Custom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erformanc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Rapid Application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957920"/>
            <a:ext cx="248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What Do We Need To 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44800" y="538956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8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Best Practices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erformance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Quality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Decision Suppor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rocess 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Information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80160" y="4957920"/>
            <a:ext cx="302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How Do We Get There Successfully and Thrive in the Long-Ter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5389560"/>
            <a:ext cx="2687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7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Best Practices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Knowledg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Growth Strate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Operations and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20920" y="2695680"/>
            <a:ext cx="7040520" cy="2036520"/>
          </a:xfrm>
          <a:prstGeom prst="bevel">
            <a:avLst>
              <a:gd name="adj" fmla="val 2574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3360" y="2770200"/>
            <a:ext cx="6896160" cy="190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590920" y="2724120"/>
            <a:ext cx="2974680" cy="2005200"/>
            <a:chOff x="2590920" y="2724120"/>
            <a:chExt cx="2974680" cy="2005200"/>
          </a:xfrm>
        </p:grpSpPr>
        <p:sp>
          <p:nvSpPr>
            <p:cNvPr id="129" name=""/>
            <p:cNvSpPr/>
            <p:nvPr/>
          </p:nvSpPr>
          <p:spPr>
            <a:xfrm>
              <a:off x="2590920" y="2724120"/>
              <a:ext cx="0" cy="2005200"/>
            </a:xfrm>
            <a:prstGeom prst="line">
              <a:avLst/>
            </a:prstGeom>
            <a:ln w="38160">
              <a:solidFill>
                <a:srgbClr val="ff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5600" y="2724120"/>
              <a:ext cx="0" cy="2005200"/>
            </a:xfrm>
            <a:prstGeom prst="line">
              <a:avLst/>
            </a:prstGeom>
            <a:ln w="38160">
              <a:solidFill>
                <a:srgbClr val="ff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2585880" y="2766960"/>
            <a:ext cx="5810400" cy="19051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0496600">
            <a:off x="3378240" y="3612960"/>
            <a:ext cx="3639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Near-Simultaneous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56320" y="2857680"/>
            <a:ext cx="17762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0000"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ROCES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1080" y="4334040"/>
            <a:ext cx="2877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TECHNOLOGY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11680" y="3592800"/>
            <a:ext cx="1776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7920720" y="3740400"/>
            <a:ext cx="1776600" cy="2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LEVEL OF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37:16Z</dcterms:created>
  <dc:creator>BA&amp;H User</dc:creator>
  <dc:description/>
  <dc:language>en-US</dc:language>
  <cp:lastModifiedBy>dsmunn</cp:lastModifiedBy>
  <cp:lastPrinted>2000-08-24T18:09:06Z</cp:lastPrinted>
  <dcterms:modified xsi:type="dcterms:W3CDTF">2000-08-24T18:10:13Z</dcterms:modified>
  <cp:revision>229</cp:revision>
  <dc:subject/>
  <dc:title>No Slide Title</dc:title>
</cp:coreProperties>
</file>