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0BAD-B2BD-49DB-A21E-08EE6330E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: optimizing detector: granularity and the other is OD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haring gets us good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ation: pick width well matched with multiple-scattering limitations, light yield limitations (photostatis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tion in z set by need for efficiency with short tra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detector: need to contain most particles in events, or else lose high multiplicity events (DIS) with energy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OD width is a cost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romises: step granularity (5cm-&gt;10cm); and step in z since most US part is not populated (backwards particles so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61E4-C680-4F05-9AC8-69A0E054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F75A-A463-46B4-AF07-13C5248C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DEA6-4797-45F9-8487-352622E2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33DD-20B4-4525-AA2A-0C05CC25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781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D25A-F33B-4DB2-9B99-8CDE4D02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FBD28F-A294-43BF-8FC9-23EFC4C8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DB04D6-EB6E-40B9-AD34-55D4A0A3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687274-5CBA-4EE7-A569-72F7A309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C504C-16B4-4FA7-9A38-70525380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2FDE2A-80B1-41D7-92C5-9C2AC2F4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E3FC-8219-4504-B2E9-01C1D189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781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3FE03D-2F06-4542-A645-7775DFC1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1F9E1-4E09-4762-A861-C00508F7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5AE796-7AE2-4B4C-8B02-16ABA8F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1D37A-81A0-448C-A843-E5E6C76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96493-AA8C-47FA-803F-48FA1FBA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98787-DEBB-47E6-954E-707A2A80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D893D-043A-423C-B5F0-C7DB5C05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81DF-222F-43FE-AAD4-0C3A05F9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6106-A066-42FD-9B84-6DC94FAD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781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D13F-9AC9-486E-A49F-06D29C7D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E2CA-3CC0-4A54-9923-1AAB62CC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3E76-7819-4ED0-A3CA-98E4746E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15DC-DD2F-49E9-88CC-AB8A2C32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6395-71B5-4724-937F-2D50458F5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rcRect l="0" t="0" r="0" b="17589"/>
          <a:stretch/>
        </p:blipFill>
        <p:spPr>
          <a:xfrm>
            <a:off x="7315200" y="399960"/>
            <a:ext cx="1446120" cy="142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6705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4286160"/>
            <a:ext cx="1955520" cy="2343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6"/>
          </p:nvPr>
        </p:nvSpPr>
        <p:spPr>
          <a:xfrm>
            <a:off x="228600" y="640080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7"/>
          </p:nvPr>
        </p:nvSpPr>
        <p:spPr>
          <a:xfrm>
            <a:off x="7848720" y="6399360"/>
            <a:ext cx="838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A1AE-E2C7-4755-9931-0E29EF367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153280" y="304920"/>
            <a:ext cx="838440" cy="760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63244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9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MINER</a:t>
            </a:r>
            <a:r>
              <a:rPr b="1" lang="en-US" sz="10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1066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Nu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2600" y="152280"/>
            <a:ext cx="1334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MINER</a:t>
            </a:r>
            <a:r>
              <a:rPr b="0" lang="en-US" sz="12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Director’s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10 January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Kevin McFa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Univ. of Roch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69560" y="428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6840" y="5965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327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ERvA Detector “Optimization”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vin McFarla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ity of Rochest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6 February 200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ERvA Collaboration me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257800" cy="33447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ize of OD (cont’d)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hos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ronic energy resolution of approximately 20-30%/sqrt(E) for 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average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MS fluctuations are five times larger than average leakage due to tail (could not dig up this plot; sor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goal was to keep leakage contribution to this to &lt;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ionale was that this resolution effect would be hard to under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go… 5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hinned upstream part to 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35035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Containment in Nuclear Target Region vs. Outer Detector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114800" y="1752120"/>
            <a:ext cx="6094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25909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ckest part of 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mpiled a list of ID granularity and OD size optimization studies to pur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Steve B. and Dave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“de-scoping”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n OD like ours but with 30cm extra material everyw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hypothetical OD with 10cm, 20cm, 30cm extra and 10cm, 20cm less, pl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ons escaping for QE Q2&gt;3 GeV^2 in ID and in nuclear targets.  Do this only for "trackable" muons (6 or 9 planes of sc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ion of DIS energy contained (high x and low x?, ID and nuclear targets separated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fractional DIS energy leaked (high x and low x?  ID and nuclear targets separated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hink we more or less have first one in hand.  We've done things similar to the others; it's not h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 segmentation of 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C. showed this well at the Aug '03 JLab meeting, but we could repeat the stu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ooked at efficiency for QE (low Q^2) reconstruction vs. z spac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 1.7cm, 2.2 cm, 2.7cm, 1.2cm, 0.7c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how both efficiency and z vertex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p width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one is much more trick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hink something like 2.8, 3.3, 3.8, 4.3, 4.8 is a good range of cells to try.  S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ma z_vertex for two track Q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for two track QE events (are tracks separated with such big ce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herent CC events, Hugh's t variable which plays a big role in his c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IS events, how close to the vertex can the track be tracked?  I'm not sure we have a way to translate that into an effective z vertex resolution?  maybe look at events with multiple trac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d like to figure out how it affects photon ID (since I think track width is likely to be a key parameter) but we don't really have th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lso should cata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of different numbers of modules (or module width) on fiducial events for different flag ship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Es, single pi0 resonant, coherent CC/NC, 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ere beaten up at our Temple review for not being able to show sufficient evidence of physics vs. $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opinion: probably more than we d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is still a vali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such information to understand what happens if we get on 80% of our proposed funds, for example, or to see if we can build more slowly than we propose and do physics during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ich dire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C. pointed out that “optimization” also means we should think of add-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have project funds left, what could we do at the end to improve the experiment?  DS HCAL magnetization, 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sense in which the committee wanted us to study was clearly de-scoping, not up-scop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some more Monte Carlo simulation studies with different geome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better tools for evaluating the impact of changes 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what was presented to the Templ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What Does it Take to Reduce Costs in Channels and Modules?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hanne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ghly, I guestimate the marginal channel cost to be $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st items: ~$20 for electronics, ~$35 for PMT and testing, $30 for PMT box, ~$15 for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saving $1M takes approximately 9K channels (of 31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… there are granularity issues that make this tough to re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gains by reducing number o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 on channels, module and plan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49 modules in current design, 30 fully active, 9 nuclear targets, 10 downstream calorimeters, each with roughly 2% of the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uestimate marginal cost of a module to be 0.11M$, about $0.7M of which is in the channel count; so that means 9 modules away to save $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take this with very large grains of salt; it is based on quick fudges to a costing model we had when optim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onstraints on Extrusions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S experience: 1x4cm extrusions are near limit of surface are to volume ratio for successful extr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the largest granularity we might consider is 5x2.5cm triangles, just on technical grounds?  we certainly never considered anything beyond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omparison, 3cm^2 MINERvA cross-section is same as SciBar at K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we looked at our key design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resolution: width and thickness both con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 for quasi-elastics: primarily thickness of extr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end, we took a hit on the latter in exchange for preserving the 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fiducial volume: want roughly a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acceptance studies, particles go at wide 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on fiducial volume targe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Optimization of </a:t>
            </a:r>
            <a:br>
              <a:rPr sz="2800"/>
            </a:b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racking in Active Target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0680" y="557964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 pioneered by D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pre-show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547640"/>
            <a:ext cx="4267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tracking resolution w/ triangular extr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3 mm in transverse direction from light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ffective than rectangles (resolution/segment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resolution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se segmentation and light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itudinal segmentation for z vertex 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78400" y="5256360"/>
            <a:ext cx="3308400" cy="1524960"/>
            <a:chOff x="5378400" y="5256360"/>
            <a:chExt cx="3308400" cy="1524960"/>
          </a:xfrm>
        </p:grpSpPr>
        <p:grpSp>
          <p:nvGrpSpPr>
            <p:cNvPr id="179" name=""/>
            <p:cNvGrpSpPr/>
            <p:nvPr/>
          </p:nvGrpSpPr>
          <p:grpSpPr>
            <a:xfrm>
              <a:off x="5378400" y="5715000"/>
              <a:ext cx="2133720" cy="532800"/>
              <a:chOff x="5378400" y="5715000"/>
              <a:chExt cx="2133720" cy="532800"/>
            </a:xfrm>
          </p:grpSpPr>
          <p:sp>
            <p:nvSpPr>
              <p:cNvPr id="180" name=""/>
              <p:cNvSpPr/>
              <p:nvPr/>
            </p:nvSpPr>
            <p:spPr>
              <a:xfrm>
                <a:off x="5378400" y="5715000"/>
                <a:ext cx="2133720" cy="532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ff">
                      <a:alpha val="60392"/>
                    </a:srgbClr>
                  </a:gs>
                  <a:gs pos="100000">
                    <a:srgbClr val="fed8fe"/>
                  </a:gs>
                </a:gsLst>
                <a:lin ang="54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369120" y="5943240"/>
                <a:ext cx="152280" cy="151920"/>
              </a:xfrm>
              <a:prstGeom prst="ellipse">
                <a:avLst/>
              </a:prstGeom>
              <a:solidFill>
                <a:srgbClr val="00ff00">
                  <a:alpha val="6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521040" y="5715000"/>
              <a:ext cx="2133720" cy="532800"/>
              <a:chOff x="6521040" y="5715000"/>
              <a:chExt cx="2133720" cy="532800"/>
            </a:xfrm>
          </p:grpSpPr>
          <p:sp>
            <p:nvSpPr>
              <p:cNvPr id="183" name=""/>
              <p:cNvSpPr/>
              <p:nvPr/>
            </p:nvSpPr>
            <p:spPr>
              <a:xfrm rot="10800000">
                <a:off x="6521040" y="5715000"/>
                <a:ext cx="2133720" cy="532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ff">
                      <a:alpha val="60392"/>
                    </a:srgbClr>
                  </a:gs>
                  <a:gs pos="100000">
                    <a:srgbClr val="fed8fe"/>
                  </a:gs>
                </a:gsLst>
                <a:lin ang="162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0800000">
                <a:off x="7511760" y="5866920"/>
                <a:ext cx="152280" cy="151920"/>
              </a:xfrm>
              <a:prstGeom prst="ellipse">
                <a:avLst/>
              </a:prstGeom>
              <a:solidFill>
                <a:srgbClr val="00ff00">
                  <a:alpha val="6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H="1">
              <a:off x="6521400" y="5257800"/>
              <a:ext cx="380880" cy="152352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59480" y="5584680"/>
              <a:ext cx="22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42200" y="5256360"/>
              <a:ext cx="84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57200" y="1728720"/>
            <a:ext cx="4038480" cy="3753000"/>
            <a:chOff x="457200" y="1728720"/>
            <a:chExt cx="4038480" cy="37530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7200" y="1728720"/>
              <a:ext cx="4038480" cy="375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0" name=""/>
            <p:cNvSpPr/>
            <p:nvPr/>
          </p:nvSpPr>
          <p:spPr>
            <a:xfrm>
              <a:off x="914400" y="1905120"/>
              <a:ext cx="144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ordinate residual for different strip wid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52480" y="41148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cm wid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95480" y="2743200"/>
              <a:ext cx="14479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 width</a:t>
              </a:r>
              <a:br>
                <a:rPr sz="18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lue and green are different thickness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742840" y="25909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400" y="182880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CCQE Vertex Efficiency vs. Absorber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9480" y="1598760"/>
            <a:ext cx="4729320" cy="464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2136240" y="2895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Q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what is being studied is the resolution (and efficiency) of reconstructing CCQE ve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 is 1.0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 is 1.5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is 2.0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 opted for 1.7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viously, this one hur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effect is inability to pick up short proton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nuclear targets, require resolution &lt; 1c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ize of the Outer Detector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Detector (OD) steel is a cost-driver (and mass-driver) for th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d for: containment of hadronic energy in DIS ev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cking of sideways going muons (B-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” in detector is result of shaving upstream end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2280" y="3878280"/>
            <a:ext cx="3637080" cy="2979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572000" cy="238896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609480" y="4495680"/>
            <a:ext cx="2971800" cy="1752840"/>
            <a:chOff x="609480" y="4495680"/>
            <a:chExt cx="2971800" cy="1752840"/>
          </a:xfrm>
        </p:grpSpPr>
        <p:sp>
          <p:nvSpPr>
            <p:cNvPr id="205" name=""/>
            <p:cNvSpPr/>
            <p:nvPr/>
          </p:nvSpPr>
          <p:spPr>
            <a:xfrm>
              <a:off x="609480" y="4495680"/>
              <a:ext cx="2971800" cy="152640"/>
            </a:xfrm>
            <a:custGeom>
              <a:avLst/>
              <a:gdLst/>
              <a:ahLst/>
              <a:rect l="l" t="t" r="r" b="b"/>
              <a:pathLst>
                <a:path w="1872" h="96">
                  <a:moveTo>
                    <a:pt x="0" y="96"/>
                  </a:moveTo>
                  <a:lnTo>
                    <a:pt x="912" y="96"/>
                  </a:lnTo>
                  <a:lnTo>
                    <a:pt x="912" y="0"/>
                  </a:lnTo>
                  <a:lnTo>
                    <a:pt x="1872" y="0"/>
                  </a:lnTo>
                  <a:lnTo>
                    <a:pt x="1824" y="0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09480" y="6095880"/>
              <a:ext cx="2971800" cy="152640"/>
            </a:xfrm>
            <a:custGeom>
              <a:avLst/>
              <a:gdLst/>
              <a:ahLst/>
              <a:rect l="l" t="t" r="r" b="b"/>
              <a:pathLst>
                <a:path w="1872" h="96">
                  <a:moveTo>
                    <a:pt x="0" y="96"/>
                  </a:moveTo>
                  <a:lnTo>
                    <a:pt x="912" y="96"/>
                  </a:lnTo>
                  <a:lnTo>
                    <a:pt x="912" y="0"/>
                  </a:lnTo>
                  <a:lnTo>
                    <a:pt x="1872" y="0"/>
                  </a:lnTo>
                  <a:lnTo>
                    <a:pt x="1824" y="0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vin McFarland</cp:lastModifiedBy>
  <dcterms:modified xsi:type="dcterms:W3CDTF">2005-02-26T20:32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