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19A-3643-4917-989A-3BC1028F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5CD-FDF3-4B13-B303-D68B1B0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78D-00C1-49ED-95A0-3A07EF91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5DF-5564-491C-9554-5ADB6D0F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71B8-16BA-4646-8BBA-C2710129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FE9-B7FB-44F2-ABBD-5B7B0D2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ABA5-30E5-40CC-8824-6F61718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BAE6-060C-4C1E-A57F-A203EEE4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33EF-C0EA-41FC-A1F7-60F8784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41E8-5012-4B04-8391-A4A5085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2279-B516-4FA9-B0DF-17B2F4A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574-C568-47D7-9E0B-214507B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FE3-9A8E-4BA2-844F-CDFDFCA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56A-DFD9-46C5-85C7-D92FDB6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E97A-16AE-47D2-B22F-B0F3375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9645-08AB-41CD-9888-D7E85A0C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218-BE8D-46B5-942E-794BF825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CA1-8BB4-46A9-BE06-6EE9B7D5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74F-E4C9-459C-8D6A-566A94A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62A-05CA-4218-8680-77D22320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352-1687-4EB4-B7D1-87F8F39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1E8-D0D7-4404-A96C-F8AF4BA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A16-E8A0-46BB-AA71-9450618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5A8-7CE2-46E8-A0B6-04252D8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4B88-6970-41E1-8303-058BB5D70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A41-251C-4BED-802C-D029197B8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ing Pervasive Data in a Ubiquitous Computing Wor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and using data withou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nowledge about data sources on the network is a fundamental activity for ubiquitous comput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ed Query Processing Systems can be used to address this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are typically peer-to-peer overlay networks built on top of existing IP-networ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in nature with some centralization under the co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address a wide variety of problems: wide-area service discovery, event notification, directory enabled networks, distributed sensor-based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ch is bes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impossible to perform a comparative stu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detailed knowledge about assumed operating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ed for different applications, performance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” system is one that provides “best” support for applications at the best performanc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1: What are the ap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? GnutellaNe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2: What are the performance metric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work/processor us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3: How to we validate/evaluate our desig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dressing Issue #1 – Factored Workload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395960"/>
            <a:ext cx="4087800" cy="657000"/>
          </a:xfrm>
          <a:prstGeom prst="parallelogram">
            <a:avLst>
              <a:gd name="adj" fmla="val 15554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25480" y="4676760"/>
            <a:ext cx="1890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9560" y="4489560"/>
            <a:ext cx="187200" cy="187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1640" y="4630680"/>
            <a:ext cx="189000" cy="1875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8240" y="4630680"/>
            <a:ext cx="188640" cy="18756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4537080"/>
            <a:ext cx="187560" cy="1872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9320" y="4348080"/>
            <a:ext cx="188640" cy="1890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65360" y="4772160"/>
            <a:ext cx="187560" cy="1872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95560" y="4348080"/>
            <a:ext cx="1872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8480" y="5288040"/>
            <a:ext cx="1872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46320" y="5330880"/>
            <a:ext cx="90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Data Agent (M, 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90680" y="5288040"/>
            <a:ext cx="187560" cy="1890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3960" y="533556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Query Agent (M,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85880" y="4395960"/>
            <a:ext cx="3666960" cy="752400"/>
            <a:chOff x="785880" y="4395960"/>
            <a:chExt cx="3666960" cy="752400"/>
          </a:xfrm>
        </p:grpSpPr>
        <p:sp>
          <p:nvSpPr>
            <p:cNvPr id="106" name=""/>
            <p:cNvSpPr/>
            <p:nvPr/>
          </p:nvSpPr>
          <p:spPr>
            <a:xfrm flipV="1">
              <a:off x="785880" y="4395960"/>
              <a:ext cx="117540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5880" y="5148360"/>
              <a:ext cx="366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248000" y="51944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3280" y="4300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5680" y="3454560"/>
            <a:ext cx="4089600" cy="658800"/>
          </a:xfrm>
          <a:prstGeom prst="parallelogram">
            <a:avLst>
              <a:gd name="adj" fmla="val 155191"/>
            </a:avLst>
          </a:prstGeom>
          <a:solidFill>
            <a:srgbClr val="3366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4480" y="37846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35956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3160" y="38782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1640" y="35956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8782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65360" y="35020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30640" y="38782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960" y="3736800"/>
            <a:ext cx="1396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2720" y="38782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1720" y="354960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5960" y="3878280"/>
            <a:ext cx="1872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36760" y="3736440"/>
            <a:ext cx="14148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1840" y="3643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06560" y="3688920"/>
            <a:ext cx="235080" cy="23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37040" y="3736800"/>
            <a:ext cx="13968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82760" y="3595680"/>
            <a:ext cx="2826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71760" y="3830760"/>
            <a:ext cx="37620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5760" y="3736800"/>
            <a:ext cx="1872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18120" y="3688920"/>
            <a:ext cx="139680" cy="18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6840" y="3595680"/>
            <a:ext cx="18720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7640" y="3830760"/>
            <a:ext cx="23508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7160" y="2562120"/>
            <a:ext cx="4089240" cy="657360"/>
          </a:xfrm>
          <a:prstGeom prst="parallelogram">
            <a:avLst>
              <a:gd name="adj" fmla="val 155518"/>
            </a:avLst>
          </a:prstGeom>
          <a:solidFill>
            <a:srgbClr val="3366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2890800"/>
            <a:ext cx="18720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9160" y="2984400"/>
            <a:ext cx="18756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2960" y="2514600"/>
            <a:ext cx="189000" cy="14112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35520" y="2890800"/>
            <a:ext cx="18720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65360" y="2514600"/>
            <a:ext cx="282600" cy="1411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0240" y="2701800"/>
            <a:ext cx="282600" cy="141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36760" y="2701800"/>
            <a:ext cx="282600" cy="141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5370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Physical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595680"/>
            <a:ext cx="85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Communications 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720" y="2514600"/>
            <a:ext cx="8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System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19360" y="2843280"/>
            <a:ext cx="469800" cy="18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6560" y="274968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Application-level protoc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342576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Network protoc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05740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uld like to contro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location of data, origin of 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ment of data/query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distributions of query an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and data generation 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ity of queries for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regions in physical 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of the above can be varied along some time axi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9:58:17Z</dcterms:created>
  <dc:creator>Paul Castro</dc:creator>
  <dc:description/>
  <dc:language>en-US</dc:language>
  <cp:lastModifiedBy>Paul Castro</cp:lastModifiedBy>
  <dcterms:modified xsi:type="dcterms:W3CDTF">2001-09-25T22:45:38Z</dcterms:modified>
  <cp:revision>4</cp:revision>
  <dc:subject/>
  <dc:title>Managing Pervasive Data in a Ubiquitous Computing World</dc:title>
</cp:coreProperties>
</file>