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714F9-09DF-43D9-816D-5F6048E6D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B2522-8D29-450E-8BA9-8BDA3B613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261B1-C5E1-4D6B-83C3-8C83A392E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47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7496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219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47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7496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50A58-2E2B-4419-AA01-32A19137E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65AFE-9DDF-486B-97F6-7126F6F87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23D05-C44C-4822-BF4E-82928D431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F4CB8-5E87-4E30-AACD-51147122D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7A998-A5BE-4B5A-A45E-EFFEEC0A1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EDF09-27AE-448B-A448-6C74A4333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1219320" y="418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937BF-C7EE-4885-9FCC-05241808E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AA1A7-1473-411D-8F00-FCF5E171C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D1C7A-C9CA-4ED4-864A-CCC322E73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83178-4EF4-4B59-B5A9-6EF4B573A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49561-FEF8-4B29-A461-36A0CCC15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0E426-1BC6-4782-9890-43294325D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5DAE9-F422-408B-B7ED-EAF17DCF3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847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47496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1219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847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47496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EB2D4-ED32-4076-8A09-224995997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18056-2186-42D5-8927-8E0358B14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FE577-3485-4D70-9C07-978C5DFBE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2C561-8A36-40E4-AF34-CEA81EBD3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219320" y="418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9F02C-4E26-4FD0-9749-511531943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F96B7-E07A-4AF5-AA3B-838AF3C6C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6602B-FC4E-4F44-843A-E7F4301C0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D170C-6F31-466A-8813-EA1A7B01D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735480" indent="-282960">
              <a:spcBef>
                <a:spcPts val="799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63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2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9A476-8363-432F-9681-C1783E197796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51920" y="313920"/>
            <a:ext cx="848160" cy="6543720"/>
            <a:chOff x="151920" y="313920"/>
            <a:chExt cx="848160" cy="6543720"/>
          </a:xfrm>
        </p:grpSpPr>
        <p:sp>
          <p:nvSpPr>
            <p:cNvPr id="6" name=""/>
            <p:cNvSpPr/>
            <p:nvPr/>
          </p:nvSpPr>
          <p:spPr>
            <a:xfrm flipH="1" rot="5400000">
              <a:off x="129240" y="31658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 flipH="1" rot="5400000">
              <a:off x="129240" y="410868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flipH="1" rot="5400000">
              <a:off x="126720" y="505008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flipH="1" rot="5400000">
              <a:off x="131400" y="5991480"/>
              <a:ext cx="885960" cy="846360"/>
            </a:xfrm>
            <a:prstGeom prst="parallelogram">
              <a:avLst>
                <a:gd name="adj" fmla="val 554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5400000">
              <a:off x="129240" y="33840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 rot="5400000">
              <a:off x="126720" y="1275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 flipH="1" rot="5400000">
              <a:off x="126720" y="222120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546840" y="1703520"/>
            <a:ext cx="8596440" cy="25380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3800"/>
              <a:gd name="textAreaBottom" fmla="*/ 254160 h 253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>
            <a:off x="460440" y="170640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>
            <a:off x="463680" y="1913040"/>
            <a:ext cx="190440" cy="46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9209160" y="16765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457200" y="173988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" name="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20" name="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55520" y="0"/>
              <a:ext cx="84456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50840" y="6445080"/>
              <a:ext cx="72540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5" name=""/>
            <p:cNvSpPr/>
            <p:nvPr/>
          </p:nvSpPr>
          <p:spPr>
            <a:xfrm>
              <a:off x="0" y="0"/>
              <a:ext cx="9144000" cy="849240"/>
            </a:xfrm>
            <a:prstGeom prst="rect">
              <a:avLst/>
            </a:prstGeom>
            <a:gradFill rotWithShape="0">
              <a:gsLst>
                <a:gs pos="0">
                  <a:srgbClr val="1c6d9a"/>
                </a:gs>
                <a:gs pos="100000">
                  <a:srgbClr val="2181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0" y="4995720"/>
              <a:ext cx="9144000" cy="1862280"/>
            </a:xfrm>
            <a:prstGeom prst="rect">
              <a:avLst/>
            </a:prstGeom>
            <a:gradFill rotWithShape="0">
              <a:gsLst>
                <a:gs pos="0">
                  <a:srgbClr val="2181b7"/>
                </a:gs>
                <a:gs pos="100000">
                  <a:srgbClr val="1c6d9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9528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dt" idx="4"/>
          </p:nvPr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ftr" idx="5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sldNum" idx="6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B4FC3-78E2-4BA2-BF33-76DA910B1166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1920" y="313920"/>
            <a:ext cx="848160" cy="6543720"/>
            <a:chOff x="151920" y="313920"/>
            <a:chExt cx="848160" cy="6543720"/>
          </a:xfrm>
        </p:grpSpPr>
        <p:sp>
          <p:nvSpPr>
            <p:cNvPr id="72" name=""/>
            <p:cNvSpPr/>
            <p:nvPr/>
          </p:nvSpPr>
          <p:spPr>
            <a:xfrm flipH="1" rot="5400000">
              <a:off x="129240" y="31658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 rot="5400000">
              <a:off x="129240" y="410868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 rot="5400000">
              <a:off x="126720" y="505008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5400000">
              <a:off x="131400" y="5991480"/>
              <a:ext cx="885960" cy="846360"/>
            </a:xfrm>
            <a:prstGeom prst="parallelogram">
              <a:avLst>
                <a:gd name="adj" fmla="val 554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rot="5400000">
              <a:off x="129240" y="33840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 rot="5400000">
              <a:off x="126720" y="1275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rot="5400000">
              <a:off x="126720" y="222120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546840" y="2717640"/>
            <a:ext cx="8596440" cy="25416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4160"/>
              <a:gd name="textAreaBottom" fmla="*/ 254520 h 254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33440" y="269712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63680" y="2700360"/>
            <a:ext cx="161640" cy="41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236160" y="26971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84200" y="276084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86" name="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55520" y="0"/>
              <a:ext cx="84456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50840" y="6445080"/>
              <a:ext cx="72540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93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lc2" descr=""/>
          <p:cNvPicPr/>
          <p:nvPr/>
        </p:nvPicPr>
        <p:blipFill>
          <a:blip r:embed="rId1"/>
          <a:stretch/>
        </p:blipFill>
        <p:spPr>
          <a:xfrm>
            <a:off x="1219320" y="0"/>
            <a:ext cx="2338200" cy="1600200"/>
          </a:xfrm>
          <a:prstGeom prst="rect">
            <a:avLst/>
          </a:prstGeom>
          <a:ln w="0">
            <a:noFill/>
          </a:ln>
        </p:spPr>
      </p:pic>
      <p:pic>
        <p:nvPicPr>
          <p:cNvPr id="131" name="w3c_main" descr=""/>
          <p:cNvPicPr/>
          <p:nvPr/>
        </p:nvPicPr>
        <p:blipFill>
          <a:blip r:embed="rId2"/>
          <a:stretch/>
        </p:blipFill>
        <p:spPr>
          <a:xfrm>
            <a:off x="5105520" y="380880"/>
            <a:ext cx="3581280" cy="106704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 txBox="1"/>
          <p:nvPr/>
        </p:nvSpPr>
        <p:spPr>
          <a:xfrm>
            <a:off x="2743200" y="2133720"/>
            <a:ext cx="40766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01b0ff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Libraries and the W3C:</a:t>
            </a:r>
            <a:endParaRPr b="1" lang="en-US" sz="2400" spc="1" strike="noStrike">
              <a:ln w="9360">
                <a:solidFill>
                  <a:srgbClr val="cc99ff"/>
                </a:solidFill>
                <a:miter/>
              </a:ln>
              <a:solidFill>
                <a:srgbClr val="01b0ff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828800" y="2786040"/>
            <a:ext cx="6019920" cy="1023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Library of Congress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905120" y="4952880"/>
            <a:ext cx="57434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Leuven ZIG Meeting, Juluy 2000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URIs  (background)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URI: “uniform resource identifier” 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32640" indent="-33264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Originally, </a:t>
            </a: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a  generalization of: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720720" indent="-27720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Impact"/>
              </a:rPr>
              <a:t>URL    </a:t>
            </a: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(uniform resource locator),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720720" indent="-27720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Impact"/>
              </a:rPr>
              <a:t>URN    </a:t>
            </a: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(uniform resource name),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720720" indent="-27720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URC      (uniform resource citation),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720720" indent="-27720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and potentially others,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32640" indent="-332640">
              <a:spcBef>
                <a:spcPts val="1001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Impact"/>
              </a:rPr>
              <a:t>but mainly, URL and URN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The difference (in theory)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 between URL and URN: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26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a URL is bound to a location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609120" indent="-23436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when resource moves, url changes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281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281160" indent="-28116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a URN is a name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609120" indent="-23436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thus location independent, and, in theory, persistent  (whatever “persistent” means)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2" marL="93708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The Other View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Distinction between URL and URN is artificia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32640" indent="-33264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Both terms should be abolished and replaced by “URI”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32640" indent="-33264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thus all identifier “schemes” would be URI schemes (even “http”) and no prefix would be necessary (URL, URN, or even URI). 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Reasoning 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294920" y="2044440"/>
            <a:ext cx="7696440" cy="420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Original URI philosophy:  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698400" indent="-268560">
              <a:spcBef>
                <a:spcPts val="601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URLs were a short-term solution and URNs long-term .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1" marL="698400" indent="-268560">
              <a:spcBef>
                <a:spcPts val="601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URL would be a temporary identification mechanism until a location-independent, persistent  identifier was developed, the URN.   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22200" indent="-32220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Now it seems: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698400" indent="-26856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URNs won’t be any more persistent than URLs – persistence is a social problem, not a technical problem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Two Views: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218960" y="2209320"/>
            <a:ext cx="3809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URL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spcBef>
                <a:spcPts val="601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http: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spcBef>
                <a:spcPts val="601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ftp: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spcBef>
                <a:spcPts val="601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z39.50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spcBef>
                <a:spcPts val="601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……</a:t>
            </a: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..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70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URN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spcBef>
                <a:spcPts val="601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nbn: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spcBef>
                <a:spcPts val="601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hdl: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70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URC?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028840" y="22860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Http: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70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ftp: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70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hdl:         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70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tv: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70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urn: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spcBef>
                <a:spcPts val="601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nbn: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spcBef>
                <a:spcPts val="601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hdl: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705720" y="3429000"/>
            <a:ext cx="687240" cy="39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?????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6858000" y="5334120"/>
            <a:ext cx="687240" cy="39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?????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124080" y="5638680"/>
            <a:ext cx="51055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7143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End of background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The Problem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371240" y="3429000"/>
            <a:ext cx="716292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LC  frustrated with the pace of development and lack of progress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no coherent URI infrastructure 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no resolution framework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124080" y="2286000"/>
            <a:ext cx="381024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8802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Frustration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URI Issues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219320" y="2044440"/>
            <a:ext cx="2666880" cy="222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resolution 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70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registration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70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proliferation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70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persistence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114440" y="2044800"/>
            <a:ext cx="4876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spcAft>
                <a:spcPts val="876"/>
              </a:spcAft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Degree of centralization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25800" indent="-325800">
              <a:spcBef>
                <a:spcPts val="700"/>
              </a:spcBef>
              <a:spcAft>
                <a:spcPts val="876"/>
              </a:spcAft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referral/re-direction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25800" indent="-325800">
              <a:spcBef>
                <a:spcPts val="700"/>
              </a:spcBef>
              <a:spcAft>
                <a:spcPts val="876"/>
              </a:spcAft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support for human readable -and  legacy- identifiers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25800" indent="-325800">
              <a:spcBef>
                <a:spcPts val="700"/>
              </a:spcBef>
              <a:spcAft>
                <a:spcPts val="876"/>
              </a:spcAft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separation of metadata from identifier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25800" indent="-325800">
              <a:spcBef>
                <a:spcPts val="700"/>
              </a:spcBef>
              <a:spcAft>
                <a:spcPts val="876"/>
              </a:spcAft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Unicode support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219320" y="4267080"/>
            <a:ext cx="2886120" cy="1714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280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These are the 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primary issues,</a:t>
            </a:r>
            <a:endParaRPr b="0" lang="en-US" sz="2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but also........</a:t>
            </a:r>
            <a:endParaRPr b="0" lang="en-US" sz="24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Primary URI Issues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Registration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705600" indent="-271440">
              <a:spcBef>
                <a:spcPts val="601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what URI  is used for ISBN?”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25800" indent="-325800">
              <a:spcBef>
                <a:spcPts val="70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resolution 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705600" indent="-271440">
              <a:spcBef>
                <a:spcPts val="601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how would it be resolved?”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25800" indent="-325800">
              <a:spcBef>
                <a:spcPts val="70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proliferation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705600" indent="-271440">
              <a:spcBef>
                <a:spcPts val="601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URI-scheme evolution must be sufficiently manageable that browsers can implement a core set of schemes so users won't be  constantly downloading plug-ins for different schemes</a:t>
            </a: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25800" indent="-325800">
              <a:spcBef>
                <a:spcPts val="70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persistence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83" name=""/>
          <p:cNvSpPr/>
          <p:nvPr/>
        </p:nvSpPr>
        <p:spPr>
          <a:xfrm>
            <a:off x="3657600" y="5486400"/>
            <a:ext cx="2743200" cy="485640"/>
          </a:xfrm>
          <a:prstGeom prst="leftArrow">
            <a:avLst>
              <a:gd name="adj1" fmla="val 50000"/>
              <a:gd name="adj2" fmla="val 141216"/>
            </a:avLst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“</a:t>
            </a: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Persistence”</a:t>
            </a:r>
            <a:br>
              <a:rPr sz="4400"/>
            </a:br>
            <a:r>
              <a:rPr b="0" lang="en-US" sz="3200" spc="-1" strike="noStrike">
                <a:solidFill>
                  <a:srgbClr val="ccffff"/>
                </a:solidFill>
                <a:latin typeface="Impact"/>
              </a:rPr>
              <a:t>it means different things to different people</a:t>
            </a:r>
            <a:endParaRPr b="0" lang="en-US" sz="32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Location-independence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727920" indent="-280080">
              <a:spcBef>
                <a:spcPts val="499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when the resource moves, the identifier remains the same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35880" indent="-335880">
              <a:spcBef>
                <a:spcPts val="70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uniqueness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727920" indent="-280080">
              <a:spcBef>
                <a:spcPts val="499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only one identifier for a given resource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35880" indent="-335880">
              <a:spcBef>
                <a:spcPts val="70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permanence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727920" indent="-28008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once assigned to a resource, the resource will exist forever</a:t>
            </a: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35880" indent="-335880">
              <a:spcBef>
                <a:spcPts val="70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unambiguous - ness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727920" indent="-280080">
              <a:spcBef>
                <a:spcPts val="499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once assigned to a resource, that identifier may never be assigned to another resource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86" name=""/>
          <p:cNvSpPr/>
          <p:nvPr/>
        </p:nvSpPr>
        <p:spPr>
          <a:xfrm>
            <a:off x="1447920" y="2971800"/>
            <a:ext cx="3733560" cy="2666880"/>
          </a:xfrm>
          <a:prstGeom prst="noSmoking">
            <a:avLst>
              <a:gd name="adj" fmla="val 12500"/>
            </a:avLst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257800" y="2057400"/>
            <a:ext cx="2590920" cy="485640"/>
          </a:xfrm>
          <a:prstGeom prst="leftArrow">
            <a:avLst>
              <a:gd name="adj1" fmla="val 50000"/>
              <a:gd name="adj2" fmla="val 133377"/>
            </a:avLst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676520" y="2895480"/>
            <a:ext cx="3657600" cy="1905120"/>
          </a:xfrm>
          <a:prstGeom prst="noSmoking">
            <a:avLst>
              <a:gd name="adj" fmla="val 12500"/>
            </a:avLst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LC’s View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601"/>
              </a:spcBef>
              <a:spcAft>
                <a:spcPts val="1049"/>
              </a:spcAft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P</a:t>
            </a: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ersistence is not a technical problem - it’s a social problem, and a problem that neither the IETF nor the W3C is equipped to solve.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22200" indent="-322200">
              <a:spcBef>
                <a:spcPts val="601"/>
              </a:spcBef>
              <a:spcAft>
                <a:spcPts val="1049"/>
              </a:spcAft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Responsibility for ensuring that URIs( continue to) resolve to the appropriate content should lie with the entity managing that content.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22200" indent="-322200">
              <a:spcBef>
                <a:spcPts val="601"/>
              </a:spcBef>
              <a:spcAft>
                <a:spcPts val="1049"/>
              </a:spcAft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Different naming schemes will be used with different semantics and administrative policies. Resolvers for a naming scheme will be  responsibility of the body administering  the scheme. 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LC and the W3C:</a:t>
            </a:r>
            <a:br>
              <a:rPr sz="4400"/>
            </a:b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History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Attended two W3C Workshops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Indexing/Distributed Search - 1996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Query Language  - 1998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37" name=""/>
          <p:cNvSpPr/>
          <p:nvPr/>
        </p:nvSpPr>
        <p:spPr>
          <a:xfrm>
            <a:off x="1295280" y="3886200"/>
            <a:ext cx="73915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Impact"/>
              </a:rPr>
              <a:t>Joined W3C April 1999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71600" y="4952880"/>
            <a:ext cx="73915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Attended 2 AC Meetings -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>
              <a:lnSpc>
                <a:spcPct val="100000"/>
              </a:lnSpc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November 1999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>
              <a:lnSpc>
                <a:spcPct val="100000"/>
              </a:lnSpc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May 20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What’s Missing?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A framework permitting an evolution of URI schemes sufficiently manageable that browsers can implement a core set of schemes so users won't be  constantly downloading plug-ins for different schemes</a:t>
            </a: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12120" indent="-31212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More to the point for the library world: </a:t>
            </a:r>
            <a:r>
              <a:rPr b="0" i="1" lang="en-US" sz="3200" spc="-1" strike="noStrike">
                <a:solidFill>
                  <a:srgbClr val="ffffff"/>
                </a:solidFill>
                <a:latin typeface="Impact"/>
              </a:rPr>
              <a:t>library automation vendors need to know what schemes they need to support. 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What’s Missing? </a:t>
            </a:r>
            <a:r>
              <a:rPr b="0" lang="en-US" sz="2400" spc="-1" strike="noStrike">
                <a:solidFill>
                  <a:srgbClr val="ccffff"/>
                </a:solidFill>
                <a:latin typeface="Impact"/>
              </a:rPr>
              <a:t>(continued)</a:t>
            </a:r>
            <a:endParaRPr b="0" lang="en-US" sz="2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A deployed mechanism for directing resolution requests to the appropriate resolver.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29040" indent="-329040">
              <a:spcBef>
                <a:spcPts val="601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An effective technical infrastructure allowing identifiers to be recognized and handled by browsers. 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29040" indent="-329040">
              <a:spcBef>
                <a:spcPts val="601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A single  document  -- for example,  </a:t>
            </a:r>
            <a:r>
              <a:rPr b="1" lang="en-US" sz="3200" spc="-1" strike="noStrike">
                <a:solidFill>
                  <a:srgbClr val="ffffff"/>
                </a:solidFill>
                <a:latin typeface="Impact"/>
              </a:rPr>
              <a:t>a W3C technical report or, preferably, a Recommendation </a:t>
            </a: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-- that  ties all the information together coherently, and  recommends revision where appropriate.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3200400" y="2933640"/>
            <a:ext cx="4648320" cy="1790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The Resul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What is a URI?  Two Views: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218960" y="2514600"/>
            <a:ext cx="38098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URL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713160" indent="-274320">
              <a:spcBef>
                <a:spcPts val="601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http: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1" marL="713160" indent="-274320">
              <a:spcBef>
                <a:spcPts val="601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ftp: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1" marL="713160" indent="-274320">
              <a:spcBef>
                <a:spcPts val="601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z39.50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1" marL="713160" indent="-274320">
              <a:spcBef>
                <a:spcPts val="601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……</a:t>
            </a: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..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29040" indent="-329040">
              <a:spcBef>
                <a:spcPts val="70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URN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713160" indent="-274320">
              <a:spcBef>
                <a:spcPts val="601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nbn: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1" marL="713160" indent="-274320">
              <a:spcBef>
                <a:spcPts val="601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hdl: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29040" indent="-329040">
              <a:spcBef>
                <a:spcPts val="70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URC?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5028840" y="2743200"/>
            <a:ext cx="3809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Http: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70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ftp: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70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hdl: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70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tv: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70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urn: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spcBef>
                <a:spcPts val="601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nbn: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spcBef>
                <a:spcPts val="601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hdl: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1523880" y="1981080"/>
            <a:ext cx="222912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Old View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5334120" y="2133720"/>
            <a:ext cx="22287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New View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New URI Interest Group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New W3C Proposal for a </a:t>
            </a: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URI Interest Group 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spcBef>
                <a:spcPts val="499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within the Architecture Domain 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601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to: “Build and maintain shared understanding around URIs technology and specifications”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601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mission:  to be responsive to the needs of the W3C membership and WGs for information about URI technology. 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LC’s interest in WAI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LC is a Federal Agency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70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LC includes NLSBPH </a:t>
            </a: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(National Library Service for the Blind and Physically Handicapped)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Digital talking books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Web-braille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Information Retrieval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2193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2100"/>
              </a:spcAft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XML and Protocols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spcBef>
                <a:spcPts val="601"/>
              </a:spcBef>
              <a:spcAft>
                <a:spcPts val="1800"/>
              </a:spcAft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Z39.50?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700"/>
              </a:spcBef>
              <a:spcAft>
                <a:spcPts val="2100"/>
              </a:spcAft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Z39.50/RDF  integration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spcBef>
                <a:spcPts val="499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an RDF representation of Z39.50 attribute sets?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spcBef>
                <a:spcPts val="499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align RDF and Z39.50 data models? 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70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XML query language  a Z39.50 query type?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295280" y="4724280"/>
            <a:ext cx="73152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24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ff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Do libraries care about the W3C?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ffff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447920" y="2514600"/>
            <a:ext cx="73152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24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ff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Does the W3C care about libraries?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ffff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23880" y="3352680"/>
            <a:ext cx="304812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No,  not  really.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676520" y="5410080"/>
            <a:ext cx="304776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No,  not  really.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Why should libraries care?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19320" y="2044440"/>
            <a:ext cx="7772400" cy="22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0000"/>
          </a:bodyPr>
          <a:p>
            <a:pPr marL="205560" indent="-20556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Libraries have a big stake in several activity areas.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205560" indent="-20556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Libraries have significant expertise to offer in several areas  e.g.: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445680" indent="-17136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metadata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445680" indent="-17136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identifiers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445680" indent="-17136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character sets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445680" indent="-17136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information retrieval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45" name=""/>
          <p:cNvSpPr/>
          <p:nvPr/>
        </p:nvSpPr>
        <p:spPr>
          <a:xfrm>
            <a:off x="3719520" y="568008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LC’s interest in W3C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218960" y="2044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HTM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tylesheets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XM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Metadata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graphics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Character Sets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181480" y="2044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Identifiers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Information Retrieval/Query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Accessibility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Digital Signatures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IPR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LC’s interest in W3C - </a:t>
            </a:r>
            <a:br>
              <a:rPr sz="4400"/>
            </a:b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Categories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218960" y="2057400"/>
            <a:ext cx="3886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524"/>
              </a:spcBef>
              <a:spcAft>
                <a:spcPts val="524"/>
              </a:spcAft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Impact"/>
              </a:rPr>
              <a:t>As a content provider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25800" indent="-325800">
              <a:spcBef>
                <a:spcPts val="524"/>
              </a:spcBef>
              <a:spcAft>
                <a:spcPts val="524"/>
              </a:spcAft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Impact"/>
              </a:rPr>
              <a:t>Copyright  Office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25800" indent="-325800">
              <a:spcBef>
                <a:spcPts val="524"/>
              </a:spcBef>
              <a:spcAft>
                <a:spcPts val="524"/>
              </a:spcAft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Impact"/>
              </a:rPr>
              <a:t>Nat. Library for Blind and Physically Handicapped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25800" indent="-325800">
              <a:spcBef>
                <a:spcPts val="524"/>
              </a:spcBef>
              <a:spcAft>
                <a:spcPts val="524"/>
              </a:spcAft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Impact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Impact"/>
              </a:rPr>
              <a:t>Library/part of  library community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9528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LC’s interest in W3C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As a content provider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653760" indent="-251280">
              <a:spcBef>
                <a:spcPts val="601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HTML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1" marL="653760" indent="-251280">
              <a:spcBef>
                <a:spcPts val="601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Stylesheets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1" marL="653760" indent="-251280">
              <a:spcBef>
                <a:spcPts val="601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XML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1" marL="653760" indent="-251280">
              <a:spcBef>
                <a:spcPts val="601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graphics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01680" indent="-301680">
              <a:spcBef>
                <a:spcPts val="70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Copyright  Office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653760" indent="-251280">
              <a:spcBef>
                <a:spcPts val="601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Digital Signatures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1" marL="653760" indent="-251280">
              <a:spcBef>
                <a:spcPts val="601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IPR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01680" indent="-301680">
              <a:spcBef>
                <a:spcPts val="70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NLSBPH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653760" indent="-251280">
              <a:spcBef>
                <a:spcPts val="601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Accessibility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01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Library-related interests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Metadata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Character Sets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Identifiers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Information Retrieval/Query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Accessibility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55" name=""/>
          <p:cNvSpPr/>
          <p:nvPr/>
        </p:nvSpPr>
        <p:spPr>
          <a:xfrm>
            <a:off x="3733920" y="3124080"/>
            <a:ext cx="2133360" cy="762120"/>
          </a:xfrm>
          <a:prstGeom prst="leftArrow">
            <a:avLst>
              <a:gd name="adj1" fmla="val 50000"/>
              <a:gd name="adj2" fmla="val 69981"/>
            </a:avLst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477120" y="3962520"/>
            <a:ext cx="914400" cy="409320"/>
          </a:xfrm>
          <a:prstGeom prst="leftArrow">
            <a:avLst>
              <a:gd name="adj1" fmla="val 50000"/>
              <a:gd name="adj2" fmla="val 55849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419720" y="4495680"/>
            <a:ext cx="1295280" cy="409680"/>
          </a:xfrm>
          <a:prstGeom prst="leftArrow">
            <a:avLst>
              <a:gd name="adj1" fmla="val 50000"/>
              <a:gd name="adj2" fmla="val 79042"/>
            </a:avLst>
          </a:prstGeom>
          <a:solidFill>
            <a:srgbClr val="01b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Proposal for  URI Activity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Proposed at November 1999 AC Meeting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705600" indent="-27144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Dan LaLiberte, Chair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25800" indent="-32580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Proposal seemed well-received (certainly, by LC)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25800" indent="-32580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Proposal withdrawn abruptly, by Tim Berners-Lee, January 200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25800" indent="-32580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LC was not pleased.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16T17:08:57Z</dcterms:created>
  <dc:creator>Ray Denenberg</dc:creator>
  <dc:description/>
  <dc:language>en-US</dc:language>
  <cp:lastModifiedBy>Ray Denenberg</cp:lastModifiedBy>
  <cp:lastPrinted>2000-03-24T19:38:48Z</cp:lastPrinted>
  <dcterms:modified xsi:type="dcterms:W3CDTF">2000-07-07T14:24:54Z</dcterms:modified>
  <cp:revision>38</cp:revision>
  <dc:subject/>
  <dc:title>URI Issues</dc:title>
</cp:coreProperties>
</file>