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38.wmf" ContentType="image/x-wmf"/>
  <Override PartName="/ppt/media/image12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0.png" ContentType="image/png"/>
  <Override PartName="/ppt/media/image13.wmf" ContentType="image/x-wmf"/>
  <Override PartName="/ppt/media/image14.png" ContentType="image/png"/>
  <Override PartName="/ppt/media/image10.jpeg" ContentType="image/jpeg"/>
  <Override PartName="/ppt/media/image31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6.png" ContentType="image/png"/>
  <Override PartName="/ppt/media/image37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28.png" ContentType="image/png"/>
  <Override PartName="/ppt/media/image1.wmf" ContentType="image/x-wmf"/>
  <Override PartName="/ppt/media/image16.png" ContentType="image/png"/>
  <Override PartName="/ppt/media/image2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386-2FC4-436D-91BA-B5358008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8B5-E3F1-48E0-A02F-5B2B054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E51-D6EE-41CF-A324-C1DB002F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6B9-438A-498C-BE2B-C5EB43F3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D7ED-82C1-4C9A-BCEE-8E845DBA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F5F-0731-44C1-88B5-B403265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DD0-C206-4B19-8F30-C6A0D32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C2E-D9BF-47FE-92FB-93B7C4B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BC8D-904A-48F2-B8D9-047CECD5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E4AC-CD3C-4840-9D1F-D4C2847B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1E8-E5DE-44A2-9CEC-327C1BC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AB8-087B-40FC-910C-9DB0247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0F30-B077-431E-8512-A2C51D2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26C-AE62-4E54-A61B-A473CF5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EE14-A60E-45B2-B0AF-47E73174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1EEA-9638-4924-BD24-D41456CA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1FC-1879-4555-9631-4A2C2C58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48A6-FF5F-4CC6-9130-C8816191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F00F-B6E6-49CA-B6CA-BCC1CF87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E39B-CAAF-4B67-9870-887077E8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4352-C5C3-4861-8D5F-60A503E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AD45-C97E-4BA5-A527-822AAE4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858-B66C-453A-8E43-B8ACA60C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67CC-9390-47C1-BA21-FA05BD6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6673-29F0-46B1-B4FC-4B15206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2308-1B32-4D55-B76C-B8430F8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17CA-F83B-490F-AF47-904F6AF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F7D1-8109-4DD3-BF8E-70693E6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132C-0632-4FE8-AB58-9E5FC7F1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73E0-0744-4991-91FB-5809AF22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A94-14F1-44D4-A74B-C41B87B2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966-D6F0-4BB5-ACE3-5667F3C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8E2-8A75-4F2B-B0D9-B1C4C83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8F7-7A2C-431A-A72F-5604ED3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08A-A62F-4F00-B805-112E321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5EA-6640-485D-A032-A91D794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7F6-58F3-40E3-9B79-F89CA9638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22C-633E-4FA5-9C23-E8A29AD08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8FCF-6F7E-41FE-B53A-131BF26A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conbazaar.com/bars/contributed/pg04.html" TargetMode="External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95480" y="44136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rce vs. Sink Contributions to Atmospheric Methane Trends: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6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4360" y="457200"/>
            <a:ext cx="286236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3200" y="4038480"/>
            <a:ext cx="6400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lene M. Fi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Larry Horowitz (NOAA/GF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d Dlugokencky (NOAA/GMD)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Jason West (Prince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l Seminar at NOAA G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nuary 24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-Varying Emissions:  Summar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: Focus on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 Examine with BASE model (constant e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 Recycle NCEP winds from 2004 “steady-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474" t="3843" r="1474" b="3843"/>
          <a:stretch/>
        </p:blipFill>
        <p:spPr>
          <a:xfrm>
            <a:off x="380880" y="1219320"/>
            <a:ext cx="4419720" cy="3238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665440" y="2819520"/>
            <a:ext cx="13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1968480"/>
            <a:ext cx="4206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nnual mean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in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me-varying ANTH+BI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imulation best captu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bserved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743200" y="2437920"/>
            <a:ext cx="2286000" cy="3049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ane rises again when 1990-1997 win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applied to “steady-state” 2004 concent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63480" y="1600200"/>
          <a:ext cx="73375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600200"/>
                    <a:ext cx="7337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495680" y="1981080"/>
            <a:ext cx="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8000" y="3886200"/>
            <a:ext cx="3760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ed NCEP 1990-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9135800">
            <a:off x="4190760" y="2514240"/>
            <a:ext cx="2276280" cy="636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3080" y="5791320"/>
            <a:ext cx="65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 drivers for observed tr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 just simple approach to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53320" y="1219320"/>
            <a:ext cx="6243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-weighted global mean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imulation (constant emi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768000">
            <a:off x="900000" y="3627360"/>
            <a:ext cx="2309760" cy="563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1431" t="2939" r="2855" b="2939"/>
          <a:stretch/>
        </p:blipFill>
        <p:spPr>
          <a:xfrm>
            <a:off x="3429000" y="4343400"/>
            <a:ext cx="3657600" cy="2511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974040" y="58993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es meteorology affect th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fetime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0760" y="2157480"/>
            <a:ext cx="2751120" cy="1084680"/>
            <a:chOff x="5630760" y="2157480"/>
            <a:chExt cx="2751120" cy="108468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324480" y="2157480"/>
                  <a:ext cx="20574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30760" y="2233800"/>
              <a:ext cx="69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838080"/>
            <a:ext cx="4682880" cy="2971800"/>
            <a:chOff x="228600" y="838080"/>
            <a:chExt cx="4682880" cy="297180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rcRect l="2573" t="4152" r="2249" b="3834"/>
            <a:stretch/>
          </p:blipFill>
          <p:spPr>
            <a:xfrm>
              <a:off x="228600" y="1066680"/>
              <a:ext cx="4495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541240" y="3159000"/>
              <a:ext cx="19501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ecycled NCE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535120" y="1430280"/>
              <a:ext cx="7920" cy="207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9200" y="838080"/>
              <a:ext cx="429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4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ifetime against Tropospheric 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44200" y="6477120"/>
            <a:ext cx="17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olecules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726800" y="3138120"/>
            <a:ext cx="1674000" cy="597240"/>
            <a:chOff x="4726800" y="3138120"/>
            <a:chExt cx="1674000" cy="597240"/>
          </a:xfrm>
        </p:grpSpPr>
        <p:sp>
          <p:nvSpPr>
            <p:cNvPr id="308" name=""/>
            <p:cNvSpPr/>
            <p:nvPr/>
          </p:nvSpPr>
          <p:spPr>
            <a:xfrm>
              <a:off x="4726800" y="336708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emper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019920" y="313812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781680" y="3200400"/>
            <a:ext cx="1752480" cy="1333800"/>
            <a:chOff x="6781680" y="3200400"/>
            <a:chExt cx="1752480" cy="1333800"/>
          </a:xfrm>
        </p:grpSpPr>
        <p:sp>
          <p:nvSpPr>
            <p:cNvPr id="311" name=""/>
            <p:cNvSpPr/>
            <p:nvPr/>
          </p:nvSpPr>
          <p:spPr>
            <a:xfrm>
              <a:off x="6781680" y="3579840"/>
              <a:ext cx="1752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umid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ightning N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hoto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162560" y="32004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105520" y="1103400"/>
            <a:ext cx="3574800" cy="1106280"/>
            <a:chOff x="5105520" y="1103400"/>
            <a:chExt cx="3574800" cy="1106280"/>
          </a:xfrm>
        </p:grpSpPr>
        <p:grpSp>
          <p:nvGrpSpPr>
            <p:cNvPr id="314" name=""/>
            <p:cNvGrpSpPr/>
            <p:nvPr/>
          </p:nvGrpSpPr>
          <p:grpSpPr>
            <a:xfrm>
              <a:off x="5105520" y="1600200"/>
              <a:ext cx="3574800" cy="609480"/>
              <a:chOff x="5105520" y="1600200"/>
              <a:chExt cx="3574800" cy="609480"/>
            </a:xfrm>
          </p:grpSpPr>
          <p:sp>
            <p:nvSpPr>
              <p:cNvPr id="315" name=""/>
              <p:cNvSpPr/>
              <p:nvPr/>
            </p:nvSpPr>
            <p:spPr>
              <a:xfrm>
                <a:off x="5105520" y="1600200"/>
                <a:ext cx="357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Rapid transport to sink reg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91160" y="190512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108040" y="110340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andidate Processes: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5800" y="2057400"/>
            <a:ext cx="990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76520" y="2561760"/>
            <a:ext cx="761760" cy="19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85880" y="213372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1752480"/>
            <a:ext cx="990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2362320"/>
            <a:ext cx="933480" cy="19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91000" y="182880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rcRect l="1517" t="2451" r="5154" b="4522"/>
          <a:stretch/>
        </p:blipFill>
        <p:spPr>
          <a:xfrm>
            <a:off x="76320" y="4343400"/>
            <a:ext cx="3581280" cy="2409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28240" y="3854520"/>
            <a:ext cx="60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ifetime Correlates Strongly With Lower Troposph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H                  and             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6320" y="5867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44120" y="49528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89 vs.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1998 neg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0.80 for Te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onstruc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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-0.17 years) from 1991-1995 to 2000-2004 into individual contributions by varying OH and temperature separate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2579" t="3843" r="1932" b="3843"/>
          <a:stretch/>
        </p:blipFill>
        <p:spPr>
          <a:xfrm>
            <a:off x="1600200" y="1447920"/>
            <a:ext cx="5638680" cy="3657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423880" y="4876920"/>
            <a:ext cx="122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(+0.3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37040" y="489096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(+1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68080" y="487980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07120" y="323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9600" y="323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62120" y="2666880"/>
            <a:ext cx="8384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8000" y="2666880"/>
            <a:ext cx="8384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7320" y="5257800"/>
            <a:ext cx="782496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H increases in the model by 1.4% due to a 0.3 Tg N yr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in lightning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emiss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uncertainties in magnitude (and trend) of lightning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missions in the real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rcRect l="1474" t="3843" r="1474" b="3843"/>
          <a:stretch/>
        </p:blipFill>
        <p:spPr>
          <a:xfrm>
            <a:off x="76320" y="1181160"/>
            <a:ext cx="4419360" cy="3238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ane Distribution and Trends:  Conclu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0" t="0" r="6169" b="0"/>
          <a:stretch/>
        </p:blipFill>
        <p:spPr>
          <a:xfrm>
            <a:off x="2133720" y="2857680"/>
            <a:ext cx="1901880" cy="1182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083240" y="1233360"/>
            <a:ext cx="264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66680" y="5867280"/>
            <a:ext cx="6762600" cy="488160"/>
            <a:chOff x="1066680" y="5867280"/>
            <a:chExt cx="6762600" cy="488160"/>
          </a:xfrm>
        </p:grpSpPr>
        <p:sp>
          <p:nvSpPr>
            <p:cNvPr id="343" name=""/>
            <p:cNvSpPr/>
            <p:nvPr/>
          </p:nvSpPr>
          <p:spPr>
            <a:xfrm>
              <a:off x="2038680" y="5895720"/>
              <a:ext cx="579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otential for strong climate feedback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6680" y="5867280"/>
              <a:ext cx="975960" cy="485640"/>
            </a:xfrm>
            <a:custGeom>
              <a:avLst/>
              <a:gdLst>
                <a:gd name="textAreaLeft" fmla="*/ 152280 w 975960"/>
                <a:gd name="textAreaRight" fmla="*/ 854280 w 97596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1640" y="351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0120" y="4419720"/>
            <a:ext cx="850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H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creases by ~2% from 1991-1995 to 2000-2004 due to warmer temperatures (35%) and higher OH (65%), resulting from a 10% increase in lightning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1398600"/>
            <a:ext cx="472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(constant emissions) captures observed rate of increase 1990-1997 and leveling off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 improves modeled CH4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Wetland emissions in ANTH+BIO best match observed seasonality, inter-hemispheric gradient and global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: How will future global change influence atmospheric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complex biosphere-atmosphere interactions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tudied with GFDL earth system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45268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CH</a:t>
            </a:r>
            <a:r>
              <a:rPr b="1" lang="en-US" sz="4800" spc="-1" strike="noStrike" baseline="-25000">
                <a:solidFill>
                  <a:srgbClr val="0000cc"/>
                </a:solidFill>
                <a:latin typeface="Tahoma"/>
              </a:rPr>
              <a:t>4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+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OH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     …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roducts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6023" t="12575" r="7228" b="11317"/>
          <a:stretch/>
        </p:blipFill>
        <p:spPr>
          <a:xfrm>
            <a:off x="76320" y="5334120"/>
            <a:ext cx="2514600" cy="1466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943600" y="6019920"/>
            <a:ext cx="3124080" cy="6858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4956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00240" y="25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2"/>
          </p:cNvPr>
          <p:cNvPicPr/>
          <p:nvPr/>
        </p:nvPicPr>
        <p:blipFill>
          <a:blip r:embed="rId3"/>
          <a:srcRect l="0" t="0" r="72424" b="0"/>
          <a:stretch/>
        </p:blipFill>
        <p:spPr>
          <a:xfrm>
            <a:off x="2057400" y="5823000"/>
            <a:ext cx="4038480" cy="958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848720" y="1371600"/>
            <a:ext cx="1100160" cy="1143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4038480"/>
            <a:ext cx="838080" cy="1143000"/>
          </a:xfrm>
          <a:prstGeom prst="upArrow">
            <a:avLst>
              <a:gd name="adj1" fmla="val 50000"/>
              <a:gd name="adj2" fmla="val 3409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495680"/>
            <a:ext cx="838080" cy="1143000"/>
          </a:xfrm>
          <a:prstGeom prst="upArrow">
            <a:avLst>
              <a:gd name="adj1" fmla="val 50000"/>
              <a:gd name="adj2" fmla="val 34096"/>
            </a:avLst>
          </a:prstGeom>
          <a:solidFill>
            <a:srgbClr val="00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53080" y="472428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4360" y="4054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V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09440" y="41911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91120" y="32004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0800000">
            <a:off x="3733560" y="3276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809880"/>
            <a:ext cx="6858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29600" y="3581280"/>
            <a:ext cx="6858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039200">
            <a:off x="7467480" y="396180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1374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703120" y="3198960"/>
            <a:ext cx="3447000" cy="1898280"/>
            <a:chOff x="5703120" y="3198960"/>
            <a:chExt cx="3447000" cy="1898280"/>
          </a:xfrm>
        </p:grpSpPr>
        <p:sp>
          <p:nvSpPr>
            <p:cNvPr id="368" name=""/>
            <p:cNvSpPr/>
            <p:nvPr/>
          </p:nvSpPr>
          <p:spPr>
            <a:xfrm rot="20989200">
              <a:off x="6122520" y="3544560"/>
              <a:ext cx="2935440" cy="1303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3120" y="3198960"/>
              <a:ext cx="32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igher in a warmer climat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0000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201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than half of global methane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influenced by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300 Tg CH4 y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thropogenic [EDGAR 3.2 Fast-Track 2000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livier 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,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200 Tg CH4 y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iogenic sources 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ang 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, 2004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132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62360" y="480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1224000" cy="852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772400" y="4572000"/>
            <a:ext cx="95256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590920" y="3282840"/>
          <a:ext cx="449568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82840"/>
                    <a:ext cx="44956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405760" y="3321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18240" y="3809880"/>
            <a:ext cx="18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LANDFILL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WAS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62800" y="46483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S +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89880" y="533412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5500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ICE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09480" y="54100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cc"/>
                </a:solidFill>
                <a:latin typeface="Arial"/>
              </a:rPr>
              <a:t>TERM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63920" y="35496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WET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8954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BIOMASS BURNING + BIOFUE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327560"/>
            <a:ext cx="2667240" cy="1050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M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g 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rcRect l="0" t="36399" r="20950" b="0"/>
          <a:stretch/>
        </p:blipFill>
        <p:spPr>
          <a:xfrm>
            <a:off x="4352760" y="1905120"/>
            <a:ext cx="1438560" cy="99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0400" y="3352680"/>
            <a:ext cx="45720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72200" y="2895480"/>
            <a:ext cx="53352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029200"/>
            <a:ext cx="60948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010280" y="5703840"/>
            <a:ext cx="1403640" cy="1001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00800" y="5943600"/>
            <a:ext cx="5335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rcRect l="0" t="13402" r="23699" b="23402"/>
          <a:stretch/>
        </p:blipFill>
        <p:spPr>
          <a:xfrm>
            <a:off x="4419720" y="5791320"/>
            <a:ext cx="1676160" cy="1042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rcRect l="5544" t="10866" r="5544" b="9156"/>
          <a:stretch/>
        </p:blipFill>
        <p:spPr>
          <a:xfrm>
            <a:off x="7848720" y="2971800"/>
            <a:ext cx="1279440" cy="795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7467120" y="3352680"/>
            <a:ext cx="38124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rcRect l="6023" t="12575" r="7228" b="11317"/>
          <a:stretch/>
        </p:blipFill>
        <p:spPr>
          <a:xfrm>
            <a:off x="1523880" y="220968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4390920" y="4343040"/>
            <a:ext cx="4860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952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809880"/>
            <a:ext cx="76212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d trend in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ppb)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51037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42 GMD stations with 8-yr minimum record is area-weighted, after averaging in b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-90N, 30-60N, 0-30N, 0-30S, 30-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6040" y="1598760"/>
          <a:ext cx="546264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598760"/>
                    <a:ext cx="54626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3"/>
          <a:srcRect l="0" t="0" r="6169" b="0"/>
          <a:stretch/>
        </p:blipFill>
        <p:spPr>
          <a:xfrm>
            <a:off x="2819520" y="3016080"/>
            <a:ext cx="2743200" cy="1706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661920" y="2701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5520" y="1295280"/>
            <a:ext cx="264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484280"/>
            <a:ext cx="35053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potheses for leveling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cussed in the liter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Approach to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Source Chang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rop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t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omass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Sink (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H precursor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erhead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0640" y="632448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does a 3-D forward model compare with GMD observ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828800" y="1828800"/>
            <a:ext cx="7315200" cy="4952880"/>
            <a:chOff x="1828800" y="1828800"/>
            <a:chExt cx="7315200" cy="49528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2256" t="3843" r="3548" b="3843"/>
            <a:stretch/>
          </p:blipFill>
          <p:spPr>
            <a:xfrm>
              <a:off x="2514600" y="2424240"/>
              <a:ext cx="6629400" cy="43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930840" y="2209680"/>
              <a:ext cx="40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Mean Surface Methane (pp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59800" y="586728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ER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800" y="1828800"/>
              <a:ext cx="3124080" cy="1752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with constant emissions largely captu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d trend in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uring the 1990s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27040" y="4167360"/>
            <a:ext cx="3943440" cy="1549800"/>
            <a:chOff x="5027040" y="4167360"/>
            <a:chExt cx="3943440" cy="1549800"/>
          </a:xfrm>
        </p:grpSpPr>
        <p:sp>
          <p:nvSpPr>
            <p:cNvPr id="175" name=""/>
            <p:cNvSpPr/>
            <p:nvPr/>
          </p:nvSpPr>
          <p:spPr>
            <a:xfrm>
              <a:off x="6910560" y="4167360"/>
              <a:ext cx="0" cy="6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7040" y="4708440"/>
              <a:ext cx="3943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aptures flattening post-199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ut underestimates abund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missions problem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920" y="1398600"/>
            <a:ext cx="50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ZART-2  [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Horowitz et a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, 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39760" y="76320"/>
            <a:ext cx="105552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320" y="18288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C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9°x1.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GAR v.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D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78400" y="1598760"/>
            <a:ext cx="4405320" cy="324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4080" y="1598760"/>
            <a:ext cx="4405320" cy="3246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and Correlation vs. GMD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064240" y="5334120"/>
            <a:ext cx="5188320" cy="9169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 constant e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estimates interhemispheric grad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es poorly at high norther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7360" y="1828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4960" y="138600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6680" y="1371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imates for Changing Methane Sources in the 1990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2666880"/>
          <a:ext cx="38862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3886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362320" y="914400"/>
          <a:ext cx="1676160" cy="91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914400"/>
                    <a:ext cx="1676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85240" y="2452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544320" y="3980520"/>
            <a:ext cx="132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9840" y="64911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AR anthropogenic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914400"/>
          <a:ext cx="2057400" cy="1219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914400"/>
                    <a:ext cx="2057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 flipV="1">
            <a:off x="2057400" y="23940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3400" y="1828800"/>
            <a:ext cx="31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djusted to mai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tot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1040" y="6095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00200" y="5867280"/>
            <a:ext cx="2590920" cy="520920"/>
            <a:chOff x="1600200" y="5867280"/>
            <a:chExt cx="2590920" cy="520920"/>
          </a:xfrm>
        </p:grpSpPr>
        <p:sp>
          <p:nvSpPr>
            <p:cNvPr id="201" name=""/>
            <p:cNvSpPr/>
            <p:nvPr/>
          </p:nvSpPr>
          <p:spPr>
            <a:xfrm>
              <a:off x="1600200" y="617220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63120" y="601992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2520" y="5867280"/>
              <a:ext cx="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68800" y="5889600"/>
              <a:ext cx="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523880" y="1143000"/>
            <a:ext cx="7620120" cy="4114800"/>
            <a:chOff x="1523880" y="1143000"/>
            <a:chExt cx="7620120" cy="4114800"/>
          </a:xfrm>
        </p:grpSpPr>
        <p:grpSp>
          <p:nvGrpSpPr>
            <p:cNvPr id="206" name=""/>
            <p:cNvGrpSpPr/>
            <p:nvPr/>
          </p:nvGrpSpPr>
          <p:grpSpPr>
            <a:xfrm>
              <a:off x="4343400" y="1143000"/>
              <a:ext cx="4800600" cy="4114800"/>
              <a:chOff x="4343400" y="1143000"/>
              <a:chExt cx="4800600" cy="4114800"/>
            </a:xfrm>
          </p:grpSpPr>
          <p:pic>
            <p:nvPicPr>
              <p:cNvPr id="207" name="" descr=""/>
              <p:cNvPicPr/>
              <p:nvPr/>
            </p:nvPicPr>
            <p:blipFill>
              <a:blip r:embed="rId7"/>
              <a:srcRect l="2256" t="3843" r="2256" b="1272"/>
              <a:stretch/>
            </p:blipFill>
            <p:spPr>
              <a:xfrm>
                <a:off x="4343400" y="2057400"/>
                <a:ext cx="480060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725720" y="1143000"/>
                <a:ext cx="42865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-annually varying wetland emiss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90-1998 from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Wang et 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 [2004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Tg 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yr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; distribution chang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523880" y="2666880"/>
              <a:ext cx="4876920" cy="1447920"/>
              <a:chOff x="1523880" y="2666880"/>
              <a:chExt cx="4876920" cy="1447920"/>
            </a:xfrm>
          </p:grpSpPr>
          <p:sp>
            <p:nvSpPr>
              <p:cNvPr id="210" name=""/>
              <p:cNvSpPr/>
              <p:nvPr/>
            </p:nvSpPr>
            <p:spPr>
              <a:xfrm>
                <a:off x="1523880" y="266688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191120" y="3124080"/>
                <a:ext cx="2209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410080" y="3581280"/>
            <a:ext cx="3505320" cy="2363400"/>
            <a:chOff x="5410080" y="3581280"/>
            <a:chExt cx="3505320" cy="2363400"/>
          </a:xfrm>
        </p:grpSpPr>
        <p:sp>
          <p:nvSpPr>
            <p:cNvPr id="213" name=""/>
            <p:cNvSpPr/>
            <p:nvPr/>
          </p:nvSpPr>
          <p:spPr>
            <a:xfrm>
              <a:off x="7010280" y="3581280"/>
              <a:ext cx="1905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10080" y="5302080"/>
              <a:ext cx="3200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pply climatological m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224 Tg yr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 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924680" y="4419360"/>
              <a:ext cx="152640" cy="99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600200" y="6226200"/>
            <a:ext cx="7086600" cy="390600"/>
            <a:chOff x="1600200" y="6226200"/>
            <a:chExt cx="7086600" cy="390600"/>
          </a:xfrm>
        </p:grpSpPr>
        <p:grpSp>
          <p:nvGrpSpPr>
            <p:cNvPr id="217" name=""/>
            <p:cNvGrpSpPr/>
            <p:nvPr/>
          </p:nvGrpSpPr>
          <p:grpSpPr>
            <a:xfrm>
              <a:off x="1600200" y="6226200"/>
              <a:ext cx="7086600" cy="326880"/>
              <a:chOff x="1600200" y="6226200"/>
              <a:chExt cx="7086600" cy="326880"/>
            </a:xfrm>
          </p:grpSpPr>
          <p:sp>
            <p:nvSpPr>
              <p:cNvPr id="218" name=""/>
              <p:cNvSpPr/>
              <p:nvPr/>
            </p:nvSpPr>
            <p:spPr>
              <a:xfrm>
                <a:off x="1600200" y="6400800"/>
                <a:ext cx="70866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11360" y="6226200"/>
                <a:ext cx="0" cy="3049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686800" y="6248520"/>
                <a:ext cx="0" cy="304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93520" y="6248520"/>
              <a:ext cx="1483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NTH + 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230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60920" y="684360"/>
            <a:ext cx="4405320" cy="3246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447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2256" t="3843" r="4840" b="3843"/>
          <a:stretch/>
        </p:blipFill>
        <p:spPr>
          <a:xfrm>
            <a:off x="304920" y="990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844000" y="236232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62360" y="3581280"/>
            <a:ext cx="4405320" cy="324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16200000">
            <a:off x="3858840" y="185688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1840" y="4800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&amp; Correlation vs. GMD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bservations: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03120" y="4414680"/>
            <a:ext cx="442116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ime-varying EDGAR 3.2 emi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s abundance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hemispheric gradient too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 correlation at high 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0" r="0" b="6112"/>
          <a:stretch/>
        </p:blipFill>
        <p:spPr>
          <a:xfrm>
            <a:off x="4662360" y="685800"/>
            <a:ext cx="4405320" cy="3048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1447920"/>
            <a:ext cx="304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600200"/>
            <a:ext cx="30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58840" y="185688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419720"/>
            <a:ext cx="3813120" cy="1739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ime-varying EDGAR 3.2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+ wetland emiss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surface c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hemispheric grad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 at high 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&amp; Correlation vs. GMD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bservations: 199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4694" r="0" b="0"/>
          <a:stretch/>
        </p:blipFill>
        <p:spPr>
          <a:xfrm>
            <a:off x="4662360" y="3581280"/>
            <a:ext cx="4405320" cy="309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1474" t="3843" r="1474" b="3843"/>
          <a:stretch/>
        </p:blipFill>
        <p:spPr>
          <a:xfrm>
            <a:off x="304920" y="990720"/>
            <a:ext cx="4114800" cy="3016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608560" y="2438280"/>
            <a:ext cx="13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31840" y="4800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36120" y="6491160"/>
            <a:ext cx="385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La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rot="16200000">
            <a:off x="-2134800" y="31525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ane Concentration (nmol/mol = 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480" y="152280"/>
            <a:ext cx="48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 (GMD)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0880" y="595440"/>
            <a:ext cx="6882480" cy="1608120"/>
            <a:chOff x="380880" y="595440"/>
            <a:chExt cx="6882480" cy="160812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rcRect l="3330" t="4339" r="3489" b="79173"/>
            <a:stretch/>
          </p:blipFill>
          <p:spPr>
            <a:xfrm>
              <a:off x="755640" y="595440"/>
              <a:ext cx="64882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014440" y="166212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ert (82.4N,62.5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6858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11113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880" y="15559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80880" y="3567240"/>
            <a:ext cx="6880320" cy="1609560"/>
            <a:chOff x="380880" y="3567240"/>
            <a:chExt cx="6880320" cy="160956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rcRect l="2531" t="61169" r="3799" b="21705"/>
            <a:stretch/>
          </p:blipFill>
          <p:spPr>
            <a:xfrm>
              <a:off x="690480" y="3567240"/>
              <a:ext cx="6553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425840" y="46195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he Island (4.7S,55.2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36576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80" y="40608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880" y="450684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80880" y="2119320"/>
            <a:ext cx="6927840" cy="1603440"/>
            <a:chOff x="380880" y="2119320"/>
            <a:chExt cx="6927840" cy="160344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rcRect l="2815" t="80533" r="2815" b="2655"/>
            <a:stretch/>
          </p:blipFill>
          <p:spPr>
            <a:xfrm>
              <a:off x="679320" y="2119320"/>
              <a:ext cx="66294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6320" y="3110040"/>
              <a:ext cx="26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way (28.2N,177.4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880" y="2209680"/>
              <a:ext cx="60984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0880" y="4952880"/>
            <a:ext cx="6931440" cy="1739880"/>
            <a:chOff x="380880" y="4952880"/>
            <a:chExt cx="6931440" cy="173988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rcRect l="2498" t="61793" r="3753" b="20851"/>
            <a:stretch/>
          </p:blipFill>
          <p:spPr>
            <a:xfrm>
              <a:off x="690480" y="5035680"/>
              <a:ext cx="655344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348800" y="5948280"/>
              <a:ext cx="291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th Pole (89.9S,24.8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0800" y="632448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944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1456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580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4952880"/>
              <a:ext cx="60984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28760" y="4767120"/>
            <a:ext cx="120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p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a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ycles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M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095520" y="609480"/>
            <a:ext cx="3117960" cy="1678680"/>
            <a:chOff x="6095520" y="609480"/>
            <a:chExt cx="3117960" cy="1678680"/>
          </a:xfrm>
        </p:grpSpPr>
        <p:sp>
          <p:nvSpPr>
            <p:cNvPr id="272" name=""/>
            <p:cNvSpPr/>
            <p:nvPr/>
          </p:nvSpPr>
          <p:spPr>
            <a:xfrm>
              <a:off x="7238880" y="609480"/>
              <a:ext cx="1974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odel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IO wet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mprov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1)high N la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seasonal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095520" y="1523520"/>
              <a:ext cx="1219320" cy="2286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90760" y="2514600"/>
            <a:ext cx="4316760" cy="380880"/>
            <a:chOff x="4190760" y="2514600"/>
            <a:chExt cx="4316760" cy="380880"/>
          </a:xfrm>
        </p:grpSpPr>
        <p:sp>
          <p:nvSpPr>
            <p:cNvPr id="275" name=""/>
            <p:cNvSpPr/>
            <p:nvPr/>
          </p:nvSpPr>
          <p:spPr>
            <a:xfrm>
              <a:off x="7424640" y="25146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2)tr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190760" y="2743200"/>
              <a:ext cx="3276360" cy="152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934320" y="3381480"/>
            <a:ext cx="1842480" cy="1952640"/>
            <a:chOff x="6934320" y="3381480"/>
            <a:chExt cx="1842480" cy="1952640"/>
          </a:xfrm>
        </p:grpSpPr>
        <p:sp>
          <p:nvSpPr>
            <p:cNvPr id="278" name=""/>
            <p:cNvSpPr/>
            <p:nvPr/>
          </p:nvSpPr>
          <p:spPr>
            <a:xfrm>
              <a:off x="7489800" y="3381480"/>
              <a:ext cx="1287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3)low 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t S Pol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especia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934320" y="4572000"/>
              <a:ext cx="838080" cy="7621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35:35Z</dcterms:created>
  <dc:creator>Arlene Fiore</dc:creator>
  <dc:description/>
  <dc:language>en-US</dc:language>
  <cp:lastModifiedBy>aff</cp:lastModifiedBy>
  <dcterms:modified xsi:type="dcterms:W3CDTF">2006-06-20T13:16:20Z</dcterms:modified>
  <cp:revision>484</cp:revision>
  <dc:subject/>
  <dc:title>Slide 1</dc:title>
</cp:coreProperties>
</file>