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F167-0111-4128-AB0F-96548ECC1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F37E-8985-44B0-B680-819B7B0DE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4BE2-090F-4625-BC09-1F0FF961E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E136-D121-4C70-B5CE-D723ACE44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FAF2-D4EC-47CD-B11E-5AE164958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9FDA-BD3D-4DB9-AB0E-2506B3671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4E21-CF36-44C7-ABC5-6B0C5E38E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6ECC-266B-438C-9A72-A21D0C773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1545-C3E1-4D03-A81A-4806D90F8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D684-6ACB-430C-B5CC-76CAB7515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13C6-2CB8-44EF-9E05-24615217B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225B-F44F-40D5-9D46-3CBB353A4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7909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665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EC14A-6C5A-4419-99CD-1B4FAF3010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www.grants.gov/" TargetMode="External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00200" y="533520"/>
            <a:ext cx="7238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FICE OF WEAPONS REMOVAL AND ABAT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BUREAU OF POLITICAL-MILITARY AFFAI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1295640" cy="1290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rcRect l="0" t="0" r="0" b="22684"/>
          <a:stretch/>
        </p:blipFill>
        <p:spPr>
          <a:xfrm>
            <a:off x="7696080" y="5778360"/>
            <a:ext cx="1295640" cy="10796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FY2008 REQUEST FOR APPLICATIONS (RFA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4792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cus Carpe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vember 7,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47920" y="380880"/>
            <a:ext cx="7238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FICE OF WEAPONS REMOVAL AND ABAT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BUREAU OF POLITICAL-MILITARY AFFAI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1295280" cy="12906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rcRect l="0" t="0" r="0" b="22684"/>
          <a:stretch/>
        </p:blipFill>
        <p:spPr>
          <a:xfrm>
            <a:off x="7543800" y="5626080"/>
            <a:ext cx="1295280" cy="107964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Y08 RFA TOPICS SOLICI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truction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Weapons destruction projec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vate Sector Engagement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Increasing awareness and financial suppor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ching Grants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For WRA target count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train/Reintegration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Of personnel from HMA activit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novation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Unsolicited applications that further the goals and objectives of PM/WR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using Data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Impact Survey, Impact Surveillance, Land Release and National Plann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B927-281D-4773-96AD-D3F39577BB9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447920" y="380880"/>
            <a:ext cx="7238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FICE OF WEAPONS REMOVAL AND ABAT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BUREAU OF POLITICAL-MILITARY AFFAI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1295280" cy="12906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rcRect l="0" t="0" r="0" b="22684"/>
          <a:stretch/>
        </p:blipFill>
        <p:spPr>
          <a:xfrm>
            <a:off x="7543800" y="5626080"/>
            <a:ext cx="1295280" cy="10796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838080" y="1905120"/>
            <a:ext cx="76964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RFA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or and Deputy Directors decide on topics of inter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icit Applications through the http://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www.grants.go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ort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d out email notice to our grantee partners and oth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t on PM/WRA web 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s due within 40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MT receives and acknowledges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ew for Compliance with Requir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ew for Applicability to PM/WRA goals and objec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ribute to Program Managers (PM) for independent review and com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Ms present Applications to Grants Executive Review Bo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3AA8-A8EE-4D47-BF9B-28621F0DA74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447920" y="380880"/>
            <a:ext cx="7238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FICE OF WEAPONS REMOVAL AND ABAT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BUREAU OF POLITICAL-MILITARY AFFAI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1295280" cy="12906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rcRect l="0" t="0" r="0" b="22684"/>
          <a:stretch/>
        </p:blipFill>
        <p:spPr>
          <a:xfrm>
            <a:off x="7543800" y="5626080"/>
            <a:ext cx="1295280" cy="10796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523880" y="3733920"/>
            <a:ext cx="5943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523880" y="3581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514600" y="3581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29000" y="3581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800600" y="3581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467480" y="3581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rot="19149000">
            <a:off x="991440" y="4114080"/>
            <a:ext cx="1035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FA Launch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rot="19149000">
            <a:off x="946800" y="2784240"/>
            <a:ext cx="132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v. 5,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19149000">
            <a:off x="1981800" y="4190760"/>
            <a:ext cx="1028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stions D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rot="19149000">
            <a:off x="2620080" y="4075920"/>
            <a:ext cx="1700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stions &amp; Answers Posted on www.grants.g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rot="19149000">
            <a:off x="4291560" y="4136760"/>
            <a:ext cx="1028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posals D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19149000">
            <a:off x="6706440" y="4114080"/>
            <a:ext cx="1269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cision Notif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rot="19149000">
            <a:off x="2058120" y="2666160"/>
            <a:ext cx="1392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v. 16, 2007 (5PM ES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rot="19149000">
            <a:off x="6887160" y="2693160"/>
            <a:ext cx="176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d Feb.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rot="19149000">
            <a:off x="4191480" y="2666160"/>
            <a:ext cx="153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c. 14, 2007 (Midnight ES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rot="19149000">
            <a:off x="2961360" y="2745720"/>
            <a:ext cx="154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v. 23,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669760" y="1523880"/>
            <a:ext cx="388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FA PROCESS TIME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711F-A06D-4826-A554-E3B6D693E8B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447920" y="380880"/>
            <a:ext cx="7238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FICE OF WEAPONS REMOVAL AND ABAT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BUREAU OF POLITICAL-MILITARY AFFAI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1295280" cy="12906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rcRect l="0" t="0" r="0" b="22684"/>
          <a:stretch/>
        </p:blipFill>
        <p:spPr>
          <a:xfrm>
            <a:off x="7543800" y="5626080"/>
            <a:ext cx="1295280" cy="107964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ANTS EXECUTIVE REVIEW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rised of the three Deputy Directo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Application is reviewed on its own merits with consideration of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M com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M knowledge of particular progra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iberations result in a rank order of Applications and, if necessary, adjustment to Statement of Work and pr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ten recommendation is made to Director, PM/W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l decision on award is made by Director, PM/W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7661-94B6-4A04-B4D3-2AA24F5FE5B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447920" y="380880"/>
            <a:ext cx="7238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FICE OF WEAPONS REMOVAL AND ABAT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BUREAU OF POLITICAL-MILITARY AFFAI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1295280" cy="12906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rcRect l="0" t="0" r="0" b="22684"/>
          <a:stretch/>
        </p:blipFill>
        <p:spPr>
          <a:xfrm>
            <a:off x="7543800" y="5626080"/>
            <a:ext cx="1295280" cy="10796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838080" y="1905120"/>
            <a:ext cx="76964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ALUATION CRITE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gnificance: How well does project link with PM/WRA goals and objectiv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roach:  Is the design and methodology sound and adequately develop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novation:  Does the project incorporate novel technologies or approach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sonnel:  Are key personnel experienced and capable of managing and performing the project activiti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vironment: Is the project viable and the current political and physical environmen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4C99-71DF-4766-8D31-A617D9266CC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447920" y="380880"/>
            <a:ext cx="7238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FICE OF WEAPONS REMOVAL AND ABAT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BUREAU OF POLITICAL-MILITARY AFFAI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1295280" cy="12906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rcRect l="0" t="0" r="0" b="22684"/>
          <a:stretch/>
        </p:blipFill>
        <p:spPr>
          <a:xfrm>
            <a:off x="7543800" y="5626080"/>
            <a:ext cx="1295280" cy="107964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IFICATION OF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ision letters to all Grantees in mid-Febru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ose selected for award will be contacted by RMT to complete process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te set of SF424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s to proposal, i.e. scope, price, period of perform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ister new grantees in Payment Management System (PM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ntees not selected for award are encouraged to request an informal debriefing from the Grants Officer – Marcus Carpenter (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arpenter@pmwra.or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BCBD-C34B-4777-A403-5F882C65324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447920" y="380880"/>
            <a:ext cx="7238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FICE OF WEAPONS REMOVAL AND ABAT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BUREAU OF POLITICAL-MILITARY AFFAI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1295280" cy="12906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rcRect l="0" t="0" r="0" b="22684"/>
          <a:stretch/>
        </p:blipFill>
        <p:spPr>
          <a:xfrm>
            <a:off x="7543800" y="5626080"/>
            <a:ext cx="1295280" cy="107964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 the entire RF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ew the proposed outline and checklist (Attachment 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llow the instructions and required forma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applicants should start registration process ear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 concise (11 pages tot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 goals and objectives with those of PM/W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icate category # and abbreviated name of corresponding objective (e.g. Category: 4, Retrain/Reintegr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new funding sources or engage new sectors for Category 2 “Private Sector Engagement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est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E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oney for Category 3 “Matching Grant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 project by Sept. 30,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problems on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grants.go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refer to Attachment 5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F168-6597-49C8-ADEE-6FF7C6058A2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447920" y="380880"/>
            <a:ext cx="7238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FICE OF WEAPONS REMOVAL AND ABAT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BUREAU OF POLITICAL-MILITARY AFFAI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1295280" cy="12906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rcRect l="0" t="0" r="0" b="22684"/>
          <a:stretch/>
        </p:blipFill>
        <p:spPr>
          <a:xfrm>
            <a:off x="7543800" y="5626080"/>
            <a:ext cx="1295280" cy="107964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3714840" y="2571840"/>
            <a:ext cx="1714320" cy="1714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4CA6-8439-466F-8681-151552A2403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447920" y="380880"/>
            <a:ext cx="7238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FICE OF WEAPONS REMOVAL AND ABAT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BUREAU OF POLITICAL-MILITARY AFFAI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1295280" cy="12906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rcRect l="0" t="0" r="0" b="22684"/>
          <a:stretch/>
        </p:blipFill>
        <p:spPr>
          <a:xfrm>
            <a:off x="7543800" y="5626080"/>
            <a:ext cx="1295280" cy="1079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CUSSION TOP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s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FA Statistic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for FY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FA Topics Solicit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FA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FA Process Time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nts Executive Review Bo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aluation Crite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ification of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mmend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6F9D-9AB8-450D-B188-CD04E56F927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447920" y="380880"/>
            <a:ext cx="7238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FICE OF WEAPONS REMOVAL AND ABAT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BUREAU OF POLITICAL-MILITARY AFFAI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1295280" cy="12906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rcRect l="0" t="0" r="0" b="22684"/>
          <a:stretch/>
        </p:blipFill>
        <p:spPr>
          <a:xfrm>
            <a:off x="7543800" y="5626080"/>
            <a:ext cx="1295280" cy="10796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d competitive RFA process four years a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braces use of electronic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www.grants.gov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chan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ntral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loit innovative concep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and the base of grantee part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 the transparency of th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 the degree of success in reaching PM/WRA goals and objec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6118-7E19-4C30-AF7B-AEFC215AA01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447920" y="380880"/>
            <a:ext cx="7238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FICE OF WEAPONS REMOVAL AND ABAT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BUREAU OF POLITICAL-MILITARY AFFAI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1295280" cy="12906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rcRect l="0" t="0" r="0" b="22684"/>
          <a:stretch/>
        </p:blipFill>
        <p:spPr>
          <a:xfrm>
            <a:off x="7543800" y="5626080"/>
            <a:ext cx="1295280" cy="1079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1066680" y="1676520"/>
          <a:ext cx="6934320" cy="40780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6680" y="1676520"/>
                    <a:ext cx="6934320" cy="40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BAF8-1494-4AB5-B8CE-33CEFE4F365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447920" y="380880"/>
            <a:ext cx="7238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FICE OF WEAPONS REMOVAL AND ABAT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BUREAU OF POLITICAL-MILITARY AFFAI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1295280" cy="12906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rcRect l="0" t="0" r="0" b="22684"/>
          <a:stretch/>
        </p:blipFill>
        <p:spPr>
          <a:xfrm>
            <a:off x="7543800" y="5626080"/>
            <a:ext cx="1295280" cy="1079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" name=""/>
          <p:cNvGraphicFramePr/>
          <p:nvPr/>
        </p:nvGraphicFramePr>
        <p:xfrm>
          <a:off x="1066680" y="1600200"/>
          <a:ext cx="6934320" cy="4191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6680" y="1600200"/>
                    <a:ext cx="693432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23B4-9307-42B1-8056-6FEE5653351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447920" y="380880"/>
            <a:ext cx="7238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FICE OF WEAPONS REMOVAL AND ABAT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BUREAU OF POLITICAL-MILITARY AFFAI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1295280" cy="12906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rcRect l="0" t="0" r="0" b="22684"/>
          <a:stretch/>
        </p:blipFill>
        <p:spPr>
          <a:xfrm>
            <a:off x="7543800" y="5626080"/>
            <a:ext cx="1295280" cy="1079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8" name=""/>
          <p:cNvGraphicFramePr/>
          <p:nvPr/>
        </p:nvGraphicFramePr>
        <p:xfrm>
          <a:off x="1295280" y="1600200"/>
          <a:ext cx="6400800" cy="43434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5280" y="1600200"/>
                    <a:ext cx="640080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15E6-2891-4AE8-AD41-FD91DCBA20E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447920" y="380880"/>
            <a:ext cx="7238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FICE OF WEAPONS REMOVAL AND ABAT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BUREAU OF POLITICAL-MILITARY AFFAI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1295280" cy="12906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rcRect l="0" t="0" r="0" b="22684"/>
          <a:stretch/>
        </p:blipFill>
        <p:spPr>
          <a:xfrm>
            <a:off x="7543800" y="5626080"/>
            <a:ext cx="1295280" cy="1079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3" name=""/>
          <p:cNvGraphicFramePr/>
          <p:nvPr/>
        </p:nvGraphicFramePr>
        <p:xfrm>
          <a:off x="1066680" y="1447920"/>
          <a:ext cx="7162920" cy="42670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6680" y="1447920"/>
                    <a:ext cx="716292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7AED-18FC-436B-87D9-2DFB4076A0C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447920" y="380880"/>
            <a:ext cx="7238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FICE OF WEAPONS REMOVAL AND ABAT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BUREAU OF POLITICAL-MILITARY AFFAI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1295280" cy="12906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rcRect l="0" t="0" r="0" b="22684"/>
          <a:stretch/>
        </p:blipFill>
        <p:spPr>
          <a:xfrm>
            <a:off x="7543800" y="5626080"/>
            <a:ext cx="1295280" cy="10796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FA STAT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Y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 applications; 31 organizations’ 35 new grants awarded; Total = $2,455,75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ward amounts ranged from $22,437 to $258,49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tal FY06 grants increased from 64 to 105 aw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Y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6 applications; 37 organizations; 30 new grants awarded; Total = $2,258,99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ward amounts ranged from $11,657 to $199,8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al FY07 grants decreased from 105 (FY06) to 9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rease due to budget constra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ount available to RFA was smaller in FY07 than in FY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M/WRA anticipates an increase in amount of FY08 aw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Y08 budget is ~ 50% larger than FY06 and FY07 budg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Y08 RFA budget is ~65% larger than in FY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432F-3CE0-4368-A1E5-AFF74540EB1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447920" y="380880"/>
            <a:ext cx="7238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FICE OF WEAPONS REMOVAL AND ABAT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BUREAU OF POLITICAL-MILITARY AFFAI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1295280" cy="12906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rcRect l="0" t="0" r="0" b="22684"/>
          <a:stretch/>
        </p:blipFill>
        <p:spPr>
          <a:xfrm>
            <a:off x="7543800" y="5626080"/>
            <a:ext cx="1295280" cy="107964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FOR FY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 in minimum grant amount to $100k in order to improve return on investment.  Applies to all categories except f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19320" indent="-5335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vate Sector Engagement” ($40k-$50k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219320" indent="-5335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ching Grants” ($40k-$100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ed new category for “Destruction”, which includes SA/L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newed focus on “Innovation” for creative and unique ideas and conce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mit of 18 months for Period of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4C58-3AE4-434A-8BCB-AFE392F2D87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8T15:26:09Z</dcterms:created>
  <dc:creator>CARPENTER</dc:creator>
  <dc:description/>
  <dc:language>en-US</dc:language>
  <cp:lastModifiedBy>CARPENTER</cp:lastModifiedBy>
  <dcterms:modified xsi:type="dcterms:W3CDTF">2007-11-05T14:23:15Z</dcterms:modified>
  <cp:revision>11</cp:revision>
  <dc:subject/>
  <dc:title>Slide 1</dc:title>
</cp:coreProperties>
</file>