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9C70F-F53E-4608-A65C-AA6AE764C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34829-CE2C-4725-AEB4-ACD3EC5D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50D08-6F2B-4F6E-BB84-4BFD9ECEF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65DEE-E3CC-4FE3-B8BF-714735375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6D35-D7CE-42A3-BC71-AED1D9F29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54C9E-8BE0-4D5E-8D67-A60EE68E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E10BA-5FB2-40DC-8700-95716A0C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D7C8-6D0D-4CA3-A144-C16B0238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BE73-D080-4EBD-9B15-3994476B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100E-E913-4B3D-A298-0E3509BE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A463-C540-4977-A1DB-F5525936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594EC-A9CE-4FD9-8B52-A3BD7213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3203-D556-4FD4-92FE-07B7FB40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017D-5B81-4F3F-8466-68414EEC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DEE1-03AC-4CCD-BACA-149ABEBC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7AC6-DCDE-4194-9A26-94C552F31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336E-793C-45A6-8383-74A15D403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3D181-9641-4121-8C87-D896A420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D3D3D-02BC-4F97-9F9B-6EB5134A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20918-2CAA-414D-80A8-967AA410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A1C9F-D0BB-4366-8F78-591F983B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4890F-D2DC-425D-A2C4-65BDC6D8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94304-5A94-41C9-BD11-78179C5A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42DE6-6293-4A81-B590-A3BD447D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D66C-5911-4416-A3C8-05901AC35F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1C8E-B958-4909-9951-EA762C0BA2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nny Werf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fice of Management and Bud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ril 2,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38080" y="16002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CFO Act – Where Do We Go From Her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Changing the “Footprint” of Financial Operations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eral CFOs need additional capacity to move beyond compli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eral CFOs should evaluate financial operations for opportunities to: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ntralize and standardize activit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verage shared service provi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20BAA-0DCD-4388-9942-C26B3762F6A4}" type="slidenum">
              <a:t>10</a:t>
            </a:fld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500" spc="-1" strike="noStrike">
                <a:solidFill>
                  <a:srgbClr val="dfdef6"/>
                </a:solidFill>
                <a:latin typeface="Arial"/>
              </a:rPr>
              <a:t>Zeroing in on the Connection to Mission Objectives</a:t>
            </a:r>
            <a:br>
              <a:rPr sz="4000"/>
            </a:br>
            <a:endParaRPr b="0" lang="en-US" sz="35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eral CFOs should be working to identify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ities or work products that add value to the organization’s mission effectiveness 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tacles that exist in realigning or expanding  current activities to ensure greater impact on organizational effective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B1CB2-F941-4A8C-B87F-D4DEEF01CD45}" type="slidenum">
              <a:t>11</a:t>
            </a:fld>
          </a:p>
        </p:txBody>
      </p:sp>
    </p:spTree>
  </p:cSld>
  <p:transition>
    <p:comb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Reconsideration of What’s Required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 Reporting – how can financial reports be more useful to the public, Congress, and other government leader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al Controls – how can requirements better align controls with risk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sion Support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hould financial reports serve dual purpose of stewardship and information for decision-making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we facilitate cost accounting and other business intelligence tools to help agencies manage risks and achieve business goals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968BA-C837-4923-BC74-B0ABB52F3401}" type="slidenum">
              <a:t>12</a:t>
            </a:fld>
          </a:p>
        </p:txBody>
      </p:sp>
    </p:spTree>
  </p:cSld>
  <p:transition>
    <p:comb dir="horz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8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ief Financial Offic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F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of a company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or public agency is the corporate officer primarily responsible for managing the financial risks of the business or agency. This officer is also responsible for financial planning and record-keeping, as well as financial reporting to higher management.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Wikipedia entry for “CF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90A61-2E15-43D9-B93D-F9F75B73283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CFO Act Objectiv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ublic Report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Provide transparency into government finances, including the fiscal sustainability of government operations over time and the effectiveness of government program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nternal Contro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Facilitate process, technology, and human capital improvements that ensure strong internal controls and sound accounting pract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ecision Suppor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Provide Federal leaders financial information to help improve management decisions and drive better stewardship outcomes (reduced fraud, error, waste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08D0B-6DBF-4C04-A997-DD3D41E7B062}" type="slidenum">
              <a:t>3</a:t>
            </a:fld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1905120" y="1724040"/>
            <a:ext cx="5333760" cy="4781520"/>
          </a:xfrm>
          <a:prstGeom prst="flowChartExtract">
            <a:avLst/>
          </a:prstGeom>
          <a:solidFill>
            <a:srgbClr val="ffff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063960" y="1752480"/>
            <a:ext cx="3016080" cy="2667240"/>
          </a:xfrm>
          <a:prstGeom prst="flowChartExtract">
            <a:avLst/>
          </a:prstGeom>
          <a:solidFill>
            <a:srgbClr val="0080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572000" y="4419720"/>
            <a:ext cx="0" cy="207468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514600" y="5410080"/>
            <a:ext cx="4114800" cy="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505320" y="5410080"/>
            <a:ext cx="0" cy="109692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638680" y="5410080"/>
            <a:ext cx="0" cy="109692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181240" y="5710320"/>
            <a:ext cx="1400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80808"/>
                </a:solidFill>
                <a:latin typeface="Arial"/>
              </a:rPr>
              <a:t>No more than one repeat weakness under FMFIA Sec. 2 or Sec. 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724280" y="4788000"/>
            <a:ext cx="1400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80808"/>
                </a:solidFill>
                <a:latin typeface="Arial"/>
              </a:rPr>
              <a:t>Meets reporting deadlin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486400" y="5710320"/>
            <a:ext cx="14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80808"/>
                </a:solidFill>
                <a:latin typeface="Arial"/>
              </a:rPr>
              <a:t>No more than one repeat auditor weakne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048120" y="4848120"/>
            <a:ext cx="140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80808"/>
                </a:solidFill>
                <a:latin typeface="Arial"/>
              </a:rPr>
              <a:t>Clean audit opin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556080" y="572292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80808"/>
                </a:solidFill>
                <a:latin typeface="Arial"/>
              </a:rPr>
              <a:t>No material non-complianc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521240" y="5722920"/>
            <a:ext cx="990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80808"/>
                </a:solidFill>
                <a:latin typeface="Arial"/>
              </a:rPr>
              <a:t>No chronic or significant ADA violations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62520" y="2819520"/>
            <a:ext cx="1218960" cy="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076640" y="215892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80808"/>
                </a:solidFill>
                <a:latin typeface="Arial"/>
              </a:rPr>
              <a:t>Expands routine data us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581280" y="3505320"/>
            <a:ext cx="1981440" cy="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114800" y="3505320"/>
            <a:ext cx="0" cy="91440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029200" y="3505320"/>
            <a:ext cx="0" cy="91440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886200" y="2895480"/>
            <a:ext cx="137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80808"/>
                </a:solidFill>
                <a:latin typeface="Arial"/>
              </a:rPr>
              <a:t>Uses financial information to drive results in key areas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114800" y="3581280"/>
            <a:ext cx="990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80808"/>
                </a:solidFill>
                <a:latin typeface="Arial"/>
              </a:rPr>
              <a:t>No repeat weaknesses under FMFIA Sec. 2 or Sec. 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238560" y="37465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80808"/>
                </a:solidFill>
                <a:latin typeface="Arial"/>
              </a:rPr>
              <a:t>FFMIA complia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876920" y="3733920"/>
            <a:ext cx="1066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80808"/>
                </a:solidFill>
                <a:latin typeface="Arial"/>
              </a:rPr>
              <a:t>No repeat auditor weakness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57200" y="2286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Improving Financial Performa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AA4D2-FBD0-459D-9EE8-DC3B07AB0A33}" type="slidenum">
              <a:t>4</a:t>
            </a:fld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1905120" y="1724040"/>
            <a:ext cx="5333760" cy="4781520"/>
          </a:xfrm>
          <a:prstGeom prst="flowChartExtract">
            <a:avLst/>
          </a:prstGeom>
          <a:solidFill>
            <a:srgbClr val="ffff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063960" y="1752480"/>
            <a:ext cx="3016080" cy="2667240"/>
          </a:xfrm>
          <a:prstGeom prst="flowChartExtract">
            <a:avLst/>
          </a:prstGeom>
          <a:solidFill>
            <a:srgbClr val="0080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809880" y="4419720"/>
            <a:ext cx="0" cy="207468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809880" y="3124080"/>
            <a:ext cx="1524240" cy="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429000" y="3733920"/>
            <a:ext cx="2209680" cy="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57200" y="2286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Roles of Federal CF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257800" y="4419720"/>
            <a:ext cx="0" cy="207468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514600" y="5181480"/>
            <a:ext cx="138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Financial Report Prepar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809880" y="52578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Compliance Offic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181480" y="52578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Transaction Process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429000" y="37339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Provider of Key Management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886200" y="31240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Risk 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962520" y="25146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Strategic Plan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F836B-ADC1-4094-A312-73DDD61A5889}" type="slidenum">
              <a:t>5</a:t>
            </a:fld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1905120" y="1724040"/>
            <a:ext cx="5333760" cy="4781520"/>
          </a:xfrm>
          <a:prstGeom prst="flowChartExtract">
            <a:avLst/>
          </a:prstGeom>
          <a:solidFill>
            <a:srgbClr val="ffff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063960" y="1752480"/>
            <a:ext cx="3016080" cy="2667240"/>
          </a:xfrm>
          <a:prstGeom prst="flowChartExtract">
            <a:avLst/>
          </a:prstGeom>
          <a:solidFill>
            <a:srgbClr val="0080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809880" y="4419720"/>
            <a:ext cx="0" cy="207468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809880" y="3124080"/>
            <a:ext cx="1524240" cy="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429000" y="3733920"/>
            <a:ext cx="2209680" cy="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57200" y="2286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PMA Resul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257800" y="4419720"/>
            <a:ext cx="0" cy="207468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514600" y="4952880"/>
            <a:ext cx="138744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80808"/>
                </a:solidFill>
                <a:latin typeface="Arial"/>
              </a:rPr>
              <a:t>19 of 24 agencies w/ clean opinion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809880" y="4572000"/>
            <a:ext cx="1524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Four consecutive years of declines in material weakne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3809880"/>
            <a:ext cx="2362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80808"/>
                </a:solidFill>
                <a:latin typeface="Arial"/>
              </a:rPr>
              <a:t>$7+ Billion in Real Property Disposal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429000" y="3276720"/>
            <a:ext cx="2362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80808"/>
                </a:solidFill>
                <a:latin typeface="Arial"/>
              </a:rPr>
              <a:t>$7+ Billion in Improper Payment Elimination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886200" y="2514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181480" y="4724280"/>
            <a:ext cx="1371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Al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agencies meeting 45 day reporting deadli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4B6F9-6A44-4B86-B6C9-C51B43EB6048}" type="slidenum">
              <a:t>6</a:t>
            </a:fld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Challenges of Meeting CFO Role in Federal Environment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00280" indent="-511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whelmed by compli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0280" indent="-5112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onsibilities without autho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0280" indent="-5112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x (and sometimes decentralized) financial operation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0280" indent="-5112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 capital needs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0280" indent="-5112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ources to maintain steady state  operations and initiate improvements  (e.g., program integrity)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60C4D-1D3E-4638-B84A-82966B1C173C}" type="slidenum">
              <a:t>7</a:t>
            </a:fld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e Path Forwar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 the Agencie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114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ated approach to financial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114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ing the “Footprint” of financia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114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roing in on the connection between CFO activities and agency mission objec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 OMB, FASAB, Congress, and GAO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114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nsideration of what’s required for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7B10B-C2F2-4F5F-B6B8-21D54BCC504A}" type="slidenum">
              <a:t>8</a:t>
            </a:fld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Integrated Approach to Financial Management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09480" y="1905120"/>
            <a:ext cx="822960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FOs in Integrated Organization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more informed on organizational risk, business goals, and data nee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tandardize and/or centralization business processes more seamless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more readily leverage other parts of the organization to help reduce workload in non-core responsib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B4F95-ADCC-4F53-BD3A-2BD5C40CCA5A}" type="slidenum">
              <a:t>9</a:t>
            </a:fld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9T14:43:12Z</dcterms:created>
  <dc:creator>clark_s</dc:creator>
  <dc:description/>
  <dc:language>en-US</dc:language>
  <cp:lastModifiedBy>jchamberlin</cp:lastModifiedBy>
  <dcterms:modified xsi:type="dcterms:W3CDTF">2008-04-09T21:19:04Z</dcterms:modified>
  <cp:revision>136</cp:revision>
  <dc:subject/>
  <dc:title>Improper Payme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64390128</vt:r8>
  </property>
  <property fmtid="{D5CDD505-2E9C-101B-9397-08002B2CF9AE}" pid="3" name="_AuthorEmail">
    <vt:lpwstr>Daniel_I._Werfel@omb.eop.gov</vt:lpwstr>
  </property>
  <property fmtid="{D5CDD505-2E9C-101B-9397-08002B2CF9AE}" pid="4" name="_AuthorEmailDisplayName">
    <vt:lpwstr>Werfel, Daniel I.</vt:lpwstr>
  </property>
  <property fmtid="{D5CDD505-2E9C-101B-9397-08002B2CF9AE}" pid="5" name="_EmailSubject">
    <vt:lpwstr>Slides for DOI Conference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