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146954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286-9979-499E-A7BF-E43B0402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2798136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8520" y="13216320"/>
            <a:ext cx="2798136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C1E-241A-436C-8736-856AC8C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6852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0660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E41-3666-4CA0-B94C-A0D104C2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28960" y="633708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89760" y="633708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68520" y="1321632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928960" y="1321632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89760" y="1321632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78B-2BE0-4313-AEF4-184CEF7E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68520" y="6337080"/>
            <a:ext cx="27981360" cy="131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BFC-52B7-435D-B437-2A87FBC9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2798136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335-363F-41BE-9665-D72CF926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4EE-E4D8-4CE2-B2CE-36AD9FA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AAA-349A-4D92-BA36-0657FE9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68520" y="1949040"/>
            <a:ext cx="27981360" cy="169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019-FD47-43B0-B77E-D3537FC0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6852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C51-DE65-41E7-801A-9DDA45E1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0660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C05-55FC-428A-8212-E461772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8520" y="13216320"/>
            <a:ext cx="2798136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455-0350-47F5-8CD4-4985A62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68520" y="6337080"/>
            <a:ext cx="2798136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295200" indent="-295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1520" indent="-246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096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624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624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624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68520" y="19995840"/>
            <a:ext cx="6858000" cy="14619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lstStyle>
            <a:lvl1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19995840"/>
            <a:ext cx="10423440" cy="14619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lstStyle>
            <a:lvl1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19995840"/>
            <a:ext cx="6858000" cy="14619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fld id="{6D2E0195-6D8E-42D7-B825-90EF147CA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2918400" cy="128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34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Arial"/>
              </a:rPr>
              <a:t>Ischemic Heart Disease QUERI</a:t>
            </a:r>
            <a:endParaRPr b="0" lang="en-US" sz="7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98880"/>
            <a:ext cx="7086600" cy="44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HD-QUE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chemic heart disease (IHD) is the leading cause of death in the U.S costing $100 billion annually. Acute myocardial infarction and unstable angina account for over 25,000 admissions a year to VA fac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mary goal of IHD-QUERI is to assess and improve the quality of care and quality of life for VA patients with IH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341760"/>
            <a:ext cx="7162920" cy="386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HD-QUERI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se collaboration with Patient Care Services and the Office of Quality and Performance to improve outcomes for Acute Coronary Syndrome (ACS) patients across V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quality of care and quality of life for patients with chronic stable an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secondary prevention of IHD with emphasis on lipid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45600" y="3108240"/>
            <a:ext cx="10591920" cy="945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condary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faceted primary care interventions included point of care reminders (both computerized and paper), pharmacist-run lipid clinics, audit and feedback, and order templates.  All interventions piloted in VISN 20 have demonstrated moderate positive effects on specific process improv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DL-c measurement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pid lowering agen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 of patients at LDL-c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reduction in mean LDL-c values observed during the intervention period in VISN 2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stimated 17% reduction in adverse cardiac events and resultant prevention of  75 major coronary events in VISN 20 an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 patients compliant with stat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rospective study of 8,768 male VA patients with IHD over 18 month follow-up period.  Prescribed statins in the period from 7/1/1999 to 6/30/200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1% were compliant over the 18 month period. Persistence in use of statins in our population was higher than in other open population cohorts (estimates range from 20 – 40% complian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idence from IHD-QUERI and EPRP suggests the VA outperforms other health care providers in many secondary prevention activities for IHD.  Challenges remain in control of hypertension and prescribing all guideline recommended med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01000" y="11893680"/>
            <a:ext cx="13563720" cy="510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rdiac Assessment, Reporting, and Tracking –Cath L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HD QUERI is creating a national VA Cath Lab Database including software for data entry and report generation. This system will standardize data collection, data sharing and benchmarking to national standar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atures inclu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-National Catheterization Data Repository (NCDR)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gical and flexible application designed by clinic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s reports for direct entry into C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eds into a n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with C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-CL is in beta test prior to national rollout planned for early next yea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277720" y="2286000"/>
          <a:ext cx="6858000" cy="57168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573120">
                <a:tc>
                  <a:txBody>
                    <a:bodyPr lIns="78840" rIns="78840" tIns="39600" bIns="396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ctivit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8840" marR="78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8001000" y="18073800"/>
            <a:ext cx="13563720" cy="273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Management of Chronic Stable Angin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to test effectiveness of a collaborative care model to improve health status and quality of life for VA patients with chronic stable an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ed in General Internal Medicine Clinics in four VA Medical Centers: Denver, Palo Alto, Portland and Puget S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591720" y="3774960"/>
            <a:ext cx="13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25679520" y="304920"/>
            <a:ext cx="70102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8001000" y="3124080"/>
          <a:ext cx="13563360" cy="8305560"/>
        </p:xfrm>
        <a:graphic>
          <a:graphicData uri="http://schemas.openxmlformats.org/drawingml/2006/table">
            <a:tbl>
              <a:tblPr/>
              <a:tblGrid>
                <a:gridCol w="13563360"/>
              </a:tblGrid>
              <a:tr h="8305560">
                <a:tc>
                  <a:txBody>
                    <a:bodyPr lIns="78840" rIns="78840" tIns="39600" bIns="396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Care Follow-up Clinical Stud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collaboration with the Cardiology Program Office in Patient Care Services and the Office of Quality and Performance, IHD-QUERI is focusing on the following critical measures of ACS c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ness and timeliness of risk stratification and dia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liness of reperf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transfer between non-tertiary and tertiary medical cen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ivery of guideline-recommended revascularization, intensive medical management, 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harge 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day, 60-day, 90 day and 1 year mortality stratified by risk and disease sever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ing national VA datab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8840" marR="78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04920" y="457200"/>
          <a:ext cx="3809880" cy="12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3809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6764120" y="13487400"/>
            <a:ext cx="408456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45600" y="13131720"/>
            <a:ext cx="10515600" cy="646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ed 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ing Impact of System Change on Quality of Care for 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 patient characteristics, processes of care, and risk-adjusted in-hospital mortality and other patient outcomes including health related quality of life with non-VA patients in the PREMIER and CRUSADE reg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certain the sensitivity of case-finding methods for ACS in EP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structural and process changes in cardiac care infrastructure throughout VHA and associations with patien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ra Pineros, MPH, Administrative Coordinator, VA Puget Sound Health Care System (S-152), 1660 S. Columbia Way, Seattle, Washington  98108 Tel: 206/764-2822, Fax: 206/764-2925, e-mail: sandra.pineros@med.va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82960" y="9677520"/>
            <a:ext cx="32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7889200" y="4952880"/>
            <a:ext cx="3552840" cy="259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534520" y="10744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67680" y="148590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20320" y="15011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72600" y="15163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199000" y="8790480"/>
            <a:ext cx="3146400" cy="192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Repository for ACS patients for the purpose of quality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72800" y="882360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972800" y="918216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972800" y="954252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C and PS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72800" y="989820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72800" y="1035720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40040" y="9663120"/>
            <a:ext cx="804960" cy="216000"/>
          </a:xfrm>
          <a:prstGeom prst="rightArrow">
            <a:avLst>
              <a:gd name="adj1" fmla="val 50000"/>
              <a:gd name="adj2" fmla="val 931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13800">
            <a:off x="26806680" y="597924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001000"/>
            <a:ext cx="7162920" cy="68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phan Fihn, MD MPH, Research Coord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 Puget Sound H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n Morris, MD Clinical Coordinator, Durham VAM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ne Sales, MSN PhD, Implementation Coordinator, VA Puget Sound H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roan Allison, MD MS, University of Alab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ss Fletcher, MD, Washington, DC VA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y Goldstein, MD, MSc, VA Palo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derick Grover, MD, University of Colo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rl Hammermeister, MD, Eastern Colorado VAH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ul Heidenreich, MD MS, VA Palo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bert Jesse, MD PhD, Richmond VAMC and Program Director for Cardiology, Office of Patient Car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eg Larsen, MD, Portland VA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ura Petersen, MD MPH, Houston VAM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ic Peterson, MD MPH, Duke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hn Rumsfeld, MD PhD, Eastern Colorado VAH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k Starling, MD, Ann Arbor VAH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16:37:24Z</dcterms:created>
  <dc:creator>Preferred Customer</dc:creator>
  <dc:description/>
  <dc:language>en-US</dc:language>
  <cp:lastModifiedBy>vhapugwagnet3</cp:lastModifiedBy>
  <dcterms:modified xsi:type="dcterms:W3CDTF">2003-12-05T18:30:13Z</dcterms:modified>
  <cp:revision>241</cp:revision>
  <dc:subject/>
  <dc:title>PowerPoint Presentation</dc:title>
</cp:coreProperties>
</file>