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9BAD-0E16-4A63-AAC9-A59788B5C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or: </a:t>
            </a:r>
            <a:r>
              <a:rPr b="0" lang="en-US" sz="1200" spc="-1" strike="noStrike">
                <a:solidFill>
                  <a:srgbClr val="000000"/>
                </a:solidFill>
                <a:latin typeface="Arial"/>
              </a:rPr>
              <a:t>	</a:t>
            </a:r>
            <a:r>
              <a:rPr b="0" lang="en-US" sz="1200" spc="-1" strike="noStrike">
                <a:solidFill>
                  <a:srgbClr val="000000"/>
                </a:solidFill>
                <a:latin typeface="Arial"/>
              </a:rPr>
              <a:t>Charles Icho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MD/ESSIC at NASA/GSFC, Code 6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301-614-6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ax: 301-614-6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 ichoku@climate.gsfc.nasa.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ata Source:</a:t>
            </a:r>
            <a:r>
              <a:rPr b="0" lang="en-US" sz="1200" spc="-1" strike="noStrike">
                <a:solidFill>
                  <a:srgbClr val="000000"/>
                </a:solidFill>
                <a:latin typeface="Arial"/>
              </a:rPr>
              <a:t> MODIS (on Terra &amp; Aq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ference:</a:t>
            </a:r>
            <a:r>
              <a:rPr b="0" i="1" lang="en-US" sz="1200" spc="-1" strike="noStrike">
                <a:solidFill>
                  <a:srgbClr val="000000"/>
                </a:solidFill>
                <a:latin typeface="Arial"/>
              </a:rPr>
              <a:t>  Ichoku and Kaufman, 2005, IEEE-TGARS, vol. 43, No. 11, Nov.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gure Description:</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ft Figure: </a:t>
            </a:r>
            <a:r>
              <a:rPr b="0" lang="en-US" sz="1200" spc="-1" strike="noStrike">
                <a:solidFill>
                  <a:srgbClr val="ffffff"/>
                </a:solidFill>
                <a:latin typeface="Arial"/>
              </a:rPr>
              <a:t>Terra-MODIS measurement of Fire Radiative Power (FRP) on 26-Oct-2003, showing how intense the California fire was relative to those measured in other parts of the world that same day. As the color scale shows, on that day, the California fire had spots with intensities (i.e. FRP values) on the order of 1660 MW per square kilometer (i.e. the size of the resolution cell), while the fires everywhere else in the world had intensities below 300 M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ight Figure: </a:t>
            </a:r>
            <a:r>
              <a:rPr b="0" lang="en-US" sz="1200" spc="-1" strike="noStrike">
                <a:solidFill>
                  <a:srgbClr val="ffffff"/>
                </a:solidFill>
                <a:latin typeface="Arial"/>
              </a:rPr>
              <a:t>Measurements of aerosol optical depth (AOD) from MODIS on Terra and Aqua were extracted over fires, and subjected to spatial analysis in order to determine the proportion of the AOD due to smoke. Then, using assimilated wind field data from the NCEP/NCAR Reanalysis project, this AOD smoke fraction was re-analyzed to determine the rate of emission of smoke particulates per unit time (in kg/s). Such smoke emission rates were calculated over Canada for all MODIS overpasses from Terra and Aqua throughout 2002, and plotted against corresponding FRP data (in MW or MJ/s). A least squares linear fit on the resulting scatter plot gave a simple zero-intercept linear equation with a very good correlation both for Terra and Aqua. The slope of the equation is the FRE-based smoke particulate emission coefficient (</a:t>
            </a:r>
            <a:r>
              <a:rPr b="0" i="1" lang="en-US" sz="1200" spc="-1" strike="noStrike">
                <a:solidFill>
                  <a:srgbClr val="ffffff"/>
                </a:solidFill>
                <a:latin typeface="Arial"/>
              </a:rPr>
              <a:t>C</a:t>
            </a:r>
            <a:r>
              <a:rPr b="0" i="1" lang="en-US" sz="1200" spc="-1" strike="noStrike" baseline="-25000">
                <a:solidFill>
                  <a:srgbClr val="ffffff"/>
                </a:solidFill>
                <a:latin typeface="Arial"/>
              </a:rPr>
              <a:t>e</a:t>
            </a:r>
            <a:r>
              <a:rPr b="0" lang="en-US" sz="1200" spc="-1" strike="noStrike">
                <a:solidFill>
                  <a:srgbClr val="ffffff"/>
                </a:solidFill>
                <a:latin typeface="Arial"/>
              </a:rPr>
              <a:t>), which when multiplied by FRP directly yields the rate of emission of smoke particulates or aerosols (even in near real time). Although the example shown is for Canada, the methodology has been implemented successfully in various parts of the world, and is currently being adapted for use in global estimation of smoke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B101C-E1C3-490A-A0E8-156AC17CC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4F35-B6BF-489C-BEA9-024C508E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D37E4-7DE6-47F0-B6FC-17B5CB6A4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39D4D-9CEB-4FA8-912D-F325C2B2B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80CD-EFD3-49A1-98EB-CCD32D2D8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F2E40-40A9-4613-991D-904E2002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09B1B-88B8-4E35-B3D4-923BF9BF0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F1D3-8ACE-4916-B7C8-698F5B12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0875-0535-4F66-9BE6-0A57F94B7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844B-E208-4CC9-B278-745333F2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A70C-6EDA-4A32-90B0-21A32546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7A84-BFC4-4E3C-A7BB-D108BE448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B09F-E910-43ED-9480-5F7E23919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533520"/>
            <a:ext cx="4952880" cy="2590560"/>
            <a:chOff x="0" y="533520"/>
            <a:chExt cx="4952880" cy="2590560"/>
          </a:xfrm>
        </p:grpSpPr>
        <p:pic>
          <p:nvPicPr>
            <p:cNvPr id="49" name="" descr=""/>
            <p:cNvPicPr/>
            <p:nvPr/>
          </p:nvPicPr>
          <p:blipFill>
            <a:blip r:embed="rId1"/>
            <a:srcRect l="18558" t="3475" r="18816" b="1651"/>
            <a:stretch/>
          </p:blipFill>
          <p:spPr>
            <a:xfrm>
              <a:off x="0" y="533520"/>
              <a:ext cx="4952880" cy="2590560"/>
            </a:xfrm>
            <a:prstGeom prst="rect">
              <a:avLst/>
            </a:prstGeom>
            <a:ln w="0">
              <a:noFill/>
            </a:ln>
          </p:spPr>
        </p:pic>
        <p:pic>
          <p:nvPicPr>
            <p:cNvPr id="50" name="" descr=""/>
            <p:cNvPicPr/>
            <p:nvPr/>
          </p:nvPicPr>
          <p:blipFill>
            <a:blip r:embed="rId2"/>
            <a:srcRect l="0" t="21351" r="0" b="17444"/>
            <a:stretch/>
          </p:blipFill>
          <p:spPr>
            <a:xfrm>
              <a:off x="54360" y="561960"/>
              <a:ext cx="816120" cy="676080"/>
            </a:xfrm>
            <a:prstGeom prst="rect">
              <a:avLst/>
            </a:prstGeom>
            <a:ln w="0">
              <a:noFill/>
            </a:ln>
          </p:spPr>
        </p:pic>
        <p:sp>
          <p:nvSpPr>
            <p:cNvPr id="51" name=""/>
            <p:cNvSpPr/>
            <p:nvPr/>
          </p:nvSpPr>
          <p:spPr>
            <a:xfrm>
              <a:off x="762120" y="960480"/>
              <a:ext cx="271800" cy="28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Estimation of Smoke Emissions from MODIS measurements of Fire Radiative Energy (FRE)</a:t>
            </a:r>
            <a:endParaRPr b="0" lang="en-US" sz="2000" spc="-1" strike="noStrike">
              <a:solidFill>
                <a:srgbClr val="000000"/>
              </a:solidFill>
              <a:latin typeface="Arial"/>
            </a:endParaRPr>
          </a:p>
        </p:txBody>
      </p:sp>
      <p:grpSp>
        <p:nvGrpSpPr>
          <p:cNvPr id="53" name=""/>
          <p:cNvGrpSpPr/>
          <p:nvPr/>
        </p:nvGrpSpPr>
        <p:grpSpPr>
          <a:xfrm>
            <a:off x="0" y="1219320"/>
            <a:ext cx="685800" cy="1981080"/>
            <a:chOff x="0" y="1219320"/>
            <a:chExt cx="685800" cy="1981080"/>
          </a:xfrm>
        </p:grpSpPr>
        <p:pic>
          <p:nvPicPr>
            <p:cNvPr id="54" name="" descr=""/>
            <p:cNvPicPr/>
            <p:nvPr/>
          </p:nvPicPr>
          <p:blipFill>
            <a:blip r:embed="rId3"/>
            <a:srcRect l="91569" t="35305" r="0" b="0"/>
            <a:stretch/>
          </p:blipFill>
          <p:spPr>
            <a:xfrm>
              <a:off x="0" y="1371600"/>
              <a:ext cx="685800" cy="1828800"/>
            </a:xfrm>
            <a:prstGeom prst="rect">
              <a:avLst/>
            </a:prstGeom>
            <a:ln w="0">
              <a:noFill/>
            </a:ln>
          </p:spPr>
        </p:pic>
        <p:sp>
          <p:nvSpPr>
            <p:cNvPr id="55" name=""/>
            <p:cNvSpPr/>
            <p:nvPr/>
          </p:nvSpPr>
          <p:spPr>
            <a:xfrm>
              <a:off x="0" y="1219320"/>
              <a:ext cx="6858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P(MW)</a:t>
              </a:r>
              <a:endParaRPr b="0" lang="en-US" sz="800" spc="-1" strike="noStrike">
                <a:solidFill>
                  <a:srgbClr val="000000"/>
                </a:solidFill>
                <a:latin typeface="Arial"/>
              </a:endParaRPr>
            </a:p>
          </p:txBody>
        </p:sp>
        <p:sp>
          <p:nvSpPr>
            <p:cNvPr id="56" name=""/>
            <p:cNvSpPr/>
            <p:nvPr/>
          </p:nvSpPr>
          <p:spPr>
            <a:xfrm>
              <a:off x="76320" y="1370160"/>
              <a:ext cx="371160" cy="1771920"/>
            </a:xfrm>
            <a:prstGeom prst="rect">
              <a:avLst/>
            </a:prstGeom>
            <a:solidFill>
              <a:srgbClr val="ffffff"/>
            </a:solidFill>
            <a:ln w="0">
              <a:noFill/>
            </a:ln>
          </p:spPr>
          <p:style>
            <a:lnRef idx="0"/>
            <a:fillRef idx="0"/>
            <a:effectRef idx="0"/>
            <a:fontRef idx="minor"/>
          </p:style>
          <p:txBody>
            <a:bodyPr wrap="none" lIns="90000" rIns="0" tIns="9144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60</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3</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6</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30</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553</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76</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57" name=""/>
          <p:cNvSpPr/>
          <p:nvPr/>
        </p:nvSpPr>
        <p:spPr>
          <a:xfrm>
            <a:off x="685800" y="2590920"/>
            <a:ext cx="441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rra-MODIS measurement of Fire Radiative Power (FRP) on 26-Oct-2003.</a:t>
            </a:r>
            <a:endParaRPr b="0" lang="en-US" sz="1200" spc="-1" strike="noStrike">
              <a:solidFill>
                <a:srgbClr val="000000"/>
              </a:solidFill>
              <a:latin typeface="Arial"/>
            </a:endParaRPr>
          </a:p>
        </p:txBody>
      </p:sp>
      <p:sp>
        <p:nvSpPr>
          <p:cNvPr id="58" name=""/>
          <p:cNvSpPr/>
          <p:nvPr/>
        </p:nvSpPr>
        <p:spPr>
          <a:xfrm>
            <a:off x="0" y="3195720"/>
            <a:ext cx="9144000" cy="366012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Knowledge of the impact of biomass burning smoke on climate, air quality, and public health, requires efficiency and accuracy in estimating smoke emissions from large fires.</a:t>
            </a:r>
            <a:endParaRPr b="0" lang="en-US" sz="1800" spc="-1" strike="noStrike">
              <a:solidFill>
                <a:srgbClr val="000000"/>
              </a:solidFill>
              <a:latin typeface="Arial"/>
            </a:endParaRPr>
          </a:p>
          <a:p>
            <a:pPr>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Fire Radiative Energy (FRE) rate of release per unit time or Fire Radiative Power (FRP), which is a measure of the fire strength is being observed from satellite, and currently, only MODIS (on Terra &amp; Aqua) is able to measure FRP globally, 4 times daily.</a:t>
            </a: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moke emission rates have been found to be directly correlated with FRP in different parts of the world, as illustrated by the  scatter plot on right (for Canada), demonstrating for the first time the ability to estimate smoke emissions directly from satellite fire data.</a:t>
            </a:r>
            <a:endParaRPr b="0" lang="en-US" sz="1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w capability has significant implications for improving our knowledge of the impacts of smoke on public health, air-quality, weather, and climate.</a:t>
            </a:r>
            <a:endParaRPr b="0" lang="en-US" sz="1800" spc="-1" strike="noStrike">
              <a:solidFill>
                <a:srgbClr val="000000"/>
              </a:solidFill>
              <a:latin typeface="Arial"/>
            </a:endParaRPr>
          </a:p>
        </p:txBody>
      </p:sp>
      <p:pic>
        <p:nvPicPr>
          <p:cNvPr id="59" name="" descr=""/>
          <p:cNvPicPr/>
          <p:nvPr/>
        </p:nvPicPr>
        <p:blipFill>
          <a:blip r:embed="rId4"/>
          <a:stretch/>
        </p:blipFill>
        <p:spPr>
          <a:xfrm>
            <a:off x="5105520" y="480960"/>
            <a:ext cx="40384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5:31:43Z</dcterms:created>
  <dc:creator>Charles Ichoku</dc:creator>
  <dc:description/>
  <dc:language>en-US</dc:language>
  <cp:lastModifiedBy>Charles Ichoku</cp:lastModifiedBy>
  <dcterms:modified xsi:type="dcterms:W3CDTF">2007-09-18T21:26:29Z</dcterms:modified>
  <cp:revision>38</cp:revision>
  <dc:subject/>
  <dc:title>Fire Radiative Energy and Smoke Emissions</dc:title>
</cp:coreProperties>
</file>