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C7C46EC-21D5-40CB-8FE0-702DA1005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19976AC-44FB-47A2-BB40-4DB89CD78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120" y="4170600"/>
            <a:ext cx="84232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21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85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98108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7680" y="198108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20" y="417060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7060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7680" y="417060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1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85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2120" y="4170600"/>
            <a:ext cx="84232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120" y="4170600"/>
            <a:ext cx="84232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21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085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0080" y="198108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7680" y="198108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120" y="417060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0080" y="417060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7680" y="417060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21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85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2120" y="4170600"/>
            <a:ext cx="84232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496000" y="64893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8002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8002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0AA2-9DC5-4909-A08D-93F6DFE0F142}" type="slidenum">
              <a:rPr b="0" lang="en-US" sz="9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777777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7772400" y="6692760"/>
            <a:ext cx="838080" cy="1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69276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56600" cy="9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11120" y="6451200"/>
            <a:ext cx="28954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23280" y="6207120"/>
            <a:ext cx="1498320" cy="61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44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927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cccampus.org/" TargetMode="External"/><Relationship Id="rId3" Type="http://schemas.openxmlformats.org/officeDocument/2006/relationships/hyperlink" Target="http://www.buildiq.com/" TargetMode="External"/><Relationship Id="rId4" Type="http://schemas.openxmlformats.org/officeDocument/2006/relationships/hyperlink" Target="http://www.eclassroom.aia.org/" TargetMode="External"/><Relationship Id="rId5" Type="http://schemas.openxmlformats.org/officeDocument/2006/relationships/hyperlink" Target="http://www.eclassroom.aia.org/" TargetMode="External"/><Relationship Id="rId6" Type="http://schemas.openxmlformats.org/officeDocument/2006/relationships/hyperlink" Target="htp://www.aee.center.org/realtime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43828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-based Energy Codes Train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ext Ste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15000"/>
            <a:ext cx="40384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h Tay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ific Northwest National Labo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Energy Codes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Web-based Train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Interactive Web Ca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paced Online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Training Vid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Searchable Energy Codes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bright="70000" contrast="-70000"/>
          </a:blip>
          <a:srcRect l="0" t="0" r="0" b="13370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-line Training in the Construction Indust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80"/>
                </a:solidFill>
                <a:uFillTx/>
                <a:latin typeface="Arial"/>
                <a:hlinkClick r:id="rId2"/>
              </a:rPr>
              <a:t>ICC Code Camp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Code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80"/>
                </a:solidFill>
                <a:uFillTx/>
                <a:latin typeface="Arial"/>
                <a:hlinkClick r:id="rId3"/>
              </a:rPr>
              <a:t>Build IQ Univers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Bui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80"/>
                </a:solidFill>
                <a:uFillTx/>
                <a:latin typeface="Arial"/>
                <a:hlinkClick r:id="rId4"/>
              </a:rPr>
              <a:t>AIA </a:t>
            </a:r>
            <a:r>
              <a:rPr b="0" lang="en-US" sz="2800" spc="-1" strike="noStrike" u="sng">
                <a:solidFill>
                  <a:srgbClr val="008080"/>
                </a:solidFill>
                <a:uFillTx/>
                <a:latin typeface="Arial"/>
                <a:hlinkClick r:id="rId5"/>
              </a:rPr>
              <a:t>eClassro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Archit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80"/>
                </a:solidFill>
                <a:uFillTx/>
                <a:latin typeface="Arial"/>
                <a:hlinkClick r:id="rId6"/>
              </a:rPr>
              <a:t>AEE Online Semin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Energy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re a Solu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89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leverage funds to train more building professionals with less 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ntralization of Training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Training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Paced Training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Web 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tools based on national codes can be supplemented or customized for state specific codes or regional climate condi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ization Id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42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fo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able database of energy cod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and video cli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ewed online or downloa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articles, websites and oth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s, graphics, video clips etc. can be saved for training presentations or resource man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BEC Online Resourc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04920" y="6172200"/>
            <a:ext cx="45720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4876920"/>
            <a:ext cx="31240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-based Training – The Next Step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 already u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lans do you have for web-based tra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will work in your ar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work with your aud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back C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780240" cy="444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marL="144000" indent="-144000">
              <a:lnSpc>
                <a:spcPct val="10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to Code Compliance &amp;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lnSpc>
                <a:spcPct val="105000"/>
              </a:lnSpc>
              <a:spcBef>
                <a:spcPts val="901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uilding professionals know little about energy cod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lnSpc>
                <a:spcPct val="105000"/>
              </a:lnSpc>
              <a:spcBef>
                <a:spcPts val="901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codes are seldom a high priority for builders or code o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lnSpc>
                <a:spcPct val="105000"/>
              </a:lnSpc>
              <a:spcBef>
                <a:spcPts val="901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can help building professionals understand code requirements in the context of building physics and the entire construc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is Training so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 Training Activi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5715000"/>
            <a:ext cx="228600" cy="228600"/>
          </a:xfrm>
          <a:prstGeom prst="rect">
            <a:avLst/>
          </a:prstGeom>
          <a:solidFill>
            <a:srgbClr val="570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5638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hich received SEP grant money for training activities (1998-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471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 Grant Money for Trainin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276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code grants tha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u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in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0" y="2133720"/>
            <a:ext cx="6019920" cy="4186080"/>
            <a:chOff x="2286000" y="2133720"/>
            <a:chExt cx="6019920" cy="41860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286000" y="2133720"/>
              <a:ext cx="6019920" cy="41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044880" y="5948280"/>
              <a:ext cx="8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08320" y="5948280"/>
              <a:ext cx="8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73560" y="5948280"/>
              <a:ext cx="8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48520" y="5943600"/>
              <a:ext cx="8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59760" y="5943600"/>
              <a:ext cx="8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Training needs are increasing as funds are decreas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5027760" cy="3770280"/>
          </a:xfrm>
          <a:prstGeom prst="rect">
            <a:avLst/>
          </a:prstGeom>
          <a:ln w="57240">
            <a:solidFill>
              <a:srgbClr val="990033"/>
            </a:solidFill>
            <a:miter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 Grants for Tra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5638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217b"/>
                </a:solidFill>
                <a:latin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648320"/>
            <a:ext cx="3048120" cy="838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528400">
            <a:off x="4431960" y="4246200"/>
            <a:ext cx="1371600" cy="762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4648320"/>
            <a:ext cx="533520" cy="838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886200"/>
            <a:ext cx="304812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828800" y="2437920"/>
            <a:ext cx="0" cy="3048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548640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886200"/>
            <a:ext cx="3048120" cy="0"/>
          </a:xfrm>
          <a:prstGeom prst="line">
            <a:avLst/>
          </a:prstGeom>
          <a:ln w="31680">
            <a:solidFill>
              <a:srgbClr val="5a2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886200"/>
            <a:ext cx="838080" cy="762120"/>
          </a:xfrm>
          <a:prstGeom prst="line">
            <a:avLst/>
          </a:prstGeom>
          <a:ln w="31680">
            <a:solidFill>
              <a:srgbClr val="5a2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31680">
            <a:solidFill>
              <a:srgbClr val="5a2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34290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17b"/>
                </a:solidFill>
                <a:latin typeface="Arial"/>
              </a:rPr>
              <a:t>SEP Grant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095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17b"/>
                </a:solidFill>
                <a:latin typeface="Arial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562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217b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076000">
            <a:off x="2819520" y="3352320"/>
            <a:ext cx="2895480" cy="762120"/>
          </a:xfrm>
          <a:prstGeom prst="rightArrow">
            <a:avLst>
              <a:gd name="adj1" fmla="val 46880"/>
              <a:gd name="adj2" fmla="val 60084"/>
            </a:avLst>
          </a:prstGeom>
          <a:solidFill>
            <a:srgbClr val="8671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19810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Increasing Training Dem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05720" y="3047760"/>
            <a:ext cx="213336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science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505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4M /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4191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2M /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7184880" cy="3830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71600" y="56386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code activity always have increased training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s with Recent Code Ac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419720"/>
            <a:ext cx="228600" cy="228600"/>
          </a:xfrm>
          <a:prstGeom prst="rect">
            <a:avLst/>
          </a:prstGeom>
          <a:solidFill>
            <a:srgbClr val="570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43434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with recent code activity (2000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Web-based Training Hel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st-effective than traditional stand-up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modates the hectic schedules of most building professio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resources (via the internet) can be shared by states to leverage limited training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83808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 User P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830240"/>
            <a:ext cx="6858000" cy="45403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895480" y="6019920"/>
            <a:ext cx="5257800" cy="649080"/>
            <a:chOff x="2895480" y="6019920"/>
            <a:chExt cx="5257800" cy="649080"/>
          </a:xfrm>
        </p:grpSpPr>
        <p:sp>
          <p:nvSpPr>
            <p:cNvPr id="141" name=""/>
            <p:cNvSpPr/>
            <p:nvPr/>
          </p:nvSpPr>
          <p:spPr>
            <a:xfrm>
              <a:off x="2895480" y="60958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bs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91120" y="6019920"/>
              <a:ext cx="13716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6019920"/>
              <a:ext cx="10666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cal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onal Tra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6600" y="6019920"/>
              <a:ext cx="10666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ra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04920" y="1676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you typically get energy code inform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35268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of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20:27:39Z</dcterms:created>
  <dc:creator>Staff</dc:creator>
  <dc:description/>
  <dc:language>en-US</dc:language>
  <cp:lastModifiedBy>Staff</cp:lastModifiedBy>
  <cp:lastPrinted>2003-06-15T22:54:33Z</cp:lastPrinted>
  <dcterms:modified xsi:type="dcterms:W3CDTF">2003-07-02T21:50:20Z</dcterms:modified>
  <cp:revision>259</cp:revision>
  <dc:subject/>
  <dc:title>PowerPoint Presentation</dc:title>
</cp:coreProperties>
</file>