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A77-436C-42A4-9B23-824FDD7E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1B8-C062-456E-AC15-B7C0C060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682-035B-400C-A970-199CDACF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A68-F3FC-4652-8831-8D44A051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D6D-FBE6-416C-9E31-2246F733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67B-9623-4C8C-A96F-E0DE3B76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017-E702-4C38-A992-4FF9EB49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424-7CEF-4082-B774-335A1952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D78-8352-4500-ACC5-FE8F6B36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D99-8CF8-45BE-8039-2BEC3BE2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D62-7AC4-478F-8422-A9D5C59D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C7D-06B2-4D2E-82BB-961A3A9F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4820-9F5F-4BA8-B40B-4681DDBBE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Comparative Genomics and Microarr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5562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ithographLight"/>
              </a:rPr>
              <a:t>D-ENCODE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ithographLight"/>
              </a:rPr>
              <a:t>Bethesda, MD  December 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76520"/>
            <a:ext cx="8229600" cy="38098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905120"/>
            <a:ext cx="7467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Justen Andre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eter Cherba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GR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eve Russ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D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el Kroni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cott Harrison/Julia Zeitling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gi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John Man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ictor Semetchenk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ffyme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evin Wh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imbl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ric Plesh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llu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eri Mark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hom Kaufma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ecie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What do we want to fi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enes (transcripts and ncRN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ene structures, incl. alternative spl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teins, incl.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unctional variants (SNPs, haplo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romatin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plication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Other ECEs (evolutionary conserved elem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Polymorphism and Diversity ma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e 12 new genome sequences are an essential re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will inform us how to use comparative mammalian sequences to annotate the human gen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ne third of all fly genes are in the other specie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10% of the genes in each of 5 “clades” are “orphan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 Drosophila Phenome Diversity Project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 50 lines of each species for genetic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major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odel species-ENCODE advant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flies it that we have an active community of population and quantitative genetic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 annotation includes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nnotation of natural genetic varia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t just Mendelian mu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microarrays,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olymorphism affects hybridiz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ffects inference of transcript abundance or protein bi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Annotation needs to be dyna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ing orthology is just a first step toward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function of most genes is context 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th among tissues and among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we need genomic methods not just for performing multiple sequence alignments, but also for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ring the patterns and covariance of gene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ll a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teomic and metabolomic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What resources do we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2 genomes for phylogenetic footprinting and comparative transcriptom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mmercial and community micro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opulation and quantitative geneti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enotyping, MS/MS, tilling, etc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paralleled tools for genet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mplexity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heterochromatin, gene structure, tiss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Some Issues for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alance between commercial and community microarray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ow much to include the other species: which species, and how much divers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entralization vs investigator-initiate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egration of high-throughput with geneti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7:21:43Z</dcterms:created>
  <dc:creator>Greg Gibson</dc:creator>
  <dc:description/>
  <dc:language>en-US</dc:language>
  <cp:lastModifiedBy>Greg Gibson</cp:lastModifiedBy>
  <dcterms:modified xsi:type="dcterms:W3CDTF">2004-12-08T14:08:55Z</dcterms:modified>
  <cp:revision>2</cp:revision>
  <dc:subject/>
  <dc:title>Comparative Genomics and Microarrays</dc:title>
</cp:coreProperties>
</file>