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3.png" ContentType="image/png"/>
  <Override PartName="/ppt/media/image11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69F-D0F1-45F6-A9C1-864EFBE5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6E0-85EB-40BF-973C-0C73B3F7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FDC-F83E-4216-9F14-1B33C432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45E-A6B0-410C-A7FC-74B91B4E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3ED8-298A-4778-9C73-3F32BA1C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AE11-826B-46CF-921E-8FB40494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D64F-0887-48C6-B8BB-C8FDEE50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8DCC-DA5A-4A0A-BE24-A9B49D02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DD26-8C06-44B4-9041-BEC26046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1385-CA4E-4AA8-AAA7-6F99AADB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9286-090C-4E25-83BC-8CE0012C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12F-89DF-477A-94F7-3534A831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C29D-B069-4D84-B1BA-9B0F17D9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47D9-DA08-400F-8F3F-F1953214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CF30-2F35-4C26-AED4-B06C16E9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46C4-FC23-4244-B4D3-70C02C4D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A5C4-F1D4-4900-9D92-7E861FDC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F4A-8314-4576-9714-F4601257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AE2-AFAB-4920-958A-2B687E3D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EB1-EFAB-4914-B4CB-719977CC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AB4-CB19-42F6-8AFD-0F89F8BA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5BD-4C98-49BA-B26C-9D0BE701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95E-54B1-4564-9561-5245BE55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88B-5AA0-4484-AE03-0628A47E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8D92-B251-4DDC-8D4D-629AF61E8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38D3-648F-4C54-A76D-5F7A54A80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missions from the Incineration of Electronics Industry Was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 S. Stewart, P. M. Lemie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.S. E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Triangle Park, N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ltimate Analyses of Fe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71600" y="1676520"/>
          <a:ext cx="6858000" cy="4657680"/>
        </p:xfrm>
        <a:graphic>
          <a:graphicData uri="http://schemas.openxmlformats.org/drawingml/2006/table">
            <a:tbl>
              <a:tblPr/>
              <a:tblGrid>
                <a:gridCol w="1523880"/>
                <a:gridCol w="2209680"/>
                <a:gridCol w="175284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therboa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eyboa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,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.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.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,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,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,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,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, 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h,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.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.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J/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9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,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,0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Kiln O</a:t>
            </a:r>
            <a:r>
              <a:rPr b="0" lang="en-US" sz="4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, CO</a:t>
            </a:r>
            <a:r>
              <a:rPr b="0" lang="en-US" sz="4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Conc. – 11/20/02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09480" y="1828800"/>
          <a:ext cx="8305920" cy="42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30592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 Concentrations – 11/20/02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1676520"/>
          <a:ext cx="8763120" cy="43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7631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O Concentration – 11/20/02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1676520"/>
          <a:ext cx="8458200" cy="457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VOC Conc. vs. Kiln Temperatu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609480" y="1371600"/>
          <a:ext cx="8534520" cy="545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53452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Halogen Concentrations in Flue G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143000" y="2133720"/>
          <a:ext cx="7467480" cy="372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74674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Semi-volatile Organic Compounds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066680" y="2438280"/>
          <a:ext cx="7772400" cy="39625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38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O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ntration,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/dscm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phthalen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-3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etophenone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-2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lorobenzen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-1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benzofura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-0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ethod 23 Results-PCDDs/F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 PCDDs were detected using L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CDF detected during low-temperature runs on 1/28 and 1/30/03 at 4ng/dsc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CDF detected during high-temperature run on 11/4/02 at 2 ng/dsc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ethod 23 Results-PBDF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1523880" y="1419120"/>
          <a:ext cx="6096240" cy="4019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419120"/>
                    <a:ext cx="60962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57200" y="1600200"/>
          <a:ext cx="8420040" cy="4413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600200"/>
                    <a:ext cx="842004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olybrominated chloro-DF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80880" y="1828800"/>
          <a:ext cx="8458200" cy="44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45820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he Electronics Waste Problem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rding to OSW, at least 2.1 million tons of electronics waste (e-waste) was generated in 2000 (MSW in U.S. 2000 final repor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is amount, at least 1.9 million tons (91%) entered U.S. landfills or incinera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-waste may contain leachable toxic metals and brominated flame retard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of the remaining waste ends up in recovery operations in developing n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olybrominated dichloro-DF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19040" y="1676520"/>
          <a:ext cx="8724960" cy="45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676520"/>
                    <a:ext cx="8724960" cy="45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BDF Summa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e to lack of standards, results for brominated and mixed bromochloro-DFs are semi-quantitative, at b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brominated furans appear to be present in higher concentrations than those of MCD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BDF appears to be present at 5-10 X conc. of MCD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general, PBDF &gt; PB-MCDF &gt; PB-DCD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etal Concentrations in Flue G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170000" y="1828800"/>
          <a:ext cx="7772400" cy="4743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al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entration,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/ds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pper (Cu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00-79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ad (Pb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90-48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timony (Sb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90-15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dmium (Cd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-81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nganese (Mn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-52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ickel (Ni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-1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rium (Ba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-28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senic (As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-6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romium (Cr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-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balt (Co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7-2.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yllium (Be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-0.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CLP Results for Bottom As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219320" y="1905120"/>
          <a:ext cx="6858000" cy="4140000"/>
        </p:xfrm>
        <a:graphic>
          <a:graphicData uri="http://schemas.openxmlformats.org/drawingml/2006/table">
            <a:tbl>
              <a:tblPr/>
              <a:tblGrid>
                <a:gridCol w="1447560"/>
                <a:gridCol w="1600200"/>
                <a:gridCol w="1828800"/>
                <a:gridCol w="1981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/4/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/7/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PA Ma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, 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, 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d, 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, 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b, 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g, 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D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, 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C emissions independent of kiln temperature over the range t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arily bromobenzene, other brominated organ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ssions of PCDFs near detection limits of L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BDFs and mixed bromochloro-DFs were det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l emissions were significant, consisting primarily of Cu, Pb, Sb, Cd, M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uture Work:  Open Burning of E-was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with Baptist University in Hong Kong to determine size, type, and composition of e-wa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ing tests in open burn facility to quantify emissions of metals, VOCs, SVOCs, PXDDs/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48120" y="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Scr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ire Recycling in Ch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838080" y="-55440"/>
            <a:ext cx="9982080" cy="69134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3200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very of valuable 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of PB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XDDs/Fs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minated Flame Retard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114800" y="1371240"/>
            <a:ext cx="4648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n burning of plastic encased metal printer and motor parts to reduce the waste to metals. Guiyu,China. December 2001. Copyright Basel Action Network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228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-waste Recycling in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ntrolled E-waste Combustio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s conducted over a kiln temperature range of 570-83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ed kiln preheat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t generated from waste accounted for 17% of kiln firing r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495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lue Gas Measurem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emissions of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CO,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atile Organic Compounds (VO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-line gas chromatogra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pling Tr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ied Method 5 (semi-volatil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 26 (haloge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 23 (PCDD/Fs, PBDD/F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 29 (met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otary Kiln Incinerator Simulato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70200" y="2495520"/>
            <a:ext cx="785520" cy="714240"/>
          </a:xfrm>
          <a:custGeom>
            <a:avLst/>
            <a:gdLst/>
            <a:ahLst/>
            <a:rect l="l" t="t" r="r" b="b"/>
            <a:pathLst>
              <a:path w="495" h="450">
                <a:moveTo>
                  <a:pt x="152" y="0"/>
                </a:moveTo>
                <a:cubicBezTo>
                  <a:pt x="123" y="9"/>
                  <a:pt x="92" y="19"/>
                  <a:pt x="68" y="36"/>
                </a:cubicBezTo>
                <a:cubicBezTo>
                  <a:pt x="65" y="40"/>
                  <a:pt x="63" y="44"/>
                  <a:pt x="60" y="48"/>
                </a:cubicBezTo>
                <a:cubicBezTo>
                  <a:pt x="56" y="51"/>
                  <a:pt x="51" y="52"/>
                  <a:pt x="48" y="56"/>
                </a:cubicBezTo>
                <a:cubicBezTo>
                  <a:pt x="47" y="56"/>
                  <a:pt x="28" y="85"/>
                  <a:pt x="24" y="92"/>
                </a:cubicBezTo>
                <a:cubicBezTo>
                  <a:pt x="16" y="102"/>
                  <a:pt x="8" y="128"/>
                  <a:pt x="8" y="128"/>
                </a:cubicBezTo>
                <a:cubicBezTo>
                  <a:pt x="0" y="188"/>
                  <a:pt x="7" y="269"/>
                  <a:pt x="76" y="292"/>
                </a:cubicBezTo>
                <a:cubicBezTo>
                  <a:pt x="155" y="371"/>
                  <a:pt x="288" y="331"/>
                  <a:pt x="380" y="392"/>
                </a:cubicBezTo>
                <a:cubicBezTo>
                  <a:pt x="389" y="420"/>
                  <a:pt x="383" y="408"/>
                  <a:pt x="396" y="428"/>
                </a:cubicBezTo>
                <a:cubicBezTo>
                  <a:pt x="424" y="426"/>
                  <a:pt x="451" y="450"/>
                  <a:pt x="476" y="436"/>
                </a:cubicBezTo>
                <a:cubicBezTo>
                  <a:pt x="495" y="424"/>
                  <a:pt x="456" y="357"/>
                  <a:pt x="448" y="352"/>
                </a:cubicBezTo>
                <a:cubicBezTo>
                  <a:pt x="442" y="335"/>
                  <a:pt x="434" y="329"/>
                  <a:pt x="420" y="320"/>
                </a:cubicBezTo>
                <a:cubicBezTo>
                  <a:pt x="409" y="303"/>
                  <a:pt x="393" y="300"/>
                  <a:pt x="376" y="292"/>
                </a:cubicBezTo>
                <a:cubicBezTo>
                  <a:pt x="314" y="261"/>
                  <a:pt x="257" y="249"/>
                  <a:pt x="188" y="244"/>
                </a:cubicBezTo>
                <a:cubicBezTo>
                  <a:pt x="161" y="237"/>
                  <a:pt x="142" y="230"/>
                  <a:pt x="120" y="216"/>
                </a:cubicBezTo>
                <a:cubicBezTo>
                  <a:pt x="117" y="212"/>
                  <a:pt x="115" y="207"/>
                  <a:pt x="112" y="204"/>
                </a:cubicBezTo>
                <a:cubicBezTo>
                  <a:pt x="108" y="201"/>
                  <a:pt x="102" y="202"/>
                  <a:pt x="100" y="200"/>
                </a:cubicBezTo>
                <a:cubicBezTo>
                  <a:pt x="93" y="193"/>
                  <a:pt x="86" y="172"/>
                  <a:pt x="84" y="164"/>
                </a:cubicBezTo>
                <a:cubicBezTo>
                  <a:pt x="85" y="154"/>
                  <a:pt x="85" y="145"/>
                  <a:pt x="88" y="136"/>
                </a:cubicBezTo>
                <a:cubicBezTo>
                  <a:pt x="92" y="120"/>
                  <a:pt x="107" y="102"/>
                  <a:pt x="120" y="96"/>
                </a:cubicBezTo>
                <a:cubicBezTo>
                  <a:pt x="156" y="77"/>
                  <a:pt x="153" y="72"/>
                  <a:pt x="204" y="7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3200400"/>
            <a:ext cx="27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83760" y="5740560"/>
            <a:ext cx="63360" cy="5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2552760"/>
            <a:ext cx="11448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51360" y="3975120"/>
            <a:ext cx="330120" cy="177840"/>
          </a:xfrm>
          <a:prstGeom prst="rect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22760" y="4152960"/>
            <a:ext cx="774720" cy="419040"/>
          </a:xfrm>
          <a:custGeom>
            <a:avLst/>
            <a:gdLst/>
            <a:ahLst/>
            <a:rect l="l" t="t" r="r" b="b"/>
            <a:pathLst>
              <a:path w="488" h="264">
                <a:moveTo>
                  <a:pt x="0" y="264"/>
                </a:moveTo>
                <a:lnTo>
                  <a:pt x="0" y="264"/>
                </a:lnTo>
                <a:lnTo>
                  <a:pt x="0" y="264"/>
                </a:lnTo>
                <a:lnTo>
                  <a:pt x="144" y="0"/>
                </a:lnTo>
                <a:lnTo>
                  <a:pt x="144" y="0"/>
                </a:lnTo>
                <a:lnTo>
                  <a:pt x="144" y="0"/>
                </a:lnTo>
                <a:lnTo>
                  <a:pt x="144" y="0"/>
                </a:lnTo>
                <a:lnTo>
                  <a:pt x="352" y="0"/>
                </a:lnTo>
                <a:lnTo>
                  <a:pt x="352" y="0"/>
                </a:lnTo>
                <a:lnTo>
                  <a:pt x="352" y="0"/>
                </a:lnTo>
                <a:lnTo>
                  <a:pt x="352" y="0"/>
                </a:lnTo>
                <a:lnTo>
                  <a:pt x="488" y="264"/>
                </a:lnTo>
                <a:lnTo>
                  <a:pt x="488" y="264"/>
                </a:lnTo>
                <a:lnTo>
                  <a:pt x="488" y="264"/>
                </a:lnTo>
                <a:lnTo>
                  <a:pt x="488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22760" y="4152960"/>
            <a:ext cx="774720" cy="419040"/>
          </a:xfrm>
          <a:custGeom>
            <a:avLst/>
            <a:gdLst/>
            <a:ahLst/>
            <a:rect l="l" t="t" r="r" b="b"/>
            <a:pathLst>
              <a:path w="488" h="264">
                <a:moveTo>
                  <a:pt x="0" y="264"/>
                </a:moveTo>
                <a:lnTo>
                  <a:pt x="0" y="264"/>
                </a:lnTo>
                <a:lnTo>
                  <a:pt x="144" y="0"/>
                </a:lnTo>
                <a:lnTo>
                  <a:pt x="144" y="0"/>
                </a:lnTo>
                <a:lnTo>
                  <a:pt x="352" y="0"/>
                </a:lnTo>
                <a:lnTo>
                  <a:pt x="352" y="0"/>
                </a:lnTo>
                <a:lnTo>
                  <a:pt x="488" y="264"/>
                </a:lnTo>
                <a:lnTo>
                  <a:pt x="488" y="264"/>
                </a:lnTo>
                <a:lnTo>
                  <a:pt x="0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cc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403440" y="5765760"/>
            <a:ext cx="177840" cy="152280"/>
            <a:chOff x="3403440" y="5765760"/>
            <a:chExt cx="177840" cy="152280"/>
          </a:xfrm>
        </p:grpSpPr>
        <p:sp>
          <p:nvSpPr>
            <p:cNvPr id="171" name=""/>
            <p:cNvSpPr/>
            <p:nvPr/>
          </p:nvSpPr>
          <p:spPr>
            <a:xfrm>
              <a:off x="3441600" y="5765760"/>
              <a:ext cx="88920" cy="5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68680" y="5841720"/>
              <a:ext cx="1260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3440" y="5841720"/>
              <a:ext cx="1260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03440" y="5816520"/>
              <a:ext cx="165240" cy="50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16040" y="5790960"/>
              <a:ext cx="1396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911760" y="5765760"/>
            <a:ext cx="190440" cy="152280"/>
            <a:chOff x="3911760" y="5765760"/>
            <a:chExt cx="190440" cy="152280"/>
          </a:xfrm>
        </p:grpSpPr>
        <p:sp>
          <p:nvSpPr>
            <p:cNvPr id="177" name=""/>
            <p:cNvSpPr/>
            <p:nvPr/>
          </p:nvSpPr>
          <p:spPr>
            <a:xfrm>
              <a:off x="3924360" y="5765760"/>
              <a:ext cx="63720" cy="88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840" y="5879880"/>
              <a:ext cx="25200" cy="3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77000" y="5879880"/>
              <a:ext cx="12600" cy="3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11760" y="5854680"/>
              <a:ext cx="12600" cy="63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26240" y="5829120"/>
              <a:ext cx="75960" cy="3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8840" y="5803920"/>
              <a:ext cx="50760" cy="7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11760" y="5829120"/>
              <a:ext cx="127080" cy="3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24360" y="5803920"/>
              <a:ext cx="88920" cy="75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65560" y="5765760"/>
            <a:ext cx="190440" cy="164880"/>
            <a:chOff x="4165560" y="5765760"/>
            <a:chExt cx="190440" cy="164880"/>
          </a:xfrm>
        </p:grpSpPr>
        <p:sp>
          <p:nvSpPr>
            <p:cNvPr id="186" name=""/>
            <p:cNvSpPr/>
            <p:nvPr/>
          </p:nvSpPr>
          <p:spPr>
            <a:xfrm>
              <a:off x="4203360" y="5765760"/>
              <a:ext cx="101880" cy="5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65560" y="5841720"/>
              <a:ext cx="25200" cy="8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30440" y="5841720"/>
              <a:ext cx="25560" cy="8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78160" y="5816520"/>
              <a:ext cx="152280" cy="50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90760" y="5790960"/>
              <a:ext cx="1396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168880" y="5765760"/>
            <a:ext cx="76320" cy="16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73520" y="5765760"/>
            <a:ext cx="76320" cy="16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57880" y="4572000"/>
            <a:ext cx="952200" cy="1193760"/>
          </a:xfrm>
          <a:custGeom>
            <a:avLst/>
            <a:gdLst/>
            <a:ahLst/>
            <a:rect l="l" t="t" r="r" b="b"/>
            <a:pathLst>
              <a:path w="600" h="752">
                <a:moveTo>
                  <a:pt x="0" y="256"/>
                </a:moveTo>
                <a:lnTo>
                  <a:pt x="0" y="256"/>
                </a:lnTo>
                <a:lnTo>
                  <a:pt x="0" y="256"/>
                </a:lnTo>
                <a:lnTo>
                  <a:pt x="112" y="256"/>
                </a:lnTo>
                <a:lnTo>
                  <a:pt x="112" y="256"/>
                </a:lnTo>
                <a:lnTo>
                  <a:pt x="112" y="256"/>
                </a:lnTo>
                <a:lnTo>
                  <a:pt x="112" y="256"/>
                </a:lnTo>
                <a:lnTo>
                  <a:pt x="112" y="0"/>
                </a:lnTo>
                <a:lnTo>
                  <a:pt x="112" y="0"/>
                </a:lnTo>
                <a:lnTo>
                  <a:pt x="112" y="0"/>
                </a:lnTo>
                <a:lnTo>
                  <a:pt x="112" y="0"/>
                </a:lnTo>
                <a:lnTo>
                  <a:pt x="600" y="0"/>
                </a:lnTo>
                <a:lnTo>
                  <a:pt x="600" y="0"/>
                </a:lnTo>
                <a:lnTo>
                  <a:pt x="600" y="0"/>
                </a:lnTo>
                <a:lnTo>
                  <a:pt x="600" y="0"/>
                </a:lnTo>
                <a:lnTo>
                  <a:pt x="600" y="752"/>
                </a:lnTo>
                <a:lnTo>
                  <a:pt x="600" y="752"/>
                </a:lnTo>
                <a:lnTo>
                  <a:pt x="600" y="752"/>
                </a:lnTo>
                <a:lnTo>
                  <a:pt x="600" y="752"/>
                </a:lnTo>
                <a:lnTo>
                  <a:pt x="0" y="752"/>
                </a:lnTo>
                <a:lnTo>
                  <a:pt x="0" y="752"/>
                </a:lnTo>
                <a:lnTo>
                  <a:pt x="0" y="752"/>
                </a:lnTo>
                <a:lnTo>
                  <a:pt x="0" y="752"/>
                </a:lnTo>
                <a:lnTo>
                  <a:pt x="0" y="256"/>
                </a:lnTo>
                <a:lnTo>
                  <a:pt x="0" y="256"/>
                </a:lnTo>
                <a:lnTo>
                  <a:pt x="0" y="256"/>
                </a:lnTo>
                <a:lnTo>
                  <a:pt x="0" y="25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57880" y="4572000"/>
            <a:ext cx="952200" cy="1193760"/>
          </a:xfrm>
          <a:custGeom>
            <a:avLst/>
            <a:gdLst/>
            <a:ahLst/>
            <a:rect l="l" t="t" r="r" b="b"/>
            <a:pathLst>
              <a:path w="600" h="752">
                <a:moveTo>
                  <a:pt x="0" y="256"/>
                </a:moveTo>
                <a:lnTo>
                  <a:pt x="0" y="256"/>
                </a:lnTo>
                <a:lnTo>
                  <a:pt x="112" y="256"/>
                </a:lnTo>
                <a:lnTo>
                  <a:pt x="112" y="256"/>
                </a:lnTo>
                <a:lnTo>
                  <a:pt x="112" y="0"/>
                </a:lnTo>
                <a:lnTo>
                  <a:pt x="112" y="0"/>
                </a:lnTo>
                <a:lnTo>
                  <a:pt x="600" y="0"/>
                </a:lnTo>
                <a:lnTo>
                  <a:pt x="600" y="0"/>
                </a:lnTo>
                <a:lnTo>
                  <a:pt x="600" y="752"/>
                </a:lnTo>
                <a:lnTo>
                  <a:pt x="600" y="752"/>
                </a:lnTo>
                <a:lnTo>
                  <a:pt x="0" y="752"/>
                </a:lnTo>
                <a:lnTo>
                  <a:pt x="0" y="752"/>
                </a:lnTo>
                <a:lnTo>
                  <a:pt x="0" y="256"/>
                </a:lnTo>
                <a:lnTo>
                  <a:pt x="0" y="256"/>
                </a:lnTo>
                <a:close/>
              </a:path>
            </a:pathLst>
          </a:custGeom>
          <a:solidFill>
            <a:srgbClr val="cc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78240" y="4978440"/>
            <a:ext cx="1092240" cy="787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73400" y="3174840"/>
            <a:ext cx="3162240" cy="825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22640" y="3441600"/>
            <a:ext cx="50760" cy="26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01920" y="5918040"/>
            <a:ext cx="2108160" cy="11448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78240" y="4572000"/>
            <a:ext cx="2019240" cy="1041480"/>
          </a:xfrm>
          <a:custGeom>
            <a:avLst/>
            <a:gdLst/>
            <a:ahLst/>
            <a:rect l="l" t="t" r="r" b="b"/>
            <a:pathLst>
              <a:path w="1272" h="656">
                <a:moveTo>
                  <a:pt x="936" y="0"/>
                </a:moveTo>
                <a:lnTo>
                  <a:pt x="936" y="0"/>
                </a:lnTo>
                <a:lnTo>
                  <a:pt x="936" y="0"/>
                </a:lnTo>
                <a:lnTo>
                  <a:pt x="936" y="424"/>
                </a:lnTo>
                <a:lnTo>
                  <a:pt x="936" y="424"/>
                </a:lnTo>
                <a:lnTo>
                  <a:pt x="936" y="424"/>
                </a:lnTo>
                <a:lnTo>
                  <a:pt x="936" y="424"/>
                </a:lnTo>
                <a:lnTo>
                  <a:pt x="592" y="424"/>
                </a:lnTo>
                <a:lnTo>
                  <a:pt x="592" y="424"/>
                </a:lnTo>
                <a:lnTo>
                  <a:pt x="592" y="424"/>
                </a:lnTo>
                <a:lnTo>
                  <a:pt x="592" y="424"/>
                </a:lnTo>
                <a:lnTo>
                  <a:pt x="592" y="360"/>
                </a:lnTo>
                <a:lnTo>
                  <a:pt x="592" y="360"/>
                </a:lnTo>
                <a:lnTo>
                  <a:pt x="592" y="360"/>
                </a:lnTo>
                <a:lnTo>
                  <a:pt x="592" y="360"/>
                </a:lnTo>
                <a:lnTo>
                  <a:pt x="336" y="360"/>
                </a:lnTo>
                <a:lnTo>
                  <a:pt x="336" y="360"/>
                </a:lnTo>
                <a:lnTo>
                  <a:pt x="336" y="360"/>
                </a:lnTo>
                <a:lnTo>
                  <a:pt x="336" y="360"/>
                </a:lnTo>
                <a:lnTo>
                  <a:pt x="336" y="440"/>
                </a:lnTo>
                <a:lnTo>
                  <a:pt x="336" y="440"/>
                </a:lnTo>
                <a:lnTo>
                  <a:pt x="336" y="440"/>
                </a:lnTo>
                <a:lnTo>
                  <a:pt x="336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568"/>
                </a:lnTo>
                <a:lnTo>
                  <a:pt x="0" y="568"/>
                </a:lnTo>
                <a:lnTo>
                  <a:pt x="0" y="568"/>
                </a:lnTo>
                <a:lnTo>
                  <a:pt x="0" y="568"/>
                </a:lnTo>
                <a:lnTo>
                  <a:pt x="336" y="568"/>
                </a:lnTo>
                <a:lnTo>
                  <a:pt x="336" y="568"/>
                </a:lnTo>
                <a:lnTo>
                  <a:pt x="336" y="568"/>
                </a:lnTo>
                <a:lnTo>
                  <a:pt x="336" y="568"/>
                </a:lnTo>
                <a:lnTo>
                  <a:pt x="336" y="656"/>
                </a:lnTo>
                <a:lnTo>
                  <a:pt x="336" y="656"/>
                </a:lnTo>
                <a:lnTo>
                  <a:pt x="336" y="656"/>
                </a:lnTo>
                <a:lnTo>
                  <a:pt x="336" y="656"/>
                </a:lnTo>
                <a:lnTo>
                  <a:pt x="592" y="656"/>
                </a:lnTo>
                <a:lnTo>
                  <a:pt x="592" y="656"/>
                </a:lnTo>
                <a:lnTo>
                  <a:pt x="592" y="656"/>
                </a:lnTo>
                <a:lnTo>
                  <a:pt x="592" y="656"/>
                </a:lnTo>
                <a:lnTo>
                  <a:pt x="592" y="600"/>
                </a:lnTo>
                <a:lnTo>
                  <a:pt x="592" y="600"/>
                </a:lnTo>
                <a:lnTo>
                  <a:pt x="592" y="600"/>
                </a:lnTo>
                <a:lnTo>
                  <a:pt x="592" y="600"/>
                </a:lnTo>
                <a:lnTo>
                  <a:pt x="1272" y="600"/>
                </a:lnTo>
                <a:lnTo>
                  <a:pt x="1272" y="600"/>
                </a:lnTo>
                <a:lnTo>
                  <a:pt x="1272" y="600"/>
                </a:lnTo>
                <a:lnTo>
                  <a:pt x="1272" y="600"/>
                </a:lnTo>
                <a:lnTo>
                  <a:pt x="1272" y="424"/>
                </a:lnTo>
                <a:lnTo>
                  <a:pt x="1272" y="424"/>
                </a:lnTo>
                <a:lnTo>
                  <a:pt x="1272" y="424"/>
                </a:lnTo>
                <a:lnTo>
                  <a:pt x="1272" y="424"/>
                </a:lnTo>
                <a:lnTo>
                  <a:pt x="1128" y="424"/>
                </a:lnTo>
                <a:lnTo>
                  <a:pt x="1128" y="424"/>
                </a:lnTo>
                <a:lnTo>
                  <a:pt x="1128" y="424"/>
                </a:lnTo>
                <a:lnTo>
                  <a:pt x="1128" y="424"/>
                </a:lnTo>
                <a:lnTo>
                  <a:pt x="1128" y="0"/>
                </a:lnTo>
                <a:lnTo>
                  <a:pt x="1128" y="0"/>
                </a:lnTo>
                <a:lnTo>
                  <a:pt x="1128" y="0"/>
                </a:lnTo>
                <a:lnTo>
                  <a:pt x="1128" y="0"/>
                </a:lnTo>
                <a:lnTo>
                  <a:pt x="936" y="0"/>
                </a:lnTo>
                <a:lnTo>
                  <a:pt x="936" y="0"/>
                </a:lnTo>
                <a:lnTo>
                  <a:pt x="936" y="0"/>
                </a:lnTo>
                <a:lnTo>
                  <a:pt x="936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78240" y="4572000"/>
            <a:ext cx="2019240" cy="1041480"/>
          </a:xfrm>
          <a:custGeom>
            <a:avLst/>
            <a:gdLst/>
            <a:ahLst/>
            <a:rect l="l" t="t" r="r" b="b"/>
            <a:pathLst>
              <a:path w="1272" h="656">
                <a:moveTo>
                  <a:pt x="936" y="0"/>
                </a:moveTo>
                <a:lnTo>
                  <a:pt x="936" y="0"/>
                </a:lnTo>
                <a:lnTo>
                  <a:pt x="936" y="424"/>
                </a:lnTo>
                <a:lnTo>
                  <a:pt x="936" y="424"/>
                </a:lnTo>
                <a:lnTo>
                  <a:pt x="592" y="424"/>
                </a:lnTo>
                <a:lnTo>
                  <a:pt x="592" y="424"/>
                </a:lnTo>
                <a:lnTo>
                  <a:pt x="592" y="360"/>
                </a:lnTo>
                <a:lnTo>
                  <a:pt x="592" y="360"/>
                </a:lnTo>
                <a:lnTo>
                  <a:pt x="336" y="360"/>
                </a:lnTo>
                <a:lnTo>
                  <a:pt x="336" y="360"/>
                </a:lnTo>
                <a:lnTo>
                  <a:pt x="336" y="440"/>
                </a:lnTo>
                <a:lnTo>
                  <a:pt x="336" y="440"/>
                </a:lnTo>
                <a:lnTo>
                  <a:pt x="0" y="440"/>
                </a:lnTo>
                <a:lnTo>
                  <a:pt x="0" y="440"/>
                </a:lnTo>
                <a:lnTo>
                  <a:pt x="0" y="568"/>
                </a:lnTo>
                <a:lnTo>
                  <a:pt x="0" y="568"/>
                </a:lnTo>
                <a:lnTo>
                  <a:pt x="336" y="568"/>
                </a:lnTo>
                <a:lnTo>
                  <a:pt x="336" y="568"/>
                </a:lnTo>
                <a:lnTo>
                  <a:pt x="336" y="656"/>
                </a:lnTo>
                <a:lnTo>
                  <a:pt x="336" y="656"/>
                </a:lnTo>
                <a:lnTo>
                  <a:pt x="592" y="656"/>
                </a:lnTo>
                <a:lnTo>
                  <a:pt x="592" y="656"/>
                </a:lnTo>
                <a:lnTo>
                  <a:pt x="592" y="600"/>
                </a:lnTo>
                <a:lnTo>
                  <a:pt x="592" y="600"/>
                </a:lnTo>
                <a:lnTo>
                  <a:pt x="1272" y="600"/>
                </a:lnTo>
                <a:lnTo>
                  <a:pt x="1272" y="600"/>
                </a:lnTo>
                <a:lnTo>
                  <a:pt x="1272" y="424"/>
                </a:lnTo>
                <a:lnTo>
                  <a:pt x="1272" y="424"/>
                </a:lnTo>
                <a:lnTo>
                  <a:pt x="1128" y="424"/>
                </a:lnTo>
                <a:lnTo>
                  <a:pt x="1128" y="424"/>
                </a:lnTo>
                <a:lnTo>
                  <a:pt x="1128" y="0"/>
                </a:lnTo>
                <a:lnTo>
                  <a:pt x="1128" y="0"/>
                </a:lnTo>
                <a:lnTo>
                  <a:pt x="936" y="0"/>
                </a:lnTo>
                <a:lnTo>
                  <a:pt x="936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3174840"/>
            <a:ext cx="3098880" cy="990720"/>
          </a:xfrm>
          <a:custGeom>
            <a:avLst/>
            <a:gdLst/>
            <a:ahLst/>
            <a:rect l="l" t="t" r="r" b="b"/>
            <a:pathLst>
              <a:path w="1952" h="624">
                <a:moveTo>
                  <a:pt x="256" y="0"/>
                </a:moveTo>
                <a:lnTo>
                  <a:pt x="256" y="0"/>
                </a:lnTo>
                <a:lnTo>
                  <a:pt x="256" y="0"/>
                </a:lnTo>
                <a:lnTo>
                  <a:pt x="168" y="0"/>
                </a:lnTo>
                <a:lnTo>
                  <a:pt x="168" y="0"/>
                </a:lnTo>
                <a:lnTo>
                  <a:pt x="168" y="0"/>
                </a:lnTo>
                <a:lnTo>
                  <a:pt x="168" y="0"/>
                </a:lnTo>
                <a:lnTo>
                  <a:pt x="168" y="200"/>
                </a:lnTo>
                <a:lnTo>
                  <a:pt x="168" y="200"/>
                </a:lnTo>
                <a:lnTo>
                  <a:pt x="168" y="200"/>
                </a:lnTo>
                <a:lnTo>
                  <a:pt x="168" y="200"/>
                </a:lnTo>
                <a:lnTo>
                  <a:pt x="32" y="232"/>
                </a:lnTo>
                <a:lnTo>
                  <a:pt x="32" y="232"/>
                </a:lnTo>
                <a:lnTo>
                  <a:pt x="32" y="232"/>
                </a:lnTo>
                <a:lnTo>
                  <a:pt x="32" y="232"/>
                </a:lnTo>
                <a:lnTo>
                  <a:pt x="0" y="232"/>
                </a:lnTo>
                <a:lnTo>
                  <a:pt x="0" y="232"/>
                </a:lnTo>
                <a:lnTo>
                  <a:pt x="0" y="232"/>
                </a:lnTo>
                <a:lnTo>
                  <a:pt x="0" y="232"/>
                </a:lnTo>
                <a:lnTo>
                  <a:pt x="0" y="280"/>
                </a:lnTo>
                <a:lnTo>
                  <a:pt x="0" y="280"/>
                </a:lnTo>
                <a:lnTo>
                  <a:pt x="0" y="280"/>
                </a:lnTo>
                <a:lnTo>
                  <a:pt x="0" y="280"/>
                </a:lnTo>
                <a:lnTo>
                  <a:pt x="32" y="280"/>
                </a:lnTo>
                <a:lnTo>
                  <a:pt x="32" y="280"/>
                </a:lnTo>
                <a:lnTo>
                  <a:pt x="32" y="280"/>
                </a:lnTo>
                <a:lnTo>
                  <a:pt x="32" y="280"/>
                </a:lnTo>
                <a:lnTo>
                  <a:pt x="400" y="384"/>
                </a:lnTo>
                <a:lnTo>
                  <a:pt x="400" y="384"/>
                </a:lnTo>
                <a:lnTo>
                  <a:pt x="400" y="384"/>
                </a:lnTo>
                <a:lnTo>
                  <a:pt x="400" y="384"/>
                </a:lnTo>
                <a:lnTo>
                  <a:pt x="1736" y="384"/>
                </a:lnTo>
                <a:lnTo>
                  <a:pt x="1736" y="384"/>
                </a:lnTo>
                <a:lnTo>
                  <a:pt x="1736" y="384"/>
                </a:lnTo>
                <a:lnTo>
                  <a:pt x="1736" y="384"/>
                </a:lnTo>
                <a:lnTo>
                  <a:pt x="1736" y="624"/>
                </a:lnTo>
                <a:lnTo>
                  <a:pt x="1736" y="624"/>
                </a:lnTo>
                <a:lnTo>
                  <a:pt x="1736" y="624"/>
                </a:lnTo>
                <a:lnTo>
                  <a:pt x="1736" y="624"/>
                </a:lnTo>
                <a:lnTo>
                  <a:pt x="1792" y="624"/>
                </a:lnTo>
                <a:lnTo>
                  <a:pt x="1792" y="624"/>
                </a:lnTo>
                <a:lnTo>
                  <a:pt x="1792" y="624"/>
                </a:lnTo>
                <a:lnTo>
                  <a:pt x="1792" y="624"/>
                </a:lnTo>
                <a:lnTo>
                  <a:pt x="1792" y="384"/>
                </a:lnTo>
                <a:lnTo>
                  <a:pt x="1792" y="384"/>
                </a:lnTo>
                <a:lnTo>
                  <a:pt x="1792" y="384"/>
                </a:lnTo>
                <a:lnTo>
                  <a:pt x="1792" y="384"/>
                </a:lnTo>
                <a:lnTo>
                  <a:pt x="1952" y="384"/>
                </a:lnTo>
                <a:lnTo>
                  <a:pt x="1952" y="384"/>
                </a:lnTo>
                <a:lnTo>
                  <a:pt x="1952" y="384"/>
                </a:lnTo>
                <a:lnTo>
                  <a:pt x="1952" y="384"/>
                </a:lnTo>
                <a:lnTo>
                  <a:pt x="1952" y="136"/>
                </a:lnTo>
                <a:lnTo>
                  <a:pt x="1952" y="136"/>
                </a:lnTo>
                <a:lnTo>
                  <a:pt x="1952" y="136"/>
                </a:lnTo>
                <a:lnTo>
                  <a:pt x="1952" y="136"/>
                </a:lnTo>
                <a:lnTo>
                  <a:pt x="400" y="136"/>
                </a:lnTo>
                <a:lnTo>
                  <a:pt x="400" y="136"/>
                </a:lnTo>
                <a:lnTo>
                  <a:pt x="400" y="136"/>
                </a:lnTo>
                <a:lnTo>
                  <a:pt x="400" y="136"/>
                </a:lnTo>
                <a:lnTo>
                  <a:pt x="256" y="176"/>
                </a:lnTo>
                <a:lnTo>
                  <a:pt x="256" y="176"/>
                </a:lnTo>
                <a:lnTo>
                  <a:pt x="256" y="176"/>
                </a:lnTo>
                <a:lnTo>
                  <a:pt x="256" y="176"/>
                </a:lnTo>
                <a:lnTo>
                  <a:pt x="256" y="0"/>
                </a:lnTo>
                <a:lnTo>
                  <a:pt x="256" y="0"/>
                </a:lnTo>
                <a:lnTo>
                  <a:pt x="256" y="0"/>
                </a:lnTo>
                <a:lnTo>
                  <a:pt x="256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174840"/>
            <a:ext cx="3098880" cy="990720"/>
          </a:xfrm>
          <a:custGeom>
            <a:avLst/>
            <a:gdLst/>
            <a:ahLst/>
            <a:rect l="l" t="t" r="r" b="b"/>
            <a:pathLst>
              <a:path w="1952" h="624">
                <a:moveTo>
                  <a:pt x="256" y="0"/>
                </a:moveTo>
                <a:lnTo>
                  <a:pt x="256" y="0"/>
                </a:lnTo>
                <a:lnTo>
                  <a:pt x="168" y="0"/>
                </a:lnTo>
                <a:lnTo>
                  <a:pt x="168" y="0"/>
                </a:lnTo>
                <a:lnTo>
                  <a:pt x="168" y="200"/>
                </a:lnTo>
                <a:lnTo>
                  <a:pt x="168" y="200"/>
                </a:lnTo>
                <a:lnTo>
                  <a:pt x="32" y="232"/>
                </a:lnTo>
                <a:lnTo>
                  <a:pt x="32" y="232"/>
                </a:lnTo>
                <a:lnTo>
                  <a:pt x="0" y="232"/>
                </a:lnTo>
                <a:lnTo>
                  <a:pt x="0" y="232"/>
                </a:lnTo>
                <a:lnTo>
                  <a:pt x="0" y="280"/>
                </a:lnTo>
                <a:lnTo>
                  <a:pt x="0" y="280"/>
                </a:lnTo>
                <a:lnTo>
                  <a:pt x="32" y="280"/>
                </a:lnTo>
                <a:lnTo>
                  <a:pt x="32" y="280"/>
                </a:lnTo>
                <a:lnTo>
                  <a:pt x="400" y="384"/>
                </a:lnTo>
                <a:lnTo>
                  <a:pt x="400" y="384"/>
                </a:lnTo>
                <a:lnTo>
                  <a:pt x="1736" y="384"/>
                </a:lnTo>
                <a:lnTo>
                  <a:pt x="1736" y="384"/>
                </a:lnTo>
                <a:lnTo>
                  <a:pt x="1736" y="624"/>
                </a:lnTo>
                <a:lnTo>
                  <a:pt x="1736" y="624"/>
                </a:lnTo>
                <a:lnTo>
                  <a:pt x="1792" y="624"/>
                </a:lnTo>
                <a:lnTo>
                  <a:pt x="1792" y="624"/>
                </a:lnTo>
                <a:lnTo>
                  <a:pt x="1792" y="384"/>
                </a:lnTo>
                <a:lnTo>
                  <a:pt x="1792" y="384"/>
                </a:lnTo>
                <a:lnTo>
                  <a:pt x="1952" y="384"/>
                </a:lnTo>
                <a:lnTo>
                  <a:pt x="1952" y="384"/>
                </a:lnTo>
                <a:lnTo>
                  <a:pt x="1952" y="136"/>
                </a:lnTo>
                <a:lnTo>
                  <a:pt x="1952" y="136"/>
                </a:lnTo>
                <a:lnTo>
                  <a:pt x="400" y="136"/>
                </a:lnTo>
                <a:lnTo>
                  <a:pt x="400" y="136"/>
                </a:lnTo>
                <a:lnTo>
                  <a:pt x="256" y="176"/>
                </a:lnTo>
                <a:lnTo>
                  <a:pt x="256" y="176"/>
                </a:lnTo>
                <a:lnTo>
                  <a:pt x="256" y="0"/>
                </a:lnTo>
                <a:lnTo>
                  <a:pt x="256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5308560"/>
            <a:ext cx="749160" cy="11448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94240" y="5283360"/>
            <a:ext cx="215640" cy="17748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32"/>
                </a:moveTo>
                <a:lnTo>
                  <a:pt x="0" y="32"/>
                </a:lnTo>
                <a:lnTo>
                  <a:pt x="0" y="3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36" y="0"/>
                </a:lnTo>
                <a:lnTo>
                  <a:pt x="136" y="0"/>
                </a:lnTo>
                <a:lnTo>
                  <a:pt x="136" y="0"/>
                </a:lnTo>
                <a:lnTo>
                  <a:pt x="136" y="0"/>
                </a:lnTo>
                <a:lnTo>
                  <a:pt x="80" y="32"/>
                </a:lnTo>
                <a:lnTo>
                  <a:pt x="80" y="32"/>
                </a:lnTo>
                <a:lnTo>
                  <a:pt x="80" y="32"/>
                </a:lnTo>
                <a:lnTo>
                  <a:pt x="80" y="32"/>
                </a:lnTo>
                <a:lnTo>
                  <a:pt x="80" y="88"/>
                </a:lnTo>
                <a:lnTo>
                  <a:pt x="80" y="88"/>
                </a:lnTo>
                <a:lnTo>
                  <a:pt x="80" y="88"/>
                </a:lnTo>
                <a:lnTo>
                  <a:pt x="80" y="88"/>
                </a:lnTo>
                <a:lnTo>
                  <a:pt x="136" y="112"/>
                </a:lnTo>
                <a:lnTo>
                  <a:pt x="136" y="112"/>
                </a:lnTo>
                <a:lnTo>
                  <a:pt x="136" y="112"/>
                </a:lnTo>
                <a:lnTo>
                  <a:pt x="136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94240" y="5283360"/>
            <a:ext cx="215640" cy="17748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32"/>
                </a:moveTo>
                <a:lnTo>
                  <a:pt x="0" y="32"/>
                </a:lnTo>
                <a:lnTo>
                  <a:pt x="0" y="0"/>
                </a:lnTo>
                <a:lnTo>
                  <a:pt x="0" y="0"/>
                </a:lnTo>
                <a:lnTo>
                  <a:pt x="136" y="0"/>
                </a:lnTo>
                <a:lnTo>
                  <a:pt x="136" y="0"/>
                </a:lnTo>
                <a:lnTo>
                  <a:pt x="80" y="32"/>
                </a:lnTo>
                <a:lnTo>
                  <a:pt x="80" y="32"/>
                </a:lnTo>
                <a:lnTo>
                  <a:pt x="80" y="88"/>
                </a:lnTo>
                <a:lnTo>
                  <a:pt x="80" y="88"/>
                </a:lnTo>
                <a:lnTo>
                  <a:pt x="136" y="112"/>
                </a:lnTo>
                <a:lnTo>
                  <a:pt x="136" y="112"/>
                </a:lnTo>
                <a:lnTo>
                  <a:pt x="0" y="112"/>
                </a:lnTo>
                <a:lnTo>
                  <a:pt x="0" y="112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cc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70400" y="3441600"/>
            <a:ext cx="330480" cy="2793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70400" y="3479760"/>
            <a:ext cx="76320" cy="19044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680" y="5486400"/>
            <a:ext cx="721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n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53080" y="3048120"/>
            <a:ext cx="144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fterbur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5240" y="2895480"/>
            <a:ext cx="376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ary Combustion Chamber(SC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63960" y="4165560"/>
            <a:ext cx="30492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lnTo>
                  <a:pt x="0" y="264"/>
                </a:lnTo>
                <a:lnTo>
                  <a:pt x="72" y="0"/>
                </a:lnTo>
                <a:lnTo>
                  <a:pt x="72" y="0"/>
                </a:lnTo>
                <a:lnTo>
                  <a:pt x="128" y="0"/>
                </a:lnTo>
                <a:lnTo>
                  <a:pt x="128" y="0"/>
                </a:lnTo>
                <a:lnTo>
                  <a:pt x="192" y="264"/>
                </a:lnTo>
                <a:lnTo>
                  <a:pt x="192" y="264"/>
                </a:lnTo>
                <a:lnTo>
                  <a:pt x="0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63960" y="4165560"/>
            <a:ext cx="30492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lnTo>
                  <a:pt x="0" y="264"/>
                </a:lnTo>
                <a:lnTo>
                  <a:pt x="0" y="264"/>
                </a:ln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  <a:lnTo>
                  <a:pt x="128" y="0"/>
                </a:lnTo>
                <a:lnTo>
                  <a:pt x="128" y="0"/>
                </a:lnTo>
                <a:lnTo>
                  <a:pt x="128" y="0"/>
                </a:lnTo>
                <a:lnTo>
                  <a:pt x="128" y="0"/>
                </a:lnTo>
                <a:lnTo>
                  <a:pt x="192" y="264"/>
                </a:lnTo>
                <a:lnTo>
                  <a:pt x="192" y="264"/>
                </a:lnTo>
                <a:lnTo>
                  <a:pt x="192" y="264"/>
                </a:lnTo>
                <a:lnTo>
                  <a:pt x="192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08160" y="2502000"/>
            <a:ext cx="6388200" cy="11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5020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407440" y="3670200"/>
            <a:ext cx="63360" cy="507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20040" y="5664240"/>
            <a:ext cx="50760" cy="6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57024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91040" y="4762440"/>
            <a:ext cx="50760" cy="507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30520" y="4327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EM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254480" y="4495680"/>
            <a:ext cx="698400" cy="241200"/>
            <a:chOff x="4254480" y="4495680"/>
            <a:chExt cx="698400" cy="241200"/>
          </a:xfrm>
        </p:grpSpPr>
        <p:sp>
          <p:nvSpPr>
            <p:cNvPr id="221" name=""/>
            <p:cNvSpPr/>
            <p:nvPr/>
          </p:nvSpPr>
          <p:spPr>
            <a:xfrm>
              <a:off x="4813200" y="4647960"/>
              <a:ext cx="139680" cy="88920"/>
            </a:xfrm>
            <a:custGeom>
              <a:avLst/>
              <a:gdLst/>
              <a:ahLst/>
              <a:rect l="l" t="t" r="r" b="b"/>
              <a:pathLst>
                <a:path w="88" h="56">
                  <a:moveTo>
                    <a:pt x="88" y="56"/>
                  </a:moveTo>
                  <a:lnTo>
                    <a:pt x="0" y="56"/>
                  </a:lnTo>
                  <a:lnTo>
                    <a:pt x="16" y="0"/>
                  </a:lnTo>
                  <a:lnTo>
                    <a:pt x="88" y="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54480" y="4495680"/>
              <a:ext cx="6728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111120" y="5410080"/>
            <a:ext cx="241560" cy="343080"/>
            <a:chOff x="3111120" y="5410080"/>
            <a:chExt cx="241560" cy="343080"/>
          </a:xfrm>
        </p:grpSpPr>
        <p:sp>
          <p:nvSpPr>
            <p:cNvPr id="224" name=""/>
            <p:cNvSpPr/>
            <p:nvPr/>
          </p:nvSpPr>
          <p:spPr>
            <a:xfrm>
              <a:off x="3238200" y="5410080"/>
              <a:ext cx="114480" cy="1396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72" y="0"/>
                  </a:moveTo>
                  <a:lnTo>
                    <a:pt x="56" y="88"/>
                  </a:lnTo>
                  <a:lnTo>
                    <a:pt x="0" y="48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111120" y="5422680"/>
              <a:ext cx="2156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857680" y="2527200"/>
            <a:ext cx="63360" cy="6372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28720" y="2057400"/>
            <a:ext cx="58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LG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44720" y="2286000"/>
            <a:ext cx="101520" cy="266760"/>
            <a:chOff x="2844720" y="2286000"/>
            <a:chExt cx="101520" cy="266760"/>
          </a:xfrm>
        </p:grpSpPr>
        <p:sp>
          <p:nvSpPr>
            <p:cNvPr id="229" name=""/>
            <p:cNvSpPr/>
            <p:nvPr/>
          </p:nvSpPr>
          <p:spPr>
            <a:xfrm>
              <a:off x="2844720" y="2286000"/>
              <a:ext cx="101520" cy="13968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32" y="0"/>
                  </a:moveTo>
                  <a:lnTo>
                    <a:pt x="64" y="88"/>
                  </a:lnTo>
                  <a:lnTo>
                    <a:pt x="0" y="8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95480" y="2311200"/>
              <a:ext cx="144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092560" y="2527200"/>
            <a:ext cx="51120" cy="6372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33800" y="20574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67360" y="2273400"/>
            <a:ext cx="101520" cy="266760"/>
            <a:chOff x="5067360" y="2273400"/>
            <a:chExt cx="101520" cy="266760"/>
          </a:xfrm>
        </p:grpSpPr>
        <p:sp>
          <p:nvSpPr>
            <p:cNvPr id="234" name=""/>
            <p:cNvSpPr/>
            <p:nvPr/>
          </p:nvSpPr>
          <p:spPr>
            <a:xfrm>
              <a:off x="5067360" y="2273400"/>
              <a:ext cx="101520" cy="13968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32" y="0"/>
                  </a:moveTo>
                  <a:lnTo>
                    <a:pt x="64" y="88"/>
                  </a:lnTo>
                  <a:lnTo>
                    <a:pt x="0" y="8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17760" y="2298960"/>
              <a:ext cx="1440" cy="24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7770960" y="35877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420040" y="4838760"/>
            <a:ext cx="50760" cy="6336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20600" y="34894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C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79840" y="3556080"/>
            <a:ext cx="63360" cy="6336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36960" y="3556080"/>
            <a:ext cx="63720" cy="6336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9960" y="3556080"/>
            <a:ext cx="63720" cy="6336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17640" y="3489480"/>
            <a:ext cx="27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84760" y="3489480"/>
            <a:ext cx="27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8440" y="5257800"/>
            <a:ext cx="27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8140680" y="3645000"/>
            <a:ext cx="228240" cy="101520"/>
            <a:chOff x="8140680" y="3645000"/>
            <a:chExt cx="228240" cy="101520"/>
          </a:xfrm>
        </p:grpSpPr>
        <p:sp>
          <p:nvSpPr>
            <p:cNvPr id="246" name=""/>
            <p:cNvSpPr/>
            <p:nvPr/>
          </p:nvSpPr>
          <p:spPr>
            <a:xfrm>
              <a:off x="8140680" y="3645000"/>
              <a:ext cx="139680" cy="101520"/>
            </a:xfrm>
            <a:custGeom>
              <a:avLst/>
              <a:gdLst/>
              <a:ahLst/>
              <a:rect l="l" t="t" r="r" b="b"/>
              <a:pathLst>
                <a:path w="88" h="64">
                  <a:moveTo>
                    <a:pt x="0" y="32"/>
                  </a:moveTo>
                  <a:lnTo>
                    <a:pt x="88" y="0"/>
                  </a:lnTo>
                  <a:lnTo>
                    <a:pt x="88" y="6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8165520" y="369576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064360" y="4838760"/>
            <a:ext cx="342720" cy="101520"/>
            <a:chOff x="8064360" y="4838760"/>
            <a:chExt cx="342720" cy="101520"/>
          </a:xfrm>
        </p:grpSpPr>
        <p:sp>
          <p:nvSpPr>
            <p:cNvPr id="249" name=""/>
            <p:cNvSpPr/>
            <p:nvPr/>
          </p:nvSpPr>
          <p:spPr>
            <a:xfrm>
              <a:off x="8064360" y="4838760"/>
              <a:ext cx="139680" cy="101520"/>
            </a:xfrm>
            <a:custGeom>
              <a:avLst/>
              <a:gdLst/>
              <a:ahLst/>
              <a:rect l="l" t="t" r="r" b="b"/>
              <a:pathLst>
                <a:path w="88" h="64">
                  <a:moveTo>
                    <a:pt x="0" y="32"/>
                  </a:moveTo>
                  <a:lnTo>
                    <a:pt x="88" y="0"/>
                  </a:lnTo>
                  <a:lnTo>
                    <a:pt x="88" y="6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8089560" y="4889520"/>
              <a:ext cx="317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7651800" y="4648320"/>
            <a:ext cx="27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92760" y="2527200"/>
            <a:ext cx="51120" cy="6372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58040" y="20574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667560" y="2273400"/>
            <a:ext cx="101520" cy="266760"/>
            <a:chOff x="6667560" y="2273400"/>
            <a:chExt cx="101520" cy="266760"/>
          </a:xfrm>
        </p:grpSpPr>
        <p:sp>
          <p:nvSpPr>
            <p:cNvPr id="255" name=""/>
            <p:cNvSpPr/>
            <p:nvPr/>
          </p:nvSpPr>
          <p:spPr>
            <a:xfrm>
              <a:off x="6667560" y="2273400"/>
              <a:ext cx="101520" cy="13968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32" y="0"/>
                  </a:moveTo>
                  <a:lnTo>
                    <a:pt x="64" y="88"/>
                  </a:lnTo>
                  <a:lnTo>
                    <a:pt x="0" y="8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17960" y="2298960"/>
              <a:ext cx="1440" cy="24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133720" y="2933640"/>
            <a:ext cx="50760" cy="5076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040" y="2984400"/>
            <a:ext cx="114840" cy="177840"/>
            <a:chOff x="2057040" y="2984400"/>
            <a:chExt cx="114840" cy="177840"/>
          </a:xfrm>
        </p:grpSpPr>
        <p:sp>
          <p:nvSpPr>
            <p:cNvPr id="259" name=""/>
            <p:cNvSpPr/>
            <p:nvPr/>
          </p:nvSpPr>
          <p:spPr>
            <a:xfrm>
              <a:off x="2057400" y="3022560"/>
              <a:ext cx="114480" cy="1396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8"/>
                  </a:moveTo>
                  <a:lnTo>
                    <a:pt x="8" y="0"/>
                  </a:lnTo>
                  <a:lnTo>
                    <a:pt x="72" y="3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057040" y="2984400"/>
              <a:ext cx="88920" cy="152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8064360" y="5676840"/>
            <a:ext cx="342720" cy="101520"/>
            <a:chOff x="8064360" y="5676840"/>
            <a:chExt cx="342720" cy="101520"/>
          </a:xfrm>
        </p:grpSpPr>
        <p:sp>
          <p:nvSpPr>
            <p:cNvPr id="262" name=""/>
            <p:cNvSpPr/>
            <p:nvPr/>
          </p:nvSpPr>
          <p:spPr>
            <a:xfrm>
              <a:off x="8064360" y="5676840"/>
              <a:ext cx="139680" cy="101520"/>
            </a:xfrm>
            <a:custGeom>
              <a:avLst/>
              <a:gdLst/>
              <a:ahLst/>
              <a:rect l="l" t="t" r="r" b="b"/>
              <a:pathLst>
                <a:path w="88" h="64">
                  <a:moveTo>
                    <a:pt x="0" y="32"/>
                  </a:moveTo>
                  <a:lnTo>
                    <a:pt x="88" y="0"/>
                  </a:lnTo>
                  <a:lnTo>
                    <a:pt x="88" y="6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8089560" y="5727600"/>
              <a:ext cx="317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662600" y="5454720"/>
            <a:ext cx="27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664240" y="32004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66720" y="4724280"/>
            <a:ext cx="1992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mary Combus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mb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368960" y="5265720"/>
            <a:ext cx="1447200" cy="228600"/>
            <a:chOff x="4368960" y="5265720"/>
            <a:chExt cx="1447200" cy="228600"/>
          </a:xfrm>
        </p:grpSpPr>
        <p:sp>
          <p:nvSpPr>
            <p:cNvPr id="268" name=""/>
            <p:cNvSpPr/>
            <p:nvPr/>
          </p:nvSpPr>
          <p:spPr>
            <a:xfrm>
              <a:off x="4368960" y="5302080"/>
              <a:ext cx="304560" cy="15264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73520" y="5342040"/>
              <a:ext cx="1066320" cy="7596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40200" y="5265720"/>
              <a:ext cx="75960" cy="22860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6102720" y="4572000"/>
            <a:ext cx="721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ed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511960" y="510552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2692080" y="358092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E-waste Fe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te was an equal parts (by weight) mixture of computer keyboards, motherboards, and ca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4057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eeding E-waste into Kil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371600" y="165744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5:23:38Z</dcterms:created>
  <dc:creator>estewart</dc:creator>
  <dc:description/>
  <dc:language>en-US</dc:language>
  <cp:lastModifiedBy>Tim Benner</cp:lastModifiedBy>
  <dcterms:modified xsi:type="dcterms:W3CDTF">2008-01-09T20:21:37Z</dcterms:modified>
  <cp:revision>42</cp:revision>
  <dc:subject/>
  <dc:title>Emissions from the Incineration of Electronics Industry Waste</dc:title>
</cp:coreProperties>
</file>