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F8B9-954E-46CB-83DF-DA6EA3A9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4A95-131C-4A4A-A4BB-D94A0D08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627A-CBF7-4BF9-8967-19966774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8F06-E69C-4515-96A4-C618D76F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18E7-3F00-40A9-A2E0-B005E06E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5302-D9E3-49A3-848D-DF33637E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1B33-F9BE-4369-B75D-9E823CE6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65A0-4157-4296-96B7-E94AB8C5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617E-9ACE-47B6-B472-721CD647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8EB4-85A3-4F75-A5FF-6E40CBF4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2CE6-5846-4254-B55E-6C57D367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2897-65C7-4B4E-B7C2-623EF406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73D2-AD4B-486C-A257-44B8301F4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www.isd.mel.nist.gov/us&amp;r_robot_standards" TargetMode="External"/><Relationship Id="rId5" Type="http://schemas.openxmlformats.org/officeDocument/2006/relationships/package" Target="../embeddings/oleObject1.docx"/><Relationship Id="rId6" Type="http://schemas.openxmlformats.org/officeDocument/2006/relationships/image" Target="../media/image2.wmf"/><Relationship Id="rId7" Type="http://schemas.openxmlformats.org/officeDocument/2006/relationships/package" Target="../embeddings/oleObject2.docx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38120" y="2285640"/>
            <a:ext cx="2361960" cy="1676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30240" y="2285640"/>
            <a:ext cx="2286000" cy="1676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586400" y="2285640"/>
            <a:ext cx="2286000" cy="1676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9680" y="4013280"/>
            <a:ext cx="6566040" cy="49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obotName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Name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iteName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Name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or spa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 in (xxx c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 in (xxx c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 lbs (xxx 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 ft (xxx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 fps (xxx m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uls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or fueltype, xxx cc, xxx hp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itud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 ft (xxx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uranc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s-on, remote teleop, waypoins, other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load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 lb (xxx 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sensors, chemical sensors, o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, law enforcement, hobby, o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---------- ------------- ------------- ------------- ------------- ------------- ------------- ------------- 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Tx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 MHz (xxx mW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 MHz (xxx m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Rx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 MHz (xxx mW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 MHz (xxx m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6440" y="627120"/>
            <a:ext cx="656928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Black"/>
              </a:rPr>
              <a:t>Response Robot Evaluation Exerc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MD-TF1 Training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Rockville, M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ugust 19-21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isd.mel.nist.gov/us&amp;r_robot_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Black"/>
              </a:rPr>
              <a:t>ROBOT DATA SHEET </a:t>
            </a:r>
            <a:r>
              <a:rPr b="1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 Black"/>
              </a:rPr>
              <a:t>AERIAL/ROTARY W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8120" y="181080"/>
          <a:ext cx="1203480" cy="3524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8120" y="181080"/>
                    <a:ext cx="1203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5562720" y="201600"/>
          <a:ext cx="1090440" cy="3319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201600"/>
                    <a:ext cx="109044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0T23:16:03Z</dcterms:created>
  <dc:creator>Adam Jacoff</dc:creator>
  <dc:description/>
  <dc:language>en-US</dc:language>
  <cp:lastModifiedBy>drussell</cp:lastModifiedBy>
  <dcterms:modified xsi:type="dcterms:W3CDTF">2006-07-12T16:47:59Z</dcterms:modified>
  <cp:revision>8</cp:revision>
  <dc:subject/>
  <dc:title>PowerPoint Presentation</dc:title>
</cp:coreProperties>
</file>