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BD264FA-DA7E-45FA-814D-3D7DC4B5D232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PSI policy aims at unique protein structures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Representatives of sequence families for which there are no known structures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Independent selection by each center, incorporating center mission as well as PSI requiremen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Duplication minimized by public listing of all targets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47A8-5CB4-49EB-B109-E1FA0AF2D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F617-F082-4EE0-8E6B-DE299AE6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E681-7B7A-4ED8-BD16-00B283F82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BE2C-8415-4AA2-8EA6-59E7DFCA7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2D84-0991-49A9-9033-2FADC1213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DE8C-B487-40D1-9C89-20B92157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03EF-0ED0-4FCC-BA6C-73C8DBB1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2B5B-BDB9-447B-AE3C-CD7CEF3F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A573-68FD-4B12-87EB-AC4913B2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1E8F-51BE-455D-B394-9D4CC5B1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A0E7-EACB-4BD6-B999-7729054D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4CAA-990F-4F38-BFF4-5CFC084A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C229-D8C7-42D1-A6B8-9A173FD9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DFE3-DF9E-4318-9CB3-AC8584AC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29FE-69C7-43AA-B6BB-973BAE83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5D26-8811-4B94-9410-111BA7A74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D309-6D29-42D7-95C3-FD9ECE2F0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691E-65A7-4A04-8312-4DC4812C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87E4-EE89-4F1A-91CB-3063CCDB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4B00-3416-4873-9A35-165FE777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0E5A-1D8B-422E-88FC-EEDB4985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3D13-5492-4029-A757-9A56B1D7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60EA-4FAE-4623-BCA7-DB7DC774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F4F3-1BD8-4331-BE0C-A2C6FF96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7CBC-35F2-4718-965F-F0355D91A2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"/>
          <p:cNvSpPr/>
          <p:nvPr/>
        </p:nvSpPr>
        <p:spPr>
          <a:xfrm>
            <a:off x="4479840" y="3157560"/>
            <a:ext cx="1843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"/>
          <p:cNvSpPr/>
          <p:nvPr/>
        </p:nvSpPr>
        <p:spPr>
          <a:xfrm>
            <a:off x="4479840" y="3157560"/>
            <a:ext cx="1843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2270-A217-46D4-8D10-97DA6068B6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" name=""/>
          <p:cNvSpPr/>
          <p:nvPr/>
        </p:nvSpPr>
        <p:spPr>
          <a:xfrm>
            <a:off x="4479840" y="3157560"/>
            <a:ext cx="1843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9" name=""/>
          <p:cNvSpPr/>
          <p:nvPr/>
        </p:nvSpPr>
        <p:spPr>
          <a:xfrm>
            <a:off x="4479840" y="3157560"/>
            <a:ext cx="1843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lanning for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tein Structure Initia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ational Advisor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eneral Medical Sciences Counc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ptember 200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228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NIGMS Protein Structure Initiativ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PSI Advisory Committe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Brian Matthews (Chair), University of Oregon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David Davies, NIDDK, NIH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Chris Dobson, Cambridge University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Tony Kossiakoff, University of Chicago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Ed Lattman, Johns Hopkins University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Rowena Matthews, University of Michigan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Frank Prendergast, Mayo Clinic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Chris Sander, Sloan-Kettering Cancer Center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Gerhard Wagner, Harvard University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Cathy Wu, Georgetown University Medical School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2133720" y="3808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Times New Roman"/>
              </a:rPr>
              <a:t>NIGMS Protein Structure Initiativ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SI Advisory Committee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Progress Review (March 2003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Comments from the Chair’s letter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“…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very impressed and highly encouraged by the progress”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n some cases, well-planned, highly efficient pipelines have been developed…”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“…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100 or more structure determinations per year, very substantial progress by some of the groups .....”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“…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novel technologies and approaches that could have a large impact…”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“…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membrane proteins…difficult and challenging…complexes…some of the centers are beginning to address these…”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NIGMS Protein Structure Initiativ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SI Pilot Phase -- Lessons Learned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24"/>
              </a:spcBef>
              <a:buClr>
                <a:srgbClr val="ffff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Structural genomics pipelines can be constructed and scaled-up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24"/>
              </a:spcBef>
              <a:buClr>
                <a:srgbClr val="ffff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High throughput operation works for many protein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enomic approach works for struc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ottlenecks remain for some protei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 coordinated, 5-year target selection policy must be develop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omology modeling methods need impro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NIGMS Protein Structure Initiativ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SI-2 Production Phase (2005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Interacting network for high throughput protein structure determination with three component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Large-scale centers for protein structure production of selected target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Specialized centers for technology development leading to high throughput structure determination of difficult protein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Specialized centers for protein structures relevant to disease (other NIH Institutes and Centers)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Included in NIH Structural Biology Roadmap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plan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1143000" y="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NIGMS Protein Structure Initiativ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SI-2 Production Phase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Program changes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(following May 2003 Council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finement of the PSI goals statement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ffff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o ensure completion of the production phase within the 5-year period, staff and members of the PSI Advisory Committee are developing target selection policy, milestones, and project end-poin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NIGMS Protein Structure Initiativ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SI-2 Production Phase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rogram changes (continued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66"/>
              </a:buClr>
              <a:buSzPct val="6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Specialized centers for technology and methodology development: greater specificity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ffff66"/>
              </a:buClr>
              <a:buSzPct val="6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Structural genomics projects focused on completion of protein structures in an organism:  delete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ffff66"/>
              </a:buClr>
              <a:buSzPct val="6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Specialized centers for protein structures relevant to disease: supported by other NIH institutes and center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NIGMS Protein Structure Initiativ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SI-2 Large-scale Cent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igh throughput structure output (200 or more unique structures per year for each cente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arget selection based on protein family representati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Quantitative 5-year goals with milest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igh throughput  operation o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ll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tasks of the structural genomics pipe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visions for sharing facilities with the scientific com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NIGMS Protein Structure Initiativ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SI-2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arge-scale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enters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(continued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tivities to promote research trai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tivities to promote the participation of underrepresented minority researchers and/or students in structural biology researc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 to 5 awards expec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aximum requested budgets $8M d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pported by NIG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NIGMS Protein Structure Initiativ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SI-2 Large-scale Centers Target selec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presentatives of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larg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protein famil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Quantitative go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5-year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ilest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ject end-p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762120" y="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NIGMS Protein Structure Initiativ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SI-2 Large-scale Centers Target selec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ramatically increase the number of families with known struc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ase unique structures to ~8,000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crease structural coverage of sequenced gen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centrate on large sequence famil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ase structural information on sequenced genes to 7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sider biological imp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quires 8,000 to 10,000 unique experimental struc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NIGMS Protein Structure Initiativ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74674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ructural Genomic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egins with genetic in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iscovery-driven proje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Unique, non-redundant protein struc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rge-scale, organized, multidisciplinary projec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ajor investments in infrastruc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engthy scaling-up peri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ternational eff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286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NIGMS Protein Structure Initiativ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SI-2 Large-scale Centers Target selection plann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arget Selection Workshop, Nov. 200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search center staff, experts, PSI Advisory Committee (publi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eeting of PSI Advisory Committee and PIs (public), Dec. 200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eeting of PSI Advisory Committee (closed), Dec. 200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NIGMS Protein Structure Initiativ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SI-2 Large-scale Centers Homology Model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igh Accuracy Comparative Modeling Workshop, Oct. 200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dentify roadblocks to significantly improve the accuracy of comparative model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-chairs, Rich Friesner and John Moul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NIGMS Protein Structure Initiativ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SI-2 Specialized Centers</a:t>
            </a:r>
            <a:br>
              <a:rPr sz="40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Methodology and Technology Development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eading toward high throughput operation for difficult proteins &amp; probl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Membrane protei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Higher eukaryote proteins, especially huma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Other major bottlenecks to high throughput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uld focus on a subset of structural genomics tas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aximum requested budgets $3M dc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 to 6 aw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pported by NIGMS and other NIH institutes and cen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NIGMS Protein Structure Initiativ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SI-2 Specialized Centers</a:t>
            </a:r>
            <a:br>
              <a:rPr sz="40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Structures for Function and Disease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rotein structures from pathogens and from tissues and organ systems related to diseas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Member of the PSI networ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aximum requested budgets 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$3M dc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May be supported by other NIH institutes and centers (not NIGMS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1143000" y="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NIGMS Protein Structure Initiativ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SI-2 Plann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velopment of PSI-2 RFAs, Jan 200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SI-2 applications reviewed by Council, May 200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SI Pilots (FY 2003-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$65 million total cost annual budg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SI-2 Production (FY200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$75 million total cost annual budg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295280" y="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NIGMS Protein Structure Initiativ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search Centers 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ructures determine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01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77*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02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10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03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2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OTAL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40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* 31 started prior to awa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NIGMS Protein Structure Initiativ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PSI Structure Statistics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2002-2003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nique structures (30% seq. ID)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SI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7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DB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ew fold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SI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2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DB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3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Times New Roman"/>
              </a:rPr>
              <a:t>NIGMS Protein Structure Initiativ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verage total cost per structu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PSI Pilot pha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01         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$650 K     (7 centers)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02     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 $400 K    (9 centers)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03       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 $240 K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04        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    ?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05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$100 K  (goal)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PSI-2 Production pha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06-10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  $50 K  (goal)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Comparison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~$250-300 K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1219320" y="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NIGMS Protein Structure Initiativ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9144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ttp://www.nigms.nih.gov/psi/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NIGMS Protein Structure Initiativ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ructural Genomics Basic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arget strategy:  systematic sampling of protein sequence families to search for unique protein structur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perimental determination of unique protein structures in high throughput ope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mputational modeling of structures of sequence family homolog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45720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15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228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NIGMS Protein Structure Initiativ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467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rotein Structure Initiative (PSI)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Long-Range Goa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2971800"/>
            <a:ext cx="81532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o make the three-dimensional atomic level structures of most proteins easily available from knowledge of their corresponding DNA sequenc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264960"/>
            <a:ext cx="115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7" name=""/>
          <p:cNvSpPr/>
          <p:nvPr/>
        </p:nvSpPr>
        <p:spPr>
          <a:xfrm>
            <a:off x="1978560" y="304920"/>
            <a:ext cx="50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NIGMS Protein Structure Initiativ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5943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NIGMS Protein Structure Initiative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ructure provides information on function and will aid in the design of experi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velopment of better therapeutic targets fro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mparison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of protein structures fro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athogens vs. ho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iseased vs. normal tiss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533520"/>
            <a:ext cx="71024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xpected PSI Benefits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5943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NIGMS Protein Structure Initiative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llection of structures will address key biochemical and biophysical probl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otein folding, prediction, folds, evolution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enefits to biologi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echnology developmen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tructural biology facil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vailability of reagents and materi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xperimental outcome data on protein production and crystalliz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33520"/>
            <a:ext cx="71024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SI Benefits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(Continued)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SI Pilot Pha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-year pilot phase, September, 2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ilot phase Go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velopment of high throughput structure genomics pipel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ilots for testing all facets and strateg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SI target selection polic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presentatives of protein sequence famili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tional search for unique, non-redundant protein struct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ublic listing of all targets and progress toward structure determin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2286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NIGMS Protein Structure Initiativ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7268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SI Pilot Research Cent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 research centers funded in FY2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wo additional research centers funded in FY200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-funding by NIAID for two of the nine research cen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ny subproje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981080" y="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NIGMS Protein Structure Initiativ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0" y="762120"/>
          <a:ext cx="9144000" cy="609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762120"/>
                    <a:ext cx="914400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4267080" y="1668600"/>
            <a:ext cx="99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3886200"/>
            <a:ext cx="609480" cy="533520"/>
          </a:xfrm>
          <a:prstGeom prst="star5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3962520"/>
            <a:ext cx="609480" cy="533160"/>
          </a:xfrm>
          <a:prstGeom prst="star5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3581280"/>
            <a:ext cx="533520" cy="457200"/>
          </a:xfrm>
          <a:prstGeom prst="star5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3809880"/>
            <a:ext cx="609840" cy="533520"/>
          </a:xfrm>
          <a:prstGeom prst="star5">
            <a:avLst/>
          </a:prstGeom>
          <a:solidFill>
            <a:srgbClr val="99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838080"/>
            <a:ext cx="609480" cy="533520"/>
          </a:xfrm>
          <a:prstGeom prst="star5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2590920"/>
            <a:ext cx="609480" cy="533160"/>
          </a:xfrm>
          <a:prstGeom prst="star5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2514600"/>
            <a:ext cx="609480" cy="533520"/>
          </a:xfrm>
          <a:prstGeom prst="star5">
            <a:avLst/>
          </a:prstGeom>
          <a:solidFill>
            <a:srgbClr val="ff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1" name=""/>
          <p:cNvSpPr/>
          <p:nvPr/>
        </p:nvSpPr>
        <p:spPr>
          <a:xfrm>
            <a:off x="5181480" y="2133720"/>
            <a:ext cx="609840" cy="533160"/>
          </a:xfrm>
          <a:prstGeom prst="star5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2819520"/>
            <a:ext cx="609840" cy="533160"/>
          </a:xfrm>
          <a:prstGeom prst="star5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SI Pilot Research Center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4" name=""/>
          <p:cNvSpPr/>
          <p:nvPr/>
        </p:nvSpPr>
        <p:spPr>
          <a:xfrm>
            <a:off x="7772400" y="449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5" name=""/>
          <p:cNvSpPr/>
          <p:nvPr/>
        </p:nvSpPr>
        <p:spPr>
          <a:xfrm>
            <a:off x="7772400" y="4876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, Japan,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rae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2819520"/>
            <a:ext cx="228600" cy="2286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1066680"/>
            <a:ext cx="228600" cy="2286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3429000"/>
            <a:ext cx="228600" cy="2286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762120"/>
            <a:ext cx="228600" cy="2286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4648320"/>
            <a:ext cx="228600" cy="2286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1" name=""/>
          <p:cNvSpPr/>
          <p:nvPr/>
        </p:nvSpPr>
        <p:spPr>
          <a:xfrm>
            <a:off x="7238880" y="3200400"/>
            <a:ext cx="228600" cy="2286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2" name=""/>
          <p:cNvSpPr/>
          <p:nvPr/>
        </p:nvSpPr>
        <p:spPr>
          <a:xfrm>
            <a:off x="5867280" y="2666880"/>
            <a:ext cx="228600" cy="2286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0" y="1905120"/>
            <a:ext cx="228600" cy="2286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4" name=""/>
          <p:cNvSpPr/>
          <p:nvPr/>
        </p:nvSpPr>
        <p:spPr>
          <a:xfrm>
            <a:off x="7467480" y="4572000"/>
            <a:ext cx="228600" cy="2286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518148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6" name=""/>
          <p:cNvSpPr/>
          <p:nvPr/>
        </p:nvSpPr>
        <p:spPr>
          <a:xfrm>
            <a:off x="4114800" y="50292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7" name=""/>
          <p:cNvSpPr/>
          <p:nvPr/>
        </p:nvSpPr>
        <p:spPr>
          <a:xfrm>
            <a:off x="7543800" y="236232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36576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312408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335268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3124080"/>
            <a:ext cx="228600" cy="2286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2" name=""/>
          <p:cNvSpPr/>
          <p:nvPr/>
        </p:nvSpPr>
        <p:spPr>
          <a:xfrm>
            <a:off x="7467480" y="1981080"/>
            <a:ext cx="228600" cy="2286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3" name=""/>
          <p:cNvSpPr/>
          <p:nvPr/>
        </p:nvSpPr>
        <p:spPr>
          <a:xfrm>
            <a:off x="8001000" y="2438280"/>
            <a:ext cx="228600" cy="228600"/>
          </a:xfrm>
          <a:prstGeom prst="ellipse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4" name=""/>
          <p:cNvSpPr/>
          <p:nvPr/>
        </p:nvSpPr>
        <p:spPr>
          <a:xfrm>
            <a:off x="7620120" y="2514600"/>
            <a:ext cx="228600" cy="228600"/>
          </a:xfrm>
          <a:prstGeom prst="ellipse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5" name=""/>
          <p:cNvSpPr/>
          <p:nvPr/>
        </p:nvSpPr>
        <p:spPr>
          <a:xfrm>
            <a:off x="7086600" y="1828800"/>
            <a:ext cx="228600" cy="2286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6" name=""/>
          <p:cNvSpPr/>
          <p:nvPr/>
        </p:nvSpPr>
        <p:spPr>
          <a:xfrm>
            <a:off x="7086600" y="2057400"/>
            <a:ext cx="228600" cy="2286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7" name=""/>
          <p:cNvSpPr/>
          <p:nvPr/>
        </p:nvSpPr>
        <p:spPr>
          <a:xfrm>
            <a:off x="7620120" y="1828800"/>
            <a:ext cx="228600" cy="2286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8" name=""/>
          <p:cNvSpPr/>
          <p:nvPr/>
        </p:nvSpPr>
        <p:spPr>
          <a:xfrm>
            <a:off x="7772400" y="2362320"/>
            <a:ext cx="228600" cy="2286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9" name=""/>
          <p:cNvSpPr/>
          <p:nvPr/>
        </p:nvSpPr>
        <p:spPr>
          <a:xfrm>
            <a:off x="5638680" y="2438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0" name=""/>
          <p:cNvSpPr/>
          <p:nvPr/>
        </p:nvSpPr>
        <p:spPr>
          <a:xfrm>
            <a:off x="7467480" y="49528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1" name=""/>
          <p:cNvSpPr/>
          <p:nvPr/>
        </p:nvSpPr>
        <p:spPr>
          <a:xfrm>
            <a:off x="1676520" y="12193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3276720"/>
            <a:ext cx="228600" cy="228600"/>
          </a:xfrm>
          <a:prstGeom prst="ellipse">
            <a:avLst/>
          </a:prstGeom>
          <a:solidFill>
            <a:srgbClr val="99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4191120"/>
            <a:ext cx="228600" cy="228600"/>
          </a:xfrm>
          <a:prstGeom prst="ellipse">
            <a:avLst/>
          </a:prstGeom>
          <a:solidFill>
            <a:srgbClr val="99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4" name=""/>
          <p:cNvSpPr/>
          <p:nvPr/>
        </p:nvSpPr>
        <p:spPr>
          <a:xfrm>
            <a:off x="5943600" y="43434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41148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6" name=""/>
          <p:cNvSpPr/>
          <p:nvPr/>
        </p:nvSpPr>
        <p:spPr>
          <a:xfrm>
            <a:off x="7162920" y="37339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7" name=""/>
          <p:cNvSpPr/>
          <p:nvPr/>
        </p:nvSpPr>
        <p:spPr>
          <a:xfrm>
            <a:off x="7391520" y="3581280"/>
            <a:ext cx="228600" cy="228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8" name=""/>
          <p:cNvSpPr/>
          <p:nvPr/>
        </p:nvSpPr>
        <p:spPr>
          <a:xfrm>
            <a:off x="1523880" y="1447920"/>
            <a:ext cx="228600" cy="2286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21337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2819520"/>
            <a:ext cx="228600" cy="228600"/>
          </a:xfrm>
          <a:prstGeom prst="ellipse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7T13:26:44Z</dcterms:created>
  <dc:creator>Pillsbup</dc:creator>
  <dc:description/>
  <dc:language>en-US</dc:language>
  <cp:lastModifiedBy>Dan Hogan</cp:lastModifiedBy>
  <cp:lastPrinted>2001-09-09T14:01:41Z</cp:lastPrinted>
  <dcterms:modified xsi:type="dcterms:W3CDTF">2003-10-01T21:19:23Z</dcterms:modified>
  <cp:revision>407</cp:revision>
  <dc:subject/>
  <dc:title>Planning for the Protein Structure Initiative -- NIGMS Advisory Council, September 200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40230633</vt:r8>
  </property>
  <property fmtid="{D5CDD505-2E9C-101B-9397-08002B2CF9AE}" pid="3" name="_AuthorEmail">
    <vt:lpwstr>NORVELLJ@nigms.nih.gov</vt:lpwstr>
  </property>
  <property fmtid="{D5CDD505-2E9C-101B-9397-08002B2CF9AE}" pid="4" name="_AuthorEmailDisplayName">
    <vt:lpwstr>Norvell, John (NIH/NIGMS)</vt:lpwstr>
  </property>
  <property fmtid="{D5CDD505-2E9C-101B-9397-08002B2CF9AE}" pid="5" name="_EmailSubject">
    <vt:lpwstr>PSI.Council.03.09.summary.b1</vt:lpwstr>
  </property>
  <property fmtid="{D5CDD505-2E9C-101B-9397-08002B2CF9AE}" pid="6" name="_ReviewingToolsShownOnce">
    <vt:lpwstr/>
  </property>
</Properties>
</file>