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D001-FCED-4A19-A71A-726272E9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32A0-85ED-477A-9E8A-67E52983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708C-AF80-43A2-8182-D867BBE5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921C-EDE9-4E0E-A67B-26770153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B60FF-37F4-45EB-804B-BD52DA19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5AA9E-7F02-46C7-B33B-32351B31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6835C-2A66-43AE-96B8-17BE8AFD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2267E-D23B-4A93-B86F-ED8F10F1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23096-50F9-423C-AA9A-31853804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CEEA5-D731-4997-897D-73961521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1236D-4E40-485F-A58D-C3EEB46D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619E-C1C3-4DAB-A2E6-886B2A09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1D5D9-D052-4B58-9163-22A59E19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5A59E-1C18-4F06-8C8D-761847FC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E07F8-BEF1-4C71-AA3B-B4C61794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F7D8C-9537-4055-B332-733D71C8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79A1B-149B-4A57-9861-A8665C80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3737-F2F4-4D8B-AE62-2AF1B74F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35F4-FDC8-4B18-A75A-7A4B1180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E34B-41F5-42EA-8198-01285421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4984-8569-4CC6-953E-C677A2E6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6BC3-3BF8-4023-AB56-50E28E70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806A9-AD45-4879-8E97-8D73ACE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176E-24FF-4D93-8BD0-E91F6D92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C126-ED00-4665-8A26-D91908342F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62904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630840"/>
            <a:ext cx="289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191"/>
                </a:solidFill>
                <a:latin typeface="Comic Sans MS"/>
              </a:rPr>
              <a:t>Tony.Cass@</a:t>
            </a:r>
            <a:r>
              <a:rPr b="1" lang="en-US" sz="1000" spc="-1" strike="noStrike" u="sng">
                <a:solidFill>
                  <a:srgbClr val="052fb5"/>
                </a:solidFill>
                <a:uFillTx/>
                <a:latin typeface="Comic Sans MS"/>
              </a:rPr>
              <a:t>CERN</a:t>
            </a:r>
            <a:r>
              <a:rPr b="0" lang="en-US" sz="1200" spc="-1" strike="noStrike">
                <a:solidFill>
                  <a:srgbClr val="919191"/>
                </a:solidFill>
                <a:latin typeface="Comic Sans MS"/>
              </a:rPr>
              <a:t>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29F8-0075-4090-8C60-78C1E3468C2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3124080" y="662904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630840"/>
            <a:ext cx="289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191"/>
                </a:solidFill>
                <a:latin typeface="Comic Sans MS"/>
              </a:rPr>
              <a:t>Tony.Cass@</a:t>
            </a:r>
            <a:r>
              <a:rPr b="1" lang="en-US" sz="1000" spc="-1" strike="noStrike" u="sng">
                <a:solidFill>
                  <a:srgbClr val="052fb5"/>
                </a:solidFill>
                <a:uFillTx/>
                <a:latin typeface="Comic Sans MS"/>
              </a:rPr>
              <a:t>CERN</a:t>
            </a:r>
            <a:r>
              <a:rPr b="0" lang="en-US" sz="1200" spc="-1" strike="noStrike">
                <a:solidFill>
                  <a:srgbClr val="919191"/>
                </a:solidFill>
                <a:latin typeface="Comic Sans MS"/>
              </a:rPr>
              <a:t>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92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c0128"/>
                </a:solidFill>
                <a:latin typeface="Comic Sans MS"/>
              </a:rPr>
              <a:t>Building A</a:t>
            </a:r>
            <a:br>
              <a:rPr sz="6000"/>
            </a:br>
            <a:r>
              <a:rPr b="1" lang="en-GB" sz="6000" spc="-1" strike="noStrike">
                <a:solidFill>
                  <a:srgbClr val="fc0128"/>
                </a:solidFill>
                <a:latin typeface="Comic Sans MS"/>
              </a:rPr>
              <a:t>Computer Centre </a:t>
            </a: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52fb5"/>
                </a:solidFill>
                <a:latin typeface="Comic Sans MS"/>
              </a:rPr>
              <a:t>HEPiX</a:t>
            </a:r>
            <a:br>
              <a:rPr sz="6000"/>
            </a:br>
            <a:r>
              <a:rPr b="1" lang="en-GB" sz="6000" spc="-1" strike="noStrike">
                <a:solidFill>
                  <a:srgbClr val="052fb5"/>
                </a:solidFill>
                <a:latin typeface="Comic Sans MS"/>
              </a:rPr>
              <a:t>Large Cluster SIG</a:t>
            </a:r>
            <a:br>
              <a:rPr sz="6000"/>
            </a:br>
            <a:br>
              <a:rPr sz="6000"/>
            </a:br>
            <a:r>
              <a:rPr b="1" lang="en-GB" sz="4000" spc="-1" strike="noStrike">
                <a:solidFill>
                  <a:srgbClr val="919191"/>
                </a:solidFill>
                <a:latin typeface="Comic Sans MS"/>
              </a:rPr>
              <a:t>October 21</a:t>
            </a:r>
            <a:r>
              <a:rPr b="1" lang="en-GB" sz="4000" spc="-1" strike="noStrike" baseline="30000">
                <a:solidFill>
                  <a:srgbClr val="919191"/>
                </a:solidFill>
                <a:latin typeface="Comic Sans MS"/>
              </a:rPr>
              <a:t>st</a:t>
            </a:r>
            <a:r>
              <a:rPr b="1" lang="en-GB" sz="4000" spc="-1" strike="noStrike">
                <a:solidFill>
                  <a:srgbClr val="919191"/>
                </a:solidFill>
                <a:latin typeface="Comic Sans MS"/>
              </a:rPr>
              <a:t> 2002</a:t>
            </a:r>
            <a:br>
              <a:rPr sz="4000"/>
            </a:br>
            <a:br>
              <a:rPr sz="40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ony.Cass@</a:t>
            </a:r>
            <a:r>
              <a:rPr b="1" lang="en-GB" sz="2000" spc="-1" strike="noStrike" u="sng">
                <a:solidFill>
                  <a:srgbClr val="052fb5"/>
                </a:solidFill>
                <a:uFillTx/>
                <a:latin typeface="Comic Sans MS"/>
              </a:rPr>
              <a:t>CER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.ch</a:t>
            </a:r>
            <a:endParaRPr b="0" lang="en-US" sz="2800" spc="-1" strike="noStrike">
              <a:solidFill>
                <a:srgbClr val="fcfeb9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Air Cooling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t capacity of air is limited. Extracting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ots of he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ans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ots of air chang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 hou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ptable level depends on room usage and occupanc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bove 60-70 AC/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environment becomes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uncomfort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general wor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fb5"/>
                </a:solidFill>
                <a:latin typeface="Comic Sans MS"/>
              </a:rPr>
              <a:t>Good! Make SysAdmins work from their office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120AC/h acceptable for technical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possible,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avoid closed syste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Injection of external fresh air allows “free cooling” in wint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d air injection usually under false flo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to ensure air flow through equipment ra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f level injection possible, but requires high ceil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343A-BA08-41BD-9514-CC869B6AE3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Air Cooling Limits at CERN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981000"/>
          <a:ext cx="7885080" cy="4064040"/>
        </p:xfrm>
        <a:graphic>
          <a:graphicData uri="http://schemas.openxmlformats.org/drawingml/2006/table">
            <a:tbl>
              <a:tblPr/>
              <a:tblGrid>
                <a:gridCol w="2881440"/>
                <a:gridCol w="2519280"/>
                <a:gridCol w="2484360"/>
              </a:tblGrid>
              <a:tr h="9583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Clearan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3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Air Fl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.5-3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gt;6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Comfortab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W/m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00W/m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Hi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00W/m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00W/m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0" y="506808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Comic Sans MS"/>
              </a:rPr>
              <a:t>For guidance only: your mileage may vary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Comic Sans MS"/>
              </a:rPr>
              <a:t>Don’t forget to account for overheads (e.g. solar heating)! These depend on location, but we have 3-400W/m</a:t>
            </a:r>
            <a:r>
              <a:rPr b="0" lang="en-US" sz="2000" spc="-1" strike="noStrike" baseline="30000">
                <a:solidFill>
                  <a:srgbClr val="081d58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81d58"/>
                </a:solidFill>
                <a:latin typeface="Comic Sans MS"/>
              </a:rPr>
              <a:t> for the main machine room in sum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1E63-E35A-4605-A471-4673E6F6DF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CERN Planning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2680" y="1405080"/>
          <a:ext cx="891720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405080"/>
                    <a:ext cx="891720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9486-D049-4EF4-9B98-6B93659B7D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15820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81d58"/>
                </a:solidFill>
                <a:latin typeface="Comic Sans MS"/>
              </a:rPr>
              <a:t>Spa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7E1A3-A38C-4A4B-84D0-B17F7AC8EA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Space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Box size may not be the determining fa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1U boxes in 19” rack: 4kW in 1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ncluding clearance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good if you can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ix CPU and disk serv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ter still if you have tape robot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herwise, space is relatively easy. Just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remem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add enough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clear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5D81-D00F-484F-BD43-C51BB01464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15820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81d58"/>
                </a:solidFill>
                <a:latin typeface="Comic Sans MS"/>
              </a:rPr>
              <a:t>Fire Precau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DC2B-1FE7-4D15-A645-5E4DE99C40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Smoke Detection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Laser bas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moke detection systems are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extremely sensi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hese to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raise early ale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need less sensitive detectors as “second kno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to trigger any fire suppression or preven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ocalisation is a probl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bination of sensitive detectors and rapid air flow means all detectors will trigger in time—usually sooner, not la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Locality of smoke detection competes against efficient cool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divide a big room into smaller ones, but it will be harder to c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ame is true for closed racks. And, anyway, smoke will escape into the room eventual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9BF2-A87F-4E04-B4E5-3F1F783375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Fire Suppression or Fire Prevention?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Fire Suppression if you want to keep services run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 all costs (e.g. banks, phone companies, ISP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 system is to </a:t>
            </a:r>
            <a:r>
              <a:rPr b="1" lang="en-US" sz="2000" spc="-1" strike="noStrike">
                <a:solidFill>
                  <a:srgbClr val="fc0128"/>
                </a:solidFill>
                <a:latin typeface="Comic Sans MS"/>
              </a:rPr>
              <a:t>flood machine room with an inert g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Nitrogen/Argon mixture now that Halons are banned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s is expensive and bottles are bulk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chine room needs to be hermetic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modern water based systems can be used on running equipment and are good for scrubbing smoke particles from the a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Fire Preven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alternative </a:t>
            </a: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if you want to avoid fire at all cos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mic Sans MS"/>
              </a:rPr>
              <a:t>Cut electrical power as soon as smoke is detec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sk of progression to fire cut by 20x-100x for smouldering PC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Fire Prevention chosen at CE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our new machine room in the former tape vault. Ask our opinions next year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re still not sure what to do for our main machine room because of the localisation probl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C5A2-CDC2-425C-A869-02D49062E0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Why do you need a Computer Centre?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cause you have some combination of CPU servers, Disk Storage and Tape Stor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of this equi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umes electrical 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ch may need to be protected against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ns electrical power to heat at 100% efficienc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s to be put somewhere,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s to be protected against fi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Computer Centre or Computer Room mu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an adequate power supp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adequate cooling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large enough,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smoke detection and, possibly, fire suppress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8C6E-F78D-4F7F-BB39-3AC48B5C3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15820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81d58"/>
                </a:solidFill>
                <a:latin typeface="Comic Sans MS"/>
              </a:rPr>
              <a:t>Electrical Pow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148E-7FF2-4158-BBDE-FECCC8ADAF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How much power do you need?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ape drives and robotics are low po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O(100W) per device and you don’t have many of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Disks are also low po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O(10W) per devi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concern is inrush current as drive spins up. Don’t start them all at o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CPUs are the probl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Lots of th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power efficiency is not improv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raw performance impro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udy of processor specifications suggests constant power consumption of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1W/SpecInt9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Power fa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the power supply is </a:t>
            </a: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Off the shelf supplies have power factor of </a:t>
            </a: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~0.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 supplies with power factors </a:t>
            </a: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better than 0.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available, but these are generally </a:t>
            </a: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more expens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4D6E-02A6-4966-B327-854B58CB70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C power supplies only draw current when the voltage exceeds a certain threshol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? Lots of </a:t>
            </a:r>
            <a:r>
              <a:rPr b="1" lang="en-US" sz="2800" spc="-1" strike="noStrike">
                <a:solidFill>
                  <a:srgbClr val="063de8"/>
                </a:solidFill>
                <a:latin typeface="Comic Sans MS"/>
              </a:rPr>
              <a:t>harmonic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especially </a:t>
            </a:r>
            <a:r>
              <a:rPr b="1" lang="en-US" sz="2800" spc="-1" strike="noStrike">
                <a:solidFill>
                  <a:srgbClr val="063de8"/>
                </a:solidFill>
                <a:latin typeface="Comic Sans MS"/>
              </a:rPr>
              <a:t>3</a:t>
            </a:r>
            <a:r>
              <a:rPr b="1" lang="en-US" sz="2800" spc="-1" strike="noStrike" baseline="30000">
                <a:solidFill>
                  <a:srgbClr val="063de8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hese lead to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high currents in the neutr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uct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ical distribution can need </a:t>
            </a: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neutral condu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</a:t>
            </a: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twice the cross se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the phase conducto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fb5"/>
                </a:solidFill>
                <a:latin typeface="Comic Sans MS"/>
              </a:rPr>
              <a:t>All the w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rom room distribution, through PDUs to the transform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.f. no neutral needed for ideal 3-phase. </a:t>
            </a:r>
            <a:r>
              <a:rPr b="0" lang="en-US" sz="2000" spc="-1" strike="noStrike">
                <a:solidFill>
                  <a:srgbClr val="777777"/>
                </a:solidFill>
                <a:latin typeface="Comic Sans MS"/>
              </a:rPr>
              <a:t>US building code used to allow half cross section neutral conductors. No longer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mic Sans MS"/>
              </a:rPr>
              <a:t>Potential fire ris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Switched Mode Power Supplies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4543560" cy="26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80AF-6EA2-48E8-A8BD-61DE13C645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Power Protection—High Level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l question: “What happens if your primary supply fails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question: “</a:t>
            </a:r>
            <a:r>
              <a:rPr b="1" lang="en-US" sz="2800" spc="-1" strike="noStrike">
                <a:solidFill>
                  <a:srgbClr val="063de8"/>
                </a:solidFill>
                <a:latin typeface="Comic Sans MS"/>
              </a:rPr>
              <a:t>How long does it take you to perform a controlled shutdown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y guess?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Over half an ho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Probably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2 hou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High power, long autonom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attery backed (static)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UPS systems are expens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>
                <a:solidFill>
                  <a:srgbClr val="063de8"/>
                </a:solidFill>
                <a:latin typeface="Comic Sans MS"/>
              </a:rPr>
              <a:t>Need dies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acked (rotary) systems </a:t>
            </a:r>
            <a:r>
              <a:rPr b="1" lang="en-US" sz="2800" spc="-1" strike="noStrike">
                <a:solidFill>
                  <a:srgbClr val="063de8"/>
                </a:solidFill>
                <a:latin typeface="Comic Sans MS"/>
              </a:rPr>
              <a:t>for decent autonom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hese are also expensiv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can,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stall a 5 minute static UPS to smooth power and cover microcu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expect to lose physics computing due to power c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consider a 2 hour static UPS for critical syste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etworks, databases, …) if you have no die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8C4E-6594-4BE9-94E7-699BA1671E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Power Protection—Local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“multi sockets” come with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different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or earth leakage)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ircuit break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trip on small difference (usually 30mA) between the phase and neutral curr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fine for general home use, but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bad for connecting many PC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 supply design gives natural difference of 3-5mA. If you have lots of PCs behind one differential breaker this may trip if there are small disturba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our theo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We will try omitting these breakers for new installa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need to provide dedicated sockets for, e.g. conso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Ask me for an update next ye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7555-8942-420E-92AE-1BB8E14784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15820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81d58"/>
                </a:solidFill>
                <a:latin typeface="Comic Sans MS"/>
              </a:rPr>
              <a:t>HVA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3304-95FC-4E18-94A5-39D8A4C979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HVAC Options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Water coo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no pipes in equipment toda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Does any vendor want to be the first to add thes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Ice Cube would have internal water cooling, but even here, closed system is mentioned as op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P talk of using “ink jet” heads to spray water on cpu. This cools the chip faster, but the heat still ends up in the machine roo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put water cooled pipes in racks (common practice in online areas for experiments) but rack layout has to be fix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Air coo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r conditioning units are connected to the chilled water supply and circulate chilled air in the machine roo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Flexi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ut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6989-A416-44CD-BCED-7B4CEBDDE9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9:17:02Z</dcterms:created>
  <dc:creator>Tony Cass</dc:creator>
  <dc:description/>
  <dc:language>en-US</dc:language>
  <cp:lastModifiedBy>Tony Cass</cp:lastModifiedBy>
  <cp:lastPrinted>1998-06-29T13:05:58Z</cp:lastPrinted>
  <dcterms:modified xsi:type="dcterms:W3CDTF">2002-10-21T20:30:22Z</dcterms:modified>
  <cp:revision>25</cp:revision>
  <dc:subject>Mail Server</dc:subject>
  <dc:title>B513 Upgrade for IT Post C5, 11th October 2002</dc:title>
</cp:coreProperties>
</file>