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6F2-4FFB-4E1D-94EC-47A47E16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6DE-1F9D-44A8-8562-CBF2E768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F7B-8C7F-49F0-B9A3-DE78AF0C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5AA-83C9-4473-BECB-8C1EB03D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345D-B0FD-4951-9239-7CFC0FE1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367F-5B0E-4CAA-8DF4-C814DC40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C749-57B2-404E-9DF2-FACB2910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5D9E-D0DC-4F89-B8C6-411A1967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E3A9-6A4D-44F0-AF79-E75B7275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1AF7-0A7C-443D-A204-AAFBD60F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C061-5D20-475B-8648-C038BFF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19F-9FE4-4D6D-99C8-478404FA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DF2D-4C2F-4E4E-9BAF-7F83137D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26E5-E1CF-45A9-83AA-9CE8CB1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D242-ED31-4531-BB8D-C04298E1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3CC0-7201-416D-8A09-CE7E42A6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FE9A-C3D7-4EF8-9CFE-45AA8769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30B-E320-4D8B-8C36-22F0988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78A-9D0D-4837-8048-75A3CD2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A0F-A0EA-4BAF-B908-AA551542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DF5-5B4C-438D-A987-46C3152C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B75-882E-4BCE-ABA7-B578824A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DE5-1C79-4FF1-849A-214CE33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9E1-4638-41CA-8B38-D1541AE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452A-0CB0-42B3-B726-37CF9C39DE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CF94-853F-4431-93B2-80EECCE992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Cancer Outcomes for African-Americ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Hanover Regional Medical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astal Area Health Education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North Carolina at Chapel Hi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North Carolina at Wilming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ort given at the Program Steering Committee Meet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2 June 2006, Toron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nership Rel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-Chapel H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ts to Chapel Hill by 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al con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 consul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site for Head &amp; Neck t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LESYNERGY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®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al con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ment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apers at ATA, May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naker, Maguire, Rosen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Year &amp; a half of TELESYNER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southeastern N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u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ESYNER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®: Bridging academic and community radiology oncology treatment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ient Navigator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recruitment of pat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vy schedule of outreach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ed with Prostate Cancer Screening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f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volunt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ch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sychological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ed 260 inter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d 228  inter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tions based on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curriculum modules for M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rgy Day on Can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ng propo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 the Utilization and Impact of the NCI’s Cancer Information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arly Patient Accruals and Total Enroll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Trial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hrough Apr 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71600" y="2895480"/>
          <a:ext cx="6781680" cy="3200400"/>
        </p:xfrm>
        <a:graphic>
          <a:graphicData uri="http://schemas.openxmlformats.org/drawingml/2006/table">
            <a:tbl>
              <a:tblPr/>
              <a:tblGrid>
                <a:gridCol w="1130040"/>
                <a:gridCol w="1130400"/>
                <a:gridCol w="1130400"/>
                <a:gridCol w="1130040"/>
                <a:gridCol w="1130400"/>
                <a:gridCol w="11304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(2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(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(2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arly Patient Accruals and Total Enroll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ated Pati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rough Apr 200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371600" y="2895480"/>
          <a:ext cx="6781680" cy="3200400"/>
        </p:xfrm>
        <a:graphic>
          <a:graphicData uri="http://schemas.openxmlformats.org/drawingml/2006/table">
            <a:tbl>
              <a:tblPr/>
              <a:tblGrid>
                <a:gridCol w="1130040"/>
                <a:gridCol w="1130400"/>
                <a:gridCol w="1130400"/>
                <a:gridCol w="1130040"/>
                <a:gridCol w="1130400"/>
                <a:gridCol w="11304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(8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(7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(5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arly Patient Accruals and Total Enroll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ychological Study (closed 200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895480"/>
          <a:ext cx="6781680" cy="3200400"/>
        </p:xfrm>
        <a:graphic>
          <a:graphicData uri="http://schemas.openxmlformats.org/drawingml/2006/table">
            <a:tbl>
              <a:tblPr/>
              <a:tblGrid>
                <a:gridCol w="1130040"/>
                <a:gridCol w="1130400"/>
                <a:gridCol w="1130400"/>
                <a:gridCol w="1130040"/>
                <a:gridCol w="1130400"/>
                <a:gridCol w="11304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 (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 (5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 (4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 of Clinical T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 &amp; Neck t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erfractionated IMR with weekly concurrent Cisplat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investigator-initiated clinical trial at NHR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 patients enrolled (3 bla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early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 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ly less tox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Clinical T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cell lung ca – Chemo plus chest radi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 of anal canal – Chemo + radi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tate Ca (RTOG 0232) – External beam plus brachytherapy versus brachytherapy alone (enrolled one black male in Ju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Clinical T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small cell lung ca – Cranial irradiation vs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small cell lung ca – Selenium sup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creatic ca (NSABP)– Chemo + radiotherapy vs ch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CIS (NSABP) – Anastrozole vs Tamoxi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er-reviewed Pub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scripts in pr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uire, Hamann, Men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tate cancer risk groups and treatment choices (ASTRO po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u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ment planning using TELESYNERG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® (ATA presen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mann, Mathews, Joh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s of cancer on cultural and social beliefs and attitudes (ASTRO po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er-reviewed Pub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scripts in preparation, cont’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twall, Maguire, Dobson, Ha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ial differences in rectal cancer out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twall, C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ial differences in frequency of breast conservation surgery and breast reconstruction in women with Stages 0,1,&amp; 2 breast can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9:06:40Z</dcterms:created>
  <dc:creator>shamann</dc:creator>
  <dc:description/>
  <dc:language>en-US</dc:language>
  <cp:lastModifiedBy>shamann</cp:lastModifiedBy>
  <dcterms:modified xsi:type="dcterms:W3CDTF">2006-06-21T21:56:04Z</dcterms:modified>
  <cp:revision>7</cp:revision>
  <dc:subject/>
  <dc:title>Improving Cancer Outcomes for African-Americans</dc:title>
</cp:coreProperties>
</file>