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DCB9-F437-4493-9826-9908BAB0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3E92-F3F5-450F-8592-444AA739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A39A-82C3-4F11-8F87-A3A56D0AD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4A47-CC83-43A6-852B-0A8EDD844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9ACC-E9A0-459F-B20F-A124C574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4D26-D5C8-45CC-A723-A4583B33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9562-6DBC-4E88-9F49-A0278D2C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77EA-5FAE-4FC7-8C0D-649044B6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5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A67B-FD56-46DB-9C1F-78F935FA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0385-A2B2-4F48-BE8F-0C3D7B39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79EA-BBB2-4A02-8B0B-68F466E3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1BCC-8B25-4EC8-B6AD-C01D3D4B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664320"/>
            <a:ext cx="2895840" cy="48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567F-6A10-4347-AAC7-8CAEA0F2E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SIGCOL" descr=""/>
          <p:cNvPicPr/>
          <p:nvPr/>
        </p:nvPicPr>
        <p:blipFill>
          <a:blip r:embed="rId1"/>
          <a:stretch/>
        </p:blipFill>
        <p:spPr>
          <a:xfrm>
            <a:off x="8116920" y="68400"/>
            <a:ext cx="977760" cy="860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7360" y="2387520"/>
            <a:ext cx="4683240" cy="44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22860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90015"/>
                </a:solidFill>
                <a:latin typeface="Arial"/>
              </a:rPr>
              <a:t>ACCOMPLISH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790015"/>
              </a:buClr>
              <a:buFont typeface="Wingdings" charset="2"/>
              <a:buChar char=""/>
              <a:tabLst>
                <a:tab algn="l" pos="22860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sts by the California Air Resources Board proved the coat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gine meets ultra-low emissions stand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790015"/>
              </a:buClr>
              <a:buFont typeface="Wingdings" charset="2"/>
              <a:buChar char=""/>
              <a:tabLst>
                <a:tab algn="l" pos="22860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durance tests show that the time between overhaul ca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xceed 8,000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790015"/>
              </a:buClr>
              <a:buFont typeface="Wingdings" charset="2"/>
              <a:buChar char=""/>
              <a:tabLst>
                <a:tab algn="l" pos="22860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Rotapower (Moller’s trademark) engine has demonstrat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ts ability to operate on a variety of fuels – a truly multi-fue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g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22860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90015"/>
                </a:solidFill>
                <a:latin typeface="Arial"/>
              </a:rPr>
              <a:t>COMMERCI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790015"/>
              </a:buClr>
              <a:buFont typeface="Wingdings" charset="2"/>
              <a:buChar char=""/>
              <a:tabLst>
                <a:tab algn="l" pos="22860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nufacturers have provided letters of intent for larg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ties (over 500,000) of these engines. They are no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ducting tests of the engines installed in their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790015"/>
              </a:buClr>
              <a:buFont typeface="Wingdings" charset="2"/>
              <a:buChar char=""/>
              <a:tabLst>
                <a:tab algn="l" pos="22860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pproximately $25 million in private funding has be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pplied to Rotapower engine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790015"/>
              </a:buClr>
              <a:buFont typeface="Wingdings" charset="2"/>
              <a:buChar char=""/>
              <a:tabLst>
                <a:tab algn="l" pos="22860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uge markets for Rotapower engines have been identified i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sia and Mexico where air pollution is a major problem. 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ubsidiary firm, Freedom Motors, Inc.,  has been created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tion and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790015"/>
              </a:buClr>
              <a:buFont typeface="Wingdings" charset="2"/>
              <a:buChar char=""/>
              <a:tabLst>
                <a:tab algn="l" pos="22860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ive patents are pending on various features of the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790015"/>
              </a:buClr>
              <a:buFont typeface="Wingdings" charset="2"/>
              <a:buChar char=""/>
              <a:tabLst>
                <a:tab algn="l" pos="22860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firm has 21 employees with six new positions cr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76240" y="65160"/>
            <a:ext cx="73915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68520" y="650880"/>
            <a:ext cx="6006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oller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avis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200" y="108000"/>
            <a:ext cx="12582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1920" bIns="619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15960"/>
                <a:tab algn="l" pos="3032280"/>
                <a:tab algn="l" pos="4548240"/>
                <a:tab algn="l" pos="6064200"/>
                <a:tab algn="l" pos="7580160"/>
                <a:tab algn="l" pos="9096480"/>
                <a:tab algn="l" pos="10612440"/>
              </a:tabLst>
            </a:pPr>
            <a:r>
              <a:rPr b="1" lang="en-US" sz="1500" spc="-1" strike="noStrike">
                <a:solidFill>
                  <a:srgbClr val="fc0128"/>
                </a:solidFill>
                <a:latin typeface="Arial"/>
              </a:rPr>
              <a:t>S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al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515960"/>
                <a:tab algn="l" pos="3032280"/>
                <a:tab algn="l" pos="4548240"/>
                <a:tab algn="l" pos="6064200"/>
                <a:tab algn="l" pos="7580160"/>
                <a:tab algn="l" pos="9096480"/>
                <a:tab algn="l" pos="10612440"/>
              </a:tabLst>
            </a:pPr>
            <a:r>
              <a:rPr b="1" lang="en-US" sz="1500" spc="-1" strike="noStrike">
                <a:solidFill>
                  <a:srgbClr val="fc0128"/>
                </a:solidFill>
                <a:latin typeface="Arial"/>
              </a:rPr>
              <a:t>B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usine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515960"/>
                <a:tab algn="l" pos="3032280"/>
                <a:tab algn="l" pos="4548240"/>
                <a:tab algn="l" pos="6064200"/>
                <a:tab algn="l" pos="7580160"/>
                <a:tab algn="l" pos="9096480"/>
                <a:tab algn="l" pos="10612440"/>
              </a:tabLst>
            </a:pPr>
            <a:r>
              <a:rPr b="1" lang="en-US" sz="1500" spc="-1" strike="noStrike">
                <a:solidFill>
                  <a:srgbClr val="fc0128"/>
                </a:solidFill>
                <a:latin typeface="Arial"/>
              </a:rPr>
              <a:t>I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novatio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515960"/>
                <a:tab algn="l" pos="3032280"/>
                <a:tab algn="l" pos="4548240"/>
                <a:tab algn="l" pos="6064200"/>
                <a:tab algn="l" pos="7580160"/>
                <a:tab algn="l" pos="9096480"/>
                <a:tab algn="l" pos="10612440"/>
              </a:tabLst>
            </a:pPr>
            <a:r>
              <a:rPr b="1" lang="en-US" sz="1500" spc="-1" strike="noStrike">
                <a:solidFill>
                  <a:srgbClr val="fc0128"/>
                </a:solidFill>
                <a:latin typeface="Arial"/>
              </a:rPr>
              <a:t>R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searc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89360" y="3495600"/>
            <a:ext cx="4353120" cy="31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571680"/>
                <a:tab algn="l" pos="166356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  <a:tab algn="l" pos="6426360"/>
                <a:tab algn="l" pos="6718320"/>
                <a:tab algn="l" pos="7010280"/>
                <a:tab algn="l" pos="7302600"/>
              </a:tabLst>
            </a:pPr>
            <a:r>
              <a:rPr b="1" lang="en-US" sz="1400" spc="-1" strike="noStrike">
                <a:solidFill>
                  <a:srgbClr val="790015"/>
                </a:solidFill>
                <a:latin typeface="Arial"/>
              </a:rPr>
              <a:t>GOVERNMENT/SCIENCE 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790015"/>
              </a:buClr>
              <a:buFont typeface="Wingdings" charset="2"/>
              <a:buChar char=""/>
              <a:tabLst>
                <a:tab algn="l" pos="228600"/>
                <a:tab algn="l" pos="571680"/>
                <a:tab algn="l" pos="166356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  <a:tab algn="l" pos="6426360"/>
                <a:tab algn="l" pos="6718320"/>
                <a:tab algn="l" pos="7010280"/>
                <a:tab algn="l" pos="7302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nufacturability of the Rotapower engine wa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gnificantly enhanced under a contract with the USA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acramento Air Logistics Center.  A detai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nufacturing plan was developed and successfull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s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790015"/>
              </a:buClr>
              <a:buFont typeface="Wingdings" charset="2"/>
              <a:buChar char=""/>
              <a:tabLst>
                <a:tab algn="l" pos="228600"/>
                <a:tab algn="l" pos="571680"/>
                <a:tab algn="l" pos="166356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  <a:tab algn="l" pos="6426360"/>
                <a:tab algn="l" pos="6718320"/>
                <a:tab algn="l" pos="7010280"/>
                <a:tab algn="l" pos="7302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 subsequent SBIR contract with the U.S. Army prov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at the Rotapower engines operate very effectively us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iesel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790015"/>
              </a:buClr>
              <a:buFont typeface="Wingdings" charset="2"/>
              <a:buChar char=""/>
              <a:tabLst>
                <a:tab algn="l" pos="228600"/>
                <a:tab algn="l" pos="571680"/>
                <a:tab algn="l" pos="166356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  <a:tab algn="l" pos="6426360"/>
                <a:tab algn="l" pos="6718320"/>
                <a:tab algn="l" pos="7010280"/>
                <a:tab algn="l" pos="7302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tential government applications of Rotapower engin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clude powerplants for the Moller Skycar, a high-spe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TOL aircraft that has been the subject of numerou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udies by the Army Battle Labs military applicatio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cludes MEDEVAC, search and rescue and fast logisti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7360" y="6767640"/>
            <a:ext cx="21337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90015"/>
                </a:solidFill>
                <a:latin typeface="Arial"/>
              </a:rPr>
              <a:t>Glenn Research C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90015"/>
                </a:solidFill>
                <a:latin typeface="Arial"/>
              </a:rPr>
              <a:t>Turbomachinery/Propulsion Syste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90015"/>
                </a:solidFill>
                <a:latin typeface="Arial"/>
              </a:rPr>
              <a:t>3-05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6240" y="177840"/>
            <a:ext cx="73915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90015"/>
                </a:solidFill>
                <a:latin typeface="Arial"/>
              </a:rPr>
              <a:t>Special Coatings in a Rotary Engin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03800" y="3124080"/>
            <a:ext cx="1524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tapower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3760" y="1293840"/>
            <a:ext cx="4330800" cy="1049400"/>
          </a:xfrm>
          <a:prstGeom prst="rect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08280" y="1368360"/>
            <a:ext cx="1299960" cy="51876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90015"/>
                </a:solidFill>
                <a:latin typeface="Arial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6767640"/>
            <a:ext cx="21337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90015"/>
                </a:solidFill>
                <a:latin typeface="Arial"/>
              </a:rPr>
              <a:t>1989 Phase II, NAS3-26309, 8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90015"/>
                </a:solidFill>
                <a:latin typeface="Arial"/>
              </a:rPr>
              <a:t>NASA Contact – Chi-Ming L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90015"/>
                </a:solidFill>
                <a:latin typeface="Arial"/>
              </a:rPr>
              <a:t>Company Contact – Dr. Paul Moll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9560" y="1611360"/>
            <a:ext cx="40388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pecial coatings, applied to rotary engines that will substantially improve specific fuel consumption, reduce wear and emissions, and have  multi-fuel capabiliti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904000" y="1138320"/>
          <a:ext cx="1923840" cy="195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04000" y="1138320"/>
                    <a:ext cx="1923840" cy="19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3T18:12:58Z</dcterms:created>
  <dc:creator>IDE Client</dc:creator>
  <dc:description/>
  <dc:language>en-US</dc:language>
  <cp:lastModifiedBy>AVILAR</cp:lastModifiedBy>
  <cp:lastPrinted>2000-02-10T19:18:19Z</cp:lastPrinted>
  <dcterms:modified xsi:type="dcterms:W3CDTF">2000-10-06T18:14:52Z</dcterms:modified>
  <cp:revision>7</cp:revision>
  <dc:subject/>
  <dc:title>PowerPoint Presentation</dc:title>
</cp:coreProperties>
</file>