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13.wmf" ContentType="image/x-wmf"/>
  <Override PartName="/ppt/media/image5.png" ContentType="image/png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EC1DB8-51F1-40E2-AF80-3B636CD9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F3C441-7245-4BE4-8967-A691A752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324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7000" y="4381200"/>
            <a:ext cx="5081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7694-60AB-4EB9-9816-F3F6A9B9F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93F2-02A9-4A74-B8F8-378CBAB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0C39-77AB-4DAC-820C-E7E48D4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2749-051E-46F6-91A2-49B07202F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C53F-622B-4655-9936-1366BDE5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3C28-C568-4A1B-9AF7-5ECBDDF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AEE0-6860-49DB-809E-F9F112E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36BD-8459-4A91-8FA2-031195E7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6324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C324-1A8D-4BDE-A550-FC5B9F3B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4D80-7E1A-4DAA-BDC8-D419870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509C-8EA1-41E1-83F9-5547D05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01FD-5E3E-4E48-B2C7-F9B8CCF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6704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B Italy - </a:t>
            </a:r>
            <a:fld id="{8E1432A3-067B-4077-98D5-5B8DA823D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8596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0"/>
            <a:ext cx="8762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46740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56560" y="237960"/>
            <a:ext cx="1387440" cy="4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25.wmf"/><Relationship Id="rId17" Type="http://schemas.openxmlformats.org/officeDocument/2006/relationships/image" Target="../media/image26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9.wmf"/><Relationship Id="rId21" Type="http://schemas.openxmlformats.org/officeDocument/2006/relationships/image" Target="../media/image30.wmf"/><Relationship Id="rId22" Type="http://schemas.openxmlformats.org/officeDocument/2006/relationships/image" Target="../media/image31.wmf"/><Relationship Id="rId23" Type="http://schemas.openxmlformats.org/officeDocument/2006/relationships/image" Target="../media/image32.wmf"/><Relationship Id="rId24" Type="http://schemas.openxmlformats.org/officeDocument/2006/relationships/image" Target="../media/image33.wmf"/><Relationship Id="rId25" Type="http://schemas.openxmlformats.org/officeDocument/2006/relationships/image" Target="../media/image34.wmf"/><Relationship Id="rId26" Type="http://schemas.openxmlformats.org/officeDocument/2006/relationships/image" Target="../media/image35.wmf"/><Relationship Id="rId27" Type="http://schemas.openxmlformats.org/officeDocument/2006/relationships/image" Target="../media/image36.wmf"/><Relationship Id="rId28" Type="http://schemas.openxmlformats.org/officeDocument/2006/relationships/image" Target="../media/image37.wmf"/><Relationship Id="rId29" Type="http://schemas.openxmlformats.org/officeDocument/2006/relationships/image" Target="../media/image38.wmf"/><Relationship Id="rId30" Type="http://schemas.openxmlformats.org/officeDocument/2006/relationships/image" Target="../media/image39.wmf"/><Relationship Id="rId31" Type="http://schemas.openxmlformats.org/officeDocument/2006/relationships/image" Target="../media/image40.wmf"/><Relationship Id="rId32" Type="http://schemas.openxmlformats.org/officeDocument/2006/relationships/image" Target="../media/image41.wmf"/><Relationship Id="rId33" Type="http://schemas.openxmlformats.org/officeDocument/2006/relationships/image" Target="../media/image42.wmf"/><Relationship Id="rId34" Type="http://schemas.openxmlformats.org/officeDocument/2006/relationships/image" Target="../media/image43.wmf"/><Relationship Id="rId35" Type="http://schemas.openxmlformats.org/officeDocument/2006/relationships/image" Target="../media/image44.png"/><Relationship Id="rId3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447920"/>
            <a:ext cx="4438800" cy="4346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POESS Preparatory Project  Science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e Kea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BC at NASA/GSF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re NPP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67480" y="2133720"/>
            <a:ext cx="83844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25280" y="2192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Continues Data Time Se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09680" y="1515960"/>
          <a:ext cx="864864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515960"/>
                    <a:ext cx="8648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35600" y="971640"/>
            <a:ext cx="6998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988560" y="3438360"/>
            <a:ext cx="24037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240" y="6396120"/>
            <a:ext cx="7018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Conventional Operations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 u="sng">
                <a:solidFill>
                  <a:srgbClr val="006600"/>
                </a:solidFill>
                <a:uFillTx/>
                <a:latin typeface="Arial"/>
              </a:rPr>
              <a:t>EOS Technology Jump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search Quality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253A-FF68-40CB-B753-9ECA13BF8A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8920" y="3240"/>
          <a:ext cx="8967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3240"/>
                    <a:ext cx="8967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797080" y="6086520"/>
            <a:ext cx="343368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nLw embedded in ocean color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urface reflectances available as intermediate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CA58-2B21-40B9-810F-D799C4DDA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447920"/>
            <a:ext cx="4438800" cy="434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2800" y="163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 Data Segment (SD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Mission Seg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00600" y="2171880"/>
            <a:ext cx="131760" cy="411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562040"/>
            <a:ext cx="2590920" cy="3049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16200" y="3110760"/>
            <a:ext cx="1904760" cy="3049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89640" y="2529000"/>
            <a:ext cx="266400" cy="385200"/>
            <a:chOff x="4589640" y="2529000"/>
            <a:chExt cx="266400" cy="385200"/>
          </a:xfrm>
        </p:grpSpPr>
        <p:grpSp>
          <p:nvGrpSpPr>
            <p:cNvPr id="131" name=""/>
            <p:cNvGrpSpPr/>
            <p:nvPr/>
          </p:nvGrpSpPr>
          <p:grpSpPr>
            <a:xfrm>
              <a:off x="4589640" y="2579760"/>
              <a:ext cx="266400" cy="334440"/>
              <a:chOff x="4589640" y="2579760"/>
              <a:chExt cx="266400" cy="3344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672080" y="2760480"/>
                <a:ext cx="40680" cy="75600"/>
                <a:chOff x="4672080" y="2760480"/>
                <a:chExt cx="40680" cy="756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"/>
                <a:srcRect l="-24752" t="0" r="0" b="0"/>
                <a:stretch/>
              </p:blipFill>
              <p:spPr>
                <a:xfrm>
                  <a:off x="4674600" y="2766240"/>
                  <a:ext cx="3636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"/>
                <a:srcRect l="-10526" t="0" r="0" b="0"/>
                <a:stretch/>
              </p:blipFill>
              <p:spPr>
                <a:xfrm>
                  <a:off x="4672080" y="2760480"/>
                  <a:ext cx="40680" cy="7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0040" y="2739600"/>
                <a:ext cx="53640" cy="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0760" y="2747880"/>
                <a:ext cx="5688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5"/>
              <a:srcRect l="-14545" t="-14545" r="0" b="0"/>
              <a:stretch/>
            </p:blipFill>
            <p:spPr>
              <a:xfrm>
                <a:off x="4700520" y="2728800"/>
                <a:ext cx="39240" cy="3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6"/>
              <a:srcRect l="0" t="-43182" r="0" b="0"/>
              <a:stretch/>
            </p:blipFill>
            <p:spPr>
              <a:xfrm>
                <a:off x="4680000" y="2811240"/>
                <a:ext cx="82080" cy="3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0040" y="2649240"/>
                <a:ext cx="48960" cy="5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33920" y="2579760"/>
                <a:ext cx="61560" cy="25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32120" y="2804760"/>
                <a:ext cx="223560" cy="7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0"/>
              <a:srcRect l="0" t="-2439" r="0" b="0"/>
              <a:stretch/>
            </p:blipFill>
            <p:spPr>
              <a:xfrm>
                <a:off x="4632120" y="2838240"/>
                <a:ext cx="17280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11"/>
              <a:srcRect l="-10526" t="0" r="0" b="0"/>
              <a:stretch/>
            </p:blipFill>
            <p:spPr>
              <a:xfrm>
                <a:off x="4619520" y="2730240"/>
                <a:ext cx="41040" cy="6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2"/>
              <a:srcRect l="-10526" t="-5882" r="0" b="0"/>
              <a:stretch/>
            </p:blipFill>
            <p:spPr>
              <a:xfrm>
                <a:off x="4621320" y="2765160"/>
                <a:ext cx="40680" cy="4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91160" y="2755800"/>
                <a:ext cx="72360" cy="8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97200" y="2788920"/>
                <a:ext cx="61560" cy="9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5"/>
              <a:srcRect l="0" t="-5882" r="0" b="0"/>
              <a:stretch/>
            </p:blipFill>
            <p:spPr>
              <a:xfrm>
                <a:off x="4589640" y="2871360"/>
                <a:ext cx="266400" cy="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16"/>
              <a:srcRect l="0" t="-2439" r="0" b="0"/>
              <a:stretch/>
            </p:blipFill>
            <p:spPr>
              <a:xfrm>
                <a:off x="4589640" y="2854080"/>
                <a:ext cx="26640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7"/>
              <a:srcRect l="0" t="-24752" r="0" b="0"/>
              <a:stretch/>
            </p:blipFill>
            <p:spPr>
              <a:xfrm>
                <a:off x="4795920" y="2842920"/>
                <a:ext cx="53640" cy="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8"/>
              <a:srcRect l="-24752" t="-20000" r="0" b="0"/>
              <a:stretch/>
            </p:blipFill>
            <p:spPr>
              <a:xfrm>
                <a:off x="4619520" y="2784240"/>
                <a:ext cx="36360" cy="3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19"/>
              <a:srcRect l="-2439" t="-2439" r="0" b="0"/>
              <a:stretch/>
            </p:blipFill>
            <p:spPr>
              <a:xfrm>
                <a:off x="4674960" y="2747880"/>
                <a:ext cx="4428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65600" y="2739600"/>
                <a:ext cx="96480" cy="9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4614840" y="2682720"/>
                <a:ext cx="94320" cy="86760"/>
                <a:chOff x="4614840" y="2682720"/>
                <a:chExt cx="94320" cy="8676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4620960" y="2682720"/>
                  <a:ext cx="88200" cy="8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614840" y="2682720"/>
                  <a:ext cx="88560" cy="8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6" name="" descr=""/>
              <p:cNvPicPr/>
              <p:nvPr/>
            </p:nvPicPr>
            <p:blipFill>
              <a:blip r:embed="rId23"/>
              <a:srcRect l="-24752" t="-2439" r="0" b="0"/>
              <a:stretch/>
            </p:blipFill>
            <p:spPr>
              <a:xfrm>
                <a:off x="4802040" y="2822400"/>
                <a:ext cx="36360" cy="43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4732200" y="2639880"/>
              <a:ext cx="70560" cy="74520"/>
              <a:chOff x="4732200" y="2639880"/>
              <a:chExt cx="70560" cy="74520"/>
            </a:xfrm>
          </p:grpSpPr>
          <p:pic>
            <p:nvPicPr>
              <p:cNvPr id="15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755600" y="2653920"/>
                <a:ext cx="4716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25"/>
              <a:srcRect l="0" t="-24752" r="0" b="0"/>
              <a:stretch/>
            </p:blipFill>
            <p:spPr>
              <a:xfrm>
                <a:off x="4732200" y="2639880"/>
                <a:ext cx="64440" cy="3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"/>
            <p:cNvGrpSpPr/>
            <p:nvPr/>
          </p:nvGrpSpPr>
          <p:grpSpPr>
            <a:xfrm>
              <a:off x="4647960" y="2529000"/>
              <a:ext cx="166320" cy="239040"/>
              <a:chOff x="4647960" y="2529000"/>
              <a:chExt cx="166320" cy="23904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647960" y="2530080"/>
                <a:ext cx="1663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55880" y="2529000"/>
                <a:ext cx="158040" cy="23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4660920" y="2620800"/>
              <a:ext cx="160920" cy="164880"/>
              <a:chOff x="4660920" y="2620800"/>
              <a:chExt cx="160920" cy="1648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8"/>
              <a:srcRect l="0" t="-24752" r="0" b="0"/>
              <a:stretch/>
            </p:blipFill>
            <p:spPr>
              <a:xfrm>
                <a:off x="4660920" y="2620800"/>
                <a:ext cx="156240" cy="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749120" y="2647800"/>
                <a:ext cx="72720" cy="13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4765680" y="2624040"/>
              <a:ext cx="80280" cy="63360"/>
              <a:chOff x="4765680" y="2624040"/>
              <a:chExt cx="80280" cy="633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65680" y="2626920"/>
                <a:ext cx="6480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87640" y="2624040"/>
                <a:ext cx="47160" cy="5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792320" y="2625480"/>
                <a:ext cx="53640" cy="4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766760" y="2628720"/>
                <a:ext cx="52200" cy="5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773240" y="2625480"/>
                <a:ext cx="51840" cy="6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4343400" y="1996920"/>
            <a:ext cx="1523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pace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" y="992160"/>
            <a:ext cx="852480" cy="819360"/>
            <a:chOff x="228600" y="992160"/>
            <a:chExt cx="852480" cy="819360"/>
          </a:xfrm>
        </p:grpSpPr>
        <p:sp>
          <p:nvSpPr>
            <p:cNvPr id="174" name=""/>
            <p:cNvSpPr/>
            <p:nvPr/>
          </p:nvSpPr>
          <p:spPr>
            <a:xfrm>
              <a:off x="228600" y="992160"/>
              <a:ext cx="207720" cy="198360"/>
            </a:xfrm>
            <a:prstGeom prst="rect">
              <a:avLst/>
            </a:prstGeom>
            <a:solidFill>
              <a:srgbClr val="ff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040" y="1274760"/>
              <a:ext cx="208080" cy="200160"/>
            </a:xfrm>
            <a:prstGeom prst="rect">
              <a:avLst/>
            </a:prstGeom>
            <a:solidFill>
              <a:srgbClr val="9efe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280" y="1577880"/>
              <a:ext cx="208080" cy="200160"/>
            </a:xfrm>
            <a:prstGeom prst="rect">
              <a:avLst/>
            </a:prstGeom>
            <a:solidFill>
              <a:srgbClr val="a7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760" y="993600"/>
              <a:ext cx="61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S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0440" y="1271520"/>
              <a:ext cx="44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6760" y="15652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NOA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3920" y="2876400"/>
            <a:ext cx="2028600" cy="1517760"/>
            <a:chOff x="3733920" y="2876400"/>
            <a:chExt cx="2028600" cy="1517760"/>
          </a:xfrm>
        </p:grpSpPr>
        <p:sp>
          <p:nvSpPr>
            <p:cNvPr id="181" name=""/>
            <p:cNvSpPr/>
            <p:nvPr/>
          </p:nvSpPr>
          <p:spPr>
            <a:xfrm>
              <a:off x="3733920" y="2876400"/>
              <a:ext cx="2028600" cy="7621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87da9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ommand, Control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ommunication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3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3632040"/>
              <a:ext cx="2028600" cy="7621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87da9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Mis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Satellite Oper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ace/Ground Commun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Routing &amp; Retrie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00280" y="1873080"/>
            <a:ext cx="2057400" cy="1212840"/>
            <a:chOff x="800280" y="1873080"/>
            <a:chExt cx="2057400" cy="1212840"/>
          </a:xfrm>
        </p:grpSpPr>
        <p:sp>
          <p:nvSpPr>
            <p:cNvPr id="184" name=""/>
            <p:cNvSpPr/>
            <p:nvPr/>
          </p:nvSpPr>
          <p:spPr>
            <a:xfrm>
              <a:off x="800280" y="1873080"/>
              <a:ext cx="2057400" cy="76212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Launch Suppor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L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280" y="2628720"/>
              <a:ext cx="2057400" cy="45720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c1c1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unch veh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unch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load Processing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5"/>
          <a:srcRect l="0" t="17041" r="0" b="25561"/>
          <a:stretch/>
        </p:blipFill>
        <p:spPr>
          <a:xfrm>
            <a:off x="4038480" y="700200"/>
            <a:ext cx="3144960" cy="1674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16880" y="1654200"/>
            <a:ext cx="1982520" cy="1291680"/>
            <a:chOff x="6716880" y="1654200"/>
            <a:chExt cx="1982520" cy="1291680"/>
          </a:xfrm>
        </p:grpSpPr>
        <p:sp>
          <p:nvSpPr>
            <p:cNvPr id="189" name=""/>
            <p:cNvSpPr/>
            <p:nvPr/>
          </p:nvSpPr>
          <p:spPr>
            <a:xfrm>
              <a:off x="6718320" y="1958760"/>
              <a:ext cx="1981080" cy="55512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8320" y="1654200"/>
              <a:ext cx="1981080" cy="30456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pace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6880" y="1933200"/>
              <a:ext cx="1904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acecra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18320" y="2489040"/>
              <a:ext cx="1981080" cy="45684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I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M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 flipV="1">
            <a:off x="5791320" y="5423760"/>
            <a:ext cx="1676160" cy="34308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841400" y="4763520"/>
            <a:ext cx="1879560" cy="10033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2880" y="4054320"/>
            <a:ext cx="2004840" cy="1365120"/>
            <a:chOff x="812880" y="4054320"/>
            <a:chExt cx="2004840" cy="1365120"/>
          </a:xfrm>
        </p:grpSpPr>
        <p:sp>
          <p:nvSpPr>
            <p:cNvPr id="196" name=""/>
            <p:cNvSpPr/>
            <p:nvPr/>
          </p:nvSpPr>
          <p:spPr>
            <a:xfrm>
              <a:off x="812880" y="4054320"/>
              <a:ext cx="2004840" cy="7747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nterface Data Proce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ID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2880" y="4803480"/>
              <a:ext cx="2004840" cy="61596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and validate raw S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 RDRs, SDRs, ED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operations cal pr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 data recor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3920" y="4925880"/>
            <a:ext cx="2028600" cy="1228680"/>
            <a:chOff x="3733920" y="4925880"/>
            <a:chExt cx="2028600" cy="1228680"/>
          </a:xfrm>
        </p:grpSpPr>
        <p:sp>
          <p:nvSpPr>
            <p:cNvPr id="199" name=""/>
            <p:cNvSpPr/>
            <p:nvPr/>
          </p:nvSpPr>
          <p:spPr>
            <a:xfrm>
              <a:off x="3733920" y="4925880"/>
              <a:ext cx="2028600" cy="761760"/>
            </a:xfrm>
            <a:prstGeom prst="rect">
              <a:avLst/>
            </a:prstGeom>
            <a:gradFill rotWithShape="0">
              <a:gsLst>
                <a:gs pos="0">
                  <a:srgbClr val="a7e8ff"/>
                </a:gs>
                <a:gs pos="100000">
                  <a:srgbClr val="8fc7d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rchive &amp; Distrib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A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3920" y="5697360"/>
              <a:ext cx="2028600" cy="457200"/>
            </a:xfrm>
            <a:prstGeom prst="rect">
              <a:avLst/>
            </a:prstGeom>
            <a:gradFill rotWithShape="0">
              <a:gsLst>
                <a:gs pos="0">
                  <a:srgbClr val="a7e8ff"/>
                </a:gs>
                <a:gs pos="100000">
                  <a:srgbClr val="8fc7d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&amp; validate data recor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arch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face with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480000" y="4051440"/>
            <a:ext cx="2028600" cy="1371600"/>
            <a:chOff x="6480000" y="4051440"/>
            <a:chExt cx="2028600" cy="1371600"/>
          </a:xfrm>
        </p:grpSpPr>
        <p:sp>
          <p:nvSpPr>
            <p:cNvPr id="202" name=""/>
            <p:cNvSpPr/>
            <p:nvPr/>
          </p:nvSpPr>
          <p:spPr>
            <a:xfrm>
              <a:off x="6480000" y="4051440"/>
              <a:ext cx="2028600" cy="76176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S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4813200"/>
              <a:ext cx="2028600" cy="60984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and validate RD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ort Climate Re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23880" y="5423040"/>
            <a:ext cx="6324480" cy="838080"/>
            <a:chOff x="1523880" y="5423040"/>
            <a:chExt cx="6324480" cy="838080"/>
          </a:xfrm>
        </p:grpSpPr>
        <p:sp>
          <p:nvSpPr>
            <p:cNvPr id="205" name=""/>
            <p:cNvSpPr/>
            <p:nvPr/>
          </p:nvSpPr>
          <p:spPr>
            <a:xfrm flipV="1">
              <a:off x="1523880" y="5422680"/>
              <a:ext cx="6324480" cy="838080"/>
            </a:xfrm>
            <a:custGeom>
              <a:avLst/>
              <a:gdLst/>
              <a:ahLst/>
              <a:rect l="l" t="t" r="r" b="b"/>
              <a:pathLst>
                <a:path w="1632" h="240">
                  <a:moveTo>
                    <a:pt x="0" y="240"/>
                  </a:moveTo>
                  <a:lnTo>
                    <a:pt x="0" y="0"/>
                  </a:lnTo>
                  <a:lnTo>
                    <a:pt x="16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829280" y="54230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969160" y="3378240"/>
            <a:ext cx="3124080" cy="2997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2320" y="3695760"/>
            <a:ext cx="1849680" cy="34776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040" y="347976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PP CCS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lication Pack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CF9C-E41E-42F1-87A3-157582E6A3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Mission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PP SDS is intended to be a research tool for the purposes of facilitating prototype elements for the future Earth Science Enterprise distributed sciences data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PP SDS assess EDRs for climate qual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PP SDS can provide Algorithm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DS is a distributed architecture with 5 functionally independent elements called Product Evaluation &amp; Algorithm Tool Elements (PEATEs) centered around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ean, Land, Atmosphere, Ozone, and Sou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DS PEATEs support the Cal/Val activities in processing selected data sub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EC0B-780E-46C4-AFD5-0CB4B6891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78280" y="39099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774720"/>
            <a:ext cx="1498680" cy="403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320"/>
            <a:ext cx="7470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A’s Science Data Segment (SDS) Provid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Bed for xDR Analy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400" y="3639960"/>
            <a:ext cx="1485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O / ID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9400" y="2852640"/>
            <a:ext cx="1485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/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4320" y="3909960"/>
            <a:ext cx="5461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6000" y="3267000"/>
            <a:ext cx="5130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99840" y="3639960"/>
            <a:ext cx="64044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6440" y="2793960"/>
            <a:ext cx="64044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90720" y="2409840"/>
            <a:ext cx="1059120" cy="70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62520" y="752400"/>
            <a:ext cx="1574640" cy="947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6040" y="1789200"/>
            <a:ext cx="1575000" cy="9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86040" y="3525840"/>
            <a:ext cx="1057320" cy="73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/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63960" y="121212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38760" y="782640"/>
            <a:ext cx="16635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GSFC Oc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26160" y="179388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Land MOD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3960" y="233784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5760" y="2789280"/>
            <a:ext cx="1574640" cy="9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3440" y="279864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 Wisco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3680" y="334260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83040" y="3809880"/>
            <a:ext cx="157500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61080" y="380700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S/OMI S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90960" y="435060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83040" y="4840200"/>
            <a:ext cx="157500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61080" y="4836960"/>
            <a:ext cx="16635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Sounder. J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90960" y="539388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132876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247968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87840" y="551988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68680" y="6332400"/>
            <a:ext cx="44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554360" y="4216320"/>
            <a:ext cx="14400" cy="131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78400" y="4538160"/>
            <a:ext cx="1440" cy="179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059000" y="4224240"/>
            <a:ext cx="4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4537080"/>
            <a:ext cx="44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406440"/>
            <a:ext cx="1968480" cy="6197400"/>
          </a:xfrm>
          <a:prstGeom prst="rect">
            <a:avLst/>
          </a:prstGeom>
          <a:solidFill>
            <a:srgbClr val="5f9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2360" y="436680"/>
            <a:ext cx="2286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PP Science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438600" y="1181160"/>
            <a:ext cx="431640" cy="127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400800" y="2425320"/>
            <a:ext cx="520560" cy="120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400440" y="4495680"/>
            <a:ext cx="72396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26000" y="5498640"/>
            <a:ext cx="4698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08600" y="5932440"/>
            <a:ext cx="1574640" cy="77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86280" y="5904000"/>
            <a:ext cx="16639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Scienc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10040" y="6288120"/>
            <a:ext cx="1571760" cy="328680"/>
          </a:xfrm>
          <a:prstGeom prst="rect">
            <a:avLst/>
          </a:prstGeom>
          <a:solidFill>
            <a:srgbClr val="5f8b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3440" y="6559560"/>
            <a:ext cx="4194000" cy="2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12800" y="4317480"/>
            <a:ext cx="0" cy="224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463800" y="6515280"/>
            <a:ext cx="559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98640" y="1295280"/>
            <a:ext cx="1059120" cy="70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6120" y="34909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9400" y="927000"/>
            <a:ext cx="33336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6160" y="1011240"/>
            <a:ext cx="12942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S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14920" y="45165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07000" y="3924000"/>
            <a:ext cx="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819000"/>
            <a:ext cx="178596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cClain, Char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ang, Mengh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innett, P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Justice, Christop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oveland, Tho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yapustin, Alex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aslanik, J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rivette, Jeffr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anson, J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chaaf, Cry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Vermote, Er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Wolfe, Robe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Baum, Bry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Han, Qingyu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enzel, Pau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amnes, Kn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Torres, Om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cPeters, Rich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agano, Thomas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ishbein, E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evercomb, Hen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ambrigtsen, Bjor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aelin, Dav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row, Larrab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21360" y="1650960"/>
            <a:ext cx="241560" cy="1854360"/>
          </a:xfrm>
          <a:custGeom>
            <a:avLst/>
            <a:gdLst>
              <a:gd name="textAreaLeft" fmla="*/ 154440 w 241560"/>
              <a:gd name="textAreaRight" fmla="*/ 241920 w 241560"/>
              <a:gd name="textAreaTop" fmla="*/ 48240 h 1854360"/>
              <a:gd name="textAreaBottom" fmla="*/ 1806120 h 18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83560" y="3657600"/>
            <a:ext cx="241200" cy="9907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27"/>
                </a:lnTo>
                <a:cubicBezTo>
                  <a:pt x="10800" y="8827"/>
                  <a:pt x="5400" y="9727"/>
                  <a:pt x="0" y="9727"/>
                </a:cubicBezTo>
                <a:cubicBezTo>
                  <a:pt x="5400" y="9727"/>
                  <a:pt x="10800" y="10627"/>
                  <a:pt x="10800" y="115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5080" y="3473280"/>
            <a:ext cx="40032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83560" y="838080"/>
            <a:ext cx="285480" cy="603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5"/>
                </a:lnTo>
                <a:cubicBezTo>
                  <a:pt x="10800" y="10355"/>
                  <a:pt x="5400" y="11255"/>
                  <a:pt x="0" y="11255"/>
                </a:cubicBezTo>
                <a:cubicBezTo>
                  <a:pt x="5400" y="11255"/>
                  <a:pt x="10800" y="12155"/>
                  <a:pt x="10800" y="1305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5760" y="5160960"/>
            <a:ext cx="241200" cy="1354320"/>
          </a:xfrm>
          <a:custGeom>
            <a:avLst/>
            <a:gdLst>
              <a:gd name="textAreaLeft" fmla="*/ 154080 w 241200"/>
              <a:gd name="textAreaRight" fmla="*/ 241560 w 241200"/>
              <a:gd name="textAreaTop" fmla="*/ 35280 h 1354320"/>
              <a:gd name="textAreaBottom" fmla="*/ 1319040 h 135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27"/>
                </a:lnTo>
                <a:cubicBezTo>
                  <a:pt x="10800" y="8827"/>
                  <a:pt x="5400" y="9727"/>
                  <a:pt x="0" y="9727"/>
                </a:cubicBezTo>
                <a:cubicBezTo>
                  <a:pt x="5400" y="9727"/>
                  <a:pt x="10800" y="10627"/>
                  <a:pt x="10800" y="115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3360" y="4944960"/>
            <a:ext cx="36565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mate Analysis Research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A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 Evaluation &amp;Tes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EB49-CD3B-484A-B17A-C06F20AE3C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94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3E – SDS Data Delivery &amp; Depositor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acquisition and temporary storage of data from NOAA/CLASS and ID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storing up to ~32 days of NPP xDR data in a “rolling storage” for pick-up by PEATEs and the NIC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 Network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&amp;TSE – Integration and Test System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ini-Version of the IDPS for purpose of demonstrating algorithm enhancements and / or calibration improv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Product Gen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OE - Project Science Office Ele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anagement direction and science guidance to the SDS Elemen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s algorithm and calibration recommendations for submission to the NPP/NPOESS Algorithm CCB (TBR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6384-6208-4474-BD14-AA97342AE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Elements (Cont’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5520" y="1146240"/>
            <a:ext cx="80946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TE – Product Evaluation and Algorithm Te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EDR Evaluation / Characterization and algorithm improvements coordinated with  External Science Investigators, and Science Team, and NICSE (for Land, Ocean, &amp; Atmosphere PEATES)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PEATE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ean Col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SE - NPP Instrument Calibration Suppor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assessing and validating pre-launch and post-launch radiometric and geometric characterization and calibration assessment of VIIRS instrument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FD80-07F5-47C8-98DA-8CEFA92D23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6080" y="9792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, adapt and integrate operational SDR and EDR processing software into processing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functional testing of operational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and manage various preflight instrument characterization data sets provide to 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terface Confidence Tests, Functional Thread Tests and NPP Compatibility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(as needed) generation of test data sets for software and algorithm tes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0240" y="9918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all RDRS, selected SDRs, EDRs and ancilla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RDRs to SDRs and ED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operational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lternative calibration L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DRs to EDRs using revised or alternative algorithms, as directed by 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browse and distribution of locally generated xDRs to 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matchups and evaluation of EDRs with other Mission Data, e.g., MODIS, SeaB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R Evaluation for Long-term s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5E37-9D8C-471B-A771-FE32BBFDC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84160" y="38160"/>
            <a:ext cx="78073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44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SA’s NPP Scienc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7600" y="990720"/>
            <a:ext cx="81072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ience Team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3 PIs (SDRs and EDRs)  chosen by peer-review NRA selec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e operational xDRs for use in climat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 improvements to operational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termine path forward for climate-quality products from NPP/NPOES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ject Science Group (PS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~11 member contractor/university staff – NPP Project sup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rect Broadcas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. Coron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 NASA instrument scient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PP Instrument Characterization Support Team (NI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 persons, growing role as instruments 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360" y="5799240"/>
            <a:ext cx="83818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http://nppwww.gsfc.nasa.gov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4D81-6972-4046-9F5C-8DC8FC6564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Measurement Based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 Col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OS to NPP Transition Sensors and Data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Contribution to the NASA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P Scienc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Differences between EOS and NPP Operational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30EE-BC95-4722-BAFF-5871A76D6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OS to NPP Principal Differen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60" y="1069560"/>
            <a:ext cx="883908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 Dif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RS has no TIR bands beyond 13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ernate cloud top algorithms develop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RS thermal band range limit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 detection of small/medium fires in some cases, and characterization (area, temperature) of large/hot fi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algorithms require precise geolocation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PP and NPOESS will be approximately 2X and 3X worse than MODIS, respective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 Implementation Dif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ncy (the need for speed) may influence processing implementations not considered for E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orithm versions in the operational system may not be in sync with the latest EOS 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data and quality information may be differ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ral key EOS biophysical products such as LAI, FPAR, burn scar, detection are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higher than level 2 is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cessing is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FC8A-3C98-4A0F-A8F1-EF33C4F3B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760" y="75960"/>
            <a:ext cx="84837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Science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4080" y="1033200"/>
            <a:ext cx="8688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has no traditional NASA “Science” Cha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and Science processing performed by C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facilitates the use of NPOESS data by funding PEATES within the S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S is a research tool used to assess climate data quality of ED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Science Team will assess EDR algorithms and sensor developments for climate study suitability and advise Project &amp; Program Scient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Science Team will work through the Operational Algorithm Teams (OATs) to provide potential algorithm updates for NPO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50A2-8385-442D-AAEA-91E66E70BE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Ori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is a joint partnership between NASA’s Science Mission Directorate (formerly the Office of Earth Sciences (OES)) and the NPOESS Integrated Program Office (IPO) initiated in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 study began in November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 began in November 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 Confirmation Review completed in November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rtnership provides both organizations with considerable cost savings while achieving their key program objectiv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provide NASA with continuation of a group of global change observations initiated by the Earth Observing System (EOS) TERRA, AQUA, and Aura 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provide the NPOESS operational community with pre-operational risk reduction demonstration and validation for selected NPOESS instruments, and algorithms, as well as the ground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122C-7D22-4C2C-8D3B-49D64F6F1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480" y="47520"/>
            <a:ext cx="8483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P in NASA’s Future Data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14200"/>
            <a:ext cx="87962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PP Science Charter is to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 the scientific data record started in the EOS 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is moving toward “Measurement-based”, not “Mission-based,” science and data processing tea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done by a Climate Analysis Research System (CA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is the first post-EOS mission to have this new science data processing strategy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produced by NPOESS data processing system (ID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archived by NOAA (CLASS/LTA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assessed for science data quality at the NASA Science Data Segment (SD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EDR assessment will be done by the NPP Science Te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S is part of science-discipline-based, community algorithm science data processing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9132-262C-49E4-A4D2-BC6B323DEF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06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/requires existing expertise and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expense &amp; start-up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handling of multiple data sets simultaneous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limited to mission-specific requirements and 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flexibility to support discipline scienc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, algorithms, formats, gridding, reprocessing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s strong link between flight projects &amp; science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discipline teams responsive/accountable to the flight projec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1400" y="5549760"/>
            <a:ext cx="70182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kia"/>
              </a:rPr>
              <a:t>Best approach for CDR generation/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 Processing Ration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95280"/>
            <a:ext cx="838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kia"/>
              </a:rPr>
              <a:t>Distributed Science-led Geophysical Product Generation/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BF52-79F2-4B33-9E9E-CEE890F95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7320" y="152280"/>
            <a:ext cx="836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FC Ocean Color Program Background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ng History of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840" y="12175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us-7 Coastal Zone Color Scanner (1978-19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borne Oceanographic Lidar (mid-1970’s-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Processing &amp; Analysi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PAK (1982-1991); SeaDAS (1991- pres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us-7/Coastal Zone Color Scanner Global Reprocessing      (1985-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S &amp; MODIS Ocean Team (1989-prese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WiFS Project (1991-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 Intercomparison &amp; Merger for Biological &amp;    Interdisciplinary Ocean Studies Project (SIMBIOS; 1996-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Color Climate Data Record (CDR) Development      (REASoN-CAN; recent 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NPP Science Team (VIIRS ocean color, recent 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ed as NASA’s Ocean Color Discipline Group and      assumed responsibility for MODIS Ocean Color Processing                    (Feb. 1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EB75-801A-41F1-9880-743CE4E40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1480" y="2490840"/>
            <a:ext cx="6637680" cy="2251080"/>
          </a:xfrm>
          <a:prstGeom prst="roundRect">
            <a:avLst>
              <a:gd name="adj" fmla="val 5995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595600"/>
            <a:ext cx="3957840" cy="2036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78240" y="302112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MAI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a from multiple satellite and instrumen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-situ, ancillary, and oth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286000"/>
            <a:ext cx="876240" cy="1332000"/>
          </a:xfrm>
          <a:custGeom>
            <a:avLst/>
            <a:gdLst>
              <a:gd name="textAreaLeft" fmla="*/ 42480 w 876240"/>
              <a:gd name="textAreaRight" fmla="*/ 833760 w 876240"/>
              <a:gd name="textAreaTop" fmla="*/ 42480 h 1332000"/>
              <a:gd name="textAreaBottom" fmla="*/ 1289520 h 1332000"/>
            </a:gdLst>
            <a:ahLst/>
            <a:rect l="textAreaLeft" t="textAreaTop" r="textAreaRight" b="textAreaBottom"/>
            <a:pathLst>
              <a:path w="21600" h="32830">
                <a:moveTo>
                  <a:pt x="3600" y="0"/>
                </a:moveTo>
                <a:arcTo wR="3600" hR="3600" stAng="16200000" swAng="-5400000"/>
                <a:lnTo>
                  <a:pt x="0" y="29230"/>
                </a:lnTo>
                <a:arcTo wR="3600" hR="3600" stAng="10800000" swAng="-5400000"/>
                <a:lnTo>
                  <a:pt x="18000" y="3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895480"/>
            <a:ext cx="1033200" cy="590760"/>
          </a:xfrm>
          <a:prstGeom prst="leftRightArrow">
            <a:avLst>
              <a:gd name="adj1" fmla="val 50000"/>
              <a:gd name="adj2" fmla="val 34816"/>
            </a:avLst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2800" y="2673360"/>
            <a:ext cx="1525680" cy="1984320"/>
          </a:xfrm>
          <a:custGeom>
            <a:avLst/>
            <a:gdLst>
              <a:gd name="textAreaLeft" fmla="*/ 74160 w 1525680"/>
              <a:gd name="textAreaRight" fmla="*/ 1451520 w 1525680"/>
              <a:gd name="textAreaTop" fmla="*/ 74160 h 1984320"/>
              <a:gd name="textAreaBottom" fmla="*/ 1910160 h 198432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ultiple Mi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pid Re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arallel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treams (operational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gorithm &amp; cal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 testing, eva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uation produc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760" y="2617920"/>
            <a:ext cx="1434960" cy="2027160"/>
          </a:xfrm>
          <a:custGeom>
            <a:avLst/>
            <a:gdLst>
              <a:gd name="textAreaLeft" fmla="*/ 69840 w 1434960"/>
              <a:gd name="textAreaRight" fmla="*/ 1365120 w 1434960"/>
              <a:gd name="textAreaTop" fmla="*/ 69840 h 2027160"/>
              <a:gd name="textAreaBottom" fmla="*/ 1957320 h 2027160"/>
            </a:gdLst>
            <a:ahLst/>
            <a:rect l="textAreaLeft" t="textAreaTop" r="textAreaRight" b="textAreaBottom"/>
            <a:pathLst>
              <a:path w="21600" h="30512">
                <a:moveTo>
                  <a:pt x="3600" y="0"/>
                </a:moveTo>
                <a:arcTo wR="3600" hR="3600" stAng="16200000" swAng="-5400000"/>
                <a:lnTo>
                  <a:pt x="0" y="26912"/>
                </a:lnTo>
                <a:arcTo wR="3600" hR="3600" stAng="10800000" swAng="-5400000"/>
                <a:lnTo>
                  <a:pt x="18000" y="30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Knowledgeable Sta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Enabling Activ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SeaBASS, SeaDA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alibration RR, etc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9320" y="4452840"/>
            <a:ext cx="4273560" cy="297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OBPG  Management &amp;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2240" y="487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120" y="2408400"/>
            <a:ext cx="6535800" cy="29664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Reconfigurable &amp;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0560" y="2357280"/>
            <a:ext cx="838080" cy="667080"/>
          </a:xfrm>
          <a:prstGeom prst="downArrowCallout">
            <a:avLst>
              <a:gd name="adj1" fmla="val 31411"/>
              <a:gd name="adj2" fmla="val 31409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ZC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2209680"/>
            <a:ext cx="876600" cy="666720"/>
          </a:xfrm>
          <a:prstGeom prst="downArrowCallout">
            <a:avLst>
              <a:gd name="adj1" fmla="val 32873"/>
              <a:gd name="adj2" fmla="val 32870"/>
              <a:gd name="adj3" fmla="val 16667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W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762120" cy="744480"/>
          </a:xfrm>
          <a:prstGeom prst="downArrowCallout">
            <a:avLst>
              <a:gd name="adj1" fmla="val 25595"/>
              <a:gd name="adj2" fmla="val 25592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1905120"/>
            <a:ext cx="655560" cy="666720"/>
          </a:xfrm>
          <a:prstGeom prst="downArrowCallout">
            <a:avLst>
              <a:gd name="adj1" fmla="val 25002"/>
              <a:gd name="adj2" fmla="val 25000"/>
              <a:gd name="adj3" fmla="val 16950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q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1752480"/>
            <a:ext cx="771480" cy="666720"/>
          </a:xfrm>
          <a:prstGeom prst="downArrowCallout">
            <a:avLst>
              <a:gd name="adj1" fmla="val 28931"/>
              <a:gd name="adj2" fmla="val 28928"/>
              <a:gd name="adj3" fmla="val 16667"/>
              <a:gd name="adj4" fmla="val 6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800600"/>
            <a:ext cx="1219320" cy="1208160"/>
          </a:xfrm>
          <a:prstGeom prst="upArrowCallout">
            <a:avLst>
              <a:gd name="adj1" fmla="val 25233"/>
              <a:gd name="adj2" fmla="val 25231"/>
              <a:gd name="adj3" fmla="val 16667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4800600"/>
            <a:ext cx="1094040" cy="1211400"/>
          </a:xfrm>
          <a:prstGeom prst="upArrowCallout">
            <a:avLst>
              <a:gd name="adj1" fmla="val 25002"/>
              <a:gd name="adj2" fmla="val 25000"/>
              <a:gd name="adj3" fmla="val 18455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ight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800600"/>
            <a:ext cx="1067040" cy="1270080"/>
          </a:xfrm>
          <a:prstGeom prst="upArrowCallout">
            <a:avLst>
              <a:gd name="adj1" fmla="val 24947"/>
              <a:gd name="adj2" fmla="val 21014"/>
              <a:gd name="adj3" fmla="val 18190"/>
              <a:gd name="adj4" fmla="val 1080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SA H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6" idx="0"/>
            <a:endCxn id="77" idx="0"/>
          </p:cNvCxnSpPr>
          <p:nvPr/>
        </p:nvCxnSpPr>
        <p:spPr>
          <a:xfrm flipH="1" flipV="1" rot="5400000">
            <a:off x="3938760" y="1819440"/>
            <a:ext cx="148320" cy="927720"/>
          </a:xfrm>
          <a:prstGeom prst="curvedConnector5">
            <a:avLst>
              <a:gd name="adj1" fmla="val 254744"/>
              <a:gd name="adj2" fmla="val 50000"/>
              <a:gd name="adj3" fmla="val 2547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9" idx="0"/>
            <a:endCxn id="80" idx="0"/>
          </p:cNvCxnSpPr>
          <p:nvPr/>
        </p:nvCxnSpPr>
        <p:spPr>
          <a:xfrm flipH="1" flipV="1" rot="5400000">
            <a:off x="6414480" y="1456920"/>
            <a:ext cx="153360" cy="743760"/>
          </a:xfrm>
          <a:prstGeom prst="curvedConnector5">
            <a:avLst>
              <a:gd name="adj1" fmla="val 249882"/>
              <a:gd name="adj2" fmla="val 49975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138320" y="274680"/>
            <a:ext cx="617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ean Biology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3280" y="4468680"/>
            <a:ext cx="1817640" cy="67644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Community Agr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Standards and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5181480"/>
            <a:ext cx="1614240" cy="914400"/>
          </a:xfrm>
          <a:prstGeom prst="upArrowCallout">
            <a:avLst>
              <a:gd name="adj1" fmla="val 44138"/>
              <a:gd name="adj2" fmla="val 44134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Situ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3962520"/>
            <a:ext cx="876240" cy="1331640"/>
          </a:xfrm>
          <a:custGeom>
            <a:avLst/>
            <a:gdLst>
              <a:gd name="textAreaLeft" fmla="*/ 42480 w 876240"/>
              <a:gd name="textAreaRight" fmla="*/ 833760 w 876240"/>
              <a:gd name="textAreaTop" fmla="*/ 42480 h 1331640"/>
              <a:gd name="textAreaBottom" fmla="*/ 1289160 h 1331640"/>
            </a:gdLst>
            <a:ahLst/>
            <a:rect l="textAreaLeft" t="textAreaTop" r="textAreaRight" b="textAreaBottom"/>
            <a:pathLst>
              <a:path w="21600" h="32821">
                <a:moveTo>
                  <a:pt x="3600" y="0"/>
                </a:moveTo>
                <a:arcTo wR="3600" hR="3600" stAng="16200000" swAng="-5400000"/>
                <a:lnTo>
                  <a:pt x="0" y="29221"/>
                </a:lnTo>
                <a:arcTo wR="3600" hR="3600" stAng="10800000" swAng="-5400000"/>
                <a:lnTo>
                  <a:pt x="18000" y="328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809880"/>
            <a:ext cx="1033200" cy="590760"/>
          </a:xfrm>
          <a:prstGeom prst="leftRightArrow">
            <a:avLst>
              <a:gd name="adj1" fmla="val 50000"/>
              <a:gd name="adj2" fmla="val 34816"/>
            </a:avLst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2440" y="30225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9440" y="396252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1-L3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38440" cy="1208160"/>
          </a:xfrm>
          <a:prstGeom prst="upArrowCallout">
            <a:avLst>
              <a:gd name="adj1" fmla="val 25002"/>
              <a:gd name="adj2" fmla="val 25000"/>
              <a:gd name="adj3" fmla="val 24016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CST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6880" y="6248520"/>
            <a:ext cx="51872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MODIS Characterization Support Team (NASA/GSF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 Terra MODIS OC processing suspended in Jan.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77" idx="1"/>
            <a:endCxn id="79" idx="1"/>
          </p:cNvCxnSpPr>
          <p:nvPr/>
        </p:nvCxnSpPr>
        <p:spPr>
          <a:xfrm flipH="1" flipV="1" rot="5400000">
            <a:off x="5145480" y="1235520"/>
            <a:ext cx="305280" cy="1643760"/>
          </a:xfrm>
          <a:prstGeom prst="curvedConnector5">
            <a:avLst>
              <a:gd name="adj1" fmla="val 174970"/>
              <a:gd name="adj2" fmla="val 49989"/>
              <a:gd name="adj3" fmla="val 1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979360" y="1585080"/>
            <a:ext cx="122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st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SoN-C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9440" y="1218600"/>
            <a:ext cx="95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OS, ot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0920" y="129456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P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1400" y="144720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et Categ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0021" t="9140" r="7292" b="10060"/>
          <a:stretch/>
        </p:blipFill>
        <p:spPr>
          <a:xfrm>
            <a:off x="504720" y="928800"/>
            <a:ext cx="793908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84960" y="196920"/>
            <a:ext cx="68216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vs Ground-based Total Oz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A2CA-02A1-44AC-9892-1EF369664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57800" y="3808440"/>
            <a:ext cx="3733920" cy="259092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065240"/>
            <a:ext cx="3733920" cy="259092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3480" y="162000"/>
            <a:ext cx="6318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zone: A True NASA/NOAA CD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38400"/>
            <a:ext cx="4496040" cy="224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zone is adjusted to NOAA-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ed against  Dobs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cessed when new algorithms are develo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d with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8200" y="1114560"/>
            <a:ext cx="3244680" cy="246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4120" y="3827520"/>
            <a:ext cx="359388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09520" y="3643200"/>
          <a:ext cx="4133880" cy="27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3643200"/>
                    <a:ext cx="4133880" cy="2756160"/>
                  </a:xfrm>
                  <a:prstGeom prst="rect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343400" y="1446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1954080"/>
            <a:ext cx="1371600" cy="29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198960"/>
            <a:ext cx="152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B2C3-C2D7-4D0C-870A-063A15AD9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20:39:14Z</dcterms:created>
  <dc:creator>Peter Kealy</dc:creator>
  <dc:description/>
  <dc:language>en-US</dc:language>
  <cp:lastModifiedBy>Pete Kealy</cp:lastModifiedBy>
  <dcterms:modified xsi:type="dcterms:W3CDTF">2005-08-31T20:44:51Z</dcterms:modified>
  <cp:revision>319</cp:revision>
  <dc:subject/>
  <dc:title>NPP Science Objectives</dc:title>
</cp:coreProperties>
</file>