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56D-5548-4F7D-84C2-2D2FABE3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16C-C91C-4913-93BF-3200C37D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F6F-750D-4A1E-AF83-69706928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35A-10AB-4C6D-ADCD-FF10C5B0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93D-99BF-4744-8E0C-79189E87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161-C4DD-4616-A721-E4E54F15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4CB-B9D2-42F8-BEC6-D72C2DCF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5B3-94F4-41E8-93A8-98CC5A22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3A6-743E-435A-877D-3268042D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1D7-0284-42B2-BC49-AEF35855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7E3-8F36-4761-BCA1-3CEE225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CFB-B26E-431D-808B-9B63B0A8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641F-F90B-4534-A2EE-1A848280E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libws66.lib.niu.edu/maingov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04920"/>
            <a:ext cx="876312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2001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Federal Depository Conference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all Depository Library Council Me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4876920"/>
            <a:ext cx="4952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lexandria, Virgini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October 14-17, 2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28600"/>
            <a:ext cx="8686800" cy="67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8) Deputy Registrar, DeKalb Coun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el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9) Newsletters of depart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b. Facul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1) New faculty foru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2) Teaching Effectiveness Institu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3) Faculty Development Off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5238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4200" y="368280"/>
            <a:ext cx="8929800" cy="79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4) Subject Specialists (re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5) Letters to new faculty, be aware of new h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6) Letters to Ch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7)  Go through college catalog for GovP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elated cour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8)  Undergraduate council; Graduate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ew cour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206640" y="430200"/>
            <a:ext cx="9721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.  Commun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) 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2) Business (DeKalb, Sycamore Chamber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mm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3) Government (DeKalb, Sycamor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lanners, Freedom of 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e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4) Companies (Monsanto, Farm Burea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838080"/>
            <a:ext cx="457200" cy="4572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828800"/>
            <a:ext cx="457200" cy="4572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819520"/>
            <a:ext cx="457200" cy="4572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733920"/>
            <a:ext cx="457200" cy="4572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648320"/>
            <a:ext cx="457200" cy="4572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lincolnpale" descr=""/>
          <p:cNvPicPr/>
          <p:nvPr/>
        </p:nvPicPr>
        <p:blipFill>
          <a:blip r:embed="rId1"/>
          <a:stretch/>
        </p:blipFill>
        <p:spPr>
          <a:xfrm>
            <a:off x="1523880" y="173160"/>
            <a:ext cx="6253200" cy="6408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1676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53680" y="2209680"/>
            <a:ext cx="6327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6) Organizations (DeKal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rug Council, AAR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7)  Phone book (Deposi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llection cited in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&amp; Illinois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8)  Computer literacy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r eld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58160" y="1219320"/>
            <a:ext cx="60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5) Clubs (Womens Leagu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Voters, Rot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33920" y="4952880"/>
            <a:ext cx="5105160" cy="21661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See updates to the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Publications Dept. home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libws66.lib.niu.edu/maingov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914400"/>
            <a:ext cx="670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Depository  Promo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You Can Do 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124080"/>
            <a:ext cx="769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arl Shumaker, 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Government Publications De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Northern Illinois University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October 16, 200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758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A.  The Building Blocks of Pro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1.  Defining  (your audien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2. 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3.  Staff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4.  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5.  Communic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4880" y="9050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4080" y="174600"/>
            <a:ext cx="10496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B. The NIU Libraries Depository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A Case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1.   Audien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The Library itself,  University camp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DeKalb, Sycamore Communiti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Northern Illinois region, Stat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2.  Plann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Government Publications Dep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Promotional Plan,  2001-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3640" y="609480"/>
            <a:ext cx="855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3.  Staff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Position descriptions, Training staff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Public Service att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4.  Fun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Personnel and promotional materials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5.  Communicat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Within the department, 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ampus, off-camp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16280" y="609480"/>
            <a:ext cx="8725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.  Promotional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1. Within the Libra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a. Notify faculty of new refere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tools, websites, etc. via email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b. Route specific public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(e.g.: Disability materials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40120" y="523800"/>
            <a:ext cx="104846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c. Exhibits (e.g. U.S. Constitution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The Black Experience as reflec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in  U.S. Government publication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d. Home p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e. Department Heads mee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f. Committees within the library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(Collection Development, Bibliographi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Acces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92680" y="406440"/>
            <a:ext cx="9663120" cy="62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g.  Cross-training in various depart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h.  Gui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2. On Campu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a. Student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1) English 103/10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2) Information literacy class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09480"/>
            <a:ext cx="8305920" cy="84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3) Graduate/undergraduate subject-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oriented class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4) Dorms (e.g. subject-oriented floor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5) Clubs (e.g. History)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6)  Special events (International week,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Majors Day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7) Northern Star (newspaper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0T19:33:48Z</dcterms:created>
  <dc:creator>c60eaf1</dc:creator>
  <dc:description/>
  <dc:language>en-US</dc:language>
  <cp:lastModifiedBy>Lpspc18</cp:lastModifiedBy>
  <cp:lastPrinted>2001-10-08T12:54:19Z</cp:lastPrinted>
  <dcterms:modified xsi:type="dcterms:W3CDTF">2001-10-12T13:11:16Z</dcterms:modified>
  <cp:revision>63</cp:revision>
  <dc:subject/>
  <dc:title>No Slide Title</dc:title>
</cp:coreProperties>
</file>