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59ADDA-B44E-46EA-8AFF-571C5E56F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93560" y="6611760"/>
            <a:ext cx="8042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01880" y="4468680"/>
            <a:ext cx="852480" cy="86364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588960" y="4178160"/>
            <a:ext cx="1789200" cy="1608120"/>
            <a:chOff x="588960" y="4178160"/>
            <a:chExt cx="1789200" cy="1608120"/>
          </a:xfrm>
        </p:grpSpPr>
        <p:sp>
          <p:nvSpPr>
            <p:cNvPr id="86" name=""/>
            <p:cNvSpPr txBox="1"/>
            <p:nvPr/>
          </p:nvSpPr>
          <p:spPr>
            <a:xfrm>
              <a:off x="588960" y="5364000"/>
              <a:ext cx="178920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Federal Highway Administr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1063800" y="4178160"/>
              <a:ext cx="83988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d for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919920" y="4178160"/>
            <a:ext cx="1687680" cy="1625760"/>
            <a:chOff x="6919920" y="4178160"/>
            <a:chExt cx="1687680" cy="1625760"/>
          </a:xfrm>
        </p:grpSpPr>
        <p:sp>
          <p:nvSpPr>
            <p:cNvPr id="89" name=""/>
            <p:cNvSpPr txBox="1"/>
            <p:nvPr/>
          </p:nvSpPr>
          <p:spPr>
            <a:xfrm>
              <a:off x="7334280" y="4178160"/>
              <a:ext cx="85896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d by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6919920" y="5381640"/>
              <a:ext cx="168768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he Johns Hopkins Univers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ed Physics Laborato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855800" y="4400640"/>
            <a:ext cx="73080" cy="96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276720" y="3429000"/>
            <a:ext cx="2584440" cy="2438280"/>
            <a:chOff x="3276720" y="3429000"/>
            <a:chExt cx="2584440" cy="2438280"/>
          </a:xfrm>
        </p:grpSpPr>
        <p:sp>
          <p:nvSpPr>
            <p:cNvPr id="93" name=""/>
            <p:cNvSpPr/>
            <p:nvPr/>
          </p:nvSpPr>
          <p:spPr>
            <a:xfrm>
              <a:off x="3276720" y="3429000"/>
              <a:ext cx="2584440" cy="24382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613320" y="3654360"/>
              <a:ext cx="1917720" cy="1948320"/>
              <a:chOff x="3613320" y="3654360"/>
              <a:chExt cx="1917720" cy="19483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4041720" y="3654360"/>
                <a:ext cx="1489320" cy="1124640"/>
                <a:chOff x="4041720" y="3654360"/>
                <a:chExt cx="1489320" cy="112464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4041720" y="3654360"/>
                  <a:ext cx="1489320" cy="1124640"/>
                  <a:chOff x="4041720" y="3654360"/>
                  <a:chExt cx="1489320" cy="112464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>
                    <a:off x="4610160" y="3876840"/>
                    <a:ext cx="36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72">
                        <a:moveTo>
                          <a:pt x="48" y="0"/>
                        </a:moveTo>
                        <a:lnTo>
                          <a:pt x="102" y="45"/>
                        </a:lnTo>
                        <a:lnTo>
                          <a:pt x="84" y="72"/>
                        </a:lnTo>
                        <a:lnTo>
                          <a:pt x="0" y="63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" name=""/>
                  <p:cNvGrpSpPr/>
                  <p:nvPr/>
                </p:nvGrpSpPr>
                <p:grpSpPr>
                  <a:xfrm>
                    <a:off x="4041720" y="3654360"/>
                    <a:ext cx="1489320" cy="1124640"/>
                    <a:chOff x="4041720" y="3654360"/>
                    <a:chExt cx="1489320" cy="1124640"/>
                  </a:xfrm>
                </p:grpSpPr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4640400" y="3848040"/>
                      <a:ext cx="14652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07" h="160">
                          <a:moveTo>
                            <a:pt x="407" y="22"/>
                          </a:moveTo>
                          <a:lnTo>
                            <a:pt x="341" y="4"/>
                          </a:lnTo>
                          <a:lnTo>
                            <a:pt x="239" y="49"/>
                          </a:lnTo>
                          <a:lnTo>
                            <a:pt x="137" y="58"/>
                          </a:lnTo>
                          <a:lnTo>
                            <a:pt x="74" y="45"/>
                          </a:lnTo>
                          <a:lnTo>
                            <a:pt x="44" y="0"/>
                          </a:lnTo>
                          <a:lnTo>
                            <a:pt x="22" y="4"/>
                          </a:lnTo>
                          <a:lnTo>
                            <a:pt x="0" y="22"/>
                          </a:lnTo>
                          <a:lnTo>
                            <a:pt x="8" y="49"/>
                          </a:lnTo>
                          <a:lnTo>
                            <a:pt x="61" y="93"/>
                          </a:lnTo>
                          <a:lnTo>
                            <a:pt x="124" y="138"/>
                          </a:lnTo>
                          <a:lnTo>
                            <a:pt x="208" y="160"/>
                          </a:lnTo>
                          <a:lnTo>
                            <a:pt x="283" y="129"/>
                          </a:lnTo>
                          <a:lnTo>
                            <a:pt x="381" y="71"/>
                          </a:lnTo>
                          <a:lnTo>
                            <a:pt x="407" y="22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6480" bIns="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0" name=""/>
                    <p:cNvGrpSpPr/>
                    <p:nvPr/>
                  </p:nvGrpSpPr>
                  <p:grpSpPr>
                    <a:xfrm>
                      <a:off x="4041720" y="3654360"/>
                      <a:ext cx="1489320" cy="1124640"/>
                      <a:chOff x="4041720" y="3654360"/>
                      <a:chExt cx="1489320" cy="1124640"/>
                    </a:xfrm>
                  </p:grpSpPr>
                  <p:sp>
                    <p:nvSpPr>
                      <p:cNvPr id="101" name=""/>
                      <p:cNvSpPr/>
                      <p:nvPr/>
                    </p:nvSpPr>
                    <p:spPr>
                      <a:xfrm>
                        <a:off x="4041720" y="3938760"/>
                        <a:ext cx="1397520" cy="8402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882" h="2334">
                            <a:moveTo>
                              <a:pt x="463" y="0"/>
                            </a:moveTo>
                            <a:lnTo>
                              <a:pt x="0" y="573"/>
                            </a:lnTo>
                            <a:lnTo>
                              <a:pt x="101" y="605"/>
                            </a:lnTo>
                            <a:lnTo>
                              <a:pt x="48" y="671"/>
                            </a:lnTo>
                            <a:lnTo>
                              <a:pt x="141" y="688"/>
                            </a:lnTo>
                            <a:lnTo>
                              <a:pt x="167" y="869"/>
                            </a:lnTo>
                            <a:lnTo>
                              <a:pt x="229" y="1081"/>
                            </a:lnTo>
                            <a:lnTo>
                              <a:pt x="167" y="1231"/>
                            </a:lnTo>
                            <a:lnTo>
                              <a:pt x="198" y="1319"/>
                            </a:lnTo>
                            <a:lnTo>
                              <a:pt x="154" y="1425"/>
                            </a:lnTo>
                            <a:lnTo>
                              <a:pt x="211" y="1456"/>
                            </a:lnTo>
                            <a:lnTo>
                              <a:pt x="211" y="1531"/>
                            </a:lnTo>
                            <a:lnTo>
                              <a:pt x="352" y="1562"/>
                            </a:lnTo>
                            <a:lnTo>
                              <a:pt x="432" y="1747"/>
                            </a:lnTo>
                            <a:lnTo>
                              <a:pt x="1085" y="1845"/>
                            </a:lnTo>
                            <a:lnTo>
                              <a:pt x="1936" y="1889"/>
                            </a:lnTo>
                            <a:lnTo>
                              <a:pt x="2108" y="1946"/>
                            </a:lnTo>
                            <a:lnTo>
                              <a:pt x="2144" y="1946"/>
                            </a:lnTo>
                            <a:lnTo>
                              <a:pt x="2214" y="1911"/>
                            </a:lnTo>
                            <a:lnTo>
                              <a:pt x="2280" y="1876"/>
                            </a:lnTo>
                            <a:lnTo>
                              <a:pt x="2373" y="1854"/>
                            </a:lnTo>
                            <a:lnTo>
                              <a:pt x="2426" y="1902"/>
                            </a:lnTo>
                            <a:lnTo>
                              <a:pt x="2483" y="1898"/>
                            </a:lnTo>
                            <a:lnTo>
                              <a:pt x="2536" y="1915"/>
                            </a:lnTo>
                            <a:lnTo>
                              <a:pt x="2536" y="1986"/>
                            </a:lnTo>
                            <a:lnTo>
                              <a:pt x="2549" y="2026"/>
                            </a:lnTo>
                            <a:lnTo>
                              <a:pt x="2607" y="2048"/>
                            </a:lnTo>
                            <a:lnTo>
                              <a:pt x="2651" y="2039"/>
                            </a:lnTo>
                            <a:lnTo>
                              <a:pt x="2708" y="2004"/>
                            </a:lnTo>
                            <a:lnTo>
                              <a:pt x="2770" y="2017"/>
                            </a:lnTo>
                            <a:lnTo>
                              <a:pt x="2827" y="2048"/>
                            </a:lnTo>
                            <a:lnTo>
                              <a:pt x="2862" y="2087"/>
                            </a:lnTo>
                            <a:lnTo>
                              <a:pt x="2858" y="2153"/>
                            </a:lnTo>
                            <a:lnTo>
                              <a:pt x="2814" y="2131"/>
                            </a:lnTo>
                            <a:lnTo>
                              <a:pt x="2757" y="2101"/>
                            </a:lnTo>
                            <a:lnTo>
                              <a:pt x="2743" y="2145"/>
                            </a:lnTo>
                            <a:lnTo>
                              <a:pt x="2748" y="2193"/>
                            </a:lnTo>
                            <a:lnTo>
                              <a:pt x="2735" y="2228"/>
                            </a:lnTo>
                            <a:lnTo>
                              <a:pt x="2712" y="2255"/>
                            </a:lnTo>
                            <a:lnTo>
                              <a:pt x="2712" y="2334"/>
                            </a:lnTo>
                            <a:lnTo>
                              <a:pt x="2938" y="2198"/>
                            </a:lnTo>
                            <a:lnTo>
                              <a:pt x="3013" y="2123"/>
                            </a:lnTo>
                            <a:lnTo>
                              <a:pt x="3088" y="2092"/>
                            </a:lnTo>
                            <a:lnTo>
                              <a:pt x="3097" y="2030"/>
                            </a:lnTo>
                            <a:lnTo>
                              <a:pt x="3154" y="2004"/>
                            </a:lnTo>
                            <a:lnTo>
                              <a:pt x="3221" y="2017"/>
                            </a:lnTo>
                            <a:lnTo>
                              <a:pt x="3340" y="1946"/>
                            </a:lnTo>
                            <a:lnTo>
                              <a:pt x="3379" y="1862"/>
                            </a:lnTo>
                            <a:lnTo>
                              <a:pt x="3379" y="1742"/>
                            </a:lnTo>
                            <a:lnTo>
                              <a:pt x="3419" y="1689"/>
                            </a:lnTo>
                            <a:lnTo>
                              <a:pt x="3490" y="1716"/>
                            </a:lnTo>
                            <a:lnTo>
                              <a:pt x="3512" y="1787"/>
                            </a:lnTo>
                            <a:lnTo>
                              <a:pt x="3595" y="1867"/>
                            </a:lnTo>
                            <a:lnTo>
                              <a:pt x="3653" y="1818"/>
                            </a:lnTo>
                            <a:lnTo>
                              <a:pt x="3684" y="1761"/>
                            </a:lnTo>
                            <a:lnTo>
                              <a:pt x="3670" y="1986"/>
                            </a:lnTo>
                            <a:lnTo>
                              <a:pt x="3772" y="1836"/>
                            </a:lnTo>
                            <a:lnTo>
                              <a:pt x="3882" y="1681"/>
                            </a:lnTo>
                            <a:lnTo>
                              <a:pt x="3838" y="1667"/>
                            </a:lnTo>
                            <a:lnTo>
                              <a:pt x="3759" y="1707"/>
                            </a:lnTo>
                            <a:lnTo>
                              <a:pt x="3670" y="1716"/>
                            </a:lnTo>
                            <a:lnTo>
                              <a:pt x="3662" y="1667"/>
                            </a:lnTo>
                            <a:lnTo>
                              <a:pt x="3631" y="1650"/>
                            </a:lnTo>
                            <a:lnTo>
                              <a:pt x="3640" y="1592"/>
                            </a:lnTo>
                            <a:lnTo>
                              <a:pt x="3595" y="1619"/>
                            </a:lnTo>
                            <a:lnTo>
                              <a:pt x="3551" y="1619"/>
                            </a:lnTo>
                            <a:lnTo>
                              <a:pt x="3595" y="1575"/>
                            </a:lnTo>
                            <a:lnTo>
                              <a:pt x="3622" y="1535"/>
                            </a:lnTo>
                            <a:lnTo>
                              <a:pt x="3653" y="1487"/>
                            </a:lnTo>
                            <a:lnTo>
                              <a:pt x="3582" y="1469"/>
                            </a:lnTo>
                            <a:lnTo>
                              <a:pt x="3520" y="1500"/>
                            </a:lnTo>
                            <a:lnTo>
                              <a:pt x="3441" y="1548"/>
                            </a:lnTo>
                            <a:lnTo>
                              <a:pt x="3335" y="1681"/>
                            </a:lnTo>
                            <a:lnTo>
                              <a:pt x="3472" y="1407"/>
                            </a:lnTo>
                            <a:lnTo>
                              <a:pt x="3551" y="1372"/>
                            </a:lnTo>
                            <a:lnTo>
                              <a:pt x="3640" y="1363"/>
                            </a:lnTo>
                            <a:lnTo>
                              <a:pt x="3684" y="1315"/>
                            </a:lnTo>
                            <a:lnTo>
                              <a:pt x="3732" y="1288"/>
                            </a:lnTo>
                            <a:lnTo>
                              <a:pt x="3772" y="1200"/>
                            </a:lnTo>
                            <a:lnTo>
                              <a:pt x="3816" y="1138"/>
                            </a:lnTo>
                            <a:lnTo>
                              <a:pt x="3820" y="1112"/>
                            </a:lnTo>
                            <a:lnTo>
                              <a:pt x="3789" y="1032"/>
                            </a:lnTo>
                            <a:lnTo>
                              <a:pt x="3745" y="988"/>
                            </a:lnTo>
                            <a:lnTo>
                              <a:pt x="3714" y="1063"/>
                            </a:lnTo>
                            <a:lnTo>
                              <a:pt x="3640" y="940"/>
                            </a:lnTo>
                            <a:lnTo>
                              <a:pt x="3560" y="962"/>
                            </a:lnTo>
                            <a:lnTo>
                              <a:pt x="3503" y="940"/>
                            </a:lnTo>
                            <a:lnTo>
                              <a:pt x="3428" y="957"/>
                            </a:lnTo>
                            <a:lnTo>
                              <a:pt x="3406" y="891"/>
                            </a:lnTo>
                            <a:lnTo>
                              <a:pt x="3375" y="860"/>
                            </a:lnTo>
                            <a:lnTo>
                              <a:pt x="3322" y="843"/>
                            </a:lnTo>
                            <a:lnTo>
                              <a:pt x="3243" y="807"/>
                            </a:lnTo>
                            <a:lnTo>
                              <a:pt x="3150" y="768"/>
                            </a:lnTo>
                            <a:lnTo>
                              <a:pt x="3093" y="702"/>
                            </a:lnTo>
                            <a:lnTo>
                              <a:pt x="3057" y="688"/>
                            </a:lnTo>
                            <a:lnTo>
                              <a:pt x="3079" y="759"/>
                            </a:lnTo>
                            <a:lnTo>
                              <a:pt x="3119" y="838"/>
                            </a:lnTo>
                            <a:lnTo>
                              <a:pt x="3053" y="860"/>
                            </a:lnTo>
                            <a:lnTo>
                              <a:pt x="3000" y="843"/>
                            </a:lnTo>
                            <a:lnTo>
                              <a:pt x="2947" y="843"/>
                            </a:lnTo>
                            <a:lnTo>
                              <a:pt x="2925" y="777"/>
                            </a:lnTo>
                            <a:lnTo>
                              <a:pt x="2893" y="746"/>
                            </a:lnTo>
                            <a:lnTo>
                              <a:pt x="2876" y="688"/>
                            </a:lnTo>
                            <a:lnTo>
                              <a:pt x="2832" y="658"/>
                            </a:lnTo>
                            <a:lnTo>
                              <a:pt x="2770" y="644"/>
                            </a:lnTo>
                            <a:lnTo>
                              <a:pt x="2699" y="658"/>
                            </a:lnTo>
                            <a:lnTo>
                              <a:pt x="2620" y="644"/>
                            </a:lnTo>
                            <a:lnTo>
                              <a:pt x="2527" y="688"/>
                            </a:lnTo>
                            <a:lnTo>
                              <a:pt x="2536" y="724"/>
                            </a:lnTo>
                            <a:lnTo>
                              <a:pt x="2580" y="741"/>
                            </a:lnTo>
                            <a:lnTo>
                              <a:pt x="2620" y="790"/>
                            </a:lnTo>
                            <a:lnTo>
                              <a:pt x="2624" y="847"/>
                            </a:lnTo>
                            <a:lnTo>
                              <a:pt x="2651" y="913"/>
                            </a:lnTo>
                            <a:lnTo>
                              <a:pt x="2615" y="957"/>
                            </a:lnTo>
                            <a:lnTo>
                              <a:pt x="2615" y="1010"/>
                            </a:lnTo>
                            <a:lnTo>
                              <a:pt x="2708" y="1054"/>
                            </a:lnTo>
                            <a:lnTo>
                              <a:pt x="2757" y="1112"/>
                            </a:lnTo>
                            <a:lnTo>
                              <a:pt x="2757" y="1160"/>
                            </a:lnTo>
                            <a:lnTo>
                              <a:pt x="2743" y="1244"/>
                            </a:lnTo>
                            <a:lnTo>
                              <a:pt x="2712" y="1319"/>
                            </a:lnTo>
                            <a:lnTo>
                              <a:pt x="2708" y="1350"/>
                            </a:lnTo>
                            <a:lnTo>
                              <a:pt x="2770" y="1407"/>
                            </a:lnTo>
                            <a:lnTo>
                              <a:pt x="2787" y="1469"/>
                            </a:lnTo>
                            <a:lnTo>
                              <a:pt x="2787" y="1562"/>
                            </a:lnTo>
                            <a:lnTo>
                              <a:pt x="2726" y="1566"/>
                            </a:lnTo>
                            <a:lnTo>
                              <a:pt x="2673" y="1588"/>
                            </a:lnTo>
                            <a:lnTo>
                              <a:pt x="2607" y="1522"/>
                            </a:lnTo>
                            <a:lnTo>
                              <a:pt x="2545" y="1500"/>
                            </a:lnTo>
                            <a:lnTo>
                              <a:pt x="2505" y="1420"/>
                            </a:lnTo>
                            <a:lnTo>
                              <a:pt x="2496" y="1350"/>
                            </a:lnTo>
                            <a:lnTo>
                              <a:pt x="2386" y="1315"/>
                            </a:lnTo>
                            <a:lnTo>
                              <a:pt x="2302" y="1310"/>
                            </a:lnTo>
                            <a:lnTo>
                              <a:pt x="2192" y="1288"/>
                            </a:lnTo>
                            <a:lnTo>
                              <a:pt x="2130" y="1240"/>
                            </a:lnTo>
                            <a:lnTo>
                              <a:pt x="1985" y="1209"/>
                            </a:lnTo>
                            <a:lnTo>
                              <a:pt x="1906" y="1231"/>
                            </a:lnTo>
                            <a:lnTo>
                              <a:pt x="1919" y="1151"/>
                            </a:lnTo>
                            <a:lnTo>
                              <a:pt x="1892" y="1121"/>
                            </a:lnTo>
                            <a:lnTo>
                              <a:pt x="1844" y="1112"/>
                            </a:lnTo>
                            <a:lnTo>
                              <a:pt x="1875" y="1002"/>
                            </a:lnTo>
                            <a:lnTo>
                              <a:pt x="1861" y="913"/>
                            </a:lnTo>
                            <a:lnTo>
                              <a:pt x="1919" y="777"/>
                            </a:lnTo>
                            <a:lnTo>
                              <a:pt x="2025" y="688"/>
                            </a:lnTo>
                            <a:lnTo>
                              <a:pt x="2055" y="631"/>
                            </a:lnTo>
                            <a:lnTo>
                              <a:pt x="1950" y="613"/>
                            </a:lnTo>
                            <a:lnTo>
                              <a:pt x="1875" y="537"/>
                            </a:lnTo>
                            <a:lnTo>
                              <a:pt x="2055" y="537"/>
                            </a:lnTo>
                            <a:lnTo>
                              <a:pt x="2095" y="485"/>
                            </a:lnTo>
                            <a:lnTo>
                              <a:pt x="2166" y="458"/>
                            </a:lnTo>
                            <a:lnTo>
                              <a:pt x="2197" y="432"/>
                            </a:lnTo>
                            <a:lnTo>
                              <a:pt x="2254" y="401"/>
                            </a:lnTo>
                            <a:lnTo>
                              <a:pt x="2183" y="326"/>
                            </a:lnTo>
                            <a:lnTo>
                              <a:pt x="2179" y="251"/>
                            </a:lnTo>
                            <a:lnTo>
                              <a:pt x="2122" y="229"/>
                            </a:lnTo>
                            <a:lnTo>
                              <a:pt x="2073" y="251"/>
                            </a:lnTo>
                            <a:lnTo>
                              <a:pt x="2073" y="282"/>
                            </a:lnTo>
                            <a:lnTo>
                              <a:pt x="2104" y="357"/>
                            </a:lnTo>
                            <a:lnTo>
                              <a:pt x="2055" y="458"/>
                            </a:lnTo>
                            <a:lnTo>
                              <a:pt x="2020" y="295"/>
                            </a:lnTo>
                            <a:lnTo>
                              <a:pt x="1967" y="304"/>
                            </a:lnTo>
                            <a:lnTo>
                              <a:pt x="1980" y="361"/>
                            </a:lnTo>
                            <a:lnTo>
                              <a:pt x="1932" y="357"/>
                            </a:lnTo>
                            <a:lnTo>
                              <a:pt x="1888" y="158"/>
                            </a:lnTo>
                            <a:lnTo>
                              <a:pt x="1853" y="145"/>
                            </a:lnTo>
                            <a:lnTo>
                              <a:pt x="1822" y="119"/>
                            </a:lnTo>
                            <a:lnTo>
                              <a:pt x="1800" y="114"/>
                            </a:lnTo>
                            <a:lnTo>
                              <a:pt x="1769" y="145"/>
                            </a:lnTo>
                            <a:lnTo>
                              <a:pt x="1782" y="211"/>
                            </a:lnTo>
                            <a:lnTo>
                              <a:pt x="1835" y="260"/>
                            </a:lnTo>
                            <a:lnTo>
                              <a:pt x="1861" y="357"/>
                            </a:lnTo>
                            <a:lnTo>
                              <a:pt x="1813" y="401"/>
                            </a:lnTo>
                            <a:lnTo>
                              <a:pt x="1782" y="476"/>
                            </a:lnTo>
                            <a:lnTo>
                              <a:pt x="1707" y="388"/>
                            </a:lnTo>
                            <a:lnTo>
                              <a:pt x="1632" y="432"/>
                            </a:lnTo>
                            <a:lnTo>
                              <a:pt x="1509" y="418"/>
                            </a:lnTo>
                            <a:lnTo>
                              <a:pt x="1465" y="374"/>
                            </a:lnTo>
                            <a:lnTo>
                              <a:pt x="1420" y="432"/>
                            </a:lnTo>
                            <a:lnTo>
                              <a:pt x="1372" y="489"/>
                            </a:lnTo>
                            <a:lnTo>
                              <a:pt x="1319" y="458"/>
                            </a:lnTo>
                            <a:lnTo>
                              <a:pt x="1279" y="401"/>
                            </a:lnTo>
                            <a:lnTo>
                              <a:pt x="1209" y="418"/>
                            </a:lnTo>
                            <a:lnTo>
                              <a:pt x="1112" y="401"/>
                            </a:lnTo>
                            <a:lnTo>
                              <a:pt x="1173" y="313"/>
                            </a:lnTo>
                            <a:lnTo>
                              <a:pt x="1068" y="264"/>
                            </a:lnTo>
                            <a:lnTo>
                              <a:pt x="1006" y="220"/>
                            </a:lnTo>
                            <a:lnTo>
                              <a:pt x="961" y="251"/>
                            </a:lnTo>
                            <a:lnTo>
                              <a:pt x="868" y="145"/>
                            </a:lnTo>
                            <a:lnTo>
                              <a:pt x="780" y="105"/>
                            </a:lnTo>
                            <a:lnTo>
                              <a:pt x="749" y="145"/>
                            </a:lnTo>
                            <a:lnTo>
                              <a:pt x="582" y="114"/>
                            </a:lnTo>
                            <a:lnTo>
                              <a:pt x="463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" name=""/>
                      <p:cNvSpPr/>
                      <p:nvPr/>
                    </p:nvSpPr>
                    <p:spPr>
                      <a:xfrm>
                        <a:off x="5410080" y="4341960"/>
                        <a:ext cx="120960" cy="1432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36" h="398">
                            <a:moveTo>
                              <a:pt x="61" y="0"/>
                            </a:moveTo>
                            <a:lnTo>
                              <a:pt x="35" y="30"/>
                            </a:lnTo>
                            <a:lnTo>
                              <a:pt x="13" y="106"/>
                            </a:lnTo>
                            <a:lnTo>
                              <a:pt x="0" y="172"/>
                            </a:lnTo>
                            <a:lnTo>
                              <a:pt x="39" y="256"/>
                            </a:lnTo>
                            <a:lnTo>
                              <a:pt x="61" y="332"/>
                            </a:lnTo>
                            <a:lnTo>
                              <a:pt x="52" y="398"/>
                            </a:lnTo>
                            <a:lnTo>
                              <a:pt x="92" y="398"/>
                            </a:lnTo>
                            <a:lnTo>
                              <a:pt x="114" y="350"/>
                            </a:lnTo>
                            <a:lnTo>
                              <a:pt x="158" y="354"/>
                            </a:lnTo>
                            <a:lnTo>
                              <a:pt x="199" y="306"/>
                            </a:lnTo>
                            <a:lnTo>
                              <a:pt x="322" y="278"/>
                            </a:lnTo>
                            <a:lnTo>
                              <a:pt x="336" y="234"/>
                            </a:lnTo>
                            <a:lnTo>
                              <a:pt x="283" y="190"/>
                            </a:lnTo>
                            <a:lnTo>
                              <a:pt x="274" y="146"/>
                            </a:lnTo>
                            <a:lnTo>
                              <a:pt x="243" y="137"/>
                            </a:lnTo>
                            <a:lnTo>
                              <a:pt x="203" y="190"/>
                            </a:lnTo>
                            <a:lnTo>
                              <a:pt x="154" y="195"/>
                            </a:lnTo>
                            <a:lnTo>
                              <a:pt x="123" y="190"/>
                            </a:lnTo>
                            <a:lnTo>
                              <a:pt x="83" y="172"/>
                            </a:lnTo>
                            <a:lnTo>
                              <a:pt x="70" y="146"/>
                            </a:lnTo>
                            <a:lnTo>
                              <a:pt x="61" y="79"/>
                            </a:lnTo>
                            <a:lnTo>
                              <a:pt x="74" y="13"/>
                            </a:lnTo>
                            <a:lnTo>
                              <a:pt x="61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5440320" y="4514760"/>
                        <a:ext cx="25920" cy="28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80">
                            <a:moveTo>
                              <a:pt x="63" y="22"/>
                            </a:moveTo>
                            <a:lnTo>
                              <a:pt x="49" y="13"/>
                            </a:lnTo>
                            <a:lnTo>
                              <a:pt x="31" y="4"/>
                            </a:lnTo>
                            <a:lnTo>
                              <a:pt x="8" y="0"/>
                            </a:lnTo>
                            <a:lnTo>
                              <a:pt x="0" y="4"/>
                            </a:lnTo>
                            <a:lnTo>
                              <a:pt x="0" y="26"/>
                            </a:lnTo>
                            <a:lnTo>
                              <a:pt x="8" y="58"/>
                            </a:lnTo>
                            <a:lnTo>
                              <a:pt x="31" y="80"/>
                            </a:lnTo>
                            <a:lnTo>
                              <a:pt x="53" y="80"/>
                            </a:lnTo>
                            <a:lnTo>
                              <a:pt x="68" y="58"/>
                            </a:lnTo>
                            <a:lnTo>
                              <a:pt x="72" y="39"/>
                            </a:lnTo>
                            <a:lnTo>
                              <a:pt x="63" y="22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4821120" y="4124160"/>
                        <a:ext cx="78120" cy="622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17" h="173">
                            <a:moveTo>
                              <a:pt x="0" y="39"/>
                            </a:moveTo>
                            <a:lnTo>
                              <a:pt x="35" y="8"/>
                            </a:lnTo>
                            <a:lnTo>
                              <a:pt x="83" y="26"/>
                            </a:lnTo>
                            <a:lnTo>
                              <a:pt x="124" y="0"/>
                            </a:lnTo>
                            <a:lnTo>
                              <a:pt x="164" y="26"/>
                            </a:lnTo>
                            <a:lnTo>
                              <a:pt x="217" y="80"/>
                            </a:lnTo>
                            <a:lnTo>
                              <a:pt x="217" y="138"/>
                            </a:lnTo>
                            <a:lnTo>
                              <a:pt x="155" y="151"/>
                            </a:lnTo>
                            <a:lnTo>
                              <a:pt x="115" y="124"/>
                            </a:lnTo>
                            <a:lnTo>
                              <a:pt x="97" y="173"/>
                            </a:lnTo>
                            <a:lnTo>
                              <a:pt x="52" y="165"/>
                            </a:lnTo>
                            <a:lnTo>
                              <a:pt x="52" y="102"/>
                            </a:lnTo>
                            <a:lnTo>
                              <a:pt x="0" y="39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11160" bIns="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4740120" y="3905280"/>
                        <a:ext cx="400320" cy="260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112" h="724">
                            <a:moveTo>
                              <a:pt x="962" y="348"/>
                            </a:moveTo>
                            <a:lnTo>
                              <a:pt x="869" y="352"/>
                            </a:lnTo>
                            <a:lnTo>
                              <a:pt x="812" y="299"/>
                            </a:lnTo>
                            <a:lnTo>
                              <a:pt x="724" y="286"/>
                            </a:lnTo>
                            <a:lnTo>
                              <a:pt x="658" y="229"/>
                            </a:lnTo>
                            <a:lnTo>
                              <a:pt x="583" y="211"/>
                            </a:lnTo>
                            <a:lnTo>
                              <a:pt x="511" y="149"/>
                            </a:lnTo>
                            <a:lnTo>
                              <a:pt x="414" y="141"/>
                            </a:lnTo>
                            <a:lnTo>
                              <a:pt x="405" y="92"/>
                            </a:lnTo>
                            <a:lnTo>
                              <a:pt x="330" y="66"/>
                            </a:lnTo>
                            <a:lnTo>
                              <a:pt x="295" y="61"/>
                            </a:lnTo>
                            <a:lnTo>
                              <a:pt x="268" y="123"/>
                            </a:lnTo>
                            <a:lnTo>
                              <a:pt x="251" y="145"/>
                            </a:lnTo>
                            <a:lnTo>
                              <a:pt x="220" y="158"/>
                            </a:lnTo>
                            <a:lnTo>
                              <a:pt x="202" y="194"/>
                            </a:lnTo>
                            <a:lnTo>
                              <a:pt x="167" y="123"/>
                            </a:lnTo>
                            <a:lnTo>
                              <a:pt x="198" y="35"/>
                            </a:lnTo>
                            <a:lnTo>
                              <a:pt x="171" y="30"/>
                            </a:lnTo>
                            <a:lnTo>
                              <a:pt x="141" y="119"/>
                            </a:lnTo>
                            <a:lnTo>
                              <a:pt x="145" y="202"/>
                            </a:lnTo>
                            <a:lnTo>
                              <a:pt x="136" y="255"/>
                            </a:lnTo>
                            <a:lnTo>
                              <a:pt x="83" y="132"/>
                            </a:lnTo>
                            <a:lnTo>
                              <a:pt x="88" y="61"/>
                            </a:lnTo>
                            <a:lnTo>
                              <a:pt x="79" y="0"/>
                            </a:lnTo>
                            <a:lnTo>
                              <a:pt x="35" y="0"/>
                            </a:lnTo>
                            <a:lnTo>
                              <a:pt x="13" y="30"/>
                            </a:lnTo>
                            <a:lnTo>
                              <a:pt x="0" y="97"/>
                            </a:lnTo>
                            <a:lnTo>
                              <a:pt x="8" y="97"/>
                            </a:lnTo>
                            <a:lnTo>
                              <a:pt x="0" y="171"/>
                            </a:lnTo>
                            <a:lnTo>
                              <a:pt x="35" y="242"/>
                            </a:lnTo>
                            <a:lnTo>
                              <a:pt x="66" y="286"/>
                            </a:lnTo>
                            <a:lnTo>
                              <a:pt x="110" y="299"/>
                            </a:lnTo>
                            <a:lnTo>
                              <a:pt x="242" y="268"/>
                            </a:lnTo>
                            <a:lnTo>
                              <a:pt x="326" y="286"/>
                            </a:lnTo>
                            <a:lnTo>
                              <a:pt x="401" y="268"/>
                            </a:lnTo>
                            <a:lnTo>
                              <a:pt x="493" y="260"/>
                            </a:lnTo>
                            <a:lnTo>
                              <a:pt x="569" y="313"/>
                            </a:lnTo>
                            <a:lnTo>
                              <a:pt x="591" y="348"/>
                            </a:lnTo>
                            <a:lnTo>
                              <a:pt x="596" y="437"/>
                            </a:lnTo>
                            <a:lnTo>
                              <a:pt x="631" y="552"/>
                            </a:lnTo>
                            <a:lnTo>
                              <a:pt x="613" y="587"/>
                            </a:lnTo>
                            <a:lnTo>
                              <a:pt x="565" y="618"/>
                            </a:lnTo>
                            <a:lnTo>
                              <a:pt x="520" y="644"/>
                            </a:lnTo>
                            <a:lnTo>
                              <a:pt x="511" y="684"/>
                            </a:lnTo>
                            <a:lnTo>
                              <a:pt x="537" y="706"/>
                            </a:lnTo>
                            <a:lnTo>
                              <a:pt x="609" y="649"/>
                            </a:lnTo>
                            <a:lnTo>
                              <a:pt x="662" y="609"/>
                            </a:lnTo>
                            <a:lnTo>
                              <a:pt x="706" y="618"/>
                            </a:lnTo>
                            <a:lnTo>
                              <a:pt x="733" y="662"/>
                            </a:lnTo>
                            <a:lnTo>
                              <a:pt x="785" y="675"/>
                            </a:lnTo>
                            <a:lnTo>
                              <a:pt x="856" y="706"/>
                            </a:lnTo>
                            <a:lnTo>
                              <a:pt x="931" y="724"/>
                            </a:lnTo>
                            <a:lnTo>
                              <a:pt x="1024" y="693"/>
                            </a:lnTo>
                            <a:lnTo>
                              <a:pt x="1112" y="706"/>
                            </a:lnTo>
                            <a:lnTo>
                              <a:pt x="1085" y="675"/>
                            </a:lnTo>
                            <a:lnTo>
                              <a:pt x="984" y="658"/>
                            </a:lnTo>
                            <a:lnTo>
                              <a:pt x="874" y="636"/>
                            </a:lnTo>
                            <a:lnTo>
                              <a:pt x="887" y="605"/>
                            </a:lnTo>
                            <a:lnTo>
                              <a:pt x="944" y="605"/>
                            </a:lnTo>
                            <a:lnTo>
                              <a:pt x="1024" y="636"/>
                            </a:lnTo>
                            <a:lnTo>
                              <a:pt x="988" y="552"/>
                            </a:lnTo>
                            <a:lnTo>
                              <a:pt x="944" y="543"/>
                            </a:lnTo>
                            <a:lnTo>
                              <a:pt x="887" y="512"/>
                            </a:lnTo>
                            <a:lnTo>
                              <a:pt x="830" y="508"/>
                            </a:lnTo>
                            <a:lnTo>
                              <a:pt x="852" y="415"/>
                            </a:lnTo>
                            <a:lnTo>
                              <a:pt x="887" y="393"/>
                            </a:lnTo>
                            <a:lnTo>
                              <a:pt x="944" y="375"/>
                            </a:lnTo>
                            <a:lnTo>
                              <a:pt x="962" y="348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4427640" y="3909960"/>
                        <a:ext cx="221040" cy="154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614" h="429">
                            <a:moveTo>
                              <a:pt x="446" y="120"/>
                            </a:moveTo>
                            <a:lnTo>
                              <a:pt x="411" y="22"/>
                            </a:lnTo>
                            <a:lnTo>
                              <a:pt x="344" y="115"/>
                            </a:lnTo>
                            <a:lnTo>
                              <a:pt x="314" y="0"/>
                            </a:lnTo>
                            <a:lnTo>
                              <a:pt x="256" y="79"/>
                            </a:lnTo>
                            <a:lnTo>
                              <a:pt x="225" y="17"/>
                            </a:lnTo>
                            <a:lnTo>
                              <a:pt x="199" y="79"/>
                            </a:lnTo>
                            <a:lnTo>
                              <a:pt x="127" y="30"/>
                            </a:lnTo>
                            <a:lnTo>
                              <a:pt x="44" y="61"/>
                            </a:lnTo>
                            <a:lnTo>
                              <a:pt x="0" y="146"/>
                            </a:lnTo>
                            <a:lnTo>
                              <a:pt x="35" y="177"/>
                            </a:lnTo>
                            <a:lnTo>
                              <a:pt x="181" y="168"/>
                            </a:lnTo>
                            <a:lnTo>
                              <a:pt x="97" y="243"/>
                            </a:lnTo>
                            <a:lnTo>
                              <a:pt x="265" y="287"/>
                            </a:lnTo>
                            <a:lnTo>
                              <a:pt x="221" y="323"/>
                            </a:lnTo>
                            <a:lnTo>
                              <a:pt x="52" y="287"/>
                            </a:lnTo>
                            <a:lnTo>
                              <a:pt x="141" y="376"/>
                            </a:lnTo>
                            <a:lnTo>
                              <a:pt x="256" y="390"/>
                            </a:lnTo>
                            <a:lnTo>
                              <a:pt x="358" y="368"/>
                            </a:lnTo>
                            <a:lnTo>
                              <a:pt x="433" y="398"/>
                            </a:lnTo>
                            <a:lnTo>
                              <a:pt x="539" y="429"/>
                            </a:lnTo>
                            <a:lnTo>
                              <a:pt x="509" y="381"/>
                            </a:lnTo>
                            <a:lnTo>
                              <a:pt x="614" y="337"/>
                            </a:lnTo>
                            <a:lnTo>
                              <a:pt x="509" y="305"/>
                            </a:lnTo>
                            <a:lnTo>
                              <a:pt x="446" y="12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4676760" y="3654360"/>
                        <a:ext cx="125640" cy="1972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49" h="548">
                            <a:moveTo>
                              <a:pt x="234" y="0"/>
                            </a:moveTo>
                            <a:lnTo>
                              <a:pt x="163" y="0"/>
                            </a:lnTo>
                            <a:lnTo>
                              <a:pt x="92" y="61"/>
                            </a:lnTo>
                            <a:lnTo>
                              <a:pt x="30" y="105"/>
                            </a:lnTo>
                            <a:lnTo>
                              <a:pt x="0" y="168"/>
                            </a:lnTo>
                            <a:lnTo>
                              <a:pt x="0" y="217"/>
                            </a:lnTo>
                            <a:lnTo>
                              <a:pt x="48" y="247"/>
                            </a:lnTo>
                            <a:lnTo>
                              <a:pt x="145" y="221"/>
                            </a:lnTo>
                            <a:lnTo>
                              <a:pt x="256" y="168"/>
                            </a:lnTo>
                            <a:lnTo>
                              <a:pt x="136" y="287"/>
                            </a:lnTo>
                            <a:lnTo>
                              <a:pt x="181" y="300"/>
                            </a:lnTo>
                            <a:lnTo>
                              <a:pt x="154" y="367"/>
                            </a:lnTo>
                            <a:lnTo>
                              <a:pt x="195" y="397"/>
                            </a:lnTo>
                            <a:lnTo>
                              <a:pt x="186" y="456"/>
                            </a:lnTo>
                            <a:lnTo>
                              <a:pt x="119" y="487"/>
                            </a:lnTo>
                            <a:lnTo>
                              <a:pt x="92" y="544"/>
                            </a:lnTo>
                            <a:lnTo>
                              <a:pt x="127" y="548"/>
                            </a:lnTo>
                            <a:lnTo>
                              <a:pt x="234" y="509"/>
                            </a:lnTo>
                            <a:lnTo>
                              <a:pt x="349" y="517"/>
                            </a:lnTo>
                            <a:lnTo>
                              <a:pt x="327" y="442"/>
                            </a:lnTo>
                            <a:lnTo>
                              <a:pt x="336" y="358"/>
                            </a:lnTo>
                            <a:lnTo>
                              <a:pt x="287" y="305"/>
                            </a:lnTo>
                            <a:lnTo>
                              <a:pt x="327" y="199"/>
                            </a:lnTo>
                            <a:lnTo>
                              <a:pt x="314" y="123"/>
                            </a:lnTo>
                            <a:lnTo>
                              <a:pt x="296" y="26"/>
                            </a:lnTo>
                            <a:lnTo>
                              <a:pt x="234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4653000" y="3741840"/>
                        <a:ext cx="52920" cy="84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7" h="235">
                            <a:moveTo>
                              <a:pt x="22" y="0"/>
                            </a:moveTo>
                            <a:lnTo>
                              <a:pt x="0" y="80"/>
                            </a:lnTo>
                            <a:lnTo>
                              <a:pt x="22" y="218"/>
                            </a:lnTo>
                            <a:lnTo>
                              <a:pt x="75" y="235"/>
                            </a:lnTo>
                            <a:lnTo>
                              <a:pt x="134" y="218"/>
                            </a:lnTo>
                            <a:lnTo>
                              <a:pt x="147" y="111"/>
                            </a:lnTo>
                            <a:lnTo>
                              <a:pt x="134" y="89"/>
                            </a:lnTo>
                            <a:lnTo>
                              <a:pt x="102" y="48"/>
                            </a:lnTo>
                            <a:lnTo>
                              <a:pt x="67" y="52"/>
                            </a:lnTo>
                            <a:lnTo>
                              <a:pt x="22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4676760" y="3909960"/>
                        <a:ext cx="51120" cy="59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164">
                            <a:moveTo>
                              <a:pt x="26" y="0"/>
                            </a:moveTo>
                            <a:lnTo>
                              <a:pt x="93" y="30"/>
                            </a:lnTo>
                            <a:lnTo>
                              <a:pt x="142" y="8"/>
                            </a:lnTo>
                            <a:lnTo>
                              <a:pt x="128" y="61"/>
                            </a:lnTo>
                            <a:lnTo>
                              <a:pt x="133" y="102"/>
                            </a:lnTo>
                            <a:lnTo>
                              <a:pt x="120" y="142"/>
                            </a:lnTo>
                            <a:lnTo>
                              <a:pt x="89" y="164"/>
                            </a:lnTo>
                            <a:lnTo>
                              <a:pt x="48" y="159"/>
                            </a:lnTo>
                            <a:lnTo>
                              <a:pt x="17" y="150"/>
                            </a:lnTo>
                            <a:lnTo>
                              <a:pt x="0" y="84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7920" bIns="7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4605480" y="3906720"/>
                        <a:ext cx="65520" cy="97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82" h="270">
                            <a:moveTo>
                              <a:pt x="182" y="181"/>
                            </a:moveTo>
                            <a:lnTo>
                              <a:pt x="165" y="222"/>
                            </a:lnTo>
                            <a:lnTo>
                              <a:pt x="120" y="270"/>
                            </a:lnTo>
                            <a:lnTo>
                              <a:pt x="84" y="235"/>
                            </a:lnTo>
                            <a:lnTo>
                              <a:pt x="84" y="181"/>
                            </a:lnTo>
                            <a:lnTo>
                              <a:pt x="17" y="155"/>
                            </a:lnTo>
                            <a:lnTo>
                              <a:pt x="0" y="115"/>
                            </a:lnTo>
                            <a:lnTo>
                              <a:pt x="4" y="75"/>
                            </a:lnTo>
                            <a:lnTo>
                              <a:pt x="53" y="71"/>
                            </a:lnTo>
                            <a:lnTo>
                              <a:pt x="35" y="0"/>
                            </a:lnTo>
                            <a:lnTo>
                              <a:pt x="102" y="8"/>
                            </a:lnTo>
                            <a:lnTo>
                              <a:pt x="165" y="0"/>
                            </a:lnTo>
                            <a:lnTo>
                              <a:pt x="133" y="93"/>
                            </a:lnTo>
                            <a:lnTo>
                              <a:pt x="143" y="128"/>
                            </a:lnTo>
                            <a:lnTo>
                              <a:pt x="182" y="181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46080" bIns="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4564080" y="3840120"/>
                        <a:ext cx="43200" cy="32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20" h="89">
                            <a:moveTo>
                              <a:pt x="0" y="35"/>
                            </a:moveTo>
                            <a:lnTo>
                              <a:pt x="44" y="35"/>
                            </a:lnTo>
                            <a:lnTo>
                              <a:pt x="39" y="0"/>
                            </a:lnTo>
                            <a:lnTo>
                              <a:pt x="89" y="22"/>
                            </a:lnTo>
                            <a:lnTo>
                              <a:pt x="120" y="75"/>
                            </a:lnTo>
                            <a:lnTo>
                              <a:pt x="80" y="89"/>
                            </a:lnTo>
                            <a:lnTo>
                              <a:pt x="26" y="89"/>
                            </a:lnTo>
                            <a:lnTo>
                              <a:pt x="0" y="35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19080" bIns="-19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4363920" y="3832200"/>
                        <a:ext cx="133560" cy="124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71" h="345">
                            <a:moveTo>
                              <a:pt x="314" y="177"/>
                            </a:moveTo>
                            <a:lnTo>
                              <a:pt x="252" y="164"/>
                            </a:lnTo>
                            <a:lnTo>
                              <a:pt x="195" y="195"/>
                            </a:lnTo>
                            <a:lnTo>
                              <a:pt x="149" y="252"/>
                            </a:lnTo>
                            <a:lnTo>
                              <a:pt x="132" y="315"/>
                            </a:lnTo>
                            <a:lnTo>
                              <a:pt x="79" y="345"/>
                            </a:lnTo>
                            <a:lnTo>
                              <a:pt x="22" y="345"/>
                            </a:lnTo>
                            <a:lnTo>
                              <a:pt x="0" y="279"/>
                            </a:lnTo>
                            <a:lnTo>
                              <a:pt x="30" y="208"/>
                            </a:lnTo>
                            <a:lnTo>
                              <a:pt x="61" y="137"/>
                            </a:lnTo>
                            <a:lnTo>
                              <a:pt x="105" y="48"/>
                            </a:lnTo>
                            <a:lnTo>
                              <a:pt x="141" y="35"/>
                            </a:lnTo>
                            <a:lnTo>
                              <a:pt x="208" y="0"/>
                            </a:lnTo>
                            <a:lnTo>
                              <a:pt x="269" y="8"/>
                            </a:lnTo>
                            <a:lnTo>
                              <a:pt x="318" y="44"/>
                            </a:lnTo>
                            <a:lnTo>
                              <a:pt x="362" y="93"/>
                            </a:lnTo>
                            <a:lnTo>
                              <a:pt x="371" y="137"/>
                            </a:lnTo>
                            <a:lnTo>
                              <a:pt x="314" y="177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4475160" y="3755880"/>
                        <a:ext cx="132120" cy="84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7" h="235">
                            <a:moveTo>
                              <a:pt x="154" y="235"/>
                            </a:moveTo>
                            <a:lnTo>
                              <a:pt x="203" y="200"/>
                            </a:lnTo>
                            <a:lnTo>
                              <a:pt x="247" y="178"/>
                            </a:lnTo>
                            <a:lnTo>
                              <a:pt x="309" y="178"/>
                            </a:lnTo>
                            <a:lnTo>
                              <a:pt x="327" y="187"/>
                            </a:lnTo>
                            <a:lnTo>
                              <a:pt x="349" y="178"/>
                            </a:lnTo>
                            <a:lnTo>
                              <a:pt x="367" y="146"/>
                            </a:lnTo>
                            <a:lnTo>
                              <a:pt x="327" y="128"/>
                            </a:lnTo>
                            <a:lnTo>
                              <a:pt x="296" y="111"/>
                            </a:lnTo>
                            <a:lnTo>
                              <a:pt x="287" y="75"/>
                            </a:lnTo>
                            <a:lnTo>
                              <a:pt x="296" y="22"/>
                            </a:lnTo>
                            <a:lnTo>
                              <a:pt x="221" y="0"/>
                            </a:lnTo>
                            <a:lnTo>
                              <a:pt x="163" y="22"/>
                            </a:lnTo>
                            <a:lnTo>
                              <a:pt x="180" y="52"/>
                            </a:lnTo>
                            <a:lnTo>
                              <a:pt x="221" y="102"/>
                            </a:lnTo>
                            <a:lnTo>
                              <a:pt x="225" y="128"/>
                            </a:lnTo>
                            <a:lnTo>
                              <a:pt x="158" y="133"/>
                            </a:lnTo>
                            <a:lnTo>
                              <a:pt x="141" y="111"/>
                            </a:lnTo>
                            <a:lnTo>
                              <a:pt x="114" y="52"/>
                            </a:lnTo>
                            <a:lnTo>
                              <a:pt x="39" y="84"/>
                            </a:lnTo>
                            <a:lnTo>
                              <a:pt x="13" y="120"/>
                            </a:lnTo>
                            <a:lnTo>
                              <a:pt x="0" y="159"/>
                            </a:lnTo>
                            <a:lnTo>
                              <a:pt x="70" y="159"/>
                            </a:lnTo>
                            <a:lnTo>
                              <a:pt x="74" y="187"/>
                            </a:lnTo>
                            <a:lnTo>
                              <a:pt x="119" y="187"/>
                            </a:lnTo>
                            <a:lnTo>
                              <a:pt x="110" y="231"/>
                            </a:lnTo>
                            <a:lnTo>
                              <a:pt x="154" y="235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4437000" y="3733920"/>
                        <a:ext cx="49680" cy="57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38" h="160">
                            <a:moveTo>
                              <a:pt x="129" y="0"/>
                            </a:moveTo>
                            <a:lnTo>
                              <a:pt x="36" y="45"/>
                            </a:lnTo>
                            <a:lnTo>
                              <a:pt x="8" y="80"/>
                            </a:lnTo>
                            <a:lnTo>
                              <a:pt x="0" y="129"/>
                            </a:lnTo>
                            <a:lnTo>
                              <a:pt x="40" y="160"/>
                            </a:lnTo>
                            <a:lnTo>
                              <a:pt x="67" y="151"/>
                            </a:lnTo>
                            <a:lnTo>
                              <a:pt x="58" y="111"/>
                            </a:lnTo>
                            <a:lnTo>
                              <a:pt x="58" y="80"/>
                            </a:lnTo>
                            <a:lnTo>
                              <a:pt x="89" y="49"/>
                            </a:lnTo>
                            <a:lnTo>
                              <a:pt x="138" y="26"/>
                            </a:lnTo>
                            <a:lnTo>
                              <a:pt x="129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6480" bIns="6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4986360" y="4367160"/>
                        <a:ext cx="25920" cy="27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6">
                            <a:moveTo>
                              <a:pt x="63" y="23"/>
                            </a:moveTo>
                            <a:lnTo>
                              <a:pt x="53" y="13"/>
                            </a:lnTo>
                            <a:lnTo>
                              <a:pt x="27" y="4"/>
                            </a:ln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0" y="27"/>
                            </a:lnTo>
                            <a:lnTo>
                              <a:pt x="8" y="59"/>
                            </a:lnTo>
                            <a:lnTo>
                              <a:pt x="27" y="76"/>
                            </a:lnTo>
                            <a:lnTo>
                              <a:pt x="53" y="76"/>
                            </a:lnTo>
                            <a:lnTo>
                              <a:pt x="72" y="59"/>
                            </a:lnTo>
                            <a:lnTo>
                              <a:pt x="72" y="36"/>
                            </a:lnTo>
                            <a:lnTo>
                              <a:pt x="63" y="23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3760" bIns="-23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16" name=""/>
                <p:cNvSpPr/>
                <p:nvPr/>
              </p:nvSpPr>
              <p:spPr>
                <a:xfrm>
                  <a:off x="4097160" y="4489560"/>
                  <a:ext cx="60840" cy="79560"/>
                </a:xfrm>
                <a:custGeom>
                  <a:avLst/>
                  <a:gdLst/>
                  <a:ahLst/>
                  <a:rect l="0" t="0" r="r" b="b"/>
                  <a:pathLst>
                    <a:path w="169" h="221">
                      <a:moveTo>
                        <a:pt x="169" y="221"/>
                      </a:moveTo>
                      <a:lnTo>
                        <a:pt x="98" y="88"/>
                      </a:lnTo>
                      <a:lnTo>
                        <a:pt x="58" y="39"/>
                      </a:lnTo>
                      <a:lnTo>
                        <a:pt x="0" y="0"/>
                      </a:lnTo>
                      <a:lnTo>
                        <a:pt x="8" y="44"/>
                      </a:lnTo>
                      <a:lnTo>
                        <a:pt x="67" y="142"/>
                      </a:lnTo>
                      <a:lnTo>
                        <a:pt x="124" y="212"/>
                      </a:lnTo>
                      <a:lnTo>
                        <a:pt x="169" y="221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613320" y="3786120"/>
                <a:ext cx="1717920" cy="1816560"/>
                <a:chOff x="3613320" y="3786120"/>
                <a:chExt cx="1717920" cy="18165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192560" y="5064120"/>
                  <a:ext cx="825840" cy="538560"/>
                </a:xfrm>
                <a:custGeom>
                  <a:avLst/>
                  <a:gdLst/>
                  <a:ahLst/>
                  <a:rect l="0" t="0" r="r" b="b"/>
                  <a:pathLst>
                    <a:path w="2294" h="1496">
                      <a:moveTo>
                        <a:pt x="1442" y="627"/>
                      </a:moveTo>
                      <a:lnTo>
                        <a:pt x="1460" y="658"/>
                      </a:lnTo>
                      <a:lnTo>
                        <a:pt x="1469" y="697"/>
                      </a:lnTo>
                      <a:lnTo>
                        <a:pt x="1425" y="755"/>
                      </a:lnTo>
                      <a:lnTo>
                        <a:pt x="1394" y="860"/>
                      </a:lnTo>
                      <a:lnTo>
                        <a:pt x="1420" y="918"/>
                      </a:lnTo>
                      <a:lnTo>
                        <a:pt x="1412" y="993"/>
                      </a:lnTo>
                      <a:lnTo>
                        <a:pt x="1451" y="1054"/>
                      </a:lnTo>
                      <a:lnTo>
                        <a:pt x="1487" y="1135"/>
                      </a:lnTo>
                      <a:lnTo>
                        <a:pt x="1566" y="1152"/>
                      </a:lnTo>
                      <a:lnTo>
                        <a:pt x="1628" y="1227"/>
                      </a:lnTo>
                      <a:lnTo>
                        <a:pt x="1711" y="1236"/>
                      </a:lnTo>
                      <a:lnTo>
                        <a:pt x="1756" y="1188"/>
                      </a:lnTo>
                      <a:lnTo>
                        <a:pt x="1831" y="1179"/>
                      </a:lnTo>
                      <a:lnTo>
                        <a:pt x="1897" y="1192"/>
                      </a:lnTo>
                      <a:lnTo>
                        <a:pt x="1967" y="1166"/>
                      </a:lnTo>
                      <a:lnTo>
                        <a:pt x="2003" y="1116"/>
                      </a:lnTo>
                      <a:lnTo>
                        <a:pt x="2038" y="1050"/>
                      </a:lnTo>
                      <a:lnTo>
                        <a:pt x="2020" y="966"/>
                      </a:lnTo>
                      <a:lnTo>
                        <a:pt x="2157" y="953"/>
                      </a:lnTo>
                      <a:lnTo>
                        <a:pt x="2227" y="918"/>
                      </a:lnTo>
                      <a:lnTo>
                        <a:pt x="2276" y="922"/>
                      </a:lnTo>
                      <a:lnTo>
                        <a:pt x="2294" y="979"/>
                      </a:lnTo>
                      <a:lnTo>
                        <a:pt x="2183" y="1085"/>
                      </a:lnTo>
                      <a:lnTo>
                        <a:pt x="2197" y="1170"/>
                      </a:lnTo>
                      <a:lnTo>
                        <a:pt x="2161" y="1223"/>
                      </a:lnTo>
                      <a:lnTo>
                        <a:pt x="2064" y="1205"/>
                      </a:lnTo>
                      <a:lnTo>
                        <a:pt x="1976" y="1205"/>
                      </a:lnTo>
                      <a:lnTo>
                        <a:pt x="1941" y="1254"/>
                      </a:lnTo>
                      <a:lnTo>
                        <a:pt x="1941" y="1316"/>
                      </a:lnTo>
                      <a:lnTo>
                        <a:pt x="2003" y="1346"/>
                      </a:lnTo>
                      <a:lnTo>
                        <a:pt x="1994" y="1386"/>
                      </a:lnTo>
                      <a:lnTo>
                        <a:pt x="1923" y="1373"/>
                      </a:lnTo>
                      <a:lnTo>
                        <a:pt x="1888" y="1377"/>
                      </a:lnTo>
                      <a:lnTo>
                        <a:pt x="1866" y="1404"/>
                      </a:lnTo>
                      <a:lnTo>
                        <a:pt x="1870" y="1457"/>
                      </a:lnTo>
                      <a:lnTo>
                        <a:pt x="1879" y="1496"/>
                      </a:lnTo>
                      <a:lnTo>
                        <a:pt x="1791" y="1474"/>
                      </a:lnTo>
                      <a:lnTo>
                        <a:pt x="1773" y="1439"/>
                      </a:lnTo>
                      <a:lnTo>
                        <a:pt x="1742" y="1395"/>
                      </a:lnTo>
                      <a:lnTo>
                        <a:pt x="1703" y="1377"/>
                      </a:lnTo>
                      <a:lnTo>
                        <a:pt x="1650" y="1377"/>
                      </a:lnTo>
                      <a:lnTo>
                        <a:pt x="1610" y="1417"/>
                      </a:lnTo>
                      <a:lnTo>
                        <a:pt x="1548" y="1448"/>
                      </a:lnTo>
                      <a:lnTo>
                        <a:pt x="1460" y="1426"/>
                      </a:lnTo>
                      <a:lnTo>
                        <a:pt x="1368" y="1417"/>
                      </a:lnTo>
                      <a:lnTo>
                        <a:pt x="1262" y="1333"/>
                      </a:lnTo>
                      <a:lnTo>
                        <a:pt x="1151" y="1285"/>
                      </a:lnTo>
                      <a:lnTo>
                        <a:pt x="1058" y="1258"/>
                      </a:lnTo>
                      <a:lnTo>
                        <a:pt x="1001" y="1254"/>
                      </a:lnTo>
                      <a:lnTo>
                        <a:pt x="846" y="1205"/>
                      </a:lnTo>
                      <a:lnTo>
                        <a:pt x="771" y="1103"/>
                      </a:lnTo>
                      <a:lnTo>
                        <a:pt x="740" y="922"/>
                      </a:lnTo>
                      <a:lnTo>
                        <a:pt x="679" y="816"/>
                      </a:lnTo>
                      <a:lnTo>
                        <a:pt x="621" y="750"/>
                      </a:lnTo>
                      <a:lnTo>
                        <a:pt x="546" y="697"/>
                      </a:lnTo>
                      <a:lnTo>
                        <a:pt x="498" y="552"/>
                      </a:lnTo>
                      <a:lnTo>
                        <a:pt x="423" y="459"/>
                      </a:lnTo>
                      <a:lnTo>
                        <a:pt x="343" y="366"/>
                      </a:lnTo>
                      <a:lnTo>
                        <a:pt x="295" y="220"/>
                      </a:lnTo>
                      <a:lnTo>
                        <a:pt x="246" y="176"/>
                      </a:lnTo>
                      <a:lnTo>
                        <a:pt x="167" y="136"/>
                      </a:lnTo>
                      <a:lnTo>
                        <a:pt x="198" y="291"/>
                      </a:lnTo>
                      <a:lnTo>
                        <a:pt x="233" y="411"/>
                      </a:lnTo>
                      <a:lnTo>
                        <a:pt x="286" y="503"/>
                      </a:lnTo>
                      <a:lnTo>
                        <a:pt x="339" y="613"/>
                      </a:lnTo>
                      <a:lnTo>
                        <a:pt x="405" y="741"/>
                      </a:lnTo>
                      <a:lnTo>
                        <a:pt x="476" y="869"/>
                      </a:lnTo>
                      <a:lnTo>
                        <a:pt x="432" y="882"/>
                      </a:lnTo>
                      <a:lnTo>
                        <a:pt x="348" y="755"/>
                      </a:lnTo>
                      <a:lnTo>
                        <a:pt x="286" y="728"/>
                      </a:lnTo>
                      <a:lnTo>
                        <a:pt x="268" y="627"/>
                      </a:lnTo>
                      <a:lnTo>
                        <a:pt x="224" y="574"/>
                      </a:lnTo>
                      <a:lnTo>
                        <a:pt x="220" y="494"/>
                      </a:lnTo>
                      <a:lnTo>
                        <a:pt x="180" y="441"/>
                      </a:lnTo>
                      <a:lnTo>
                        <a:pt x="136" y="428"/>
                      </a:lnTo>
                      <a:lnTo>
                        <a:pt x="110" y="375"/>
                      </a:lnTo>
                      <a:lnTo>
                        <a:pt x="136" y="317"/>
                      </a:lnTo>
                      <a:lnTo>
                        <a:pt x="79" y="224"/>
                      </a:lnTo>
                      <a:lnTo>
                        <a:pt x="35" y="167"/>
                      </a:lnTo>
                      <a:lnTo>
                        <a:pt x="13" y="101"/>
                      </a:lnTo>
                      <a:lnTo>
                        <a:pt x="0" y="0"/>
                      </a:lnTo>
                      <a:lnTo>
                        <a:pt x="211" y="48"/>
                      </a:lnTo>
                      <a:lnTo>
                        <a:pt x="361" y="136"/>
                      </a:lnTo>
                      <a:lnTo>
                        <a:pt x="432" y="189"/>
                      </a:lnTo>
                      <a:lnTo>
                        <a:pt x="612" y="176"/>
                      </a:lnTo>
                      <a:lnTo>
                        <a:pt x="652" y="207"/>
                      </a:lnTo>
                      <a:lnTo>
                        <a:pt x="855" y="198"/>
                      </a:lnTo>
                      <a:lnTo>
                        <a:pt x="895" y="255"/>
                      </a:lnTo>
                      <a:lnTo>
                        <a:pt x="934" y="384"/>
                      </a:lnTo>
                      <a:lnTo>
                        <a:pt x="1027" y="380"/>
                      </a:lnTo>
                      <a:lnTo>
                        <a:pt x="1053" y="308"/>
                      </a:lnTo>
                      <a:lnTo>
                        <a:pt x="1160" y="308"/>
                      </a:lnTo>
                      <a:lnTo>
                        <a:pt x="1244" y="433"/>
                      </a:lnTo>
                      <a:lnTo>
                        <a:pt x="1306" y="600"/>
                      </a:lnTo>
                      <a:lnTo>
                        <a:pt x="1376" y="636"/>
                      </a:lnTo>
                      <a:lnTo>
                        <a:pt x="1442" y="627"/>
                      </a:lnTo>
                      <a:close/>
                    </a:path>
                  </a:pathLst>
                </a:custGeom>
                <a:solidFill>
                  <a:srgbClr val="5fc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"/>
                <p:cNvGrpSpPr/>
                <p:nvPr/>
              </p:nvGrpSpPr>
              <p:grpSpPr>
                <a:xfrm>
                  <a:off x="3613320" y="3786120"/>
                  <a:ext cx="1717920" cy="1506960"/>
                  <a:chOff x="3613320" y="3786120"/>
                  <a:chExt cx="1717920" cy="15069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4067280" y="4552920"/>
                    <a:ext cx="1263960" cy="740160"/>
                  </a:xfrm>
                  <a:custGeom>
                    <a:avLst/>
                    <a:gdLst/>
                    <a:ahLst/>
                    <a:rect l="0" t="0" r="r" b="b"/>
                    <a:pathLst>
                      <a:path w="3511" h="2056">
                        <a:moveTo>
                          <a:pt x="343" y="48"/>
                        </a:moveTo>
                        <a:lnTo>
                          <a:pt x="299" y="198"/>
                        </a:lnTo>
                        <a:lnTo>
                          <a:pt x="251" y="158"/>
                        </a:lnTo>
                        <a:lnTo>
                          <a:pt x="211" y="114"/>
                        </a:lnTo>
                        <a:lnTo>
                          <a:pt x="145" y="79"/>
                        </a:lnTo>
                        <a:lnTo>
                          <a:pt x="141" y="198"/>
                        </a:lnTo>
                        <a:lnTo>
                          <a:pt x="97" y="321"/>
                        </a:lnTo>
                        <a:lnTo>
                          <a:pt x="97" y="423"/>
                        </a:lnTo>
                        <a:lnTo>
                          <a:pt x="52" y="538"/>
                        </a:lnTo>
                        <a:lnTo>
                          <a:pt x="35" y="706"/>
                        </a:lnTo>
                        <a:lnTo>
                          <a:pt x="0" y="807"/>
                        </a:lnTo>
                        <a:lnTo>
                          <a:pt x="8" y="878"/>
                        </a:lnTo>
                        <a:lnTo>
                          <a:pt x="66" y="962"/>
                        </a:lnTo>
                        <a:lnTo>
                          <a:pt x="48" y="1028"/>
                        </a:lnTo>
                        <a:lnTo>
                          <a:pt x="110" y="1112"/>
                        </a:lnTo>
                        <a:lnTo>
                          <a:pt x="145" y="1240"/>
                        </a:lnTo>
                        <a:lnTo>
                          <a:pt x="251" y="1301"/>
                        </a:lnTo>
                        <a:lnTo>
                          <a:pt x="361" y="1420"/>
                        </a:lnTo>
                        <a:lnTo>
                          <a:pt x="560" y="1465"/>
                        </a:lnTo>
                        <a:lnTo>
                          <a:pt x="784" y="1607"/>
                        </a:lnTo>
                        <a:lnTo>
                          <a:pt x="956" y="1593"/>
                        </a:lnTo>
                        <a:lnTo>
                          <a:pt x="1005" y="1629"/>
                        </a:lnTo>
                        <a:lnTo>
                          <a:pt x="1195" y="1620"/>
                        </a:lnTo>
                        <a:lnTo>
                          <a:pt x="1239" y="1660"/>
                        </a:lnTo>
                        <a:lnTo>
                          <a:pt x="1274" y="1770"/>
                        </a:lnTo>
                        <a:lnTo>
                          <a:pt x="1292" y="1805"/>
                        </a:lnTo>
                        <a:lnTo>
                          <a:pt x="1362" y="1801"/>
                        </a:lnTo>
                        <a:lnTo>
                          <a:pt x="1406" y="1726"/>
                        </a:lnTo>
                        <a:lnTo>
                          <a:pt x="1494" y="1730"/>
                        </a:lnTo>
                        <a:lnTo>
                          <a:pt x="1538" y="1783"/>
                        </a:lnTo>
                        <a:lnTo>
                          <a:pt x="1583" y="1836"/>
                        </a:lnTo>
                        <a:lnTo>
                          <a:pt x="1622" y="1937"/>
                        </a:lnTo>
                        <a:lnTo>
                          <a:pt x="1649" y="2021"/>
                        </a:lnTo>
                        <a:lnTo>
                          <a:pt x="1719" y="2052"/>
                        </a:lnTo>
                        <a:lnTo>
                          <a:pt x="1791" y="2056"/>
                        </a:lnTo>
                        <a:lnTo>
                          <a:pt x="1764" y="1959"/>
                        </a:lnTo>
                        <a:lnTo>
                          <a:pt x="1760" y="1893"/>
                        </a:lnTo>
                        <a:lnTo>
                          <a:pt x="1795" y="1796"/>
                        </a:lnTo>
                        <a:lnTo>
                          <a:pt x="1853" y="1770"/>
                        </a:lnTo>
                        <a:lnTo>
                          <a:pt x="1954" y="1699"/>
                        </a:lnTo>
                        <a:lnTo>
                          <a:pt x="2064" y="1695"/>
                        </a:lnTo>
                        <a:lnTo>
                          <a:pt x="2170" y="1708"/>
                        </a:lnTo>
                        <a:lnTo>
                          <a:pt x="2285" y="1757"/>
                        </a:lnTo>
                        <a:lnTo>
                          <a:pt x="2342" y="1743"/>
                        </a:lnTo>
                        <a:lnTo>
                          <a:pt x="2369" y="1708"/>
                        </a:lnTo>
                        <a:lnTo>
                          <a:pt x="2249" y="1664"/>
                        </a:lnTo>
                        <a:lnTo>
                          <a:pt x="2382" y="1615"/>
                        </a:lnTo>
                        <a:lnTo>
                          <a:pt x="2474" y="1638"/>
                        </a:lnTo>
                        <a:lnTo>
                          <a:pt x="2615" y="1620"/>
                        </a:lnTo>
                        <a:lnTo>
                          <a:pt x="2708" y="1620"/>
                        </a:lnTo>
                        <a:lnTo>
                          <a:pt x="2796" y="1620"/>
                        </a:lnTo>
                        <a:lnTo>
                          <a:pt x="2836" y="1646"/>
                        </a:lnTo>
                        <a:lnTo>
                          <a:pt x="2871" y="1695"/>
                        </a:lnTo>
                        <a:lnTo>
                          <a:pt x="2884" y="1801"/>
                        </a:lnTo>
                        <a:lnTo>
                          <a:pt x="2920" y="1849"/>
                        </a:lnTo>
                        <a:lnTo>
                          <a:pt x="2946" y="1920"/>
                        </a:lnTo>
                        <a:lnTo>
                          <a:pt x="2986" y="1955"/>
                        </a:lnTo>
                        <a:lnTo>
                          <a:pt x="3034" y="1977"/>
                        </a:lnTo>
                        <a:lnTo>
                          <a:pt x="3078" y="1937"/>
                        </a:lnTo>
                        <a:lnTo>
                          <a:pt x="3096" y="1867"/>
                        </a:lnTo>
                        <a:lnTo>
                          <a:pt x="3065" y="1818"/>
                        </a:lnTo>
                        <a:lnTo>
                          <a:pt x="2959" y="1677"/>
                        </a:lnTo>
                        <a:lnTo>
                          <a:pt x="2915" y="1558"/>
                        </a:lnTo>
                        <a:lnTo>
                          <a:pt x="2929" y="1434"/>
                        </a:lnTo>
                        <a:lnTo>
                          <a:pt x="2990" y="1390"/>
                        </a:lnTo>
                        <a:lnTo>
                          <a:pt x="3052" y="1315"/>
                        </a:lnTo>
                        <a:lnTo>
                          <a:pt x="3043" y="1257"/>
                        </a:lnTo>
                        <a:lnTo>
                          <a:pt x="3083" y="1209"/>
                        </a:lnTo>
                        <a:lnTo>
                          <a:pt x="3158" y="1178"/>
                        </a:lnTo>
                        <a:lnTo>
                          <a:pt x="3180" y="1103"/>
                        </a:lnTo>
                        <a:lnTo>
                          <a:pt x="3149" y="1037"/>
                        </a:lnTo>
                        <a:lnTo>
                          <a:pt x="3118" y="1006"/>
                        </a:lnTo>
                        <a:lnTo>
                          <a:pt x="3127" y="971"/>
                        </a:lnTo>
                        <a:lnTo>
                          <a:pt x="3083" y="953"/>
                        </a:lnTo>
                        <a:lnTo>
                          <a:pt x="3092" y="918"/>
                        </a:lnTo>
                        <a:lnTo>
                          <a:pt x="3052" y="891"/>
                        </a:lnTo>
                        <a:lnTo>
                          <a:pt x="3043" y="821"/>
                        </a:lnTo>
                        <a:lnTo>
                          <a:pt x="3096" y="865"/>
                        </a:lnTo>
                        <a:lnTo>
                          <a:pt x="3105" y="843"/>
                        </a:lnTo>
                        <a:lnTo>
                          <a:pt x="3074" y="807"/>
                        </a:lnTo>
                        <a:lnTo>
                          <a:pt x="3096" y="772"/>
                        </a:lnTo>
                        <a:lnTo>
                          <a:pt x="3127" y="807"/>
                        </a:lnTo>
                        <a:lnTo>
                          <a:pt x="3149" y="869"/>
                        </a:lnTo>
                        <a:lnTo>
                          <a:pt x="3167" y="852"/>
                        </a:lnTo>
                        <a:lnTo>
                          <a:pt x="3149" y="807"/>
                        </a:lnTo>
                        <a:lnTo>
                          <a:pt x="3180" y="772"/>
                        </a:lnTo>
                        <a:lnTo>
                          <a:pt x="3193" y="741"/>
                        </a:lnTo>
                        <a:lnTo>
                          <a:pt x="3193" y="706"/>
                        </a:lnTo>
                        <a:lnTo>
                          <a:pt x="3180" y="649"/>
                        </a:lnTo>
                        <a:lnTo>
                          <a:pt x="3193" y="591"/>
                        </a:lnTo>
                        <a:lnTo>
                          <a:pt x="3206" y="561"/>
                        </a:lnTo>
                        <a:lnTo>
                          <a:pt x="3268" y="507"/>
                        </a:lnTo>
                        <a:lnTo>
                          <a:pt x="3325" y="498"/>
                        </a:lnTo>
                        <a:lnTo>
                          <a:pt x="3378" y="476"/>
                        </a:lnTo>
                        <a:lnTo>
                          <a:pt x="3409" y="485"/>
                        </a:lnTo>
                        <a:lnTo>
                          <a:pt x="3444" y="480"/>
                        </a:lnTo>
                        <a:lnTo>
                          <a:pt x="3458" y="467"/>
                        </a:lnTo>
                        <a:lnTo>
                          <a:pt x="3431" y="467"/>
                        </a:lnTo>
                        <a:lnTo>
                          <a:pt x="3409" y="463"/>
                        </a:lnTo>
                        <a:lnTo>
                          <a:pt x="3387" y="449"/>
                        </a:lnTo>
                        <a:lnTo>
                          <a:pt x="3370" y="423"/>
                        </a:lnTo>
                        <a:lnTo>
                          <a:pt x="3370" y="361"/>
                        </a:lnTo>
                        <a:lnTo>
                          <a:pt x="3405" y="291"/>
                        </a:lnTo>
                        <a:lnTo>
                          <a:pt x="3449" y="251"/>
                        </a:lnTo>
                        <a:lnTo>
                          <a:pt x="3497" y="229"/>
                        </a:lnTo>
                        <a:lnTo>
                          <a:pt x="3511" y="167"/>
                        </a:lnTo>
                        <a:lnTo>
                          <a:pt x="3436" y="92"/>
                        </a:lnTo>
                        <a:lnTo>
                          <a:pt x="3405" y="17"/>
                        </a:lnTo>
                        <a:lnTo>
                          <a:pt x="3339" y="0"/>
                        </a:lnTo>
                        <a:lnTo>
                          <a:pt x="3299" y="48"/>
                        </a:lnTo>
                        <a:lnTo>
                          <a:pt x="3299" y="167"/>
                        </a:lnTo>
                        <a:lnTo>
                          <a:pt x="3259" y="242"/>
                        </a:lnTo>
                        <a:lnTo>
                          <a:pt x="3136" y="317"/>
                        </a:lnTo>
                        <a:lnTo>
                          <a:pt x="3065" y="308"/>
                        </a:lnTo>
                        <a:lnTo>
                          <a:pt x="3017" y="335"/>
                        </a:lnTo>
                        <a:lnTo>
                          <a:pt x="3004" y="388"/>
                        </a:lnTo>
                        <a:lnTo>
                          <a:pt x="2990" y="454"/>
                        </a:lnTo>
                        <a:lnTo>
                          <a:pt x="2937" y="502"/>
                        </a:lnTo>
                        <a:lnTo>
                          <a:pt x="2827" y="561"/>
                        </a:lnTo>
                        <a:lnTo>
                          <a:pt x="2787" y="591"/>
                        </a:lnTo>
                        <a:lnTo>
                          <a:pt x="2748" y="666"/>
                        </a:lnTo>
                        <a:lnTo>
                          <a:pt x="2699" y="684"/>
                        </a:lnTo>
                        <a:lnTo>
                          <a:pt x="2646" y="728"/>
                        </a:lnTo>
                        <a:lnTo>
                          <a:pt x="2585" y="680"/>
                        </a:lnTo>
                        <a:lnTo>
                          <a:pt x="2624" y="613"/>
                        </a:lnTo>
                        <a:lnTo>
                          <a:pt x="2629" y="561"/>
                        </a:lnTo>
                        <a:lnTo>
                          <a:pt x="2585" y="591"/>
                        </a:lnTo>
                        <a:lnTo>
                          <a:pt x="2536" y="591"/>
                        </a:lnTo>
                        <a:lnTo>
                          <a:pt x="2571" y="534"/>
                        </a:lnTo>
                        <a:lnTo>
                          <a:pt x="2585" y="485"/>
                        </a:lnTo>
                        <a:lnTo>
                          <a:pt x="2532" y="432"/>
                        </a:lnTo>
                        <a:lnTo>
                          <a:pt x="2474" y="427"/>
                        </a:lnTo>
                        <a:lnTo>
                          <a:pt x="2457" y="463"/>
                        </a:lnTo>
                        <a:lnTo>
                          <a:pt x="2426" y="454"/>
                        </a:lnTo>
                        <a:lnTo>
                          <a:pt x="2395" y="493"/>
                        </a:lnTo>
                        <a:lnTo>
                          <a:pt x="2399" y="578"/>
                        </a:lnTo>
                        <a:lnTo>
                          <a:pt x="2413" y="613"/>
                        </a:lnTo>
                        <a:lnTo>
                          <a:pt x="2430" y="666"/>
                        </a:lnTo>
                        <a:lnTo>
                          <a:pt x="2430" y="693"/>
                        </a:lnTo>
                        <a:lnTo>
                          <a:pt x="2421" y="737"/>
                        </a:lnTo>
                        <a:lnTo>
                          <a:pt x="2399" y="750"/>
                        </a:lnTo>
                        <a:lnTo>
                          <a:pt x="2369" y="759"/>
                        </a:lnTo>
                        <a:lnTo>
                          <a:pt x="2342" y="693"/>
                        </a:lnTo>
                        <a:lnTo>
                          <a:pt x="2307" y="636"/>
                        </a:lnTo>
                        <a:lnTo>
                          <a:pt x="2307" y="578"/>
                        </a:lnTo>
                        <a:lnTo>
                          <a:pt x="2324" y="516"/>
                        </a:lnTo>
                        <a:lnTo>
                          <a:pt x="2307" y="454"/>
                        </a:lnTo>
                        <a:lnTo>
                          <a:pt x="2413" y="392"/>
                        </a:lnTo>
                        <a:lnTo>
                          <a:pt x="2461" y="366"/>
                        </a:lnTo>
                        <a:lnTo>
                          <a:pt x="2324" y="379"/>
                        </a:lnTo>
                        <a:lnTo>
                          <a:pt x="2236" y="392"/>
                        </a:lnTo>
                        <a:lnTo>
                          <a:pt x="2210" y="326"/>
                        </a:lnTo>
                        <a:lnTo>
                          <a:pt x="2148" y="374"/>
                        </a:lnTo>
                        <a:lnTo>
                          <a:pt x="2170" y="321"/>
                        </a:lnTo>
                        <a:lnTo>
                          <a:pt x="2051" y="370"/>
                        </a:lnTo>
                        <a:lnTo>
                          <a:pt x="1980" y="339"/>
                        </a:lnTo>
                        <a:lnTo>
                          <a:pt x="1985" y="291"/>
                        </a:lnTo>
                        <a:lnTo>
                          <a:pt x="2020" y="242"/>
                        </a:lnTo>
                        <a:lnTo>
                          <a:pt x="1853" y="180"/>
                        </a:lnTo>
                        <a:lnTo>
                          <a:pt x="1292" y="149"/>
                        </a:lnTo>
                        <a:lnTo>
                          <a:pt x="996" y="141"/>
                        </a:lnTo>
                        <a:lnTo>
                          <a:pt x="701" y="101"/>
                        </a:lnTo>
                        <a:lnTo>
                          <a:pt x="343" y="48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3613320" y="3786120"/>
                    <a:ext cx="592200" cy="592560"/>
                    <a:chOff x="3613320" y="3786120"/>
                    <a:chExt cx="592200" cy="59256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3678120" y="3786120"/>
                      <a:ext cx="527400" cy="5925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465" h="1646">
                          <a:moveTo>
                            <a:pt x="1465" y="428"/>
                          </a:moveTo>
                          <a:lnTo>
                            <a:pt x="1006" y="1002"/>
                          </a:lnTo>
                          <a:lnTo>
                            <a:pt x="1103" y="1037"/>
                          </a:lnTo>
                          <a:lnTo>
                            <a:pt x="1050" y="1103"/>
                          </a:lnTo>
                          <a:lnTo>
                            <a:pt x="1134" y="1121"/>
                          </a:lnTo>
                          <a:lnTo>
                            <a:pt x="1187" y="1329"/>
                          </a:lnTo>
                          <a:lnTo>
                            <a:pt x="1240" y="1540"/>
                          </a:lnTo>
                          <a:lnTo>
                            <a:pt x="1187" y="1646"/>
                          </a:lnTo>
                          <a:lnTo>
                            <a:pt x="1173" y="1457"/>
                          </a:lnTo>
                          <a:lnTo>
                            <a:pt x="1125" y="1391"/>
                          </a:lnTo>
                          <a:lnTo>
                            <a:pt x="1103" y="1218"/>
                          </a:lnTo>
                          <a:lnTo>
                            <a:pt x="1050" y="1329"/>
                          </a:lnTo>
                          <a:lnTo>
                            <a:pt x="1006" y="1187"/>
                          </a:lnTo>
                          <a:lnTo>
                            <a:pt x="979" y="1063"/>
                          </a:lnTo>
                          <a:lnTo>
                            <a:pt x="949" y="962"/>
                          </a:lnTo>
                          <a:lnTo>
                            <a:pt x="931" y="949"/>
                          </a:lnTo>
                          <a:lnTo>
                            <a:pt x="834" y="979"/>
                          </a:lnTo>
                          <a:lnTo>
                            <a:pt x="750" y="865"/>
                          </a:lnTo>
                          <a:lnTo>
                            <a:pt x="732" y="935"/>
                          </a:lnTo>
                          <a:lnTo>
                            <a:pt x="674" y="891"/>
                          </a:lnTo>
                          <a:lnTo>
                            <a:pt x="582" y="918"/>
                          </a:lnTo>
                          <a:lnTo>
                            <a:pt x="635" y="838"/>
                          </a:lnTo>
                          <a:lnTo>
                            <a:pt x="732" y="821"/>
                          </a:lnTo>
                          <a:lnTo>
                            <a:pt x="759" y="759"/>
                          </a:lnTo>
                          <a:lnTo>
                            <a:pt x="661" y="746"/>
                          </a:lnTo>
                          <a:lnTo>
                            <a:pt x="599" y="794"/>
                          </a:lnTo>
                          <a:lnTo>
                            <a:pt x="560" y="724"/>
                          </a:lnTo>
                          <a:lnTo>
                            <a:pt x="507" y="768"/>
                          </a:lnTo>
                          <a:lnTo>
                            <a:pt x="489" y="856"/>
                          </a:lnTo>
                          <a:lnTo>
                            <a:pt x="454" y="904"/>
                          </a:lnTo>
                          <a:lnTo>
                            <a:pt x="348" y="887"/>
                          </a:lnTo>
                          <a:lnTo>
                            <a:pt x="233" y="922"/>
                          </a:lnTo>
                          <a:lnTo>
                            <a:pt x="136" y="918"/>
                          </a:lnTo>
                          <a:lnTo>
                            <a:pt x="0" y="852"/>
                          </a:lnTo>
                          <a:lnTo>
                            <a:pt x="22" y="781"/>
                          </a:lnTo>
                          <a:lnTo>
                            <a:pt x="110" y="852"/>
                          </a:lnTo>
                          <a:lnTo>
                            <a:pt x="167" y="843"/>
                          </a:lnTo>
                          <a:lnTo>
                            <a:pt x="233" y="874"/>
                          </a:lnTo>
                          <a:lnTo>
                            <a:pt x="286" y="825"/>
                          </a:lnTo>
                          <a:lnTo>
                            <a:pt x="295" y="790"/>
                          </a:lnTo>
                          <a:lnTo>
                            <a:pt x="361" y="768"/>
                          </a:lnTo>
                          <a:lnTo>
                            <a:pt x="317" y="684"/>
                          </a:lnTo>
                          <a:lnTo>
                            <a:pt x="299" y="644"/>
                          </a:lnTo>
                          <a:lnTo>
                            <a:pt x="238" y="613"/>
                          </a:lnTo>
                          <a:lnTo>
                            <a:pt x="313" y="547"/>
                          </a:lnTo>
                          <a:lnTo>
                            <a:pt x="264" y="486"/>
                          </a:lnTo>
                          <a:lnTo>
                            <a:pt x="299" y="459"/>
                          </a:lnTo>
                          <a:lnTo>
                            <a:pt x="326" y="464"/>
                          </a:lnTo>
                          <a:lnTo>
                            <a:pt x="330" y="388"/>
                          </a:lnTo>
                          <a:lnTo>
                            <a:pt x="339" y="326"/>
                          </a:lnTo>
                          <a:lnTo>
                            <a:pt x="396" y="313"/>
                          </a:lnTo>
                          <a:lnTo>
                            <a:pt x="458" y="313"/>
                          </a:lnTo>
                          <a:lnTo>
                            <a:pt x="498" y="317"/>
                          </a:lnTo>
                          <a:lnTo>
                            <a:pt x="643" y="388"/>
                          </a:lnTo>
                          <a:lnTo>
                            <a:pt x="709" y="313"/>
                          </a:lnTo>
                          <a:lnTo>
                            <a:pt x="573" y="176"/>
                          </a:lnTo>
                          <a:lnTo>
                            <a:pt x="630" y="167"/>
                          </a:lnTo>
                          <a:lnTo>
                            <a:pt x="604" y="97"/>
                          </a:lnTo>
                          <a:lnTo>
                            <a:pt x="652" y="79"/>
                          </a:lnTo>
                          <a:lnTo>
                            <a:pt x="687" y="110"/>
                          </a:lnTo>
                          <a:lnTo>
                            <a:pt x="727" y="110"/>
                          </a:lnTo>
                          <a:lnTo>
                            <a:pt x="732" y="145"/>
                          </a:lnTo>
                          <a:lnTo>
                            <a:pt x="709" y="176"/>
                          </a:lnTo>
                          <a:lnTo>
                            <a:pt x="790" y="260"/>
                          </a:lnTo>
                          <a:lnTo>
                            <a:pt x="847" y="198"/>
                          </a:lnTo>
                          <a:lnTo>
                            <a:pt x="816" y="167"/>
                          </a:lnTo>
                          <a:lnTo>
                            <a:pt x="847" y="88"/>
                          </a:lnTo>
                          <a:lnTo>
                            <a:pt x="847" y="30"/>
                          </a:lnTo>
                          <a:lnTo>
                            <a:pt x="922" y="0"/>
                          </a:lnTo>
                          <a:lnTo>
                            <a:pt x="979" y="13"/>
                          </a:lnTo>
                          <a:lnTo>
                            <a:pt x="993" y="48"/>
                          </a:lnTo>
                          <a:lnTo>
                            <a:pt x="1037" y="74"/>
                          </a:lnTo>
                          <a:lnTo>
                            <a:pt x="1072" y="48"/>
                          </a:lnTo>
                          <a:lnTo>
                            <a:pt x="1121" y="35"/>
                          </a:lnTo>
                          <a:lnTo>
                            <a:pt x="1218" y="57"/>
                          </a:lnTo>
                          <a:lnTo>
                            <a:pt x="1279" y="88"/>
                          </a:lnTo>
                          <a:lnTo>
                            <a:pt x="1271" y="145"/>
                          </a:lnTo>
                          <a:lnTo>
                            <a:pt x="1288" y="185"/>
                          </a:lnTo>
                          <a:lnTo>
                            <a:pt x="1354" y="185"/>
                          </a:lnTo>
                          <a:lnTo>
                            <a:pt x="1363" y="238"/>
                          </a:lnTo>
                          <a:lnTo>
                            <a:pt x="1403" y="273"/>
                          </a:lnTo>
                          <a:lnTo>
                            <a:pt x="1465" y="42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3776760" y="4138560"/>
                      <a:ext cx="367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2" h="72">
                          <a:moveTo>
                            <a:pt x="4" y="0"/>
                          </a:moveTo>
                          <a:lnTo>
                            <a:pt x="0" y="49"/>
                          </a:lnTo>
                          <a:lnTo>
                            <a:pt x="17" y="72"/>
                          </a:lnTo>
                          <a:lnTo>
                            <a:pt x="53" y="72"/>
                          </a:lnTo>
                          <a:lnTo>
                            <a:pt x="102" y="27"/>
                          </a:lnTo>
                          <a:lnTo>
                            <a:pt x="48" y="0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3613320" y="4065480"/>
                      <a:ext cx="3204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9" h="72">
                          <a:moveTo>
                            <a:pt x="8" y="8"/>
                          </a:moveTo>
                          <a:lnTo>
                            <a:pt x="30" y="0"/>
                          </a:lnTo>
                          <a:lnTo>
                            <a:pt x="49" y="0"/>
                          </a:lnTo>
                          <a:lnTo>
                            <a:pt x="67" y="8"/>
                          </a:lnTo>
                          <a:lnTo>
                            <a:pt x="80" y="36"/>
                          </a:lnTo>
                          <a:lnTo>
                            <a:pt x="89" y="53"/>
                          </a:lnTo>
                          <a:lnTo>
                            <a:pt x="75" y="63"/>
                          </a:lnTo>
                          <a:lnTo>
                            <a:pt x="53" y="72"/>
                          </a:lnTo>
                          <a:lnTo>
                            <a:pt x="13" y="63"/>
                          </a:lnTo>
                          <a:lnTo>
                            <a:pt x="0" y="36"/>
                          </a:lnTo>
                          <a:lnTo>
                            <a:pt x="8" y="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3728880" y="39387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63" y="13"/>
                          </a:moveTo>
                          <a:lnTo>
                            <a:pt x="49" y="8"/>
                          </a:lnTo>
                          <a:lnTo>
                            <a:pt x="31" y="4"/>
                          </a:lnTo>
                          <a:lnTo>
                            <a:pt x="4" y="0"/>
                          </a:lnTo>
                          <a:lnTo>
                            <a:pt x="0" y="4"/>
                          </a:lnTo>
                          <a:lnTo>
                            <a:pt x="0" y="27"/>
                          </a:lnTo>
                          <a:lnTo>
                            <a:pt x="4" y="53"/>
                          </a:lnTo>
                          <a:lnTo>
                            <a:pt x="31" y="72"/>
                          </a:lnTo>
                          <a:lnTo>
                            <a:pt x="49" y="72"/>
                          </a:lnTo>
                          <a:lnTo>
                            <a:pt x="63" y="53"/>
                          </a:lnTo>
                          <a:lnTo>
                            <a:pt x="72" y="36"/>
                          </a:lnTo>
                          <a:lnTo>
                            <a:pt x="63" y="13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760920" y="3832200"/>
                      <a:ext cx="36720" cy="338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2" h="94">
                          <a:moveTo>
                            <a:pt x="0" y="0"/>
                          </a:moveTo>
                          <a:lnTo>
                            <a:pt x="26" y="62"/>
                          </a:lnTo>
                          <a:lnTo>
                            <a:pt x="48" y="85"/>
                          </a:lnTo>
                          <a:lnTo>
                            <a:pt x="93" y="94"/>
                          </a:lnTo>
                          <a:lnTo>
                            <a:pt x="102" y="85"/>
                          </a:lnTo>
                          <a:lnTo>
                            <a:pt x="102" y="58"/>
                          </a:lnTo>
                          <a:lnTo>
                            <a:pt x="71" y="3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3586320" y="4343400"/>
              <a:ext cx="12906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3505320" y="4940280"/>
              <a:ext cx="622800" cy="51120"/>
            </a:xfrm>
            <a:custGeom>
              <a:avLst/>
              <a:gdLst/>
              <a:ahLst/>
              <a:rect l="0" t="0" r="r" b="b"/>
              <a:pathLst>
                <a:path w="1730" h="142">
                  <a:moveTo>
                    <a:pt x="0" y="142"/>
                  </a:moveTo>
                  <a:lnTo>
                    <a:pt x="1730" y="142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618ffd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5010120"/>
              <a:ext cx="622440" cy="363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round/>
            </a:ln>
          </p:spPr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84760" y="4815000"/>
              <a:ext cx="130680" cy="38520"/>
            </a:xfrm>
            <a:custGeom>
              <a:avLst/>
              <a:gdLst/>
              <a:ahLst/>
              <a:rect l="0" t="0" r="r" b="b"/>
              <a:pathLst>
                <a:path w="363" h="107">
                  <a:moveTo>
                    <a:pt x="0" y="107"/>
                  </a:moveTo>
                  <a:lnTo>
                    <a:pt x="363" y="107"/>
                  </a:lnTo>
                  <a:lnTo>
                    <a:pt x="0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356000" y="4317840"/>
              <a:ext cx="1207080" cy="805320"/>
              <a:chOff x="4356000" y="4317840"/>
              <a:chExt cx="1207080" cy="805320"/>
            </a:xfrm>
          </p:grpSpPr>
          <p:sp>
            <p:nvSpPr>
              <p:cNvPr id="132" name=""/>
              <p:cNvSpPr/>
              <p:nvPr/>
            </p:nvSpPr>
            <p:spPr>
              <a:xfrm>
                <a:off x="5427720" y="4869000"/>
                <a:ext cx="74520" cy="147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72000" y="4915080"/>
                <a:ext cx="25560" cy="49320"/>
              </a:xfrm>
              <a:prstGeom prst="ellipse">
                <a:avLst/>
              </a:prstGeom>
              <a:solidFill>
                <a:srgbClr val="8f8f8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396040" y="4869000"/>
                <a:ext cx="70200" cy="151200"/>
              </a:xfrm>
              <a:custGeom>
                <a:avLst/>
                <a:gdLst/>
                <a:ahLst/>
                <a:rect l="0" t="0" r="r" b="b"/>
                <a:pathLst>
                  <a:path w="195" h="420">
                    <a:moveTo>
                      <a:pt x="190" y="0"/>
                    </a:moveTo>
                    <a:lnTo>
                      <a:pt x="142" y="22"/>
                    </a:lnTo>
                    <a:lnTo>
                      <a:pt x="106" y="70"/>
                    </a:lnTo>
                    <a:lnTo>
                      <a:pt x="88" y="137"/>
                    </a:lnTo>
                    <a:lnTo>
                      <a:pt x="83" y="172"/>
                    </a:lnTo>
                    <a:lnTo>
                      <a:pt x="83" y="190"/>
                    </a:lnTo>
                    <a:lnTo>
                      <a:pt x="83" y="208"/>
                    </a:lnTo>
                    <a:lnTo>
                      <a:pt x="115" y="345"/>
                    </a:lnTo>
                    <a:lnTo>
                      <a:pt x="150" y="394"/>
                    </a:lnTo>
                    <a:lnTo>
                      <a:pt x="195" y="420"/>
                    </a:lnTo>
                    <a:lnTo>
                      <a:pt x="190" y="420"/>
                    </a:lnTo>
                    <a:lnTo>
                      <a:pt x="98" y="420"/>
                    </a:lnTo>
                    <a:lnTo>
                      <a:pt x="44" y="359"/>
                    </a:lnTo>
                    <a:lnTo>
                      <a:pt x="13" y="296"/>
                    </a:lnTo>
                    <a:lnTo>
                      <a:pt x="0" y="230"/>
                    </a:lnTo>
                    <a:lnTo>
                      <a:pt x="0" y="199"/>
                    </a:lnTo>
                    <a:lnTo>
                      <a:pt x="4" y="168"/>
                    </a:lnTo>
                    <a:lnTo>
                      <a:pt x="44" y="61"/>
                    </a:lnTo>
                    <a:lnTo>
                      <a:pt x="74" y="22"/>
                    </a:lnTo>
                    <a:lnTo>
                      <a:pt x="111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83160" y="4865760"/>
                <a:ext cx="71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513400" y="4913280"/>
                <a:ext cx="25560" cy="49320"/>
              </a:xfrm>
              <a:prstGeom prst="ellipse">
                <a:avLst/>
              </a:prstGeom>
              <a:solidFill>
                <a:srgbClr val="a2a2a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48240" y="4867200"/>
                <a:ext cx="71640" cy="154440"/>
              </a:xfrm>
              <a:custGeom>
                <a:avLst/>
                <a:gdLst/>
                <a:ahLst/>
                <a:rect l="0" t="0" r="r" b="b"/>
                <a:pathLst>
                  <a:path w="199" h="429">
                    <a:moveTo>
                      <a:pt x="190" y="0"/>
                    </a:moveTo>
                    <a:lnTo>
                      <a:pt x="168" y="4"/>
                    </a:lnTo>
                    <a:lnTo>
                      <a:pt x="150" y="13"/>
                    </a:lnTo>
                    <a:lnTo>
                      <a:pt x="120" y="61"/>
                    </a:lnTo>
                    <a:lnTo>
                      <a:pt x="88" y="195"/>
                    </a:lnTo>
                    <a:lnTo>
                      <a:pt x="88" y="212"/>
                    </a:lnTo>
                    <a:lnTo>
                      <a:pt x="88" y="234"/>
                    </a:lnTo>
                    <a:lnTo>
                      <a:pt x="92" y="269"/>
                    </a:lnTo>
                    <a:lnTo>
                      <a:pt x="115" y="341"/>
                    </a:lnTo>
                    <a:lnTo>
                      <a:pt x="150" y="394"/>
                    </a:lnTo>
                    <a:lnTo>
                      <a:pt x="199" y="429"/>
                    </a:lnTo>
                    <a:lnTo>
                      <a:pt x="190" y="429"/>
                    </a:lnTo>
                    <a:lnTo>
                      <a:pt x="97" y="429"/>
                    </a:lnTo>
                    <a:lnTo>
                      <a:pt x="48" y="381"/>
                    </a:lnTo>
                    <a:lnTo>
                      <a:pt x="13" y="318"/>
                    </a:lnTo>
                    <a:lnTo>
                      <a:pt x="0" y="252"/>
                    </a:lnTo>
                    <a:lnTo>
                      <a:pt x="0" y="217"/>
                    </a:lnTo>
                    <a:lnTo>
                      <a:pt x="0" y="199"/>
                    </a:lnTo>
                    <a:lnTo>
                      <a:pt x="0" y="186"/>
                    </a:lnTo>
                    <a:lnTo>
                      <a:pt x="30" y="66"/>
                    </a:lnTo>
                    <a:lnTo>
                      <a:pt x="57" y="26"/>
                    </a:lnTo>
                    <a:lnTo>
                      <a:pt x="88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19560" y="4869000"/>
                <a:ext cx="68400" cy="149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56280" y="4917960"/>
                <a:ext cx="25560" cy="54000"/>
              </a:xfrm>
              <a:prstGeom prst="ellipse">
                <a:avLst/>
              </a:prstGeom>
              <a:solidFill>
                <a:srgbClr val="8f8f8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81760" y="4870440"/>
                <a:ext cx="68760" cy="151200"/>
              </a:xfrm>
              <a:custGeom>
                <a:avLst/>
                <a:gdLst/>
                <a:ahLst/>
                <a:rect l="0" t="0" r="r" b="b"/>
                <a:pathLst>
                  <a:path w="191" h="420">
                    <a:moveTo>
                      <a:pt x="178" y="0"/>
                    </a:moveTo>
                    <a:lnTo>
                      <a:pt x="147" y="26"/>
                    </a:lnTo>
                    <a:lnTo>
                      <a:pt x="120" y="70"/>
                    </a:lnTo>
                    <a:lnTo>
                      <a:pt x="102" y="128"/>
                    </a:lnTo>
                    <a:lnTo>
                      <a:pt x="102" y="159"/>
                    </a:lnTo>
                    <a:lnTo>
                      <a:pt x="98" y="195"/>
                    </a:lnTo>
                    <a:lnTo>
                      <a:pt x="124" y="323"/>
                    </a:lnTo>
                    <a:lnTo>
                      <a:pt x="151" y="376"/>
                    </a:lnTo>
                    <a:lnTo>
                      <a:pt x="191" y="420"/>
                    </a:lnTo>
                    <a:lnTo>
                      <a:pt x="165" y="420"/>
                    </a:lnTo>
                    <a:lnTo>
                      <a:pt x="89" y="420"/>
                    </a:lnTo>
                    <a:lnTo>
                      <a:pt x="39" y="368"/>
                    </a:lnTo>
                    <a:lnTo>
                      <a:pt x="13" y="305"/>
                    </a:lnTo>
                    <a:lnTo>
                      <a:pt x="0" y="239"/>
                    </a:lnTo>
                    <a:lnTo>
                      <a:pt x="0" y="203"/>
                    </a:lnTo>
                    <a:lnTo>
                      <a:pt x="0" y="186"/>
                    </a:lnTo>
                    <a:lnTo>
                      <a:pt x="4" y="168"/>
                    </a:lnTo>
                    <a:lnTo>
                      <a:pt x="39" y="57"/>
                    </a:lnTo>
                    <a:lnTo>
                      <a:pt x="62" y="17"/>
                    </a:lnTo>
                    <a:lnTo>
                      <a:pt x="93" y="0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83280" y="4869000"/>
                <a:ext cx="66600" cy="149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205240" y="4916520"/>
                <a:ext cx="25560" cy="54000"/>
              </a:xfrm>
              <a:prstGeom prst="ellipse">
                <a:avLst/>
              </a:prstGeom>
              <a:solidFill>
                <a:srgbClr val="a2a2a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137200" y="4869000"/>
                <a:ext cx="74880" cy="152640"/>
              </a:xfrm>
              <a:custGeom>
                <a:avLst/>
                <a:gdLst/>
                <a:ahLst/>
                <a:rect l="0" t="0" r="r" b="b"/>
                <a:pathLst>
                  <a:path w="208" h="424">
                    <a:moveTo>
                      <a:pt x="208" y="0"/>
                    </a:moveTo>
                    <a:lnTo>
                      <a:pt x="168" y="39"/>
                    </a:lnTo>
                    <a:lnTo>
                      <a:pt x="137" y="83"/>
                    </a:lnTo>
                    <a:lnTo>
                      <a:pt x="115" y="202"/>
                    </a:lnTo>
                    <a:lnTo>
                      <a:pt x="115" y="230"/>
                    </a:lnTo>
                    <a:lnTo>
                      <a:pt x="120" y="265"/>
                    </a:lnTo>
                    <a:lnTo>
                      <a:pt x="137" y="322"/>
                    </a:lnTo>
                    <a:lnTo>
                      <a:pt x="164" y="375"/>
                    </a:lnTo>
                    <a:lnTo>
                      <a:pt x="208" y="424"/>
                    </a:lnTo>
                    <a:lnTo>
                      <a:pt x="177" y="419"/>
                    </a:lnTo>
                    <a:lnTo>
                      <a:pt x="92" y="419"/>
                    </a:lnTo>
                    <a:lnTo>
                      <a:pt x="44" y="362"/>
                    </a:lnTo>
                    <a:lnTo>
                      <a:pt x="13" y="296"/>
                    </a:lnTo>
                    <a:lnTo>
                      <a:pt x="0" y="230"/>
                    </a:lnTo>
                    <a:lnTo>
                      <a:pt x="0" y="198"/>
                    </a:lnTo>
                    <a:lnTo>
                      <a:pt x="4" y="167"/>
                    </a:lnTo>
                    <a:lnTo>
                      <a:pt x="39" y="61"/>
                    </a:lnTo>
                    <a:lnTo>
                      <a:pt x="97" y="4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216400" y="4861080"/>
                <a:ext cx="133560" cy="109800"/>
              </a:xfrm>
              <a:custGeom>
                <a:avLst/>
                <a:gdLst/>
                <a:ahLst/>
                <a:rect l="0" t="0" r="r" b="b"/>
                <a:pathLst>
                  <a:path w="371" h="305">
                    <a:moveTo>
                      <a:pt x="349" y="0"/>
                    </a:moveTo>
                    <a:lnTo>
                      <a:pt x="35" y="0"/>
                    </a:lnTo>
                    <a:lnTo>
                      <a:pt x="30" y="155"/>
                    </a:lnTo>
                    <a:lnTo>
                      <a:pt x="22" y="155"/>
                    </a:lnTo>
                    <a:lnTo>
                      <a:pt x="17" y="159"/>
                    </a:lnTo>
                    <a:lnTo>
                      <a:pt x="13" y="168"/>
                    </a:lnTo>
                    <a:lnTo>
                      <a:pt x="13" y="172"/>
                    </a:lnTo>
                    <a:lnTo>
                      <a:pt x="4" y="181"/>
                    </a:lnTo>
                    <a:lnTo>
                      <a:pt x="4" y="195"/>
                    </a:lnTo>
                    <a:lnTo>
                      <a:pt x="4" y="203"/>
                    </a:lnTo>
                    <a:lnTo>
                      <a:pt x="0" y="212"/>
                    </a:lnTo>
                    <a:lnTo>
                      <a:pt x="0" y="225"/>
                    </a:lnTo>
                    <a:lnTo>
                      <a:pt x="0" y="234"/>
                    </a:lnTo>
                    <a:lnTo>
                      <a:pt x="0" y="247"/>
                    </a:lnTo>
                    <a:lnTo>
                      <a:pt x="4" y="261"/>
                    </a:lnTo>
                    <a:lnTo>
                      <a:pt x="4" y="269"/>
                    </a:lnTo>
                    <a:lnTo>
                      <a:pt x="8" y="274"/>
                    </a:lnTo>
                    <a:lnTo>
                      <a:pt x="13" y="287"/>
                    </a:lnTo>
                    <a:lnTo>
                      <a:pt x="17" y="292"/>
                    </a:lnTo>
                    <a:lnTo>
                      <a:pt x="22" y="300"/>
                    </a:lnTo>
                    <a:lnTo>
                      <a:pt x="26" y="300"/>
                    </a:lnTo>
                    <a:lnTo>
                      <a:pt x="30" y="300"/>
                    </a:lnTo>
                    <a:lnTo>
                      <a:pt x="39" y="305"/>
                    </a:lnTo>
                    <a:lnTo>
                      <a:pt x="39" y="300"/>
                    </a:lnTo>
                    <a:lnTo>
                      <a:pt x="261" y="305"/>
                    </a:lnTo>
                    <a:lnTo>
                      <a:pt x="261" y="287"/>
                    </a:lnTo>
                    <a:lnTo>
                      <a:pt x="261" y="269"/>
                    </a:lnTo>
                    <a:lnTo>
                      <a:pt x="256" y="247"/>
                    </a:lnTo>
                    <a:lnTo>
                      <a:pt x="256" y="234"/>
                    </a:lnTo>
                    <a:lnTo>
                      <a:pt x="256" y="208"/>
                    </a:lnTo>
                    <a:lnTo>
                      <a:pt x="256" y="195"/>
                    </a:lnTo>
                    <a:lnTo>
                      <a:pt x="261" y="172"/>
                    </a:lnTo>
                    <a:lnTo>
                      <a:pt x="261" y="155"/>
                    </a:lnTo>
                    <a:lnTo>
                      <a:pt x="265" y="141"/>
                    </a:lnTo>
                    <a:lnTo>
                      <a:pt x="269" y="123"/>
                    </a:lnTo>
                    <a:lnTo>
                      <a:pt x="274" y="101"/>
                    </a:lnTo>
                    <a:lnTo>
                      <a:pt x="278" y="92"/>
                    </a:lnTo>
                    <a:lnTo>
                      <a:pt x="283" y="74"/>
                    </a:lnTo>
                    <a:lnTo>
                      <a:pt x="292" y="61"/>
                    </a:lnTo>
                    <a:lnTo>
                      <a:pt x="300" y="52"/>
                    </a:lnTo>
                    <a:lnTo>
                      <a:pt x="305" y="39"/>
                    </a:lnTo>
                    <a:lnTo>
                      <a:pt x="314" y="30"/>
                    </a:lnTo>
                    <a:lnTo>
                      <a:pt x="322" y="22"/>
                    </a:lnTo>
                    <a:lnTo>
                      <a:pt x="331" y="17"/>
                    </a:lnTo>
                    <a:lnTo>
                      <a:pt x="340" y="13"/>
                    </a:lnTo>
                    <a:lnTo>
                      <a:pt x="349" y="8"/>
                    </a:lnTo>
                    <a:lnTo>
                      <a:pt x="362" y="8"/>
                    </a:lnTo>
                    <a:lnTo>
                      <a:pt x="371" y="8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330880" y="4862520"/>
                <a:ext cx="79200" cy="160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76960" y="4915080"/>
                <a:ext cx="25560" cy="52560"/>
              </a:xfrm>
              <a:prstGeom prst="ellipse">
                <a:avLst/>
              </a:prstGeom>
              <a:solidFill>
                <a:srgbClr val="8f8f8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97400" y="4862520"/>
                <a:ext cx="74880" cy="163800"/>
              </a:xfrm>
              <a:custGeom>
                <a:avLst/>
                <a:gdLst/>
                <a:ahLst/>
                <a:rect l="0" t="0" r="r" b="b"/>
                <a:pathLst>
                  <a:path w="208" h="455">
                    <a:moveTo>
                      <a:pt x="203" y="0"/>
                    </a:moveTo>
                    <a:lnTo>
                      <a:pt x="150" y="26"/>
                    </a:lnTo>
                    <a:lnTo>
                      <a:pt x="111" y="79"/>
                    </a:lnTo>
                    <a:lnTo>
                      <a:pt x="92" y="149"/>
                    </a:lnTo>
                    <a:lnTo>
                      <a:pt x="88" y="185"/>
                    </a:lnTo>
                    <a:lnTo>
                      <a:pt x="88" y="202"/>
                    </a:lnTo>
                    <a:lnTo>
                      <a:pt x="88" y="224"/>
                    </a:lnTo>
                    <a:lnTo>
                      <a:pt x="124" y="371"/>
                    </a:lnTo>
                    <a:lnTo>
                      <a:pt x="159" y="424"/>
                    </a:lnTo>
                    <a:lnTo>
                      <a:pt x="208" y="455"/>
                    </a:lnTo>
                    <a:lnTo>
                      <a:pt x="199" y="455"/>
                    </a:lnTo>
                    <a:lnTo>
                      <a:pt x="106" y="455"/>
                    </a:lnTo>
                    <a:lnTo>
                      <a:pt x="44" y="393"/>
                    </a:lnTo>
                    <a:lnTo>
                      <a:pt x="13" y="322"/>
                    </a:lnTo>
                    <a:lnTo>
                      <a:pt x="0" y="252"/>
                    </a:lnTo>
                    <a:lnTo>
                      <a:pt x="0" y="216"/>
                    </a:lnTo>
                    <a:lnTo>
                      <a:pt x="4" y="180"/>
                    </a:lnTo>
                    <a:lnTo>
                      <a:pt x="48" y="66"/>
                    </a:lnTo>
                    <a:lnTo>
                      <a:pt x="79" y="26"/>
                    </a:lnTo>
                    <a:lnTo>
                      <a:pt x="115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89560" y="4862520"/>
                <a:ext cx="77760" cy="163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21240" y="4911840"/>
                <a:ext cx="25560" cy="55440"/>
              </a:xfrm>
              <a:prstGeom prst="ellipse">
                <a:avLst/>
              </a:prstGeom>
              <a:solidFill>
                <a:srgbClr val="a2a2a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51400" y="4862520"/>
                <a:ext cx="79560" cy="167040"/>
              </a:xfrm>
              <a:custGeom>
                <a:avLst/>
                <a:gdLst/>
                <a:ahLst/>
                <a:rect l="0" t="0" r="r" b="b"/>
                <a:pathLst>
                  <a:path w="221" h="464">
                    <a:moveTo>
                      <a:pt x="212" y="0"/>
                    </a:moveTo>
                    <a:lnTo>
                      <a:pt x="190" y="4"/>
                    </a:lnTo>
                    <a:lnTo>
                      <a:pt x="168" y="17"/>
                    </a:lnTo>
                    <a:lnTo>
                      <a:pt x="133" y="61"/>
                    </a:lnTo>
                    <a:lnTo>
                      <a:pt x="101" y="211"/>
                    </a:lnTo>
                    <a:lnTo>
                      <a:pt x="101" y="229"/>
                    </a:lnTo>
                    <a:lnTo>
                      <a:pt x="101" y="252"/>
                    </a:lnTo>
                    <a:lnTo>
                      <a:pt x="105" y="292"/>
                    </a:lnTo>
                    <a:lnTo>
                      <a:pt x="128" y="367"/>
                    </a:lnTo>
                    <a:lnTo>
                      <a:pt x="164" y="428"/>
                    </a:lnTo>
                    <a:lnTo>
                      <a:pt x="221" y="464"/>
                    </a:lnTo>
                    <a:lnTo>
                      <a:pt x="212" y="464"/>
                    </a:lnTo>
                    <a:lnTo>
                      <a:pt x="105" y="459"/>
                    </a:lnTo>
                    <a:lnTo>
                      <a:pt x="52" y="406"/>
                    </a:lnTo>
                    <a:lnTo>
                      <a:pt x="17" y="340"/>
                    </a:lnTo>
                    <a:lnTo>
                      <a:pt x="4" y="269"/>
                    </a:lnTo>
                    <a:lnTo>
                      <a:pt x="0" y="234"/>
                    </a:lnTo>
                    <a:lnTo>
                      <a:pt x="0" y="216"/>
                    </a:lnTo>
                    <a:lnTo>
                      <a:pt x="0" y="198"/>
                    </a:lnTo>
                    <a:lnTo>
                      <a:pt x="35" y="70"/>
                    </a:lnTo>
                    <a:lnTo>
                      <a:pt x="61" y="26"/>
                    </a:lnTo>
                    <a:lnTo>
                      <a:pt x="97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4000" y="4722840"/>
                <a:ext cx="78120" cy="33840"/>
              </a:xfrm>
              <a:custGeom>
                <a:avLst/>
                <a:gdLst/>
                <a:ahLst/>
                <a:rect l="0" t="0" r="r" b="b"/>
                <a:pathLst>
                  <a:path w="217" h="94">
                    <a:moveTo>
                      <a:pt x="0" y="0"/>
                    </a:moveTo>
                    <a:lnTo>
                      <a:pt x="217" y="67"/>
                    </a:lnTo>
                    <a:lnTo>
                      <a:pt x="186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18160" y="4726080"/>
                <a:ext cx="74880" cy="30600"/>
              </a:xfrm>
              <a:custGeom>
                <a:avLst/>
                <a:gdLst/>
                <a:ahLst/>
                <a:rect l="0" t="0" r="r" b="b"/>
                <a:pathLst>
                  <a:path w="208" h="85">
                    <a:moveTo>
                      <a:pt x="0" y="49"/>
                    </a:moveTo>
                    <a:lnTo>
                      <a:pt x="4" y="62"/>
                    </a:lnTo>
                    <a:lnTo>
                      <a:pt x="35" y="85"/>
                    </a:lnTo>
                    <a:lnTo>
                      <a:pt x="208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3fc0ff"/>
              </a:solidFill>
              <a:ln w="12600">
                <a:solidFill>
                  <a:srgbClr val="3fc0ff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38800" y="4317840"/>
                <a:ext cx="366840" cy="241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57880" y="4375080"/>
                <a:ext cx="347760" cy="190440"/>
              </a:xfrm>
              <a:prstGeom prst="roundRect">
                <a:avLst/>
              </a:prstGeom>
              <a:solidFill>
                <a:srgbClr val="008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56040" y="499104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w="120" h="72">
                    <a:moveTo>
                      <a:pt x="0" y="72"/>
                    </a:moveTo>
                    <a:lnTo>
                      <a:pt x="0" y="0"/>
                    </a:lnTo>
                    <a:lnTo>
                      <a:pt x="120" y="4"/>
                    </a:lnTo>
                    <a:lnTo>
                      <a:pt x="120" y="13"/>
                    </a:lnTo>
                    <a:lnTo>
                      <a:pt x="120" y="36"/>
                    </a:lnTo>
                    <a:lnTo>
                      <a:pt x="120" y="40"/>
                    </a:lnTo>
                    <a:lnTo>
                      <a:pt x="120" y="53"/>
                    </a:lnTo>
                    <a:lnTo>
                      <a:pt x="12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5f5f5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898880" y="4975200"/>
                <a:ext cx="30600" cy="51120"/>
              </a:xfrm>
              <a:custGeom>
                <a:avLst/>
                <a:gdLst/>
                <a:ahLst/>
                <a:rect l="0" t="0" r="r" b="b"/>
                <a:pathLst>
                  <a:path w="85" h="142">
                    <a:moveTo>
                      <a:pt x="85" y="142"/>
                    </a:moveTo>
                    <a:lnTo>
                      <a:pt x="81" y="142"/>
                    </a:lnTo>
                    <a:lnTo>
                      <a:pt x="72" y="137"/>
                    </a:lnTo>
                    <a:lnTo>
                      <a:pt x="72" y="128"/>
                    </a:lnTo>
                    <a:lnTo>
                      <a:pt x="68" y="128"/>
                    </a:lnTo>
                    <a:lnTo>
                      <a:pt x="62" y="115"/>
                    </a:lnTo>
                    <a:lnTo>
                      <a:pt x="58" y="111"/>
                    </a:lnTo>
                    <a:lnTo>
                      <a:pt x="53" y="102"/>
                    </a:lnTo>
                    <a:lnTo>
                      <a:pt x="53" y="89"/>
                    </a:lnTo>
                    <a:lnTo>
                      <a:pt x="53" y="80"/>
                    </a:lnTo>
                    <a:lnTo>
                      <a:pt x="53" y="70"/>
                    </a:lnTo>
                    <a:lnTo>
                      <a:pt x="53" y="57"/>
                    </a:lnTo>
                    <a:lnTo>
                      <a:pt x="53" y="44"/>
                    </a:lnTo>
                    <a:lnTo>
                      <a:pt x="53" y="39"/>
                    </a:lnTo>
                    <a:lnTo>
                      <a:pt x="58" y="30"/>
                    </a:lnTo>
                    <a:lnTo>
                      <a:pt x="58" y="26"/>
                    </a:lnTo>
                    <a:lnTo>
                      <a:pt x="62" y="13"/>
                    </a:lnTo>
                    <a:lnTo>
                      <a:pt x="68" y="4"/>
                    </a:lnTo>
                    <a:lnTo>
                      <a:pt x="72" y="0"/>
                    </a:lnTo>
                    <a:lnTo>
                      <a:pt x="23" y="0"/>
                    </a:lnTo>
                    <a:lnTo>
                      <a:pt x="17" y="4"/>
                    </a:lnTo>
                    <a:lnTo>
                      <a:pt x="13" y="13"/>
                    </a:lnTo>
                    <a:lnTo>
                      <a:pt x="13" y="26"/>
                    </a:lnTo>
                    <a:lnTo>
                      <a:pt x="4" y="26"/>
                    </a:lnTo>
                    <a:lnTo>
                      <a:pt x="0" y="39"/>
                    </a:lnTo>
                    <a:lnTo>
                      <a:pt x="0" y="44"/>
                    </a:lnTo>
                    <a:lnTo>
                      <a:pt x="0" y="57"/>
                    </a:lnTo>
                    <a:lnTo>
                      <a:pt x="0" y="70"/>
                    </a:lnTo>
                    <a:lnTo>
                      <a:pt x="0" y="80"/>
                    </a:lnTo>
                    <a:lnTo>
                      <a:pt x="0" y="93"/>
                    </a:lnTo>
                    <a:lnTo>
                      <a:pt x="4" y="102"/>
                    </a:lnTo>
                    <a:lnTo>
                      <a:pt x="13" y="111"/>
                    </a:lnTo>
                    <a:lnTo>
                      <a:pt x="13" y="115"/>
                    </a:lnTo>
                    <a:lnTo>
                      <a:pt x="17" y="128"/>
                    </a:lnTo>
                    <a:lnTo>
                      <a:pt x="23" y="128"/>
                    </a:lnTo>
                    <a:lnTo>
                      <a:pt x="23" y="137"/>
                    </a:lnTo>
                    <a:lnTo>
                      <a:pt x="31" y="142"/>
                    </a:lnTo>
                    <a:lnTo>
                      <a:pt x="36" y="142"/>
                    </a:lnTo>
                    <a:lnTo>
                      <a:pt x="85" y="142"/>
                    </a:lnTo>
                    <a:close/>
                  </a:path>
                </a:pathLst>
              </a:custGeom>
              <a:solidFill>
                <a:srgbClr val="2f2f2f"/>
              </a:solidFill>
              <a:ln w="12600">
                <a:solidFill>
                  <a:srgbClr val="2f2f2f"/>
                </a:solidFill>
                <a:round/>
              </a:ln>
            </p:spPr>
            <p:txBody>
              <a:bodyPr lIns="96120" rIns="9612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17960" y="4862520"/>
                <a:ext cx="27360" cy="163800"/>
              </a:xfrm>
              <a:custGeom>
                <a:avLst/>
                <a:gdLst/>
                <a:ahLst/>
                <a:rect l="0" t="0" r="r" b="b"/>
                <a:pathLst>
                  <a:path w="76" h="455">
                    <a:moveTo>
                      <a:pt x="53" y="0"/>
                    </a:moveTo>
                    <a:lnTo>
                      <a:pt x="53" y="314"/>
                    </a:lnTo>
                    <a:lnTo>
                      <a:pt x="59" y="314"/>
                    </a:lnTo>
                    <a:lnTo>
                      <a:pt x="59" y="318"/>
                    </a:lnTo>
                    <a:lnTo>
                      <a:pt x="63" y="322"/>
                    </a:lnTo>
                    <a:lnTo>
                      <a:pt x="68" y="331"/>
                    </a:lnTo>
                    <a:lnTo>
                      <a:pt x="68" y="336"/>
                    </a:lnTo>
                    <a:lnTo>
                      <a:pt x="68" y="340"/>
                    </a:lnTo>
                    <a:lnTo>
                      <a:pt x="72" y="344"/>
                    </a:lnTo>
                    <a:lnTo>
                      <a:pt x="72" y="349"/>
                    </a:lnTo>
                    <a:lnTo>
                      <a:pt x="72" y="353"/>
                    </a:lnTo>
                    <a:lnTo>
                      <a:pt x="76" y="358"/>
                    </a:lnTo>
                    <a:lnTo>
                      <a:pt x="76" y="362"/>
                    </a:lnTo>
                    <a:lnTo>
                      <a:pt x="76" y="371"/>
                    </a:lnTo>
                    <a:lnTo>
                      <a:pt x="76" y="375"/>
                    </a:lnTo>
                    <a:lnTo>
                      <a:pt x="76" y="384"/>
                    </a:lnTo>
                    <a:lnTo>
                      <a:pt x="76" y="389"/>
                    </a:lnTo>
                    <a:lnTo>
                      <a:pt x="76" y="393"/>
                    </a:lnTo>
                    <a:lnTo>
                      <a:pt x="76" y="402"/>
                    </a:lnTo>
                    <a:lnTo>
                      <a:pt x="76" y="406"/>
                    </a:lnTo>
                    <a:lnTo>
                      <a:pt x="72" y="406"/>
                    </a:lnTo>
                    <a:lnTo>
                      <a:pt x="72" y="411"/>
                    </a:lnTo>
                    <a:lnTo>
                      <a:pt x="72" y="415"/>
                    </a:lnTo>
                    <a:lnTo>
                      <a:pt x="68" y="419"/>
                    </a:lnTo>
                    <a:lnTo>
                      <a:pt x="68" y="424"/>
                    </a:lnTo>
                    <a:lnTo>
                      <a:pt x="68" y="428"/>
                    </a:lnTo>
                    <a:lnTo>
                      <a:pt x="63" y="433"/>
                    </a:lnTo>
                    <a:lnTo>
                      <a:pt x="63" y="437"/>
                    </a:lnTo>
                    <a:lnTo>
                      <a:pt x="59" y="437"/>
                    </a:lnTo>
                    <a:lnTo>
                      <a:pt x="59" y="441"/>
                    </a:lnTo>
                    <a:lnTo>
                      <a:pt x="53" y="441"/>
                    </a:lnTo>
                    <a:lnTo>
                      <a:pt x="53" y="446"/>
                    </a:lnTo>
                    <a:lnTo>
                      <a:pt x="49" y="450"/>
                    </a:lnTo>
                    <a:lnTo>
                      <a:pt x="45" y="455"/>
                    </a:lnTo>
                    <a:lnTo>
                      <a:pt x="40" y="455"/>
                    </a:lnTo>
                    <a:lnTo>
                      <a:pt x="36" y="455"/>
                    </a:lnTo>
                    <a:lnTo>
                      <a:pt x="31" y="455"/>
                    </a:lnTo>
                    <a:lnTo>
                      <a:pt x="27" y="455"/>
                    </a:lnTo>
                    <a:lnTo>
                      <a:pt x="27" y="450"/>
                    </a:lnTo>
                    <a:lnTo>
                      <a:pt x="23" y="446"/>
                    </a:lnTo>
                    <a:lnTo>
                      <a:pt x="17" y="441"/>
                    </a:lnTo>
                    <a:lnTo>
                      <a:pt x="17" y="437"/>
                    </a:lnTo>
                    <a:lnTo>
                      <a:pt x="13" y="437"/>
                    </a:lnTo>
                    <a:lnTo>
                      <a:pt x="13" y="428"/>
                    </a:lnTo>
                    <a:lnTo>
                      <a:pt x="8" y="428"/>
                    </a:lnTo>
                    <a:lnTo>
                      <a:pt x="8" y="424"/>
                    </a:lnTo>
                    <a:lnTo>
                      <a:pt x="8" y="419"/>
                    </a:lnTo>
                    <a:lnTo>
                      <a:pt x="4" y="415"/>
                    </a:lnTo>
                    <a:lnTo>
                      <a:pt x="4" y="411"/>
                    </a:lnTo>
                    <a:lnTo>
                      <a:pt x="4" y="406"/>
                    </a:lnTo>
                    <a:lnTo>
                      <a:pt x="4" y="402"/>
                    </a:lnTo>
                    <a:lnTo>
                      <a:pt x="0" y="397"/>
                    </a:lnTo>
                    <a:lnTo>
                      <a:pt x="0" y="393"/>
                    </a:lnTo>
                    <a:lnTo>
                      <a:pt x="0" y="389"/>
                    </a:lnTo>
                    <a:lnTo>
                      <a:pt x="0" y="384"/>
                    </a:lnTo>
                    <a:lnTo>
                      <a:pt x="0" y="371"/>
                    </a:lnTo>
                    <a:lnTo>
                      <a:pt x="0" y="367"/>
                    </a:lnTo>
                    <a:lnTo>
                      <a:pt x="0" y="362"/>
                    </a:lnTo>
                    <a:lnTo>
                      <a:pt x="4" y="358"/>
                    </a:lnTo>
                    <a:lnTo>
                      <a:pt x="4" y="353"/>
                    </a:lnTo>
                    <a:lnTo>
                      <a:pt x="4" y="349"/>
                    </a:lnTo>
                    <a:lnTo>
                      <a:pt x="4" y="344"/>
                    </a:lnTo>
                    <a:lnTo>
                      <a:pt x="8" y="336"/>
                    </a:lnTo>
                    <a:lnTo>
                      <a:pt x="8" y="331"/>
                    </a:lnTo>
                    <a:lnTo>
                      <a:pt x="13" y="327"/>
                    </a:lnTo>
                    <a:lnTo>
                      <a:pt x="13" y="322"/>
                    </a:lnTo>
                    <a:lnTo>
                      <a:pt x="13" y="318"/>
                    </a:lnTo>
                    <a:lnTo>
                      <a:pt x="17" y="318"/>
                    </a:lnTo>
                    <a:lnTo>
                      <a:pt x="17" y="314"/>
                    </a:lnTo>
                    <a:lnTo>
                      <a:pt x="17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06800" y="4862520"/>
                <a:ext cx="25920" cy="113040"/>
              </a:xfrm>
              <a:custGeom>
                <a:avLst/>
                <a:gdLst/>
                <a:ahLst/>
                <a:rect l="0" t="0" r="r" b="b"/>
                <a:pathLst>
                  <a:path w="72" h="314">
                    <a:moveTo>
                      <a:pt x="72" y="0"/>
                    </a:moveTo>
                    <a:lnTo>
                      <a:pt x="72" y="314"/>
                    </a:lnTo>
                    <a:lnTo>
                      <a:pt x="0" y="314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2f2f2f"/>
              </a:solidFill>
              <a:ln w="12600">
                <a:solidFill>
                  <a:srgbClr val="2f2f2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5920" y="4317840"/>
                <a:ext cx="767160" cy="545040"/>
              </a:xfrm>
              <a:custGeom>
                <a:avLst/>
                <a:gdLst/>
                <a:ahLst/>
                <a:rect l="0" t="0" r="r" b="b"/>
                <a:pathLst>
                  <a:path w="2131" h="1514">
                    <a:moveTo>
                      <a:pt x="17" y="0"/>
                    </a:moveTo>
                    <a:lnTo>
                      <a:pt x="0" y="0"/>
                    </a:lnTo>
                    <a:lnTo>
                      <a:pt x="0" y="167"/>
                    </a:lnTo>
                    <a:lnTo>
                      <a:pt x="8" y="185"/>
                    </a:lnTo>
                    <a:lnTo>
                      <a:pt x="13" y="202"/>
                    </a:lnTo>
                    <a:lnTo>
                      <a:pt x="17" y="216"/>
                    </a:lnTo>
                    <a:lnTo>
                      <a:pt x="17" y="229"/>
                    </a:lnTo>
                    <a:lnTo>
                      <a:pt x="17" y="242"/>
                    </a:lnTo>
                    <a:lnTo>
                      <a:pt x="17" y="251"/>
                    </a:lnTo>
                    <a:lnTo>
                      <a:pt x="17" y="680"/>
                    </a:lnTo>
                    <a:lnTo>
                      <a:pt x="39" y="675"/>
                    </a:lnTo>
                    <a:lnTo>
                      <a:pt x="61" y="688"/>
                    </a:lnTo>
                    <a:lnTo>
                      <a:pt x="79" y="693"/>
                    </a:lnTo>
                    <a:lnTo>
                      <a:pt x="97" y="702"/>
                    </a:lnTo>
                    <a:lnTo>
                      <a:pt x="105" y="719"/>
                    </a:lnTo>
                    <a:lnTo>
                      <a:pt x="114" y="737"/>
                    </a:lnTo>
                    <a:lnTo>
                      <a:pt x="119" y="755"/>
                    </a:lnTo>
                    <a:lnTo>
                      <a:pt x="119" y="777"/>
                    </a:lnTo>
                    <a:lnTo>
                      <a:pt x="119" y="927"/>
                    </a:lnTo>
                    <a:lnTo>
                      <a:pt x="185" y="927"/>
                    </a:lnTo>
                    <a:lnTo>
                      <a:pt x="185" y="860"/>
                    </a:lnTo>
                    <a:lnTo>
                      <a:pt x="304" y="860"/>
                    </a:lnTo>
                    <a:lnTo>
                      <a:pt x="304" y="1245"/>
                    </a:lnTo>
                    <a:lnTo>
                      <a:pt x="185" y="1245"/>
                    </a:lnTo>
                    <a:lnTo>
                      <a:pt x="185" y="1188"/>
                    </a:lnTo>
                    <a:lnTo>
                      <a:pt x="119" y="1188"/>
                    </a:lnTo>
                    <a:lnTo>
                      <a:pt x="119" y="1514"/>
                    </a:lnTo>
                    <a:lnTo>
                      <a:pt x="2123" y="1510"/>
                    </a:lnTo>
                    <a:lnTo>
                      <a:pt x="2131" y="34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6000" y="4627440"/>
                <a:ext cx="38160" cy="1332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97400" y="4651200"/>
                <a:ext cx="25560" cy="25560"/>
              </a:xfrm>
              <a:prstGeom prst="rect">
                <a:avLst/>
              </a:prstGeom>
              <a:solidFill>
                <a:srgbClr val="0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97400" y="4730760"/>
                <a:ext cx="25560" cy="25560"/>
              </a:xfrm>
              <a:prstGeom prst="rect">
                <a:avLst/>
              </a:prstGeom>
              <a:solidFill>
                <a:srgbClr val="0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64000" y="4724280"/>
                <a:ext cx="76680" cy="30600"/>
              </a:xfrm>
              <a:custGeom>
                <a:avLst/>
                <a:gdLst/>
                <a:ahLst/>
                <a:rect l="0" t="0" r="r" b="b"/>
                <a:pathLst>
                  <a:path fill="none" w="213" h="85">
                    <a:moveTo>
                      <a:pt x="0" y="0"/>
                    </a:moveTo>
                    <a:lnTo>
                      <a:pt x="182" y="85"/>
                    </a:lnTo>
                    <a:lnTo>
                      <a:pt x="213" y="5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19600" y="4724280"/>
                <a:ext cx="79560" cy="30600"/>
              </a:xfrm>
              <a:custGeom>
                <a:avLst/>
                <a:gdLst/>
                <a:ahLst/>
                <a:rect l="0" t="0" r="r" b="b"/>
                <a:pathLst>
                  <a:path fill="none" w="221" h="85">
                    <a:moveTo>
                      <a:pt x="221" y="0"/>
                    </a:moveTo>
                    <a:lnTo>
                      <a:pt x="30" y="85"/>
                    </a:lnTo>
                    <a:lnTo>
                      <a:pt x="0" y="5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65800" y="4722840"/>
                <a:ext cx="332280" cy="25920"/>
              </a:xfrm>
              <a:custGeom>
                <a:avLst/>
                <a:gdLst/>
                <a:ahLst/>
                <a:rect l="0" t="0" r="r" b="b"/>
                <a:pathLst>
                  <a:path w="923" h="72">
                    <a:moveTo>
                      <a:pt x="0" y="0"/>
                    </a:moveTo>
                    <a:lnTo>
                      <a:pt x="4" y="4"/>
                    </a:lnTo>
                    <a:lnTo>
                      <a:pt x="216" y="72"/>
                    </a:lnTo>
                    <a:lnTo>
                      <a:pt x="716" y="63"/>
                    </a:lnTo>
                    <a:lnTo>
                      <a:pt x="92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40200" y="4664160"/>
                <a:ext cx="25920" cy="66960"/>
              </a:xfrm>
              <a:custGeom>
                <a:avLst/>
                <a:gdLst/>
                <a:ahLst/>
                <a:rect l="0" t="0" r="r" b="b"/>
                <a:pathLst>
                  <a:path w="72" h="186">
                    <a:moveTo>
                      <a:pt x="0" y="0"/>
                    </a:moveTo>
                    <a:lnTo>
                      <a:pt x="0" y="186"/>
                    </a:lnTo>
                    <a:lnTo>
                      <a:pt x="72" y="186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867200" y="4627440"/>
                <a:ext cx="38160" cy="133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43440" y="4651200"/>
                <a:ext cx="25560" cy="25560"/>
              </a:xfrm>
              <a:prstGeom prst="rect">
                <a:avLst/>
              </a:prstGeom>
              <a:solidFill>
                <a:srgbClr val="0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43440" y="4730760"/>
                <a:ext cx="25560" cy="25560"/>
              </a:xfrm>
              <a:prstGeom prst="rect">
                <a:avLst/>
              </a:prstGeom>
              <a:solidFill>
                <a:srgbClr val="0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413240" y="5038560"/>
                <a:ext cx="65520" cy="84600"/>
              </a:xfrm>
              <a:custGeom>
                <a:avLst/>
                <a:gdLst/>
                <a:ahLst/>
                <a:rect l="0" t="0" r="r" b="b"/>
                <a:pathLst>
                  <a:path w="182" h="235">
                    <a:moveTo>
                      <a:pt x="0" y="0"/>
                    </a:moveTo>
                    <a:lnTo>
                      <a:pt x="0" y="235"/>
                    </a:lnTo>
                    <a:lnTo>
                      <a:pt x="182" y="235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2f2f"/>
              </a:solidFill>
              <a:ln w="12600">
                <a:solidFill>
                  <a:srgbClr val="2f2f2f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80080" y="5038560"/>
                <a:ext cx="65520" cy="84600"/>
              </a:xfrm>
              <a:custGeom>
                <a:avLst/>
                <a:gdLst/>
                <a:ahLst/>
                <a:rect l="0" t="0" r="r" b="b"/>
                <a:pathLst>
                  <a:path w="182" h="235">
                    <a:moveTo>
                      <a:pt x="0" y="0"/>
                    </a:moveTo>
                    <a:lnTo>
                      <a:pt x="0" y="235"/>
                    </a:lnTo>
                    <a:lnTo>
                      <a:pt x="182" y="235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2f2f"/>
              </a:solidFill>
              <a:ln w="12600">
                <a:solidFill>
                  <a:srgbClr val="2f2f2f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25840" y="4559400"/>
                <a:ext cx="414720" cy="424080"/>
              </a:xfrm>
              <a:custGeom>
                <a:avLst/>
                <a:gdLst/>
                <a:ahLst/>
                <a:rect l="0" t="0" r="r" b="b"/>
                <a:pathLst>
                  <a:path w="1152" h="1178">
                    <a:moveTo>
                      <a:pt x="1073" y="0"/>
                    </a:moveTo>
                    <a:lnTo>
                      <a:pt x="1077" y="0"/>
                    </a:lnTo>
                    <a:lnTo>
                      <a:pt x="1082" y="0"/>
                    </a:lnTo>
                    <a:lnTo>
                      <a:pt x="1086" y="0"/>
                    </a:lnTo>
                    <a:lnTo>
                      <a:pt x="1091" y="0"/>
                    </a:lnTo>
                    <a:lnTo>
                      <a:pt x="1091" y="4"/>
                    </a:lnTo>
                    <a:lnTo>
                      <a:pt x="1095" y="8"/>
                    </a:lnTo>
                    <a:lnTo>
                      <a:pt x="1100" y="8"/>
                    </a:lnTo>
                    <a:lnTo>
                      <a:pt x="1104" y="8"/>
                    </a:lnTo>
                    <a:lnTo>
                      <a:pt x="1104" y="13"/>
                    </a:lnTo>
                    <a:lnTo>
                      <a:pt x="1108" y="13"/>
                    </a:lnTo>
                    <a:lnTo>
                      <a:pt x="1113" y="13"/>
                    </a:lnTo>
                    <a:lnTo>
                      <a:pt x="1117" y="17"/>
                    </a:lnTo>
                    <a:lnTo>
                      <a:pt x="1122" y="17"/>
                    </a:lnTo>
                    <a:lnTo>
                      <a:pt x="1126" y="22"/>
                    </a:lnTo>
                    <a:lnTo>
                      <a:pt x="1130" y="26"/>
                    </a:lnTo>
                    <a:lnTo>
                      <a:pt x="1130" y="30"/>
                    </a:lnTo>
                    <a:lnTo>
                      <a:pt x="1130" y="35"/>
                    </a:lnTo>
                    <a:lnTo>
                      <a:pt x="1135" y="35"/>
                    </a:lnTo>
                    <a:lnTo>
                      <a:pt x="1135" y="39"/>
                    </a:lnTo>
                    <a:lnTo>
                      <a:pt x="1139" y="44"/>
                    </a:lnTo>
                    <a:lnTo>
                      <a:pt x="1139" y="48"/>
                    </a:lnTo>
                    <a:lnTo>
                      <a:pt x="1144" y="48"/>
                    </a:lnTo>
                    <a:lnTo>
                      <a:pt x="1144" y="52"/>
                    </a:lnTo>
                    <a:lnTo>
                      <a:pt x="1148" y="57"/>
                    </a:lnTo>
                    <a:lnTo>
                      <a:pt x="1148" y="61"/>
                    </a:lnTo>
                    <a:lnTo>
                      <a:pt x="1148" y="66"/>
                    </a:lnTo>
                    <a:lnTo>
                      <a:pt x="1148" y="70"/>
                    </a:lnTo>
                    <a:lnTo>
                      <a:pt x="1152" y="74"/>
                    </a:lnTo>
                    <a:lnTo>
                      <a:pt x="1152" y="79"/>
                    </a:lnTo>
                    <a:lnTo>
                      <a:pt x="1152" y="83"/>
                    </a:lnTo>
                    <a:lnTo>
                      <a:pt x="1152" y="88"/>
                    </a:lnTo>
                    <a:lnTo>
                      <a:pt x="1152" y="92"/>
                    </a:lnTo>
                    <a:lnTo>
                      <a:pt x="1152" y="97"/>
                    </a:lnTo>
                    <a:lnTo>
                      <a:pt x="1152" y="141"/>
                    </a:lnTo>
                    <a:lnTo>
                      <a:pt x="1152" y="834"/>
                    </a:lnTo>
                    <a:lnTo>
                      <a:pt x="897" y="834"/>
                    </a:lnTo>
                    <a:lnTo>
                      <a:pt x="897" y="1178"/>
                    </a:lnTo>
                    <a:lnTo>
                      <a:pt x="574" y="1178"/>
                    </a:lnTo>
                    <a:lnTo>
                      <a:pt x="574" y="1129"/>
                    </a:lnTo>
                    <a:lnTo>
                      <a:pt x="821" y="1129"/>
                    </a:lnTo>
                    <a:lnTo>
                      <a:pt x="852" y="1103"/>
                    </a:lnTo>
                    <a:lnTo>
                      <a:pt x="852" y="537"/>
                    </a:lnTo>
                    <a:lnTo>
                      <a:pt x="1033" y="449"/>
                    </a:lnTo>
                    <a:lnTo>
                      <a:pt x="114" y="449"/>
                    </a:lnTo>
                    <a:lnTo>
                      <a:pt x="300" y="533"/>
                    </a:lnTo>
                    <a:lnTo>
                      <a:pt x="300" y="1103"/>
                    </a:lnTo>
                    <a:lnTo>
                      <a:pt x="331" y="1134"/>
                    </a:lnTo>
                    <a:lnTo>
                      <a:pt x="574" y="1129"/>
                    </a:lnTo>
                    <a:lnTo>
                      <a:pt x="574" y="1178"/>
                    </a:lnTo>
                    <a:lnTo>
                      <a:pt x="264" y="1178"/>
                    </a:lnTo>
                    <a:lnTo>
                      <a:pt x="264" y="838"/>
                    </a:lnTo>
                    <a:lnTo>
                      <a:pt x="0" y="838"/>
                    </a:lnTo>
                    <a:lnTo>
                      <a:pt x="0" y="141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97"/>
                    </a:lnTo>
                    <a:lnTo>
                      <a:pt x="0" y="92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4" y="66"/>
                    </a:lnTo>
                    <a:lnTo>
                      <a:pt x="4" y="61"/>
                    </a:lnTo>
                    <a:lnTo>
                      <a:pt x="8" y="52"/>
                    </a:lnTo>
                    <a:lnTo>
                      <a:pt x="13" y="48"/>
                    </a:lnTo>
                    <a:lnTo>
                      <a:pt x="13" y="44"/>
                    </a:lnTo>
                    <a:lnTo>
                      <a:pt x="17" y="39"/>
                    </a:lnTo>
                    <a:lnTo>
                      <a:pt x="17" y="35"/>
                    </a:lnTo>
                    <a:lnTo>
                      <a:pt x="22" y="30"/>
                    </a:lnTo>
                    <a:lnTo>
                      <a:pt x="26" y="26"/>
                    </a:lnTo>
                    <a:lnTo>
                      <a:pt x="26" y="22"/>
                    </a:lnTo>
                    <a:lnTo>
                      <a:pt x="35" y="22"/>
                    </a:lnTo>
                    <a:lnTo>
                      <a:pt x="35" y="17"/>
                    </a:lnTo>
                    <a:lnTo>
                      <a:pt x="39" y="13"/>
                    </a:lnTo>
                    <a:lnTo>
                      <a:pt x="44" y="13"/>
                    </a:lnTo>
                    <a:lnTo>
                      <a:pt x="48" y="13"/>
                    </a:lnTo>
                    <a:lnTo>
                      <a:pt x="52" y="8"/>
                    </a:lnTo>
                    <a:lnTo>
                      <a:pt x="57" y="8"/>
                    </a:lnTo>
                    <a:lnTo>
                      <a:pt x="61" y="8"/>
                    </a:lnTo>
                    <a:lnTo>
                      <a:pt x="70" y="4"/>
                    </a:lnTo>
                    <a:lnTo>
                      <a:pt x="74" y="4"/>
                    </a:lnTo>
                    <a:lnTo>
                      <a:pt x="114" y="0"/>
                    </a:lnTo>
                    <a:lnTo>
                      <a:pt x="1029" y="0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34000" y="4389480"/>
                <a:ext cx="55800" cy="170280"/>
              </a:xfrm>
              <a:custGeom>
                <a:avLst/>
                <a:gdLst/>
                <a:ahLst/>
                <a:rect l="0" t="0" r="r" b="b"/>
                <a:pathLst>
                  <a:path w="155" h="473">
                    <a:moveTo>
                      <a:pt x="0" y="473"/>
                    </a:moveTo>
                    <a:lnTo>
                      <a:pt x="155" y="0"/>
                    </a:lnTo>
                    <a:lnTo>
                      <a:pt x="155" y="101"/>
                    </a:lnTo>
                    <a:lnTo>
                      <a:pt x="0" y="473"/>
                    </a:lnTo>
                    <a:close/>
                  </a:path>
                </a:pathLst>
              </a:custGeom>
              <a:solidFill>
                <a:srgbClr val="3fc0ff"/>
              </a:solidFill>
              <a:ln w="12600">
                <a:solidFill>
                  <a:srgbClr val="3fc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465800" y="4389480"/>
                <a:ext cx="57600" cy="170280"/>
              </a:xfrm>
              <a:custGeom>
                <a:avLst/>
                <a:gdLst/>
                <a:ahLst/>
                <a:rect l="0" t="0" r="r" b="b"/>
                <a:pathLst>
                  <a:path w="160" h="473">
                    <a:moveTo>
                      <a:pt x="160" y="473"/>
                    </a:moveTo>
                    <a:lnTo>
                      <a:pt x="0" y="0"/>
                    </a:lnTo>
                    <a:lnTo>
                      <a:pt x="0" y="101"/>
                    </a:lnTo>
                    <a:lnTo>
                      <a:pt x="160" y="473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33760" y="4594320"/>
                <a:ext cx="393840" cy="125280"/>
              </a:xfrm>
              <a:prstGeom prst="roundRect">
                <a:avLst/>
              </a:prstGeom>
              <a:solidFill>
                <a:srgbClr val="8f8f8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402080" y="4838760"/>
                <a:ext cx="125280" cy="144360"/>
              </a:xfrm>
              <a:prstGeom prst="roundRect">
                <a:avLst/>
              </a:prstGeom>
              <a:solidFill>
                <a:srgbClr val="008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30880" y="4888080"/>
                <a:ext cx="79200" cy="74520"/>
              </a:xfrm>
              <a:prstGeom prst="round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44920" y="4897440"/>
                <a:ext cx="55440" cy="586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738680" y="4838760"/>
                <a:ext cx="119160" cy="142920"/>
              </a:xfrm>
              <a:prstGeom prst="roundRect">
                <a:avLst/>
              </a:prstGeom>
              <a:solidFill>
                <a:srgbClr val="008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756320" y="4888080"/>
                <a:ext cx="74520" cy="76320"/>
              </a:xfrm>
              <a:prstGeom prst="round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65680" y="4897440"/>
                <a:ext cx="54000" cy="586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629240" y="4592520"/>
                <a:ext cx="25560" cy="1285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397400" y="4987800"/>
                <a:ext cx="469800" cy="46080"/>
              </a:xfrm>
              <a:prstGeom prst="roundRect">
                <a:avLst/>
              </a:pr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40240" y="4584600"/>
                <a:ext cx="384120" cy="2556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29160" y="4745160"/>
                <a:ext cx="201960" cy="225720"/>
              </a:xfrm>
              <a:custGeom>
                <a:avLst/>
                <a:gdLst/>
                <a:ahLst/>
                <a:rect l="0" t="0" r="r" b="b"/>
                <a:pathLst>
                  <a:path w="561" h="627">
                    <a:moveTo>
                      <a:pt x="26" y="627"/>
                    </a:moveTo>
                    <a:lnTo>
                      <a:pt x="534" y="627"/>
                    </a:lnTo>
                    <a:lnTo>
                      <a:pt x="561" y="596"/>
                    </a:lnTo>
                    <a:lnTo>
                      <a:pt x="561" y="26"/>
                    </a:lnTo>
                    <a:lnTo>
                      <a:pt x="534" y="0"/>
                    </a:lnTo>
                    <a:lnTo>
                      <a:pt x="26" y="0"/>
                    </a:lnTo>
                    <a:lnTo>
                      <a:pt x="0" y="26"/>
                    </a:lnTo>
                    <a:lnTo>
                      <a:pt x="0" y="596"/>
                    </a:lnTo>
                    <a:lnTo>
                      <a:pt x="26" y="627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541760" y="4753080"/>
                <a:ext cx="179640" cy="206640"/>
              </a:xfrm>
              <a:custGeom>
                <a:avLst/>
                <a:gdLst/>
                <a:ahLst/>
                <a:rect l="0" t="0" r="r" b="b"/>
                <a:pathLst>
                  <a:path w="499" h="574">
                    <a:moveTo>
                      <a:pt x="499" y="561"/>
                    </a:moveTo>
                    <a:lnTo>
                      <a:pt x="499" y="13"/>
                    </a:lnTo>
                    <a:lnTo>
                      <a:pt x="486" y="0"/>
                    </a:lnTo>
                    <a:lnTo>
                      <a:pt x="13" y="0"/>
                    </a:lnTo>
                    <a:lnTo>
                      <a:pt x="0" y="13"/>
                    </a:lnTo>
                    <a:lnTo>
                      <a:pt x="0" y="561"/>
                    </a:lnTo>
                    <a:lnTo>
                      <a:pt x="13" y="574"/>
                    </a:lnTo>
                    <a:lnTo>
                      <a:pt x="486" y="574"/>
                    </a:lnTo>
                    <a:lnTo>
                      <a:pt x="499" y="56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541760" y="476100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41760" y="477360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41760" y="478800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41760" y="480060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541760" y="481320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41760" y="482616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41760" y="483876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41760" y="485136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41760" y="486252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41760" y="487512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41760" y="488952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41760" y="490212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541760" y="491508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41760" y="492768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41760" y="494172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541760" y="495288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51480" y="475632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78480" y="475632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603680" y="475632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629240" y="475632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56240" y="475632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683240" y="475632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10240" y="475632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 txBox="1"/>
            <p:nvPr/>
          </p:nvSpPr>
          <p:spPr>
            <a:xfrm>
              <a:off x="4776840" y="4476600"/>
              <a:ext cx="861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CVI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391520" y="4421160"/>
            <a:ext cx="762120" cy="947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999"/>
              </a:lnSpc>
              <a:spcBef>
                <a:spcPts val="241"/>
              </a:spcBef>
              <a:spcAft>
                <a:spcPts val="241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VISN Pilot State Kick-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627360" y="5919840"/>
            <a:ext cx="18892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  <a:ea typeface="Arial Narrow"/>
              </a:rPr>
              <a:t>Partners Enhancing Motor Carri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  <a:ea typeface="Arial Narrow"/>
              </a:rPr>
              <a:t>Safety and Efficienc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lot Program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90920" y="163836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Introduction to CVI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lot Program Plan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01880" y="5021280"/>
            <a:ext cx="852480" cy="863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352440" y="5931000"/>
            <a:ext cx="17924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  <a:ea typeface="Arial Narrow"/>
              </a:rPr>
              <a:t>Federal Highway Administ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22400" y="4745160"/>
            <a:ext cx="839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epared f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55800" y="4952880"/>
            <a:ext cx="73080" cy="96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279600" y="3828960"/>
            <a:ext cx="2584440" cy="2438280"/>
            <a:chOff x="3279600" y="3828960"/>
            <a:chExt cx="2584440" cy="2438280"/>
          </a:xfrm>
        </p:grpSpPr>
        <p:sp>
          <p:nvSpPr>
            <p:cNvPr id="221" name=""/>
            <p:cNvSpPr/>
            <p:nvPr/>
          </p:nvSpPr>
          <p:spPr>
            <a:xfrm>
              <a:off x="3279600" y="3828960"/>
              <a:ext cx="2584440" cy="24382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616200" y="4054320"/>
              <a:ext cx="1918080" cy="1948320"/>
              <a:chOff x="3616200" y="4054320"/>
              <a:chExt cx="1918080" cy="19483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4044960" y="4054320"/>
                <a:ext cx="1489320" cy="1124640"/>
                <a:chOff x="4044960" y="4054320"/>
                <a:chExt cx="1489320" cy="112464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4044960" y="4054320"/>
                  <a:ext cx="1489320" cy="1124640"/>
                  <a:chOff x="4044960" y="4054320"/>
                  <a:chExt cx="1489320" cy="112464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4613400" y="4276800"/>
                    <a:ext cx="36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72">
                        <a:moveTo>
                          <a:pt x="48" y="0"/>
                        </a:moveTo>
                        <a:lnTo>
                          <a:pt x="102" y="48"/>
                        </a:lnTo>
                        <a:lnTo>
                          <a:pt x="84" y="72"/>
                        </a:lnTo>
                        <a:lnTo>
                          <a:pt x="0" y="6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4044960" y="4054320"/>
                    <a:ext cx="1489320" cy="1124640"/>
                    <a:chOff x="4044960" y="4054320"/>
                    <a:chExt cx="1489320" cy="1124640"/>
                  </a:xfrm>
                </p:grpSpPr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643280" y="4248000"/>
                      <a:ext cx="14652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07" h="160">
                          <a:moveTo>
                            <a:pt x="407" y="22"/>
                          </a:moveTo>
                          <a:lnTo>
                            <a:pt x="341" y="4"/>
                          </a:lnTo>
                          <a:lnTo>
                            <a:pt x="239" y="49"/>
                          </a:lnTo>
                          <a:lnTo>
                            <a:pt x="137" y="58"/>
                          </a:lnTo>
                          <a:lnTo>
                            <a:pt x="74" y="45"/>
                          </a:lnTo>
                          <a:lnTo>
                            <a:pt x="44" y="0"/>
                          </a:lnTo>
                          <a:lnTo>
                            <a:pt x="22" y="4"/>
                          </a:lnTo>
                          <a:lnTo>
                            <a:pt x="0" y="22"/>
                          </a:lnTo>
                          <a:lnTo>
                            <a:pt x="8" y="49"/>
                          </a:lnTo>
                          <a:lnTo>
                            <a:pt x="61" y="93"/>
                          </a:lnTo>
                          <a:lnTo>
                            <a:pt x="124" y="138"/>
                          </a:lnTo>
                          <a:lnTo>
                            <a:pt x="208" y="160"/>
                          </a:lnTo>
                          <a:lnTo>
                            <a:pt x="283" y="129"/>
                          </a:lnTo>
                          <a:lnTo>
                            <a:pt x="381" y="71"/>
                          </a:lnTo>
                          <a:lnTo>
                            <a:pt x="407" y="22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6480" bIns="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8" name=""/>
                    <p:cNvGrpSpPr/>
                    <p:nvPr/>
                  </p:nvGrpSpPr>
                  <p:grpSpPr>
                    <a:xfrm>
                      <a:off x="4044960" y="4054320"/>
                      <a:ext cx="1489320" cy="1124640"/>
                      <a:chOff x="4044960" y="4054320"/>
                      <a:chExt cx="1489320" cy="1124640"/>
                    </a:xfrm>
                  </p:grpSpPr>
                  <p:sp>
                    <p:nvSpPr>
                      <p:cNvPr id="229" name=""/>
                      <p:cNvSpPr/>
                      <p:nvPr/>
                    </p:nvSpPr>
                    <p:spPr>
                      <a:xfrm>
                        <a:off x="4044960" y="4338720"/>
                        <a:ext cx="1397520" cy="8402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882" h="2334">
                            <a:moveTo>
                              <a:pt x="463" y="0"/>
                            </a:moveTo>
                            <a:lnTo>
                              <a:pt x="0" y="573"/>
                            </a:lnTo>
                            <a:lnTo>
                              <a:pt x="101" y="605"/>
                            </a:lnTo>
                            <a:lnTo>
                              <a:pt x="48" y="671"/>
                            </a:lnTo>
                            <a:lnTo>
                              <a:pt x="141" y="688"/>
                            </a:lnTo>
                            <a:lnTo>
                              <a:pt x="167" y="869"/>
                            </a:lnTo>
                            <a:lnTo>
                              <a:pt x="229" y="1081"/>
                            </a:lnTo>
                            <a:lnTo>
                              <a:pt x="167" y="1231"/>
                            </a:lnTo>
                            <a:lnTo>
                              <a:pt x="198" y="1319"/>
                            </a:lnTo>
                            <a:lnTo>
                              <a:pt x="154" y="1425"/>
                            </a:lnTo>
                            <a:lnTo>
                              <a:pt x="211" y="1456"/>
                            </a:lnTo>
                            <a:lnTo>
                              <a:pt x="211" y="1531"/>
                            </a:lnTo>
                            <a:lnTo>
                              <a:pt x="352" y="1562"/>
                            </a:lnTo>
                            <a:lnTo>
                              <a:pt x="432" y="1747"/>
                            </a:lnTo>
                            <a:lnTo>
                              <a:pt x="1085" y="1845"/>
                            </a:lnTo>
                            <a:lnTo>
                              <a:pt x="1936" y="1889"/>
                            </a:lnTo>
                            <a:lnTo>
                              <a:pt x="2108" y="1946"/>
                            </a:lnTo>
                            <a:lnTo>
                              <a:pt x="2144" y="1946"/>
                            </a:lnTo>
                            <a:lnTo>
                              <a:pt x="2214" y="1911"/>
                            </a:lnTo>
                            <a:lnTo>
                              <a:pt x="2280" y="1876"/>
                            </a:lnTo>
                            <a:lnTo>
                              <a:pt x="2373" y="1854"/>
                            </a:lnTo>
                            <a:lnTo>
                              <a:pt x="2426" y="1902"/>
                            </a:lnTo>
                            <a:lnTo>
                              <a:pt x="2483" y="1898"/>
                            </a:lnTo>
                            <a:lnTo>
                              <a:pt x="2536" y="1915"/>
                            </a:lnTo>
                            <a:lnTo>
                              <a:pt x="2536" y="1986"/>
                            </a:lnTo>
                            <a:lnTo>
                              <a:pt x="2549" y="2026"/>
                            </a:lnTo>
                            <a:lnTo>
                              <a:pt x="2607" y="2048"/>
                            </a:lnTo>
                            <a:lnTo>
                              <a:pt x="2651" y="2039"/>
                            </a:lnTo>
                            <a:lnTo>
                              <a:pt x="2708" y="2004"/>
                            </a:lnTo>
                            <a:lnTo>
                              <a:pt x="2770" y="2017"/>
                            </a:lnTo>
                            <a:lnTo>
                              <a:pt x="2827" y="2048"/>
                            </a:lnTo>
                            <a:lnTo>
                              <a:pt x="2862" y="2087"/>
                            </a:lnTo>
                            <a:lnTo>
                              <a:pt x="2858" y="2153"/>
                            </a:lnTo>
                            <a:lnTo>
                              <a:pt x="2814" y="2131"/>
                            </a:lnTo>
                            <a:lnTo>
                              <a:pt x="2757" y="2101"/>
                            </a:lnTo>
                            <a:lnTo>
                              <a:pt x="2743" y="2145"/>
                            </a:lnTo>
                            <a:lnTo>
                              <a:pt x="2748" y="2193"/>
                            </a:lnTo>
                            <a:lnTo>
                              <a:pt x="2735" y="2228"/>
                            </a:lnTo>
                            <a:lnTo>
                              <a:pt x="2712" y="2255"/>
                            </a:lnTo>
                            <a:lnTo>
                              <a:pt x="2712" y="2334"/>
                            </a:lnTo>
                            <a:lnTo>
                              <a:pt x="2938" y="2198"/>
                            </a:lnTo>
                            <a:lnTo>
                              <a:pt x="3013" y="2123"/>
                            </a:lnTo>
                            <a:lnTo>
                              <a:pt x="3088" y="2092"/>
                            </a:lnTo>
                            <a:lnTo>
                              <a:pt x="3097" y="2030"/>
                            </a:lnTo>
                            <a:lnTo>
                              <a:pt x="3154" y="2004"/>
                            </a:lnTo>
                            <a:lnTo>
                              <a:pt x="3221" y="2017"/>
                            </a:lnTo>
                            <a:lnTo>
                              <a:pt x="3340" y="1946"/>
                            </a:lnTo>
                            <a:lnTo>
                              <a:pt x="3379" y="1862"/>
                            </a:lnTo>
                            <a:lnTo>
                              <a:pt x="3379" y="1742"/>
                            </a:lnTo>
                            <a:lnTo>
                              <a:pt x="3419" y="1689"/>
                            </a:lnTo>
                            <a:lnTo>
                              <a:pt x="3490" y="1716"/>
                            </a:lnTo>
                            <a:lnTo>
                              <a:pt x="3512" y="1787"/>
                            </a:lnTo>
                            <a:lnTo>
                              <a:pt x="3595" y="1867"/>
                            </a:lnTo>
                            <a:lnTo>
                              <a:pt x="3653" y="1818"/>
                            </a:lnTo>
                            <a:lnTo>
                              <a:pt x="3684" y="1761"/>
                            </a:lnTo>
                            <a:lnTo>
                              <a:pt x="3670" y="1986"/>
                            </a:lnTo>
                            <a:lnTo>
                              <a:pt x="3772" y="1836"/>
                            </a:lnTo>
                            <a:lnTo>
                              <a:pt x="3882" y="1681"/>
                            </a:lnTo>
                            <a:lnTo>
                              <a:pt x="3838" y="1667"/>
                            </a:lnTo>
                            <a:lnTo>
                              <a:pt x="3759" y="1707"/>
                            </a:lnTo>
                            <a:lnTo>
                              <a:pt x="3670" y="1716"/>
                            </a:lnTo>
                            <a:lnTo>
                              <a:pt x="3662" y="1667"/>
                            </a:lnTo>
                            <a:lnTo>
                              <a:pt x="3631" y="1650"/>
                            </a:lnTo>
                            <a:lnTo>
                              <a:pt x="3640" y="1592"/>
                            </a:lnTo>
                            <a:lnTo>
                              <a:pt x="3595" y="1619"/>
                            </a:lnTo>
                            <a:lnTo>
                              <a:pt x="3551" y="1619"/>
                            </a:lnTo>
                            <a:lnTo>
                              <a:pt x="3595" y="1575"/>
                            </a:lnTo>
                            <a:lnTo>
                              <a:pt x="3622" y="1535"/>
                            </a:lnTo>
                            <a:lnTo>
                              <a:pt x="3653" y="1487"/>
                            </a:lnTo>
                            <a:lnTo>
                              <a:pt x="3582" y="1469"/>
                            </a:lnTo>
                            <a:lnTo>
                              <a:pt x="3520" y="1500"/>
                            </a:lnTo>
                            <a:lnTo>
                              <a:pt x="3441" y="1548"/>
                            </a:lnTo>
                            <a:lnTo>
                              <a:pt x="3335" y="1681"/>
                            </a:lnTo>
                            <a:lnTo>
                              <a:pt x="3472" y="1407"/>
                            </a:lnTo>
                            <a:lnTo>
                              <a:pt x="3551" y="1372"/>
                            </a:lnTo>
                            <a:lnTo>
                              <a:pt x="3640" y="1363"/>
                            </a:lnTo>
                            <a:lnTo>
                              <a:pt x="3684" y="1315"/>
                            </a:lnTo>
                            <a:lnTo>
                              <a:pt x="3732" y="1288"/>
                            </a:lnTo>
                            <a:lnTo>
                              <a:pt x="3772" y="1200"/>
                            </a:lnTo>
                            <a:lnTo>
                              <a:pt x="3816" y="1138"/>
                            </a:lnTo>
                            <a:lnTo>
                              <a:pt x="3820" y="1112"/>
                            </a:lnTo>
                            <a:lnTo>
                              <a:pt x="3789" y="1032"/>
                            </a:lnTo>
                            <a:lnTo>
                              <a:pt x="3745" y="988"/>
                            </a:lnTo>
                            <a:lnTo>
                              <a:pt x="3714" y="1063"/>
                            </a:lnTo>
                            <a:lnTo>
                              <a:pt x="3640" y="940"/>
                            </a:lnTo>
                            <a:lnTo>
                              <a:pt x="3560" y="962"/>
                            </a:lnTo>
                            <a:lnTo>
                              <a:pt x="3503" y="940"/>
                            </a:lnTo>
                            <a:lnTo>
                              <a:pt x="3428" y="957"/>
                            </a:lnTo>
                            <a:lnTo>
                              <a:pt x="3406" y="891"/>
                            </a:lnTo>
                            <a:lnTo>
                              <a:pt x="3375" y="860"/>
                            </a:lnTo>
                            <a:lnTo>
                              <a:pt x="3322" y="843"/>
                            </a:lnTo>
                            <a:lnTo>
                              <a:pt x="3243" y="807"/>
                            </a:lnTo>
                            <a:lnTo>
                              <a:pt x="3150" y="768"/>
                            </a:lnTo>
                            <a:lnTo>
                              <a:pt x="3093" y="702"/>
                            </a:lnTo>
                            <a:lnTo>
                              <a:pt x="3057" y="688"/>
                            </a:lnTo>
                            <a:lnTo>
                              <a:pt x="3079" y="759"/>
                            </a:lnTo>
                            <a:lnTo>
                              <a:pt x="3119" y="838"/>
                            </a:lnTo>
                            <a:lnTo>
                              <a:pt x="3053" y="860"/>
                            </a:lnTo>
                            <a:lnTo>
                              <a:pt x="3000" y="843"/>
                            </a:lnTo>
                            <a:lnTo>
                              <a:pt x="2947" y="843"/>
                            </a:lnTo>
                            <a:lnTo>
                              <a:pt x="2925" y="777"/>
                            </a:lnTo>
                            <a:lnTo>
                              <a:pt x="2893" y="746"/>
                            </a:lnTo>
                            <a:lnTo>
                              <a:pt x="2876" y="688"/>
                            </a:lnTo>
                            <a:lnTo>
                              <a:pt x="2832" y="658"/>
                            </a:lnTo>
                            <a:lnTo>
                              <a:pt x="2770" y="644"/>
                            </a:lnTo>
                            <a:lnTo>
                              <a:pt x="2699" y="658"/>
                            </a:lnTo>
                            <a:lnTo>
                              <a:pt x="2620" y="644"/>
                            </a:lnTo>
                            <a:lnTo>
                              <a:pt x="2527" y="688"/>
                            </a:lnTo>
                            <a:lnTo>
                              <a:pt x="2536" y="724"/>
                            </a:lnTo>
                            <a:lnTo>
                              <a:pt x="2580" y="741"/>
                            </a:lnTo>
                            <a:lnTo>
                              <a:pt x="2620" y="790"/>
                            </a:lnTo>
                            <a:lnTo>
                              <a:pt x="2624" y="847"/>
                            </a:lnTo>
                            <a:lnTo>
                              <a:pt x="2651" y="913"/>
                            </a:lnTo>
                            <a:lnTo>
                              <a:pt x="2615" y="957"/>
                            </a:lnTo>
                            <a:lnTo>
                              <a:pt x="2615" y="1010"/>
                            </a:lnTo>
                            <a:lnTo>
                              <a:pt x="2708" y="1054"/>
                            </a:lnTo>
                            <a:lnTo>
                              <a:pt x="2757" y="1112"/>
                            </a:lnTo>
                            <a:lnTo>
                              <a:pt x="2757" y="1160"/>
                            </a:lnTo>
                            <a:lnTo>
                              <a:pt x="2743" y="1244"/>
                            </a:lnTo>
                            <a:lnTo>
                              <a:pt x="2712" y="1319"/>
                            </a:lnTo>
                            <a:lnTo>
                              <a:pt x="2708" y="1350"/>
                            </a:lnTo>
                            <a:lnTo>
                              <a:pt x="2770" y="1407"/>
                            </a:lnTo>
                            <a:lnTo>
                              <a:pt x="2787" y="1469"/>
                            </a:lnTo>
                            <a:lnTo>
                              <a:pt x="2787" y="1562"/>
                            </a:lnTo>
                            <a:lnTo>
                              <a:pt x="2726" y="1566"/>
                            </a:lnTo>
                            <a:lnTo>
                              <a:pt x="2673" y="1588"/>
                            </a:lnTo>
                            <a:lnTo>
                              <a:pt x="2607" y="1522"/>
                            </a:lnTo>
                            <a:lnTo>
                              <a:pt x="2545" y="1500"/>
                            </a:lnTo>
                            <a:lnTo>
                              <a:pt x="2505" y="1420"/>
                            </a:lnTo>
                            <a:lnTo>
                              <a:pt x="2496" y="1350"/>
                            </a:lnTo>
                            <a:lnTo>
                              <a:pt x="2386" y="1315"/>
                            </a:lnTo>
                            <a:lnTo>
                              <a:pt x="2302" y="1310"/>
                            </a:lnTo>
                            <a:lnTo>
                              <a:pt x="2192" y="1288"/>
                            </a:lnTo>
                            <a:lnTo>
                              <a:pt x="2130" y="1240"/>
                            </a:lnTo>
                            <a:lnTo>
                              <a:pt x="1985" y="1209"/>
                            </a:lnTo>
                            <a:lnTo>
                              <a:pt x="1906" y="1231"/>
                            </a:lnTo>
                            <a:lnTo>
                              <a:pt x="1919" y="1151"/>
                            </a:lnTo>
                            <a:lnTo>
                              <a:pt x="1892" y="1121"/>
                            </a:lnTo>
                            <a:lnTo>
                              <a:pt x="1844" y="1112"/>
                            </a:lnTo>
                            <a:lnTo>
                              <a:pt x="1875" y="1002"/>
                            </a:lnTo>
                            <a:lnTo>
                              <a:pt x="1861" y="913"/>
                            </a:lnTo>
                            <a:lnTo>
                              <a:pt x="1919" y="777"/>
                            </a:lnTo>
                            <a:lnTo>
                              <a:pt x="2025" y="688"/>
                            </a:lnTo>
                            <a:lnTo>
                              <a:pt x="2055" y="631"/>
                            </a:lnTo>
                            <a:lnTo>
                              <a:pt x="1950" y="613"/>
                            </a:lnTo>
                            <a:lnTo>
                              <a:pt x="1875" y="537"/>
                            </a:lnTo>
                            <a:lnTo>
                              <a:pt x="2055" y="537"/>
                            </a:lnTo>
                            <a:lnTo>
                              <a:pt x="2095" y="485"/>
                            </a:lnTo>
                            <a:lnTo>
                              <a:pt x="2166" y="458"/>
                            </a:lnTo>
                            <a:lnTo>
                              <a:pt x="2197" y="432"/>
                            </a:lnTo>
                            <a:lnTo>
                              <a:pt x="2254" y="401"/>
                            </a:lnTo>
                            <a:lnTo>
                              <a:pt x="2183" y="326"/>
                            </a:lnTo>
                            <a:lnTo>
                              <a:pt x="2179" y="251"/>
                            </a:lnTo>
                            <a:lnTo>
                              <a:pt x="2122" y="229"/>
                            </a:lnTo>
                            <a:lnTo>
                              <a:pt x="2073" y="251"/>
                            </a:lnTo>
                            <a:lnTo>
                              <a:pt x="2073" y="282"/>
                            </a:lnTo>
                            <a:lnTo>
                              <a:pt x="2104" y="357"/>
                            </a:lnTo>
                            <a:lnTo>
                              <a:pt x="2055" y="458"/>
                            </a:lnTo>
                            <a:lnTo>
                              <a:pt x="2020" y="295"/>
                            </a:lnTo>
                            <a:lnTo>
                              <a:pt x="1967" y="304"/>
                            </a:lnTo>
                            <a:lnTo>
                              <a:pt x="1980" y="361"/>
                            </a:lnTo>
                            <a:lnTo>
                              <a:pt x="1932" y="357"/>
                            </a:lnTo>
                            <a:lnTo>
                              <a:pt x="1888" y="158"/>
                            </a:lnTo>
                            <a:lnTo>
                              <a:pt x="1853" y="145"/>
                            </a:lnTo>
                            <a:lnTo>
                              <a:pt x="1822" y="119"/>
                            </a:lnTo>
                            <a:lnTo>
                              <a:pt x="1800" y="114"/>
                            </a:lnTo>
                            <a:lnTo>
                              <a:pt x="1769" y="145"/>
                            </a:lnTo>
                            <a:lnTo>
                              <a:pt x="1782" y="211"/>
                            </a:lnTo>
                            <a:lnTo>
                              <a:pt x="1835" y="260"/>
                            </a:lnTo>
                            <a:lnTo>
                              <a:pt x="1861" y="357"/>
                            </a:lnTo>
                            <a:lnTo>
                              <a:pt x="1813" y="401"/>
                            </a:lnTo>
                            <a:lnTo>
                              <a:pt x="1782" y="476"/>
                            </a:lnTo>
                            <a:lnTo>
                              <a:pt x="1707" y="388"/>
                            </a:lnTo>
                            <a:lnTo>
                              <a:pt x="1632" y="432"/>
                            </a:lnTo>
                            <a:lnTo>
                              <a:pt x="1509" y="418"/>
                            </a:lnTo>
                            <a:lnTo>
                              <a:pt x="1465" y="374"/>
                            </a:lnTo>
                            <a:lnTo>
                              <a:pt x="1420" y="432"/>
                            </a:lnTo>
                            <a:lnTo>
                              <a:pt x="1372" y="489"/>
                            </a:lnTo>
                            <a:lnTo>
                              <a:pt x="1319" y="458"/>
                            </a:lnTo>
                            <a:lnTo>
                              <a:pt x="1279" y="401"/>
                            </a:lnTo>
                            <a:lnTo>
                              <a:pt x="1209" y="418"/>
                            </a:lnTo>
                            <a:lnTo>
                              <a:pt x="1112" y="401"/>
                            </a:lnTo>
                            <a:lnTo>
                              <a:pt x="1173" y="313"/>
                            </a:lnTo>
                            <a:lnTo>
                              <a:pt x="1068" y="264"/>
                            </a:lnTo>
                            <a:lnTo>
                              <a:pt x="1006" y="220"/>
                            </a:lnTo>
                            <a:lnTo>
                              <a:pt x="961" y="251"/>
                            </a:lnTo>
                            <a:lnTo>
                              <a:pt x="868" y="145"/>
                            </a:lnTo>
                            <a:lnTo>
                              <a:pt x="780" y="105"/>
                            </a:lnTo>
                            <a:lnTo>
                              <a:pt x="749" y="145"/>
                            </a:lnTo>
                            <a:lnTo>
                              <a:pt x="582" y="114"/>
                            </a:lnTo>
                            <a:lnTo>
                              <a:pt x="463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5413320" y="4741920"/>
                        <a:ext cx="120960" cy="1432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36" h="398">
                            <a:moveTo>
                              <a:pt x="61" y="0"/>
                            </a:moveTo>
                            <a:lnTo>
                              <a:pt x="35" y="30"/>
                            </a:lnTo>
                            <a:lnTo>
                              <a:pt x="13" y="106"/>
                            </a:lnTo>
                            <a:lnTo>
                              <a:pt x="0" y="172"/>
                            </a:lnTo>
                            <a:lnTo>
                              <a:pt x="39" y="256"/>
                            </a:lnTo>
                            <a:lnTo>
                              <a:pt x="61" y="332"/>
                            </a:lnTo>
                            <a:lnTo>
                              <a:pt x="52" y="398"/>
                            </a:lnTo>
                            <a:lnTo>
                              <a:pt x="92" y="398"/>
                            </a:lnTo>
                            <a:lnTo>
                              <a:pt x="114" y="350"/>
                            </a:lnTo>
                            <a:lnTo>
                              <a:pt x="158" y="354"/>
                            </a:lnTo>
                            <a:lnTo>
                              <a:pt x="199" y="306"/>
                            </a:lnTo>
                            <a:lnTo>
                              <a:pt x="322" y="278"/>
                            </a:lnTo>
                            <a:lnTo>
                              <a:pt x="336" y="234"/>
                            </a:lnTo>
                            <a:lnTo>
                              <a:pt x="283" y="190"/>
                            </a:lnTo>
                            <a:lnTo>
                              <a:pt x="274" y="146"/>
                            </a:lnTo>
                            <a:lnTo>
                              <a:pt x="243" y="137"/>
                            </a:lnTo>
                            <a:lnTo>
                              <a:pt x="203" y="190"/>
                            </a:lnTo>
                            <a:lnTo>
                              <a:pt x="154" y="195"/>
                            </a:lnTo>
                            <a:lnTo>
                              <a:pt x="123" y="190"/>
                            </a:lnTo>
                            <a:lnTo>
                              <a:pt x="83" y="172"/>
                            </a:lnTo>
                            <a:lnTo>
                              <a:pt x="70" y="146"/>
                            </a:lnTo>
                            <a:lnTo>
                              <a:pt x="61" y="79"/>
                            </a:lnTo>
                            <a:lnTo>
                              <a:pt x="74" y="13"/>
                            </a:lnTo>
                            <a:lnTo>
                              <a:pt x="61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5443560" y="4915080"/>
                        <a:ext cx="25920" cy="28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80">
                            <a:moveTo>
                              <a:pt x="63" y="22"/>
                            </a:moveTo>
                            <a:lnTo>
                              <a:pt x="49" y="13"/>
                            </a:lnTo>
                            <a:lnTo>
                              <a:pt x="31" y="4"/>
                            </a:lnTo>
                            <a:lnTo>
                              <a:pt x="8" y="0"/>
                            </a:lnTo>
                            <a:lnTo>
                              <a:pt x="0" y="4"/>
                            </a:lnTo>
                            <a:lnTo>
                              <a:pt x="0" y="26"/>
                            </a:lnTo>
                            <a:lnTo>
                              <a:pt x="8" y="58"/>
                            </a:lnTo>
                            <a:lnTo>
                              <a:pt x="31" y="80"/>
                            </a:lnTo>
                            <a:lnTo>
                              <a:pt x="53" y="80"/>
                            </a:lnTo>
                            <a:lnTo>
                              <a:pt x="68" y="58"/>
                            </a:lnTo>
                            <a:lnTo>
                              <a:pt x="72" y="39"/>
                            </a:lnTo>
                            <a:lnTo>
                              <a:pt x="63" y="22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2" name=""/>
                      <p:cNvSpPr/>
                      <p:nvPr/>
                    </p:nvSpPr>
                    <p:spPr>
                      <a:xfrm>
                        <a:off x="4824360" y="4524480"/>
                        <a:ext cx="78120" cy="622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17" h="173">
                            <a:moveTo>
                              <a:pt x="0" y="39"/>
                            </a:moveTo>
                            <a:lnTo>
                              <a:pt x="35" y="8"/>
                            </a:lnTo>
                            <a:lnTo>
                              <a:pt x="83" y="26"/>
                            </a:lnTo>
                            <a:lnTo>
                              <a:pt x="124" y="0"/>
                            </a:lnTo>
                            <a:lnTo>
                              <a:pt x="164" y="26"/>
                            </a:lnTo>
                            <a:lnTo>
                              <a:pt x="217" y="80"/>
                            </a:lnTo>
                            <a:lnTo>
                              <a:pt x="217" y="138"/>
                            </a:lnTo>
                            <a:lnTo>
                              <a:pt x="155" y="151"/>
                            </a:lnTo>
                            <a:lnTo>
                              <a:pt x="115" y="124"/>
                            </a:lnTo>
                            <a:lnTo>
                              <a:pt x="97" y="173"/>
                            </a:lnTo>
                            <a:lnTo>
                              <a:pt x="52" y="165"/>
                            </a:lnTo>
                            <a:lnTo>
                              <a:pt x="52" y="102"/>
                            </a:lnTo>
                            <a:lnTo>
                              <a:pt x="0" y="39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11160" bIns="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"/>
                      <p:cNvSpPr/>
                      <p:nvPr/>
                    </p:nvSpPr>
                    <p:spPr>
                      <a:xfrm>
                        <a:off x="4743360" y="4305240"/>
                        <a:ext cx="400320" cy="260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112" h="724">
                            <a:moveTo>
                              <a:pt x="962" y="348"/>
                            </a:moveTo>
                            <a:lnTo>
                              <a:pt x="869" y="352"/>
                            </a:lnTo>
                            <a:lnTo>
                              <a:pt x="812" y="299"/>
                            </a:lnTo>
                            <a:lnTo>
                              <a:pt x="724" y="286"/>
                            </a:lnTo>
                            <a:lnTo>
                              <a:pt x="658" y="229"/>
                            </a:lnTo>
                            <a:lnTo>
                              <a:pt x="583" y="211"/>
                            </a:lnTo>
                            <a:lnTo>
                              <a:pt x="511" y="149"/>
                            </a:lnTo>
                            <a:lnTo>
                              <a:pt x="414" y="141"/>
                            </a:lnTo>
                            <a:lnTo>
                              <a:pt x="405" y="92"/>
                            </a:lnTo>
                            <a:lnTo>
                              <a:pt x="330" y="66"/>
                            </a:lnTo>
                            <a:lnTo>
                              <a:pt x="295" y="61"/>
                            </a:lnTo>
                            <a:lnTo>
                              <a:pt x="268" y="123"/>
                            </a:lnTo>
                            <a:lnTo>
                              <a:pt x="251" y="145"/>
                            </a:lnTo>
                            <a:lnTo>
                              <a:pt x="220" y="158"/>
                            </a:lnTo>
                            <a:lnTo>
                              <a:pt x="202" y="194"/>
                            </a:lnTo>
                            <a:lnTo>
                              <a:pt x="167" y="123"/>
                            </a:lnTo>
                            <a:lnTo>
                              <a:pt x="198" y="35"/>
                            </a:lnTo>
                            <a:lnTo>
                              <a:pt x="171" y="30"/>
                            </a:lnTo>
                            <a:lnTo>
                              <a:pt x="141" y="119"/>
                            </a:lnTo>
                            <a:lnTo>
                              <a:pt x="145" y="202"/>
                            </a:lnTo>
                            <a:lnTo>
                              <a:pt x="136" y="255"/>
                            </a:lnTo>
                            <a:lnTo>
                              <a:pt x="83" y="132"/>
                            </a:lnTo>
                            <a:lnTo>
                              <a:pt x="88" y="61"/>
                            </a:lnTo>
                            <a:lnTo>
                              <a:pt x="79" y="0"/>
                            </a:lnTo>
                            <a:lnTo>
                              <a:pt x="35" y="0"/>
                            </a:lnTo>
                            <a:lnTo>
                              <a:pt x="13" y="30"/>
                            </a:lnTo>
                            <a:lnTo>
                              <a:pt x="0" y="97"/>
                            </a:lnTo>
                            <a:lnTo>
                              <a:pt x="8" y="97"/>
                            </a:lnTo>
                            <a:lnTo>
                              <a:pt x="0" y="171"/>
                            </a:lnTo>
                            <a:lnTo>
                              <a:pt x="35" y="242"/>
                            </a:lnTo>
                            <a:lnTo>
                              <a:pt x="66" y="286"/>
                            </a:lnTo>
                            <a:lnTo>
                              <a:pt x="110" y="299"/>
                            </a:lnTo>
                            <a:lnTo>
                              <a:pt x="242" y="268"/>
                            </a:lnTo>
                            <a:lnTo>
                              <a:pt x="326" y="286"/>
                            </a:lnTo>
                            <a:lnTo>
                              <a:pt x="401" y="268"/>
                            </a:lnTo>
                            <a:lnTo>
                              <a:pt x="493" y="260"/>
                            </a:lnTo>
                            <a:lnTo>
                              <a:pt x="569" y="313"/>
                            </a:lnTo>
                            <a:lnTo>
                              <a:pt x="591" y="348"/>
                            </a:lnTo>
                            <a:lnTo>
                              <a:pt x="596" y="437"/>
                            </a:lnTo>
                            <a:lnTo>
                              <a:pt x="631" y="552"/>
                            </a:lnTo>
                            <a:lnTo>
                              <a:pt x="613" y="587"/>
                            </a:lnTo>
                            <a:lnTo>
                              <a:pt x="565" y="618"/>
                            </a:lnTo>
                            <a:lnTo>
                              <a:pt x="520" y="644"/>
                            </a:lnTo>
                            <a:lnTo>
                              <a:pt x="511" y="684"/>
                            </a:lnTo>
                            <a:lnTo>
                              <a:pt x="537" y="706"/>
                            </a:lnTo>
                            <a:lnTo>
                              <a:pt x="609" y="649"/>
                            </a:lnTo>
                            <a:lnTo>
                              <a:pt x="662" y="609"/>
                            </a:lnTo>
                            <a:lnTo>
                              <a:pt x="706" y="618"/>
                            </a:lnTo>
                            <a:lnTo>
                              <a:pt x="733" y="662"/>
                            </a:lnTo>
                            <a:lnTo>
                              <a:pt x="785" y="675"/>
                            </a:lnTo>
                            <a:lnTo>
                              <a:pt x="856" y="706"/>
                            </a:lnTo>
                            <a:lnTo>
                              <a:pt x="931" y="724"/>
                            </a:lnTo>
                            <a:lnTo>
                              <a:pt x="1024" y="693"/>
                            </a:lnTo>
                            <a:lnTo>
                              <a:pt x="1112" y="706"/>
                            </a:lnTo>
                            <a:lnTo>
                              <a:pt x="1085" y="675"/>
                            </a:lnTo>
                            <a:lnTo>
                              <a:pt x="984" y="658"/>
                            </a:lnTo>
                            <a:lnTo>
                              <a:pt x="874" y="636"/>
                            </a:lnTo>
                            <a:lnTo>
                              <a:pt x="887" y="605"/>
                            </a:lnTo>
                            <a:lnTo>
                              <a:pt x="944" y="605"/>
                            </a:lnTo>
                            <a:lnTo>
                              <a:pt x="1024" y="636"/>
                            </a:lnTo>
                            <a:lnTo>
                              <a:pt x="988" y="552"/>
                            </a:lnTo>
                            <a:lnTo>
                              <a:pt x="944" y="543"/>
                            </a:lnTo>
                            <a:lnTo>
                              <a:pt x="887" y="512"/>
                            </a:lnTo>
                            <a:lnTo>
                              <a:pt x="830" y="508"/>
                            </a:lnTo>
                            <a:lnTo>
                              <a:pt x="852" y="415"/>
                            </a:lnTo>
                            <a:lnTo>
                              <a:pt x="887" y="393"/>
                            </a:lnTo>
                            <a:lnTo>
                              <a:pt x="944" y="375"/>
                            </a:lnTo>
                            <a:lnTo>
                              <a:pt x="962" y="348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4430880" y="4309920"/>
                        <a:ext cx="221040" cy="154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614" h="429">
                            <a:moveTo>
                              <a:pt x="446" y="120"/>
                            </a:moveTo>
                            <a:lnTo>
                              <a:pt x="411" y="22"/>
                            </a:lnTo>
                            <a:lnTo>
                              <a:pt x="344" y="115"/>
                            </a:lnTo>
                            <a:lnTo>
                              <a:pt x="314" y="0"/>
                            </a:lnTo>
                            <a:lnTo>
                              <a:pt x="256" y="79"/>
                            </a:lnTo>
                            <a:lnTo>
                              <a:pt x="225" y="17"/>
                            </a:lnTo>
                            <a:lnTo>
                              <a:pt x="199" y="79"/>
                            </a:lnTo>
                            <a:lnTo>
                              <a:pt x="127" y="30"/>
                            </a:lnTo>
                            <a:lnTo>
                              <a:pt x="44" y="61"/>
                            </a:lnTo>
                            <a:lnTo>
                              <a:pt x="0" y="146"/>
                            </a:lnTo>
                            <a:lnTo>
                              <a:pt x="35" y="177"/>
                            </a:lnTo>
                            <a:lnTo>
                              <a:pt x="181" y="168"/>
                            </a:lnTo>
                            <a:lnTo>
                              <a:pt x="97" y="243"/>
                            </a:lnTo>
                            <a:lnTo>
                              <a:pt x="265" y="287"/>
                            </a:lnTo>
                            <a:lnTo>
                              <a:pt x="221" y="323"/>
                            </a:lnTo>
                            <a:lnTo>
                              <a:pt x="52" y="287"/>
                            </a:lnTo>
                            <a:lnTo>
                              <a:pt x="141" y="376"/>
                            </a:lnTo>
                            <a:lnTo>
                              <a:pt x="256" y="390"/>
                            </a:lnTo>
                            <a:lnTo>
                              <a:pt x="358" y="368"/>
                            </a:lnTo>
                            <a:lnTo>
                              <a:pt x="433" y="398"/>
                            </a:lnTo>
                            <a:lnTo>
                              <a:pt x="539" y="429"/>
                            </a:lnTo>
                            <a:lnTo>
                              <a:pt x="509" y="381"/>
                            </a:lnTo>
                            <a:lnTo>
                              <a:pt x="614" y="337"/>
                            </a:lnTo>
                            <a:lnTo>
                              <a:pt x="509" y="305"/>
                            </a:lnTo>
                            <a:lnTo>
                              <a:pt x="446" y="12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4680000" y="4054320"/>
                        <a:ext cx="125640" cy="1972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49" h="548">
                            <a:moveTo>
                              <a:pt x="234" y="0"/>
                            </a:moveTo>
                            <a:lnTo>
                              <a:pt x="163" y="0"/>
                            </a:lnTo>
                            <a:lnTo>
                              <a:pt x="92" y="61"/>
                            </a:lnTo>
                            <a:lnTo>
                              <a:pt x="30" y="105"/>
                            </a:lnTo>
                            <a:lnTo>
                              <a:pt x="0" y="168"/>
                            </a:lnTo>
                            <a:lnTo>
                              <a:pt x="0" y="217"/>
                            </a:lnTo>
                            <a:lnTo>
                              <a:pt x="48" y="247"/>
                            </a:lnTo>
                            <a:lnTo>
                              <a:pt x="145" y="221"/>
                            </a:lnTo>
                            <a:lnTo>
                              <a:pt x="256" y="168"/>
                            </a:lnTo>
                            <a:lnTo>
                              <a:pt x="136" y="287"/>
                            </a:lnTo>
                            <a:lnTo>
                              <a:pt x="181" y="300"/>
                            </a:lnTo>
                            <a:lnTo>
                              <a:pt x="154" y="367"/>
                            </a:lnTo>
                            <a:lnTo>
                              <a:pt x="195" y="397"/>
                            </a:lnTo>
                            <a:lnTo>
                              <a:pt x="186" y="456"/>
                            </a:lnTo>
                            <a:lnTo>
                              <a:pt x="119" y="487"/>
                            </a:lnTo>
                            <a:lnTo>
                              <a:pt x="92" y="544"/>
                            </a:lnTo>
                            <a:lnTo>
                              <a:pt x="127" y="548"/>
                            </a:lnTo>
                            <a:lnTo>
                              <a:pt x="234" y="509"/>
                            </a:lnTo>
                            <a:lnTo>
                              <a:pt x="349" y="517"/>
                            </a:lnTo>
                            <a:lnTo>
                              <a:pt x="327" y="442"/>
                            </a:lnTo>
                            <a:lnTo>
                              <a:pt x="336" y="358"/>
                            </a:lnTo>
                            <a:lnTo>
                              <a:pt x="287" y="305"/>
                            </a:lnTo>
                            <a:lnTo>
                              <a:pt x="327" y="199"/>
                            </a:lnTo>
                            <a:lnTo>
                              <a:pt x="314" y="123"/>
                            </a:lnTo>
                            <a:lnTo>
                              <a:pt x="296" y="26"/>
                            </a:lnTo>
                            <a:lnTo>
                              <a:pt x="234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4656240" y="4141800"/>
                        <a:ext cx="52920" cy="84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7" h="235">
                            <a:moveTo>
                              <a:pt x="22" y="0"/>
                            </a:moveTo>
                            <a:lnTo>
                              <a:pt x="0" y="80"/>
                            </a:lnTo>
                            <a:lnTo>
                              <a:pt x="22" y="218"/>
                            </a:lnTo>
                            <a:lnTo>
                              <a:pt x="75" y="235"/>
                            </a:lnTo>
                            <a:lnTo>
                              <a:pt x="134" y="218"/>
                            </a:lnTo>
                            <a:lnTo>
                              <a:pt x="147" y="111"/>
                            </a:lnTo>
                            <a:lnTo>
                              <a:pt x="134" y="89"/>
                            </a:lnTo>
                            <a:lnTo>
                              <a:pt x="102" y="48"/>
                            </a:lnTo>
                            <a:lnTo>
                              <a:pt x="67" y="52"/>
                            </a:lnTo>
                            <a:lnTo>
                              <a:pt x="22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4680000" y="4309920"/>
                        <a:ext cx="51120" cy="59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164">
                            <a:moveTo>
                              <a:pt x="26" y="0"/>
                            </a:moveTo>
                            <a:lnTo>
                              <a:pt x="93" y="30"/>
                            </a:lnTo>
                            <a:lnTo>
                              <a:pt x="142" y="8"/>
                            </a:lnTo>
                            <a:lnTo>
                              <a:pt x="128" y="61"/>
                            </a:lnTo>
                            <a:lnTo>
                              <a:pt x="133" y="102"/>
                            </a:lnTo>
                            <a:lnTo>
                              <a:pt x="120" y="142"/>
                            </a:lnTo>
                            <a:lnTo>
                              <a:pt x="89" y="164"/>
                            </a:lnTo>
                            <a:lnTo>
                              <a:pt x="48" y="159"/>
                            </a:lnTo>
                            <a:lnTo>
                              <a:pt x="17" y="150"/>
                            </a:lnTo>
                            <a:lnTo>
                              <a:pt x="0" y="84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7920" bIns="7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4608360" y="4307040"/>
                        <a:ext cx="65520" cy="97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82" h="270">
                            <a:moveTo>
                              <a:pt x="182" y="181"/>
                            </a:moveTo>
                            <a:lnTo>
                              <a:pt x="165" y="222"/>
                            </a:lnTo>
                            <a:lnTo>
                              <a:pt x="120" y="270"/>
                            </a:lnTo>
                            <a:lnTo>
                              <a:pt x="84" y="235"/>
                            </a:lnTo>
                            <a:lnTo>
                              <a:pt x="84" y="181"/>
                            </a:lnTo>
                            <a:lnTo>
                              <a:pt x="17" y="155"/>
                            </a:lnTo>
                            <a:lnTo>
                              <a:pt x="0" y="115"/>
                            </a:lnTo>
                            <a:lnTo>
                              <a:pt x="4" y="75"/>
                            </a:lnTo>
                            <a:lnTo>
                              <a:pt x="53" y="71"/>
                            </a:lnTo>
                            <a:lnTo>
                              <a:pt x="35" y="0"/>
                            </a:lnTo>
                            <a:lnTo>
                              <a:pt x="102" y="8"/>
                            </a:lnTo>
                            <a:lnTo>
                              <a:pt x="165" y="0"/>
                            </a:lnTo>
                            <a:lnTo>
                              <a:pt x="133" y="93"/>
                            </a:lnTo>
                            <a:lnTo>
                              <a:pt x="143" y="128"/>
                            </a:lnTo>
                            <a:lnTo>
                              <a:pt x="182" y="181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46080" bIns="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4567320" y="4240080"/>
                        <a:ext cx="43200" cy="32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20" h="89">
                            <a:moveTo>
                              <a:pt x="0" y="35"/>
                            </a:moveTo>
                            <a:lnTo>
                              <a:pt x="44" y="35"/>
                            </a:lnTo>
                            <a:lnTo>
                              <a:pt x="39" y="0"/>
                            </a:lnTo>
                            <a:lnTo>
                              <a:pt x="89" y="22"/>
                            </a:lnTo>
                            <a:lnTo>
                              <a:pt x="120" y="75"/>
                            </a:lnTo>
                            <a:lnTo>
                              <a:pt x="80" y="89"/>
                            </a:lnTo>
                            <a:lnTo>
                              <a:pt x="26" y="89"/>
                            </a:lnTo>
                            <a:lnTo>
                              <a:pt x="0" y="35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19080" bIns="-19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4367160" y="4232160"/>
                        <a:ext cx="133560" cy="124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71" h="345">
                            <a:moveTo>
                              <a:pt x="314" y="177"/>
                            </a:moveTo>
                            <a:lnTo>
                              <a:pt x="252" y="164"/>
                            </a:lnTo>
                            <a:lnTo>
                              <a:pt x="195" y="195"/>
                            </a:lnTo>
                            <a:lnTo>
                              <a:pt x="149" y="252"/>
                            </a:lnTo>
                            <a:lnTo>
                              <a:pt x="132" y="315"/>
                            </a:lnTo>
                            <a:lnTo>
                              <a:pt x="79" y="345"/>
                            </a:lnTo>
                            <a:lnTo>
                              <a:pt x="22" y="345"/>
                            </a:lnTo>
                            <a:lnTo>
                              <a:pt x="0" y="279"/>
                            </a:lnTo>
                            <a:lnTo>
                              <a:pt x="30" y="208"/>
                            </a:lnTo>
                            <a:lnTo>
                              <a:pt x="61" y="137"/>
                            </a:lnTo>
                            <a:lnTo>
                              <a:pt x="105" y="48"/>
                            </a:lnTo>
                            <a:lnTo>
                              <a:pt x="141" y="35"/>
                            </a:lnTo>
                            <a:lnTo>
                              <a:pt x="208" y="0"/>
                            </a:lnTo>
                            <a:lnTo>
                              <a:pt x="269" y="8"/>
                            </a:lnTo>
                            <a:lnTo>
                              <a:pt x="318" y="44"/>
                            </a:lnTo>
                            <a:lnTo>
                              <a:pt x="362" y="93"/>
                            </a:lnTo>
                            <a:lnTo>
                              <a:pt x="371" y="137"/>
                            </a:lnTo>
                            <a:lnTo>
                              <a:pt x="314" y="177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4478400" y="4156200"/>
                        <a:ext cx="132120" cy="84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7" h="235">
                            <a:moveTo>
                              <a:pt x="154" y="235"/>
                            </a:moveTo>
                            <a:lnTo>
                              <a:pt x="203" y="200"/>
                            </a:lnTo>
                            <a:lnTo>
                              <a:pt x="247" y="178"/>
                            </a:lnTo>
                            <a:lnTo>
                              <a:pt x="309" y="178"/>
                            </a:lnTo>
                            <a:lnTo>
                              <a:pt x="327" y="187"/>
                            </a:lnTo>
                            <a:lnTo>
                              <a:pt x="349" y="178"/>
                            </a:lnTo>
                            <a:lnTo>
                              <a:pt x="367" y="146"/>
                            </a:lnTo>
                            <a:lnTo>
                              <a:pt x="327" y="128"/>
                            </a:lnTo>
                            <a:lnTo>
                              <a:pt x="296" y="111"/>
                            </a:lnTo>
                            <a:lnTo>
                              <a:pt x="287" y="75"/>
                            </a:lnTo>
                            <a:lnTo>
                              <a:pt x="296" y="22"/>
                            </a:lnTo>
                            <a:lnTo>
                              <a:pt x="221" y="0"/>
                            </a:lnTo>
                            <a:lnTo>
                              <a:pt x="163" y="22"/>
                            </a:lnTo>
                            <a:lnTo>
                              <a:pt x="180" y="52"/>
                            </a:lnTo>
                            <a:lnTo>
                              <a:pt x="221" y="102"/>
                            </a:lnTo>
                            <a:lnTo>
                              <a:pt x="225" y="128"/>
                            </a:lnTo>
                            <a:lnTo>
                              <a:pt x="158" y="133"/>
                            </a:lnTo>
                            <a:lnTo>
                              <a:pt x="141" y="111"/>
                            </a:lnTo>
                            <a:lnTo>
                              <a:pt x="114" y="52"/>
                            </a:lnTo>
                            <a:lnTo>
                              <a:pt x="39" y="84"/>
                            </a:lnTo>
                            <a:lnTo>
                              <a:pt x="13" y="120"/>
                            </a:lnTo>
                            <a:lnTo>
                              <a:pt x="0" y="159"/>
                            </a:lnTo>
                            <a:lnTo>
                              <a:pt x="70" y="159"/>
                            </a:lnTo>
                            <a:lnTo>
                              <a:pt x="74" y="187"/>
                            </a:lnTo>
                            <a:lnTo>
                              <a:pt x="119" y="187"/>
                            </a:lnTo>
                            <a:lnTo>
                              <a:pt x="110" y="231"/>
                            </a:lnTo>
                            <a:lnTo>
                              <a:pt x="154" y="235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4440240" y="4133880"/>
                        <a:ext cx="49680" cy="57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38" h="160">
                            <a:moveTo>
                              <a:pt x="129" y="0"/>
                            </a:moveTo>
                            <a:lnTo>
                              <a:pt x="36" y="45"/>
                            </a:lnTo>
                            <a:lnTo>
                              <a:pt x="8" y="80"/>
                            </a:lnTo>
                            <a:lnTo>
                              <a:pt x="0" y="129"/>
                            </a:lnTo>
                            <a:lnTo>
                              <a:pt x="40" y="160"/>
                            </a:lnTo>
                            <a:lnTo>
                              <a:pt x="67" y="151"/>
                            </a:lnTo>
                            <a:lnTo>
                              <a:pt x="58" y="111"/>
                            </a:lnTo>
                            <a:lnTo>
                              <a:pt x="58" y="80"/>
                            </a:lnTo>
                            <a:lnTo>
                              <a:pt x="89" y="49"/>
                            </a:lnTo>
                            <a:lnTo>
                              <a:pt x="138" y="26"/>
                            </a:lnTo>
                            <a:lnTo>
                              <a:pt x="129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6480" bIns="6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4989600" y="4767120"/>
                        <a:ext cx="25920" cy="27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6">
                            <a:moveTo>
                              <a:pt x="66" y="23"/>
                            </a:moveTo>
                            <a:lnTo>
                              <a:pt x="53" y="13"/>
                            </a:lnTo>
                            <a:lnTo>
                              <a:pt x="30" y="4"/>
                            </a:lnTo>
                            <a:lnTo>
                              <a:pt x="11" y="0"/>
                            </a:lnTo>
                            <a:lnTo>
                              <a:pt x="0" y="0"/>
                            </a:lnTo>
                            <a:lnTo>
                              <a:pt x="0" y="27"/>
                            </a:lnTo>
                            <a:lnTo>
                              <a:pt x="11" y="59"/>
                            </a:lnTo>
                            <a:lnTo>
                              <a:pt x="30" y="76"/>
                            </a:lnTo>
                            <a:lnTo>
                              <a:pt x="53" y="76"/>
                            </a:lnTo>
                            <a:lnTo>
                              <a:pt x="72" y="59"/>
                            </a:lnTo>
                            <a:lnTo>
                              <a:pt x="72" y="36"/>
                            </a:lnTo>
                            <a:lnTo>
                              <a:pt x="66" y="23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3760" bIns="-23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44" name=""/>
                <p:cNvSpPr/>
                <p:nvPr/>
              </p:nvSpPr>
              <p:spPr>
                <a:xfrm>
                  <a:off x="4100400" y="4889520"/>
                  <a:ext cx="60840" cy="79560"/>
                </a:xfrm>
                <a:custGeom>
                  <a:avLst/>
                  <a:gdLst/>
                  <a:ahLst/>
                  <a:rect l="0" t="0" r="r" b="b"/>
                  <a:pathLst>
                    <a:path w="169" h="221">
                      <a:moveTo>
                        <a:pt x="169" y="221"/>
                      </a:moveTo>
                      <a:lnTo>
                        <a:pt x="98" y="88"/>
                      </a:lnTo>
                      <a:lnTo>
                        <a:pt x="58" y="39"/>
                      </a:lnTo>
                      <a:lnTo>
                        <a:pt x="0" y="0"/>
                      </a:lnTo>
                      <a:lnTo>
                        <a:pt x="8" y="44"/>
                      </a:lnTo>
                      <a:lnTo>
                        <a:pt x="67" y="142"/>
                      </a:lnTo>
                      <a:lnTo>
                        <a:pt x="124" y="212"/>
                      </a:lnTo>
                      <a:lnTo>
                        <a:pt x="169" y="221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3616200" y="4186080"/>
                <a:ext cx="1718280" cy="1816560"/>
                <a:chOff x="3616200" y="4186080"/>
                <a:chExt cx="1718280" cy="18165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195800" y="5464080"/>
                  <a:ext cx="825840" cy="538560"/>
                </a:xfrm>
                <a:custGeom>
                  <a:avLst/>
                  <a:gdLst/>
                  <a:ahLst/>
                  <a:rect l="0" t="0" r="r" b="b"/>
                  <a:pathLst>
                    <a:path w="2294" h="1496">
                      <a:moveTo>
                        <a:pt x="1442" y="627"/>
                      </a:moveTo>
                      <a:lnTo>
                        <a:pt x="1460" y="658"/>
                      </a:lnTo>
                      <a:lnTo>
                        <a:pt x="1469" y="697"/>
                      </a:lnTo>
                      <a:lnTo>
                        <a:pt x="1425" y="755"/>
                      </a:lnTo>
                      <a:lnTo>
                        <a:pt x="1394" y="860"/>
                      </a:lnTo>
                      <a:lnTo>
                        <a:pt x="1420" y="918"/>
                      </a:lnTo>
                      <a:lnTo>
                        <a:pt x="1412" y="993"/>
                      </a:lnTo>
                      <a:lnTo>
                        <a:pt x="1451" y="1054"/>
                      </a:lnTo>
                      <a:lnTo>
                        <a:pt x="1487" y="1135"/>
                      </a:lnTo>
                      <a:lnTo>
                        <a:pt x="1566" y="1152"/>
                      </a:lnTo>
                      <a:lnTo>
                        <a:pt x="1628" y="1227"/>
                      </a:lnTo>
                      <a:lnTo>
                        <a:pt x="1711" y="1236"/>
                      </a:lnTo>
                      <a:lnTo>
                        <a:pt x="1756" y="1188"/>
                      </a:lnTo>
                      <a:lnTo>
                        <a:pt x="1831" y="1179"/>
                      </a:lnTo>
                      <a:lnTo>
                        <a:pt x="1897" y="1192"/>
                      </a:lnTo>
                      <a:lnTo>
                        <a:pt x="1967" y="1166"/>
                      </a:lnTo>
                      <a:lnTo>
                        <a:pt x="2003" y="1116"/>
                      </a:lnTo>
                      <a:lnTo>
                        <a:pt x="2038" y="1050"/>
                      </a:lnTo>
                      <a:lnTo>
                        <a:pt x="2020" y="966"/>
                      </a:lnTo>
                      <a:lnTo>
                        <a:pt x="2157" y="953"/>
                      </a:lnTo>
                      <a:lnTo>
                        <a:pt x="2227" y="918"/>
                      </a:lnTo>
                      <a:lnTo>
                        <a:pt x="2276" y="922"/>
                      </a:lnTo>
                      <a:lnTo>
                        <a:pt x="2294" y="979"/>
                      </a:lnTo>
                      <a:lnTo>
                        <a:pt x="2183" y="1085"/>
                      </a:lnTo>
                      <a:lnTo>
                        <a:pt x="2197" y="1170"/>
                      </a:lnTo>
                      <a:lnTo>
                        <a:pt x="2161" y="1223"/>
                      </a:lnTo>
                      <a:lnTo>
                        <a:pt x="2064" y="1205"/>
                      </a:lnTo>
                      <a:lnTo>
                        <a:pt x="1976" y="1205"/>
                      </a:lnTo>
                      <a:lnTo>
                        <a:pt x="1941" y="1254"/>
                      </a:lnTo>
                      <a:lnTo>
                        <a:pt x="1941" y="1316"/>
                      </a:lnTo>
                      <a:lnTo>
                        <a:pt x="2003" y="1346"/>
                      </a:lnTo>
                      <a:lnTo>
                        <a:pt x="1994" y="1386"/>
                      </a:lnTo>
                      <a:lnTo>
                        <a:pt x="1923" y="1373"/>
                      </a:lnTo>
                      <a:lnTo>
                        <a:pt x="1888" y="1377"/>
                      </a:lnTo>
                      <a:lnTo>
                        <a:pt x="1866" y="1404"/>
                      </a:lnTo>
                      <a:lnTo>
                        <a:pt x="1870" y="1457"/>
                      </a:lnTo>
                      <a:lnTo>
                        <a:pt x="1879" y="1496"/>
                      </a:lnTo>
                      <a:lnTo>
                        <a:pt x="1791" y="1474"/>
                      </a:lnTo>
                      <a:lnTo>
                        <a:pt x="1773" y="1439"/>
                      </a:lnTo>
                      <a:lnTo>
                        <a:pt x="1742" y="1395"/>
                      </a:lnTo>
                      <a:lnTo>
                        <a:pt x="1703" y="1377"/>
                      </a:lnTo>
                      <a:lnTo>
                        <a:pt x="1650" y="1377"/>
                      </a:lnTo>
                      <a:lnTo>
                        <a:pt x="1610" y="1417"/>
                      </a:lnTo>
                      <a:lnTo>
                        <a:pt x="1548" y="1448"/>
                      </a:lnTo>
                      <a:lnTo>
                        <a:pt x="1460" y="1426"/>
                      </a:lnTo>
                      <a:lnTo>
                        <a:pt x="1368" y="1417"/>
                      </a:lnTo>
                      <a:lnTo>
                        <a:pt x="1262" y="1333"/>
                      </a:lnTo>
                      <a:lnTo>
                        <a:pt x="1151" y="1285"/>
                      </a:lnTo>
                      <a:lnTo>
                        <a:pt x="1058" y="1258"/>
                      </a:lnTo>
                      <a:lnTo>
                        <a:pt x="1001" y="1254"/>
                      </a:lnTo>
                      <a:lnTo>
                        <a:pt x="846" y="1205"/>
                      </a:lnTo>
                      <a:lnTo>
                        <a:pt x="771" y="1103"/>
                      </a:lnTo>
                      <a:lnTo>
                        <a:pt x="740" y="922"/>
                      </a:lnTo>
                      <a:lnTo>
                        <a:pt x="679" y="816"/>
                      </a:lnTo>
                      <a:lnTo>
                        <a:pt x="621" y="750"/>
                      </a:lnTo>
                      <a:lnTo>
                        <a:pt x="546" y="697"/>
                      </a:lnTo>
                      <a:lnTo>
                        <a:pt x="498" y="552"/>
                      </a:lnTo>
                      <a:lnTo>
                        <a:pt x="423" y="459"/>
                      </a:lnTo>
                      <a:lnTo>
                        <a:pt x="343" y="366"/>
                      </a:lnTo>
                      <a:lnTo>
                        <a:pt x="295" y="220"/>
                      </a:lnTo>
                      <a:lnTo>
                        <a:pt x="246" y="176"/>
                      </a:lnTo>
                      <a:lnTo>
                        <a:pt x="167" y="136"/>
                      </a:lnTo>
                      <a:lnTo>
                        <a:pt x="198" y="291"/>
                      </a:lnTo>
                      <a:lnTo>
                        <a:pt x="233" y="411"/>
                      </a:lnTo>
                      <a:lnTo>
                        <a:pt x="286" y="503"/>
                      </a:lnTo>
                      <a:lnTo>
                        <a:pt x="339" y="613"/>
                      </a:lnTo>
                      <a:lnTo>
                        <a:pt x="405" y="741"/>
                      </a:lnTo>
                      <a:lnTo>
                        <a:pt x="476" y="869"/>
                      </a:lnTo>
                      <a:lnTo>
                        <a:pt x="432" y="882"/>
                      </a:lnTo>
                      <a:lnTo>
                        <a:pt x="348" y="755"/>
                      </a:lnTo>
                      <a:lnTo>
                        <a:pt x="286" y="728"/>
                      </a:lnTo>
                      <a:lnTo>
                        <a:pt x="268" y="627"/>
                      </a:lnTo>
                      <a:lnTo>
                        <a:pt x="224" y="574"/>
                      </a:lnTo>
                      <a:lnTo>
                        <a:pt x="220" y="494"/>
                      </a:lnTo>
                      <a:lnTo>
                        <a:pt x="180" y="441"/>
                      </a:lnTo>
                      <a:lnTo>
                        <a:pt x="136" y="428"/>
                      </a:lnTo>
                      <a:lnTo>
                        <a:pt x="110" y="375"/>
                      </a:lnTo>
                      <a:lnTo>
                        <a:pt x="136" y="317"/>
                      </a:lnTo>
                      <a:lnTo>
                        <a:pt x="79" y="224"/>
                      </a:lnTo>
                      <a:lnTo>
                        <a:pt x="35" y="167"/>
                      </a:lnTo>
                      <a:lnTo>
                        <a:pt x="13" y="101"/>
                      </a:lnTo>
                      <a:lnTo>
                        <a:pt x="0" y="0"/>
                      </a:lnTo>
                      <a:lnTo>
                        <a:pt x="211" y="48"/>
                      </a:lnTo>
                      <a:lnTo>
                        <a:pt x="361" y="136"/>
                      </a:lnTo>
                      <a:lnTo>
                        <a:pt x="432" y="189"/>
                      </a:lnTo>
                      <a:lnTo>
                        <a:pt x="612" y="176"/>
                      </a:lnTo>
                      <a:lnTo>
                        <a:pt x="652" y="207"/>
                      </a:lnTo>
                      <a:lnTo>
                        <a:pt x="855" y="198"/>
                      </a:lnTo>
                      <a:lnTo>
                        <a:pt x="895" y="255"/>
                      </a:lnTo>
                      <a:lnTo>
                        <a:pt x="934" y="384"/>
                      </a:lnTo>
                      <a:lnTo>
                        <a:pt x="1027" y="380"/>
                      </a:lnTo>
                      <a:lnTo>
                        <a:pt x="1053" y="308"/>
                      </a:lnTo>
                      <a:lnTo>
                        <a:pt x="1160" y="308"/>
                      </a:lnTo>
                      <a:lnTo>
                        <a:pt x="1244" y="433"/>
                      </a:lnTo>
                      <a:lnTo>
                        <a:pt x="1306" y="600"/>
                      </a:lnTo>
                      <a:lnTo>
                        <a:pt x="1376" y="636"/>
                      </a:lnTo>
                      <a:lnTo>
                        <a:pt x="1442" y="627"/>
                      </a:lnTo>
                      <a:close/>
                    </a:path>
                  </a:pathLst>
                </a:custGeom>
                <a:solidFill>
                  <a:srgbClr val="5fc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3616200" y="4186080"/>
                  <a:ext cx="1718280" cy="1506960"/>
                  <a:chOff x="3616200" y="4186080"/>
                  <a:chExt cx="1718280" cy="150696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4070520" y="4952880"/>
                    <a:ext cx="1263960" cy="740160"/>
                  </a:xfrm>
                  <a:custGeom>
                    <a:avLst/>
                    <a:gdLst/>
                    <a:ahLst/>
                    <a:rect l="0" t="0" r="r" b="b"/>
                    <a:pathLst>
                      <a:path w="3511" h="2056">
                        <a:moveTo>
                          <a:pt x="343" y="48"/>
                        </a:moveTo>
                        <a:lnTo>
                          <a:pt x="299" y="198"/>
                        </a:lnTo>
                        <a:lnTo>
                          <a:pt x="251" y="158"/>
                        </a:lnTo>
                        <a:lnTo>
                          <a:pt x="211" y="114"/>
                        </a:lnTo>
                        <a:lnTo>
                          <a:pt x="145" y="79"/>
                        </a:lnTo>
                        <a:lnTo>
                          <a:pt x="141" y="198"/>
                        </a:lnTo>
                        <a:lnTo>
                          <a:pt x="97" y="321"/>
                        </a:lnTo>
                        <a:lnTo>
                          <a:pt x="97" y="423"/>
                        </a:lnTo>
                        <a:lnTo>
                          <a:pt x="52" y="538"/>
                        </a:lnTo>
                        <a:lnTo>
                          <a:pt x="35" y="706"/>
                        </a:lnTo>
                        <a:lnTo>
                          <a:pt x="0" y="807"/>
                        </a:lnTo>
                        <a:lnTo>
                          <a:pt x="8" y="878"/>
                        </a:lnTo>
                        <a:lnTo>
                          <a:pt x="66" y="962"/>
                        </a:lnTo>
                        <a:lnTo>
                          <a:pt x="48" y="1028"/>
                        </a:lnTo>
                        <a:lnTo>
                          <a:pt x="110" y="1112"/>
                        </a:lnTo>
                        <a:lnTo>
                          <a:pt x="145" y="1240"/>
                        </a:lnTo>
                        <a:lnTo>
                          <a:pt x="251" y="1301"/>
                        </a:lnTo>
                        <a:lnTo>
                          <a:pt x="361" y="1420"/>
                        </a:lnTo>
                        <a:lnTo>
                          <a:pt x="560" y="1465"/>
                        </a:lnTo>
                        <a:lnTo>
                          <a:pt x="784" y="1607"/>
                        </a:lnTo>
                        <a:lnTo>
                          <a:pt x="956" y="1593"/>
                        </a:lnTo>
                        <a:lnTo>
                          <a:pt x="1005" y="1629"/>
                        </a:lnTo>
                        <a:lnTo>
                          <a:pt x="1195" y="1620"/>
                        </a:lnTo>
                        <a:lnTo>
                          <a:pt x="1239" y="1660"/>
                        </a:lnTo>
                        <a:lnTo>
                          <a:pt x="1274" y="1770"/>
                        </a:lnTo>
                        <a:lnTo>
                          <a:pt x="1292" y="1805"/>
                        </a:lnTo>
                        <a:lnTo>
                          <a:pt x="1362" y="1801"/>
                        </a:lnTo>
                        <a:lnTo>
                          <a:pt x="1406" y="1726"/>
                        </a:lnTo>
                        <a:lnTo>
                          <a:pt x="1494" y="1730"/>
                        </a:lnTo>
                        <a:lnTo>
                          <a:pt x="1538" y="1783"/>
                        </a:lnTo>
                        <a:lnTo>
                          <a:pt x="1583" y="1836"/>
                        </a:lnTo>
                        <a:lnTo>
                          <a:pt x="1622" y="1937"/>
                        </a:lnTo>
                        <a:lnTo>
                          <a:pt x="1649" y="2021"/>
                        </a:lnTo>
                        <a:lnTo>
                          <a:pt x="1719" y="2052"/>
                        </a:lnTo>
                        <a:lnTo>
                          <a:pt x="1791" y="2056"/>
                        </a:lnTo>
                        <a:lnTo>
                          <a:pt x="1764" y="1959"/>
                        </a:lnTo>
                        <a:lnTo>
                          <a:pt x="1760" y="1893"/>
                        </a:lnTo>
                        <a:lnTo>
                          <a:pt x="1795" y="1796"/>
                        </a:lnTo>
                        <a:lnTo>
                          <a:pt x="1853" y="1770"/>
                        </a:lnTo>
                        <a:lnTo>
                          <a:pt x="1954" y="1699"/>
                        </a:lnTo>
                        <a:lnTo>
                          <a:pt x="2064" y="1695"/>
                        </a:lnTo>
                        <a:lnTo>
                          <a:pt x="2170" y="1708"/>
                        </a:lnTo>
                        <a:lnTo>
                          <a:pt x="2285" y="1757"/>
                        </a:lnTo>
                        <a:lnTo>
                          <a:pt x="2342" y="1743"/>
                        </a:lnTo>
                        <a:lnTo>
                          <a:pt x="2369" y="1708"/>
                        </a:lnTo>
                        <a:lnTo>
                          <a:pt x="2249" y="1664"/>
                        </a:lnTo>
                        <a:lnTo>
                          <a:pt x="2382" y="1615"/>
                        </a:lnTo>
                        <a:lnTo>
                          <a:pt x="2474" y="1638"/>
                        </a:lnTo>
                        <a:lnTo>
                          <a:pt x="2615" y="1620"/>
                        </a:lnTo>
                        <a:lnTo>
                          <a:pt x="2708" y="1620"/>
                        </a:lnTo>
                        <a:lnTo>
                          <a:pt x="2796" y="1620"/>
                        </a:lnTo>
                        <a:lnTo>
                          <a:pt x="2836" y="1646"/>
                        </a:lnTo>
                        <a:lnTo>
                          <a:pt x="2871" y="1695"/>
                        </a:lnTo>
                        <a:lnTo>
                          <a:pt x="2884" y="1801"/>
                        </a:lnTo>
                        <a:lnTo>
                          <a:pt x="2920" y="1849"/>
                        </a:lnTo>
                        <a:lnTo>
                          <a:pt x="2946" y="1920"/>
                        </a:lnTo>
                        <a:lnTo>
                          <a:pt x="2986" y="1955"/>
                        </a:lnTo>
                        <a:lnTo>
                          <a:pt x="3034" y="1977"/>
                        </a:lnTo>
                        <a:lnTo>
                          <a:pt x="3078" y="1937"/>
                        </a:lnTo>
                        <a:lnTo>
                          <a:pt x="3096" y="1867"/>
                        </a:lnTo>
                        <a:lnTo>
                          <a:pt x="3065" y="1818"/>
                        </a:lnTo>
                        <a:lnTo>
                          <a:pt x="2959" y="1677"/>
                        </a:lnTo>
                        <a:lnTo>
                          <a:pt x="2915" y="1558"/>
                        </a:lnTo>
                        <a:lnTo>
                          <a:pt x="2929" y="1434"/>
                        </a:lnTo>
                        <a:lnTo>
                          <a:pt x="2990" y="1390"/>
                        </a:lnTo>
                        <a:lnTo>
                          <a:pt x="3052" y="1315"/>
                        </a:lnTo>
                        <a:lnTo>
                          <a:pt x="3043" y="1257"/>
                        </a:lnTo>
                        <a:lnTo>
                          <a:pt x="3083" y="1209"/>
                        </a:lnTo>
                        <a:lnTo>
                          <a:pt x="3158" y="1178"/>
                        </a:lnTo>
                        <a:lnTo>
                          <a:pt x="3180" y="1103"/>
                        </a:lnTo>
                        <a:lnTo>
                          <a:pt x="3149" y="1037"/>
                        </a:lnTo>
                        <a:lnTo>
                          <a:pt x="3118" y="1006"/>
                        </a:lnTo>
                        <a:lnTo>
                          <a:pt x="3127" y="971"/>
                        </a:lnTo>
                        <a:lnTo>
                          <a:pt x="3083" y="953"/>
                        </a:lnTo>
                        <a:lnTo>
                          <a:pt x="3092" y="918"/>
                        </a:lnTo>
                        <a:lnTo>
                          <a:pt x="3052" y="891"/>
                        </a:lnTo>
                        <a:lnTo>
                          <a:pt x="3043" y="821"/>
                        </a:lnTo>
                        <a:lnTo>
                          <a:pt x="3096" y="865"/>
                        </a:lnTo>
                        <a:lnTo>
                          <a:pt x="3105" y="843"/>
                        </a:lnTo>
                        <a:lnTo>
                          <a:pt x="3074" y="807"/>
                        </a:lnTo>
                        <a:lnTo>
                          <a:pt x="3096" y="772"/>
                        </a:lnTo>
                        <a:lnTo>
                          <a:pt x="3127" y="807"/>
                        </a:lnTo>
                        <a:lnTo>
                          <a:pt x="3149" y="869"/>
                        </a:lnTo>
                        <a:lnTo>
                          <a:pt x="3167" y="852"/>
                        </a:lnTo>
                        <a:lnTo>
                          <a:pt x="3149" y="807"/>
                        </a:lnTo>
                        <a:lnTo>
                          <a:pt x="3180" y="772"/>
                        </a:lnTo>
                        <a:lnTo>
                          <a:pt x="3193" y="741"/>
                        </a:lnTo>
                        <a:lnTo>
                          <a:pt x="3193" y="706"/>
                        </a:lnTo>
                        <a:lnTo>
                          <a:pt x="3180" y="649"/>
                        </a:lnTo>
                        <a:lnTo>
                          <a:pt x="3193" y="591"/>
                        </a:lnTo>
                        <a:lnTo>
                          <a:pt x="3206" y="561"/>
                        </a:lnTo>
                        <a:lnTo>
                          <a:pt x="3268" y="507"/>
                        </a:lnTo>
                        <a:lnTo>
                          <a:pt x="3325" y="498"/>
                        </a:lnTo>
                        <a:lnTo>
                          <a:pt x="3378" y="476"/>
                        </a:lnTo>
                        <a:lnTo>
                          <a:pt x="3409" y="485"/>
                        </a:lnTo>
                        <a:lnTo>
                          <a:pt x="3444" y="480"/>
                        </a:lnTo>
                        <a:lnTo>
                          <a:pt x="3458" y="467"/>
                        </a:lnTo>
                        <a:lnTo>
                          <a:pt x="3431" y="467"/>
                        </a:lnTo>
                        <a:lnTo>
                          <a:pt x="3409" y="463"/>
                        </a:lnTo>
                        <a:lnTo>
                          <a:pt x="3387" y="449"/>
                        </a:lnTo>
                        <a:lnTo>
                          <a:pt x="3370" y="423"/>
                        </a:lnTo>
                        <a:lnTo>
                          <a:pt x="3370" y="361"/>
                        </a:lnTo>
                        <a:lnTo>
                          <a:pt x="3405" y="291"/>
                        </a:lnTo>
                        <a:lnTo>
                          <a:pt x="3449" y="251"/>
                        </a:lnTo>
                        <a:lnTo>
                          <a:pt x="3497" y="229"/>
                        </a:lnTo>
                        <a:lnTo>
                          <a:pt x="3511" y="167"/>
                        </a:lnTo>
                        <a:lnTo>
                          <a:pt x="3436" y="92"/>
                        </a:lnTo>
                        <a:lnTo>
                          <a:pt x="3405" y="17"/>
                        </a:lnTo>
                        <a:lnTo>
                          <a:pt x="3339" y="0"/>
                        </a:lnTo>
                        <a:lnTo>
                          <a:pt x="3299" y="48"/>
                        </a:lnTo>
                        <a:lnTo>
                          <a:pt x="3299" y="167"/>
                        </a:lnTo>
                        <a:lnTo>
                          <a:pt x="3259" y="242"/>
                        </a:lnTo>
                        <a:lnTo>
                          <a:pt x="3136" y="317"/>
                        </a:lnTo>
                        <a:lnTo>
                          <a:pt x="3065" y="308"/>
                        </a:lnTo>
                        <a:lnTo>
                          <a:pt x="3017" y="335"/>
                        </a:lnTo>
                        <a:lnTo>
                          <a:pt x="3004" y="388"/>
                        </a:lnTo>
                        <a:lnTo>
                          <a:pt x="2990" y="454"/>
                        </a:lnTo>
                        <a:lnTo>
                          <a:pt x="2937" y="502"/>
                        </a:lnTo>
                        <a:lnTo>
                          <a:pt x="2827" y="561"/>
                        </a:lnTo>
                        <a:lnTo>
                          <a:pt x="2787" y="591"/>
                        </a:lnTo>
                        <a:lnTo>
                          <a:pt x="2748" y="666"/>
                        </a:lnTo>
                        <a:lnTo>
                          <a:pt x="2699" y="684"/>
                        </a:lnTo>
                        <a:lnTo>
                          <a:pt x="2646" y="728"/>
                        </a:lnTo>
                        <a:lnTo>
                          <a:pt x="2585" y="680"/>
                        </a:lnTo>
                        <a:lnTo>
                          <a:pt x="2624" y="613"/>
                        </a:lnTo>
                        <a:lnTo>
                          <a:pt x="2629" y="561"/>
                        </a:lnTo>
                        <a:lnTo>
                          <a:pt x="2585" y="591"/>
                        </a:lnTo>
                        <a:lnTo>
                          <a:pt x="2536" y="591"/>
                        </a:lnTo>
                        <a:lnTo>
                          <a:pt x="2571" y="534"/>
                        </a:lnTo>
                        <a:lnTo>
                          <a:pt x="2585" y="485"/>
                        </a:lnTo>
                        <a:lnTo>
                          <a:pt x="2532" y="432"/>
                        </a:lnTo>
                        <a:lnTo>
                          <a:pt x="2474" y="427"/>
                        </a:lnTo>
                        <a:lnTo>
                          <a:pt x="2457" y="463"/>
                        </a:lnTo>
                        <a:lnTo>
                          <a:pt x="2426" y="454"/>
                        </a:lnTo>
                        <a:lnTo>
                          <a:pt x="2395" y="493"/>
                        </a:lnTo>
                        <a:lnTo>
                          <a:pt x="2399" y="578"/>
                        </a:lnTo>
                        <a:lnTo>
                          <a:pt x="2413" y="613"/>
                        </a:lnTo>
                        <a:lnTo>
                          <a:pt x="2430" y="666"/>
                        </a:lnTo>
                        <a:lnTo>
                          <a:pt x="2430" y="693"/>
                        </a:lnTo>
                        <a:lnTo>
                          <a:pt x="2421" y="737"/>
                        </a:lnTo>
                        <a:lnTo>
                          <a:pt x="2399" y="750"/>
                        </a:lnTo>
                        <a:lnTo>
                          <a:pt x="2369" y="759"/>
                        </a:lnTo>
                        <a:lnTo>
                          <a:pt x="2342" y="693"/>
                        </a:lnTo>
                        <a:lnTo>
                          <a:pt x="2307" y="636"/>
                        </a:lnTo>
                        <a:lnTo>
                          <a:pt x="2307" y="578"/>
                        </a:lnTo>
                        <a:lnTo>
                          <a:pt x="2324" y="516"/>
                        </a:lnTo>
                        <a:lnTo>
                          <a:pt x="2307" y="454"/>
                        </a:lnTo>
                        <a:lnTo>
                          <a:pt x="2413" y="392"/>
                        </a:lnTo>
                        <a:lnTo>
                          <a:pt x="2461" y="366"/>
                        </a:lnTo>
                        <a:lnTo>
                          <a:pt x="2324" y="379"/>
                        </a:lnTo>
                        <a:lnTo>
                          <a:pt x="2236" y="392"/>
                        </a:lnTo>
                        <a:lnTo>
                          <a:pt x="2210" y="326"/>
                        </a:lnTo>
                        <a:lnTo>
                          <a:pt x="2148" y="374"/>
                        </a:lnTo>
                        <a:lnTo>
                          <a:pt x="2170" y="321"/>
                        </a:lnTo>
                        <a:lnTo>
                          <a:pt x="2051" y="370"/>
                        </a:lnTo>
                        <a:lnTo>
                          <a:pt x="1980" y="339"/>
                        </a:lnTo>
                        <a:lnTo>
                          <a:pt x="1985" y="291"/>
                        </a:lnTo>
                        <a:lnTo>
                          <a:pt x="2020" y="242"/>
                        </a:lnTo>
                        <a:lnTo>
                          <a:pt x="1853" y="180"/>
                        </a:lnTo>
                        <a:lnTo>
                          <a:pt x="1292" y="149"/>
                        </a:lnTo>
                        <a:lnTo>
                          <a:pt x="996" y="141"/>
                        </a:lnTo>
                        <a:lnTo>
                          <a:pt x="701" y="101"/>
                        </a:lnTo>
                        <a:lnTo>
                          <a:pt x="343" y="48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3616200" y="4186080"/>
                    <a:ext cx="592560" cy="592560"/>
                    <a:chOff x="3616200" y="4186080"/>
                    <a:chExt cx="592560" cy="59256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3681360" y="4186080"/>
                      <a:ext cx="527400" cy="5925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465" h="1646">
                          <a:moveTo>
                            <a:pt x="1465" y="428"/>
                          </a:moveTo>
                          <a:lnTo>
                            <a:pt x="1006" y="1002"/>
                          </a:lnTo>
                          <a:lnTo>
                            <a:pt x="1103" y="1037"/>
                          </a:lnTo>
                          <a:lnTo>
                            <a:pt x="1050" y="1103"/>
                          </a:lnTo>
                          <a:lnTo>
                            <a:pt x="1134" y="1121"/>
                          </a:lnTo>
                          <a:lnTo>
                            <a:pt x="1187" y="1329"/>
                          </a:lnTo>
                          <a:lnTo>
                            <a:pt x="1240" y="1540"/>
                          </a:lnTo>
                          <a:lnTo>
                            <a:pt x="1187" y="1646"/>
                          </a:lnTo>
                          <a:lnTo>
                            <a:pt x="1173" y="1457"/>
                          </a:lnTo>
                          <a:lnTo>
                            <a:pt x="1125" y="1391"/>
                          </a:lnTo>
                          <a:lnTo>
                            <a:pt x="1103" y="1218"/>
                          </a:lnTo>
                          <a:lnTo>
                            <a:pt x="1050" y="1329"/>
                          </a:lnTo>
                          <a:lnTo>
                            <a:pt x="1006" y="1187"/>
                          </a:lnTo>
                          <a:lnTo>
                            <a:pt x="979" y="1063"/>
                          </a:lnTo>
                          <a:lnTo>
                            <a:pt x="949" y="962"/>
                          </a:lnTo>
                          <a:lnTo>
                            <a:pt x="931" y="949"/>
                          </a:lnTo>
                          <a:lnTo>
                            <a:pt x="834" y="979"/>
                          </a:lnTo>
                          <a:lnTo>
                            <a:pt x="750" y="865"/>
                          </a:lnTo>
                          <a:lnTo>
                            <a:pt x="732" y="935"/>
                          </a:lnTo>
                          <a:lnTo>
                            <a:pt x="674" y="891"/>
                          </a:lnTo>
                          <a:lnTo>
                            <a:pt x="582" y="918"/>
                          </a:lnTo>
                          <a:lnTo>
                            <a:pt x="635" y="838"/>
                          </a:lnTo>
                          <a:lnTo>
                            <a:pt x="732" y="821"/>
                          </a:lnTo>
                          <a:lnTo>
                            <a:pt x="759" y="759"/>
                          </a:lnTo>
                          <a:lnTo>
                            <a:pt x="661" y="746"/>
                          </a:lnTo>
                          <a:lnTo>
                            <a:pt x="599" y="794"/>
                          </a:lnTo>
                          <a:lnTo>
                            <a:pt x="560" y="724"/>
                          </a:lnTo>
                          <a:lnTo>
                            <a:pt x="507" y="768"/>
                          </a:lnTo>
                          <a:lnTo>
                            <a:pt x="489" y="856"/>
                          </a:lnTo>
                          <a:lnTo>
                            <a:pt x="454" y="904"/>
                          </a:lnTo>
                          <a:lnTo>
                            <a:pt x="348" y="887"/>
                          </a:lnTo>
                          <a:lnTo>
                            <a:pt x="233" y="922"/>
                          </a:lnTo>
                          <a:lnTo>
                            <a:pt x="136" y="918"/>
                          </a:lnTo>
                          <a:lnTo>
                            <a:pt x="0" y="852"/>
                          </a:lnTo>
                          <a:lnTo>
                            <a:pt x="22" y="781"/>
                          </a:lnTo>
                          <a:lnTo>
                            <a:pt x="110" y="852"/>
                          </a:lnTo>
                          <a:lnTo>
                            <a:pt x="167" y="843"/>
                          </a:lnTo>
                          <a:lnTo>
                            <a:pt x="233" y="874"/>
                          </a:lnTo>
                          <a:lnTo>
                            <a:pt x="286" y="825"/>
                          </a:lnTo>
                          <a:lnTo>
                            <a:pt x="295" y="790"/>
                          </a:lnTo>
                          <a:lnTo>
                            <a:pt x="361" y="768"/>
                          </a:lnTo>
                          <a:lnTo>
                            <a:pt x="317" y="684"/>
                          </a:lnTo>
                          <a:lnTo>
                            <a:pt x="299" y="644"/>
                          </a:lnTo>
                          <a:lnTo>
                            <a:pt x="238" y="613"/>
                          </a:lnTo>
                          <a:lnTo>
                            <a:pt x="313" y="547"/>
                          </a:lnTo>
                          <a:lnTo>
                            <a:pt x="264" y="486"/>
                          </a:lnTo>
                          <a:lnTo>
                            <a:pt x="299" y="459"/>
                          </a:lnTo>
                          <a:lnTo>
                            <a:pt x="326" y="464"/>
                          </a:lnTo>
                          <a:lnTo>
                            <a:pt x="330" y="388"/>
                          </a:lnTo>
                          <a:lnTo>
                            <a:pt x="339" y="326"/>
                          </a:lnTo>
                          <a:lnTo>
                            <a:pt x="396" y="313"/>
                          </a:lnTo>
                          <a:lnTo>
                            <a:pt x="458" y="313"/>
                          </a:lnTo>
                          <a:lnTo>
                            <a:pt x="498" y="317"/>
                          </a:lnTo>
                          <a:lnTo>
                            <a:pt x="643" y="388"/>
                          </a:lnTo>
                          <a:lnTo>
                            <a:pt x="709" y="313"/>
                          </a:lnTo>
                          <a:lnTo>
                            <a:pt x="573" y="176"/>
                          </a:lnTo>
                          <a:lnTo>
                            <a:pt x="630" y="167"/>
                          </a:lnTo>
                          <a:lnTo>
                            <a:pt x="604" y="97"/>
                          </a:lnTo>
                          <a:lnTo>
                            <a:pt x="652" y="79"/>
                          </a:lnTo>
                          <a:lnTo>
                            <a:pt x="687" y="110"/>
                          </a:lnTo>
                          <a:lnTo>
                            <a:pt x="727" y="110"/>
                          </a:lnTo>
                          <a:lnTo>
                            <a:pt x="732" y="145"/>
                          </a:lnTo>
                          <a:lnTo>
                            <a:pt x="709" y="176"/>
                          </a:lnTo>
                          <a:lnTo>
                            <a:pt x="790" y="260"/>
                          </a:lnTo>
                          <a:lnTo>
                            <a:pt x="847" y="198"/>
                          </a:lnTo>
                          <a:lnTo>
                            <a:pt x="816" y="167"/>
                          </a:lnTo>
                          <a:lnTo>
                            <a:pt x="847" y="88"/>
                          </a:lnTo>
                          <a:lnTo>
                            <a:pt x="847" y="30"/>
                          </a:lnTo>
                          <a:lnTo>
                            <a:pt x="922" y="0"/>
                          </a:lnTo>
                          <a:lnTo>
                            <a:pt x="979" y="13"/>
                          </a:lnTo>
                          <a:lnTo>
                            <a:pt x="993" y="48"/>
                          </a:lnTo>
                          <a:lnTo>
                            <a:pt x="1037" y="74"/>
                          </a:lnTo>
                          <a:lnTo>
                            <a:pt x="1072" y="48"/>
                          </a:lnTo>
                          <a:lnTo>
                            <a:pt x="1121" y="35"/>
                          </a:lnTo>
                          <a:lnTo>
                            <a:pt x="1218" y="57"/>
                          </a:lnTo>
                          <a:lnTo>
                            <a:pt x="1279" y="88"/>
                          </a:lnTo>
                          <a:lnTo>
                            <a:pt x="1271" y="145"/>
                          </a:lnTo>
                          <a:lnTo>
                            <a:pt x="1288" y="185"/>
                          </a:lnTo>
                          <a:lnTo>
                            <a:pt x="1354" y="185"/>
                          </a:lnTo>
                          <a:lnTo>
                            <a:pt x="1363" y="238"/>
                          </a:lnTo>
                          <a:lnTo>
                            <a:pt x="1403" y="273"/>
                          </a:lnTo>
                          <a:lnTo>
                            <a:pt x="1465" y="42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3780000" y="4538520"/>
                      <a:ext cx="367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2" h="72">
                          <a:moveTo>
                            <a:pt x="4" y="0"/>
                          </a:moveTo>
                          <a:lnTo>
                            <a:pt x="0" y="52"/>
                          </a:lnTo>
                          <a:lnTo>
                            <a:pt x="17" y="72"/>
                          </a:lnTo>
                          <a:lnTo>
                            <a:pt x="53" y="72"/>
                          </a:lnTo>
                          <a:lnTo>
                            <a:pt x="102" y="29"/>
                          </a:lnTo>
                          <a:lnTo>
                            <a:pt x="48" y="0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3616200" y="4465800"/>
                      <a:ext cx="3204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9" h="72">
                          <a:moveTo>
                            <a:pt x="8" y="8"/>
                          </a:moveTo>
                          <a:lnTo>
                            <a:pt x="30" y="0"/>
                          </a:lnTo>
                          <a:lnTo>
                            <a:pt x="49" y="0"/>
                          </a:lnTo>
                          <a:lnTo>
                            <a:pt x="67" y="8"/>
                          </a:lnTo>
                          <a:lnTo>
                            <a:pt x="80" y="36"/>
                          </a:lnTo>
                          <a:lnTo>
                            <a:pt x="89" y="53"/>
                          </a:lnTo>
                          <a:lnTo>
                            <a:pt x="75" y="63"/>
                          </a:lnTo>
                          <a:lnTo>
                            <a:pt x="53" y="72"/>
                          </a:lnTo>
                          <a:lnTo>
                            <a:pt x="13" y="63"/>
                          </a:lnTo>
                          <a:lnTo>
                            <a:pt x="0" y="36"/>
                          </a:lnTo>
                          <a:lnTo>
                            <a:pt x="8" y="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3732120" y="43387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66" y="16"/>
                          </a:moveTo>
                          <a:lnTo>
                            <a:pt x="52" y="10"/>
                          </a:lnTo>
                          <a:lnTo>
                            <a:pt x="33" y="5"/>
                          </a:lnTo>
                          <a:lnTo>
                            <a:pt x="6" y="0"/>
                          </a:lnTo>
                          <a:lnTo>
                            <a:pt x="0" y="5"/>
                          </a:lnTo>
                          <a:lnTo>
                            <a:pt x="0" y="28"/>
                          </a:lnTo>
                          <a:lnTo>
                            <a:pt x="6" y="56"/>
                          </a:lnTo>
                          <a:lnTo>
                            <a:pt x="33" y="72"/>
                          </a:lnTo>
                          <a:lnTo>
                            <a:pt x="52" y="72"/>
                          </a:lnTo>
                          <a:lnTo>
                            <a:pt x="66" y="56"/>
                          </a:lnTo>
                          <a:lnTo>
                            <a:pt x="72" y="38"/>
                          </a:lnTo>
                          <a:lnTo>
                            <a:pt x="66" y="16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3763800" y="4232160"/>
                      <a:ext cx="36720" cy="338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2" h="94">
                          <a:moveTo>
                            <a:pt x="0" y="0"/>
                          </a:moveTo>
                          <a:lnTo>
                            <a:pt x="26" y="62"/>
                          </a:lnTo>
                          <a:lnTo>
                            <a:pt x="48" y="85"/>
                          </a:lnTo>
                          <a:lnTo>
                            <a:pt x="93" y="94"/>
                          </a:lnTo>
                          <a:lnTo>
                            <a:pt x="102" y="85"/>
                          </a:lnTo>
                          <a:lnTo>
                            <a:pt x="102" y="58"/>
                          </a:lnTo>
                          <a:lnTo>
                            <a:pt x="71" y="3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589200" y="4743360"/>
              <a:ext cx="12906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508200" y="5340240"/>
              <a:ext cx="622800" cy="51120"/>
            </a:xfrm>
            <a:custGeom>
              <a:avLst/>
              <a:gdLst/>
              <a:ahLst/>
              <a:rect l="0" t="0" r="r" b="b"/>
              <a:pathLst>
                <a:path w="1730" h="142">
                  <a:moveTo>
                    <a:pt x="0" y="142"/>
                  </a:moveTo>
                  <a:lnTo>
                    <a:pt x="1730" y="142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618ffd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32240" y="5410080"/>
              <a:ext cx="622440" cy="363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round/>
            </a:ln>
          </p:spPr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88000" y="5214960"/>
              <a:ext cx="130680" cy="38520"/>
            </a:xfrm>
            <a:custGeom>
              <a:avLst/>
              <a:gdLst/>
              <a:ahLst/>
              <a:rect l="0" t="0" r="r" b="b"/>
              <a:pathLst>
                <a:path w="363" h="107">
                  <a:moveTo>
                    <a:pt x="0" y="107"/>
                  </a:moveTo>
                  <a:lnTo>
                    <a:pt x="363" y="107"/>
                  </a:lnTo>
                  <a:lnTo>
                    <a:pt x="0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359240" y="4718160"/>
              <a:ext cx="1207080" cy="805320"/>
              <a:chOff x="4359240" y="4718160"/>
              <a:chExt cx="1207080" cy="805320"/>
            </a:xfrm>
          </p:grpSpPr>
          <p:sp>
            <p:nvSpPr>
              <p:cNvPr id="260" name=""/>
              <p:cNvSpPr/>
              <p:nvPr/>
            </p:nvSpPr>
            <p:spPr>
              <a:xfrm>
                <a:off x="5430960" y="5268960"/>
                <a:ext cx="74520" cy="147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475240" y="5315040"/>
                <a:ext cx="25560" cy="49320"/>
              </a:xfrm>
              <a:prstGeom prst="ellipse">
                <a:avLst/>
              </a:prstGeom>
              <a:solidFill>
                <a:srgbClr val="8f8f8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5268960"/>
                <a:ext cx="70200" cy="151200"/>
              </a:xfrm>
              <a:custGeom>
                <a:avLst/>
                <a:gdLst/>
                <a:ahLst/>
                <a:rect l="0" t="0" r="r" b="b"/>
                <a:pathLst>
                  <a:path w="195" h="420">
                    <a:moveTo>
                      <a:pt x="190" y="0"/>
                    </a:moveTo>
                    <a:lnTo>
                      <a:pt x="142" y="22"/>
                    </a:lnTo>
                    <a:lnTo>
                      <a:pt x="106" y="70"/>
                    </a:lnTo>
                    <a:lnTo>
                      <a:pt x="88" y="137"/>
                    </a:lnTo>
                    <a:lnTo>
                      <a:pt x="83" y="172"/>
                    </a:lnTo>
                    <a:lnTo>
                      <a:pt x="83" y="190"/>
                    </a:lnTo>
                    <a:lnTo>
                      <a:pt x="83" y="208"/>
                    </a:lnTo>
                    <a:lnTo>
                      <a:pt x="115" y="345"/>
                    </a:lnTo>
                    <a:lnTo>
                      <a:pt x="150" y="394"/>
                    </a:lnTo>
                    <a:lnTo>
                      <a:pt x="195" y="420"/>
                    </a:lnTo>
                    <a:lnTo>
                      <a:pt x="190" y="420"/>
                    </a:lnTo>
                    <a:lnTo>
                      <a:pt x="98" y="420"/>
                    </a:lnTo>
                    <a:lnTo>
                      <a:pt x="44" y="359"/>
                    </a:lnTo>
                    <a:lnTo>
                      <a:pt x="13" y="296"/>
                    </a:lnTo>
                    <a:lnTo>
                      <a:pt x="0" y="230"/>
                    </a:lnTo>
                    <a:lnTo>
                      <a:pt x="0" y="199"/>
                    </a:lnTo>
                    <a:lnTo>
                      <a:pt x="4" y="168"/>
                    </a:lnTo>
                    <a:lnTo>
                      <a:pt x="44" y="61"/>
                    </a:lnTo>
                    <a:lnTo>
                      <a:pt x="74" y="22"/>
                    </a:lnTo>
                    <a:lnTo>
                      <a:pt x="111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486400" y="5265720"/>
                <a:ext cx="71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16640" y="5313240"/>
                <a:ext cx="25560" cy="49320"/>
              </a:xfrm>
              <a:prstGeom prst="ellipse">
                <a:avLst/>
              </a:prstGeom>
              <a:solidFill>
                <a:srgbClr val="a2a2a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51480" y="5267160"/>
                <a:ext cx="71640" cy="154440"/>
              </a:xfrm>
              <a:custGeom>
                <a:avLst/>
                <a:gdLst/>
                <a:ahLst/>
                <a:rect l="0" t="0" r="r" b="b"/>
                <a:pathLst>
                  <a:path w="199" h="429">
                    <a:moveTo>
                      <a:pt x="190" y="0"/>
                    </a:moveTo>
                    <a:lnTo>
                      <a:pt x="168" y="4"/>
                    </a:lnTo>
                    <a:lnTo>
                      <a:pt x="150" y="13"/>
                    </a:lnTo>
                    <a:lnTo>
                      <a:pt x="120" y="61"/>
                    </a:lnTo>
                    <a:lnTo>
                      <a:pt x="88" y="195"/>
                    </a:lnTo>
                    <a:lnTo>
                      <a:pt x="88" y="212"/>
                    </a:lnTo>
                    <a:lnTo>
                      <a:pt x="88" y="234"/>
                    </a:lnTo>
                    <a:lnTo>
                      <a:pt x="92" y="269"/>
                    </a:lnTo>
                    <a:lnTo>
                      <a:pt x="115" y="341"/>
                    </a:lnTo>
                    <a:lnTo>
                      <a:pt x="150" y="394"/>
                    </a:lnTo>
                    <a:lnTo>
                      <a:pt x="199" y="429"/>
                    </a:lnTo>
                    <a:lnTo>
                      <a:pt x="190" y="429"/>
                    </a:lnTo>
                    <a:lnTo>
                      <a:pt x="97" y="429"/>
                    </a:lnTo>
                    <a:lnTo>
                      <a:pt x="48" y="381"/>
                    </a:lnTo>
                    <a:lnTo>
                      <a:pt x="13" y="318"/>
                    </a:lnTo>
                    <a:lnTo>
                      <a:pt x="0" y="252"/>
                    </a:lnTo>
                    <a:lnTo>
                      <a:pt x="0" y="217"/>
                    </a:lnTo>
                    <a:lnTo>
                      <a:pt x="0" y="199"/>
                    </a:lnTo>
                    <a:lnTo>
                      <a:pt x="0" y="186"/>
                    </a:lnTo>
                    <a:lnTo>
                      <a:pt x="30" y="66"/>
                    </a:lnTo>
                    <a:lnTo>
                      <a:pt x="57" y="26"/>
                    </a:lnTo>
                    <a:lnTo>
                      <a:pt x="88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22800" y="5268960"/>
                <a:ext cx="68400" cy="149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159520" y="5318280"/>
                <a:ext cx="25560" cy="54000"/>
              </a:xfrm>
              <a:prstGeom prst="ellipse">
                <a:avLst/>
              </a:prstGeom>
              <a:solidFill>
                <a:srgbClr val="8f8f8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84640" y="5270400"/>
                <a:ext cx="68760" cy="151200"/>
              </a:xfrm>
              <a:custGeom>
                <a:avLst/>
                <a:gdLst/>
                <a:ahLst/>
                <a:rect l="0" t="0" r="r" b="b"/>
                <a:pathLst>
                  <a:path w="191" h="420">
                    <a:moveTo>
                      <a:pt x="178" y="0"/>
                    </a:moveTo>
                    <a:lnTo>
                      <a:pt x="147" y="26"/>
                    </a:lnTo>
                    <a:lnTo>
                      <a:pt x="120" y="70"/>
                    </a:lnTo>
                    <a:lnTo>
                      <a:pt x="102" y="128"/>
                    </a:lnTo>
                    <a:lnTo>
                      <a:pt x="102" y="159"/>
                    </a:lnTo>
                    <a:lnTo>
                      <a:pt x="98" y="195"/>
                    </a:lnTo>
                    <a:lnTo>
                      <a:pt x="124" y="323"/>
                    </a:lnTo>
                    <a:lnTo>
                      <a:pt x="151" y="376"/>
                    </a:lnTo>
                    <a:lnTo>
                      <a:pt x="191" y="420"/>
                    </a:lnTo>
                    <a:lnTo>
                      <a:pt x="165" y="420"/>
                    </a:lnTo>
                    <a:lnTo>
                      <a:pt x="89" y="420"/>
                    </a:lnTo>
                    <a:lnTo>
                      <a:pt x="39" y="368"/>
                    </a:lnTo>
                    <a:lnTo>
                      <a:pt x="13" y="305"/>
                    </a:lnTo>
                    <a:lnTo>
                      <a:pt x="0" y="239"/>
                    </a:lnTo>
                    <a:lnTo>
                      <a:pt x="0" y="203"/>
                    </a:lnTo>
                    <a:lnTo>
                      <a:pt x="0" y="186"/>
                    </a:lnTo>
                    <a:lnTo>
                      <a:pt x="4" y="168"/>
                    </a:lnTo>
                    <a:lnTo>
                      <a:pt x="39" y="57"/>
                    </a:lnTo>
                    <a:lnTo>
                      <a:pt x="62" y="17"/>
                    </a:lnTo>
                    <a:lnTo>
                      <a:pt x="93" y="0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186520" y="5268960"/>
                <a:ext cx="66600" cy="149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208480" y="5316480"/>
                <a:ext cx="25560" cy="54000"/>
              </a:xfrm>
              <a:prstGeom prst="ellipse">
                <a:avLst/>
              </a:prstGeom>
              <a:solidFill>
                <a:srgbClr val="a2a2a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40440" y="5268960"/>
                <a:ext cx="74880" cy="152640"/>
              </a:xfrm>
              <a:custGeom>
                <a:avLst/>
                <a:gdLst/>
                <a:ahLst/>
                <a:rect l="0" t="0" r="r" b="b"/>
                <a:pathLst>
                  <a:path w="208" h="424">
                    <a:moveTo>
                      <a:pt x="208" y="0"/>
                    </a:moveTo>
                    <a:lnTo>
                      <a:pt x="168" y="39"/>
                    </a:lnTo>
                    <a:lnTo>
                      <a:pt x="137" y="83"/>
                    </a:lnTo>
                    <a:lnTo>
                      <a:pt x="115" y="202"/>
                    </a:lnTo>
                    <a:lnTo>
                      <a:pt x="115" y="230"/>
                    </a:lnTo>
                    <a:lnTo>
                      <a:pt x="120" y="265"/>
                    </a:lnTo>
                    <a:lnTo>
                      <a:pt x="137" y="322"/>
                    </a:lnTo>
                    <a:lnTo>
                      <a:pt x="164" y="375"/>
                    </a:lnTo>
                    <a:lnTo>
                      <a:pt x="208" y="424"/>
                    </a:lnTo>
                    <a:lnTo>
                      <a:pt x="177" y="419"/>
                    </a:lnTo>
                    <a:lnTo>
                      <a:pt x="92" y="419"/>
                    </a:lnTo>
                    <a:lnTo>
                      <a:pt x="44" y="362"/>
                    </a:lnTo>
                    <a:lnTo>
                      <a:pt x="13" y="296"/>
                    </a:lnTo>
                    <a:lnTo>
                      <a:pt x="0" y="230"/>
                    </a:lnTo>
                    <a:lnTo>
                      <a:pt x="0" y="198"/>
                    </a:lnTo>
                    <a:lnTo>
                      <a:pt x="4" y="167"/>
                    </a:lnTo>
                    <a:lnTo>
                      <a:pt x="39" y="61"/>
                    </a:lnTo>
                    <a:lnTo>
                      <a:pt x="97" y="4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219640" y="5261040"/>
                <a:ext cx="133560" cy="109800"/>
              </a:xfrm>
              <a:custGeom>
                <a:avLst/>
                <a:gdLst/>
                <a:ahLst/>
                <a:rect l="0" t="0" r="r" b="b"/>
                <a:pathLst>
                  <a:path w="371" h="305">
                    <a:moveTo>
                      <a:pt x="349" y="0"/>
                    </a:moveTo>
                    <a:lnTo>
                      <a:pt x="35" y="0"/>
                    </a:lnTo>
                    <a:lnTo>
                      <a:pt x="30" y="155"/>
                    </a:lnTo>
                    <a:lnTo>
                      <a:pt x="22" y="155"/>
                    </a:lnTo>
                    <a:lnTo>
                      <a:pt x="17" y="159"/>
                    </a:lnTo>
                    <a:lnTo>
                      <a:pt x="13" y="168"/>
                    </a:lnTo>
                    <a:lnTo>
                      <a:pt x="13" y="172"/>
                    </a:lnTo>
                    <a:lnTo>
                      <a:pt x="4" y="181"/>
                    </a:lnTo>
                    <a:lnTo>
                      <a:pt x="4" y="195"/>
                    </a:lnTo>
                    <a:lnTo>
                      <a:pt x="4" y="203"/>
                    </a:lnTo>
                    <a:lnTo>
                      <a:pt x="0" y="212"/>
                    </a:lnTo>
                    <a:lnTo>
                      <a:pt x="0" y="225"/>
                    </a:lnTo>
                    <a:lnTo>
                      <a:pt x="0" y="234"/>
                    </a:lnTo>
                    <a:lnTo>
                      <a:pt x="0" y="247"/>
                    </a:lnTo>
                    <a:lnTo>
                      <a:pt x="4" y="261"/>
                    </a:lnTo>
                    <a:lnTo>
                      <a:pt x="4" y="269"/>
                    </a:lnTo>
                    <a:lnTo>
                      <a:pt x="8" y="274"/>
                    </a:lnTo>
                    <a:lnTo>
                      <a:pt x="13" y="287"/>
                    </a:lnTo>
                    <a:lnTo>
                      <a:pt x="17" y="292"/>
                    </a:lnTo>
                    <a:lnTo>
                      <a:pt x="22" y="300"/>
                    </a:lnTo>
                    <a:lnTo>
                      <a:pt x="26" y="300"/>
                    </a:lnTo>
                    <a:lnTo>
                      <a:pt x="30" y="300"/>
                    </a:lnTo>
                    <a:lnTo>
                      <a:pt x="39" y="305"/>
                    </a:lnTo>
                    <a:lnTo>
                      <a:pt x="39" y="300"/>
                    </a:lnTo>
                    <a:lnTo>
                      <a:pt x="261" y="305"/>
                    </a:lnTo>
                    <a:lnTo>
                      <a:pt x="261" y="305"/>
                    </a:lnTo>
                    <a:lnTo>
                      <a:pt x="261" y="287"/>
                    </a:lnTo>
                    <a:lnTo>
                      <a:pt x="261" y="269"/>
                    </a:lnTo>
                    <a:lnTo>
                      <a:pt x="256" y="247"/>
                    </a:lnTo>
                    <a:lnTo>
                      <a:pt x="256" y="234"/>
                    </a:lnTo>
                    <a:lnTo>
                      <a:pt x="256" y="208"/>
                    </a:lnTo>
                    <a:lnTo>
                      <a:pt x="256" y="195"/>
                    </a:lnTo>
                    <a:lnTo>
                      <a:pt x="261" y="172"/>
                    </a:lnTo>
                    <a:lnTo>
                      <a:pt x="261" y="155"/>
                    </a:lnTo>
                    <a:lnTo>
                      <a:pt x="265" y="141"/>
                    </a:lnTo>
                    <a:lnTo>
                      <a:pt x="269" y="123"/>
                    </a:lnTo>
                    <a:lnTo>
                      <a:pt x="274" y="101"/>
                    </a:lnTo>
                    <a:lnTo>
                      <a:pt x="278" y="92"/>
                    </a:lnTo>
                    <a:lnTo>
                      <a:pt x="283" y="74"/>
                    </a:lnTo>
                    <a:lnTo>
                      <a:pt x="292" y="61"/>
                    </a:lnTo>
                    <a:lnTo>
                      <a:pt x="300" y="52"/>
                    </a:lnTo>
                    <a:lnTo>
                      <a:pt x="305" y="39"/>
                    </a:lnTo>
                    <a:lnTo>
                      <a:pt x="314" y="30"/>
                    </a:lnTo>
                    <a:lnTo>
                      <a:pt x="322" y="22"/>
                    </a:lnTo>
                    <a:lnTo>
                      <a:pt x="331" y="17"/>
                    </a:lnTo>
                    <a:lnTo>
                      <a:pt x="340" y="13"/>
                    </a:lnTo>
                    <a:lnTo>
                      <a:pt x="349" y="8"/>
                    </a:lnTo>
                    <a:lnTo>
                      <a:pt x="362" y="8"/>
                    </a:lnTo>
                    <a:lnTo>
                      <a:pt x="371" y="8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334120" y="5262480"/>
                <a:ext cx="79200" cy="160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380200" y="5315040"/>
                <a:ext cx="25560" cy="52560"/>
              </a:xfrm>
              <a:prstGeom prst="ellipse">
                <a:avLst/>
              </a:prstGeom>
              <a:solidFill>
                <a:srgbClr val="8f8f8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00640" y="5262480"/>
                <a:ext cx="74880" cy="163800"/>
              </a:xfrm>
              <a:custGeom>
                <a:avLst/>
                <a:gdLst/>
                <a:ahLst/>
                <a:rect l="0" t="0" r="r" b="b"/>
                <a:pathLst>
                  <a:path w="208" h="455">
                    <a:moveTo>
                      <a:pt x="203" y="0"/>
                    </a:moveTo>
                    <a:lnTo>
                      <a:pt x="150" y="26"/>
                    </a:lnTo>
                    <a:lnTo>
                      <a:pt x="111" y="79"/>
                    </a:lnTo>
                    <a:lnTo>
                      <a:pt x="92" y="149"/>
                    </a:lnTo>
                    <a:lnTo>
                      <a:pt x="88" y="185"/>
                    </a:lnTo>
                    <a:lnTo>
                      <a:pt x="88" y="202"/>
                    </a:lnTo>
                    <a:lnTo>
                      <a:pt x="88" y="224"/>
                    </a:lnTo>
                    <a:lnTo>
                      <a:pt x="124" y="371"/>
                    </a:lnTo>
                    <a:lnTo>
                      <a:pt x="159" y="424"/>
                    </a:lnTo>
                    <a:lnTo>
                      <a:pt x="208" y="455"/>
                    </a:lnTo>
                    <a:lnTo>
                      <a:pt x="199" y="455"/>
                    </a:lnTo>
                    <a:lnTo>
                      <a:pt x="106" y="455"/>
                    </a:lnTo>
                    <a:lnTo>
                      <a:pt x="44" y="393"/>
                    </a:lnTo>
                    <a:lnTo>
                      <a:pt x="13" y="322"/>
                    </a:lnTo>
                    <a:lnTo>
                      <a:pt x="0" y="252"/>
                    </a:lnTo>
                    <a:lnTo>
                      <a:pt x="0" y="216"/>
                    </a:lnTo>
                    <a:lnTo>
                      <a:pt x="4" y="180"/>
                    </a:lnTo>
                    <a:lnTo>
                      <a:pt x="48" y="66"/>
                    </a:lnTo>
                    <a:lnTo>
                      <a:pt x="79" y="26"/>
                    </a:lnTo>
                    <a:lnTo>
                      <a:pt x="115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392800" y="5262480"/>
                <a:ext cx="77760" cy="163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424480" y="5311800"/>
                <a:ext cx="25560" cy="55440"/>
              </a:xfrm>
              <a:prstGeom prst="ellipse">
                <a:avLst/>
              </a:prstGeom>
              <a:solidFill>
                <a:srgbClr val="a2a2a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354640" y="5262480"/>
                <a:ext cx="79560" cy="167040"/>
              </a:xfrm>
              <a:custGeom>
                <a:avLst/>
                <a:gdLst/>
                <a:ahLst/>
                <a:rect l="0" t="0" r="r" b="b"/>
                <a:pathLst>
                  <a:path w="221" h="464">
                    <a:moveTo>
                      <a:pt x="212" y="0"/>
                    </a:moveTo>
                    <a:lnTo>
                      <a:pt x="190" y="4"/>
                    </a:lnTo>
                    <a:lnTo>
                      <a:pt x="168" y="17"/>
                    </a:lnTo>
                    <a:lnTo>
                      <a:pt x="133" y="61"/>
                    </a:lnTo>
                    <a:lnTo>
                      <a:pt x="101" y="211"/>
                    </a:lnTo>
                    <a:lnTo>
                      <a:pt x="101" y="229"/>
                    </a:lnTo>
                    <a:lnTo>
                      <a:pt x="101" y="252"/>
                    </a:lnTo>
                    <a:lnTo>
                      <a:pt x="105" y="292"/>
                    </a:lnTo>
                    <a:lnTo>
                      <a:pt x="128" y="367"/>
                    </a:lnTo>
                    <a:lnTo>
                      <a:pt x="164" y="428"/>
                    </a:lnTo>
                    <a:lnTo>
                      <a:pt x="221" y="464"/>
                    </a:lnTo>
                    <a:lnTo>
                      <a:pt x="212" y="464"/>
                    </a:lnTo>
                    <a:lnTo>
                      <a:pt x="105" y="459"/>
                    </a:lnTo>
                    <a:lnTo>
                      <a:pt x="52" y="406"/>
                    </a:lnTo>
                    <a:lnTo>
                      <a:pt x="17" y="340"/>
                    </a:lnTo>
                    <a:lnTo>
                      <a:pt x="4" y="269"/>
                    </a:lnTo>
                    <a:lnTo>
                      <a:pt x="0" y="234"/>
                    </a:lnTo>
                    <a:lnTo>
                      <a:pt x="0" y="216"/>
                    </a:lnTo>
                    <a:lnTo>
                      <a:pt x="0" y="198"/>
                    </a:lnTo>
                    <a:lnTo>
                      <a:pt x="35" y="70"/>
                    </a:lnTo>
                    <a:lnTo>
                      <a:pt x="61" y="26"/>
                    </a:lnTo>
                    <a:lnTo>
                      <a:pt x="97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67240" y="5122800"/>
                <a:ext cx="78120" cy="33840"/>
              </a:xfrm>
              <a:custGeom>
                <a:avLst/>
                <a:gdLst/>
                <a:ahLst/>
                <a:rect l="0" t="0" r="r" b="b"/>
                <a:pathLst>
                  <a:path w="217" h="94">
                    <a:moveTo>
                      <a:pt x="0" y="0"/>
                    </a:moveTo>
                    <a:lnTo>
                      <a:pt x="217" y="67"/>
                    </a:lnTo>
                    <a:lnTo>
                      <a:pt x="186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721400" y="5126040"/>
                <a:ext cx="74880" cy="30600"/>
              </a:xfrm>
              <a:custGeom>
                <a:avLst/>
                <a:gdLst/>
                <a:ahLst/>
                <a:rect l="0" t="0" r="r" b="b"/>
                <a:pathLst>
                  <a:path w="208" h="85">
                    <a:moveTo>
                      <a:pt x="0" y="49"/>
                    </a:moveTo>
                    <a:lnTo>
                      <a:pt x="4" y="62"/>
                    </a:lnTo>
                    <a:lnTo>
                      <a:pt x="35" y="85"/>
                    </a:lnTo>
                    <a:lnTo>
                      <a:pt x="208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3fc0ff"/>
              </a:solidFill>
              <a:ln w="12600">
                <a:solidFill>
                  <a:srgbClr val="3fc0ff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41680" y="4718160"/>
                <a:ext cx="366840" cy="241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460760" y="4775040"/>
                <a:ext cx="347760" cy="190440"/>
              </a:xfrm>
              <a:prstGeom prst="roundRect">
                <a:avLst/>
              </a:prstGeom>
              <a:solidFill>
                <a:srgbClr val="008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59280" y="539100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w="120" h="72">
                    <a:moveTo>
                      <a:pt x="0" y="72"/>
                    </a:moveTo>
                    <a:lnTo>
                      <a:pt x="0" y="0"/>
                    </a:lnTo>
                    <a:lnTo>
                      <a:pt x="120" y="5"/>
                    </a:lnTo>
                    <a:lnTo>
                      <a:pt x="120" y="16"/>
                    </a:lnTo>
                    <a:lnTo>
                      <a:pt x="120" y="38"/>
                    </a:lnTo>
                    <a:lnTo>
                      <a:pt x="120" y="44"/>
                    </a:lnTo>
                    <a:lnTo>
                      <a:pt x="120" y="56"/>
                    </a:lnTo>
                    <a:lnTo>
                      <a:pt x="12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5f5f5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902120" y="5375160"/>
                <a:ext cx="30600" cy="51120"/>
              </a:xfrm>
              <a:custGeom>
                <a:avLst/>
                <a:gdLst/>
                <a:ahLst/>
                <a:rect l="0" t="0" r="r" b="b"/>
                <a:pathLst>
                  <a:path w="85" h="142">
                    <a:moveTo>
                      <a:pt x="85" y="142"/>
                    </a:moveTo>
                    <a:lnTo>
                      <a:pt x="81" y="142"/>
                    </a:lnTo>
                    <a:lnTo>
                      <a:pt x="72" y="137"/>
                    </a:lnTo>
                    <a:lnTo>
                      <a:pt x="72" y="128"/>
                    </a:lnTo>
                    <a:lnTo>
                      <a:pt x="68" y="128"/>
                    </a:lnTo>
                    <a:lnTo>
                      <a:pt x="62" y="115"/>
                    </a:lnTo>
                    <a:lnTo>
                      <a:pt x="58" y="111"/>
                    </a:lnTo>
                    <a:lnTo>
                      <a:pt x="53" y="102"/>
                    </a:lnTo>
                    <a:lnTo>
                      <a:pt x="53" y="89"/>
                    </a:lnTo>
                    <a:lnTo>
                      <a:pt x="53" y="80"/>
                    </a:lnTo>
                    <a:lnTo>
                      <a:pt x="53" y="70"/>
                    </a:lnTo>
                    <a:lnTo>
                      <a:pt x="53" y="57"/>
                    </a:lnTo>
                    <a:lnTo>
                      <a:pt x="53" y="44"/>
                    </a:lnTo>
                    <a:lnTo>
                      <a:pt x="53" y="39"/>
                    </a:lnTo>
                    <a:lnTo>
                      <a:pt x="58" y="30"/>
                    </a:lnTo>
                    <a:lnTo>
                      <a:pt x="58" y="26"/>
                    </a:lnTo>
                    <a:lnTo>
                      <a:pt x="62" y="13"/>
                    </a:lnTo>
                    <a:lnTo>
                      <a:pt x="68" y="4"/>
                    </a:lnTo>
                    <a:lnTo>
                      <a:pt x="72" y="0"/>
                    </a:lnTo>
                    <a:lnTo>
                      <a:pt x="23" y="0"/>
                    </a:lnTo>
                    <a:lnTo>
                      <a:pt x="17" y="4"/>
                    </a:lnTo>
                    <a:lnTo>
                      <a:pt x="13" y="13"/>
                    </a:lnTo>
                    <a:lnTo>
                      <a:pt x="13" y="26"/>
                    </a:lnTo>
                    <a:lnTo>
                      <a:pt x="4" y="26"/>
                    </a:lnTo>
                    <a:lnTo>
                      <a:pt x="0" y="39"/>
                    </a:lnTo>
                    <a:lnTo>
                      <a:pt x="0" y="44"/>
                    </a:lnTo>
                    <a:lnTo>
                      <a:pt x="0" y="57"/>
                    </a:lnTo>
                    <a:lnTo>
                      <a:pt x="0" y="70"/>
                    </a:lnTo>
                    <a:lnTo>
                      <a:pt x="0" y="80"/>
                    </a:lnTo>
                    <a:lnTo>
                      <a:pt x="0" y="93"/>
                    </a:lnTo>
                    <a:lnTo>
                      <a:pt x="4" y="102"/>
                    </a:lnTo>
                    <a:lnTo>
                      <a:pt x="13" y="111"/>
                    </a:lnTo>
                    <a:lnTo>
                      <a:pt x="13" y="115"/>
                    </a:lnTo>
                    <a:lnTo>
                      <a:pt x="17" y="128"/>
                    </a:lnTo>
                    <a:lnTo>
                      <a:pt x="23" y="128"/>
                    </a:lnTo>
                    <a:lnTo>
                      <a:pt x="23" y="137"/>
                    </a:lnTo>
                    <a:lnTo>
                      <a:pt x="31" y="142"/>
                    </a:lnTo>
                    <a:lnTo>
                      <a:pt x="36" y="142"/>
                    </a:lnTo>
                    <a:lnTo>
                      <a:pt x="85" y="142"/>
                    </a:lnTo>
                    <a:close/>
                  </a:path>
                </a:pathLst>
              </a:custGeom>
              <a:solidFill>
                <a:srgbClr val="2f2f2f"/>
              </a:solidFill>
              <a:ln w="12600">
                <a:solidFill>
                  <a:srgbClr val="2f2f2f"/>
                </a:solidFill>
                <a:round/>
              </a:ln>
            </p:spPr>
            <p:txBody>
              <a:bodyPr lIns="96120" rIns="9612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921200" y="5262480"/>
                <a:ext cx="27360" cy="163800"/>
              </a:xfrm>
              <a:custGeom>
                <a:avLst/>
                <a:gdLst/>
                <a:ahLst/>
                <a:rect l="0" t="0" r="r" b="b"/>
                <a:pathLst>
                  <a:path w="76" h="455">
                    <a:moveTo>
                      <a:pt x="53" y="0"/>
                    </a:moveTo>
                    <a:lnTo>
                      <a:pt x="53" y="314"/>
                    </a:lnTo>
                    <a:lnTo>
                      <a:pt x="59" y="314"/>
                    </a:lnTo>
                    <a:lnTo>
                      <a:pt x="59" y="318"/>
                    </a:lnTo>
                    <a:lnTo>
                      <a:pt x="63" y="322"/>
                    </a:lnTo>
                    <a:lnTo>
                      <a:pt x="63" y="322"/>
                    </a:lnTo>
                    <a:lnTo>
                      <a:pt x="68" y="331"/>
                    </a:lnTo>
                    <a:lnTo>
                      <a:pt x="68" y="331"/>
                    </a:lnTo>
                    <a:lnTo>
                      <a:pt x="68" y="336"/>
                    </a:lnTo>
                    <a:lnTo>
                      <a:pt x="68" y="340"/>
                    </a:lnTo>
                    <a:lnTo>
                      <a:pt x="72" y="344"/>
                    </a:lnTo>
                    <a:lnTo>
                      <a:pt x="72" y="349"/>
                    </a:lnTo>
                    <a:lnTo>
                      <a:pt x="72" y="349"/>
                    </a:lnTo>
                    <a:lnTo>
                      <a:pt x="72" y="353"/>
                    </a:lnTo>
                    <a:lnTo>
                      <a:pt x="76" y="358"/>
                    </a:lnTo>
                    <a:lnTo>
                      <a:pt x="76" y="362"/>
                    </a:lnTo>
                    <a:lnTo>
                      <a:pt x="76" y="371"/>
                    </a:lnTo>
                    <a:lnTo>
                      <a:pt x="76" y="371"/>
                    </a:lnTo>
                    <a:lnTo>
                      <a:pt x="76" y="375"/>
                    </a:lnTo>
                    <a:lnTo>
                      <a:pt x="76" y="384"/>
                    </a:lnTo>
                    <a:lnTo>
                      <a:pt x="76" y="384"/>
                    </a:lnTo>
                    <a:lnTo>
                      <a:pt x="76" y="389"/>
                    </a:lnTo>
                    <a:lnTo>
                      <a:pt x="76" y="393"/>
                    </a:lnTo>
                    <a:lnTo>
                      <a:pt x="76" y="402"/>
                    </a:lnTo>
                    <a:lnTo>
                      <a:pt x="76" y="406"/>
                    </a:lnTo>
                    <a:lnTo>
                      <a:pt x="72" y="406"/>
                    </a:lnTo>
                    <a:lnTo>
                      <a:pt x="72" y="411"/>
                    </a:lnTo>
                    <a:lnTo>
                      <a:pt x="72" y="415"/>
                    </a:lnTo>
                    <a:lnTo>
                      <a:pt x="68" y="419"/>
                    </a:lnTo>
                    <a:lnTo>
                      <a:pt x="68" y="424"/>
                    </a:lnTo>
                    <a:lnTo>
                      <a:pt x="68" y="424"/>
                    </a:lnTo>
                    <a:lnTo>
                      <a:pt x="68" y="428"/>
                    </a:lnTo>
                    <a:lnTo>
                      <a:pt x="63" y="433"/>
                    </a:lnTo>
                    <a:lnTo>
                      <a:pt x="63" y="437"/>
                    </a:lnTo>
                    <a:lnTo>
                      <a:pt x="59" y="437"/>
                    </a:lnTo>
                    <a:lnTo>
                      <a:pt x="59" y="441"/>
                    </a:lnTo>
                    <a:lnTo>
                      <a:pt x="53" y="441"/>
                    </a:lnTo>
                    <a:lnTo>
                      <a:pt x="53" y="446"/>
                    </a:lnTo>
                    <a:lnTo>
                      <a:pt x="53" y="446"/>
                    </a:lnTo>
                    <a:lnTo>
                      <a:pt x="49" y="450"/>
                    </a:lnTo>
                    <a:lnTo>
                      <a:pt x="49" y="450"/>
                    </a:lnTo>
                    <a:lnTo>
                      <a:pt x="45" y="455"/>
                    </a:lnTo>
                    <a:lnTo>
                      <a:pt x="40" y="455"/>
                    </a:lnTo>
                    <a:lnTo>
                      <a:pt x="40" y="455"/>
                    </a:lnTo>
                    <a:lnTo>
                      <a:pt x="36" y="455"/>
                    </a:lnTo>
                    <a:lnTo>
                      <a:pt x="31" y="455"/>
                    </a:lnTo>
                    <a:lnTo>
                      <a:pt x="27" y="455"/>
                    </a:lnTo>
                    <a:lnTo>
                      <a:pt x="27" y="450"/>
                    </a:lnTo>
                    <a:lnTo>
                      <a:pt x="23" y="446"/>
                    </a:lnTo>
                    <a:lnTo>
                      <a:pt x="17" y="441"/>
                    </a:lnTo>
                    <a:lnTo>
                      <a:pt x="17" y="441"/>
                    </a:lnTo>
                    <a:lnTo>
                      <a:pt x="17" y="437"/>
                    </a:lnTo>
                    <a:lnTo>
                      <a:pt x="13" y="437"/>
                    </a:lnTo>
                    <a:lnTo>
                      <a:pt x="13" y="428"/>
                    </a:lnTo>
                    <a:lnTo>
                      <a:pt x="8" y="428"/>
                    </a:lnTo>
                    <a:lnTo>
                      <a:pt x="8" y="424"/>
                    </a:lnTo>
                    <a:lnTo>
                      <a:pt x="8" y="424"/>
                    </a:lnTo>
                    <a:lnTo>
                      <a:pt x="8" y="419"/>
                    </a:lnTo>
                    <a:lnTo>
                      <a:pt x="4" y="415"/>
                    </a:lnTo>
                    <a:lnTo>
                      <a:pt x="4" y="411"/>
                    </a:lnTo>
                    <a:lnTo>
                      <a:pt x="4" y="406"/>
                    </a:lnTo>
                    <a:lnTo>
                      <a:pt x="4" y="402"/>
                    </a:lnTo>
                    <a:lnTo>
                      <a:pt x="0" y="397"/>
                    </a:lnTo>
                    <a:lnTo>
                      <a:pt x="0" y="393"/>
                    </a:lnTo>
                    <a:lnTo>
                      <a:pt x="0" y="389"/>
                    </a:lnTo>
                    <a:lnTo>
                      <a:pt x="0" y="384"/>
                    </a:lnTo>
                    <a:lnTo>
                      <a:pt x="0" y="384"/>
                    </a:lnTo>
                    <a:lnTo>
                      <a:pt x="0" y="371"/>
                    </a:lnTo>
                    <a:lnTo>
                      <a:pt x="0" y="371"/>
                    </a:lnTo>
                    <a:lnTo>
                      <a:pt x="0" y="367"/>
                    </a:lnTo>
                    <a:lnTo>
                      <a:pt x="0" y="362"/>
                    </a:lnTo>
                    <a:lnTo>
                      <a:pt x="4" y="358"/>
                    </a:lnTo>
                    <a:lnTo>
                      <a:pt x="4" y="353"/>
                    </a:lnTo>
                    <a:lnTo>
                      <a:pt x="4" y="349"/>
                    </a:lnTo>
                    <a:lnTo>
                      <a:pt x="4" y="344"/>
                    </a:lnTo>
                    <a:lnTo>
                      <a:pt x="4" y="344"/>
                    </a:lnTo>
                    <a:lnTo>
                      <a:pt x="8" y="336"/>
                    </a:lnTo>
                    <a:lnTo>
                      <a:pt x="8" y="336"/>
                    </a:lnTo>
                    <a:lnTo>
                      <a:pt x="8" y="331"/>
                    </a:lnTo>
                    <a:lnTo>
                      <a:pt x="13" y="327"/>
                    </a:lnTo>
                    <a:lnTo>
                      <a:pt x="13" y="322"/>
                    </a:lnTo>
                    <a:lnTo>
                      <a:pt x="13" y="318"/>
                    </a:lnTo>
                    <a:lnTo>
                      <a:pt x="17" y="318"/>
                    </a:lnTo>
                    <a:lnTo>
                      <a:pt x="17" y="314"/>
                    </a:lnTo>
                    <a:lnTo>
                      <a:pt x="17" y="314"/>
                    </a:lnTo>
                    <a:lnTo>
                      <a:pt x="17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910040" y="5262480"/>
                <a:ext cx="25920" cy="113040"/>
              </a:xfrm>
              <a:custGeom>
                <a:avLst/>
                <a:gdLst/>
                <a:ahLst/>
                <a:rect l="0" t="0" r="r" b="b"/>
                <a:pathLst>
                  <a:path w="72" h="314">
                    <a:moveTo>
                      <a:pt x="72" y="0"/>
                    </a:moveTo>
                    <a:lnTo>
                      <a:pt x="72" y="314"/>
                    </a:lnTo>
                    <a:lnTo>
                      <a:pt x="0" y="314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2f2f2f"/>
              </a:solidFill>
              <a:ln w="12600">
                <a:solidFill>
                  <a:srgbClr val="2f2f2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99160" y="4718160"/>
                <a:ext cx="767160" cy="545040"/>
              </a:xfrm>
              <a:custGeom>
                <a:avLst/>
                <a:gdLst/>
                <a:ahLst/>
                <a:rect l="0" t="0" r="r" b="b"/>
                <a:pathLst>
                  <a:path w="2131" h="1514">
                    <a:moveTo>
                      <a:pt x="17" y="0"/>
                    </a:moveTo>
                    <a:lnTo>
                      <a:pt x="0" y="0"/>
                    </a:lnTo>
                    <a:lnTo>
                      <a:pt x="0" y="167"/>
                    </a:lnTo>
                    <a:lnTo>
                      <a:pt x="8" y="185"/>
                    </a:lnTo>
                    <a:lnTo>
                      <a:pt x="13" y="202"/>
                    </a:lnTo>
                    <a:lnTo>
                      <a:pt x="17" y="216"/>
                    </a:lnTo>
                    <a:lnTo>
                      <a:pt x="17" y="229"/>
                    </a:lnTo>
                    <a:lnTo>
                      <a:pt x="17" y="242"/>
                    </a:lnTo>
                    <a:lnTo>
                      <a:pt x="17" y="251"/>
                    </a:lnTo>
                    <a:lnTo>
                      <a:pt x="17" y="680"/>
                    </a:lnTo>
                    <a:lnTo>
                      <a:pt x="39" y="675"/>
                    </a:lnTo>
                    <a:lnTo>
                      <a:pt x="61" y="688"/>
                    </a:lnTo>
                    <a:lnTo>
                      <a:pt x="79" y="693"/>
                    </a:lnTo>
                    <a:lnTo>
                      <a:pt x="97" y="702"/>
                    </a:lnTo>
                    <a:lnTo>
                      <a:pt x="105" y="719"/>
                    </a:lnTo>
                    <a:lnTo>
                      <a:pt x="114" y="737"/>
                    </a:lnTo>
                    <a:lnTo>
                      <a:pt x="119" y="755"/>
                    </a:lnTo>
                    <a:lnTo>
                      <a:pt x="119" y="777"/>
                    </a:lnTo>
                    <a:lnTo>
                      <a:pt x="119" y="927"/>
                    </a:lnTo>
                    <a:lnTo>
                      <a:pt x="185" y="927"/>
                    </a:lnTo>
                    <a:lnTo>
                      <a:pt x="185" y="860"/>
                    </a:lnTo>
                    <a:lnTo>
                      <a:pt x="304" y="860"/>
                    </a:lnTo>
                    <a:lnTo>
                      <a:pt x="304" y="1245"/>
                    </a:lnTo>
                    <a:lnTo>
                      <a:pt x="185" y="1245"/>
                    </a:lnTo>
                    <a:lnTo>
                      <a:pt x="185" y="1188"/>
                    </a:lnTo>
                    <a:lnTo>
                      <a:pt x="119" y="1188"/>
                    </a:lnTo>
                    <a:lnTo>
                      <a:pt x="119" y="1514"/>
                    </a:lnTo>
                    <a:lnTo>
                      <a:pt x="2123" y="1510"/>
                    </a:lnTo>
                    <a:lnTo>
                      <a:pt x="2131" y="34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59240" y="5027760"/>
                <a:ext cx="38160" cy="1332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00640" y="5051520"/>
                <a:ext cx="25560" cy="25560"/>
              </a:xfrm>
              <a:prstGeom prst="rect">
                <a:avLst/>
              </a:prstGeom>
              <a:solidFill>
                <a:srgbClr val="0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400640" y="5130720"/>
                <a:ext cx="25560" cy="25560"/>
              </a:xfrm>
              <a:prstGeom prst="rect">
                <a:avLst/>
              </a:prstGeom>
              <a:solidFill>
                <a:srgbClr val="0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67240" y="5124600"/>
                <a:ext cx="76680" cy="30600"/>
              </a:xfrm>
              <a:custGeom>
                <a:avLst/>
                <a:gdLst/>
                <a:ahLst/>
                <a:rect l="0" t="0" r="r" b="b"/>
                <a:pathLst>
                  <a:path fill="none" w="213" h="85">
                    <a:moveTo>
                      <a:pt x="0" y="0"/>
                    </a:moveTo>
                    <a:lnTo>
                      <a:pt x="182" y="85"/>
                    </a:lnTo>
                    <a:lnTo>
                      <a:pt x="213" y="5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22840" y="5124600"/>
                <a:ext cx="79560" cy="30600"/>
              </a:xfrm>
              <a:custGeom>
                <a:avLst/>
                <a:gdLst/>
                <a:ahLst/>
                <a:rect l="0" t="0" r="r" b="b"/>
                <a:pathLst>
                  <a:path fill="none" w="221" h="85">
                    <a:moveTo>
                      <a:pt x="221" y="0"/>
                    </a:moveTo>
                    <a:lnTo>
                      <a:pt x="30" y="85"/>
                    </a:lnTo>
                    <a:lnTo>
                      <a:pt x="0" y="5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68680" y="5122800"/>
                <a:ext cx="332280" cy="25920"/>
              </a:xfrm>
              <a:custGeom>
                <a:avLst/>
                <a:gdLst/>
                <a:ahLst/>
                <a:rect l="0" t="0" r="r" b="b"/>
                <a:pathLst>
                  <a:path w="923" h="72">
                    <a:moveTo>
                      <a:pt x="0" y="0"/>
                    </a:moveTo>
                    <a:lnTo>
                      <a:pt x="4" y="5"/>
                    </a:lnTo>
                    <a:lnTo>
                      <a:pt x="216" y="72"/>
                    </a:lnTo>
                    <a:lnTo>
                      <a:pt x="716" y="67"/>
                    </a:lnTo>
                    <a:lnTo>
                      <a:pt x="923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843440" y="5064120"/>
                <a:ext cx="25920" cy="66960"/>
              </a:xfrm>
              <a:custGeom>
                <a:avLst/>
                <a:gdLst/>
                <a:ahLst/>
                <a:rect l="0" t="0" r="r" b="b"/>
                <a:pathLst>
                  <a:path w="72" h="186">
                    <a:moveTo>
                      <a:pt x="0" y="0"/>
                    </a:moveTo>
                    <a:lnTo>
                      <a:pt x="0" y="186"/>
                    </a:lnTo>
                    <a:lnTo>
                      <a:pt x="72" y="186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70440" y="5027760"/>
                <a:ext cx="38160" cy="133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46680" y="5051520"/>
                <a:ext cx="25560" cy="25560"/>
              </a:xfrm>
              <a:prstGeom prst="rect">
                <a:avLst/>
              </a:prstGeom>
              <a:solidFill>
                <a:srgbClr val="0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846680" y="5130720"/>
                <a:ext cx="25560" cy="25560"/>
              </a:xfrm>
              <a:prstGeom prst="rect">
                <a:avLst/>
              </a:prstGeom>
              <a:solidFill>
                <a:srgbClr val="0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416480" y="5438880"/>
                <a:ext cx="65520" cy="84600"/>
              </a:xfrm>
              <a:custGeom>
                <a:avLst/>
                <a:gdLst/>
                <a:ahLst/>
                <a:rect l="0" t="0" r="r" b="b"/>
                <a:pathLst>
                  <a:path w="182" h="235">
                    <a:moveTo>
                      <a:pt x="0" y="0"/>
                    </a:moveTo>
                    <a:lnTo>
                      <a:pt x="0" y="235"/>
                    </a:lnTo>
                    <a:lnTo>
                      <a:pt x="182" y="235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2f2f"/>
              </a:solidFill>
              <a:ln w="12600">
                <a:solidFill>
                  <a:srgbClr val="2f2f2f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82960" y="5438880"/>
                <a:ext cx="65520" cy="84600"/>
              </a:xfrm>
              <a:custGeom>
                <a:avLst/>
                <a:gdLst/>
                <a:ahLst/>
                <a:rect l="0" t="0" r="r" b="b"/>
                <a:pathLst>
                  <a:path w="182" h="235">
                    <a:moveTo>
                      <a:pt x="0" y="0"/>
                    </a:moveTo>
                    <a:lnTo>
                      <a:pt x="0" y="235"/>
                    </a:lnTo>
                    <a:lnTo>
                      <a:pt x="182" y="235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2f2f"/>
              </a:solidFill>
              <a:ln w="12600">
                <a:solidFill>
                  <a:srgbClr val="2f2f2f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429080" y="4959360"/>
                <a:ext cx="414720" cy="424080"/>
              </a:xfrm>
              <a:custGeom>
                <a:avLst/>
                <a:gdLst/>
                <a:ahLst/>
                <a:rect l="0" t="0" r="r" b="b"/>
                <a:pathLst>
                  <a:path w="1152" h="1178">
                    <a:moveTo>
                      <a:pt x="1073" y="0"/>
                    </a:moveTo>
                    <a:lnTo>
                      <a:pt x="1073" y="0"/>
                    </a:lnTo>
                    <a:lnTo>
                      <a:pt x="1077" y="0"/>
                    </a:lnTo>
                    <a:lnTo>
                      <a:pt x="1077" y="0"/>
                    </a:lnTo>
                    <a:lnTo>
                      <a:pt x="1082" y="0"/>
                    </a:lnTo>
                    <a:lnTo>
                      <a:pt x="1086" y="0"/>
                    </a:lnTo>
                    <a:lnTo>
                      <a:pt x="1091" y="0"/>
                    </a:lnTo>
                    <a:lnTo>
                      <a:pt x="1091" y="4"/>
                    </a:lnTo>
                    <a:lnTo>
                      <a:pt x="1091" y="4"/>
                    </a:lnTo>
                    <a:lnTo>
                      <a:pt x="1095" y="8"/>
                    </a:lnTo>
                    <a:lnTo>
                      <a:pt x="1100" y="8"/>
                    </a:lnTo>
                    <a:lnTo>
                      <a:pt x="1100" y="8"/>
                    </a:lnTo>
                    <a:lnTo>
                      <a:pt x="1104" y="8"/>
                    </a:lnTo>
                    <a:lnTo>
                      <a:pt x="1104" y="13"/>
                    </a:lnTo>
                    <a:lnTo>
                      <a:pt x="1108" y="13"/>
                    </a:lnTo>
                    <a:lnTo>
                      <a:pt x="1113" y="13"/>
                    </a:lnTo>
                    <a:lnTo>
                      <a:pt x="1113" y="13"/>
                    </a:lnTo>
                    <a:lnTo>
                      <a:pt x="1117" y="17"/>
                    </a:lnTo>
                    <a:lnTo>
                      <a:pt x="1122" y="17"/>
                    </a:lnTo>
                    <a:lnTo>
                      <a:pt x="1126" y="22"/>
                    </a:lnTo>
                    <a:lnTo>
                      <a:pt x="1130" y="26"/>
                    </a:lnTo>
                    <a:lnTo>
                      <a:pt x="1130" y="30"/>
                    </a:lnTo>
                    <a:lnTo>
                      <a:pt x="1130" y="35"/>
                    </a:lnTo>
                    <a:lnTo>
                      <a:pt x="1135" y="35"/>
                    </a:lnTo>
                    <a:lnTo>
                      <a:pt x="1135" y="35"/>
                    </a:lnTo>
                    <a:lnTo>
                      <a:pt x="1135" y="39"/>
                    </a:lnTo>
                    <a:lnTo>
                      <a:pt x="1139" y="44"/>
                    </a:lnTo>
                    <a:lnTo>
                      <a:pt x="1139" y="48"/>
                    </a:lnTo>
                    <a:lnTo>
                      <a:pt x="1144" y="48"/>
                    </a:lnTo>
                    <a:lnTo>
                      <a:pt x="1144" y="48"/>
                    </a:lnTo>
                    <a:lnTo>
                      <a:pt x="1144" y="52"/>
                    </a:lnTo>
                    <a:lnTo>
                      <a:pt x="1148" y="57"/>
                    </a:lnTo>
                    <a:lnTo>
                      <a:pt x="1148" y="61"/>
                    </a:lnTo>
                    <a:lnTo>
                      <a:pt x="1148" y="61"/>
                    </a:lnTo>
                    <a:lnTo>
                      <a:pt x="1148" y="66"/>
                    </a:lnTo>
                    <a:lnTo>
                      <a:pt x="1148" y="70"/>
                    </a:lnTo>
                    <a:lnTo>
                      <a:pt x="1148" y="70"/>
                    </a:lnTo>
                    <a:lnTo>
                      <a:pt x="1152" y="74"/>
                    </a:lnTo>
                    <a:lnTo>
                      <a:pt x="1152" y="79"/>
                    </a:lnTo>
                    <a:lnTo>
                      <a:pt x="1152" y="79"/>
                    </a:lnTo>
                    <a:lnTo>
                      <a:pt x="1152" y="83"/>
                    </a:lnTo>
                    <a:lnTo>
                      <a:pt x="1152" y="88"/>
                    </a:lnTo>
                    <a:lnTo>
                      <a:pt x="1152" y="88"/>
                    </a:lnTo>
                    <a:lnTo>
                      <a:pt x="1152" y="92"/>
                    </a:lnTo>
                    <a:lnTo>
                      <a:pt x="1152" y="97"/>
                    </a:lnTo>
                    <a:lnTo>
                      <a:pt x="1152" y="141"/>
                    </a:lnTo>
                    <a:lnTo>
                      <a:pt x="1152" y="834"/>
                    </a:lnTo>
                    <a:lnTo>
                      <a:pt x="897" y="834"/>
                    </a:lnTo>
                    <a:lnTo>
                      <a:pt x="897" y="1178"/>
                    </a:lnTo>
                    <a:lnTo>
                      <a:pt x="574" y="1178"/>
                    </a:lnTo>
                    <a:lnTo>
                      <a:pt x="574" y="1129"/>
                    </a:lnTo>
                    <a:lnTo>
                      <a:pt x="821" y="1129"/>
                    </a:lnTo>
                    <a:lnTo>
                      <a:pt x="852" y="1103"/>
                    </a:lnTo>
                    <a:lnTo>
                      <a:pt x="852" y="537"/>
                    </a:lnTo>
                    <a:lnTo>
                      <a:pt x="1033" y="449"/>
                    </a:lnTo>
                    <a:lnTo>
                      <a:pt x="114" y="449"/>
                    </a:lnTo>
                    <a:lnTo>
                      <a:pt x="300" y="533"/>
                    </a:lnTo>
                    <a:lnTo>
                      <a:pt x="300" y="1103"/>
                    </a:lnTo>
                    <a:lnTo>
                      <a:pt x="331" y="1134"/>
                    </a:lnTo>
                    <a:lnTo>
                      <a:pt x="574" y="1129"/>
                    </a:lnTo>
                    <a:lnTo>
                      <a:pt x="574" y="1178"/>
                    </a:lnTo>
                    <a:lnTo>
                      <a:pt x="264" y="1178"/>
                    </a:lnTo>
                    <a:lnTo>
                      <a:pt x="264" y="838"/>
                    </a:lnTo>
                    <a:lnTo>
                      <a:pt x="0" y="838"/>
                    </a:lnTo>
                    <a:lnTo>
                      <a:pt x="0" y="141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97"/>
                    </a:lnTo>
                    <a:lnTo>
                      <a:pt x="0" y="92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4" y="66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13" y="48"/>
                    </a:lnTo>
                    <a:lnTo>
                      <a:pt x="13" y="48"/>
                    </a:lnTo>
                    <a:lnTo>
                      <a:pt x="13" y="44"/>
                    </a:lnTo>
                    <a:lnTo>
                      <a:pt x="17" y="39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22" y="30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2"/>
                    </a:lnTo>
                    <a:lnTo>
                      <a:pt x="35" y="22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9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52" y="8"/>
                    </a:lnTo>
                    <a:lnTo>
                      <a:pt x="57" y="8"/>
                    </a:lnTo>
                    <a:lnTo>
                      <a:pt x="61" y="8"/>
                    </a:lnTo>
                    <a:lnTo>
                      <a:pt x="61" y="8"/>
                    </a:lnTo>
                    <a:lnTo>
                      <a:pt x="61" y="8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114" y="0"/>
                    </a:lnTo>
                    <a:lnTo>
                      <a:pt x="1029" y="0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37240" y="4789440"/>
                <a:ext cx="55800" cy="170280"/>
              </a:xfrm>
              <a:custGeom>
                <a:avLst/>
                <a:gdLst/>
                <a:ahLst/>
                <a:rect l="0" t="0" r="r" b="b"/>
                <a:pathLst>
                  <a:path w="155" h="473">
                    <a:moveTo>
                      <a:pt x="0" y="473"/>
                    </a:moveTo>
                    <a:lnTo>
                      <a:pt x="155" y="0"/>
                    </a:lnTo>
                    <a:lnTo>
                      <a:pt x="155" y="101"/>
                    </a:lnTo>
                    <a:lnTo>
                      <a:pt x="0" y="473"/>
                    </a:lnTo>
                    <a:close/>
                  </a:path>
                </a:pathLst>
              </a:custGeom>
              <a:solidFill>
                <a:srgbClr val="3fc0ff"/>
              </a:solidFill>
              <a:ln w="12600">
                <a:solidFill>
                  <a:srgbClr val="3fc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68680" y="4789440"/>
                <a:ext cx="57600" cy="170280"/>
              </a:xfrm>
              <a:custGeom>
                <a:avLst/>
                <a:gdLst/>
                <a:ahLst/>
                <a:rect l="0" t="0" r="r" b="b"/>
                <a:pathLst>
                  <a:path w="160" h="473">
                    <a:moveTo>
                      <a:pt x="160" y="473"/>
                    </a:moveTo>
                    <a:lnTo>
                      <a:pt x="0" y="0"/>
                    </a:lnTo>
                    <a:lnTo>
                      <a:pt x="0" y="101"/>
                    </a:lnTo>
                    <a:lnTo>
                      <a:pt x="160" y="473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37000" y="4994280"/>
                <a:ext cx="393840" cy="125280"/>
              </a:xfrm>
              <a:prstGeom prst="roundRect">
                <a:avLst/>
              </a:prstGeom>
              <a:solidFill>
                <a:srgbClr val="8f8f8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05320" y="5238720"/>
                <a:ext cx="125280" cy="144360"/>
              </a:xfrm>
              <a:prstGeom prst="roundRect">
                <a:avLst/>
              </a:prstGeom>
              <a:solidFill>
                <a:srgbClr val="008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33760" y="5288040"/>
                <a:ext cx="79200" cy="74520"/>
              </a:xfrm>
              <a:prstGeom prst="round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48160" y="5297400"/>
                <a:ext cx="55440" cy="586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41920" y="5238720"/>
                <a:ext cx="119160" cy="142920"/>
              </a:xfrm>
              <a:prstGeom prst="roundRect">
                <a:avLst/>
              </a:prstGeom>
              <a:solidFill>
                <a:srgbClr val="008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59200" y="5288040"/>
                <a:ext cx="74520" cy="76320"/>
              </a:xfrm>
              <a:prstGeom prst="round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768920" y="5297400"/>
                <a:ext cx="54000" cy="586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32480" y="4992840"/>
                <a:ext cx="25560" cy="1285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00640" y="5388120"/>
                <a:ext cx="469800" cy="46080"/>
              </a:xfrm>
              <a:prstGeom prst="roundRect">
                <a:avLst/>
              </a:pr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443480" y="4984920"/>
                <a:ext cx="384120" cy="2556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32400" y="5145120"/>
                <a:ext cx="201960" cy="225720"/>
              </a:xfrm>
              <a:custGeom>
                <a:avLst/>
                <a:gdLst/>
                <a:ahLst/>
                <a:rect l="0" t="0" r="r" b="b"/>
                <a:pathLst>
                  <a:path w="561" h="627">
                    <a:moveTo>
                      <a:pt x="26" y="627"/>
                    </a:moveTo>
                    <a:lnTo>
                      <a:pt x="534" y="627"/>
                    </a:lnTo>
                    <a:lnTo>
                      <a:pt x="561" y="596"/>
                    </a:lnTo>
                    <a:lnTo>
                      <a:pt x="561" y="26"/>
                    </a:lnTo>
                    <a:lnTo>
                      <a:pt x="534" y="0"/>
                    </a:lnTo>
                    <a:lnTo>
                      <a:pt x="26" y="0"/>
                    </a:lnTo>
                    <a:lnTo>
                      <a:pt x="0" y="26"/>
                    </a:lnTo>
                    <a:lnTo>
                      <a:pt x="0" y="596"/>
                    </a:lnTo>
                    <a:lnTo>
                      <a:pt x="26" y="627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45000" y="5153040"/>
                <a:ext cx="179640" cy="206640"/>
              </a:xfrm>
              <a:custGeom>
                <a:avLst/>
                <a:gdLst/>
                <a:ahLst/>
                <a:rect l="0" t="0" r="r" b="b"/>
                <a:pathLst>
                  <a:path w="499" h="574">
                    <a:moveTo>
                      <a:pt x="499" y="561"/>
                    </a:moveTo>
                    <a:lnTo>
                      <a:pt x="499" y="13"/>
                    </a:lnTo>
                    <a:lnTo>
                      <a:pt x="486" y="0"/>
                    </a:lnTo>
                    <a:lnTo>
                      <a:pt x="13" y="0"/>
                    </a:lnTo>
                    <a:lnTo>
                      <a:pt x="0" y="13"/>
                    </a:lnTo>
                    <a:lnTo>
                      <a:pt x="0" y="561"/>
                    </a:lnTo>
                    <a:lnTo>
                      <a:pt x="13" y="574"/>
                    </a:lnTo>
                    <a:lnTo>
                      <a:pt x="486" y="574"/>
                    </a:lnTo>
                    <a:lnTo>
                      <a:pt x="499" y="56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45000" y="516096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545000" y="517356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45000" y="518796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45000" y="520056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45000" y="521352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45000" y="522612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45000" y="523872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45000" y="525132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545000" y="526248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545000" y="527544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45000" y="528948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45000" y="530208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45000" y="531504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45000" y="532764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45000" y="534204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45000" y="535320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554360" y="515628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81360" y="515628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06920" y="515628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32480" y="515628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659480" y="515628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686480" y="515628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13120" y="515628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 txBox="1"/>
            <p:nvPr/>
          </p:nvSpPr>
          <p:spPr>
            <a:xfrm>
              <a:off x="4780080" y="4876920"/>
              <a:ext cx="861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400" spc="-1" strike="noStrike">
                  <a:solidFill>
                    <a:srgbClr val="b2b2b2"/>
                  </a:solidFill>
                  <a:latin typeface="Arial"/>
                  <a:ea typeface="Arial"/>
                </a:rPr>
                <a:t>CVI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 txBox="1"/>
          <p:nvPr/>
        </p:nvSpPr>
        <p:spPr>
          <a:xfrm>
            <a:off x="3627360" y="6224760"/>
            <a:ext cx="18892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  <a:ea typeface="Arial Narrow"/>
              </a:rPr>
              <a:t>Partners Enhancing Motor Carri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  <a:ea typeface="Arial Narrow"/>
              </a:rPr>
              <a:t>Safety and Efficienc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894360" y="4746600"/>
            <a:ext cx="1687680" cy="1625760"/>
            <a:chOff x="6894360" y="4746600"/>
            <a:chExt cx="1687680" cy="1625760"/>
          </a:xfrm>
        </p:grpSpPr>
        <p:grpSp>
          <p:nvGrpSpPr>
            <p:cNvPr id="341" name=""/>
            <p:cNvGrpSpPr/>
            <p:nvPr/>
          </p:nvGrpSpPr>
          <p:grpSpPr>
            <a:xfrm>
              <a:off x="6894360" y="4746600"/>
              <a:ext cx="1687680" cy="1625760"/>
              <a:chOff x="6894360" y="4746600"/>
              <a:chExt cx="1687680" cy="1625760"/>
            </a:xfrm>
          </p:grpSpPr>
          <p:sp>
            <p:nvSpPr>
              <p:cNvPr id="342" name=""/>
              <p:cNvSpPr txBox="1"/>
              <p:nvPr/>
            </p:nvSpPr>
            <p:spPr>
              <a:xfrm>
                <a:off x="7308720" y="4746600"/>
                <a:ext cx="85896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Prepared by: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6894360" y="5950080"/>
                <a:ext cx="1687680" cy="42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The Johns Hopkins Universit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lied Physics Laborator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7365960" y="4989600"/>
              <a:ext cx="762120" cy="94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6858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52440" y="3828960"/>
            <a:ext cx="5511600" cy="2818080"/>
            <a:chOff x="352440" y="3828960"/>
            <a:chExt cx="5511600" cy="2818080"/>
          </a:xfrm>
        </p:grpSpPr>
        <p:pic>
          <p:nvPicPr>
            <p:cNvPr id="347" name="" descr=""/>
            <p:cNvPicPr/>
            <p:nvPr/>
          </p:nvPicPr>
          <p:blipFill>
            <a:blip r:embed="rId1"/>
            <a:stretch/>
          </p:blipFill>
          <p:spPr>
            <a:xfrm>
              <a:off x="1001880" y="5021280"/>
              <a:ext cx="8524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 txBox="1"/>
            <p:nvPr/>
          </p:nvSpPr>
          <p:spPr>
            <a:xfrm>
              <a:off x="352440" y="5931000"/>
              <a:ext cx="179244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Federal Highway Administr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1022400" y="4745160"/>
              <a:ext cx="83988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d for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55800" y="4952880"/>
              <a:ext cx="73080" cy="96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3279600" y="3828960"/>
              <a:ext cx="2584440" cy="2438280"/>
              <a:chOff x="3279600" y="3828960"/>
              <a:chExt cx="2584440" cy="2438280"/>
            </a:xfrm>
          </p:grpSpPr>
          <p:sp>
            <p:nvSpPr>
              <p:cNvPr id="352" name=""/>
              <p:cNvSpPr/>
              <p:nvPr/>
            </p:nvSpPr>
            <p:spPr>
              <a:xfrm>
                <a:off x="3279600" y="3828960"/>
                <a:ext cx="2584440" cy="24382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3616200" y="4054320"/>
                <a:ext cx="1918080" cy="1948320"/>
                <a:chOff x="3616200" y="4054320"/>
                <a:chExt cx="1918080" cy="194832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4044960" y="4054320"/>
                  <a:ext cx="1489320" cy="1124640"/>
                  <a:chOff x="4044960" y="4054320"/>
                  <a:chExt cx="1489320" cy="1124640"/>
                </a:xfrm>
              </p:grpSpPr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4044960" y="4054320"/>
                    <a:ext cx="1489320" cy="1124640"/>
                    <a:chOff x="4044960" y="4054320"/>
                    <a:chExt cx="1489320" cy="112464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4613400" y="4276800"/>
                      <a:ext cx="367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2" h="72">
                          <a:moveTo>
                            <a:pt x="48" y="0"/>
                          </a:moveTo>
                          <a:lnTo>
                            <a:pt x="102" y="48"/>
                          </a:lnTo>
                          <a:lnTo>
                            <a:pt x="84" y="72"/>
                          </a:lnTo>
                          <a:lnTo>
                            <a:pt x="0" y="6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57" name=""/>
                    <p:cNvGrpSpPr/>
                    <p:nvPr/>
                  </p:nvGrpSpPr>
                  <p:grpSpPr>
                    <a:xfrm>
                      <a:off x="4044960" y="4054320"/>
                      <a:ext cx="1489320" cy="1124640"/>
                      <a:chOff x="4044960" y="4054320"/>
                      <a:chExt cx="1489320" cy="1124640"/>
                    </a:xfrm>
                  </p:grpSpPr>
                  <p:sp>
                    <p:nvSpPr>
                      <p:cNvPr id="358" name=""/>
                      <p:cNvSpPr/>
                      <p:nvPr/>
                    </p:nvSpPr>
                    <p:spPr>
                      <a:xfrm>
                        <a:off x="4643280" y="4248000"/>
                        <a:ext cx="146520" cy="57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07" h="160">
                            <a:moveTo>
                              <a:pt x="407" y="22"/>
                            </a:moveTo>
                            <a:lnTo>
                              <a:pt x="341" y="4"/>
                            </a:lnTo>
                            <a:lnTo>
                              <a:pt x="239" y="49"/>
                            </a:lnTo>
                            <a:lnTo>
                              <a:pt x="137" y="58"/>
                            </a:lnTo>
                            <a:lnTo>
                              <a:pt x="74" y="45"/>
                            </a:lnTo>
                            <a:lnTo>
                              <a:pt x="44" y="0"/>
                            </a:lnTo>
                            <a:lnTo>
                              <a:pt x="22" y="4"/>
                            </a:lnTo>
                            <a:lnTo>
                              <a:pt x="0" y="22"/>
                            </a:lnTo>
                            <a:lnTo>
                              <a:pt x="8" y="49"/>
                            </a:lnTo>
                            <a:lnTo>
                              <a:pt x="61" y="93"/>
                            </a:lnTo>
                            <a:lnTo>
                              <a:pt x="124" y="138"/>
                            </a:lnTo>
                            <a:lnTo>
                              <a:pt x="208" y="160"/>
                            </a:lnTo>
                            <a:lnTo>
                              <a:pt x="283" y="129"/>
                            </a:lnTo>
                            <a:lnTo>
                              <a:pt x="381" y="71"/>
                            </a:lnTo>
                            <a:lnTo>
                              <a:pt x="407" y="22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6480" bIns="6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59" name=""/>
                      <p:cNvGrpSpPr/>
                      <p:nvPr/>
                    </p:nvGrpSpPr>
                    <p:grpSpPr>
                      <a:xfrm>
                        <a:off x="4044960" y="4054320"/>
                        <a:ext cx="1489320" cy="1124640"/>
                        <a:chOff x="4044960" y="4054320"/>
                        <a:chExt cx="1489320" cy="1124640"/>
                      </a:xfrm>
                    </p:grpSpPr>
                    <p:sp>
                      <p:nvSpPr>
                        <p:cNvPr id="360" name=""/>
                        <p:cNvSpPr/>
                        <p:nvPr/>
                      </p:nvSpPr>
                      <p:spPr>
                        <a:xfrm>
                          <a:off x="4044960" y="4338720"/>
                          <a:ext cx="1397520" cy="8402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882" h="2334">
                              <a:moveTo>
                                <a:pt x="463" y="0"/>
                              </a:moveTo>
                              <a:lnTo>
                                <a:pt x="0" y="573"/>
                              </a:lnTo>
                              <a:lnTo>
                                <a:pt x="101" y="605"/>
                              </a:lnTo>
                              <a:lnTo>
                                <a:pt x="48" y="671"/>
                              </a:lnTo>
                              <a:lnTo>
                                <a:pt x="141" y="688"/>
                              </a:lnTo>
                              <a:lnTo>
                                <a:pt x="167" y="869"/>
                              </a:lnTo>
                              <a:lnTo>
                                <a:pt x="229" y="1081"/>
                              </a:lnTo>
                              <a:lnTo>
                                <a:pt x="167" y="1231"/>
                              </a:lnTo>
                              <a:lnTo>
                                <a:pt x="198" y="1319"/>
                              </a:lnTo>
                              <a:lnTo>
                                <a:pt x="154" y="1425"/>
                              </a:lnTo>
                              <a:lnTo>
                                <a:pt x="211" y="1456"/>
                              </a:lnTo>
                              <a:lnTo>
                                <a:pt x="211" y="1531"/>
                              </a:lnTo>
                              <a:lnTo>
                                <a:pt x="352" y="1562"/>
                              </a:lnTo>
                              <a:lnTo>
                                <a:pt x="432" y="1747"/>
                              </a:lnTo>
                              <a:lnTo>
                                <a:pt x="1085" y="1845"/>
                              </a:lnTo>
                              <a:lnTo>
                                <a:pt x="1936" y="1889"/>
                              </a:lnTo>
                              <a:lnTo>
                                <a:pt x="2108" y="1946"/>
                              </a:lnTo>
                              <a:lnTo>
                                <a:pt x="2144" y="1946"/>
                              </a:lnTo>
                              <a:lnTo>
                                <a:pt x="2214" y="1911"/>
                              </a:lnTo>
                              <a:lnTo>
                                <a:pt x="2280" y="1876"/>
                              </a:lnTo>
                              <a:lnTo>
                                <a:pt x="2373" y="1854"/>
                              </a:lnTo>
                              <a:lnTo>
                                <a:pt x="2426" y="1902"/>
                              </a:lnTo>
                              <a:lnTo>
                                <a:pt x="2483" y="1898"/>
                              </a:lnTo>
                              <a:lnTo>
                                <a:pt x="2536" y="1915"/>
                              </a:lnTo>
                              <a:lnTo>
                                <a:pt x="2536" y="1986"/>
                              </a:lnTo>
                              <a:lnTo>
                                <a:pt x="2549" y="2026"/>
                              </a:lnTo>
                              <a:lnTo>
                                <a:pt x="2607" y="2048"/>
                              </a:lnTo>
                              <a:lnTo>
                                <a:pt x="2651" y="2039"/>
                              </a:lnTo>
                              <a:lnTo>
                                <a:pt x="2708" y="2004"/>
                              </a:lnTo>
                              <a:lnTo>
                                <a:pt x="2770" y="2017"/>
                              </a:lnTo>
                              <a:lnTo>
                                <a:pt x="2827" y="2048"/>
                              </a:lnTo>
                              <a:lnTo>
                                <a:pt x="2862" y="2087"/>
                              </a:lnTo>
                              <a:lnTo>
                                <a:pt x="2858" y="2153"/>
                              </a:lnTo>
                              <a:lnTo>
                                <a:pt x="2814" y="2131"/>
                              </a:lnTo>
                              <a:lnTo>
                                <a:pt x="2757" y="2101"/>
                              </a:lnTo>
                              <a:lnTo>
                                <a:pt x="2743" y="2145"/>
                              </a:lnTo>
                              <a:lnTo>
                                <a:pt x="2748" y="2193"/>
                              </a:lnTo>
                              <a:lnTo>
                                <a:pt x="2735" y="2228"/>
                              </a:lnTo>
                              <a:lnTo>
                                <a:pt x="2712" y="2255"/>
                              </a:lnTo>
                              <a:lnTo>
                                <a:pt x="2712" y="2334"/>
                              </a:lnTo>
                              <a:lnTo>
                                <a:pt x="2938" y="2198"/>
                              </a:lnTo>
                              <a:lnTo>
                                <a:pt x="3013" y="2123"/>
                              </a:lnTo>
                              <a:lnTo>
                                <a:pt x="3088" y="2092"/>
                              </a:lnTo>
                              <a:lnTo>
                                <a:pt x="3097" y="2030"/>
                              </a:lnTo>
                              <a:lnTo>
                                <a:pt x="3154" y="2004"/>
                              </a:lnTo>
                              <a:lnTo>
                                <a:pt x="3221" y="2017"/>
                              </a:lnTo>
                              <a:lnTo>
                                <a:pt x="3340" y="1946"/>
                              </a:lnTo>
                              <a:lnTo>
                                <a:pt x="3379" y="1862"/>
                              </a:lnTo>
                              <a:lnTo>
                                <a:pt x="3379" y="1742"/>
                              </a:lnTo>
                              <a:lnTo>
                                <a:pt x="3419" y="1689"/>
                              </a:lnTo>
                              <a:lnTo>
                                <a:pt x="3490" y="1716"/>
                              </a:lnTo>
                              <a:lnTo>
                                <a:pt x="3512" y="1787"/>
                              </a:lnTo>
                              <a:lnTo>
                                <a:pt x="3595" y="1867"/>
                              </a:lnTo>
                              <a:lnTo>
                                <a:pt x="3653" y="1818"/>
                              </a:lnTo>
                              <a:lnTo>
                                <a:pt x="3684" y="1761"/>
                              </a:lnTo>
                              <a:lnTo>
                                <a:pt x="3670" y="1986"/>
                              </a:lnTo>
                              <a:lnTo>
                                <a:pt x="3772" y="1836"/>
                              </a:lnTo>
                              <a:lnTo>
                                <a:pt x="3882" y="1681"/>
                              </a:lnTo>
                              <a:lnTo>
                                <a:pt x="3838" y="1667"/>
                              </a:lnTo>
                              <a:lnTo>
                                <a:pt x="3759" y="1707"/>
                              </a:lnTo>
                              <a:lnTo>
                                <a:pt x="3670" y="1716"/>
                              </a:lnTo>
                              <a:lnTo>
                                <a:pt x="3662" y="1667"/>
                              </a:lnTo>
                              <a:lnTo>
                                <a:pt x="3631" y="1650"/>
                              </a:lnTo>
                              <a:lnTo>
                                <a:pt x="3640" y="1592"/>
                              </a:lnTo>
                              <a:lnTo>
                                <a:pt x="3595" y="1619"/>
                              </a:lnTo>
                              <a:lnTo>
                                <a:pt x="3551" y="1619"/>
                              </a:lnTo>
                              <a:lnTo>
                                <a:pt x="3595" y="1575"/>
                              </a:lnTo>
                              <a:lnTo>
                                <a:pt x="3622" y="1535"/>
                              </a:lnTo>
                              <a:lnTo>
                                <a:pt x="3653" y="1487"/>
                              </a:lnTo>
                              <a:lnTo>
                                <a:pt x="3582" y="1469"/>
                              </a:lnTo>
                              <a:lnTo>
                                <a:pt x="3520" y="1500"/>
                              </a:lnTo>
                              <a:lnTo>
                                <a:pt x="3441" y="1548"/>
                              </a:lnTo>
                              <a:lnTo>
                                <a:pt x="3335" y="1681"/>
                              </a:lnTo>
                              <a:lnTo>
                                <a:pt x="3472" y="1407"/>
                              </a:lnTo>
                              <a:lnTo>
                                <a:pt x="3551" y="1372"/>
                              </a:lnTo>
                              <a:lnTo>
                                <a:pt x="3640" y="1363"/>
                              </a:lnTo>
                              <a:lnTo>
                                <a:pt x="3684" y="1315"/>
                              </a:lnTo>
                              <a:lnTo>
                                <a:pt x="3732" y="1288"/>
                              </a:lnTo>
                              <a:lnTo>
                                <a:pt x="3772" y="1200"/>
                              </a:lnTo>
                              <a:lnTo>
                                <a:pt x="3816" y="1138"/>
                              </a:lnTo>
                              <a:lnTo>
                                <a:pt x="3820" y="1112"/>
                              </a:lnTo>
                              <a:lnTo>
                                <a:pt x="3789" y="1032"/>
                              </a:lnTo>
                              <a:lnTo>
                                <a:pt x="3745" y="988"/>
                              </a:lnTo>
                              <a:lnTo>
                                <a:pt x="3714" y="1063"/>
                              </a:lnTo>
                              <a:lnTo>
                                <a:pt x="3640" y="940"/>
                              </a:lnTo>
                              <a:lnTo>
                                <a:pt x="3560" y="962"/>
                              </a:lnTo>
                              <a:lnTo>
                                <a:pt x="3503" y="940"/>
                              </a:lnTo>
                              <a:lnTo>
                                <a:pt x="3428" y="957"/>
                              </a:lnTo>
                              <a:lnTo>
                                <a:pt x="3406" y="891"/>
                              </a:lnTo>
                              <a:lnTo>
                                <a:pt x="3375" y="860"/>
                              </a:lnTo>
                              <a:lnTo>
                                <a:pt x="3322" y="843"/>
                              </a:lnTo>
                              <a:lnTo>
                                <a:pt x="3243" y="807"/>
                              </a:lnTo>
                              <a:lnTo>
                                <a:pt x="3150" y="768"/>
                              </a:lnTo>
                              <a:lnTo>
                                <a:pt x="3093" y="702"/>
                              </a:lnTo>
                              <a:lnTo>
                                <a:pt x="3057" y="688"/>
                              </a:lnTo>
                              <a:lnTo>
                                <a:pt x="3079" y="759"/>
                              </a:lnTo>
                              <a:lnTo>
                                <a:pt x="3119" y="838"/>
                              </a:lnTo>
                              <a:lnTo>
                                <a:pt x="3053" y="860"/>
                              </a:lnTo>
                              <a:lnTo>
                                <a:pt x="3000" y="843"/>
                              </a:lnTo>
                              <a:lnTo>
                                <a:pt x="2947" y="843"/>
                              </a:lnTo>
                              <a:lnTo>
                                <a:pt x="2925" y="777"/>
                              </a:lnTo>
                              <a:lnTo>
                                <a:pt x="2893" y="746"/>
                              </a:lnTo>
                              <a:lnTo>
                                <a:pt x="2876" y="688"/>
                              </a:lnTo>
                              <a:lnTo>
                                <a:pt x="2832" y="658"/>
                              </a:lnTo>
                              <a:lnTo>
                                <a:pt x="2770" y="644"/>
                              </a:lnTo>
                              <a:lnTo>
                                <a:pt x="2699" y="658"/>
                              </a:lnTo>
                              <a:lnTo>
                                <a:pt x="2620" y="644"/>
                              </a:lnTo>
                              <a:lnTo>
                                <a:pt x="2527" y="688"/>
                              </a:lnTo>
                              <a:lnTo>
                                <a:pt x="2536" y="724"/>
                              </a:lnTo>
                              <a:lnTo>
                                <a:pt x="2580" y="741"/>
                              </a:lnTo>
                              <a:lnTo>
                                <a:pt x="2620" y="790"/>
                              </a:lnTo>
                              <a:lnTo>
                                <a:pt x="2624" y="847"/>
                              </a:lnTo>
                              <a:lnTo>
                                <a:pt x="2651" y="913"/>
                              </a:lnTo>
                              <a:lnTo>
                                <a:pt x="2615" y="957"/>
                              </a:lnTo>
                              <a:lnTo>
                                <a:pt x="2615" y="1010"/>
                              </a:lnTo>
                              <a:lnTo>
                                <a:pt x="2708" y="1054"/>
                              </a:lnTo>
                              <a:lnTo>
                                <a:pt x="2757" y="1112"/>
                              </a:lnTo>
                              <a:lnTo>
                                <a:pt x="2757" y="1160"/>
                              </a:lnTo>
                              <a:lnTo>
                                <a:pt x="2743" y="1244"/>
                              </a:lnTo>
                              <a:lnTo>
                                <a:pt x="2712" y="1319"/>
                              </a:lnTo>
                              <a:lnTo>
                                <a:pt x="2708" y="1350"/>
                              </a:lnTo>
                              <a:lnTo>
                                <a:pt x="2770" y="1407"/>
                              </a:lnTo>
                              <a:lnTo>
                                <a:pt x="2787" y="1469"/>
                              </a:lnTo>
                              <a:lnTo>
                                <a:pt x="2787" y="1562"/>
                              </a:lnTo>
                              <a:lnTo>
                                <a:pt x="2726" y="1566"/>
                              </a:lnTo>
                              <a:lnTo>
                                <a:pt x="2673" y="1588"/>
                              </a:lnTo>
                              <a:lnTo>
                                <a:pt x="2607" y="1522"/>
                              </a:lnTo>
                              <a:lnTo>
                                <a:pt x="2545" y="1500"/>
                              </a:lnTo>
                              <a:lnTo>
                                <a:pt x="2505" y="1420"/>
                              </a:lnTo>
                              <a:lnTo>
                                <a:pt x="2496" y="1350"/>
                              </a:lnTo>
                              <a:lnTo>
                                <a:pt x="2386" y="1315"/>
                              </a:lnTo>
                              <a:lnTo>
                                <a:pt x="2302" y="1310"/>
                              </a:lnTo>
                              <a:lnTo>
                                <a:pt x="2192" y="1288"/>
                              </a:lnTo>
                              <a:lnTo>
                                <a:pt x="2130" y="1240"/>
                              </a:lnTo>
                              <a:lnTo>
                                <a:pt x="1985" y="1209"/>
                              </a:lnTo>
                              <a:lnTo>
                                <a:pt x="1906" y="1231"/>
                              </a:lnTo>
                              <a:lnTo>
                                <a:pt x="1919" y="1151"/>
                              </a:lnTo>
                              <a:lnTo>
                                <a:pt x="1892" y="1121"/>
                              </a:lnTo>
                              <a:lnTo>
                                <a:pt x="1844" y="1112"/>
                              </a:lnTo>
                              <a:lnTo>
                                <a:pt x="1875" y="1002"/>
                              </a:lnTo>
                              <a:lnTo>
                                <a:pt x="1861" y="913"/>
                              </a:lnTo>
                              <a:lnTo>
                                <a:pt x="1919" y="777"/>
                              </a:lnTo>
                              <a:lnTo>
                                <a:pt x="2025" y="688"/>
                              </a:lnTo>
                              <a:lnTo>
                                <a:pt x="2055" y="631"/>
                              </a:lnTo>
                              <a:lnTo>
                                <a:pt x="1950" y="613"/>
                              </a:lnTo>
                              <a:lnTo>
                                <a:pt x="1875" y="537"/>
                              </a:lnTo>
                              <a:lnTo>
                                <a:pt x="2055" y="537"/>
                              </a:lnTo>
                              <a:lnTo>
                                <a:pt x="2095" y="485"/>
                              </a:lnTo>
                              <a:lnTo>
                                <a:pt x="2166" y="458"/>
                              </a:lnTo>
                              <a:lnTo>
                                <a:pt x="2197" y="432"/>
                              </a:lnTo>
                              <a:lnTo>
                                <a:pt x="2254" y="401"/>
                              </a:lnTo>
                              <a:lnTo>
                                <a:pt x="2183" y="326"/>
                              </a:lnTo>
                              <a:lnTo>
                                <a:pt x="2179" y="251"/>
                              </a:lnTo>
                              <a:lnTo>
                                <a:pt x="2122" y="229"/>
                              </a:lnTo>
                              <a:lnTo>
                                <a:pt x="2073" y="251"/>
                              </a:lnTo>
                              <a:lnTo>
                                <a:pt x="2073" y="282"/>
                              </a:lnTo>
                              <a:lnTo>
                                <a:pt x="2104" y="357"/>
                              </a:lnTo>
                              <a:lnTo>
                                <a:pt x="2055" y="458"/>
                              </a:lnTo>
                              <a:lnTo>
                                <a:pt x="2020" y="295"/>
                              </a:lnTo>
                              <a:lnTo>
                                <a:pt x="1967" y="304"/>
                              </a:lnTo>
                              <a:lnTo>
                                <a:pt x="1980" y="361"/>
                              </a:lnTo>
                              <a:lnTo>
                                <a:pt x="1932" y="357"/>
                              </a:lnTo>
                              <a:lnTo>
                                <a:pt x="1888" y="158"/>
                              </a:lnTo>
                              <a:lnTo>
                                <a:pt x="1853" y="145"/>
                              </a:lnTo>
                              <a:lnTo>
                                <a:pt x="1822" y="119"/>
                              </a:lnTo>
                              <a:lnTo>
                                <a:pt x="1800" y="114"/>
                              </a:lnTo>
                              <a:lnTo>
                                <a:pt x="1769" y="145"/>
                              </a:lnTo>
                              <a:lnTo>
                                <a:pt x="1782" y="211"/>
                              </a:lnTo>
                              <a:lnTo>
                                <a:pt x="1835" y="260"/>
                              </a:lnTo>
                              <a:lnTo>
                                <a:pt x="1861" y="357"/>
                              </a:lnTo>
                              <a:lnTo>
                                <a:pt x="1813" y="401"/>
                              </a:lnTo>
                              <a:lnTo>
                                <a:pt x="1782" y="476"/>
                              </a:lnTo>
                              <a:lnTo>
                                <a:pt x="1707" y="388"/>
                              </a:lnTo>
                              <a:lnTo>
                                <a:pt x="1632" y="432"/>
                              </a:lnTo>
                              <a:lnTo>
                                <a:pt x="1509" y="418"/>
                              </a:lnTo>
                              <a:lnTo>
                                <a:pt x="1465" y="374"/>
                              </a:lnTo>
                              <a:lnTo>
                                <a:pt x="1420" y="432"/>
                              </a:lnTo>
                              <a:lnTo>
                                <a:pt x="1372" y="489"/>
                              </a:lnTo>
                              <a:lnTo>
                                <a:pt x="1319" y="458"/>
                              </a:lnTo>
                              <a:lnTo>
                                <a:pt x="1279" y="401"/>
                              </a:lnTo>
                              <a:lnTo>
                                <a:pt x="1209" y="418"/>
                              </a:lnTo>
                              <a:lnTo>
                                <a:pt x="1112" y="401"/>
                              </a:lnTo>
                              <a:lnTo>
                                <a:pt x="1173" y="313"/>
                              </a:lnTo>
                              <a:lnTo>
                                <a:pt x="1068" y="264"/>
                              </a:lnTo>
                              <a:lnTo>
                                <a:pt x="1006" y="220"/>
                              </a:lnTo>
                              <a:lnTo>
                                <a:pt x="961" y="251"/>
                              </a:lnTo>
                              <a:lnTo>
                                <a:pt x="868" y="145"/>
                              </a:lnTo>
                              <a:lnTo>
                                <a:pt x="780" y="105"/>
                              </a:lnTo>
                              <a:lnTo>
                                <a:pt x="749" y="145"/>
                              </a:lnTo>
                              <a:lnTo>
                                <a:pt x="582" y="114"/>
                              </a:lnTo>
                              <a:lnTo>
                                <a:pt x="46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"/>
                        <p:cNvSpPr/>
                        <p:nvPr/>
                      </p:nvSpPr>
                      <p:spPr>
                        <a:xfrm>
                          <a:off x="5413320" y="4741920"/>
                          <a:ext cx="120960" cy="14328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36" h="398">
                              <a:moveTo>
                                <a:pt x="61" y="0"/>
                              </a:moveTo>
                              <a:lnTo>
                                <a:pt x="35" y="30"/>
                              </a:lnTo>
                              <a:lnTo>
                                <a:pt x="13" y="106"/>
                              </a:lnTo>
                              <a:lnTo>
                                <a:pt x="0" y="172"/>
                              </a:lnTo>
                              <a:lnTo>
                                <a:pt x="39" y="256"/>
                              </a:lnTo>
                              <a:lnTo>
                                <a:pt x="61" y="332"/>
                              </a:lnTo>
                              <a:lnTo>
                                <a:pt x="52" y="398"/>
                              </a:lnTo>
                              <a:lnTo>
                                <a:pt x="92" y="398"/>
                              </a:lnTo>
                              <a:lnTo>
                                <a:pt x="114" y="350"/>
                              </a:lnTo>
                              <a:lnTo>
                                <a:pt x="158" y="354"/>
                              </a:lnTo>
                              <a:lnTo>
                                <a:pt x="199" y="306"/>
                              </a:lnTo>
                              <a:lnTo>
                                <a:pt x="322" y="278"/>
                              </a:lnTo>
                              <a:lnTo>
                                <a:pt x="336" y="234"/>
                              </a:lnTo>
                              <a:lnTo>
                                <a:pt x="283" y="190"/>
                              </a:lnTo>
                              <a:lnTo>
                                <a:pt x="274" y="146"/>
                              </a:lnTo>
                              <a:lnTo>
                                <a:pt x="243" y="137"/>
                              </a:lnTo>
                              <a:lnTo>
                                <a:pt x="203" y="190"/>
                              </a:lnTo>
                              <a:lnTo>
                                <a:pt x="154" y="195"/>
                              </a:lnTo>
                              <a:lnTo>
                                <a:pt x="123" y="190"/>
                              </a:lnTo>
                              <a:lnTo>
                                <a:pt x="83" y="172"/>
                              </a:lnTo>
                              <a:lnTo>
                                <a:pt x="70" y="146"/>
                              </a:lnTo>
                              <a:lnTo>
                                <a:pt x="61" y="79"/>
                              </a:lnTo>
                              <a:lnTo>
                                <a:pt x="74" y="13"/>
                              </a:lnTo>
                              <a:lnTo>
                                <a:pt x="6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2" name=""/>
                        <p:cNvSpPr/>
                        <p:nvPr/>
                      </p:nvSpPr>
                      <p:spPr>
                        <a:xfrm>
                          <a:off x="5443560" y="4915080"/>
                          <a:ext cx="25920" cy="288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72" h="80">
                              <a:moveTo>
                                <a:pt x="63" y="22"/>
                              </a:moveTo>
                              <a:lnTo>
                                <a:pt x="49" y="13"/>
                              </a:lnTo>
                              <a:lnTo>
                                <a:pt x="31" y="4"/>
                              </a:lnTo>
                              <a:lnTo>
                                <a:pt x="8" y="0"/>
                              </a:lnTo>
                              <a:lnTo>
                                <a:pt x="0" y="4"/>
                              </a:lnTo>
                              <a:lnTo>
                                <a:pt x="0" y="26"/>
                              </a:lnTo>
                              <a:lnTo>
                                <a:pt x="8" y="58"/>
                              </a:lnTo>
                              <a:lnTo>
                                <a:pt x="31" y="80"/>
                              </a:lnTo>
                              <a:lnTo>
                                <a:pt x="53" y="80"/>
                              </a:lnTo>
                              <a:lnTo>
                                <a:pt x="68" y="58"/>
                              </a:lnTo>
                              <a:lnTo>
                                <a:pt x="72" y="39"/>
                              </a:lnTo>
                              <a:lnTo>
                                <a:pt x="63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22320" bIns="-22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3" name=""/>
                        <p:cNvSpPr/>
                        <p:nvPr/>
                      </p:nvSpPr>
                      <p:spPr>
                        <a:xfrm>
                          <a:off x="4824360" y="4524480"/>
                          <a:ext cx="78120" cy="6228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217" h="173">
                              <a:moveTo>
                                <a:pt x="0" y="39"/>
                              </a:moveTo>
                              <a:lnTo>
                                <a:pt x="35" y="8"/>
                              </a:lnTo>
                              <a:lnTo>
                                <a:pt x="83" y="26"/>
                              </a:lnTo>
                              <a:lnTo>
                                <a:pt x="124" y="0"/>
                              </a:lnTo>
                              <a:lnTo>
                                <a:pt x="164" y="26"/>
                              </a:lnTo>
                              <a:lnTo>
                                <a:pt x="217" y="80"/>
                              </a:lnTo>
                              <a:lnTo>
                                <a:pt x="217" y="138"/>
                              </a:lnTo>
                              <a:lnTo>
                                <a:pt x="155" y="151"/>
                              </a:lnTo>
                              <a:lnTo>
                                <a:pt x="115" y="124"/>
                              </a:lnTo>
                              <a:lnTo>
                                <a:pt x="97" y="173"/>
                              </a:lnTo>
                              <a:lnTo>
                                <a:pt x="52" y="165"/>
                              </a:lnTo>
                              <a:lnTo>
                                <a:pt x="52" y="102"/>
                              </a:lnTo>
                              <a:lnTo>
                                <a:pt x="0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11160" bIns="11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4" name=""/>
                        <p:cNvSpPr/>
                        <p:nvPr/>
                      </p:nvSpPr>
                      <p:spPr>
                        <a:xfrm>
                          <a:off x="4743360" y="4305240"/>
                          <a:ext cx="400320" cy="2606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112" h="724">
                              <a:moveTo>
                                <a:pt x="962" y="348"/>
                              </a:moveTo>
                              <a:lnTo>
                                <a:pt x="869" y="352"/>
                              </a:lnTo>
                              <a:lnTo>
                                <a:pt x="812" y="299"/>
                              </a:lnTo>
                              <a:lnTo>
                                <a:pt x="724" y="286"/>
                              </a:lnTo>
                              <a:lnTo>
                                <a:pt x="658" y="229"/>
                              </a:lnTo>
                              <a:lnTo>
                                <a:pt x="583" y="211"/>
                              </a:lnTo>
                              <a:lnTo>
                                <a:pt x="511" y="149"/>
                              </a:lnTo>
                              <a:lnTo>
                                <a:pt x="414" y="141"/>
                              </a:lnTo>
                              <a:lnTo>
                                <a:pt x="405" y="92"/>
                              </a:lnTo>
                              <a:lnTo>
                                <a:pt x="330" y="66"/>
                              </a:lnTo>
                              <a:lnTo>
                                <a:pt x="295" y="61"/>
                              </a:lnTo>
                              <a:lnTo>
                                <a:pt x="268" y="123"/>
                              </a:lnTo>
                              <a:lnTo>
                                <a:pt x="251" y="145"/>
                              </a:lnTo>
                              <a:lnTo>
                                <a:pt x="220" y="158"/>
                              </a:lnTo>
                              <a:lnTo>
                                <a:pt x="202" y="194"/>
                              </a:lnTo>
                              <a:lnTo>
                                <a:pt x="167" y="123"/>
                              </a:lnTo>
                              <a:lnTo>
                                <a:pt x="198" y="35"/>
                              </a:lnTo>
                              <a:lnTo>
                                <a:pt x="171" y="30"/>
                              </a:lnTo>
                              <a:lnTo>
                                <a:pt x="141" y="119"/>
                              </a:lnTo>
                              <a:lnTo>
                                <a:pt x="145" y="202"/>
                              </a:lnTo>
                              <a:lnTo>
                                <a:pt x="136" y="255"/>
                              </a:lnTo>
                              <a:lnTo>
                                <a:pt x="83" y="132"/>
                              </a:lnTo>
                              <a:lnTo>
                                <a:pt x="88" y="61"/>
                              </a:lnTo>
                              <a:lnTo>
                                <a:pt x="79" y="0"/>
                              </a:lnTo>
                              <a:lnTo>
                                <a:pt x="35" y="0"/>
                              </a:lnTo>
                              <a:lnTo>
                                <a:pt x="13" y="30"/>
                              </a:lnTo>
                              <a:lnTo>
                                <a:pt x="0" y="97"/>
                              </a:lnTo>
                              <a:lnTo>
                                <a:pt x="8" y="97"/>
                              </a:lnTo>
                              <a:lnTo>
                                <a:pt x="0" y="171"/>
                              </a:lnTo>
                              <a:lnTo>
                                <a:pt x="35" y="242"/>
                              </a:lnTo>
                              <a:lnTo>
                                <a:pt x="66" y="286"/>
                              </a:lnTo>
                              <a:lnTo>
                                <a:pt x="110" y="299"/>
                              </a:lnTo>
                              <a:lnTo>
                                <a:pt x="242" y="268"/>
                              </a:lnTo>
                              <a:lnTo>
                                <a:pt x="326" y="286"/>
                              </a:lnTo>
                              <a:lnTo>
                                <a:pt x="401" y="268"/>
                              </a:lnTo>
                              <a:lnTo>
                                <a:pt x="493" y="260"/>
                              </a:lnTo>
                              <a:lnTo>
                                <a:pt x="569" y="313"/>
                              </a:lnTo>
                              <a:lnTo>
                                <a:pt x="591" y="348"/>
                              </a:lnTo>
                              <a:lnTo>
                                <a:pt x="596" y="437"/>
                              </a:lnTo>
                              <a:lnTo>
                                <a:pt x="631" y="552"/>
                              </a:lnTo>
                              <a:lnTo>
                                <a:pt x="613" y="587"/>
                              </a:lnTo>
                              <a:lnTo>
                                <a:pt x="565" y="618"/>
                              </a:lnTo>
                              <a:lnTo>
                                <a:pt x="520" y="644"/>
                              </a:lnTo>
                              <a:lnTo>
                                <a:pt x="511" y="684"/>
                              </a:lnTo>
                              <a:lnTo>
                                <a:pt x="537" y="706"/>
                              </a:lnTo>
                              <a:lnTo>
                                <a:pt x="609" y="649"/>
                              </a:lnTo>
                              <a:lnTo>
                                <a:pt x="662" y="609"/>
                              </a:lnTo>
                              <a:lnTo>
                                <a:pt x="706" y="618"/>
                              </a:lnTo>
                              <a:lnTo>
                                <a:pt x="733" y="662"/>
                              </a:lnTo>
                              <a:lnTo>
                                <a:pt x="785" y="675"/>
                              </a:lnTo>
                              <a:lnTo>
                                <a:pt x="856" y="706"/>
                              </a:lnTo>
                              <a:lnTo>
                                <a:pt x="931" y="724"/>
                              </a:lnTo>
                              <a:lnTo>
                                <a:pt x="1024" y="693"/>
                              </a:lnTo>
                              <a:lnTo>
                                <a:pt x="1112" y="706"/>
                              </a:lnTo>
                              <a:lnTo>
                                <a:pt x="1085" y="675"/>
                              </a:lnTo>
                              <a:lnTo>
                                <a:pt x="984" y="658"/>
                              </a:lnTo>
                              <a:lnTo>
                                <a:pt x="874" y="636"/>
                              </a:lnTo>
                              <a:lnTo>
                                <a:pt x="887" y="605"/>
                              </a:lnTo>
                              <a:lnTo>
                                <a:pt x="944" y="605"/>
                              </a:lnTo>
                              <a:lnTo>
                                <a:pt x="1024" y="636"/>
                              </a:lnTo>
                              <a:lnTo>
                                <a:pt x="988" y="552"/>
                              </a:lnTo>
                              <a:lnTo>
                                <a:pt x="944" y="543"/>
                              </a:lnTo>
                              <a:lnTo>
                                <a:pt x="887" y="512"/>
                              </a:lnTo>
                              <a:lnTo>
                                <a:pt x="830" y="508"/>
                              </a:lnTo>
                              <a:lnTo>
                                <a:pt x="852" y="415"/>
                              </a:lnTo>
                              <a:lnTo>
                                <a:pt x="887" y="393"/>
                              </a:lnTo>
                              <a:lnTo>
                                <a:pt x="944" y="375"/>
                              </a:lnTo>
                              <a:lnTo>
                                <a:pt x="962" y="34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5" name=""/>
                        <p:cNvSpPr/>
                        <p:nvPr/>
                      </p:nvSpPr>
                      <p:spPr>
                        <a:xfrm>
                          <a:off x="4430880" y="4309920"/>
                          <a:ext cx="221040" cy="1544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614" h="429">
                              <a:moveTo>
                                <a:pt x="446" y="120"/>
                              </a:moveTo>
                              <a:lnTo>
                                <a:pt x="411" y="22"/>
                              </a:lnTo>
                              <a:lnTo>
                                <a:pt x="344" y="115"/>
                              </a:lnTo>
                              <a:lnTo>
                                <a:pt x="314" y="0"/>
                              </a:lnTo>
                              <a:lnTo>
                                <a:pt x="256" y="79"/>
                              </a:lnTo>
                              <a:lnTo>
                                <a:pt x="225" y="17"/>
                              </a:lnTo>
                              <a:lnTo>
                                <a:pt x="199" y="79"/>
                              </a:lnTo>
                              <a:lnTo>
                                <a:pt x="127" y="30"/>
                              </a:lnTo>
                              <a:lnTo>
                                <a:pt x="44" y="61"/>
                              </a:lnTo>
                              <a:lnTo>
                                <a:pt x="0" y="146"/>
                              </a:lnTo>
                              <a:lnTo>
                                <a:pt x="35" y="177"/>
                              </a:lnTo>
                              <a:lnTo>
                                <a:pt x="181" y="168"/>
                              </a:lnTo>
                              <a:lnTo>
                                <a:pt x="97" y="243"/>
                              </a:lnTo>
                              <a:lnTo>
                                <a:pt x="265" y="287"/>
                              </a:lnTo>
                              <a:lnTo>
                                <a:pt x="221" y="323"/>
                              </a:lnTo>
                              <a:lnTo>
                                <a:pt x="52" y="287"/>
                              </a:lnTo>
                              <a:lnTo>
                                <a:pt x="141" y="376"/>
                              </a:lnTo>
                              <a:lnTo>
                                <a:pt x="256" y="390"/>
                              </a:lnTo>
                              <a:lnTo>
                                <a:pt x="358" y="368"/>
                              </a:lnTo>
                              <a:lnTo>
                                <a:pt x="433" y="398"/>
                              </a:lnTo>
                              <a:lnTo>
                                <a:pt x="539" y="429"/>
                              </a:lnTo>
                              <a:lnTo>
                                <a:pt x="509" y="381"/>
                              </a:lnTo>
                              <a:lnTo>
                                <a:pt x="614" y="337"/>
                              </a:lnTo>
                              <a:lnTo>
                                <a:pt x="509" y="305"/>
                              </a:lnTo>
                              <a:lnTo>
                                <a:pt x="446" y="1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6" name=""/>
                        <p:cNvSpPr/>
                        <p:nvPr/>
                      </p:nvSpPr>
                      <p:spPr>
                        <a:xfrm>
                          <a:off x="4680000" y="4054320"/>
                          <a:ext cx="125640" cy="19728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49" h="548">
                              <a:moveTo>
                                <a:pt x="234" y="0"/>
                              </a:moveTo>
                              <a:lnTo>
                                <a:pt x="163" y="0"/>
                              </a:lnTo>
                              <a:lnTo>
                                <a:pt x="92" y="61"/>
                              </a:lnTo>
                              <a:lnTo>
                                <a:pt x="30" y="105"/>
                              </a:lnTo>
                              <a:lnTo>
                                <a:pt x="0" y="168"/>
                              </a:lnTo>
                              <a:lnTo>
                                <a:pt x="0" y="217"/>
                              </a:lnTo>
                              <a:lnTo>
                                <a:pt x="48" y="247"/>
                              </a:lnTo>
                              <a:lnTo>
                                <a:pt x="145" y="221"/>
                              </a:lnTo>
                              <a:lnTo>
                                <a:pt x="256" y="168"/>
                              </a:lnTo>
                              <a:lnTo>
                                <a:pt x="136" y="287"/>
                              </a:lnTo>
                              <a:lnTo>
                                <a:pt x="181" y="300"/>
                              </a:lnTo>
                              <a:lnTo>
                                <a:pt x="154" y="367"/>
                              </a:lnTo>
                              <a:lnTo>
                                <a:pt x="195" y="397"/>
                              </a:lnTo>
                              <a:lnTo>
                                <a:pt x="186" y="456"/>
                              </a:lnTo>
                              <a:lnTo>
                                <a:pt x="119" y="487"/>
                              </a:lnTo>
                              <a:lnTo>
                                <a:pt x="92" y="544"/>
                              </a:lnTo>
                              <a:lnTo>
                                <a:pt x="127" y="548"/>
                              </a:lnTo>
                              <a:lnTo>
                                <a:pt x="234" y="509"/>
                              </a:lnTo>
                              <a:lnTo>
                                <a:pt x="349" y="517"/>
                              </a:lnTo>
                              <a:lnTo>
                                <a:pt x="327" y="442"/>
                              </a:lnTo>
                              <a:lnTo>
                                <a:pt x="336" y="358"/>
                              </a:lnTo>
                              <a:lnTo>
                                <a:pt x="287" y="305"/>
                              </a:lnTo>
                              <a:lnTo>
                                <a:pt x="327" y="199"/>
                              </a:lnTo>
                              <a:lnTo>
                                <a:pt x="314" y="123"/>
                              </a:lnTo>
                              <a:lnTo>
                                <a:pt x="296" y="26"/>
                              </a:lnTo>
                              <a:lnTo>
                                <a:pt x="23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7" name=""/>
                        <p:cNvSpPr/>
                        <p:nvPr/>
                      </p:nvSpPr>
                      <p:spPr>
                        <a:xfrm>
                          <a:off x="4656240" y="4141800"/>
                          <a:ext cx="52920" cy="846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47" h="235">
                              <a:moveTo>
                                <a:pt x="22" y="0"/>
                              </a:moveTo>
                              <a:lnTo>
                                <a:pt x="0" y="80"/>
                              </a:lnTo>
                              <a:lnTo>
                                <a:pt x="22" y="218"/>
                              </a:lnTo>
                              <a:lnTo>
                                <a:pt x="75" y="235"/>
                              </a:lnTo>
                              <a:lnTo>
                                <a:pt x="134" y="218"/>
                              </a:lnTo>
                              <a:lnTo>
                                <a:pt x="147" y="111"/>
                              </a:lnTo>
                              <a:lnTo>
                                <a:pt x="134" y="89"/>
                              </a:lnTo>
                              <a:lnTo>
                                <a:pt x="102" y="48"/>
                              </a:lnTo>
                              <a:lnTo>
                                <a:pt x="67" y="52"/>
                              </a:lnTo>
                              <a:lnTo>
                                <a:pt x="2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33480" bIns="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"/>
                        <p:cNvSpPr/>
                        <p:nvPr/>
                      </p:nvSpPr>
                      <p:spPr>
                        <a:xfrm>
                          <a:off x="4680000" y="4309920"/>
                          <a:ext cx="51120" cy="590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42" h="164">
                              <a:moveTo>
                                <a:pt x="26" y="0"/>
                              </a:moveTo>
                              <a:lnTo>
                                <a:pt x="93" y="30"/>
                              </a:lnTo>
                              <a:lnTo>
                                <a:pt x="142" y="8"/>
                              </a:lnTo>
                              <a:lnTo>
                                <a:pt x="128" y="61"/>
                              </a:lnTo>
                              <a:lnTo>
                                <a:pt x="133" y="102"/>
                              </a:lnTo>
                              <a:lnTo>
                                <a:pt x="120" y="142"/>
                              </a:lnTo>
                              <a:lnTo>
                                <a:pt x="89" y="164"/>
                              </a:lnTo>
                              <a:lnTo>
                                <a:pt x="48" y="159"/>
                              </a:lnTo>
                              <a:lnTo>
                                <a:pt x="17" y="150"/>
                              </a:lnTo>
                              <a:lnTo>
                                <a:pt x="0" y="84"/>
                              </a:lnTo>
                              <a:lnTo>
                                <a:pt x="2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7920" bIns="7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9" name=""/>
                        <p:cNvSpPr/>
                        <p:nvPr/>
                      </p:nvSpPr>
                      <p:spPr>
                        <a:xfrm>
                          <a:off x="4608360" y="4307040"/>
                          <a:ext cx="65520" cy="972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82" h="270">
                              <a:moveTo>
                                <a:pt x="182" y="181"/>
                              </a:moveTo>
                              <a:lnTo>
                                <a:pt x="165" y="222"/>
                              </a:lnTo>
                              <a:lnTo>
                                <a:pt x="120" y="270"/>
                              </a:lnTo>
                              <a:lnTo>
                                <a:pt x="84" y="235"/>
                              </a:lnTo>
                              <a:lnTo>
                                <a:pt x="84" y="181"/>
                              </a:lnTo>
                              <a:lnTo>
                                <a:pt x="17" y="155"/>
                              </a:lnTo>
                              <a:lnTo>
                                <a:pt x="0" y="115"/>
                              </a:lnTo>
                              <a:lnTo>
                                <a:pt x="4" y="75"/>
                              </a:lnTo>
                              <a:lnTo>
                                <a:pt x="53" y="71"/>
                              </a:lnTo>
                              <a:lnTo>
                                <a:pt x="35" y="0"/>
                              </a:lnTo>
                              <a:lnTo>
                                <a:pt x="102" y="8"/>
                              </a:lnTo>
                              <a:lnTo>
                                <a:pt x="165" y="0"/>
                              </a:lnTo>
                              <a:lnTo>
                                <a:pt x="133" y="93"/>
                              </a:lnTo>
                              <a:lnTo>
                                <a:pt x="143" y="128"/>
                              </a:lnTo>
                              <a:lnTo>
                                <a:pt x="182" y="18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46080" bIns="46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"/>
                        <p:cNvSpPr/>
                        <p:nvPr/>
                      </p:nvSpPr>
                      <p:spPr>
                        <a:xfrm>
                          <a:off x="4567320" y="4240080"/>
                          <a:ext cx="43200" cy="320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20" h="89">
                              <a:moveTo>
                                <a:pt x="0" y="35"/>
                              </a:moveTo>
                              <a:lnTo>
                                <a:pt x="44" y="35"/>
                              </a:lnTo>
                              <a:lnTo>
                                <a:pt x="39" y="0"/>
                              </a:lnTo>
                              <a:lnTo>
                                <a:pt x="89" y="22"/>
                              </a:lnTo>
                              <a:lnTo>
                                <a:pt x="120" y="75"/>
                              </a:lnTo>
                              <a:lnTo>
                                <a:pt x="80" y="89"/>
                              </a:lnTo>
                              <a:lnTo>
                                <a:pt x="26" y="89"/>
                              </a:lnTo>
                              <a:lnTo>
                                <a:pt x="0" y="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19080" bIns="-19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"/>
                        <p:cNvSpPr/>
                        <p:nvPr/>
                      </p:nvSpPr>
                      <p:spPr>
                        <a:xfrm>
                          <a:off x="4367160" y="4232160"/>
                          <a:ext cx="133560" cy="1242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71" h="345">
                              <a:moveTo>
                                <a:pt x="314" y="177"/>
                              </a:moveTo>
                              <a:lnTo>
                                <a:pt x="252" y="164"/>
                              </a:lnTo>
                              <a:lnTo>
                                <a:pt x="195" y="195"/>
                              </a:lnTo>
                              <a:lnTo>
                                <a:pt x="149" y="252"/>
                              </a:lnTo>
                              <a:lnTo>
                                <a:pt x="132" y="315"/>
                              </a:lnTo>
                              <a:lnTo>
                                <a:pt x="79" y="345"/>
                              </a:lnTo>
                              <a:lnTo>
                                <a:pt x="22" y="345"/>
                              </a:lnTo>
                              <a:lnTo>
                                <a:pt x="0" y="279"/>
                              </a:lnTo>
                              <a:lnTo>
                                <a:pt x="30" y="208"/>
                              </a:lnTo>
                              <a:lnTo>
                                <a:pt x="61" y="137"/>
                              </a:lnTo>
                              <a:lnTo>
                                <a:pt x="105" y="48"/>
                              </a:lnTo>
                              <a:lnTo>
                                <a:pt x="141" y="35"/>
                              </a:lnTo>
                              <a:lnTo>
                                <a:pt x="208" y="0"/>
                              </a:lnTo>
                              <a:lnTo>
                                <a:pt x="269" y="8"/>
                              </a:lnTo>
                              <a:lnTo>
                                <a:pt x="318" y="44"/>
                              </a:lnTo>
                              <a:lnTo>
                                <a:pt x="362" y="93"/>
                              </a:lnTo>
                              <a:lnTo>
                                <a:pt x="371" y="137"/>
                              </a:lnTo>
                              <a:lnTo>
                                <a:pt x="314" y="17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"/>
                        <p:cNvSpPr/>
                        <p:nvPr/>
                      </p:nvSpPr>
                      <p:spPr>
                        <a:xfrm>
                          <a:off x="4478400" y="4156200"/>
                          <a:ext cx="132120" cy="846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67" h="235">
                              <a:moveTo>
                                <a:pt x="154" y="235"/>
                              </a:moveTo>
                              <a:lnTo>
                                <a:pt x="203" y="200"/>
                              </a:lnTo>
                              <a:lnTo>
                                <a:pt x="247" y="178"/>
                              </a:lnTo>
                              <a:lnTo>
                                <a:pt x="309" y="178"/>
                              </a:lnTo>
                              <a:lnTo>
                                <a:pt x="327" y="187"/>
                              </a:lnTo>
                              <a:lnTo>
                                <a:pt x="349" y="178"/>
                              </a:lnTo>
                              <a:lnTo>
                                <a:pt x="367" y="146"/>
                              </a:lnTo>
                              <a:lnTo>
                                <a:pt x="327" y="128"/>
                              </a:lnTo>
                              <a:lnTo>
                                <a:pt x="296" y="111"/>
                              </a:lnTo>
                              <a:lnTo>
                                <a:pt x="287" y="75"/>
                              </a:lnTo>
                              <a:lnTo>
                                <a:pt x="296" y="22"/>
                              </a:lnTo>
                              <a:lnTo>
                                <a:pt x="221" y="0"/>
                              </a:lnTo>
                              <a:lnTo>
                                <a:pt x="163" y="22"/>
                              </a:lnTo>
                              <a:lnTo>
                                <a:pt x="180" y="52"/>
                              </a:lnTo>
                              <a:lnTo>
                                <a:pt x="221" y="102"/>
                              </a:lnTo>
                              <a:lnTo>
                                <a:pt x="225" y="128"/>
                              </a:lnTo>
                              <a:lnTo>
                                <a:pt x="158" y="133"/>
                              </a:lnTo>
                              <a:lnTo>
                                <a:pt x="141" y="111"/>
                              </a:lnTo>
                              <a:lnTo>
                                <a:pt x="114" y="52"/>
                              </a:lnTo>
                              <a:lnTo>
                                <a:pt x="39" y="84"/>
                              </a:lnTo>
                              <a:lnTo>
                                <a:pt x="13" y="120"/>
                              </a:lnTo>
                              <a:lnTo>
                                <a:pt x="0" y="159"/>
                              </a:lnTo>
                              <a:lnTo>
                                <a:pt x="70" y="159"/>
                              </a:lnTo>
                              <a:lnTo>
                                <a:pt x="74" y="187"/>
                              </a:lnTo>
                              <a:lnTo>
                                <a:pt x="119" y="187"/>
                              </a:lnTo>
                              <a:lnTo>
                                <a:pt x="110" y="231"/>
                              </a:lnTo>
                              <a:lnTo>
                                <a:pt x="154" y="2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33480" bIns="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3" name=""/>
                        <p:cNvSpPr/>
                        <p:nvPr/>
                      </p:nvSpPr>
                      <p:spPr>
                        <a:xfrm>
                          <a:off x="4440240" y="4133880"/>
                          <a:ext cx="49680" cy="576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38" h="160">
                              <a:moveTo>
                                <a:pt x="129" y="0"/>
                              </a:moveTo>
                              <a:lnTo>
                                <a:pt x="36" y="45"/>
                              </a:lnTo>
                              <a:lnTo>
                                <a:pt x="8" y="80"/>
                              </a:lnTo>
                              <a:lnTo>
                                <a:pt x="0" y="129"/>
                              </a:lnTo>
                              <a:lnTo>
                                <a:pt x="40" y="160"/>
                              </a:lnTo>
                              <a:lnTo>
                                <a:pt x="67" y="151"/>
                              </a:lnTo>
                              <a:lnTo>
                                <a:pt x="58" y="111"/>
                              </a:lnTo>
                              <a:lnTo>
                                <a:pt x="58" y="80"/>
                              </a:lnTo>
                              <a:lnTo>
                                <a:pt x="89" y="49"/>
                              </a:lnTo>
                              <a:lnTo>
                                <a:pt x="138" y="26"/>
                              </a:lnTo>
                              <a:lnTo>
                                <a:pt x="1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6480" bIns="6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4" name=""/>
                        <p:cNvSpPr/>
                        <p:nvPr/>
                      </p:nvSpPr>
                      <p:spPr>
                        <a:xfrm>
                          <a:off x="4989600" y="4767120"/>
                          <a:ext cx="25920" cy="273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72" h="76">
                              <a:moveTo>
                                <a:pt x="66" y="23"/>
                              </a:moveTo>
                              <a:lnTo>
                                <a:pt x="53" y="13"/>
                              </a:lnTo>
                              <a:lnTo>
                                <a:pt x="30" y="4"/>
                              </a:lnTo>
                              <a:lnTo>
                                <a:pt x="11" y="0"/>
                              </a:lnTo>
                              <a:lnTo>
                                <a:pt x="0" y="0"/>
                              </a:lnTo>
                              <a:lnTo>
                                <a:pt x="0" y="27"/>
                              </a:lnTo>
                              <a:lnTo>
                                <a:pt x="11" y="59"/>
                              </a:lnTo>
                              <a:lnTo>
                                <a:pt x="30" y="76"/>
                              </a:lnTo>
                              <a:lnTo>
                                <a:pt x="53" y="76"/>
                              </a:lnTo>
                              <a:lnTo>
                                <a:pt x="72" y="59"/>
                              </a:lnTo>
                              <a:lnTo>
                                <a:pt x="72" y="36"/>
                              </a:lnTo>
                              <a:lnTo>
                                <a:pt x="66" y="2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23760" bIns="-23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375" name=""/>
                  <p:cNvSpPr/>
                  <p:nvPr/>
                </p:nvSpPr>
                <p:spPr>
                  <a:xfrm>
                    <a:off x="4100400" y="4889520"/>
                    <a:ext cx="60840" cy="79560"/>
                  </a:xfrm>
                  <a:custGeom>
                    <a:avLst/>
                    <a:gdLst/>
                    <a:ahLst/>
                    <a:rect l="0" t="0" r="r" b="b"/>
                    <a:pathLst>
                      <a:path w="169" h="221">
                        <a:moveTo>
                          <a:pt x="169" y="221"/>
                        </a:moveTo>
                        <a:lnTo>
                          <a:pt x="98" y="88"/>
                        </a:lnTo>
                        <a:lnTo>
                          <a:pt x="58" y="39"/>
                        </a:lnTo>
                        <a:lnTo>
                          <a:pt x="0" y="0"/>
                        </a:lnTo>
                        <a:lnTo>
                          <a:pt x="8" y="44"/>
                        </a:lnTo>
                        <a:lnTo>
                          <a:pt x="67" y="142"/>
                        </a:lnTo>
                        <a:lnTo>
                          <a:pt x="124" y="212"/>
                        </a:lnTo>
                        <a:lnTo>
                          <a:pt x="169" y="221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616200" y="4186080"/>
                  <a:ext cx="1718280" cy="1816560"/>
                  <a:chOff x="3616200" y="4186080"/>
                  <a:chExt cx="1718280" cy="181656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4195800" y="5464080"/>
                    <a:ext cx="825840" cy="538560"/>
                  </a:xfrm>
                  <a:custGeom>
                    <a:avLst/>
                    <a:gdLst/>
                    <a:ahLst/>
                    <a:rect l="0" t="0" r="r" b="b"/>
                    <a:pathLst>
                      <a:path w="2294" h="1496">
                        <a:moveTo>
                          <a:pt x="1442" y="627"/>
                        </a:moveTo>
                        <a:lnTo>
                          <a:pt x="1460" y="658"/>
                        </a:lnTo>
                        <a:lnTo>
                          <a:pt x="1469" y="697"/>
                        </a:lnTo>
                        <a:lnTo>
                          <a:pt x="1425" y="755"/>
                        </a:lnTo>
                        <a:lnTo>
                          <a:pt x="1394" y="860"/>
                        </a:lnTo>
                        <a:lnTo>
                          <a:pt x="1420" y="918"/>
                        </a:lnTo>
                        <a:lnTo>
                          <a:pt x="1412" y="993"/>
                        </a:lnTo>
                        <a:lnTo>
                          <a:pt x="1451" y="1054"/>
                        </a:lnTo>
                        <a:lnTo>
                          <a:pt x="1487" y="1135"/>
                        </a:lnTo>
                        <a:lnTo>
                          <a:pt x="1566" y="1152"/>
                        </a:lnTo>
                        <a:lnTo>
                          <a:pt x="1628" y="1227"/>
                        </a:lnTo>
                        <a:lnTo>
                          <a:pt x="1711" y="1236"/>
                        </a:lnTo>
                        <a:lnTo>
                          <a:pt x="1756" y="1188"/>
                        </a:lnTo>
                        <a:lnTo>
                          <a:pt x="1831" y="1179"/>
                        </a:lnTo>
                        <a:lnTo>
                          <a:pt x="1897" y="1192"/>
                        </a:lnTo>
                        <a:lnTo>
                          <a:pt x="1967" y="1166"/>
                        </a:lnTo>
                        <a:lnTo>
                          <a:pt x="2003" y="1116"/>
                        </a:lnTo>
                        <a:lnTo>
                          <a:pt x="2038" y="1050"/>
                        </a:lnTo>
                        <a:lnTo>
                          <a:pt x="2020" y="966"/>
                        </a:lnTo>
                        <a:lnTo>
                          <a:pt x="2157" y="953"/>
                        </a:lnTo>
                        <a:lnTo>
                          <a:pt x="2227" y="918"/>
                        </a:lnTo>
                        <a:lnTo>
                          <a:pt x="2276" y="922"/>
                        </a:lnTo>
                        <a:lnTo>
                          <a:pt x="2294" y="979"/>
                        </a:lnTo>
                        <a:lnTo>
                          <a:pt x="2183" y="1085"/>
                        </a:lnTo>
                        <a:lnTo>
                          <a:pt x="2197" y="1170"/>
                        </a:lnTo>
                        <a:lnTo>
                          <a:pt x="2161" y="1223"/>
                        </a:lnTo>
                        <a:lnTo>
                          <a:pt x="2064" y="1205"/>
                        </a:lnTo>
                        <a:lnTo>
                          <a:pt x="1976" y="1205"/>
                        </a:lnTo>
                        <a:lnTo>
                          <a:pt x="1941" y="1254"/>
                        </a:lnTo>
                        <a:lnTo>
                          <a:pt x="1941" y="1316"/>
                        </a:lnTo>
                        <a:lnTo>
                          <a:pt x="2003" y="1346"/>
                        </a:lnTo>
                        <a:lnTo>
                          <a:pt x="1994" y="1386"/>
                        </a:lnTo>
                        <a:lnTo>
                          <a:pt x="1923" y="1373"/>
                        </a:lnTo>
                        <a:lnTo>
                          <a:pt x="1888" y="1377"/>
                        </a:lnTo>
                        <a:lnTo>
                          <a:pt x="1866" y="1404"/>
                        </a:lnTo>
                        <a:lnTo>
                          <a:pt x="1870" y="1457"/>
                        </a:lnTo>
                        <a:lnTo>
                          <a:pt x="1879" y="1496"/>
                        </a:lnTo>
                        <a:lnTo>
                          <a:pt x="1791" y="1474"/>
                        </a:lnTo>
                        <a:lnTo>
                          <a:pt x="1773" y="1439"/>
                        </a:lnTo>
                        <a:lnTo>
                          <a:pt x="1742" y="1395"/>
                        </a:lnTo>
                        <a:lnTo>
                          <a:pt x="1703" y="1377"/>
                        </a:lnTo>
                        <a:lnTo>
                          <a:pt x="1650" y="1377"/>
                        </a:lnTo>
                        <a:lnTo>
                          <a:pt x="1610" y="1417"/>
                        </a:lnTo>
                        <a:lnTo>
                          <a:pt x="1548" y="1448"/>
                        </a:lnTo>
                        <a:lnTo>
                          <a:pt x="1460" y="1426"/>
                        </a:lnTo>
                        <a:lnTo>
                          <a:pt x="1368" y="1417"/>
                        </a:lnTo>
                        <a:lnTo>
                          <a:pt x="1262" y="1333"/>
                        </a:lnTo>
                        <a:lnTo>
                          <a:pt x="1151" y="1285"/>
                        </a:lnTo>
                        <a:lnTo>
                          <a:pt x="1058" y="1258"/>
                        </a:lnTo>
                        <a:lnTo>
                          <a:pt x="1001" y="1254"/>
                        </a:lnTo>
                        <a:lnTo>
                          <a:pt x="846" y="1205"/>
                        </a:lnTo>
                        <a:lnTo>
                          <a:pt x="771" y="1103"/>
                        </a:lnTo>
                        <a:lnTo>
                          <a:pt x="740" y="922"/>
                        </a:lnTo>
                        <a:lnTo>
                          <a:pt x="679" y="816"/>
                        </a:lnTo>
                        <a:lnTo>
                          <a:pt x="621" y="750"/>
                        </a:lnTo>
                        <a:lnTo>
                          <a:pt x="546" y="697"/>
                        </a:lnTo>
                        <a:lnTo>
                          <a:pt x="498" y="552"/>
                        </a:lnTo>
                        <a:lnTo>
                          <a:pt x="423" y="459"/>
                        </a:lnTo>
                        <a:lnTo>
                          <a:pt x="343" y="366"/>
                        </a:lnTo>
                        <a:lnTo>
                          <a:pt x="295" y="220"/>
                        </a:lnTo>
                        <a:lnTo>
                          <a:pt x="246" y="176"/>
                        </a:lnTo>
                        <a:lnTo>
                          <a:pt x="167" y="136"/>
                        </a:lnTo>
                        <a:lnTo>
                          <a:pt x="198" y="291"/>
                        </a:lnTo>
                        <a:lnTo>
                          <a:pt x="233" y="411"/>
                        </a:lnTo>
                        <a:lnTo>
                          <a:pt x="286" y="503"/>
                        </a:lnTo>
                        <a:lnTo>
                          <a:pt x="339" y="613"/>
                        </a:lnTo>
                        <a:lnTo>
                          <a:pt x="405" y="741"/>
                        </a:lnTo>
                        <a:lnTo>
                          <a:pt x="476" y="869"/>
                        </a:lnTo>
                        <a:lnTo>
                          <a:pt x="432" y="882"/>
                        </a:lnTo>
                        <a:lnTo>
                          <a:pt x="348" y="755"/>
                        </a:lnTo>
                        <a:lnTo>
                          <a:pt x="286" y="728"/>
                        </a:lnTo>
                        <a:lnTo>
                          <a:pt x="268" y="627"/>
                        </a:lnTo>
                        <a:lnTo>
                          <a:pt x="224" y="574"/>
                        </a:lnTo>
                        <a:lnTo>
                          <a:pt x="220" y="494"/>
                        </a:lnTo>
                        <a:lnTo>
                          <a:pt x="180" y="441"/>
                        </a:lnTo>
                        <a:lnTo>
                          <a:pt x="136" y="428"/>
                        </a:lnTo>
                        <a:lnTo>
                          <a:pt x="110" y="375"/>
                        </a:lnTo>
                        <a:lnTo>
                          <a:pt x="136" y="317"/>
                        </a:lnTo>
                        <a:lnTo>
                          <a:pt x="79" y="224"/>
                        </a:lnTo>
                        <a:lnTo>
                          <a:pt x="35" y="167"/>
                        </a:lnTo>
                        <a:lnTo>
                          <a:pt x="13" y="101"/>
                        </a:lnTo>
                        <a:lnTo>
                          <a:pt x="0" y="0"/>
                        </a:lnTo>
                        <a:lnTo>
                          <a:pt x="211" y="48"/>
                        </a:lnTo>
                        <a:lnTo>
                          <a:pt x="361" y="136"/>
                        </a:lnTo>
                        <a:lnTo>
                          <a:pt x="432" y="189"/>
                        </a:lnTo>
                        <a:lnTo>
                          <a:pt x="612" y="176"/>
                        </a:lnTo>
                        <a:lnTo>
                          <a:pt x="652" y="207"/>
                        </a:lnTo>
                        <a:lnTo>
                          <a:pt x="855" y="198"/>
                        </a:lnTo>
                        <a:lnTo>
                          <a:pt x="895" y="255"/>
                        </a:lnTo>
                        <a:lnTo>
                          <a:pt x="934" y="384"/>
                        </a:lnTo>
                        <a:lnTo>
                          <a:pt x="1027" y="380"/>
                        </a:lnTo>
                        <a:lnTo>
                          <a:pt x="1053" y="308"/>
                        </a:lnTo>
                        <a:lnTo>
                          <a:pt x="1160" y="308"/>
                        </a:lnTo>
                        <a:lnTo>
                          <a:pt x="1244" y="433"/>
                        </a:lnTo>
                        <a:lnTo>
                          <a:pt x="1306" y="600"/>
                        </a:lnTo>
                        <a:lnTo>
                          <a:pt x="1376" y="636"/>
                        </a:lnTo>
                        <a:lnTo>
                          <a:pt x="1442" y="627"/>
                        </a:lnTo>
                        <a:close/>
                      </a:path>
                    </a:pathLst>
                  </a:custGeom>
                  <a:solidFill>
                    <a:srgbClr val="5fc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3616200" y="4186080"/>
                    <a:ext cx="1718280" cy="1506960"/>
                    <a:chOff x="3616200" y="4186080"/>
                    <a:chExt cx="1718280" cy="150696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070520" y="4952880"/>
                      <a:ext cx="1263960" cy="7401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511" h="2056">
                          <a:moveTo>
                            <a:pt x="343" y="48"/>
                          </a:moveTo>
                          <a:lnTo>
                            <a:pt x="299" y="198"/>
                          </a:lnTo>
                          <a:lnTo>
                            <a:pt x="251" y="158"/>
                          </a:lnTo>
                          <a:lnTo>
                            <a:pt x="211" y="114"/>
                          </a:lnTo>
                          <a:lnTo>
                            <a:pt x="145" y="79"/>
                          </a:lnTo>
                          <a:lnTo>
                            <a:pt x="141" y="198"/>
                          </a:lnTo>
                          <a:lnTo>
                            <a:pt x="97" y="321"/>
                          </a:lnTo>
                          <a:lnTo>
                            <a:pt x="97" y="423"/>
                          </a:lnTo>
                          <a:lnTo>
                            <a:pt x="52" y="538"/>
                          </a:lnTo>
                          <a:lnTo>
                            <a:pt x="35" y="706"/>
                          </a:lnTo>
                          <a:lnTo>
                            <a:pt x="0" y="807"/>
                          </a:lnTo>
                          <a:lnTo>
                            <a:pt x="8" y="878"/>
                          </a:lnTo>
                          <a:lnTo>
                            <a:pt x="66" y="962"/>
                          </a:lnTo>
                          <a:lnTo>
                            <a:pt x="48" y="1028"/>
                          </a:lnTo>
                          <a:lnTo>
                            <a:pt x="110" y="1112"/>
                          </a:lnTo>
                          <a:lnTo>
                            <a:pt x="145" y="1240"/>
                          </a:lnTo>
                          <a:lnTo>
                            <a:pt x="251" y="1301"/>
                          </a:lnTo>
                          <a:lnTo>
                            <a:pt x="361" y="1420"/>
                          </a:lnTo>
                          <a:lnTo>
                            <a:pt x="560" y="1465"/>
                          </a:lnTo>
                          <a:lnTo>
                            <a:pt x="784" y="1607"/>
                          </a:lnTo>
                          <a:lnTo>
                            <a:pt x="956" y="1593"/>
                          </a:lnTo>
                          <a:lnTo>
                            <a:pt x="1005" y="1629"/>
                          </a:lnTo>
                          <a:lnTo>
                            <a:pt x="1195" y="1620"/>
                          </a:lnTo>
                          <a:lnTo>
                            <a:pt x="1239" y="1660"/>
                          </a:lnTo>
                          <a:lnTo>
                            <a:pt x="1274" y="1770"/>
                          </a:lnTo>
                          <a:lnTo>
                            <a:pt x="1292" y="1805"/>
                          </a:lnTo>
                          <a:lnTo>
                            <a:pt x="1362" y="1801"/>
                          </a:lnTo>
                          <a:lnTo>
                            <a:pt x="1406" y="1726"/>
                          </a:lnTo>
                          <a:lnTo>
                            <a:pt x="1494" y="1730"/>
                          </a:lnTo>
                          <a:lnTo>
                            <a:pt x="1538" y="1783"/>
                          </a:lnTo>
                          <a:lnTo>
                            <a:pt x="1583" y="1836"/>
                          </a:lnTo>
                          <a:lnTo>
                            <a:pt x="1622" y="1937"/>
                          </a:lnTo>
                          <a:lnTo>
                            <a:pt x="1649" y="2021"/>
                          </a:lnTo>
                          <a:lnTo>
                            <a:pt x="1719" y="2052"/>
                          </a:lnTo>
                          <a:lnTo>
                            <a:pt x="1791" y="2056"/>
                          </a:lnTo>
                          <a:lnTo>
                            <a:pt x="1764" y="1959"/>
                          </a:lnTo>
                          <a:lnTo>
                            <a:pt x="1760" y="1893"/>
                          </a:lnTo>
                          <a:lnTo>
                            <a:pt x="1795" y="1796"/>
                          </a:lnTo>
                          <a:lnTo>
                            <a:pt x="1853" y="1770"/>
                          </a:lnTo>
                          <a:lnTo>
                            <a:pt x="1954" y="1699"/>
                          </a:lnTo>
                          <a:lnTo>
                            <a:pt x="2064" y="1695"/>
                          </a:lnTo>
                          <a:lnTo>
                            <a:pt x="2170" y="1708"/>
                          </a:lnTo>
                          <a:lnTo>
                            <a:pt x="2285" y="1757"/>
                          </a:lnTo>
                          <a:lnTo>
                            <a:pt x="2342" y="1743"/>
                          </a:lnTo>
                          <a:lnTo>
                            <a:pt x="2369" y="1708"/>
                          </a:lnTo>
                          <a:lnTo>
                            <a:pt x="2249" y="1664"/>
                          </a:lnTo>
                          <a:lnTo>
                            <a:pt x="2382" y="1615"/>
                          </a:lnTo>
                          <a:lnTo>
                            <a:pt x="2474" y="1638"/>
                          </a:lnTo>
                          <a:lnTo>
                            <a:pt x="2615" y="1620"/>
                          </a:lnTo>
                          <a:lnTo>
                            <a:pt x="2708" y="1620"/>
                          </a:lnTo>
                          <a:lnTo>
                            <a:pt x="2796" y="1620"/>
                          </a:lnTo>
                          <a:lnTo>
                            <a:pt x="2836" y="1646"/>
                          </a:lnTo>
                          <a:lnTo>
                            <a:pt x="2871" y="1695"/>
                          </a:lnTo>
                          <a:lnTo>
                            <a:pt x="2884" y="1801"/>
                          </a:lnTo>
                          <a:lnTo>
                            <a:pt x="2920" y="1849"/>
                          </a:lnTo>
                          <a:lnTo>
                            <a:pt x="2946" y="1920"/>
                          </a:lnTo>
                          <a:lnTo>
                            <a:pt x="2986" y="1955"/>
                          </a:lnTo>
                          <a:lnTo>
                            <a:pt x="3034" y="1977"/>
                          </a:lnTo>
                          <a:lnTo>
                            <a:pt x="3078" y="1937"/>
                          </a:lnTo>
                          <a:lnTo>
                            <a:pt x="3096" y="1867"/>
                          </a:lnTo>
                          <a:lnTo>
                            <a:pt x="3065" y="1818"/>
                          </a:lnTo>
                          <a:lnTo>
                            <a:pt x="2959" y="1677"/>
                          </a:lnTo>
                          <a:lnTo>
                            <a:pt x="2915" y="1558"/>
                          </a:lnTo>
                          <a:lnTo>
                            <a:pt x="2929" y="1434"/>
                          </a:lnTo>
                          <a:lnTo>
                            <a:pt x="2990" y="1390"/>
                          </a:lnTo>
                          <a:lnTo>
                            <a:pt x="3052" y="1315"/>
                          </a:lnTo>
                          <a:lnTo>
                            <a:pt x="3043" y="1257"/>
                          </a:lnTo>
                          <a:lnTo>
                            <a:pt x="3083" y="1209"/>
                          </a:lnTo>
                          <a:lnTo>
                            <a:pt x="3158" y="1178"/>
                          </a:lnTo>
                          <a:lnTo>
                            <a:pt x="3180" y="1103"/>
                          </a:lnTo>
                          <a:lnTo>
                            <a:pt x="3149" y="1037"/>
                          </a:lnTo>
                          <a:lnTo>
                            <a:pt x="3118" y="1006"/>
                          </a:lnTo>
                          <a:lnTo>
                            <a:pt x="3127" y="971"/>
                          </a:lnTo>
                          <a:lnTo>
                            <a:pt x="3083" y="953"/>
                          </a:lnTo>
                          <a:lnTo>
                            <a:pt x="3092" y="918"/>
                          </a:lnTo>
                          <a:lnTo>
                            <a:pt x="3052" y="891"/>
                          </a:lnTo>
                          <a:lnTo>
                            <a:pt x="3043" y="821"/>
                          </a:lnTo>
                          <a:lnTo>
                            <a:pt x="3096" y="865"/>
                          </a:lnTo>
                          <a:lnTo>
                            <a:pt x="3105" y="843"/>
                          </a:lnTo>
                          <a:lnTo>
                            <a:pt x="3074" y="807"/>
                          </a:lnTo>
                          <a:lnTo>
                            <a:pt x="3096" y="772"/>
                          </a:lnTo>
                          <a:lnTo>
                            <a:pt x="3127" y="807"/>
                          </a:lnTo>
                          <a:lnTo>
                            <a:pt x="3149" y="869"/>
                          </a:lnTo>
                          <a:lnTo>
                            <a:pt x="3167" y="852"/>
                          </a:lnTo>
                          <a:lnTo>
                            <a:pt x="3149" y="807"/>
                          </a:lnTo>
                          <a:lnTo>
                            <a:pt x="3180" y="772"/>
                          </a:lnTo>
                          <a:lnTo>
                            <a:pt x="3193" y="741"/>
                          </a:lnTo>
                          <a:lnTo>
                            <a:pt x="3193" y="706"/>
                          </a:lnTo>
                          <a:lnTo>
                            <a:pt x="3180" y="649"/>
                          </a:lnTo>
                          <a:lnTo>
                            <a:pt x="3193" y="591"/>
                          </a:lnTo>
                          <a:lnTo>
                            <a:pt x="3206" y="561"/>
                          </a:lnTo>
                          <a:lnTo>
                            <a:pt x="3268" y="507"/>
                          </a:lnTo>
                          <a:lnTo>
                            <a:pt x="3325" y="498"/>
                          </a:lnTo>
                          <a:lnTo>
                            <a:pt x="3378" y="476"/>
                          </a:lnTo>
                          <a:lnTo>
                            <a:pt x="3409" y="485"/>
                          </a:lnTo>
                          <a:lnTo>
                            <a:pt x="3444" y="480"/>
                          </a:lnTo>
                          <a:lnTo>
                            <a:pt x="3458" y="467"/>
                          </a:lnTo>
                          <a:lnTo>
                            <a:pt x="3431" y="467"/>
                          </a:lnTo>
                          <a:lnTo>
                            <a:pt x="3409" y="463"/>
                          </a:lnTo>
                          <a:lnTo>
                            <a:pt x="3387" y="449"/>
                          </a:lnTo>
                          <a:lnTo>
                            <a:pt x="3370" y="423"/>
                          </a:lnTo>
                          <a:lnTo>
                            <a:pt x="3370" y="361"/>
                          </a:lnTo>
                          <a:lnTo>
                            <a:pt x="3405" y="291"/>
                          </a:lnTo>
                          <a:lnTo>
                            <a:pt x="3449" y="251"/>
                          </a:lnTo>
                          <a:lnTo>
                            <a:pt x="3497" y="229"/>
                          </a:lnTo>
                          <a:lnTo>
                            <a:pt x="3511" y="167"/>
                          </a:lnTo>
                          <a:lnTo>
                            <a:pt x="3436" y="92"/>
                          </a:lnTo>
                          <a:lnTo>
                            <a:pt x="3405" y="17"/>
                          </a:lnTo>
                          <a:lnTo>
                            <a:pt x="3339" y="0"/>
                          </a:lnTo>
                          <a:lnTo>
                            <a:pt x="3299" y="48"/>
                          </a:lnTo>
                          <a:lnTo>
                            <a:pt x="3299" y="167"/>
                          </a:lnTo>
                          <a:lnTo>
                            <a:pt x="3259" y="242"/>
                          </a:lnTo>
                          <a:lnTo>
                            <a:pt x="3136" y="317"/>
                          </a:lnTo>
                          <a:lnTo>
                            <a:pt x="3065" y="308"/>
                          </a:lnTo>
                          <a:lnTo>
                            <a:pt x="3017" y="335"/>
                          </a:lnTo>
                          <a:lnTo>
                            <a:pt x="3004" y="388"/>
                          </a:lnTo>
                          <a:lnTo>
                            <a:pt x="2990" y="454"/>
                          </a:lnTo>
                          <a:lnTo>
                            <a:pt x="2937" y="502"/>
                          </a:lnTo>
                          <a:lnTo>
                            <a:pt x="2827" y="561"/>
                          </a:lnTo>
                          <a:lnTo>
                            <a:pt x="2787" y="591"/>
                          </a:lnTo>
                          <a:lnTo>
                            <a:pt x="2748" y="666"/>
                          </a:lnTo>
                          <a:lnTo>
                            <a:pt x="2699" y="684"/>
                          </a:lnTo>
                          <a:lnTo>
                            <a:pt x="2646" y="728"/>
                          </a:lnTo>
                          <a:lnTo>
                            <a:pt x="2585" y="680"/>
                          </a:lnTo>
                          <a:lnTo>
                            <a:pt x="2624" y="613"/>
                          </a:lnTo>
                          <a:lnTo>
                            <a:pt x="2629" y="561"/>
                          </a:lnTo>
                          <a:lnTo>
                            <a:pt x="2585" y="591"/>
                          </a:lnTo>
                          <a:lnTo>
                            <a:pt x="2536" y="591"/>
                          </a:lnTo>
                          <a:lnTo>
                            <a:pt x="2571" y="534"/>
                          </a:lnTo>
                          <a:lnTo>
                            <a:pt x="2585" y="485"/>
                          </a:lnTo>
                          <a:lnTo>
                            <a:pt x="2532" y="432"/>
                          </a:lnTo>
                          <a:lnTo>
                            <a:pt x="2474" y="427"/>
                          </a:lnTo>
                          <a:lnTo>
                            <a:pt x="2457" y="463"/>
                          </a:lnTo>
                          <a:lnTo>
                            <a:pt x="2426" y="454"/>
                          </a:lnTo>
                          <a:lnTo>
                            <a:pt x="2395" y="493"/>
                          </a:lnTo>
                          <a:lnTo>
                            <a:pt x="2399" y="578"/>
                          </a:lnTo>
                          <a:lnTo>
                            <a:pt x="2413" y="613"/>
                          </a:lnTo>
                          <a:lnTo>
                            <a:pt x="2430" y="666"/>
                          </a:lnTo>
                          <a:lnTo>
                            <a:pt x="2430" y="693"/>
                          </a:lnTo>
                          <a:lnTo>
                            <a:pt x="2421" y="737"/>
                          </a:lnTo>
                          <a:lnTo>
                            <a:pt x="2399" y="750"/>
                          </a:lnTo>
                          <a:lnTo>
                            <a:pt x="2369" y="759"/>
                          </a:lnTo>
                          <a:lnTo>
                            <a:pt x="2342" y="693"/>
                          </a:lnTo>
                          <a:lnTo>
                            <a:pt x="2307" y="636"/>
                          </a:lnTo>
                          <a:lnTo>
                            <a:pt x="2307" y="578"/>
                          </a:lnTo>
                          <a:lnTo>
                            <a:pt x="2324" y="516"/>
                          </a:lnTo>
                          <a:lnTo>
                            <a:pt x="2307" y="454"/>
                          </a:lnTo>
                          <a:lnTo>
                            <a:pt x="2413" y="392"/>
                          </a:lnTo>
                          <a:lnTo>
                            <a:pt x="2461" y="366"/>
                          </a:lnTo>
                          <a:lnTo>
                            <a:pt x="2324" y="379"/>
                          </a:lnTo>
                          <a:lnTo>
                            <a:pt x="2236" y="392"/>
                          </a:lnTo>
                          <a:lnTo>
                            <a:pt x="2210" y="326"/>
                          </a:lnTo>
                          <a:lnTo>
                            <a:pt x="2148" y="374"/>
                          </a:lnTo>
                          <a:lnTo>
                            <a:pt x="2170" y="321"/>
                          </a:lnTo>
                          <a:lnTo>
                            <a:pt x="2051" y="370"/>
                          </a:lnTo>
                          <a:lnTo>
                            <a:pt x="1980" y="339"/>
                          </a:lnTo>
                          <a:lnTo>
                            <a:pt x="1985" y="291"/>
                          </a:lnTo>
                          <a:lnTo>
                            <a:pt x="2020" y="242"/>
                          </a:lnTo>
                          <a:lnTo>
                            <a:pt x="1853" y="180"/>
                          </a:lnTo>
                          <a:lnTo>
                            <a:pt x="1292" y="149"/>
                          </a:lnTo>
                          <a:lnTo>
                            <a:pt x="996" y="141"/>
                          </a:lnTo>
                          <a:lnTo>
                            <a:pt x="701" y="101"/>
                          </a:lnTo>
                          <a:lnTo>
                            <a:pt x="343" y="4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3616200" y="4186080"/>
                      <a:ext cx="592560" cy="592560"/>
                      <a:chOff x="3616200" y="4186080"/>
                      <a:chExt cx="592560" cy="59256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3681360" y="4186080"/>
                        <a:ext cx="527400" cy="5925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65" h="1646">
                            <a:moveTo>
                              <a:pt x="1465" y="428"/>
                            </a:moveTo>
                            <a:lnTo>
                              <a:pt x="1006" y="1002"/>
                            </a:lnTo>
                            <a:lnTo>
                              <a:pt x="1103" y="1037"/>
                            </a:lnTo>
                            <a:lnTo>
                              <a:pt x="1050" y="1103"/>
                            </a:lnTo>
                            <a:lnTo>
                              <a:pt x="1134" y="1121"/>
                            </a:lnTo>
                            <a:lnTo>
                              <a:pt x="1187" y="1329"/>
                            </a:lnTo>
                            <a:lnTo>
                              <a:pt x="1240" y="1540"/>
                            </a:lnTo>
                            <a:lnTo>
                              <a:pt x="1187" y="1646"/>
                            </a:lnTo>
                            <a:lnTo>
                              <a:pt x="1173" y="1457"/>
                            </a:lnTo>
                            <a:lnTo>
                              <a:pt x="1125" y="1391"/>
                            </a:lnTo>
                            <a:lnTo>
                              <a:pt x="1103" y="1218"/>
                            </a:lnTo>
                            <a:lnTo>
                              <a:pt x="1050" y="1329"/>
                            </a:lnTo>
                            <a:lnTo>
                              <a:pt x="1006" y="1187"/>
                            </a:lnTo>
                            <a:lnTo>
                              <a:pt x="979" y="1063"/>
                            </a:lnTo>
                            <a:lnTo>
                              <a:pt x="949" y="962"/>
                            </a:lnTo>
                            <a:lnTo>
                              <a:pt x="931" y="949"/>
                            </a:lnTo>
                            <a:lnTo>
                              <a:pt x="834" y="979"/>
                            </a:lnTo>
                            <a:lnTo>
                              <a:pt x="750" y="865"/>
                            </a:lnTo>
                            <a:lnTo>
                              <a:pt x="732" y="935"/>
                            </a:lnTo>
                            <a:lnTo>
                              <a:pt x="674" y="891"/>
                            </a:lnTo>
                            <a:lnTo>
                              <a:pt x="582" y="918"/>
                            </a:lnTo>
                            <a:lnTo>
                              <a:pt x="635" y="838"/>
                            </a:lnTo>
                            <a:lnTo>
                              <a:pt x="732" y="821"/>
                            </a:lnTo>
                            <a:lnTo>
                              <a:pt x="759" y="759"/>
                            </a:lnTo>
                            <a:lnTo>
                              <a:pt x="661" y="746"/>
                            </a:lnTo>
                            <a:lnTo>
                              <a:pt x="599" y="794"/>
                            </a:lnTo>
                            <a:lnTo>
                              <a:pt x="560" y="724"/>
                            </a:lnTo>
                            <a:lnTo>
                              <a:pt x="507" y="768"/>
                            </a:lnTo>
                            <a:lnTo>
                              <a:pt x="489" y="856"/>
                            </a:lnTo>
                            <a:lnTo>
                              <a:pt x="454" y="904"/>
                            </a:lnTo>
                            <a:lnTo>
                              <a:pt x="348" y="887"/>
                            </a:lnTo>
                            <a:lnTo>
                              <a:pt x="233" y="922"/>
                            </a:lnTo>
                            <a:lnTo>
                              <a:pt x="136" y="918"/>
                            </a:lnTo>
                            <a:lnTo>
                              <a:pt x="0" y="852"/>
                            </a:lnTo>
                            <a:lnTo>
                              <a:pt x="22" y="781"/>
                            </a:lnTo>
                            <a:lnTo>
                              <a:pt x="110" y="852"/>
                            </a:lnTo>
                            <a:lnTo>
                              <a:pt x="167" y="843"/>
                            </a:lnTo>
                            <a:lnTo>
                              <a:pt x="233" y="874"/>
                            </a:lnTo>
                            <a:lnTo>
                              <a:pt x="286" y="825"/>
                            </a:lnTo>
                            <a:lnTo>
                              <a:pt x="295" y="790"/>
                            </a:lnTo>
                            <a:lnTo>
                              <a:pt x="361" y="768"/>
                            </a:lnTo>
                            <a:lnTo>
                              <a:pt x="317" y="684"/>
                            </a:lnTo>
                            <a:lnTo>
                              <a:pt x="299" y="644"/>
                            </a:lnTo>
                            <a:lnTo>
                              <a:pt x="238" y="613"/>
                            </a:lnTo>
                            <a:lnTo>
                              <a:pt x="313" y="547"/>
                            </a:lnTo>
                            <a:lnTo>
                              <a:pt x="264" y="486"/>
                            </a:lnTo>
                            <a:lnTo>
                              <a:pt x="299" y="459"/>
                            </a:lnTo>
                            <a:lnTo>
                              <a:pt x="326" y="464"/>
                            </a:lnTo>
                            <a:lnTo>
                              <a:pt x="330" y="388"/>
                            </a:lnTo>
                            <a:lnTo>
                              <a:pt x="339" y="326"/>
                            </a:lnTo>
                            <a:lnTo>
                              <a:pt x="396" y="313"/>
                            </a:lnTo>
                            <a:lnTo>
                              <a:pt x="458" y="313"/>
                            </a:lnTo>
                            <a:lnTo>
                              <a:pt x="498" y="317"/>
                            </a:lnTo>
                            <a:lnTo>
                              <a:pt x="643" y="388"/>
                            </a:lnTo>
                            <a:lnTo>
                              <a:pt x="709" y="313"/>
                            </a:lnTo>
                            <a:lnTo>
                              <a:pt x="573" y="176"/>
                            </a:lnTo>
                            <a:lnTo>
                              <a:pt x="630" y="167"/>
                            </a:lnTo>
                            <a:lnTo>
                              <a:pt x="604" y="97"/>
                            </a:lnTo>
                            <a:lnTo>
                              <a:pt x="652" y="79"/>
                            </a:lnTo>
                            <a:lnTo>
                              <a:pt x="687" y="110"/>
                            </a:lnTo>
                            <a:lnTo>
                              <a:pt x="727" y="110"/>
                            </a:lnTo>
                            <a:lnTo>
                              <a:pt x="732" y="145"/>
                            </a:lnTo>
                            <a:lnTo>
                              <a:pt x="709" y="176"/>
                            </a:lnTo>
                            <a:lnTo>
                              <a:pt x="790" y="260"/>
                            </a:lnTo>
                            <a:lnTo>
                              <a:pt x="847" y="198"/>
                            </a:lnTo>
                            <a:lnTo>
                              <a:pt x="816" y="167"/>
                            </a:lnTo>
                            <a:lnTo>
                              <a:pt x="847" y="88"/>
                            </a:lnTo>
                            <a:lnTo>
                              <a:pt x="847" y="30"/>
                            </a:lnTo>
                            <a:lnTo>
                              <a:pt x="922" y="0"/>
                            </a:lnTo>
                            <a:lnTo>
                              <a:pt x="979" y="13"/>
                            </a:lnTo>
                            <a:lnTo>
                              <a:pt x="993" y="48"/>
                            </a:lnTo>
                            <a:lnTo>
                              <a:pt x="1037" y="74"/>
                            </a:lnTo>
                            <a:lnTo>
                              <a:pt x="1072" y="48"/>
                            </a:lnTo>
                            <a:lnTo>
                              <a:pt x="1121" y="35"/>
                            </a:lnTo>
                            <a:lnTo>
                              <a:pt x="1218" y="57"/>
                            </a:lnTo>
                            <a:lnTo>
                              <a:pt x="1279" y="88"/>
                            </a:lnTo>
                            <a:lnTo>
                              <a:pt x="1271" y="145"/>
                            </a:lnTo>
                            <a:lnTo>
                              <a:pt x="1288" y="185"/>
                            </a:lnTo>
                            <a:lnTo>
                              <a:pt x="1354" y="185"/>
                            </a:lnTo>
                            <a:lnTo>
                              <a:pt x="1363" y="238"/>
                            </a:lnTo>
                            <a:lnTo>
                              <a:pt x="1403" y="273"/>
                            </a:lnTo>
                            <a:lnTo>
                              <a:pt x="1465" y="428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3780000" y="4538520"/>
                        <a:ext cx="367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02" h="72">
                            <a:moveTo>
                              <a:pt x="4" y="0"/>
                            </a:moveTo>
                            <a:lnTo>
                              <a:pt x="0" y="52"/>
                            </a:lnTo>
                            <a:lnTo>
                              <a:pt x="17" y="72"/>
                            </a:lnTo>
                            <a:lnTo>
                              <a:pt x="53" y="72"/>
                            </a:lnTo>
                            <a:lnTo>
                              <a:pt x="102" y="29"/>
                            </a:lnTo>
                            <a:lnTo>
                              <a:pt x="48" y="0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3616200" y="4465800"/>
                        <a:ext cx="3204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89" h="72">
                            <a:moveTo>
                              <a:pt x="8" y="8"/>
                            </a:moveTo>
                            <a:lnTo>
                              <a:pt x="30" y="0"/>
                            </a:lnTo>
                            <a:lnTo>
                              <a:pt x="49" y="0"/>
                            </a:lnTo>
                            <a:lnTo>
                              <a:pt x="67" y="8"/>
                            </a:lnTo>
                            <a:lnTo>
                              <a:pt x="80" y="36"/>
                            </a:lnTo>
                            <a:lnTo>
                              <a:pt x="89" y="53"/>
                            </a:lnTo>
                            <a:lnTo>
                              <a:pt x="75" y="63"/>
                            </a:lnTo>
                            <a:lnTo>
                              <a:pt x="53" y="72"/>
                            </a:lnTo>
                            <a:lnTo>
                              <a:pt x="13" y="63"/>
                            </a:lnTo>
                            <a:lnTo>
                              <a:pt x="0" y="36"/>
                            </a:lnTo>
                            <a:lnTo>
                              <a:pt x="8" y="8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3732120" y="43387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66" y="16"/>
                            </a:moveTo>
                            <a:lnTo>
                              <a:pt x="52" y="10"/>
                            </a:lnTo>
                            <a:lnTo>
                              <a:pt x="33" y="5"/>
                            </a:lnTo>
                            <a:lnTo>
                              <a:pt x="6" y="0"/>
                            </a:lnTo>
                            <a:lnTo>
                              <a:pt x="0" y="5"/>
                            </a:lnTo>
                            <a:lnTo>
                              <a:pt x="0" y="28"/>
                            </a:lnTo>
                            <a:lnTo>
                              <a:pt x="6" y="56"/>
                            </a:lnTo>
                            <a:lnTo>
                              <a:pt x="33" y="72"/>
                            </a:lnTo>
                            <a:lnTo>
                              <a:pt x="52" y="72"/>
                            </a:lnTo>
                            <a:lnTo>
                              <a:pt x="66" y="56"/>
                            </a:lnTo>
                            <a:lnTo>
                              <a:pt x="72" y="38"/>
                            </a:lnTo>
                            <a:lnTo>
                              <a:pt x="66" y="1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3763800" y="4232160"/>
                        <a:ext cx="36720" cy="338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02" h="94">
                            <a:moveTo>
                              <a:pt x="0" y="0"/>
                            </a:moveTo>
                            <a:lnTo>
                              <a:pt x="26" y="62"/>
                            </a:lnTo>
                            <a:lnTo>
                              <a:pt x="48" y="85"/>
                            </a:lnTo>
                            <a:lnTo>
                              <a:pt x="93" y="94"/>
                            </a:lnTo>
                            <a:lnTo>
                              <a:pt x="102" y="85"/>
                            </a:lnTo>
                            <a:lnTo>
                              <a:pt x="102" y="58"/>
                            </a:lnTo>
                            <a:lnTo>
                              <a:pt x="71" y="3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17280" bIns="-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pic>
            <p:nvPicPr>
              <p:cNvPr id="3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89200" y="4743360"/>
                <a:ext cx="1290600" cy="67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>
                <a:off x="3508200" y="5340240"/>
                <a:ext cx="622800" cy="51120"/>
              </a:xfrm>
              <a:custGeom>
                <a:avLst/>
                <a:gdLst/>
                <a:ahLst/>
                <a:rect l="0" t="0" r="r" b="b"/>
                <a:pathLst>
                  <a:path w="1730" h="142">
                    <a:moveTo>
                      <a:pt x="0" y="142"/>
                    </a:moveTo>
                    <a:lnTo>
                      <a:pt x="1730" y="142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432240" y="5410080"/>
                <a:ext cx="622440" cy="363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88000" y="5214960"/>
                <a:ext cx="130680" cy="38520"/>
              </a:xfrm>
              <a:custGeom>
                <a:avLst/>
                <a:gdLst/>
                <a:ahLst/>
                <a:rect l="0" t="0" r="r" b="b"/>
                <a:pathLst>
                  <a:path w="363" h="107">
                    <a:moveTo>
                      <a:pt x="0" y="107"/>
                    </a:moveTo>
                    <a:lnTo>
                      <a:pt x="363" y="107"/>
                    </a:lnTo>
                    <a:lnTo>
                      <a:pt x="0" y="0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4359240" y="4718160"/>
                <a:ext cx="1207080" cy="805320"/>
                <a:chOff x="4359240" y="4718160"/>
                <a:chExt cx="1207080" cy="8053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5430960" y="5268960"/>
                  <a:ext cx="74520" cy="147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475240" y="5315040"/>
                  <a:ext cx="25560" cy="49320"/>
                </a:xfrm>
                <a:prstGeom prst="ellipse">
                  <a:avLst/>
                </a:prstGeom>
                <a:solidFill>
                  <a:srgbClr val="8f8f8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398920" y="5268960"/>
                  <a:ext cx="70200" cy="151200"/>
                </a:xfrm>
                <a:custGeom>
                  <a:avLst/>
                  <a:gdLst/>
                  <a:ahLst/>
                  <a:rect l="0" t="0" r="r" b="b"/>
                  <a:pathLst>
                    <a:path w="195" h="420">
                      <a:moveTo>
                        <a:pt x="190" y="0"/>
                      </a:moveTo>
                      <a:lnTo>
                        <a:pt x="142" y="22"/>
                      </a:lnTo>
                      <a:lnTo>
                        <a:pt x="106" y="70"/>
                      </a:lnTo>
                      <a:lnTo>
                        <a:pt x="88" y="137"/>
                      </a:lnTo>
                      <a:lnTo>
                        <a:pt x="83" y="172"/>
                      </a:lnTo>
                      <a:lnTo>
                        <a:pt x="83" y="190"/>
                      </a:lnTo>
                      <a:lnTo>
                        <a:pt x="83" y="208"/>
                      </a:lnTo>
                      <a:lnTo>
                        <a:pt x="115" y="345"/>
                      </a:lnTo>
                      <a:lnTo>
                        <a:pt x="150" y="394"/>
                      </a:lnTo>
                      <a:lnTo>
                        <a:pt x="195" y="420"/>
                      </a:lnTo>
                      <a:lnTo>
                        <a:pt x="190" y="420"/>
                      </a:lnTo>
                      <a:lnTo>
                        <a:pt x="98" y="420"/>
                      </a:lnTo>
                      <a:lnTo>
                        <a:pt x="44" y="359"/>
                      </a:lnTo>
                      <a:lnTo>
                        <a:pt x="13" y="296"/>
                      </a:lnTo>
                      <a:lnTo>
                        <a:pt x="0" y="230"/>
                      </a:lnTo>
                      <a:lnTo>
                        <a:pt x="0" y="199"/>
                      </a:lnTo>
                      <a:lnTo>
                        <a:pt x="4" y="168"/>
                      </a:lnTo>
                      <a:lnTo>
                        <a:pt x="44" y="61"/>
                      </a:lnTo>
                      <a:lnTo>
                        <a:pt x="74" y="22"/>
                      </a:lnTo>
                      <a:lnTo>
                        <a:pt x="111" y="0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486400" y="5265720"/>
                  <a:ext cx="71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516640" y="5313240"/>
                  <a:ext cx="25560" cy="49320"/>
                </a:xfrm>
                <a:prstGeom prst="ellipse">
                  <a:avLst/>
                </a:prstGeom>
                <a:solidFill>
                  <a:srgbClr val="a2a2a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451480" y="5267160"/>
                  <a:ext cx="71640" cy="154440"/>
                </a:xfrm>
                <a:custGeom>
                  <a:avLst/>
                  <a:gdLst/>
                  <a:ahLst/>
                  <a:rect l="0" t="0" r="r" b="b"/>
                  <a:pathLst>
                    <a:path w="199" h="429">
                      <a:moveTo>
                        <a:pt x="190" y="0"/>
                      </a:moveTo>
                      <a:lnTo>
                        <a:pt x="168" y="4"/>
                      </a:lnTo>
                      <a:lnTo>
                        <a:pt x="150" y="13"/>
                      </a:lnTo>
                      <a:lnTo>
                        <a:pt x="120" y="61"/>
                      </a:lnTo>
                      <a:lnTo>
                        <a:pt x="88" y="195"/>
                      </a:lnTo>
                      <a:lnTo>
                        <a:pt x="88" y="212"/>
                      </a:lnTo>
                      <a:lnTo>
                        <a:pt x="88" y="234"/>
                      </a:lnTo>
                      <a:lnTo>
                        <a:pt x="92" y="269"/>
                      </a:lnTo>
                      <a:lnTo>
                        <a:pt x="115" y="341"/>
                      </a:lnTo>
                      <a:lnTo>
                        <a:pt x="150" y="394"/>
                      </a:lnTo>
                      <a:lnTo>
                        <a:pt x="199" y="429"/>
                      </a:lnTo>
                      <a:lnTo>
                        <a:pt x="190" y="429"/>
                      </a:lnTo>
                      <a:lnTo>
                        <a:pt x="97" y="429"/>
                      </a:lnTo>
                      <a:lnTo>
                        <a:pt x="48" y="381"/>
                      </a:lnTo>
                      <a:lnTo>
                        <a:pt x="13" y="318"/>
                      </a:lnTo>
                      <a:lnTo>
                        <a:pt x="0" y="252"/>
                      </a:lnTo>
                      <a:lnTo>
                        <a:pt x="0" y="217"/>
                      </a:lnTo>
                      <a:lnTo>
                        <a:pt x="0" y="199"/>
                      </a:lnTo>
                      <a:lnTo>
                        <a:pt x="0" y="186"/>
                      </a:lnTo>
                      <a:lnTo>
                        <a:pt x="30" y="66"/>
                      </a:lnTo>
                      <a:lnTo>
                        <a:pt x="57" y="26"/>
                      </a:lnTo>
                      <a:lnTo>
                        <a:pt x="88" y="0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122800" y="5268960"/>
                  <a:ext cx="68400" cy="149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159520" y="5318280"/>
                  <a:ext cx="25560" cy="54000"/>
                </a:xfrm>
                <a:prstGeom prst="ellipse">
                  <a:avLst/>
                </a:prstGeom>
                <a:solidFill>
                  <a:srgbClr val="8f8f8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084640" y="5270400"/>
                  <a:ext cx="68760" cy="151200"/>
                </a:xfrm>
                <a:custGeom>
                  <a:avLst/>
                  <a:gdLst/>
                  <a:ahLst/>
                  <a:rect l="0" t="0" r="r" b="b"/>
                  <a:pathLst>
                    <a:path w="191" h="420">
                      <a:moveTo>
                        <a:pt x="178" y="0"/>
                      </a:moveTo>
                      <a:lnTo>
                        <a:pt x="147" y="26"/>
                      </a:lnTo>
                      <a:lnTo>
                        <a:pt x="120" y="70"/>
                      </a:lnTo>
                      <a:lnTo>
                        <a:pt x="102" y="128"/>
                      </a:lnTo>
                      <a:lnTo>
                        <a:pt x="102" y="159"/>
                      </a:lnTo>
                      <a:lnTo>
                        <a:pt x="98" y="195"/>
                      </a:lnTo>
                      <a:lnTo>
                        <a:pt x="124" y="323"/>
                      </a:lnTo>
                      <a:lnTo>
                        <a:pt x="151" y="376"/>
                      </a:lnTo>
                      <a:lnTo>
                        <a:pt x="191" y="420"/>
                      </a:lnTo>
                      <a:lnTo>
                        <a:pt x="165" y="420"/>
                      </a:lnTo>
                      <a:lnTo>
                        <a:pt x="89" y="420"/>
                      </a:lnTo>
                      <a:lnTo>
                        <a:pt x="39" y="368"/>
                      </a:lnTo>
                      <a:lnTo>
                        <a:pt x="13" y="305"/>
                      </a:lnTo>
                      <a:lnTo>
                        <a:pt x="0" y="239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4" y="168"/>
                      </a:lnTo>
                      <a:lnTo>
                        <a:pt x="39" y="57"/>
                      </a:lnTo>
                      <a:lnTo>
                        <a:pt x="62" y="17"/>
                      </a:lnTo>
                      <a:lnTo>
                        <a:pt x="93" y="0"/>
                      </a:lnTo>
                      <a:lnTo>
                        <a:pt x="178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186520" y="5268960"/>
                  <a:ext cx="66600" cy="149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208480" y="5316480"/>
                  <a:ext cx="25560" cy="54000"/>
                </a:xfrm>
                <a:prstGeom prst="ellipse">
                  <a:avLst/>
                </a:prstGeom>
                <a:solidFill>
                  <a:srgbClr val="a2a2a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140440" y="5268960"/>
                  <a:ext cx="74880" cy="152640"/>
                </a:xfrm>
                <a:custGeom>
                  <a:avLst/>
                  <a:gdLst/>
                  <a:ahLst/>
                  <a:rect l="0" t="0" r="r" b="b"/>
                  <a:pathLst>
                    <a:path w="208" h="424">
                      <a:moveTo>
                        <a:pt x="208" y="0"/>
                      </a:moveTo>
                      <a:lnTo>
                        <a:pt x="168" y="39"/>
                      </a:lnTo>
                      <a:lnTo>
                        <a:pt x="137" y="83"/>
                      </a:lnTo>
                      <a:lnTo>
                        <a:pt x="115" y="202"/>
                      </a:lnTo>
                      <a:lnTo>
                        <a:pt x="115" y="230"/>
                      </a:lnTo>
                      <a:lnTo>
                        <a:pt x="120" y="265"/>
                      </a:lnTo>
                      <a:lnTo>
                        <a:pt x="137" y="322"/>
                      </a:lnTo>
                      <a:lnTo>
                        <a:pt x="164" y="375"/>
                      </a:lnTo>
                      <a:lnTo>
                        <a:pt x="208" y="424"/>
                      </a:lnTo>
                      <a:lnTo>
                        <a:pt x="177" y="419"/>
                      </a:lnTo>
                      <a:lnTo>
                        <a:pt x="92" y="419"/>
                      </a:lnTo>
                      <a:lnTo>
                        <a:pt x="44" y="362"/>
                      </a:lnTo>
                      <a:lnTo>
                        <a:pt x="13" y="296"/>
                      </a:lnTo>
                      <a:lnTo>
                        <a:pt x="0" y="230"/>
                      </a:lnTo>
                      <a:lnTo>
                        <a:pt x="0" y="198"/>
                      </a:lnTo>
                      <a:lnTo>
                        <a:pt x="4" y="167"/>
                      </a:lnTo>
                      <a:lnTo>
                        <a:pt x="39" y="61"/>
                      </a:lnTo>
                      <a:lnTo>
                        <a:pt x="97" y="4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219640" y="5261040"/>
                  <a:ext cx="133560" cy="109800"/>
                </a:xfrm>
                <a:custGeom>
                  <a:avLst/>
                  <a:gdLst/>
                  <a:ahLst/>
                  <a:rect l="0" t="0" r="r" b="b"/>
                  <a:pathLst>
                    <a:path w="371" h="305">
                      <a:moveTo>
                        <a:pt x="349" y="0"/>
                      </a:moveTo>
                      <a:lnTo>
                        <a:pt x="35" y="0"/>
                      </a:lnTo>
                      <a:lnTo>
                        <a:pt x="30" y="155"/>
                      </a:lnTo>
                      <a:lnTo>
                        <a:pt x="22" y="155"/>
                      </a:lnTo>
                      <a:lnTo>
                        <a:pt x="17" y="159"/>
                      </a:lnTo>
                      <a:lnTo>
                        <a:pt x="13" y="168"/>
                      </a:lnTo>
                      <a:lnTo>
                        <a:pt x="13" y="172"/>
                      </a:lnTo>
                      <a:lnTo>
                        <a:pt x="4" y="181"/>
                      </a:lnTo>
                      <a:lnTo>
                        <a:pt x="4" y="195"/>
                      </a:lnTo>
                      <a:lnTo>
                        <a:pt x="4" y="203"/>
                      </a:lnTo>
                      <a:lnTo>
                        <a:pt x="0" y="212"/>
                      </a:lnTo>
                      <a:lnTo>
                        <a:pt x="0" y="225"/>
                      </a:lnTo>
                      <a:lnTo>
                        <a:pt x="0" y="234"/>
                      </a:lnTo>
                      <a:lnTo>
                        <a:pt x="0" y="247"/>
                      </a:lnTo>
                      <a:lnTo>
                        <a:pt x="4" y="261"/>
                      </a:lnTo>
                      <a:lnTo>
                        <a:pt x="4" y="269"/>
                      </a:lnTo>
                      <a:lnTo>
                        <a:pt x="8" y="274"/>
                      </a:lnTo>
                      <a:lnTo>
                        <a:pt x="13" y="287"/>
                      </a:lnTo>
                      <a:lnTo>
                        <a:pt x="17" y="292"/>
                      </a:lnTo>
                      <a:lnTo>
                        <a:pt x="22" y="300"/>
                      </a:lnTo>
                      <a:lnTo>
                        <a:pt x="26" y="300"/>
                      </a:lnTo>
                      <a:lnTo>
                        <a:pt x="30" y="300"/>
                      </a:lnTo>
                      <a:lnTo>
                        <a:pt x="39" y="305"/>
                      </a:lnTo>
                      <a:lnTo>
                        <a:pt x="39" y="300"/>
                      </a:lnTo>
                      <a:lnTo>
                        <a:pt x="261" y="305"/>
                      </a:lnTo>
                      <a:lnTo>
                        <a:pt x="261" y="305"/>
                      </a:lnTo>
                      <a:lnTo>
                        <a:pt x="261" y="287"/>
                      </a:lnTo>
                      <a:lnTo>
                        <a:pt x="261" y="269"/>
                      </a:lnTo>
                      <a:lnTo>
                        <a:pt x="256" y="247"/>
                      </a:lnTo>
                      <a:lnTo>
                        <a:pt x="256" y="234"/>
                      </a:lnTo>
                      <a:lnTo>
                        <a:pt x="256" y="208"/>
                      </a:lnTo>
                      <a:lnTo>
                        <a:pt x="256" y="195"/>
                      </a:lnTo>
                      <a:lnTo>
                        <a:pt x="261" y="172"/>
                      </a:lnTo>
                      <a:lnTo>
                        <a:pt x="261" y="155"/>
                      </a:lnTo>
                      <a:lnTo>
                        <a:pt x="265" y="141"/>
                      </a:lnTo>
                      <a:lnTo>
                        <a:pt x="269" y="123"/>
                      </a:lnTo>
                      <a:lnTo>
                        <a:pt x="274" y="101"/>
                      </a:lnTo>
                      <a:lnTo>
                        <a:pt x="278" y="92"/>
                      </a:lnTo>
                      <a:lnTo>
                        <a:pt x="283" y="74"/>
                      </a:lnTo>
                      <a:lnTo>
                        <a:pt x="292" y="61"/>
                      </a:lnTo>
                      <a:lnTo>
                        <a:pt x="300" y="52"/>
                      </a:lnTo>
                      <a:lnTo>
                        <a:pt x="305" y="39"/>
                      </a:lnTo>
                      <a:lnTo>
                        <a:pt x="314" y="30"/>
                      </a:lnTo>
                      <a:lnTo>
                        <a:pt x="322" y="22"/>
                      </a:lnTo>
                      <a:lnTo>
                        <a:pt x="331" y="17"/>
                      </a:lnTo>
                      <a:lnTo>
                        <a:pt x="340" y="13"/>
                      </a:lnTo>
                      <a:lnTo>
                        <a:pt x="349" y="8"/>
                      </a:lnTo>
                      <a:lnTo>
                        <a:pt x="362" y="8"/>
                      </a:lnTo>
                      <a:lnTo>
                        <a:pt x="371" y="8"/>
                      </a:lnTo>
                      <a:lnTo>
                        <a:pt x="349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334120" y="5262480"/>
                  <a:ext cx="79200" cy="160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380200" y="5315040"/>
                  <a:ext cx="25560" cy="52560"/>
                </a:xfrm>
                <a:prstGeom prst="ellipse">
                  <a:avLst/>
                </a:prstGeom>
                <a:solidFill>
                  <a:srgbClr val="8f8f8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300640" y="5262480"/>
                  <a:ext cx="74880" cy="163800"/>
                </a:xfrm>
                <a:custGeom>
                  <a:avLst/>
                  <a:gdLst/>
                  <a:ahLst/>
                  <a:rect l="0" t="0" r="r" b="b"/>
                  <a:pathLst>
                    <a:path w="208" h="455">
                      <a:moveTo>
                        <a:pt x="203" y="0"/>
                      </a:moveTo>
                      <a:lnTo>
                        <a:pt x="150" y="26"/>
                      </a:lnTo>
                      <a:lnTo>
                        <a:pt x="111" y="79"/>
                      </a:lnTo>
                      <a:lnTo>
                        <a:pt x="92" y="149"/>
                      </a:lnTo>
                      <a:lnTo>
                        <a:pt x="88" y="185"/>
                      </a:lnTo>
                      <a:lnTo>
                        <a:pt x="88" y="202"/>
                      </a:lnTo>
                      <a:lnTo>
                        <a:pt x="88" y="224"/>
                      </a:lnTo>
                      <a:lnTo>
                        <a:pt x="124" y="371"/>
                      </a:lnTo>
                      <a:lnTo>
                        <a:pt x="159" y="424"/>
                      </a:lnTo>
                      <a:lnTo>
                        <a:pt x="208" y="455"/>
                      </a:lnTo>
                      <a:lnTo>
                        <a:pt x="199" y="455"/>
                      </a:lnTo>
                      <a:lnTo>
                        <a:pt x="106" y="455"/>
                      </a:lnTo>
                      <a:lnTo>
                        <a:pt x="44" y="393"/>
                      </a:lnTo>
                      <a:lnTo>
                        <a:pt x="13" y="322"/>
                      </a:lnTo>
                      <a:lnTo>
                        <a:pt x="0" y="252"/>
                      </a:lnTo>
                      <a:lnTo>
                        <a:pt x="0" y="216"/>
                      </a:lnTo>
                      <a:lnTo>
                        <a:pt x="4" y="180"/>
                      </a:lnTo>
                      <a:lnTo>
                        <a:pt x="48" y="66"/>
                      </a:lnTo>
                      <a:lnTo>
                        <a:pt x="79" y="26"/>
                      </a:lnTo>
                      <a:lnTo>
                        <a:pt x="115" y="0"/>
                      </a:lnTo>
                      <a:lnTo>
                        <a:pt x="203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392800" y="5262480"/>
                  <a:ext cx="77760" cy="163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424480" y="5311800"/>
                  <a:ext cx="25560" cy="55440"/>
                </a:xfrm>
                <a:prstGeom prst="ellipse">
                  <a:avLst/>
                </a:prstGeom>
                <a:solidFill>
                  <a:srgbClr val="a2a2a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354640" y="5262480"/>
                  <a:ext cx="79560" cy="167040"/>
                </a:xfrm>
                <a:custGeom>
                  <a:avLst/>
                  <a:gdLst/>
                  <a:ahLst/>
                  <a:rect l="0" t="0" r="r" b="b"/>
                  <a:pathLst>
                    <a:path w="221" h="464">
                      <a:moveTo>
                        <a:pt x="212" y="0"/>
                      </a:moveTo>
                      <a:lnTo>
                        <a:pt x="190" y="4"/>
                      </a:lnTo>
                      <a:lnTo>
                        <a:pt x="168" y="17"/>
                      </a:lnTo>
                      <a:lnTo>
                        <a:pt x="133" y="61"/>
                      </a:lnTo>
                      <a:lnTo>
                        <a:pt x="101" y="211"/>
                      </a:lnTo>
                      <a:lnTo>
                        <a:pt x="101" y="229"/>
                      </a:lnTo>
                      <a:lnTo>
                        <a:pt x="101" y="252"/>
                      </a:lnTo>
                      <a:lnTo>
                        <a:pt x="105" y="292"/>
                      </a:lnTo>
                      <a:lnTo>
                        <a:pt x="128" y="367"/>
                      </a:lnTo>
                      <a:lnTo>
                        <a:pt x="164" y="428"/>
                      </a:lnTo>
                      <a:lnTo>
                        <a:pt x="221" y="464"/>
                      </a:lnTo>
                      <a:lnTo>
                        <a:pt x="212" y="464"/>
                      </a:lnTo>
                      <a:lnTo>
                        <a:pt x="105" y="459"/>
                      </a:lnTo>
                      <a:lnTo>
                        <a:pt x="52" y="406"/>
                      </a:lnTo>
                      <a:lnTo>
                        <a:pt x="17" y="340"/>
                      </a:lnTo>
                      <a:lnTo>
                        <a:pt x="4" y="269"/>
                      </a:lnTo>
                      <a:lnTo>
                        <a:pt x="0" y="234"/>
                      </a:lnTo>
                      <a:lnTo>
                        <a:pt x="0" y="216"/>
                      </a:lnTo>
                      <a:lnTo>
                        <a:pt x="0" y="198"/>
                      </a:lnTo>
                      <a:lnTo>
                        <a:pt x="35" y="70"/>
                      </a:lnTo>
                      <a:lnTo>
                        <a:pt x="61" y="26"/>
                      </a:lnTo>
                      <a:lnTo>
                        <a:pt x="97" y="0"/>
                      </a:lnTo>
                      <a:lnTo>
                        <a:pt x="212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467240" y="5122800"/>
                  <a:ext cx="78120" cy="33840"/>
                </a:xfrm>
                <a:custGeom>
                  <a:avLst/>
                  <a:gdLst/>
                  <a:ahLst/>
                  <a:rect l="0" t="0" r="r" b="b"/>
                  <a:pathLst>
                    <a:path w="217" h="94">
                      <a:moveTo>
                        <a:pt x="0" y="0"/>
                      </a:moveTo>
                      <a:lnTo>
                        <a:pt x="217" y="67"/>
                      </a:lnTo>
                      <a:lnTo>
                        <a:pt x="186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2600">
                  <a:solidFill>
                    <a:srgbClr val="000080"/>
                  </a:solidFill>
                  <a:round/>
                </a:ln>
              </p:spPr>
              <p:txBody>
                <a:bodyPr lIns="96120" rIns="9612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721400" y="5126040"/>
                  <a:ext cx="74880" cy="30600"/>
                </a:xfrm>
                <a:custGeom>
                  <a:avLst/>
                  <a:gdLst/>
                  <a:ahLst/>
                  <a:rect l="0" t="0" r="r" b="b"/>
                  <a:pathLst>
                    <a:path w="208" h="85">
                      <a:moveTo>
                        <a:pt x="0" y="49"/>
                      </a:moveTo>
                      <a:lnTo>
                        <a:pt x="4" y="62"/>
                      </a:lnTo>
                      <a:lnTo>
                        <a:pt x="35" y="85"/>
                      </a:lnTo>
                      <a:lnTo>
                        <a:pt x="208" y="0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3fc0ff"/>
                </a:solidFill>
                <a:ln w="12600">
                  <a:solidFill>
                    <a:srgbClr val="3fc0ff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441680" y="4718160"/>
                  <a:ext cx="366840" cy="2412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460760" y="4775040"/>
                  <a:ext cx="347760" cy="190440"/>
                </a:xfrm>
                <a:prstGeom prst="roundRect">
                  <a:avLst/>
                </a:prstGeom>
                <a:solidFill>
                  <a:srgbClr val="0080ff"/>
                </a:solidFill>
                <a:ln w="12600">
                  <a:solidFill>
                    <a:srgbClr val="00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859280" y="5391000"/>
                  <a:ext cx="43200" cy="25920"/>
                </a:xfrm>
                <a:custGeom>
                  <a:avLst/>
                  <a:gdLst/>
                  <a:ahLst/>
                  <a:rect l="0" t="0" r="r" b="b"/>
                  <a:pathLst>
                    <a:path w="120" h="72">
                      <a:moveTo>
                        <a:pt x="0" y="72"/>
                      </a:moveTo>
                      <a:lnTo>
                        <a:pt x="0" y="0"/>
                      </a:lnTo>
                      <a:lnTo>
                        <a:pt x="120" y="5"/>
                      </a:lnTo>
                      <a:lnTo>
                        <a:pt x="120" y="16"/>
                      </a:lnTo>
                      <a:lnTo>
                        <a:pt x="120" y="38"/>
                      </a:lnTo>
                      <a:lnTo>
                        <a:pt x="120" y="44"/>
                      </a:lnTo>
                      <a:lnTo>
                        <a:pt x="120" y="56"/>
                      </a:lnTo>
                      <a:lnTo>
                        <a:pt x="120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902120" y="5375160"/>
                  <a:ext cx="30600" cy="51120"/>
                </a:xfrm>
                <a:custGeom>
                  <a:avLst/>
                  <a:gdLst/>
                  <a:ahLst/>
                  <a:rect l="0" t="0" r="r" b="b"/>
                  <a:pathLst>
                    <a:path w="85" h="142">
                      <a:moveTo>
                        <a:pt x="85" y="142"/>
                      </a:moveTo>
                      <a:lnTo>
                        <a:pt x="81" y="142"/>
                      </a:lnTo>
                      <a:lnTo>
                        <a:pt x="72" y="137"/>
                      </a:lnTo>
                      <a:lnTo>
                        <a:pt x="72" y="128"/>
                      </a:lnTo>
                      <a:lnTo>
                        <a:pt x="68" y="128"/>
                      </a:lnTo>
                      <a:lnTo>
                        <a:pt x="62" y="115"/>
                      </a:lnTo>
                      <a:lnTo>
                        <a:pt x="58" y="111"/>
                      </a:lnTo>
                      <a:lnTo>
                        <a:pt x="53" y="102"/>
                      </a:lnTo>
                      <a:lnTo>
                        <a:pt x="53" y="89"/>
                      </a:lnTo>
                      <a:lnTo>
                        <a:pt x="53" y="80"/>
                      </a:lnTo>
                      <a:lnTo>
                        <a:pt x="53" y="70"/>
                      </a:lnTo>
                      <a:lnTo>
                        <a:pt x="53" y="57"/>
                      </a:lnTo>
                      <a:lnTo>
                        <a:pt x="53" y="44"/>
                      </a:lnTo>
                      <a:lnTo>
                        <a:pt x="53" y="39"/>
                      </a:lnTo>
                      <a:lnTo>
                        <a:pt x="58" y="30"/>
                      </a:lnTo>
                      <a:lnTo>
                        <a:pt x="58" y="26"/>
                      </a:lnTo>
                      <a:lnTo>
                        <a:pt x="62" y="13"/>
                      </a:lnTo>
                      <a:lnTo>
                        <a:pt x="68" y="4"/>
                      </a:lnTo>
                      <a:lnTo>
                        <a:pt x="72" y="0"/>
                      </a:lnTo>
                      <a:lnTo>
                        <a:pt x="23" y="0"/>
                      </a:lnTo>
                      <a:lnTo>
                        <a:pt x="17" y="4"/>
                      </a:lnTo>
                      <a:lnTo>
                        <a:pt x="13" y="13"/>
                      </a:lnTo>
                      <a:lnTo>
                        <a:pt x="13" y="26"/>
                      </a:lnTo>
                      <a:lnTo>
                        <a:pt x="4" y="26"/>
                      </a:lnTo>
                      <a:lnTo>
                        <a:pt x="0" y="39"/>
                      </a:lnTo>
                      <a:lnTo>
                        <a:pt x="0" y="44"/>
                      </a:lnTo>
                      <a:lnTo>
                        <a:pt x="0" y="57"/>
                      </a:lnTo>
                      <a:lnTo>
                        <a:pt x="0" y="70"/>
                      </a:lnTo>
                      <a:lnTo>
                        <a:pt x="0" y="80"/>
                      </a:lnTo>
                      <a:lnTo>
                        <a:pt x="0" y="93"/>
                      </a:lnTo>
                      <a:lnTo>
                        <a:pt x="4" y="102"/>
                      </a:lnTo>
                      <a:lnTo>
                        <a:pt x="13" y="111"/>
                      </a:lnTo>
                      <a:lnTo>
                        <a:pt x="13" y="115"/>
                      </a:lnTo>
                      <a:lnTo>
                        <a:pt x="17" y="128"/>
                      </a:lnTo>
                      <a:lnTo>
                        <a:pt x="23" y="128"/>
                      </a:lnTo>
                      <a:lnTo>
                        <a:pt x="23" y="137"/>
                      </a:lnTo>
                      <a:lnTo>
                        <a:pt x="31" y="142"/>
                      </a:lnTo>
                      <a:lnTo>
                        <a:pt x="36" y="142"/>
                      </a:lnTo>
                      <a:lnTo>
                        <a:pt x="85" y="142"/>
                      </a:lnTo>
                      <a:close/>
                    </a:path>
                  </a:pathLst>
                </a:custGeom>
                <a:solidFill>
                  <a:srgbClr val="2f2f2f"/>
                </a:solidFill>
                <a:ln w="12600">
                  <a:solidFill>
                    <a:srgbClr val="2f2f2f"/>
                  </a:solidFill>
                  <a:round/>
                </a:ln>
              </p:spPr>
              <p:txBody>
                <a:bodyPr lIns="96120" rIns="96120" tIns="0" bIns="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921200" y="5262480"/>
                  <a:ext cx="27360" cy="163800"/>
                </a:xfrm>
                <a:custGeom>
                  <a:avLst/>
                  <a:gdLst/>
                  <a:ahLst/>
                  <a:rect l="0" t="0" r="r" b="b"/>
                  <a:pathLst>
                    <a:path w="76" h="455">
                      <a:moveTo>
                        <a:pt x="53" y="0"/>
                      </a:moveTo>
                      <a:lnTo>
                        <a:pt x="53" y="314"/>
                      </a:lnTo>
                      <a:lnTo>
                        <a:pt x="59" y="314"/>
                      </a:lnTo>
                      <a:lnTo>
                        <a:pt x="59" y="318"/>
                      </a:lnTo>
                      <a:lnTo>
                        <a:pt x="63" y="322"/>
                      </a:lnTo>
                      <a:lnTo>
                        <a:pt x="63" y="322"/>
                      </a:lnTo>
                      <a:lnTo>
                        <a:pt x="68" y="331"/>
                      </a:lnTo>
                      <a:lnTo>
                        <a:pt x="68" y="331"/>
                      </a:lnTo>
                      <a:lnTo>
                        <a:pt x="68" y="336"/>
                      </a:lnTo>
                      <a:lnTo>
                        <a:pt x="68" y="340"/>
                      </a:lnTo>
                      <a:lnTo>
                        <a:pt x="72" y="344"/>
                      </a:lnTo>
                      <a:lnTo>
                        <a:pt x="72" y="349"/>
                      </a:lnTo>
                      <a:lnTo>
                        <a:pt x="72" y="349"/>
                      </a:lnTo>
                      <a:lnTo>
                        <a:pt x="72" y="353"/>
                      </a:lnTo>
                      <a:lnTo>
                        <a:pt x="76" y="358"/>
                      </a:lnTo>
                      <a:lnTo>
                        <a:pt x="76" y="362"/>
                      </a:lnTo>
                      <a:lnTo>
                        <a:pt x="76" y="371"/>
                      </a:lnTo>
                      <a:lnTo>
                        <a:pt x="76" y="371"/>
                      </a:lnTo>
                      <a:lnTo>
                        <a:pt x="76" y="375"/>
                      </a:lnTo>
                      <a:lnTo>
                        <a:pt x="76" y="384"/>
                      </a:lnTo>
                      <a:lnTo>
                        <a:pt x="76" y="384"/>
                      </a:lnTo>
                      <a:lnTo>
                        <a:pt x="76" y="389"/>
                      </a:lnTo>
                      <a:lnTo>
                        <a:pt x="76" y="393"/>
                      </a:lnTo>
                      <a:lnTo>
                        <a:pt x="76" y="402"/>
                      </a:lnTo>
                      <a:lnTo>
                        <a:pt x="76" y="406"/>
                      </a:lnTo>
                      <a:lnTo>
                        <a:pt x="72" y="406"/>
                      </a:lnTo>
                      <a:lnTo>
                        <a:pt x="72" y="411"/>
                      </a:lnTo>
                      <a:lnTo>
                        <a:pt x="72" y="415"/>
                      </a:lnTo>
                      <a:lnTo>
                        <a:pt x="68" y="419"/>
                      </a:lnTo>
                      <a:lnTo>
                        <a:pt x="68" y="424"/>
                      </a:lnTo>
                      <a:lnTo>
                        <a:pt x="68" y="424"/>
                      </a:lnTo>
                      <a:lnTo>
                        <a:pt x="68" y="428"/>
                      </a:lnTo>
                      <a:lnTo>
                        <a:pt x="63" y="433"/>
                      </a:lnTo>
                      <a:lnTo>
                        <a:pt x="63" y="437"/>
                      </a:lnTo>
                      <a:lnTo>
                        <a:pt x="59" y="437"/>
                      </a:lnTo>
                      <a:lnTo>
                        <a:pt x="59" y="441"/>
                      </a:lnTo>
                      <a:lnTo>
                        <a:pt x="53" y="441"/>
                      </a:lnTo>
                      <a:lnTo>
                        <a:pt x="53" y="446"/>
                      </a:lnTo>
                      <a:lnTo>
                        <a:pt x="53" y="446"/>
                      </a:lnTo>
                      <a:lnTo>
                        <a:pt x="49" y="450"/>
                      </a:lnTo>
                      <a:lnTo>
                        <a:pt x="49" y="450"/>
                      </a:lnTo>
                      <a:lnTo>
                        <a:pt x="45" y="455"/>
                      </a:lnTo>
                      <a:lnTo>
                        <a:pt x="40" y="455"/>
                      </a:lnTo>
                      <a:lnTo>
                        <a:pt x="40" y="455"/>
                      </a:lnTo>
                      <a:lnTo>
                        <a:pt x="36" y="455"/>
                      </a:lnTo>
                      <a:lnTo>
                        <a:pt x="31" y="455"/>
                      </a:lnTo>
                      <a:lnTo>
                        <a:pt x="27" y="455"/>
                      </a:lnTo>
                      <a:lnTo>
                        <a:pt x="27" y="450"/>
                      </a:lnTo>
                      <a:lnTo>
                        <a:pt x="23" y="446"/>
                      </a:lnTo>
                      <a:lnTo>
                        <a:pt x="17" y="441"/>
                      </a:lnTo>
                      <a:lnTo>
                        <a:pt x="17" y="441"/>
                      </a:lnTo>
                      <a:lnTo>
                        <a:pt x="17" y="437"/>
                      </a:lnTo>
                      <a:lnTo>
                        <a:pt x="13" y="437"/>
                      </a:lnTo>
                      <a:lnTo>
                        <a:pt x="13" y="428"/>
                      </a:lnTo>
                      <a:lnTo>
                        <a:pt x="8" y="428"/>
                      </a:lnTo>
                      <a:lnTo>
                        <a:pt x="8" y="424"/>
                      </a:lnTo>
                      <a:lnTo>
                        <a:pt x="8" y="424"/>
                      </a:lnTo>
                      <a:lnTo>
                        <a:pt x="8" y="419"/>
                      </a:lnTo>
                      <a:lnTo>
                        <a:pt x="4" y="415"/>
                      </a:lnTo>
                      <a:lnTo>
                        <a:pt x="4" y="411"/>
                      </a:lnTo>
                      <a:lnTo>
                        <a:pt x="4" y="406"/>
                      </a:lnTo>
                      <a:lnTo>
                        <a:pt x="4" y="402"/>
                      </a:lnTo>
                      <a:lnTo>
                        <a:pt x="0" y="397"/>
                      </a:lnTo>
                      <a:lnTo>
                        <a:pt x="0" y="393"/>
                      </a:lnTo>
                      <a:lnTo>
                        <a:pt x="0" y="389"/>
                      </a:lnTo>
                      <a:lnTo>
                        <a:pt x="0" y="384"/>
                      </a:lnTo>
                      <a:lnTo>
                        <a:pt x="0" y="384"/>
                      </a:lnTo>
                      <a:lnTo>
                        <a:pt x="0" y="371"/>
                      </a:lnTo>
                      <a:lnTo>
                        <a:pt x="0" y="371"/>
                      </a:lnTo>
                      <a:lnTo>
                        <a:pt x="0" y="367"/>
                      </a:lnTo>
                      <a:lnTo>
                        <a:pt x="0" y="362"/>
                      </a:lnTo>
                      <a:lnTo>
                        <a:pt x="4" y="358"/>
                      </a:lnTo>
                      <a:lnTo>
                        <a:pt x="4" y="353"/>
                      </a:lnTo>
                      <a:lnTo>
                        <a:pt x="4" y="349"/>
                      </a:lnTo>
                      <a:lnTo>
                        <a:pt x="4" y="344"/>
                      </a:lnTo>
                      <a:lnTo>
                        <a:pt x="4" y="344"/>
                      </a:lnTo>
                      <a:lnTo>
                        <a:pt x="8" y="336"/>
                      </a:lnTo>
                      <a:lnTo>
                        <a:pt x="8" y="336"/>
                      </a:lnTo>
                      <a:lnTo>
                        <a:pt x="8" y="331"/>
                      </a:lnTo>
                      <a:lnTo>
                        <a:pt x="13" y="327"/>
                      </a:lnTo>
                      <a:lnTo>
                        <a:pt x="13" y="322"/>
                      </a:lnTo>
                      <a:lnTo>
                        <a:pt x="13" y="318"/>
                      </a:lnTo>
                      <a:lnTo>
                        <a:pt x="17" y="318"/>
                      </a:lnTo>
                      <a:lnTo>
                        <a:pt x="17" y="314"/>
                      </a:lnTo>
                      <a:lnTo>
                        <a:pt x="17" y="314"/>
                      </a:lnTo>
                      <a:lnTo>
                        <a:pt x="17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910040" y="5262480"/>
                  <a:ext cx="25920" cy="113040"/>
                </a:xfrm>
                <a:custGeom>
                  <a:avLst/>
                  <a:gdLst/>
                  <a:ahLst/>
                  <a:rect l="0" t="0" r="r" b="b"/>
                  <a:pathLst>
                    <a:path w="72" h="314">
                      <a:moveTo>
                        <a:pt x="72" y="0"/>
                      </a:moveTo>
                      <a:lnTo>
                        <a:pt x="72" y="314"/>
                      </a:lnTo>
                      <a:lnTo>
                        <a:pt x="0" y="314"/>
                      </a:lnTo>
                      <a:lnTo>
                        <a:pt x="0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2f2f2f"/>
                </a:solidFill>
                <a:ln w="12600">
                  <a:solidFill>
                    <a:srgbClr val="2f2f2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799160" y="4718160"/>
                  <a:ext cx="767160" cy="545040"/>
                </a:xfrm>
                <a:custGeom>
                  <a:avLst/>
                  <a:gdLst/>
                  <a:ahLst/>
                  <a:rect l="0" t="0" r="r" b="b"/>
                  <a:pathLst>
                    <a:path w="2131" h="1514">
                      <a:moveTo>
                        <a:pt x="17" y="0"/>
                      </a:moveTo>
                      <a:lnTo>
                        <a:pt x="0" y="0"/>
                      </a:lnTo>
                      <a:lnTo>
                        <a:pt x="0" y="167"/>
                      </a:lnTo>
                      <a:lnTo>
                        <a:pt x="8" y="185"/>
                      </a:lnTo>
                      <a:lnTo>
                        <a:pt x="13" y="202"/>
                      </a:lnTo>
                      <a:lnTo>
                        <a:pt x="17" y="216"/>
                      </a:lnTo>
                      <a:lnTo>
                        <a:pt x="17" y="229"/>
                      </a:lnTo>
                      <a:lnTo>
                        <a:pt x="17" y="242"/>
                      </a:lnTo>
                      <a:lnTo>
                        <a:pt x="17" y="251"/>
                      </a:lnTo>
                      <a:lnTo>
                        <a:pt x="17" y="680"/>
                      </a:lnTo>
                      <a:lnTo>
                        <a:pt x="39" y="675"/>
                      </a:lnTo>
                      <a:lnTo>
                        <a:pt x="61" y="688"/>
                      </a:lnTo>
                      <a:lnTo>
                        <a:pt x="79" y="693"/>
                      </a:lnTo>
                      <a:lnTo>
                        <a:pt x="97" y="702"/>
                      </a:lnTo>
                      <a:lnTo>
                        <a:pt x="105" y="719"/>
                      </a:lnTo>
                      <a:lnTo>
                        <a:pt x="114" y="737"/>
                      </a:lnTo>
                      <a:lnTo>
                        <a:pt x="119" y="755"/>
                      </a:lnTo>
                      <a:lnTo>
                        <a:pt x="119" y="777"/>
                      </a:lnTo>
                      <a:lnTo>
                        <a:pt x="119" y="927"/>
                      </a:lnTo>
                      <a:lnTo>
                        <a:pt x="185" y="927"/>
                      </a:lnTo>
                      <a:lnTo>
                        <a:pt x="185" y="860"/>
                      </a:lnTo>
                      <a:lnTo>
                        <a:pt x="304" y="860"/>
                      </a:lnTo>
                      <a:lnTo>
                        <a:pt x="304" y="1245"/>
                      </a:lnTo>
                      <a:lnTo>
                        <a:pt x="185" y="1245"/>
                      </a:lnTo>
                      <a:lnTo>
                        <a:pt x="185" y="1188"/>
                      </a:lnTo>
                      <a:lnTo>
                        <a:pt x="119" y="1188"/>
                      </a:lnTo>
                      <a:lnTo>
                        <a:pt x="119" y="1514"/>
                      </a:lnTo>
                      <a:lnTo>
                        <a:pt x="2123" y="1510"/>
                      </a:lnTo>
                      <a:lnTo>
                        <a:pt x="2131" y="34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359240" y="5027760"/>
                  <a:ext cx="38160" cy="1332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400640" y="5051520"/>
                  <a:ext cx="25560" cy="25560"/>
                </a:xfrm>
                <a:prstGeom prst="rect">
                  <a:avLst/>
                </a:prstGeom>
                <a:solidFill>
                  <a:srgbClr val="0080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400640" y="5130720"/>
                  <a:ext cx="25560" cy="25560"/>
                </a:xfrm>
                <a:prstGeom prst="rect">
                  <a:avLst/>
                </a:prstGeom>
                <a:solidFill>
                  <a:srgbClr val="0080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467240" y="5124600"/>
                  <a:ext cx="76680" cy="30600"/>
                </a:xfrm>
                <a:custGeom>
                  <a:avLst/>
                  <a:gdLst/>
                  <a:ahLst/>
                  <a:rect l="0" t="0" r="r" b="b"/>
                  <a:pathLst>
                    <a:path fill="none" w="213" h="85">
                      <a:moveTo>
                        <a:pt x="0" y="0"/>
                      </a:moveTo>
                      <a:lnTo>
                        <a:pt x="182" y="85"/>
                      </a:lnTo>
                      <a:lnTo>
                        <a:pt x="213" y="58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722840" y="5124600"/>
                  <a:ext cx="79560" cy="30600"/>
                </a:xfrm>
                <a:custGeom>
                  <a:avLst/>
                  <a:gdLst/>
                  <a:ahLst/>
                  <a:rect l="0" t="0" r="r" b="b"/>
                  <a:pathLst>
                    <a:path fill="none" w="221" h="85">
                      <a:moveTo>
                        <a:pt x="221" y="0"/>
                      </a:moveTo>
                      <a:lnTo>
                        <a:pt x="30" y="85"/>
                      </a:lnTo>
                      <a:lnTo>
                        <a:pt x="0" y="53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468680" y="5122800"/>
                  <a:ext cx="332280" cy="25920"/>
                </a:xfrm>
                <a:custGeom>
                  <a:avLst/>
                  <a:gdLst/>
                  <a:ahLst/>
                  <a:rect l="0" t="0" r="r" b="b"/>
                  <a:pathLst>
                    <a:path w="923" h="72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216" y="72"/>
                      </a:lnTo>
                      <a:lnTo>
                        <a:pt x="716" y="67"/>
                      </a:lnTo>
                      <a:lnTo>
                        <a:pt x="923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843440" y="5064120"/>
                  <a:ext cx="25920" cy="66960"/>
                </a:xfrm>
                <a:custGeom>
                  <a:avLst/>
                  <a:gdLst/>
                  <a:ahLst/>
                  <a:rect l="0" t="0" r="r" b="b"/>
                  <a:pathLst>
                    <a:path w="72" h="186">
                      <a:moveTo>
                        <a:pt x="0" y="0"/>
                      </a:moveTo>
                      <a:lnTo>
                        <a:pt x="0" y="186"/>
                      </a:lnTo>
                      <a:lnTo>
                        <a:pt x="72" y="186"/>
                      </a:lnTo>
                      <a:lnTo>
                        <a:pt x="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870440" y="5027760"/>
                  <a:ext cx="38160" cy="1332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846680" y="5051520"/>
                  <a:ext cx="25560" cy="25560"/>
                </a:xfrm>
                <a:prstGeom prst="rect">
                  <a:avLst/>
                </a:prstGeom>
                <a:solidFill>
                  <a:srgbClr val="0080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846680" y="5130720"/>
                  <a:ext cx="25560" cy="25560"/>
                </a:xfrm>
                <a:prstGeom prst="rect">
                  <a:avLst/>
                </a:prstGeom>
                <a:solidFill>
                  <a:srgbClr val="0080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416480" y="5438880"/>
                  <a:ext cx="65520" cy="84600"/>
                </a:xfrm>
                <a:custGeom>
                  <a:avLst/>
                  <a:gdLst/>
                  <a:ahLst/>
                  <a:rect l="0" t="0" r="r" b="b"/>
                  <a:pathLst>
                    <a:path w="182" h="235">
                      <a:moveTo>
                        <a:pt x="0" y="0"/>
                      </a:moveTo>
                      <a:lnTo>
                        <a:pt x="0" y="235"/>
                      </a:lnTo>
                      <a:lnTo>
                        <a:pt x="182" y="235"/>
                      </a:lnTo>
                      <a:lnTo>
                        <a:pt x="18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2f2f"/>
                </a:solidFill>
                <a:ln w="12600">
                  <a:solidFill>
                    <a:srgbClr val="2f2f2f"/>
                  </a:solidFill>
                  <a:round/>
                </a:ln>
              </p:spPr>
              <p:txBody>
                <a:bodyPr lIns="96120" rIns="9612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782960" y="5438880"/>
                  <a:ext cx="65520" cy="84600"/>
                </a:xfrm>
                <a:custGeom>
                  <a:avLst/>
                  <a:gdLst/>
                  <a:ahLst/>
                  <a:rect l="0" t="0" r="r" b="b"/>
                  <a:pathLst>
                    <a:path w="182" h="235">
                      <a:moveTo>
                        <a:pt x="0" y="0"/>
                      </a:moveTo>
                      <a:lnTo>
                        <a:pt x="0" y="235"/>
                      </a:lnTo>
                      <a:lnTo>
                        <a:pt x="182" y="235"/>
                      </a:lnTo>
                      <a:lnTo>
                        <a:pt x="18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2f2f"/>
                </a:solidFill>
                <a:ln w="12600">
                  <a:solidFill>
                    <a:srgbClr val="2f2f2f"/>
                  </a:solidFill>
                  <a:round/>
                </a:ln>
              </p:spPr>
              <p:txBody>
                <a:bodyPr lIns="96120" rIns="9612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429080" y="4959360"/>
                  <a:ext cx="414720" cy="424080"/>
                </a:xfrm>
                <a:custGeom>
                  <a:avLst/>
                  <a:gdLst/>
                  <a:ahLst/>
                  <a:rect l="0" t="0" r="r" b="b"/>
                  <a:pathLst>
                    <a:path w="1152" h="1178">
                      <a:moveTo>
                        <a:pt x="1073" y="0"/>
                      </a:moveTo>
                      <a:lnTo>
                        <a:pt x="1073" y="0"/>
                      </a:lnTo>
                      <a:lnTo>
                        <a:pt x="1077" y="0"/>
                      </a:lnTo>
                      <a:lnTo>
                        <a:pt x="1077" y="0"/>
                      </a:lnTo>
                      <a:lnTo>
                        <a:pt x="1082" y="0"/>
                      </a:lnTo>
                      <a:lnTo>
                        <a:pt x="1086" y="0"/>
                      </a:lnTo>
                      <a:lnTo>
                        <a:pt x="1091" y="0"/>
                      </a:lnTo>
                      <a:lnTo>
                        <a:pt x="1091" y="4"/>
                      </a:lnTo>
                      <a:lnTo>
                        <a:pt x="1091" y="4"/>
                      </a:lnTo>
                      <a:lnTo>
                        <a:pt x="1095" y="8"/>
                      </a:lnTo>
                      <a:lnTo>
                        <a:pt x="1100" y="8"/>
                      </a:lnTo>
                      <a:lnTo>
                        <a:pt x="1100" y="8"/>
                      </a:lnTo>
                      <a:lnTo>
                        <a:pt x="1104" y="8"/>
                      </a:lnTo>
                      <a:lnTo>
                        <a:pt x="1104" y="13"/>
                      </a:lnTo>
                      <a:lnTo>
                        <a:pt x="1108" y="13"/>
                      </a:lnTo>
                      <a:lnTo>
                        <a:pt x="1113" y="13"/>
                      </a:lnTo>
                      <a:lnTo>
                        <a:pt x="1113" y="13"/>
                      </a:lnTo>
                      <a:lnTo>
                        <a:pt x="1117" y="17"/>
                      </a:lnTo>
                      <a:lnTo>
                        <a:pt x="1122" y="17"/>
                      </a:lnTo>
                      <a:lnTo>
                        <a:pt x="1126" y="22"/>
                      </a:lnTo>
                      <a:lnTo>
                        <a:pt x="1130" y="26"/>
                      </a:lnTo>
                      <a:lnTo>
                        <a:pt x="1130" y="30"/>
                      </a:lnTo>
                      <a:lnTo>
                        <a:pt x="1130" y="35"/>
                      </a:lnTo>
                      <a:lnTo>
                        <a:pt x="1135" y="35"/>
                      </a:lnTo>
                      <a:lnTo>
                        <a:pt x="1135" y="35"/>
                      </a:lnTo>
                      <a:lnTo>
                        <a:pt x="1135" y="39"/>
                      </a:lnTo>
                      <a:lnTo>
                        <a:pt x="1139" y="44"/>
                      </a:lnTo>
                      <a:lnTo>
                        <a:pt x="1139" y="48"/>
                      </a:lnTo>
                      <a:lnTo>
                        <a:pt x="1144" y="48"/>
                      </a:lnTo>
                      <a:lnTo>
                        <a:pt x="1144" y="48"/>
                      </a:lnTo>
                      <a:lnTo>
                        <a:pt x="1144" y="52"/>
                      </a:lnTo>
                      <a:lnTo>
                        <a:pt x="1148" y="57"/>
                      </a:lnTo>
                      <a:lnTo>
                        <a:pt x="1148" y="61"/>
                      </a:lnTo>
                      <a:lnTo>
                        <a:pt x="1148" y="61"/>
                      </a:lnTo>
                      <a:lnTo>
                        <a:pt x="1148" y="66"/>
                      </a:lnTo>
                      <a:lnTo>
                        <a:pt x="1148" y="70"/>
                      </a:lnTo>
                      <a:lnTo>
                        <a:pt x="1148" y="70"/>
                      </a:lnTo>
                      <a:lnTo>
                        <a:pt x="1152" y="74"/>
                      </a:lnTo>
                      <a:lnTo>
                        <a:pt x="1152" y="79"/>
                      </a:lnTo>
                      <a:lnTo>
                        <a:pt x="1152" y="79"/>
                      </a:lnTo>
                      <a:lnTo>
                        <a:pt x="1152" y="83"/>
                      </a:lnTo>
                      <a:lnTo>
                        <a:pt x="1152" y="88"/>
                      </a:lnTo>
                      <a:lnTo>
                        <a:pt x="1152" y="88"/>
                      </a:lnTo>
                      <a:lnTo>
                        <a:pt x="1152" y="92"/>
                      </a:lnTo>
                      <a:lnTo>
                        <a:pt x="1152" y="97"/>
                      </a:lnTo>
                      <a:lnTo>
                        <a:pt x="1152" y="141"/>
                      </a:lnTo>
                      <a:lnTo>
                        <a:pt x="1152" y="834"/>
                      </a:lnTo>
                      <a:lnTo>
                        <a:pt x="897" y="834"/>
                      </a:lnTo>
                      <a:lnTo>
                        <a:pt x="897" y="1178"/>
                      </a:lnTo>
                      <a:lnTo>
                        <a:pt x="574" y="1178"/>
                      </a:lnTo>
                      <a:lnTo>
                        <a:pt x="574" y="1129"/>
                      </a:lnTo>
                      <a:lnTo>
                        <a:pt x="821" y="1129"/>
                      </a:lnTo>
                      <a:lnTo>
                        <a:pt x="852" y="1103"/>
                      </a:lnTo>
                      <a:lnTo>
                        <a:pt x="852" y="537"/>
                      </a:lnTo>
                      <a:lnTo>
                        <a:pt x="1033" y="449"/>
                      </a:lnTo>
                      <a:lnTo>
                        <a:pt x="114" y="449"/>
                      </a:lnTo>
                      <a:lnTo>
                        <a:pt x="300" y="533"/>
                      </a:lnTo>
                      <a:lnTo>
                        <a:pt x="300" y="1103"/>
                      </a:lnTo>
                      <a:lnTo>
                        <a:pt x="331" y="1134"/>
                      </a:lnTo>
                      <a:lnTo>
                        <a:pt x="574" y="1129"/>
                      </a:lnTo>
                      <a:lnTo>
                        <a:pt x="574" y="1178"/>
                      </a:lnTo>
                      <a:lnTo>
                        <a:pt x="264" y="1178"/>
                      </a:lnTo>
                      <a:lnTo>
                        <a:pt x="264" y="838"/>
                      </a:lnTo>
                      <a:lnTo>
                        <a:pt x="0" y="838"/>
                      </a:lnTo>
                      <a:lnTo>
                        <a:pt x="0" y="141"/>
                      </a:lnTo>
                      <a:lnTo>
                        <a:pt x="0" y="105"/>
                      </a:lnTo>
                      <a:lnTo>
                        <a:pt x="0" y="101"/>
                      </a:lnTo>
                      <a:lnTo>
                        <a:pt x="0" y="97"/>
                      </a:lnTo>
                      <a:lnTo>
                        <a:pt x="0" y="92"/>
                      </a:lnTo>
                      <a:lnTo>
                        <a:pt x="0" y="88"/>
                      </a:lnTo>
                      <a:lnTo>
                        <a:pt x="0" y="88"/>
                      </a:lnTo>
                      <a:lnTo>
                        <a:pt x="0" y="83"/>
                      </a:lnTo>
                      <a:lnTo>
                        <a:pt x="0" y="79"/>
                      </a:lnTo>
                      <a:lnTo>
                        <a:pt x="0" y="74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4" y="66"/>
                      </a:lnTo>
                      <a:lnTo>
                        <a:pt x="4" y="61"/>
                      </a:lnTo>
                      <a:lnTo>
                        <a:pt x="4" y="61"/>
                      </a:lnTo>
                      <a:lnTo>
                        <a:pt x="8" y="52"/>
                      </a:lnTo>
                      <a:lnTo>
                        <a:pt x="8" y="52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4"/>
                      </a:lnTo>
                      <a:lnTo>
                        <a:pt x="17" y="39"/>
                      </a:lnTo>
                      <a:lnTo>
                        <a:pt x="17" y="35"/>
                      </a:lnTo>
                      <a:lnTo>
                        <a:pt x="17" y="35"/>
                      </a:lnTo>
                      <a:lnTo>
                        <a:pt x="22" y="30"/>
                      </a:lnTo>
                      <a:lnTo>
                        <a:pt x="26" y="26"/>
                      </a:lnTo>
                      <a:lnTo>
                        <a:pt x="26" y="26"/>
                      </a:lnTo>
                      <a:lnTo>
                        <a:pt x="26" y="22"/>
                      </a:lnTo>
                      <a:lnTo>
                        <a:pt x="35" y="22"/>
                      </a:lnTo>
                      <a:lnTo>
                        <a:pt x="35" y="17"/>
                      </a:lnTo>
                      <a:lnTo>
                        <a:pt x="35" y="17"/>
                      </a:lnTo>
                      <a:lnTo>
                        <a:pt x="39" y="13"/>
                      </a:lnTo>
                      <a:lnTo>
                        <a:pt x="44" y="13"/>
                      </a:lnTo>
                      <a:lnTo>
                        <a:pt x="44" y="13"/>
                      </a:lnTo>
                      <a:lnTo>
                        <a:pt x="48" y="13"/>
                      </a:lnTo>
                      <a:lnTo>
                        <a:pt x="48" y="13"/>
                      </a:lnTo>
                      <a:lnTo>
                        <a:pt x="52" y="8"/>
                      </a:lnTo>
                      <a:lnTo>
                        <a:pt x="57" y="8"/>
                      </a:lnTo>
                      <a:lnTo>
                        <a:pt x="61" y="8"/>
                      </a:lnTo>
                      <a:lnTo>
                        <a:pt x="61" y="8"/>
                      </a:lnTo>
                      <a:lnTo>
                        <a:pt x="61" y="8"/>
                      </a:lnTo>
                      <a:lnTo>
                        <a:pt x="70" y="4"/>
                      </a:lnTo>
                      <a:lnTo>
                        <a:pt x="70" y="4"/>
                      </a:lnTo>
                      <a:lnTo>
                        <a:pt x="74" y="4"/>
                      </a:lnTo>
                      <a:lnTo>
                        <a:pt x="74" y="4"/>
                      </a:lnTo>
                      <a:lnTo>
                        <a:pt x="114" y="0"/>
                      </a:lnTo>
                      <a:lnTo>
                        <a:pt x="1029" y="0"/>
                      </a:lnTo>
                      <a:lnTo>
                        <a:pt x="1073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737240" y="4789440"/>
                  <a:ext cx="55800" cy="170280"/>
                </a:xfrm>
                <a:custGeom>
                  <a:avLst/>
                  <a:gdLst/>
                  <a:ahLst/>
                  <a:rect l="0" t="0" r="r" b="b"/>
                  <a:pathLst>
                    <a:path w="155" h="473">
                      <a:moveTo>
                        <a:pt x="0" y="473"/>
                      </a:moveTo>
                      <a:lnTo>
                        <a:pt x="155" y="0"/>
                      </a:lnTo>
                      <a:lnTo>
                        <a:pt x="155" y="101"/>
                      </a:lnTo>
                      <a:lnTo>
                        <a:pt x="0" y="473"/>
                      </a:lnTo>
                      <a:close/>
                    </a:path>
                  </a:pathLst>
                </a:custGeom>
                <a:solidFill>
                  <a:srgbClr val="3fc0ff"/>
                </a:solidFill>
                <a:ln w="12600">
                  <a:solidFill>
                    <a:srgbClr val="3fc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468680" y="4789440"/>
                  <a:ext cx="57600" cy="170280"/>
                </a:xfrm>
                <a:custGeom>
                  <a:avLst/>
                  <a:gdLst/>
                  <a:ahLst/>
                  <a:rect l="0" t="0" r="r" b="b"/>
                  <a:pathLst>
                    <a:path w="160" h="473">
                      <a:moveTo>
                        <a:pt x="160" y="473"/>
                      </a:moveTo>
                      <a:lnTo>
                        <a:pt x="0" y="0"/>
                      </a:lnTo>
                      <a:lnTo>
                        <a:pt x="0" y="101"/>
                      </a:lnTo>
                      <a:lnTo>
                        <a:pt x="160" y="473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2600">
                  <a:solidFill>
                    <a:srgbClr val="000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437000" y="4994280"/>
                  <a:ext cx="393840" cy="125280"/>
                </a:xfrm>
                <a:prstGeom prst="roundRect">
                  <a:avLst/>
                </a:prstGeom>
                <a:solidFill>
                  <a:srgbClr val="8f8f8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405320" y="5238720"/>
                  <a:ext cx="125280" cy="144360"/>
                </a:xfrm>
                <a:prstGeom prst="roundRect">
                  <a:avLst/>
                </a:prstGeom>
                <a:solidFill>
                  <a:srgbClr val="008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433760" y="5288040"/>
                  <a:ext cx="79200" cy="74520"/>
                </a:xfrm>
                <a:prstGeom prst="roundRect">
                  <a:avLst/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round/>
                </a:ln>
              </p:spPr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448160" y="5297400"/>
                  <a:ext cx="55440" cy="586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741920" y="5238720"/>
                  <a:ext cx="119160" cy="142920"/>
                </a:xfrm>
                <a:prstGeom prst="roundRect">
                  <a:avLst/>
                </a:prstGeom>
                <a:solidFill>
                  <a:srgbClr val="008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759200" y="5288040"/>
                  <a:ext cx="74520" cy="76320"/>
                </a:xfrm>
                <a:prstGeom prst="roundRect">
                  <a:avLst/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768920" y="5297400"/>
                  <a:ext cx="54000" cy="586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632480" y="4992840"/>
                  <a:ext cx="25560" cy="128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400640" y="5388120"/>
                  <a:ext cx="469800" cy="46080"/>
                </a:xfrm>
                <a:prstGeom prst="round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443480" y="4984920"/>
                  <a:ext cx="384120" cy="25560"/>
                </a:xfrm>
                <a:prstGeom prst="rect">
                  <a:avLst/>
                </a:prstGeom>
                <a:solidFill>
                  <a:srgbClr val="000080"/>
                </a:solidFill>
                <a:ln w="12600">
                  <a:solidFill>
                    <a:srgbClr val="000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32400" y="5145120"/>
                  <a:ext cx="201960" cy="225720"/>
                </a:xfrm>
                <a:custGeom>
                  <a:avLst/>
                  <a:gdLst/>
                  <a:ahLst/>
                  <a:rect l="0" t="0" r="r" b="b"/>
                  <a:pathLst>
                    <a:path w="561" h="627">
                      <a:moveTo>
                        <a:pt x="26" y="627"/>
                      </a:moveTo>
                      <a:lnTo>
                        <a:pt x="534" y="627"/>
                      </a:lnTo>
                      <a:lnTo>
                        <a:pt x="561" y="596"/>
                      </a:lnTo>
                      <a:lnTo>
                        <a:pt x="561" y="26"/>
                      </a:lnTo>
                      <a:lnTo>
                        <a:pt x="534" y="0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0" y="596"/>
                      </a:lnTo>
                      <a:lnTo>
                        <a:pt x="26" y="62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545000" y="5153040"/>
                  <a:ext cx="179640" cy="206640"/>
                </a:xfrm>
                <a:custGeom>
                  <a:avLst/>
                  <a:gdLst/>
                  <a:ahLst/>
                  <a:rect l="0" t="0" r="r" b="b"/>
                  <a:pathLst>
                    <a:path w="499" h="574">
                      <a:moveTo>
                        <a:pt x="499" y="561"/>
                      </a:moveTo>
                      <a:lnTo>
                        <a:pt x="499" y="13"/>
                      </a:lnTo>
                      <a:lnTo>
                        <a:pt x="486" y="0"/>
                      </a:lnTo>
                      <a:lnTo>
                        <a:pt x="13" y="0"/>
                      </a:lnTo>
                      <a:lnTo>
                        <a:pt x="0" y="13"/>
                      </a:lnTo>
                      <a:lnTo>
                        <a:pt x="0" y="561"/>
                      </a:lnTo>
                      <a:lnTo>
                        <a:pt x="13" y="574"/>
                      </a:lnTo>
                      <a:lnTo>
                        <a:pt x="486" y="574"/>
                      </a:lnTo>
                      <a:lnTo>
                        <a:pt x="499" y="5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545000" y="516096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545000" y="517356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545000" y="518796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545000" y="520056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545000" y="521352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545000" y="522612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545000" y="523872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545000" y="525132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545000" y="526248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545000" y="527544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545000" y="528948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545000" y="530208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545000" y="531504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545000" y="532764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45000" y="534204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545000" y="535320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554360" y="5156280"/>
                  <a:ext cx="0" cy="199800"/>
                </a:xfrm>
                <a:prstGeom prst="line">
                  <a:avLst/>
                </a:prstGeom>
                <a:ln w="12600">
                  <a:solidFill>
                    <a:srgbClr val="efefe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581360" y="5156280"/>
                  <a:ext cx="0" cy="199800"/>
                </a:xfrm>
                <a:prstGeom prst="line">
                  <a:avLst/>
                </a:prstGeom>
                <a:ln w="12600">
                  <a:solidFill>
                    <a:srgbClr val="efefe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606920" y="5156280"/>
                  <a:ext cx="0" cy="199800"/>
                </a:xfrm>
                <a:prstGeom prst="line">
                  <a:avLst/>
                </a:prstGeom>
                <a:ln w="12600">
                  <a:solidFill>
                    <a:srgbClr val="efefe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632480" y="5156280"/>
                  <a:ext cx="0" cy="199800"/>
                </a:xfrm>
                <a:prstGeom prst="line">
                  <a:avLst/>
                </a:prstGeom>
                <a:ln w="12600">
                  <a:solidFill>
                    <a:srgbClr val="efefe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659480" y="5156280"/>
                  <a:ext cx="0" cy="199800"/>
                </a:xfrm>
                <a:prstGeom prst="line">
                  <a:avLst/>
                </a:prstGeom>
                <a:ln w="12600">
                  <a:solidFill>
                    <a:srgbClr val="efefe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686480" y="5156280"/>
                  <a:ext cx="0" cy="199800"/>
                </a:xfrm>
                <a:prstGeom prst="line">
                  <a:avLst/>
                </a:prstGeom>
                <a:ln w="12600">
                  <a:solidFill>
                    <a:srgbClr val="efefe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713120" y="5156280"/>
                  <a:ext cx="0" cy="199800"/>
                </a:xfrm>
                <a:prstGeom prst="line">
                  <a:avLst/>
                </a:prstGeom>
                <a:ln w="12600">
                  <a:solidFill>
                    <a:srgbClr val="efefe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" name=""/>
              <p:cNvSpPr txBox="1"/>
              <p:nvPr/>
            </p:nvSpPr>
            <p:spPr>
              <a:xfrm>
                <a:off x="4780080" y="4876920"/>
                <a:ext cx="861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479"/>
                  </a:spcBef>
                </a:pPr>
                <a:r>
                  <a:rPr b="1" lang="en-US" sz="1400" spc="-1" strike="noStrike">
                    <a:solidFill>
                      <a:srgbClr val="b2b2b2"/>
                    </a:solidFill>
                    <a:latin typeface="Arial"/>
                    <a:ea typeface="Arial"/>
                  </a:rPr>
                  <a:t>CVIS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 txBox="1"/>
            <p:nvPr/>
          </p:nvSpPr>
          <p:spPr>
            <a:xfrm>
              <a:off x="3627360" y="6224760"/>
              <a:ext cx="188928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artners Enhancing Motor Carri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afety and Effici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894360" y="4746600"/>
            <a:ext cx="1687680" cy="1625760"/>
            <a:chOff x="6894360" y="4746600"/>
            <a:chExt cx="1687680" cy="1625760"/>
          </a:xfrm>
        </p:grpSpPr>
        <p:grpSp>
          <p:nvGrpSpPr>
            <p:cNvPr id="472" name=""/>
            <p:cNvGrpSpPr/>
            <p:nvPr/>
          </p:nvGrpSpPr>
          <p:grpSpPr>
            <a:xfrm>
              <a:off x="6894360" y="4746600"/>
              <a:ext cx="1687680" cy="1625760"/>
              <a:chOff x="6894360" y="4746600"/>
              <a:chExt cx="1687680" cy="1625760"/>
            </a:xfrm>
          </p:grpSpPr>
          <p:sp>
            <p:nvSpPr>
              <p:cNvPr id="473" name=""/>
              <p:cNvSpPr txBox="1"/>
              <p:nvPr/>
            </p:nvSpPr>
            <p:spPr>
              <a:xfrm>
                <a:off x="7308720" y="4746600"/>
                <a:ext cx="85896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Prepared by: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 txBox="1"/>
              <p:nvPr/>
            </p:nvSpPr>
            <p:spPr>
              <a:xfrm>
                <a:off x="6894360" y="5950080"/>
                <a:ext cx="1687680" cy="42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The Johns Hopkins Universit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lied Physics Laborator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5" name="" descr=""/>
            <p:cNvPicPr/>
            <p:nvPr/>
          </p:nvPicPr>
          <p:blipFill>
            <a:blip r:embed="rId3"/>
            <a:stretch/>
          </p:blipFill>
          <p:spPr>
            <a:xfrm>
              <a:off x="7365960" y="4989600"/>
              <a:ext cx="762120" cy="94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VISN Pilot State Kick-of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end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VISN Pilot State Kick-of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es and Responsibilities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762120" y="1600200"/>
            <a:ext cx="7772400" cy="42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VISN Project Mana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least 75%; better if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VISN System Archit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least 75%; better if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VISN Deputy P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least 75%; better if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cutive Spons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cy project mana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gislative focal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gacy system own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e pages 4-5 and 4-6 of Pilot Program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3680" y="1332000"/>
            <a:ext cx="8217000" cy="7632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VISN Pilot State Kick-of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FER Demonstration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ect Dialup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ect ISAF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er Northpd1 and pdnsafe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er same user ID and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ect Netscape navig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 through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er USDOT number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ect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ect 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ll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ect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3680" y="1332000"/>
            <a:ext cx="8217000" cy="7632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heresa G. Nester</dc:creator>
  <dc:description/>
  <dc:language>en-US</dc:language>
  <cp:lastModifiedBy>Theresa G. Nester</cp:lastModifiedBy>
  <cp:revision>0</cp:revision>
  <dc:subject/>
  <dc:title>No Slide Title</dc:title>
</cp:coreProperties>
</file>