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46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560" y="692280"/>
            <a:ext cx="462924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6788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46320" y="886788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529B96-1E67-48C3-8475-FC67FE499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rom CDC WWW and Pulwarty and Redmond (1997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casts not "accurate" enough, i.e., need at least 75% event accu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Fluctuation of successive forecasts ("waffling"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The nature of what a forecast is, and what is being forecast (e.g., types of El Niño and La Niña impacts, non-ENSO events, what are "normal" conditions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Non weather/climate factors are deemed to be more important (e.g., uncertainty in other arenas, such as freshwater and ocean ecolog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Low importance is given to climate forecast information because its role is unclear, or impacts are not perceived as important enough to community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Other constraints deny a flexible response to the information (e.g., meeting flood control or Endangered Species Act requireme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Procedures for acquiring knowledge and making and implementing decisions, which incorporate climate information, have not been clearly def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Events forecast may be too far in the future for a discrete action to be eng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Availability and use of locally specific information may be more relevant to a particular dec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"Value" may not have been demonstrated by a credible reliable organization or compet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.Desired information not provided (e.g., number of warm days, regional deta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There may be competing forecasts, or other conflict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Lack of "tracking" information; does the forecast appear to be verify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History of previous forecasts not available. Validation statistics of previous forecasts not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rom CDC WWW and Pulwarty and Redmond (1997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casts not "accurate" enough, i.e., need at least 75% event accu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Fluctuation of successive forecasts ("waffling"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The nature of what a forecast is, and what is being forecast (e.g., types of El Niño and La Niña impacts, non-ENSO events, what are "normal" conditions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Non weather/climate factors are deemed to be more important (e.g., uncertainty in other arenas, such as freshwater and ocean ecolog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Low importance is given to climate forecast information because its role is unclear, or impacts are not perceived as important enough to community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Other constraints deny a flexible response to the information (e.g., meeting flood control or Endangered Species Act requireme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Procedures for acquiring knowledge and making and implementing decisions, which incorporate climate information, have not been clearly def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Events forecast may be too far in the future for a discrete action to be eng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Availability and use of locally specific information may be more relevant to a particular dec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"Value" may not have been demonstrated by a credible reliable organization or compet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.Desired information not provided (e.g., number of warm days, regional deta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There may be competing forecasts, or other conflict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Lack of "tracking" information; does the forecast appear to be verify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History of previous forecasts not available. Validation statistics of previous forecasts not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631-C4A0-4F45-A7E9-0D1516C1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A4A-9ED2-40C9-A7B9-9DA9D82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E24-CB49-4851-A53C-97F2BCC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6F4-B954-4B21-9909-C0A65158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EC1-CD9A-4A3B-9EDD-6BBCC6A9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77B-83E9-46D8-8EC4-BCDC272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B15-5C73-4BE5-9021-2299E9C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466-B883-45E3-8732-BECDFDA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026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913-68E0-4173-9C65-8E400DF5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85A-4D98-43EF-B250-1BC26FD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649-25A5-4905-9B52-C50740F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B4B-92C9-4D64-A2A7-3DCCB2F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FBA-6BF9-4512-83C1-40CC25FF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OAA" descr=""/>
          <p:cNvPicPr/>
          <p:nvPr/>
        </p:nvPicPr>
        <p:blipFill>
          <a:blip r:embed="rId2"/>
          <a:stretch/>
        </p:blipFill>
        <p:spPr>
          <a:xfrm>
            <a:off x="8248680" y="9360"/>
            <a:ext cx="895320" cy="917640"/>
          </a:xfrm>
          <a:prstGeom prst="rect">
            <a:avLst/>
          </a:prstGeom>
          <a:ln w="0">
            <a:noFill/>
          </a:ln>
        </p:spPr>
      </p:pic>
      <p:pic>
        <p:nvPicPr>
          <p:cNvPr id="6" name="doc_logo" descr=""/>
          <p:cNvPicPr/>
          <p:nvPr/>
        </p:nvPicPr>
        <p:blipFill>
          <a:blip r:embed="rId3"/>
          <a:stretch/>
        </p:blipFill>
        <p:spPr>
          <a:xfrm>
            <a:off x="33480" y="20520"/>
            <a:ext cx="86832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38080" y="990720"/>
            <a:ext cx="74678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9014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AA Response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port on Climate Monitoring Strategies 2002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20" y="25909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ory W. With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ant Administrat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Environmental Satellite Data and Information Service</a:t>
            </a:r>
            <a:br>
              <a:rPr sz="18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AA Science Advisory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NOAA" descr=""/>
          <p:cNvPicPr/>
          <p:nvPr/>
        </p:nvPicPr>
        <p:blipFill>
          <a:blip r:embed="rId1"/>
          <a:stretch/>
        </p:blipFill>
        <p:spPr>
          <a:xfrm>
            <a:off x="7953480" y="0"/>
            <a:ext cx="1114200" cy="1141560"/>
          </a:xfrm>
          <a:prstGeom prst="rect">
            <a:avLst/>
          </a:prstGeom>
          <a:ln w="0">
            <a:noFill/>
          </a:ln>
        </p:spPr>
      </p:pic>
      <p:pic>
        <p:nvPicPr>
          <p:cNvPr id="54" name="doc_logo" descr=""/>
          <p:cNvPicPr/>
          <p:nvPr/>
        </p:nvPicPr>
        <p:blipFill>
          <a:blip r:embed="rId2"/>
          <a:stretch/>
        </p:blipFill>
        <p:spPr>
          <a:xfrm>
            <a:off x="46080" y="4608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ed Work on Reconciling Temperature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cember 2001, NOAA responded to 28 specific recommendations made by an NRC panel on reconciling  air temperatur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stated that 20 of the recommendations were either being done or were planned to be done, and 5 would be done if appropriate funding we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recommendations were not considered possible either because they were too expensive or required major policy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NRC Recommendations Done or Unde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1000" y="774360"/>
            <a:ext cx="814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Orbital Dr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pre-launch calibration of future NPOESS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overlap of NPP and EOS/NPOESS mission la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ree fliers for NPOESS (contractor ch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ity from SSU to AM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te the use of sensors from decommissioned space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osonde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mpare old and new radiosond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changes fo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ing methods and promote continuity world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dense U.S. network of twice daily radioso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daptive procedures’ compromising of basic radiosonde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other nations to follow U.S. lead on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radiosonde ascent to 5 hectopascal level (international GCOS requir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accuracy by including radiation and la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metadata in concert with the World Meteorological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d update radiosonde climate 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options for next-generation atmospheric sound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vigorate efforts to ensure long-term climate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space-based and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work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dialogue and information exchange by using ad hoc sensor scienc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 NRC Recommendations Done if Fun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eb Site for Instru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radiosonde coverage in the tr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mpare radiosonde performance at more regionally representativ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required on network design for better spatial density of radiosonde sites for climat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critical climate data records; maintain and document their p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RC Recommendations Consid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 Which Have Major Funding and/or Policy Implication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satellites one year; (however now an NPOESS requi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 on schedule, no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pre-launch calibration of AMSU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Goody Panel Report provided an excellent review of NOAA’s climate monitoring program.  However, this formed but one piece of a larger rubric of other studies and reports related to the U.S.’ overall climate observing system.  As the new Administration formulates a new climate structure, it will build upon all these reports to enhance the nation’s climate observing capabilities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82400" y="990720"/>
            <a:ext cx="820404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limate Studies an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quacy of Climate Observing Systems, NR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ing the Climate Record from NPP to NPOESS Meteorological Satellites, Abbott, NR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s of Panel on Reconciling Temperature Observations, NR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B Panel on Strategies for Climate Monitoring, Goody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mate Services Vision, Barron, NRC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to SAB on Assessing Observing System Priorities for NOAA, Karl, NOAA Council on Long-Term Climate Monitoring, March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ed for a Climate Observing System, Trenberth/Karl/Spence, Bulletin of the AMS, In Print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ody Panel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9800" y="838080"/>
            <a:ext cx="82044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52056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y Panel Report delivered and accepted by the Science Advisory Board – March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 Report delivered to the NOAA Administrator – April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y Climate Observations and Services Program Board – May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d SAB on progress – Jun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nchmark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supports enhanced benchmark effort and formation of a team to examine science issues and possibilities for new instruments, missions an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has initiated observational series that meet benchmark standards, e.g., the Climate Reference Network and the Dobs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s in progress to modernize existing in situ networks, e.g., Coo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ing critical; benchmark series most critical for climate prediction should be implement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POESS Clim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effort already underway to accommodate climate observing requirements for NPO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ns regarding cost and schedule impacts of NPOESS climate upgr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free fliers; altimeter being consid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697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s Between Monitoring and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” program for climate change prediction desirable and fea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of projections from a product developmen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assessment by skill in reproducing historical/paleo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assimilation through the Joint Center for Satellite Data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need for new activities testing models against observed forcing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810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imate Inform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should . . . . provide adequate support for data access and long-term stewardship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ccess/archive issue being addressed the Compreh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rray-data Stewardship System (CLASS)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y Panel recommended broad restructuring for climate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 Observations and Services Program in place since 2001; joint management and review of climate activities across NESDIS, NWS and O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ministration is currently assessing the proper structure for managing the climate mission within DOC/NOAA as well as Government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more coordination of process research with monitoring and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sider marine ecosystems in development of a climate monitoring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implications of implementing recommendations not yet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0:27:15Z</dcterms:created>
  <dc:creator>Dave Goodrich Climate Diagnostic Center</dc:creator>
  <dc:description>June 28, 2001 Presentation to the Climate Advisory Board on the Goody Panel Report</dc:description>
  <cp:keywords>SAB Science Advisory Board Goody Panel Report</cp:keywords>
  <dc:language>en-US</dc:language>
  <cp:lastModifiedBy>seanc</cp:lastModifiedBy>
  <cp:lastPrinted>2001-06-22T12:20:45Z</cp:lastPrinted>
  <dcterms:modified xsi:type="dcterms:W3CDTF">2002-03-27T14:23:14Z</dcterms:modified>
  <cp:revision>103</cp:revision>
  <dc:subject>Goody Panel</dc:subject>
  <dc:title>Workshops</dc:title>
</cp:coreProperties>
</file>