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03840" y="6400800"/>
            <a:ext cx="164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 Brooks, 29-Jan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-25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: Hardware and Analysis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43000"/>
            <a:ext cx="472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Brief overview of muon 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Physics goals--&gt;implied performanc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Status of system and hardwa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nalysis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Status of software 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outh2" descr=""/>
          <p:cNvPicPr/>
          <p:nvPr/>
        </p:nvPicPr>
        <p:blipFill>
          <a:blip r:embed="rId2"/>
          <a:stretch/>
        </p:blipFill>
        <p:spPr>
          <a:xfrm>
            <a:off x="5086440" y="91440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 Performance Status--Chamber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860640" cy="422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3984480" cy="428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7760" y="52182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mber resolution not quite up-to-spec for real data--probably easily expl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good enough for year-1 analysis and probably even year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 Performance Status--Other analysi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09480"/>
            <a:ext cx="883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ment of tracker system still being worked on--required for track finding and 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e Carlo studies indicate track finding and fitting working reasonably well though certainly some tuning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identifier suffered somewhat from higher occupancies than expected--partially corrected during run by shielding, will shield more next run.  Needs some more work reducing number of tracks found in MuI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aration needs some more attention to reduce background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: Analysis and Performanc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858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s for data reconstr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First pass starting soon, to get data in time for Quark-Matter,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Expect second-pass to fix alignmen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Physics Working Groups forming task force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Software working groups separate from PWG: trying to resolve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Analysis of Year-1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udents, but expressed interest to Heavy-Flavor group in j/psi and single-muon physics.  Potential analysis contribut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Melynda, Dave, Mike, Ming, Pat, Joel, new post-doc (April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interest express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ORNL/UT - 2 students, 1-2 post-docs 2+ staff, long-standing role in muon identification (Au-Au physics primari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RIKEN - 1 student (spin physics), sever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NMSU - 1 student, 1+ staff (j/psi polar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Columbia - 1 student, 1 post-doc, 1+ staff (single muons from Au-Au, J/p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French - focus on year-2 data but want to be involved with year-1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8298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veral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Year-1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development of software and analysis tools for Year-2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rm assembly (pre-installation-chambers, electronic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of South 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of North arm chambers, electronics, plumbing, racks, alignment system, gas system,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utdown begin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a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eb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r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pr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u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ul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ear-1 analysi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orth Chamber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. FEE Assembl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uth Repair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amber install,etc.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~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EE Install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~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run:  October 2002 (or l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88620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41148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3434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6483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952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525780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ENIX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9703phnx1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486400" cy="447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9160" y="609480"/>
            <a:ext cx="344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V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ultiplicity and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eam-B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gger,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entral A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y| &lt; .35 (±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occup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p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covering wide p range and  particle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e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uon A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&lt; |y| &lt; 2.4,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article multipl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geom. 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single and di-mu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to Central arm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Go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arch for multiple signatures of the Q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spin contributions from gluons and anti-quarks, through 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p-nucleus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352680"/>
            <a:ext cx="3276720" cy="23623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ysics Goals of Muon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2406"/>
                </a:solidFill>
                <a:latin typeface="Arial"/>
              </a:rPr>
              <a:t>Contribute to systematic study of expected QGP signa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bye scree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&gt; varying suppression of vector mesons (J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angeness p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&gt; enhancem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m p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&gt;cross section measurement, understanding required for background subtraction (from sing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e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incid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2406"/>
                </a:solidFill>
                <a:latin typeface="Arial"/>
              </a:rPr>
              <a:t>p-Nucleus experi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of nuclear effects (shadowing, energy los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c2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2406"/>
                </a:solidFill>
                <a:latin typeface="Arial"/>
              </a:rPr>
              <a:t>p-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 structure of the nucl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29779" t="21396" r="19684" b="42269"/>
          <a:stretch/>
        </p:blipFill>
        <p:spPr>
          <a:xfrm>
            <a:off x="685800" y="2971800"/>
            <a:ext cx="35942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5783" t="15849" r="11515" b="18380"/>
          <a:stretch/>
        </p:blipFill>
        <p:spPr>
          <a:xfrm>
            <a:off x="5181480" y="2971800"/>
            <a:ext cx="3552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ENIX Muon System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48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LANL responsible for “South” muon tracker system (mechanics, electronics, oversight); North mechanics and help with 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Muon Tracker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stations of cathode-strip cha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6,4 readout planes per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resolution per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stereo ang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dc counts on str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rack finding in Central Au-Au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_9803peh1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4114800" cy="32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3159" t="26806" r="0" b="20856"/>
          <a:stretch/>
        </p:blipFill>
        <p:spPr>
          <a:xfrm>
            <a:off x="5181480" y="3825720"/>
            <a:ext cx="3962520" cy="303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6450" t="31623" r="5065" b="30968"/>
          <a:stretch/>
        </p:blipFill>
        <p:spPr>
          <a:xfrm>
            <a:off x="0" y="3938760"/>
            <a:ext cx="48769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: Hardwar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"/>
            <a:ext cx="4724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South arm installation “complete” early 2001 with electronics fully functional and a few HV channels not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No data until summer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Lost access to inside of magnet in sp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Lost 8/168 FEMs entirely, few more with data problems==&gt; much larger fraction of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dimuon 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acceptances loss (~40%).  But stable since spring of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High humidity of summer uncovered HV sensitivity to humidity.  Many channels disabled.  Also found:  various mapping problems, some channels which don’t work even with low hum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SHUTDOWN PLAN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Fix electronics (pull off station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fortify chambers against hum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Add shielding to sta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Change station 1 HV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outh2" descr=""/>
          <p:cNvPicPr/>
          <p:nvPr/>
        </p:nvPicPr>
        <p:blipFill>
          <a:blip r:embed="rId2"/>
          <a:stretch/>
        </p:blipFill>
        <p:spPr>
          <a:xfrm>
            <a:off x="5086440" y="68580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: Hardwar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4920"/>
            <a:ext cx="533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People available for south instal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Full-time at B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ost-docs (Rusty, Ming, Dave B.), one experienced grad student (Andrew), 3 or 4 additional students, one dedicated 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Significant fraction at BN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ynda, Dick, Dave, Walt, Mike, Pe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rom UNM (Nicki and Dou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rom NMSU (Ste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rom RIKEN (Jiro and Yuk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Available for Nor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ewer post-docs (none with FEE exper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perienced grad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number of other students and te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Significant fra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ewer staff from LANL.  Same fraction from rest of staf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rom UNM not available until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:  French team, oth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outh2" descr=""/>
          <p:cNvPicPr/>
          <p:nvPr/>
        </p:nvPicPr>
        <p:blipFill>
          <a:blip r:embed="rId2"/>
          <a:srcRect l="7981" t="0" r="7515" b="0"/>
          <a:stretch/>
        </p:blipFill>
        <p:spPr>
          <a:xfrm>
            <a:off x="5410080" y="685800"/>
            <a:ext cx="342900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40" y="6400800"/>
            <a:ext cx="74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rth installation + south repair + finish North chamber bu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: Analysis and Performanc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85800"/>
            <a:ext cx="899172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Physics from Year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uminosity, smaller integrated run time, plus detector inefficiencies left us with rather small data set for analysis (few hundred J/psis in both Au-Au and p-p runs; probably similar numbers of single muons at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Analysis of Year-1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erformance is required to extract physic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Data extraction working in PHENIX environment -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Reasonable electronics noise levels -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Calibrations working, at required precision - pretty much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Hit clusters found in Au-Au as well as p-p environment - 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Hit position extraction from clusters working - DONE to first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Track finding working well - code in place.  Undoubtedly some tun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Track reconstruction works well - seems to work reasonably well with Monte Ca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Alignment of tracker and tracker to other systems completed - in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Muon Identification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: finds roads in identifier, matches well with tracker system, separates pions from mu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alysis and Performance Status--LANL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8580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Softw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L almost solely responsible for MuTr software development to this point; expect to need to continue to play large role in maintenance and development of data analysis algorithms (Melynda, Mike, Ming, Pat, 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ia and UNM recently started effort to re-write software “framework”, but will keep the same analysis algorithms that are currently i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contributing to replacement of one of the track-fitting methods as well as general infrastructure maintainence (tutorials, writing of data-summary-tape, writing of micro-DST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KEN, Columbia working on understanding alignment of track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NL and associated institutions responsible for Muon Identificatio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uth Arm Performance Status--Noise and Cal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19520"/>
            <a:ext cx="947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Times New Roman"/>
              </a:rPr>
              <a:t>Sta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Times New Roman"/>
              </a:rPr>
              <a:t>~1.5 - 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4038480"/>
            <a:ext cx="7009920" cy="1360440"/>
            <a:chOff x="228600" y="4038480"/>
            <a:chExt cx="7009920" cy="136044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1168200" y="4038480"/>
              <a:ext cx="607032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28600" y="4629600"/>
              <a:ext cx="8308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Times New Roman"/>
                </a:rPr>
                <a:t>Stat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Times New Roman"/>
                </a:rPr>
                <a:t>~1.5 - 2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12920" y="5086080"/>
              <a:ext cx="2541600" cy="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4000" y="5086080"/>
              <a:ext cx="2543040" cy="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2280" y="685800"/>
            <a:ext cx="6670440" cy="1469880"/>
            <a:chOff x="152280" y="685800"/>
            <a:chExt cx="6670440" cy="146988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1070640" y="685800"/>
              <a:ext cx="57520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52280" y="1162080"/>
              <a:ext cx="8028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Times New Roman"/>
                </a:rPr>
                <a:t>St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Times New Roman"/>
                </a:rPr>
                <a:t>~1.5 - 1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40600" y="1821600"/>
              <a:ext cx="5036760" cy="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1110960" y="1345680"/>
              <a:ext cx="8409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Times New Roman"/>
                </a:rPr>
                <a:t>RMS 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43000" y="2286000"/>
            <a:ext cx="6811920" cy="161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3505320"/>
            <a:ext cx="2836800" cy="0"/>
          </a:xfrm>
          <a:prstGeom prst="line">
            <a:avLst/>
          </a:prstGeom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05320"/>
            <a:ext cx="2825640" cy="0"/>
          </a:xfrm>
          <a:prstGeom prst="line">
            <a:avLst/>
          </a:prstGeom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5560" y="5672160"/>
            <a:ext cx="85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specs close to design, but not quite what is desired for long-term physic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stability o.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5:29:27Z</dcterms:created>
  <dc:creator>096921</dc:creator>
  <dc:description/>
  <dc:language>en-US</dc:language>
  <cp:lastModifiedBy>Mike Leitch</cp:lastModifiedBy>
  <cp:lastPrinted>2002-01-29T15:12:57Z</cp:lastPrinted>
  <dcterms:modified xsi:type="dcterms:W3CDTF">2002-02-20T15:27:31Z</dcterms:modified>
  <cp:revision>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brooks@l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brooks\Power Poin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