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708-6DB8-40F3-84BA-BC4DFE92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5A7-2CA3-4A9E-BBCF-635DDF3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158-795F-40F9-A021-3D0423F2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6B2-2BCD-45E9-9F0F-ACEDDC6A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63FB-71DC-442F-8C0A-D0EF1605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4B5-2520-49C5-8366-F80D54C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9F2-D8AB-45EB-8509-6EF5B81A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9F3D-C5BC-45F0-BC9E-1E1671C7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B594-416F-44CF-B978-DAD9DEF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DC9C-F821-435F-BFA8-089F945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DE04-35E1-47F1-830C-81A93EF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35A-6175-4959-9DC6-927FFD12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AFE7-8905-4C32-9563-015A954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6B28-3E42-4C72-B09F-9E2737A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F34A-ABA6-48F8-AB89-56008961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C4C8-05C6-4F08-A867-AF552451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F6A3-B885-4F8D-BD70-0B45F01A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8F0-7408-453A-83BF-19D22BAB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657-FE1B-464C-A1D2-A60E875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27F-46E0-4925-B54F-19EF2955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BFC-6106-407D-832B-E28B666E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B4D-0D3C-4ACD-BB43-90863F9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B55-6B65-4490-A35E-17F6D45E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05F-1DA4-4045-9067-FBEFFAD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C5C5-1AB2-4415-8732-775AC4CB1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5E02-02A2-4D62-B440-A98789BC2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gital Data Communications in Air Quality Monitor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58672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, cheaper, fas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00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ik Aaboe, New Mexico Environment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est" descr=""/>
          <p:cNvPicPr/>
          <p:nvPr/>
        </p:nvPicPr>
        <p:blipFill>
          <a:blip r:embed="rId1"/>
          <a:stretch/>
        </p:blipFill>
        <p:spPr>
          <a:xfrm>
            <a:off x="1295280" y="88920"/>
            <a:ext cx="708660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8098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izon “Enhanced” Coverage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Digital Cellular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y polling system connect to an IP addres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device work with my datalogging sy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the remote system stay conn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line batch file to reconnect for PCs with Redw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alive ping feature for Rav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my IT department allow this technology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it save money or improve performa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remote equipment sec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ng Remote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Sec for PC based systems (on W2000, XP P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ly IP” list for Ra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acknowledge approved IP addresses or sub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isible to the rest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Through Agency Firew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 usage for polling (use 443 or 8088 or a commonly open por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rules on remote system – are agency IP addresses NATted? Go to http://whatismyip.com or http://dnsstuff.com from polling PC to de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Benef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bandwidth available than current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 to remote system using remote access tools without interrupting po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connections from others (support contractors, troubleshooters, site operators from home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 data from multiple loc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louds" descr=""/>
          <p:cNvPicPr/>
          <p:nvPr/>
        </p:nvPicPr>
        <p:blipFill>
          <a:blip r:embed="rId1"/>
          <a:stretch/>
        </p:blipFill>
        <p:spPr>
          <a:xfrm>
            <a:off x="85680" y="61920"/>
            <a:ext cx="8972640" cy="6734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876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For information contact erik.aaboe@state.nm.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MED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are familiar with their monitoring system communications metho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knows what they co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one satisfied with that co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uses Leased Li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of a Local Area Net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in Old Telephone Servi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og Cellul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Cellul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Subscriber Lines / Cable Intern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MED Situ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3 continuous monitoring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n Plain Old Telephone Services (POTS)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ine for daily po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ly calls cost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or real-time web &amp; AIRNow postin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-term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call frequency (every other hour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lit polling assignments to LAN locations with local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analog cellular to local phone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MED Phone Costs &amp;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$42.00 / month for phone service at each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distance charges for hourly calls at 8760 hours /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l at approximately one minute = $876 for total cost of ~$1350 / site /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ne lines not at all desired 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gital Cellul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ice $350-$550 to connect each site to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 from polling machine over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Plan for service – depends upon u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MB / month = $10 / mo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er-call connec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desired, can download shorter interval data (5 minute &amp; 15 minute averages, e.g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gital Modem Technologies Avail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link Red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ntelligent” device acts as modem for PC-based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s DUN (dial-up networking) connection to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up with a static IP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link Ra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apabilities but has embedded Operating System for traditional datalogge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dwi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7160" y="93816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av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5000" y="1905120"/>
            <a:ext cx="47415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 speed data transfer r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ll duplex transce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w power consum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DEN - Nex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DMA 1XRTT – VZW, SPCS, All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PRS, EDGE – Cingular, Dob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ironmental operating range –30 to +75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s show status of modem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ial port for mobile data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the air programmable firmware upgr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-board ARM processor - ALE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I Division II certified (Gas &amp; Oil Indust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0600" y="3581280"/>
            <a:ext cx="240516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t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metry/SC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re/EMS/Pol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kforce 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M/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uter Back-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10080" y="762120"/>
            <a:ext cx="281952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6520" y="1066680"/>
            <a:ext cx="6705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Tahoma"/>
              </a:rPr>
              <a:t>SCADA, Telemetry, and Data Acqui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27672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3657600"/>
            <a:ext cx="3124080" cy="2422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00400" y="3733920"/>
            <a:ext cx="2214720" cy="247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k Aaboe</cp:lastModifiedBy>
  <dcterms:modified xsi:type="dcterms:W3CDTF">2006-02-01T21:27:38Z</dcterms:modified>
  <cp:revision>37</cp:revision>
  <dc:subject/>
  <dc:title>PowerPoint Presentation</dc:title>
</cp:coreProperties>
</file>