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29F09-978E-428D-9FDB-2F1EEA6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1481D-81B6-403E-9F8F-D2FDBB2A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ED9E0-ADEE-434B-85C7-7F0F3AC9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5498C-4B25-4BBF-BCDC-94C50398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636D1-89D0-4C3D-808A-6105F4B3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B7509-F0D2-4520-B249-EFF03D1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448E6-8F26-4B5E-81DD-D5533C8F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62B26-55EF-4876-A4CE-25207C19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EF1F3-8633-4A94-975E-B4CC6996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9E830-FDFF-4F41-89AF-0EAF4902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236C8-3E4F-49CA-9C46-332A25D5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232D0-678D-4B40-AD3F-FFD84A5F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EA28F-A895-49A4-A779-77651DC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8995C-ECEF-4F1A-9C3F-3302D794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68196-0027-4B82-8055-6C495A26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E5E00-DB0C-405F-AA86-EAC7CAA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317C9-EC2C-4064-BF9B-F5F0384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9F937-E2F2-4420-B18E-04DAA16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7E682-CF65-45A2-9D43-476C22EF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D78A4-56BF-4395-B07B-F430ADFE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27962-F4FD-47CB-A963-A17D7CF1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18FEE5-F6D1-42F1-8A9E-915A835D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D4971C-95E2-43ED-8786-961C2598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C0A9D5-5E61-48BC-B80E-4BD1DE3E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8FA6B-1800-47C6-AB01-1DA41B4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E98387-8427-46EB-A827-0B77258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E071A-184D-4674-A5B8-955B64E5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23FAC-9B6A-40D8-AAB6-E89F9B8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E13672-2247-4B8A-AD70-3D7EC0EF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932306-9017-44FC-9D51-B86FFB7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0829D2-9922-411C-B95F-E19D0043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35A9E-AFC8-44B0-8B85-1C08E4EC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827A69-CE98-430D-8468-0808219E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03E7D-15C8-40ED-9F17-035D64EC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33CB1A-94B6-47BD-9EAC-D41A5009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F55F5-11C4-4C69-AD78-9C0BCCAF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67665-5325-434D-9DF8-2C2FA16B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9EA06-13CA-447D-9CA5-799A9BC2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AAB55-5C96-4DC7-8F9C-38E65D4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DD621-2BD3-4D18-BE73-1DA4713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42333-4A9F-4B5C-A0F4-8711815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9EEEA-8631-4CFE-9DDF-CAE5505B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7520D-4719-41D5-B598-833CFE6D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0D2F9-ECE0-4A5D-B809-E53753B4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220AA-BF11-4FF2-95D7-8752D9F3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BEAA15-8075-4741-A559-2603CEF6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7F3A1-90F6-4D00-9840-29CD2E10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9C703A-FF79-496E-97A5-CC54B0E3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4EF3E5-B32B-41DE-9361-CF60498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6B55E-B541-41D3-9210-1D83C0C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1F626-4BFF-488A-A2E4-8A00EA5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2B56B7-7A29-43FE-B1C8-6AC2A33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0D416-D4D8-4FFA-B872-77D60AF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9B2D8C-5F7F-4D86-836C-8F262F29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4EC476-DAC6-49C2-9A42-C84673F8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E4BE61-5C75-4B46-86D8-C6416216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B01C1A-641D-48D2-966A-3734726D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72967-C313-469C-BC03-E5D51460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77D37-9AC3-4291-BD47-87E89C7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5C700-5F61-47A7-B4A4-CA54066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CA6E-27E3-49E0-9184-32F2DF0A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8F8D8-4927-4701-8A30-7679A3ED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AF7F5-92BC-4806-A8A1-42F1481B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28A5B-9260-4168-B528-E45892B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2C53D-0534-4EF7-9698-30108CD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608AC-3AD3-4B9E-BF41-33A96CB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77733-D3D4-4BEA-B7E0-7F8DC1DD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5E1E1-1B7B-42C0-9B63-A942DD51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693BD-3226-4E2F-95B4-F3D18D6D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DA916-1103-46E6-BC81-5B45180B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D255-8512-46C1-8C86-1999603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3983C-7566-4932-9E8E-740E2B32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299B0-5116-48D9-949B-2A5422E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F4085-3B2C-43DE-A129-10932D9F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647B-B7D4-4D00-B041-D6B5AF5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808FB-1B50-4E86-8EC9-CEA1B42C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8DB85-721F-4779-9430-D77C330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77DD9-264A-4254-B97F-4352B21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32EF8-CEBF-432B-87FD-99ABB59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36959-2F8C-457E-A328-D6CA6B4A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A84BC-9442-46A1-8CCE-F30CC61E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26B61-1412-4A25-A1A9-00088C52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52996-3B53-4018-85B2-4534EA9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0F066-9723-4507-AB2F-22E9001E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496A9-B924-4A44-8B0B-8DD574D7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7B5C0-AA53-4A17-977A-B3EE4AA5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75B66-76DC-462D-BD4F-7D7435A9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745E0-A3B5-466B-9108-58DA920B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6E90B-8F31-4B3E-AD2A-A83FC5A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4F011-C669-4FB4-B6B3-773FBEE5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BF345-3DBC-483F-BDA8-77189D11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85CB2-1850-4471-949E-E6DD9DAC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932E2-00DA-4D7F-BB8E-029EF746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AB076F-5F5F-4E70-8C09-C8037E6C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242354-1A6D-42E2-B7D3-2340E236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82621C-6C83-42CC-95C1-A0F2EE4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4EDEF1-5F2A-4D95-BFAB-42D9756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C71FF3-6A0D-4763-A2F4-8AFF98C3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3F2FF5-7A05-415B-A8AC-893886D5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1B1BF5-46FB-4ADF-A0E9-98200629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42112B-3F51-4348-8459-FEE2325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B8560B-FF78-4930-988A-A6C32A34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64BAA-3E52-4258-BB48-B80BD054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2F6175-C85C-4BBD-B386-71CA9015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8B4BB6-A496-4F54-85C6-030CA7C4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68790E-93BA-44A6-8233-FDD6B7AE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964632-0485-4B0C-884D-11DB2BE0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47EAA5-688B-49A1-888C-E9CE42F1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9CBD15-ADDA-4B1C-806E-03995E26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0D7E60-F0EE-49FD-8AAB-CCEF4AD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059A8D-455C-49BA-8DBD-FCEF25CB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9662DD-63C9-407D-8746-38923525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B1C139-AEDE-4D09-B711-282E0D20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629AA-B153-4414-ADB0-9080FC81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40109C-1B85-4396-BA8B-99F32CE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8CC858-8780-40A0-BD05-53F0C623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F2B8F6-EFAA-4324-ADAB-2F7CCE3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93A253-B388-480E-B883-13D09FFE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2BD8B6-9315-4CCC-A846-B3E67509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F9E0BC-C642-433D-97B1-1E9065E1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9FAE99-0B4E-4198-81D0-49DB057A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D78F9C-C8B8-42CB-BA47-C29EBEB7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3DAEF09-74BB-4367-A770-93A296B1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42A397-CF50-41C9-9222-3E80D87A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932EF-0A41-4E9C-BEAD-E60E4E3D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B282A5-166C-40F9-ADE5-415B7B72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7212CB-2A6B-43E1-AB9A-DF9AA02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213DDF-08F5-4219-9A3F-540164C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F74AA19-D4C5-4D94-86D2-8B77DBA6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4015AD-B9B6-4398-8E63-E0B9B13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A2C284-3D1E-4424-A481-94E077CC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905A7E-465A-4F51-A4DD-F8527D6F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F635D8-4A3C-48D8-AC4B-7800D587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15BDA4-6AA4-46E8-B6E2-8F0061F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DD7472-A7A7-45CE-93B1-85F0993A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7C1F8-214C-436E-9347-57D96F30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0955D4-E898-40C4-AC46-1AD67F4A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B8FC29-1216-4EBB-97E4-749D5E21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AC90C7-AC0C-4495-8AB0-4A10F48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40E250-4B8E-465E-A68A-616C032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EF3978-D89E-457A-9DBF-9F74488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B5AF83-82D3-449F-850E-6CE6047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95E259-DD0D-4440-9ECE-8F86F1EF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4A856B-AD48-46AC-94B1-42173434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65C7D2-6C7C-4879-89A0-78CD1373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6FBF0F-A753-4E0D-9504-A139F29E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0B755-ADDE-49E3-B209-A3BA8D9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482BC4-AB48-4718-9446-F933074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9BD1D01-18C5-45C3-B615-F2E5E06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EE6737-B58D-4B22-A4B9-C17FF6BD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3F46D45-63E6-42D6-AFB9-24D4BE0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9476EE-72A2-4BA7-82EE-9578F0E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32812C-9974-42FD-AFD5-E4E02CE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448821-93B0-4BBD-937F-12524E2D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49721A0-3609-43DA-A7F7-31E8FBB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BC39E89-26F5-42B8-B82A-F5F3F2A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17D142-B304-478B-8C1A-510F34D6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9D7A8-1F9D-4776-9F0B-93FCE34C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1EECA8B-9027-4DCB-8A4E-ED1FDE28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314802-513A-4561-86D9-B09F1723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2CD970-5BD4-4893-9F15-CC202B8D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2533E7-EEC5-4B12-889B-8E7F77B4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9C5E9C-ADB5-434C-BBA8-93ACD062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E47DBC-24B4-4954-961E-B18F822E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701417-B2EF-41A6-8E6A-1B4E5BC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6CA498-8EEA-4FC7-92CE-BB7DB3F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0AB1C7-9A8B-430F-B32E-17AD85BC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3A1787-6EE4-44A2-82B1-BEEEE58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273AF-C09E-463B-9D13-BA01206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D0394D-32CF-4FDF-AF10-11AECB0F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AE8052-6E83-49AA-8E0A-C0AAC3E0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C34A19-989C-47A1-9280-DCD15717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6F249-BC39-486F-8F10-7F05F05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CD157-4960-4B31-A4A0-C2455F8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6BE5A4B-F370-4210-9A48-1D5ECA28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513C5A-ED88-4E53-9E42-E3ECB83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A7BAE9-9ED8-4EAC-9B61-86CB2A50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3C8F8-42FF-4787-AB8B-BF2F288B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67E5AC-EFD7-4661-B441-817613D0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A26E1E-1C04-4174-8AC0-0160CA9B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D60D66-4BB5-47C1-BAC9-F3250261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8050F1-F5F3-4110-92D9-999E4860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2423D6-3292-4B46-A42C-70DAFAF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837BF8-0E0B-4F56-AED0-C6B2105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5FE6EC-67EE-4E31-8606-48A3E165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7311748-5DB0-4B28-BF00-7E9AAC7B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703D78-7D74-4C00-992F-E9B0D8D8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A86587-8590-487B-9562-8319B84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A0920-1FBF-43E8-96D0-EAA167A5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7291C5-7F91-4E80-8887-B2513A4D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AEC4CD-713C-49A7-A408-3EDCD70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F30BCF-C01E-4564-9B20-18691C79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26A8CA-58D6-43D0-B365-D96B9DB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4B68A9-2E46-409C-9266-FBAD1734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B6DD26-E4D7-4CE2-98B7-AD1F7A2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F8AADF-8401-4EEB-8F03-4498A59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B9455E0-A3BE-4216-81D9-370ECEE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D32DB5-B7E0-4BC7-996C-CB1369EA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83DB001-0049-4200-918D-733431C6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1AAA1-768A-4C37-9867-10F22989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F58BA4-1F02-4B18-A581-0A7B0C52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C2FFC0-ED06-401C-9AA3-15299001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6534D54-955C-4CFD-B782-05DC59EB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A2DC79-5B55-49BF-9D02-2FA81C2C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6FBFB6-8960-4872-935C-C7740C9D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1EDEFF-C850-4D67-A36B-FBEEAF39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CE509C-CF28-4027-BF25-964ED7FB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FCD6DD-F9FE-41C4-9A75-85ABA0D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735544-004F-4C40-99B9-0D62E8C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5B6F0D-7F40-4080-BC73-94229706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1E303-1301-4AB9-9F21-06DC0390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B7E587-9788-4D86-B107-1B4204AC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D4DC50F-A0BA-478D-A140-16BAB8A8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D414624-56EC-4728-AD56-4A51CA4B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C6933-477A-446D-91F1-FE593D10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E5AF2-1D62-4787-AB03-FAF6A194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4EE7EB-FB62-4AE1-A189-2D2B3B73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3D364C-E708-4A92-A230-2724FBE8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8C02EA-5745-4585-A635-C7477959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DDDBD-3695-4CEC-85E4-E946024D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46EC5C-D552-4A10-A7A9-C1649AA6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0966A5-966F-48E5-93C5-7B8F89CA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3D2A91-452C-4C0A-AF80-7653C27E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97B22-29E7-4DA0-9138-A8AB4020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58A686-881F-46DB-8D8D-F983EB0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D27510-AF6C-46F2-B839-A0E8D15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97C2C3-D283-4BFE-B3D9-5BC33D2D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211A27-7C47-44A6-B9A1-B63AE195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49A019-7E28-478C-9711-C7E3DDC0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091542-C5AF-449F-A2C1-72A1DBB6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FBEE3-99F6-438D-8B5A-92E444A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D5C173-A517-474E-9951-E757C9B8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305E66-8640-49CC-AE5B-6E580E17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EEDFE4-CEE9-4E89-9C36-89EC9BD3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F2A0E1-16C0-4D2E-BF14-5E60B867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B655A5-E07A-4A85-A62A-FBAC24B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C91C66-54C3-420F-B363-783BCE33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FCEC05-234B-4AFA-BCE2-3426E0C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2FE200-1E49-4EFC-95E8-E653EF20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B8A868-3B07-4CC3-A2ED-7F2BD05D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79E9F2-5318-42C8-8A8C-BA8B71C4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13DF6-9B81-4B6E-9BFB-0B8C1BB8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40A6BA-3443-43AC-B9AB-7FA1AAAD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ACBA23-42A0-47BD-8147-56CC5D86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656CC-047B-4F20-9CFE-D8EF9464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53DB7-111F-43DE-A464-737B9475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FDB740-9A2F-43A2-8EBC-BEC0E09F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80A4CE-6D47-413C-9F01-7439C523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1F0DB-8AB0-43DE-BA7B-BCE85C6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9AC3D-3BC8-4C64-89B5-785C5562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9571BC-CFF6-451C-A776-D75E906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22E2E6-81F4-4E38-A888-A6D4501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1744A-F32B-422C-8E97-86290AD1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95CEFB-B846-4B79-B697-09BB440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C04B03-52E5-4A45-9D4F-BDD90B18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839D47-0E76-4F92-A3FD-91A06D2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5ABADC-C9D9-44F0-9D8E-75C9685F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14D1ED-2EB0-4610-A6D4-CC52381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699508-3F98-4233-B91C-020447B2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802E56-491B-477A-893A-AD935F27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DA79A8-B678-4FED-B4CB-68B93F2B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0DD248-C7B1-48A6-8D7C-49DE67B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4204E1-CC17-4CD2-BFD9-11FF633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9A2C2-0FB7-480A-9639-31E9099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4BC3EB-97BF-42AB-A8DC-81989BE6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94F80B-C1C0-4453-9705-68EF5AC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398CB4-A487-4457-A678-864B83EA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AB979D-46AB-4244-A32C-DE18A66F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C2C40B-07F0-425E-BFDA-DA140C0B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FF123C-02E3-463E-8C12-CAE81441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BA1892-A611-47CD-93E2-378461D3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5D4C67-42D0-43CB-BF84-68027D1B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31538A-F21F-454B-8DF5-53C7418C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4B9AD1-4FC1-4DD8-9515-98D52514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8FF7E-906D-41CE-AEA1-2C3EDA0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D61650-2205-4A4A-80D2-0289DF7B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97DF47-9EC6-435C-97E9-195185B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6C8FC7-DD34-4015-B6FB-2F9B344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B84B60-A607-4148-8243-35E85256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88676C-F7F3-46CF-A3FD-B004878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B5D4F3-8EEB-467A-AA91-AC988628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AF9107-A49C-4A53-A5D8-E4A18E2B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54DA88-EBDC-4A2D-9234-1C8BC982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509920-9B54-44D0-A607-2968264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35347C-1234-40B6-B07D-5C418978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E1C1A-3982-4A1B-8745-5AF30E0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1F4DB3-1E54-4746-ABE4-A5E0DF1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4CD845-9658-4F93-AD3D-C6ECA823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A50B34-906A-4F6A-B10A-3A048E3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664FBD-4BBF-4BE1-A2E2-79A955F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A930A8-E9EA-4FB6-B024-B29823F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59AF66-2ABE-4B73-851C-2076944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F5AA45-9E32-4162-8C1A-379CA73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5D2D92-9481-4AA5-988E-F2036D8C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710BB7-8BF1-4B23-A27C-CA91CE5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AC809-ACED-4B3E-B2BF-9DE6DF0C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51516-4618-4C0C-9FDA-FDDB6116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2A6E9-F18A-469B-91F7-FD8BCB7D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33A3F-F31A-45B2-8000-C9E3DD11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43568-803A-4683-BAFB-0A0E6AF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19250-9D59-4ABE-B0DA-DC6746A0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A52C48-185E-4C30-AAE3-8AA74D3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57C13-0814-4981-8EDE-7938128F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24537-6541-46B4-8EF8-8C02D22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F73D8-30F4-427B-B85B-4BF5575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62319-D9CD-4410-85AF-3D68A78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71AB8-0242-4923-9A99-8C98F1F4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1204D-0C05-4185-896E-6CA5EA5E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FA888-B113-417B-AAF7-A97EF9EC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D66B0-F4A2-46DA-BCF0-C825EB3F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7AA02-4C78-402C-B1FA-87C58809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92080-2336-4D4B-95F5-215C80C1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693DE-0469-4E6A-AC8F-D456B51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95186-31EB-43A7-9361-0CA4A8CC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1D17B-C341-442E-BE31-1265561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0399E-E2E8-497A-BB8A-FCB6807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2989A-4B43-4635-BBB6-5069DFC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D7B83-5118-4A81-A01C-B1854E65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460B3-BCD6-44C4-8227-02E2074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1CE33-E279-46CA-A86C-62AB1DE0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3A014-7336-4A52-ACDE-26BE9EFC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5F44A-2B20-4227-BDA4-4B91EC12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57062-DEDA-45FD-B79E-25B6B30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D5827-F6CF-46F2-9FDA-4DF589D6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5C5FF5D0-9AAD-43C7-8FCE-19931C694929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903640" y="6489720"/>
            <a:ext cx="2268360" cy="169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28760" y="6593040"/>
            <a:ext cx="57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5C66AE-B700-4178-88CC-8B3BBDDB020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932E-4D7A-48B4-8A83-11DDD06D6D7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AD7-8FFC-4793-A7BE-276061B48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26F5-DCED-427B-A8A5-D646C82873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2E91-E4F0-4263-A93D-589AA0AC4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584-C47B-4C68-88B0-92AD45AB8B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6B18-5418-4320-B094-05F6FC83F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C818-5325-4EB1-A535-FCFBA13A2E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A7C6-F948-47D2-9626-1623BEDB9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EAD999CE-0D45-45B0-841B-CCDF1E5D1D07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30"/>
          </p:nvPr>
        </p:nvSpPr>
        <p:spPr>
          <a:xfrm>
            <a:off x="3117600" y="6553080"/>
            <a:ext cx="501804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8760" y="6593040"/>
            <a:ext cx="57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980E73-730D-4C95-BAA4-44BDA2499129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DE7F-871D-49B9-AB19-0AF6A6B444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16E9-031C-42F3-B318-46DDCBF99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6D32-AC8E-4BC3-B4EC-CB0091FD95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08C9-6371-42A3-9EC9-565D7D9CB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85EC-C805-4E87-9676-A4CC2B6D09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237A-FAD7-4CC9-BE62-0BA5F71F7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9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33DE1CE3-7538-4AC6-883A-26CA2986E9D2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40"/>
          </p:nvPr>
        </p:nvSpPr>
        <p:spPr>
          <a:xfrm>
            <a:off x="3117600" y="6319800"/>
            <a:ext cx="574812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1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A7D-EE17-4F92-83C3-59AEDA487B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01EE-DEB0-4109-A954-90138B71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E576-35B8-4EB7-8AB7-2591FFFE5A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86B9-22DC-40DF-A811-CB26196C2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84C6-9E24-4CB1-ACF3-81589C92CE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B5E9-127F-4EA5-987C-9452356E4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489F-FD8E-49D5-8B59-85ECCD7757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B639-65AD-4B45-A029-D9C1D4343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3B95-CA72-470C-8E4E-5D544415DF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20D5-B709-45B6-93BE-33F25B585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179B-DC98-4071-9BF8-61B013FA850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EC84-D458-4CC5-A55C-453E38A38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title"/>
          </p:nvPr>
        </p:nvSpPr>
        <p:spPr>
          <a:xfrm>
            <a:off x="2147400" y="188640"/>
            <a:ext cx="6704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5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2C448943-9660-48A9-BF71-CF0325169F8C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97308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59"/>
          </p:nvPr>
        </p:nvSpPr>
        <p:spPr>
          <a:xfrm>
            <a:off x="3117600" y="6552720"/>
            <a:ext cx="5748120" cy="304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7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192A-8033-48FA-8F1C-8B6468663C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9DE0-1D44-456E-BD32-3ACB480D6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69B-5F87-4C0B-8043-DF566B8629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F894-6BE7-4E63-82F6-E78949F57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386E-E905-4AAD-92DA-C77C01D997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EE73-29F6-4C58-9D56-94B1E5E3A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B275-DE2D-4BE0-AD9B-63CC8B9444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2178-9522-4F6B-9D62-60D89FC0F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1267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A92832E0-FF28-4779-81D5-6BF5623681A9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69"/>
          </p:nvPr>
        </p:nvSpPr>
        <p:spPr>
          <a:xfrm>
            <a:off x="3117600" y="6319800"/>
            <a:ext cx="574812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1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9D5-3664-4696-8265-CA5254C28A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5759-19B0-487B-A3BC-021B8C499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F8E2-BEBA-4F95-ACFC-C90AC35711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16E-07A5-4028-B05A-09782181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B978-A7F7-4628-AF14-5282E4797E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1C2-4A99-4872-9807-98329E06B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836C-D16E-43DB-80A4-3ED100C74A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41A6-FD29-4C14-B0C0-F51EAA7CB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AC87-E693-48F5-B733-B91BFD4D26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16AA-8DA3-4582-B3DA-6F9C5C8D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A901-CF53-4978-83CB-630F93FA059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26ED-FC01-464F-B032-2968F0B37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45AA-E1D5-4662-94CD-20CCB58542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ED7-1235-4BAF-9146-AC6A72513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body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70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434960" indent="-199800">
              <a:spcBef>
                <a:spcPts val="451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795320" indent="-15372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795320" indent="-153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795320" indent="-153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4" name=""/>
          <p:cNvSpPr/>
          <p:nvPr/>
        </p:nvSpPr>
        <p:spPr>
          <a:xfrm>
            <a:off x="0" y="1041480"/>
            <a:ext cx="9144000" cy="101520"/>
          </a:xfrm>
          <a:prstGeom prst="rect">
            <a:avLst/>
          </a:prstGeom>
          <a:gradFill rotWithShape="0">
            <a:gsLst>
              <a:gs pos="0">
                <a:srgbClr val="015385">
                  <a:alpha val="60392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897680" y="6589800"/>
            <a:ext cx="11080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41040" bIns="4104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9795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BCF82542-1744-43C7-8669-70ABED4B94C6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3"/>
          <a:stretch/>
        </p:blipFill>
        <p:spPr>
          <a:xfrm>
            <a:off x="415800" y="268200"/>
            <a:ext cx="6238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15800" y="1008000"/>
            <a:ext cx="8312400" cy="18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4143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820800" algn="ctr">
              <a:spcBef>
                <a:spcPts val="349"/>
              </a:spcBef>
              <a:buClr>
                <a:srgbClr val="015385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235160" algn="ctr">
              <a:spcBef>
                <a:spcPts val="349"/>
              </a:spcBef>
              <a:buClr>
                <a:srgbClr val="015385"/>
              </a:buClr>
              <a:buFont typeface="Arial"/>
              <a:buChar char="─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1641600" algn="ctr">
              <a:spcBef>
                <a:spcPts val="349"/>
              </a:spcBef>
              <a:buClr>
                <a:srgbClr val="01538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5" marL="1641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6" marL="1641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1E81-BADB-4876-9A26-607B5DA401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89"/>
          </p:nvPr>
        </p:nvSpPr>
        <p:spPr>
          <a:xfrm>
            <a:off x="3124080" y="6552720"/>
            <a:ext cx="5748480" cy="174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all Aerospace and Technologies Corp., Proprietary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81AE-DC5C-4997-BA66-4279D0CFE1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AE10-DF8B-4FBA-9E8A-4018E66C1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D5D0712E-62B3-4BE0-92B9-CD9882C20622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17600" y="6319800"/>
            <a:ext cx="574812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D8A-FE78-4884-A490-DE07CDD075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3DCD-21B8-41EC-9EC3-A87A10179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48D3-4764-4E15-A07C-E083D4ECF0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C0F9-7B75-4AA8-A469-AD4CB27A1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4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15800" y="1008000"/>
            <a:ext cx="8312400" cy="18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Narrow"/>
              </a:rPr>
              <a:t>Supply Chain -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Arial Narrow"/>
              </a:rPr>
              <a:t>A Strategic Perspective</a:t>
            </a:r>
            <a:endParaRPr b="1" lang="en-US" sz="35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19080" y="2487600"/>
            <a:ext cx="1533600" cy="1882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593720" y="2487600"/>
            <a:ext cx="1552680" cy="228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182760" y="2554200"/>
            <a:ext cx="5889960" cy="160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927840" y="2622600"/>
            <a:ext cx="117648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xample of Integrated Supply Chain: Depicts tactical flow with continuous feedback from strategic activities 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6" name=""/>
          <p:cNvSpPr/>
          <p:nvPr/>
        </p:nvSpPr>
        <p:spPr>
          <a:xfrm>
            <a:off x="1940040" y="1479600"/>
            <a:ext cx="1038240" cy="7563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ject future part, technology requir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1731960" y="2622600"/>
            <a:ext cx="1386000" cy="12585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duct Structur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astered parts, BOM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quirements ready to be planned and bought – initiate, drive product structure into MR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325680" y="2622600"/>
            <a:ext cx="1384560" cy="12585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anagement -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Time-phased Material Planning: Quantities, need dates, requisi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4849920" y="2755800"/>
            <a:ext cx="1315800" cy="9237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pply Mgmt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Tactical buying, Strategic Supply 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6314040" y="3025800"/>
            <a:ext cx="626040" cy="2541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ce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6996240" y="2755800"/>
            <a:ext cx="1039680" cy="588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dc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nspection: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ioritized, expedi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8104320" y="2827440"/>
            <a:ext cx="901440" cy="5889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nventory: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ptimized stock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0480" y="2554200"/>
            <a:ext cx="1455480" cy="9237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ign in optimized solution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Identify, use preferred parts (symbols in CAD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62120" y="1479600"/>
            <a:ext cx="1039680" cy="5889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pdate Preferred Parts list over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255840" y="5041800"/>
            <a:ext cx="1386000" cy="9237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solidate forecasted material requirements into RFQs for Purchase Agreements (P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126040" y="5110200"/>
            <a:ext cx="1454040" cy="8391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stablish PAs, negotiating reduced costs and leadtimes, based on forecasted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363920" y="1479600"/>
            <a:ext cx="1594080" cy="7563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ocus business into Preferred Suppliers through use of PA pro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H="1" flipV="1">
            <a:off x="4710240" y="3966840"/>
            <a:ext cx="103968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412040" y="4033800"/>
            <a:ext cx="1316160" cy="75636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eferred Parts from Preferred Suppliers routed Dock-Sto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186000" y="1612800"/>
            <a:ext cx="1040040" cy="5889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8dc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ck supplier trends, reduce obsolesc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641840" y="558000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095880" y="1479600"/>
            <a:ext cx="1594080" cy="75636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rive improved supplier performance through supplier report cards, performance re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15800" y="1949400"/>
            <a:ext cx="27648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6719760" y="4840200"/>
            <a:ext cx="90036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948120" y="38988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104160" y="3765600"/>
            <a:ext cx="672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523880" y="3294000"/>
            <a:ext cx="2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117960" y="3294000"/>
            <a:ext cx="20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710240" y="329400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65720" y="316080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rot="16200000">
            <a:off x="8028720" y="3214800"/>
            <a:ext cx="152280" cy="13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36000 h 1386000"/>
              <a:gd name="textAreaBottom" fmla="*/ 1350000 h 13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264280" y="242100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45960" y="5648400"/>
            <a:ext cx="1316160" cy="2541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50640" y="5983200"/>
            <a:ext cx="1321200" cy="2541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upply Chain 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45960" y="6319800"/>
            <a:ext cx="1316160" cy="2541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ission Assur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7757640" y="1949400"/>
            <a:ext cx="9018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5957640" y="194940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225680" y="194940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2977920" y="1949400"/>
            <a:ext cx="20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1801800" y="194940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7094520" y="3463920"/>
            <a:ext cx="77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086200" y="4456080"/>
            <a:ext cx="672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24440" y="3765600"/>
            <a:ext cx="646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731960" y="3967200"/>
            <a:ext cx="1386000" cy="421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66ff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ndardized quality lev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Examples of Integrated Supply Chain Metrics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26" name=""/>
          <p:cNvGraphicFramePr/>
          <p:nvPr/>
        </p:nvGraphicFramePr>
        <p:xfrm>
          <a:off x="52560" y="1184400"/>
          <a:ext cx="909144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60" y="1184400"/>
                    <a:ext cx="90914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In Conclusion…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M is an increasingly important discipline and provides a broad array of option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standing and articulating the various aspects is essential to optimum use of SC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formance begins with a holistic view of the flow of the technologies required, their development and sources, and an analytical approach to defining, developing and improving the supply ba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gnificant advantage to those who can pull this off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ether ‘Supply Chain’ can save the world is yet to be determined…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t properly employed SCM systems, processes, tools and personnel can dramatically improve an organization’s performance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/>
          <p:nvPr/>
        </p:nvSpPr>
        <p:spPr>
          <a:xfrm>
            <a:off x="1967040" y="358920"/>
            <a:ext cx="1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685800" y="43434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7800" indent="-577800">
              <a:lnSpc>
                <a:spcPct val="100000"/>
              </a:lnSpc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577800"/>
                <a:tab algn="l" pos="62856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7720" y="201240"/>
            <a:ext cx="7203960" cy="7398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Can Supply Chain Save the World?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345600" y="1277640"/>
            <a:ext cx="8589960" cy="5445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 Narrow"/>
              </a:rPr>
              <a:t>Save it from what?  What’s happening in our World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ology focused industries moving to large, emerging markets, not focused on retaining business in high-margin, lower volume, aerospace sect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95280" indent="-47448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ults in limited number of qualified, developed suppliers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dustry consolidation continu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ong-term viability of domestic supplier capability questione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295280" indent="-47448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re technology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nvention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– product and process – taking place off-shor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TAR restrictions hamper use of foreign supplier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reign requirements, product and environmental, different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295280" indent="-47448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erospace electronics requirements continue to veer from commercia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ck of supply chain insight hinders ability to manage risk and ensure performan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50004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o pays for, ensures, effective supply chain management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50004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o’s making the make/buy and sourcing decisions, and do they represent “best value” to government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177920" y="145800"/>
            <a:ext cx="775800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Not enough to understand evolving landscape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15440" y="1209240"/>
            <a:ext cx="8520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524"/>
              </a:spcBef>
              <a:spcAft>
                <a:spcPts val="524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ust organize to respond quickly, adapt in this environment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99"/>
              </a:spcBef>
              <a:spcAft>
                <a:spcPts val="499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ssues feel staggering, options seem limited (or limitless) and confus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requires an immediate reaction? What are appropriate ac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99"/>
              </a:spcBef>
              <a:spcAft>
                <a:spcPts val="499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SG and aerospace supply chain ar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cognizing need and market advantage by ensuring access to critical supplied technolog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cognizing SCM as key process/system (are we investing as such?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ducing supply base, focusing business into fewer, better, more strategically aligned suppli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re focused than ever on sub-tier supply manag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ractual management giving way (begrudgingly) to relationship manag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99"/>
              </a:spcBef>
              <a:spcAft>
                <a:spcPts val="499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ggle for everyone, opportunity for those who can successfully integrate and manage their supply chai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Can any - all - SCM save us?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discipline of Supply Chain Management is like a giant Chinese menu, filled with options regarding tools, systems, processes, structure, focus, personnel, reporting, contracting, relationship models…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key is to discern which possible elements, working in concert, are best applied for a given agency, business, endeavor, program, and situ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Knowing what the options are and how they fit together is essenti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is critical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is superfluous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is most efficient and cost-effectiv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produces the lowest total cost and lowest total risk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does not shift risk, it reduces/eliminates risk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does not move cost, it removes cos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allows for the best entities to produce the best outcom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is objectively measured and manage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"/>
          <p:cNvSpPr/>
          <p:nvPr/>
        </p:nvSpPr>
        <p:spPr>
          <a:xfrm>
            <a:off x="1977120" y="6184800"/>
            <a:ext cx="4424400" cy="3567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what is Supply Chain Manag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0" y="1411200"/>
            <a:ext cx="9144000" cy="5311800"/>
            <a:chOff x="0" y="1411200"/>
            <a:chExt cx="9144000" cy="5311800"/>
          </a:xfrm>
        </p:grpSpPr>
        <p:sp>
          <p:nvSpPr>
            <p:cNvPr id="1722" name=""/>
            <p:cNvSpPr/>
            <p:nvPr/>
          </p:nvSpPr>
          <p:spPr>
            <a:xfrm>
              <a:off x="0" y="1411200"/>
              <a:ext cx="9144000" cy="531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0" y="1411200"/>
              <a:ext cx="9099000" cy="53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8160" y="145440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6480" y="1454400"/>
              <a:ext cx="23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lier Relationship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28520" y="16462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7920" y="1659240"/>
              <a:ext cx="1247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Sourc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8520" y="18370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81160" y="1837080"/>
              <a:ext cx="160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current Enginee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8520" y="20289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99160" y="2028960"/>
              <a:ext cx="161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chnology Foreca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28520" y="22219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86200" y="2221920"/>
              <a:ext cx="205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lier Performance / Qua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28160" y="24127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99160" y="240264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Mak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291320" y="2412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324800" y="240264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28160" y="26031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05640" y="2603160"/>
              <a:ext cx="171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bcontrac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28160" y="27964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20400" y="2796480"/>
              <a:ext cx="76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28520" y="29883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08520" y="2988360"/>
              <a:ext cx="166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overnment Compli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28520" y="31798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0400" y="3179880"/>
              <a:ext cx="1386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mand Foreca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8520" y="33721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7080" y="3372120"/>
              <a:ext cx="1566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quirements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8520" y="356400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0040" y="3551400"/>
              <a:ext cx="1163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erial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8520" y="37558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7440" y="375588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ceiv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28160" y="39466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09240" y="3946680"/>
              <a:ext cx="140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ceiving Insp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28160" y="41385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3560" y="4138560"/>
              <a:ext cx="116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ventory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28160" y="433044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40200" y="4330440"/>
              <a:ext cx="88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arehou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28520" y="45223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24000" y="4522320"/>
              <a:ext cx="117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erial Hand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8520" y="471384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17880" y="471384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8520" y="49057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7160" y="4905720"/>
              <a:ext cx="141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istribution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8520" y="509760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5080" y="5097600"/>
              <a:ext cx="98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8160" y="528984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47040" y="528012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28160" y="54802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26800" y="5480280"/>
              <a:ext cx="155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gram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8160" y="56721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5800" y="567216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28520" y="58654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6080" y="586548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28520" y="60562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02760" y="6056280"/>
              <a:ext cx="186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 Business Develop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901880" y="1899720"/>
              <a:ext cx="124092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18000" y="1735920"/>
              <a:ext cx="24822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142800" y="1899720"/>
              <a:ext cx="164520" cy="1638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300560" y="1735920"/>
              <a:ext cx="330480" cy="3276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901880" y="2063880"/>
              <a:ext cx="45486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63200" y="1492200"/>
              <a:ext cx="2067840" cy="25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232360" y="2307600"/>
              <a:ext cx="579960" cy="25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71400" y="2469960"/>
              <a:ext cx="15714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983960" y="2634120"/>
              <a:ext cx="173592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2812680" y="2063880"/>
              <a:ext cx="246600" cy="2433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3142800" y="2063880"/>
              <a:ext cx="330480" cy="406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3720240" y="2063520"/>
              <a:ext cx="414000" cy="5698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208480" y="1654560"/>
              <a:ext cx="123948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282280" y="1715040"/>
              <a:ext cx="1146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Suppl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426280" y="1878840"/>
              <a:ext cx="857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631040" y="1492200"/>
              <a:ext cx="497520" cy="5713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74960" y="2877480"/>
              <a:ext cx="29757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4050720" y="2063880"/>
              <a:ext cx="579960" cy="8136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487520" y="4180320"/>
              <a:ext cx="364104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01880" y="3040200"/>
              <a:ext cx="17373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639600" y="3040200"/>
              <a:ext cx="577080" cy="11397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653840" y="3285360"/>
              <a:ext cx="16534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07680" y="3285360"/>
              <a:ext cx="412560" cy="8949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18000" y="3449160"/>
              <a:ext cx="12412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059640" y="3449160"/>
              <a:ext cx="330120" cy="7311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571400" y="3610080"/>
              <a:ext cx="12412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812680" y="3610080"/>
              <a:ext cx="246600" cy="5698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991080" y="3855240"/>
              <a:ext cx="15717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563200" y="3855240"/>
              <a:ext cx="165600" cy="3247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653840" y="4017600"/>
              <a:ext cx="57852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232360" y="4017600"/>
              <a:ext cx="82080" cy="1623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405440" y="4589640"/>
              <a:ext cx="74304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240920" y="4425480"/>
              <a:ext cx="57708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059120" y="4792320"/>
              <a:ext cx="6606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18000" y="4425480"/>
              <a:ext cx="330480" cy="1638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1715760" y="4589280"/>
              <a:ext cx="432720" cy="208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53840" y="4995360"/>
              <a:ext cx="19018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48840" y="4589640"/>
              <a:ext cx="414000" cy="4057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2148840" y="4180320"/>
              <a:ext cx="744480" cy="4089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240920" y="5158080"/>
              <a:ext cx="11574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2398320" y="4995000"/>
              <a:ext cx="164520" cy="1623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134600" y="3935160"/>
              <a:ext cx="118152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222080" y="3996720"/>
              <a:ext cx="106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erials Mgm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28920" y="4180320"/>
              <a:ext cx="414000" cy="4089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3556080" y="4589280"/>
              <a:ext cx="1987200" cy="4057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543280" y="4589640"/>
              <a:ext cx="13215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646360" y="4589640"/>
              <a:ext cx="890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815560" y="464652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24120" y="4810680"/>
              <a:ext cx="78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873760" y="4344120"/>
              <a:ext cx="7329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59440" y="440316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450840" y="2063880"/>
              <a:ext cx="910800" cy="13024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6865200" y="3366000"/>
              <a:ext cx="496440" cy="12229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61640" y="3366360"/>
              <a:ext cx="165384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7760" y="3120120"/>
              <a:ext cx="185436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337520" y="3181680"/>
              <a:ext cx="179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ly Chain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2144520" y="6130080"/>
              <a:ext cx="5386680" cy="11160"/>
              <a:chOff x="2144520" y="6130080"/>
              <a:chExt cx="5386680" cy="11160"/>
            </a:xfrm>
          </p:grpSpPr>
          <p:sp>
            <p:nvSpPr>
              <p:cNvPr id="1833" name=""/>
              <p:cNvSpPr/>
              <p:nvPr/>
            </p:nvSpPr>
            <p:spPr>
              <a:xfrm>
                <a:off x="21445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2586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3713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4858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59884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7133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82744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94048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0546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16728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2817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39480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50928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237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73644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8505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96324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07772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1922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3052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4197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53240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6465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75956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8740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8816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10120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21568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32836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4428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55552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6700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78448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9716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0116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1243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23880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3529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4659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5804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6931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8076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92064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0351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14888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619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3764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489080" y="6130080"/>
                <a:ext cx="42120" cy="111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7521480" y="3362400"/>
              <a:ext cx="1249200" cy="2778480"/>
              <a:chOff x="7521480" y="3362400"/>
              <a:chExt cx="1249200" cy="2778480"/>
            </a:xfrm>
          </p:grpSpPr>
          <p:sp>
            <p:nvSpPr>
              <p:cNvPr id="1882" name=""/>
              <p:cNvSpPr/>
              <p:nvPr/>
            </p:nvSpPr>
            <p:spPr>
              <a:xfrm>
                <a:off x="7521480" y="605592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68280" y="5954400"/>
                <a:ext cx="42120" cy="8496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0"/>
                    </a:moveTo>
                    <a:lnTo>
                      <a:pt x="0" y="5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611840" y="5851080"/>
                <a:ext cx="45360" cy="84600"/>
              </a:xfrm>
              <a:custGeom>
                <a:avLst/>
                <a:gdLst/>
                <a:ahLst/>
                <a:rect l="l" t="t" r="r" b="b"/>
                <a:pathLst>
                  <a:path w="29" h="55">
                    <a:moveTo>
                      <a:pt x="0" y="51"/>
                    </a:moveTo>
                    <a:lnTo>
                      <a:pt x="0" y="53"/>
                    </a:lnTo>
                    <a:lnTo>
                      <a:pt x="1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7" y="54"/>
                    </a:lnTo>
                    <a:lnTo>
                      <a:pt x="7" y="53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59000" y="574920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6" y="53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706160" y="5647320"/>
                <a:ext cx="42120" cy="8316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0"/>
                    </a:moveTo>
                    <a:lnTo>
                      <a:pt x="0" y="51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6" y="51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749720" y="5543640"/>
                <a:ext cx="45360" cy="84960"/>
              </a:xfrm>
              <a:custGeom>
                <a:avLst/>
                <a:gdLst/>
                <a:ahLst/>
                <a:rect l="l" t="t" r="r" b="b"/>
                <a:pathLst>
                  <a:path w="29" h="55">
                    <a:moveTo>
                      <a:pt x="0" y="51"/>
                    </a:moveTo>
                    <a:lnTo>
                      <a:pt x="0" y="53"/>
                    </a:lnTo>
                    <a:lnTo>
                      <a:pt x="1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7" y="54"/>
                    </a:lnTo>
                    <a:lnTo>
                      <a:pt x="7" y="53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796880" y="544212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6" y="53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842240" y="533880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887600" y="5236920"/>
                <a:ext cx="4392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34760" y="513504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2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80120" y="503172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025480" y="4929840"/>
                <a:ext cx="4392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72640" y="4826520"/>
                <a:ext cx="42120" cy="8460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1"/>
                    </a:moveTo>
                    <a:lnTo>
                      <a:pt x="0" y="52"/>
                    </a:lnTo>
                    <a:lnTo>
                      <a:pt x="0" y="53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3"/>
                    </a:lnTo>
                    <a:lnTo>
                      <a:pt x="7" y="52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118000" y="472464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63360" y="462276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210520" y="4519440"/>
                <a:ext cx="42120" cy="8316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1"/>
                    </a:moveTo>
                    <a:lnTo>
                      <a:pt x="0" y="5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7" y="52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55880" y="441756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6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301240" y="4315680"/>
                <a:ext cx="43560" cy="8172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0" y="50"/>
                    </a:move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2" y="53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348040" y="4210560"/>
                <a:ext cx="42120" cy="8496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7" y="53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393760" y="410904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439120" y="400572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484480" y="390384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531640" y="3801960"/>
                <a:ext cx="42120" cy="8460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577000" y="369864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622360" y="359676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667360" y="3493440"/>
                <a:ext cx="4392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7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714880" y="339156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760240" y="336240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490320" y="5315040"/>
              <a:ext cx="7371360" cy="12240"/>
              <a:chOff x="490320" y="5315040"/>
              <a:chExt cx="7371360" cy="12240"/>
            </a:xfrm>
          </p:grpSpPr>
          <p:sp>
            <p:nvSpPr>
              <p:cNvPr id="1911" name=""/>
              <p:cNvSpPr/>
              <p:nvPr/>
            </p:nvSpPr>
            <p:spPr>
              <a:xfrm>
                <a:off x="4903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044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89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316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94608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05912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1732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2859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4004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5148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62792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74168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8547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9692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0836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1963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3108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42352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380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65068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651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8796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923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0644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21948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3339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44664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5611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6752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78828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90240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01544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299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2440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3567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4712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58424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6987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114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9255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0400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15268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26716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38020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946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070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7214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359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4900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06312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758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2902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4047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5174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6319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74496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8590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97176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0862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2007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134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42752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54056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6550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7677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1648080" y="5560200"/>
              <a:ext cx="5303160" cy="10440"/>
              <a:chOff x="1648080" y="5560200"/>
              <a:chExt cx="5303160" cy="10440"/>
            </a:xfrm>
          </p:grpSpPr>
          <p:sp>
            <p:nvSpPr>
              <p:cNvPr id="1977" name=""/>
              <p:cNvSpPr/>
              <p:nvPr/>
            </p:nvSpPr>
            <p:spPr>
              <a:xfrm>
                <a:off x="164808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7622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8766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98936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1038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21688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3310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44368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5581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726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78532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8994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01248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1269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3964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3541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686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8092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5400" y="5560200"/>
                <a:ext cx="9252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80844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9229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0374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415008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2642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37724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4917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60440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188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8330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4568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0601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7320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2876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0036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144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6289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4164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56120" y="5560200"/>
                <a:ext cx="9252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96916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0832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977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31044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4249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53796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6524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76476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879240" y="5560200"/>
                <a:ext cx="72000" cy="1044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904680" y="5724000"/>
              <a:ext cx="6296040" cy="9360"/>
              <a:chOff x="904680" y="5724000"/>
              <a:chExt cx="6296040" cy="9360"/>
            </a:xfrm>
          </p:grpSpPr>
          <p:sp>
            <p:nvSpPr>
              <p:cNvPr id="2025" name=""/>
              <p:cNvSpPr/>
              <p:nvPr/>
            </p:nvSpPr>
            <p:spPr>
              <a:xfrm>
                <a:off x="90468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0188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13184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2463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3608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47312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876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0028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8147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92924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04192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1564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26908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3835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49660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61036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72484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3788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9523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650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791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29220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40668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5211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6338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7479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606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97512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0896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20228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3167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4294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5439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65696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77072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88520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99824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1127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2254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3395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45256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56704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815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7942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083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0210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13548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2499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3630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4771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5898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70428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81732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93108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4556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158600" y="5724000"/>
                <a:ext cx="42120" cy="93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4" y="6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1483200" y="5969160"/>
              <a:ext cx="5964480" cy="8280"/>
              <a:chOff x="1483200" y="5969160"/>
              <a:chExt cx="5964480" cy="8280"/>
            </a:xfrm>
          </p:grpSpPr>
          <p:sp>
            <p:nvSpPr>
              <p:cNvPr id="2082" name=""/>
              <p:cNvSpPr/>
              <p:nvPr/>
            </p:nvSpPr>
            <p:spPr>
              <a:xfrm>
                <a:off x="14832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59552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7100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8244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3752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0520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16432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2788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39184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0596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62044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3348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8476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96028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0747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1892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3022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41640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52908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6435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5624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87072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9852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09788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2123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32504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43952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55256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66668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478080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89384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00832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12100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2354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3499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626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57676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68980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042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91696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314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1455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25860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3730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48576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6002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71292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82704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94152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05456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1690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28172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395840" y="5969160"/>
                <a:ext cx="51840" cy="828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7437960" y="5315040"/>
              <a:ext cx="341640" cy="662040"/>
              <a:chOff x="7437960" y="5315040"/>
              <a:chExt cx="341640" cy="662040"/>
            </a:xfrm>
          </p:grpSpPr>
          <p:sp>
            <p:nvSpPr>
              <p:cNvPr id="2136" name=""/>
              <p:cNvSpPr/>
              <p:nvPr/>
            </p:nvSpPr>
            <p:spPr>
              <a:xfrm>
                <a:off x="7437960" y="5893560"/>
                <a:ext cx="46800" cy="8352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1" y="50"/>
                    </a:move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3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3"/>
                    </a:lnTo>
                    <a:lnTo>
                      <a:pt x="1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489440" y="5793480"/>
                <a:ext cx="47160" cy="8316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9"/>
                    </a:moveTo>
                    <a:lnTo>
                      <a:pt x="0" y="50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3" y="3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539480" y="5694840"/>
                <a:ext cx="47160" cy="8136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1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3" y="53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30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1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591680" y="5594400"/>
                <a:ext cx="46800" cy="8316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41720" y="5493600"/>
                <a:ext cx="48600" cy="831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6" y="53"/>
                    </a:lnTo>
                    <a:lnTo>
                      <a:pt x="7" y="52"/>
                    </a:lnTo>
                    <a:lnTo>
                      <a:pt x="30" y="4"/>
                    </a:lnTo>
                    <a:lnTo>
                      <a:pt x="31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1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693560" y="5393520"/>
                <a:ext cx="46800" cy="8316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8"/>
                    </a:move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3"/>
                    </a:lnTo>
                    <a:lnTo>
                      <a:pt x="6" y="52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743960" y="5315040"/>
                <a:ext cx="35640" cy="61560"/>
              </a:xfrm>
              <a:custGeom>
                <a:avLst/>
                <a:gdLst/>
                <a:ahLst/>
                <a:rect l="l" t="t" r="r" b="b"/>
                <a:pathLst>
                  <a:path w="23" h="40">
                    <a:moveTo>
                      <a:pt x="1" y="34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5" y="39"/>
                    </a:lnTo>
                    <a:lnTo>
                      <a:pt x="7" y="3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7191360" y="5315040"/>
              <a:ext cx="256320" cy="417960"/>
              <a:chOff x="7191360" y="5315040"/>
              <a:chExt cx="256320" cy="417960"/>
            </a:xfrm>
          </p:grpSpPr>
          <p:sp>
            <p:nvSpPr>
              <p:cNvPr id="2144" name=""/>
              <p:cNvSpPr/>
              <p:nvPr/>
            </p:nvSpPr>
            <p:spPr>
              <a:xfrm>
                <a:off x="7191360" y="5652720"/>
                <a:ext cx="52560" cy="802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1" y="47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2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1"/>
                    </a:lnTo>
                    <a:lnTo>
                      <a:pt x="7" y="51"/>
                    </a:lnTo>
                    <a:lnTo>
                      <a:pt x="33" y="5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248600" y="5556960"/>
                <a:ext cx="52560" cy="7848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47"/>
                    </a:move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33" y="5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308000" y="5461560"/>
                <a:ext cx="52560" cy="7992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0" y="46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4" y="51"/>
                    </a:lnTo>
                    <a:lnTo>
                      <a:pt x="5" y="49"/>
                    </a:lnTo>
                    <a:lnTo>
                      <a:pt x="33" y="4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365240" y="5364360"/>
                <a:ext cx="52560" cy="7992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0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3" y="6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424640" y="5315040"/>
                <a:ext cx="23040" cy="338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17"/>
                    </a:move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9" name=""/>
            <p:cNvGrpSpPr/>
            <p:nvPr/>
          </p:nvGrpSpPr>
          <p:grpSpPr>
            <a:xfrm>
              <a:off x="6942960" y="5315040"/>
              <a:ext cx="174240" cy="255960"/>
              <a:chOff x="6942960" y="5315040"/>
              <a:chExt cx="174240" cy="255960"/>
            </a:xfrm>
          </p:grpSpPr>
          <p:sp>
            <p:nvSpPr>
              <p:cNvPr id="2150" name=""/>
              <p:cNvSpPr/>
              <p:nvPr/>
            </p:nvSpPr>
            <p:spPr>
              <a:xfrm>
                <a:off x="6942960" y="5493600"/>
                <a:ext cx="56160" cy="7740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1" y="46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35" y="5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005240" y="5398920"/>
                <a:ext cx="54360" cy="7920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0" y="46"/>
                    </a:move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35" y="6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067520" y="5315040"/>
                <a:ext cx="49680" cy="684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" y="40"/>
                    </a:moveTo>
                    <a:lnTo>
                      <a:pt x="0" y="41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6" y="43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6" y="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7938720" y="2307600"/>
              <a:ext cx="744480" cy="260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143200" y="2366280"/>
              <a:ext cx="39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00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73760" y="3204000"/>
              <a:ext cx="826560" cy="26064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121080" y="326304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90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720240" y="3366360"/>
              <a:ext cx="572760" cy="260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841200" y="34254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80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571400" y="2715120"/>
              <a:ext cx="571320" cy="2617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692000" y="277416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60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749240" y="3831480"/>
              <a:ext cx="1572840" cy="3247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98720" y="3911400"/>
              <a:ext cx="101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g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547160" y="2877480"/>
              <a:ext cx="1002960" cy="3261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735080" y="2935080"/>
              <a:ext cx="74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ol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774200" y="1654560"/>
              <a:ext cx="1128600" cy="3247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974720" y="171216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gr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 flipV="1">
              <a:off x="3555720" y="2877120"/>
              <a:ext cx="83160" cy="162360"/>
            </a:xfrm>
            <a:prstGeom prst="line">
              <a:avLst/>
            </a:prstGeom>
            <a:ln w="111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639600" y="2877120"/>
              <a:ext cx="164520" cy="162360"/>
            </a:xfrm>
            <a:prstGeom prst="line">
              <a:avLst/>
            </a:prstGeom>
            <a:ln w="111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257600" y="3926880"/>
              <a:ext cx="144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1177560" y="13464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marL="53352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Evolutionary depiction of Supply Chain Management 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Know Thyself’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15440" y="1209240"/>
            <a:ext cx="858996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ood Supply Chain Management begins with organizational self-awarenes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re about what you do than what’s done to you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f you don’t know who you are and what you do, it’s very difficult to know who you need and what you need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Your supply chain and supply base are an extension of who you are, in a sense they are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Your supply chain extends to the supply base, but its success begins and ends with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your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decision making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t’s the beginning of successful risk manag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You can outsource capacity. You can outsource capability. You can out source expertise. Ultimately, you cannot outsource risk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ain, that is you (your success) out ther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eater level of risk, greater level of contro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fficult to be a visionar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asier to be an “Exceptional Thief”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scipline before tool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now when to invest in collaborative design and mfg tool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earn to saw before you buy a chain saw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o who are we?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CM links customer needs with supplier offerings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4" name="" descr=""/>
          <p:cNvPicPr/>
          <p:nvPr/>
        </p:nvPicPr>
        <p:blipFill>
          <a:blip r:embed="rId2"/>
          <a:stretch/>
        </p:blipFill>
        <p:spPr>
          <a:xfrm>
            <a:off x="358920" y="1147680"/>
            <a:ext cx="820872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Strategic Supply Management drives tactical ‘drumbeat’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6" name="" descr=""/>
          <p:cNvPicPr/>
          <p:nvPr/>
        </p:nvPicPr>
        <p:blipFill>
          <a:blip r:embed="rId2"/>
          <a:stretch/>
        </p:blipFill>
        <p:spPr>
          <a:xfrm>
            <a:off x="484200" y="1184400"/>
            <a:ext cx="81756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The Integrated Supply Chain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38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ly Chain Mapping – extended network design, multi-tier sourcing/functiona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y supplier, technology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9320" indent="-398520">
              <a:lnSpc>
                <a:spcPct val="90000"/>
              </a:lnSpc>
              <a:spcBef>
                <a:spcPts val="349"/>
              </a:spcBef>
              <a:buClr>
                <a:srgbClr val="015385"/>
              </a:buClr>
              <a:buFont typeface="Wingdings" charset="2"/>
              <a:buChar char="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w involved do you want to be? Do you really want to manage Tier 2 and Tier 3 suppliers? Do you need to? When, where, why?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scriminating Technologie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9320" indent="-398520">
              <a:lnSpc>
                <a:spcPct val="90000"/>
              </a:lnSpc>
              <a:spcBef>
                <a:spcPts val="349"/>
              </a:spcBef>
              <a:buClr>
                <a:srgbClr val="015385"/>
              </a:buClr>
              <a:buFont typeface="Wingdings" charset="2"/>
              <a:buChar char="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pply Chain map of a particular critical supplied technology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y data flow and/or funct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y cash and/or product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 of Optimizing the Internal Supply Chai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9" name=""/>
          <p:cNvSpPr/>
          <p:nvPr/>
        </p:nvSpPr>
        <p:spPr>
          <a:xfrm>
            <a:off x="692280" y="4033800"/>
            <a:ext cx="3448080" cy="25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Building a competitive advan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cycle t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selection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lier lead t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er co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ece parts, assembl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b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mastering, parts exped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material was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rategic vs. Tactical focu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imized supply base support and flexi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ual costs easily used in proposal se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392720" y="4033800"/>
            <a:ext cx="3671640" cy="25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Reducing the risk in executing pr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program schedule sl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reased on-time delivery perform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reased % of parts received by need da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ured part availa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roved quality of parts, assembl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level of part obsolesc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roved supplier perform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imized prioritization of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roved materiel, supply chain visibilit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 to availability within the supply ch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3:43:56Z</dcterms:created>
  <dc:creator>Ball Aerospace &amp; Technologies Corp.</dc:creator>
  <dc:description/>
  <dc:language>en-US</dc:language>
  <cp:lastModifiedBy>J Root</cp:lastModifiedBy>
  <dcterms:modified xsi:type="dcterms:W3CDTF">2008-09-23T19:41:56Z</dcterms:modified>
  <cp:revision>537</cp:revision>
  <dc:subject/>
  <dc:title>Program Operations/ Mission Assurance Segment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stOperation">
    <vt:lpwstr>SavedAs</vt:lpwstr>
  </property>
</Properties>
</file>