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A30-6B57-4E60-971C-B542BB94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4FD-6A1A-42F9-86E1-D9FC0C92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96B-5CAF-4ED6-BA9C-AF2B97C6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E62-47FC-496D-BDF2-21D43353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D10-98A3-4F07-94B7-6429E714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77A-8EE5-4943-BBDD-CAE41139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B3C-B2E1-4DB5-A75B-3B013CBB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BF9-452F-4A74-9D1F-05D6FEAA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C89-943D-46B4-9372-08BC3409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238-EEF1-41F9-A155-140F84BB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776-B2D7-4339-B6EF-24A0E0F1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0B9-DC58-45CF-987C-5B422D3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F9C-2A0C-43AF-9A1E-F11DCD9EB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83800"/>
            <a:ext cx="822960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131d"/>
                </a:solidFill>
                <a:latin typeface="Arial"/>
              </a:rPr>
              <a:t>Larry Dalton       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(University of Washington)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MR-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00923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20" y="1420560"/>
            <a:ext cx="4475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uantum mechanics [J. Am. Chem. Soc., 127, 2758 (2005)] and new statistical mechanical methods (Fig. 1) have been used to achieve record electro-optic (EO) activity (12 times the commercial standard lithium niobate).  Pseudo-atomistic Monte Carlo calculations have been used to achieve a quantitative understanding of the effect of intermolecular electrostatic interactions on acentric chromophore order under the influence of an electric poling field.  Theoretically-inspired crosslinked dendrimer materials have been prepared that not only display record electro-optic activity but also exhibit high thermal and photochemical stability and low waveguide loss.  A variety of prototype devices have been fabricated including hybrid organic EO/silicon photonic split ring microresonators relevant to wavelength division and reconfigurable optical add/drop multiplexing.  High bandwidth optical rectification has been ob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5854680"/>
            <a:ext cx="42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.  The theoretically-predicted variation of the product of chromophore number density and acentric order parameter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O activity) vs. number density is shown as a function of chromophore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25480"/>
            <a:ext cx="90298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83080" y="1362240"/>
            <a:ext cx="466092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68800" y="165240"/>
            <a:ext cx="47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ganic Electroactiv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99080" y="1227240"/>
            <a:ext cx="424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ading Parameter = EO Coeffici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÷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ecular hyper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arizability)(const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9680" y="295200"/>
            <a:ext cx="80485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ganic Electroactive Material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b131d"/>
                </a:solidFill>
                <a:latin typeface="Arial"/>
              </a:rPr>
              <a:t>Larry Dalton     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(University of Washington)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MR-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0092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56320" y="1189080"/>
            <a:ext cx="410508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Out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irman, Advisory Board, Center for Research and Education in Advanced Materials, Norfolk State University; worked with NSU to develop its first Ph.D. program in science and engineering.  Participated in course and curriculum developed and lectured in a prototype core course for the new Ph.D. program (Spring 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orked with Alabama A&amp;M and other HBCUs on development of research and educational activities including activities sponsored by NSF and NA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entored six Seattle area high school students two of which are pursuing science majors at Stanford Univ. this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ectured at the Seattle Technology Alliance, the Seattle Community Development Roundtable, and Washington and California Rotary Clu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160" y="1152360"/>
            <a:ext cx="902952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8120" y="1227240"/>
            <a:ext cx="4572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al activities related to this program include lectures at the NSF-sponsored workshop on sensor science &amp; technology at Alabama A&amp;M, the NASA Space Grant REU program at UW, the Frontiers in Nanotechology course (a core course in the Nanotechnology Ph.D. program) at UW, a tutorial at the AAAS 2004 annual meeting, NSF REU lectures at UW, and lectures in a prototype course for the proposed Ph.D. program in Advanced Materials Science &amp; Engineering at Norfolk State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845" t="0" r="15380" b="-1162"/>
          <a:stretch/>
        </p:blipFill>
        <p:spPr>
          <a:xfrm>
            <a:off x="2525760" y="428292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79600" y="5410080"/>
            <a:ext cx="207324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0" t="0" r="0" b="17423"/>
          <a:stretch/>
        </p:blipFill>
        <p:spPr>
          <a:xfrm>
            <a:off x="285840" y="4257720"/>
            <a:ext cx="1888920" cy="131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519200" y="5654520"/>
            <a:ext cx="814320" cy="108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1400" y="5581800"/>
            <a:ext cx="1421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Dalton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folk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eives QE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E 2005 G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cience Aw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03:10:56Z</dcterms:created>
  <dc:creator>Chris Li</dc:creator>
  <dc:description/>
  <dc:language>en-US</dc:language>
  <cp:lastModifiedBy>NSF USER</cp:lastModifiedBy>
  <dcterms:modified xsi:type="dcterms:W3CDTF">2006-06-27T14:03:36Z</dcterms:modified>
  <cp:revision>12</cp:revision>
  <dc:subject/>
  <dc:title>Slide 1</dc:title>
</cp:coreProperties>
</file>