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4.png" ContentType="image/png"/>
  <Override PartName="/ppt/media/image1.jpeg" ContentType="image/jpeg"/>
  <Override PartName="/ppt/media/image2.jpeg" ContentType="image/jpeg"/>
  <Override PartName="/ppt/media/image5.jpeg" ContentType="image/jpeg"/>
  <Override PartName="/ppt/media/image15.png" ContentType="image/png"/>
  <Override PartName="/ppt/media/image3.jpeg" ContentType="image/jpeg"/>
  <Override PartName="/ppt/media/image4.jpeg" ContentType="image/jpeg"/>
  <Override PartName="/ppt/media/image6.jpeg" ContentType="image/jpeg"/>
  <Override PartName="/ppt/media/image7.jpeg" ContentType="image/jpeg"/>
  <Override PartName="/ppt/media/image13.png" ContentType="image/png"/>
  <Override PartName="/ppt/media/image12.jpeg" ContentType="image/jpeg"/>
  <Override PartName="/ppt/media/image10.jpeg" ContentType="image/jpeg"/>
  <Override PartName="/ppt/media/image8.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BF7A52-44E8-4B00-B1A1-D2A8ECC1EA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E4F146-8FD6-4B34-8EC1-3C4D415578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D6F820-F7A4-4395-800B-56007D4562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600070-F620-4098-840F-C5EA9514E2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75D445-CC5F-46EB-B5FF-99D34AB496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77E6E4-E619-47FA-953B-2CBB015A20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82E034-FFCF-40F1-8F5E-8DA3CABAF2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D456ED-5787-4B07-BACA-B15DE01605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908A14-E74B-4EC6-86C8-6560383BBC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2DBBD8-514C-435D-A5F8-7304B2CCA5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28F7D0-2863-483C-A839-4DC1CA7284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B18048-1F50-4E18-A96E-1BDD2ED581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5D210-68C3-4FA4-BCA8-4F7E696D6C3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4.army.mil/OCPA/uploads/large/CSA-2005-08-10-090412.jpg" TargetMode="External"/><Relationship Id="rId2" Type="http://schemas.openxmlformats.org/officeDocument/2006/relationships/image" Target="../media/image1.jpeg"/><Relationship Id="rId3" Type="http://schemas.openxmlformats.org/officeDocument/2006/relationships/hyperlink" Target="http://www4.army.mil/OCPA/uploads/large/CSA-2005-05-11-111309.jpg" TargetMode="External"/><Relationship Id="rId4" Type="http://schemas.openxmlformats.org/officeDocument/2006/relationships/image" Target="../media/image2.jpeg"/><Relationship Id="rId5" Type="http://schemas.openxmlformats.org/officeDocument/2006/relationships/hyperlink" Target="http://www4.army.mil/OCPA/uploads/large/CSA-2005-07-29-092634.jpg" TargetMode="External"/><Relationship Id="rId6" Type="http://schemas.openxmlformats.org/officeDocument/2006/relationships/image" Target="../media/image3.jpeg"/><Relationship Id="rId7" Type="http://schemas.openxmlformats.org/officeDocument/2006/relationships/hyperlink" Target="http://www4.army.mil/OCPA/uploads/large/CSA-2005-06-20-085845.jpg" TargetMode="External"/><Relationship Id="rId8" Type="http://schemas.openxmlformats.org/officeDocument/2006/relationships/image" Target="../media/image4.jpeg"/><Relationship Id="rId9" Type="http://schemas.openxmlformats.org/officeDocument/2006/relationships/hyperlink" Target="http://www4.army.mil/OCPA/uploads/large/CSA-2005-07-13-104032.jpg" TargetMode="External"/><Relationship Id="rId10" Type="http://schemas.openxmlformats.org/officeDocument/2006/relationships/image" Target="../media/image5.jpeg"/><Relationship Id="rId11" Type="http://schemas.openxmlformats.org/officeDocument/2006/relationships/hyperlink" Target="http://www4.army.mil/OCPA/uploads/large/CSA-2005-06-30-084206.jpg" TargetMode="External"/><Relationship Id="rId12" Type="http://schemas.openxmlformats.org/officeDocument/2006/relationships/image" Target="../media/image6.jpeg"/><Relationship Id="rId1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PS Re-radiators</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my Spectrum Management Office</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van Jovancevic</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e: October 28, 2005</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380880"/>
            <a:ext cx="82296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FIGUARTION REPRESENTATION</a:t>
            </a:r>
            <a:endParaRPr b="0" lang="en-US" sz="2800" spc="-1" strike="noStrike">
              <a:solidFill>
                <a:srgbClr val="000000"/>
              </a:solidFill>
              <a:latin typeface="Arial"/>
            </a:endParaRPr>
          </a:p>
        </p:txBody>
      </p:sp>
      <p:grpSp>
        <p:nvGrpSpPr>
          <p:cNvPr id="73" name=""/>
          <p:cNvGrpSpPr/>
          <p:nvPr/>
        </p:nvGrpSpPr>
        <p:grpSpPr>
          <a:xfrm>
            <a:off x="1625760" y="1854360"/>
            <a:ext cx="5435280" cy="2031840"/>
            <a:chOff x="1625760" y="1854360"/>
            <a:chExt cx="5435280" cy="2031840"/>
          </a:xfrm>
        </p:grpSpPr>
        <p:sp>
          <p:nvSpPr>
            <p:cNvPr id="74" name=""/>
            <p:cNvSpPr/>
            <p:nvPr/>
          </p:nvSpPr>
          <p:spPr>
            <a:xfrm>
              <a:off x="1758960" y="2494080"/>
              <a:ext cx="5079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5" name=""/>
            <p:cNvSpPr/>
            <p:nvPr/>
          </p:nvSpPr>
          <p:spPr>
            <a:xfrm>
              <a:off x="1758960" y="2494080"/>
              <a:ext cx="254160" cy="509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flipV="1">
              <a:off x="2006640" y="2494080"/>
              <a:ext cx="260280" cy="503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flipH="1">
              <a:off x="2012760" y="3130560"/>
              <a:ext cx="6346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8" name=""/>
            <p:cNvSpPr/>
            <p:nvPr/>
          </p:nvSpPr>
          <p:spPr>
            <a:xfrm flipV="1">
              <a:off x="2013120" y="3001680"/>
              <a:ext cx="1440" cy="128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6203880" y="2494080"/>
              <a:ext cx="5079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0" name=""/>
            <p:cNvSpPr/>
            <p:nvPr/>
          </p:nvSpPr>
          <p:spPr>
            <a:xfrm flipV="1">
              <a:off x="6458040" y="2493720"/>
              <a:ext cx="253800" cy="50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6203880" y="2494080"/>
              <a:ext cx="254160" cy="509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flipV="1">
              <a:off x="4044960" y="2493720"/>
              <a:ext cx="254160" cy="50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3790800" y="2494080"/>
              <a:ext cx="254160" cy="509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3790800" y="2494080"/>
              <a:ext cx="5083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5" name=""/>
            <p:cNvSpPr/>
            <p:nvPr/>
          </p:nvSpPr>
          <p:spPr>
            <a:xfrm flipV="1">
              <a:off x="3409920" y="3130560"/>
              <a:ext cx="635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6" name=""/>
            <p:cNvSpPr/>
            <p:nvPr/>
          </p:nvSpPr>
          <p:spPr>
            <a:xfrm>
              <a:off x="4044960" y="3002040"/>
              <a:ext cx="1440" cy="128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2133720" y="3505320"/>
              <a:ext cx="1904760" cy="380880"/>
            </a:xfrm>
            <a:prstGeom prst="rect">
              <a:avLst/>
            </a:prstGeom>
            <a:solidFill>
              <a:srgbClr val="ffffff"/>
            </a:solidFill>
            <a:ln w="9360">
              <a:solidFill>
                <a:srgbClr val="ffffff"/>
              </a:solidFill>
              <a:miter/>
            </a:ln>
          </p:spPr>
          <p:style>
            <a:lnRef idx="0"/>
            <a:fillRef idx="0"/>
            <a:effectRef idx="0"/>
            <a:fontRef idx="minor"/>
          </p:style>
          <p:txBody>
            <a:bodyPr lIns="79200" rIns="79200" tIns="39600" bIns="39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PS Re-radiator Kit</a:t>
              </a:r>
              <a:endParaRPr b="0" lang="en-US" sz="1000" spc="-1" strike="noStrike">
                <a:solidFill>
                  <a:srgbClr val="000000"/>
                </a:solidFill>
                <a:latin typeface="Arial"/>
              </a:endParaRPr>
            </a:p>
          </p:txBody>
        </p:sp>
        <p:sp>
          <p:nvSpPr>
            <p:cNvPr id="88" name=""/>
            <p:cNvSpPr/>
            <p:nvPr/>
          </p:nvSpPr>
          <p:spPr>
            <a:xfrm>
              <a:off x="2647800" y="3002040"/>
              <a:ext cx="889200" cy="255600"/>
            </a:xfrm>
            <a:prstGeom prst="rect">
              <a:avLst/>
            </a:prstGeom>
            <a:solidFill>
              <a:srgbClr val="ffffff"/>
            </a:solidFill>
            <a:ln w="12600">
              <a:solidFill>
                <a:srgbClr val="000000"/>
              </a:solidFill>
              <a:miter/>
            </a:ln>
          </p:spPr>
          <p:style>
            <a:lnRef idx="0"/>
            <a:fillRef idx="0"/>
            <a:effectRef idx="0"/>
            <a:fontRef idx="minor"/>
          </p:style>
          <p:txBody>
            <a:bodyPr lIns="79200" rIns="79200" tIns="39600" bIns="39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mplifier</a:t>
              </a:r>
              <a:endParaRPr b="0" lang="en-US" sz="1000" spc="-1" strike="noStrike">
                <a:solidFill>
                  <a:srgbClr val="000000"/>
                </a:solidFill>
                <a:latin typeface="Arial"/>
              </a:endParaRPr>
            </a:p>
          </p:txBody>
        </p:sp>
        <p:sp>
          <p:nvSpPr>
            <p:cNvPr id="89" name=""/>
            <p:cNvSpPr/>
            <p:nvPr/>
          </p:nvSpPr>
          <p:spPr>
            <a:xfrm>
              <a:off x="5945040" y="2997360"/>
              <a:ext cx="1116000" cy="352440"/>
            </a:xfrm>
            <a:prstGeom prst="rect">
              <a:avLst/>
            </a:prstGeom>
            <a:solidFill>
              <a:srgbClr val="ffffff"/>
            </a:solidFill>
            <a:ln w="12600">
              <a:solidFill>
                <a:srgbClr val="000000"/>
              </a:solidFill>
              <a:miter/>
            </a:ln>
          </p:spPr>
          <p:style>
            <a:lnRef idx="0"/>
            <a:fillRef idx="0"/>
            <a:effectRef idx="0"/>
            <a:fontRef idx="minor"/>
          </p:style>
          <p:txBody>
            <a:bodyPr lIns="79200" rIns="79200" tIns="39600" bIns="39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PS Receiver</a:t>
              </a:r>
              <a:endParaRPr b="0" lang="en-US" sz="1000" spc="-1" strike="noStrike">
                <a:solidFill>
                  <a:srgbClr val="000000"/>
                </a:solidFill>
                <a:latin typeface="Arial"/>
              </a:endParaRPr>
            </a:p>
          </p:txBody>
        </p:sp>
        <p:sp>
          <p:nvSpPr>
            <p:cNvPr id="90" name=""/>
            <p:cNvSpPr/>
            <p:nvPr/>
          </p:nvSpPr>
          <p:spPr>
            <a:xfrm>
              <a:off x="4546440" y="2489040"/>
              <a:ext cx="1530360" cy="648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91" name=""/>
            <p:cNvSpPr/>
            <p:nvPr/>
          </p:nvSpPr>
          <p:spPr>
            <a:xfrm>
              <a:off x="4648320" y="1905120"/>
              <a:ext cx="1779480" cy="380880"/>
            </a:xfrm>
            <a:prstGeom prst="rect">
              <a:avLst/>
            </a:prstGeom>
            <a:solidFill>
              <a:srgbClr val="ffffff"/>
            </a:solidFill>
            <a:ln w="9360">
              <a:solidFill>
                <a:srgbClr val="ffffff"/>
              </a:solidFill>
              <a:miter/>
            </a:ln>
          </p:spPr>
          <p:style>
            <a:lnRef idx="0"/>
            <a:fillRef idx="0"/>
            <a:effectRef idx="0"/>
            <a:fontRef idx="minor"/>
          </p:style>
          <p:txBody>
            <a:bodyPr lIns="79200" rIns="79200" tIns="39600" bIns="39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paration Distance</a:t>
              </a:r>
              <a:endParaRPr b="0" lang="en-US" sz="1000" spc="-1" strike="noStrike">
                <a:solidFill>
                  <a:srgbClr val="000000"/>
                </a:solidFill>
                <a:latin typeface="Arial"/>
              </a:endParaRPr>
            </a:p>
          </p:txBody>
        </p:sp>
        <p:sp>
          <p:nvSpPr>
            <p:cNvPr id="92" name=""/>
            <p:cNvSpPr/>
            <p:nvPr/>
          </p:nvSpPr>
          <p:spPr>
            <a:xfrm>
              <a:off x="1625760" y="1854360"/>
              <a:ext cx="761760" cy="507960"/>
            </a:xfrm>
            <a:prstGeom prst="rect">
              <a:avLst/>
            </a:prstGeom>
            <a:solidFill>
              <a:srgbClr val="ffffff"/>
            </a:solidFill>
            <a:ln w="9360">
              <a:solidFill>
                <a:srgbClr val="ffffff"/>
              </a:solidFill>
              <a:miter/>
            </a:ln>
          </p:spPr>
          <p:style>
            <a:lnRef idx="0"/>
            <a:fillRef idx="0"/>
            <a:effectRef idx="0"/>
            <a:fontRef idx="minor"/>
          </p:style>
          <p:txBody>
            <a:bodyPr lIns="79200" rIns="79200" tIns="39600" bIns="39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ceive Antenna</a:t>
              </a:r>
              <a:endParaRPr b="0" lang="en-US" sz="1000" spc="-1" strike="noStrike">
                <a:solidFill>
                  <a:srgbClr val="000000"/>
                </a:solidFill>
                <a:latin typeface="Arial"/>
              </a:endParaRPr>
            </a:p>
          </p:txBody>
        </p:sp>
        <p:sp>
          <p:nvSpPr>
            <p:cNvPr id="93" name=""/>
            <p:cNvSpPr/>
            <p:nvPr/>
          </p:nvSpPr>
          <p:spPr>
            <a:xfrm>
              <a:off x="3581280" y="1905120"/>
              <a:ext cx="889200" cy="457200"/>
            </a:xfrm>
            <a:prstGeom prst="rect">
              <a:avLst/>
            </a:prstGeom>
            <a:solidFill>
              <a:srgbClr val="ffffff"/>
            </a:solidFill>
            <a:ln w="12600">
              <a:solidFill>
                <a:srgbClr val="ffffff"/>
              </a:solidFill>
              <a:miter/>
            </a:ln>
          </p:spPr>
          <p:style>
            <a:lnRef idx="0"/>
            <a:fillRef idx="0"/>
            <a:effectRef idx="0"/>
            <a:fontRef idx="minor"/>
          </p:style>
          <p:txBody>
            <a:bodyPr lIns="79200" rIns="79200" tIns="39600" bIns="39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Transmit Antenna</a:t>
              </a:r>
              <a:endParaRPr b="0" lang="en-US" sz="1000" spc="-1" strike="noStrike">
                <a:solidFill>
                  <a:srgbClr val="000000"/>
                </a:solidFill>
                <a:latin typeface="Arial"/>
              </a:endParaRPr>
            </a:p>
          </p:txBody>
        </p:sp>
      </p:grpSp>
      <p:sp>
        <p:nvSpPr>
          <p:cNvPr id="94" name=""/>
          <p:cNvSpPr/>
          <p:nvPr/>
        </p:nvSpPr>
        <p:spPr>
          <a:xfrm>
            <a:off x="1371600" y="4114800"/>
            <a:ext cx="3825720" cy="179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rameter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mplifier Gain:                      28 dB</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transmit antenna gain:    20 dB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ble Losses:                          0 dB</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PS Antenna Gain case 1:      0 dB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PS Antenna Gain case 2:   2.1 dBi</a:t>
            </a:r>
            <a:endParaRPr b="0" lang="en-US" sz="1600" spc="-1" strike="noStrike">
              <a:solidFill>
                <a:srgbClr val="000000"/>
              </a:solidFill>
              <a:latin typeface="Arial"/>
            </a:endParaRPr>
          </a:p>
        </p:txBody>
      </p:sp>
      <p:sp>
        <p:nvSpPr>
          <p:cNvPr id="95" name=""/>
          <p:cNvSpPr/>
          <p:nvPr/>
        </p:nvSpPr>
        <p:spPr>
          <a:xfrm>
            <a:off x="1386360" y="6019560"/>
            <a:ext cx="699156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ree Space Path Loss (dB) = 20 Log D (meters) + 20 Log F (MHz) -27.55</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81E6FEF9-E87E-470F-9AB3-15B0AE6366A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28600"/>
            <a:ext cx="8229600" cy="334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I ANALYSIS RESULTS CASE 1</a:t>
            </a:r>
            <a:endParaRPr b="0" lang="en-US" sz="2800" spc="-1" strike="noStrike">
              <a:solidFill>
                <a:srgbClr val="000000"/>
              </a:solidFill>
              <a:latin typeface="Arial"/>
            </a:endParaRPr>
          </a:p>
        </p:txBody>
      </p:sp>
      <p:sp>
        <p:nvSpPr>
          <p:cNvPr id="97" name=""/>
          <p:cNvSpPr/>
          <p:nvPr/>
        </p:nvSpPr>
        <p:spPr>
          <a:xfrm>
            <a:off x="914400" y="6400800"/>
            <a:ext cx="66452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Meter Ex: -130 dBm + Antenna gain (s) + Amp Gain – Free space Loss = -118.3 dB</a:t>
            </a:r>
            <a:endParaRPr b="0" lang="en-US" sz="1200" spc="-1" strike="noStrike">
              <a:solidFill>
                <a:srgbClr val="000000"/>
              </a:solidFill>
              <a:latin typeface="Arial"/>
            </a:endParaRPr>
          </a:p>
        </p:txBody>
      </p:sp>
      <p:graphicFrame>
        <p:nvGraphicFramePr>
          <p:cNvPr id="98" name=""/>
          <p:cNvGraphicFramePr/>
          <p:nvPr/>
        </p:nvGraphicFramePr>
        <p:xfrm>
          <a:off x="457200" y="1447920"/>
          <a:ext cx="8229600" cy="4735440"/>
        </p:xfrm>
        <a:graphic>
          <a:graphicData uri="http://schemas.openxmlformats.org/drawingml/2006/table">
            <a:tbl>
              <a:tblPr/>
              <a:tblGrid>
                <a:gridCol w="1201680"/>
                <a:gridCol w="1263600"/>
                <a:gridCol w="1047960"/>
                <a:gridCol w="873000"/>
                <a:gridCol w="1222560"/>
                <a:gridCol w="1573200"/>
                <a:gridCol w="1047600"/>
              </a:tblGrid>
              <a:tr h="1189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Distance Separ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Between GPS receiv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nd re-transmitte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Signal Strength of</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the re-radiate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signal at the GP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Receive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Re-transmitt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ntenna Gai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Receiver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ntenna Gai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Power Outpu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from Re-transmitt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out of the amplifier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before antenn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GPS Frequenc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L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Free Space Pa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Los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 mete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18.3  dBm</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0 dB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 dB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02 dBm</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575.42 MHz</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6.38 dB</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 meter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24.4 dBm</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0 dB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 dB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02 dBm</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575.42 MHz</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42.40 dB</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 meter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27.9 dBm</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0 dB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 dB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02 dBm</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575.42 MHz</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45.9  dB</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4 meter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30.4 dBm</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0 dB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 dB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02 dBm</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575.42 MHz</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48.4  dB</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5 meter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32.3 dBm</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0 dB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 dB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02 dBm</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575.42 MHz</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50.3  dB</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6 meter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33.9 dBm</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0 dB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 dB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02 dBm</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575.42 MHz</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51.9  dB</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7 meter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35.2 dBm</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0 dB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 dB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02 dBm</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575.42 MHz</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53.2  dB</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8 meter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36.4 dBm</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0 dB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 dB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02 dBm</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575.42 MHz</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54.4  dB</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9 meter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37.4 dBm</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0 dB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 dB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02 dBm</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575.42 MHz</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55.4  dB</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0 meter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38.3 dBm</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0 dB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 dB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02 dBm</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575.42 MHz</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56.3  dB</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1 meter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39.2 dBm</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0 dB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 dB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02 dBm</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575.42 MHz</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57.21 dB</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2 meter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39.9 dBm</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0 dB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 dB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02 dBm</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575.42 MHz</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57.96 dB</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3 meter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40.6 dBm</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0 dB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 dB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02 dBm</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575.42 MHz</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58.66 dB</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sldNum" idx="3"/>
          </p:nvPr>
        </p:nvSpPr>
        <p:spPr/>
        <p:txBody>
          <a:bodyPr/>
          <a:p>
            <a:fld id="{05809EC5-CA55-494A-A039-276D4CDF725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2280"/>
            <a:ext cx="82296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I ANALYSIS RESULTS CASE 2</a:t>
            </a:r>
            <a:endParaRPr b="0" lang="en-US" sz="2800" spc="-1" strike="noStrike">
              <a:solidFill>
                <a:srgbClr val="000000"/>
              </a:solidFill>
              <a:latin typeface="Arial"/>
            </a:endParaRPr>
          </a:p>
        </p:txBody>
      </p:sp>
      <p:graphicFrame>
        <p:nvGraphicFramePr>
          <p:cNvPr id="100" name=""/>
          <p:cNvGraphicFramePr/>
          <p:nvPr/>
        </p:nvGraphicFramePr>
        <p:xfrm>
          <a:off x="685800" y="685800"/>
          <a:ext cx="8001000" cy="5557680"/>
        </p:xfrm>
        <a:graphic>
          <a:graphicData uri="http://schemas.openxmlformats.org/drawingml/2006/table">
            <a:tbl>
              <a:tblPr/>
              <a:tblGrid>
                <a:gridCol w="1389240"/>
                <a:gridCol w="1288800"/>
                <a:gridCol w="968400"/>
                <a:gridCol w="965160"/>
                <a:gridCol w="1311480"/>
                <a:gridCol w="1000080"/>
                <a:gridCol w="1077840"/>
              </a:tblGrid>
              <a:tr h="703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Distance Separation</a:t>
                      </a: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Between GPS receiver</a:t>
                      </a: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and re-transmitter</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Signal Strength of</a:t>
                      </a: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the re-radiated</a:t>
                      </a: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signal at the GPS</a:t>
                      </a: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Receiver</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Re-ransmitter</a:t>
                      </a: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Antenna Gai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Receiver </a:t>
                      </a: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Antenna Gai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Power Output</a:t>
                      </a: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from Re-transmitter</a:t>
                      </a: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out of the amplifier </a:t>
                      </a: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before antenna)</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GPS frequency</a:t>
                      </a: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L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Free Space Path</a:t>
                      </a: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Los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1 meter</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110 dBm</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20 dBi</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2.1 dBi</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 96 dBm</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1575.42 MHz</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36.3 dBm</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2 meter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116.3 dBm</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20 dBi</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2.1 dBi</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 96 dBm</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1575.42 MHz</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42.4 dBm</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3 meter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119.8 dBm</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20 dBi</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2.1 dBi</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 96 dBm</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1575.42 MHz</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45.9 dBm</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4 meter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122.3 dBm</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20 dBi</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2.1 dBi</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 96 dBm</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1575.42 MHz</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48.4 dBm</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5 meter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124.2 dBm</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20 dBi</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2.1 dBi</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 96 dBm</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1575.42 MHz</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50.3 dBm</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6 meter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125.8 dBm</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20 dBi</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2.1 dBi</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 96 dBm</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1575.42 MHz</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51.9 dBm</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7 meter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127.1 dBm</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20 dBi</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2.1 dBi</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 96 dBm</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1575.42 MHz</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53.2 dBm</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8 meter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128.3 dBm</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20 dBi</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2.1 dBi</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 96 dBm</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1575.42 MHz</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54.4 dBm</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9 meter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129.3 dBm</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20 dBi</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2.1 dBi</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 96 dBm</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1575.42 MHz</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55.4 dBm</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10 meter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130.2 dBm</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20 dBi</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2.1 dBi</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 96 dBm</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1575.42 MHz</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56.3 dBm</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11 meter</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131.1 dBm</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20 dBi</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2.1 dBi</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 96 dBm</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1575.42 MHz</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57.2 dBm</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12 meter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131.8 dBm</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20 dBi</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2.1 dBi</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 96 dBm</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1575.42 MHz</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57.9 dBm</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13 meter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132.5 dBm</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20 dBi</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2.1 dBi</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 96 dBm</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1575.42 MHz</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58.6 dBm</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14 meter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133.2 dBm</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20 dBi</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2.1 dBi</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 96 dBm</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1575.42 MHz</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59.3 dBm</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15 meter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133.8 dBm</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20 dBi</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2.1 dBi</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 96 dBm</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1575.42 MHz</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59.9 dBm</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16 meter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134.3 dBm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20 dBi</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2.1 dBi</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 96 dBm</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1575.42 MHz</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60.4 dBm</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17 meter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134.9 dBm</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20 dBi</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2.1 dBi</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 96 dBm</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1575.42 MHz</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60.9 dBm</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18 meter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135.4 dBm</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20 dBi</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2.1 dBi</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 96 dBm</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1575.42 MHz</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61.4 dBm</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19 meter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135.8 dBm</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20 dBi</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2.1 dBi</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 96 dBm</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1575.42 MHz</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61.9 dBm</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20 meter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136.3 dBm</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20 dBi</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2.1 dBi</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 96 dBm</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1575.42 MHz</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62.4 dBm</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sldNum" idx="3"/>
          </p:nvPr>
        </p:nvSpPr>
        <p:spPr/>
        <p:txBody>
          <a:bodyPr/>
          <a:p>
            <a:fld id="{AC50B153-5F1A-469C-87E9-81F248736D6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680"/>
            <a:ext cx="822960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I ANALYSIS RESULTS CASE 2 CONTINUED</a:t>
            </a:r>
            <a:endParaRPr b="0" lang="en-US" sz="2800" spc="-1" strike="noStrike">
              <a:solidFill>
                <a:srgbClr val="000000"/>
              </a:solidFill>
              <a:latin typeface="Arial"/>
            </a:endParaRPr>
          </a:p>
        </p:txBody>
      </p:sp>
      <p:graphicFrame>
        <p:nvGraphicFramePr>
          <p:cNvPr id="102" name=""/>
          <p:cNvGraphicFramePr/>
          <p:nvPr/>
        </p:nvGraphicFramePr>
        <p:xfrm>
          <a:off x="457200" y="1752480"/>
          <a:ext cx="8229600" cy="4525920"/>
        </p:xfrm>
        <a:graphic>
          <a:graphicData uri="http://schemas.openxmlformats.org/drawingml/2006/table">
            <a:tbl>
              <a:tblPr/>
              <a:tblGrid>
                <a:gridCol w="1349280"/>
                <a:gridCol w="1335240"/>
                <a:gridCol w="1092240"/>
                <a:gridCol w="1019160"/>
                <a:gridCol w="1260360"/>
                <a:gridCol w="1201680"/>
                <a:gridCol w="971640"/>
              </a:tblGrid>
              <a:tr h="1189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Distance Separ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Between GPS receiv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nd re-transmitte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Signal Strength of</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the re-radiate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signal at the GP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Receive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Re-transmitt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ntenna Gai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Receiver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ntenna Gai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Power Outpu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from Re-transmitt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out of the amplifier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before antenn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GPS Frequenc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L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Free Space Pa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Los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1 meter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36.73 dBm</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0 dB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1 dB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96 dBm</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575.42 MHz</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62.83 dBm</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2 meter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37.13 dBm</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0 dB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1 dB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96 dBm</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575.42 MHz</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63.23 dBm</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80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3 meter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37.52 dBm</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0 dB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1 dB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96 dBm</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575.42 MHz</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63.62 dBm</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11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4 meter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37.88 dBm</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0 dB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1 dB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96 dBm</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575.42 MHz</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63.98 dBm</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13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5 meter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38.24 dBm</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0 dB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1 dB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96 dBm</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575.42 MHz</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64.34 dBm</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13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6 meter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38.58 dBm</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0 dB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1 dB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96 dBm</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575.42 MHz</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64.68 dBm</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13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7 meter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38.91dBm</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0 dB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1 dB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96 dBm</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575.42 MHz</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65.01 dBm</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13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8 meter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39.22 dBm</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0 dB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1 dB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96 dBm</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575.42 MHz</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65.32 dBm</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13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9 meter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39.53 dBm</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0 dB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1 dB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96 dBm</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575.42 MHz</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65.63 dBm</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13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0 meter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39.82 dBm</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0 dB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1 dB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96 dBm</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575.42 MHz</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65.92 dBm</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1 meter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40.11 dBm</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0 dB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1 dB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96 dBm</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575.42 MHz</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66.21 dBm</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sldNum" idx="3"/>
          </p:nvPr>
        </p:nvSpPr>
        <p:spPr/>
        <p:txBody>
          <a:bodyPr/>
          <a:p>
            <a:fld id="{214458B3-58DE-4D36-B040-C401B46D246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OMMENDATIONS</a:t>
            </a:r>
            <a:endParaRPr b="0" lang="en-US" sz="3200" spc="-1" strike="noStrike">
              <a:solidFill>
                <a:srgbClr val="0000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y the existing NTIA regulations for utilization of the GPS Re-radiating device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e to current regulations, resellers of the GPS Re-radiators are hesitant to sell GPS Re-radiating equipment to DoD element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ssure resellers of the GPS Re-radiators that purchase by DoD forces for OCONUS use is allowed under the current regulatio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 allowances for DoD to purchase GPS Re-radiators for its use Nationally for test and training on military bases and installations. </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047E556A-3039-4043-9CAE-0880D2E9E2A2}"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PS Re-radiators</a:t>
            </a:r>
            <a:endParaRPr b="0" lang="en-US" sz="3200" spc="-1" strike="noStrike">
              <a:solidFill>
                <a:srgbClr val="000000"/>
              </a:solidFill>
              <a:latin typeface="Arial"/>
            </a:endParaRPr>
          </a:p>
        </p:txBody>
      </p:sp>
      <p:sp>
        <p:nvSpPr>
          <p:cNvPr id="44"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rpose: To examine use of GPS Re-radiators for military applications.</a:t>
            </a:r>
            <a:endParaRPr b="0" lang="en-US" sz="2400" spc="-1" strike="noStrike">
              <a:solidFill>
                <a:srgbClr val="000000"/>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PS Re-radiators receive the GPS signal and retransmit it to users who otherwise could not be able to get a lock on the GPS signal due to superstructure blockag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RAC has generated regulations for the use of these devices by the Government agencies which includes the military.</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litary has unique requirements for utilization of the GPS Re-radiating kit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8FC8650E-1CBD-4C59-A8F2-E476CFE4D1E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resent Army Operations in IRAQ</a:t>
            </a:r>
            <a:r>
              <a:rPr b="0" lang="en-US" sz="4400" spc="-1" strike="noStrike">
                <a:solidFill>
                  <a:srgbClr val="000000"/>
                </a:solidFill>
                <a:latin typeface="Arial"/>
              </a:rPr>
              <a:t> </a:t>
            </a:r>
            <a:endParaRPr b="0" lang="en-US" sz="4400" spc="-1" strike="noStrike">
              <a:solidFill>
                <a:srgbClr val="000000"/>
              </a:solidFill>
              <a:latin typeface="Arial"/>
            </a:endParaRPr>
          </a:p>
        </p:txBody>
      </p:sp>
      <p:pic>
        <p:nvPicPr>
          <p:cNvPr id="46" name="" descr="Spcs. Adrian Lopez and Dustin Bovee, from 2nd Battalion, 70th Armor Regiment, 3rd Brigade, 1st Armored Division, kick open the door to a compound in Mushada, Iraq, where vehicle-borne improvised explosive device manufacturing was suspected.   This photo appeared on www.army.mil.">
            <a:hlinkClick r:id="rId1"/>
          </p:cNvPr>
          <p:cNvPicPr/>
          <p:nvPr/>
        </p:nvPicPr>
        <p:blipFill>
          <a:blip r:embed="rId2"/>
          <a:stretch/>
        </p:blipFill>
        <p:spPr>
          <a:xfrm>
            <a:off x="914400" y="1828800"/>
            <a:ext cx="2238480" cy="1704960"/>
          </a:xfrm>
          <a:prstGeom prst="rect">
            <a:avLst/>
          </a:prstGeom>
          <a:ln w="0">
            <a:noFill/>
          </a:ln>
        </p:spPr>
      </p:pic>
      <p:pic>
        <p:nvPicPr>
          <p:cNvPr id="47" name="" descr="Capt. Carson, from the Civil Affairs Office of the 155th Brigade Combat Team, briefs his Soldiers on the route their convoy of Humvees will take to inspect construction progress of the Mishkub Police Station near Najaf, Iraq.    This photo appeared on www.army.mil.">
            <a:hlinkClick r:id="rId3"/>
          </p:cNvPr>
          <p:cNvPicPr/>
          <p:nvPr/>
        </p:nvPicPr>
        <p:blipFill>
          <a:blip r:embed="rId4"/>
          <a:stretch/>
        </p:blipFill>
        <p:spPr>
          <a:xfrm>
            <a:off x="3657600" y="1828800"/>
            <a:ext cx="2238480" cy="1733400"/>
          </a:xfrm>
          <a:prstGeom prst="rect">
            <a:avLst/>
          </a:prstGeom>
          <a:ln w="0">
            <a:noFill/>
          </a:ln>
        </p:spPr>
      </p:pic>
      <p:pic>
        <p:nvPicPr>
          <p:cNvPr id="48" name="" descr="Soldiers from the 42nd Infantry Division slow down for the ducks while patrolling Mosul, Iraq.  This photo appeared on www.army.mil.">
            <a:hlinkClick r:id="rId5"/>
          </p:cNvPr>
          <p:cNvPicPr/>
          <p:nvPr/>
        </p:nvPicPr>
        <p:blipFill>
          <a:blip r:embed="rId6"/>
          <a:stretch/>
        </p:blipFill>
        <p:spPr>
          <a:xfrm>
            <a:off x="6477120" y="1841400"/>
            <a:ext cx="2057400" cy="1733760"/>
          </a:xfrm>
          <a:prstGeom prst="rect">
            <a:avLst/>
          </a:prstGeom>
          <a:ln w="0">
            <a:noFill/>
          </a:ln>
        </p:spPr>
      </p:pic>
      <p:pic>
        <p:nvPicPr>
          <p:cNvPr id="49" name="" descr="Soldiers in their Bradley Fighting Vehicle, from the 15th Infantry Regiment, 3rd Infantry Division, support Iraqi troops as they search for insurgents near Samarra, Iraq.    This photo appeared on www.army.mil.">
            <a:hlinkClick r:id="rId7"/>
          </p:cNvPr>
          <p:cNvPicPr/>
          <p:nvPr/>
        </p:nvPicPr>
        <p:blipFill>
          <a:blip r:embed="rId8"/>
          <a:stretch/>
        </p:blipFill>
        <p:spPr>
          <a:xfrm>
            <a:off x="3657600" y="4267080"/>
            <a:ext cx="2238480" cy="1800360"/>
          </a:xfrm>
          <a:prstGeom prst="rect">
            <a:avLst/>
          </a:prstGeom>
          <a:ln w="0">
            <a:noFill/>
          </a:ln>
        </p:spPr>
      </p:pic>
      <p:pic>
        <p:nvPicPr>
          <p:cNvPr id="50" name="" descr="A Soldier from 3rd Brigade, 3rd Infantry Division, returns to Forward Operating Base Warhorse in his M2A2 Bradley Fighting Vehicle after a mission near Baqubah, Iraq.   This photo appeared on www.army.mil.">
            <a:hlinkClick r:id="rId9"/>
          </p:cNvPr>
          <p:cNvPicPr/>
          <p:nvPr/>
        </p:nvPicPr>
        <p:blipFill>
          <a:blip r:embed="rId10"/>
          <a:stretch/>
        </p:blipFill>
        <p:spPr>
          <a:xfrm>
            <a:off x="6477120" y="4267080"/>
            <a:ext cx="2238120" cy="1752840"/>
          </a:xfrm>
          <a:prstGeom prst="rect">
            <a:avLst/>
          </a:prstGeom>
          <a:ln w="0">
            <a:noFill/>
          </a:ln>
        </p:spPr>
      </p:pic>
      <p:pic>
        <p:nvPicPr>
          <p:cNvPr id="51" name="" descr="A Soldier from the 116th Engineers Battalion, 163rd Mechanized Infantry, searches a storage area for weapons in Kirkuk, Iraq. The structure has no doors.   This photo appeared on www.army.mil.">
            <a:hlinkClick r:id="rId11"/>
          </p:cNvPr>
          <p:cNvPicPr/>
          <p:nvPr/>
        </p:nvPicPr>
        <p:blipFill>
          <a:blip r:embed="rId12"/>
          <a:stretch/>
        </p:blipFill>
        <p:spPr>
          <a:xfrm>
            <a:off x="990720" y="4267080"/>
            <a:ext cx="2238120" cy="1847880"/>
          </a:xfrm>
          <a:prstGeom prst="rect">
            <a:avLst/>
          </a:prstGeom>
          <a:ln w="0">
            <a:noFill/>
          </a:ln>
        </p:spPr>
      </p:pic>
      <p:sp>
        <p:nvSpPr>
          <p:cNvPr id="3" name="PlaceHolder 2"/>
          <p:cNvSpPr>
            <a:spLocks noGrp="1"/>
          </p:cNvSpPr>
          <p:nvPr>
            <p:ph type="sldNum" idx="3"/>
          </p:nvPr>
        </p:nvSpPr>
        <p:spPr/>
        <p:txBody>
          <a:bodyPr/>
          <a:p>
            <a:fld id="{2D8DE559-EC5B-4A02-80A8-C98804EFD3D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3200" spc="-1" strike="noStrike">
                <a:solidFill>
                  <a:srgbClr val="000000"/>
                </a:solidFill>
                <a:latin typeface="Arial"/>
              </a:rPr>
              <a:t>Army Applications of the GPS </a:t>
            </a:r>
            <a:br>
              <a:rPr sz="3200"/>
            </a:br>
            <a:r>
              <a:rPr b="0" lang="en-US" sz="3200" spc="-1" strike="noStrike">
                <a:solidFill>
                  <a:srgbClr val="000000"/>
                </a:solidFill>
                <a:latin typeface="Arial"/>
              </a:rPr>
              <a:t>Re-radiators</a:t>
            </a:r>
            <a:endParaRPr b="0" lang="en-US" sz="3200" spc="-1" strike="noStrike">
              <a:solidFill>
                <a:srgbClr val="000000"/>
              </a:solidFill>
              <a:latin typeface="Arial"/>
            </a:endParaRPr>
          </a:p>
        </p:txBody>
      </p:sp>
      <p:sp>
        <p:nvSpPr>
          <p:cNvPr id="53" name="PlaceHolder 2"/>
          <p:cNvSpPr>
            <a:spLocks noGrp="1"/>
          </p:cNvSpPr>
          <p:nvPr>
            <p:ph/>
          </p:nvPr>
        </p:nvSpPr>
        <p:spPr>
          <a:xfrm>
            <a:off x="457200" y="1523520"/>
            <a:ext cx="8229600" cy="312444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my troops are engaged in the present day conflict in IRAQ.</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ition Location is necessary for successful mission executio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oops are being transported in the armored vehicles such as Bradley Fighting Vehicle and Stryker Brigade Combat Vehicl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ecial Operations Forces utilization in transport vehicles and cargo planes (C-130).</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dback from users includes a request for utilization aboard the fixed wing and rotary wing aircraf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ignificant number of Humvees are also armor plated.</a:t>
            </a:r>
            <a:endParaRPr b="0" lang="en-US" sz="2000" spc="-1" strike="noStrike">
              <a:solidFill>
                <a:srgbClr val="000000"/>
              </a:solidFill>
              <a:latin typeface="Arial"/>
            </a:endParaRPr>
          </a:p>
        </p:txBody>
      </p:sp>
      <p:pic>
        <p:nvPicPr>
          <p:cNvPr id="54" name="" descr="Staff Sergant David Pasqiuno, from the 11th Armored Cavalry Regiment, leaps off his Bradley Fighting Vehicle to help set up a roadblock along Alternate Supply Route Christy, Iraq.      This photo appeared on www.army.mil."/>
          <p:cNvPicPr/>
          <p:nvPr/>
        </p:nvPicPr>
        <p:blipFill>
          <a:blip r:embed="rId1"/>
          <a:stretch/>
        </p:blipFill>
        <p:spPr>
          <a:xfrm>
            <a:off x="5943600" y="4800600"/>
            <a:ext cx="2238480" cy="1752480"/>
          </a:xfrm>
          <a:prstGeom prst="rect">
            <a:avLst/>
          </a:prstGeom>
          <a:ln w="0">
            <a:noFill/>
          </a:ln>
        </p:spPr>
      </p:pic>
      <p:pic>
        <p:nvPicPr>
          <p:cNvPr id="55" name="" descr="A Soldier from the 1st Armored Division leans out of his M-113 Armored Personnel Carrier to share his MRE (Meals, Ready-to-Eat) with a boy near Mushada, Iraq.   This photo appeared on www.army.mil."/>
          <p:cNvPicPr/>
          <p:nvPr/>
        </p:nvPicPr>
        <p:blipFill>
          <a:blip r:embed="rId2"/>
          <a:stretch/>
        </p:blipFill>
        <p:spPr>
          <a:xfrm>
            <a:off x="609480" y="4800600"/>
            <a:ext cx="2238480" cy="1771560"/>
          </a:xfrm>
          <a:prstGeom prst="rect">
            <a:avLst/>
          </a:prstGeom>
          <a:ln w="0">
            <a:noFill/>
          </a:ln>
        </p:spPr>
      </p:pic>
      <p:pic>
        <p:nvPicPr>
          <p:cNvPr id="56" name="" descr="Soldiers from 1st Battalion, 23rd Infantry Regiment, 2nd Infantry Division, exit their Stryker Infantry Carrier Vehicle to counterattack an “enemy” ambush during Foal Eagle Exercise in South Korea.   This photo appeared on www.army.mil."/>
          <p:cNvPicPr/>
          <p:nvPr/>
        </p:nvPicPr>
        <p:blipFill>
          <a:blip r:embed="rId3"/>
          <a:stretch/>
        </p:blipFill>
        <p:spPr>
          <a:xfrm>
            <a:off x="3276720" y="4800600"/>
            <a:ext cx="2238120" cy="1762200"/>
          </a:xfrm>
          <a:prstGeom prst="rect">
            <a:avLst/>
          </a:prstGeom>
          <a:ln w="0">
            <a:noFill/>
          </a:ln>
        </p:spPr>
      </p:pic>
      <p:sp>
        <p:nvSpPr>
          <p:cNvPr id="4" name="PlaceHolder 3"/>
          <p:cNvSpPr>
            <a:spLocks noGrp="1"/>
          </p:cNvSpPr>
          <p:nvPr>
            <p:ph type="sldNum" idx="3"/>
          </p:nvPr>
        </p:nvSpPr>
        <p:spPr/>
        <p:txBody>
          <a:bodyPr/>
          <a:p>
            <a:fld id="{F1C8B8C0-982C-49C9-AB47-0C68A48EA19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eption of the GPS Signal</a:t>
            </a:r>
            <a:endParaRPr b="0" lang="en-US" sz="3200" spc="-1" strike="noStrike">
              <a:solidFill>
                <a:srgbClr val="000000"/>
              </a:solidFill>
              <a:latin typeface="Arial"/>
            </a:endParaRPr>
          </a:p>
        </p:txBody>
      </p:sp>
      <p:sp>
        <p:nvSpPr>
          <p:cNvPr id="58" name="PlaceHolder 2"/>
          <p:cNvSpPr>
            <a:spLocks noGrp="1"/>
          </p:cNvSpPr>
          <p:nvPr>
            <p:ph/>
          </p:nvPr>
        </p:nvSpPr>
        <p:spPr>
          <a:xfrm>
            <a:off x="457200" y="2590560"/>
            <a:ext cx="8229600" cy="29718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PS Signal is unable to propagate inside armored vehicle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ur troops are unable to receive the GPS signal inside Bradley Combat Vehicles, Humvees, or Stryker Brigade Combat Vehicle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lution: Use the GPS Re-radiator to obtain a GPS signal. Troops can tolerate certain GPS signal error.</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764BB1D3-7021-4A3D-A770-4314CD5A7D8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eedback from the troops</a:t>
            </a:r>
            <a:endParaRPr b="0" lang="en-US" sz="32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r. Ryberg,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elieve me, this is one of the BEST products I have ever seen for a military application!!!!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 bought one for myself about 2 years ago and used the HE** out of it!!! it was the ONLY thing on earth that allowed GPS's (garmin's and PSN-11 and other GPS's) to work inside the vehicle (armored and non armored).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 went to Iraq without one (in april 2004) and drove around with my hand out the window of a armored humvee... doesnt seem like that makes much sense, but in order to know where I was going, I had to have line of sight.  Now since Nov 2004 (when i purchased mine) with the VORTECH reradiator, I can leave the 3" thick glass closed and not have to worry about getting my arm blown off by a improvised explosive device sitting on the side of the road or getting shot in the face.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Justin P. Corder TSgt, USAF-TACP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8326BD09-EB43-476E-9F00-258580C1083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AT STAKE</a:t>
            </a:r>
            <a:endParaRPr b="0" lang="en-US" sz="32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D’s ability to successfully carry out its mission.</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ur troops ability to know their location.</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ltimately, people’s lives.</a:t>
            </a:r>
            <a:endParaRPr b="0" lang="en-US" sz="2000" spc="-1" strike="noStrike">
              <a:solidFill>
                <a:srgbClr val="000000"/>
              </a:solidFill>
              <a:latin typeface="Arial"/>
            </a:endParaRPr>
          </a:p>
        </p:txBody>
      </p:sp>
      <p:pic>
        <p:nvPicPr>
          <p:cNvPr id="63" name="" descr=""/>
          <p:cNvPicPr/>
          <p:nvPr/>
        </p:nvPicPr>
        <p:blipFill>
          <a:blip r:embed="rId1"/>
          <a:stretch/>
        </p:blipFill>
        <p:spPr>
          <a:xfrm>
            <a:off x="685800" y="4419720"/>
            <a:ext cx="2514600" cy="1904760"/>
          </a:xfrm>
          <a:prstGeom prst="rect">
            <a:avLst/>
          </a:prstGeom>
          <a:ln w="0">
            <a:noFill/>
          </a:ln>
        </p:spPr>
      </p:pic>
      <p:pic>
        <p:nvPicPr>
          <p:cNvPr id="64" name="" descr=""/>
          <p:cNvPicPr/>
          <p:nvPr/>
        </p:nvPicPr>
        <p:blipFill>
          <a:blip r:embed="rId2"/>
          <a:stretch/>
        </p:blipFill>
        <p:spPr>
          <a:xfrm>
            <a:off x="6248520" y="4419720"/>
            <a:ext cx="2361960" cy="1866960"/>
          </a:xfrm>
          <a:prstGeom prst="rect">
            <a:avLst/>
          </a:prstGeom>
          <a:ln w="0">
            <a:noFill/>
          </a:ln>
        </p:spPr>
      </p:pic>
      <p:pic>
        <p:nvPicPr>
          <p:cNvPr id="65" name="" descr="      Sgt. Michael Saina, from 4th Battalion, 1st Field Artillery Regiment, 3rd Brigade, 1st Armored Division, patrols a road in Taji, Iraq. Saina, a resident of Fagatogo, American Samoa, is currently serving his third tour in Iraq.    This photo appeared on www.army.mil."/>
          <p:cNvPicPr/>
          <p:nvPr/>
        </p:nvPicPr>
        <p:blipFill>
          <a:blip r:embed="rId3"/>
          <a:stretch/>
        </p:blipFill>
        <p:spPr>
          <a:xfrm>
            <a:off x="3581280" y="4419720"/>
            <a:ext cx="2362320" cy="1869840"/>
          </a:xfrm>
          <a:prstGeom prst="rect">
            <a:avLst/>
          </a:prstGeom>
          <a:ln w="0">
            <a:noFill/>
          </a:ln>
        </p:spPr>
      </p:pic>
      <p:sp>
        <p:nvSpPr>
          <p:cNvPr id="4" name="PlaceHolder 3"/>
          <p:cNvSpPr>
            <a:spLocks noGrp="1"/>
          </p:cNvSpPr>
          <p:nvPr>
            <p:ph type="sldNum" idx="3"/>
          </p:nvPr>
        </p:nvSpPr>
        <p:spPr/>
        <p:txBody>
          <a:bodyPr/>
          <a:p>
            <a:fld id="{593CBD22-A667-4FCD-A80D-849FE44EAF5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MO ANALYSIS</a:t>
            </a:r>
            <a:endParaRPr b="0" lang="en-US" sz="32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my Spectrum Management Office performed EMI analysis to determine a separation distance between GPS Re-radiators and GPS Receiv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tilized L1 frequency of 1575.42 MHz.</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se 1 based on the GPS signal of -130 dBm.</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se 2 based on the GPS signal of -124 dBm.</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7A600B67-63FB-4EFC-AB88-BC425A29FF5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RONOS GPS Re-radiating UNIT RA-46</a:t>
            </a:r>
            <a:endParaRPr b="0" lang="en-US" sz="3200" spc="-1" strike="noStrike">
              <a:solidFill>
                <a:srgbClr val="000000"/>
              </a:solidFill>
              <a:latin typeface="Arial"/>
            </a:endParaRPr>
          </a:p>
        </p:txBody>
      </p:sp>
      <p:pic>
        <p:nvPicPr>
          <p:cNvPr id="69" name="" descr=""/>
          <p:cNvPicPr/>
          <p:nvPr/>
        </p:nvPicPr>
        <p:blipFill>
          <a:blip r:embed="rId1"/>
          <a:stretch/>
        </p:blipFill>
        <p:spPr>
          <a:xfrm>
            <a:off x="304920" y="1523880"/>
            <a:ext cx="3821040" cy="4114800"/>
          </a:xfrm>
          <a:prstGeom prst="rect">
            <a:avLst/>
          </a:prstGeom>
          <a:ln w="0">
            <a:noFill/>
          </a:ln>
        </p:spPr>
      </p:pic>
      <p:pic>
        <p:nvPicPr>
          <p:cNvPr id="70" name="" descr=""/>
          <p:cNvPicPr/>
          <p:nvPr/>
        </p:nvPicPr>
        <p:blipFill>
          <a:blip r:embed="rId2"/>
          <a:stretch/>
        </p:blipFill>
        <p:spPr>
          <a:xfrm>
            <a:off x="4952880" y="1447920"/>
            <a:ext cx="3657600" cy="2557440"/>
          </a:xfrm>
          <a:prstGeom prst="rect">
            <a:avLst/>
          </a:prstGeom>
          <a:ln w="0">
            <a:noFill/>
          </a:ln>
        </p:spPr>
      </p:pic>
      <p:pic>
        <p:nvPicPr>
          <p:cNvPr id="71" name="" descr=""/>
          <p:cNvPicPr/>
          <p:nvPr/>
        </p:nvPicPr>
        <p:blipFill>
          <a:blip r:embed="rId3"/>
          <a:stretch/>
        </p:blipFill>
        <p:spPr>
          <a:xfrm>
            <a:off x="4800600" y="4114800"/>
            <a:ext cx="3124080" cy="2484360"/>
          </a:xfrm>
          <a:prstGeom prst="rect">
            <a:avLst/>
          </a:prstGeom>
          <a:ln w="0">
            <a:noFill/>
          </a:ln>
        </p:spPr>
      </p:pic>
      <p:sp>
        <p:nvSpPr>
          <p:cNvPr id="3" name="PlaceHolder 2"/>
          <p:cNvSpPr>
            <a:spLocks noGrp="1"/>
          </p:cNvSpPr>
          <p:nvPr>
            <p:ph type="sldNum" idx="3"/>
          </p:nvPr>
        </p:nvSpPr>
        <p:spPr/>
        <p:txBody>
          <a:bodyPr/>
          <a:p>
            <a:fld id="{7FF98532-1EF4-4637-A37D-AB13CE530F1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25T13:00:12Z</dcterms:created>
  <dc:creator>Windows XP Professional SOE</dc:creator>
  <dc:description/>
  <dc:language>en-US</dc:language>
  <cp:lastModifiedBy>Windows XP Professional SOE</cp:lastModifiedBy>
  <dcterms:modified xsi:type="dcterms:W3CDTF">2005-10-27T16:22:42Z</dcterms:modified>
  <cp:revision>37</cp:revision>
  <dc:subject/>
  <dc:title>GPS Re-radiators</dc:title>
</cp:coreProperties>
</file>