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893-BC90-47C9-A818-8A65F0D3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F04-D6EA-4821-A9B7-B0C28DD3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4E4-CE0B-40F8-9595-6F5E28AD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2FE-4BA0-40FA-9671-5A8E4452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913-7DDA-4C07-BC88-D959E157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D7C-8F67-4801-9888-B7CD4BED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EE7-B7E5-49BF-ADD9-C33F9FAD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402-C70E-4160-98CA-43AFD10B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4E1-A7B6-4764-B801-8AADC8DB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2D6-1E40-4B7D-BA4E-B83789EB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B0C-4304-48AA-AE7B-4C532306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549-F444-464C-96B3-A024CFF1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C20-8EE0-46B8-AC0B-3758ACD61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05920" y="0"/>
            <a:ext cx="838080" cy="735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8080" cy="7351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1143000" y="2057400"/>
            <a:ext cx="67057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/>
                </a:solidFill>
                <a:latin typeface="Arial Black"/>
              </a:rPr>
              <a:t>PRELIMINARY</a:t>
            </a:r>
            <a:endParaRPr b="0" lang="en-US" sz="2400" spc="1" strike="noStrike">
              <a:ln w="0">
                <a:noFill/>
              </a:ln>
              <a:solidFill>
                <a:srgbClr val="eaeaea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AA Observing Systems Architecture (NOSA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Analysis Update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4920" y="4038120"/>
            <a:ext cx="6629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ic Mi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ng NOAA Observing Systems Archit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8,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A92-2E71-4C20-9320-63339BF042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 of Goal-specific Analys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of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distribution of selected systems across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bble Char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y Go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B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8A1-6ACF-4BE7-BDD5-9A70F484EB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of Goal Requirements and Systems Evaluated by Go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981080"/>
          <a:ext cx="7924680" cy="396252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523880"/>
                <a:gridCol w="1374840"/>
                <a:gridCol w="159696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and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&amp; Transpor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3C1-56D6-4E2B-BE0B-4936B3BA48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liminary Top 20 Most “Valued” Current Observ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3240" y="632448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low-average score for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91320" y="213336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DIS-POES/DM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DIS-GOES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4560" y="2133720"/>
            <a:ext cx="2971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BUO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C-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ASOS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S-NWL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S-SWMP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TS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MFS-Protected Resource Surve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COOP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AR-TAO/PIR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RAWINSONDE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2133720"/>
            <a:ext cx="3048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AR-ETL-RAWINS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MDC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3 Aircraft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MSS- Living Marine Resources &amp; Ecosystems Surveys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R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7366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Satelli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elli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A2B-9D25-419E-869A-443854CD67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 Current Observ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s by Go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49520"/>
          <a:ext cx="8077320" cy="4708440"/>
        </p:xfrm>
        <a:graphic>
          <a:graphicData uri="http://schemas.openxmlformats.org/drawingml/2006/table">
            <a:tbl>
              <a:tblPr/>
              <a:tblGrid>
                <a:gridCol w="2019240"/>
                <a:gridCol w="2021040"/>
                <a:gridCol w="2019240"/>
                <a:gridCol w="201780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and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and Transpor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CREW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, PO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, PO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SWM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TAO/PIR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RAWINSON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, PO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Protected Resource Surv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ean reference stations 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ETL-Rawinsonde-MW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AA/CMDL Baseline Atmospheric Observator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MDC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TS (Coastal Observation Technology Syste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RAWINSON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Living Marine Resource and Ecosystem Surv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OP (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Keys Netwo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O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NW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DART Buo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192-38B1-4F78-92C0-4CF7DF01E6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36600" y="1841400"/>
            <a:ext cx="650088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36600" y="1841400"/>
            <a:ext cx="6500880" cy="338616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33440" y="4583160"/>
            <a:ext cx="130320" cy="64440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58880" y="5078520"/>
            <a:ext cx="130320" cy="1490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4320" y="4727520"/>
            <a:ext cx="130320" cy="5000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9760" y="5184720"/>
            <a:ext cx="130320" cy="428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33760" y="5187960"/>
            <a:ext cx="129960" cy="3960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59200" y="5035680"/>
            <a:ext cx="129960" cy="19188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84640" y="4989600"/>
            <a:ext cx="129960" cy="23796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08280" y="5129280"/>
            <a:ext cx="131760" cy="9828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3720" y="5192640"/>
            <a:ext cx="130320" cy="3492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9160" y="5143680"/>
            <a:ext cx="130320" cy="8388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4600" y="4821120"/>
            <a:ext cx="130320" cy="4064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84920" y="5060880"/>
            <a:ext cx="129960" cy="16668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08880" y="5213520"/>
            <a:ext cx="130320" cy="140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33440" y="3944880"/>
            <a:ext cx="130320" cy="63828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8880" y="4896000"/>
            <a:ext cx="130320" cy="1825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4320" y="4394160"/>
            <a:ext cx="130320" cy="33336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9760" y="5040360"/>
            <a:ext cx="130320" cy="14436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9200" y="4964040"/>
            <a:ext cx="129960" cy="7164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4640" y="4756320"/>
            <a:ext cx="129960" cy="23328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08280" y="4799160"/>
            <a:ext cx="131760" cy="3301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33720" y="5180040"/>
            <a:ext cx="130320" cy="1260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59160" y="5075280"/>
            <a:ext cx="130320" cy="6840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08600" y="4930920"/>
            <a:ext cx="129960" cy="29664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925880"/>
            <a:ext cx="129960" cy="13500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84880" y="5180040"/>
            <a:ext cx="130320" cy="475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08880" y="4968720"/>
            <a:ext cx="130320" cy="24480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33440" y="3610080"/>
            <a:ext cx="130320" cy="33480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58880" y="4214880"/>
            <a:ext cx="130320" cy="6811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4320" y="4262400"/>
            <a:ext cx="130320" cy="13176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9760" y="4748040"/>
            <a:ext cx="130320" cy="2923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33760" y="4024440"/>
            <a:ext cx="129960" cy="11635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9200" y="4770360"/>
            <a:ext cx="129960" cy="19368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84640" y="4694400"/>
            <a:ext cx="129960" cy="619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3720" y="4308480"/>
            <a:ext cx="130320" cy="87156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59160" y="4862520"/>
            <a:ext cx="130320" cy="21276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84600" y="4600440"/>
            <a:ext cx="130320" cy="22068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34040" y="4506840"/>
            <a:ext cx="129960" cy="7207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59480" y="4511520"/>
            <a:ext cx="129960" cy="71604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84920" y="4896000"/>
            <a:ext cx="129960" cy="2988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08560" y="4524480"/>
            <a:ext cx="130320" cy="70308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4000" y="4587840"/>
            <a:ext cx="130320" cy="6397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4600440"/>
            <a:ext cx="131760" cy="6271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84880" y="4998960"/>
            <a:ext cx="130320" cy="18108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3440" y="2327400"/>
            <a:ext cx="130320" cy="128268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8880" y="2728800"/>
            <a:ext cx="130320" cy="148608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4320" y="2924280"/>
            <a:ext cx="130320" cy="133812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09760" y="3736800"/>
            <a:ext cx="130320" cy="101124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33760" y="3909960"/>
            <a:ext cx="129960" cy="11448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59200" y="3970440"/>
            <a:ext cx="129960" cy="79992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84640" y="4138560"/>
            <a:ext cx="129960" cy="55584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08280" y="4143240"/>
            <a:ext cx="131760" cy="65592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33720" y="4156200"/>
            <a:ext cx="130320" cy="15228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59160" y="4338720"/>
            <a:ext cx="130320" cy="52380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4600" y="4430880"/>
            <a:ext cx="130320" cy="16956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08600" y="4498920"/>
            <a:ext cx="129960" cy="43200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84920" y="4516560"/>
            <a:ext cx="129960" cy="37944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84880" y="4618080"/>
            <a:ext cx="130320" cy="38088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4618080"/>
            <a:ext cx="130320" cy="35064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36600" y="1841400"/>
            <a:ext cx="1800" cy="338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1680" y="52275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1680" y="48038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1680" y="43797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01680" y="39574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01680" y="35337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01680" y="31100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01680" y="26877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01680" y="22636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01680" y="18414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36600" y="5227560"/>
            <a:ext cx="650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23660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56060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8748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21148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3692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6056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18780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1144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83688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6088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48776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1176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3720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46084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78808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11172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43716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76116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08660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41204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73748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3960" y="685800"/>
            <a:ext cx="5081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 Distribution by 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720" y="515952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5400" y="473544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5400" y="431172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5400" y="388944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5400" y="346536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5400" y="304164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5400" y="261936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5400" y="219564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7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5400" y="177336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8900000">
            <a:off x="674640" y="5570280"/>
            <a:ext cx="77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ESDIS-NPO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8900000">
            <a:off x="1213200" y="5475240"/>
            <a:ext cx="54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BU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8900000">
            <a:off x="1429560" y="5527800"/>
            <a:ext cx="65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ESDIS-G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8900000">
            <a:off x="1816200" y="5495760"/>
            <a:ext cx="59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C-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8900000">
            <a:off x="2090160" y="5517720"/>
            <a:ext cx="649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MFS-C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8900000">
            <a:off x="2577600" y="5453280"/>
            <a:ext cx="45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8900000">
            <a:off x="2851200" y="5475240"/>
            <a:ext cx="52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A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8900000">
            <a:off x="2815920" y="5621040"/>
            <a:ext cx="94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RAWINSO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8900000">
            <a:off x="3479760" y="5476680"/>
            <a:ext cx="55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S-SW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8900000">
            <a:off x="3742200" y="5502240"/>
            <a:ext cx="630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S-NWL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8900000">
            <a:off x="3889440" y="5581440"/>
            <a:ext cx="83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AR-TAO/PIR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8900000">
            <a:off x="3744360" y="5783040"/>
            <a:ext cx="1364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AR-ETL-Rawinsonde-MW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8900000">
            <a:off x="3842280" y="5864400"/>
            <a:ext cx="1651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MFS-Protected Resource Surve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8900000">
            <a:off x="5402880" y="5356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O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8900000">
            <a:off x="5434560" y="5476680"/>
            <a:ext cx="54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CO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8900000">
            <a:off x="6006600" y="5376600"/>
            <a:ext cx="25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8900000">
            <a:off x="4925880" y="5957280"/>
            <a:ext cx="1899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MFS-Resource and Ecosystem Surve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8900000">
            <a:off x="6147000" y="5597640"/>
            <a:ext cx="832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eaKeys 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8900000">
            <a:off x="6716520" y="5486400"/>
            <a:ext cx="56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S-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8900000">
            <a:off x="6942240" y="5527800"/>
            <a:ext cx="68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MDC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08760" y="3213000"/>
            <a:ext cx="1124280" cy="63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5480" y="3263760"/>
            <a:ext cx="68040" cy="6840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38800" y="323064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Weather&amp;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5480" y="3424320"/>
            <a:ext cx="68040" cy="6804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0520" y="339084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Eco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5480" y="3583080"/>
            <a:ext cx="68040" cy="6984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47080" y="3549600"/>
            <a:ext cx="86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mmerce&amp;Tr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45480" y="3743280"/>
            <a:ext cx="68040" cy="698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7480" y="3710160"/>
            <a:ext cx="36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m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734-FA6D-492A-A958-F41B5EF381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Systems: 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23080" cy="457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911240" y="1295280"/>
            <a:ext cx="53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WS-Buoy Valuable to Multipl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67B-B7E9-45D5-AFBD-F06A07FAA6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liminary Top New/Novel Systems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UAV 10,000 flights/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Active Radar Satell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R-FSL GPS water vapor sen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air UA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4956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ystems w/ new capabilities—not upgrades of current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717-8932-42BF-96A7-538EED0C20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p Analysis by Goal—Top Expansion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1600200"/>
          <a:ext cx="7772400" cy="435780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1752480"/>
                <a:gridCol w="1828800"/>
              </a:tblGrid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and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and Transpor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TAO/PIR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TAO/PIR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TAO/PIR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CREW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ean reference stations 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rosol Monitoring Network (CMDL Baseline Observatori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RAWINSON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National Observer Pro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DL Column Spectral Aerosol Optical Dept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NW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A-Marine Optical Buoy (MOBY)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AA/CMDL Baseline Observator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NW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HYD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AA/CMDL Ozone Profile Netwo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Protected Resource Surv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AA/CMDL Water Vapor Soundin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AA ocean mapp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NS&amp;T Mussel W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ETL-LIDAR-MOP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S-NC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beam/backscatter sonar - shipbo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MDC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E4B-07E3-4D7C-84A7-0114717F64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p Analysis by Goal—Top Upgrade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85800" y="1981080"/>
          <a:ext cx="7772400" cy="4571640"/>
        </p:xfrm>
        <a:graphic>
          <a:graphicData uri="http://schemas.openxmlformats.org/drawingml/2006/table">
            <a:tbl>
              <a:tblPr/>
              <a:tblGrid>
                <a:gridCol w="1943280"/>
                <a:gridCol w="1944360"/>
                <a:gridCol w="1943280"/>
                <a:gridCol w="1941480"/>
              </a:tblGrid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and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and Transpor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NPO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-R, NPO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-R, NPO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-R, NPO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S-HYD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Volunteer Observing Shi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O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MDC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n Br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ESDIS-GO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win Ot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RM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136-151E-48B3-B843-A8113A4EF6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p Analysis—Top Combined Expansion and Upgrade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1752480"/>
          <a:ext cx="8305560" cy="4044960"/>
        </p:xfrm>
        <a:graphic>
          <a:graphicData uri="http://schemas.openxmlformats.org/drawingml/2006/table">
            <a:tbl>
              <a:tblPr/>
              <a:tblGrid>
                <a:gridCol w="2076480"/>
                <a:gridCol w="2077920"/>
                <a:gridCol w="2076480"/>
                <a:gridCol w="2074680"/>
              </a:tblGrid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and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and Transpor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Sanctuary Monitor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ll Towers Carbon Cycle Atmospheric Observing System (North America) (3 tower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O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ght Aircraft Rental-Climate Air Ch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DL Carbon Cycle Global Cooperative Air Sampling Netwo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oustic Doppler profiler - fixed instal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AA/CMDL Surface Ozone Monitoring Netwo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Sanctuary Surv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CO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Water column sampling 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200-32B1-4F71-90BB-44C10691C4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A Investment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851120"/>
            <a:ext cx="21337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lue of Observing System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137120"/>
            <a:ext cx="2133720" cy="11912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st of Observ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2460600"/>
            <a:ext cx="2133720" cy="94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832200"/>
            <a:ext cx="213372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st 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3146400"/>
            <a:ext cx="3124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ing System Investmen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7" idx="3"/>
            <a:endCxn id="49" idx="1"/>
          </p:cNvCxnSpPr>
          <p:nvPr/>
        </p:nvCxnSpPr>
        <p:spPr>
          <a:xfrm>
            <a:off x="2743200" y="2449080"/>
            <a:ext cx="381600" cy="483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8" idx="3"/>
            <a:endCxn id="50" idx="1"/>
          </p:cNvCxnSpPr>
          <p:nvPr/>
        </p:nvCxnSpPr>
        <p:spPr>
          <a:xfrm flipV="1">
            <a:off x="2743200" y="4247640"/>
            <a:ext cx="381600" cy="48816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3"/>
          </p:cNvCxnSpPr>
          <p:nvPr/>
        </p:nvCxnSpPr>
        <p:spPr>
          <a:xfrm>
            <a:off x="5257440" y="2932200"/>
            <a:ext cx="3056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/>
          <p:nvPr/>
        </p:nvCxnSpPr>
        <p:spPr>
          <a:xfrm flipV="1">
            <a:off x="5257440" y="3862080"/>
            <a:ext cx="3056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209680" y="563868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Value is considered to be the contribution an observing system makes toward satisfying a requi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FCB-D068-4D5F-9B62-AFCD0DCD0E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liminary Ranking of All Current and Future Satellite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data (from non-NOAA satelli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DIS-POES, GO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DIS-GOES-R, NPO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DIS-Active Satellite Rad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4 or similar or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or similar or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-based wind LIDAR (pol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S occul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e-sitter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ellite altimetry derived geo vectors (current speed &amp; direc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AE2-F73B-4227-9FE4-06568C27F6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Current Non-Satellite Observing System Options (1 of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quire Data Externall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BUO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C-M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CREW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VO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ASO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RAWINSOND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WM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WL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TAO/PIRAT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Rawinsonde-MW1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Protected Resource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V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COO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Living Marine Resource and Ecosystem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Keys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POR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MDCA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DART Buo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beam and backscatter sonar - shipboar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er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National Observer Pro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ter column sampling st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deo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era sl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S&amp;T Mussel Wat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SDIS-USCR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NEXR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 Marine Atmospheric Boundary Layer Obs Syste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obal drifting buo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color photography - fil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color photography - digita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n Brow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xed-station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beam and backscatter sonar - launch mount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cean reference stations (3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hyperspectral imagery, digital - CASI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ill photography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ect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craft w/LI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ers, tow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RL-SURFR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A-Marine Optical Buoy (MOBY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win Ot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Marine Recreational Fisheries Statistics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Baseline Atmospheric Observator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V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multispectral image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ve/tide recorders - fixed install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oustic Doppler profiler - fixed install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LIDAR-MOPA-os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ivity, temperature, depth (CTD) cas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M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OP (33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anctuary Monitor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CREW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HYDR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 mete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eriodic Visual Sru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STRATU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OML-Global Ocean Observing System (GOO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FSL GPS water vapor senso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829-3705-4D4E-A264-20BD807537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Current Non-Satellite Observing System Options (2 of 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borne Ozone UV-Differential absorption lidar (DIAL) Leased Aircraf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OI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RL-ISI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oustic Doppler profiler - shipboar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 Living Marine Resource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wed side scan son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Stratospheric Aerosol Lidar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 Visual Reef Census 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de-scan son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tion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anctuary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Hydrographic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449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Fish LI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zone Profiling Atmospheric Lidar (OPA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osol Monitoring Network (at 5 CMDL Baseline Observatories + 4 additional site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DAR ocean sensors - SeaSonde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eld biological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ned submersibl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er Demonstration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era bait stations - in-waterDrop camer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-Tethered Aerostat Radar Syste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ployed temperature record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NOHRSC Airborne Snow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Commercial Stat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LT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ecipitation Profiling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CRAI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ive acoustic monito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ef development histo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GSLN-UHSLC (170 gauge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 (ET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diometer casts from shi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DL Column Spectral Aerosol Optical Depth (AOD) (sub-set of CMDL Aerosol Pgm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phelometry/beam attenu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L-Tropical Pacific Wind Profil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con Flights w/ Dropsond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board PAR sens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board spectroradiome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Column Ozone (Dobson)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ward and downward pointing video cameras - shipboar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MEL-FOCI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 5mm Scanning Radiome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ophone data logge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 - Protected Resource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 CREW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cchi dis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ect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AEL (355 nm aerosol lidar) 1 Instru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locarbon and other Atmospheric Trace Species Network (5 components)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CMDL-ST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S/XB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-Cooperative Agency Profil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-NOAA Profiler Network (NPN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otography from towed div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w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Surface Ozone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rface-tracked drifiting buo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Wind Profiling Radar VHF (A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xed-station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F radar national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 research vesse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1FD-4B74-4340-8282-F6DD83D341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Current Non-Satellite Observing System Options (3 of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FN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Profiling Radar-Alaska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eriodic Fixed Sation Sampl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sampl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 Towers Carbon Cycle Atmospheric Observing System (North America) (3 towers)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Ozone Profile (Ozonesonde)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ws-ne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 Estuarine Living Marine Resources (ELMR) Pro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 Biogeography Program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ational Coral Reef Ecosystem Monitoring Program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LIDAR-HRDL-os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WP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CO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 ground-based atmospheric IR emission interferome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Surface Record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dar Wind Profilers During Intensiv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ght Aircraft Rental-Climate Air Che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DL Carbon Cycle Global Cooperative Air Sampl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hyperspectral imagery-digita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ward and downward pointing video cameras - camera sl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 ground-based dual-channel microwave (22 &amp; 31 GHz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craft track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DP National Atmospheric Deposition Pro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Coastal Assessment Partnership Pro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Bottom sediment tra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water column sample st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otography - digita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eat WOCE carbon invento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mpling St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rface LI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Windprofiler-RB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oustic tagg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D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aminant monitoring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Land-based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 ARC and LARC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 Stream Gaug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Wind Profiling Radar UHF (A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otography - fil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nic Anemomet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Balloon-borne Water Vapor Sou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Profiler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C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Fish net pen visual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nteer Observing Shi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 ta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hipboard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ETL-SO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SO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craft Observ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Aerial surveysNWS-LARC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Repor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gging stud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oustical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er transec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 ocean mapp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p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F radar R&amp;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nteer fish coun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LIDAR (Ground-based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8AB-F2DC-4239-8290-FDDCA0E1E6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-Satellite Observing System Options (1 of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BUO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C-M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CREW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TAO/PIRAT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COO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VO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ASO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RAWINSOND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WM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WL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POR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V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Protected Resource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MDCA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Living Marine Resource and Ecosystem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Keys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National Observer Pro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UAV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DART Buo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beam and backscatter sonar - shipboar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ter column sampling st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S&amp;T Mussel Wat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n Brow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er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era sl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deo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SDIS-USCR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NEXR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obal drifting buo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V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A-Marine Optical Buoy (MOBY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win Ot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beam and backscatter sonar - launch mount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color photography - fil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cean reference stations (3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anctuary Monitor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color photography - digita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rgo (3000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xed-station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ill photography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Baseline Atmospheric Observator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ers, tow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craft w/LI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RL-SURFR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oustic Doppler profiler - fixed install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M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Marine Recreational Fisheries Statistics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ect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ve/tide recorders - fixed install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LIDAR-MOPA-os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ivity, temperature, depth (CTD) cas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HYDR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STRATU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OP (33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anctuary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 mete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RL-ISI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 Living Marine Resource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osol Monitoring Network (at 5 CMDL Baseline Observatories + 4 additional site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borne Ozone UV-Differential absorption lidar (DIAL) Leased Aircraf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2B9-2C60-49E2-838A-CFB80F39E3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t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Satellite Observing System Options (2 of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DAR ocean sensors - SeaSonde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Stratospheric Aerosol Lidar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wed side scan son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Fish LI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tion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DL Column Spectral Aerosol Optical Depth (AOD) (sub-set of CMDL Aerosol Pgm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OML-Global Ocean Observing System (GOO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zone Profiling Atmospheric Lidar (OPA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449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FSL GPS water vapor senso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eld biological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tair UAV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era bait station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rop camer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NOHRSC Airborne Snow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diometer casts from shi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ployed temperature record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 (ET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ive acoustic monito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board PAR sens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 Towers Carbon Cycle Atmospheric Observing System (North America) (3 towers)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MEL-FOCI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con Flights w/ Dropsond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ef development histo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board spectroradiome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phelometry/beam attenu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Commercial Stat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LT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ecipitation Profiling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ward and downward pointing video cameras - shipboar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ophone data logge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AEL (355 nm aerosol lidar) 1 Instru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DL Carbon Cycle Global Cooperative Air Sampl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ght Aircraft Rental-Climate Air Che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Ozone Profile (Ozonesonde)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Surface Ozone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 CREW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cchi dis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Column Ozone (Dobson)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sampl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ect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nteer Observing Shi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otography from towed div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S/XB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Balloon-borne Water Vapor Sou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 ta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mote sensing technolog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xed-station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 ocean mapp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FN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-NOAA Profiler Network (NPN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carbon capability to moor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rhenious Interferometer 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und-based magnetic observato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und-based Neutron Monito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C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CO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 Marine Atmospheric Boundary Layer Obs Syste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eat WOCE carbon invento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Bottom sediment tra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Fish net pen visual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8D8-AE10-4CEB-BB96-430A56C791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-Satellite Observing System Options (3 of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AR-Bottom sediment tra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AR-Fish net pen visual surve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AR-water column sample st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S-Shipboard Surve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WS ARC and LAR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rface LIDA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gging stud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locarbon and other Atmospheric Trace Species Network (5 components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zone Sond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ky Arr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oustical surve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ver trans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7AA-60FA-4DFB-A732-63314AEA5D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Capability Improvements (Study Required)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Alphabetical Ord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GOES R (from GOES I-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GOES R P3I (from GOES 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NPOESS (from POES/DMS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COOP Modern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UAV 1000 flights/year w/Dropsondes (New Capabil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80060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of 29 capability improvements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increase of nearly 7% in number of observation measured (bread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increase of nearly 16% in value of contribution to measurement (dep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7E85-4D12-4698-8CA5-555E12E288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Combined Capacity and Capability Improvements (Study Required)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Alphabetical Ord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PORTS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Sanctuary Monitoring upgraded and expand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BUOY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C-MAN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25200" y="5029200"/>
            <a:ext cx="636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combined upgrades and expansions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ly 16% average increase in value in measuring 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ly 36% increase in number of types of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1A2-163A-424F-A279-5990FC19BE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562040"/>
            <a:ext cx="8596080" cy="49244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NOAA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554960" y="2927520"/>
            <a:ext cx="1360440" cy="2409120"/>
            <a:chOff x="7554960" y="2927520"/>
            <a:chExt cx="1360440" cy="2409120"/>
          </a:xfrm>
        </p:grpSpPr>
        <p:sp>
          <p:nvSpPr>
            <p:cNvPr id="258" name=""/>
            <p:cNvSpPr/>
            <p:nvPr/>
          </p:nvSpPr>
          <p:spPr>
            <a:xfrm>
              <a:off x="7967520" y="3390840"/>
              <a:ext cx="490680" cy="47952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53280" y="4708440"/>
              <a:ext cx="128880" cy="14616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54960" y="29275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 Observing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0120" y="48164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Observing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17000" y="393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733920" y="3943080"/>
            <a:ext cx="914400" cy="417960"/>
            <a:chOff x="3733920" y="3943080"/>
            <a:chExt cx="914400" cy="417960"/>
          </a:xfrm>
        </p:grpSpPr>
        <p:sp>
          <p:nvSpPr>
            <p:cNvPr id="264" name=""/>
            <p:cNvSpPr/>
            <p:nvPr/>
          </p:nvSpPr>
          <p:spPr>
            <a:xfrm>
              <a:off x="4114800" y="4114800"/>
              <a:ext cx="5335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733920" y="394308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809440" y="2517840"/>
            <a:ext cx="838440" cy="786960"/>
            <a:chOff x="2809440" y="2517840"/>
            <a:chExt cx="838440" cy="786960"/>
          </a:xfrm>
        </p:grpSpPr>
        <p:sp>
          <p:nvSpPr>
            <p:cNvPr id="267" name=""/>
            <p:cNvSpPr/>
            <p:nvPr/>
          </p:nvSpPr>
          <p:spPr>
            <a:xfrm>
              <a:off x="2809800" y="2517840"/>
              <a:ext cx="8380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O/Pir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809440" y="277164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048120" y="2867040"/>
            <a:ext cx="2371680" cy="790560"/>
            <a:chOff x="3048120" y="2867040"/>
            <a:chExt cx="2371680" cy="790560"/>
          </a:xfrm>
        </p:grpSpPr>
        <p:sp>
          <p:nvSpPr>
            <p:cNvPr id="270" name=""/>
            <p:cNvSpPr/>
            <p:nvPr/>
          </p:nvSpPr>
          <p:spPr>
            <a:xfrm>
              <a:off x="3743280" y="2867040"/>
              <a:ext cx="16765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tected Resource Surve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048120" y="312408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47560" y="3733920"/>
            <a:ext cx="790920" cy="1160640"/>
            <a:chOff x="3247560" y="3733920"/>
            <a:chExt cx="790920" cy="1160640"/>
          </a:xfrm>
        </p:grpSpPr>
        <p:sp>
          <p:nvSpPr>
            <p:cNvPr id="273" name=""/>
            <p:cNvSpPr/>
            <p:nvPr/>
          </p:nvSpPr>
          <p:spPr>
            <a:xfrm>
              <a:off x="3352680" y="4648320"/>
              <a:ext cx="6858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WL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247560" y="373392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47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1917720"/>
            <a:ext cx="457200" cy="304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5397480"/>
            <a:ext cx="45720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5232240"/>
            <a:ext cx="45720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415-488C-4FFB-B67B-C1D649AD63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ing Value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yed NOAA programs’ Priority-1 (Mission Critical) observing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 to add/subtract/modify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system Goal:  "important"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d current/planned/proposed observing systems that could contribute value toward satisfying each Priority-1 requi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assessed value of all relevant investment options in terms of satisfying its Priority-1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 to add/subtract/modify investment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E4A-926D-4CE3-8616-4BC57D0CDC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01680" y="1562040"/>
            <a:ext cx="8583480" cy="49071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NOAA Systems plus External Systems Used by NOA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554960" y="2927520"/>
            <a:ext cx="1360440" cy="2409120"/>
            <a:chOff x="7554960" y="2927520"/>
            <a:chExt cx="1360440" cy="2409120"/>
          </a:xfrm>
        </p:grpSpPr>
        <p:sp>
          <p:nvSpPr>
            <p:cNvPr id="282" name=""/>
            <p:cNvSpPr/>
            <p:nvPr/>
          </p:nvSpPr>
          <p:spPr>
            <a:xfrm>
              <a:off x="7967520" y="3390840"/>
              <a:ext cx="490680" cy="47952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53280" y="4708440"/>
              <a:ext cx="128880" cy="14616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4960" y="29275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 Observing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20120" y="48164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Observing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17000" y="393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133720" y="2523960"/>
            <a:ext cx="2286000" cy="1028880"/>
            <a:chOff x="2133720" y="2523960"/>
            <a:chExt cx="2286000" cy="1028880"/>
          </a:xfrm>
        </p:grpSpPr>
        <p:sp>
          <p:nvSpPr>
            <p:cNvPr id="288" name=""/>
            <p:cNvSpPr/>
            <p:nvPr/>
          </p:nvSpPr>
          <p:spPr>
            <a:xfrm>
              <a:off x="2819520" y="2523960"/>
              <a:ext cx="160020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SGS Stream Gau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PA Air Quality 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133720" y="301932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447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1917720"/>
            <a:ext cx="457200" cy="304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3880" y="5397480"/>
            <a:ext cx="45720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3880" y="5232240"/>
            <a:ext cx="45720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E1C-2B91-4ED1-AD90-3BAA006EC7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83480" cy="4864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plus Possible Future Systems: NOAA-w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554960" y="2927520"/>
            <a:ext cx="1360440" cy="2409120"/>
            <a:chOff x="7554960" y="2927520"/>
            <a:chExt cx="1360440" cy="2409120"/>
          </a:xfrm>
        </p:grpSpPr>
        <p:sp>
          <p:nvSpPr>
            <p:cNvPr id="297" name=""/>
            <p:cNvSpPr/>
            <p:nvPr/>
          </p:nvSpPr>
          <p:spPr>
            <a:xfrm>
              <a:off x="7967520" y="3390840"/>
              <a:ext cx="490680" cy="47952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53280" y="4708440"/>
              <a:ext cx="128880" cy="14616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54960" y="29275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 Observing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0120" y="48164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Observing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17000" y="393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67280" y="3581280"/>
            <a:ext cx="1143000" cy="1257840"/>
            <a:chOff x="5867280" y="3581280"/>
            <a:chExt cx="1143000" cy="1257840"/>
          </a:xfrm>
        </p:grpSpPr>
        <p:sp>
          <p:nvSpPr>
            <p:cNvPr id="303" name=""/>
            <p:cNvSpPr/>
            <p:nvPr/>
          </p:nvSpPr>
          <p:spPr>
            <a:xfrm>
              <a:off x="5867280" y="4191120"/>
              <a:ext cx="99072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OES/DMS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POE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POESS + P3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5943600" y="37339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400800" y="3581280"/>
              <a:ext cx="380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400800" y="3581280"/>
              <a:ext cx="6094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257800" y="2324160"/>
            <a:ext cx="990720" cy="1485720"/>
            <a:chOff x="5257800" y="2324160"/>
            <a:chExt cx="990720" cy="1485720"/>
          </a:xfrm>
        </p:grpSpPr>
        <p:sp>
          <p:nvSpPr>
            <p:cNvPr id="308" name=""/>
            <p:cNvSpPr/>
            <p:nvPr/>
          </p:nvSpPr>
          <p:spPr>
            <a:xfrm>
              <a:off x="5257800" y="2324160"/>
              <a:ext cx="91440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O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OES 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OES R + P3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257800" y="2971800"/>
              <a:ext cx="457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15000" y="29718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15000" y="29718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276720" y="3962160"/>
            <a:ext cx="838080" cy="1140480"/>
            <a:chOff x="3276720" y="3962160"/>
            <a:chExt cx="838080" cy="1140480"/>
          </a:xfrm>
        </p:grpSpPr>
        <p:sp>
          <p:nvSpPr>
            <p:cNvPr id="313" name=""/>
            <p:cNvSpPr/>
            <p:nvPr/>
          </p:nvSpPr>
          <p:spPr>
            <a:xfrm>
              <a:off x="3276720" y="4525920"/>
              <a:ext cx="761760" cy="5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O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odernized  COO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35049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657600" y="396216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962520" y="2179800"/>
            <a:ext cx="838080" cy="1172880"/>
            <a:chOff x="3962520" y="2179800"/>
            <a:chExt cx="838080" cy="1172880"/>
          </a:xfrm>
        </p:grpSpPr>
        <p:sp>
          <p:nvSpPr>
            <p:cNvPr id="317" name=""/>
            <p:cNvSpPr/>
            <p:nvPr/>
          </p:nvSpPr>
          <p:spPr>
            <a:xfrm>
              <a:off x="3962520" y="2179800"/>
              <a:ext cx="838080" cy="71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WS-BUO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WS-BUOY upgraded and expand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3400" y="289548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2895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971800" y="2408400"/>
            <a:ext cx="838080" cy="1401480"/>
            <a:chOff x="2971800" y="2408400"/>
            <a:chExt cx="838080" cy="1401480"/>
          </a:xfrm>
        </p:grpSpPr>
        <p:sp>
          <p:nvSpPr>
            <p:cNvPr id="321" name=""/>
            <p:cNvSpPr/>
            <p:nvPr/>
          </p:nvSpPr>
          <p:spPr>
            <a:xfrm>
              <a:off x="2971800" y="2408400"/>
              <a:ext cx="838080" cy="71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S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SOS upgraded and expand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29000" y="31240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9000" y="31240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62160" y="3429000"/>
            <a:ext cx="1143360" cy="1247400"/>
            <a:chOff x="3962160" y="3429000"/>
            <a:chExt cx="1143360" cy="1247400"/>
          </a:xfrm>
        </p:grpSpPr>
        <p:sp>
          <p:nvSpPr>
            <p:cNvPr id="325" name=""/>
            <p:cNvSpPr/>
            <p:nvPr/>
          </p:nvSpPr>
          <p:spPr>
            <a:xfrm>
              <a:off x="4267080" y="3962520"/>
              <a:ext cx="838440" cy="71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-M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-MAN upgraded and expand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3962160" y="358092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4114800" y="34290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447920" y="156060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1871640"/>
            <a:ext cx="457200" cy="304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326200"/>
            <a:ext cx="45720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5160960"/>
            <a:ext cx="45720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5BA-8919-4323-9267-9CD33A3D61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83480" cy="48643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plus Possible Future Systems: NOAA-w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554960" y="2927520"/>
            <a:ext cx="1360440" cy="2409120"/>
            <a:chOff x="7554960" y="2927520"/>
            <a:chExt cx="1360440" cy="2409120"/>
          </a:xfrm>
        </p:grpSpPr>
        <p:sp>
          <p:nvSpPr>
            <p:cNvPr id="335" name=""/>
            <p:cNvSpPr/>
            <p:nvPr/>
          </p:nvSpPr>
          <p:spPr>
            <a:xfrm>
              <a:off x="7967520" y="3390840"/>
              <a:ext cx="490680" cy="47952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53280" y="4708440"/>
              <a:ext cx="128880" cy="14616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54960" y="29275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 Observing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20120" y="48164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Observing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17000" y="393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80880" y="6095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have future systems move Up and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04920" y="3657600"/>
            <a:ext cx="152640" cy="152280"/>
          </a:xfrm>
          <a:prstGeom prst="donut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295280" y="3809880"/>
            <a:ext cx="990720" cy="398880"/>
            <a:chOff x="1295280" y="3809880"/>
            <a:chExt cx="990720" cy="398880"/>
          </a:xfrm>
        </p:grpSpPr>
        <p:sp>
          <p:nvSpPr>
            <p:cNvPr id="343" name=""/>
            <p:cNvSpPr/>
            <p:nvPr/>
          </p:nvSpPr>
          <p:spPr>
            <a:xfrm>
              <a:off x="1295280" y="3962520"/>
              <a:ext cx="990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urrent Ce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981080" y="380988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225520" y="3308400"/>
            <a:ext cx="152640" cy="152280"/>
          </a:xfrm>
          <a:prstGeom prst="donut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361960" y="2514600"/>
            <a:ext cx="1019520" cy="790560"/>
            <a:chOff x="2361960" y="2514600"/>
            <a:chExt cx="1019520" cy="790560"/>
          </a:xfrm>
        </p:grpSpPr>
        <p:sp>
          <p:nvSpPr>
            <p:cNvPr id="347" name=""/>
            <p:cNvSpPr/>
            <p:nvPr/>
          </p:nvSpPr>
          <p:spPr>
            <a:xfrm>
              <a:off x="2391120" y="2514600"/>
              <a:ext cx="99036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uture Ce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61960" y="277164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447920" y="156060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1871640"/>
            <a:ext cx="457200" cy="304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5326200"/>
            <a:ext cx="45720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3880" y="5160960"/>
            <a:ext cx="45720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4AE-D039-408E-BF7B-18E312D90E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Analysis:  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validation of survey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 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ure data accurately captur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Gap ana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 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gaps between requirements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SC Input to AGM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preliminary focus areas for Goal Team programming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 observation requirements coordination across Go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imina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nnecessa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redunda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cide on path: increase current system capacity versus improving current system capabil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cide on path: increase breadth versus depth of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/planned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 preliminary cost inf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 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 investment and life-cycle sustai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from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focus areas based on initial cost inf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 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investment recommend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 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F3C-681E-47A0-851B-45F7678ADE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066680" y="243828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CA1-44A2-4157-8941-AEAD5B2BE7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066680" y="243828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CC1-98D1-4656-B7A7-49F85670A2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liminary Result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line systems/options were evaluated in 2 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dth - The number of  different Priority-1 observing requirements a system contributes toward meas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average each baseline system contributes toward measuring 7.75 different Priority-1 requirements (environmental paramete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umber of Priority-1 requirements observed by each system ranges from 1 to 1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th - How valuable a contribution a system makes towards measuring each observation (on a scale of 1-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average each baseline system contributes a value of 5.6 towards measuring each Priority-1 requir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n value 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deviation 1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ystem was then “valued” by taking the product of its Breadth and Dep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D5B-DB4A-4880-A5F4-9D9548EADE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Observ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 different external systems/options were evaluated in 2 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dth - The number of  different observations a system contributes toward meas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average each baseline system contributes toward measuring 3 different observations (vice NOAA’s 7.7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 ranged from 1 to 16 observ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th - How valuable a contribution a system makes towards measuring each observation (on a scale of 1-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average each baseline system contributes a value of 6.2 (out of 10) towards measuring each observation (vice NOAA’s 5.6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n 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deviation 2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B4A-AC52-42E7-AF0F-DB9ACDFCB2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Priority-1 observing requirement each participant was invited to offer one or more “expanded” options (e.g. increase the number of platforms) for each baseline system that measures that requi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 gaps were then identified by taking the difference between the baseline value score and the expanded system value sc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nts indicated capacity gaps by scoring the baseline system at the lower end of the scale and their proposed expanded system at the higher end of the sc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5B8-0FA2-404B-994B-8E12327BCE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bility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Priority-1 observing requirement each participant was invited to offer one or more enhanced (e.g., add new instruments) and/or upgraded options for each baseline system that measures that requi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y gaps were then identified by taking the difference between the baseline value score and the enhanced/upgraded system value sc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nts indicated capability gaps by scoring the baseline system at the lower end of the scale and their proposed enhanced/upgraded system at the higher end of the sc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D23-D032-49F6-ACFD-6FD628C1CB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iority-1 (Mission Critical) Observing Requirement equally valuable to NO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ogram within each Goal equally valuable to that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Goal equally valuable to NO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B82-64E1-4B55-8093-F1B99968BB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liminary Top 10 Future System Improv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NPO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GOES 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GOES R P3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UAV 1000 flights/year w/Dropsondes (Ne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COOP Modern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RAWINSONDE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PORTS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BUOY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C-MAN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Sanctuary Monitoring upgraded and expand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332-F067-4395-BD2B-624636B116F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Capacity Improvements (Study Required)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Alphabetical Ord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FS-CREWS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FS-Protected Resource Surveys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AUV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NWLON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ROV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SWMP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ASOS expand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BUOY expand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C-MAN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RAWINSONDE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82040" y="5738760"/>
            <a:ext cx="512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ut 100 capacity expansions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increase in value of nearly 30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increase in number of observations of 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DD6-01D9-4145-A882-98BB588A13E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ly on Priority-1 (Mission Critical) Observing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solutions not studied in det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l weighting of all Requirements, Programs, and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ive but quantitative evaluations by Goal- designated representatives (internal to NOAA on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20E-7ABB-4F0C-82F8-B7BAF77E67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AA-Wide Gap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3520" y="29718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d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F8C-B1F5-4AD5-9DF5-C13ADA5C39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3840" y="17715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457200"/>
          <a:ext cx="7867440" cy="71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867440" cy="71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CF5-4BDE-4340-B3D2-5A6812DC4D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d Survey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60 Participants representing every Goal and the 26 programs/areas with observing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400 different investment options (current and future) were proposed and evaluated against over 400 specific Priority-1 observing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400 survey forms were administered encompassing about 5000 individual value assess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A0D-03E0-40A1-ADB5-6E0DEACF73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 of Goal-specific Analys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of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Requirements by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Observing System Options by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 Current Observing Options by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p Analysis by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sion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grade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Upgrade and Expand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C8A-3903-42CF-9A4A-F11A8326CD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3:50:47Z</dcterms:created>
  <dc:creator>wtilesto</dc:creator>
  <dc:description/>
  <dc:language>en-US</dc:language>
  <cp:lastModifiedBy>wtilesto</cp:lastModifiedBy>
  <dcterms:modified xsi:type="dcterms:W3CDTF">2004-07-27T14:22:49Z</dcterms:modified>
  <cp:revision>202</cp:revision>
  <dc:subject/>
  <dc:title>PowerPoint Presentation</dc:title>
</cp:coreProperties>
</file>