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078913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742-9754-4E7A-960A-320B4E96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32C-5DC7-40FD-A2DA-3E866E33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8A6-97A3-4B05-941E-7F2020CA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71A-EA1A-4FD8-958A-A752C56B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9F90-F582-45C8-957B-9D2B1F92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7A97-93BE-409D-A234-4113424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DC0-30C4-41EF-B54F-E0F31419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995E-42FA-4E19-8E6B-C19EADFE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FF43-E16F-49C4-BB52-2DF155D4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ACF3-0807-4351-890E-8E2E68B2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F3FF-A0EF-43CE-84D5-E47F8F5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A97-3600-4B51-8F18-5EE8D002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CA86-7264-42E5-ABCF-F1A6A73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4C25-BF31-49E6-964B-AA9A0957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0739-BFC2-41BD-9AB6-9C362E77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9C32-546B-4038-AE90-03C2E76B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94BF-A9A1-4280-9AE8-931E8A39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A10-A6CE-4BB2-8D55-2D32425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B19-697D-4047-8754-8413C759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799-6866-4933-8625-7DEDC322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CED-8FD6-4BFA-9424-F1FC0B1A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2F5-BAAE-40EA-9CFB-4517DDBF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5CB-AF91-46A7-A66B-E9BED608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254-A0E1-4F02-A9BF-C9688A6E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67480" y="667188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0360" y="647676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647676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A34E-4F61-4FD3-AD73-E25637FC3A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sdlogo-1inch" descr=""/>
          <p:cNvPicPr/>
          <p:nvPr/>
        </p:nvPicPr>
        <p:blipFill>
          <a:blip r:embed="rId2"/>
          <a:stretch/>
        </p:blipFill>
        <p:spPr>
          <a:xfrm>
            <a:off x="76320" y="6434280"/>
            <a:ext cx="630000" cy="390240"/>
          </a:xfrm>
          <a:prstGeom prst="rect">
            <a:avLst/>
          </a:prstGeom>
          <a:ln w="0">
            <a:noFill/>
          </a:ln>
        </p:spPr>
      </p:pic>
      <p:pic>
        <p:nvPicPr>
          <p:cNvPr id="6" name="TEXTURE" descr=""/>
          <p:cNvPicPr/>
          <p:nvPr/>
        </p:nvPicPr>
        <p:blipFill>
          <a:blip r:embed="rId3"/>
          <a:stretch/>
        </p:blipFill>
        <p:spPr>
          <a:xfrm>
            <a:off x="1370160" y="0"/>
            <a:ext cx="7773840" cy="228600"/>
          </a:xfrm>
          <a:prstGeom prst="rect">
            <a:avLst/>
          </a:prstGeom>
          <a:ln w="0">
            <a:noFill/>
          </a:ln>
        </p:spPr>
      </p:pic>
      <p:pic>
        <p:nvPicPr>
          <p:cNvPr id="7" name="TEXTUREbot" descr=""/>
          <p:cNvPicPr/>
          <p:nvPr/>
        </p:nvPicPr>
        <p:blipFill>
          <a:blip r:embed="rId4"/>
          <a:stretch/>
        </p:blipFill>
        <p:spPr>
          <a:xfrm>
            <a:off x="760320" y="6716880"/>
            <a:ext cx="6402600" cy="114120"/>
          </a:xfrm>
          <a:prstGeom prst="rect">
            <a:avLst/>
          </a:prstGeom>
          <a:ln w="0">
            <a:noFill/>
          </a:ln>
        </p:spPr>
      </p:pic>
      <p:pic>
        <p:nvPicPr>
          <p:cNvPr id="8" name="Logo-B96" descr=""/>
          <p:cNvPicPr/>
          <p:nvPr/>
        </p:nvPicPr>
        <p:blipFill>
          <a:blip r:embed="rId5"/>
          <a:stretch/>
        </p:blipFill>
        <p:spPr>
          <a:xfrm>
            <a:off x="76320" y="30240"/>
            <a:ext cx="1066680" cy="6555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40440" y="6477120"/>
            <a:ext cx="33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a r t h   S c i e n c e s   D i v i s i o 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3C5D-F317-496F-876A-D62EB85FC4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2120" y="609480"/>
            <a:ext cx="7794360" cy="1371600"/>
            <a:chOff x="762120" y="609480"/>
            <a:chExt cx="7794360" cy="1371600"/>
          </a:xfrm>
        </p:grpSpPr>
        <p:pic>
          <p:nvPicPr>
            <p:cNvPr id="51" name="esdlogo-1inch" descr=""/>
            <p:cNvPicPr/>
            <p:nvPr/>
          </p:nvPicPr>
          <p:blipFill>
            <a:blip r:embed="rId2"/>
            <a:stretch/>
          </p:blipFill>
          <p:spPr>
            <a:xfrm>
              <a:off x="8077320" y="1584000"/>
              <a:ext cx="4572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URE" descr=""/>
            <p:cNvPicPr/>
            <p:nvPr/>
          </p:nvPicPr>
          <p:blipFill>
            <a:blip r:embed="rId3"/>
            <a:stretch/>
          </p:blipFill>
          <p:spPr>
            <a:xfrm>
              <a:off x="762120" y="609480"/>
              <a:ext cx="77738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UREbot" descr=""/>
            <p:cNvPicPr/>
            <p:nvPr/>
          </p:nvPicPr>
          <p:blipFill>
            <a:blip r:embed="rId4"/>
            <a:stretch/>
          </p:blipFill>
          <p:spPr>
            <a:xfrm>
              <a:off x="2154240" y="1866600"/>
              <a:ext cx="640224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Logo-B96" descr=""/>
            <p:cNvPicPr/>
            <p:nvPr/>
          </p:nvPicPr>
          <p:blipFill>
            <a:blip r:embed="rId5"/>
            <a:stretch/>
          </p:blipFill>
          <p:spPr>
            <a:xfrm>
              <a:off x="762120" y="1150560"/>
              <a:ext cx="13525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045160" y="1626840"/>
              <a:ext cx="335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a r t h   S c i e n c e s   D i v i s i o 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TEXTURE" descr=""/>
            <p:cNvPicPr/>
            <p:nvPr/>
          </p:nvPicPr>
          <p:blipFill>
            <a:blip r:embed="rId6"/>
            <a:stretch/>
          </p:blipFill>
          <p:spPr>
            <a:xfrm>
              <a:off x="762120" y="838080"/>
              <a:ext cx="777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059920" y="1142640"/>
              <a:ext cx="59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wrence Berkeley National Labora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SEPP:  How it can be your friend in the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rick Dob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SEPP 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by LBNL ESD for all field-related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of ha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resources and cont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, PPE, and risk-reducing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of environmental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clearances and per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ard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-specific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e, physical, chemical, and bi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-specific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(e.g., off-road, boat, aircra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environment (e.g., confined space, du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(e.g., electrical, laser, high 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(e.g., radiation source, NO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s (e.g., chemic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rgency Resour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location of emergency responders near field area (addresses, phone numbers, and ma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/clinic/ambulanc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e/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emergency respons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contacts (lab and fami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means of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phone or satellite phone (LBNL Telephone Services can provide you with satellite telephone for use worldw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and Hazard M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training required for all field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id, CPR, Fire Extingu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first aid kits can be checked out from LBNL Medica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dditional training based on identified hazards (make sure training is upd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PE required for saf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safe work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on-site safety briefings prior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al Protection and Permi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otential hazards posed to environment by work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damage and mitigation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all needed permits and clearances prior to conduct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owner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per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SEPP is What You Make of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 OSSEPP as needed to reflect changes in work activities an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SEPP belongs to all project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EH&amp;S staff to obtain guidance on hazard identification and mi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your work with safety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0:29:40Z</dcterms:created>
  <dc:creator>Preferred Customer</dc:creator>
  <dc:description/>
  <dc:language>en-US</dc:language>
  <cp:lastModifiedBy>PFDobson</cp:lastModifiedBy>
  <cp:lastPrinted>2004-02-02T17:20:36Z</cp:lastPrinted>
  <dcterms:modified xsi:type="dcterms:W3CDTF">2006-02-03T21:09:41Z</dcterms:modified>
  <cp:revision>49</cp:revision>
  <dc:subject/>
  <dc:title>Yellowstone as a Natural Analog for Yucca Mountain</dc:title>
</cp:coreProperties>
</file>