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63F0-E678-450B-BCBA-1078ED288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DD3A-2A04-451F-A99E-64583F131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55A7-5F3B-4BD0-9336-31015E1F8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4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168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6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4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168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1027-FA1E-41D8-9546-65132FECA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660760" y="369720"/>
            <a:ext cx="590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A4B7-6D5D-4864-9C3F-A344BC82E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4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168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4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168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A58F-EFCC-4004-9FE9-C72F7A0AE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8A98-D6D3-4067-980F-C53D1CF39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2C84-9936-4043-80A7-E799DBF64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660760" y="369720"/>
            <a:ext cx="590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0EF7-D952-4D4E-87A7-B167BCED6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1A2F-4490-4922-92E2-C35568E60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90FA-8FBC-4668-A5AB-7B29F40B2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A422-93C0-4615-845F-48A362304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78240" y="166680"/>
            <a:ext cx="20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1640" y="6213600"/>
            <a:ext cx="19051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zf: </a:t>
            </a:r>
            <a:fld id="{B5EC8121-ED3D-46F1-A13A-1D7B3612CBA5}" type="slidenum">
              <a:rPr b="1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36520" y="230040"/>
            <a:ext cx="855720" cy="7448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266760" y="5835600"/>
            <a:ext cx="700200" cy="781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35720" y="193680"/>
            <a:ext cx="14450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ace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t Propulsion Laborato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sadena, Califor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metblue" descr=""/>
          <p:cNvPicPr/>
          <p:nvPr/>
        </p:nvPicPr>
        <p:blipFill>
          <a:blip r:embed="rId5"/>
          <a:stretch/>
        </p:blipFill>
        <p:spPr>
          <a:xfrm>
            <a:off x="0" y="1023840"/>
            <a:ext cx="9144000" cy="42840"/>
          </a:xfrm>
          <a:prstGeom prst="rect">
            <a:avLst/>
          </a:prstGeom>
          <a:ln w="0">
            <a:noFill/>
          </a:ln>
        </p:spPr>
      </p:pic>
      <p:pic>
        <p:nvPicPr>
          <p:cNvPr id="8" name="lmetblue" descr=""/>
          <p:cNvPicPr/>
          <p:nvPr/>
        </p:nvPicPr>
        <p:blipFill>
          <a:blip r:embed="rId6"/>
          <a:stretch/>
        </p:blipFill>
        <p:spPr>
          <a:xfrm>
            <a:off x="874800" y="6154560"/>
            <a:ext cx="7583400" cy="43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84240" y="6248520"/>
            <a:ext cx="358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IRS Science Team – March 30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78240" y="166680"/>
            <a:ext cx="20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6520" y="230040"/>
            <a:ext cx="855720" cy="74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6760" y="5835600"/>
            <a:ext cx="700200" cy="78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35720" y="193680"/>
            <a:ext cx="14450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ace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t Propulsion Laborato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sadena, Califor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SzPct val="80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GE Delivery and Data Processing Plan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e</a:t>
            </a:r>
            <a:br>
              <a:rPr sz="20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rsion 4.0 Software Relea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teven Friedman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AIRS Science Processing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March 30, 2004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Ingest at the AIRS TLSCF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Beginning with V4.0 the JPL TLSCF will: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Stop ingesting Level 0 from the GSFC DAAC on a daily basis 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Level 0 from the GSFC DAAC for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Focus Day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cial campaig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products from the GSFC DAAC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Level 2 standard retrieval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Daily Browse Products – Level 1B and Level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osonde Match-Up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ccasionally ingest 20 granules of all Levels 0,1 and 2 products(support spot checki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Begin ingesting Level 3 and fixed-site Match-Up Product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selected granules from NOAA NRT proces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</p:txBody>
      </p:sp>
      <p:pic>
        <p:nvPicPr>
          <p:cNvPr id="116" name="new" descr=""/>
          <p:cNvPicPr/>
          <p:nvPr/>
        </p:nvPicPr>
        <p:blipFill>
          <a:blip r:embed="rId2"/>
          <a:stretch/>
        </p:blipFill>
        <p:spPr>
          <a:xfrm>
            <a:off x="7853400" y="4959360"/>
            <a:ext cx="4953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87FB-86AB-4C7B-A0E8-EB76B8456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ing and Reprocessing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the GSFC DAAC 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960" y="1185480"/>
            <a:ext cx="807264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GSFC DAAC will begin processing with V4.0 when the release becomes operational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All forward processing will be performed with V4.0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Reprocessing will commence providing coverage back to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August 31, 2002 and can be accomplished by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Marching backwards towards August 31, 2002? </a:t>
            </a: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– or – 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Marching forwards from August 31, 2002?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Reprocessing includes rerunning all data from Level 0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– Performs Level 1A &amp;1B, Level 2, Match-Up and Browse PGE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For AIRS, allocated processing resources are 3x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1x dedicated to forward processing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2x dedicated to reprocessing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1881"/>
                </a:solidFill>
                <a:latin typeface="Arial"/>
              </a:rPr>
              <a:t>It will take approximately 1¼ years to complete reprocessing</a:t>
            </a:r>
            <a:br>
              <a:rPr sz="1800"/>
            </a:br>
            <a:r>
              <a:rPr b="0" i="1" lang="en-US" sz="1800" spc="-1" strike="noStrike">
                <a:solidFill>
                  <a:srgbClr val="0c1881"/>
                </a:solidFill>
                <a:latin typeface="Arial"/>
              </a:rPr>
              <a:t>(may be less time, given Level 2 performance improvements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1218-7259-49F0-BA73-E8029C582B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ocessing Consideration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fter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After V4.0, reprocessing will not keep up with annual upgrad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Continuous improvement of PGEs, delivered to DAAC on an incremental basis – deliveries scheduled annually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Our desire to produce the best possible product versus the DAAC’s desire to produce complete collection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Something has to give… and processor resources are fixed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Either we hold back deliveries to pace reprocessing</a:t>
            </a:r>
            <a:br>
              <a:rPr sz="1800"/>
            </a:b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– or –</a:t>
            </a:r>
            <a:br>
              <a:rPr sz="1800"/>
            </a:b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we consider a hybrid approach after V4.0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Could we consider stabilizing Level 1A(?) and Level 1B(?) with V4.0 until the last reprocessing cycle at end of mission?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Allow table upgrades, but delay science algorithm change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Would dedicate processor resources to Level 2 reprocessing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57CA-CA4E-43FD-B18B-F9A7B3C8A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3.0 Reprocessing Status at the GSFC DA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Processing status as of March 22, 2004*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960" y="1521000"/>
            <a:ext cx="7696080" cy="43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66960" y="5867280"/>
            <a:ext cx="76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*Solid bars indicate unprocessed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7320" y="549288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endar Day o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91560" y="54547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25720" y="54482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3C5F-13F6-44D6-8AF0-70FD9B4F2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anzana_03-27-04_029" descr=""/>
          <p:cNvPicPr/>
          <p:nvPr/>
        </p:nvPicPr>
        <p:blipFill>
          <a:blip r:embed="rId2"/>
          <a:stretch/>
        </p:blipFill>
        <p:spPr>
          <a:xfrm>
            <a:off x="401760" y="1171440"/>
            <a:ext cx="3908160" cy="3537000"/>
          </a:xfrm>
          <a:prstGeom prst="rect">
            <a:avLst/>
          </a:prstGeom>
          <a:ln w="0">
            <a:noFill/>
          </a:ln>
        </p:spPr>
      </p:pic>
      <p:pic>
        <p:nvPicPr>
          <p:cNvPr id="129" name="Manzana_03-27-04_119" descr=""/>
          <p:cNvPicPr/>
          <p:nvPr/>
        </p:nvPicPr>
        <p:blipFill>
          <a:blip r:embed="rId3"/>
          <a:stretch/>
        </p:blipFill>
        <p:spPr>
          <a:xfrm>
            <a:off x="4572000" y="307512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5BFB-2030-4F17-8DB7-7EDEA78A12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1928880"/>
            <a:ext cx="6791040" cy="2657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Schedule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Data Processing Plans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e"/>
                </a:solidFill>
                <a:latin typeface="Arial"/>
              </a:rPr>
              <a:t>Routine Data Processing at GSFC DAAC </a:t>
            </a:r>
            <a:endParaRPr b="1" lang="en-US" sz="2400" spc="-1" strike="noStrike">
              <a:solidFill>
                <a:srgbClr val="00006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e"/>
                </a:solidFill>
                <a:latin typeface="Arial"/>
              </a:rPr>
              <a:t>Data Processing at AIRS TLSCF</a:t>
            </a:r>
            <a:endParaRPr b="1" lang="en-US" sz="2400" spc="-1" strike="noStrike">
              <a:solidFill>
                <a:srgbClr val="00006e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Reprocessing Considerations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6402-88EB-4DDC-B9C2-194F48096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Archeological Sites in the LA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Cave_Painting_2" descr=""/>
          <p:cNvPicPr/>
          <p:nvPr/>
        </p:nvPicPr>
        <p:blipFill>
          <a:blip r:embed="rId2"/>
          <a:stretch/>
        </p:blipFill>
        <p:spPr>
          <a:xfrm>
            <a:off x="4572000" y="1104840"/>
            <a:ext cx="204948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Eagle_Rock" descr=""/>
          <p:cNvPicPr/>
          <p:nvPr/>
        </p:nvPicPr>
        <p:blipFill>
          <a:blip r:embed="rId3"/>
          <a:stretch/>
        </p:blipFill>
        <p:spPr>
          <a:xfrm>
            <a:off x="385920" y="113652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95" name="Spirit_Cave" descr=""/>
          <p:cNvPicPr/>
          <p:nvPr/>
        </p:nvPicPr>
        <p:blipFill>
          <a:blip r:embed="rId4"/>
          <a:stretch/>
        </p:blipFill>
        <p:spPr>
          <a:xfrm>
            <a:off x="1065240" y="3749760"/>
            <a:ext cx="3214800" cy="2173320"/>
          </a:xfrm>
          <a:prstGeom prst="rect">
            <a:avLst/>
          </a:prstGeom>
          <a:ln w="0">
            <a:noFill/>
          </a:ln>
        </p:spPr>
      </p:pic>
      <p:pic>
        <p:nvPicPr>
          <p:cNvPr id="96" name="Cave_Painting_1" descr=""/>
          <p:cNvPicPr/>
          <p:nvPr/>
        </p:nvPicPr>
        <p:blipFill>
          <a:blip r:embed="rId5"/>
          <a:stretch/>
        </p:blipFill>
        <p:spPr>
          <a:xfrm>
            <a:off x="5425920" y="3897360"/>
            <a:ext cx="2941920" cy="22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7F93-FE96-4C25-8912-DD18B4C5F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on 4.0 Schedule – Key Objectiv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Version 4.0 to include enhanced validation coverage area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Extends coverage to land area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Expands latitude range beyond </a:t>
            </a:r>
            <a:r>
              <a:rPr b="1" lang="en-US" sz="1800" spc="-1" strike="noStrike">
                <a:solidFill>
                  <a:srgbClr val="00006e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40°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eature Set Enhancements to include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Level 1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AIRS IR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Calibration enhancements - New gains, limits, etc.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Geolocation,    Potential algorithmic upgrades (?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Microwave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Calibration enhancements,    Algorithmic upgrades (?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Level 2 – </a:t>
            </a:r>
            <a:r>
              <a:rPr b="1" i="1" lang="en-US" sz="1800" spc="-1" strike="noStrike">
                <a:solidFill>
                  <a:srgbClr val="00006e"/>
                </a:solidFill>
                <a:latin typeface="Arial"/>
              </a:rPr>
              <a:t>the key ingredient to V4.0</a:t>
            </a: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Further improvement beyond V3.0 and V3.5 baseline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Incorporates many performance enhancement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Includes better retrieval algorithm, handling of outliers, QA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inal feature set must be solidified by early summer!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9D1E-F972-41D1-8FB4-CBA8C6523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4.0 Tim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33240" y="1308240"/>
          <a:ext cx="7877520" cy="469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240" y="1308240"/>
                    <a:ext cx="78775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C3F5-7E18-469A-8FA4-922F7ADF7D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on 4.0 Milesto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305920" cy="491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221400" indent="-22140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V4.0 – Next Release to DAAC &amp; NOAA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1995480" indent="0">
              <a:spcBef>
                <a:spcPts val="300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Prototyping Ends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6/0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Final Inputs to CCB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6/0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Last day to propose updat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Development Period Ends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7/05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Initial Build – V4.0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7/06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Anomalies / small chang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4.0 Operational – Begin Validation DP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7/2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Critical anomalies ONLY!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Delivery to DAAC &amp; NOAA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8/3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V4.0 Operational – Begin Processing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9/30/04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3.5 – Interim Release to NOAA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4/16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Improved L2, QA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3.7 – Internal JPL Benchmark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5/03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L3 Test, L2 In-proces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5160" y="5210280"/>
            <a:ext cx="7801200" cy="42840"/>
          </a:xfrm>
          <a:custGeom>
            <a:avLst/>
            <a:gdLst/>
            <a:ahLst/>
            <a:rect l="l" t="t" r="r" b="b"/>
            <a:pathLst>
              <a:path w="4884" h="1">
                <a:moveTo>
                  <a:pt x="0" y="0"/>
                </a:moveTo>
                <a:lnTo>
                  <a:pt x="488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7920" y="1627200"/>
            <a:ext cx="4988160" cy="360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165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Please keep in m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buClr>
                <a:srgbClr val="0c188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All scheduled milestones are established to ensure that we deliver a quality V4.0 product on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buClr>
                <a:srgbClr val="0c188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There will always be new and better improvements, and there are other releases planned for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2C7F-0CDD-4CB5-A31E-DC8B9D95A3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ine Data Processing at the GSFC DAAC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With V4.0 the GSFC DAAC will process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Level 0 through Level 2 PGEs + Browse PGEs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Level 1B:  calibrated radiances, QA subsets, daily browse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Level 2:  retrieval standard,, retrieval support,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CC radiances &amp; daily browse (retrieval and CC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Level 3 PGE – 3 </a:t>
            </a:r>
            <a:r>
              <a:rPr b="1" i="1" lang="en-US" sz="2000" spc="-1" strike="noStrike">
                <a:solidFill>
                  <a:srgbClr val="00006e"/>
                </a:solidFill>
                <a:latin typeface="Arial"/>
              </a:rPr>
              <a:t>new</a:t>
            </a: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 standard products for V4.0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Daily, 8-day, and monthly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additional products planned for later release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Subsetted data sets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Considering developing new subsetted radiance data set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new" descr=""/>
          <p:cNvPicPr/>
          <p:nvPr/>
        </p:nvPicPr>
        <p:blipFill>
          <a:blip r:embed="rId2"/>
          <a:stretch/>
        </p:blipFill>
        <p:spPr>
          <a:xfrm>
            <a:off x="7308720" y="3348000"/>
            <a:ext cx="4953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F057-B46A-4A50-83C6-19B6DBF9FB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ine Data Processing at the GSFC DAAC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 (cont’d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With V4.0 the GSFC DAAC will also process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Match-Up PGE </a:t>
            </a:r>
            <a:r>
              <a:rPr b="1" i="1" lang="en-US" sz="2000" spc="-1" strike="noStrike">
                <a:solidFill>
                  <a:srgbClr val="00006e"/>
                </a:solidFill>
                <a:latin typeface="Arial"/>
              </a:rPr>
              <a:t>(products delivered to JPL ONLY!) 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Radiosonde Match-Up – supports trending analysi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Fixed-location* Match-Up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dicated Validation Sit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 special validation sets – ACAR, ACFT, Dobson, Dobson_P, Yo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No Dynamic Match-Ups will be performed at the GSFC DAAC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– a new fixed-location Match-Up is being develope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fixed buoy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new" descr=""/>
          <p:cNvPicPr/>
          <p:nvPr/>
        </p:nvPicPr>
        <p:blipFill>
          <a:blip r:embed="rId2"/>
          <a:stretch/>
        </p:blipFill>
        <p:spPr>
          <a:xfrm>
            <a:off x="4871880" y="2771640"/>
            <a:ext cx="49536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64EE-954F-43C3-B1BA-F2004F479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Processing at the AIRS TLSCF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Beginning with V4.0 the JPL TLSCF will: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Stop baseline processing: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 – Level 0 through Level 1B + Match-Up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to process Focus Days (nominally, 48-day intervals)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– starts with Level 0 producing the following products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1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AIRS, AIRS VIS, and AMSU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1B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ibrated radiances, QA subsets, daily brow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2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trieval standard, CC radiances, retrieva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, &amp; daily browse (retrieval and CC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ily 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to process other data as necessary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 continued software development &amp; t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 validation campaig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will order additional Level 0 and/or Level 1B as nee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FE69-27A4-478F-93BB-1C6E3BF54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7:42:56Z</dcterms:created>
  <dc:creator>Thomas S. Pagano</dc:creator>
  <dc:description/>
  <dc:language>en-US</dc:language>
  <cp:lastModifiedBy>Steven Friedman</cp:lastModifiedBy>
  <cp:lastPrinted>2001-02-05T21:28:31Z</cp:lastPrinted>
  <dcterms:modified xsi:type="dcterms:W3CDTF">2004-03-30T12:07:00Z</dcterms:modified>
  <cp:revision>49</cp:revision>
  <dc:subject>AIRS</dc:subject>
  <dc:title>AIRS Project Staff Meeting </dc:title>
</cp:coreProperties>
</file>