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62F72-2CB0-44F9-A869-511788B2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8DD2D-E21F-4F5C-AA1E-E8D5DB29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50A2F-9B80-447D-86D5-2FF2AAC7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49FD9-E247-407D-9896-82793E4E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457A6-3C7C-4B29-BABB-35A82A91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4A120-3264-435F-BC47-340024AC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80BC8-9F26-42A9-83CA-5CCB215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4BE64-7D25-4101-B305-8297C8C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220B7-A49F-4042-B975-E15697C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D4159-BD78-45A7-836E-2FDD1372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C2149-13AA-462E-938B-0AA1CE59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43C80-E136-43BC-88F8-3E4A055A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0" y="6324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fld id="{357824E6-110F-46B6-AA65-3E499AE1A9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216B-CD61-400E-BA29-48F910DF59A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efine Disast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definit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efine how we look at an event or a hazar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what to do about i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if anyth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nterpretive Vo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dinary people will tell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ologists what disasters are if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e listen to them.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Kroll-Smith and Gunte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Quarantelli, 1998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EMA Definition of Disa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 occurrence that has resulted i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property damage, deaths, and/or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injuries to a community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FEMA, 199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the Stafford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jor Disaster:  Any natural catastrophe. . . or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gardless of cause, any fire, flood, or explosion, i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y part of the United States, which, in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termination of the President, causes damage o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ufficient severity and magnitude to warrant majo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aster assistance. . . to supplement the efforts an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vailable resources of States, local governments, 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aster relief organizations in alleviating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amage, loss, hardship, or suffering caused thereby.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U.N. Definition of Disa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serious disruption of th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nctioning of society, caus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despread human, material, 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vironmental losses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which exce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the ability of affected society to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cope using only its own resources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U.N., 199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dified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disaster is. . .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an even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ssociated with t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mpact of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natural hazar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which leads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increased mortality, illness and/or injur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destroys or disrupts livelihood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affecting th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ople or an area such that they (and/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utsiders)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perceive it as being exceptional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requiring external assistance for recover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Cannon, 1994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ability and Consequ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asters are, by their natur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low probability--high consequenc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vents. . .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“Comprehensive”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disaster is a nonroutine event tha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ceeds the capacity of the affected ar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respond to it in such a way as to sav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ives; to preserve property; and t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intain the social, ecological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conomic, and political stability of th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ed region.”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Pearce, 200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rantelli (1995) on Need for Minimum 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. . To be concerned about what is mean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y the term ‘disaster’ is not to engage i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 useless or pointless academic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instead to focus in a fundamental 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what should be considered important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gnificant . . .”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ed Consensus on Key Te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 Emergency Management continu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evolve, part of its transforma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rom an avocation to a profession 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formation of a consensus on ke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terms and definitions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ng Disaster Quantitativel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asters include all events that caus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least 100 human deaths, 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least 100 human injuries, 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least US $1 million economic damag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Sheehan and Hewitt in Smith, 199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adford Disaster Sca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tality scale, starting at 10 deaths, the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2 deaths = magnitude 1.5 disas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95 deaths = magnitude 1.9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66 deaths = magnitude 2.2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000 deaths = magnitude 3.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5,000 deaths = magnitude 4.3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ruction of the planet = magnitude 1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Horlick-Jones and Peters, 199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talities Only One Fac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clear. . . tha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disasters are characterized by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range of factors of which fatalities is only on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radford Disaster Scale should, perhaps, be mo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curately termed the ‘Bradford Fatality scale’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ltiple fatalities will almost certainly be regard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 ‘disasters’. However,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they are not a necessar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condition for an event to be perceived as a disast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Horlick-Jones and Peters, 199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 Social Systems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hile this has the appeal of s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andardization,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such thresholds are of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little value for comparative studies in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different social system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and economic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resholds quickly become eroded b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lation.”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Dynes, 1998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 to Resources Mat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. . A train derailment that injures 1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ople may be overwhelming for 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maller city or county but easily handl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y a larger city or county with grea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cess to resources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Carroll 2001, citing Crichlow, 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 Impact Mat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ven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if the threshold criteria are chang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lickman et al. did in their 1992 study whe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fatality threshold was 25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significan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events can be dropp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  In the case o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Hurricane Inik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the impact upon the island o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auai on September 11, 1992 amou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$1.8 billion in estimated losses and 100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injuries, but “only” 7 dea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NOAA, 199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ng by Character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.  Length of forew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.  Magnitude of imp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.  Geographical scope of imp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.  Duration of imp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5.  Speed of ons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ial Crisis Occa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t us define disasters in terms of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al characteristics of response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crisis occasions that are part of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al change.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Quarantelli, 1987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15:02:18Z</dcterms:created>
  <dc:creator>Wayne Blanchard</dc:creator>
  <dc:description/>
  <dc:language>en-US</dc:language>
  <cp:lastModifiedBy>B Blanchard</cp:lastModifiedBy>
  <cp:lastPrinted>2002-11-06T15:50:27Z</cp:lastPrinted>
  <dcterms:modified xsi:type="dcterms:W3CDTF">2002-11-07T18:01:05Z</dcterms:modified>
  <cp:revision>115</cp:revision>
  <dc:subject/>
  <dc:title>EMUSA Introduction Overheads</dc:title>
</cp:coreProperties>
</file>