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001000" y="457200"/>
            <a:ext cx="647640" cy="5475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525600" y="6321600"/>
            <a:ext cx="573120" cy="155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00200" y="6216480"/>
            <a:ext cx="716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3333cc"/>
                </a:solidFill>
                <a:latin typeface="Arial"/>
              </a:rPr>
              <a:t>AURA Science Meeting, Nov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8001000" y="457200"/>
            <a:ext cx="647640" cy="54756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525600" y="662040"/>
            <a:ext cx="573120" cy="15552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4"/>
          <a:stretch/>
        </p:blipFill>
        <p:spPr>
          <a:xfrm>
            <a:off x="525600" y="6321600"/>
            <a:ext cx="573120" cy="155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0200" y="6216480"/>
            <a:ext cx="716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3333cc"/>
                </a:solidFill>
                <a:latin typeface="Arial"/>
              </a:rPr>
              <a:t>Henk Eskes, </a:t>
            </a:r>
            <a:fld id="{E9625C94-91F8-4BDA-ABD9-BA3EDD594B73}" type="datetime">
              <a:rPr b="1" lang="nl-NL" sz="1200" spc="-1" strike="noStrike">
                <a:solidFill>
                  <a:srgbClr val="3333cc"/>
                </a:solidFill>
                <a:latin typeface="Arial"/>
              </a:rPr>
              <a:t>31-07-26</a:t>
            </a:fld>
            <a:r>
              <a:rPr b="1" lang="nl-NL" sz="1200" spc="-1" strike="noStrike">
                <a:solidFill>
                  <a:srgbClr val="3333cc"/>
                </a:solidFill>
                <a:latin typeface="Arial"/>
              </a:rPr>
              <a:t>, slide </a:t>
            </a:r>
            <a:fld id="{E7DC1E0E-9AC7-4F51-B4AB-F4321D420267}" type="slidenum">
              <a:rPr b="1" lang="nl-NL" sz="12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8640" y="1311120"/>
            <a:ext cx="55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CIAMACHY ozone column retriev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nd the 2005 ozone 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5120" y="2498760"/>
            <a:ext cx="7073640" cy="26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nk Eskes,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rjo Sege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Ronald van der A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pijn Veefkind, Johan de Haan and Ellen Brinksm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Topics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AMACHY ozone column retrieval at KNMI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SOMI algorith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zone hole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9000" y="205740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Ozone hole 200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4040" y="3305160"/>
            <a:ext cx="675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rational ozone data assimilation since 2000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vailable 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Arial"/>
              </a:rPr>
              <a:t>www.temis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Arial"/>
              </a:rPr>
              <a:t>www.gse-promote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5335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ugust 2005: very early start of ozone 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600200"/>
            <a:ext cx="2362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AMACH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mi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rey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analysis erro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324320" y="1447920"/>
            <a:ext cx="42861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5335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ugust 2005: very early start of ozone 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2133720"/>
            <a:ext cx="2210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een by OMI 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038480" y="1305000"/>
            <a:ext cx="472464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8 November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o3col2005110812_sp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4672080" cy="49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8088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zone hole area, 10 Nov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sc-o3area220" descr=""/>
          <p:cNvPicPr/>
          <p:nvPr/>
        </p:nvPicPr>
        <p:blipFill>
          <a:blip r:embed="rId1"/>
          <a:stretch/>
        </p:blipFill>
        <p:spPr>
          <a:xfrm>
            <a:off x="1295280" y="1192320"/>
            <a:ext cx="743112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zone minim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sc-o3min-s" descr=""/>
          <p:cNvPicPr/>
          <p:nvPr/>
        </p:nvPicPr>
        <p:blipFill>
          <a:blip r:embed="rId1"/>
          <a:stretch/>
        </p:blipFill>
        <p:spPr>
          <a:xfrm>
            <a:off x="1219320" y="1117440"/>
            <a:ext cx="739116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88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emperature (ECMW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6556320" cy="3757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" y="56386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WMO ozone bulletin #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560" y="205740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In summary …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330516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tal ozone columns from SCIAMACHY fo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ble and accurate produc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seful extension of the GOME period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 prequel for OM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vailable on www.temis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057400"/>
            <a:ext cx="690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CIAMACHY retrieval, validation, assimil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1800" y="3352680"/>
            <a:ext cx="726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Eskes et al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mos. Chem. Phys. Discuss, 5, 4429-4475,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1520" y="685800"/>
            <a:ext cx="358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3333cc"/>
                </a:solidFill>
                <a:latin typeface="Arial"/>
              </a:rPr>
              <a:t>TOSOMI DOAS algorithm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2960" y="1447920"/>
            <a:ext cx="7695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d on the OMI-DOAS operational algorithm (P. Veefkind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for GOM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GOMI - P. Val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for SCIAMACHY + FRESC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SOMI - H. Eskes and R. van der 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Innovations compared to e.g. GOME Fast Delivery, vs 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treatment of Raman scattering (J. de Haa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irical air-mass factor approac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MS v8 ozone profile data bas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iative transfer improvemen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MWF temperature profil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4572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somi vs Brewer, Dobson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371600"/>
            <a:ext cx="73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-wide validation for 2 years of SCIA-Tosomi ozone colum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llen Brinksm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11360" y="2003400"/>
            <a:ext cx="6251760" cy="2263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411480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Main conclusion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somi 1.5% lower than ground ba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 about 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lear geographical location or seasonal dependence 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le produ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4480" y="19908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49440" y="1143000"/>
            <a:ext cx="7442280" cy="5011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088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somi vs Brewer, Dobson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30800" y="206676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3886200"/>
            <a:ext cx="2971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b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ow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somi vs GOME GDP-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30800" y="206676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59160" y="1309680"/>
            <a:ext cx="6456240" cy="4413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rot="16200000">
            <a:off x="1648080" y="3145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ala Sans"/>
              </a:rPr>
              <a:t>latit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3600" y="5486400"/>
            <a:ext cx="30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ala Sans"/>
              </a:rPr>
              <a:t>Day since 1 Jan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743200" y="5867280"/>
            <a:ext cx="5715000" cy="403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0880" y="2057400"/>
            <a:ext cx="2438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-4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som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SZA sh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algo'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day 140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set due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ME GDP-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somi vs GOME Togo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30800" y="206676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1648080" y="3130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ala Sans"/>
              </a:rPr>
              <a:t>latit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476440" y="1333440"/>
            <a:ext cx="6438960" cy="4838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485960" y="5500800"/>
            <a:ext cx="23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ala Sans"/>
              </a:rPr>
              <a:t>Day since 1 Jan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600200"/>
            <a:ext cx="1676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 0.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as -1.3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SOMI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GOM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-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somi vs assimi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30800" y="206676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86000" y="1066680"/>
            <a:ext cx="74530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8915400" cy="662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80880"/>
            <a:ext cx="84582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458200" y="6324480"/>
            <a:ext cx="457200" cy="400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80880" y="533520"/>
            <a:ext cx="8458200" cy="520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ECMWF:Assimilation of SCIAMACHY-TOSO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6640" y="5575320"/>
            <a:ext cx="114300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O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6640" y="1901880"/>
            <a:ext cx="160020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o S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6640" y="3746520"/>
            <a:ext cx="160020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ith S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1523880"/>
            <a:ext cx="182880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3 May 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6400800"/>
            <a:ext cx="7391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je Detho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668680" y="1170000"/>
            <a:ext cx="411300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1T08:01:24Z</dcterms:created>
  <dc:creator>Henk Eskes</dc:creator>
  <dc:description/>
  <dc:language>en-US</dc:language>
  <cp:lastModifiedBy>Segers</cp:lastModifiedBy>
  <dcterms:modified xsi:type="dcterms:W3CDTF">2005-11-10T12:58:49Z</dcterms:modified>
  <cp:revision>154</cp:revision>
  <dc:subject/>
  <dc:title>No Slide Title</dc:title>
</cp:coreProperties>
</file>