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5C2-FDAB-4A18-AB27-16ECD093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A26-46DA-4447-88B0-0BC35C9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787-3822-43A1-A0FD-4782B107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641-9B78-4A5D-B64E-7C97D4F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481-8F0E-4949-8191-C9041B3B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781-DF8D-4DE1-9E91-11E0824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081-A496-4C20-A5B4-2F20CD1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84C-F308-4025-8B57-57E98EC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969-E3D9-4C8F-A92C-AEB7CF12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F1E-DF9E-4B0F-8D5C-A490D3F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1CF-38AA-449C-809E-7873CCB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E89-1909-4520-861E-1D2AF80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D9D-BF6D-4FEB-AF9E-39D0CD7D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Value of Participating in the FDLP: How Depository Coordinators Can Effectively Convey This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y Prophet - Deputy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nison University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le Electronic Subscri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Health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 Value of Depository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ibl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nd future distributions in physical format and electronic sub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ing beyond monetary value and cost effectiveness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 must be convinced yourself - Know what you are selling and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 able to look at the big picture and establish a reputation for looking at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oose your ba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 when it is reasonable to 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end what is absolutely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ying th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n you provide help to either your primary users or community user go the extra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n possible give presentations at local civic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hing works quite as well as having the University President’s Rotary buddy wax lyrical the service given by the documents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the usefulness of the collection: both old and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 your display spaces to good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possible display documents in the director’s, provost’s or president’s area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clude Documents in as many library display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m as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multiple formats if possible including web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the usefulness of the collection: both old and new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tory requirement = benefits for libr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nimum technical standards can insure that libraries have equipment not only adequate for depository operations but also for the changing demands of bibliographic and full text, graphic data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nimum e-competencies for depository staff can help insure all library staff have minimum skills to function in the current and future information enviro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ill designing a new government information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ftermath of 9/11 has provided shocks yet to be fully addressed to the access to federal information both now and in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ior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rrent review of Government information releases in both physical and electronic form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v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L Lawy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estions the agencies on real necessity of withdraw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vides instructions, guidelines and procedures for handling withdrawing and sequester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LP as advoc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PO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lectronic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developments yet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roles of GPO &amp; the FD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762120"/>
            <a:ext cx="6172200" cy="571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ll the government information now available via the internet,  is it still beneficial for this library to remain part of the Federal Depository Library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FDLP has created a core of librarians nation wide with similar pressures, issues and conc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se librarians have created a helpful &amp; cooperative fellowship that provides intellectual, moral, and technical support to both depository and non-depository library comm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of Depository Librar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no longer fulfill your obligations under the depositor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ck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ck of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e among many depository libraries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latively new depository without significant historical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 longer an asset to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ing the FD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mparative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990-March 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Recei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- 5,6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fiche - 2,1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 - 1,3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s and Floppy discs -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2001-March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- 1,6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fiche - 1,9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 - 1,0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Disks - 1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h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25909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P     12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Foota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running for new construction approximately $140.00 per Sq.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Rate for the physical collection has slowed reducing need for new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ving &amp; storage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 FTE Professional Staff, 1FTE Support Staff, 1 FTE Student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fewer physical items mean this staffing level can be reduc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Supply Cos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ing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Equipment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sential Titles for Public Use in Paper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not availabl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are incomplet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are unreliabl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serve special needs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still getting in tangibl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still getting in tangibl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whose electronic dissemination costs are larger than tangible distribution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with legal requirements to distribute in tangible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5:18:50Z</dcterms:created>
  <dc:creator>Anna Pilston</dc:creator>
  <dc:description/>
  <dc:language>en-US</dc:language>
  <cp:lastModifiedBy>Mary Prophet</cp:lastModifiedBy>
  <cp:lastPrinted>2002-04-17T22:22:18Z</cp:lastPrinted>
  <dcterms:modified xsi:type="dcterms:W3CDTF">2002-04-18T13:18:54Z</dcterms:modified>
  <cp:revision>14</cp:revision>
  <dc:subject/>
  <dc:title>Historical Government Documents Cataloging Project:  The Five Colleges of Ohio</dc:title>
</cp:coreProperties>
</file>