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6208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551e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71F13CDD-B814-49D0-9E2C-F7088AEFE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as Sales Volume data were provided by MMS by geographical st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gas production which is ACTUALLY Gas Sales Volumes for each of the Western states with Other representing all the other states including CA, AK and Eastern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yoming was the highest producer of gas during the last 3 years shown with New Mexico the next largest produc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gas production in Wyoming was due to increased gas production in the Pinedale area with increases from 2000-2001 of 14 TCF (67% of total WY increase), 2001-2002 of 167 TCF (72% of total WY increase, and 2002-2003 of 176 TCF (99+% of WY increase).  There was a 30 TCF decrease in WY total in from 2003 to 2004 with decreases in all FOs except Pinedale and Lander FOs which posted increases.  Pinedale FO had 82% of this increase from both FOs.  This increase in Pinedale FO is related to the increased development of the Jonah Field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ana gas production volumes are very low compared to the other Western states due to CB natural gas development only in the initial stage of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79CE-A4DC-4E92-8890-80FB4EED2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000B-C834-45C4-937B-3ECB82EBB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DA7C-33BB-45FE-A2FC-9ACA759EA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0E1B-29BF-4B7B-A482-3B231D7562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6A09-D44D-4AAC-81CB-9AE26B279D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C22F-8249-474D-BFC3-2CDE229C1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A8BB-D67A-45E4-9305-39FEF9079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5FD8-1D25-420F-A721-AAD0E4FC9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E337-6AEC-4947-A44E-71912784B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C0F1-E237-4BD2-BECE-58394843D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3366-97F5-4D49-9DE3-4168244A5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EE7B-2FBF-456D-8BBA-5E433B5AA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4824"/>
            </a:gs>
            <a:gs pos="100000">
              <a:srgbClr val="899d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34360" cy="146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9343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F0C3-A20C-4CE2-B3B1-69BC56FCA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551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8551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551e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Palatino Linotyp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4824"/>
            </a:gs>
            <a:gs pos="100000">
              <a:srgbClr val="899d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1812960"/>
          <a:ext cx="6019920" cy="42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12960"/>
                    <a:ext cx="6019920" cy="4297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629400" y="2209680"/>
            <a:ext cx="229248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6e7c2"/>
                </a:solidFill>
                <a:latin typeface="Arial"/>
              </a:rPr>
              <a:t>Gas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6e7c2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6e7c2"/>
                </a:solidFill>
                <a:latin typeface="Arial"/>
              </a:rPr>
              <a:t>Feder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6e7c2"/>
                </a:solidFill>
                <a:latin typeface="Arial"/>
              </a:rPr>
              <a:t>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6e7c2"/>
                </a:solidFill>
                <a:latin typeface="Arial"/>
              </a:rPr>
              <a:t>Indian L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551e"/>
                </a:solidFill>
                <a:latin typeface="Tahoma"/>
              </a:rPr>
              <a:t>Production &amp;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6830-59FF-42B3-98D4-F43A61B26F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5:58:54Z</dcterms:created>
  <dc:creator>ashaffer</dc:creator>
  <dc:description/>
  <dc:language>en-US</dc:language>
  <cp:lastModifiedBy>tferguso</cp:lastModifiedBy>
  <dcterms:modified xsi:type="dcterms:W3CDTF">2005-09-13T16:09:49Z</dcterms:modified>
  <cp:revision>112</cp:revision>
  <dc:subject/>
  <dc:title>Slide 1</dc:title>
</cp:coreProperties>
</file>