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7E0-7B3B-4EFB-A0CE-D4D720C3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4AD-6D27-4AAB-972C-EB4BC207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7F9-D204-459A-8CC3-D56F8400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E9C-FEB4-432A-948F-4EBA21D9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6B3D-B54F-48E7-B3D0-7AC67AD9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5FF-B420-4B28-B043-D3FC1E2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B41B-256B-49A9-B15D-5260F39C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C51-8B7D-4B0D-8B87-66A9FCE0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B9A-7523-419D-9844-ECCDE0F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C507-6A71-41DF-B062-A410238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2E67-3674-4523-88E6-0582DE3C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E6B-5DB9-4B68-A58F-02215D5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6B54-637C-4E43-8080-05E9CAD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C7D5-C31D-408B-8C76-9CC240B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5FA-19CB-4016-BA88-F884643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181C-EA35-45F6-8101-D90DE370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2AB-C5F4-4682-8528-8113FCF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933-C6CA-4582-AC61-9E1CD595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895-2205-4592-B3E4-2AFB156A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833-8EDC-4BA6-AFE1-54C5CCA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C66-FBDC-4C4E-8709-B1C5D30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815-720F-491A-9E32-ADD892D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DFE-D5B2-4BAD-BC6A-7C357AD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8F0-CA42-4D82-AE96-FC5EEC5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0BE-7D64-4222-87A7-D59335ADF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B3E-BF69-40E3-889D-9D7FC9ACC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S RESEARCH 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TIONAL SCIENCE BOARD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BRUARY 2-3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RVINE,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K E. BORCH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IOR RESEARCH ASSOCIATE, MANAGEMENT 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NDERBILT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borchelt@nasw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ion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sent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process of science and to effective science communication, but collabora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l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stitutional advancem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il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ssential to public understanding of science, but generally regarded as anathema to institutional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yriad of audience needs and interests should drive public communication of S&amp;T.   Communication should not be driven by the research enterprise’s desires about what it believes publi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have an obligation to understand publics and their needs if communication is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al respect between communicators and scientists (with joint veto over communication products and messages) is ess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 (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study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science.nasa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400" y="13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400" y="2057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0400" y="2878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400" y="342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400" y="3994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400" y="4967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6760" y="1371600"/>
            <a:ext cx="200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ief Scientist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ce 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kg.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6760" y="2089080"/>
            <a:ext cx="200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ce 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kg. Group Strateg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7840" y="3489480"/>
            <a:ext cx="205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unicate Knowle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cess T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88200" y="41464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neral Armstrong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K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5029200"/>
            <a:ext cx="148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w NASA Chi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SST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4200" y="2133720"/>
            <a:ext cx="188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ASA/MSFC Sum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ulty Fel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4200" y="2743200"/>
            <a:ext cx="18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ASA/MSFC Sum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ulty Fellow, Init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comm Discuss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3240" y="352116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oundtable 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itial Scicomm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4010040"/>
            <a:ext cx="550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.A. in Science Communications established, 1.5 Graduate Students, Research, First Research Publications in Scicomm, External Working Group Begins, NASA/MSFC Cited as “Best NASA Practice,” beginning of work for entire Center not just science are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2240" y="5029200"/>
            <a:ext cx="5502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by Award, C.A. in Science Communications, 3 Graduate Students, Sponsored Research, External Working Group Continues, N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st Practice” conference call for papers, National Scicomm Research Conference planning, Work for other NASA centers, exploration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ercial/industry partnerships.  Evaluation of the role of science communications in the NSST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5640" y="128520"/>
            <a:ext cx="70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 Brief History of Science Communications at NASA/Mars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13372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74320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732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02264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9528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9072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5716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icy/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16002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SA/Marshall Activities and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33520"/>
            <a:ext cx="0" cy="594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1371600"/>
            <a:ext cx="0" cy="5105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371600"/>
            <a:ext cx="0" cy="5105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37160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400" y="990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87480" y="9907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 the Natl. Inte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00600" y="685800"/>
            <a:ext cx="461412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Federal Agencies will encourage research scienti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to use their research experiences in support of 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understanding of scienc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1430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11160" y="762120"/>
            <a:ext cx="556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“Webby” Awards: Class of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9520" y="1523880"/>
            <a:ext cx="1230480" cy="98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07320" y="1584360"/>
            <a:ext cx="11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9520" y="2658960"/>
            <a:ext cx="1238400" cy="98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07680" y="29559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09520" y="3809880"/>
            <a:ext cx="1230480" cy="98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06960" y="4022640"/>
            <a:ext cx="182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09520" y="5029200"/>
            <a:ext cx="1230480" cy="98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92" name=""/>
          <p:cNvSpPr/>
          <p:nvPr/>
        </p:nvSpPr>
        <p:spPr>
          <a:xfrm>
            <a:off x="1508760" y="5562720"/>
            <a:ext cx="2262240" cy="4582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@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800440" y="15238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097160" y="1584360"/>
            <a:ext cx="171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ithson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az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00440" y="28954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175280" y="31845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800440" y="44956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74200" y="4708440"/>
            <a:ext cx="141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a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3680" y="2344680"/>
            <a:ext cx="2775960" cy="2408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minated, Non-Winn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tific Ameri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l Street Jou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N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 Ti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C Ne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Exp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-Vista Trans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ctive involvement of scientists and engineers is critical to the success of science commun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scientists are integrated into communication will vary with the institution and the interests of the power elite -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re is no cookbook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science communicators may excel at communicat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ducts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cientists are best communicato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and best practice demands bo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techniques must be integrated across training in scientific and technical disciplines (i.e., writing across the curriculum initiat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Research Roadmap for the Communication of Science and Technology in the 21st Century (R2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ially chartered by NASA/George C. Marshall Space Flight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year charter beginning in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 1:  Set a research agenda for S&amp;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 2:  Identify and articulate “best practices” in public communication of S&amp;T from (mostly U.S.) research instit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SA funding stream intermittent to nonex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wards and incentives for public communication by scientists are virtually nonexistent at the institution le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 training for scientists is uneven and often poorly conceptualized.  The best kind of media training emphasizes respect for the culture of journalism rather than “quick-fix” abilities to speak to repor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communicators who can foster mutual respect between science and the media also are essential to effective public communication of sc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x of science-to-media skills for a science communicator varies with the institution and its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to the institution’s power elite is absolutely critical to su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skills as a science communicator/PIO are best learned through strong mentoring programs and often are institution-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mpact of new media and the fragmentation of existing media will have profound impacts on how and with whom we communicate about science and technolo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6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communication/public info programs that define success as entrée to the evening news already are dinosaurs -- based on a 1940’s model of information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vergence period for transition to new media will occur over the next 5-10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f you remember nothing else from this pres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public understanding of S&amp;T is a defensible goa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and of itse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 democratic society, whether or not such familiarity leads to better public advocacy for funding of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ed the existing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considerable disconnect between science communication literature, diffusion of innovation literature, and health communication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FIVE priority areas for research 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 -- Funding Prior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Relationship (if any) between science communication, science literacy, and science advoc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Understand the interests/behaviors of the consuming publics (audience analy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Understand the PIO-researcher-reporter nexus (game the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 -- Funding Prior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4) Determine common ground between health/behavior communication and science communication per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) Determine common ground with diffusion of innovation/ag extension research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such thing as a “general audience” for S&amp;T communication -- there are many people with many different uses for S&amp;T information, and many levels of understanding with which to d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1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ity of new media channels makes mass communication very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public relations models stress an outmoded, one-way “mediated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ocus on building new audiences rather than serving presumed existing aud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fic community and managers of the science enterprise routinely fail to distinguish betwe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dersta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science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prec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science and it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programs that emphas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stitutional advance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are touted as programs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municate sci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the goals of these two kinds of programs are not necessarily compleme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s -- where they exist -- are usually reflections of the former, not the l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7:59:41Z</dcterms:created>
  <dc:creator>maplets</dc:creator>
  <dc:description/>
  <dc:language>en-US</dc:language>
  <cp:lastModifiedBy>rdupree</cp:lastModifiedBy>
  <cp:lastPrinted>2000-01-31T21:44:28Z</cp:lastPrinted>
  <dcterms:modified xsi:type="dcterms:W3CDTF">2000-03-13T13:06:08Z</dcterms:modified>
  <cp:revision>8</cp:revision>
  <dc:subject/>
  <dc:title>SCIENCE COMMUNICATIONS RESEARCH ROADMAP</dc:title>
</cp:coreProperties>
</file>