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12E-9997-43D2-924A-C8565FA9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E37-5B20-4EBF-AC79-EBDE3E81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DF7-AF59-4A1F-9963-AE5D5653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4C2-CDF4-49E8-934F-248AF584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FE48-8E15-4784-A747-B3839BC7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02BD-5D51-4224-8018-158658A9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1A97-0739-4F9C-AF8C-EC43B82B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0749-FD67-4E95-BE60-34522EBE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9577-A4E3-4242-8E68-71C8195B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C47D-91DA-4F32-B856-B6C1C785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8A2E-4F2D-4801-BD14-862FA170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33F-FF8B-4959-B101-133DD235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B6AD-A4E3-4779-9B6D-B6B56AA2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5BE0-B67B-4B82-A344-FF6B0B82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D0F3-6654-4E71-B633-FDE17256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17BA-165B-468A-8737-6C126757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C4E1-0C73-4EE2-8F25-74430B7E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4A9-1D71-4A46-AC41-47BEAC7B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C76-D388-4DAE-B5AF-27F73E54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60F-1EE0-4B87-B3BF-F364F54D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0AB-9E58-4725-BB80-5C5008E3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6D6-CA46-46EE-91F3-2F071337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733-C8A2-48FC-89D9-483B8D0F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F7A-170C-459B-9161-957A61B4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4B4A-47A7-441E-9BD5-C4A8CF2CCBD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350A-CFED-473F-86B0-1FAEEC5E254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78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NJURY SURVEILLANCE IN TRINIDAD - The San Fernando General Hospital Experience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nna Byno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7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chanism of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s accounted for 32.5% of the Level IV injuries whilst Other Blunt Force accounted for 26.8% of the Level IV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dominant mode of transportation is the private car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eading mode of transport is the pedest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ading type of road user is the passenger, next predominant road user is the d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nical Outco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826920" y="2060640"/>
          <a:ext cx="759168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60640"/>
                    <a:ext cx="75916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nical Outco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1% of persons sustaining an unintentional injury died in the A&amp;E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2.1% of persons discharged sustained an intentional interpersonal inj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20% of persons sustaining a fall were admitted to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.9% of traffic injuries admitted to hos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stem Limi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jury surveillance system exists only in South West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 of injuries may differ substantially across different Health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does not capture injuries presenting at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Ce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-representation of fatal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d implement intervention strategies with key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and sensitisation of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 of the system to other A&amp;E Departments within the SWR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expansion of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ibbean Epidemiology Cent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uth West Regional Health Authority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(data collection and entry, nursing staff, medical staff, hospital administr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inistry of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tary Club, San Fernando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AHO (biennial fu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ealth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Surveillance System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illance System initiated in December 2001 with grant from IDR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 initiative of the CAREC, SWRHA and the Rotary Club, San Fernando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commenced in February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 with Mc Laughlin Centre, Ottawa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2002- Dec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chment population: 500, 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3.5% of all A&amp;E Department Vis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tal Injuries by year 2002-200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92280" y="1484280"/>
          <a:ext cx="7669080" cy="52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484280"/>
                    <a:ext cx="7669080" cy="52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 Grou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16000" y="1830240"/>
          <a:ext cx="6769080" cy="45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30240"/>
                    <a:ext cx="67690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1197000"/>
          <a:ext cx="8424720" cy="50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42472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ntional Interpersonal Inju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rel - predominant context of injury Leading context in the 25 – 44 age category with men twice likely to be at risk than female counterpa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dominant object used during a Quarrel was Bodily force and predominant location is home,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ading location is street/high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ntional Interpersonal Inju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dominant Victim/Perpetrator Relationship was a friend/ acquaintance and leading age group is 25 – 44 years,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ading age group is 15 – 2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ominant Object Used is bodily force especially with 25 – 44 and 15 – 24 age grou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chanism of Injury 2002-200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85920" y="1847880"/>
          <a:ext cx="803412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1847880"/>
                    <a:ext cx="80341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4:41:37Z</dcterms:created>
  <dc:creator>Bynoe</dc:creator>
  <dc:description/>
  <dc:language>en-US</dc:language>
  <cp:lastModifiedBy>lois</cp:lastModifiedBy>
  <dcterms:modified xsi:type="dcterms:W3CDTF">2006-09-01T19:34:03Z</dcterms:modified>
  <cp:revision>27</cp:revision>
  <dc:subject/>
  <dc:title>INJURY SURVEILLANCE IN TRINIDAD AND TOBAGO</dc:title>
</cp:coreProperties>
</file>