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EDB-DE1F-4BCA-ACAE-FC83350D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E1D-3835-487C-9A9D-0A4D620C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241-33C3-4CE0-A9ED-FE2CFCAE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8F5-0DB8-4950-A32C-C6922393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528-FCD4-4220-9FD3-26456960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CDA-962C-468E-A27F-1CCEEEF1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4FE-8B3C-4393-B888-9B56732E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D97-0E30-4AE6-8727-0484B9FC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008-2738-4731-B047-6B16F7AB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7D5-7D1C-4981-9EEC-89A4378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7BB-937B-4296-A207-65C50897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755-7FC2-4A41-A1AF-9A91F0C1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7A25-E86D-4BD2-9848-0954BD7F19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t-Harvest Physical Properties of Corn Stov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.D. Montross, S.G. McNeill,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A. Shearer, T.S. Stombaug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iosystems and Agricultural Engineering Depart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iversity of Kentuck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ection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 row combine, 16 row plan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ler is a 5 x 6 variable chamb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 collection metho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ke and bale behind comb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tary mower, rake, and b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bine and b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ale behind comb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ry Mower/Bale/Rak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" name="PB010019" descr=""/>
          <p:cNvPicPr/>
          <p:nvPr/>
        </p:nvPicPr>
        <p:blipFill>
          <a:blip r:embed="rId1"/>
          <a:stretch/>
        </p:blipFill>
        <p:spPr>
          <a:xfrm>
            <a:off x="1047600" y="1295280"/>
            <a:ext cx="70488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ection Lo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~36 acre fiel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ick 5 locations that are suitable (150 ft x 150 f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locations for bale collection and stor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location mowed and baled over ti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ield Ma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yield" descr=""/>
          <p:cNvPicPr/>
          <p:nvPr/>
        </p:nvPicPr>
        <p:blipFill>
          <a:blip r:embed="rId1"/>
          <a:srcRect l="0" t="0" r="11882" b="19534"/>
          <a:stretch/>
        </p:blipFill>
        <p:spPr>
          <a:xfrm>
            <a:off x="1257480" y="1676520"/>
            <a:ext cx="66294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id Data of Biomass Distrib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gridbiomass" descr=""/>
          <p:cNvPicPr/>
          <p:nvPr/>
        </p:nvPicPr>
        <p:blipFill>
          <a:blip r:embed="rId1"/>
          <a:srcRect l="0" t="0" r="0" b="29591"/>
          <a:stretch/>
        </p:blipFill>
        <p:spPr>
          <a:xfrm>
            <a:off x="522360" y="1981080"/>
            <a:ext cx="80992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le Stor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ke 12 bales from each of 4 locations for 3 primary collection metho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inside on concrete flo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outside on dir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are characterized (dirt; type, moisture content, and amount of material; particle size analysi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ke 1 bale for characterization of baling behind comb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Collected During Stor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each ba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rea of field requir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bor to b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igh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isture cont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eld no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tern of traff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ype and amount of material remain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Collected During Stor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itial moisture content using coring device, and monthly thereaf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asure center bale temperature daily until stable during storage, weekly thereaf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thly weigh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lant population recorded, but expected to heavily influence biomass yiel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rection of combine relative to mower or discb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icle/weight/density distribu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uld it be desirable to cut pieces up finer (rotary mower vs discbin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mount of dir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er moisture content for baling and stor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cord path of equipment (combine, grain carts) using GPS during harves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rmine plant population at harves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cision collection of bioma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e yield map to select areas for stover collec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void removal of stover from environmentally sensitive are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lect highest value compon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velop baseline data on the quantity and physical characteristic's of corn stov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ntify amount of stover harvested using existing equip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ck changes in dry matter loss, temperature, and moisture content during storage of round b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ion of Mass in Plant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11562" r="0" b="0"/>
          <a:stretch/>
        </p:blipFill>
        <p:spPr>
          <a:xfrm>
            <a:off x="457200" y="1801800"/>
            <a:ext cx="823608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omass of Individual Stalks Versus Dry Basis Corn M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11434" r="0" b="0"/>
          <a:stretch/>
        </p:blipFill>
        <p:spPr>
          <a:xfrm>
            <a:off x="533520" y="1982880"/>
            <a:ext cx="803412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umerous researchers have investigated collection of stover (Loewer et al., 1984 and Ritchey et al., 198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0% of stover round bal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y matter losses of 10% of stover baled at 13.9% and 22.6% for stover at 33.4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undiff and Marsh (1996) found that harvest and storage costs for large round bales was 23% less than square b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rm Coopera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th &amp; Dee Ellis Farms in Shelby County, Kentuck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east of Louisvill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ils are a well drained silt loa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acticed no-till farming for 21 ye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op rotation of corn followed by soft red wheat and double crop soybe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-Harvest Data Col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mple field on 1 acre gri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each grid loc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ight of 5 stalks in 2 row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ept the lightest, middle, and heaviest stalk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lant population in 2 rows 3 m lo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ok 20 individual stalks from one spo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id Lay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sample_sites" descr=""/>
          <p:cNvPicPr/>
          <p:nvPr/>
        </p:nvPicPr>
        <p:blipFill>
          <a:blip r:embed="rId1"/>
          <a:srcRect l="1809" t="17125" r="0" b="16081"/>
          <a:stretch/>
        </p:blipFill>
        <p:spPr>
          <a:xfrm>
            <a:off x="792000" y="2120760"/>
            <a:ext cx="7560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boratory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elled corn from each grid location (or individual plan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asured weight of corn and bioma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termined moisture content in 10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C oven for 3 day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omass Versus Dry Basis Grain Mass at Each Grid Lo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0172" r="0" b="0"/>
          <a:stretch/>
        </p:blipFill>
        <p:spPr>
          <a:xfrm>
            <a:off x="457200" y="1752480"/>
            <a:ext cx="807084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lationships Between Plant Components and Grain M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11434" r="0" b="0"/>
          <a:stretch/>
        </p:blipFill>
        <p:spPr>
          <a:xfrm>
            <a:off x="533520" y="1927080"/>
            <a:ext cx="81262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ion of Mass in Plant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11562" r="0" b="0"/>
          <a:stretch/>
        </p:blipFill>
        <p:spPr>
          <a:xfrm>
            <a:off x="609480" y="1825560"/>
            <a:ext cx="807084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6:37:33Z</dcterms:created>
  <dc:creator>Michael D. Montross</dc:creator>
  <dc:description/>
  <dc:language>en-US</dc:language>
  <cp:lastModifiedBy>Anne Ehrenshaft</cp:lastModifiedBy>
  <dcterms:modified xsi:type="dcterms:W3CDTF">2001-11-14T12:23:32Z</dcterms:modified>
  <cp:revision>65</cp:revision>
  <dc:subject/>
  <dc:title>Corn stover handling characterization </dc:title>
</cp:coreProperties>
</file>