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966-37DC-4035-95FC-4045A0F0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8BEA-40BC-418F-BB5C-262F84FE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DA9-5A6B-4C68-B5F4-570B24C6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39B-E955-452B-834E-15F1FF45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24B-AF63-4644-A5DB-3C0E2398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769-D4DA-4D41-9A06-BDF7FFCB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96E-D767-4FED-AB4A-2E24795E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B33-1887-4AA8-A38C-C9390567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9CC7-6CDF-4327-9BD6-D31C6B99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392-F139-4CFA-ACDA-3C3C6BDE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086-7AF5-4151-8134-508EE440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C94C-17C6-47BD-AD19-A7F8D1D3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0CAB-4057-4FC4-80CE-50FB6984B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6172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ol Fiberglass Manufacturing – MACT/NSPS Applicability Flow Char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533520"/>
            <a:ext cx="1981440" cy="4572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you own or operate a wo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berglass facility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1371600"/>
            <a:ext cx="20574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1066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1480" y="29973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371600"/>
            <a:ext cx="21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your facility a major MACT source or located at a facility that is a major sourc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1447920"/>
            <a:ext cx="2057400" cy="3808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1447920"/>
            <a:ext cx="20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are not subject to MACT  Subpart N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762120"/>
            <a:ext cx="21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533520"/>
            <a:ext cx="4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7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600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1371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6045120"/>
            <a:ext cx="131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209680"/>
            <a:ext cx="4038480" cy="15242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any of the following new or existing sources (proces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ed at your facility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ass melting furn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tary spin wool fiberglass li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ame attenuation wool fiberglass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1828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6440" y="236232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92708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19320" y="19638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16040" y="41911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5791320"/>
            <a:ext cx="12193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are subjec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CT Subpart N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7240" y="55450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6553080"/>
            <a:ext cx="21333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the glass melting furn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tructed after June 15, 1979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6477120"/>
            <a:ext cx="21337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the rotary spin w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berglass line constructed af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bruary 7, 1984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7391520"/>
            <a:ext cx="1447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 is subje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NS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part 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7467480"/>
            <a:ext cx="1295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 is sub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NS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part 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72388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8763120"/>
            <a:ext cx="59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Arsenic, Chromium, lead, formaldehyde, phenol and methan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285640" y="6019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6019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6858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7162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71600" y="71452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7238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14800" y="72216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7543800"/>
            <a:ext cx="10670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 is no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ject to NS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part 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6858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6858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08640" y="7086600"/>
            <a:ext cx="3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739152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7080" y="7467480"/>
            <a:ext cx="111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 is n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ject to NS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part 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837720" y="6858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6858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5320" y="708660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57200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applicable HAPs* emitted fr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of these source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15000" y="1828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5029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14:22:44Z</dcterms:created>
  <dc:creator>Sue Leung</dc:creator>
  <dc:description/>
  <dc:language>en-US</dc:language>
  <cp:lastModifiedBy>Win98 User</cp:lastModifiedBy>
  <dcterms:modified xsi:type="dcterms:W3CDTF">2003-10-07T18:06:26Z</dcterms:modified>
  <cp:revision>13</cp:revision>
  <dc:subject/>
  <dc:title>Wool Fiberglass Manufacturing Applicability </dc:title>
</cp:coreProperties>
</file>