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5B4-9876-43EC-8778-DD1C8177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46D-CEAB-445A-B1E3-5EA7530B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9C9-A44A-42CE-95F0-6BB9B077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202-F651-488E-9E21-AC44F292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BCD-A451-4CA3-9D67-60B7D2A1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616-E189-4980-8515-D84126E4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D92-051F-4981-B22A-7A815CD7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754-70D8-4A6A-A66F-6AAE1020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D34-3DC5-4086-87A5-67F03ADB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A04-E509-47D9-A757-47C2CEF4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3DD-2177-421E-B688-6EFD426C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2D4-0BDC-4D6D-8EAF-E112F491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A82C-13BB-4197-AA1D-2824E2FCA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dating DAPS Data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y Metca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AA GOES DCS Program Mana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mber 11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PDT fl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NY REQUIRED FIELDS ARE LEFT BLANK, THE PDT_COMPLETE FLAG IS SET BY THE SYSTEM TO “N”, AND AN ERROR MESSAGE IS GENERA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ALL REQUIRED FIELDS ARE COMPLETE, SYSTEM AUTOMATICALLY RESETS PDT_COMPLETE FLAG TO “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T OF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Y IS IN DATA GENERAL COMMAND LINE STRUCTU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DT CE12E34A PRIME_PREAMBLE S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DT CE12E34A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ME_PREAMBLE S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ND_PREAMBLE S &amp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_CODE C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Y ENTER AS MANY FIELDS AS NECESSARY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L-IN MODEM TO TELEPHONE NUMB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57-824-0105 (ROTARY WITH 10 LIN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 TO WEB PAGE “http://dcs.noaa.gov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on TELNET to DA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NET direc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 address 128.154.62.17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 ORDER TO TELNET TO DAPS, YOU MUST HAVE YOUR NAME AND IP ADDRESS ADDED TO A HOST TABLE, AND/OR OBTAIN A USERID/PASSWORD FOR OUR FIREWALL.  PLEASE EMAIL USERID, EMAIL ADDRESS AND IP ADDRESS, AND WHETHER YOU WILL NEED A PASSWORD FOR MULTIPLE OR REMOTE SITES BEFORE BEGINNING A TELNET SESSION.  SEND MESSAGES TO “GOES.DCS@NOAA.GOV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Database 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DCS Users are Responsible for Maintaining and Updating Database Entries in D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Description Table (UD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ational and Contact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form Description Table (PD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tenance Contact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NY ENTRIES WITH EMBEDDED BLANKS SHOULD BE SURROUNDED BY QUOTATION MARKS (“ “ OR ‘ ‘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MGR Updated UDT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_TYPE * (Type of user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: Fed.Government, S: State, D: Domestic, C: Canada, O: Oth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_NAME * User organization name PARENT_NAME Parent organization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_NAME Major organization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A_ID * Name of organization for MO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E_MEDIUM * Primary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: DOMSAT, T: Telephone, N: NMC, G: Direct Readout G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OWNER Updated UDT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NAME_LAST * Operating official's last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NAME_FIRST * Operating official's first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ADDR_LINE1 Operating official's address, first l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Box #, Building, Suite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ADDR_LINE2 Operating official's address, 2nd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treet, Avenue, etc.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R_CITY Operating official's 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STATE_PROV Operating official's state or provi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lso used for country if USER_TYPE = 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ZIP_CODE Operating official's zip code OPR_PHONE # Operating official's phon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FAX # Operating official's FAX ph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MGR Updated PDT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WNER_ID * Owner user ID (must be in UD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E_TYPE * Primary ty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: Self‑timed, I: Interrogate, R: Random, D: Du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E_CHAN * Primary channel: 1 ‑ 266 PRIME_SCID * Primary GOES spacecraft assigned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: East, W: We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ND_TYPE Secondary ty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: Random, I: Interrogate, or Nu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ND_CHAN Secondary channel: 1 ‑ 2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ND_SCID Secondary GOES spacecraft assigned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: East, W: West, or Nu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MGR Updated PDT Fields (Co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_XMT HHMMSS form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 of first transmission for S/D type platf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 of first interrogation for I type platf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T_PERIOD in HHMM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 period between transmissions (S/D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 period between interrogations (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T_WIND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transmission window size in MMSS (S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T_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transmission rate in bps (100/300/12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E_MEDIUM * Primary mediu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: DOMSAT, T: Telephone, N: NMC, G: Direct Readout G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Owner Updated PDT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_FORMAT A: ASCII, B: Bi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E_PREAMBLE L: Long, S: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ND_PREAMBLE (If SECND_TYPE NE “ “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_CODE Three character location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_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: United States, B: Canada, C: South America, O: Oth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_NAME Location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ITUDE Latitude in DDMM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ITUDE Longitude in DDMM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Owner Updated PDT Fields (Co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Platform catego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: Fixed‑buoy, D: Drifting‑buoy, A: Aircraft, S: Ship                B: Balloon, L: Land‑based O: Oth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F_CODE1 Shef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UFACTR_ID DCPRS manuf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_NO DCPRS model numb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SON_ID Seasonal indic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_DEPLOY Date deployed (YYYYMMD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Owner Updated PDT Fields (Co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MAINT_NAME Maintenance official name PMAINT_PHONE Maintenance official ph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MAINT_FAX Maintenance official FAX ph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SE 3 FIELDS ARE CRITICAL SO THAT WE MAY HAVE A CONTACT NUMBER IN CASE OF AN IMPROPERLY OPERATING PLAT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18:17:20Z</dcterms:created>
  <dc:creator>Kay Metcalf</dc:creator>
  <dc:description/>
  <dc:language>en-US</dc:language>
  <cp:lastModifiedBy>Direct Services Division</cp:lastModifiedBy>
  <cp:lastPrinted>2001-12-08T19:41:59Z</cp:lastPrinted>
  <dcterms:modified xsi:type="dcterms:W3CDTF">2001-12-13T12:28:25Z</dcterms:modified>
  <cp:revision>11</cp:revision>
  <dc:subject/>
  <dc:title>Updating DAPS Databases</dc:title>
</cp:coreProperties>
</file>