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2A5-1040-4DA5-AD35-9F1F109B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8F7-B5BC-444F-A02D-0E7FF143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634-9ECB-40DF-ABD8-E8A3F907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99D-0528-4FE8-BFA4-6AD9F0D0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31E-8E50-4D41-940D-DAF1361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0A4-5ACC-4FF9-9DAA-257B77A4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BE5-D388-40C2-96B5-4D5AA7E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056-B94F-4CEA-9A73-5C6BF323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DCC-A426-4394-AF3C-8FB2C87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829-78E8-4431-900B-C558CBB2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E52-49E6-4471-A091-961E0225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C06-E102-46DF-B9B0-191BFFA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1150-51E7-4F2E-B4E0-6C7F52308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fessionalization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ergenc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ckground, training, and the fundamental role of emergency managers, within the practice of emergency management, has continued to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1BB-32FF-4E5B-90C8-9CB5302BD1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reasing strength, size, and number of natural disast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te change is occurring; points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ncreases in disaster size, severity, and nu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catastrophic potent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nature of the nation’s hazard prof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need for regional coope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79C-4E4C-405D-8914-62E948F864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spect of disaster-driven global instabil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 change has become a national security 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a link between emergency management an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 change will create conditions in the affected countries that contribute to a loss of stability affecting the United States both directly and in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that follows major disasters must allow for a viabl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AFF-981F-4B60-9925-A860993CC5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estic emergency managers must work with the international emergency management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maintains two distinct emergency management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connect exists between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crises have international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8BA-6E8D-4DD8-B625-6BA3F12EE0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 Academic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grown from fewer than 10 (1990s) to hundreds of programs (late 200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offered at the certificate, bachelor, master, and doctorate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ggering and growing range of course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other disciplines, emergency management is still in its inf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D77-1C71-4D33-BB7D-521D6767B7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mestic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zards and hazard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ng influences and philosop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and government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D15-44B6-4934-8DD5-960B7E53BD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 Emergenc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most advanced and best funded systems in the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tioners do not yet possess all of the answers to problems with hazards and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’ experience is but one of hundreds that exis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122-85AA-4010-B295-49131F048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ssons from Abr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 and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i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A39-B9BA-4345-AE5C-537A373AE2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ergency Management Prof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d with creating the framework within which communities reduce vulnerability to hazards and cope with disaster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lanchard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D8E-01FA-47BC-B1AF-09E9B9243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ign Systems Discou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age of courses, resources, and instr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ical evolution of emergency management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C62-25A2-4065-930F-F65A035D5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wth in Interest in Comparative Emergency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involvement by the nongovernmental and private sectors in domestic emergency managem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strength, size, and number of natural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spect of disaster-driven global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ing likelihood of scenarios where domestic emergency managers must work with the international emergency management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9A6-5C94-44D6-B7FE-2C895EB15A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er involvement by the nongovernmental and private sectors in domestic emergency managem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, nongovernmental, nonprofit, and private organizations augment deficient national capac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organizations have attained proficiency in their areas of expertise, and are regarded as being appropriately equipped, adequately staffed and trained, and often very well f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has been done to formalize such a system in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8DD-AE65-4CFC-8373-660126345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4:56:47Z</dcterms:created>
  <dc:creator>DPC</dc:creator>
  <dc:description/>
  <dc:language>en-US</dc:language>
  <cp:lastModifiedBy>bjohnso4</cp:lastModifiedBy>
  <dcterms:modified xsi:type="dcterms:W3CDTF">2008-05-02T14:23:16Z</dcterms:modified>
  <cp:revision>11</cp:revision>
  <dc:subject/>
  <dc:title>Professionalization of  Emergency Management</dc:title>
</cp:coreProperties>
</file>