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F85-6535-4DB0-A237-DF47F0A9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EA3-351C-4832-AC6E-AC659AC4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AAD-F56D-4E87-A701-A3A7D61E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2B5-04AB-431D-B9F2-0CF37216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1907-FD30-4505-A260-460DEEFD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535D-394F-419D-8CFD-31BBE5C5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A8A-4D7A-4E6B-954D-637CDEF7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2395-0C27-4BD6-9780-2AC3F789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3EAF-D35D-490E-AD9A-25FB8277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EE77-D773-41A8-8CF1-8A3F4C3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88F-D673-402A-873B-6A28FDF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644-D847-40D8-82D3-15CBE72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39B8-703C-48C0-9739-66828DC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D91-F3AD-462A-80D1-4601390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11D3-B187-4C61-A8C0-6459C63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856D-71C7-4784-B07C-BB4FD08A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DC71-3207-45E0-96E7-AA706D75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48EA-9913-4A29-8CC0-A9BBD52C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6B1B-A236-4346-955A-A85A910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15A8-9C57-4D63-B18B-A9F71E2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384B-7A9F-4756-952B-D978E00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6C9B-E4AB-41F6-9695-166CDF2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511-CC96-4695-9800-2CC75F7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43EA-C159-4FF4-B060-C054BC57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2953-5DAD-4219-A32A-849DEB8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4668-EB28-441E-83F9-76D41EA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B7DE-3708-4506-AFB5-876B88C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AAB7-F099-4054-981D-206F3E1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22CF-5306-425A-B9CB-F7D068CC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EC77-404E-4FA6-9E16-FCE9DAEA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FF3-2C62-46E6-A938-DEA41C1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F5E-6380-43B1-97BB-9AD3A576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5DB-B777-49C4-A439-A94EFEB8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F33-91DE-4388-B904-ED317F3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545-D400-44C5-9E0E-0762FD1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E1F-4505-4B69-A55E-FBF45ED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319C-2DFE-4E5F-AC61-0533CBD163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90B-2226-48EA-921B-337FD6A68F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DA6E-FC3F-4B99-8FDB-AD5C287FF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UNA</a:t>
            </a:r>
            <a:br>
              <a:rPr sz="5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odankyla validation campaig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chard McPeters and Bojan Boj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ASA/GSF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Mary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77320" y="228600"/>
          <a:ext cx="8427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28600"/>
                    <a:ext cx="842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029600" y="6172200"/>
            <a:ext cx="70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ra Science Team, Pasadena CA                                          October 1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152280"/>
          <a:ext cx="121788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52280"/>
                    <a:ext cx="12178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column ozone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l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tellite measurements agree within 2-3% glob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ces at low sun, high column amounts, high reflectivities, et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to verify the accuracy of ground-based measurements for satellite validation purpo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column ozone issues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an attempt to better understand the column issues, NASA, ESA and FMI conducted two field campa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during high column, low sun periods in Northern Finl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UNA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rch-April 200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UNA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ebruary-April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bined network instruments: Dobsons, Brewers, DOAS, sondes and LID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d World and European standard instru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olved more than 30 Scientists from 12 institutes in 10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80880" y="0"/>
          <a:ext cx="8305920" cy="64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355760" y="5518080"/>
            <a:ext cx="70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zone measurements made by double Brewer throughout the day on April 5, 2006. The double Brewer is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ssume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be accurate for SZA &lt; 8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80880" y="0"/>
          <a:ext cx="8305920" cy="64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08040" y="551808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bson measurements made with AD pair to ~65° SZA, the switch to CD p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80880" y="0"/>
          <a:ext cx="8305920" cy="64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812960" y="5442120"/>
            <a:ext cx="64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MI agreed well with ground based measurements during two overpasses. Single Brewer shows some error at high SZA (high slant column ozon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28880" y="746280"/>
          <a:ext cx="7086600" cy="53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746280"/>
                    <a:ext cx="708660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25640" y="701640"/>
          <a:ext cx="709272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701640"/>
                    <a:ext cx="709272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UNA (column) 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UNA behavior seen at other high and mid-latitude s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ta from double Brewers should be used for Aura ozone validation at high solar zenith ang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te of the network calibration (Brewer and Dobson) are uncertain and may require improv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 improved GB calibration, differences most probably due to ozone X-sections uncertain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gh spectral resolved X-section required which can be used by both satellites and ground-based instru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9:32:15Z</dcterms:created>
  <dc:creator>Rich McPeters</dc:creator>
  <dc:description/>
  <dc:language>en-US</dc:language>
  <cp:lastModifiedBy>Richard McPeters</cp:lastModifiedBy>
  <dcterms:modified xsi:type="dcterms:W3CDTF">2007-10-01T15:12:55Z</dcterms:modified>
  <cp:revision>13</cp:revision>
  <dc:subject/>
  <dc:title>SAUNA</dc:title>
</cp:coreProperties>
</file>