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A61-33A1-40E6-A9FA-9F6B362F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746-1A62-429B-84B0-E9496B1E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35C-DBCF-4CBF-AC63-FFEC7E1F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C16-8457-4B73-9D1A-70A597A7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E221-1330-4701-A6E4-07F3741E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3B89-2CDE-4311-B558-DD789062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12B9-360A-46C6-B953-D09E91EA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E625-9944-4278-8FBF-FA467EB6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4FEB-2266-4D2D-AE5E-7CE850ED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EA59-DA1F-49AD-9B5C-E95A98DE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18EB-D671-4C11-951E-6BDC73E0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7C1F-CD3C-4891-9BDC-68E9CD37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EE1B-3354-48A6-B9D8-240A1EB2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A039-1F98-4B92-BF4A-D50F2DA1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EB88-CA5D-4A18-A4BE-77F4D9EE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01FC-330A-4464-B88B-0097543E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DBBE-D0F1-4711-B64A-6D66DB20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21C-1FBC-400C-9AE8-5817485B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E54-2F1E-46EC-8437-13541BD5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822-266A-4F17-8022-C98CB93D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013-6CF7-476D-A72C-78D47F21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A2C-5187-49CF-A466-8A055BAE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A00-E862-40F0-95A1-19EEAF30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B30-41DF-46AC-81B7-5453D04C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9DDE-E22F-4086-AD11-FDBF077AFD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9A12-EC0F-445A-868C-ACFFA97E5F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fm.ars.usda.gov/ppweb/" TargetMode="External"/><Relationship Id="rId2" Type="http://schemas.openxmlformats.org/officeDocument/2006/relationships/hyperlink" Target="http://www.mwa.ars.usda.gov/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REASONABLE ACCOMMODA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Observance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ability Awareness Mon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ober,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ffec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of Impairment on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hat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vidual’s Life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ation as to whether an individual is substantially limited must always be based on the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effe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an impairment or condition of life of a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particular pers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Tahoma"/>
              </a:rPr>
              <a:t>Are “Temporary Disabilities” Covered?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long an impairment lasts is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actor to be considered,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 by it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look at the extent, duration, and impact of the impair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rd of a Substantially Limiting Cond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a record of such an impairme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*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ects people having a history of a disability, whether or not they currently are substantially limited in a major lif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garded as Having Substantially Limiting Condi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regarded as having such impairme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6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*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60240" indent="-660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ects people who are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stantially limited in a major life activity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perceived to have such a limi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Is a “Qualified Individual with a Disability”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Protects </a:t>
            </a:r>
            <a:r>
              <a:rPr b="0" lang="en-US" sz="2800" spc="-1" strike="noStrike">
                <a:solidFill>
                  <a:srgbClr val="a202a2"/>
                </a:solidFill>
                <a:latin typeface="Tahoma"/>
              </a:rPr>
              <a:t>Qualifie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s with Disabilities from Employment Discrimination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 with a disability who “. . . satisfies the </a:t>
            </a:r>
            <a:r>
              <a:rPr b="0" lang="en-US" sz="2800" spc="-1" strike="noStrike">
                <a:solidFill>
                  <a:srgbClr val="a202a2"/>
                </a:solidFill>
                <a:latin typeface="Tahoma"/>
              </a:rPr>
              <a:t>requisite ski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experience, education and other job-related requirements of the employment position such individual holds or desires, and who, </a:t>
            </a:r>
            <a:r>
              <a:rPr b="0" lang="en-US" sz="2800" spc="-1" strike="noStrike">
                <a:solidFill>
                  <a:srgbClr val="a202a2"/>
                </a:solidFill>
                <a:latin typeface="Tahoma"/>
              </a:rPr>
              <a:t>with or without reasonable accommod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can perform the </a:t>
            </a:r>
            <a:r>
              <a:rPr b="0" lang="en-US" sz="2800" spc="-1" strike="noStrike">
                <a:solidFill>
                  <a:srgbClr val="a202a2"/>
                </a:solidFill>
                <a:latin typeface="Tahoma"/>
              </a:rPr>
              <a:t>essential func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such position.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1 -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 Prerequisites for Job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e4a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202a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ce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rtif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a47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Job-Related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2 –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form Essential Function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if individual can perform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essential func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the job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 with or without reasonable accommod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ing “essential functions of the job”;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ing whether the person with a disability can perform these functions, unaided or with a “</a:t>
            </a:r>
            <a:r>
              <a:rPr b="0" lang="en-US" sz="2800" spc="-1" strike="noStrike">
                <a:solidFill>
                  <a:srgbClr val="a202a2"/>
                </a:solidFill>
                <a:latin typeface="Tahoma"/>
              </a:rPr>
              <a:t>reasonable accommod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Is Reasonable Accommodation Appli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ree aspects of employmen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pplication process; e.g. wheelchair accessibility to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erform essential functions of job; e.g., restructuring a job by redistributing marginal job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e4a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njoy equal benefits and privileges of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202a2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al access to lunchrooms, rest rooms, meeting room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a47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al opportunities for advancement, training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due Hardsh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hange or modification is required if accommodation would impose an “undue hardship” on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specific accommodation requiring significant difficulty or expe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statutory limi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4a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ation is made on case-by-case ba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Is Reasonable Accommodation Not Requir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erson has not been determined to be a “qualified individual with a disability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commodation would impose an undue hardship on th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do so would lower quality or production 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e4a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ccommodation would provide personal-use items; e.g., glasses, hearing aid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ere Did the Term Come From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1992 Amendment to the Rehabilitation Act of 197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came from the Americans with Disabilities 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to Request Reasonable Accommoda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responsibility of the applicant or employee with a disability to request a reasonable accommod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icant Not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loyers are responsible for notifying job applicants of their obligation to provide accommod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S vacancy announcements include such a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view applicants should be asked if an accommodation is needed for the intervie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e4a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eed is indicated, then applicant should be asked what type of accommod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view Questions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-Employment Inqui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sk questions about an applicant’s ability to perform specific job functions as long as not phrased in terms of a di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sk </a:t>
            </a:r>
            <a:r>
              <a:rPr b="0" lang="en-US" sz="2800" spc="-1" strike="noStrike">
                <a:solidFill>
                  <a:srgbClr val="a202a2"/>
                </a:solidFill>
                <a:latin typeface="Tahoma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pplicants to describe how they will perform a job, with or without accommo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 make an inquiry about a di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e4a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 make medical inquiries or conduct medical exam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ployee Requests and Responsi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made orally or in writing to first- or second-level supervisor or ARS Disability Program Manager, Mary W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ggest accommod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e to medical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 REE-172 may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tes in interactive process to clarify nee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e4a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eed to provide medical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ervisor Responsi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s reasonable accommodation requ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gages in interactive process to clarify what employee nee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s ARS Disability Program Manager, Mary Ward with Civil Rights Sta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4a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s confidenti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202a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expeditious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47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s Form REE-17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olicy and Procedure 122.2, Reasonable Accommodation Proced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guidance for employees and supervis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time frames for processing requ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a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e4a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afm.ars.usda.gov/ppweb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e4a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al Opportunity/Civil Rights portion of the MWA’s web site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mwa.ars.usda.gov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S’ Disability Program Manag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y W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with Civil Rights Staf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:  202-690-037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fundamental statutory requir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ves workplace barriers for qualified individuals with dis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determined by facts of each particular c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4a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provided on a case-by-case ba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oes the Term Me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orkplace modification so the individual with a disability c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y for a job; e.g., provide application form in large pr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 the essential functions of the job; e.g., install screen magnification software on a 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e4a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joy the job benefits; e.g., rearrange work station to accommodate a wheel ch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Does the Act Cov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protects </a:t>
            </a:r>
            <a:r>
              <a:rPr b="0" lang="en-US" sz="2800" spc="-1" strike="noStrike">
                <a:solidFill>
                  <a:srgbClr val="a202a2"/>
                </a:solidFill>
                <a:latin typeface="Tahoma"/>
              </a:rPr>
              <a:t>Qualified Individuals with Disabilit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rom Employment Discri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a “disability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is a “qualified individual with a disability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o Is an “Individual with a Disability”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a physical or mental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impair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at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substantially limi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ne or more of the person’s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major life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a record of such an impairment; 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regarded as having such an impair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What Is an “Impairment”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a physical or mental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impair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at substantially limits one or more of the person’s major lif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*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hysical or mental dis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determined by use of medication or assistive de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“…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ne or more of the person’s </a:t>
            </a:r>
            <a:r>
              <a:rPr b="0" lang="en-US" sz="3600" spc="-1" strike="noStrike">
                <a:solidFill>
                  <a:srgbClr val="a202a2"/>
                </a:solidFill>
                <a:latin typeface="Tahoma"/>
              </a:rPr>
              <a:t>major life activiti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” –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at is a “Major Life Activity”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function that the average person can perform with little or no difficulty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2017440"/>
            <a:ext cx="43066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l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ea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ing manual ta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ing for ones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“Substantially Limits”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a physical or mental impairment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substantially limi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ne or more of the person’s major lif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*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 is unable to perform, or is  significantly limited in his/her ability to perform, an activity compared to an average per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 Determine if Impairment Substantially Limits Major Life Activity, Consider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severity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long it will last or is expected to las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permanent or long-term impact, or expected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9:14:19Z</dcterms:created>
  <dc:creator>mwa</dc:creator>
  <dc:description/>
  <dc:language>en-US</dc:language>
  <cp:lastModifiedBy>mernickb</cp:lastModifiedBy>
  <dcterms:modified xsi:type="dcterms:W3CDTF">2005-10-20T13:47:31Z</dcterms:modified>
  <cp:revision>177</cp:revision>
  <dc:subject/>
  <dc:title>REASONABLE ACCOMMO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