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2E5-D641-4C98-A4FB-18F408B8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104-121E-4CB6-B834-86FEECA2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099-67BF-4E17-B840-F2268E7F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9A0-0516-4589-9E21-ED67C507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3F40-BE15-4CC2-B514-32C85568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9854-06DF-4CBE-BD0C-C3F49F41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0CC1-C801-4211-A0C4-87E8CACA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4E3-1958-4460-AD99-DF25823D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D74E-171C-47FD-B753-AF3B15F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9B81-9BDD-4ADB-A583-D257D5F0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E9E5-FB3D-478F-800B-FD98062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9DA-739B-4A4D-A416-E545823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F86C-3DCB-4D8B-AB39-C3A1CF5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F07D-8D03-4AF0-BBE4-B2FA3D8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A953-2A83-41A0-8D9D-47B6474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4607-CF85-4280-9688-27C44EFC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113-A064-49F0-BF2E-428D1D9D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83A-0D74-4697-AE68-0AC1E30F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147-6984-4435-9D39-D27242AD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F69-8E4E-43D0-A68B-C1E8136E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BFF-1C3D-4641-80B3-D0893339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38A-3FF3-4C76-9C22-BD204DBE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BC6-3DEF-495D-ADD8-25B7D91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F69-BD5A-4A03-ABA3-F95229A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515-A77B-420B-A849-5F4271785B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084B-6087-4BBB-B2A8-40A3E16436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munity Capability Building for Post 9/11 Terrorism Preparednes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41907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nces Edwards, Ph.D., C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or, City of San Jose OES/MMT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ce Chair, Collaborative for Disaster Mitigation, San Jose State Univers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A275-80AC-4320-81DC-875CCACCDC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pability After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k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ood wri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ability including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itical thi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llectual curi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lexible personal sty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lexible leadership sty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nsitivity to oth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BD06990_" descr=""/>
          <p:cNvPicPr/>
          <p:nvPr/>
        </p:nvPicPr>
        <p:blipFill>
          <a:blip r:embed="rId1"/>
          <a:stretch/>
        </p:blipFill>
        <p:spPr>
          <a:xfrm>
            <a:off x="5181480" y="3543480"/>
            <a:ext cx="3332160" cy="28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9AE-FD1C-4F3E-A6AD-6C8D54F448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pability After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vernment lea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ty lea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ty memb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p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v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BD05545_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30E-A55E-4315-8D9B-8CF26D66B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do we hi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m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road liberal arts background: political science, public administration, journalism, social sci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etency will develop over time through experience and mento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25A-6CED-4A9F-8EDA-921E6D3FC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owing the emergency manager of the 21</a:t>
            </a:r>
            <a:r>
              <a:rPr b="0" i="1" lang="en-US" sz="4400" spc="-1" strike="noStrike" baseline="30000">
                <a:solidFill>
                  <a:srgbClr val="ffcc66"/>
                </a:solidFill>
                <a:latin typeface="Times New Roman"/>
              </a:rPr>
              <a:t>st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centu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ademics, practitioners, professional organiz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to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nshi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ent member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PA SEC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A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D06517_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309888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4B9-E715-4595-9C2F-25FD8B1D6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ey to community safe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ergency managers will never be the heroes, but they are the lynchpins that hold the community together through every disas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E01561_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67B-7BBE-4373-BD29-E12503FFE2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aker Contact Inform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ances Edwards-Winslow, Ph.D., C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or, City of San Jose Office of Emergency Servic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ww.ci.san-jose.ca.us/oes/oes.ht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or, San Jose Metropolitan Medical Task For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55 N. San Pedro Street, San Jose, 951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08-277-4595;frances.winslow@ci.sj.ca.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4CC-0F66-4E15-ABC0-7F5C5C7E88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noring the Mem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ay Downe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Jack Fan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ef officers of FDNY who gave their lives at the World Trade Center Command Post, September 11, 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bd07292_" descr="Fire truck."/>
          <p:cNvPicPr/>
          <p:nvPr/>
        </p:nvPicPr>
        <p:blipFill>
          <a:blip r:embed="rId1"/>
          <a:stretch/>
        </p:blipFill>
        <p:spPr>
          <a:xfrm>
            <a:off x="4419720" y="2666880"/>
            <a:ext cx="4038480" cy="248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04D-A16E-4CEA-BC1A-F4D0A39AE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ergency Management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fore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50’s Civil Defen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60’s Natural disas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70’s Three Mile Is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t analysis and risk assess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unity education for emergency prepared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inuity planning for the government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ly male, former milit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329-41EB-49FB-BE0C-3B5C6F0B2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ergency Management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fore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80’s All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ergency Management Instit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 Independent Study cour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 Professional Development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fessional certification - C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ademic cen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 Delaw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 Southern Californ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 Colorado, Boul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SF Quick Response Gra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rtificate programs in UC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9B8-D7DD-4471-B7F4-2EB27A977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ergency Management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fore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0’s multiple natural hazard catastrophic ev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akland Hills Firestorm: S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rricane Andrew: insurance surcharge, professional EM for every coun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west flooding: FEMA FRP &amp; ESF’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thridge Earthquake: 800 num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stern flo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376-93FB-4F3B-B307-F75BE6E548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rroris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3 World Trade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5 Tokyo Sarin at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5 Murrah Building bomb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mestic Preparedness Progr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OD, DHHS, DOJ, FEMA, EPA, DO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2 largest cities – no sustainment fun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w level of knowledge: NBC weapons, medical 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2K millenial, militia, Seattle/LA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C8F-9ECB-4AE3-861A-BA1058392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orld Trade Center, 9/11/0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ated MMTF, DMATs, USARs, Search Do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loyed National Pharmaceutical Stockp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a intensive- interviews in TV, radio, pr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ed officials’ brief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presentations on preparedness:Rotary, Kiwanis, TV/Radio talk shows, educational administrators (k-12 and universit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oss over from pure law enforcement to emergency management: MCI &amp; crime sce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6E5-0DAF-4FCC-AF00-9A227A481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fter 9/11: New Mi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ilitator for cross departmental terrorism response plan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, Police, EMS – original MMTF partn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Works, General Services,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mmend security changes for public organizations: badges, CAN, new entrances, security gu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A3E-B305-4F48-B300-14F585E956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pability After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stand the work of government departments, 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 with elected offic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preciate the difficulty of raising reven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g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munity: languages, ethnicities, age, wealth, educational levels, economic 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403-1012-4021-B14B-8A556D3587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22:23:15Z</dcterms:created>
  <dc:creator>fwinslow</dc:creator>
  <dc:description/>
  <dc:language>en-US</dc:language>
  <cp:lastModifiedBy>ryuan</cp:lastModifiedBy>
  <dcterms:modified xsi:type="dcterms:W3CDTF">2003-10-23T18:51:52Z</dcterms:modified>
  <cp:revision>6</cp:revision>
  <dc:subject/>
  <dc:title>Community Capability Building for Post 9/11 Terrorism Preparedness</dc:title>
</cp:coreProperties>
</file>