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7.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9377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3ECD4-E8DE-47B5-961C-94A4A3915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3703680" y="950904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3703680" y="1982592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A6F3-518B-471E-A63C-80F0C720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370368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2520936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35002-4DE8-4C74-B756-D1B6D959A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370368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789380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3208392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370368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789380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3208392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3C4B0-07A4-4ADC-A3BC-917462DF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3703680" y="9509040"/>
            <a:ext cx="41970240" cy="1975176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3759-3D6F-4066-B125-E72AA90B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3703680" y="9509040"/>
            <a:ext cx="4197024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A3A8-4E53-457C-AFC7-F31CFC58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370368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2520936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F2A2-9C39-4389-B63B-948E7AFCE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CEC1-843B-455C-AD9F-268A6E83A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03680" y="2925720"/>
            <a:ext cx="41970240" cy="2543292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BCD1-72D0-4C7F-A813-A2590147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2520936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370368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2D96-00CF-4611-99CD-536EE9C2F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370368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2520936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3635-7108-4A4B-9E96-E4A9C66D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3703680" y="1982592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8306-F302-44A3-8896-F1BB937BE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3703680" y="9509040"/>
            <a:ext cx="41970240" cy="19751760"/>
          </a:xfrm>
          <a:prstGeom prst="rect">
            <a:avLst/>
          </a:prstGeom>
          <a:noFill/>
          <a:ln w="0">
            <a:noFill/>
          </a:ln>
        </p:spPr>
        <p:txBody>
          <a:bodyPr lIns="470160" rIns="470160" tIns="235080" bIns="235080" anchor="t">
            <a:normAutofit fontScale="92000"/>
          </a:bodyPr>
          <a:p>
            <a:pPr marL="1622520" indent="-162252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515040" indent="-13521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407920" indent="-108180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7571160" indent="-10821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3703320" y="29992680"/>
            <a:ext cx="10287000" cy="219384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6870320" y="29992680"/>
            <a:ext cx="15636960" cy="219384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5386560" y="29992680"/>
            <a:ext cx="10287000" cy="219384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CAA04997-86B8-4A8F-9680-D2E158084A4F}"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package" Target="../embeddings/oleObject7.xlsx"/><Relationship Id="rId14" Type="http://schemas.openxmlformats.org/officeDocument/2006/relationships/image" Target="../media/image7.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5204400" y="8686800"/>
          <a:ext cx="7696080" cy="5981760"/>
        </p:xfrm>
        <a:graphic>
          <a:graphicData uri="http://schemas.openxmlformats.org/presentationml/2006/ole">
            <p:oleObj r:id="rId1" spid="">
              <p:embed/>
              <p:pic>
                <p:nvPicPr>
                  <p:cNvPr id="42" name="" descr=""/>
                  <p:cNvPicPr/>
                  <p:nvPr/>
                </p:nvPicPr>
                <p:blipFill>
                  <a:blip r:embed="rId2"/>
                  <a:stretch/>
                </p:blipFill>
                <p:spPr>
                  <a:xfrm>
                    <a:off x="35204400" y="8686800"/>
                    <a:ext cx="7696080" cy="5981760"/>
                  </a:xfrm>
                  <a:prstGeom prst="rect">
                    <a:avLst/>
                  </a:prstGeom>
                  <a:ln w="0">
                    <a:noFill/>
                  </a:ln>
                </p:spPr>
              </p:pic>
            </p:oleObj>
          </a:graphicData>
        </a:graphic>
      </p:graphicFrame>
      <p:sp>
        <p:nvSpPr>
          <p:cNvPr id="43" name=""/>
          <p:cNvSpPr/>
          <p:nvPr/>
        </p:nvSpPr>
        <p:spPr>
          <a:xfrm>
            <a:off x="18312120" y="1295280"/>
            <a:ext cx="1348812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SOIL RESPIRATION STUDIES</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AT THE NIWOT RIDGE </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AMERIFLUX SITE</a:t>
            </a:r>
            <a:endParaRPr b="0" lang="en-US" sz="8000" spc="-1" strike="noStrike">
              <a:solidFill>
                <a:srgbClr val="000000"/>
              </a:solidFill>
              <a:latin typeface="Times New Roman"/>
            </a:endParaRPr>
          </a:p>
        </p:txBody>
      </p:sp>
      <p:sp>
        <p:nvSpPr>
          <p:cNvPr id="44" name=""/>
          <p:cNvSpPr/>
          <p:nvPr/>
        </p:nvSpPr>
        <p:spPr>
          <a:xfrm>
            <a:off x="0" y="0"/>
            <a:ext cx="533520" cy="329184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0964960" y="5105520"/>
            <a:ext cx="8417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 Scott-Denton and R.K. Monso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University of Colorado at Boulder</a:t>
            </a:r>
            <a:endParaRPr b="0" lang="en-US" sz="4000" spc="-1" strike="noStrike">
              <a:solidFill>
                <a:srgbClr val="000000"/>
              </a:solidFill>
              <a:latin typeface="Times New Roman"/>
            </a:endParaRPr>
          </a:p>
        </p:txBody>
      </p:sp>
      <p:sp>
        <p:nvSpPr>
          <p:cNvPr id="46" name=""/>
          <p:cNvSpPr/>
          <p:nvPr/>
        </p:nvSpPr>
        <p:spPr>
          <a:xfrm>
            <a:off x="10058400" y="1066680"/>
            <a:ext cx="7924680" cy="145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  </a:t>
            </a:r>
            <a:r>
              <a:rPr b="0" lang="en-US" sz="4000" spc="-1" strike="noStrike">
                <a:solidFill>
                  <a:srgbClr val="ff0000"/>
                </a:solidFill>
                <a:latin typeface="Trebuchet MS"/>
              </a:rPr>
              <a:t>SEASONAL CONTROL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clarify how soil moisture and soil temperature control soil respiration 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e monitored soil respiration rates, soil temperature, and soil moisture at permanently established transects over three summers (Fig. 1).  Soil temperature and julian date were both found to be important to explain summer trends is soil respiration rate, whereas soil moisture was not a significant predictor (Table 1).  However differences in soil moisture between years seemed to limit summer respiration maximums.  The effects of moisture are likely obscured by the timing of the two major moisture inputs: both at the beginning of the season (snowmelt) when soil temperatures are quite low, and mid-summer (convective thunderstorms) when soil temperatures are at their maximum (Fig.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rebuchet MS"/>
              </a:rPr>
              <a:t>Conclusions</a:t>
            </a:r>
            <a:r>
              <a:rPr b="0" lang="en-US" sz="3600" spc="-1" strike="noStrike">
                <a:solidFill>
                  <a:srgbClr val="ff0000"/>
                </a:solidFill>
                <a:latin typeface="Trebuchet MS"/>
              </a:rPr>
              <a:t>: Soil moisture cannot be used to predict respiration rates perhaps due to its confounding timing with soil temperature.  However, as drought years were found to have depressed  respiration rates, moisture is an important interannual predictor of respiration</a:t>
            </a: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47" name=""/>
          <p:cNvSpPr/>
          <p:nvPr/>
        </p:nvSpPr>
        <p:spPr>
          <a:xfrm>
            <a:off x="1523880" y="19050120"/>
            <a:ext cx="15392520" cy="91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Trebuchet MS"/>
              </a:rPr>
              <a:t>2.  SPATIAL CONTROL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identify soil variables that correlate to soil respiration r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summer of 2000 we measured soil respiration rates on previously-imbedded collars then excavated soil cores from directly under the collars.  We measured a series of variables on the soil collars (Table 2) and used multiple-regression and multivariate statistical means to identify which variables predicted respiration rate.  The best predictors were microbial biomass and organic layer thickness (Table 3).  Root biomass did not correlate to soil respiration unless 5 other variables were controlled for in a multiple-regression model (Table 4).  Soil temperature did not predict point-to-point variation at this s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6699"/>
                </a:solidFill>
                <a:uFillTx/>
                <a:latin typeface="Trebuchet MS"/>
              </a:rPr>
              <a:t>Conclusions</a:t>
            </a:r>
            <a:r>
              <a:rPr b="0" lang="en-US" sz="3600" spc="-1" strike="noStrike">
                <a:solidFill>
                  <a:srgbClr val="336699"/>
                </a:solidFill>
                <a:latin typeface="Trebuchet MS"/>
              </a:rPr>
              <a:t>: Microbial biomass and organic layer thickness were found to be the best predictors of soil respiration rate.  Root biomass and temperature were found to be unimportant.  The importance of microbial rather than root biomass suggests that ectomycorrhizal fungi rather than plant roots are responsible for much of the root functioning at this site.   </a:t>
            </a:r>
            <a:r>
              <a:rPr b="0" lang="en-US" sz="3600" spc="-1" strike="noStrike">
                <a:solidFill>
                  <a:srgbClr val="000000"/>
                </a:solidFill>
                <a:latin typeface="Trebuchet MS"/>
              </a:rPr>
              <a:t> </a:t>
            </a:r>
            <a:endParaRPr b="0" lang="en-US" sz="3600" spc="-1" strike="noStrike">
              <a:solidFill>
                <a:srgbClr val="000000"/>
              </a:solidFill>
              <a:latin typeface="Times New Roman"/>
            </a:endParaRPr>
          </a:p>
        </p:txBody>
      </p:sp>
      <p:sp>
        <p:nvSpPr>
          <p:cNvPr id="48" name=""/>
          <p:cNvSpPr/>
          <p:nvPr/>
        </p:nvSpPr>
        <p:spPr>
          <a:xfrm>
            <a:off x="25831800" y="15773400"/>
            <a:ext cx="22402800" cy="783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rebuchet MS"/>
              </a:rPr>
              <a:t>  </a:t>
            </a:r>
            <a:r>
              <a:rPr b="0" lang="en-US" sz="4000" spc="-1" strike="noStrike">
                <a:solidFill>
                  <a:srgbClr val="006600"/>
                </a:solidFill>
                <a:latin typeface="Trebuchet MS"/>
              </a:rPr>
              <a:t>TREE GIRDLING</a:t>
            </a:r>
            <a:r>
              <a:rPr b="0" lang="en-US" sz="1200" spc="-1" strike="noStrike">
                <a:solidFill>
                  <a:srgbClr val="006600"/>
                </a:solidFill>
                <a:latin typeface="Trebuchet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investigate soil respiration and soil community responses to girdling tre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n lodgepole plots were selected: five were trenched and the enclosed trees girdled before the onset of spring sapflow, five were left as controls.  The goal was to cut off fresh carbon to the soil from trees’ below ground allocation.  Soil respiration rates were measured throughout the subsequent growing season (2002) and the girdled plots saw a marked depression at the summer maximum (Fig. 5).  Microbial biomass and soil soluble carbon content also revealed differing seasonal trends under manipulation (Fig. 6 &amp; 7).  Fungal-bacterial ratios and specific soil community identification will also be done for these plots (in prog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rebuchet MS"/>
              </a:rPr>
              <a:t>Conclusions</a:t>
            </a:r>
            <a:r>
              <a:rPr b="0" lang="en-US" sz="3600" spc="-1" strike="noStrike">
                <a:solidFill>
                  <a:srgbClr val="006600"/>
                </a:solidFill>
                <a:latin typeface="Trebuchet MS"/>
              </a:rPr>
              <a:t>:  Tree-mediated soil respiration accounts for approximately 45% of soil respiration flux.  However, when coupled with previous experiments at this site, it further suggests that ectomycorrhizal fungal respiration could make up a large part of soil respiration at this site.  Soluble carbon concentration seemed to peak during snowmelt in the control plots, but not in the girdled plots.  Microbial biomass seems to be less in the girdled plots, but may have seen a brief enhancement in the early season.</a:t>
            </a:r>
            <a:endParaRPr b="0" lang="en-US" sz="3600" spc="-1" strike="noStrike">
              <a:solidFill>
                <a:srgbClr val="000000"/>
              </a:solidFill>
              <a:latin typeface="Times New Roman"/>
            </a:endParaRPr>
          </a:p>
        </p:txBody>
      </p:sp>
      <p:sp>
        <p:nvSpPr>
          <p:cNvPr id="49" name=""/>
          <p:cNvSpPr/>
          <p:nvPr/>
        </p:nvSpPr>
        <p:spPr>
          <a:xfrm>
            <a:off x="32384880" y="1143000"/>
            <a:ext cx="15926040" cy="81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Trebuchet MS"/>
              </a:rPr>
              <a:t>3.  PLANT EFFECT INDEX</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create a proxy for scaling up point measurements of soil respiration r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ither distance to trees nor tree density seemed to adequately predict soil respiration rate in the spatial control experiment.  We therefore tried a composite index for every point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r>
              <a:rPr b="0" lang="en-US" sz="2800" spc="-1" strike="noStrike">
                <a:solidFill>
                  <a:srgbClr val="000000"/>
                </a:solidFill>
                <a:latin typeface="Trebuchet MS"/>
              </a:rPr>
              <a:t>V</a:t>
            </a:r>
            <a:r>
              <a:rPr b="0" lang="en-US" sz="2400" spc="-1" strike="noStrike" baseline="-25000">
                <a:solidFill>
                  <a:srgbClr val="000000"/>
                </a:solidFill>
                <a:latin typeface="Trebuchet MS"/>
              </a:rPr>
              <a:t>i</a:t>
            </a:r>
            <a:r>
              <a:rPr b="0" lang="en-US" sz="2800" spc="-1" strike="noStrike">
                <a:solidFill>
                  <a:srgbClr val="000000"/>
                </a:solidFill>
                <a:latin typeface="Trebuchet MS"/>
              </a:rPr>
              <a:t> = </a:t>
            </a:r>
            <a:r>
              <a:rPr b="0" lang="en-US" sz="2800" spc="-1" strike="noStrike">
                <a:solidFill>
                  <a:srgbClr val="000000"/>
                </a:solidFill>
                <a:latin typeface="Trebuchet MS"/>
                <a:ea typeface="Times New Roman"/>
              </a:rPr>
              <a:t>Σ { DBH</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d</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a:t>
            </a:r>
            <a:r>
              <a:rPr b="0" lang="en-US" sz="2000" spc="-1" strike="noStrike" baseline="30000">
                <a:solidFill>
                  <a:srgbClr val="000000"/>
                </a:solidFill>
                <a:latin typeface="Trebuchet MS"/>
                <a:ea typeface="Times New Roman"/>
              </a:rPr>
              <a:t>2</a:t>
            </a:r>
            <a:r>
              <a:rPr b="0" lang="en-US" sz="2800" spc="-1" strike="noStrike">
                <a:solidFill>
                  <a:srgbClr val="000000"/>
                </a:solidFill>
                <a:latin typeface="Trebuchet MS"/>
                <a:ea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where DBH</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is the diameter of a tree j, d</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is the distance to that tree, and V is summed over all trees (j) within a cut-off distance of point i (see Fig. 3). </a:t>
            </a:r>
            <a:r>
              <a:rPr b="0" lang="en-US" sz="2800" spc="-1" strike="noStrike">
                <a:solidFill>
                  <a:srgbClr val="000000"/>
                </a:solidFill>
                <a:latin typeface="Trebuchet MS"/>
              </a:rPr>
              <a:t>V</a:t>
            </a:r>
            <a:r>
              <a:rPr b="0" lang="en-US" sz="2800" spc="-1" strike="noStrike" baseline="-25000">
                <a:solidFill>
                  <a:srgbClr val="000000"/>
                </a:solidFill>
                <a:latin typeface="Trebuchet MS"/>
              </a:rPr>
              <a:t>i</a:t>
            </a:r>
            <a:r>
              <a:rPr b="0" lang="en-US" sz="2800" spc="-1" strike="noStrike">
                <a:solidFill>
                  <a:srgbClr val="000000"/>
                </a:solidFill>
                <a:latin typeface="Trebuchet MS"/>
                <a:ea typeface="Times New Roman"/>
              </a:rPr>
              <a:t> was found to correlate well to soil respiration rate (Fig. 4), but not to other examined variables, such as root biom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rebuchet MS"/>
                <a:ea typeface="Times New Roman"/>
              </a:rPr>
              <a:t>Conclusions</a:t>
            </a:r>
            <a:r>
              <a:rPr b="0" lang="en-US" sz="3600" spc="-1" strike="noStrike">
                <a:solidFill>
                  <a:srgbClr val="cc9900"/>
                </a:solidFill>
                <a:latin typeface="Trebuchet MS"/>
                <a:ea typeface="Times New Roman"/>
              </a:rPr>
              <a:t>:  A “plant effect” index (V) has been identified that correlates well to soil respiration.  Using a GPS stem-map of the plots, V can be calculated for a grid across the landscape, making an useful proxy for scaling up point measurements of soil respiration rate (in progress).</a:t>
            </a:r>
            <a:endParaRPr b="0" lang="en-US" sz="3600" spc="-1" strike="noStrike">
              <a:solidFill>
                <a:srgbClr val="000000"/>
              </a:solidFill>
              <a:latin typeface="Times New Roman"/>
            </a:endParaRPr>
          </a:p>
        </p:txBody>
      </p:sp>
      <p:graphicFrame>
        <p:nvGraphicFramePr>
          <p:cNvPr id="50" name=""/>
          <p:cNvGraphicFramePr/>
          <p:nvPr/>
        </p:nvGraphicFramePr>
        <p:xfrm>
          <a:off x="24460200" y="23815800"/>
          <a:ext cx="7970760" cy="6564240"/>
        </p:xfrm>
        <a:graphic>
          <a:graphicData uri="http://schemas.openxmlformats.org/presentationml/2006/ole">
            <p:oleObj r:id="rId3" spid="">
              <p:embed/>
              <p:pic>
                <p:nvPicPr>
                  <p:cNvPr id="51" name="" descr=""/>
                  <p:cNvPicPr/>
                  <p:nvPr/>
                </p:nvPicPr>
                <p:blipFill>
                  <a:blip r:embed="rId4"/>
                  <a:stretch/>
                </p:blipFill>
                <p:spPr>
                  <a:xfrm>
                    <a:off x="24460200" y="23815800"/>
                    <a:ext cx="7970760" cy="6564240"/>
                  </a:xfrm>
                  <a:prstGeom prst="rect">
                    <a:avLst/>
                  </a:prstGeom>
                  <a:ln w="0">
                    <a:noFill/>
                  </a:ln>
                </p:spPr>
              </p:pic>
            </p:oleObj>
          </a:graphicData>
        </a:graphic>
      </p:graphicFrame>
      <p:graphicFrame>
        <p:nvGraphicFramePr>
          <p:cNvPr id="52" name=""/>
          <p:cNvGraphicFramePr/>
          <p:nvPr/>
        </p:nvGraphicFramePr>
        <p:xfrm>
          <a:off x="32537520" y="23812560"/>
          <a:ext cx="8153280" cy="6570720"/>
        </p:xfrm>
        <a:graphic>
          <a:graphicData uri="http://schemas.openxmlformats.org/presentationml/2006/ole">
            <p:oleObj r:id="rId5" spid="">
              <p:embed/>
              <p:pic>
                <p:nvPicPr>
                  <p:cNvPr id="53" name="" descr=""/>
                  <p:cNvPicPr/>
                  <p:nvPr/>
                </p:nvPicPr>
                <p:blipFill>
                  <a:blip r:embed="rId6"/>
                  <a:stretch/>
                </p:blipFill>
                <p:spPr>
                  <a:xfrm>
                    <a:off x="32537520" y="23812560"/>
                    <a:ext cx="8153280" cy="6570720"/>
                  </a:xfrm>
                  <a:prstGeom prst="rect">
                    <a:avLst/>
                  </a:prstGeom>
                  <a:ln w="0">
                    <a:noFill/>
                  </a:ln>
                </p:spPr>
              </p:pic>
            </p:oleObj>
          </a:graphicData>
        </a:graphic>
      </p:graphicFrame>
      <p:graphicFrame>
        <p:nvGraphicFramePr>
          <p:cNvPr id="54" name=""/>
          <p:cNvGraphicFramePr/>
          <p:nvPr/>
        </p:nvGraphicFramePr>
        <p:xfrm>
          <a:off x="40614480" y="23812560"/>
          <a:ext cx="8153640" cy="6570720"/>
        </p:xfrm>
        <a:graphic>
          <a:graphicData uri="http://schemas.openxmlformats.org/presentationml/2006/ole">
            <p:oleObj r:id="rId7" spid="">
              <p:embed/>
              <p:pic>
                <p:nvPicPr>
                  <p:cNvPr id="55" name="" descr=""/>
                  <p:cNvPicPr/>
                  <p:nvPr/>
                </p:nvPicPr>
                <p:blipFill>
                  <a:blip r:embed="rId8"/>
                  <a:stretch/>
                </p:blipFill>
                <p:spPr>
                  <a:xfrm>
                    <a:off x="40614480" y="23812560"/>
                    <a:ext cx="8153640" cy="6570720"/>
                  </a:xfrm>
                  <a:prstGeom prst="rect">
                    <a:avLst/>
                  </a:prstGeom>
                  <a:ln w="0">
                    <a:noFill/>
                  </a:ln>
                </p:spPr>
              </p:pic>
            </p:oleObj>
          </a:graphicData>
        </a:graphic>
      </p:graphicFrame>
      <p:sp>
        <p:nvSpPr>
          <p:cNvPr id="56" name=""/>
          <p:cNvSpPr/>
          <p:nvPr/>
        </p:nvSpPr>
        <p:spPr>
          <a:xfrm>
            <a:off x="28081440" y="12463560"/>
            <a:ext cx="95868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005280" y="881208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398440" y="1069164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645080" y="1053936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300880" y="10026720"/>
            <a:ext cx="9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61" name=""/>
          <p:cNvSpPr/>
          <p:nvPr/>
        </p:nvSpPr>
        <p:spPr>
          <a:xfrm>
            <a:off x="32613480" y="10134720"/>
            <a:ext cx="887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62" name=""/>
          <p:cNvSpPr/>
          <p:nvPr/>
        </p:nvSpPr>
        <p:spPr>
          <a:xfrm>
            <a:off x="28874880" y="9026640"/>
            <a:ext cx="9018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63" name=""/>
          <p:cNvSpPr/>
          <p:nvPr/>
        </p:nvSpPr>
        <p:spPr>
          <a:xfrm>
            <a:off x="26961480" y="13139640"/>
            <a:ext cx="9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4</a:t>
            </a:r>
            <a:endParaRPr b="0" lang="en-US" sz="2400" spc="-1" strike="noStrike">
              <a:solidFill>
                <a:srgbClr val="000000"/>
              </a:solidFill>
              <a:latin typeface="Times New Roman"/>
            </a:endParaRPr>
          </a:p>
        </p:txBody>
      </p:sp>
      <p:sp>
        <p:nvSpPr>
          <p:cNvPr id="64" name=""/>
          <p:cNvSpPr/>
          <p:nvPr/>
        </p:nvSpPr>
        <p:spPr>
          <a:xfrm>
            <a:off x="30141720" y="10693440"/>
            <a:ext cx="27648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8949400" y="11115720"/>
            <a:ext cx="1160280" cy="140796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534120" y="10882440"/>
            <a:ext cx="1001520" cy="18864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0330720" y="10170720"/>
            <a:ext cx="58680" cy="39204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7500400" y="10882440"/>
            <a:ext cx="2496960" cy="36180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468800" y="10504440"/>
            <a:ext cx="4633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70" name=""/>
          <p:cNvSpPr/>
          <p:nvPr/>
        </p:nvSpPr>
        <p:spPr>
          <a:xfrm>
            <a:off x="30872160" y="104839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71" name=""/>
          <p:cNvSpPr/>
          <p:nvPr/>
        </p:nvSpPr>
        <p:spPr>
          <a:xfrm>
            <a:off x="29760840" y="10053720"/>
            <a:ext cx="463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72" name=""/>
          <p:cNvSpPr/>
          <p:nvPr/>
        </p:nvSpPr>
        <p:spPr>
          <a:xfrm>
            <a:off x="29025720" y="11484000"/>
            <a:ext cx="463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4</a:t>
            </a:r>
            <a:endParaRPr b="0" lang="en-US" sz="2400" spc="-1" strike="noStrike">
              <a:solidFill>
                <a:srgbClr val="000000"/>
              </a:solidFill>
              <a:latin typeface="Times New Roman"/>
            </a:endParaRPr>
          </a:p>
        </p:txBody>
      </p:sp>
      <p:sp>
        <p:nvSpPr>
          <p:cNvPr id="73" name=""/>
          <p:cNvSpPr/>
          <p:nvPr/>
        </p:nvSpPr>
        <p:spPr>
          <a:xfrm>
            <a:off x="40206960" y="12649320"/>
            <a:ext cx="14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 = 524</a:t>
            </a:r>
            <a:endParaRPr b="0" lang="en-US" sz="3200" spc="-1" strike="noStrike">
              <a:solidFill>
                <a:srgbClr val="000000"/>
              </a:solidFill>
              <a:latin typeface="Times New Roman"/>
            </a:endParaRPr>
          </a:p>
        </p:txBody>
      </p:sp>
      <p:graphicFrame>
        <p:nvGraphicFramePr>
          <p:cNvPr id="74" name=""/>
          <p:cNvGraphicFramePr/>
          <p:nvPr/>
        </p:nvGraphicFramePr>
        <p:xfrm>
          <a:off x="18173880" y="7391520"/>
          <a:ext cx="5715000" cy="8001000"/>
        </p:xfrm>
        <a:graphic>
          <a:graphicData uri="http://schemas.openxmlformats.org/presentationml/2006/ole">
            <p:oleObj r:id="rId9" spid="">
              <p:embed/>
              <p:pic>
                <p:nvPicPr>
                  <p:cNvPr id="75" name="" descr=""/>
                  <p:cNvPicPr/>
                  <p:nvPr/>
                </p:nvPicPr>
                <p:blipFill>
                  <a:blip r:embed="rId10"/>
                  <a:stretch/>
                </p:blipFill>
                <p:spPr>
                  <a:xfrm>
                    <a:off x="18173880" y="7391520"/>
                    <a:ext cx="5715000" cy="8001000"/>
                  </a:xfrm>
                  <a:prstGeom prst="rect">
                    <a:avLst/>
                  </a:prstGeom>
                  <a:ln w="0">
                    <a:noFill/>
                  </a:ln>
                </p:spPr>
              </p:pic>
            </p:oleObj>
          </a:graphicData>
        </a:graphic>
      </p:graphicFrame>
      <p:graphicFrame>
        <p:nvGraphicFramePr>
          <p:cNvPr id="76" name=""/>
          <p:cNvGraphicFramePr/>
          <p:nvPr/>
        </p:nvGraphicFramePr>
        <p:xfrm>
          <a:off x="1447920" y="11582280"/>
          <a:ext cx="8001000" cy="6323040"/>
        </p:xfrm>
        <a:graphic>
          <a:graphicData uri="http://schemas.openxmlformats.org/presentationml/2006/ole">
            <p:oleObj r:id="rId11" spid="">
              <p:embed/>
              <p:pic>
                <p:nvPicPr>
                  <p:cNvPr id="77" name="" descr=""/>
                  <p:cNvPicPr/>
                  <p:nvPr/>
                </p:nvPicPr>
                <p:blipFill>
                  <a:blip r:embed="rId12"/>
                  <a:stretch/>
                </p:blipFill>
                <p:spPr>
                  <a:xfrm>
                    <a:off x="1447920" y="11582280"/>
                    <a:ext cx="8001000" cy="6323040"/>
                  </a:xfrm>
                  <a:prstGeom prst="rect">
                    <a:avLst/>
                  </a:prstGeom>
                  <a:ln w="0">
                    <a:noFill/>
                  </a:ln>
                </p:spPr>
              </p:pic>
            </p:oleObj>
          </a:graphicData>
        </a:graphic>
      </p:graphicFrame>
      <p:sp>
        <p:nvSpPr>
          <p:cNvPr id="78" name=""/>
          <p:cNvSpPr/>
          <p:nvPr/>
        </p:nvSpPr>
        <p:spPr>
          <a:xfrm>
            <a:off x="990720" y="1066680"/>
            <a:ext cx="850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Times New Roman"/>
              </a:rPr>
              <a:t>Table 1.</a:t>
            </a:r>
            <a:r>
              <a:rPr b="0" lang="en-US" sz="1800" spc="-1" strike="noStrike">
                <a:solidFill>
                  <a:srgbClr val="000000"/>
                </a:solidFill>
                <a:latin typeface="Trebuchet MS"/>
                <a:ea typeface="Times New Roman"/>
              </a:rPr>
              <a:t>  Summary statistics of a repeated-measures, mixed hierarchical model describing the relationship of soil respiration to covariates soil temperature and soil moisture.  The model treats collars nested within plots and treats time (Julian date) as a continuous variable.</a:t>
            </a:r>
            <a:endParaRPr b="0" lang="en-US" sz="1800" spc="-1" strike="noStrike">
              <a:solidFill>
                <a:srgbClr val="000000"/>
              </a:solidFill>
              <a:latin typeface="Times New Roman"/>
            </a:endParaRPr>
          </a:p>
        </p:txBody>
      </p:sp>
      <p:grpSp>
        <p:nvGrpSpPr>
          <p:cNvPr id="79" name=""/>
          <p:cNvGrpSpPr/>
          <p:nvPr/>
        </p:nvGrpSpPr>
        <p:grpSpPr>
          <a:xfrm>
            <a:off x="914400" y="2666880"/>
            <a:ext cx="8686440" cy="2743200"/>
            <a:chOff x="914400" y="2666880"/>
            <a:chExt cx="8686440" cy="2743200"/>
          </a:xfrm>
        </p:grpSpPr>
        <p:grpSp>
          <p:nvGrpSpPr>
            <p:cNvPr id="80" name=""/>
            <p:cNvGrpSpPr/>
            <p:nvPr/>
          </p:nvGrpSpPr>
          <p:grpSpPr>
            <a:xfrm>
              <a:off x="941760" y="2682000"/>
              <a:ext cx="8630280" cy="2711880"/>
              <a:chOff x="941760" y="2682000"/>
              <a:chExt cx="8630280" cy="2711880"/>
            </a:xfrm>
          </p:grpSpPr>
          <p:grpSp>
            <p:nvGrpSpPr>
              <p:cNvPr id="81" name=""/>
              <p:cNvGrpSpPr/>
              <p:nvPr/>
            </p:nvGrpSpPr>
            <p:grpSpPr>
              <a:xfrm>
                <a:off x="941760" y="2682000"/>
                <a:ext cx="2647440" cy="452160"/>
                <a:chOff x="941760" y="2682000"/>
                <a:chExt cx="2647440" cy="452160"/>
              </a:xfrm>
            </p:grpSpPr>
            <p:sp>
              <p:nvSpPr>
                <p:cNvPr id="82" name=""/>
                <p:cNvSpPr/>
                <p:nvPr/>
              </p:nvSpPr>
              <p:spPr>
                <a:xfrm>
                  <a:off x="1033200" y="268200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99</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 name=""/>
                <p:cNvSpPr/>
                <p:nvPr/>
              </p:nvSpPr>
              <p:spPr>
                <a:xfrm>
                  <a:off x="941760" y="268200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589560" y="2682000"/>
                <a:ext cx="1407240" cy="452160"/>
                <a:chOff x="3589560" y="2682000"/>
                <a:chExt cx="1407240" cy="452160"/>
              </a:xfrm>
            </p:grpSpPr>
            <p:sp>
              <p:nvSpPr>
                <p:cNvPr id="85" name=""/>
                <p:cNvSpPr/>
                <p:nvPr/>
              </p:nvSpPr>
              <p:spPr>
                <a:xfrm>
                  <a:off x="3681000" y="26820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3589560" y="268200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997520" y="2682000"/>
                <a:ext cx="1407960" cy="452160"/>
                <a:chOff x="4997520" y="2682000"/>
                <a:chExt cx="1407960" cy="452160"/>
              </a:xfrm>
            </p:grpSpPr>
            <p:sp>
              <p:nvSpPr>
                <p:cNvPr id="88" name=""/>
                <p:cNvSpPr/>
                <p:nvPr/>
              </p:nvSpPr>
              <p:spPr>
                <a:xfrm>
                  <a:off x="5088960" y="26820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
                <p:cNvSpPr/>
                <p:nvPr/>
              </p:nvSpPr>
              <p:spPr>
                <a:xfrm>
                  <a:off x="4997520" y="268200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405840" y="2682000"/>
                <a:ext cx="947880" cy="452160"/>
                <a:chOff x="6405840" y="2682000"/>
                <a:chExt cx="947880" cy="452160"/>
              </a:xfrm>
            </p:grpSpPr>
            <p:sp>
              <p:nvSpPr>
                <p:cNvPr id="91" name=""/>
                <p:cNvSpPr/>
                <p:nvPr/>
              </p:nvSpPr>
              <p:spPr>
                <a:xfrm>
                  <a:off x="6496920" y="268200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6405840" y="268200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7354080" y="2682000"/>
                <a:ext cx="1177920" cy="452160"/>
                <a:chOff x="7354080" y="2682000"/>
                <a:chExt cx="1177920" cy="452160"/>
              </a:xfrm>
            </p:grpSpPr>
            <p:sp>
              <p:nvSpPr>
                <p:cNvPr id="94" name=""/>
                <p:cNvSpPr/>
                <p:nvPr/>
              </p:nvSpPr>
              <p:spPr>
                <a:xfrm>
                  <a:off x="7445520" y="268200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 name=""/>
                <p:cNvSpPr/>
                <p:nvPr/>
              </p:nvSpPr>
              <p:spPr>
                <a:xfrm>
                  <a:off x="7354080" y="268200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8532360" y="2682000"/>
                <a:ext cx="1039680" cy="452160"/>
                <a:chOff x="8532360" y="2682000"/>
                <a:chExt cx="1039680" cy="452160"/>
              </a:xfrm>
            </p:grpSpPr>
            <p:sp>
              <p:nvSpPr>
                <p:cNvPr id="97" name=""/>
                <p:cNvSpPr/>
                <p:nvPr/>
              </p:nvSpPr>
              <p:spPr>
                <a:xfrm>
                  <a:off x="8623800" y="268200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8532360" y="268200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941760" y="3134160"/>
                <a:ext cx="2647440" cy="451800"/>
                <a:chOff x="941760" y="3134160"/>
                <a:chExt cx="2647440" cy="451800"/>
              </a:xfrm>
            </p:grpSpPr>
            <p:sp>
              <p:nvSpPr>
                <p:cNvPr id="100" name=""/>
                <p:cNvSpPr/>
                <p:nvPr/>
              </p:nvSpPr>
              <p:spPr>
                <a:xfrm>
                  <a:off x="1033200" y="313416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 name=""/>
                <p:cNvSpPr/>
                <p:nvPr/>
              </p:nvSpPr>
              <p:spPr>
                <a:xfrm>
                  <a:off x="941760" y="313416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589560" y="3134160"/>
                <a:ext cx="1407240" cy="451800"/>
                <a:chOff x="3589560" y="3134160"/>
                <a:chExt cx="1407240" cy="451800"/>
              </a:xfrm>
            </p:grpSpPr>
            <p:sp>
              <p:nvSpPr>
                <p:cNvPr id="103" name=""/>
                <p:cNvSpPr/>
                <p:nvPr/>
              </p:nvSpPr>
              <p:spPr>
                <a:xfrm>
                  <a:off x="3681000" y="31341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9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 name=""/>
                <p:cNvSpPr/>
                <p:nvPr/>
              </p:nvSpPr>
              <p:spPr>
                <a:xfrm>
                  <a:off x="3589560" y="313416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4997520" y="3134160"/>
                <a:ext cx="1407960" cy="451800"/>
                <a:chOff x="4997520" y="3134160"/>
                <a:chExt cx="1407960" cy="451800"/>
              </a:xfrm>
            </p:grpSpPr>
            <p:sp>
              <p:nvSpPr>
                <p:cNvPr id="106" name=""/>
                <p:cNvSpPr/>
                <p:nvPr/>
              </p:nvSpPr>
              <p:spPr>
                <a:xfrm>
                  <a:off x="5088960" y="31341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53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 name=""/>
                <p:cNvSpPr/>
                <p:nvPr/>
              </p:nvSpPr>
              <p:spPr>
                <a:xfrm>
                  <a:off x="4997520" y="313416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405840" y="3134160"/>
                <a:ext cx="947880" cy="451800"/>
                <a:chOff x="6405840" y="3134160"/>
                <a:chExt cx="947880" cy="451800"/>
              </a:xfrm>
            </p:grpSpPr>
            <p:sp>
              <p:nvSpPr>
                <p:cNvPr id="109" name=""/>
                <p:cNvSpPr/>
                <p:nvPr/>
              </p:nvSpPr>
              <p:spPr>
                <a:xfrm>
                  <a:off x="6496920" y="313416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
                <p:cNvSpPr/>
                <p:nvPr/>
              </p:nvSpPr>
              <p:spPr>
                <a:xfrm>
                  <a:off x="6405840" y="313416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354080" y="3134160"/>
                <a:ext cx="1177920" cy="451800"/>
                <a:chOff x="7354080" y="3134160"/>
                <a:chExt cx="1177920" cy="451800"/>
              </a:xfrm>
            </p:grpSpPr>
            <p:sp>
              <p:nvSpPr>
                <p:cNvPr id="112" name=""/>
                <p:cNvSpPr/>
                <p:nvPr/>
              </p:nvSpPr>
              <p:spPr>
                <a:xfrm>
                  <a:off x="7445520" y="313416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158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7354080" y="313416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8532360" y="3134160"/>
                <a:ext cx="1039680" cy="451800"/>
                <a:chOff x="8532360" y="3134160"/>
                <a:chExt cx="1039680" cy="451800"/>
              </a:xfrm>
            </p:grpSpPr>
            <p:sp>
              <p:nvSpPr>
                <p:cNvPr id="115" name=""/>
                <p:cNvSpPr/>
                <p:nvPr/>
              </p:nvSpPr>
              <p:spPr>
                <a:xfrm>
                  <a:off x="8623800" y="313416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8532360" y="313416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941760" y="3585960"/>
                <a:ext cx="2647440" cy="451800"/>
                <a:chOff x="941760" y="3585960"/>
                <a:chExt cx="2647440" cy="451800"/>
              </a:xfrm>
            </p:grpSpPr>
            <p:sp>
              <p:nvSpPr>
                <p:cNvPr id="118" name=""/>
                <p:cNvSpPr/>
                <p:nvPr/>
              </p:nvSpPr>
              <p:spPr>
                <a:xfrm>
                  <a:off x="1033200" y="358596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
                <p:cNvSpPr/>
                <p:nvPr/>
              </p:nvSpPr>
              <p:spPr>
                <a:xfrm>
                  <a:off x="941760" y="358596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589560" y="3585960"/>
                <a:ext cx="1407240" cy="451800"/>
                <a:chOff x="3589560" y="3585960"/>
                <a:chExt cx="1407240" cy="451800"/>
              </a:xfrm>
            </p:grpSpPr>
            <p:sp>
              <p:nvSpPr>
                <p:cNvPr id="121" name=""/>
                <p:cNvSpPr/>
                <p:nvPr/>
              </p:nvSpPr>
              <p:spPr>
                <a:xfrm>
                  <a:off x="3681000" y="35859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27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589560" y="358596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997520" y="3585960"/>
                <a:ext cx="1407960" cy="451800"/>
                <a:chOff x="4997520" y="3585960"/>
                <a:chExt cx="1407960" cy="451800"/>
              </a:xfrm>
            </p:grpSpPr>
            <p:sp>
              <p:nvSpPr>
                <p:cNvPr id="124" name=""/>
                <p:cNvSpPr/>
                <p:nvPr/>
              </p:nvSpPr>
              <p:spPr>
                <a:xfrm>
                  <a:off x="5088960" y="35859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5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4997520" y="358596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405840" y="3585960"/>
                <a:ext cx="947880" cy="451800"/>
                <a:chOff x="6405840" y="3585960"/>
                <a:chExt cx="947880" cy="451800"/>
              </a:xfrm>
            </p:grpSpPr>
            <p:sp>
              <p:nvSpPr>
                <p:cNvPr id="127" name=""/>
                <p:cNvSpPr/>
                <p:nvPr/>
              </p:nvSpPr>
              <p:spPr>
                <a:xfrm>
                  <a:off x="6496920" y="358596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6405840" y="358596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354080" y="3585960"/>
                <a:ext cx="1177920" cy="451800"/>
                <a:chOff x="7354080" y="3585960"/>
                <a:chExt cx="1177920" cy="451800"/>
              </a:xfrm>
            </p:grpSpPr>
            <p:sp>
              <p:nvSpPr>
                <p:cNvPr id="130" name=""/>
                <p:cNvSpPr/>
                <p:nvPr/>
              </p:nvSpPr>
              <p:spPr>
                <a:xfrm>
                  <a:off x="7445520" y="358596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377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7354080" y="358596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8532360" y="3585960"/>
                <a:ext cx="1039680" cy="451800"/>
                <a:chOff x="8532360" y="3585960"/>
                <a:chExt cx="1039680" cy="451800"/>
              </a:xfrm>
            </p:grpSpPr>
            <p:sp>
              <p:nvSpPr>
                <p:cNvPr id="133" name=""/>
                <p:cNvSpPr/>
                <p:nvPr/>
              </p:nvSpPr>
              <p:spPr>
                <a:xfrm>
                  <a:off x="8623800" y="358596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 name=""/>
                <p:cNvSpPr/>
                <p:nvPr/>
              </p:nvSpPr>
              <p:spPr>
                <a:xfrm>
                  <a:off x="8532360" y="358596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941760" y="4038120"/>
                <a:ext cx="2647440" cy="452160"/>
                <a:chOff x="941760" y="4038120"/>
                <a:chExt cx="2647440" cy="452160"/>
              </a:xfrm>
            </p:grpSpPr>
            <p:sp>
              <p:nvSpPr>
                <p:cNvPr id="136" name=""/>
                <p:cNvSpPr/>
                <p:nvPr/>
              </p:nvSpPr>
              <p:spPr>
                <a:xfrm>
                  <a:off x="1033200" y="403812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941760" y="403812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589560" y="4038120"/>
                <a:ext cx="1407240" cy="452160"/>
                <a:chOff x="3589560" y="4038120"/>
                <a:chExt cx="1407240" cy="452160"/>
              </a:xfrm>
            </p:grpSpPr>
            <p:sp>
              <p:nvSpPr>
                <p:cNvPr id="139" name=""/>
                <p:cNvSpPr/>
                <p:nvPr/>
              </p:nvSpPr>
              <p:spPr>
                <a:xfrm>
                  <a:off x="3681000" y="40381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3589560" y="403812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997520" y="4038120"/>
                <a:ext cx="1407960" cy="452160"/>
                <a:chOff x="4997520" y="4038120"/>
                <a:chExt cx="1407960" cy="452160"/>
              </a:xfrm>
            </p:grpSpPr>
            <p:sp>
              <p:nvSpPr>
                <p:cNvPr id="142" name=""/>
                <p:cNvSpPr/>
                <p:nvPr/>
              </p:nvSpPr>
              <p:spPr>
                <a:xfrm>
                  <a:off x="5088960" y="40381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 name=""/>
                <p:cNvSpPr/>
                <p:nvPr/>
              </p:nvSpPr>
              <p:spPr>
                <a:xfrm>
                  <a:off x="4997520" y="403812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405840" y="4038120"/>
                <a:ext cx="947880" cy="452160"/>
                <a:chOff x="6405840" y="4038120"/>
                <a:chExt cx="947880" cy="452160"/>
              </a:xfrm>
            </p:grpSpPr>
            <p:sp>
              <p:nvSpPr>
                <p:cNvPr id="145" name=""/>
                <p:cNvSpPr/>
                <p:nvPr/>
              </p:nvSpPr>
              <p:spPr>
                <a:xfrm>
                  <a:off x="6496920" y="403812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405840" y="403812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354080" y="4038120"/>
                <a:ext cx="1177920" cy="452160"/>
                <a:chOff x="7354080" y="4038120"/>
                <a:chExt cx="1177920" cy="452160"/>
              </a:xfrm>
            </p:grpSpPr>
            <p:sp>
              <p:nvSpPr>
                <p:cNvPr id="148" name=""/>
                <p:cNvSpPr/>
                <p:nvPr/>
              </p:nvSpPr>
              <p:spPr>
                <a:xfrm>
                  <a:off x="7445520" y="403812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67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7354080" y="403812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8532360" y="4038120"/>
                <a:ext cx="1039680" cy="452160"/>
                <a:chOff x="8532360" y="4038120"/>
                <a:chExt cx="1039680" cy="452160"/>
              </a:xfrm>
            </p:grpSpPr>
            <p:sp>
              <p:nvSpPr>
                <p:cNvPr id="151" name=""/>
                <p:cNvSpPr/>
                <p:nvPr/>
              </p:nvSpPr>
              <p:spPr>
                <a:xfrm>
                  <a:off x="8623800" y="403812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8532360" y="403812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941760" y="4490280"/>
                <a:ext cx="2647440" cy="451800"/>
                <a:chOff x="941760" y="4490280"/>
                <a:chExt cx="2647440" cy="451800"/>
              </a:xfrm>
            </p:grpSpPr>
            <p:sp>
              <p:nvSpPr>
                <p:cNvPr id="154" name=""/>
                <p:cNvSpPr/>
                <p:nvPr/>
              </p:nvSpPr>
              <p:spPr>
                <a:xfrm>
                  <a:off x="1033200" y="44902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941760" y="44902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589560" y="4490280"/>
                <a:ext cx="1407240" cy="451800"/>
                <a:chOff x="3589560" y="4490280"/>
                <a:chExt cx="1407240" cy="451800"/>
              </a:xfrm>
            </p:grpSpPr>
            <p:sp>
              <p:nvSpPr>
                <p:cNvPr id="157" name=""/>
                <p:cNvSpPr/>
                <p:nvPr/>
              </p:nvSpPr>
              <p:spPr>
                <a:xfrm>
                  <a:off x="3681000" y="4490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91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3589560" y="44902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4997520" y="4490280"/>
                <a:ext cx="1407960" cy="451800"/>
                <a:chOff x="4997520" y="4490280"/>
                <a:chExt cx="1407960" cy="451800"/>
              </a:xfrm>
            </p:grpSpPr>
            <p:sp>
              <p:nvSpPr>
                <p:cNvPr id="160" name=""/>
                <p:cNvSpPr/>
                <p:nvPr/>
              </p:nvSpPr>
              <p:spPr>
                <a:xfrm>
                  <a:off x="5088960" y="4490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29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1" name=""/>
                <p:cNvSpPr/>
                <p:nvPr/>
              </p:nvSpPr>
              <p:spPr>
                <a:xfrm>
                  <a:off x="4997520" y="44902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405840" y="4490280"/>
                <a:ext cx="947880" cy="451800"/>
                <a:chOff x="6405840" y="4490280"/>
                <a:chExt cx="947880" cy="451800"/>
              </a:xfrm>
            </p:grpSpPr>
            <p:sp>
              <p:nvSpPr>
                <p:cNvPr id="163" name=""/>
                <p:cNvSpPr/>
                <p:nvPr/>
              </p:nvSpPr>
              <p:spPr>
                <a:xfrm>
                  <a:off x="6496920" y="44902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
                <p:cNvSpPr/>
                <p:nvPr/>
              </p:nvSpPr>
              <p:spPr>
                <a:xfrm>
                  <a:off x="6405840" y="44902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354080" y="4490280"/>
                <a:ext cx="1177920" cy="451800"/>
                <a:chOff x="7354080" y="4490280"/>
                <a:chExt cx="1177920" cy="451800"/>
              </a:xfrm>
            </p:grpSpPr>
            <p:sp>
              <p:nvSpPr>
                <p:cNvPr id="166" name=""/>
                <p:cNvSpPr/>
                <p:nvPr/>
              </p:nvSpPr>
              <p:spPr>
                <a:xfrm>
                  <a:off x="7445520" y="44902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834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7354080" y="44902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8532360" y="4490280"/>
                <a:ext cx="1039680" cy="451800"/>
                <a:chOff x="8532360" y="4490280"/>
                <a:chExt cx="1039680" cy="451800"/>
              </a:xfrm>
            </p:grpSpPr>
            <p:sp>
              <p:nvSpPr>
                <p:cNvPr id="169" name=""/>
                <p:cNvSpPr/>
                <p:nvPr/>
              </p:nvSpPr>
              <p:spPr>
                <a:xfrm>
                  <a:off x="8623800" y="44902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16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8532360" y="44902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941760" y="4942080"/>
                <a:ext cx="2647440" cy="451800"/>
                <a:chOff x="941760" y="4942080"/>
                <a:chExt cx="2647440" cy="451800"/>
              </a:xfrm>
            </p:grpSpPr>
            <p:sp>
              <p:nvSpPr>
                <p:cNvPr id="172" name=""/>
                <p:cNvSpPr/>
                <p:nvPr/>
              </p:nvSpPr>
              <p:spPr>
                <a:xfrm>
                  <a:off x="1033200" y="49420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941760" y="49420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589560" y="4942080"/>
                <a:ext cx="1407240" cy="451800"/>
                <a:chOff x="3589560" y="4942080"/>
                <a:chExt cx="1407240" cy="451800"/>
              </a:xfrm>
            </p:grpSpPr>
            <p:sp>
              <p:nvSpPr>
                <p:cNvPr id="175" name=""/>
                <p:cNvSpPr/>
                <p:nvPr/>
              </p:nvSpPr>
              <p:spPr>
                <a:xfrm>
                  <a:off x="3681000" y="49420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3589560" y="49420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997520" y="4942080"/>
                <a:ext cx="1407960" cy="451800"/>
                <a:chOff x="4997520" y="4942080"/>
                <a:chExt cx="1407960" cy="451800"/>
              </a:xfrm>
            </p:grpSpPr>
            <p:sp>
              <p:nvSpPr>
                <p:cNvPr id="178" name=""/>
                <p:cNvSpPr/>
                <p:nvPr/>
              </p:nvSpPr>
              <p:spPr>
                <a:xfrm>
                  <a:off x="5088960" y="49420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14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4997520" y="49420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405840" y="4942080"/>
                <a:ext cx="947880" cy="451800"/>
                <a:chOff x="6405840" y="4942080"/>
                <a:chExt cx="947880" cy="451800"/>
              </a:xfrm>
            </p:grpSpPr>
            <p:sp>
              <p:nvSpPr>
                <p:cNvPr id="181" name=""/>
                <p:cNvSpPr/>
                <p:nvPr/>
              </p:nvSpPr>
              <p:spPr>
                <a:xfrm>
                  <a:off x="6496920" y="49420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6405840" y="49420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7354080" y="4942080"/>
                <a:ext cx="1177920" cy="451800"/>
                <a:chOff x="7354080" y="4942080"/>
                <a:chExt cx="1177920" cy="451800"/>
              </a:xfrm>
            </p:grpSpPr>
            <p:sp>
              <p:nvSpPr>
                <p:cNvPr id="184" name=""/>
                <p:cNvSpPr/>
                <p:nvPr/>
              </p:nvSpPr>
              <p:spPr>
                <a:xfrm>
                  <a:off x="7445520" y="49420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4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7354080" y="49420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8532360" y="4942080"/>
                <a:ext cx="1039680" cy="451800"/>
                <a:chOff x="8532360" y="4942080"/>
                <a:chExt cx="1039680" cy="451800"/>
              </a:xfrm>
            </p:grpSpPr>
            <p:sp>
              <p:nvSpPr>
                <p:cNvPr id="187" name=""/>
                <p:cNvSpPr/>
                <p:nvPr/>
              </p:nvSpPr>
              <p:spPr>
                <a:xfrm>
                  <a:off x="8623800" y="49420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47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8532360" y="49420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914400" y="266688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523880" y="32096160"/>
            <a:ext cx="4937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91" name=""/>
          <p:cNvGrpSpPr/>
          <p:nvPr/>
        </p:nvGrpSpPr>
        <p:grpSpPr>
          <a:xfrm>
            <a:off x="914400" y="5562720"/>
            <a:ext cx="8686440" cy="2743200"/>
            <a:chOff x="914400" y="5562720"/>
            <a:chExt cx="8686440" cy="2743200"/>
          </a:xfrm>
        </p:grpSpPr>
        <p:grpSp>
          <p:nvGrpSpPr>
            <p:cNvPr id="192" name=""/>
            <p:cNvGrpSpPr/>
            <p:nvPr/>
          </p:nvGrpSpPr>
          <p:grpSpPr>
            <a:xfrm>
              <a:off x="941760" y="5578200"/>
              <a:ext cx="8630280" cy="2712240"/>
              <a:chOff x="941760" y="5578200"/>
              <a:chExt cx="8630280" cy="2712240"/>
            </a:xfrm>
          </p:grpSpPr>
          <p:grpSp>
            <p:nvGrpSpPr>
              <p:cNvPr id="193" name=""/>
              <p:cNvGrpSpPr/>
              <p:nvPr/>
            </p:nvGrpSpPr>
            <p:grpSpPr>
              <a:xfrm>
                <a:off x="941760" y="5578200"/>
                <a:ext cx="2647440" cy="451800"/>
                <a:chOff x="941760" y="5578200"/>
                <a:chExt cx="2647440" cy="451800"/>
              </a:xfrm>
            </p:grpSpPr>
            <p:sp>
              <p:nvSpPr>
                <p:cNvPr id="194" name=""/>
                <p:cNvSpPr/>
                <p:nvPr/>
              </p:nvSpPr>
              <p:spPr>
                <a:xfrm>
                  <a:off x="1033200" y="55782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00</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941760" y="55782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589560" y="5578200"/>
                <a:ext cx="1407240" cy="451800"/>
                <a:chOff x="3589560" y="5578200"/>
                <a:chExt cx="1407240" cy="451800"/>
              </a:xfrm>
            </p:grpSpPr>
            <p:sp>
              <p:nvSpPr>
                <p:cNvPr id="197" name=""/>
                <p:cNvSpPr/>
                <p:nvPr/>
              </p:nvSpPr>
              <p:spPr>
                <a:xfrm>
                  <a:off x="3681000" y="55782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3589560" y="55782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997520" y="5578200"/>
                <a:ext cx="1407960" cy="451800"/>
                <a:chOff x="4997520" y="5578200"/>
                <a:chExt cx="1407960" cy="451800"/>
              </a:xfrm>
            </p:grpSpPr>
            <p:sp>
              <p:nvSpPr>
                <p:cNvPr id="200" name=""/>
                <p:cNvSpPr/>
                <p:nvPr/>
              </p:nvSpPr>
              <p:spPr>
                <a:xfrm>
                  <a:off x="5088960" y="55782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 name=""/>
                <p:cNvSpPr/>
                <p:nvPr/>
              </p:nvSpPr>
              <p:spPr>
                <a:xfrm>
                  <a:off x="4997520" y="55782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405840" y="5578200"/>
                <a:ext cx="947880" cy="451800"/>
                <a:chOff x="6405840" y="5578200"/>
                <a:chExt cx="947880" cy="451800"/>
              </a:xfrm>
            </p:grpSpPr>
            <p:sp>
              <p:nvSpPr>
                <p:cNvPr id="203" name=""/>
                <p:cNvSpPr/>
                <p:nvPr/>
              </p:nvSpPr>
              <p:spPr>
                <a:xfrm>
                  <a:off x="6496920" y="55782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405840" y="55782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354080" y="5578200"/>
                <a:ext cx="1177920" cy="451800"/>
                <a:chOff x="7354080" y="5578200"/>
                <a:chExt cx="1177920" cy="451800"/>
              </a:xfrm>
            </p:grpSpPr>
            <p:sp>
              <p:nvSpPr>
                <p:cNvPr id="206" name=""/>
                <p:cNvSpPr/>
                <p:nvPr/>
              </p:nvSpPr>
              <p:spPr>
                <a:xfrm>
                  <a:off x="7445520" y="55782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354080" y="55782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8532360" y="5578200"/>
                <a:ext cx="1039680" cy="451800"/>
                <a:chOff x="8532360" y="5578200"/>
                <a:chExt cx="1039680" cy="451800"/>
              </a:xfrm>
            </p:grpSpPr>
            <p:sp>
              <p:nvSpPr>
                <p:cNvPr id="209" name=""/>
                <p:cNvSpPr/>
                <p:nvPr/>
              </p:nvSpPr>
              <p:spPr>
                <a:xfrm>
                  <a:off x="8623800" y="55782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
                <p:cNvSpPr/>
                <p:nvPr/>
              </p:nvSpPr>
              <p:spPr>
                <a:xfrm>
                  <a:off x="8532360" y="55782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941760" y="6030000"/>
                <a:ext cx="2647440" cy="451800"/>
                <a:chOff x="941760" y="6030000"/>
                <a:chExt cx="2647440" cy="451800"/>
              </a:xfrm>
            </p:grpSpPr>
            <p:sp>
              <p:nvSpPr>
                <p:cNvPr id="212" name=""/>
                <p:cNvSpPr/>
                <p:nvPr/>
              </p:nvSpPr>
              <p:spPr>
                <a:xfrm>
                  <a:off x="1033200" y="60300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941760" y="60300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589560" y="6030000"/>
                <a:ext cx="1407240" cy="451800"/>
                <a:chOff x="3589560" y="6030000"/>
                <a:chExt cx="1407240" cy="451800"/>
              </a:xfrm>
            </p:grpSpPr>
            <p:sp>
              <p:nvSpPr>
                <p:cNvPr id="215" name=""/>
                <p:cNvSpPr/>
                <p:nvPr/>
              </p:nvSpPr>
              <p:spPr>
                <a:xfrm>
                  <a:off x="3681000" y="60300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739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6" name=""/>
                <p:cNvSpPr/>
                <p:nvPr/>
              </p:nvSpPr>
              <p:spPr>
                <a:xfrm>
                  <a:off x="3589560" y="60300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997520" y="6030000"/>
                <a:ext cx="1407960" cy="451800"/>
                <a:chOff x="4997520" y="6030000"/>
                <a:chExt cx="1407960" cy="451800"/>
              </a:xfrm>
            </p:grpSpPr>
            <p:sp>
              <p:nvSpPr>
                <p:cNvPr id="218" name=""/>
                <p:cNvSpPr/>
                <p:nvPr/>
              </p:nvSpPr>
              <p:spPr>
                <a:xfrm>
                  <a:off x="5088960" y="60300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8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 name=""/>
                <p:cNvSpPr/>
                <p:nvPr/>
              </p:nvSpPr>
              <p:spPr>
                <a:xfrm>
                  <a:off x="4997520" y="60300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405840" y="6030000"/>
                <a:ext cx="947880" cy="451800"/>
                <a:chOff x="6405840" y="6030000"/>
                <a:chExt cx="947880" cy="451800"/>
              </a:xfrm>
            </p:grpSpPr>
            <p:sp>
              <p:nvSpPr>
                <p:cNvPr id="221" name=""/>
                <p:cNvSpPr/>
                <p:nvPr/>
              </p:nvSpPr>
              <p:spPr>
                <a:xfrm>
                  <a:off x="6496920" y="60300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6405840" y="60300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7354080" y="6030000"/>
                <a:ext cx="1177920" cy="451800"/>
                <a:chOff x="7354080" y="6030000"/>
                <a:chExt cx="1177920" cy="451800"/>
              </a:xfrm>
            </p:grpSpPr>
            <p:sp>
              <p:nvSpPr>
                <p:cNvPr id="224" name=""/>
                <p:cNvSpPr/>
                <p:nvPr/>
              </p:nvSpPr>
              <p:spPr>
                <a:xfrm>
                  <a:off x="7445520" y="60300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8.237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7354080" y="60300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8532360" y="6030000"/>
                <a:ext cx="1039680" cy="451800"/>
                <a:chOff x="8532360" y="6030000"/>
                <a:chExt cx="1039680" cy="451800"/>
              </a:xfrm>
            </p:grpSpPr>
            <p:sp>
              <p:nvSpPr>
                <p:cNvPr id="227" name=""/>
                <p:cNvSpPr/>
                <p:nvPr/>
              </p:nvSpPr>
              <p:spPr>
                <a:xfrm>
                  <a:off x="8623800" y="60300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8532360" y="60300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941760" y="6481800"/>
                <a:ext cx="2647440" cy="452160"/>
                <a:chOff x="941760" y="6481800"/>
                <a:chExt cx="2647440" cy="452160"/>
              </a:xfrm>
            </p:grpSpPr>
            <p:sp>
              <p:nvSpPr>
                <p:cNvPr id="230" name=""/>
                <p:cNvSpPr/>
                <p:nvPr/>
              </p:nvSpPr>
              <p:spPr>
                <a:xfrm>
                  <a:off x="1033200" y="648180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941760" y="648180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589560" y="6481800"/>
                <a:ext cx="1407240" cy="452160"/>
                <a:chOff x="3589560" y="6481800"/>
                <a:chExt cx="1407240" cy="452160"/>
              </a:xfrm>
            </p:grpSpPr>
            <p:sp>
              <p:nvSpPr>
                <p:cNvPr id="233" name=""/>
                <p:cNvSpPr/>
                <p:nvPr/>
              </p:nvSpPr>
              <p:spPr>
                <a:xfrm>
                  <a:off x="3681000" y="64818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54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3589560" y="648180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997520" y="6481800"/>
                <a:ext cx="1407960" cy="452160"/>
                <a:chOff x="4997520" y="6481800"/>
                <a:chExt cx="1407960" cy="452160"/>
              </a:xfrm>
            </p:grpSpPr>
            <p:sp>
              <p:nvSpPr>
                <p:cNvPr id="236" name=""/>
                <p:cNvSpPr/>
                <p:nvPr/>
              </p:nvSpPr>
              <p:spPr>
                <a:xfrm>
                  <a:off x="5088960" y="64818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84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4997520" y="648180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6405840" y="6481800"/>
                <a:ext cx="947880" cy="452160"/>
                <a:chOff x="6405840" y="6481800"/>
                <a:chExt cx="947880" cy="452160"/>
              </a:xfrm>
            </p:grpSpPr>
            <p:sp>
              <p:nvSpPr>
                <p:cNvPr id="239" name=""/>
                <p:cNvSpPr/>
                <p:nvPr/>
              </p:nvSpPr>
              <p:spPr>
                <a:xfrm>
                  <a:off x="6496920" y="648180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6405840" y="648180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354080" y="6481800"/>
                <a:ext cx="1177920" cy="452160"/>
                <a:chOff x="7354080" y="6481800"/>
                <a:chExt cx="1177920" cy="452160"/>
              </a:xfrm>
            </p:grpSpPr>
            <p:sp>
              <p:nvSpPr>
                <p:cNvPr id="242" name=""/>
                <p:cNvSpPr/>
                <p:nvPr/>
              </p:nvSpPr>
              <p:spPr>
                <a:xfrm>
                  <a:off x="7445520" y="648180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538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7354080" y="648180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8532360" y="6481800"/>
                <a:ext cx="1039680" cy="452160"/>
                <a:chOff x="8532360" y="6481800"/>
                <a:chExt cx="1039680" cy="452160"/>
              </a:xfrm>
            </p:grpSpPr>
            <p:sp>
              <p:nvSpPr>
                <p:cNvPr id="245" name=""/>
                <p:cNvSpPr/>
                <p:nvPr/>
              </p:nvSpPr>
              <p:spPr>
                <a:xfrm>
                  <a:off x="8623800" y="648180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8532360" y="648180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941760" y="6934320"/>
                <a:ext cx="2647440" cy="451800"/>
                <a:chOff x="941760" y="6934320"/>
                <a:chExt cx="2647440" cy="451800"/>
              </a:xfrm>
            </p:grpSpPr>
            <p:sp>
              <p:nvSpPr>
                <p:cNvPr id="248" name=""/>
                <p:cNvSpPr/>
                <p:nvPr/>
              </p:nvSpPr>
              <p:spPr>
                <a:xfrm>
                  <a:off x="1033200" y="693432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941760" y="693432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589560" y="6934320"/>
                <a:ext cx="1407240" cy="451800"/>
                <a:chOff x="3589560" y="6934320"/>
                <a:chExt cx="1407240" cy="451800"/>
              </a:xfrm>
            </p:grpSpPr>
            <p:sp>
              <p:nvSpPr>
                <p:cNvPr id="251" name=""/>
                <p:cNvSpPr/>
                <p:nvPr/>
              </p:nvSpPr>
              <p:spPr>
                <a:xfrm>
                  <a:off x="3681000" y="69343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1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3589560" y="693432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997520" y="6934320"/>
                <a:ext cx="1407960" cy="451800"/>
                <a:chOff x="4997520" y="6934320"/>
                <a:chExt cx="1407960" cy="451800"/>
              </a:xfrm>
            </p:grpSpPr>
            <p:sp>
              <p:nvSpPr>
                <p:cNvPr id="254" name=""/>
                <p:cNvSpPr/>
                <p:nvPr/>
              </p:nvSpPr>
              <p:spPr>
                <a:xfrm>
                  <a:off x="5088960" y="69343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4997520" y="693432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405840" y="6934320"/>
                <a:ext cx="947880" cy="451800"/>
                <a:chOff x="6405840" y="6934320"/>
                <a:chExt cx="947880" cy="451800"/>
              </a:xfrm>
            </p:grpSpPr>
            <p:sp>
              <p:nvSpPr>
                <p:cNvPr id="257" name=""/>
                <p:cNvSpPr/>
                <p:nvPr/>
              </p:nvSpPr>
              <p:spPr>
                <a:xfrm>
                  <a:off x="6496920" y="693432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6405840" y="693432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7354080" y="6934320"/>
                <a:ext cx="1177920" cy="451800"/>
                <a:chOff x="7354080" y="6934320"/>
                <a:chExt cx="1177920" cy="451800"/>
              </a:xfrm>
            </p:grpSpPr>
            <p:sp>
              <p:nvSpPr>
                <p:cNvPr id="260" name=""/>
                <p:cNvSpPr/>
                <p:nvPr/>
              </p:nvSpPr>
              <p:spPr>
                <a:xfrm>
                  <a:off x="7445520" y="693432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398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
                <p:cNvSpPr/>
                <p:nvPr/>
              </p:nvSpPr>
              <p:spPr>
                <a:xfrm>
                  <a:off x="7354080" y="693432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8532360" y="6934320"/>
                <a:ext cx="1039680" cy="451800"/>
                <a:chOff x="8532360" y="6934320"/>
                <a:chExt cx="1039680" cy="451800"/>
              </a:xfrm>
            </p:grpSpPr>
            <p:sp>
              <p:nvSpPr>
                <p:cNvPr id="263" name=""/>
                <p:cNvSpPr/>
                <p:nvPr/>
              </p:nvSpPr>
              <p:spPr>
                <a:xfrm>
                  <a:off x="8623800" y="693432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8532360" y="693432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941760" y="7386120"/>
                <a:ext cx="2647440" cy="451800"/>
                <a:chOff x="941760" y="7386120"/>
                <a:chExt cx="2647440" cy="451800"/>
              </a:xfrm>
            </p:grpSpPr>
            <p:sp>
              <p:nvSpPr>
                <p:cNvPr id="266" name=""/>
                <p:cNvSpPr/>
                <p:nvPr/>
              </p:nvSpPr>
              <p:spPr>
                <a:xfrm>
                  <a:off x="1033200" y="738612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 name=""/>
                <p:cNvSpPr/>
                <p:nvPr/>
              </p:nvSpPr>
              <p:spPr>
                <a:xfrm>
                  <a:off x="941760" y="738612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589560" y="7386120"/>
                <a:ext cx="1407240" cy="451800"/>
                <a:chOff x="3589560" y="7386120"/>
                <a:chExt cx="1407240" cy="451800"/>
              </a:xfrm>
            </p:grpSpPr>
            <p:sp>
              <p:nvSpPr>
                <p:cNvPr id="269" name=""/>
                <p:cNvSpPr/>
                <p:nvPr/>
              </p:nvSpPr>
              <p:spPr>
                <a:xfrm>
                  <a:off x="3681000" y="73861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97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3589560" y="738612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4997520" y="7386120"/>
                <a:ext cx="1407960" cy="451800"/>
                <a:chOff x="4997520" y="7386120"/>
                <a:chExt cx="1407960" cy="451800"/>
              </a:xfrm>
            </p:grpSpPr>
            <p:sp>
              <p:nvSpPr>
                <p:cNvPr id="272" name=""/>
                <p:cNvSpPr/>
                <p:nvPr/>
              </p:nvSpPr>
              <p:spPr>
                <a:xfrm>
                  <a:off x="5088960" y="73861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95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 name=""/>
                <p:cNvSpPr/>
                <p:nvPr/>
              </p:nvSpPr>
              <p:spPr>
                <a:xfrm>
                  <a:off x="4997520" y="738612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405840" y="7386120"/>
                <a:ext cx="947880" cy="451800"/>
                <a:chOff x="6405840" y="7386120"/>
                <a:chExt cx="947880" cy="451800"/>
              </a:xfrm>
            </p:grpSpPr>
            <p:sp>
              <p:nvSpPr>
                <p:cNvPr id="275" name=""/>
                <p:cNvSpPr/>
                <p:nvPr/>
              </p:nvSpPr>
              <p:spPr>
                <a:xfrm>
                  <a:off x="6496920" y="738612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 name=""/>
                <p:cNvSpPr/>
                <p:nvPr/>
              </p:nvSpPr>
              <p:spPr>
                <a:xfrm>
                  <a:off x="6405840" y="738612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7354080" y="7386120"/>
                <a:ext cx="1177920" cy="451800"/>
                <a:chOff x="7354080" y="7386120"/>
                <a:chExt cx="1177920" cy="451800"/>
              </a:xfrm>
            </p:grpSpPr>
            <p:sp>
              <p:nvSpPr>
                <p:cNvPr id="278" name=""/>
                <p:cNvSpPr/>
                <p:nvPr/>
              </p:nvSpPr>
              <p:spPr>
                <a:xfrm>
                  <a:off x="7445520" y="738612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26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 name=""/>
                <p:cNvSpPr/>
                <p:nvPr/>
              </p:nvSpPr>
              <p:spPr>
                <a:xfrm>
                  <a:off x="7354080" y="738612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8532360" y="7386120"/>
                <a:ext cx="1039680" cy="451800"/>
                <a:chOff x="8532360" y="7386120"/>
                <a:chExt cx="1039680" cy="451800"/>
              </a:xfrm>
            </p:grpSpPr>
            <p:sp>
              <p:nvSpPr>
                <p:cNvPr id="281" name=""/>
                <p:cNvSpPr/>
                <p:nvPr/>
              </p:nvSpPr>
              <p:spPr>
                <a:xfrm>
                  <a:off x="8623800" y="738612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2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2" name=""/>
                <p:cNvSpPr/>
                <p:nvPr/>
              </p:nvSpPr>
              <p:spPr>
                <a:xfrm>
                  <a:off x="8532360" y="738612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941760" y="7838280"/>
                <a:ext cx="2647440" cy="452160"/>
                <a:chOff x="941760" y="7838280"/>
                <a:chExt cx="2647440" cy="452160"/>
              </a:xfrm>
            </p:grpSpPr>
            <p:sp>
              <p:nvSpPr>
                <p:cNvPr id="284" name=""/>
                <p:cNvSpPr/>
                <p:nvPr/>
              </p:nvSpPr>
              <p:spPr>
                <a:xfrm>
                  <a:off x="1033200" y="783828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
                <p:cNvSpPr/>
                <p:nvPr/>
              </p:nvSpPr>
              <p:spPr>
                <a:xfrm>
                  <a:off x="941760" y="783828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589560" y="7838280"/>
                <a:ext cx="1407240" cy="452160"/>
                <a:chOff x="3589560" y="7838280"/>
                <a:chExt cx="1407240" cy="452160"/>
              </a:xfrm>
            </p:grpSpPr>
            <p:sp>
              <p:nvSpPr>
                <p:cNvPr id="287" name=""/>
                <p:cNvSpPr/>
                <p:nvPr/>
              </p:nvSpPr>
              <p:spPr>
                <a:xfrm>
                  <a:off x="3681000" y="783828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58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3589560" y="783828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997520" y="7838280"/>
                <a:ext cx="1407960" cy="452160"/>
                <a:chOff x="4997520" y="7838280"/>
                <a:chExt cx="1407960" cy="452160"/>
              </a:xfrm>
            </p:grpSpPr>
            <p:sp>
              <p:nvSpPr>
                <p:cNvPr id="290" name=""/>
                <p:cNvSpPr/>
                <p:nvPr/>
              </p:nvSpPr>
              <p:spPr>
                <a:xfrm>
                  <a:off x="5088960" y="783828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44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4997520" y="783828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405840" y="7838280"/>
                <a:ext cx="947880" cy="452160"/>
                <a:chOff x="6405840" y="7838280"/>
                <a:chExt cx="947880" cy="452160"/>
              </a:xfrm>
            </p:grpSpPr>
            <p:sp>
              <p:nvSpPr>
                <p:cNvPr id="293" name=""/>
                <p:cNvSpPr/>
                <p:nvPr/>
              </p:nvSpPr>
              <p:spPr>
                <a:xfrm>
                  <a:off x="6496920" y="783828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4" name=""/>
                <p:cNvSpPr/>
                <p:nvPr/>
              </p:nvSpPr>
              <p:spPr>
                <a:xfrm>
                  <a:off x="6405840" y="783828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7354080" y="7838280"/>
                <a:ext cx="1177920" cy="452160"/>
                <a:chOff x="7354080" y="7838280"/>
                <a:chExt cx="1177920" cy="452160"/>
              </a:xfrm>
            </p:grpSpPr>
            <p:sp>
              <p:nvSpPr>
                <p:cNvPr id="296" name=""/>
                <p:cNvSpPr/>
                <p:nvPr/>
              </p:nvSpPr>
              <p:spPr>
                <a:xfrm>
                  <a:off x="7445520" y="783828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13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354080" y="783828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8532360" y="7838280"/>
                <a:ext cx="1039680" cy="452160"/>
                <a:chOff x="8532360" y="7838280"/>
                <a:chExt cx="1039680" cy="452160"/>
              </a:xfrm>
            </p:grpSpPr>
            <p:sp>
              <p:nvSpPr>
                <p:cNvPr id="299" name=""/>
                <p:cNvSpPr/>
                <p:nvPr/>
              </p:nvSpPr>
              <p:spPr>
                <a:xfrm>
                  <a:off x="8623800" y="783828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68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8532360" y="783828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1" name=""/>
            <p:cNvSpPr/>
            <p:nvPr/>
          </p:nvSpPr>
          <p:spPr>
            <a:xfrm>
              <a:off x="914400" y="556272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914400" y="8458200"/>
            <a:ext cx="8686440" cy="2743200"/>
            <a:chOff x="914400" y="8458200"/>
            <a:chExt cx="8686440" cy="2743200"/>
          </a:xfrm>
        </p:grpSpPr>
        <p:grpSp>
          <p:nvGrpSpPr>
            <p:cNvPr id="303" name=""/>
            <p:cNvGrpSpPr/>
            <p:nvPr/>
          </p:nvGrpSpPr>
          <p:grpSpPr>
            <a:xfrm>
              <a:off x="941760" y="8473320"/>
              <a:ext cx="8630280" cy="2711880"/>
              <a:chOff x="941760" y="8473320"/>
              <a:chExt cx="8630280" cy="2711880"/>
            </a:xfrm>
          </p:grpSpPr>
          <p:grpSp>
            <p:nvGrpSpPr>
              <p:cNvPr id="304" name=""/>
              <p:cNvGrpSpPr/>
              <p:nvPr/>
            </p:nvGrpSpPr>
            <p:grpSpPr>
              <a:xfrm>
                <a:off x="941760" y="8473320"/>
                <a:ext cx="2647440" cy="452160"/>
                <a:chOff x="941760" y="8473320"/>
                <a:chExt cx="2647440" cy="452160"/>
              </a:xfrm>
            </p:grpSpPr>
            <p:sp>
              <p:nvSpPr>
                <p:cNvPr id="305" name=""/>
                <p:cNvSpPr/>
                <p:nvPr/>
              </p:nvSpPr>
              <p:spPr>
                <a:xfrm>
                  <a:off x="1033200" y="847332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01</a:t>
                  </a:r>
                  <a:endParaRPr b="0" lang="en-US" sz="1000" spc="-1" strike="noStrike">
                    <a:solidFill>
                      <a:srgbClr val="000000"/>
                    </a:solidFill>
                    <a:latin typeface="Times New Roman"/>
                  </a:endParaRPr>
                </a:p>
              </p:txBody>
            </p:sp>
            <p:sp>
              <p:nvSpPr>
                <p:cNvPr id="306" name=""/>
                <p:cNvSpPr/>
                <p:nvPr/>
              </p:nvSpPr>
              <p:spPr>
                <a:xfrm>
                  <a:off x="941760" y="847332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589560" y="8473320"/>
                <a:ext cx="1407240" cy="452160"/>
                <a:chOff x="3589560" y="8473320"/>
                <a:chExt cx="1407240" cy="452160"/>
              </a:xfrm>
            </p:grpSpPr>
            <p:sp>
              <p:nvSpPr>
                <p:cNvPr id="308" name=""/>
                <p:cNvSpPr/>
                <p:nvPr/>
              </p:nvSpPr>
              <p:spPr>
                <a:xfrm>
                  <a:off x="3681000" y="84733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3589560" y="847332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4997520" y="8473320"/>
                <a:ext cx="1407960" cy="452160"/>
                <a:chOff x="4997520" y="8473320"/>
                <a:chExt cx="1407960" cy="452160"/>
              </a:xfrm>
            </p:grpSpPr>
            <p:sp>
              <p:nvSpPr>
                <p:cNvPr id="311" name=""/>
                <p:cNvSpPr/>
                <p:nvPr/>
              </p:nvSpPr>
              <p:spPr>
                <a:xfrm>
                  <a:off x="5088960" y="84733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2" name=""/>
                <p:cNvSpPr/>
                <p:nvPr/>
              </p:nvSpPr>
              <p:spPr>
                <a:xfrm>
                  <a:off x="4997520" y="847332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405840" y="8473320"/>
                <a:ext cx="947880" cy="452160"/>
                <a:chOff x="6405840" y="8473320"/>
                <a:chExt cx="947880" cy="452160"/>
              </a:xfrm>
            </p:grpSpPr>
            <p:sp>
              <p:nvSpPr>
                <p:cNvPr id="314" name=""/>
                <p:cNvSpPr/>
                <p:nvPr/>
              </p:nvSpPr>
              <p:spPr>
                <a:xfrm>
                  <a:off x="6496920" y="847332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6405840" y="847332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354080" y="8473320"/>
                <a:ext cx="1177920" cy="452160"/>
                <a:chOff x="7354080" y="8473320"/>
                <a:chExt cx="1177920" cy="452160"/>
              </a:xfrm>
            </p:grpSpPr>
            <p:sp>
              <p:nvSpPr>
                <p:cNvPr id="317" name=""/>
                <p:cNvSpPr/>
                <p:nvPr/>
              </p:nvSpPr>
              <p:spPr>
                <a:xfrm>
                  <a:off x="7445520" y="847332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7354080" y="847332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8532360" y="8473320"/>
                <a:ext cx="1039680" cy="452160"/>
                <a:chOff x="8532360" y="8473320"/>
                <a:chExt cx="1039680" cy="452160"/>
              </a:xfrm>
            </p:grpSpPr>
            <p:sp>
              <p:nvSpPr>
                <p:cNvPr id="320" name=""/>
                <p:cNvSpPr/>
                <p:nvPr/>
              </p:nvSpPr>
              <p:spPr>
                <a:xfrm>
                  <a:off x="8623800" y="847332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
                <p:cNvSpPr/>
                <p:nvPr/>
              </p:nvSpPr>
              <p:spPr>
                <a:xfrm>
                  <a:off x="8532360" y="847332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941760" y="8925480"/>
                <a:ext cx="2647440" cy="451800"/>
                <a:chOff x="941760" y="8925480"/>
                <a:chExt cx="2647440" cy="451800"/>
              </a:xfrm>
            </p:grpSpPr>
            <p:sp>
              <p:nvSpPr>
                <p:cNvPr id="323" name=""/>
                <p:cNvSpPr/>
                <p:nvPr/>
              </p:nvSpPr>
              <p:spPr>
                <a:xfrm>
                  <a:off x="1033200" y="89254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4" name=""/>
                <p:cNvSpPr/>
                <p:nvPr/>
              </p:nvSpPr>
              <p:spPr>
                <a:xfrm>
                  <a:off x="941760" y="89254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3589560" y="8925480"/>
                <a:ext cx="1407240" cy="451800"/>
                <a:chOff x="3589560" y="8925480"/>
                <a:chExt cx="1407240" cy="451800"/>
              </a:xfrm>
            </p:grpSpPr>
            <p:sp>
              <p:nvSpPr>
                <p:cNvPr id="326" name=""/>
                <p:cNvSpPr/>
                <p:nvPr/>
              </p:nvSpPr>
              <p:spPr>
                <a:xfrm>
                  <a:off x="3681000" y="89254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719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7" name=""/>
                <p:cNvSpPr/>
                <p:nvPr/>
              </p:nvSpPr>
              <p:spPr>
                <a:xfrm>
                  <a:off x="3589560" y="89254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4997520" y="8925480"/>
                <a:ext cx="1407960" cy="451800"/>
                <a:chOff x="4997520" y="8925480"/>
                <a:chExt cx="1407960" cy="451800"/>
              </a:xfrm>
            </p:grpSpPr>
            <p:sp>
              <p:nvSpPr>
                <p:cNvPr id="329" name=""/>
                <p:cNvSpPr/>
                <p:nvPr/>
              </p:nvSpPr>
              <p:spPr>
                <a:xfrm>
                  <a:off x="5088960" y="89254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1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4997520" y="89254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405840" y="8925480"/>
                <a:ext cx="947880" cy="451800"/>
                <a:chOff x="6405840" y="8925480"/>
                <a:chExt cx="947880" cy="451800"/>
              </a:xfrm>
            </p:grpSpPr>
            <p:sp>
              <p:nvSpPr>
                <p:cNvPr id="332" name=""/>
                <p:cNvSpPr/>
                <p:nvPr/>
              </p:nvSpPr>
              <p:spPr>
                <a:xfrm>
                  <a:off x="6496920" y="89254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3" name=""/>
                <p:cNvSpPr/>
                <p:nvPr/>
              </p:nvSpPr>
              <p:spPr>
                <a:xfrm>
                  <a:off x="6405840" y="89254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354080" y="8925480"/>
                <a:ext cx="1177920" cy="451800"/>
                <a:chOff x="7354080" y="8925480"/>
                <a:chExt cx="1177920" cy="451800"/>
              </a:xfrm>
            </p:grpSpPr>
            <p:sp>
              <p:nvSpPr>
                <p:cNvPr id="335" name=""/>
                <p:cNvSpPr/>
                <p:nvPr/>
              </p:nvSpPr>
              <p:spPr>
                <a:xfrm>
                  <a:off x="7445520" y="89254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988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7354080" y="89254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532360" y="8925480"/>
                <a:ext cx="1039680" cy="451800"/>
                <a:chOff x="8532360" y="8925480"/>
                <a:chExt cx="1039680" cy="451800"/>
              </a:xfrm>
            </p:grpSpPr>
            <p:sp>
              <p:nvSpPr>
                <p:cNvPr id="338" name=""/>
                <p:cNvSpPr/>
                <p:nvPr/>
              </p:nvSpPr>
              <p:spPr>
                <a:xfrm>
                  <a:off x="8623800" y="89254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9" name=""/>
                <p:cNvSpPr/>
                <p:nvPr/>
              </p:nvSpPr>
              <p:spPr>
                <a:xfrm>
                  <a:off x="8532360" y="89254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941760" y="9377280"/>
                <a:ext cx="2647440" cy="451800"/>
                <a:chOff x="941760" y="9377280"/>
                <a:chExt cx="2647440" cy="451800"/>
              </a:xfrm>
            </p:grpSpPr>
            <p:sp>
              <p:nvSpPr>
                <p:cNvPr id="341" name=""/>
                <p:cNvSpPr/>
                <p:nvPr/>
              </p:nvSpPr>
              <p:spPr>
                <a:xfrm>
                  <a:off x="1033200" y="93772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p:txBody>
            </p:sp>
            <p:sp>
              <p:nvSpPr>
                <p:cNvPr id="342" name=""/>
                <p:cNvSpPr/>
                <p:nvPr/>
              </p:nvSpPr>
              <p:spPr>
                <a:xfrm>
                  <a:off x="941760" y="93772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589560" y="9377280"/>
                <a:ext cx="1407240" cy="451800"/>
                <a:chOff x="3589560" y="9377280"/>
                <a:chExt cx="1407240" cy="451800"/>
              </a:xfrm>
            </p:grpSpPr>
            <p:sp>
              <p:nvSpPr>
                <p:cNvPr id="344" name=""/>
                <p:cNvSpPr/>
                <p:nvPr/>
              </p:nvSpPr>
              <p:spPr>
                <a:xfrm>
                  <a:off x="3681000" y="9377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847</a:t>
                  </a:r>
                  <a:endParaRPr b="0" lang="en-US" sz="1000" spc="-1" strike="noStrike">
                    <a:solidFill>
                      <a:srgbClr val="000000"/>
                    </a:solidFill>
                    <a:latin typeface="Times New Roman"/>
                  </a:endParaRPr>
                </a:p>
              </p:txBody>
            </p:sp>
            <p:sp>
              <p:nvSpPr>
                <p:cNvPr id="345" name=""/>
                <p:cNvSpPr/>
                <p:nvPr/>
              </p:nvSpPr>
              <p:spPr>
                <a:xfrm>
                  <a:off x="3589560" y="93772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997520" y="9377280"/>
                <a:ext cx="1407960" cy="451800"/>
                <a:chOff x="4997520" y="9377280"/>
                <a:chExt cx="1407960" cy="451800"/>
              </a:xfrm>
            </p:grpSpPr>
            <p:sp>
              <p:nvSpPr>
                <p:cNvPr id="347" name=""/>
                <p:cNvSpPr/>
                <p:nvPr/>
              </p:nvSpPr>
              <p:spPr>
                <a:xfrm>
                  <a:off x="5088960" y="9377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458</a:t>
                  </a:r>
                  <a:endParaRPr b="0" lang="en-US" sz="1000" spc="-1" strike="noStrike">
                    <a:solidFill>
                      <a:srgbClr val="000000"/>
                    </a:solidFill>
                    <a:latin typeface="Times New Roman"/>
                  </a:endParaRPr>
                </a:p>
              </p:txBody>
            </p:sp>
            <p:sp>
              <p:nvSpPr>
                <p:cNvPr id="348" name=""/>
                <p:cNvSpPr/>
                <p:nvPr/>
              </p:nvSpPr>
              <p:spPr>
                <a:xfrm>
                  <a:off x="4997520" y="93772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405840" y="9377280"/>
                <a:ext cx="947880" cy="451800"/>
                <a:chOff x="6405840" y="9377280"/>
                <a:chExt cx="947880" cy="451800"/>
              </a:xfrm>
            </p:grpSpPr>
            <p:sp>
              <p:nvSpPr>
                <p:cNvPr id="350" name=""/>
                <p:cNvSpPr/>
                <p:nvPr/>
              </p:nvSpPr>
              <p:spPr>
                <a:xfrm>
                  <a:off x="6496920" y="93772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351" name=""/>
                <p:cNvSpPr/>
                <p:nvPr/>
              </p:nvSpPr>
              <p:spPr>
                <a:xfrm>
                  <a:off x="6405840" y="93772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7354080" y="9377280"/>
                <a:ext cx="1177920" cy="451800"/>
                <a:chOff x="7354080" y="9377280"/>
                <a:chExt cx="1177920" cy="451800"/>
              </a:xfrm>
            </p:grpSpPr>
            <p:sp>
              <p:nvSpPr>
                <p:cNvPr id="353" name=""/>
                <p:cNvSpPr/>
                <p:nvPr/>
              </p:nvSpPr>
              <p:spPr>
                <a:xfrm>
                  <a:off x="7445520" y="93772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2943</a:t>
                  </a:r>
                  <a:endParaRPr b="0" lang="en-US" sz="1000" spc="-1" strike="noStrike">
                    <a:solidFill>
                      <a:srgbClr val="000000"/>
                    </a:solidFill>
                    <a:latin typeface="Times New Roman"/>
                  </a:endParaRPr>
                </a:p>
              </p:txBody>
            </p:sp>
            <p:sp>
              <p:nvSpPr>
                <p:cNvPr id="354" name=""/>
                <p:cNvSpPr/>
                <p:nvPr/>
              </p:nvSpPr>
              <p:spPr>
                <a:xfrm>
                  <a:off x="7354080" y="93772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532360" y="9377280"/>
                <a:ext cx="1039680" cy="451800"/>
                <a:chOff x="8532360" y="9377280"/>
                <a:chExt cx="1039680" cy="451800"/>
              </a:xfrm>
            </p:grpSpPr>
            <p:sp>
              <p:nvSpPr>
                <p:cNvPr id="356" name=""/>
                <p:cNvSpPr/>
                <p:nvPr/>
              </p:nvSpPr>
              <p:spPr>
                <a:xfrm>
                  <a:off x="8623800" y="93772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p:txBody>
            </p:sp>
            <p:sp>
              <p:nvSpPr>
                <p:cNvPr id="357" name=""/>
                <p:cNvSpPr/>
                <p:nvPr/>
              </p:nvSpPr>
              <p:spPr>
                <a:xfrm>
                  <a:off x="8532360" y="93772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941760" y="9829440"/>
                <a:ext cx="2647440" cy="452160"/>
                <a:chOff x="941760" y="9829440"/>
                <a:chExt cx="2647440" cy="452160"/>
              </a:xfrm>
            </p:grpSpPr>
            <p:sp>
              <p:nvSpPr>
                <p:cNvPr id="359" name=""/>
                <p:cNvSpPr/>
                <p:nvPr/>
              </p:nvSpPr>
              <p:spPr>
                <a:xfrm>
                  <a:off x="1033200" y="982944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0" name=""/>
                <p:cNvSpPr/>
                <p:nvPr/>
              </p:nvSpPr>
              <p:spPr>
                <a:xfrm>
                  <a:off x="941760" y="982944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589560" y="9829440"/>
                <a:ext cx="1407240" cy="452160"/>
                <a:chOff x="3589560" y="9829440"/>
                <a:chExt cx="1407240" cy="452160"/>
              </a:xfrm>
            </p:grpSpPr>
            <p:sp>
              <p:nvSpPr>
                <p:cNvPr id="362" name=""/>
                <p:cNvSpPr/>
                <p:nvPr/>
              </p:nvSpPr>
              <p:spPr>
                <a:xfrm>
                  <a:off x="3681000" y="982944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3" name=""/>
                <p:cNvSpPr/>
                <p:nvPr/>
              </p:nvSpPr>
              <p:spPr>
                <a:xfrm>
                  <a:off x="3589560" y="982944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997520" y="9829440"/>
                <a:ext cx="1407960" cy="452160"/>
                <a:chOff x="4997520" y="9829440"/>
                <a:chExt cx="1407960" cy="452160"/>
              </a:xfrm>
            </p:grpSpPr>
            <p:sp>
              <p:nvSpPr>
                <p:cNvPr id="365" name=""/>
                <p:cNvSpPr/>
                <p:nvPr/>
              </p:nvSpPr>
              <p:spPr>
                <a:xfrm>
                  <a:off x="5088960" y="982944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6" name=""/>
                <p:cNvSpPr/>
                <p:nvPr/>
              </p:nvSpPr>
              <p:spPr>
                <a:xfrm>
                  <a:off x="4997520" y="982944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405840" y="9829440"/>
                <a:ext cx="947880" cy="452160"/>
                <a:chOff x="6405840" y="9829440"/>
                <a:chExt cx="947880" cy="452160"/>
              </a:xfrm>
            </p:grpSpPr>
            <p:sp>
              <p:nvSpPr>
                <p:cNvPr id="368" name=""/>
                <p:cNvSpPr/>
                <p:nvPr/>
              </p:nvSpPr>
              <p:spPr>
                <a:xfrm>
                  <a:off x="6496920" y="982944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6405840" y="982944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354080" y="9829440"/>
                <a:ext cx="1177920" cy="452160"/>
                <a:chOff x="7354080" y="9829440"/>
                <a:chExt cx="1177920" cy="452160"/>
              </a:xfrm>
            </p:grpSpPr>
            <p:sp>
              <p:nvSpPr>
                <p:cNvPr id="371" name=""/>
                <p:cNvSpPr/>
                <p:nvPr/>
              </p:nvSpPr>
              <p:spPr>
                <a:xfrm>
                  <a:off x="7445520" y="982944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1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2" name=""/>
                <p:cNvSpPr/>
                <p:nvPr/>
              </p:nvSpPr>
              <p:spPr>
                <a:xfrm>
                  <a:off x="7354080" y="982944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8532360" y="9829440"/>
                <a:ext cx="1039680" cy="452160"/>
                <a:chOff x="8532360" y="9829440"/>
                <a:chExt cx="1039680" cy="452160"/>
              </a:xfrm>
            </p:grpSpPr>
            <p:sp>
              <p:nvSpPr>
                <p:cNvPr id="374" name=""/>
                <p:cNvSpPr/>
                <p:nvPr/>
              </p:nvSpPr>
              <p:spPr>
                <a:xfrm>
                  <a:off x="8623800" y="982944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2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8532360" y="982944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941760" y="10281600"/>
                <a:ext cx="2647440" cy="451800"/>
                <a:chOff x="941760" y="10281600"/>
                <a:chExt cx="2647440" cy="451800"/>
              </a:xfrm>
            </p:grpSpPr>
            <p:sp>
              <p:nvSpPr>
                <p:cNvPr id="377" name=""/>
                <p:cNvSpPr/>
                <p:nvPr/>
              </p:nvSpPr>
              <p:spPr>
                <a:xfrm>
                  <a:off x="1033200" y="102816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941760" y="102816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3589560" y="10281600"/>
                <a:ext cx="1407240" cy="451800"/>
                <a:chOff x="3589560" y="10281600"/>
                <a:chExt cx="1407240" cy="451800"/>
              </a:xfrm>
            </p:grpSpPr>
            <p:sp>
              <p:nvSpPr>
                <p:cNvPr id="380" name=""/>
                <p:cNvSpPr/>
                <p:nvPr/>
              </p:nvSpPr>
              <p:spPr>
                <a:xfrm>
                  <a:off x="3681000" y="102816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5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3589560" y="102816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997520" y="10281600"/>
                <a:ext cx="1407960" cy="451800"/>
                <a:chOff x="4997520" y="10281600"/>
                <a:chExt cx="1407960" cy="451800"/>
              </a:xfrm>
            </p:grpSpPr>
            <p:sp>
              <p:nvSpPr>
                <p:cNvPr id="383" name=""/>
                <p:cNvSpPr/>
                <p:nvPr/>
              </p:nvSpPr>
              <p:spPr>
                <a:xfrm>
                  <a:off x="5088960" y="102816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8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4997520" y="102816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6405840" y="10281600"/>
                <a:ext cx="947880" cy="451800"/>
                <a:chOff x="6405840" y="10281600"/>
                <a:chExt cx="947880" cy="451800"/>
              </a:xfrm>
            </p:grpSpPr>
            <p:sp>
              <p:nvSpPr>
                <p:cNvPr id="386" name=""/>
                <p:cNvSpPr/>
                <p:nvPr/>
              </p:nvSpPr>
              <p:spPr>
                <a:xfrm>
                  <a:off x="6496920" y="102816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6405840" y="102816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7354080" y="10281600"/>
                <a:ext cx="1177920" cy="451800"/>
                <a:chOff x="7354080" y="10281600"/>
                <a:chExt cx="1177920" cy="451800"/>
              </a:xfrm>
            </p:grpSpPr>
            <p:sp>
              <p:nvSpPr>
                <p:cNvPr id="389" name=""/>
                <p:cNvSpPr/>
                <p:nvPr/>
              </p:nvSpPr>
              <p:spPr>
                <a:xfrm>
                  <a:off x="7445520" y="102816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14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354080" y="102816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8532360" y="10281600"/>
                <a:ext cx="1039680" cy="451800"/>
                <a:chOff x="8532360" y="10281600"/>
                <a:chExt cx="1039680" cy="451800"/>
              </a:xfrm>
            </p:grpSpPr>
            <p:sp>
              <p:nvSpPr>
                <p:cNvPr id="392" name=""/>
                <p:cNvSpPr/>
                <p:nvPr/>
              </p:nvSpPr>
              <p:spPr>
                <a:xfrm>
                  <a:off x="8623800" y="102816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2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8532360" y="102816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941760" y="10733400"/>
                <a:ext cx="2647440" cy="451800"/>
                <a:chOff x="941760" y="10733400"/>
                <a:chExt cx="2647440" cy="451800"/>
              </a:xfrm>
            </p:grpSpPr>
            <p:sp>
              <p:nvSpPr>
                <p:cNvPr id="395" name=""/>
                <p:cNvSpPr/>
                <p:nvPr/>
              </p:nvSpPr>
              <p:spPr>
                <a:xfrm>
                  <a:off x="1033200" y="107334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941760" y="107334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589560" y="10733400"/>
                <a:ext cx="1407240" cy="451800"/>
                <a:chOff x="3589560" y="10733400"/>
                <a:chExt cx="1407240" cy="451800"/>
              </a:xfrm>
            </p:grpSpPr>
            <p:sp>
              <p:nvSpPr>
                <p:cNvPr id="398" name=""/>
                <p:cNvSpPr/>
                <p:nvPr/>
              </p:nvSpPr>
              <p:spPr>
                <a:xfrm>
                  <a:off x="3681000" y="107334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0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3589560" y="107334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997520" y="10733400"/>
                <a:ext cx="1407960" cy="451800"/>
                <a:chOff x="4997520" y="10733400"/>
                <a:chExt cx="1407960" cy="451800"/>
              </a:xfrm>
            </p:grpSpPr>
            <p:sp>
              <p:nvSpPr>
                <p:cNvPr id="401" name=""/>
                <p:cNvSpPr/>
                <p:nvPr/>
              </p:nvSpPr>
              <p:spPr>
                <a:xfrm>
                  <a:off x="5088960" y="107334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45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4997520" y="107334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405840" y="10733400"/>
                <a:ext cx="947880" cy="451800"/>
                <a:chOff x="6405840" y="10733400"/>
                <a:chExt cx="947880" cy="451800"/>
              </a:xfrm>
            </p:grpSpPr>
            <p:sp>
              <p:nvSpPr>
                <p:cNvPr id="404" name=""/>
                <p:cNvSpPr/>
                <p:nvPr/>
              </p:nvSpPr>
              <p:spPr>
                <a:xfrm>
                  <a:off x="6496920" y="107334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
                <p:cNvSpPr/>
                <p:nvPr/>
              </p:nvSpPr>
              <p:spPr>
                <a:xfrm>
                  <a:off x="6405840" y="107334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354080" y="10733400"/>
                <a:ext cx="1177920" cy="451800"/>
                <a:chOff x="7354080" y="10733400"/>
                <a:chExt cx="1177920" cy="451800"/>
              </a:xfrm>
            </p:grpSpPr>
            <p:sp>
              <p:nvSpPr>
                <p:cNvPr id="407" name=""/>
                <p:cNvSpPr/>
                <p:nvPr/>
              </p:nvSpPr>
              <p:spPr>
                <a:xfrm>
                  <a:off x="7445520" y="107334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99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7354080" y="107334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8532360" y="10733400"/>
                <a:ext cx="1039680" cy="451800"/>
                <a:chOff x="8532360" y="10733400"/>
                <a:chExt cx="1039680" cy="451800"/>
              </a:xfrm>
            </p:grpSpPr>
            <p:sp>
              <p:nvSpPr>
                <p:cNvPr id="410" name=""/>
                <p:cNvSpPr/>
                <p:nvPr/>
              </p:nvSpPr>
              <p:spPr>
                <a:xfrm>
                  <a:off x="8623800" y="107334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6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1" name=""/>
                <p:cNvSpPr/>
                <p:nvPr/>
              </p:nvSpPr>
              <p:spPr>
                <a:xfrm>
                  <a:off x="8532360" y="107334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2" name=""/>
            <p:cNvSpPr/>
            <p:nvPr/>
          </p:nvSpPr>
          <p:spPr>
            <a:xfrm>
              <a:off x="914400" y="845820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24688800" y="31546800"/>
            <a:ext cx="231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knowledgements: This work was funded wholly or in parts by funds from the National Institute for Global Environmental Change (NIGEC) through the U.S. Department of Energy (Cooperative Agreement No. DE-FCO3-90ER61010).  Any opinions, findings and conclusions or recommendations expressed herein are those of the authors and do not necessarily reflect the views of the DOE.  Thanks to Brant Backlund and Sarah Schliemann for technical assistance.</a:t>
            </a:r>
            <a:endParaRPr b="0" lang="en-US" sz="1600" spc="-1" strike="noStrike">
              <a:solidFill>
                <a:srgbClr val="000000"/>
              </a:solidFill>
              <a:latin typeface="Times New Roman"/>
            </a:endParaRPr>
          </a:p>
        </p:txBody>
      </p:sp>
      <p:sp>
        <p:nvSpPr>
          <p:cNvPr id="414" name=""/>
          <p:cNvSpPr/>
          <p:nvPr/>
        </p:nvSpPr>
        <p:spPr>
          <a:xfrm>
            <a:off x="16764120" y="16078320"/>
            <a:ext cx="6629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ea typeface="Times New Roman"/>
              </a:rPr>
              <a:t>Table 2.</a:t>
            </a:r>
            <a:r>
              <a:rPr b="0" lang="en-US" sz="1800" spc="-1" strike="noStrike">
                <a:solidFill>
                  <a:srgbClr val="000000"/>
                </a:solidFill>
                <a:latin typeface="Trebuchet MS"/>
                <a:ea typeface="Times New Roman"/>
              </a:rPr>
              <a:t>  Summary of measured parameters relevant to soil respiration at the Niwot Ridge Ameriflux site.</a:t>
            </a:r>
            <a:endParaRPr b="0" lang="en-US" sz="1800" spc="-1" strike="noStrike">
              <a:solidFill>
                <a:srgbClr val="000000"/>
              </a:solidFill>
              <a:latin typeface="Times New Roman"/>
            </a:endParaRPr>
          </a:p>
        </p:txBody>
      </p:sp>
      <p:grpSp>
        <p:nvGrpSpPr>
          <p:cNvPr id="415" name=""/>
          <p:cNvGrpSpPr/>
          <p:nvPr/>
        </p:nvGrpSpPr>
        <p:grpSpPr>
          <a:xfrm>
            <a:off x="16840080" y="17221320"/>
            <a:ext cx="6476760" cy="7162560"/>
            <a:chOff x="16840080" y="17221320"/>
            <a:chExt cx="6476760" cy="7162560"/>
          </a:xfrm>
        </p:grpSpPr>
        <p:grpSp>
          <p:nvGrpSpPr>
            <p:cNvPr id="416" name=""/>
            <p:cNvGrpSpPr/>
            <p:nvPr/>
          </p:nvGrpSpPr>
          <p:grpSpPr>
            <a:xfrm>
              <a:off x="16861320" y="17235360"/>
              <a:ext cx="6433200" cy="7133760"/>
              <a:chOff x="16861320" y="17235360"/>
              <a:chExt cx="6433200" cy="7133760"/>
            </a:xfrm>
          </p:grpSpPr>
          <p:grpSp>
            <p:nvGrpSpPr>
              <p:cNvPr id="417" name=""/>
              <p:cNvGrpSpPr/>
              <p:nvPr/>
            </p:nvGrpSpPr>
            <p:grpSpPr>
              <a:xfrm>
                <a:off x="16861320" y="17235360"/>
                <a:ext cx="3312360" cy="563040"/>
                <a:chOff x="16861320" y="17235360"/>
                <a:chExt cx="3312360" cy="563040"/>
              </a:xfrm>
            </p:grpSpPr>
            <p:sp>
              <p:nvSpPr>
                <p:cNvPr id="418" name=""/>
                <p:cNvSpPr/>
                <p:nvPr/>
              </p:nvSpPr>
              <p:spPr>
                <a:xfrm>
                  <a:off x="16932600" y="17235360"/>
                  <a:ext cx="3169800" cy="56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rameter</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
                <p:cNvSpPr/>
                <p:nvPr/>
              </p:nvSpPr>
              <p:spPr>
                <a:xfrm>
                  <a:off x="16861320" y="17235360"/>
                  <a:ext cx="331236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0174040" y="17235360"/>
                <a:ext cx="1155240" cy="563040"/>
                <a:chOff x="20174040" y="17235360"/>
                <a:chExt cx="1155240" cy="563040"/>
              </a:xfrm>
            </p:grpSpPr>
            <p:sp>
              <p:nvSpPr>
                <p:cNvPr id="421" name=""/>
                <p:cNvSpPr/>
                <p:nvPr/>
              </p:nvSpPr>
              <p:spPr>
                <a:xfrm>
                  <a:off x="20244960" y="17235360"/>
                  <a:ext cx="101304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a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0174040" y="17235360"/>
                  <a:ext cx="115524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21330000" y="17235360"/>
                <a:ext cx="1155240" cy="563040"/>
                <a:chOff x="21330000" y="17235360"/>
                <a:chExt cx="1155240" cy="563040"/>
              </a:xfrm>
            </p:grpSpPr>
            <p:sp>
              <p:nvSpPr>
                <p:cNvPr id="424" name=""/>
                <p:cNvSpPr/>
                <p:nvPr/>
              </p:nvSpPr>
              <p:spPr>
                <a:xfrm>
                  <a:off x="21400920" y="17235360"/>
                  <a:ext cx="101304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d deviatio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21330000" y="17235360"/>
                  <a:ext cx="115524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22485600" y="17235360"/>
                <a:ext cx="808920" cy="563040"/>
                <a:chOff x="22485600" y="17235360"/>
                <a:chExt cx="808920" cy="563040"/>
              </a:xfrm>
            </p:grpSpPr>
            <p:sp>
              <p:nvSpPr>
                <p:cNvPr id="427" name=""/>
                <p:cNvSpPr/>
                <p:nvPr/>
              </p:nvSpPr>
              <p:spPr>
                <a:xfrm>
                  <a:off x="22556520" y="17235360"/>
                  <a:ext cx="66708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22485600" y="17235360"/>
                  <a:ext cx="80892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16861320" y="17798400"/>
                <a:ext cx="3312360" cy="437760"/>
                <a:chOff x="16861320" y="17798400"/>
                <a:chExt cx="3312360" cy="437760"/>
              </a:xfrm>
            </p:grpSpPr>
            <p:sp>
              <p:nvSpPr>
                <p:cNvPr id="430" name=""/>
                <p:cNvSpPr/>
                <p:nvPr/>
              </p:nvSpPr>
              <p:spPr>
                <a:xfrm>
                  <a:off x="16932600" y="1779840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live trees within 100 cm</a:t>
                  </a:r>
                  <a:r>
                    <a:rPr b="0" lang="en-US" sz="1200" spc="-1" strike="noStrike" baseline="30000">
                      <a:solidFill>
                        <a:srgbClr val="000000"/>
                      </a:solidFill>
                      <a:latin typeface="Times New Roman"/>
                      <a:ea typeface="Times New Roman"/>
                    </a:rPr>
                    <a:t>a</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6861320" y="1779840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20174040" y="17798400"/>
                <a:ext cx="1155240" cy="437760"/>
                <a:chOff x="20174040" y="17798400"/>
                <a:chExt cx="1155240" cy="437760"/>
              </a:xfrm>
            </p:grpSpPr>
            <p:sp>
              <p:nvSpPr>
                <p:cNvPr id="433" name=""/>
                <p:cNvSpPr/>
                <p:nvPr/>
              </p:nvSpPr>
              <p:spPr>
                <a:xfrm>
                  <a:off x="20244960" y="177984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20174040" y="177984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1330000" y="17798400"/>
                <a:ext cx="1155240" cy="437760"/>
                <a:chOff x="21330000" y="17798400"/>
                <a:chExt cx="1155240" cy="437760"/>
              </a:xfrm>
            </p:grpSpPr>
            <p:sp>
              <p:nvSpPr>
                <p:cNvPr id="436" name=""/>
                <p:cNvSpPr/>
                <p:nvPr/>
              </p:nvSpPr>
              <p:spPr>
                <a:xfrm>
                  <a:off x="21400920" y="177984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21330000" y="177984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22485600" y="17798400"/>
                <a:ext cx="808920" cy="437760"/>
                <a:chOff x="22485600" y="17798400"/>
                <a:chExt cx="808920" cy="437760"/>
              </a:xfrm>
            </p:grpSpPr>
            <p:sp>
              <p:nvSpPr>
                <p:cNvPr id="439" name=""/>
                <p:cNvSpPr/>
                <p:nvPr/>
              </p:nvSpPr>
              <p:spPr>
                <a:xfrm>
                  <a:off x="22556520" y="1779840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22485600" y="1779840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6861320" y="18236520"/>
                <a:ext cx="3312360" cy="437760"/>
                <a:chOff x="16861320" y="18236520"/>
                <a:chExt cx="3312360" cy="437760"/>
              </a:xfrm>
            </p:grpSpPr>
            <p:sp>
              <p:nvSpPr>
                <p:cNvPr id="442" name=""/>
                <p:cNvSpPr/>
                <p:nvPr/>
              </p:nvSpPr>
              <p:spPr>
                <a:xfrm>
                  <a:off x="16932600" y="182365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dead trees within 30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16861320" y="182365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20174040" y="18236520"/>
                <a:ext cx="1155240" cy="437760"/>
                <a:chOff x="20174040" y="18236520"/>
                <a:chExt cx="1155240" cy="437760"/>
              </a:xfrm>
            </p:grpSpPr>
            <p:sp>
              <p:nvSpPr>
                <p:cNvPr id="445" name=""/>
                <p:cNvSpPr/>
                <p:nvPr/>
              </p:nvSpPr>
              <p:spPr>
                <a:xfrm>
                  <a:off x="20244960" y="18236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20174040" y="18236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21330000" y="18236520"/>
                <a:ext cx="1155240" cy="437760"/>
                <a:chOff x="21330000" y="18236520"/>
                <a:chExt cx="1155240" cy="437760"/>
              </a:xfrm>
            </p:grpSpPr>
            <p:sp>
              <p:nvSpPr>
                <p:cNvPr id="448" name=""/>
                <p:cNvSpPr/>
                <p:nvPr/>
              </p:nvSpPr>
              <p:spPr>
                <a:xfrm>
                  <a:off x="21400920" y="18236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21330000" y="18236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2485600" y="18236520"/>
                <a:ext cx="808920" cy="437760"/>
                <a:chOff x="22485600" y="18236520"/>
                <a:chExt cx="808920" cy="437760"/>
              </a:xfrm>
            </p:grpSpPr>
            <p:sp>
              <p:nvSpPr>
                <p:cNvPr id="451" name=""/>
                <p:cNvSpPr/>
                <p:nvPr/>
              </p:nvSpPr>
              <p:spPr>
                <a:xfrm>
                  <a:off x="22556520" y="182365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22485600" y="182365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6861320" y="18674640"/>
                <a:ext cx="3312360" cy="437760"/>
                <a:chOff x="16861320" y="18674640"/>
                <a:chExt cx="3312360" cy="437760"/>
              </a:xfrm>
            </p:grpSpPr>
            <p:sp>
              <p:nvSpPr>
                <p:cNvPr id="454" name=""/>
                <p:cNvSpPr/>
                <p:nvPr/>
              </p:nvSpPr>
              <p:spPr>
                <a:xfrm>
                  <a:off x="16932600" y="186746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hickness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16861320" y="186746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0174040" y="18674640"/>
                <a:ext cx="1155240" cy="437760"/>
                <a:chOff x="20174040" y="18674640"/>
                <a:chExt cx="1155240" cy="437760"/>
              </a:xfrm>
            </p:grpSpPr>
            <p:sp>
              <p:nvSpPr>
                <p:cNvPr id="457" name=""/>
                <p:cNvSpPr/>
                <p:nvPr/>
              </p:nvSpPr>
              <p:spPr>
                <a:xfrm>
                  <a:off x="20244960" y="18674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20174040" y="18674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21330000" y="18674640"/>
                <a:ext cx="1155240" cy="437760"/>
                <a:chOff x="21330000" y="18674640"/>
                <a:chExt cx="1155240" cy="437760"/>
              </a:xfrm>
            </p:grpSpPr>
            <p:sp>
              <p:nvSpPr>
                <p:cNvPr id="460" name=""/>
                <p:cNvSpPr/>
                <p:nvPr/>
              </p:nvSpPr>
              <p:spPr>
                <a:xfrm>
                  <a:off x="21400920" y="18674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21330000" y="18674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22485600" y="18674640"/>
                <a:ext cx="808920" cy="437760"/>
                <a:chOff x="22485600" y="18674640"/>
                <a:chExt cx="808920" cy="437760"/>
              </a:xfrm>
            </p:grpSpPr>
            <p:sp>
              <p:nvSpPr>
                <p:cNvPr id="463" name=""/>
                <p:cNvSpPr/>
                <p:nvPr/>
              </p:nvSpPr>
              <p:spPr>
                <a:xfrm>
                  <a:off x="22556520" y="186746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22485600" y="186746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6861320" y="19112760"/>
                <a:ext cx="3312360" cy="437760"/>
                <a:chOff x="16861320" y="19112760"/>
                <a:chExt cx="3312360" cy="437760"/>
              </a:xfrm>
            </p:grpSpPr>
            <p:sp>
              <p:nvSpPr>
                <p:cNvPr id="466" name=""/>
                <p:cNvSpPr/>
                <p:nvPr/>
              </p:nvSpPr>
              <p:spPr>
                <a:xfrm>
                  <a:off x="16932600" y="191127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depth to first impediment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16861320" y="191127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0174040" y="19112760"/>
                <a:ext cx="1155240" cy="437760"/>
                <a:chOff x="20174040" y="19112760"/>
                <a:chExt cx="1155240" cy="437760"/>
              </a:xfrm>
            </p:grpSpPr>
            <p:sp>
              <p:nvSpPr>
                <p:cNvPr id="469" name=""/>
                <p:cNvSpPr/>
                <p:nvPr/>
              </p:nvSpPr>
              <p:spPr>
                <a:xfrm>
                  <a:off x="20244960" y="191127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20174040" y="191127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21330000" y="19112760"/>
                <a:ext cx="1155240" cy="437760"/>
                <a:chOff x="21330000" y="19112760"/>
                <a:chExt cx="1155240" cy="437760"/>
              </a:xfrm>
            </p:grpSpPr>
            <p:sp>
              <p:nvSpPr>
                <p:cNvPr id="472" name=""/>
                <p:cNvSpPr/>
                <p:nvPr/>
              </p:nvSpPr>
              <p:spPr>
                <a:xfrm>
                  <a:off x="21400920" y="191127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21330000" y="191127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22485600" y="19112760"/>
                <a:ext cx="808920" cy="437760"/>
                <a:chOff x="22485600" y="19112760"/>
                <a:chExt cx="808920" cy="437760"/>
              </a:xfrm>
            </p:grpSpPr>
            <p:sp>
              <p:nvSpPr>
                <p:cNvPr id="475" name=""/>
                <p:cNvSpPr/>
                <p:nvPr/>
              </p:nvSpPr>
              <p:spPr>
                <a:xfrm>
                  <a:off x="22556520" y="191127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22485600" y="191127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6861320" y="19550520"/>
                <a:ext cx="3312360" cy="437760"/>
                <a:chOff x="16861320" y="19550520"/>
                <a:chExt cx="3312360" cy="437760"/>
              </a:xfrm>
            </p:grpSpPr>
            <p:sp>
              <p:nvSpPr>
                <p:cNvPr id="478" name=""/>
                <p:cNvSpPr/>
                <p:nvPr/>
              </p:nvSpPr>
              <p:spPr>
                <a:xfrm>
                  <a:off x="16932600" y="195505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tter thickness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16861320" y="195505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0174040" y="19550520"/>
                <a:ext cx="1155240" cy="437760"/>
                <a:chOff x="20174040" y="19550520"/>
                <a:chExt cx="1155240" cy="437760"/>
              </a:xfrm>
            </p:grpSpPr>
            <p:sp>
              <p:nvSpPr>
                <p:cNvPr id="481" name=""/>
                <p:cNvSpPr/>
                <p:nvPr/>
              </p:nvSpPr>
              <p:spPr>
                <a:xfrm>
                  <a:off x="20244960" y="19550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0174040" y="19550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21330000" y="19550520"/>
                <a:ext cx="1155240" cy="437760"/>
                <a:chOff x="21330000" y="19550520"/>
                <a:chExt cx="1155240" cy="437760"/>
              </a:xfrm>
            </p:grpSpPr>
            <p:sp>
              <p:nvSpPr>
                <p:cNvPr id="484" name=""/>
                <p:cNvSpPr/>
                <p:nvPr/>
              </p:nvSpPr>
              <p:spPr>
                <a:xfrm>
                  <a:off x="21400920" y="19550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21330000" y="19550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22485600" y="19550520"/>
                <a:ext cx="808920" cy="437760"/>
                <a:chOff x="22485600" y="19550520"/>
                <a:chExt cx="808920" cy="437760"/>
              </a:xfrm>
            </p:grpSpPr>
            <p:sp>
              <p:nvSpPr>
                <p:cNvPr id="487" name=""/>
                <p:cNvSpPr/>
                <p:nvPr/>
              </p:nvSpPr>
              <p:spPr>
                <a:xfrm>
                  <a:off x="22556520" y="195505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22485600" y="195505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16861320" y="19988640"/>
                <a:ext cx="3312360" cy="437760"/>
                <a:chOff x="16861320" y="19988640"/>
                <a:chExt cx="3312360" cy="437760"/>
              </a:xfrm>
            </p:grpSpPr>
            <p:sp>
              <p:nvSpPr>
                <p:cNvPr id="490" name=""/>
                <p:cNvSpPr/>
                <p:nvPr/>
              </p:nvSpPr>
              <p:spPr>
                <a:xfrm>
                  <a:off x="16932600" y="199886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 C)</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6861320" y="199886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20174040" y="19988640"/>
                <a:ext cx="1155240" cy="437760"/>
                <a:chOff x="20174040" y="19988640"/>
                <a:chExt cx="1155240" cy="437760"/>
              </a:xfrm>
            </p:grpSpPr>
            <p:sp>
              <p:nvSpPr>
                <p:cNvPr id="493" name=""/>
                <p:cNvSpPr/>
                <p:nvPr/>
              </p:nvSpPr>
              <p:spPr>
                <a:xfrm>
                  <a:off x="20244960" y="19988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20174040" y="19988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21330000" y="19988640"/>
                <a:ext cx="1155240" cy="437760"/>
                <a:chOff x="21330000" y="19988640"/>
                <a:chExt cx="1155240" cy="437760"/>
              </a:xfrm>
            </p:grpSpPr>
            <p:sp>
              <p:nvSpPr>
                <p:cNvPr id="496" name=""/>
                <p:cNvSpPr/>
                <p:nvPr/>
              </p:nvSpPr>
              <p:spPr>
                <a:xfrm>
                  <a:off x="21400920" y="19988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21330000" y="19988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22485600" y="19988640"/>
                <a:ext cx="808920" cy="437760"/>
                <a:chOff x="22485600" y="19988640"/>
                <a:chExt cx="808920" cy="437760"/>
              </a:xfrm>
            </p:grpSpPr>
            <p:sp>
              <p:nvSpPr>
                <p:cNvPr id="499" name=""/>
                <p:cNvSpPr/>
                <p:nvPr/>
              </p:nvSpPr>
              <p:spPr>
                <a:xfrm>
                  <a:off x="22556520" y="199886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22485600" y="199886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16861320" y="20426760"/>
                <a:ext cx="3312360" cy="438120"/>
                <a:chOff x="16861320" y="20426760"/>
                <a:chExt cx="3312360" cy="438120"/>
              </a:xfrm>
            </p:grpSpPr>
            <p:sp>
              <p:nvSpPr>
                <p:cNvPr id="502" name=""/>
                <p:cNvSpPr/>
                <p:nvPr/>
              </p:nvSpPr>
              <p:spPr>
                <a:xfrm>
                  <a:off x="16932600" y="20426760"/>
                  <a:ext cx="316980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 C)</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16861320" y="20426760"/>
                  <a:ext cx="331236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0174040" y="20426760"/>
                <a:ext cx="1155240" cy="438120"/>
                <a:chOff x="20174040" y="20426760"/>
                <a:chExt cx="1155240" cy="438120"/>
              </a:xfrm>
            </p:grpSpPr>
            <p:sp>
              <p:nvSpPr>
                <p:cNvPr id="505" name=""/>
                <p:cNvSpPr/>
                <p:nvPr/>
              </p:nvSpPr>
              <p:spPr>
                <a:xfrm>
                  <a:off x="20244960" y="20426760"/>
                  <a:ext cx="10130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20174040" y="20426760"/>
                  <a:ext cx="115524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21330000" y="20426760"/>
                <a:ext cx="1155240" cy="438120"/>
                <a:chOff x="21330000" y="20426760"/>
                <a:chExt cx="1155240" cy="438120"/>
              </a:xfrm>
            </p:grpSpPr>
            <p:sp>
              <p:nvSpPr>
                <p:cNvPr id="508" name=""/>
                <p:cNvSpPr/>
                <p:nvPr/>
              </p:nvSpPr>
              <p:spPr>
                <a:xfrm>
                  <a:off x="21400920" y="20426760"/>
                  <a:ext cx="10130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21330000" y="20426760"/>
                  <a:ext cx="115524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2485600" y="20426760"/>
                <a:ext cx="808920" cy="438120"/>
                <a:chOff x="22485600" y="20426760"/>
                <a:chExt cx="808920" cy="438120"/>
              </a:xfrm>
            </p:grpSpPr>
            <p:sp>
              <p:nvSpPr>
                <p:cNvPr id="511" name=""/>
                <p:cNvSpPr/>
                <p:nvPr/>
              </p:nvSpPr>
              <p:spPr>
                <a:xfrm>
                  <a:off x="22556520" y="20426760"/>
                  <a:ext cx="66708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22485600" y="20426760"/>
                  <a:ext cx="80892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16861320" y="20864880"/>
                <a:ext cx="3312360" cy="437760"/>
                <a:chOff x="16861320" y="20864880"/>
                <a:chExt cx="3312360" cy="437760"/>
              </a:xfrm>
            </p:grpSpPr>
            <p:sp>
              <p:nvSpPr>
                <p:cNvPr id="514" name=""/>
                <p:cNvSpPr/>
                <p:nvPr/>
              </p:nvSpPr>
              <p:spPr>
                <a:xfrm>
                  <a:off x="16932600" y="2086488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otal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16861320" y="2086488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0174040" y="20864880"/>
                <a:ext cx="1155240" cy="437760"/>
                <a:chOff x="20174040" y="20864880"/>
                <a:chExt cx="1155240" cy="437760"/>
              </a:xfrm>
            </p:grpSpPr>
            <p:sp>
              <p:nvSpPr>
                <p:cNvPr id="517" name=""/>
                <p:cNvSpPr/>
                <p:nvPr/>
              </p:nvSpPr>
              <p:spPr>
                <a:xfrm>
                  <a:off x="20244960" y="2086488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4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20174040" y="2086488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21330000" y="20864880"/>
                <a:ext cx="1155240" cy="437760"/>
                <a:chOff x="21330000" y="20864880"/>
                <a:chExt cx="1155240" cy="437760"/>
              </a:xfrm>
            </p:grpSpPr>
            <p:sp>
              <p:nvSpPr>
                <p:cNvPr id="520" name=""/>
                <p:cNvSpPr/>
                <p:nvPr/>
              </p:nvSpPr>
              <p:spPr>
                <a:xfrm>
                  <a:off x="21400920" y="2086488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9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21330000" y="2086488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22485600" y="20864880"/>
                <a:ext cx="808920" cy="437760"/>
                <a:chOff x="22485600" y="20864880"/>
                <a:chExt cx="808920" cy="437760"/>
              </a:xfrm>
            </p:grpSpPr>
            <p:sp>
              <p:nvSpPr>
                <p:cNvPr id="523" name=""/>
                <p:cNvSpPr/>
                <p:nvPr/>
              </p:nvSpPr>
              <p:spPr>
                <a:xfrm>
                  <a:off x="22556520" y="2086488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22485600" y="2086488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16861320" y="21303000"/>
                <a:ext cx="3312360" cy="437760"/>
                <a:chOff x="16861320" y="21303000"/>
                <a:chExt cx="3312360" cy="437760"/>
              </a:xfrm>
            </p:grpSpPr>
            <p:sp>
              <p:nvSpPr>
                <p:cNvPr id="526" name=""/>
                <p:cNvSpPr/>
                <p:nvPr/>
              </p:nvSpPr>
              <p:spPr>
                <a:xfrm>
                  <a:off x="16932600" y="2130300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live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16861320" y="2130300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20174040" y="21303000"/>
                <a:ext cx="1155240" cy="437760"/>
                <a:chOff x="20174040" y="21303000"/>
                <a:chExt cx="1155240" cy="437760"/>
              </a:xfrm>
            </p:grpSpPr>
            <p:sp>
              <p:nvSpPr>
                <p:cNvPr id="529" name=""/>
                <p:cNvSpPr/>
                <p:nvPr/>
              </p:nvSpPr>
              <p:spPr>
                <a:xfrm>
                  <a:off x="20244960" y="213030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
                <p:cNvSpPr/>
                <p:nvPr/>
              </p:nvSpPr>
              <p:spPr>
                <a:xfrm>
                  <a:off x="20174040" y="213030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21330000" y="21303000"/>
                <a:ext cx="1155240" cy="437760"/>
                <a:chOff x="21330000" y="21303000"/>
                <a:chExt cx="1155240" cy="437760"/>
              </a:xfrm>
            </p:grpSpPr>
            <p:sp>
              <p:nvSpPr>
                <p:cNvPr id="532" name=""/>
                <p:cNvSpPr/>
                <p:nvPr/>
              </p:nvSpPr>
              <p:spPr>
                <a:xfrm>
                  <a:off x="21400920" y="213030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8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
                <p:cNvSpPr/>
                <p:nvPr/>
              </p:nvSpPr>
              <p:spPr>
                <a:xfrm>
                  <a:off x="21330000" y="213030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485600" y="21303000"/>
                <a:ext cx="808920" cy="437760"/>
                <a:chOff x="22485600" y="21303000"/>
                <a:chExt cx="808920" cy="437760"/>
              </a:xfrm>
            </p:grpSpPr>
            <p:sp>
              <p:nvSpPr>
                <p:cNvPr id="535" name=""/>
                <p:cNvSpPr/>
                <p:nvPr/>
              </p:nvSpPr>
              <p:spPr>
                <a:xfrm>
                  <a:off x="22556520" y="2130300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
                <p:cNvSpPr/>
                <p:nvPr/>
              </p:nvSpPr>
              <p:spPr>
                <a:xfrm>
                  <a:off x="22485600" y="2130300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16861320" y="21741120"/>
                <a:ext cx="3312360" cy="437760"/>
                <a:chOff x="16861320" y="21741120"/>
                <a:chExt cx="3312360" cy="437760"/>
              </a:xfrm>
            </p:grpSpPr>
            <p:sp>
              <p:nvSpPr>
                <p:cNvPr id="538" name=""/>
                <p:cNvSpPr/>
                <p:nvPr/>
              </p:nvSpPr>
              <p:spPr>
                <a:xfrm>
                  <a:off x="16932600" y="217411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dead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
                <p:cNvSpPr/>
                <p:nvPr/>
              </p:nvSpPr>
              <p:spPr>
                <a:xfrm>
                  <a:off x="16861320" y="217411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0174040" y="21741120"/>
                <a:ext cx="1155240" cy="437760"/>
                <a:chOff x="20174040" y="21741120"/>
                <a:chExt cx="1155240" cy="437760"/>
              </a:xfrm>
            </p:grpSpPr>
            <p:sp>
              <p:nvSpPr>
                <p:cNvPr id="541" name=""/>
                <p:cNvSpPr/>
                <p:nvPr/>
              </p:nvSpPr>
              <p:spPr>
                <a:xfrm>
                  <a:off x="20244960" y="21741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1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
                <p:cNvSpPr/>
                <p:nvPr/>
              </p:nvSpPr>
              <p:spPr>
                <a:xfrm>
                  <a:off x="20174040" y="21741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1330000" y="21741120"/>
                <a:ext cx="1155240" cy="437760"/>
                <a:chOff x="21330000" y="21741120"/>
                <a:chExt cx="1155240" cy="437760"/>
              </a:xfrm>
            </p:grpSpPr>
            <p:sp>
              <p:nvSpPr>
                <p:cNvPr id="544" name=""/>
                <p:cNvSpPr/>
                <p:nvPr/>
              </p:nvSpPr>
              <p:spPr>
                <a:xfrm>
                  <a:off x="21400920" y="21741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1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
                <p:cNvSpPr/>
                <p:nvPr/>
              </p:nvSpPr>
              <p:spPr>
                <a:xfrm>
                  <a:off x="21330000" y="21741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22485600" y="21741120"/>
                <a:ext cx="808920" cy="437760"/>
                <a:chOff x="22485600" y="21741120"/>
                <a:chExt cx="808920" cy="437760"/>
              </a:xfrm>
            </p:grpSpPr>
            <p:sp>
              <p:nvSpPr>
                <p:cNvPr id="547" name=""/>
                <p:cNvSpPr/>
                <p:nvPr/>
              </p:nvSpPr>
              <p:spPr>
                <a:xfrm>
                  <a:off x="22556520" y="217411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
                <p:cNvSpPr/>
                <p:nvPr/>
              </p:nvSpPr>
              <p:spPr>
                <a:xfrm>
                  <a:off x="22485600" y="217411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16861320" y="22179240"/>
                <a:ext cx="3312360" cy="437760"/>
                <a:chOff x="16861320" y="22179240"/>
                <a:chExt cx="3312360" cy="437760"/>
              </a:xfrm>
            </p:grpSpPr>
            <p:sp>
              <p:nvSpPr>
                <p:cNvPr id="550" name=""/>
                <p:cNvSpPr/>
                <p:nvPr/>
              </p:nvSpPr>
              <p:spPr>
                <a:xfrm>
                  <a:off x="16932600" y="221792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total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
                <p:cNvSpPr/>
                <p:nvPr/>
              </p:nvSpPr>
              <p:spPr>
                <a:xfrm>
                  <a:off x="16861320" y="221792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0174040" y="22179240"/>
                <a:ext cx="1155240" cy="437760"/>
                <a:chOff x="20174040" y="22179240"/>
                <a:chExt cx="1155240" cy="437760"/>
              </a:xfrm>
            </p:grpSpPr>
            <p:sp>
              <p:nvSpPr>
                <p:cNvPr id="553" name=""/>
                <p:cNvSpPr/>
                <p:nvPr/>
              </p:nvSpPr>
              <p:spPr>
                <a:xfrm>
                  <a:off x="20244960" y="22179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4</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
                <p:cNvSpPr/>
                <p:nvPr/>
              </p:nvSpPr>
              <p:spPr>
                <a:xfrm>
                  <a:off x="20174040" y="22179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330000" y="22179240"/>
                <a:ext cx="1155240" cy="437760"/>
                <a:chOff x="21330000" y="22179240"/>
                <a:chExt cx="1155240" cy="437760"/>
              </a:xfrm>
            </p:grpSpPr>
            <p:sp>
              <p:nvSpPr>
                <p:cNvPr id="556" name=""/>
                <p:cNvSpPr/>
                <p:nvPr/>
              </p:nvSpPr>
              <p:spPr>
                <a:xfrm>
                  <a:off x="21400920" y="22179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4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
                <p:cNvSpPr/>
                <p:nvPr/>
              </p:nvSpPr>
              <p:spPr>
                <a:xfrm>
                  <a:off x="21330000" y="22179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2485600" y="22179240"/>
                <a:ext cx="808920" cy="437760"/>
                <a:chOff x="22485600" y="22179240"/>
                <a:chExt cx="808920" cy="437760"/>
              </a:xfrm>
            </p:grpSpPr>
            <p:sp>
              <p:nvSpPr>
                <p:cNvPr id="559" name=""/>
                <p:cNvSpPr/>
                <p:nvPr/>
              </p:nvSpPr>
              <p:spPr>
                <a:xfrm>
                  <a:off x="22556520" y="221792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22485600" y="221792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16861320" y="22617360"/>
                <a:ext cx="3312360" cy="437760"/>
                <a:chOff x="16861320" y="22617360"/>
                <a:chExt cx="3312360" cy="437760"/>
              </a:xfrm>
            </p:grpSpPr>
            <p:sp>
              <p:nvSpPr>
                <p:cNvPr id="562" name=""/>
                <p:cNvSpPr/>
                <p:nvPr/>
              </p:nvSpPr>
              <p:spPr>
                <a:xfrm>
                  <a:off x="16932600" y="226173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live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
                <p:cNvSpPr/>
                <p:nvPr/>
              </p:nvSpPr>
              <p:spPr>
                <a:xfrm>
                  <a:off x="16861320" y="226173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20174040" y="22617360"/>
                <a:ext cx="1155240" cy="437760"/>
                <a:chOff x="20174040" y="22617360"/>
                <a:chExt cx="1155240" cy="437760"/>
              </a:xfrm>
            </p:grpSpPr>
            <p:sp>
              <p:nvSpPr>
                <p:cNvPr id="565" name=""/>
                <p:cNvSpPr/>
                <p:nvPr/>
              </p:nvSpPr>
              <p:spPr>
                <a:xfrm>
                  <a:off x="20244960" y="22617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1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20174040" y="22617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21330000" y="22617360"/>
                <a:ext cx="1155240" cy="437760"/>
                <a:chOff x="21330000" y="22617360"/>
                <a:chExt cx="1155240" cy="437760"/>
              </a:xfrm>
            </p:grpSpPr>
            <p:sp>
              <p:nvSpPr>
                <p:cNvPr id="568" name=""/>
                <p:cNvSpPr/>
                <p:nvPr/>
              </p:nvSpPr>
              <p:spPr>
                <a:xfrm>
                  <a:off x="21400920" y="22617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2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
                <p:cNvSpPr/>
                <p:nvPr/>
              </p:nvSpPr>
              <p:spPr>
                <a:xfrm>
                  <a:off x="21330000" y="22617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22485600" y="22617360"/>
                <a:ext cx="808920" cy="437760"/>
                <a:chOff x="22485600" y="22617360"/>
                <a:chExt cx="808920" cy="437760"/>
              </a:xfrm>
            </p:grpSpPr>
            <p:sp>
              <p:nvSpPr>
                <p:cNvPr id="571" name=""/>
                <p:cNvSpPr/>
                <p:nvPr/>
              </p:nvSpPr>
              <p:spPr>
                <a:xfrm>
                  <a:off x="22556520" y="226173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
                <p:cNvSpPr/>
                <p:nvPr/>
              </p:nvSpPr>
              <p:spPr>
                <a:xfrm>
                  <a:off x="22485600" y="226173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16861320" y="23055120"/>
                <a:ext cx="3312360" cy="437760"/>
                <a:chOff x="16861320" y="23055120"/>
                <a:chExt cx="3312360" cy="437760"/>
              </a:xfrm>
            </p:grpSpPr>
            <p:sp>
              <p:nvSpPr>
                <p:cNvPr id="574" name=""/>
                <p:cNvSpPr/>
                <p:nvPr/>
              </p:nvSpPr>
              <p:spPr>
                <a:xfrm>
                  <a:off x="16932600" y="230551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dead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
                <p:cNvSpPr/>
                <p:nvPr/>
              </p:nvSpPr>
              <p:spPr>
                <a:xfrm>
                  <a:off x="16861320" y="230551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20174040" y="23055120"/>
                <a:ext cx="1155240" cy="437760"/>
                <a:chOff x="20174040" y="23055120"/>
                <a:chExt cx="1155240" cy="437760"/>
              </a:xfrm>
            </p:grpSpPr>
            <p:sp>
              <p:nvSpPr>
                <p:cNvPr id="577" name=""/>
                <p:cNvSpPr/>
                <p:nvPr/>
              </p:nvSpPr>
              <p:spPr>
                <a:xfrm>
                  <a:off x="20244960" y="23055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
                <p:cNvSpPr/>
                <p:nvPr/>
              </p:nvSpPr>
              <p:spPr>
                <a:xfrm>
                  <a:off x="20174040" y="23055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21330000" y="23055120"/>
                <a:ext cx="1155240" cy="437760"/>
                <a:chOff x="21330000" y="23055120"/>
                <a:chExt cx="1155240" cy="437760"/>
              </a:xfrm>
            </p:grpSpPr>
            <p:sp>
              <p:nvSpPr>
                <p:cNvPr id="580" name=""/>
                <p:cNvSpPr/>
                <p:nvPr/>
              </p:nvSpPr>
              <p:spPr>
                <a:xfrm>
                  <a:off x="21400920" y="23055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
                <p:cNvSpPr/>
                <p:nvPr/>
              </p:nvSpPr>
              <p:spPr>
                <a:xfrm>
                  <a:off x="21330000" y="23055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2485600" y="23055120"/>
                <a:ext cx="808920" cy="437760"/>
                <a:chOff x="22485600" y="23055120"/>
                <a:chExt cx="808920" cy="437760"/>
              </a:xfrm>
            </p:grpSpPr>
            <p:sp>
              <p:nvSpPr>
                <p:cNvPr id="583" name=""/>
                <p:cNvSpPr/>
                <p:nvPr/>
              </p:nvSpPr>
              <p:spPr>
                <a:xfrm>
                  <a:off x="22556520" y="230551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
                <p:cNvSpPr/>
                <p:nvPr/>
              </p:nvSpPr>
              <p:spPr>
                <a:xfrm>
                  <a:off x="22485600" y="230551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16861320" y="23493240"/>
                <a:ext cx="3312360" cy="437760"/>
                <a:chOff x="16861320" y="23493240"/>
                <a:chExt cx="3312360" cy="437760"/>
              </a:xfrm>
            </p:grpSpPr>
            <p:sp>
              <p:nvSpPr>
                <p:cNvPr id="586" name=""/>
                <p:cNvSpPr/>
                <p:nvPr/>
              </p:nvSpPr>
              <p:spPr>
                <a:xfrm>
                  <a:off x="16932600" y="234932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bulk density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
                <p:cNvSpPr/>
                <p:nvPr/>
              </p:nvSpPr>
              <p:spPr>
                <a:xfrm>
                  <a:off x="16861320" y="234932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0174040" y="23493240"/>
                <a:ext cx="1155240" cy="437760"/>
                <a:chOff x="20174040" y="23493240"/>
                <a:chExt cx="1155240" cy="437760"/>
              </a:xfrm>
            </p:grpSpPr>
            <p:sp>
              <p:nvSpPr>
                <p:cNvPr id="589" name=""/>
                <p:cNvSpPr/>
                <p:nvPr/>
              </p:nvSpPr>
              <p:spPr>
                <a:xfrm>
                  <a:off x="20244960" y="23493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
                <p:cNvSpPr/>
                <p:nvPr/>
              </p:nvSpPr>
              <p:spPr>
                <a:xfrm>
                  <a:off x="20174040" y="23493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21330000" y="23493240"/>
                <a:ext cx="1155240" cy="437760"/>
                <a:chOff x="21330000" y="23493240"/>
                <a:chExt cx="1155240" cy="437760"/>
              </a:xfrm>
            </p:grpSpPr>
            <p:sp>
              <p:nvSpPr>
                <p:cNvPr id="592" name=""/>
                <p:cNvSpPr/>
                <p:nvPr/>
              </p:nvSpPr>
              <p:spPr>
                <a:xfrm>
                  <a:off x="21400920" y="23493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
                <p:cNvSpPr/>
                <p:nvPr/>
              </p:nvSpPr>
              <p:spPr>
                <a:xfrm>
                  <a:off x="21330000" y="23493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22485600" y="23493240"/>
                <a:ext cx="808920" cy="437760"/>
                <a:chOff x="22485600" y="23493240"/>
                <a:chExt cx="808920" cy="437760"/>
              </a:xfrm>
            </p:grpSpPr>
            <p:sp>
              <p:nvSpPr>
                <p:cNvPr id="595" name=""/>
                <p:cNvSpPr/>
                <p:nvPr/>
              </p:nvSpPr>
              <p:spPr>
                <a:xfrm>
                  <a:off x="22556520" y="234932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22485600" y="234932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16861320" y="23931360"/>
                <a:ext cx="3312360" cy="437760"/>
                <a:chOff x="16861320" y="23931360"/>
                <a:chExt cx="3312360" cy="437760"/>
              </a:xfrm>
            </p:grpSpPr>
            <p:sp>
              <p:nvSpPr>
                <p:cNvPr id="598" name=""/>
                <p:cNvSpPr/>
                <p:nvPr/>
              </p:nvSpPr>
              <p:spPr>
                <a:xfrm>
                  <a:off x="16932600" y="239313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bulk density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
                <p:cNvSpPr/>
                <p:nvPr/>
              </p:nvSpPr>
              <p:spPr>
                <a:xfrm>
                  <a:off x="16861320" y="239313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20174040" y="23931360"/>
                <a:ext cx="1155240" cy="437760"/>
                <a:chOff x="20174040" y="23931360"/>
                <a:chExt cx="1155240" cy="437760"/>
              </a:xfrm>
            </p:grpSpPr>
            <p:sp>
              <p:nvSpPr>
                <p:cNvPr id="601" name=""/>
                <p:cNvSpPr/>
                <p:nvPr/>
              </p:nvSpPr>
              <p:spPr>
                <a:xfrm>
                  <a:off x="20244960" y="23931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
                <p:cNvSpPr/>
                <p:nvPr/>
              </p:nvSpPr>
              <p:spPr>
                <a:xfrm>
                  <a:off x="20174040" y="23931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1330000" y="23931360"/>
                <a:ext cx="1155240" cy="437760"/>
                <a:chOff x="21330000" y="23931360"/>
                <a:chExt cx="1155240" cy="437760"/>
              </a:xfrm>
            </p:grpSpPr>
            <p:sp>
              <p:nvSpPr>
                <p:cNvPr id="604" name=""/>
                <p:cNvSpPr/>
                <p:nvPr/>
              </p:nvSpPr>
              <p:spPr>
                <a:xfrm>
                  <a:off x="21400920" y="23931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21330000" y="23931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22485600" y="23931360"/>
                <a:ext cx="808920" cy="437760"/>
                <a:chOff x="22485600" y="23931360"/>
                <a:chExt cx="808920" cy="437760"/>
              </a:xfrm>
            </p:grpSpPr>
            <p:sp>
              <p:nvSpPr>
                <p:cNvPr id="607" name=""/>
                <p:cNvSpPr/>
                <p:nvPr/>
              </p:nvSpPr>
              <p:spPr>
                <a:xfrm>
                  <a:off x="22556520" y="239313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22485600" y="239313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9" name=""/>
            <p:cNvSpPr/>
            <p:nvPr/>
          </p:nvSpPr>
          <p:spPr>
            <a:xfrm>
              <a:off x="16840080" y="17221320"/>
              <a:ext cx="6476760" cy="716256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0" name=""/>
          <p:cNvGraphicFramePr/>
          <p:nvPr/>
        </p:nvGraphicFramePr>
        <p:xfrm>
          <a:off x="1905120" y="27660600"/>
          <a:ext cx="13639680" cy="3236760"/>
        </p:xfrm>
        <a:graphic>
          <a:graphicData uri="http://schemas.openxmlformats.org/presentationml/2006/ole">
            <p:oleObj progId="Excel.Sheet.12" r:id="rId13" spid="">
              <p:embed/>
              <p:pic>
                <p:nvPicPr>
                  <p:cNvPr id="611" name="" descr=""/>
                  <p:cNvPicPr/>
                  <p:nvPr/>
                </p:nvPicPr>
                <p:blipFill>
                  <a:blip r:embed="rId14"/>
                  <a:stretch/>
                </p:blipFill>
                <p:spPr>
                  <a:xfrm>
                    <a:off x="1905120" y="27660600"/>
                    <a:ext cx="13639680" cy="3236760"/>
                  </a:xfrm>
                  <a:prstGeom prst="rect">
                    <a:avLst/>
                  </a:prstGeom>
                  <a:ln w="0">
                    <a:noFill/>
                  </a:ln>
                </p:spPr>
              </p:pic>
            </p:oleObj>
          </a:graphicData>
        </a:graphic>
      </p:graphicFrame>
      <p:sp>
        <p:nvSpPr>
          <p:cNvPr id="612" name=""/>
          <p:cNvSpPr/>
          <p:nvPr/>
        </p:nvSpPr>
        <p:spPr>
          <a:xfrm>
            <a:off x="1219320" y="31165920"/>
            <a:ext cx="159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rPr>
              <a:t>Table 3</a:t>
            </a:r>
            <a:r>
              <a:rPr b="0" lang="en-US" sz="1800" spc="-1" strike="noStrike">
                <a:solidFill>
                  <a:srgbClr val="336699"/>
                </a:solidFill>
                <a:latin typeface="Trebuchet MS"/>
              </a:rPr>
              <a:t>.</a:t>
            </a:r>
            <a:r>
              <a:rPr b="0" lang="en-US" sz="1800" spc="-1" strike="noStrike">
                <a:solidFill>
                  <a:srgbClr val="000000"/>
                </a:solidFill>
                <a:latin typeface="Trebuchet MS"/>
              </a:rPr>
              <a:t> Correlation matrix.  Values are correlation coefficients (r). Significance is shown by colors, see key.  Uncolored cells are not significa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3" name=""/>
          <p:cNvSpPr/>
          <p:nvPr/>
        </p:nvSpPr>
        <p:spPr>
          <a:xfrm>
            <a:off x="16992720" y="260604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ea typeface="Times New Roman"/>
              </a:rPr>
              <a:t>Table 4.</a:t>
            </a:r>
            <a:r>
              <a:rPr b="0" lang="en-US" sz="1800" spc="-1" strike="noStrike">
                <a:solidFill>
                  <a:srgbClr val="000000"/>
                </a:solidFill>
                <a:latin typeface="Trebuchet MS"/>
                <a:ea typeface="Times New Roman"/>
              </a:rPr>
              <a:t>  Parameter descriptions of multiple regression model of collar-to-collar variation in soil respiration rate.  r</a:t>
            </a:r>
            <a:r>
              <a:rPr b="0" lang="en-US" sz="1800" spc="-1" strike="noStrike" baseline="30000">
                <a:solidFill>
                  <a:srgbClr val="000000"/>
                </a:solidFill>
                <a:latin typeface="Trebuchet MS"/>
                <a:ea typeface="Times New Roman"/>
              </a:rPr>
              <a:t>2</a:t>
            </a:r>
            <a:r>
              <a:rPr b="0" lang="en-US" sz="1800" spc="-1" strike="noStrike">
                <a:solidFill>
                  <a:srgbClr val="000000"/>
                </a:solidFill>
                <a:latin typeface="Trebuchet MS"/>
                <a:ea typeface="Times New Roman"/>
              </a:rPr>
              <a:t> = 0.4963;  F = 5.747;  df = 6 and 35;  p = 0.0003</a:t>
            </a:r>
            <a:endParaRPr b="0" lang="en-US" sz="1800" spc="-1" strike="noStrike">
              <a:solidFill>
                <a:srgbClr val="000000"/>
              </a:solidFill>
              <a:latin typeface="Times New Roman"/>
            </a:endParaRPr>
          </a:p>
        </p:txBody>
      </p:sp>
      <p:grpSp>
        <p:nvGrpSpPr>
          <p:cNvPr id="614" name=""/>
          <p:cNvGrpSpPr/>
          <p:nvPr/>
        </p:nvGrpSpPr>
        <p:grpSpPr>
          <a:xfrm>
            <a:off x="16992720" y="27127080"/>
            <a:ext cx="6247800" cy="3124440"/>
            <a:chOff x="16992720" y="27127080"/>
            <a:chExt cx="6247800" cy="3124440"/>
          </a:xfrm>
        </p:grpSpPr>
        <p:grpSp>
          <p:nvGrpSpPr>
            <p:cNvPr id="615" name=""/>
            <p:cNvGrpSpPr/>
            <p:nvPr/>
          </p:nvGrpSpPr>
          <p:grpSpPr>
            <a:xfrm>
              <a:off x="17015040" y="27139320"/>
              <a:ext cx="6202080" cy="3099240"/>
              <a:chOff x="17015040" y="27139320"/>
              <a:chExt cx="6202080" cy="3099240"/>
            </a:xfrm>
          </p:grpSpPr>
          <p:grpSp>
            <p:nvGrpSpPr>
              <p:cNvPr id="616" name=""/>
              <p:cNvGrpSpPr/>
              <p:nvPr/>
            </p:nvGrpSpPr>
            <p:grpSpPr>
              <a:xfrm>
                <a:off x="17015040" y="27139320"/>
                <a:ext cx="2106360" cy="387360"/>
                <a:chOff x="17015040" y="27139320"/>
                <a:chExt cx="2106360" cy="387360"/>
              </a:xfrm>
            </p:grpSpPr>
            <p:sp>
              <p:nvSpPr>
                <p:cNvPr id="617" name=""/>
                <p:cNvSpPr/>
                <p:nvPr/>
              </p:nvSpPr>
              <p:spPr>
                <a:xfrm>
                  <a:off x="17089920" y="2713932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rameter</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17015040" y="2713932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19121760" y="27139320"/>
                <a:ext cx="1100520" cy="387360"/>
                <a:chOff x="19121760" y="27139320"/>
                <a:chExt cx="1100520" cy="387360"/>
              </a:xfrm>
            </p:grpSpPr>
            <p:sp>
              <p:nvSpPr>
                <p:cNvPr id="620" name=""/>
                <p:cNvSpPr/>
                <p:nvPr/>
              </p:nvSpPr>
              <p:spPr>
                <a:xfrm>
                  <a:off x="19196280" y="27139320"/>
                  <a:ext cx="9507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efficient</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19121760" y="2713932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0222640" y="27139320"/>
                <a:ext cx="1095480" cy="387360"/>
                <a:chOff x="20222640" y="27139320"/>
                <a:chExt cx="1095480" cy="387360"/>
              </a:xfrm>
            </p:grpSpPr>
            <p:sp>
              <p:nvSpPr>
                <p:cNvPr id="623" name=""/>
                <p:cNvSpPr/>
                <p:nvPr/>
              </p:nvSpPr>
              <p:spPr>
                <a:xfrm>
                  <a:off x="20297520" y="27139320"/>
                  <a:ext cx="9457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rror</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20222640" y="2713932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21318480" y="27139320"/>
                <a:ext cx="969840" cy="387360"/>
                <a:chOff x="21318480" y="27139320"/>
                <a:chExt cx="969840" cy="387360"/>
              </a:xfrm>
            </p:grpSpPr>
            <p:sp>
              <p:nvSpPr>
                <p:cNvPr id="626" name=""/>
                <p:cNvSpPr/>
                <p:nvPr/>
              </p:nvSpPr>
              <p:spPr>
                <a:xfrm>
                  <a:off x="21393360" y="27139320"/>
                  <a:ext cx="820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21318480" y="2713932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2289040" y="27139320"/>
                <a:ext cx="928080" cy="387360"/>
                <a:chOff x="22289040" y="27139320"/>
                <a:chExt cx="928080" cy="387360"/>
              </a:xfrm>
            </p:grpSpPr>
            <p:sp>
              <p:nvSpPr>
                <p:cNvPr id="629" name=""/>
                <p:cNvSpPr/>
                <p:nvPr/>
              </p:nvSpPr>
              <p:spPr>
                <a:xfrm>
                  <a:off x="22363920" y="27139320"/>
                  <a:ext cx="778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22289040" y="2713932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7015040" y="27526680"/>
                <a:ext cx="2106360" cy="387360"/>
                <a:chOff x="17015040" y="27526680"/>
                <a:chExt cx="2106360" cy="387360"/>
              </a:xfrm>
            </p:grpSpPr>
            <p:sp>
              <p:nvSpPr>
                <p:cNvPr id="632" name=""/>
                <p:cNvSpPr/>
                <p:nvPr/>
              </p:nvSpPr>
              <p:spPr>
                <a:xfrm>
                  <a:off x="17089920" y="2752668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hickne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17015040" y="2752668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19121760" y="27526680"/>
                <a:ext cx="1100520" cy="387360"/>
                <a:chOff x="19121760" y="27526680"/>
                <a:chExt cx="1100520" cy="387360"/>
              </a:xfrm>
            </p:grpSpPr>
            <p:sp>
              <p:nvSpPr>
                <p:cNvPr id="635" name=""/>
                <p:cNvSpPr/>
                <p:nvPr/>
              </p:nvSpPr>
              <p:spPr>
                <a:xfrm>
                  <a:off x="19196280" y="2752668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115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19121760" y="2752668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0222640" y="27526680"/>
                <a:ext cx="1095480" cy="387360"/>
                <a:chOff x="20222640" y="27526680"/>
                <a:chExt cx="1095480" cy="387360"/>
              </a:xfrm>
            </p:grpSpPr>
            <p:sp>
              <p:nvSpPr>
                <p:cNvPr id="638" name=""/>
                <p:cNvSpPr/>
                <p:nvPr/>
              </p:nvSpPr>
              <p:spPr>
                <a:xfrm>
                  <a:off x="20297520" y="2752668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45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20222640" y="2752668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21318480" y="27526680"/>
                <a:ext cx="969840" cy="387360"/>
                <a:chOff x="21318480" y="27526680"/>
                <a:chExt cx="969840" cy="387360"/>
              </a:xfrm>
            </p:grpSpPr>
            <p:sp>
              <p:nvSpPr>
                <p:cNvPr id="641" name=""/>
                <p:cNvSpPr/>
                <p:nvPr/>
              </p:nvSpPr>
              <p:spPr>
                <a:xfrm>
                  <a:off x="21393360" y="2752668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297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21318480" y="2752668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22289040" y="27526680"/>
                <a:ext cx="928080" cy="387360"/>
                <a:chOff x="22289040" y="27526680"/>
                <a:chExt cx="928080" cy="387360"/>
              </a:xfrm>
            </p:grpSpPr>
            <p:sp>
              <p:nvSpPr>
                <p:cNvPr id="644" name=""/>
                <p:cNvSpPr/>
                <p:nvPr/>
              </p:nvSpPr>
              <p:spPr>
                <a:xfrm>
                  <a:off x="22363920" y="2752668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6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22289040" y="2752668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17015040" y="27914040"/>
                <a:ext cx="2106360" cy="387360"/>
                <a:chOff x="17015040" y="27914040"/>
                <a:chExt cx="2106360" cy="387360"/>
              </a:xfrm>
            </p:grpSpPr>
            <p:sp>
              <p:nvSpPr>
                <p:cNvPr id="647" name=""/>
                <p:cNvSpPr/>
                <p:nvPr/>
              </p:nvSpPr>
              <p:spPr>
                <a:xfrm>
                  <a:off x="17089920" y="2791404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monium concentration</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17015040" y="2791404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9121760" y="27914040"/>
                <a:ext cx="1100520" cy="387360"/>
                <a:chOff x="19121760" y="27914040"/>
                <a:chExt cx="1100520" cy="387360"/>
              </a:xfrm>
            </p:grpSpPr>
            <p:sp>
              <p:nvSpPr>
                <p:cNvPr id="650" name=""/>
                <p:cNvSpPr/>
                <p:nvPr/>
              </p:nvSpPr>
              <p:spPr>
                <a:xfrm>
                  <a:off x="19196280" y="2791404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7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19121760" y="2791404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0222640" y="27914040"/>
                <a:ext cx="1095480" cy="387360"/>
                <a:chOff x="20222640" y="27914040"/>
                <a:chExt cx="1095480" cy="387360"/>
              </a:xfrm>
            </p:grpSpPr>
            <p:sp>
              <p:nvSpPr>
                <p:cNvPr id="653" name=""/>
                <p:cNvSpPr/>
                <p:nvPr/>
              </p:nvSpPr>
              <p:spPr>
                <a:xfrm>
                  <a:off x="20297520" y="2791404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3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20222640" y="2791404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1318480" y="27914040"/>
                <a:ext cx="969840" cy="387360"/>
                <a:chOff x="21318480" y="27914040"/>
                <a:chExt cx="969840" cy="387360"/>
              </a:xfrm>
            </p:grpSpPr>
            <p:sp>
              <p:nvSpPr>
                <p:cNvPr id="656" name=""/>
                <p:cNvSpPr/>
                <p:nvPr/>
              </p:nvSpPr>
              <p:spPr>
                <a:xfrm>
                  <a:off x="21393360" y="2791404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218</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21318480" y="2791404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22289040" y="27914040"/>
                <a:ext cx="928080" cy="387360"/>
                <a:chOff x="22289040" y="27914040"/>
                <a:chExt cx="928080" cy="387360"/>
              </a:xfrm>
            </p:grpSpPr>
            <p:sp>
              <p:nvSpPr>
                <p:cNvPr id="659" name=""/>
                <p:cNvSpPr/>
                <p:nvPr/>
              </p:nvSpPr>
              <p:spPr>
                <a:xfrm>
                  <a:off x="22363920" y="2791404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45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22289040" y="2791404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17015040" y="28301400"/>
                <a:ext cx="2106360" cy="387360"/>
                <a:chOff x="17015040" y="28301400"/>
                <a:chExt cx="2106360" cy="387360"/>
              </a:xfrm>
            </p:grpSpPr>
            <p:sp>
              <p:nvSpPr>
                <p:cNvPr id="662" name=""/>
                <p:cNvSpPr/>
                <p:nvPr/>
              </p:nvSpPr>
              <p:spPr>
                <a:xfrm>
                  <a:off x="17089920" y="2830140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vimetric water conten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17015040" y="2830140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19121760" y="28301400"/>
                <a:ext cx="1100520" cy="387360"/>
                <a:chOff x="19121760" y="28301400"/>
                <a:chExt cx="1100520" cy="387360"/>
              </a:xfrm>
            </p:grpSpPr>
            <p:sp>
              <p:nvSpPr>
                <p:cNvPr id="665" name=""/>
                <p:cNvSpPr/>
                <p:nvPr/>
              </p:nvSpPr>
              <p:spPr>
                <a:xfrm>
                  <a:off x="19196280" y="2830140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1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
                <p:cNvSpPr/>
                <p:nvPr/>
              </p:nvSpPr>
              <p:spPr>
                <a:xfrm>
                  <a:off x="19121760" y="2830140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0222640" y="28301400"/>
                <a:ext cx="1095480" cy="387360"/>
                <a:chOff x="20222640" y="28301400"/>
                <a:chExt cx="1095480" cy="387360"/>
              </a:xfrm>
            </p:grpSpPr>
            <p:sp>
              <p:nvSpPr>
                <p:cNvPr id="668" name=""/>
                <p:cNvSpPr/>
                <p:nvPr/>
              </p:nvSpPr>
              <p:spPr>
                <a:xfrm>
                  <a:off x="20297520" y="2830140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78</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
                <p:cNvSpPr/>
                <p:nvPr/>
              </p:nvSpPr>
              <p:spPr>
                <a:xfrm>
                  <a:off x="20222640" y="2830140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21318480" y="28301400"/>
                <a:ext cx="969840" cy="387360"/>
                <a:chOff x="21318480" y="28301400"/>
                <a:chExt cx="969840" cy="387360"/>
              </a:xfrm>
            </p:grpSpPr>
            <p:sp>
              <p:nvSpPr>
                <p:cNvPr id="671" name=""/>
                <p:cNvSpPr/>
                <p:nvPr/>
              </p:nvSpPr>
              <p:spPr>
                <a:xfrm>
                  <a:off x="21393360" y="2830140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314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
                <p:cNvSpPr/>
                <p:nvPr/>
              </p:nvSpPr>
              <p:spPr>
                <a:xfrm>
                  <a:off x="21318480" y="2830140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22289040" y="28301400"/>
                <a:ext cx="928080" cy="387360"/>
                <a:chOff x="22289040" y="28301400"/>
                <a:chExt cx="928080" cy="387360"/>
              </a:xfrm>
            </p:grpSpPr>
            <p:sp>
              <p:nvSpPr>
                <p:cNvPr id="674" name=""/>
                <p:cNvSpPr/>
                <p:nvPr/>
              </p:nvSpPr>
              <p:spPr>
                <a:xfrm>
                  <a:off x="22363920" y="2830140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05</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
                <p:cNvSpPr/>
                <p:nvPr/>
              </p:nvSpPr>
              <p:spPr>
                <a:xfrm>
                  <a:off x="22289040" y="2830140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7015040" y="28689120"/>
                <a:ext cx="2106360" cy="387360"/>
                <a:chOff x="17015040" y="28689120"/>
                <a:chExt cx="2106360" cy="387360"/>
              </a:xfrm>
            </p:grpSpPr>
            <p:sp>
              <p:nvSpPr>
                <p:cNvPr id="677" name=""/>
                <p:cNvSpPr/>
                <p:nvPr/>
              </p:nvSpPr>
              <p:spPr>
                <a:xfrm>
                  <a:off x="17089920" y="2868912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luble C conten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
                <p:cNvSpPr/>
                <p:nvPr/>
              </p:nvSpPr>
              <p:spPr>
                <a:xfrm>
                  <a:off x="17015040" y="2868912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9121760" y="28689120"/>
                <a:ext cx="1100520" cy="387360"/>
                <a:chOff x="19121760" y="28689120"/>
                <a:chExt cx="1100520" cy="387360"/>
              </a:xfrm>
            </p:grpSpPr>
            <p:sp>
              <p:nvSpPr>
                <p:cNvPr id="680" name=""/>
                <p:cNvSpPr/>
                <p:nvPr/>
              </p:nvSpPr>
              <p:spPr>
                <a:xfrm>
                  <a:off x="19196280" y="2868912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2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19121760" y="2868912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0222640" y="28689120"/>
                <a:ext cx="1095480" cy="387360"/>
                <a:chOff x="20222640" y="28689120"/>
                <a:chExt cx="1095480" cy="387360"/>
              </a:xfrm>
            </p:grpSpPr>
            <p:sp>
              <p:nvSpPr>
                <p:cNvPr id="683" name=""/>
                <p:cNvSpPr/>
                <p:nvPr/>
              </p:nvSpPr>
              <p:spPr>
                <a:xfrm>
                  <a:off x="20297520" y="2868912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0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
                <p:cNvSpPr/>
                <p:nvPr/>
              </p:nvSpPr>
              <p:spPr>
                <a:xfrm>
                  <a:off x="20222640" y="2868912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21318480" y="28689120"/>
                <a:ext cx="969840" cy="387360"/>
                <a:chOff x="21318480" y="28689120"/>
                <a:chExt cx="969840" cy="387360"/>
              </a:xfrm>
            </p:grpSpPr>
            <p:sp>
              <p:nvSpPr>
                <p:cNvPr id="686" name=""/>
                <p:cNvSpPr/>
                <p:nvPr/>
              </p:nvSpPr>
              <p:spPr>
                <a:xfrm>
                  <a:off x="21393360" y="2868912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3532</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
                <p:cNvSpPr/>
                <p:nvPr/>
              </p:nvSpPr>
              <p:spPr>
                <a:xfrm>
                  <a:off x="21318480" y="2868912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22289040" y="28689120"/>
                <a:ext cx="928080" cy="387360"/>
                <a:chOff x="22289040" y="28689120"/>
                <a:chExt cx="928080" cy="387360"/>
              </a:xfrm>
            </p:grpSpPr>
            <p:sp>
              <p:nvSpPr>
                <p:cNvPr id="689" name=""/>
                <p:cNvSpPr/>
                <p:nvPr/>
              </p:nvSpPr>
              <p:spPr>
                <a:xfrm>
                  <a:off x="22363920" y="2868912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67</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
                <p:cNvSpPr/>
                <p:nvPr/>
              </p:nvSpPr>
              <p:spPr>
                <a:xfrm>
                  <a:off x="22289040" y="2868912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7015040" y="29076480"/>
                <a:ext cx="2106360" cy="387360"/>
                <a:chOff x="17015040" y="29076480"/>
                <a:chExt cx="2106360" cy="387360"/>
              </a:xfrm>
            </p:grpSpPr>
            <p:sp>
              <p:nvSpPr>
                <p:cNvPr id="692" name=""/>
                <p:cNvSpPr/>
                <p:nvPr/>
              </p:nvSpPr>
              <p:spPr>
                <a:xfrm>
                  <a:off x="17089920" y="2907648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robial bioma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
                <p:cNvSpPr/>
                <p:nvPr/>
              </p:nvSpPr>
              <p:spPr>
                <a:xfrm>
                  <a:off x="17015040" y="2907648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19121760" y="29076480"/>
                <a:ext cx="1100520" cy="387360"/>
                <a:chOff x="19121760" y="29076480"/>
                <a:chExt cx="1100520" cy="387360"/>
              </a:xfrm>
            </p:grpSpPr>
            <p:sp>
              <p:nvSpPr>
                <p:cNvPr id="695" name=""/>
                <p:cNvSpPr/>
                <p:nvPr/>
              </p:nvSpPr>
              <p:spPr>
                <a:xfrm>
                  <a:off x="19196280" y="2907648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1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
                <p:cNvSpPr/>
                <p:nvPr/>
              </p:nvSpPr>
              <p:spPr>
                <a:xfrm>
                  <a:off x="19121760" y="2907648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20222640" y="29076480"/>
                <a:ext cx="1095480" cy="387360"/>
                <a:chOff x="20222640" y="29076480"/>
                <a:chExt cx="1095480" cy="387360"/>
              </a:xfrm>
            </p:grpSpPr>
            <p:sp>
              <p:nvSpPr>
                <p:cNvPr id="698" name=""/>
                <p:cNvSpPr/>
                <p:nvPr/>
              </p:nvSpPr>
              <p:spPr>
                <a:xfrm>
                  <a:off x="20297520" y="2907648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04</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20222640" y="2907648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1318480" y="29076480"/>
                <a:ext cx="969840" cy="387360"/>
                <a:chOff x="21318480" y="29076480"/>
                <a:chExt cx="969840" cy="387360"/>
              </a:xfrm>
            </p:grpSpPr>
            <p:sp>
              <p:nvSpPr>
                <p:cNvPr id="701" name=""/>
                <p:cNvSpPr/>
                <p:nvPr/>
              </p:nvSpPr>
              <p:spPr>
                <a:xfrm>
                  <a:off x="21393360" y="2907648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701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21318480" y="2907648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22289040" y="29076480"/>
                <a:ext cx="928080" cy="387360"/>
                <a:chOff x="22289040" y="29076480"/>
                <a:chExt cx="928080" cy="387360"/>
              </a:xfrm>
            </p:grpSpPr>
            <p:sp>
              <p:nvSpPr>
                <p:cNvPr id="704" name=""/>
                <p:cNvSpPr/>
                <p:nvPr/>
              </p:nvSpPr>
              <p:spPr>
                <a:xfrm>
                  <a:off x="22363920" y="2907648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16</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22289040" y="2907648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17015040" y="29463840"/>
                <a:ext cx="2106360" cy="387360"/>
                <a:chOff x="17015040" y="29463840"/>
                <a:chExt cx="2106360" cy="387360"/>
              </a:xfrm>
            </p:grpSpPr>
            <p:sp>
              <p:nvSpPr>
                <p:cNvPr id="707" name=""/>
                <p:cNvSpPr/>
                <p:nvPr/>
              </p:nvSpPr>
              <p:spPr>
                <a:xfrm>
                  <a:off x="17089920" y="2946384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ot bioma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17015040" y="2946384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19121760" y="29463840"/>
                <a:ext cx="1100520" cy="387360"/>
                <a:chOff x="19121760" y="29463840"/>
                <a:chExt cx="1100520" cy="387360"/>
              </a:xfrm>
            </p:grpSpPr>
            <p:sp>
              <p:nvSpPr>
                <p:cNvPr id="710" name=""/>
                <p:cNvSpPr/>
                <p:nvPr/>
              </p:nvSpPr>
              <p:spPr>
                <a:xfrm>
                  <a:off x="19196280" y="2946384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6.991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19121760" y="2946384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222640" y="29463840"/>
                <a:ext cx="1095480" cy="387360"/>
                <a:chOff x="20222640" y="29463840"/>
                <a:chExt cx="1095480" cy="387360"/>
              </a:xfrm>
            </p:grpSpPr>
            <p:sp>
              <p:nvSpPr>
                <p:cNvPr id="713" name=""/>
                <p:cNvSpPr/>
                <p:nvPr/>
              </p:nvSpPr>
              <p:spPr>
                <a:xfrm>
                  <a:off x="20297520" y="2946384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104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20222640" y="2946384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21318480" y="29463840"/>
                <a:ext cx="969840" cy="387360"/>
                <a:chOff x="21318480" y="29463840"/>
                <a:chExt cx="969840" cy="387360"/>
              </a:xfrm>
            </p:grpSpPr>
            <p:sp>
              <p:nvSpPr>
                <p:cNvPr id="716" name=""/>
                <p:cNvSpPr/>
                <p:nvPr/>
              </p:nvSpPr>
              <p:spPr>
                <a:xfrm>
                  <a:off x="21393360" y="2946384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72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21318480" y="2946384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2289040" y="29463840"/>
                <a:ext cx="928080" cy="387360"/>
                <a:chOff x="22289040" y="29463840"/>
                <a:chExt cx="928080" cy="387360"/>
              </a:xfrm>
            </p:grpSpPr>
            <p:sp>
              <p:nvSpPr>
                <p:cNvPr id="719" name=""/>
                <p:cNvSpPr/>
                <p:nvPr/>
              </p:nvSpPr>
              <p:spPr>
                <a:xfrm>
                  <a:off x="22363920" y="2946384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32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22289040" y="2946384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17015040" y="29851200"/>
                <a:ext cx="2106360" cy="387360"/>
                <a:chOff x="17015040" y="29851200"/>
                <a:chExt cx="2106360" cy="387360"/>
              </a:xfrm>
            </p:grpSpPr>
            <p:sp>
              <p:nvSpPr>
                <p:cNvPr id="722" name=""/>
                <p:cNvSpPr/>
                <p:nvPr/>
              </p:nvSpPr>
              <p:spPr>
                <a:xfrm>
                  <a:off x="17089920" y="2985120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dual intercep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17015040" y="2985120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9121760" y="29851200"/>
                <a:ext cx="1100520" cy="387360"/>
                <a:chOff x="19121760" y="29851200"/>
                <a:chExt cx="1100520" cy="387360"/>
              </a:xfrm>
            </p:grpSpPr>
            <p:sp>
              <p:nvSpPr>
                <p:cNvPr id="725" name=""/>
                <p:cNvSpPr/>
                <p:nvPr/>
              </p:nvSpPr>
              <p:spPr>
                <a:xfrm>
                  <a:off x="19196280" y="2985120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725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19121760" y="2985120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0222640" y="29851200"/>
                <a:ext cx="1095480" cy="387360"/>
                <a:chOff x="20222640" y="29851200"/>
                <a:chExt cx="1095480" cy="387360"/>
              </a:xfrm>
            </p:grpSpPr>
            <p:sp>
              <p:nvSpPr>
                <p:cNvPr id="728" name=""/>
                <p:cNvSpPr/>
                <p:nvPr/>
              </p:nvSpPr>
              <p:spPr>
                <a:xfrm>
                  <a:off x="20297520" y="2985120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500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20222640" y="2985120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21318480" y="29851200"/>
                <a:ext cx="969840" cy="387360"/>
                <a:chOff x="21318480" y="29851200"/>
                <a:chExt cx="969840" cy="387360"/>
              </a:xfrm>
            </p:grpSpPr>
            <p:sp>
              <p:nvSpPr>
                <p:cNvPr id="731" name=""/>
                <p:cNvSpPr/>
                <p:nvPr/>
              </p:nvSpPr>
              <p:spPr>
                <a:xfrm>
                  <a:off x="21393360" y="2985120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996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21318480" y="2985120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22289040" y="29851200"/>
                <a:ext cx="928080" cy="387360"/>
                <a:chOff x="22289040" y="29851200"/>
                <a:chExt cx="928080" cy="387360"/>
              </a:xfrm>
            </p:grpSpPr>
            <p:sp>
              <p:nvSpPr>
                <p:cNvPr id="734" name=""/>
                <p:cNvSpPr/>
                <p:nvPr/>
              </p:nvSpPr>
              <p:spPr>
                <a:xfrm>
                  <a:off x="22363920" y="2985120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1562</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22289040" y="2985120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16992720" y="27127080"/>
              <a:ext cx="6247800" cy="312444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533520" y="18211680"/>
            <a:ext cx="10515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11049120" y="15696720"/>
            <a:ext cx="0" cy="2514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049120" y="15697080"/>
            <a:ext cx="13334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24383880" y="7238520"/>
            <a:ext cx="0" cy="8458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18287640" y="7238880"/>
            <a:ext cx="6095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8288000" y="533520"/>
            <a:ext cx="0" cy="670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3520" y="18516600"/>
            <a:ext cx="156970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16230600" y="16077960"/>
            <a:ext cx="0" cy="24382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230600" y="16078320"/>
            <a:ext cx="74674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698080" y="16078320"/>
            <a:ext cx="0" cy="1623060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24231600" y="23240880"/>
            <a:ext cx="0" cy="914400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4231600" y="23240880"/>
            <a:ext cx="99072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25222320" y="15468480"/>
            <a:ext cx="0" cy="777240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5222320" y="15468480"/>
            <a:ext cx="2362176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4946280" y="309373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rebuchet MS"/>
              </a:rPr>
              <a:t>*Error bars are standard error</a:t>
            </a:r>
            <a:endParaRPr b="0" lang="en-US" sz="1800" spc="-1" strike="noStrike">
              <a:solidFill>
                <a:srgbClr val="000000"/>
              </a:solidFill>
              <a:latin typeface="Times New Roman"/>
            </a:endParaRPr>
          </a:p>
        </p:txBody>
      </p:sp>
      <p:sp>
        <p:nvSpPr>
          <p:cNvPr id="752" name=""/>
          <p:cNvSpPr/>
          <p:nvPr/>
        </p:nvSpPr>
        <p:spPr>
          <a:xfrm>
            <a:off x="31775400" y="533520"/>
            <a:ext cx="0" cy="67053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4993720" y="7238880"/>
            <a:ext cx="67816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993720" y="7238880"/>
            <a:ext cx="0" cy="76201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993720" y="14859000"/>
            <a:ext cx="23850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0" y="0"/>
            <a:ext cx="4937760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32308920"/>
            <a:ext cx="4937760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8844080" y="0"/>
            <a:ext cx="533520" cy="329184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8668880" y="1066680"/>
            <a:ext cx="12649320" cy="563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366640" y="1249668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Fig. 1</a:t>
            </a:r>
            <a:endParaRPr b="0" lang="en-US" sz="1800" spc="-1" strike="noStrike">
              <a:solidFill>
                <a:srgbClr val="000000"/>
              </a:solidFill>
              <a:latin typeface="Times New Roman"/>
            </a:endParaRPr>
          </a:p>
        </p:txBody>
      </p:sp>
      <p:sp>
        <p:nvSpPr>
          <p:cNvPr id="761" name=""/>
          <p:cNvSpPr/>
          <p:nvPr/>
        </p:nvSpPr>
        <p:spPr>
          <a:xfrm>
            <a:off x="19204560" y="805356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Fig. 2</a:t>
            </a:r>
            <a:endParaRPr b="0" lang="en-US" sz="2000" spc="-1" strike="noStrike">
              <a:solidFill>
                <a:srgbClr val="000000"/>
              </a:solidFill>
              <a:latin typeface="Times New Roman"/>
            </a:endParaRPr>
          </a:p>
        </p:txBody>
      </p:sp>
      <p:sp>
        <p:nvSpPr>
          <p:cNvPr id="762" name=""/>
          <p:cNvSpPr/>
          <p:nvPr/>
        </p:nvSpPr>
        <p:spPr>
          <a:xfrm>
            <a:off x="26824680" y="858672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rebuchet MS"/>
              </a:rPr>
              <a:t>Fig. 3</a:t>
            </a:r>
            <a:endParaRPr b="0" lang="en-US" sz="2000" spc="-1" strike="noStrike">
              <a:solidFill>
                <a:srgbClr val="000000"/>
              </a:solidFill>
              <a:latin typeface="Times New Roman"/>
            </a:endParaRPr>
          </a:p>
        </p:txBody>
      </p:sp>
      <p:sp>
        <p:nvSpPr>
          <p:cNvPr id="763" name=""/>
          <p:cNvSpPr/>
          <p:nvPr/>
        </p:nvSpPr>
        <p:spPr>
          <a:xfrm>
            <a:off x="2364480" y="1247292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Fig. 1</a:t>
            </a:r>
            <a:endParaRPr b="0" lang="en-US" sz="2000" spc="-1" strike="noStrike">
              <a:solidFill>
                <a:srgbClr val="000000"/>
              </a:solidFill>
              <a:latin typeface="Times New Roman"/>
            </a:endParaRPr>
          </a:p>
        </p:txBody>
      </p:sp>
      <p:sp>
        <p:nvSpPr>
          <p:cNvPr id="764" name=""/>
          <p:cNvSpPr/>
          <p:nvPr/>
        </p:nvSpPr>
        <p:spPr>
          <a:xfrm>
            <a:off x="36425880" y="965376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rebuchet MS"/>
              </a:rPr>
              <a:t>Fig. 4</a:t>
            </a:r>
            <a:endParaRPr b="0" lang="en-US" sz="2000" spc="-1" strike="noStrike">
              <a:solidFill>
                <a:srgbClr val="000000"/>
              </a:solidFill>
              <a:latin typeface="Times New Roman"/>
            </a:endParaRPr>
          </a:p>
        </p:txBody>
      </p:sp>
      <p:sp>
        <p:nvSpPr>
          <p:cNvPr id="765" name=""/>
          <p:cNvSpPr/>
          <p:nvPr/>
        </p:nvSpPr>
        <p:spPr>
          <a:xfrm>
            <a:off x="2484324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5</a:t>
            </a:r>
            <a:endParaRPr b="0" lang="en-US" sz="2000" spc="-1" strike="noStrike">
              <a:solidFill>
                <a:srgbClr val="000000"/>
              </a:solidFill>
              <a:latin typeface="Times New Roman"/>
            </a:endParaRPr>
          </a:p>
        </p:txBody>
      </p:sp>
      <p:sp>
        <p:nvSpPr>
          <p:cNvPr id="766" name=""/>
          <p:cNvSpPr/>
          <p:nvPr/>
        </p:nvSpPr>
        <p:spPr>
          <a:xfrm>
            <a:off x="3322548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6</a:t>
            </a:r>
            <a:endParaRPr b="0" lang="en-US" sz="2000" spc="-1" strike="noStrike">
              <a:solidFill>
                <a:srgbClr val="000000"/>
              </a:solidFill>
              <a:latin typeface="Times New Roman"/>
            </a:endParaRPr>
          </a:p>
        </p:txBody>
      </p:sp>
      <p:sp>
        <p:nvSpPr>
          <p:cNvPr id="767" name=""/>
          <p:cNvSpPr/>
          <p:nvPr/>
        </p:nvSpPr>
        <p:spPr>
          <a:xfrm>
            <a:off x="4038804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6:36:13Z</dcterms:created>
  <dc:creator>DaveandLaura</dc:creator>
  <dc:description/>
  <dc:language>en-US</dc:language>
  <cp:lastModifiedBy>Russ' Carbon Avengers</cp:lastModifiedBy>
  <dcterms:modified xsi:type="dcterms:W3CDTF">2002-10-30T00:22:45Z</dcterms:modified>
  <cp:revision>17</cp:revision>
  <dc:subject/>
  <dc:title>PowerPoint Presentation</dc:title>
</cp:coreProperties>
</file>