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ct" ContentType="image/x-pict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157-6254-427D-9947-A8577E0B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9640" y="1321740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4F1-70A3-4912-A68E-B2346F5F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0740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FAD-EEBA-407B-B9C3-2AE6FDC2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9172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9548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96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9172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9548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065-2E15-48EA-9B06-BB846B5A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845-6AD5-4DD9-A180-4731BED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99D-63AC-486F-96AE-C2EA027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FDE-3F0A-48C3-BD04-8847E5F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3C5-D20C-4F5F-AE9D-2AC4D24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9640" y="1951200"/>
            <a:ext cx="3264552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781-BEDD-40E1-AABB-F4F77AC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FA7-9D2D-4109-8263-56BD4C5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0740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803-5170-4A2B-BA91-9F077866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64E-EF46-447E-A5D6-0ABA4FF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 fontScale="84000"/>
          </a:bodyPr>
          <a:p>
            <a:pPr marL="1086480" indent="-10864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1" marL="2353320" indent="-9050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2" marL="3620160" indent="-72360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3" marL="5069880" indent="-72540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4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5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6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79280" y="19994400"/>
            <a:ext cx="800100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2360" y="19994400"/>
            <a:ext cx="1216008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3800" y="19994400"/>
            <a:ext cx="800100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 algn="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fld id="{DE97D13F-BE1B-4F5F-AB58-F4CE5BF81B7E}" type="slidenum">
              <a:rPr b="0" lang="en-US" sz="5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ct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30280" y="2585880"/>
            <a:ext cx="12674520" cy="12382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49360" y="3789360"/>
            <a:ext cx="10449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uted profile from GEOS-Chem model used as initial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d emissions to obtain new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 forward model over new profile to obtain simulated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01280" y="2540160"/>
            <a:ext cx="15878160" cy="779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80400" y="10441080"/>
            <a:ext cx="15878520" cy="11031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457200"/>
            <a:ext cx="256032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tellite Observations of Tropospheric Ammonia - Motivation and Fir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142360" y="13716000"/>
            <a:ext cx="1574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1480" y="2467080"/>
            <a:ext cx="9029880" cy="10578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2280" y="2624040"/>
            <a:ext cx="8605800" cy="9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itrogen in ammonia is deposited to Earth’s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ss nitrogen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ent im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in ecosystem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al bl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monium sulfate and ammonium nitrate form 10-20%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fine particulate matter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PM2.5)  in atmosphere over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eds recommended thresho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WHO,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ssive exposure to aerosol concentration is associated with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chances of cardiovascular dis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ted lung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ature de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s (Burnett et al., 2000; Dominici et al., 2006; Gauderman et al., 2004; Pope , 2000; Pope et al., 200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e particulates are also responsible for reduced visibility in national parks and scenic are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lm et al.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int sources and short lifetime (less than 10 days) lead to high temporal and spatial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situ measurement of ammonia are difficult and sp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confined to near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nd chemical processes governing ammonia emissions are  challenging to qua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222440"/>
            <a:ext cx="9042480" cy="8251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83880" y="2712960"/>
            <a:ext cx="148557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 Proof of concept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trieval from 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mple scaling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profile to reduce residuals (Beer et al.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85640" y="2577960"/>
            <a:ext cx="8595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0666" t="3684" r="1357" b="0"/>
          <a:stretch/>
        </p:blipFill>
        <p:spPr>
          <a:xfrm>
            <a:off x="9809280" y="3819600"/>
            <a:ext cx="6013440" cy="472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343280" y="437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572640" y="4471920"/>
            <a:ext cx="3047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806960" y="8723160"/>
            <a:ext cx="80960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vated amounts over Beijing, China, July 10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 spectra can provid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ormation on N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5440" y="13331880"/>
            <a:ext cx="88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 What TES can prov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5440" y="14200200"/>
            <a:ext cx="8888400" cy="69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S data have been collected over most of the Earth’ surface since July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S can provide time series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mixing ratios almost anywhere on the g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is dataset will provid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uantitative, global, long-term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picture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spatial and temporal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ive: provide monthly means for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output 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gio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.g., CMAQ)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lob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s (e.g., GEOS-C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intensive TES Special Observations to obtain NH3 concentrations over areas of high emission (e.g. North Carolina, Mid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with in-situ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realistic spatial and temporal distribution of ammonia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determine whether peak of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ission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spring (correlated with fertilizer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summer (higher temperatures lead to higher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issions from manure p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330800" y="10679040"/>
            <a:ext cx="6207120" cy="410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6473320" y="5964120"/>
            <a:ext cx="6526080" cy="46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150760" y="2751120"/>
            <a:ext cx="1193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 Sample retrieval: Doubling of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841600" y="11120400"/>
            <a:ext cx="3251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rieved-truth differences are within error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rieved profile is significantly different from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 p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S retrieval provided ad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800600" y="1461960"/>
          <a:ext cx="28803600" cy="970200"/>
        </p:xfrm>
        <a:graphic>
          <a:graphicData uri="http://schemas.openxmlformats.org/drawingml/2006/table">
            <a:tbl>
              <a:tblPr/>
              <a:tblGrid>
                <a:gridCol w="4800600"/>
                <a:gridCol w="4800600"/>
                <a:gridCol w="4800600"/>
                <a:gridCol w="4800600"/>
                <a:gridCol w="4800600"/>
                <a:gridCol w="48006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W.Sheph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Karen E. Cady-Pereira, Vivienne H.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, I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g Luo, Curtis P. Rinsland, Reinhard Beer, Greg Osterman, Kevin Bow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-J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n H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ia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 W.Pi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EPA-O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y L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EPA-CA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phard A. Cl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gh Associ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41560" y="492120"/>
            <a:ext cx="2552400" cy="1249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4834680" y="606600"/>
            <a:ext cx="1935000" cy="108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891720" y="8640720"/>
            <a:ext cx="59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trum from TES pass over Beij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95480" y="105649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 Retriev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9693080" y="12045960"/>
            <a:ext cx="464976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207800" y="11520360"/>
            <a:ext cx="63054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mal estimation approach. (Rodgers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-posed problem (number of potential sol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 least square with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29240" y="11217240"/>
            <a:ext cx="5656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 prior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-Chem profiles binned by surface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10182240" y="13446000"/>
            <a:ext cx="7572240" cy="709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728480" y="15068520"/>
            <a:ext cx="12676320" cy="6462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33043680" y="15908400"/>
            <a:ext cx="511200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798240" y="15222600"/>
            <a:ext cx="1506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 Datasets for the Evaluation of TES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trie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08760" y="20801160"/>
            <a:ext cx="37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S-Chem Output fo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3960" y="18781560"/>
            <a:ext cx="417492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PA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Monitoring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ing began at most sites in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5903080" y="15840000"/>
            <a:ext cx="3551400" cy="274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29379960" y="15822720"/>
            <a:ext cx="3546360" cy="2741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25827120" y="18683280"/>
            <a:ext cx="3549600" cy="274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9311560" y="18703800"/>
            <a:ext cx="3544920" cy="274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rcRect l="0" t="12466" r="0" b="0"/>
          <a:stretch/>
        </p:blipFill>
        <p:spPr>
          <a:xfrm>
            <a:off x="19259640" y="17124480"/>
            <a:ext cx="6137280" cy="3895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451520" y="16527600"/>
            <a:ext cx="56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 prior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TES scans over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788520" y="5950080"/>
            <a:ext cx="4101840" cy="4435200"/>
            <a:chOff x="33788520" y="5950080"/>
            <a:chExt cx="4101840" cy="4435200"/>
          </a:xfrm>
        </p:grpSpPr>
        <p:pic>
          <p:nvPicPr>
            <p:cNvPr id="83" name="" descr=""/>
            <p:cNvPicPr/>
            <p:nvPr/>
          </p:nvPicPr>
          <p:blipFill>
            <a:blip r:embed="rId14"/>
            <a:stretch/>
          </p:blipFill>
          <p:spPr>
            <a:xfrm>
              <a:off x="33788520" y="5950080"/>
              <a:ext cx="4101840" cy="44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4785360" y="6311880"/>
              <a:ext cx="1231920" cy="2286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035480" y="4826160"/>
            <a:ext cx="9374040" cy="3632040"/>
            <a:chOff x="16035480" y="4826160"/>
            <a:chExt cx="9374040" cy="3632040"/>
          </a:xfrm>
        </p:grpSpPr>
        <p:pic>
          <p:nvPicPr>
            <p:cNvPr id="86" name="" descr=""/>
            <p:cNvPicPr/>
            <p:nvPr/>
          </p:nvPicPr>
          <p:blipFill>
            <a:blip r:embed="rId15"/>
            <a:srcRect l="3049" t="54493" r="10398" b="0"/>
            <a:stretch/>
          </p:blipFill>
          <p:spPr>
            <a:xfrm>
              <a:off x="16035480" y="4826160"/>
              <a:ext cx="9374040" cy="36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 rot="10800000">
              <a:off x="20085120" y="5436000"/>
              <a:ext cx="45468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 Neue Light"/>
                </a:rPr>
                <a:t>Latitude (deg</a:t>
              </a:r>
              <a:r>
                <a:rPr b="0" lang="en-US" sz="1600" spc="-1" strike="noStrike">
                  <a:solidFill>
                    <a:srgbClr val="000000"/>
                  </a:solidFill>
                  <a:latin typeface="Helvetica Neue Ligh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9:13:36Z</dcterms:created>
  <dc:creator>Eli Mlawer</dc:creator>
  <dc:description/>
  <dc:language>en-US</dc:language>
  <cp:lastModifiedBy>Mark Shephard</cp:lastModifiedBy>
  <cp:lastPrinted>2008-10-24T17:26:40Z</cp:lastPrinted>
  <dcterms:modified xsi:type="dcterms:W3CDTF">2008-10-30T12:44:58Z</dcterms:modified>
  <cp:revision>78</cp:revision>
  <dc:subject/>
  <dc:title>PowerPoint Presentation</dc:title>
</cp:coreProperties>
</file>