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09C-23FC-4094-A476-F7BB07B6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401-AE12-4BEF-AFE1-2BAD2215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03B-C898-4BE5-9086-675CD00D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4A0-40C8-408F-8187-C06E8259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9D2A-F840-4407-885D-7F0669BE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1FB7-2EE0-41D7-B9BF-1B72836E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0187-134B-474C-B1CD-DE9350C3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6239-AB3C-4382-B740-1C072207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F321-62B8-47FA-A236-776BE373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2697-08E3-43EE-BC77-593C5966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C3C-2E5E-4EF0-A91C-4BE6D5BF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CCF-C211-4DA9-AEE6-CBBCA3D6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4518-8F63-4B0B-807C-1A0FAE6C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2D02-F05D-4DEE-9DBA-574C94F4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4600-626B-40A1-90EF-C5ACE63E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8B4F-9794-42BE-9D23-EF753D82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F71F-0836-4140-B4F6-02705C27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35C-F833-4FA1-898F-338DDCCD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28F-10D2-463C-A6EF-D2858EE2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1F8-5E28-4089-95B5-CA00B93C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1CC-DA2B-4479-AA2E-FD48BDD4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78B-450F-47C3-9C5B-68400D66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3E5-5085-46AD-97BE-5848B36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720-9D77-4F78-91E3-965E6833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DFD4-C06D-4AE9-AB8D-5233B3EF1E9D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8B4F-C3F3-4D7D-8A6C-D11CB46519F1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Event-by-event Multiplicity Fluctuations Analysis at PHOBOS</a:t>
            </a:r>
            <a:r>
              <a:rPr b="1" lang="en-US" sz="4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7720" y="2743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99"/>
                </a:solidFill>
                <a:latin typeface="Verdana"/>
              </a:rPr>
              <a:t>Zhengwei Chai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Brookhaven National Laboratory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for the                    Collaboration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Correlations &amp; Fluctuations Workshop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2005 RHIC &amp; AGS Users’ Meeting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(June 20-24, 2005, BNL)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1600200" cy="5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29400" cy="43052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138680" y="380880"/>
            <a:ext cx="724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Distribution from Rec. HIJING+GEANT Hits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1219320"/>
            <a:ext cx="472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2895480"/>
            <a:ext cx="990360" cy="228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08960" y="21337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.5&lt;|</a:t>
            </a:r>
            <a:r>
              <a:rPr b="0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&lt;2.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30840" y="5181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66480" y="35053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(C) = 1.3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56240" y="1143000"/>
            <a:ext cx="320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=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)+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d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ECC-8731-4768-B198-28AEBEA4C7C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20200" y="403200"/>
            <a:ext cx="8015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xtraction of Dynamic Fluctua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1676520"/>
            <a:ext cx="804852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sumin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(C) = 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 )+ </a:t>
            </a:r>
            <a:r>
              <a:rPr b="0" i="1" lang="en-US" sz="32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3200" spc="-1" strike="noStrike" baseline="-25000">
                <a:solidFill>
                  <a:srgbClr val="006699"/>
                </a:solidFill>
                <a:latin typeface="Arial"/>
              </a:rPr>
              <a:t>de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= 1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by defini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Arial"/>
              </a:rPr>
              <a:t>det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valuated from various simula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calculated from reconstructed hi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 measure of particle correla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760-2586-4258-AB5D-5338472FA2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066680" y="3349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-5400" y="457200"/>
            <a:ext cx="6917040" cy="5697360"/>
            <a:chOff x="-5400" y="457200"/>
            <a:chExt cx="6917040" cy="5697360"/>
          </a:xfrm>
        </p:grpSpPr>
        <p:sp>
          <p:nvSpPr>
            <p:cNvPr id="316" name=""/>
            <p:cNvSpPr/>
            <p:nvPr/>
          </p:nvSpPr>
          <p:spPr>
            <a:xfrm>
              <a:off x="762120" y="2133720"/>
              <a:ext cx="297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05520" y="1828800"/>
              <a:ext cx="1752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09680" y="45720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"/>
                </a:rPr>
                <a:t>PHOBOS Detectors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228600" y="2440080"/>
              <a:ext cx="62485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006880" y="4203720"/>
              <a:ext cx="1835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Beryllium Beam Pipe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2920" y="5791320"/>
              <a:ext cx="2124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Paddle Trigger Counters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1120" y="4876920"/>
              <a:ext cx="205596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Spectrometer Detectors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             </a:t>
              </a: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(Silicon)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5400" y="4191120"/>
              <a:ext cx="22366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Ring Multiplicity Detectors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(Silicon)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0680" y="2297160"/>
              <a:ext cx="2332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Cerenkov Trigger Counters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55840" y="2373480"/>
              <a:ext cx="203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Time of Flight Counters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96320" y="3516480"/>
              <a:ext cx="251532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Octagon Multiplicity Detector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and Vertex Detector (Silicon) 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114800" y="2666880"/>
              <a:ext cx="2209680" cy="114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657600" y="2895480"/>
              <a:ext cx="2286000" cy="129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733920" y="2819520"/>
              <a:ext cx="2286000" cy="121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86600" y="99072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Octag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047760" y="1523880"/>
            <a:ext cx="2514600" cy="25146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657600" y="3048120"/>
            <a:ext cx="449568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657600" y="3048120"/>
            <a:ext cx="4495680" cy="1143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705720" cy="48182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3352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ctagon Multiplicity Detector Acceptance Cover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15238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83000" y="5638680"/>
            <a:ext cx="550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Hit distribution in </a:t>
            </a:r>
            <a:r>
              <a:rPr b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-</a:t>
            </a:r>
            <a:r>
              <a:rPr b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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 space with |Z</a:t>
            </a:r>
            <a:r>
              <a:rPr b="1" lang="zh-CN" sz="2000" spc="-1" strike="noStrike" baseline="-25000">
                <a:solidFill>
                  <a:srgbClr val="006699"/>
                </a:solidFill>
                <a:latin typeface="Arial"/>
                <a:ea typeface="Arial"/>
              </a:rPr>
              <a:t>vtx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|&lt;10c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828800"/>
            <a:ext cx="4572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3505320"/>
            <a:ext cx="4572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666880"/>
            <a:ext cx="4572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4343400"/>
            <a:ext cx="4572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357-083B-4F35-B426-50F7DDFFCEE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xtracting Multiplicity Fluctuations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>
                <a:solidFill>
                  <a:srgbClr val="3333cc"/>
                </a:solidFill>
                <a:latin typeface="Verdana"/>
              </a:rPr>
              <a:t>(C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91120" cy="3144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28600" y="1219320"/>
            <a:ext cx="4664160" cy="40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ctagon silicon sensors  provid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6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Number of hits (</a:t>
            </a:r>
            <a:r>
              <a:rPr b="0" i="1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N</a:t>
            </a:r>
            <a:r>
              <a:rPr b="0" i="1" lang="en-US" sz="1800" spc="-1" strike="noStrike" baseline="-25000">
                <a:solidFill>
                  <a:srgbClr val="006699"/>
                </a:solidFill>
                <a:latin typeface="Arial"/>
                <a:ea typeface="宋体"/>
              </a:rPr>
              <a:t>hit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6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Sum of the angle-corrected deposit energy </a:t>
            </a:r>
            <a:r>
              <a:rPr b="0" i="1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dE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for charged particles (</a:t>
            </a:r>
            <a:r>
              <a:rPr b="0" i="1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hit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=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1-exp(-E/E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/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: average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dE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by a charged particle in selected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bi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stimated multiplicit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 = E /(E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/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760" y="4884840"/>
            <a:ext cx="8093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ultiplicities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in forward and backward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bins of equal siz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581280" y="5334120"/>
                <a:ext cx="1673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6781680" y="4038480"/>
            <a:ext cx="190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Arial"/>
              </a:rPr>
              <a:t>Deposit Energy (E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0800000">
            <a:off x="4648320" y="1295280"/>
            <a:ext cx="42264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Arial"/>
              </a:rPr>
              <a:t>Number of hits (N</a:t>
            </a:r>
            <a:r>
              <a:rPr b="1" i="1" lang="en-US" sz="1400" spc="-1" strike="noStrike" baseline="-25000">
                <a:solidFill>
                  <a:srgbClr val="006699"/>
                </a:solidFill>
                <a:latin typeface="Arial"/>
              </a:rPr>
              <a:t>hit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7A5-4F12-4381-B42F-39329A7862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Preliminary Fluctuations Analysis Result</a:t>
            </a: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K.W. </a:t>
            </a:r>
            <a:r>
              <a:rPr b="0" i="1" lang="en-US" sz="1800" spc="-1" strike="noStrike">
                <a:solidFill>
                  <a:srgbClr val="3333cc"/>
                </a:solidFill>
                <a:latin typeface="Verdana"/>
              </a:rPr>
              <a:t>et el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QM04)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225000" y="1981080"/>
            <a:ext cx="3082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ata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similar to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Rec.Hijing+Geant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ata and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Rec. MC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ominated by detector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responses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stimated systematic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rror 5% (not shown)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557520" y="1676520"/>
            <a:ext cx="5586480" cy="4014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4481280" y="2193840"/>
            <a:ext cx="20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Phobos Prelim. Data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c. Hijing+Geant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ijing (half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3428640" y="2438280"/>
            <a:ext cx="42372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835-9704-4C4D-B43C-58E266F4A9A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28600" y="1981080"/>
            <a:ext cx="327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ata and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Rec. MC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are simila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Hijing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increas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with the separation in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pseudo-rapidity spac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stimated systematic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rror 5%(not shown)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649680" y="1219320"/>
            <a:ext cx="4729320" cy="345276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3124080" y="4952880"/>
            <a:ext cx="5724360" cy="990720"/>
            <a:chOff x="3124080" y="4952880"/>
            <a:chExt cx="5724360" cy="99072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3124080" y="4952880"/>
              <a:ext cx="191232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"/>
            <a:stretch/>
          </p:blipFill>
          <p:spPr>
            <a:xfrm>
              <a:off x="5023800" y="4952880"/>
              <a:ext cx="19123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4"/>
            <a:stretch/>
          </p:blipFill>
          <p:spPr>
            <a:xfrm>
              <a:off x="6936120" y="4952880"/>
              <a:ext cx="191232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 rot="10800000">
            <a:off x="3505320" y="1600200"/>
            <a:ext cx="42372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0120" y="44956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Preliminary Fluctuations Analysis Result</a:t>
            </a: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K.W. </a:t>
            </a:r>
            <a:r>
              <a:rPr b="0" i="1" lang="en-US" sz="1800" spc="-1" strike="noStrike">
                <a:solidFill>
                  <a:srgbClr val="3333cc"/>
                </a:solidFill>
                <a:latin typeface="Verdana"/>
              </a:rPr>
              <a:t>et el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QM04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880-92D1-4A69-B210-87C81D6D3B6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28600" y="1828800"/>
            <a:ext cx="327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ata and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Rec. MC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increase with the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bi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size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Hijing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increas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with the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 bin siz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stimated systematic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rror 5%(not shown)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5119560" cy="360828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3276720" y="5029200"/>
            <a:ext cx="5410080" cy="990720"/>
            <a:chOff x="3276720" y="5029200"/>
            <a:chExt cx="5410080" cy="99072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3276720" y="5029200"/>
              <a:ext cx="18036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3"/>
            <a:stretch/>
          </p:blipFill>
          <p:spPr>
            <a:xfrm>
              <a:off x="5079240" y="5029200"/>
              <a:ext cx="18036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4"/>
            <a:stretch/>
          </p:blipFill>
          <p:spPr>
            <a:xfrm>
              <a:off x="6883200" y="5029200"/>
              <a:ext cx="180360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"/>
          <p:cNvSpPr/>
          <p:nvPr/>
        </p:nvSpPr>
        <p:spPr>
          <a:xfrm rot="10800000">
            <a:off x="3505320" y="1447560"/>
            <a:ext cx="4237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467480" y="45720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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Preliminary Fluctuations Analysis Result</a:t>
            </a: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K.W. </a:t>
            </a:r>
            <a:r>
              <a:rPr b="0" i="1" lang="en-US" sz="1800" spc="-1" strike="noStrike">
                <a:solidFill>
                  <a:srgbClr val="3333cc"/>
                </a:solidFill>
                <a:latin typeface="Verdana"/>
              </a:rPr>
              <a:t>et el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QM04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288-6EE5-4994-8D97-54090536443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97560" y="533520"/>
            <a:ext cx="76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uctuations Sources in Rec. MC Multiplic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1752480"/>
            <a:ext cx="297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Acceptance Effect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Secondari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dE/d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Fluctuation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Landau fluctua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Velocity (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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) varia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Statistical fluctuations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Model non-statistic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fluctuation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6324480" cy="45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182-7A0F-48F4-A8FC-66E54C0EA04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xtraction of Dynamic Fluctua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2514600"/>
            <a:ext cx="7162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ptance gap effects suppression with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fse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-dependent dE/dx cuts to suppress contribution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rom secondary partic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006699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rder detector effects adjustment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 dynamic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luctuations extrac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993-ADE4-4144-9B8D-D02125B2CD8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152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                 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ollabor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Burak Alver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Birger Back,</a:t>
            </a:r>
            <a:r>
              <a:rPr b="0" lang="en-US" sz="1400" spc="-1" strike="noStrike">
                <a:solidFill>
                  <a:srgbClr val="ebf7ff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Mark Baker, Maarten Ballintijn, Donald Barton, Russell Betts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Richard Bindel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r>
              <a:rPr b="0" lang="en-US" sz="1400" spc="-1" strike="noStrike">
                <a:solidFill>
                  <a:srgbClr val="006666"/>
                </a:solidFill>
                <a:latin typeface="Lucida Sans Unicode"/>
              </a:rPr>
              <a:t>Wit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 Busza (Spokesperson), Zhengwei Chai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Vasundhara Chetluru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Edmundo Garc</a:t>
            </a:r>
            <a:r>
              <a:rPr b="0" lang="en-US" sz="1400" spc="-1" strike="noStrike">
                <a:solidFill>
                  <a:srgbClr val="006666"/>
                </a:solidFill>
                <a:latin typeface="Lucida Sans Unicode"/>
              </a:rPr>
              <a:t>í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a, Tomasz Gburek, Kristjan Gulbrandsen, Clive Halliwell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Joshua Hamblen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Ian Harnarine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Conor Henderson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David Hofman, Richard Hollis, Roman Hołyński, Burt Holzman, Aneta Iordanova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Jay Kane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Piotr Kulinich, Chia Ming Kuo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Wei Li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Willis Lin, Steven Manly, Alice Mignerey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Gerrit van Nieuwenhuizen, Rachid Nouicer, Andrzej Olszewski, Robert Pak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Corey Reed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Eric Richardson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Christof Roland, Gunther Roland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Joe Sagerer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Iouri Sedykh, Chadd Smith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Maciej Stankiewicz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Peter Steinberg, George Stephans, Andrei Sukhanov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Artur Szostak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Marguerite Belt Tonjes, Adam Trzupek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Sergei Vaurynovich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Robin Verdier, Gábor Veres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Peter Walters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Edward Wenger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Donald Willhelm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Frank Wolfs,  Barbara Wosiek, Krzysztof Woźniak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Shaun Wyngaardt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Bolek Wysłouch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f7ff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ARGONNE NATIONAL LABORATORY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BROOKHAVEN NATIONAL LABORATORY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INSTITUTE OF NUCLEAR PHYSICS PAN, KRAKOW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MASSACHUSETTS INSTITUTE OF TECHNOLOGY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NATIONAL CENTRAL UNIVERSITY, TAIWAN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UNIVERSITY OF ILLINOIS AT CHICAGO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UNIVERSITY OF MARYLAND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UNIVERSITY OF ROCHESTER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932040" cy="5875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324480" y="1066680"/>
            <a:ext cx="1135080" cy="62100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839880" cy="5875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828800" y="380880"/>
            <a:ext cx="1905120" cy="55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FC2-EB63-490F-BEFE-AEEA98F458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705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cceptance Gap Effects in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>
                <a:solidFill>
                  <a:srgbClr val="3333cc"/>
                </a:solidFill>
                <a:latin typeface="Verdana"/>
              </a:rPr>
              <a:t>(C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09480" y="990720"/>
                <a:ext cx="20574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81" name=""/>
          <p:cNvGraphicFramePr/>
          <p:nvPr/>
        </p:nvGraphicFramePr>
        <p:xfrm>
          <a:off x="5207040" y="1600200"/>
          <a:ext cx="2917800" cy="21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7040" y="1600200"/>
                    <a:ext cx="291780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4419720" y="3124080"/>
            <a:ext cx="3200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3352680"/>
            <a:ext cx="3200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3341520" y="1905120"/>
            <a:ext cx="5802480" cy="3319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105520" y="4724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0752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-Z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381880" y="457200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+Z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0920" y="35812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1" i="1" lang="en-US" sz="2000" spc="-1" strike="noStrike" baseline="-25000">
                <a:solidFill>
                  <a:srgbClr val="3333cc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46720" y="35812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1" i="1" lang="en-US" sz="2000" spc="-1" strike="noStrike" baseline="-25000">
                <a:solidFill>
                  <a:srgbClr val="3333cc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61120" y="35812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1B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0" y="35812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B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2057400"/>
            <a:ext cx="327672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Acceptance gap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asymmetric multipliciti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At vertex A: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i="1" lang="zh-CN" sz="1800" spc="-1" strike="noStrike" baseline="-25000">
                <a:solidFill>
                  <a:srgbClr val="3333cc"/>
                </a:solidFill>
                <a:latin typeface="Arial"/>
              </a:rPr>
              <a:t>1A</a:t>
            </a:r>
            <a:r>
              <a:rPr b="0" lang="zh-CN" sz="18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i="1" lang="zh-CN" sz="1800" spc="-1" strike="noStrike" baseline="-25000">
                <a:solidFill>
                  <a:srgbClr val="3333cc"/>
                </a:solidFill>
                <a:latin typeface="Arial"/>
              </a:rPr>
              <a:t>2A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&lt;C&gt;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&gt;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At vertex B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zh-CN" sz="1800" spc="-1" strike="noStrike" baseline="-25000">
                <a:solidFill>
                  <a:srgbClr val="ff0000"/>
                </a:solidFill>
                <a:latin typeface="Arial"/>
              </a:rPr>
              <a:t>1B</a:t>
            </a:r>
            <a:r>
              <a:rPr b="0" lang="zh-CN" sz="1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zh-CN" sz="1800" spc="-1" strike="noStrike" baseline="-25000">
                <a:solidFill>
                  <a:srgbClr val="ff0000"/>
                </a:solidFill>
                <a:latin typeface="Arial"/>
              </a:rPr>
              <a:t>2B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</a:rPr>
              <a:t> &lt;C&gt; </a:t>
            </a:r>
            <a:r>
              <a:rPr b="0" i="1" lang="zh-CN" sz="1800" spc="-1" strike="noStrike">
                <a:solidFill>
                  <a:srgbClr val="006699"/>
                </a:solidFill>
                <a:latin typeface="Arial"/>
              </a:rPr>
              <a:t>&lt;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Asymmetric forward and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backward multiplicities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varying mean of </a:t>
            </a:r>
            <a:r>
              <a:rPr b="0" i="1" lang="zh-CN" sz="1800" spc="-1" strike="noStrike">
                <a:solidFill>
                  <a:srgbClr val="006699"/>
                </a:solidFill>
                <a:latin typeface="Arial"/>
              </a:rPr>
              <a:t>C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in 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small </a:t>
            </a:r>
            <a:r>
              <a:rPr b="0" i="1" lang="zh-CN" sz="18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0" i="1" lang="zh-CN" sz="18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bi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significant </a:t>
            </a:r>
            <a:r>
              <a:rPr b="0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(C) increase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in bigger </a:t>
            </a:r>
            <a:r>
              <a:rPr b="0" i="1" lang="zh-CN" sz="18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0" i="1" lang="zh-CN" sz="18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bi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ABA-195C-49C0-8C93-F894605968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cceptance Gap Effects Suppress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66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ent-by-event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offset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66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is the mean of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distribution in a specific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Z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vtx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, Centrality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) bin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suppresses the acceptance gap effects by reducing the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&lt;C&gt;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variation while keeping other fluctuations unchange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2473200" y="2327400"/>
                <a:ext cx="351180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C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</m:e>
                        </m:d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t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Bin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42B-5508-46F9-9294-ABB890A556B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81960" cy="5448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057400" y="106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|&lt;0.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5400" y="106668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|&lt;0.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4680" y="259092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w/o offset correc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1240" y="25909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/ offset correc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3560" y="1066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10666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05320" y="32004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1" i="1" lang="en-US" sz="16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586728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1" i="1" lang="en-US" sz="16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15200" y="320040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1" i="1" lang="en-US" sz="16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5200" y="586728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1" i="1" lang="en-US" sz="16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37339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&lt;C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19720" y="373392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904760" y="2895480"/>
            <a:ext cx="609480" cy="1524240"/>
          </a:xfrm>
          <a:prstGeom prst="line">
            <a:avLst/>
          </a:prstGeom>
          <a:ln w="1260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2895480"/>
            <a:ext cx="3429000" cy="1447920"/>
          </a:xfrm>
          <a:prstGeom prst="line">
            <a:avLst/>
          </a:prstGeom>
          <a:ln w="1260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505320" y="2895480"/>
            <a:ext cx="2286000" cy="1828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629400" y="2895480"/>
            <a:ext cx="609480" cy="2133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CC5-8FB4-49FE-8F76-E9BBA11DCA8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648320" cy="4403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724280" cy="43974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/dx Distributions of MC Hits</a:t>
            </a:r>
            <a:br>
              <a:rPr sz="2000"/>
            </a:br>
            <a:br>
              <a:rPr sz="1200"/>
            </a:br>
            <a:br>
              <a:rPr sz="1200"/>
            </a:b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Black: Primaries + Secondaries,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Red: Secondaries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Blue:  Primaries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8" name=""/>
          <p:cNvSpPr/>
          <p:nvPr/>
        </p:nvSpPr>
        <p:spPr>
          <a:xfrm>
            <a:off x="1902600" y="3124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-3.0&lt;</a:t>
            </a:r>
            <a:r>
              <a:rPr b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-2.5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75320" y="32004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-0.5&lt;</a:t>
            </a:r>
            <a:r>
              <a:rPr b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0.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828800"/>
            <a:ext cx="1295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67080" y="17524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D34-5E34-44CD-AF0D-27CC520981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64760" y="304920"/>
            <a:ext cx="82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tector Effects from Model+Geant Simula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8164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054960" y="3124080"/>
            <a:ext cx="38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Arial"/>
              </a:rPr>
              <a:t>det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(C) -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7800" y="3886200"/>
            <a:ext cx="685800" cy="10666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B81-7AF6-4C08-8EDB-3F5CF38EB77A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43974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702800" y="685800"/>
            <a:ext cx="580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Arial"/>
              </a:rPr>
              <a:t>det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1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order dependence on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Arial"/>
              </a:rPr>
              <a:t>dy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58360" y="4724280"/>
            <a:ext cx="30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1.5&lt;|</a:t>
            </a:r>
            <a:r>
              <a:rPr b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|&lt;2.0 &amp; half </a:t>
            </a:r>
            <a:r>
              <a:rPr b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acc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66400" y="1978200"/>
            <a:ext cx="33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od. HIJING (randomized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sign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60480" y="24382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d. AMPT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71600" y="388620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d. HIJING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80400" y="266688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0-20% Centr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904-B3E3-401F-998D-31E0BBC0163D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62120" y="3049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xtracting Dynamic Fluctuations Using Detector Effects from Simula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1600200"/>
            <a:ext cx="7848360" cy="48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eneral equation: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99"/>
                </a:solidFill>
                <a:latin typeface="Arial"/>
                <a:ea typeface="宋体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  <a:ea typeface="宋体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  <a:ea typeface="宋体"/>
              </a:rPr>
              <a:t>2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  <a:ea typeface="宋体"/>
              </a:rPr>
              <a:t>(C) = </a:t>
            </a:r>
            <a:r>
              <a:rPr b="0" i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0" i="1" lang="en-US" sz="26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tat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  <a:ea typeface="宋体"/>
              </a:rPr>
              <a:t>+ </a:t>
            </a:r>
            <a:r>
              <a:rPr b="0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dyn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  <a:ea typeface="宋体"/>
              </a:rPr>
              <a:t>+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  <a:ea typeface="宋体"/>
              </a:rPr>
              <a:t>2</a:t>
            </a:r>
            <a:r>
              <a:rPr b="0" i="1" lang="en-US" sz="2600" spc="-1" strike="noStrike" baseline="-25000">
                <a:solidFill>
                  <a:srgbClr val="006699"/>
                </a:solidFill>
                <a:latin typeface="Arial"/>
                <a:ea typeface="宋体"/>
              </a:rPr>
              <a:t>det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se MC to evaluate detector effects: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006699"/>
                </a:solidFill>
                <a:latin typeface="Arial"/>
              </a:rPr>
              <a:t>det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=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(C) - (</a:t>
            </a:r>
            <a:r>
              <a:rPr b="0" i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3333cc"/>
                </a:solidFill>
                <a:latin typeface="Arial"/>
              </a:rPr>
              <a:t>stat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+ </a:t>
            </a:r>
            <a:r>
              <a:rPr b="0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)  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006699"/>
                </a:solidFill>
                <a:latin typeface="Arial"/>
              </a:rPr>
              <a:t>det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=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006699"/>
                </a:solidFill>
                <a:latin typeface="Arial"/>
              </a:rPr>
              <a:t>det0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(1 -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</a:t>
            </a:r>
            <a:r>
              <a:rPr b="0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se the adjusted detector effects to extract dynamic fluctuations: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(C) = </a:t>
            </a:r>
            <a:r>
              <a:rPr b="0" i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3333cc"/>
                </a:solidFill>
                <a:latin typeface="Arial"/>
              </a:rPr>
              <a:t>stat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+ </a:t>
            </a:r>
            <a:r>
              <a:rPr b="0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Arial"/>
              </a:rPr>
              <a:t>dyn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+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006699"/>
                </a:solidFill>
                <a:latin typeface="Arial"/>
              </a:rPr>
              <a:t>det0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(1 -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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ultiply the extracted dynamic fluctuations by 2 to extrapolate it from half to full 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accept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3C6-F776-4DD8-AFD1-AD5F8A47536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6200" y="380880"/>
            <a:ext cx="83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tracted and True Model Dynamic Fluctua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8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FA4B-6837-4114-BC74-8D2B887C4F8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66200" y="380880"/>
            <a:ext cx="83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tracted and True Model Dynamic Fluctua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86600" cy="48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AE9-CF6F-47B7-B58F-498F617FE090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452600" y="2133720"/>
            <a:ext cx="714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Procedure for extraction of dynamic fluctua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tested with 3 simulation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200GeV Au+Au data dynamic fluctuations comin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out soon…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CC4-18B5-43A1-B13C-D71495151C4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6680" y="258840"/>
            <a:ext cx="32227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2160" y="1973160"/>
            <a:ext cx="76154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ysics motiv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luctuations variables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(C)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en-US" sz="2800" spc="-1" strike="noStrike" baseline="-25000">
                <a:solidFill>
                  <a:srgbClr val="006699"/>
                </a:solidFill>
                <a:latin typeface="Verdana"/>
              </a:rPr>
              <a:t>dy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alysis procedure for extracting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(C)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en-US" sz="2800" spc="-1" strike="noStrike" baseline="-25000">
                <a:solidFill>
                  <a:srgbClr val="006699"/>
                </a:solidFill>
                <a:latin typeface="Verdana"/>
              </a:rPr>
              <a:t>dy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eliminary resul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mmary and outloo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D18-F4AA-45E0-88BF-1ACF586638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54194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Summary and Outlook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122640" y="2049480"/>
                <a:ext cx="611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457200" y="1752480"/>
            <a:ext cx="83059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alyzed multiplicity fluctuations of the charged  particle production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 Au+Au collisions at </a:t>
            </a:r>
            <a:r>
              <a:rPr b="0" lang="pl-PL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=200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GeV </a:t>
            </a:r>
            <a:r>
              <a:rPr b="0" lang="pl-PL" sz="2000" spc="-1" strike="noStrike">
                <a:solidFill>
                  <a:srgbClr val="006699"/>
                </a:solidFill>
                <a:latin typeface="Arial"/>
              </a:rPr>
              <a:t>over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wide pseudo-rapidit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pl-PL" sz="2000" spc="-1" strike="noStrike">
                <a:solidFill>
                  <a:srgbClr val="006699"/>
                </a:solidFill>
                <a:latin typeface="Arial"/>
              </a:rPr>
              <a:t>range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(-3.0 &lt;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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+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3.0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The preliminary fluctuations in the Data are similar to that in  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reconstructed Au+Au MC (HIJING+GEANT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The physics fluctuations grow with increasing bin separation (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)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and width (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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) and may be explained by intrinsic correlations in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particle  produc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stablished a reliable procedure for extracting the dynamic 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luctuations from PHOBOS multiplicity measuremen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Results of dynamic fluctuations compared with models to be released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95C-24AF-499A-98BB-F968DD229C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1596600"/>
            <a:ext cx="815364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spcBef>
                <a:spcPts val="1250"/>
              </a:spcBef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icle production in Au-Au collisions is dominated by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overlapping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geometry of the colliding ions, thus the particle multiplicity mainly depends on the number of participants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par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173160" indent="-173160">
              <a:spcBef>
                <a:spcPts val="1250"/>
              </a:spcBef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vent-by-event multiplicity fluctuations could be a useful signature of the QGP-Hadron Gas phase transition due to the large difference of the degree of freedom between the two pha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173160" indent="-173160">
              <a:spcBef>
                <a:spcPts val="1250"/>
              </a:spcBef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ynamic fluctuations other than</a:t>
            </a:r>
            <a:r>
              <a:rPr b="0" lang="pl-PL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statistical and 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zh-CN" sz="2000" spc="-1" strike="noStrike" baseline="-25000">
                <a:solidFill>
                  <a:srgbClr val="006699"/>
                </a:solidFill>
                <a:latin typeface="Arial"/>
              </a:rPr>
              <a:t>part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fluctuations may provide helpful insights on the intrinsic mechanisms of the particle produc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173160" indent="-173160">
              <a:spcBef>
                <a:spcPts val="1250"/>
              </a:spcBef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ynamic fluctuations are also related to particle correlations, which could be resulted from jets, resonances and clusters effect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762120"/>
            <a:ext cx="7315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uctuations in Particle Produ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A78-05CB-4B6F-9CF6-B83A6066B90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8080" y="304920"/>
            <a:ext cx="7925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Arial"/>
              </a:rPr>
              <a:t>Event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pl-PL" sz="2800" spc="-1" strike="noStrike">
                <a:solidFill>
                  <a:srgbClr val="3333cc"/>
                </a:solidFill>
                <a:latin typeface="Arial"/>
              </a:rPr>
              <a:t>by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pl-PL" sz="2800" spc="-1" strike="noStrike">
                <a:solidFill>
                  <a:srgbClr val="3333cc"/>
                </a:solidFill>
                <a:latin typeface="Arial"/>
              </a:rPr>
              <a:t>event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pl-PL" sz="2800" spc="-1" strike="noStrike">
                <a:solidFill>
                  <a:srgbClr val="3333cc"/>
                </a:solidFill>
                <a:latin typeface="Arial"/>
              </a:rPr>
              <a:t>luctuatio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ns Observable </a:t>
            </a:r>
            <a:r>
              <a:rPr b="1" i="1" lang="zh-CN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i="1" lang="zh-CN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i="1" lang="zh-CN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886200" cy="2311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4920" y="11430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tudy multiplicity fluctuation using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2743200"/>
            <a:ext cx="46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= RM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distribution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10080" y="3200400"/>
            <a:ext cx="3048120" cy="2895480"/>
            <a:chOff x="5410080" y="3200400"/>
            <a:chExt cx="3048120" cy="289548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5410080" y="3200400"/>
              <a:ext cx="30481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flipV="1">
              <a:off x="6078600" y="3641400"/>
              <a:ext cx="1894320" cy="181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7240" y="4192920"/>
              <a:ext cx="1002600" cy="992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12680" y="4358520"/>
              <a:ext cx="780120" cy="772200"/>
            </a:xfrm>
            <a:prstGeom prst="line">
              <a:avLst/>
            </a:prstGeom>
            <a:ln w="2556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24280" y="4248360"/>
              <a:ext cx="779760" cy="771840"/>
            </a:xfrm>
            <a:prstGeom prst="line">
              <a:avLst/>
            </a:prstGeom>
            <a:ln w="2556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8900000">
              <a:off x="7248600" y="3433680"/>
              <a:ext cx="778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pl-PL" sz="16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1" lang="pl-PL" sz="16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pl-PL" sz="16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700000">
              <a:off x="7174080" y="4852800"/>
              <a:ext cx="770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66ff"/>
                  </a:solidFill>
                  <a:latin typeface="Arial"/>
                </a:rPr>
                <a:t>N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1</a:t>
              </a:r>
              <a:r>
                <a:rPr b="1" lang="pl-PL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66ff"/>
                  </a:solidFill>
                  <a:latin typeface="Arial"/>
                </a:rPr>
                <a:t>- N</a:t>
              </a:r>
              <a:r>
                <a:rPr b="1" lang="pl-PL" sz="14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66680" y="1600200"/>
                <a:ext cx="2133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00600" y="4114800"/>
            <a:ext cx="4310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= </a:t>
            </a:r>
            <a:r>
              <a:rPr b="0" i="1" lang="el-GR" sz="2000" spc="-1" strike="noStrike">
                <a:solidFill>
                  <a:srgbClr val="3333cc"/>
                </a:solidFill>
                <a:latin typeface="Symbol"/>
                <a:ea typeface="Symbol"/>
              </a:rPr>
              <a:t>σ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Arial"/>
                <a:ea typeface="Arial Unicode MS"/>
              </a:rPr>
              <a:t>stat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 + </a:t>
            </a:r>
            <a:r>
              <a:rPr b="0" i="1" lang="el-GR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σ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dy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,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Arial"/>
                <a:ea typeface="Arial Unicode MS"/>
              </a:rPr>
              <a:t>2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Arial"/>
                <a:ea typeface="Arial Unicode MS"/>
              </a:rPr>
              <a:t>sta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=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statistical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dynamic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 fluctuation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= 1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or independent particl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6440" y="3276720"/>
            <a:ext cx="4395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-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in definition of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par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luctuations suppressed in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54100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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</a:t>
            </a:r>
            <a:r>
              <a:rPr b="0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6699"/>
                </a:solidFill>
                <a:latin typeface="바탕"/>
                <a:ea typeface="바탕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non-0 dynamic fluctuation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04A-BC89-47D8-9B2F-6B38FEE4F32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Correlation Variable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3333cc"/>
                </a:solidFill>
                <a:latin typeface="Verdana"/>
              </a:rPr>
              <a:t>(C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luctuations variable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(C)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s a measure of  the particles correlation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Long range (particles in different </a:t>
            </a:r>
            <a:r>
              <a:rPr b="0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bins)  correlations reduce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(C)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rom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1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hort range (particles usually in the same </a:t>
            </a:r>
            <a:r>
              <a:rPr b="0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bin) correlations increase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(C)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rom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1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hort range correlations could also have the long range effect if the correlated particles are selected into different bin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066680" y="3809880"/>
            <a:ext cx="6782040" cy="2522160"/>
            <a:chOff x="1066680" y="3809880"/>
            <a:chExt cx="6782040" cy="2522160"/>
          </a:xfrm>
        </p:grpSpPr>
        <p:sp>
          <p:nvSpPr>
            <p:cNvPr id="199" name=""/>
            <p:cNvSpPr/>
            <p:nvPr/>
          </p:nvSpPr>
          <p:spPr>
            <a:xfrm>
              <a:off x="4759920" y="5829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31160" y="5829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5829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1120" y="5829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42720" y="5829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91520" y="5829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04440" y="5829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54080" y="5829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83200" y="5829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14840" y="5829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9520" y="57506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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6680" y="5730120"/>
              <a:ext cx="67820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696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784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728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8672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5796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2704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0716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3772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6684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2760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704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98760" y="58161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46880" y="3809880"/>
              <a:ext cx="5045760" cy="1922040"/>
            </a:xfrm>
            <a:custGeom>
              <a:avLst/>
              <a:gdLst/>
              <a:ahLst/>
              <a:rect l="l" t="t" r="r" b="b"/>
              <a:pathLst>
                <a:path w="3607" h="1870">
                  <a:moveTo>
                    <a:pt x="0" y="1864"/>
                  </a:moveTo>
                  <a:cubicBezTo>
                    <a:pt x="76" y="1820"/>
                    <a:pt x="269" y="1869"/>
                    <a:pt x="458" y="1599"/>
                  </a:cubicBezTo>
                  <a:cubicBezTo>
                    <a:pt x="647" y="1329"/>
                    <a:pt x="911" y="486"/>
                    <a:pt x="1136" y="243"/>
                  </a:cubicBezTo>
                  <a:cubicBezTo>
                    <a:pt x="1361" y="0"/>
                    <a:pt x="1585" y="141"/>
                    <a:pt x="1809" y="141"/>
                  </a:cubicBezTo>
                  <a:cubicBezTo>
                    <a:pt x="2033" y="141"/>
                    <a:pt x="2259" y="0"/>
                    <a:pt x="2482" y="243"/>
                  </a:cubicBezTo>
                  <a:cubicBezTo>
                    <a:pt x="2705" y="486"/>
                    <a:pt x="2962" y="1328"/>
                    <a:pt x="3149" y="1599"/>
                  </a:cubicBezTo>
                  <a:cubicBezTo>
                    <a:pt x="3336" y="1870"/>
                    <a:pt x="3512" y="1812"/>
                    <a:pt x="3607" y="1868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048120" y="464832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525780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5257800"/>
            <a:ext cx="609480" cy="0"/>
          </a:xfrm>
          <a:prstGeom prst="line">
            <a:avLst/>
          </a:prstGeom>
          <a:ln w="381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1911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4876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4876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3A3-50D9-42FB-97AA-FB13BE3A0E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Long Range Correla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66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Long range correlations effect in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(C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-239760">
              <a:spcBef>
                <a:spcPts val="499"/>
              </a:spcBef>
              <a:buClr>
                <a:srgbClr val="006699"/>
              </a:buClr>
              <a:buSzPct val="15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ssuming  &lt;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&gt;=&lt;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&gt;=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+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2N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nd the correlation coefficient is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-239760">
              <a:spcBef>
                <a:spcPts val="499"/>
              </a:spcBef>
              <a:buClr>
                <a:srgbClr val="006699"/>
              </a:buClr>
              <a:buSzPct val="15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sitive long range correlations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Verdana"/>
              </a:rPr>
              <a:t>dyn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&lt;0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and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(C)&lt;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63800" y="2200320"/>
                <a:ext cx="708804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≈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ρσ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yn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200400" y="4724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4648320"/>
            <a:ext cx="228600" cy="228600"/>
          </a:xfrm>
          <a:prstGeom prst="smileyFace">
            <a:avLst>
              <a:gd name="adj" fmla="val 92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4648320"/>
            <a:ext cx="228600" cy="228600"/>
          </a:xfrm>
          <a:prstGeom prst="smileyFace">
            <a:avLst>
              <a:gd name="adj" fmla="val 92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28800" y="4114800"/>
            <a:ext cx="4325760" cy="1425960"/>
            <a:chOff x="1828800" y="4114800"/>
            <a:chExt cx="4325760" cy="1425960"/>
          </a:xfrm>
        </p:grpSpPr>
        <p:sp>
          <p:nvSpPr>
            <p:cNvPr id="237" name=""/>
            <p:cNvSpPr/>
            <p:nvPr/>
          </p:nvSpPr>
          <p:spPr>
            <a:xfrm>
              <a:off x="4082040" y="499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77240" y="499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0640" y="499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61520" y="499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400" y="499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6720" y="4992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0000" y="4992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69200" y="4992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74000" y="4992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77000" y="4992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28320" y="49593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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4949640"/>
              <a:ext cx="4251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648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6168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5580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5028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4548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3996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7200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7788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8232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9372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8820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93320" y="4986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80680" y="4114800"/>
              <a:ext cx="3162960" cy="835560"/>
            </a:xfrm>
            <a:custGeom>
              <a:avLst/>
              <a:gdLst/>
              <a:ahLst/>
              <a:rect l="l" t="t" r="r" b="b"/>
              <a:pathLst>
                <a:path w="3607" h="1870">
                  <a:moveTo>
                    <a:pt x="0" y="1864"/>
                  </a:moveTo>
                  <a:cubicBezTo>
                    <a:pt x="76" y="1820"/>
                    <a:pt x="269" y="1869"/>
                    <a:pt x="458" y="1599"/>
                  </a:cubicBezTo>
                  <a:cubicBezTo>
                    <a:pt x="647" y="1329"/>
                    <a:pt x="911" y="486"/>
                    <a:pt x="1136" y="243"/>
                  </a:cubicBezTo>
                  <a:cubicBezTo>
                    <a:pt x="1361" y="0"/>
                    <a:pt x="1585" y="141"/>
                    <a:pt x="1809" y="141"/>
                  </a:cubicBezTo>
                  <a:cubicBezTo>
                    <a:pt x="2033" y="141"/>
                    <a:pt x="2259" y="0"/>
                    <a:pt x="2482" y="243"/>
                  </a:cubicBezTo>
                  <a:cubicBezTo>
                    <a:pt x="2705" y="486"/>
                    <a:pt x="2962" y="1328"/>
                    <a:pt x="3149" y="1599"/>
                  </a:cubicBezTo>
                  <a:cubicBezTo>
                    <a:pt x="3336" y="1870"/>
                    <a:pt x="3512" y="1812"/>
                    <a:pt x="3607" y="1868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9D0-2116-4DD5-932D-EBE21794CC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Short Range Correla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Verdana"/>
              </a:rPr>
              <a:t>Short range correlations effect in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Verdana"/>
              </a:rPr>
              <a:t>(C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SzPct val="15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Such correlation may be treated as cluster effect, the cluster multiplicity 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k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studied by UA5  is related to 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(C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SzPct val="15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If particles are created in cluster with multiplicity 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k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, and the total multiplicity in a specific 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bin is increased from 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to 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k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SzPct val="15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(C)= 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zh-CN" sz="1800" spc="-1" strike="noStrike" baseline="-25000">
                <a:solidFill>
                  <a:srgbClr val="006699"/>
                </a:solidFill>
                <a:latin typeface="Verdana"/>
              </a:rPr>
              <a:t>stat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+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zh-CN" sz="1800" spc="-1" strike="noStrike" baseline="-25000">
                <a:solidFill>
                  <a:srgbClr val="006699"/>
                </a:solidFill>
                <a:latin typeface="Verdana"/>
              </a:rPr>
              <a:t>dyn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 = k 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is a measure of cluster multiplicity if all the associated particles in cluster are included in this </a:t>
            </a:r>
            <a:r>
              <a:rPr b="0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bin. 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(C)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may be regarded as “effective” cluster multiplicity if some of the associated particles in cluster are included in different bin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SzPct val="15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Short range correlations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zh-CN" sz="1800" spc="-1" strike="noStrike" baseline="-25000">
                <a:solidFill>
                  <a:srgbClr val="006699"/>
                </a:solidFill>
                <a:latin typeface="Verdana"/>
              </a:rPr>
              <a:t>dyn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&gt;0 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and </a:t>
            </a:r>
            <a:r>
              <a:rPr b="0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(C)&gt;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95280" y="2590920"/>
                <a:ext cx="4497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</m:e>
                    </m:rad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019920" y="2743200"/>
                <a:ext cx="1674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</m:e>
                    </m:rad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1676520" y="4495680"/>
            <a:ext cx="4325760" cy="1425960"/>
            <a:chOff x="1676520" y="4495680"/>
            <a:chExt cx="4325760" cy="1425960"/>
          </a:xfrm>
        </p:grpSpPr>
        <p:sp>
          <p:nvSpPr>
            <p:cNvPr id="267" name=""/>
            <p:cNvSpPr/>
            <p:nvPr/>
          </p:nvSpPr>
          <p:spPr>
            <a:xfrm>
              <a:off x="3929760" y="5373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24960" y="5373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18360" y="5373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9240" y="5373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9120" y="5373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04440" y="53737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97720" y="53737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16920" y="53737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21720" y="53737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24720" y="53737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76040" y="53402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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5330520"/>
              <a:ext cx="4251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1420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0940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0352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9800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9320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8768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972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2560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3004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4144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3592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41040" y="53672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28400" y="4495680"/>
              <a:ext cx="3162960" cy="835560"/>
            </a:xfrm>
            <a:custGeom>
              <a:avLst/>
              <a:gdLst/>
              <a:ahLst/>
              <a:rect l="l" t="t" r="r" b="b"/>
              <a:pathLst>
                <a:path w="3607" h="1870">
                  <a:moveTo>
                    <a:pt x="0" y="1864"/>
                  </a:moveTo>
                  <a:cubicBezTo>
                    <a:pt x="76" y="1820"/>
                    <a:pt x="269" y="1869"/>
                    <a:pt x="458" y="1599"/>
                  </a:cubicBezTo>
                  <a:cubicBezTo>
                    <a:pt x="647" y="1329"/>
                    <a:pt x="911" y="486"/>
                    <a:pt x="1136" y="243"/>
                  </a:cubicBezTo>
                  <a:cubicBezTo>
                    <a:pt x="1361" y="0"/>
                    <a:pt x="1585" y="141"/>
                    <a:pt x="1809" y="141"/>
                  </a:cubicBezTo>
                  <a:cubicBezTo>
                    <a:pt x="2033" y="141"/>
                    <a:pt x="2259" y="0"/>
                    <a:pt x="2482" y="243"/>
                  </a:cubicBezTo>
                  <a:cubicBezTo>
                    <a:pt x="2705" y="486"/>
                    <a:pt x="2962" y="1328"/>
                    <a:pt x="3149" y="1599"/>
                  </a:cubicBezTo>
                  <a:cubicBezTo>
                    <a:pt x="3336" y="1870"/>
                    <a:pt x="3512" y="1812"/>
                    <a:pt x="3607" y="1868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114800" y="50292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4952880"/>
            <a:ext cx="228600" cy="228600"/>
          </a:xfrm>
          <a:prstGeom prst="smileyFace">
            <a:avLst>
              <a:gd name="adj" fmla="val 9282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952880"/>
            <a:ext cx="228600" cy="228600"/>
          </a:xfrm>
          <a:prstGeom prst="smileyFace">
            <a:avLst>
              <a:gd name="adj" fmla="val 9282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FD5-6C24-4669-A5B1-E677909A32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629400" cy="43056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676160" y="380880"/>
            <a:ext cx="59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Distribution from HIJING Primaries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1219320"/>
            <a:ext cx="4800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304812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2971800"/>
            <a:ext cx="990360" cy="228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30840" y="5257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08960" y="21337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.5&lt;|</a:t>
            </a:r>
            <a:r>
              <a:rPr b="0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&lt;2.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66480" y="358128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(C) = 1.08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41120" y="1295280"/>
            <a:ext cx="254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=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E1B-F1AB-4FFB-8343-D0839089165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5:13:34Z</dcterms:created>
  <dc:creator>USER</dc:creator>
  <dc:description/>
  <dc:language>en-US</dc:language>
  <cp:lastModifiedBy>CZW</cp:lastModifiedBy>
  <dcterms:modified xsi:type="dcterms:W3CDTF">2005-06-20T19:55:28Z</dcterms:modified>
  <cp:revision>197</cp:revision>
  <dc:subject/>
  <dc:title>Multiplicity Fluctuations in 200 GeV Au-Au Collisions</dc:title>
</cp:coreProperties>
</file>