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73A-2C2E-4EB1-857E-951A2D72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96B-2451-423A-9FBA-8B453ED5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B34-D52A-4383-A71D-8CFB5F8D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9555-78BD-4B38-A24D-F627F685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471-FE14-49A0-9197-2043FB8A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3F82-666C-48BC-A718-6A6FDB90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D2A-9CF6-42E7-9851-925CC7C1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C4D-9A8B-4A02-98C6-D8DDBF4E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9E0E-0E1B-478F-86A1-2FFBFE57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3FF4-884F-4CB2-9614-5874AC3E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ABE-608C-47E4-8A69-7DD8478C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F98-DA94-4031-A031-8FC99065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153D-5691-4728-9A29-BEB00F8E8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deal Data E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Minimal Room For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ontented Data Entry Person 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695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Reality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Not So Contented Data Entry Person 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38275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Get Someone Else To Enter You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Use A Program Designed To Make Data Entry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Life Afterwards 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atas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omprehensive BatchFile And SIM File Cre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akes the guesswork out of coding files from hard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Handles sample, habitat and biolog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8769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And of course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es With An Artistic CD Lab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8280" y="2031840"/>
            <a:ext cx="4267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Datastor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reates Batch Files For STORET or S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Uses STORET Data Tables To Help Ensure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Handles Sample, Field Observation, Data Logger, Habitat and Biologic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an Be Used On Computer That Does Not Have STOR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09480" y="144756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atastor Als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209680"/>
            <a:ext cx="8001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Allows Creation Of New Trips And Visits In Batch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akes Advantage Of SIM Data Validation And Automatic Trip And Visit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Includes SIM Configurations For Water Quality And Biolog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t Comes With Dataconv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Matches Datastor With Another Totally Unimaginative Name For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743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Howev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505320"/>
            <a:ext cx="83822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imes New Roman"/>
              </a:rPr>
              <a:t>Dataconvert Helps Transform Spreadsheet Files To SIM Compatible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imes New Roman"/>
              </a:rPr>
              <a:t>Allows Creation Of Customized Files To ‘Fill In The Blanks’ For Analytical Method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imes New Roman"/>
              </a:rPr>
              <a:t>Assists Moving Data To SIM Without Need For STORET Characteristic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ataconvert Also Comes With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22096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eady To Use SIM Configuration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0481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And Of Cours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38098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imes New Roman"/>
              </a:rPr>
              <a:t>Since On The Same CD As Datastor It Also Has An Artistic CD La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57Z</dcterms:created>
  <dc:creator>Region09</dc:creator>
  <dc:description/>
  <dc:language>en-US</dc:language>
  <cp:lastModifiedBy> </cp:lastModifiedBy>
  <dcterms:modified xsi:type="dcterms:W3CDTF">2004-11-11T00:36:24Z</dcterms:modified>
  <cp:revision>11</cp:revision>
  <dc:subject/>
  <dc:title>Datastor</dc:title>
</cp:coreProperties>
</file>