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862-958F-4A47-B988-AC6A4EE6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E34-6736-4310-AC12-99B67D09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08E-3687-4A60-A7BC-8E4CB055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FCC-A9B2-47CA-A69A-45C22692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094-CE4A-4F99-8786-747F8F6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633-BF85-4DDD-A156-FF57F9A9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AC7-EFD7-485C-8B2C-FDDC20E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391-77F8-4E97-9463-1FA37E8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E37-9219-467A-8D89-8CC162D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4A1-ED58-4447-9803-A543DE6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20A-599A-40EE-96CD-617651C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D70-3559-4CED-A904-CB2460C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522D-49EF-4F93-96FC-F27D3D0C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tes on NWP and the History of Long Range Forecas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Gilman (ret) and Huug van den Dool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NOAA/NCEP/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666720" y="-619200"/>
            <a:ext cx="10477440" cy="8096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 assessment of C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Ficial Forecast(element, lead, location, initial month) =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* A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 * B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* C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nest hindcast required 1950-present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variance (A,B), (A,C), (B,C), (A, obs), (B, obs), (C, obs) allows solution for a, b, c (element, lead, location, initial month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66680" y="0"/>
            <a:ext cx="94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P techniques have entered the arena of seasonal forecasts, from 1995 onward, and are expa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 remains modest (predictabilit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chniques have not yet been ret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nalysis (as such NWP related) has boosted empirical work thru availability of global data sets (1948-present). (Reanalysis was a revolution for empirical wor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65320" y="0"/>
            <a:ext cx="65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05160" y="0"/>
            <a:ext cx="4333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86600" y="38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 written by Nam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ittle NWP-influence on operational seasonal forecasts (at NMC/NCEP) prior to 199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in 1995 the coupled ocean/atmosphere model routinely became a tool for the seasonal forecast. NWP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precursors of NWP (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NCP) are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Pioneering integrations by Miyakoda, Gilchrist, Shukla and others. 1970s, 1980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(linear, steady state) Global models describing Rossby wave dispersion from long-lived tropical sources of heat and vorticity. Explained Teleconnections?? 1980 onw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MIP runs from 1989 onward (Gates, PCMDI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 ocean data assimilation system (Leetmaa et al) for initial conditions of the coupled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: a proper land initial condition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wo-ti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 to ‘Coupled’ Modeling (still widesp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ed to deal with (very) large bi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‘anomaly’ be salvaged when the mean is that far off??  (history of bias corr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ummer 2004: NCEP is going ‘1-tier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ive approaches with a profound impa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ed Models at NC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, Leetmaa and Kumar (CMP12/14; 199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amitsu et al (SFM; 200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 et al (CFS; 200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P and SFM had only Pacific Tropical ocean and were 2-tiered. CFS is global, 1-tiered, and at T62L64 (atmosphere),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reeL40 (ocean) resolution. CFS has 2500 years worth of hindc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skill and ‘consolidation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kill of NC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kill of NCP vis-à-vis other methods (like C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ombine Methods A, B and 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oneering role of seasonal prediction in hindcasts and ‘a-priori’ skil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shorter range NWP follow with hindc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5:55:57Z</dcterms:created>
  <dc:creator>hvandendool</dc:creator>
  <dc:description/>
  <dc:language>en-US</dc:language>
  <cp:lastModifiedBy>NCEP_user</cp:lastModifiedBy>
  <dcterms:modified xsi:type="dcterms:W3CDTF">2004-06-14T15:33:58Z</dcterms:modified>
  <cp:revision>5</cp:revision>
  <dc:subject/>
  <dc:title>Notes on NWP and the History of Long Range Forecasting     Don Gilman (ret) and Huug van den Dool,                NOAA/NCEP/CPC</dc:title>
</cp:coreProperties>
</file>