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18D-D8E5-49AC-8171-3A24F1D5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EF1B-9F43-4C4E-A0E8-EC766B13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D4A4-D348-47F6-8785-CF8C6BD9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05DB-7071-4FC8-9E3A-7175E3AA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C644-1CE5-44AE-AA61-F5D3306E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7BB7-EA5C-42AD-BEC2-15F2DE6B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C917-72A3-4539-9CFC-21CA9A9C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F0D2-4A08-47C8-BC08-B5C65DD0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0EF1-61CA-4990-9E0F-463711F6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2649-E06A-452A-AC8A-E1A32188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46BA-7F17-420D-B279-8692FAE9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4B77-57AE-4130-92E7-40404B2E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4ff"/>
            </a:gs>
            <a:gs pos="100000">
              <a:srgbClr val="57b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24480" y="655272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. Sheridan  </a:t>
            </a:r>
            <a:fld id="{F611F5FA-A7A6-46FD-A612-FAA98A1FD188}" type="datetime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57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B492-CC09-4676-B9B4-259EB0081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37520" y="5943600"/>
            <a:ext cx="90648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4ff"/>
            </a:gs>
            <a:gs pos="100000">
              <a:srgbClr val="57b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OS Objectives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ze new and existing instruments for measuring the components of aerosol light extinction, with an emphasis on absor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the uncertainty in the (filter-based) measurements of aerosol light absorption coefficient used by NOAA and A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e methods for determining spectral aerosol absorption from multi-wavelength measurements of absorption and (extinction - scattering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 All experiments done at low RH, primarily external mixtures of black/white aerosols.  Less complicated than atmospheric aerosols, perhaps not representative of th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64412-CB65-4CB3-A3BD-E8CEFB25D4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4ff"/>
            </a:gs>
            <a:gs pos="100000">
              <a:srgbClr val="57b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greement of Absorption Standards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14400" y="944640"/>
          <a:ext cx="7377120" cy="46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44640"/>
                    <a:ext cx="73771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914400" y="57913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71500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:  Data points represent kerosene soot runs with varying amounts of ammonium sulfate.  Extinction data were adjusted to agree with scattering measurements on white aerosols (~5% adjustment to Eadj dat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C35D3-B92C-45B1-A5E8-C384A0173C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4ff"/>
            </a:gs>
            <a:gs pos="100000">
              <a:srgbClr val="57b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no2002 Light Absorption Comparison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25320" y="932040"/>
          <a:ext cx="8274240" cy="463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932040"/>
                    <a:ext cx="82742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457200" y="571500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s:  Data points represent all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w-exti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erosene soot runs with varying amounts of ammonium sulfate.  Bond et al. (1999) corrections applied to PSAP data.  PSAP wavelength adjusted to 532 nm assuming a l-1 depend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39496-E704-46CB-A9AE-D0B74FE7C1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4ff"/>
            </a:gs>
            <a:gs pos="100000">
              <a:srgbClr val="57b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 of Results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eement of standard methods for absorption is ±5% at b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AP agrees with standard methods within about ±5% for typical atmospheric absorption lev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ter transmission methods (PSAP, aethalometer) require improved corrections for multiple scattering eff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vity ringdown extinction cells appear to be biased low by 10-15% (relative to classic extinction and scat+ab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results are appropriate for low RH conditions (&lt;20%), externally mixed black/white aeros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74F99-3082-4DE9-AEA6-DBF45C617C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4ff"/>
            </a:gs>
            <a:gs pos="100000">
              <a:srgbClr val="57b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inuing analyses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results from kerosene soot with results from diesel soot and carbon vane pump exhau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run-averaged results to time-series data (1-minute averag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e wavelength-dependence of absorption, to allow application of extinction-minus-scattering calibrations to other waveleng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e correction schemes for filter-based methods (PSAP and aethalometer) at all measured waveleng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stigate reasons for the lower CRD exti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results from ambient aerosol s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4A98D-EADB-493B-B217-52100F1FA5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3T21:24:08Z</dcterms:created>
  <dc:creator>John A. Ogren</dc:creator>
  <dc:description/>
  <dc:language>en-US</dc:language>
  <cp:lastModifiedBy>sheridan</cp:lastModifiedBy>
  <cp:lastPrinted>2002-06-23T00:07:21Z</cp:lastPrinted>
  <dcterms:modified xsi:type="dcterms:W3CDTF">2002-12-12T17:05:29Z</dcterms:modified>
  <cp:revision>114</cp:revision>
  <dc:subject/>
  <dc:title>No Slide Title</dc:title>
</cp:coreProperties>
</file>