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33A-559B-4675-84CA-8DE2E6EE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90C-9ACD-48A7-9396-6AB93B1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49A-8960-4805-980D-C7B03158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9D4-A51D-411C-8B6D-069CE9AC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A5D-BA85-488B-ADC4-476EAE0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3A7-AE01-45AE-968E-199C885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6F8-C2E5-4070-8B78-BDB2895F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CD7-2F8A-4D95-A7A2-C9E85735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2AB-FC0D-4D02-AAD7-1DCB31A7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D2E-C5DB-4BD4-9F94-B7E151B3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0BE-4FF3-4FCB-9C04-3855F98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5E5-3A1F-45F1-B501-B05B57F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F505-0CBD-4112-B32A-3DD1B7C0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North Atlantic Oscillation: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the non-linear aspect and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its long-range predi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Wilbur Y.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Climate Prediction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CEP/NWS/NO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640" y="1650960"/>
            <a:ext cx="10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JF 9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040" y="137160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JF 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00920" y="3962520"/>
            <a:ext cx="12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JF 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10200" y="30481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 = 0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6104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" y="3886200"/>
            <a:ext cx="148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J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514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191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51960" y="3821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18120" y="0"/>
            <a:ext cx="62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JF 91              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DJF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-304920"/>
            <a:ext cx="72421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98516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295280"/>
            <a:ext cx="80773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Precursors?  W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Non-linear nature of precursors &amp; NA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Circulation Regime match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(a framework for long-range prediction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Varying predictability within N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(while invariant for N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Prediction skill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15720" y="969840"/>
            <a:ext cx="131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3352680"/>
            <a:ext cx="2568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O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57200" y="152280"/>
            <a:ext cx="582948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-380880"/>
            <a:ext cx="582948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9960" y="-73080"/>
            <a:ext cx="9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94520" y="174456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1501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040" y="1219320"/>
            <a:ext cx="212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04920" y="-112680"/>
            <a:ext cx="9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6324480" y="1676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733920" y="1828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5840" y="990720"/>
            <a:ext cx="19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year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cu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160" y="1828800"/>
            <a:ext cx="15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2400" y="57150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-&gt; D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5400" y="5715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A -&gt; D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8760" y="57150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 -&gt; D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57440" y="-343080"/>
            <a:ext cx="5829120" cy="75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-304920"/>
            <a:ext cx="5564160" cy="449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29120" cy="662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533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57440" y="-343080"/>
            <a:ext cx="5829120" cy="75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57440" y="-343080"/>
            <a:ext cx="5829120" cy="7544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360" y="2895480"/>
            <a:ext cx="115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609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8160" y="2286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520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4480" y="5410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3280" y="2743200"/>
            <a:ext cx="163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07:26:33Z</dcterms:created>
  <dc:creator>Chen</dc:creator>
  <dc:description/>
  <dc:language>en-US</dc:language>
  <cp:lastModifiedBy>CPC</cp:lastModifiedBy>
  <dcterms:modified xsi:type="dcterms:W3CDTF">2005-01-07T18:43:44Z</dcterms:modified>
  <cp:revision>5</cp:revision>
  <dc:subject/>
  <dc:title>North Atlantic Oscillation: the non-linear aspect and its long-range prediction </dc:title>
</cp:coreProperties>
</file>