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416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416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2440" y="1459080"/>
            <a:ext cx="8383680" cy="586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6840" y="6364440"/>
            <a:ext cx="838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51040" y="640080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6D03-19A5-4ED0-B322-481C653DDEE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9880" y="6397560"/>
            <a:ext cx="823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Y CPHF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GE Instructor’s Guid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 Appendix A, Ch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at’s a ROPS?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436840"/>
            <a:ext cx="36226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PS - Roll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ctiv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an overtu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ROPS and seat b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ld the operato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“frame of safe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647240" y="2057400"/>
            <a:ext cx="1210320" cy="393840"/>
            <a:chOff x="4647240" y="2057400"/>
            <a:chExt cx="1210320" cy="393840"/>
          </a:xfrm>
        </p:grpSpPr>
        <p:sp>
          <p:nvSpPr>
            <p:cNvPr id="45" name=""/>
            <p:cNvSpPr/>
            <p:nvPr/>
          </p:nvSpPr>
          <p:spPr>
            <a:xfrm flipH="1">
              <a:off x="5449680" y="2241720"/>
              <a:ext cx="40788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47240" y="2057400"/>
              <a:ext cx="861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692520" y="1008000"/>
            <a:ext cx="506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people ar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699080" y="1828800"/>
            <a:ext cx="154080" cy="154080"/>
            <a:chOff x="4699080" y="1828800"/>
            <a:chExt cx="154080" cy="154080"/>
          </a:xfrm>
        </p:grpSpPr>
        <p:sp>
          <p:nvSpPr>
            <p:cNvPr id="349" name=""/>
            <p:cNvSpPr/>
            <p:nvPr/>
          </p:nvSpPr>
          <p:spPr>
            <a:xfrm>
              <a:off x="4699080" y="182880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40"/>
                  </a:moveTo>
                  <a:lnTo>
                    <a:pt x="96" y="40"/>
                  </a:lnTo>
                  <a:lnTo>
                    <a:pt x="96" y="32"/>
                  </a:lnTo>
                  <a:lnTo>
                    <a:pt x="88" y="24"/>
                  </a:lnTo>
                  <a:lnTo>
                    <a:pt x="88" y="16"/>
                  </a:lnTo>
                  <a:lnTo>
                    <a:pt x="80" y="16"/>
                  </a:lnTo>
                  <a:lnTo>
                    <a:pt x="80" y="8"/>
                  </a:lnTo>
                  <a:lnTo>
                    <a:pt x="72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8" y="72"/>
                  </a:lnTo>
                  <a:lnTo>
                    <a:pt x="8" y="80"/>
                  </a:lnTo>
                  <a:lnTo>
                    <a:pt x="16" y="80"/>
                  </a:lnTo>
                  <a:lnTo>
                    <a:pt x="16" y="88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32" y="96"/>
                  </a:lnTo>
                  <a:lnTo>
                    <a:pt x="40" y="96"/>
                  </a:lnTo>
                  <a:lnTo>
                    <a:pt x="48" y="96"/>
                  </a:lnTo>
                  <a:lnTo>
                    <a:pt x="56" y="96"/>
                  </a:lnTo>
                  <a:lnTo>
                    <a:pt x="64" y="96"/>
                  </a:lnTo>
                  <a:lnTo>
                    <a:pt x="64" y="88"/>
                  </a:lnTo>
                  <a:lnTo>
                    <a:pt x="72" y="88"/>
                  </a:lnTo>
                  <a:lnTo>
                    <a:pt x="80" y="88"/>
                  </a:lnTo>
                  <a:lnTo>
                    <a:pt x="80" y="80"/>
                  </a:lnTo>
                  <a:lnTo>
                    <a:pt x="88" y="80"/>
                  </a:lnTo>
                  <a:lnTo>
                    <a:pt x="88" y="72"/>
                  </a:lnTo>
                  <a:lnTo>
                    <a:pt x="96" y="64"/>
                  </a:lnTo>
                  <a:lnTo>
                    <a:pt x="96" y="56"/>
                  </a:lnTo>
                  <a:lnTo>
                    <a:pt x="96" y="48"/>
                  </a:lnTo>
                  <a:lnTo>
                    <a:pt x="96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9840" y="19303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0"/>
                  </a:moveTo>
                  <a:lnTo>
                    <a:pt x="24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00600" y="1879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49840" y="1892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75040" y="19051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635360" y="1968480"/>
            <a:ext cx="370080" cy="623880"/>
          </a:xfrm>
          <a:custGeom>
            <a:avLst/>
            <a:gdLst/>
            <a:ahLst/>
            <a:rect l="l" t="t" r="r" b="b"/>
            <a:pathLst>
              <a:path w="233" h="393">
                <a:moveTo>
                  <a:pt x="168" y="0"/>
                </a:moveTo>
                <a:lnTo>
                  <a:pt x="24" y="16"/>
                </a:lnTo>
                <a:lnTo>
                  <a:pt x="0" y="176"/>
                </a:lnTo>
                <a:lnTo>
                  <a:pt x="24" y="168"/>
                </a:lnTo>
                <a:lnTo>
                  <a:pt x="56" y="56"/>
                </a:lnTo>
                <a:lnTo>
                  <a:pt x="64" y="184"/>
                </a:lnTo>
                <a:lnTo>
                  <a:pt x="64" y="392"/>
                </a:lnTo>
                <a:lnTo>
                  <a:pt x="104" y="384"/>
                </a:lnTo>
                <a:lnTo>
                  <a:pt x="112" y="192"/>
                </a:lnTo>
                <a:lnTo>
                  <a:pt x="184" y="376"/>
                </a:lnTo>
                <a:lnTo>
                  <a:pt x="232" y="360"/>
                </a:lnTo>
                <a:lnTo>
                  <a:pt x="160" y="160"/>
                </a:lnTo>
                <a:lnTo>
                  <a:pt x="152" y="40"/>
                </a:lnTo>
                <a:lnTo>
                  <a:pt x="192" y="152"/>
                </a:lnTo>
                <a:lnTo>
                  <a:pt x="224" y="144"/>
                </a:lnTo>
                <a:lnTo>
                  <a:pt x="16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50480" y="263520"/>
            <a:ext cx="320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tough quiz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8280" y="5884920"/>
            <a:ext cx="458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ed to these far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997360" cy="1663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grpSp>
        <p:nvGrpSpPr>
          <p:cNvPr id="358" name=""/>
          <p:cNvGrpSpPr/>
          <p:nvPr/>
        </p:nvGrpSpPr>
        <p:grpSpPr>
          <a:xfrm>
            <a:off x="4954680" y="1781280"/>
            <a:ext cx="369720" cy="776160"/>
            <a:chOff x="4954680" y="1781280"/>
            <a:chExt cx="369720" cy="776160"/>
          </a:xfrm>
        </p:grpSpPr>
        <p:grpSp>
          <p:nvGrpSpPr>
            <p:cNvPr id="359" name=""/>
            <p:cNvGrpSpPr/>
            <p:nvPr/>
          </p:nvGrpSpPr>
          <p:grpSpPr>
            <a:xfrm>
              <a:off x="5018040" y="1781280"/>
              <a:ext cx="154080" cy="153720"/>
              <a:chOff x="5018040" y="1781280"/>
              <a:chExt cx="154080" cy="153720"/>
            </a:xfrm>
          </p:grpSpPr>
          <p:sp>
            <p:nvSpPr>
              <p:cNvPr id="360" name=""/>
              <p:cNvSpPr/>
              <p:nvPr/>
            </p:nvSpPr>
            <p:spPr>
              <a:xfrm>
                <a:off x="5018040" y="1781280"/>
                <a:ext cx="154080" cy="15372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40"/>
                    </a:moveTo>
                    <a:lnTo>
                      <a:pt x="96" y="40"/>
                    </a:lnTo>
                    <a:lnTo>
                      <a:pt x="96" y="32"/>
                    </a:lnTo>
                    <a:lnTo>
                      <a:pt x="88" y="24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80"/>
                    </a:lnTo>
                    <a:lnTo>
                      <a:pt x="16" y="88"/>
                    </a:lnTo>
                    <a:lnTo>
                      <a:pt x="24" y="88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8" y="96"/>
                    </a:lnTo>
                    <a:lnTo>
                      <a:pt x="56" y="96"/>
                    </a:lnTo>
                    <a:lnTo>
                      <a:pt x="64" y="96"/>
                    </a:lnTo>
                    <a:lnTo>
                      <a:pt x="64" y="88"/>
                    </a:lnTo>
                    <a:lnTo>
                      <a:pt x="72" y="88"/>
                    </a:lnTo>
                    <a:lnTo>
                      <a:pt x="80" y="88"/>
                    </a:lnTo>
                    <a:lnTo>
                      <a:pt x="80" y="80"/>
                    </a:lnTo>
                    <a:lnTo>
                      <a:pt x="88" y="80"/>
                    </a:lnTo>
                    <a:lnTo>
                      <a:pt x="88" y="72"/>
                    </a:lnTo>
                    <a:lnTo>
                      <a:pt x="96" y="64"/>
                    </a:lnTo>
                    <a:lnTo>
                      <a:pt x="96" y="56"/>
                    </a:lnTo>
                    <a:lnTo>
                      <a:pt x="96" y="48"/>
                    </a:lnTo>
                    <a:lnTo>
                      <a:pt x="96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81760" y="188280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19560" y="1844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68800" y="1857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94360" y="18572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4954680" y="1920960"/>
              <a:ext cx="369720" cy="63648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168" y="0"/>
                  </a:moveTo>
                  <a:lnTo>
                    <a:pt x="24" y="24"/>
                  </a:lnTo>
                  <a:lnTo>
                    <a:pt x="0" y="184"/>
                  </a:lnTo>
                  <a:lnTo>
                    <a:pt x="32" y="176"/>
                  </a:lnTo>
                  <a:lnTo>
                    <a:pt x="56" y="64"/>
                  </a:lnTo>
                  <a:lnTo>
                    <a:pt x="72" y="184"/>
                  </a:lnTo>
                  <a:lnTo>
                    <a:pt x="64" y="400"/>
                  </a:lnTo>
                  <a:lnTo>
                    <a:pt x="104" y="384"/>
                  </a:lnTo>
                  <a:lnTo>
                    <a:pt x="120" y="192"/>
                  </a:lnTo>
                  <a:lnTo>
                    <a:pt x="184" y="376"/>
                  </a:lnTo>
                  <a:lnTo>
                    <a:pt x="232" y="368"/>
                  </a:lnTo>
                  <a:lnTo>
                    <a:pt x="160" y="168"/>
                  </a:lnTo>
                  <a:lnTo>
                    <a:pt x="152" y="48"/>
                  </a:lnTo>
                  <a:lnTo>
                    <a:pt x="200" y="160"/>
                  </a:lnTo>
                  <a:lnTo>
                    <a:pt x="224" y="144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006960" y="5207040"/>
            <a:ext cx="459000" cy="941400"/>
            <a:chOff x="6006960" y="5207040"/>
            <a:chExt cx="459000" cy="941400"/>
          </a:xfrm>
        </p:grpSpPr>
        <p:grpSp>
          <p:nvGrpSpPr>
            <p:cNvPr id="367" name=""/>
            <p:cNvGrpSpPr/>
            <p:nvPr/>
          </p:nvGrpSpPr>
          <p:grpSpPr>
            <a:xfrm>
              <a:off x="6197760" y="5207040"/>
              <a:ext cx="179280" cy="179280"/>
              <a:chOff x="6197760" y="5207040"/>
              <a:chExt cx="179280" cy="179280"/>
            </a:xfrm>
          </p:grpSpPr>
          <p:sp>
            <p:nvSpPr>
              <p:cNvPr id="368" name=""/>
              <p:cNvSpPr/>
              <p:nvPr/>
            </p:nvSpPr>
            <p:spPr>
              <a:xfrm>
                <a:off x="6197760" y="52070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35560" y="53341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1120" y="5283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1880" y="5295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61120" y="5295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6006960" y="5372280"/>
              <a:ext cx="45900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72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92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257800" y="5207040"/>
            <a:ext cx="458640" cy="928800"/>
            <a:chOff x="5257800" y="5207040"/>
            <a:chExt cx="458640" cy="928800"/>
          </a:xfrm>
        </p:grpSpPr>
        <p:grpSp>
          <p:nvGrpSpPr>
            <p:cNvPr id="375" name=""/>
            <p:cNvGrpSpPr/>
            <p:nvPr/>
          </p:nvGrpSpPr>
          <p:grpSpPr>
            <a:xfrm>
              <a:off x="5346720" y="5207040"/>
              <a:ext cx="179280" cy="179280"/>
              <a:chOff x="5346720" y="5207040"/>
              <a:chExt cx="179280" cy="17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5346720" y="52070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10080" y="53211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60840" y="5270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10080" y="5283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35640" y="5295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257800" y="5359320"/>
              <a:ext cx="458640" cy="77652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32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69080" y="2660760"/>
            <a:ext cx="446040" cy="909360"/>
            <a:chOff x="6769080" y="2660760"/>
            <a:chExt cx="446040" cy="909360"/>
          </a:xfrm>
        </p:grpSpPr>
        <p:grpSp>
          <p:nvGrpSpPr>
            <p:cNvPr id="383" name=""/>
            <p:cNvGrpSpPr/>
            <p:nvPr/>
          </p:nvGrpSpPr>
          <p:grpSpPr>
            <a:xfrm>
              <a:off x="6927840" y="2660760"/>
              <a:ext cx="165240" cy="164880"/>
              <a:chOff x="6927840" y="2660760"/>
              <a:chExt cx="165240" cy="164880"/>
            </a:xfrm>
          </p:grpSpPr>
          <p:sp>
            <p:nvSpPr>
              <p:cNvPr id="384" name=""/>
              <p:cNvSpPr/>
              <p:nvPr/>
            </p:nvSpPr>
            <p:spPr>
              <a:xfrm>
                <a:off x="6927840" y="2660760"/>
                <a:ext cx="1652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72480" y="27813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9360" y="27241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78600" y="27241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97680" y="27432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6769080" y="283212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0" y="8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32" y="184"/>
                  </a:lnTo>
                  <a:lnTo>
                    <a:pt x="88" y="56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0" y="456"/>
                  </a:lnTo>
                  <a:lnTo>
                    <a:pt x="136" y="232"/>
                  </a:lnTo>
                  <a:lnTo>
                    <a:pt x="184" y="464"/>
                  </a:lnTo>
                  <a:lnTo>
                    <a:pt x="240" y="464"/>
                  </a:lnTo>
                  <a:lnTo>
                    <a:pt x="192" y="200"/>
                  </a:lnTo>
                  <a:lnTo>
                    <a:pt x="208" y="56"/>
                  </a:lnTo>
                  <a:lnTo>
                    <a:pt x="240" y="200"/>
                  </a:lnTo>
                  <a:lnTo>
                    <a:pt x="280" y="192"/>
                  </a:lnTo>
                  <a:lnTo>
                    <a:pt x="2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051440" y="1695600"/>
            <a:ext cx="446040" cy="896760"/>
            <a:chOff x="4051440" y="1695600"/>
            <a:chExt cx="446040" cy="896760"/>
          </a:xfrm>
        </p:grpSpPr>
        <p:grpSp>
          <p:nvGrpSpPr>
            <p:cNvPr id="391" name=""/>
            <p:cNvGrpSpPr/>
            <p:nvPr/>
          </p:nvGrpSpPr>
          <p:grpSpPr>
            <a:xfrm>
              <a:off x="4222800" y="1695600"/>
              <a:ext cx="152280" cy="152280"/>
              <a:chOff x="4222800" y="1695600"/>
              <a:chExt cx="152280" cy="152280"/>
            </a:xfrm>
          </p:grpSpPr>
          <p:sp>
            <p:nvSpPr>
              <p:cNvPr id="392" name=""/>
              <p:cNvSpPr/>
              <p:nvPr/>
            </p:nvSpPr>
            <p:spPr>
              <a:xfrm>
                <a:off x="4222800" y="1695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67080" y="18162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24320" y="1746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60960" y="1758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92640" y="17654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051440" y="18669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40" y="184"/>
                  </a:lnTo>
                  <a:lnTo>
                    <a:pt x="96" y="48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8" y="456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200"/>
                  </a:lnTo>
                  <a:lnTo>
                    <a:pt x="216" y="56"/>
                  </a:lnTo>
                  <a:lnTo>
                    <a:pt x="248" y="192"/>
                  </a:lnTo>
                  <a:lnTo>
                    <a:pt x="280" y="192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55600" y="4667400"/>
            <a:ext cx="446040" cy="896760"/>
            <a:chOff x="1155600" y="4667400"/>
            <a:chExt cx="446040" cy="896760"/>
          </a:xfrm>
        </p:grpSpPr>
        <p:grpSp>
          <p:nvGrpSpPr>
            <p:cNvPr id="399" name=""/>
            <p:cNvGrpSpPr/>
            <p:nvPr/>
          </p:nvGrpSpPr>
          <p:grpSpPr>
            <a:xfrm>
              <a:off x="1276200" y="4667400"/>
              <a:ext cx="165240" cy="152280"/>
              <a:chOff x="1276200" y="4667400"/>
              <a:chExt cx="165240" cy="152280"/>
            </a:xfrm>
          </p:grpSpPr>
          <p:sp>
            <p:nvSpPr>
              <p:cNvPr id="400" name=""/>
              <p:cNvSpPr/>
              <p:nvPr/>
            </p:nvSpPr>
            <p:spPr>
              <a:xfrm>
                <a:off x="1276200" y="4667400"/>
                <a:ext cx="165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20840" y="47880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27320" y="4718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7808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46040" y="4737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155600" y="48387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92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200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822840" y="2152800"/>
            <a:ext cx="446040" cy="896760"/>
            <a:chOff x="3822840" y="2152800"/>
            <a:chExt cx="446040" cy="896760"/>
          </a:xfrm>
        </p:grpSpPr>
        <p:grpSp>
          <p:nvGrpSpPr>
            <p:cNvPr id="407" name=""/>
            <p:cNvGrpSpPr/>
            <p:nvPr/>
          </p:nvGrpSpPr>
          <p:grpSpPr>
            <a:xfrm>
              <a:off x="3994200" y="2152800"/>
              <a:ext cx="152280" cy="152280"/>
              <a:chOff x="3994200" y="2152800"/>
              <a:chExt cx="152280" cy="152280"/>
            </a:xfrm>
          </p:grpSpPr>
          <p:sp>
            <p:nvSpPr>
              <p:cNvPr id="408" name=""/>
              <p:cNvSpPr/>
              <p:nvPr/>
            </p:nvSpPr>
            <p:spPr>
              <a:xfrm>
                <a:off x="3994200" y="21528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38480" y="22734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720" y="2203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2360" y="2216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64040" y="2222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822840" y="23241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40" y="184"/>
                  </a:lnTo>
                  <a:lnTo>
                    <a:pt x="96" y="48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8" y="456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200"/>
                  </a:lnTo>
                  <a:lnTo>
                    <a:pt x="216" y="56"/>
                  </a:lnTo>
                  <a:lnTo>
                    <a:pt x="248" y="192"/>
                  </a:lnTo>
                  <a:lnTo>
                    <a:pt x="280" y="192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68880" y="1962000"/>
            <a:ext cx="446040" cy="897120"/>
            <a:chOff x="5168880" y="1962000"/>
            <a:chExt cx="446040" cy="897120"/>
          </a:xfrm>
        </p:grpSpPr>
        <p:grpSp>
          <p:nvGrpSpPr>
            <p:cNvPr id="415" name=""/>
            <p:cNvGrpSpPr/>
            <p:nvPr/>
          </p:nvGrpSpPr>
          <p:grpSpPr>
            <a:xfrm>
              <a:off x="5289480" y="1962000"/>
              <a:ext cx="152640" cy="152640"/>
              <a:chOff x="5289480" y="1962000"/>
              <a:chExt cx="152640" cy="152640"/>
            </a:xfrm>
          </p:grpSpPr>
          <p:sp>
            <p:nvSpPr>
              <p:cNvPr id="416" name=""/>
              <p:cNvSpPr/>
              <p:nvPr/>
            </p:nvSpPr>
            <p:spPr>
              <a:xfrm>
                <a:off x="5289480" y="196200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321160" y="20829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27640" y="20131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91000" y="20257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46720" y="2044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168880" y="213372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664240" y="2800440"/>
            <a:ext cx="395280" cy="782640"/>
            <a:chOff x="5664240" y="2800440"/>
            <a:chExt cx="395280" cy="782640"/>
          </a:xfrm>
        </p:grpSpPr>
        <p:grpSp>
          <p:nvGrpSpPr>
            <p:cNvPr id="423" name=""/>
            <p:cNvGrpSpPr/>
            <p:nvPr/>
          </p:nvGrpSpPr>
          <p:grpSpPr>
            <a:xfrm>
              <a:off x="5810400" y="2800440"/>
              <a:ext cx="139680" cy="139680"/>
              <a:chOff x="5810400" y="2800440"/>
              <a:chExt cx="139680" cy="139680"/>
            </a:xfrm>
          </p:grpSpPr>
          <p:sp>
            <p:nvSpPr>
              <p:cNvPr id="424" name=""/>
              <p:cNvSpPr/>
              <p:nvPr/>
            </p:nvSpPr>
            <p:spPr>
              <a:xfrm>
                <a:off x="5810400" y="280044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42080" y="29084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99320" y="28512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48200" y="28512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7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5664240" y="2946240"/>
              <a:ext cx="395280" cy="63684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208" y="8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0" y="48"/>
                  </a:lnTo>
                  <a:lnTo>
                    <a:pt x="72" y="184"/>
                  </a:lnTo>
                  <a:lnTo>
                    <a:pt x="32" y="400"/>
                  </a:lnTo>
                  <a:lnTo>
                    <a:pt x="72" y="400"/>
                  </a:lnTo>
                  <a:lnTo>
                    <a:pt x="120" y="200"/>
                  </a:lnTo>
                  <a:lnTo>
                    <a:pt x="160" y="400"/>
                  </a:lnTo>
                  <a:lnTo>
                    <a:pt x="208" y="400"/>
                  </a:lnTo>
                  <a:lnTo>
                    <a:pt x="168" y="176"/>
                  </a:lnTo>
                  <a:lnTo>
                    <a:pt x="184" y="48"/>
                  </a:lnTo>
                  <a:lnTo>
                    <a:pt x="208" y="176"/>
                  </a:lnTo>
                  <a:lnTo>
                    <a:pt x="248" y="168"/>
                  </a:lnTo>
                  <a:lnTo>
                    <a:pt x="20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130720" y="3111480"/>
            <a:ext cx="459000" cy="928800"/>
            <a:chOff x="5130720" y="3111480"/>
            <a:chExt cx="459000" cy="928800"/>
          </a:xfrm>
        </p:grpSpPr>
        <p:grpSp>
          <p:nvGrpSpPr>
            <p:cNvPr id="431" name=""/>
            <p:cNvGrpSpPr/>
            <p:nvPr/>
          </p:nvGrpSpPr>
          <p:grpSpPr>
            <a:xfrm>
              <a:off x="5219640" y="3111480"/>
              <a:ext cx="179280" cy="179280"/>
              <a:chOff x="5219640" y="3111480"/>
              <a:chExt cx="179280" cy="179280"/>
            </a:xfrm>
          </p:grpSpPr>
          <p:sp>
            <p:nvSpPr>
              <p:cNvPr id="432" name=""/>
              <p:cNvSpPr/>
              <p:nvPr/>
            </p:nvSpPr>
            <p:spPr>
              <a:xfrm>
                <a:off x="5219640" y="311148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283360" y="32259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34120" y="3174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83360" y="318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08560" y="32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130720" y="3263760"/>
              <a:ext cx="459000" cy="77652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80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8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956200" y="1828800"/>
            <a:ext cx="446040" cy="915840"/>
            <a:chOff x="5956200" y="1828800"/>
            <a:chExt cx="446040" cy="915840"/>
          </a:xfrm>
        </p:grpSpPr>
        <p:grpSp>
          <p:nvGrpSpPr>
            <p:cNvPr id="439" name=""/>
            <p:cNvGrpSpPr/>
            <p:nvPr/>
          </p:nvGrpSpPr>
          <p:grpSpPr>
            <a:xfrm>
              <a:off x="6032520" y="1828800"/>
              <a:ext cx="179280" cy="179280"/>
              <a:chOff x="6032520" y="1828800"/>
              <a:chExt cx="179280" cy="179280"/>
            </a:xfrm>
          </p:grpSpPr>
          <p:sp>
            <p:nvSpPr>
              <p:cNvPr id="440" name=""/>
              <p:cNvSpPr/>
              <p:nvPr/>
            </p:nvSpPr>
            <p:spPr>
              <a:xfrm>
                <a:off x="6032520" y="18288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8"/>
                    </a:lnTo>
                    <a:lnTo>
                      <a:pt x="112" y="40"/>
                    </a:lnTo>
                    <a:lnTo>
                      <a:pt x="112" y="32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32" y="112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96" y="88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83280" y="19684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83280" y="1905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46640" y="1905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08840" y="19177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956200" y="200664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" y="16"/>
                  </a:moveTo>
                  <a:lnTo>
                    <a:pt x="192" y="0"/>
                  </a:lnTo>
                  <a:lnTo>
                    <a:pt x="280" y="168"/>
                  </a:lnTo>
                  <a:lnTo>
                    <a:pt x="240" y="176"/>
                  </a:lnTo>
                  <a:lnTo>
                    <a:pt x="176" y="48"/>
                  </a:lnTo>
                  <a:lnTo>
                    <a:pt x="200" y="200"/>
                  </a:lnTo>
                  <a:lnTo>
                    <a:pt x="264" y="448"/>
                  </a:lnTo>
                  <a:lnTo>
                    <a:pt x="216" y="448"/>
                  </a:lnTo>
                  <a:lnTo>
                    <a:pt x="144" y="224"/>
                  </a:lnTo>
                  <a:lnTo>
                    <a:pt x="120" y="464"/>
                  </a:lnTo>
                  <a:lnTo>
                    <a:pt x="56" y="464"/>
                  </a:lnTo>
                  <a:lnTo>
                    <a:pt x="80" y="208"/>
                  </a:lnTo>
                  <a:lnTo>
                    <a:pt x="56" y="64"/>
                  </a:lnTo>
                  <a:lnTo>
                    <a:pt x="32" y="208"/>
                  </a:lnTo>
                  <a:lnTo>
                    <a:pt x="0" y="208"/>
                  </a:lnTo>
                  <a:lnTo>
                    <a:pt x="24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162920" y="2044800"/>
            <a:ext cx="458640" cy="928440"/>
            <a:chOff x="7162920" y="2044800"/>
            <a:chExt cx="458640" cy="928440"/>
          </a:xfrm>
        </p:grpSpPr>
        <p:grpSp>
          <p:nvGrpSpPr>
            <p:cNvPr id="447" name=""/>
            <p:cNvGrpSpPr/>
            <p:nvPr/>
          </p:nvGrpSpPr>
          <p:grpSpPr>
            <a:xfrm>
              <a:off x="7353360" y="2044800"/>
              <a:ext cx="179280" cy="179280"/>
              <a:chOff x="7353360" y="2044800"/>
              <a:chExt cx="179280" cy="17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7353360" y="20448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391520" y="21589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16720" y="2108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67480" y="2120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416720" y="213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7162920" y="219708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48" y="216"/>
                  </a:lnTo>
                  <a:lnTo>
                    <a:pt x="216" y="80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56"/>
                  </a:lnTo>
                  <a:lnTo>
                    <a:pt x="88" y="208"/>
                  </a:lnTo>
                  <a:lnTo>
                    <a:pt x="96" y="56"/>
                  </a:lnTo>
                  <a:lnTo>
                    <a:pt x="40" y="192"/>
                  </a:lnTo>
                  <a:lnTo>
                    <a:pt x="8" y="184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35360" y="2679840"/>
            <a:ext cx="459000" cy="928440"/>
            <a:chOff x="4635360" y="2679840"/>
            <a:chExt cx="459000" cy="928440"/>
          </a:xfrm>
        </p:grpSpPr>
        <p:grpSp>
          <p:nvGrpSpPr>
            <p:cNvPr id="455" name=""/>
            <p:cNvGrpSpPr/>
            <p:nvPr/>
          </p:nvGrpSpPr>
          <p:grpSpPr>
            <a:xfrm>
              <a:off x="4826160" y="2679840"/>
              <a:ext cx="179280" cy="179280"/>
              <a:chOff x="4826160" y="2679840"/>
              <a:chExt cx="179280" cy="179280"/>
            </a:xfrm>
          </p:grpSpPr>
          <p:sp>
            <p:nvSpPr>
              <p:cNvPr id="456" name=""/>
              <p:cNvSpPr/>
              <p:nvPr/>
            </p:nvSpPr>
            <p:spPr>
              <a:xfrm>
                <a:off x="4826160" y="26798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63960" y="27939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89520" y="274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40280" y="2755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89520" y="27687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4635360" y="2832120"/>
              <a:ext cx="45900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80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60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56"/>
                  </a:lnTo>
                  <a:lnTo>
                    <a:pt x="96" y="208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8" y="184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261120" y="2749680"/>
            <a:ext cx="496800" cy="998280"/>
            <a:chOff x="6261120" y="2749680"/>
            <a:chExt cx="496800" cy="998280"/>
          </a:xfrm>
        </p:grpSpPr>
        <p:grpSp>
          <p:nvGrpSpPr>
            <p:cNvPr id="463" name=""/>
            <p:cNvGrpSpPr/>
            <p:nvPr/>
          </p:nvGrpSpPr>
          <p:grpSpPr>
            <a:xfrm>
              <a:off x="6394320" y="2749680"/>
              <a:ext cx="177840" cy="177840"/>
              <a:chOff x="6394320" y="2749680"/>
              <a:chExt cx="177840" cy="177840"/>
            </a:xfrm>
          </p:grpSpPr>
          <p:sp>
            <p:nvSpPr>
              <p:cNvPr id="464" name=""/>
              <p:cNvSpPr/>
              <p:nvPr/>
            </p:nvSpPr>
            <p:spPr>
              <a:xfrm>
                <a:off x="6394320" y="2749680"/>
                <a:ext cx="177840" cy="177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38960" y="2882880"/>
                <a:ext cx="90360" cy="144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0" y="0"/>
                    </a:moveTo>
                    <a:lnTo>
                      <a:pt x="24" y="8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45080" y="28130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08800" y="28130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64160" y="28321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261120" y="2933640"/>
              <a:ext cx="496800" cy="814320"/>
            </a:xfrm>
            <a:custGeom>
              <a:avLst/>
              <a:gdLst/>
              <a:ahLst/>
              <a:rect l="l" t="t" r="r" b="b"/>
              <a:pathLst>
                <a:path w="313" h="513">
                  <a:moveTo>
                    <a:pt x="48" y="8"/>
                  </a:moveTo>
                  <a:lnTo>
                    <a:pt x="240" y="0"/>
                  </a:lnTo>
                  <a:lnTo>
                    <a:pt x="312" y="208"/>
                  </a:lnTo>
                  <a:lnTo>
                    <a:pt x="272" y="208"/>
                  </a:lnTo>
                  <a:lnTo>
                    <a:pt x="208" y="56"/>
                  </a:lnTo>
                  <a:lnTo>
                    <a:pt x="224" y="232"/>
                  </a:lnTo>
                  <a:lnTo>
                    <a:pt x="280" y="512"/>
                  </a:lnTo>
                  <a:lnTo>
                    <a:pt x="216" y="504"/>
                  </a:lnTo>
                  <a:lnTo>
                    <a:pt x="160" y="256"/>
                  </a:lnTo>
                  <a:lnTo>
                    <a:pt x="112" y="512"/>
                  </a:lnTo>
                  <a:lnTo>
                    <a:pt x="40" y="512"/>
                  </a:lnTo>
                  <a:lnTo>
                    <a:pt x="96" y="224"/>
                  </a:lnTo>
                  <a:lnTo>
                    <a:pt x="80" y="64"/>
                  </a:lnTo>
                  <a:lnTo>
                    <a:pt x="40" y="224"/>
                  </a:lnTo>
                  <a:lnTo>
                    <a:pt x="0" y="216"/>
                  </a:lnTo>
                  <a:lnTo>
                    <a:pt x="4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149960" y="3041640"/>
            <a:ext cx="446400" cy="909720"/>
            <a:chOff x="7149960" y="3041640"/>
            <a:chExt cx="446400" cy="909720"/>
          </a:xfrm>
        </p:grpSpPr>
        <p:grpSp>
          <p:nvGrpSpPr>
            <p:cNvPr id="471" name=""/>
            <p:cNvGrpSpPr/>
            <p:nvPr/>
          </p:nvGrpSpPr>
          <p:grpSpPr>
            <a:xfrm>
              <a:off x="7308720" y="3041640"/>
              <a:ext cx="165240" cy="165240"/>
              <a:chOff x="7308720" y="3041640"/>
              <a:chExt cx="165240" cy="165240"/>
            </a:xfrm>
          </p:grpSpPr>
          <p:sp>
            <p:nvSpPr>
              <p:cNvPr id="472" name=""/>
              <p:cNvSpPr/>
              <p:nvPr/>
            </p:nvSpPr>
            <p:spPr>
              <a:xfrm>
                <a:off x="7308720" y="3041640"/>
                <a:ext cx="1652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53360" y="31622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10600" y="310500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59480" y="310500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78560" y="312408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7149960" y="3213000"/>
              <a:ext cx="446400" cy="73836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0" y="8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32" y="184"/>
                  </a:lnTo>
                  <a:lnTo>
                    <a:pt x="88" y="56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0" y="456"/>
                  </a:lnTo>
                  <a:lnTo>
                    <a:pt x="136" y="232"/>
                  </a:lnTo>
                  <a:lnTo>
                    <a:pt x="184" y="464"/>
                  </a:lnTo>
                  <a:lnTo>
                    <a:pt x="240" y="464"/>
                  </a:lnTo>
                  <a:lnTo>
                    <a:pt x="192" y="200"/>
                  </a:lnTo>
                  <a:lnTo>
                    <a:pt x="208" y="56"/>
                  </a:lnTo>
                  <a:lnTo>
                    <a:pt x="240" y="200"/>
                  </a:lnTo>
                  <a:lnTo>
                    <a:pt x="280" y="192"/>
                  </a:lnTo>
                  <a:lnTo>
                    <a:pt x="2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7696080" y="2743200"/>
            <a:ext cx="370080" cy="776160"/>
            <a:chOff x="7696080" y="2743200"/>
            <a:chExt cx="370080" cy="776160"/>
          </a:xfrm>
        </p:grpSpPr>
        <p:grpSp>
          <p:nvGrpSpPr>
            <p:cNvPr id="479" name=""/>
            <p:cNvGrpSpPr/>
            <p:nvPr/>
          </p:nvGrpSpPr>
          <p:grpSpPr>
            <a:xfrm>
              <a:off x="7759800" y="2743200"/>
              <a:ext cx="153720" cy="154080"/>
              <a:chOff x="7759800" y="2743200"/>
              <a:chExt cx="153720" cy="154080"/>
            </a:xfrm>
          </p:grpSpPr>
          <p:sp>
            <p:nvSpPr>
              <p:cNvPr id="480" name=""/>
              <p:cNvSpPr/>
              <p:nvPr/>
            </p:nvSpPr>
            <p:spPr>
              <a:xfrm>
                <a:off x="7759800" y="274320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40"/>
                    </a:moveTo>
                    <a:lnTo>
                      <a:pt x="96" y="40"/>
                    </a:lnTo>
                    <a:lnTo>
                      <a:pt x="96" y="32"/>
                    </a:lnTo>
                    <a:lnTo>
                      <a:pt x="88" y="24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80"/>
                    </a:lnTo>
                    <a:lnTo>
                      <a:pt x="16" y="88"/>
                    </a:lnTo>
                    <a:lnTo>
                      <a:pt x="24" y="88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8" y="96"/>
                    </a:lnTo>
                    <a:lnTo>
                      <a:pt x="56" y="96"/>
                    </a:lnTo>
                    <a:lnTo>
                      <a:pt x="64" y="96"/>
                    </a:lnTo>
                    <a:lnTo>
                      <a:pt x="64" y="88"/>
                    </a:lnTo>
                    <a:lnTo>
                      <a:pt x="72" y="88"/>
                    </a:lnTo>
                    <a:lnTo>
                      <a:pt x="80" y="88"/>
                    </a:lnTo>
                    <a:lnTo>
                      <a:pt x="80" y="80"/>
                    </a:lnTo>
                    <a:lnTo>
                      <a:pt x="88" y="80"/>
                    </a:lnTo>
                    <a:lnTo>
                      <a:pt x="88" y="72"/>
                    </a:lnTo>
                    <a:lnTo>
                      <a:pt x="96" y="64"/>
                    </a:lnTo>
                    <a:lnTo>
                      <a:pt x="96" y="56"/>
                    </a:lnTo>
                    <a:lnTo>
                      <a:pt x="96" y="48"/>
                    </a:lnTo>
                    <a:lnTo>
                      <a:pt x="96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23160" y="284472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61320" y="2806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810560" y="281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5760" y="28195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7696080" y="2882880"/>
              <a:ext cx="370080" cy="63648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168" y="0"/>
                  </a:moveTo>
                  <a:lnTo>
                    <a:pt x="24" y="24"/>
                  </a:lnTo>
                  <a:lnTo>
                    <a:pt x="0" y="184"/>
                  </a:lnTo>
                  <a:lnTo>
                    <a:pt x="32" y="176"/>
                  </a:lnTo>
                  <a:lnTo>
                    <a:pt x="56" y="64"/>
                  </a:lnTo>
                  <a:lnTo>
                    <a:pt x="72" y="184"/>
                  </a:lnTo>
                  <a:lnTo>
                    <a:pt x="64" y="400"/>
                  </a:lnTo>
                  <a:lnTo>
                    <a:pt x="104" y="384"/>
                  </a:lnTo>
                  <a:lnTo>
                    <a:pt x="120" y="192"/>
                  </a:lnTo>
                  <a:lnTo>
                    <a:pt x="184" y="376"/>
                  </a:lnTo>
                  <a:lnTo>
                    <a:pt x="232" y="368"/>
                  </a:lnTo>
                  <a:lnTo>
                    <a:pt x="160" y="168"/>
                  </a:lnTo>
                  <a:lnTo>
                    <a:pt x="152" y="48"/>
                  </a:lnTo>
                  <a:lnTo>
                    <a:pt x="200" y="160"/>
                  </a:lnTo>
                  <a:lnTo>
                    <a:pt x="224" y="144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746840" y="3657600"/>
            <a:ext cx="459000" cy="928800"/>
            <a:chOff x="7746840" y="3657600"/>
            <a:chExt cx="459000" cy="928800"/>
          </a:xfrm>
        </p:grpSpPr>
        <p:grpSp>
          <p:nvGrpSpPr>
            <p:cNvPr id="487" name=""/>
            <p:cNvGrpSpPr/>
            <p:nvPr/>
          </p:nvGrpSpPr>
          <p:grpSpPr>
            <a:xfrm>
              <a:off x="7937640" y="3657600"/>
              <a:ext cx="179280" cy="179280"/>
              <a:chOff x="7937640" y="3657600"/>
              <a:chExt cx="179280" cy="179280"/>
            </a:xfrm>
          </p:grpSpPr>
          <p:sp>
            <p:nvSpPr>
              <p:cNvPr id="488" name=""/>
              <p:cNvSpPr/>
              <p:nvPr/>
            </p:nvSpPr>
            <p:spPr>
              <a:xfrm>
                <a:off x="7937640" y="36576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75440" y="3772080"/>
                <a:ext cx="78120" cy="2664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001000" y="3720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51760" y="3733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37465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746840" y="382284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781360" y="4108320"/>
            <a:ext cx="407880" cy="820800"/>
            <a:chOff x="2781360" y="4108320"/>
            <a:chExt cx="407880" cy="820800"/>
          </a:xfrm>
        </p:grpSpPr>
        <p:grpSp>
          <p:nvGrpSpPr>
            <p:cNvPr id="495" name=""/>
            <p:cNvGrpSpPr/>
            <p:nvPr/>
          </p:nvGrpSpPr>
          <p:grpSpPr>
            <a:xfrm>
              <a:off x="2940120" y="4108320"/>
              <a:ext cx="139680" cy="139680"/>
              <a:chOff x="2940120" y="4108320"/>
              <a:chExt cx="139680" cy="139680"/>
            </a:xfrm>
          </p:grpSpPr>
          <p:sp>
            <p:nvSpPr>
              <p:cNvPr id="496" name=""/>
              <p:cNvSpPr/>
              <p:nvPr/>
            </p:nvSpPr>
            <p:spPr>
              <a:xfrm>
                <a:off x="2940120" y="41083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71800" y="421632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29040" y="415908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978280" y="415908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97360" y="417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781360" y="426708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238560" y="2216160"/>
            <a:ext cx="446040" cy="909720"/>
            <a:chOff x="3238560" y="2216160"/>
            <a:chExt cx="446040" cy="909720"/>
          </a:xfrm>
        </p:grpSpPr>
        <p:grpSp>
          <p:nvGrpSpPr>
            <p:cNvPr id="503" name=""/>
            <p:cNvGrpSpPr/>
            <p:nvPr/>
          </p:nvGrpSpPr>
          <p:grpSpPr>
            <a:xfrm>
              <a:off x="3397320" y="2216160"/>
              <a:ext cx="164880" cy="165240"/>
              <a:chOff x="3397320" y="2216160"/>
              <a:chExt cx="164880" cy="165240"/>
            </a:xfrm>
          </p:grpSpPr>
          <p:sp>
            <p:nvSpPr>
              <p:cNvPr id="504" name=""/>
              <p:cNvSpPr/>
              <p:nvPr/>
            </p:nvSpPr>
            <p:spPr>
              <a:xfrm>
                <a:off x="3397320" y="2216160"/>
                <a:ext cx="16488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41600" y="23367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98840" y="22795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48080" y="22795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67160" y="229860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238560" y="2387520"/>
              <a:ext cx="446040" cy="73836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0" y="8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32" y="184"/>
                  </a:lnTo>
                  <a:lnTo>
                    <a:pt x="88" y="56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0" y="456"/>
                  </a:lnTo>
                  <a:lnTo>
                    <a:pt x="136" y="232"/>
                  </a:lnTo>
                  <a:lnTo>
                    <a:pt x="184" y="464"/>
                  </a:lnTo>
                  <a:lnTo>
                    <a:pt x="240" y="464"/>
                  </a:lnTo>
                  <a:lnTo>
                    <a:pt x="192" y="200"/>
                  </a:lnTo>
                  <a:lnTo>
                    <a:pt x="208" y="56"/>
                  </a:lnTo>
                  <a:lnTo>
                    <a:pt x="240" y="200"/>
                  </a:lnTo>
                  <a:lnTo>
                    <a:pt x="280" y="192"/>
                  </a:lnTo>
                  <a:lnTo>
                    <a:pt x="2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806560" y="2908440"/>
            <a:ext cx="459000" cy="928440"/>
            <a:chOff x="2806560" y="2908440"/>
            <a:chExt cx="459000" cy="928440"/>
          </a:xfrm>
        </p:grpSpPr>
        <p:grpSp>
          <p:nvGrpSpPr>
            <p:cNvPr id="511" name=""/>
            <p:cNvGrpSpPr/>
            <p:nvPr/>
          </p:nvGrpSpPr>
          <p:grpSpPr>
            <a:xfrm>
              <a:off x="2997360" y="2908440"/>
              <a:ext cx="179280" cy="179280"/>
              <a:chOff x="2997360" y="2908440"/>
              <a:chExt cx="179280" cy="179280"/>
            </a:xfrm>
          </p:grpSpPr>
          <p:sp>
            <p:nvSpPr>
              <p:cNvPr id="512" name=""/>
              <p:cNvSpPr/>
              <p:nvPr/>
            </p:nvSpPr>
            <p:spPr>
              <a:xfrm>
                <a:off x="2997360" y="29084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35160" y="30225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060720" y="2971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1480" y="2984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60720" y="29973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06560" y="307332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48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0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505320" y="3308400"/>
            <a:ext cx="446040" cy="896760"/>
            <a:chOff x="3505320" y="3308400"/>
            <a:chExt cx="446040" cy="896760"/>
          </a:xfrm>
        </p:grpSpPr>
        <p:grpSp>
          <p:nvGrpSpPr>
            <p:cNvPr id="519" name=""/>
            <p:cNvGrpSpPr/>
            <p:nvPr/>
          </p:nvGrpSpPr>
          <p:grpSpPr>
            <a:xfrm>
              <a:off x="3625920" y="3308400"/>
              <a:ext cx="152280" cy="152280"/>
              <a:chOff x="3625920" y="3308400"/>
              <a:chExt cx="152280" cy="152280"/>
            </a:xfrm>
          </p:grpSpPr>
          <p:sp>
            <p:nvSpPr>
              <p:cNvPr id="520" name=""/>
              <p:cNvSpPr/>
              <p:nvPr/>
            </p:nvSpPr>
            <p:spPr>
              <a:xfrm>
                <a:off x="3625920" y="3308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70200" y="342900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76680" y="3359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27440" y="33717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95760" y="3378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3505320" y="34797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48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221000" y="4314960"/>
            <a:ext cx="459000" cy="909360"/>
            <a:chOff x="4221000" y="4314960"/>
            <a:chExt cx="459000" cy="909360"/>
          </a:xfrm>
        </p:grpSpPr>
        <p:grpSp>
          <p:nvGrpSpPr>
            <p:cNvPr id="527" name=""/>
            <p:cNvGrpSpPr/>
            <p:nvPr/>
          </p:nvGrpSpPr>
          <p:grpSpPr>
            <a:xfrm>
              <a:off x="4341960" y="4314960"/>
              <a:ext cx="164880" cy="164880"/>
              <a:chOff x="4341960" y="4314960"/>
              <a:chExt cx="164880" cy="164880"/>
            </a:xfrm>
          </p:grpSpPr>
          <p:sp>
            <p:nvSpPr>
              <p:cNvPr id="528" name=""/>
              <p:cNvSpPr/>
              <p:nvPr/>
            </p:nvSpPr>
            <p:spPr>
              <a:xfrm>
                <a:off x="4341960" y="431496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86240" y="44355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92720" y="4378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43480" y="4378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11800" y="4397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4221000" y="4486320"/>
              <a:ext cx="459000" cy="738000"/>
            </a:xfrm>
            <a:custGeom>
              <a:avLst/>
              <a:gdLst/>
              <a:ahLst/>
              <a:rect l="l" t="t" r="r" b="b"/>
              <a:pathLst>
                <a:path w="289" h="465">
                  <a:moveTo>
                    <a:pt x="48" y="8"/>
                  </a:moveTo>
                  <a:lnTo>
                    <a:pt x="216" y="0"/>
                  </a:lnTo>
                  <a:lnTo>
                    <a:pt x="288" y="184"/>
                  </a:lnTo>
                  <a:lnTo>
                    <a:pt x="248" y="184"/>
                  </a:lnTo>
                  <a:lnTo>
                    <a:pt x="192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200" y="456"/>
                  </a:lnTo>
                  <a:lnTo>
                    <a:pt x="144" y="232"/>
                  </a:lnTo>
                  <a:lnTo>
                    <a:pt x="104" y="464"/>
                  </a:lnTo>
                  <a:lnTo>
                    <a:pt x="40" y="464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200"/>
                  </a:lnTo>
                  <a:lnTo>
                    <a:pt x="0" y="192"/>
                  </a:lnTo>
                  <a:lnTo>
                    <a:pt x="4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43680" y="4146480"/>
            <a:ext cx="496800" cy="909720"/>
            <a:chOff x="5143680" y="4146480"/>
            <a:chExt cx="496800" cy="909720"/>
          </a:xfrm>
        </p:grpSpPr>
        <p:grpSp>
          <p:nvGrpSpPr>
            <p:cNvPr id="535" name=""/>
            <p:cNvGrpSpPr/>
            <p:nvPr/>
          </p:nvGrpSpPr>
          <p:grpSpPr>
            <a:xfrm>
              <a:off x="5334120" y="4146480"/>
              <a:ext cx="171360" cy="165240"/>
              <a:chOff x="5334120" y="4146480"/>
              <a:chExt cx="171360" cy="165240"/>
            </a:xfrm>
          </p:grpSpPr>
          <p:sp>
            <p:nvSpPr>
              <p:cNvPr id="536" name=""/>
              <p:cNvSpPr/>
              <p:nvPr/>
            </p:nvSpPr>
            <p:spPr>
              <a:xfrm>
                <a:off x="5334120" y="4146480"/>
                <a:ext cx="17136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84880" y="426708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27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46800" y="4210200"/>
                <a:ext cx="158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76960" y="4210200"/>
                <a:ext cx="140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11880" y="422928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9" y="0"/>
                    </a:moveTo>
                    <a:lnTo>
                      <a:pt x="0" y="24"/>
                    </a:lnTo>
                    <a:lnTo>
                      <a:pt x="18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143680" y="4330800"/>
              <a:ext cx="496800" cy="725400"/>
            </a:xfrm>
            <a:custGeom>
              <a:avLst/>
              <a:gdLst/>
              <a:ahLst/>
              <a:rect l="l" t="t" r="r" b="b"/>
              <a:pathLst>
                <a:path w="313" h="457">
                  <a:moveTo>
                    <a:pt x="267" y="0"/>
                  </a:moveTo>
                  <a:lnTo>
                    <a:pt x="71" y="0"/>
                  </a:lnTo>
                  <a:lnTo>
                    <a:pt x="0" y="176"/>
                  </a:lnTo>
                  <a:lnTo>
                    <a:pt x="45" y="176"/>
                  </a:lnTo>
                  <a:lnTo>
                    <a:pt x="107" y="48"/>
                  </a:lnTo>
                  <a:lnTo>
                    <a:pt x="89" y="200"/>
                  </a:lnTo>
                  <a:lnTo>
                    <a:pt x="36" y="456"/>
                  </a:lnTo>
                  <a:lnTo>
                    <a:pt x="98" y="448"/>
                  </a:lnTo>
                  <a:lnTo>
                    <a:pt x="152" y="224"/>
                  </a:lnTo>
                  <a:lnTo>
                    <a:pt x="205" y="456"/>
                  </a:lnTo>
                  <a:lnTo>
                    <a:pt x="276" y="456"/>
                  </a:lnTo>
                  <a:lnTo>
                    <a:pt x="223" y="192"/>
                  </a:lnTo>
                  <a:lnTo>
                    <a:pt x="241" y="48"/>
                  </a:lnTo>
                  <a:lnTo>
                    <a:pt x="276" y="192"/>
                  </a:lnTo>
                  <a:lnTo>
                    <a:pt x="312" y="184"/>
                  </a:lnTo>
                  <a:lnTo>
                    <a:pt x="2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769080" y="5207040"/>
            <a:ext cx="458640" cy="941400"/>
            <a:chOff x="6769080" y="5207040"/>
            <a:chExt cx="458640" cy="941400"/>
          </a:xfrm>
        </p:grpSpPr>
        <p:grpSp>
          <p:nvGrpSpPr>
            <p:cNvPr id="543" name=""/>
            <p:cNvGrpSpPr/>
            <p:nvPr/>
          </p:nvGrpSpPr>
          <p:grpSpPr>
            <a:xfrm>
              <a:off x="6959520" y="5207040"/>
              <a:ext cx="179640" cy="179280"/>
              <a:chOff x="6959520" y="5207040"/>
              <a:chExt cx="179640" cy="179280"/>
            </a:xfrm>
          </p:grpSpPr>
          <p:sp>
            <p:nvSpPr>
              <p:cNvPr id="544" name=""/>
              <p:cNvSpPr/>
              <p:nvPr/>
            </p:nvSpPr>
            <p:spPr>
              <a:xfrm>
                <a:off x="6959520" y="520704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97680" y="53341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23240" y="5283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74000" y="5295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23240" y="5295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6769080" y="537228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72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92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880240" y="3759120"/>
            <a:ext cx="509400" cy="928800"/>
            <a:chOff x="5880240" y="3759120"/>
            <a:chExt cx="509400" cy="928800"/>
          </a:xfrm>
        </p:grpSpPr>
        <p:grpSp>
          <p:nvGrpSpPr>
            <p:cNvPr id="551" name=""/>
            <p:cNvGrpSpPr/>
            <p:nvPr/>
          </p:nvGrpSpPr>
          <p:grpSpPr>
            <a:xfrm>
              <a:off x="6095880" y="3759120"/>
              <a:ext cx="204840" cy="179640"/>
              <a:chOff x="6095880" y="3759120"/>
              <a:chExt cx="204840" cy="179640"/>
            </a:xfrm>
          </p:grpSpPr>
          <p:sp>
            <p:nvSpPr>
              <p:cNvPr id="552" name=""/>
              <p:cNvSpPr/>
              <p:nvPr/>
            </p:nvSpPr>
            <p:spPr>
              <a:xfrm>
                <a:off x="6095880" y="3759120"/>
                <a:ext cx="204840" cy="179640"/>
              </a:xfrm>
              <a:custGeom>
                <a:avLst/>
                <a:gdLst/>
                <a:ahLst/>
                <a:rect l="l" t="t" r="r" b="b"/>
                <a:pathLst>
                  <a:path w="129" h="113">
                    <a:moveTo>
                      <a:pt x="128" y="64"/>
                    </a:moveTo>
                    <a:lnTo>
                      <a:pt x="128" y="56"/>
                    </a:lnTo>
                    <a:lnTo>
                      <a:pt x="128" y="48"/>
                    </a:lnTo>
                    <a:lnTo>
                      <a:pt x="128" y="40"/>
                    </a:lnTo>
                    <a:lnTo>
                      <a:pt x="120" y="32"/>
                    </a:lnTo>
                    <a:lnTo>
                      <a:pt x="120" y="24"/>
                    </a:lnTo>
                    <a:lnTo>
                      <a:pt x="112" y="24"/>
                    </a:lnTo>
                    <a:lnTo>
                      <a:pt x="112" y="16"/>
                    </a:lnTo>
                    <a:lnTo>
                      <a:pt x="104" y="16"/>
                    </a:lnTo>
                    <a:lnTo>
                      <a:pt x="104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88"/>
                    </a:lnTo>
                    <a:lnTo>
                      <a:pt x="16" y="96"/>
                    </a:lnTo>
                    <a:lnTo>
                      <a:pt x="24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12"/>
                    </a:lnTo>
                    <a:lnTo>
                      <a:pt x="88" y="112"/>
                    </a:lnTo>
                    <a:lnTo>
                      <a:pt x="88" y="104"/>
                    </a:lnTo>
                    <a:lnTo>
                      <a:pt x="96" y="104"/>
                    </a:lnTo>
                    <a:lnTo>
                      <a:pt x="104" y="104"/>
                    </a:lnTo>
                    <a:lnTo>
                      <a:pt x="104" y="96"/>
                    </a:lnTo>
                    <a:lnTo>
                      <a:pt x="112" y="96"/>
                    </a:lnTo>
                    <a:lnTo>
                      <a:pt x="112" y="88"/>
                    </a:lnTo>
                    <a:lnTo>
                      <a:pt x="120" y="88"/>
                    </a:lnTo>
                    <a:lnTo>
                      <a:pt x="120" y="80"/>
                    </a:lnTo>
                    <a:lnTo>
                      <a:pt x="128" y="72"/>
                    </a:lnTo>
                    <a:lnTo>
                      <a:pt x="128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46640" y="3898800"/>
                <a:ext cx="90720" cy="144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6" y="0"/>
                    </a:moveTo>
                    <a:lnTo>
                      <a:pt x="32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22960" y="3835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59600" y="383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84800" y="3848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5880240" y="3924360"/>
              <a:ext cx="509400" cy="763560"/>
            </a:xfrm>
            <a:custGeom>
              <a:avLst/>
              <a:gdLst/>
              <a:ahLst/>
              <a:rect l="l" t="t" r="r" b="b"/>
              <a:pathLst>
                <a:path w="321" h="481">
                  <a:moveTo>
                    <a:pt x="288" y="24"/>
                  </a:moveTo>
                  <a:lnTo>
                    <a:pt x="88" y="0"/>
                  </a:lnTo>
                  <a:lnTo>
                    <a:pt x="0" y="176"/>
                  </a:lnTo>
                  <a:lnTo>
                    <a:pt x="40" y="184"/>
                  </a:lnTo>
                  <a:lnTo>
                    <a:pt x="120" y="56"/>
                  </a:lnTo>
                  <a:lnTo>
                    <a:pt x="88" y="208"/>
                  </a:lnTo>
                  <a:lnTo>
                    <a:pt x="16" y="456"/>
                  </a:lnTo>
                  <a:lnTo>
                    <a:pt x="72" y="456"/>
                  </a:lnTo>
                  <a:lnTo>
                    <a:pt x="152" y="232"/>
                  </a:lnTo>
                  <a:lnTo>
                    <a:pt x="184" y="472"/>
                  </a:lnTo>
                  <a:lnTo>
                    <a:pt x="256" y="480"/>
                  </a:lnTo>
                  <a:lnTo>
                    <a:pt x="224" y="216"/>
                  </a:lnTo>
                  <a:lnTo>
                    <a:pt x="256" y="72"/>
                  </a:lnTo>
                  <a:lnTo>
                    <a:pt x="272" y="216"/>
                  </a:lnTo>
                  <a:lnTo>
                    <a:pt x="320" y="216"/>
                  </a:lnTo>
                  <a:lnTo>
                    <a:pt x="288" y="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730920" y="4210200"/>
            <a:ext cx="446040" cy="960120"/>
            <a:chOff x="6730920" y="4210200"/>
            <a:chExt cx="446040" cy="960120"/>
          </a:xfrm>
        </p:grpSpPr>
        <p:grpSp>
          <p:nvGrpSpPr>
            <p:cNvPr id="559" name=""/>
            <p:cNvGrpSpPr/>
            <p:nvPr/>
          </p:nvGrpSpPr>
          <p:grpSpPr>
            <a:xfrm>
              <a:off x="6851520" y="4210200"/>
              <a:ext cx="165240" cy="164880"/>
              <a:chOff x="6851520" y="4210200"/>
              <a:chExt cx="165240" cy="164880"/>
            </a:xfrm>
          </p:grpSpPr>
          <p:sp>
            <p:nvSpPr>
              <p:cNvPr id="560" name=""/>
              <p:cNvSpPr/>
              <p:nvPr/>
            </p:nvSpPr>
            <p:spPr>
              <a:xfrm>
                <a:off x="6851520" y="4210200"/>
                <a:ext cx="1652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896160" y="43308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02280" y="426096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53400" y="4273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21360" y="4292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6730920" y="4394160"/>
              <a:ext cx="446040" cy="776160"/>
            </a:xfrm>
            <a:custGeom>
              <a:avLst/>
              <a:gdLst/>
              <a:ahLst/>
              <a:rect l="l" t="t" r="r" b="b"/>
              <a:pathLst>
                <a:path w="281" h="489">
                  <a:moveTo>
                    <a:pt x="40" y="0"/>
                  </a:moveTo>
                  <a:lnTo>
                    <a:pt x="216" y="0"/>
                  </a:lnTo>
                  <a:lnTo>
                    <a:pt x="280" y="192"/>
                  </a:lnTo>
                  <a:lnTo>
                    <a:pt x="248" y="192"/>
                  </a:lnTo>
                  <a:lnTo>
                    <a:pt x="192" y="48"/>
                  </a:lnTo>
                  <a:lnTo>
                    <a:pt x="200" y="216"/>
                  </a:lnTo>
                  <a:lnTo>
                    <a:pt x="248" y="488"/>
                  </a:lnTo>
                  <a:lnTo>
                    <a:pt x="200" y="480"/>
                  </a:lnTo>
                  <a:lnTo>
                    <a:pt x="144" y="240"/>
                  </a:lnTo>
                  <a:lnTo>
                    <a:pt x="96" y="488"/>
                  </a:lnTo>
                  <a:lnTo>
                    <a:pt x="40" y="488"/>
                  </a:lnTo>
                  <a:lnTo>
                    <a:pt x="88" y="208"/>
                  </a:lnTo>
                  <a:lnTo>
                    <a:pt x="72" y="56"/>
                  </a:lnTo>
                  <a:lnTo>
                    <a:pt x="40" y="208"/>
                  </a:lnTo>
                  <a:lnTo>
                    <a:pt x="0" y="20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391520" y="5130720"/>
            <a:ext cx="458640" cy="928800"/>
            <a:chOff x="7391520" y="5130720"/>
            <a:chExt cx="458640" cy="928800"/>
          </a:xfrm>
        </p:grpSpPr>
        <p:grpSp>
          <p:nvGrpSpPr>
            <p:cNvPr id="567" name=""/>
            <p:cNvGrpSpPr/>
            <p:nvPr/>
          </p:nvGrpSpPr>
          <p:grpSpPr>
            <a:xfrm>
              <a:off x="7480440" y="5130720"/>
              <a:ext cx="179280" cy="179640"/>
              <a:chOff x="7480440" y="5130720"/>
              <a:chExt cx="179280" cy="179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480440" y="51307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43800" y="5245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94560" y="519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543800" y="5207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69360" y="521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7391520" y="528336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32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048120" y="4984920"/>
            <a:ext cx="420480" cy="846000"/>
            <a:chOff x="3048120" y="4984920"/>
            <a:chExt cx="420480" cy="846000"/>
          </a:xfrm>
        </p:grpSpPr>
        <p:grpSp>
          <p:nvGrpSpPr>
            <p:cNvPr id="575" name=""/>
            <p:cNvGrpSpPr/>
            <p:nvPr/>
          </p:nvGrpSpPr>
          <p:grpSpPr>
            <a:xfrm>
              <a:off x="3206880" y="4984920"/>
              <a:ext cx="139680" cy="152280"/>
              <a:chOff x="3206880" y="4984920"/>
              <a:chExt cx="13968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3206880" y="4984920"/>
                <a:ext cx="1396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238560" y="50925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95800" y="5035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244680" y="504828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63760" y="50547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048120" y="5143680"/>
              <a:ext cx="420480" cy="687240"/>
            </a:xfrm>
            <a:custGeom>
              <a:avLst/>
              <a:gdLst/>
              <a:ahLst/>
              <a:rect l="l" t="t" r="r" b="b"/>
              <a:pathLst>
                <a:path w="265" h="433">
                  <a:moveTo>
                    <a:pt x="224" y="8"/>
                  </a:moveTo>
                  <a:lnTo>
                    <a:pt x="64" y="0"/>
                  </a:lnTo>
                  <a:lnTo>
                    <a:pt x="0" y="176"/>
                  </a:lnTo>
                  <a:lnTo>
                    <a:pt x="32" y="176"/>
                  </a:lnTo>
                  <a:lnTo>
                    <a:pt x="88" y="48"/>
                  </a:lnTo>
                  <a:lnTo>
                    <a:pt x="72" y="192"/>
                  </a:lnTo>
                  <a:lnTo>
                    <a:pt x="32" y="424"/>
                  </a:lnTo>
                  <a:lnTo>
                    <a:pt x="80" y="424"/>
                  </a:lnTo>
                  <a:lnTo>
                    <a:pt x="128" y="216"/>
                  </a:lnTo>
                  <a:lnTo>
                    <a:pt x="168" y="432"/>
                  </a:lnTo>
                  <a:lnTo>
                    <a:pt x="224" y="432"/>
                  </a:lnTo>
                  <a:lnTo>
                    <a:pt x="184" y="184"/>
                  </a:lnTo>
                  <a:lnTo>
                    <a:pt x="200" y="56"/>
                  </a:lnTo>
                  <a:lnTo>
                    <a:pt x="224" y="184"/>
                  </a:lnTo>
                  <a:lnTo>
                    <a:pt x="264" y="176"/>
                  </a:lnTo>
                  <a:lnTo>
                    <a:pt x="224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311880" y="4756320"/>
            <a:ext cx="446040" cy="909360"/>
            <a:chOff x="6311880" y="4756320"/>
            <a:chExt cx="446040" cy="909360"/>
          </a:xfrm>
        </p:grpSpPr>
        <p:grpSp>
          <p:nvGrpSpPr>
            <p:cNvPr id="583" name=""/>
            <p:cNvGrpSpPr/>
            <p:nvPr/>
          </p:nvGrpSpPr>
          <p:grpSpPr>
            <a:xfrm>
              <a:off x="6432480" y="4756320"/>
              <a:ext cx="152640" cy="164880"/>
              <a:chOff x="6432480" y="4756320"/>
              <a:chExt cx="152640" cy="164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432480" y="4756320"/>
                <a:ext cx="1526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64160" y="48769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70640" y="4819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34000" y="481968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489720" y="48387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6311880" y="492768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40" y="8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32"/>
                  </a:lnTo>
                  <a:lnTo>
                    <a:pt x="96" y="464"/>
                  </a:lnTo>
                  <a:lnTo>
                    <a:pt x="32" y="464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336760" y="4457880"/>
            <a:ext cx="496800" cy="928440"/>
            <a:chOff x="2336760" y="4457880"/>
            <a:chExt cx="496800" cy="928440"/>
          </a:xfrm>
        </p:grpSpPr>
        <p:grpSp>
          <p:nvGrpSpPr>
            <p:cNvPr id="591" name=""/>
            <p:cNvGrpSpPr/>
            <p:nvPr/>
          </p:nvGrpSpPr>
          <p:grpSpPr>
            <a:xfrm>
              <a:off x="2349360" y="4457880"/>
              <a:ext cx="179640" cy="179280"/>
              <a:chOff x="2349360" y="4457880"/>
              <a:chExt cx="179640" cy="179280"/>
            </a:xfrm>
          </p:grpSpPr>
          <p:sp>
            <p:nvSpPr>
              <p:cNvPr id="592" name=""/>
              <p:cNvSpPr/>
              <p:nvPr/>
            </p:nvSpPr>
            <p:spPr>
              <a:xfrm>
                <a:off x="2349360" y="445788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0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24"/>
                    </a:lnTo>
                    <a:lnTo>
                      <a:pt x="96" y="16"/>
                    </a:lnTo>
                    <a:lnTo>
                      <a:pt x="88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88"/>
                    </a:lnTo>
                    <a:lnTo>
                      <a:pt x="16" y="96"/>
                    </a:lnTo>
                    <a:lnTo>
                      <a:pt x="24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00480" y="45846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8"/>
                    </a:moveTo>
                    <a:lnTo>
                      <a:pt x="32" y="16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00480" y="4546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63840" y="4533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25680" y="45464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2336760" y="4610160"/>
              <a:ext cx="496800" cy="776160"/>
            </a:xfrm>
            <a:custGeom>
              <a:avLst/>
              <a:gdLst/>
              <a:ahLst/>
              <a:rect l="l" t="t" r="r" b="b"/>
              <a:pathLst>
                <a:path w="313" h="489">
                  <a:moveTo>
                    <a:pt x="0" y="40"/>
                  </a:moveTo>
                  <a:lnTo>
                    <a:pt x="168" y="0"/>
                  </a:lnTo>
                  <a:lnTo>
                    <a:pt x="272" y="152"/>
                  </a:lnTo>
                  <a:lnTo>
                    <a:pt x="240" y="168"/>
                  </a:lnTo>
                  <a:lnTo>
                    <a:pt x="152" y="48"/>
                  </a:lnTo>
                  <a:lnTo>
                    <a:pt x="200" y="200"/>
                  </a:lnTo>
                  <a:lnTo>
                    <a:pt x="312" y="432"/>
                  </a:lnTo>
                  <a:lnTo>
                    <a:pt x="264" y="440"/>
                  </a:lnTo>
                  <a:lnTo>
                    <a:pt x="152" y="232"/>
                  </a:lnTo>
                  <a:lnTo>
                    <a:pt x="168" y="472"/>
                  </a:lnTo>
                  <a:lnTo>
                    <a:pt x="112" y="488"/>
                  </a:lnTo>
                  <a:lnTo>
                    <a:pt x="88" y="224"/>
                  </a:lnTo>
                  <a:lnTo>
                    <a:pt x="32" y="88"/>
                  </a:lnTo>
                  <a:lnTo>
                    <a:pt x="40" y="232"/>
                  </a:lnTo>
                  <a:lnTo>
                    <a:pt x="8" y="232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800600" y="5213520"/>
            <a:ext cx="395280" cy="795240"/>
            <a:chOff x="4800600" y="5213520"/>
            <a:chExt cx="395280" cy="795240"/>
          </a:xfrm>
        </p:grpSpPr>
        <p:grpSp>
          <p:nvGrpSpPr>
            <p:cNvPr id="599" name=""/>
            <p:cNvGrpSpPr/>
            <p:nvPr/>
          </p:nvGrpSpPr>
          <p:grpSpPr>
            <a:xfrm>
              <a:off x="4908600" y="5213520"/>
              <a:ext cx="139680" cy="139680"/>
              <a:chOff x="4908600" y="5213520"/>
              <a:chExt cx="139680" cy="139680"/>
            </a:xfrm>
          </p:grpSpPr>
          <p:sp>
            <p:nvSpPr>
              <p:cNvPr id="600" name=""/>
              <p:cNvSpPr/>
              <p:nvPr/>
            </p:nvSpPr>
            <p:spPr>
              <a:xfrm>
                <a:off x="4908600" y="52135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40280" y="53211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46760" y="52642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97520" y="52642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65840" y="5283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4800600" y="537228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683160" y="4933800"/>
            <a:ext cx="484200" cy="973440"/>
            <a:chOff x="3683160" y="4933800"/>
            <a:chExt cx="484200" cy="973440"/>
          </a:xfrm>
        </p:grpSpPr>
        <p:grpSp>
          <p:nvGrpSpPr>
            <p:cNvPr id="607" name=""/>
            <p:cNvGrpSpPr/>
            <p:nvPr/>
          </p:nvGrpSpPr>
          <p:grpSpPr>
            <a:xfrm>
              <a:off x="3867120" y="4933800"/>
              <a:ext cx="165240" cy="165240"/>
              <a:chOff x="3867120" y="4933800"/>
              <a:chExt cx="165240" cy="165240"/>
            </a:xfrm>
          </p:grpSpPr>
          <p:sp>
            <p:nvSpPr>
              <p:cNvPr id="608" name=""/>
              <p:cNvSpPr/>
              <p:nvPr/>
            </p:nvSpPr>
            <p:spPr>
              <a:xfrm>
                <a:off x="3867120" y="4933800"/>
                <a:ext cx="1652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11760" y="505476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68640" y="498492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17880" y="49975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36960" y="50166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683160" y="5118120"/>
              <a:ext cx="484200" cy="789120"/>
            </a:xfrm>
            <a:custGeom>
              <a:avLst/>
              <a:gdLst/>
              <a:ahLst/>
              <a:rect l="l" t="t" r="r" b="b"/>
              <a:pathLst>
                <a:path w="305" h="497">
                  <a:moveTo>
                    <a:pt x="256" y="0"/>
                  </a:moveTo>
                  <a:lnTo>
                    <a:pt x="72" y="0"/>
                  </a:lnTo>
                  <a:lnTo>
                    <a:pt x="0" y="200"/>
                  </a:lnTo>
                  <a:lnTo>
                    <a:pt x="40" y="200"/>
                  </a:lnTo>
                  <a:lnTo>
                    <a:pt x="104" y="56"/>
                  </a:lnTo>
                  <a:lnTo>
                    <a:pt x="88" y="224"/>
                  </a:lnTo>
                  <a:lnTo>
                    <a:pt x="40" y="496"/>
                  </a:lnTo>
                  <a:lnTo>
                    <a:pt x="96" y="488"/>
                  </a:lnTo>
                  <a:lnTo>
                    <a:pt x="152" y="248"/>
                  </a:lnTo>
                  <a:lnTo>
                    <a:pt x="200" y="496"/>
                  </a:lnTo>
                  <a:lnTo>
                    <a:pt x="264" y="496"/>
                  </a:lnTo>
                  <a:lnTo>
                    <a:pt x="208" y="216"/>
                  </a:lnTo>
                  <a:lnTo>
                    <a:pt x="232" y="56"/>
                  </a:lnTo>
                  <a:lnTo>
                    <a:pt x="264" y="208"/>
                  </a:lnTo>
                  <a:lnTo>
                    <a:pt x="304" y="208"/>
                  </a:lnTo>
                  <a:lnTo>
                    <a:pt x="2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854360" y="3689280"/>
            <a:ext cx="471240" cy="947880"/>
            <a:chOff x="1854360" y="3689280"/>
            <a:chExt cx="471240" cy="947880"/>
          </a:xfrm>
        </p:grpSpPr>
        <p:grpSp>
          <p:nvGrpSpPr>
            <p:cNvPr id="615" name=""/>
            <p:cNvGrpSpPr/>
            <p:nvPr/>
          </p:nvGrpSpPr>
          <p:grpSpPr>
            <a:xfrm>
              <a:off x="2025720" y="3689280"/>
              <a:ext cx="177840" cy="165240"/>
              <a:chOff x="2025720" y="3689280"/>
              <a:chExt cx="177840" cy="165240"/>
            </a:xfrm>
          </p:grpSpPr>
          <p:sp>
            <p:nvSpPr>
              <p:cNvPr id="616" name=""/>
              <p:cNvSpPr/>
              <p:nvPr/>
            </p:nvSpPr>
            <p:spPr>
              <a:xfrm>
                <a:off x="2025720" y="3689280"/>
                <a:ext cx="1778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82960" y="38228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9840" y="37530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76480" y="37530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08160" y="37720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854360" y="3873600"/>
              <a:ext cx="471240" cy="763560"/>
            </a:xfrm>
            <a:custGeom>
              <a:avLst/>
              <a:gdLst/>
              <a:ahLst/>
              <a:rect l="l" t="t" r="r" b="b"/>
              <a:pathLst>
                <a:path w="297" h="481">
                  <a:moveTo>
                    <a:pt x="256" y="0"/>
                  </a:moveTo>
                  <a:lnTo>
                    <a:pt x="72" y="0"/>
                  </a:lnTo>
                  <a:lnTo>
                    <a:pt x="0" y="192"/>
                  </a:lnTo>
                  <a:lnTo>
                    <a:pt x="40" y="192"/>
                  </a:lnTo>
                  <a:lnTo>
                    <a:pt x="96" y="56"/>
                  </a:lnTo>
                  <a:lnTo>
                    <a:pt x="88" y="216"/>
                  </a:lnTo>
                  <a:lnTo>
                    <a:pt x="32" y="480"/>
                  </a:lnTo>
                  <a:lnTo>
                    <a:pt x="88" y="480"/>
                  </a:lnTo>
                  <a:lnTo>
                    <a:pt x="144" y="240"/>
                  </a:lnTo>
                  <a:lnTo>
                    <a:pt x="192" y="480"/>
                  </a:lnTo>
                  <a:lnTo>
                    <a:pt x="256" y="480"/>
                  </a:lnTo>
                  <a:lnTo>
                    <a:pt x="208" y="208"/>
                  </a:lnTo>
                  <a:lnTo>
                    <a:pt x="224" y="56"/>
                  </a:lnTo>
                  <a:lnTo>
                    <a:pt x="256" y="208"/>
                  </a:lnTo>
                  <a:lnTo>
                    <a:pt x="296" y="200"/>
                  </a:lnTo>
                  <a:lnTo>
                    <a:pt x="2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441600" y="4349880"/>
            <a:ext cx="357120" cy="744480"/>
            <a:chOff x="3441600" y="4349880"/>
            <a:chExt cx="357120" cy="744480"/>
          </a:xfrm>
        </p:grpSpPr>
        <p:grpSp>
          <p:nvGrpSpPr>
            <p:cNvPr id="623" name=""/>
            <p:cNvGrpSpPr/>
            <p:nvPr/>
          </p:nvGrpSpPr>
          <p:grpSpPr>
            <a:xfrm>
              <a:off x="3575160" y="4349880"/>
              <a:ext cx="126720" cy="126720"/>
              <a:chOff x="3575160" y="4349880"/>
              <a:chExt cx="126720" cy="126720"/>
            </a:xfrm>
          </p:grpSpPr>
          <p:sp>
            <p:nvSpPr>
              <p:cNvPr id="624" name=""/>
              <p:cNvSpPr/>
              <p:nvPr/>
            </p:nvSpPr>
            <p:spPr>
              <a:xfrm>
                <a:off x="3575160" y="434988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06840" y="444492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64080" y="440064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13320" y="44006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32040" y="441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3441600" y="4495680"/>
              <a:ext cx="35712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994040" y="5067360"/>
            <a:ext cx="433080" cy="852480"/>
            <a:chOff x="1994040" y="5067360"/>
            <a:chExt cx="433080" cy="852480"/>
          </a:xfrm>
        </p:grpSpPr>
        <p:grpSp>
          <p:nvGrpSpPr>
            <p:cNvPr id="631" name=""/>
            <p:cNvGrpSpPr/>
            <p:nvPr/>
          </p:nvGrpSpPr>
          <p:grpSpPr>
            <a:xfrm>
              <a:off x="2082960" y="5067360"/>
              <a:ext cx="153720" cy="154080"/>
              <a:chOff x="2082960" y="5067360"/>
              <a:chExt cx="153720" cy="154080"/>
            </a:xfrm>
          </p:grpSpPr>
          <p:sp>
            <p:nvSpPr>
              <p:cNvPr id="632" name=""/>
              <p:cNvSpPr/>
              <p:nvPr/>
            </p:nvSpPr>
            <p:spPr>
              <a:xfrm>
                <a:off x="2082960" y="506736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40"/>
                    </a:moveTo>
                    <a:lnTo>
                      <a:pt x="96" y="40"/>
                    </a:lnTo>
                    <a:lnTo>
                      <a:pt x="96" y="32"/>
                    </a:lnTo>
                    <a:lnTo>
                      <a:pt x="88" y="24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80"/>
                    </a:lnTo>
                    <a:lnTo>
                      <a:pt x="16" y="88"/>
                    </a:lnTo>
                    <a:lnTo>
                      <a:pt x="24" y="88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8" y="96"/>
                    </a:lnTo>
                    <a:lnTo>
                      <a:pt x="56" y="96"/>
                    </a:lnTo>
                    <a:lnTo>
                      <a:pt x="64" y="96"/>
                    </a:lnTo>
                    <a:lnTo>
                      <a:pt x="64" y="88"/>
                    </a:lnTo>
                    <a:lnTo>
                      <a:pt x="72" y="88"/>
                    </a:lnTo>
                    <a:lnTo>
                      <a:pt x="80" y="88"/>
                    </a:lnTo>
                    <a:lnTo>
                      <a:pt x="80" y="80"/>
                    </a:lnTo>
                    <a:lnTo>
                      <a:pt x="88" y="80"/>
                    </a:lnTo>
                    <a:lnTo>
                      <a:pt x="88" y="72"/>
                    </a:lnTo>
                    <a:lnTo>
                      <a:pt x="96" y="64"/>
                    </a:lnTo>
                    <a:lnTo>
                      <a:pt x="96" y="56"/>
                    </a:lnTo>
                    <a:lnTo>
                      <a:pt x="96" y="48"/>
                    </a:lnTo>
                    <a:lnTo>
                      <a:pt x="96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33720" y="51814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84480" y="5130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33720" y="5143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58920" y="51436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994040" y="5219640"/>
              <a:ext cx="433080" cy="700200"/>
            </a:xfrm>
            <a:custGeom>
              <a:avLst/>
              <a:gdLst/>
              <a:ahLst/>
              <a:rect l="l" t="t" r="r" b="b"/>
              <a:pathLst>
                <a:path w="273" h="441">
                  <a:moveTo>
                    <a:pt x="192" y="0"/>
                  </a:moveTo>
                  <a:lnTo>
                    <a:pt x="32" y="24"/>
                  </a:lnTo>
                  <a:lnTo>
                    <a:pt x="0" y="200"/>
                  </a:lnTo>
                  <a:lnTo>
                    <a:pt x="32" y="192"/>
                  </a:lnTo>
                  <a:lnTo>
                    <a:pt x="64" y="64"/>
                  </a:lnTo>
                  <a:lnTo>
                    <a:pt x="80" y="208"/>
                  </a:lnTo>
                  <a:lnTo>
                    <a:pt x="80" y="440"/>
                  </a:lnTo>
                  <a:lnTo>
                    <a:pt x="120" y="432"/>
                  </a:lnTo>
                  <a:lnTo>
                    <a:pt x="136" y="216"/>
                  </a:lnTo>
                  <a:lnTo>
                    <a:pt x="216" y="424"/>
                  </a:lnTo>
                  <a:lnTo>
                    <a:pt x="272" y="408"/>
                  </a:lnTo>
                  <a:lnTo>
                    <a:pt x="184" y="184"/>
                  </a:lnTo>
                  <a:lnTo>
                    <a:pt x="176" y="48"/>
                  </a:lnTo>
                  <a:lnTo>
                    <a:pt x="224" y="176"/>
                  </a:lnTo>
                  <a:lnTo>
                    <a:pt x="256" y="160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511280" y="2533680"/>
            <a:ext cx="446040" cy="896760"/>
            <a:chOff x="1511280" y="2533680"/>
            <a:chExt cx="446040" cy="896760"/>
          </a:xfrm>
        </p:grpSpPr>
        <p:grpSp>
          <p:nvGrpSpPr>
            <p:cNvPr id="639" name=""/>
            <p:cNvGrpSpPr/>
            <p:nvPr/>
          </p:nvGrpSpPr>
          <p:grpSpPr>
            <a:xfrm>
              <a:off x="1631880" y="2533680"/>
              <a:ext cx="152640" cy="152280"/>
              <a:chOff x="1631880" y="2533680"/>
              <a:chExt cx="152640" cy="152280"/>
            </a:xfrm>
          </p:grpSpPr>
          <p:sp>
            <p:nvSpPr>
              <p:cNvPr id="640" name=""/>
              <p:cNvSpPr/>
              <p:nvPr/>
            </p:nvSpPr>
            <p:spPr>
              <a:xfrm>
                <a:off x="1631880" y="2533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76520" y="265428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682640" y="25844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33400" y="259704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701720" y="26035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511280" y="270504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48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47840" y="3022560"/>
            <a:ext cx="459000" cy="941400"/>
            <a:chOff x="2247840" y="3022560"/>
            <a:chExt cx="459000" cy="941400"/>
          </a:xfrm>
        </p:grpSpPr>
        <p:grpSp>
          <p:nvGrpSpPr>
            <p:cNvPr id="647" name=""/>
            <p:cNvGrpSpPr/>
            <p:nvPr/>
          </p:nvGrpSpPr>
          <p:grpSpPr>
            <a:xfrm>
              <a:off x="2336760" y="3022560"/>
              <a:ext cx="179280" cy="179280"/>
              <a:chOff x="2336760" y="3022560"/>
              <a:chExt cx="179280" cy="179280"/>
            </a:xfrm>
          </p:grpSpPr>
          <p:sp>
            <p:nvSpPr>
              <p:cNvPr id="648" name=""/>
              <p:cNvSpPr/>
              <p:nvPr/>
            </p:nvSpPr>
            <p:spPr>
              <a:xfrm>
                <a:off x="2336760" y="302256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00480" y="31496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451240" y="3098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00480" y="311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25680" y="31114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2247840" y="3187800"/>
              <a:ext cx="45900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8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76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620120" y="1714680"/>
            <a:ext cx="446040" cy="915840"/>
            <a:chOff x="7620120" y="1714680"/>
            <a:chExt cx="446040" cy="915840"/>
          </a:xfrm>
        </p:grpSpPr>
        <p:grpSp>
          <p:nvGrpSpPr>
            <p:cNvPr id="655" name=""/>
            <p:cNvGrpSpPr/>
            <p:nvPr/>
          </p:nvGrpSpPr>
          <p:grpSpPr>
            <a:xfrm>
              <a:off x="7696080" y="1714680"/>
              <a:ext cx="179640" cy="179280"/>
              <a:chOff x="7696080" y="1714680"/>
              <a:chExt cx="179640" cy="179280"/>
            </a:xfrm>
          </p:grpSpPr>
          <p:sp>
            <p:nvSpPr>
              <p:cNvPr id="656" name=""/>
              <p:cNvSpPr/>
              <p:nvPr/>
            </p:nvSpPr>
            <p:spPr>
              <a:xfrm>
                <a:off x="7696080" y="171468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8"/>
                    </a:lnTo>
                    <a:lnTo>
                      <a:pt x="112" y="40"/>
                    </a:lnTo>
                    <a:lnTo>
                      <a:pt x="112" y="32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32" y="112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96" y="88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46840" y="1841400"/>
                <a:ext cx="7812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32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759800" y="1790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23160" y="1790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772400" y="1803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620120" y="1879560"/>
              <a:ext cx="446040" cy="750960"/>
            </a:xfrm>
            <a:custGeom>
              <a:avLst/>
              <a:gdLst/>
              <a:ahLst/>
              <a:rect l="l" t="t" r="r" b="b"/>
              <a:pathLst>
                <a:path w="281" h="473">
                  <a:moveTo>
                    <a:pt x="32" y="16"/>
                  </a:moveTo>
                  <a:lnTo>
                    <a:pt x="200" y="0"/>
                  </a:lnTo>
                  <a:lnTo>
                    <a:pt x="280" y="176"/>
                  </a:lnTo>
                  <a:lnTo>
                    <a:pt x="248" y="184"/>
                  </a:lnTo>
                  <a:lnTo>
                    <a:pt x="176" y="56"/>
                  </a:lnTo>
                  <a:lnTo>
                    <a:pt x="200" y="208"/>
                  </a:lnTo>
                  <a:lnTo>
                    <a:pt x="272" y="456"/>
                  </a:lnTo>
                  <a:lnTo>
                    <a:pt x="224" y="456"/>
                  </a:lnTo>
                  <a:lnTo>
                    <a:pt x="152" y="232"/>
                  </a:lnTo>
                  <a:lnTo>
                    <a:pt x="120" y="472"/>
                  </a:lnTo>
                  <a:lnTo>
                    <a:pt x="64" y="472"/>
                  </a:lnTo>
                  <a:lnTo>
                    <a:pt x="88" y="208"/>
                  </a:lnTo>
                  <a:lnTo>
                    <a:pt x="56" y="72"/>
                  </a:lnTo>
                  <a:lnTo>
                    <a:pt x="40" y="216"/>
                  </a:lnTo>
                  <a:lnTo>
                    <a:pt x="0" y="208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77040" y="4216320"/>
            <a:ext cx="459000" cy="928800"/>
            <a:chOff x="7277040" y="4216320"/>
            <a:chExt cx="459000" cy="928800"/>
          </a:xfrm>
        </p:grpSpPr>
        <p:grpSp>
          <p:nvGrpSpPr>
            <p:cNvPr id="663" name=""/>
            <p:cNvGrpSpPr/>
            <p:nvPr/>
          </p:nvGrpSpPr>
          <p:grpSpPr>
            <a:xfrm>
              <a:off x="7467480" y="4216320"/>
              <a:ext cx="179640" cy="179640"/>
              <a:chOff x="7467480" y="4216320"/>
              <a:chExt cx="179640" cy="179640"/>
            </a:xfrm>
          </p:grpSpPr>
          <p:sp>
            <p:nvSpPr>
              <p:cNvPr id="664" name=""/>
              <p:cNvSpPr/>
              <p:nvPr/>
            </p:nvSpPr>
            <p:spPr>
              <a:xfrm>
                <a:off x="7467480" y="4216320"/>
                <a:ext cx="17964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05640" y="43434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31200" y="4280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94560" y="4305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43800" y="43052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8" y="0"/>
                    </a:moveTo>
                    <a:lnTo>
                      <a:pt x="8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7277040" y="438156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8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56" y="208"/>
                  </a:lnTo>
                  <a:lnTo>
                    <a:pt x="216" y="72"/>
                  </a:lnTo>
                  <a:lnTo>
                    <a:pt x="208" y="224"/>
                  </a:lnTo>
                  <a:lnTo>
                    <a:pt x="208" y="480"/>
                  </a:lnTo>
                  <a:lnTo>
                    <a:pt x="160" y="472"/>
                  </a:lnTo>
                  <a:lnTo>
                    <a:pt x="144" y="232"/>
                  </a:lnTo>
                  <a:lnTo>
                    <a:pt x="64" y="456"/>
                  </a:lnTo>
                  <a:lnTo>
                    <a:pt x="0" y="448"/>
                  </a:lnTo>
                  <a:lnTo>
                    <a:pt x="96" y="200"/>
                  </a:lnTo>
                  <a:lnTo>
                    <a:pt x="104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718320" y="3282840"/>
            <a:ext cx="446040" cy="909720"/>
            <a:chOff x="6718320" y="3282840"/>
            <a:chExt cx="446040" cy="909720"/>
          </a:xfrm>
        </p:grpSpPr>
        <p:grpSp>
          <p:nvGrpSpPr>
            <p:cNvPr id="671" name=""/>
            <p:cNvGrpSpPr/>
            <p:nvPr/>
          </p:nvGrpSpPr>
          <p:grpSpPr>
            <a:xfrm>
              <a:off x="6838920" y="3282840"/>
              <a:ext cx="152280" cy="165240"/>
              <a:chOff x="6838920" y="3282840"/>
              <a:chExt cx="152280" cy="165240"/>
            </a:xfrm>
          </p:grpSpPr>
          <p:sp>
            <p:nvSpPr>
              <p:cNvPr id="672" name=""/>
              <p:cNvSpPr/>
              <p:nvPr/>
            </p:nvSpPr>
            <p:spPr>
              <a:xfrm>
                <a:off x="6838920" y="3282840"/>
                <a:ext cx="15228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70600" y="34034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877080" y="3346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40440" y="334656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96160" y="3365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718320" y="345456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40" y="8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32"/>
                  </a:lnTo>
                  <a:lnTo>
                    <a:pt x="96" y="464"/>
                  </a:lnTo>
                  <a:lnTo>
                    <a:pt x="40" y="464"/>
                  </a:lnTo>
                  <a:lnTo>
                    <a:pt x="88" y="200"/>
                  </a:lnTo>
                  <a:lnTo>
                    <a:pt x="64" y="56"/>
                  </a:lnTo>
                  <a:lnTo>
                    <a:pt x="40" y="200"/>
                  </a:lnTo>
                  <a:lnTo>
                    <a:pt x="0" y="192"/>
                  </a:lnTo>
                  <a:lnTo>
                    <a:pt x="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699080" y="3759120"/>
            <a:ext cx="471240" cy="928800"/>
            <a:chOff x="4699080" y="3759120"/>
            <a:chExt cx="471240" cy="928800"/>
          </a:xfrm>
        </p:grpSpPr>
        <p:grpSp>
          <p:nvGrpSpPr>
            <p:cNvPr id="679" name=""/>
            <p:cNvGrpSpPr/>
            <p:nvPr/>
          </p:nvGrpSpPr>
          <p:grpSpPr>
            <a:xfrm>
              <a:off x="4902120" y="3759120"/>
              <a:ext cx="179640" cy="179640"/>
              <a:chOff x="4902120" y="3759120"/>
              <a:chExt cx="179640" cy="179640"/>
            </a:xfrm>
          </p:grpSpPr>
          <p:sp>
            <p:nvSpPr>
              <p:cNvPr id="680" name=""/>
              <p:cNvSpPr/>
              <p:nvPr/>
            </p:nvSpPr>
            <p:spPr>
              <a:xfrm>
                <a:off x="4902120" y="3759120"/>
                <a:ext cx="17964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40280" y="38736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16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65840" y="382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16600" y="383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65840" y="3848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4699080" y="3911760"/>
              <a:ext cx="471240" cy="776160"/>
            </a:xfrm>
            <a:custGeom>
              <a:avLst/>
              <a:gdLst/>
              <a:ahLst/>
              <a:rect l="l" t="t" r="r" b="b"/>
              <a:pathLst>
                <a:path w="297" h="489">
                  <a:moveTo>
                    <a:pt x="88" y="0"/>
                  </a:moveTo>
                  <a:lnTo>
                    <a:pt x="256" y="32"/>
                  </a:lnTo>
                  <a:lnTo>
                    <a:pt x="296" y="224"/>
                  </a:lnTo>
                  <a:lnTo>
                    <a:pt x="256" y="216"/>
                  </a:lnTo>
                  <a:lnTo>
                    <a:pt x="224" y="80"/>
                  </a:lnTo>
                  <a:lnTo>
                    <a:pt x="208" y="232"/>
                  </a:lnTo>
                  <a:lnTo>
                    <a:pt x="208" y="488"/>
                  </a:lnTo>
                  <a:lnTo>
                    <a:pt x="160" y="472"/>
                  </a:lnTo>
                  <a:lnTo>
                    <a:pt x="152" y="240"/>
                  </a:lnTo>
                  <a:lnTo>
                    <a:pt x="64" y="464"/>
                  </a:lnTo>
                  <a:lnTo>
                    <a:pt x="0" y="456"/>
                  </a:lnTo>
                  <a:lnTo>
                    <a:pt x="96" y="208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16" y="184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85800" y="4572000"/>
            <a:ext cx="458640" cy="928800"/>
            <a:chOff x="685800" y="4572000"/>
            <a:chExt cx="458640" cy="928800"/>
          </a:xfrm>
        </p:grpSpPr>
        <p:grpSp>
          <p:nvGrpSpPr>
            <p:cNvPr id="687" name=""/>
            <p:cNvGrpSpPr/>
            <p:nvPr/>
          </p:nvGrpSpPr>
          <p:grpSpPr>
            <a:xfrm>
              <a:off x="888840" y="4572000"/>
              <a:ext cx="179280" cy="179280"/>
              <a:chOff x="888840" y="4572000"/>
              <a:chExt cx="179280" cy="179280"/>
            </a:xfrm>
          </p:grpSpPr>
          <p:sp>
            <p:nvSpPr>
              <p:cNvPr id="688" name=""/>
              <p:cNvSpPr/>
              <p:nvPr/>
            </p:nvSpPr>
            <p:spPr>
              <a:xfrm>
                <a:off x="888840" y="45720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27000" y="469908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16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52560" y="4635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03320" y="4660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52560" y="46609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685800" y="4737240"/>
              <a:ext cx="45864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8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56" y="216"/>
                  </a:lnTo>
                  <a:lnTo>
                    <a:pt x="224" y="72"/>
                  </a:lnTo>
                  <a:lnTo>
                    <a:pt x="208" y="224"/>
                  </a:lnTo>
                  <a:lnTo>
                    <a:pt x="208" y="480"/>
                  </a:lnTo>
                  <a:lnTo>
                    <a:pt x="160" y="472"/>
                  </a:lnTo>
                  <a:lnTo>
                    <a:pt x="152" y="240"/>
                  </a:lnTo>
                  <a:lnTo>
                    <a:pt x="64" y="456"/>
                  </a:lnTo>
                  <a:lnTo>
                    <a:pt x="0" y="448"/>
                  </a:lnTo>
                  <a:lnTo>
                    <a:pt x="96" y="200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16" y="176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962840" y="4908600"/>
            <a:ext cx="446040" cy="909720"/>
            <a:chOff x="7962840" y="4908600"/>
            <a:chExt cx="446040" cy="909720"/>
          </a:xfrm>
        </p:grpSpPr>
        <p:grpSp>
          <p:nvGrpSpPr>
            <p:cNvPr id="695" name=""/>
            <p:cNvGrpSpPr/>
            <p:nvPr/>
          </p:nvGrpSpPr>
          <p:grpSpPr>
            <a:xfrm>
              <a:off x="8134200" y="4908600"/>
              <a:ext cx="152640" cy="164880"/>
              <a:chOff x="8134200" y="4908600"/>
              <a:chExt cx="152640" cy="164880"/>
            </a:xfrm>
          </p:grpSpPr>
          <p:sp>
            <p:nvSpPr>
              <p:cNvPr id="696" name=""/>
              <p:cNvSpPr/>
              <p:nvPr/>
            </p:nvSpPr>
            <p:spPr>
              <a:xfrm>
                <a:off x="8134200" y="4908600"/>
                <a:ext cx="1526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178840" y="5029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236080" y="49719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172360" y="497196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04040" y="4991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7962840" y="5092560"/>
              <a:ext cx="446040" cy="72576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76"/>
                  </a:lnTo>
                  <a:lnTo>
                    <a:pt x="40" y="176"/>
                  </a:lnTo>
                  <a:lnTo>
                    <a:pt x="96" y="48"/>
                  </a:lnTo>
                  <a:lnTo>
                    <a:pt x="80" y="200"/>
                  </a:lnTo>
                  <a:lnTo>
                    <a:pt x="32" y="456"/>
                  </a:lnTo>
                  <a:lnTo>
                    <a:pt x="88" y="448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192"/>
                  </a:lnTo>
                  <a:lnTo>
                    <a:pt x="216" y="48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566040" y="1778040"/>
            <a:ext cx="509400" cy="928800"/>
            <a:chOff x="6566040" y="1778040"/>
            <a:chExt cx="509400" cy="928800"/>
          </a:xfrm>
        </p:grpSpPr>
        <p:grpSp>
          <p:nvGrpSpPr>
            <p:cNvPr id="703" name=""/>
            <p:cNvGrpSpPr/>
            <p:nvPr/>
          </p:nvGrpSpPr>
          <p:grpSpPr>
            <a:xfrm>
              <a:off x="6781680" y="1778040"/>
              <a:ext cx="204840" cy="179280"/>
              <a:chOff x="6781680" y="1778040"/>
              <a:chExt cx="204840" cy="17928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1680" y="1778040"/>
                <a:ext cx="204840" cy="179280"/>
              </a:xfrm>
              <a:custGeom>
                <a:avLst/>
                <a:gdLst/>
                <a:ahLst/>
                <a:rect l="l" t="t" r="r" b="b"/>
                <a:pathLst>
                  <a:path w="129" h="113">
                    <a:moveTo>
                      <a:pt x="128" y="64"/>
                    </a:moveTo>
                    <a:lnTo>
                      <a:pt x="128" y="56"/>
                    </a:lnTo>
                    <a:lnTo>
                      <a:pt x="128" y="48"/>
                    </a:lnTo>
                    <a:lnTo>
                      <a:pt x="128" y="40"/>
                    </a:lnTo>
                    <a:lnTo>
                      <a:pt x="120" y="32"/>
                    </a:lnTo>
                    <a:lnTo>
                      <a:pt x="120" y="24"/>
                    </a:lnTo>
                    <a:lnTo>
                      <a:pt x="112" y="24"/>
                    </a:lnTo>
                    <a:lnTo>
                      <a:pt x="112" y="16"/>
                    </a:lnTo>
                    <a:lnTo>
                      <a:pt x="104" y="16"/>
                    </a:lnTo>
                    <a:lnTo>
                      <a:pt x="104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88"/>
                    </a:lnTo>
                    <a:lnTo>
                      <a:pt x="16" y="96"/>
                    </a:lnTo>
                    <a:lnTo>
                      <a:pt x="24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12"/>
                    </a:lnTo>
                    <a:lnTo>
                      <a:pt x="88" y="112"/>
                    </a:lnTo>
                    <a:lnTo>
                      <a:pt x="88" y="104"/>
                    </a:lnTo>
                    <a:lnTo>
                      <a:pt x="96" y="104"/>
                    </a:lnTo>
                    <a:lnTo>
                      <a:pt x="104" y="104"/>
                    </a:lnTo>
                    <a:lnTo>
                      <a:pt x="104" y="96"/>
                    </a:lnTo>
                    <a:lnTo>
                      <a:pt x="112" y="96"/>
                    </a:lnTo>
                    <a:lnTo>
                      <a:pt x="112" y="88"/>
                    </a:lnTo>
                    <a:lnTo>
                      <a:pt x="120" y="88"/>
                    </a:lnTo>
                    <a:lnTo>
                      <a:pt x="120" y="80"/>
                    </a:lnTo>
                    <a:lnTo>
                      <a:pt x="128" y="72"/>
                    </a:lnTo>
                    <a:lnTo>
                      <a:pt x="128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832440" y="1917720"/>
                <a:ext cx="90720" cy="144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6" y="0"/>
                    </a:moveTo>
                    <a:lnTo>
                      <a:pt x="32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08760" y="1854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845400" y="1854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870600" y="1866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6566040" y="1943280"/>
              <a:ext cx="509400" cy="763560"/>
            </a:xfrm>
            <a:custGeom>
              <a:avLst/>
              <a:gdLst/>
              <a:ahLst/>
              <a:rect l="l" t="t" r="r" b="b"/>
              <a:pathLst>
                <a:path w="321" h="481">
                  <a:moveTo>
                    <a:pt x="288" y="24"/>
                  </a:moveTo>
                  <a:lnTo>
                    <a:pt x="88" y="0"/>
                  </a:lnTo>
                  <a:lnTo>
                    <a:pt x="0" y="176"/>
                  </a:lnTo>
                  <a:lnTo>
                    <a:pt x="40" y="184"/>
                  </a:lnTo>
                  <a:lnTo>
                    <a:pt x="120" y="56"/>
                  </a:lnTo>
                  <a:lnTo>
                    <a:pt x="88" y="208"/>
                  </a:lnTo>
                  <a:lnTo>
                    <a:pt x="16" y="456"/>
                  </a:lnTo>
                  <a:lnTo>
                    <a:pt x="72" y="456"/>
                  </a:lnTo>
                  <a:lnTo>
                    <a:pt x="152" y="232"/>
                  </a:lnTo>
                  <a:lnTo>
                    <a:pt x="184" y="472"/>
                  </a:lnTo>
                  <a:lnTo>
                    <a:pt x="256" y="480"/>
                  </a:lnTo>
                  <a:lnTo>
                    <a:pt x="224" y="216"/>
                  </a:lnTo>
                  <a:lnTo>
                    <a:pt x="256" y="72"/>
                  </a:lnTo>
                  <a:lnTo>
                    <a:pt x="272" y="216"/>
                  </a:lnTo>
                  <a:lnTo>
                    <a:pt x="320" y="216"/>
                  </a:lnTo>
                  <a:lnTo>
                    <a:pt x="288" y="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330800" y="2190600"/>
            <a:ext cx="446040" cy="897120"/>
            <a:chOff x="4330800" y="2190600"/>
            <a:chExt cx="446040" cy="897120"/>
          </a:xfrm>
        </p:grpSpPr>
        <p:grpSp>
          <p:nvGrpSpPr>
            <p:cNvPr id="711" name=""/>
            <p:cNvGrpSpPr/>
            <p:nvPr/>
          </p:nvGrpSpPr>
          <p:grpSpPr>
            <a:xfrm>
              <a:off x="4451400" y="2190600"/>
              <a:ext cx="152280" cy="152640"/>
              <a:chOff x="4451400" y="2190600"/>
              <a:chExt cx="152280" cy="152640"/>
            </a:xfrm>
          </p:grpSpPr>
          <p:sp>
            <p:nvSpPr>
              <p:cNvPr id="712" name=""/>
              <p:cNvSpPr/>
              <p:nvPr/>
            </p:nvSpPr>
            <p:spPr>
              <a:xfrm>
                <a:off x="4451400" y="219060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83080" y="23115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489560" y="22417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552920" y="2254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08640" y="2273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4330800" y="236232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898800" y="3879720"/>
            <a:ext cx="370080" cy="744840"/>
            <a:chOff x="3898800" y="3879720"/>
            <a:chExt cx="370080" cy="744840"/>
          </a:xfrm>
        </p:grpSpPr>
        <p:grpSp>
          <p:nvGrpSpPr>
            <p:cNvPr id="719" name=""/>
            <p:cNvGrpSpPr/>
            <p:nvPr/>
          </p:nvGrpSpPr>
          <p:grpSpPr>
            <a:xfrm>
              <a:off x="4044960" y="3879720"/>
              <a:ext cx="127080" cy="127080"/>
              <a:chOff x="4044960" y="3879720"/>
              <a:chExt cx="127080" cy="127080"/>
            </a:xfrm>
          </p:grpSpPr>
          <p:sp>
            <p:nvSpPr>
              <p:cNvPr id="720" name=""/>
              <p:cNvSpPr/>
              <p:nvPr/>
            </p:nvSpPr>
            <p:spPr>
              <a:xfrm>
                <a:off x="4044960" y="387972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76640" y="397512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121280" y="393048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83120" y="393048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02200" y="394956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3898800" y="4025880"/>
              <a:ext cx="370080" cy="598680"/>
            </a:xfrm>
            <a:custGeom>
              <a:avLst/>
              <a:gdLst/>
              <a:ahLst/>
              <a:rect l="l" t="t" r="r" b="b"/>
              <a:pathLst>
                <a:path w="233" h="377">
                  <a:moveTo>
                    <a:pt x="200" y="0"/>
                  </a:moveTo>
                  <a:lnTo>
                    <a:pt x="56" y="0"/>
                  </a:lnTo>
                  <a:lnTo>
                    <a:pt x="0" y="152"/>
                  </a:lnTo>
                  <a:lnTo>
                    <a:pt x="32" y="152"/>
                  </a:lnTo>
                  <a:lnTo>
                    <a:pt x="80" y="40"/>
                  </a:lnTo>
                  <a:lnTo>
                    <a:pt x="72" y="168"/>
                  </a:lnTo>
                  <a:lnTo>
                    <a:pt x="32" y="376"/>
                  </a:lnTo>
                  <a:lnTo>
                    <a:pt x="72" y="368"/>
                  </a:lnTo>
                  <a:lnTo>
                    <a:pt x="112" y="184"/>
                  </a:lnTo>
                  <a:lnTo>
                    <a:pt x="152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32" y="152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448240" y="4375080"/>
            <a:ext cx="446040" cy="909720"/>
            <a:chOff x="5448240" y="4375080"/>
            <a:chExt cx="446040" cy="909720"/>
          </a:xfrm>
        </p:grpSpPr>
        <p:grpSp>
          <p:nvGrpSpPr>
            <p:cNvPr id="727" name=""/>
            <p:cNvGrpSpPr/>
            <p:nvPr/>
          </p:nvGrpSpPr>
          <p:grpSpPr>
            <a:xfrm>
              <a:off x="5619600" y="4375080"/>
              <a:ext cx="152640" cy="165240"/>
              <a:chOff x="5619600" y="4375080"/>
              <a:chExt cx="152640" cy="165240"/>
            </a:xfrm>
          </p:grpSpPr>
          <p:sp>
            <p:nvSpPr>
              <p:cNvPr id="728" name=""/>
              <p:cNvSpPr/>
              <p:nvPr/>
            </p:nvSpPr>
            <p:spPr>
              <a:xfrm>
                <a:off x="5619600" y="4375080"/>
                <a:ext cx="1526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664240" y="449568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721480" y="44388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57760" y="44388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689440" y="44578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5448240" y="455940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76"/>
                  </a:lnTo>
                  <a:lnTo>
                    <a:pt x="40" y="176"/>
                  </a:lnTo>
                  <a:lnTo>
                    <a:pt x="96" y="48"/>
                  </a:lnTo>
                  <a:lnTo>
                    <a:pt x="80" y="200"/>
                  </a:lnTo>
                  <a:lnTo>
                    <a:pt x="32" y="456"/>
                  </a:lnTo>
                  <a:lnTo>
                    <a:pt x="88" y="448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192"/>
                  </a:lnTo>
                  <a:lnTo>
                    <a:pt x="216" y="48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651640" y="4902120"/>
            <a:ext cx="458640" cy="941400"/>
            <a:chOff x="5651640" y="4902120"/>
            <a:chExt cx="458640" cy="941400"/>
          </a:xfrm>
        </p:grpSpPr>
        <p:grpSp>
          <p:nvGrpSpPr>
            <p:cNvPr id="735" name=""/>
            <p:cNvGrpSpPr/>
            <p:nvPr/>
          </p:nvGrpSpPr>
          <p:grpSpPr>
            <a:xfrm>
              <a:off x="5842080" y="4902120"/>
              <a:ext cx="179280" cy="179640"/>
              <a:chOff x="5842080" y="4902120"/>
              <a:chExt cx="179280" cy="179640"/>
            </a:xfrm>
          </p:grpSpPr>
          <p:sp>
            <p:nvSpPr>
              <p:cNvPr id="736" name=""/>
              <p:cNvSpPr/>
              <p:nvPr/>
            </p:nvSpPr>
            <p:spPr>
              <a:xfrm>
                <a:off x="5842080" y="49021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80240" y="5029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05440" y="4978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6200" y="4991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05440" y="4991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5651640" y="506736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72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92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267080" y="5137200"/>
            <a:ext cx="395280" cy="795240"/>
            <a:chOff x="4267080" y="5137200"/>
            <a:chExt cx="395280" cy="795240"/>
          </a:xfrm>
        </p:grpSpPr>
        <p:grpSp>
          <p:nvGrpSpPr>
            <p:cNvPr id="743" name=""/>
            <p:cNvGrpSpPr/>
            <p:nvPr/>
          </p:nvGrpSpPr>
          <p:grpSpPr>
            <a:xfrm>
              <a:off x="4375080" y="5137200"/>
              <a:ext cx="139680" cy="139680"/>
              <a:chOff x="4375080" y="5137200"/>
              <a:chExt cx="139680" cy="139680"/>
            </a:xfrm>
          </p:grpSpPr>
          <p:sp>
            <p:nvSpPr>
              <p:cNvPr id="744" name=""/>
              <p:cNvSpPr/>
              <p:nvPr/>
            </p:nvSpPr>
            <p:spPr>
              <a:xfrm>
                <a:off x="4375080" y="51372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06760" y="524520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13240" y="5187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64000" y="5187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432320" y="520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4267080" y="529596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009960" y="3346560"/>
            <a:ext cx="407880" cy="820800"/>
            <a:chOff x="3009960" y="3346560"/>
            <a:chExt cx="407880" cy="820800"/>
          </a:xfrm>
        </p:grpSpPr>
        <p:grpSp>
          <p:nvGrpSpPr>
            <p:cNvPr id="751" name=""/>
            <p:cNvGrpSpPr/>
            <p:nvPr/>
          </p:nvGrpSpPr>
          <p:grpSpPr>
            <a:xfrm>
              <a:off x="3168720" y="3346560"/>
              <a:ext cx="139680" cy="139680"/>
              <a:chOff x="3168720" y="3346560"/>
              <a:chExt cx="139680" cy="139680"/>
            </a:xfrm>
          </p:grpSpPr>
          <p:sp>
            <p:nvSpPr>
              <p:cNvPr id="752" name=""/>
              <p:cNvSpPr/>
              <p:nvPr/>
            </p:nvSpPr>
            <p:spPr>
              <a:xfrm>
                <a:off x="3168720" y="334656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00400" y="34545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257640" y="3397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206880" y="3397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225960" y="3416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3009960" y="350532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536840" y="4743360"/>
            <a:ext cx="446040" cy="897120"/>
            <a:chOff x="1536840" y="4743360"/>
            <a:chExt cx="446040" cy="897120"/>
          </a:xfrm>
        </p:grpSpPr>
        <p:grpSp>
          <p:nvGrpSpPr>
            <p:cNvPr id="759" name=""/>
            <p:cNvGrpSpPr/>
            <p:nvPr/>
          </p:nvGrpSpPr>
          <p:grpSpPr>
            <a:xfrm>
              <a:off x="1657440" y="4743360"/>
              <a:ext cx="164880" cy="152640"/>
              <a:chOff x="1657440" y="4743360"/>
              <a:chExt cx="164880" cy="152640"/>
            </a:xfrm>
          </p:grpSpPr>
          <p:sp>
            <p:nvSpPr>
              <p:cNvPr id="760" name=""/>
              <p:cNvSpPr/>
              <p:nvPr/>
            </p:nvSpPr>
            <p:spPr>
              <a:xfrm>
                <a:off x="1657440" y="4743360"/>
                <a:ext cx="1648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01720" y="486396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8200" y="47941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58960" y="4807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27280" y="481320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536840" y="491508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92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200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486080" y="3803760"/>
            <a:ext cx="407880" cy="820800"/>
            <a:chOff x="1486080" y="3803760"/>
            <a:chExt cx="407880" cy="820800"/>
          </a:xfrm>
        </p:grpSpPr>
        <p:grpSp>
          <p:nvGrpSpPr>
            <p:cNvPr id="767" name=""/>
            <p:cNvGrpSpPr/>
            <p:nvPr/>
          </p:nvGrpSpPr>
          <p:grpSpPr>
            <a:xfrm>
              <a:off x="1644480" y="3803760"/>
              <a:ext cx="140040" cy="139680"/>
              <a:chOff x="1644480" y="3803760"/>
              <a:chExt cx="140040" cy="139680"/>
            </a:xfrm>
          </p:grpSpPr>
          <p:sp>
            <p:nvSpPr>
              <p:cNvPr id="768" name=""/>
              <p:cNvSpPr/>
              <p:nvPr/>
            </p:nvSpPr>
            <p:spPr>
              <a:xfrm>
                <a:off x="1644480" y="3803760"/>
                <a:ext cx="14004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76520" y="39117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33400" y="38545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682640" y="38545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1720" y="387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1486080" y="396252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562720" y="1892160"/>
            <a:ext cx="458640" cy="928800"/>
            <a:chOff x="5562720" y="1892160"/>
            <a:chExt cx="458640" cy="928800"/>
          </a:xfrm>
        </p:grpSpPr>
        <p:grpSp>
          <p:nvGrpSpPr>
            <p:cNvPr id="775" name=""/>
            <p:cNvGrpSpPr/>
            <p:nvPr/>
          </p:nvGrpSpPr>
          <p:grpSpPr>
            <a:xfrm>
              <a:off x="5753160" y="1892160"/>
              <a:ext cx="179280" cy="179640"/>
              <a:chOff x="5753160" y="1892160"/>
              <a:chExt cx="179280" cy="179640"/>
            </a:xfrm>
          </p:grpSpPr>
          <p:sp>
            <p:nvSpPr>
              <p:cNvPr id="776" name=""/>
              <p:cNvSpPr/>
              <p:nvPr/>
            </p:nvSpPr>
            <p:spPr>
              <a:xfrm>
                <a:off x="5753160" y="189216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791320" y="20066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16520" y="19558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7280" y="1968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16520" y="1981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562720" y="204480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48" y="216"/>
                  </a:lnTo>
                  <a:lnTo>
                    <a:pt x="216" y="80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56"/>
                  </a:lnTo>
                  <a:lnTo>
                    <a:pt x="88" y="208"/>
                  </a:lnTo>
                  <a:lnTo>
                    <a:pt x="96" y="56"/>
                  </a:lnTo>
                  <a:lnTo>
                    <a:pt x="40" y="192"/>
                  </a:lnTo>
                  <a:lnTo>
                    <a:pt x="8" y="184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7746840" y="5334120"/>
            <a:ext cx="459000" cy="928440"/>
            <a:chOff x="7746840" y="5334120"/>
            <a:chExt cx="459000" cy="928440"/>
          </a:xfrm>
        </p:grpSpPr>
        <p:grpSp>
          <p:nvGrpSpPr>
            <p:cNvPr id="783" name=""/>
            <p:cNvGrpSpPr/>
            <p:nvPr/>
          </p:nvGrpSpPr>
          <p:grpSpPr>
            <a:xfrm>
              <a:off x="7937640" y="5334120"/>
              <a:ext cx="179280" cy="179280"/>
              <a:chOff x="7937640" y="5334120"/>
              <a:chExt cx="179280" cy="179280"/>
            </a:xfrm>
          </p:grpSpPr>
          <p:sp>
            <p:nvSpPr>
              <p:cNvPr id="784" name=""/>
              <p:cNvSpPr/>
              <p:nvPr/>
            </p:nvSpPr>
            <p:spPr>
              <a:xfrm>
                <a:off x="7937640" y="533412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975440" y="5448240"/>
                <a:ext cx="7812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001000" y="53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051760" y="5410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01000" y="5423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7746840" y="549900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7785000" y="4260960"/>
            <a:ext cx="370080" cy="744480"/>
            <a:chOff x="7785000" y="4260960"/>
            <a:chExt cx="370080" cy="744480"/>
          </a:xfrm>
        </p:grpSpPr>
        <p:grpSp>
          <p:nvGrpSpPr>
            <p:cNvPr id="791" name=""/>
            <p:cNvGrpSpPr/>
            <p:nvPr/>
          </p:nvGrpSpPr>
          <p:grpSpPr>
            <a:xfrm>
              <a:off x="7931160" y="4260960"/>
              <a:ext cx="127080" cy="126720"/>
              <a:chOff x="7931160" y="4260960"/>
              <a:chExt cx="127080" cy="126720"/>
            </a:xfrm>
          </p:grpSpPr>
          <p:sp>
            <p:nvSpPr>
              <p:cNvPr id="792" name=""/>
              <p:cNvSpPr/>
              <p:nvPr/>
            </p:nvSpPr>
            <p:spPr>
              <a:xfrm>
                <a:off x="7931160" y="42609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62840" y="435600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07480" y="43117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69320" y="431172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88400" y="433080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7785000" y="4406760"/>
              <a:ext cx="370080" cy="598680"/>
            </a:xfrm>
            <a:custGeom>
              <a:avLst/>
              <a:gdLst/>
              <a:ahLst/>
              <a:rect l="l" t="t" r="r" b="b"/>
              <a:pathLst>
                <a:path w="233" h="377">
                  <a:moveTo>
                    <a:pt x="200" y="0"/>
                  </a:moveTo>
                  <a:lnTo>
                    <a:pt x="56" y="0"/>
                  </a:lnTo>
                  <a:lnTo>
                    <a:pt x="0" y="152"/>
                  </a:lnTo>
                  <a:lnTo>
                    <a:pt x="32" y="152"/>
                  </a:lnTo>
                  <a:lnTo>
                    <a:pt x="80" y="40"/>
                  </a:lnTo>
                  <a:lnTo>
                    <a:pt x="72" y="168"/>
                  </a:lnTo>
                  <a:lnTo>
                    <a:pt x="32" y="376"/>
                  </a:lnTo>
                  <a:lnTo>
                    <a:pt x="72" y="368"/>
                  </a:lnTo>
                  <a:lnTo>
                    <a:pt x="112" y="184"/>
                  </a:lnTo>
                  <a:lnTo>
                    <a:pt x="152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32" y="152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594240" y="2521080"/>
            <a:ext cx="357120" cy="744480"/>
            <a:chOff x="3594240" y="2521080"/>
            <a:chExt cx="357120" cy="744480"/>
          </a:xfrm>
        </p:grpSpPr>
        <p:grpSp>
          <p:nvGrpSpPr>
            <p:cNvPr id="799" name=""/>
            <p:cNvGrpSpPr/>
            <p:nvPr/>
          </p:nvGrpSpPr>
          <p:grpSpPr>
            <a:xfrm>
              <a:off x="3727440" y="2521080"/>
              <a:ext cx="127080" cy="126720"/>
              <a:chOff x="3727440" y="2521080"/>
              <a:chExt cx="127080" cy="126720"/>
            </a:xfrm>
          </p:grpSpPr>
          <p:sp>
            <p:nvSpPr>
              <p:cNvPr id="800" name=""/>
              <p:cNvSpPr/>
              <p:nvPr/>
            </p:nvSpPr>
            <p:spPr>
              <a:xfrm>
                <a:off x="3727440" y="252108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759120" y="261612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16360" y="257184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65600" y="2571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784680" y="2590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3594240" y="2666880"/>
              <a:ext cx="35712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562720" y="3460680"/>
            <a:ext cx="395280" cy="795240"/>
            <a:chOff x="5562720" y="3460680"/>
            <a:chExt cx="395280" cy="795240"/>
          </a:xfrm>
        </p:grpSpPr>
        <p:grpSp>
          <p:nvGrpSpPr>
            <p:cNvPr id="807" name=""/>
            <p:cNvGrpSpPr/>
            <p:nvPr/>
          </p:nvGrpSpPr>
          <p:grpSpPr>
            <a:xfrm>
              <a:off x="5670720" y="3460680"/>
              <a:ext cx="139680" cy="139680"/>
              <a:chOff x="5670720" y="3460680"/>
              <a:chExt cx="139680" cy="139680"/>
            </a:xfrm>
          </p:grpSpPr>
          <p:sp>
            <p:nvSpPr>
              <p:cNvPr id="808" name=""/>
              <p:cNvSpPr/>
              <p:nvPr/>
            </p:nvSpPr>
            <p:spPr>
              <a:xfrm>
                <a:off x="5670720" y="34606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02400" y="356868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708520" y="351144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59280" y="351144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27600" y="3530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5562720" y="361944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413080" y="3505320"/>
            <a:ext cx="458640" cy="928440"/>
            <a:chOff x="2413080" y="3505320"/>
            <a:chExt cx="458640" cy="928440"/>
          </a:xfrm>
        </p:grpSpPr>
        <p:grpSp>
          <p:nvGrpSpPr>
            <p:cNvPr id="815" name=""/>
            <p:cNvGrpSpPr/>
            <p:nvPr/>
          </p:nvGrpSpPr>
          <p:grpSpPr>
            <a:xfrm>
              <a:off x="2603520" y="3505320"/>
              <a:ext cx="179280" cy="179280"/>
              <a:chOff x="2603520" y="3505320"/>
              <a:chExt cx="179280" cy="179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603520" y="350532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41680" y="36194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66880" y="35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17640" y="35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666880" y="3594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2413080" y="3670200"/>
              <a:ext cx="45864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2374920" y="2019240"/>
            <a:ext cx="458640" cy="928800"/>
            <a:chOff x="2374920" y="2019240"/>
            <a:chExt cx="458640" cy="928800"/>
          </a:xfrm>
        </p:grpSpPr>
        <p:grpSp>
          <p:nvGrpSpPr>
            <p:cNvPr id="823" name=""/>
            <p:cNvGrpSpPr/>
            <p:nvPr/>
          </p:nvGrpSpPr>
          <p:grpSpPr>
            <a:xfrm>
              <a:off x="2463840" y="2019240"/>
              <a:ext cx="179280" cy="179280"/>
              <a:chOff x="2463840" y="2019240"/>
              <a:chExt cx="179280" cy="179280"/>
            </a:xfrm>
          </p:grpSpPr>
          <p:sp>
            <p:nvSpPr>
              <p:cNvPr id="824" name=""/>
              <p:cNvSpPr/>
              <p:nvPr/>
            </p:nvSpPr>
            <p:spPr>
              <a:xfrm>
                <a:off x="2463840" y="20192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27200" y="21337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77960" y="2082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14600" y="2095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2760" y="21081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374920" y="217188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0" y="0"/>
                  </a:moveTo>
                  <a:lnTo>
                    <a:pt x="32" y="32"/>
                  </a:lnTo>
                  <a:lnTo>
                    <a:pt x="0" y="224"/>
                  </a:lnTo>
                  <a:lnTo>
                    <a:pt x="32" y="216"/>
                  </a:lnTo>
                  <a:lnTo>
                    <a:pt x="72" y="80"/>
                  </a:lnTo>
                  <a:lnTo>
                    <a:pt x="80" y="232"/>
                  </a:lnTo>
                  <a:lnTo>
                    <a:pt x="80" y="488"/>
                  </a:lnTo>
                  <a:lnTo>
                    <a:pt x="128" y="472"/>
                  </a:lnTo>
                  <a:lnTo>
                    <a:pt x="144" y="240"/>
                  </a:lnTo>
                  <a:lnTo>
                    <a:pt x="224" y="464"/>
                  </a:lnTo>
                  <a:lnTo>
                    <a:pt x="288" y="456"/>
                  </a:lnTo>
                  <a:lnTo>
                    <a:pt x="192" y="208"/>
                  </a:lnTo>
                  <a:lnTo>
                    <a:pt x="184" y="56"/>
                  </a:lnTo>
                  <a:lnTo>
                    <a:pt x="240" y="192"/>
                  </a:lnTo>
                  <a:lnTo>
                    <a:pt x="280" y="184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895480" y="2013120"/>
            <a:ext cx="395280" cy="795240"/>
            <a:chOff x="2895480" y="2013120"/>
            <a:chExt cx="395280" cy="795240"/>
          </a:xfrm>
        </p:grpSpPr>
        <p:grpSp>
          <p:nvGrpSpPr>
            <p:cNvPr id="831" name=""/>
            <p:cNvGrpSpPr/>
            <p:nvPr/>
          </p:nvGrpSpPr>
          <p:grpSpPr>
            <a:xfrm>
              <a:off x="3003480" y="2013120"/>
              <a:ext cx="139680" cy="139680"/>
              <a:chOff x="3003480" y="2013120"/>
              <a:chExt cx="139680" cy="139680"/>
            </a:xfrm>
          </p:grpSpPr>
          <p:sp>
            <p:nvSpPr>
              <p:cNvPr id="832" name=""/>
              <p:cNvSpPr/>
              <p:nvPr/>
            </p:nvSpPr>
            <p:spPr>
              <a:xfrm>
                <a:off x="3003480" y="20131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035160" y="2120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41640" y="20638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092400" y="20638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60720" y="2082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2895480" y="217188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575080" y="4902120"/>
            <a:ext cx="458640" cy="928800"/>
            <a:chOff x="2575080" y="4902120"/>
            <a:chExt cx="458640" cy="928800"/>
          </a:xfrm>
        </p:grpSpPr>
        <p:grpSp>
          <p:nvGrpSpPr>
            <p:cNvPr id="839" name=""/>
            <p:cNvGrpSpPr/>
            <p:nvPr/>
          </p:nvGrpSpPr>
          <p:grpSpPr>
            <a:xfrm>
              <a:off x="2664000" y="4902120"/>
              <a:ext cx="179280" cy="179640"/>
              <a:chOff x="2664000" y="4902120"/>
              <a:chExt cx="179280" cy="179640"/>
            </a:xfrm>
          </p:grpSpPr>
          <p:sp>
            <p:nvSpPr>
              <p:cNvPr id="840" name=""/>
              <p:cNvSpPr/>
              <p:nvPr/>
            </p:nvSpPr>
            <p:spPr>
              <a:xfrm>
                <a:off x="2664000" y="49021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727360" y="50166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778120" y="496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27360" y="4978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752560" y="499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575080" y="505476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80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8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981080" y="4210200"/>
            <a:ext cx="357480" cy="744480"/>
            <a:chOff x="1981080" y="4210200"/>
            <a:chExt cx="357480" cy="744480"/>
          </a:xfrm>
        </p:grpSpPr>
        <p:grpSp>
          <p:nvGrpSpPr>
            <p:cNvPr id="847" name=""/>
            <p:cNvGrpSpPr/>
            <p:nvPr/>
          </p:nvGrpSpPr>
          <p:grpSpPr>
            <a:xfrm>
              <a:off x="2114640" y="4210200"/>
              <a:ext cx="127080" cy="126720"/>
              <a:chOff x="2114640" y="4210200"/>
              <a:chExt cx="127080" cy="126720"/>
            </a:xfrm>
          </p:grpSpPr>
          <p:sp>
            <p:nvSpPr>
              <p:cNvPr id="848" name=""/>
              <p:cNvSpPr/>
              <p:nvPr/>
            </p:nvSpPr>
            <p:spPr>
              <a:xfrm>
                <a:off x="2114640" y="421020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146320" y="43052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03560" y="426096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52800" y="4260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71880" y="42800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1981080" y="4356000"/>
              <a:ext cx="35748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289560" y="3794040"/>
            <a:ext cx="459000" cy="928800"/>
            <a:chOff x="6289560" y="3794040"/>
            <a:chExt cx="459000" cy="928800"/>
          </a:xfrm>
        </p:grpSpPr>
        <p:grpSp>
          <p:nvGrpSpPr>
            <p:cNvPr id="855" name=""/>
            <p:cNvGrpSpPr/>
            <p:nvPr/>
          </p:nvGrpSpPr>
          <p:grpSpPr>
            <a:xfrm>
              <a:off x="6480000" y="3794040"/>
              <a:ext cx="179640" cy="179640"/>
              <a:chOff x="6480000" y="3794040"/>
              <a:chExt cx="179640" cy="179640"/>
            </a:xfrm>
          </p:grpSpPr>
          <p:sp>
            <p:nvSpPr>
              <p:cNvPr id="856" name=""/>
              <p:cNvSpPr/>
              <p:nvPr/>
            </p:nvSpPr>
            <p:spPr>
              <a:xfrm>
                <a:off x="6480000" y="3794040"/>
                <a:ext cx="17964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518160" y="39085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543720" y="385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594480" y="3870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543720" y="3882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6289560" y="395928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48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0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120080" y="3627360"/>
            <a:ext cx="357120" cy="744480"/>
            <a:chOff x="7120080" y="3627360"/>
            <a:chExt cx="357120" cy="744480"/>
          </a:xfrm>
        </p:grpSpPr>
        <p:grpSp>
          <p:nvGrpSpPr>
            <p:cNvPr id="863" name=""/>
            <p:cNvGrpSpPr/>
            <p:nvPr/>
          </p:nvGrpSpPr>
          <p:grpSpPr>
            <a:xfrm>
              <a:off x="7253280" y="3627360"/>
              <a:ext cx="127080" cy="127080"/>
              <a:chOff x="7253280" y="3627360"/>
              <a:chExt cx="127080" cy="127080"/>
            </a:xfrm>
          </p:grpSpPr>
          <p:sp>
            <p:nvSpPr>
              <p:cNvPr id="864" name=""/>
              <p:cNvSpPr/>
              <p:nvPr/>
            </p:nvSpPr>
            <p:spPr>
              <a:xfrm>
                <a:off x="7253280" y="3627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84960" y="3722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42200" y="367812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291440" y="36781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10520" y="369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7120080" y="3773520"/>
              <a:ext cx="357120" cy="59832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813200" y="4468680"/>
            <a:ext cx="370080" cy="744840"/>
            <a:chOff x="4813200" y="4468680"/>
            <a:chExt cx="370080" cy="744840"/>
          </a:xfrm>
        </p:grpSpPr>
        <p:grpSp>
          <p:nvGrpSpPr>
            <p:cNvPr id="871" name=""/>
            <p:cNvGrpSpPr/>
            <p:nvPr/>
          </p:nvGrpSpPr>
          <p:grpSpPr>
            <a:xfrm>
              <a:off x="4959360" y="4468680"/>
              <a:ext cx="127080" cy="127080"/>
              <a:chOff x="4959360" y="4468680"/>
              <a:chExt cx="127080" cy="127080"/>
            </a:xfrm>
          </p:grpSpPr>
          <p:sp>
            <p:nvSpPr>
              <p:cNvPr id="872" name=""/>
              <p:cNvSpPr/>
              <p:nvPr/>
            </p:nvSpPr>
            <p:spPr>
              <a:xfrm>
                <a:off x="4959360" y="44686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991040" y="45640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035680" y="451944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97520" y="451944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16600" y="453852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4813200" y="4614840"/>
              <a:ext cx="370080" cy="598680"/>
            </a:xfrm>
            <a:custGeom>
              <a:avLst/>
              <a:gdLst/>
              <a:ahLst/>
              <a:rect l="l" t="t" r="r" b="b"/>
              <a:pathLst>
                <a:path w="233" h="377">
                  <a:moveTo>
                    <a:pt x="200" y="0"/>
                  </a:moveTo>
                  <a:lnTo>
                    <a:pt x="56" y="0"/>
                  </a:lnTo>
                  <a:lnTo>
                    <a:pt x="0" y="152"/>
                  </a:lnTo>
                  <a:lnTo>
                    <a:pt x="32" y="152"/>
                  </a:lnTo>
                  <a:lnTo>
                    <a:pt x="80" y="40"/>
                  </a:lnTo>
                  <a:lnTo>
                    <a:pt x="72" y="168"/>
                  </a:lnTo>
                  <a:lnTo>
                    <a:pt x="32" y="376"/>
                  </a:lnTo>
                  <a:lnTo>
                    <a:pt x="72" y="368"/>
                  </a:lnTo>
                  <a:lnTo>
                    <a:pt x="112" y="184"/>
                  </a:lnTo>
                  <a:lnTo>
                    <a:pt x="152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32" y="152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127400" y="2814480"/>
            <a:ext cx="357120" cy="744840"/>
            <a:chOff x="4127400" y="2814480"/>
            <a:chExt cx="357120" cy="744840"/>
          </a:xfrm>
        </p:grpSpPr>
        <p:grpSp>
          <p:nvGrpSpPr>
            <p:cNvPr id="879" name=""/>
            <p:cNvGrpSpPr/>
            <p:nvPr/>
          </p:nvGrpSpPr>
          <p:grpSpPr>
            <a:xfrm>
              <a:off x="4260960" y="2814480"/>
              <a:ext cx="126720" cy="127080"/>
              <a:chOff x="4260960" y="2814480"/>
              <a:chExt cx="126720" cy="127080"/>
            </a:xfrm>
          </p:grpSpPr>
          <p:sp>
            <p:nvSpPr>
              <p:cNvPr id="880" name=""/>
              <p:cNvSpPr/>
              <p:nvPr/>
            </p:nvSpPr>
            <p:spPr>
              <a:xfrm>
                <a:off x="4260960" y="28144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92640" y="29098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349880" y="286560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299120" y="28656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317840" y="2884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127400" y="2960640"/>
              <a:ext cx="35712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246560" y="3368520"/>
            <a:ext cx="425520" cy="781200"/>
            <a:chOff x="4246560" y="3368520"/>
            <a:chExt cx="425520" cy="781200"/>
          </a:xfrm>
        </p:grpSpPr>
        <p:grpSp>
          <p:nvGrpSpPr>
            <p:cNvPr id="887" name=""/>
            <p:cNvGrpSpPr/>
            <p:nvPr/>
          </p:nvGrpSpPr>
          <p:grpSpPr>
            <a:xfrm>
              <a:off x="4413240" y="3368520"/>
              <a:ext cx="149400" cy="133560"/>
              <a:chOff x="4413240" y="3368520"/>
              <a:chExt cx="149400" cy="133560"/>
            </a:xfrm>
          </p:grpSpPr>
          <p:sp>
            <p:nvSpPr>
              <p:cNvPr id="888" name=""/>
              <p:cNvSpPr/>
              <p:nvPr/>
            </p:nvSpPr>
            <p:spPr>
              <a:xfrm>
                <a:off x="4413240" y="3368520"/>
                <a:ext cx="149400" cy="133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451400" y="3468600"/>
                <a:ext cx="74520" cy="2880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6" y="0"/>
                    </a:moveTo>
                    <a:lnTo>
                      <a:pt x="18" y="17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02160" y="3422520"/>
                <a:ext cx="158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457880" y="342252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479840" y="344160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0" y="17"/>
                    </a:lnTo>
                    <a:lnTo>
                      <a:pt x="1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4246560" y="3522600"/>
              <a:ext cx="425520" cy="627120"/>
            </a:xfrm>
            <a:custGeom>
              <a:avLst/>
              <a:gdLst/>
              <a:ahLst/>
              <a:rect l="l" t="t" r="r" b="b"/>
              <a:pathLst>
                <a:path w="268" h="395">
                  <a:moveTo>
                    <a:pt x="230" y="0"/>
                  </a:moveTo>
                  <a:lnTo>
                    <a:pt x="64" y="0"/>
                  </a:lnTo>
                  <a:lnTo>
                    <a:pt x="0" y="159"/>
                  </a:lnTo>
                  <a:lnTo>
                    <a:pt x="37" y="159"/>
                  </a:lnTo>
                  <a:lnTo>
                    <a:pt x="92" y="42"/>
                  </a:lnTo>
                  <a:lnTo>
                    <a:pt x="83" y="176"/>
                  </a:lnTo>
                  <a:lnTo>
                    <a:pt x="37" y="394"/>
                  </a:lnTo>
                  <a:lnTo>
                    <a:pt x="83" y="386"/>
                  </a:lnTo>
                  <a:lnTo>
                    <a:pt x="129" y="193"/>
                  </a:lnTo>
                  <a:lnTo>
                    <a:pt x="175" y="394"/>
                  </a:lnTo>
                  <a:lnTo>
                    <a:pt x="230" y="394"/>
                  </a:lnTo>
                  <a:lnTo>
                    <a:pt x="184" y="168"/>
                  </a:lnTo>
                  <a:lnTo>
                    <a:pt x="203" y="42"/>
                  </a:lnTo>
                  <a:lnTo>
                    <a:pt x="230" y="168"/>
                  </a:lnTo>
                  <a:lnTo>
                    <a:pt x="267" y="159"/>
                  </a:lnTo>
                  <a:lnTo>
                    <a:pt x="2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866960" y="1955880"/>
            <a:ext cx="458640" cy="941400"/>
            <a:chOff x="1866960" y="1955880"/>
            <a:chExt cx="458640" cy="941400"/>
          </a:xfrm>
        </p:grpSpPr>
        <p:grpSp>
          <p:nvGrpSpPr>
            <p:cNvPr id="895" name=""/>
            <p:cNvGrpSpPr/>
            <p:nvPr/>
          </p:nvGrpSpPr>
          <p:grpSpPr>
            <a:xfrm>
              <a:off x="1955880" y="1955880"/>
              <a:ext cx="179280" cy="179280"/>
              <a:chOff x="1955880" y="1955880"/>
              <a:chExt cx="179280" cy="179280"/>
            </a:xfrm>
          </p:grpSpPr>
          <p:sp>
            <p:nvSpPr>
              <p:cNvPr id="896" name=""/>
              <p:cNvSpPr/>
              <p:nvPr/>
            </p:nvSpPr>
            <p:spPr>
              <a:xfrm>
                <a:off x="1955880" y="195588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019240" y="20829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070000" y="2031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019240" y="204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044800" y="20448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866960" y="2120760"/>
              <a:ext cx="458640" cy="77652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8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76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685880" y="2817720"/>
            <a:ext cx="459000" cy="928800"/>
            <a:chOff x="1685880" y="2817720"/>
            <a:chExt cx="459000" cy="928800"/>
          </a:xfrm>
        </p:grpSpPr>
        <p:grpSp>
          <p:nvGrpSpPr>
            <p:cNvPr id="903" name=""/>
            <p:cNvGrpSpPr/>
            <p:nvPr/>
          </p:nvGrpSpPr>
          <p:grpSpPr>
            <a:xfrm>
              <a:off x="1889280" y="2817720"/>
              <a:ext cx="179280" cy="179640"/>
              <a:chOff x="1889280" y="2817720"/>
              <a:chExt cx="179280" cy="179640"/>
            </a:xfrm>
          </p:grpSpPr>
          <p:sp>
            <p:nvSpPr>
              <p:cNvPr id="904" name=""/>
              <p:cNvSpPr/>
              <p:nvPr/>
            </p:nvSpPr>
            <p:spPr>
              <a:xfrm>
                <a:off x="1889280" y="28177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27080" y="29448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16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2640" y="288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003400" y="2906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52640" y="2906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1685880" y="298296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8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56" y="216"/>
                  </a:lnTo>
                  <a:lnTo>
                    <a:pt x="224" y="72"/>
                  </a:lnTo>
                  <a:lnTo>
                    <a:pt x="208" y="224"/>
                  </a:lnTo>
                  <a:lnTo>
                    <a:pt x="208" y="480"/>
                  </a:lnTo>
                  <a:lnTo>
                    <a:pt x="160" y="472"/>
                  </a:lnTo>
                  <a:lnTo>
                    <a:pt x="152" y="240"/>
                  </a:lnTo>
                  <a:lnTo>
                    <a:pt x="64" y="456"/>
                  </a:lnTo>
                  <a:lnTo>
                    <a:pt x="0" y="448"/>
                  </a:lnTo>
                  <a:lnTo>
                    <a:pt x="96" y="200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16" y="176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8077320" y="1905120"/>
            <a:ext cx="446040" cy="896400"/>
            <a:chOff x="8077320" y="1905120"/>
            <a:chExt cx="446040" cy="896400"/>
          </a:xfrm>
        </p:grpSpPr>
        <p:grpSp>
          <p:nvGrpSpPr>
            <p:cNvPr id="911" name=""/>
            <p:cNvGrpSpPr/>
            <p:nvPr/>
          </p:nvGrpSpPr>
          <p:grpSpPr>
            <a:xfrm>
              <a:off x="8197920" y="1905120"/>
              <a:ext cx="152280" cy="152280"/>
              <a:chOff x="8197920" y="1905120"/>
              <a:chExt cx="152280" cy="152280"/>
            </a:xfrm>
          </p:grpSpPr>
          <p:sp>
            <p:nvSpPr>
              <p:cNvPr id="912" name=""/>
              <p:cNvSpPr/>
              <p:nvPr/>
            </p:nvSpPr>
            <p:spPr>
              <a:xfrm>
                <a:off x="8197920" y="1905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229600" y="202572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236080" y="1955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299440" y="19684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255160" y="19875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8077320" y="207648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8153280" y="2819520"/>
            <a:ext cx="446040" cy="896400"/>
            <a:chOff x="8153280" y="2819520"/>
            <a:chExt cx="446040" cy="896400"/>
          </a:xfrm>
        </p:grpSpPr>
        <p:grpSp>
          <p:nvGrpSpPr>
            <p:cNvPr id="919" name=""/>
            <p:cNvGrpSpPr/>
            <p:nvPr/>
          </p:nvGrpSpPr>
          <p:grpSpPr>
            <a:xfrm>
              <a:off x="8273880" y="2819520"/>
              <a:ext cx="152280" cy="152280"/>
              <a:chOff x="8273880" y="2819520"/>
              <a:chExt cx="152280" cy="152280"/>
            </a:xfrm>
          </p:grpSpPr>
          <p:sp>
            <p:nvSpPr>
              <p:cNvPr id="920" name=""/>
              <p:cNvSpPr/>
              <p:nvPr/>
            </p:nvSpPr>
            <p:spPr>
              <a:xfrm>
                <a:off x="8273880" y="2819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305560" y="294012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12040" y="28702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75400" y="2882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31120" y="2901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8153280" y="299088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066680" y="2286000"/>
            <a:ext cx="446040" cy="896400"/>
            <a:chOff x="1066680" y="2286000"/>
            <a:chExt cx="446040" cy="896400"/>
          </a:xfrm>
        </p:grpSpPr>
        <p:grpSp>
          <p:nvGrpSpPr>
            <p:cNvPr id="927" name=""/>
            <p:cNvGrpSpPr/>
            <p:nvPr/>
          </p:nvGrpSpPr>
          <p:grpSpPr>
            <a:xfrm>
              <a:off x="1187280" y="2286000"/>
              <a:ext cx="152280" cy="152280"/>
              <a:chOff x="1187280" y="2286000"/>
              <a:chExt cx="152280" cy="152280"/>
            </a:xfrm>
          </p:grpSpPr>
          <p:sp>
            <p:nvSpPr>
              <p:cNvPr id="928" name=""/>
              <p:cNvSpPr/>
              <p:nvPr/>
            </p:nvSpPr>
            <p:spPr>
              <a:xfrm>
                <a:off x="1187280" y="22860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18960" y="240660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25440" y="233676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288800" y="234936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244520" y="23684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1066680" y="245736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066680" y="2819520"/>
            <a:ext cx="446040" cy="896400"/>
            <a:chOff x="1066680" y="2819520"/>
            <a:chExt cx="446040" cy="896400"/>
          </a:xfrm>
        </p:grpSpPr>
        <p:grpSp>
          <p:nvGrpSpPr>
            <p:cNvPr id="935" name=""/>
            <p:cNvGrpSpPr/>
            <p:nvPr/>
          </p:nvGrpSpPr>
          <p:grpSpPr>
            <a:xfrm>
              <a:off x="1187280" y="2819520"/>
              <a:ext cx="152280" cy="152280"/>
              <a:chOff x="1187280" y="2819520"/>
              <a:chExt cx="152280" cy="152280"/>
            </a:xfrm>
          </p:grpSpPr>
          <p:sp>
            <p:nvSpPr>
              <p:cNvPr id="936" name=""/>
              <p:cNvSpPr/>
              <p:nvPr/>
            </p:nvSpPr>
            <p:spPr>
              <a:xfrm>
                <a:off x="1187280" y="2819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218960" y="294012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25440" y="28702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288800" y="2882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244520" y="2901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1066680" y="299088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66680" y="3809880"/>
            <a:ext cx="407880" cy="820800"/>
            <a:chOff x="1066680" y="3809880"/>
            <a:chExt cx="407880" cy="820800"/>
          </a:xfrm>
        </p:grpSpPr>
        <p:grpSp>
          <p:nvGrpSpPr>
            <p:cNvPr id="943" name=""/>
            <p:cNvGrpSpPr/>
            <p:nvPr/>
          </p:nvGrpSpPr>
          <p:grpSpPr>
            <a:xfrm>
              <a:off x="1225080" y="3809880"/>
              <a:ext cx="140040" cy="139680"/>
              <a:chOff x="1225080" y="3809880"/>
              <a:chExt cx="140040" cy="139680"/>
            </a:xfrm>
          </p:grpSpPr>
          <p:sp>
            <p:nvSpPr>
              <p:cNvPr id="944" name=""/>
              <p:cNvSpPr/>
              <p:nvPr/>
            </p:nvSpPr>
            <p:spPr>
              <a:xfrm>
                <a:off x="1225080" y="3809880"/>
                <a:ext cx="14004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57120" y="391788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314000" y="38606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63240" y="38606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82320" y="387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066680" y="396864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8229600" y="3962520"/>
            <a:ext cx="446040" cy="909000"/>
            <a:chOff x="8229600" y="3962520"/>
            <a:chExt cx="446040" cy="909000"/>
          </a:xfrm>
        </p:grpSpPr>
        <p:grpSp>
          <p:nvGrpSpPr>
            <p:cNvPr id="951" name=""/>
            <p:cNvGrpSpPr/>
            <p:nvPr/>
          </p:nvGrpSpPr>
          <p:grpSpPr>
            <a:xfrm>
              <a:off x="8350200" y="3962520"/>
              <a:ext cx="152280" cy="164880"/>
              <a:chOff x="8350200" y="3962520"/>
              <a:chExt cx="152280" cy="164880"/>
            </a:xfrm>
          </p:grpSpPr>
          <p:sp>
            <p:nvSpPr>
              <p:cNvPr id="952" name=""/>
              <p:cNvSpPr/>
              <p:nvPr/>
            </p:nvSpPr>
            <p:spPr>
              <a:xfrm>
                <a:off x="8350200" y="3962520"/>
                <a:ext cx="1522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381880" y="4082760"/>
                <a:ext cx="77760" cy="2664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388360" y="4025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51720" y="4025880"/>
                <a:ext cx="1296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07440" y="404496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8229600" y="4133880"/>
              <a:ext cx="446040" cy="73764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40" y="8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32"/>
                  </a:lnTo>
                  <a:lnTo>
                    <a:pt x="96" y="464"/>
                  </a:lnTo>
                  <a:lnTo>
                    <a:pt x="40" y="464"/>
                  </a:lnTo>
                  <a:lnTo>
                    <a:pt x="88" y="200"/>
                  </a:lnTo>
                  <a:lnTo>
                    <a:pt x="64" y="56"/>
                  </a:lnTo>
                  <a:lnTo>
                    <a:pt x="40" y="200"/>
                  </a:lnTo>
                  <a:lnTo>
                    <a:pt x="0" y="192"/>
                  </a:lnTo>
                  <a:lnTo>
                    <a:pt x="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08160" y="5686560"/>
            <a:ext cx="672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many would have survived with a ROPS and seat bel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108. Don't become a grim statistic. Get a ROPS and buckle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9600" y="594036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79560" y="439560"/>
            <a:ext cx="718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76 Kentucky farmers died in tractor overturns in 1994-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75160" y="64440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7080" y="905040"/>
            <a:ext cx="667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ther 32 farmers died when they fell off moving tr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75960" y="1668600"/>
            <a:ext cx="437760" cy="660240"/>
            <a:chOff x="7275960" y="1668600"/>
            <a:chExt cx="437760" cy="660240"/>
          </a:xfrm>
        </p:grpSpPr>
        <p:sp>
          <p:nvSpPr>
            <p:cNvPr id="964" name=""/>
            <p:cNvSpPr/>
            <p:nvPr/>
          </p:nvSpPr>
          <p:spPr>
            <a:xfrm>
              <a:off x="7408800" y="166860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7275960" y="1668600"/>
              <a:ext cx="437400" cy="660240"/>
              <a:chOff x="7275960" y="1668600"/>
              <a:chExt cx="437400" cy="660240"/>
            </a:xfrm>
          </p:grpSpPr>
          <p:sp>
            <p:nvSpPr>
              <p:cNvPr id="966" name=""/>
              <p:cNvSpPr/>
              <p:nvPr/>
            </p:nvSpPr>
            <p:spPr>
              <a:xfrm>
                <a:off x="7358040" y="166860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275960" y="17668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4542480" y="1687680"/>
            <a:ext cx="437400" cy="520560"/>
            <a:chOff x="4542480" y="1687680"/>
            <a:chExt cx="437400" cy="520560"/>
          </a:xfrm>
        </p:grpSpPr>
        <p:sp>
          <p:nvSpPr>
            <p:cNvPr id="969" name=""/>
            <p:cNvSpPr/>
            <p:nvPr/>
          </p:nvSpPr>
          <p:spPr>
            <a:xfrm>
              <a:off x="4675320" y="1687680"/>
              <a:ext cx="304560" cy="520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42480" y="1687680"/>
              <a:ext cx="437400" cy="520560"/>
              <a:chOff x="4542480" y="1687680"/>
              <a:chExt cx="437400" cy="520560"/>
            </a:xfrm>
          </p:grpSpPr>
          <p:sp>
            <p:nvSpPr>
              <p:cNvPr id="971" name=""/>
              <p:cNvSpPr/>
              <p:nvPr/>
            </p:nvSpPr>
            <p:spPr>
              <a:xfrm>
                <a:off x="4624560" y="16876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42480" y="1747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1607040" y="1784520"/>
            <a:ext cx="437760" cy="660240"/>
            <a:chOff x="1607040" y="1784520"/>
            <a:chExt cx="437760" cy="660240"/>
          </a:xfrm>
        </p:grpSpPr>
        <p:sp>
          <p:nvSpPr>
            <p:cNvPr id="974" name=""/>
            <p:cNvSpPr/>
            <p:nvPr/>
          </p:nvSpPr>
          <p:spPr>
            <a:xfrm>
              <a:off x="1739880" y="178452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1607040" y="1784520"/>
              <a:ext cx="437400" cy="660240"/>
              <a:chOff x="1607040" y="1784520"/>
              <a:chExt cx="437400" cy="660240"/>
            </a:xfrm>
          </p:grpSpPr>
          <p:sp>
            <p:nvSpPr>
              <p:cNvPr id="976" name=""/>
              <p:cNvSpPr/>
              <p:nvPr/>
            </p:nvSpPr>
            <p:spPr>
              <a:xfrm>
                <a:off x="1689120" y="178452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607040" y="1882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3105720" y="1758960"/>
            <a:ext cx="437760" cy="660240"/>
            <a:chOff x="3105720" y="1758960"/>
            <a:chExt cx="437760" cy="660240"/>
          </a:xfrm>
        </p:grpSpPr>
        <p:sp>
          <p:nvSpPr>
            <p:cNvPr id="979" name=""/>
            <p:cNvSpPr/>
            <p:nvPr/>
          </p:nvSpPr>
          <p:spPr>
            <a:xfrm>
              <a:off x="3238560" y="175896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3105720" y="1758960"/>
              <a:ext cx="437400" cy="660240"/>
              <a:chOff x="3105720" y="1758960"/>
              <a:chExt cx="437400" cy="660240"/>
            </a:xfrm>
          </p:grpSpPr>
          <p:sp>
            <p:nvSpPr>
              <p:cNvPr id="981" name=""/>
              <p:cNvSpPr/>
              <p:nvPr/>
            </p:nvSpPr>
            <p:spPr>
              <a:xfrm>
                <a:off x="3187800" y="175896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05720" y="18702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2581920" y="1843200"/>
            <a:ext cx="462960" cy="622080"/>
            <a:chOff x="2581920" y="1843200"/>
            <a:chExt cx="462960" cy="622080"/>
          </a:xfrm>
        </p:grpSpPr>
        <p:sp>
          <p:nvSpPr>
            <p:cNvPr id="984" name=""/>
            <p:cNvSpPr/>
            <p:nvPr/>
          </p:nvSpPr>
          <p:spPr>
            <a:xfrm>
              <a:off x="2676600" y="1843200"/>
              <a:ext cx="368280" cy="622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38440" y="1843200"/>
              <a:ext cx="368280" cy="62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81920" y="19162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4961520" y="1914480"/>
            <a:ext cx="437400" cy="660600"/>
            <a:chOff x="4961520" y="1914480"/>
            <a:chExt cx="437400" cy="660600"/>
          </a:xfrm>
        </p:grpSpPr>
        <p:sp>
          <p:nvSpPr>
            <p:cNvPr id="988" name=""/>
            <p:cNvSpPr/>
            <p:nvPr/>
          </p:nvSpPr>
          <p:spPr>
            <a:xfrm>
              <a:off x="5094360" y="1914480"/>
              <a:ext cx="30456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4961520" y="1914480"/>
              <a:ext cx="437400" cy="660600"/>
              <a:chOff x="4961520" y="1914480"/>
              <a:chExt cx="437400" cy="660600"/>
            </a:xfrm>
          </p:grpSpPr>
          <p:sp>
            <p:nvSpPr>
              <p:cNvPr id="990" name=""/>
              <p:cNvSpPr/>
              <p:nvPr/>
            </p:nvSpPr>
            <p:spPr>
              <a:xfrm>
                <a:off x="5056200" y="1914480"/>
                <a:ext cx="3049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961520" y="20257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2" name=""/>
          <p:cNvGrpSpPr/>
          <p:nvPr/>
        </p:nvGrpSpPr>
        <p:grpSpPr>
          <a:xfrm>
            <a:off x="4083480" y="1949400"/>
            <a:ext cx="462960" cy="723960"/>
            <a:chOff x="4083480" y="1949400"/>
            <a:chExt cx="462960" cy="723960"/>
          </a:xfrm>
        </p:grpSpPr>
        <p:sp>
          <p:nvSpPr>
            <p:cNvPr id="993" name=""/>
            <p:cNvSpPr/>
            <p:nvPr/>
          </p:nvSpPr>
          <p:spPr>
            <a:xfrm>
              <a:off x="4178160" y="1949400"/>
              <a:ext cx="3682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40360" y="1949400"/>
              <a:ext cx="3682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83480" y="2048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5523480" y="1866960"/>
            <a:ext cx="462960" cy="635040"/>
            <a:chOff x="5523480" y="1866960"/>
            <a:chExt cx="462960" cy="635040"/>
          </a:xfrm>
        </p:grpSpPr>
        <p:sp>
          <p:nvSpPr>
            <p:cNvPr id="997" name=""/>
            <p:cNvSpPr/>
            <p:nvPr/>
          </p:nvSpPr>
          <p:spPr>
            <a:xfrm>
              <a:off x="5618160" y="1866960"/>
              <a:ext cx="368280" cy="635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80000" y="1866960"/>
              <a:ext cx="3682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3480" y="1940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013480" y="3003480"/>
            <a:ext cx="437760" cy="660600"/>
            <a:chOff x="2013480" y="3003480"/>
            <a:chExt cx="437760" cy="660600"/>
          </a:xfrm>
        </p:grpSpPr>
        <p:sp>
          <p:nvSpPr>
            <p:cNvPr id="1001" name=""/>
            <p:cNvSpPr/>
            <p:nvPr/>
          </p:nvSpPr>
          <p:spPr>
            <a:xfrm>
              <a:off x="2146320" y="3003480"/>
              <a:ext cx="30492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2013480" y="3003480"/>
              <a:ext cx="437400" cy="660600"/>
              <a:chOff x="2013480" y="3003480"/>
              <a:chExt cx="437400" cy="660600"/>
            </a:xfrm>
          </p:grpSpPr>
          <p:sp>
            <p:nvSpPr>
              <p:cNvPr id="1003" name=""/>
              <p:cNvSpPr/>
              <p:nvPr/>
            </p:nvSpPr>
            <p:spPr>
              <a:xfrm>
                <a:off x="2095560" y="3003480"/>
                <a:ext cx="3049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13480" y="31147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2954520" y="2514600"/>
            <a:ext cx="475560" cy="406440"/>
            <a:chOff x="2954520" y="2514600"/>
            <a:chExt cx="475560" cy="406440"/>
          </a:xfrm>
        </p:grpSpPr>
        <p:sp>
          <p:nvSpPr>
            <p:cNvPr id="1006" name=""/>
            <p:cNvSpPr/>
            <p:nvPr/>
          </p:nvSpPr>
          <p:spPr>
            <a:xfrm>
              <a:off x="3049200" y="2514600"/>
              <a:ext cx="380880" cy="40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011040" y="2514600"/>
              <a:ext cx="3808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54520" y="25243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19720" y="2766960"/>
            <a:ext cx="462960" cy="345960"/>
            <a:chOff x="819720" y="2766960"/>
            <a:chExt cx="462960" cy="345960"/>
          </a:xfrm>
        </p:grpSpPr>
        <p:sp>
          <p:nvSpPr>
            <p:cNvPr id="1010" name=""/>
            <p:cNvSpPr/>
            <p:nvPr/>
          </p:nvSpPr>
          <p:spPr>
            <a:xfrm>
              <a:off x="914400" y="2782800"/>
              <a:ext cx="368280" cy="330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6240" y="2782800"/>
              <a:ext cx="36828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19720" y="276696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639240" y="2914560"/>
            <a:ext cx="437400" cy="660600"/>
            <a:chOff x="3639240" y="2914560"/>
            <a:chExt cx="437400" cy="660600"/>
          </a:xfrm>
        </p:grpSpPr>
        <p:sp>
          <p:nvSpPr>
            <p:cNvPr id="1014" name=""/>
            <p:cNvSpPr/>
            <p:nvPr/>
          </p:nvSpPr>
          <p:spPr>
            <a:xfrm>
              <a:off x="3772080" y="2914560"/>
              <a:ext cx="30456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3639240" y="2914560"/>
              <a:ext cx="437400" cy="660600"/>
              <a:chOff x="3639240" y="2914560"/>
              <a:chExt cx="437400" cy="6606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720960" y="291456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39240" y="3025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4591440" y="3244680"/>
            <a:ext cx="475920" cy="723960"/>
            <a:chOff x="4591440" y="3244680"/>
            <a:chExt cx="475920" cy="723960"/>
          </a:xfrm>
        </p:grpSpPr>
        <p:sp>
          <p:nvSpPr>
            <p:cNvPr id="1019" name=""/>
            <p:cNvSpPr/>
            <p:nvPr/>
          </p:nvSpPr>
          <p:spPr>
            <a:xfrm>
              <a:off x="4686480" y="3244680"/>
              <a:ext cx="3808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48320" y="3244680"/>
              <a:ext cx="3808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91440" y="33433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4097880" y="3657600"/>
            <a:ext cx="437400" cy="736560"/>
            <a:chOff x="4097880" y="3657600"/>
            <a:chExt cx="437400" cy="736560"/>
          </a:xfrm>
        </p:grpSpPr>
        <p:sp>
          <p:nvSpPr>
            <p:cNvPr id="1023" name=""/>
            <p:cNvSpPr/>
            <p:nvPr/>
          </p:nvSpPr>
          <p:spPr>
            <a:xfrm>
              <a:off x="4230720" y="3657600"/>
              <a:ext cx="30456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4097880" y="3657600"/>
              <a:ext cx="437400" cy="736560"/>
              <a:chOff x="4097880" y="3657600"/>
              <a:chExt cx="437400" cy="73656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79960" y="3657600"/>
                <a:ext cx="317520" cy="736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097880" y="3794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7" name=""/>
          <p:cNvGrpSpPr/>
          <p:nvPr/>
        </p:nvGrpSpPr>
        <p:grpSpPr>
          <a:xfrm>
            <a:off x="3383640" y="4116240"/>
            <a:ext cx="462960" cy="607680"/>
            <a:chOff x="3383640" y="4116240"/>
            <a:chExt cx="462960" cy="607680"/>
          </a:xfrm>
        </p:grpSpPr>
        <p:sp>
          <p:nvSpPr>
            <p:cNvPr id="1028" name=""/>
            <p:cNvSpPr/>
            <p:nvPr/>
          </p:nvSpPr>
          <p:spPr>
            <a:xfrm>
              <a:off x="3478320" y="4116240"/>
              <a:ext cx="368280" cy="607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40160" y="4116240"/>
              <a:ext cx="368280" cy="60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83640" y="4145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340280" y="2610000"/>
            <a:ext cx="437760" cy="457200"/>
            <a:chOff x="1340280" y="2610000"/>
            <a:chExt cx="437760" cy="457200"/>
          </a:xfrm>
        </p:grpSpPr>
        <p:sp>
          <p:nvSpPr>
            <p:cNvPr id="1032" name=""/>
            <p:cNvSpPr/>
            <p:nvPr/>
          </p:nvSpPr>
          <p:spPr>
            <a:xfrm>
              <a:off x="1473120" y="2610000"/>
              <a:ext cx="30492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1340280" y="2610000"/>
              <a:ext cx="437400" cy="457200"/>
              <a:chOff x="1340280" y="2610000"/>
              <a:chExt cx="437400" cy="457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1422360" y="261000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40280" y="2657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4951800" y="2666880"/>
            <a:ext cx="437400" cy="889200"/>
            <a:chOff x="4951800" y="2666880"/>
            <a:chExt cx="437400" cy="889200"/>
          </a:xfrm>
        </p:grpSpPr>
        <p:sp>
          <p:nvSpPr>
            <p:cNvPr id="1037" name=""/>
            <p:cNvSpPr/>
            <p:nvPr/>
          </p:nvSpPr>
          <p:spPr>
            <a:xfrm>
              <a:off x="5068800" y="2666880"/>
              <a:ext cx="304560" cy="889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4951800" y="2666880"/>
              <a:ext cx="437400" cy="889200"/>
              <a:chOff x="4951800" y="2666880"/>
              <a:chExt cx="437400" cy="8892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17680" y="2666880"/>
                <a:ext cx="317520" cy="889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951800" y="2867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1" name=""/>
          <p:cNvGrpSpPr/>
          <p:nvPr/>
        </p:nvGrpSpPr>
        <p:grpSpPr>
          <a:xfrm>
            <a:off x="1807200" y="4879800"/>
            <a:ext cx="437400" cy="520920"/>
            <a:chOff x="1807200" y="4879800"/>
            <a:chExt cx="437400" cy="520920"/>
          </a:xfrm>
        </p:grpSpPr>
        <p:sp>
          <p:nvSpPr>
            <p:cNvPr id="1042" name=""/>
            <p:cNvSpPr/>
            <p:nvPr/>
          </p:nvSpPr>
          <p:spPr>
            <a:xfrm>
              <a:off x="1940040" y="4879800"/>
              <a:ext cx="304560" cy="520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807200" y="4879800"/>
              <a:ext cx="437400" cy="520920"/>
              <a:chOff x="1807200" y="4879800"/>
              <a:chExt cx="437400" cy="520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1889280" y="4879800"/>
                <a:ext cx="30456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07200" y="49402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2894400" y="3809880"/>
            <a:ext cx="459720" cy="546120"/>
            <a:chOff x="2894400" y="3809880"/>
            <a:chExt cx="459720" cy="546120"/>
          </a:xfrm>
        </p:grpSpPr>
        <p:sp>
          <p:nvSpPr>
            <p:cNvPr id="1047" name=""/>
            <p:cNvSpPr/>
            <p:nvPr/>
          </p:nvSpPr>
          <p:spPr>
            <a:xfrm>
              <a:off x="2973240" y="380988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35080" y="3809880"/>
              <a:ext cx="38124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94400" y="38574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093120" y="4984920"/>
            <a:ext cx="462960" cy="596880"/>
            <a:chOff x="3093120" y="4984920"/>
            <a:chExt cx="462960" cy="596880"/>
          </a:xfrm>
        </p:grpSpPr>
        <p:sp>
          <p:nvSpPr>
            <p:cNvPr id="1051" name=""/>
            <p:cNvSpPr/>
            <p:nvPr/>
          </p:nvSpPr>
          <p:spPr>
            <a:xfrm>
              <a:off x="3187800" y="4984920"/>
              <a:ext cx="368280" cy="59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149640" y="4984920"/>
              <a:ext cx="36828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93120" y="5045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048320" y="3308400"/>
            <a:ext cx="475560" cy="622080"/>
            <a:chOff x="1048320" y="3308400"/>
            <a:chExt cx="475560" cy="622080"/>
          </a:xfrm>
        </p:grpSpPr>
        <p:sp>
          <p:nvSpPr>
            <p:cNvPr id="1055" name=""/>
            <p:cNvSpPr/>
            <p:nvPr/>
          </p:nvSpPr>
          <p:spPr>
            <a:xfrm>
              <a:off x="1143000" y="3308400"/>
              <a:ext cx="380880" cy="622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04840" y="3308400"/>
              <a:ext cx="381240" cy="62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48320" y="33814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724400" y="4033800"/>
            <a:ext cx="450360" cy="660600"/>
            <a:chOff x="1724400" y="4033800"/>
            <a:chExt cx="450360" cy="660600"/>
          </a:xfrm>
        </p:grpSpPr>
        <p:sp>
          <p:nvSpPr>
            <p:cNvPr id="1059" name=""/>
            <p:cNvSpPr/>
            <p:nvPr/>
          </p:nvSpPr>
          <p:spPr>
            <a:xfrm>
              <a:off x="1870200" y="4033800"/>
              <a:ext cx="30456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1724400" y="4033800"/>
              <a:ext cx="437400" cy="660600"/>
              <a:chOff x="1724400" y="4033800"/>
              <a:chExt cx="437400" cy="660600"/>
            </a:xfrm>
          </p:grpSpPr>
          <p:sp>
            <p:nvSpPr>
              <p:cNvPr id="1061" name=""/>
              <p:cNvSpPr/>
              <p:nvPr/>
            </p:nvSpPr>
            <p:spPr>
              <a:xfrm>
                <a:off x="1806480" y="403380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24400" y="4145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3" name=""/>
          <p:cNvGrpSpPr/>
          <p:nvPr/>
        </p:nvGrpSpPr>
        <p:grpSpPr>
          <a:xfrm>
            <a:off x="3564360" y="4724280"/>
            <a:ext cx="437400" cy="660240"/>
            <a:chOff x="3564360" y="4724280"/>
            <a:chExt cx="437400" cy="660240"/>
          </a:xfrm>
        </p:grpSpPr>
        <p:sp>
          <p:nvSpPr>
            <p:cNvPr id="1064" name=""/>
            <p:cNvSpPr/>
            <p:nvPr/>
          </p:nvSpPr>
          <p:spPr>
            <a:xfrm>
              <a:off x="3696840" y="47242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3564360" y="4724280"/>
              <a:ext cx="437400" cy="660240"/>
              <a:chOff x="3564360" y="4724280"/>
              <a:chExt cx="437400" cy="660240"/>
            </a:xfrm>
          </p:grpSpPr>
          <p:sp>
            <p:nvSpPr>
              <p:cNvPr id="1066" name=""/>
              <p:cNvSpPr/>
              <p:nvPr/>
            </p:nvSpPr>
            <p:spPr>
              <a:xfrm>
                <a:off x="3646080" y="47242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564360" y="4835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8" name=""/>
          <p:cNvGrpSpPr/>
          <p:nvPr/>
        </p:nvGrpSpPr>
        <p:grpSpPr>
          <a:xfrm>
            <a:off x="4707360" y="4876920"/>
            <a:ext cx="475560" cy="583920"/>
            <a:chOff x="4707360" y="4876920"/>
            <a:chExt cx="475560" cy="583920"/>
          </a:xfrm>
        </p:grpSpPr>
        <p:sp>
          <p:nvSpPr>
            <p:cNvPr id="1069" name=""/>
            <p:cNvSpPr/>
            <p:nvPr/>
          </p:nvSpPr>
          <p:spPr>
            <a:xfrm>
              <a:off x="4802040" y="4876920"/>
              <a:ext cx="380880" cy="583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63880" y="4876920"/>
              <a:ext cx="381240" cy="58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07360" y="4937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0240" y="4191120"/>
            <a:ext cx="437400" cy="793800"/>
            <a:chOff x="5790240" y="4191120"/>
            <a:chExt cx="437400" cy="793800"/>
          </a:xfrm>
        </p:grpSpPr>
        <p:sp>
          <p:nvSpPr>
            <p:cNvPr id="1073" name=""/>
            <p:cNvSpPr/>
            <p:nvPr/>
          </p:nvSpPr>
          <p:spPr>
            <a:xfrm>
              <a:off x="5883120" y="4191120"/>
              <a:ext cx="325440" cy="793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5790240" y="4191120"/>
              <a:ext cx="437400" cy="793800"/>
              <a:chOff x="5790240" y="4191120"/>
              <a:chExt cx="437400" cy="793800"/>
            </a:xfrm>
          </p:grpSpPr>
          <p:sp>
            <p:nvSpPr>
              <p:cNvPr id="1075" name=""/>
              <p:cNvSpPr/>
              <p:nvPr/>
            </p:nvSpPr>
            <p:spPr>
              <a:xfrm>
                <a:off x="5835600" y="4191120"/>
                <a:ext cx="327240" cy="79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90240" y="4357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7" name=""/>
          <p:cNvGrpSpPr/>
          <p:nvPr/>
        </p:nvGrpSpPr>
        <p:grpSpPr>
          <a:xfrm>
            <a:off x="6552000" y="3200400"/>
            <a:ext cx="437400" cy="507960"/>
            <a:chOff x="6552000" y="3200400"/>
            <a:chExt cx="437400" cy="507960"/>
          </a:xfrm>
        </p:grpSpPr>
        <p:sp>
          <p:nvSpPr>
            <p:cNvPr id="1078" name=""/>
            <p:cNvSpPr/>
            <p:nvPr/>
          </p:nvSpPr>
          <p:spPr>
            <a:xfrm>
              <a:off x="6669000" y="3200400"/>
              <a:ext cx="304560" cy="507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6552000" y="3200400"/>
              <a:ext cx="437400" cy="507960"/>
              <a:chOff x="6552000" y="3200400"/>
              <a:chExt cx="437400" cy="507960"/>
            </a:xfrm>
          </p:grpSpPr>
          <p:sp>
            <p:nvSpPr>
              <p:cNvPr id="1080" name=""/>
              <p:cNvSpPr/>
              <p:nvPr/>
            </p:nvSpPr>
            <p:spPr>
              <a:xfrm>
                <a:off x="6618240" y="3200400"/>
                <a:ext cx="31752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52000" y="32608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6801480" y="2190600"/>
            <a:ext cx="462960" cy="622440"/>
            <a:chOff x="6801480" y="2190600"/>
            <a:chExt cx="462960" cy="622440"/>
          </a:xfrm>
        </p:grpSpPr>
        <p:sp>
          <p:nvSpPr>
            <p:cNvPr id="1083" name=""/>
            <p:cNvSpPr/>
            <p:nvPr/>
          </p:nvSpPr>
          <p:spPr>
            <a:xfrm>
              <a:off x="6896160" y="2190600"/>
              <a:ext cx="368280" cy="62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858000" y="2190600"/>
              <a:ext cx="368280" cy="62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01480" y="22636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5747400" y="3435480"/>
            <a:ext cx="437400" cy="660240"/>
            <a:chOff x="5747400" y="3435480"/>
            <a:chExt cx="437400" cy="660240"/>
          </a:xfrm>
        </p:grpSpPr>
        <p:sp>
          <p:nvSpPr>
            <p:cNvPr id="1087" name=""/>
            <p:cNvSpPr/>
            <p:nvPr/>
          </p:nvSpPr>
          <p:spPr>
            <a:xfrm>
              <a:off x="5880240" y="34354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5747400" y="3435480"/>
              <a:ext cx="437400" cy="660240"/>
              <a:chOff x="5747400" y="3435480"/>
              <a:chExt cx="437400" cy="660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5829480" y="3435480"/>
                <a:ext cx="3171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747400" y="35463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"/>
          <p:cNvGrpSpPr/>
          <p:nvPr/>
        </p:nvGrpSpPr>
        <p:grpSpPr>
          <a:xfrm>
            <a:off x="1246680" y="3894120"/>
            <a:ext cx="437760" cy="660240"/>
            <a:chOff x="1246680" y="3894120"/>
            <a:chExt cx="437760" cy="660240"/>
          </a:xfrm>
        </p:grpSpPr>
        <p:sp>
          <p:nvSpPr>
            <p:cNvPr id="1092" name=""/>
            <p:cNvSpPr/>
            <p:nvPr/>
          </p:nvSpPr>
          <p:spPr>
            <a:xfrm>
              <a:off x="1379520" y="389412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1246680" y="3894120"/>
              <a:ext cx="437400" cy="660240"/>
              <a:chOff x="1246680" y="3894120"/>
              <a:chExt cx="437400" cy="660240"/>
            </a:xfrm>
          </p:grpSpPr>
          <p:sp>
            <p:nvSpPr>
              <p:cNvPr id="1094" name=""/>
              <p:cNvSpPr/>
              <p:nvPr/>
            </p:nvSpPr>
            <p:spPr>
              <a:xfrm>
                <a:off x="1341360" y="389412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46680" y="40053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"/>
          <p:cNvGrpSpPr/>
          <p:nvPr/>
        </p:nvGrpSpPr>
        <p:grpSpPr>
          <a:xfrm>
            <a:off x="727560" y="4745160"/>
            <a:ext cx="462960" cy="571320"/>
            <a:chOff x="727560" y="4745160"/>
            <a:chExt cx="462960" cy="571320"/>
          </a:xfrm>
        </p:grpSpPr>
        <p:sp>
          <p:nvSpPr>
            <p:cNvPr id="1097" name=""/>
            <p:cNvSpPr/>
            <p:nvPr/>
          </p:nvSpPr>
          <p:spPr>
            <a:xfrm>
              <a:off x="822240" y="4745160"/>
              <a:ext cx="368280" cy="571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84080" y="4745160"/>
              <a:ext cx="368280" cy="57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7560" y="48052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217200" y="3841920"/>
            <a:ext cx="437760" cy="660240"/>
            <a:chOff x="6217200" y="3841920"/>
            <a:chExt cx="437760" cy="660240"/>
          </a:xfrm>
        </p:grpSpPr>
        <p:sp>
          <p:nvSpPr>
            <p:cNvPr id="1101" name=""/>
            <p:cNvSpPr/>
            <p:nvPr/>
          </p:nvSpPr>
          <p:spPr>
            <a:xfrm>
              <a:off x="6350040" y="384192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6217200" y="3841920"/>
              <a:ext cx="437400" cy="660240"/>
              <a:chOff x="6217200" y="3841920"/>
              <a:chExt cx="437400" cy="660240"/>
            </a:xfrm>
          </p:grpSpPr>
          <p:sp>
            <p:nvSpPr>
              <p:cNvPr id="1103" name=""/>
              <p:cNvSpPr/>
              <p:nvPr/>
            </p:nvSpPr>
            <p:spPr>
              <a:xfrm>
                <a:off x="6299280" y="384192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17200" y="3952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7390440" y="3581280"/>
            <a:ext cx="447120" cy="723960"/>
            <a:chOff x="7390440" y="3581280"/>
            <a:chExt cx="447120" cy="723960"/>
          </a:xfrm>
        </p:grpSpPr>
        <p:sp>
          <p:nvSpPr>
            <p:cNvPr id="1106" name=""/>
            <p:cNvSpPr/>
            <p:nvPr/>
          </p:nvSpPr>
          <p:spPr>
            <a:xfrm>
              <a:off x="7469280" y="3581280"/>
              <a:ext cx="3682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431480" y="3581280"/>
              <a:ext cx="3682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90440" y="367956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931520" y="3321000"/>
            <a:ext cx="437760" cy="660600"/>
            <a:chOff x="7931520" y="3321000"/>
            <a:chExt cx="437760" cy="660600"/>
          </a:xfrm>
        </p:grpSpPr>
        <p:sp>
          <p:nvSpPr>
            <p:cNvPr id="1110" name=""/>
            <p:cNvSpPr/>
            <p:nvPr/>
          </p:nvSpPr>
          <p:spPr>
            <a:xfrm>
              <a:off x="8064360" y="3321000"/>
              <a:ext cx="30492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7931520" y="3321000"/>
              <a:ext cx="437400" cy="660600"/>
              <a:chOff x="7931520" y="3321000"/>
              <a:chExt cx="437400" cy="660600"/>
            </a:xfrm>
          </p:grpSpPr>
          <p:sp>
            <p:nvSpPr>
              <p:cNvPr id="1112" name=""/>
              <p:cNvSpPr/>
              <p:nvPr/>
            </p:nvSpPr>
            <p:spPr>
              <a:xfrm>
                <a:off x="8013600" y="332100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31520" y="34322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7830000" y="4726080"/>
            <a:ext cx="437760" cy="660240"/>
            <a:chOff x="7830000" y="4726080"/>
            <a:chExt cx="437760" cy="660240"/>
          </a:xfrm>
        </p:grpSpPr>
        <p:sp>
          <p:nvSpPr>
            <p:cNvPr id="1115" name=""/>
            <p:cNvSpPr/>
            <p:nvPr/>
          </p:nvSpPr>
          <p:spPr>
            <a:xfrm>
              <a:off x="7962840" y="47260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6" name=""/>
            <p:cNvGrpSpPr/>
            <p:nvPr/>
          </p:nvGrpSpPr>
          <p:grpSpPr>
            <a:xfrm>
              <a:off x="7830000" y="4726080"/>
              <a:ext cx="437400" cy="660240"/>
              <a:chOff x="7830000" y="4726080"/>
              <a:chExt cx="437400" cy="660240"/>
            </a:xfrm>
          </p:grpSpPr>
          <p:sp>
            <p:nvSpPr>
              <p:cNvPr id="1117" name=""/>
              <p:cNvSpPr/>
              <p:nvPr/>
            </p:nvSpPr>
            <p:spPr>
              <a:xfrm>
                <a:off x="7924680" y="47260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830000" y="4836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"/>
          <p:cNvGrpSpPr/>
          <p:nvPr/>
        </p:nvGrpSpPr>
        <p:grpSpPr>
          <a:xfrm>
            <a:off x="7237800" y="4876920"/>
            <a:ext cx="447120" cy="723960"/>
            <a:chOff x="7237800" y="4876920"/>
            <a:chExt cx="447120" cy="723960"/>
          </a:xfrm>
        </p:grpSpPr>
        <p:sp>
          <p:nvSpPr>
            <p:cNvPr id="1120" name=""/>
            <p:cNvSpPr/>
            <p:nvPr/>
          </p:nvSpPr>
          <p:spPr>
            <a:xfrm>
              <a:off x="7316640" y="4876920"/>
              <a:ext cx="3682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78480" y="4876920"/>
              <a:ext cx="3682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37800" y="49752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7542720" y="2971800"/>
            <a:ext cx="447120" cy="469800"/>
            <a:chOff x="7542720" y="2971800"/>
            <a:chExt cx="447120" cy="469800"/>
          </a:xfrm>
        </p:grpSpPr>
        <p:sp>
          <p:nvSpPr>
            <p:cNvPr id="1124" name=""/>
            <p:cNvSpPr/>
            <p:nvPr/>
          </p:nvSpPr>
          <p:spPr>
            <a:xfrm>
              <a:off x="7621560" y="297180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83400" y="297180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542720" y="29941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6204600" y="1847880"/>
            <a:ext cx="475560" cy="546120"/>
            <a:chOff x="6204600" y="1847880"/>
            <a:chExt cx="475560" cy="546120"/>
          </a:xfrm>
        </p:grpSpPr>
        <p:sp>
          <p:nvSpPr>
            <p:cNvPr id="1128" name=""/>
            <p:cNvSpPr/>
            <p:nvPr/>
          </p:nvSpPr>
          <p:spPr>
            <a:xfrm>
              <a:off x="6299280" y="184788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261120" y="1847880"/>
              <a:ext cx="38088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04600" y="18954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331320" y="4781520"/>
            <a:ext cx="437760" cy="419040"/>
            <a:chOff x="6331320" y="4781520"/>
            <a:chExt cx="437760" cy="419040"/>
          </a:xfrm>
        </p:grpSpPr>
        <p:sp>
          <p:nvSpPr>
            <p:cNvPr id="1132" name=""/>
            <p:cNvSpPr/>
            <p:nvPr/>
          </p:nvSpPr>
          <p:spPr>
            <a:xfrm>
              <a:off x="6464160" y="478152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6331320" y="4781520"/>
              <a:ext cx="437400" cy="419040"/>
              <a:chOff x="6331320" y="4781520"/>
              <a:chExt cx="437400" cy="419040"/>
            </a:xfrm>
          </p:grpSpPr>
          <p:sp>
            <p:nvSpPr>
              <p:cNvPr id="1134" name=""/>
              <p:cNvSpPr/>
              <p:nvPr/>
            </p:nvSpPr>
            <p:spPr>
              <a:xfrm>
                <a:off x="6413400" y="47815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31320" y="48038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6" name=""/>
          <p:cNvGrpSpPr/>
          <p:nvPr/>
        </p:nvGrpSpPr>
        <p:grpSpPr>
          <a:xfrm>
            <a:off x="2318400" y="4400640"/>
            <a:ext cx="437400" cy="419040"/>
            <a:chOff x="2318400" y="4400640"/>
            <a:chExt cx="437400" cy="419040"/>
          </a:xfrm>
        </p:grpSpPr>
        <p:sp>
          <p:nvSpPr>
            <p:cNvPr id="1137" name=""/>
            <p:cNvSpPr/>
            <p:nvPr/>
          </p:nvSpPr>
          <p:spPr>
            <a:xfrm>
              <a:off x="2451240" y="440064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318400" y="4400640"/>
              <a:ext cx="437400" cy="419040"/>
              <a:chOff x="2318400" y="4400640"/>
              <a:chExt cx="437400" cy="419040"/>
            </a:xfrm>
          </p:grpSpPr>
          <p:sp>
            <p:nvSpPr>
              <p:cNvPr id="1139" name=""/>
              <p:cNvSpPr/>
              <p:nvPr/>
            </p:nvSpPr>
            <p:spPr>
              <a:xfrm>
                <a:off x="2400480" y="4400640"/>
                <a:ext cx="31716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318400" y="44226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1" name=""/>
          <p:cNvGrpSpPr/>
          <p:nvPr/>
        </p:nvGrpSpPr>
        <p:grpSpPr>
          <a:xfrm>
            <a:off x="7754040" y="1797120"/>
            <a:ext cx="475560" cy="546120"/>
            <a:chOff x="7754040" y="1797120"/>
            <a:chExt cx="475560" cy="546120"/>
          </a:xfrm>
        </p:grpSpPr>
        <p:sp>
          <p:nvSpPr>
            <p:cNvPr id="1142" name=""/>
            <p:cNvSpPr/>
            <p:nvPr/>
          </p:nvSpPr>
          <p:spPr>
            <a:xfrm>
              <a:off x="7848720" y="179712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10560" y="1797120"/>
              <a:ext cx="38088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754040" y="18446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6057000" y="2521080"/>
            <a:ext cx="437400" cy="660240"/>
            <a:chOff x="6057000" y="2521080"/>
            <a:chExt cx="437400" cy="660240"/>
          </a:xfrm>
        </p:grpSpPr>
        <p:sp>
          <p:nvSpPr>
            <p:cNvPr id="1146" name=""/>
            <p:cNvSpPr/>
            <p:nvPr/>
          </p:nvSpPr>
          <p:spPr>
            <a:xfrm>
              <a:off x="6189840" y="25210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6057000" y="2521080"/>
              <a:ext cx="437400" cy="660240"/>
              <a:chOff x="6057000" y="2521080"/>
              <a:chExt cx="437400" cy="660240"/>
            </a:xfrm>
          </p:grpSpPr>
          <p:sp>
            <p:nvSpPr>
              <p:cNvPr id="1148" name=""/>
              <p:cNvSpPr/>
              <p:nvPr/>
            </p:nvSpPr>
            <p:spPr>
              <a:xfrm>
                <a:off x="6138720" y="25210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57000" y="2631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7779240" y="4095720"/>
            <a:ext cx="462960" cy="469800"/>
            <a:chOff x="7779240" y="4095720"/>
            <a:chExt cx="462960" cy="469800"/>
          </a:xfrm>
        </p:grpSpPr>
        <p:sp>
          <p:nvSpPr>
            <p:cNvPr id="1151" name=""/>
            <p:cNvSpPr/>
            <p:nvPr/>
          </p:nvSpPr>
          <p:spPr>
            <a:xfrm>
              <a:off x="7873920" y="409572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835760" y="409572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79240" y="4118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4951800" y="4191120"/>
            <a:ext cx="447120" cy="634680"/>
            <a:chOff x="4951800" y="4191120"/>
            <a:chExt cx="447120" cy="634680"/>
          </a:xfrm>
        </p:grpSpPr>
        <p:sp>
          <p:nvSpPr>
            <p:cNvPr id="1155" name=""/>
            <p:cNvSpPr/>
            <p:nvPr/>
          </p:nvSpPr>
          <p:spPr>
            <a:xfrm>
              <a:off x="5030640" y="4191120"/>
              <a:ext cx="368280" cy="634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92840" y="4191120"/>
              <a:ext cx="368280" cy="634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951800" y="42638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602520" y="1663560"/>
            <a:ext cx="437760" cy="660600"/>
            <a:chOff x="3602520" y="1663560"/>
            <a:chExt cx="437760" cy="660600"/>
          </a:xfrm>
        </p:grpSpPr>
        <p:sp>
          <p:nvSpPr>
            <p:cNvPr id="1159" name=""/>
            <p:cNvSpPr/>
            <p:nvPr/>
          </p:nvSpPr>
          <p:spPr>
            <a:xfrm>
              <a:off x="3735360" y="1663560"/>
              <a:ext cx="30492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3602520" y="1663560"/>
              <a:ext cx="437400" cy="660600"/>
              <a:chOff x="3602520" y="1663560"/>
              <a:chExt cx="437400" cy="660600"/>
            </a:xfrm>
          </p:grpSpPr>
          <p:sp>
            <p:nvSpPr>
              <p:cNvPr id="1161" name=""/>
              <p:cNvSpPr/>
              <p:nvPr/>
            </p:nvSpPr>
            <p:spPr>
              <a:xfrm>
                <a:off x="3697200" y="1663560"/>
                <a:ext cx="3049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602520" y="1774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3" name=""/>
          <p:cNvGrpSpPr/>
          <p:nvPr/>
        </p:nvGrpSpPr>
        <p:grpSpPr>
          <a:xfrm>
            <a:off x="6712560" y="5238720"/>
            <a:ext cx="437400" cy="419040"/>
            <a:chOff x="6712560" y="5238720"/>
            <a:chExt cx="437400" cy="419040"/>
          </a:xfrm>
        </p:grpSpPr>
        <p:sp>
          <p:nvSpPr>
            <p:cNvPr id="1164" name=""/>
            <p:cNvSpPr/>
            <p:nvPr/>
          </p:nvSpPr>
          <p:spPr>
            <a:xfrm>
              <a:off x="6845400" y="523872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6712560" y="5238720"/>
              <a:ext cx="437400" cy="419040"/>
              <a:chOff x="6712560" y="5238720"/>
              <a:chExt cx="437400" cy="419040"/>
            </a:xfrm>
          </p:grpSpPr>
          <p:sp>
            <p:nvSpPr>
              <p:cNvPr id="1166" name=""/>
              <p:cNvSpPr/>
              <p:nvPr/>
            </p:nvSpPr>
            <p:spPr>
              <a:xfrm>
                <a:off x="6794640" y="52387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712560" y="5261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" name=""/>
          <p:cNvGrpSpPr/>
          <p:nvPr/>
        </p:nvGrpSpPr>
        <p:grpSpPr>
          <a:xfrm>
            <a:off x="4502520" y="3879720"/>
            <a:ext cx="437760" cy="736560"/>
            <a:chOff x="4502520" y="3879720"/>
            <a:chExt cx="437760" cy="736560"/>
          </a:xfrm>
        </p:grpSpPr>
        <p:sp>
          <p:nvSpPr>
            <p:cNvPr id="1169" name=""/>
            <p:cNvSpPr/>
            <p:nvPr/>
          </p:nvSpPr>
          <p:spPr>
            <a:xfrm>
              <a:off x="4635360" y="3879720"/>
              <a:ext cx="30492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4502520" y="3879720"/>
              <a:ext cx="437400" cy="736560"/>
              <a:chOff x="4502520" y="3879720"/>
              <a:chExt cx="437400" cy="736560"/>
            </a:xfrm>
          </p:grpSpPr>
          <p:sp>
            <p:nvSpPr>
              <p:cNvPr id="1171" name=""/>
              <p:cNvSpPr/>
              <p:nvPr/>
            </p:nvSpPr>
            <p:spPr>
              <a:xfrm>
                <a:off x="4584600" y="3879720"/>
                <a:ext cx="317520" cy="736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502520" y="4016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2573640" y="3124080"/>
            <a:ext cx="475560" cy="406440"/>
            <a:chOff x="2573640" y="3124080"/>
            <a:chExt cx="475560" cy="406440"/>
          </a:xfrm>
        </p:grpSpPr>
        <p:sp>
          <p:nvSpPr>
            <p:cNvPr id="1174" name=""/>
            <p:cNvSpPr/>
            <p:nvPr/>
          </p:nvSpPr>
          <p:spPr>
            <a:xfrm>
              <a:off x="2668320" y="3124080"/>
              <a:ext cx="380880" cy="40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30160" y="3124080"/>
              <a:ext cx="3808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73640" y="31338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2116800" y="1828800"/>
            <a:ext cx="437400" cy="660240"/>
            <a:chOff x="2116800" y="1828800"/>
            <a:chExt cx="437400" cy="660240"/>
          </a:xfrm>
        </p:grpSpPr>
        <p:sp>
          <p:nvSpPr>
            <p:cNvPr id="1178" name=""/>
            <p:cNvSpPr/>
            <p:nvPr/>
          </p:nvSpPr>
          <p:spPr>
            <a:xfrm>
              <a:off x="2249640" y="182880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2116800" y="1828800"/>
              <a:ext cx="437400" cy="660240"/>
              <a:chOff x="2116800" y="1828800"/>
              <a:chExt cx="437400" cy="660240"/>
            </a:xfrm>
          </p:grpSpPr>
          <p:sp>
            <p:nvSpPr>
              <p:cNvPr id="1180" name=""/>
              <p:cNvSpPr/>
              <p:nvPr/>
            </p:nvSpPr>
            <p:spPr>
              <a:xfrm>
                <a:off x="2198880" y="182880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116800" y="19396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2" name=""/>
          <p:cNvGrpSpPr/>
          <p:nvPr/>
        </p:nvGrpSpPr>
        <p:grpSpPr>
          <a:xfrm>
            <a:off x="1149840" y="1631880"/>
            <a:ext cx="437760" cy="660600"/>
            <a:chOff x="1149840" y="1631880"/>
            <a:chExt cx="437760" cy="660600"/>
          </a:xfrm>
        </p:grpSpPr>
        <p:sp>
          <p:nvSpPr>
            <p:cNvPr id="1183" name=""/>
            <p:cNvSpPr/>
            <p:nvPr/>
          </p:nvSpPr>
          <p:spPr>
            <a:xfrm>
              <a:off x="1282680" y="163188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1149840" y="1631880"/>
              <a:ext cx="437400" cy="660600"/>
              <a:chOff x="1149840" y="1631880"/>
              <a:chExt cx="437400" cy="660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1231920" y="163188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49840" y="1730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7479360" y="2298600"/>
            <a:ext cx="475560" cy="546120"/>
            <a:chOff x="7479360" y="2298600"/>
            <a:chExt cx="475560" cy="546120"/>
          </a:xfrm>
        </p:grpSpPr>
        <p:sp>
          <p:nvSpPr>
            <p:cNvPr id="1188" name=""/>
            <p:cNvSpPr/>
            <p:nvPr/>
          </p:nvSpPr>
          <p:spPr>
            <a:xfrm>
              <a:off x="7574040" y="229860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35880" y="2298600"/>
              <a:ext cx="38088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79360" y="23464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780600" y="4495680"/>
            <a:ext cx="437400" cy="660240"/>
            <a:chOff x="6780600" y="4495680"/>
            <a:chExt cx="437400" cy="660240"/>
          </a:xfrm>
        </p:grpSpPr>
        <p:sp>
          <p:nvSpPr>
            <p:cNvPr id="1192" name=""/>
            <p:cNvSpPr/>
            <p:nvPr/>
          </p:nvSpPr>
          <p:spPr>
            <a:xfrm>
              <a:off x="6897600" y="44956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6780600" y="4495680"/>
              <a:ext cx="437400" cy="660240"/>
              <a:chOff x="6780600" y="4495680"/>
              <a:chExt cx="437400" cy="660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6846840" y="44956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80600" y="46065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6" name=""/>
          <p:cNvGrpSpPr/>
          <p:nvPr/>
        </p:nvGrpSpPr>
        <p:grpSpPr>
          <a:xfrm>
            <a:off x="4096440" y="2762280"/>
            <a:ext cx="437400" cy="660240"/>
            <a:chOff x="4096440" y="2762280"/>
            <a:chExt cx="437400" cy="660240"/>
          </a:xfrm>
        </p:grpSpPr>
        <p:sp>
          <p:nvSpPr>
            <p:cNvPr id="1197" name=""/>
            <p:cNvSpPr/>
            <p:nvPr/>
          </p:nvSpPr>
          <p:spPr>
            <a:xfrm>
              <a:off x="4229280" y="2762280"/>
              <a:ext cx="30456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096440" y="2762280"/>
              <a:ext cx="437400" cy="660240"/>
              <a:chOff x="4096440" y="2762280"/>
              <a:chExt cx="437400" cy="660240"/>
            </a:xfrm>
          </p:grpSpPr>
          <p:sp>
            <p:nvSpPr>
              <p:cNvPr id="1199" name=""/>
              <p:cNvSpPr/>
              <p:nvPr/>
            </p:nvSpPr>
            <p:spPr>
              <a:xfrm>
                <a:off x="4178160" y="27622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096440" y="2873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"/>
          <p:cNvGrpSpPr/>
          <p:nvPr/>
        </p:nvGrpSpPr>
        <p:grpSpPr>
          <a:xfrm>
            <a:off x="3380400" y="2282760"/>
            <a:ext cx="462960" cy="469800"/>
            <a:chOff x="3380400" y="2282760"/>
            <a:chExt cx="462960" cy="469800"/>
          </a:xfrm>
        </p:grpSpPr>
        <p:sp>
          <p:nvSpPr>
            <p:cNvPr id="1202" name=""/>
            <p:cNvSpPr/>
            <p:nvPr/>
          </p:nvSpPr>
          <p:spPr>
            <a:xfrm>
              <a:off x="3475080" y="228276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36920" y="228276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80400" y="23050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3183480" y="3124080"/>
            <a:ext cx="437760" cy="660240"/>
            <a:chOff x="3183480" y="3124080"/>
            <a:chExt cx="437760" cy="660240"/>
          </a:xfrm>
        </p:grpSpPr>
        <p:sp>
          <p:nvSpPr>
            <p:cNvPr id="1206" name=""/>
            <p:cNvSpPr/>
            <p:nvPr/>
          </p:nvSpPr>
          <p:spPr>
            <a:xfrm>
              <a:off x="3316320" y="31240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3183480" y="3124080"/>
              <a:ext cx="437400" cy="660240"/>
              <a:chOff x="3183480" y="3124080"/>
              <a:chExt cx="437400" cy="660240"/>
            </a:xfrm>
          </p:grpSpPr>
          <p:sp>
            <p:nvSpPr>
              <p:cNvPr id="1208" name=""/>
              <p:cNvSpPr/>
              <p:nvPr/>
            </p:nvSpPr>
            <p:spPr>
              <a:xfrm>
                <a:off x="3265560" y="31240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183480" y="3234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"/>
          <p:cNvGrpSpPr/>
          <p:nvPr/>
        </p:nvGrpSpPr>
        <p:grpSpPr>
          <a:xfrm>
            <a:off x="2483280" y="4883040"/>
            <a:ext cx="475920" cy="584280"/>
            <a:chOff x="2483280" y="4883040"/>
            <a:chExt cx="475920" cy="584280"/>
          </a:xfrm>
        </p:grpSpPr>
        <p:sp>
          <p:nvSpPr>
            <p:cNvPr id="1211" name=""/>
            <p:cNvSpPr/>
            <p:nvPr/>
          </p:nvSpPr>
          <p:spPr>
            <a:xfrm>
              <a:off x="2577960" y="4883040"/>
              <a:ext cx="381240" cy="5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40160" y="4883040"/>
              <a:ext cx="380880" cy="58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83280" y="49435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1479960" y="2978280"/>
            <a:ext cx="437760" cy="660240"/>
            <a:chOff x="1479960" y="2978280"/>
            <a:chExt cx="437760" cy="660240"/>
          </a:xfrm>
        </p:grpSpPr>
        <p:sp>
          <p:nvSpPr>
            <p:cNvPr id="1215" name=""/>
            <p:cNvSpPr/>
            <p:nvPr/>
          </p:nvSpPr>
          <p:spPr>
            <a:xfrm>
              <a:off x="1612800" y="29782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1479960" y="2978280"/>
              <a:ext cx="437400" cy="660240"/>
              <a:chOff x="1479960" y="2978280"/>
              <a:chExt cx="437400" cy="660240"/>
            </a:xfrm>
          </p:grpSpPr>
          <p:sp>
            <p:nvSpPr>
              <p:cNvPr id="1217" name=""/>
              <p:cNvSpPr/>
              <p:nvPr/>
            </p:nvSpPr>
            <p:spPr>
              <a:xfrm>
                <a:off x="1562040" y="29782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79960" y="30891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5404320" y="2330280"/>
            <a:ext cx="462960" cy="470160"/>
            <a:chOff x="5404320" y="2330280"/>
            <a:chExt cx="462960" cy="470160"/>
          </a:xfrm>
        </p:grpSpPr>
        <p:sp>
          <p:nvSpPr>
            <p:cNvPr id="1220" name=""/>
            <p:cNvSpPr/>
            <p:nvPr/>
          </p:nvSpPr>
          <p:spPr>
            <a:xfrm>
              <a:off x="5499000" y="2330280"/>
              <a:ext cx="368280" cy="47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60840" y="2330280"/>
              <a:ext cx="368640" cy="4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04320" y="23526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6726960" y="1623960"/>
            <a:ext cx="437400" cy="419040"/>
            <a:chOff x="6726960" y="1623960"/>
            <a:chExt cx="437400" cy="419040"/>
          </a:xfrm>
        </p:grpSpPr>
        <p:sp>
          <p:nvSpPr>
            <p:cNvPr id="1224" name=""/>
            <p:cNvSpPr/>
            <p:nvPr/>
          </p:nvSpPr>
          <p:spPr>
            <a:xfrm>
              <a:off x="6859440" y="162396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6726960" y="1623960"/>
              <a:ext cx="437400" cy="419040"/>
              <a:chOff x="6726960" y="1623960"/>
              <a:chExt cx="437400" cy="419040"/>
            </a:xfrm>
          </p:grpSpPr>
          <p:sp>
            <p:nvSpPr>
              <p:cNvPr id="1226" name=""/>
              <p:cNvSpPr/>
              <p:nvPr/>
            </p:nvSpPr>
            <p:spPr>
              <a:xfrm>
                <a:off x="6808680" y="162396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726960" y="16462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7237800" y="4419720"/>
            <a:ext cx="437400" cy="419040"/>
            <a:chOff x="7237800" y="4419720"/>
            <a:chExt cx="437400" cy="419040"/>
          </a:xfrm>
        </p:grpSpPr>
        <p:sp>
          <p:nvSpPr>
            <p:cNvPr id="1229" name=""/>
            <p:cNvSpPr/>
            <p:nvPr/>
          </p:nvSpPr>
          <p:spPr>
            <a:xfrm>
              <a:off x="7354800" y="441972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7237800" y="4419720"/>
              <a:ext cx="437400" cy="419040"/>
              <a:chOff x="7237800" y="4419720"/>
              <a:chExt cx="437400" cy="419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7304040" y="44197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237800" y="4442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5150520" y="4933800"/>
            <a:ext cx="437400" cy="660600"/>
            <a:chOff x="5150520" y="4933800"/>
            <a:chExt cx="437400" cy="660600"/>
          </a:xfrm>
        </p:grpSpPr>
        <p:sp>
          <p:nvSpPr>
            <p:cNvPr id="1234" name=""/>
            <p:cNvSpPr/>
            <p:nvPr/>
          </p:nvSpPr>
          <p:spPr>
            <a:xfrm>
              <a:off x="5283360" y="4933800"/>
              <a:ext cx="30456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5150520" y="4933800"/>
              <a:ext cx="437400" cy="660600"/>
              <a:chOff x="5150520" y="4933800"/>
              <a:chExt cx="437400" cy="660600"/>
            </a:xfrm>
          </p:grpSpPr>
          <p:sp>
            <p:nvSpPr>
              <p:cNvPr id="1236" name=""/>
              <p:cNvSpPr/>
              <p:nvPr/>
            </p:nvSpPr>
            <p:spPr>
              <a:xfrm>
                <a:off x="5245200" y="4933800"/>
                <a:ext cx="30456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50520" y="5045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4097880" y="4495680"/>
            <a:ext cx="437760" cy="660600"/>
            <a:chOff x="4097880" y="4495680"/>
            <a:chExt cx="437760" cy="660600"/>
          </a:xfrm>
        </p:grpSpPr>
        <p:sp>
          <p:nvSpPr>
            <p:cNvPr id="1239" name=""/>
            <p:cNvSpPr/>
            <p:nvPr/>
          </p:nvSpPr>
          <p:spPr>
            <a:xfrm>
              <a:off x="4230720" y="449568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4097880" y="4495680"/>
              <a:ext cx="437400" cy="660600"/>
              <a:chOff x="4097880" y="4495680"/>
              <a:chExt cx="437400" cy="660600"/>
            </a:xfrm>
          </p:grpSpPr>
          <p:sp>
            <p:nvSpPr>
              <p:cNvPr id="1241" name=""/>
              <p:cNvSpPr/>
              <p:nvPr/>
            </p:nvSpPr>
            <p:spPr>
              <a:xfrm>
                <a:off x="4179960" y="449568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97880" y="46069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2132640" y="3809880"/>
            <a:ext cx="437400" cy="457200"/>
            <a:chOff x="2132640" y="3809880"/>
            <a:chExt cx="437400" cy="457200"/>
          </a:xfrm>
        </p:grpSpPr>
        <p:sp>
          <p:nvSpPr>
            <p:cNvPr id="1244" name=""/>
            <p:cNvSpPr/>
            <p:nvPr/>
          </p:nvSpPr>
          <p:spPr>
            <a:xfrm>
              <a:off x="2249640" y="380988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2132640" y="3809880"/>
              <a:ext cx="437400" cy="457200"/>
              <a:chOff x="2132640" y="3809880"/>
              <a:chExt cx="437400" cy="457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2198520" y="380988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132640" y="3857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7957080" y="2521080"/>
            <a:ext cx="437760" cy="660240"/>
            <a:chOff x="7957080" y="2521080"/>
            <a:chExt cx="437760" cy="660240"/>
          </a:xfrm>
        </p:grpSpPr>
        <p:sp>
          <p:nvSpPr>
            <p:cNvPr id="1249" name=""/>
            <p:cNvSpPr/>
            <p:nvPr/>
          </p:nvSpPr>
          <p:spPr>
            <a:xfrm>
              <a:off x="8089920" y="25210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7957080" y="2521080"/>
              <a:ext cx="437400" cy="660240"/>
              <a:chOff x="7957080" y="2521080"/>
              <a:chExt cx="437400" cy="660240"/>
            </a:xfrm>
          </p:grpSpPr>
          <p:sp>
            <p:nvSpPr>
              <p:cNvPr id="1251" name=""/>
              <p:cNvSpPr/>
              <p:nvPr/>
            </p:nvSpPr>
            <p:spPr>
              <a:xfrm>
                <a:off x="8039160" y="25210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957080" y="2631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3" name=""/>
          <p:cNvGrpSpPr/>
          <p:nvPr/>
        </p:nvGrpSpPr>
        <p:grpSpPr>
          <a:xfrm>
            <a:off x="4570920" y="2438280"/>
            <a:ext cx="437400" cy="457200"/>
            <a:chOff x="4570920" y="2438280"/>
            <a:chExt cx="437400" cy="457200"/>
          </a:xfrm>
        </p:grpSpPr>
        <p:sp>
          <p:nvSpPr>
            <p:cNvPr id="1254" name=""/>
            <p:cNvSpPr/>
            <p:nvPr/>
          </p:nvSpPr>
          <p:spPr>
            <a:xfrm>
              <a:off x="4687920" y="243828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4570920" y="2438280"/>
              <a:ext cx="437400" cy="457200"/>
              <a:chOff x="4570920" y="2438280"/>
              <a:chExt cx="437400" cy="457200"/>
            </a:xfrm>
          </p:grpSpPr>
          <p:sp>
            <p:nvSpPr>
              <p:cNvPr id="1256" name=""/>
              <p:cNvSpPr/>
              <p:nvPr/>
            </p:nvSpPr>
            <p:spPr>
              <a:xfrm>
                <a:off x="4636800" y="243828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570920" y="2485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8" name=""/>
          <p:cNvGrpSpPr/>
          <p:nvPr/>
        </p:nvGrpSpPr>
        <p:grpSpPr>
          <a:xfrm>
            <a:off x="1221480" y="4708440"/>
            <a:ext cx="462960" cy="825480"/>
            <a:chOff x="1221480" y="4708440"/>
            <a:chExt cx="462960" cy="825480"/>
          </a:xfrm>
        </p:grpSpPr>
        <p:sp>
          <p:nvSpPr>
            <p:cNvPr id="1259" name=""/>
            <p:cNvSpPr/>
            <p:nvPr/>
          </p:nvSpPr>
          <p:spPr>
            <a:xfrm>
              <a:off x="1328760" y="4708440"/>
              <a:ext cx="35568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1221480" y="4708440"/>
              <a:ext cx="437400" cy="825480"/>
              <a:chOff x="1221480" y="4708440"/>
              <a:chExt cx="437400" cy="825480"/>
            </a:xfrm>
          </p:grpSpPr>
          <p:sp>
            <p:nvSpPr>
              <p:cNvPr id="1261" name=""/>
              <p:cNvSpPr/>
              <p:nvPr/>
            </p:nvSpPr>
            <p:spPr>
              <a:xfrm>
                <a:off x="1278000" y="4708440"/>
                <a:ext cx="355680" cy="82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221480" y="4883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3" name=""/>
          <p:cNvGrpSpPr/>
          <p:nvPr/>
        </p:nvGrpSpPr>
        <p:grpSpPr>
          <a:xfrm>
            <a:off x="5928120" y="5065560"/>
            <a:ext cx="463320" cy="470160"/>
            <a:chOff x="5928120" y="5065560"/>
            <a:chExt cx="463320" cy="470160"/>
          </a:xfrm>
        </p:grpSpPr>
        <p:sp>
          <p:nvSpPr>
            <p:cNvPr id="1264" name=""/>
            <p:cNvSpPr/>
            <p:nvPr/>
          </p:nvSpPr>
          <p:spPr>
            <a:xfrm>
              <a:off x="6022800" y="5065560"/>
              <a:ext cx="368640" cy="47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85000" y="5065560"/>
              <a:ext cx="368280" cy="4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28120" y="50878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6582240" y="2584440"/>
            <a:ext cx="437760" cy="419040"/>
            <a:chOff x="6582240" y="2584440"/>
            <a:chExt cx="437760" cy="419040"/>
          </a:xfrm>
        </p:grpSpPr>
        <p:sp>
          <p:nvSpPr>
            <p:cNvPr id="1268" name=""/>
            <p:cNvSpPr/>
            <p:nvPr/>
          </p:nvSpPr>
          <p:spPr>
            <a:xfrm>
              <a:off x="6715080" y="258444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6582240" y="2584440"/>
              <a:ext cx="437400" cy="419040"/>
              <a:chOff x="6582240" y="2584440"/>
              <a:chExt cx="437400" cy="419040"/>
            </a:xfrm>
          </p:grpSpPr>
          <p:sp>
            <p:nvSpPr>
              <p:cNvPr id="1270" name=""/>
              <p:cNvSpPr/>
              <p:nvPr/>
            </p:nvSpPr>
            <p:spPr>
              <a:xfrm>
                <a:off x="6664320" y="258444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582240" y="2606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2" name=""/>
          <p:cNvGrpSpPr/>
          <p:nvPr/>
        </p:nvGrpSpPr>
        <p:grpSpPr>
          <a:xfrm>
            <a:off x="5596560" y="2908440"/>
            <a:ext cx="437400" cy="419040"/>
            <a:chOff x="5596560" y="2908440"/>
            <a:chExt cx="437400" cy="419040"/>
          </a:xfrm>
        </p:grpSpPr>
        <p:sp>
          <p:nvSpPr>
            <p:cNvPr id="1273" name=""/>
            <p:cNvSpPr/>
            <p:nvPr/>
          </p:nvSpPr>
          <p:spPr>
            <a:xfrm>
              <a:off x="5729400" y="290844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5596560" y="2908440"/>
              <a:ext cx="437400" cy="419040"/>
              <a:chOff x="5596560" y="2908440"/>
              <a:chExt cx="437400" cy="419040"/>
            </a:xfrm>
          </p:grpSpPr>
          <p:sp>
            <p:nvSpPr>
              <p:cNvPr id="1275" name=""/>
              <p:cNvSpPr/>
              <p:nvPr/>
            </p:nvSpPr>
            <p:spPr>
              <a:xfrm>
                <a:off x="5678640" y="290844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96560" y="29304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7" name=""/>
          <p:cNvGrpSpPr/>
          <p:nvPr/>
        </p:nvGrpSpPr>
        <p:grpSpPr>
          <a:xfrm>
            <a:off x="2891520" y="4414680"/>
            <a:ext cx="462960" cy="385560"/>
            <a:chOff x="2891520" y="4414680"/>
            <a:chExt cx="462960" cy="385560"/>
          </a:xfrm>
        </p:grpSpPr>
        <p:sp>
          <p:nvSpPr>
            <p:cNvPr id="1278" name=""/>
            <p:cNvSpPr/>
            <p:nvPr/>
          </p:nvSpPr>
          <p:spPr>
            <a:xfrm>
              <a:off x="2986200" y="4432680"/>
              <a:ext cx="368280" cy="36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948040" y="4432680"/>
              <a:ext cx="368280" cy="36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91520" y="44146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837000" y="3962520"/>
            <a:ext cx="437400" cy="660240"/>
            <a:chOff x="837000" y="3962520"/>
            <a:chExt cx="437400" cy="660240"/>
          </a:xfrm>
        </p:grpSpPr>
        <p:sp>
          <p:nvSpPr>
            <p:cNvPr id="1282" name=""/>
            <p:cNvSpPr/>
            <p:nvPr/>
          </p:nvSpPr>
          <p:spPr>
            <a:xfrm>
              <a:off x="954000" y="396252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837000" y="3962520"/>
              <a:ext cx="437400" cy="660240"/>
              <a:chOff x="837000" y="3962520"/>
              <a:chExt cx="437400" cy="660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903240" y="396252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37000" y="40734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795960" y="2103480"/>
            <a:ext cx="475560" cy="558720"/>
            <a:chOff x="795960" y="2103480"/>
            <a:chExt cx="475560" cy="558720"/>
          </a:xfrm>
        </p:grpSpPr>
        <p:sp>
          <p:nvSpPr>
            <p:cNvPr id="1287" name=""/>
            <p:cNvSpPr/>
            <p:nvPr/>
          </p:nvSpPr>
          <p:spPr>
            <a:xfrm>
              <a:off x="890640" y="2103480"/>
              <a:ext cx="380880" cy="558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52480" y="2103480"/>
              <a:ext cx="38088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95960" y="21510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155280" y="3276720"/>
            <a:ext cx="437400" cy="419040"/>
            <a:chOff x="6155280" y="3276720"/>
            <a:chExt cx="437400" cy="419040"/>
          </a:xfrm>
        </p:grpSpPr>
        <p:sp>
          <p:nvSpPr>
            <p:cNvPr id="1291" name=""/>
            <p:cNvSpPr/>
            <p:nvPr/>
          </p:nvSpPr>
          <p:spPr>
            <a:xfrm>
              <a:off x="6288120" y="327672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6155280" y="3276720"/>
              <a:ext cx="437400" cy="419040"/>
              <a:chOff x="6155280" y="3276720"/>
              <a:chExt cx="437400" cy="419040"/>
            </a:xfrm>
          </p:grpSpPr>
          <p:sp>
            <p:nvSpPr>
              <p:cNvPr id="1293" name=""/>
              <p:cNvSpPr/>
              <p:nvPr/>
            </p:nvSpPr>
            <p:spPr>
              <a:xfrm>
                <a:off x="6237360" y="32767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155280" y="32986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2040480" y="2514600"/>
            <a:ext cx="462960" cy="469800"/>
            <a:chOff x="2040480" y="2514600"/>
            <a:chExt cx="462960" cy="469800"/>
          </a:xfrm>
        </p:grpSpPr>
        <p:sp>
          <p:nvSpPr>
            <p:cNvPr id="1296" name=""/>
            <p:cNvSpPr/>
            <p:nvPr/>
          </p:nvSpPr>
          <p:spPr>
            <a:xfrm>
              <a:off x="2135160" y="251460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097000" y="251460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40480" y="25369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2497680" y="2590920"/>
            <a:ext cx="437400" cy="457200"/>
            <a:chOff x="2497680" y="2590920"/>
            <a:chExt cx="437400" cy="457200"/>
          </a:xfrm>
        </p:grpSpPr>
        <p:sp>
          <p:nvSpPr>
            <p:cNvPr id="1300" name=""/>
            <p:cNvSpPr/>
            <p:nvPr/>
          </p:nvSpPr>
          <p:spPr>
            <a:xfrm>
              <a:off x="2630520" y="259092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2497680" y="2590920"/>
              <a:ext cx="437400" cy="457200"/>
              <a:chOff x="2497680" y="2590920"/>
              <a:chExt cx="437400" cy="457200"/>
            </a:xfrm>
          </p:grpSpPr>
          <p:sp>
            <p:nvSpPr>
              <p:cNvPr id="1302" name=""/>
              <p:cNvSpPr/>
              <p:nvPr/>
            </p:nvSpPr>
            <p:spPr>
              <a:xfrm>
                <a:off x="2579400" y="259092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497680" y="26384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4250160" y="4876920"/>
            <a:ext cx="437400" cy="660240"/>
            <a:chOff x="4250160" y="4876920"/>
            <a:chExt cx="437400" cy="660240"/>
          </a:xfrm>
        </p:grpSpPr>
        <p:sp>
          <p:nvSpPr>
            <p:cNvPr id="1305" name=""/>
            <p:cNvSpPr/>
            <p:nvPr/>
          </p:nvSpPr>
          <p:spPr>
            <a:xfrm>
              <a:off x="4383000" y="487692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4250160" y="4876920"/>
              <a:ext cx="437400" cy="660240"/>
              <a:chOff x="4250160" y="4876920"/>
              <a:chExt cx="437400" cy="660240"/>
            </a:xfrm>
          </p:grpSpPr>
          <p:sp>
            <p:nvSpPr>
              <p:cNvPr id="1307" name=""/>
              <p:cNvSpPr/>
              <p:nvPr/>
            </p:nvSpPr>
            <p:spPr>
              <a:xfrm>
                <a:off x="4344840" y="487692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250160" y="4987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3564360" y="3505320"/>
            <a:ext cx="437400" cy="533160"/>
            <a:chOff x="3564360" y="3505320"/>
            <a:chExt cx="437400" cy="533160"/>
          </a:xfrm>
        </p:grpSpPr>
        <p:sp>
          <p:nvSpPr>
            <p:cNvPr id="1310" name=""/>
            <p:cNvSpPr/>
            <p:nvPr/>
          </p:nvSpPr>
          <p:spPr>
            <a:xfrm>
              <a:off x="3697200" y="3505320"/>
              <a:ext cx="304560" cy="533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3564360" y="3505320"/>
              <a:ext cx="437400" cy="533160"/>
              <a:chOff x="3564360" y="3505320"/>
              <a:chExt cx="437400" cy="533160"/>
            </a:xfrm>
          </p:grpSpPr>
          <p:sp>
            <p:nvSpPr>
              <p:cNvPr id="1312" name=""/>
              <p:cNvSpPr/>
              <p:nvPr/>
            </p:nvSpPr>
            <p:spPr>
              <a:xfrm>
                <a:off x="3659040" y="3505320"/>
                <a:ext cx="304560" cy="53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564360" y="35964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6780600" y="3809880"/>
            <a:ext cx="437400" cy="660240"/>
            <a:chOff x="6780600" y="3809880"/>
            <a:chExt cx="437400" cy="660240"/>
          </a:xfrm>
        </p:grpSpPr>
        <p:sp>
          <p:nvSpPr>
            <p:cNvPr id="1315" name=""/>
            <p:cNvSpPr/>
            <p:nvPr/>
          </p:nvSpPr>
          <p:spPr>
            <a:xfrm>
              <a:off x="6897600" y="38098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6780600" y="3809880"/>
              <a:ext cx="437400" cy="660240"/>
              <a:chOff x="6780600" y="3809880"/>
              <a:chExt cx="437400" cy="660240"/>
            </a:xfrm>
          </p:grpSpPr>
          <p:sp>
            <p:nvSpPr>
              <p:cNvPr id="1317" name=""/>
              <p:cNvSpPr/>
              <p:nvPr/>
            </p:nvSpPr>
            <p:spPr>
              <a:xfrm>
                <a:off x="6846840" y="38098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780600" y="3920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9" name=""/>
          <p:cNvGrpSpPr/>
          <p:nvPr/>
        </p:nvGrpSpPr>
        <p:grpSpPr>
          <a:xfrm>
            <a:off x="1675440" y="3657600"/>
            <a:ext cx="447120" cy="345960"/>
            <a:chOff x="1675440" y="3657600"/>
            <a:chExt cx="447120" cy="345960"/>
          </a:xfrm>
        </p:grpSpPr>
        <p:sp>
          <p:nvSpPr>
            <p:cNvPr id="1320" name=""/>
            <p:cNvSpPr/>
            <p:nvPr/>
          </p:nvSpPr>
          <p:spPr>
            <a:xfrm>
              <a:off x="1754280" y="3673440"/>
              <a:ext cx="368280" cy="330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3673440"/>
              <a:ext cx="36828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5440" y="36576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6933240" y="3048120"/>
            <a:ext cx="437400" cy="457200"/>
            <a:chOff x="6933240" y="3048120"/>
            <a:chExt cx="437400" cy="457200"/>
          </a:xfrm>
        </p:grpSpPr>
        <p:sp>
          <p:nvSpPr>
            <p:cNvPr id="1324" name=""/>
            <p:cNvSpPr/>
            <p:nvPr/>
          </p:nvSpPr>
          <p:spPr>
            <a:xfrm>
              <a:off x="7050240" y="304812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6933240" y="3048120"/>
              <a:ext cx="437400" cy="457200"/>
              <a:chOff x="6933240" y="3048120"/>
              <a:chExt cx="437400" cy="457200"/>
            </a:xfrm>
          </p:grpSpPr>
          <p:sp>
            <p:nvSpPr>
              <p:cNvPr id="1326" name=""/>
              <p:cNvSpPr/>
              <p:nvPr/>
            </p:nvSpPr>
            <p:spPr>
              <a:xfrm>
                <a:off x="6999120" y="304812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33240" y="30956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5256720" y="3657600"/>
            <a:ext cx="437400" cy="419040"/>
            <a:chOff x="5256720" y="3657600"/>
            <a:chExt cx="437400" cy="419040"/>
          </a:xfrm>
        </p:grpSpPr>
        <p:sp>
          <p:nvSpPr>
            <p:cNvPr id="1329" name=""/>
            <p:cNvSpPr/>
            <p:nvPr/>
          </p:nvSpPr>
          <p:spPr>
            <a:xfrm>
              <a:off x="5373720" y="365760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5256720" y="3657600"/>
              <a:ext cx="437400" cy="419040"/>
              <a:chOff x="5256720" y="3657600"/>
              <a:chExt cx="437400" cy="419040"/>
            </a:xfrm>
          </p:grpSpPr>
          <p:sp>
            <p:nvSpPr>
              <p:cNvPr id="1331" name=""/>
              <p:cNvSpPr/>
              <p:nvPr/>
            </p:nvSpPr>
            <p:spPr>
              <a:xfrm>
                <a:off x="5322960" y="365760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256720" y="36795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608400" y="3352680"/>
            <a:ext cx="437400" cy="533520"/>
            <a:chOff x="608400" y="3352680"/>
            <a:chExt cx="437400" cy="533520"/>
          </a:xfrm>
        </p:grpSpPr>
        <p:sp>
          <p:nvSpPr>
            <p:cNvPr id="1334" name=""/>
            <p:cNvSpPr/>
            <p:nvPr/>
          </p:nvSpPr>
          <p:spPr>
            <a:xfrm>
              <a:off x="725400" y="3352680"/>
              <a:ext cx="30456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608400" y="3352680"/>
              <a:ext cx="437400" cy="533520"/>
              <a:chOff x="608400" y="3352680"/>
              <a:chExt cx="437400" cy="533520"/>
            </a:xfrm>
          </p:grpSpPr>
          <p:sp>
            <p:nvSpPr>
              <p:cNvPr id="1336" name=""/>
              <p:cNvSpPr/>
              <p:nvPr/>
            </p:nvSpPr>
            <p:spPr>
              <a:xfrm>
                <a:off x="687240" y="3352680"/>
                <a:ext cx="304560" cy="533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8400" y="3443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8" name=""/>
          <p:cNvGrpSpPr/>
          <p:nvPr/>
        </p:nvGrpSpPr>
        <p:grpSpPr>
          <a:xfrm>
            <a:off x="5333040" y="4267080"/>
            <a:ext cx="437400" cy="660240"/>
            <a:chOff x="5333040" y="4267080"/>
            <a:chExt cx="437400" cy="660240"/>
          </a:xfrm>
        </p:grpSpPr>
        <p:sp>
          <p:nvSpPr>
            <p:cNvPr id="1339" name=""/>
            <p:cNvSpPr/>
            <p:nvPr/>
          </p:nvSpPr>
          <p:spPr>
            <a:xfrm>
              <a:off x="5449680" y="42670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333040" y="4267080"/>
              <a:ext cx="437400" cy="660240"/>
              <a:chOff x="5333040" y="4267080"/>
              <a:chExt cx="437400" cy="660240"/>
            </a:xfrm>
          </p:grpSpPr>
          <p:sp>
            <p:nvSpPr>
              <p:cNvPr id="1341" name=""/>
              <p:cNvSpPr/>
              <p:nvPr/>
            </p:nvSpPr>
            <p:spPr>
              <a:xfrm>
                <a:off x="5411520" y="426708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333040" y="4377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619200" y="1801440"/>
            <a:ext cx="7905600" cy="43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ctor overturn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rown from tractor and run ove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rown from tractor but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run ove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ighway motor vehicle &amp; tractor collisions**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tal death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tential lives saved by ROP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amp;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at bel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KY Fatality Assessment and Control Evaluation (FACE) data 1994-99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buNone/>
              <a:tabLst>
                <a:tab algn="l" pos="0"/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two collisions involved large vehicles traveling at high spee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PS and seat belts might not have prevented these two death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title"/>
          </p:nvPr>
        </p:nvSpPr>
        <p:spPr>
          <a:xfrm>
            <a:off x="787320" y="3027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b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PS &amp; seat belts could have saved 108 lives*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entucky farmers at risk-1996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928440" y="2082600"/>
            <a:ext cx="3800520" cy="36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1996, the KY fatality rate in Ag/Forestry/Fishing w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8 tim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national rate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KY, nearly all of these deaths were farming related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4879800" y="1625760"/>
          <a:ext cx="378792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9800" y="1625760"/>
                    <a:ext cx="378792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ctor-related farm deat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000080" y="1709640"/>
            <a:ext cx="4311720" cy="4325400"/>
            <a:chOff x="1000080" y="1709640"/>
            <a:chExt cx="4311720" cy="4325400"/>
          </a:xfrm>
        </p:grpSpPr>
        <p:sp>
          <p:nvSpPr>
            <p:cNvPr id="1351" name=""/>
            <p:cNvSpPr/>
            <p:nvPr/>
          </p:nvSpPr>
          <p:spPr>
            <a:xfrm>
              <a:off x="1624320" y="1709640"/>
              <a:ext cx="2264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erage for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rming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2" name=""/>
            <p:cNvGraphicFramePr/>
            <p:nvPr/>
          </p:nvGraphicFramePr>
          <p:xfrm>
            <a:off x="1000080" y="2516040"/>
            <a:ext cx="4311720" cy="291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2516040"/>
                      <a:ext cx="431172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4" name=""/>
            <p:cNvSpPr/>
            <p:nvPr/>
          </p:nvSpPr>
          <p:spPr>
            <a:xfrm>
              <a:off x="1800360" y="5519880"/>
              <a:ext cx="1912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tional Safety Counc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98 data for the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5156280" y="1863720"/>
            <a:ext cx="2856600" cy="4142520"/>
            <a:chOff x="5156280" y="1863720"/>
            <a:chExt cx="2856600" cy="4142520"/>
          </a:xfrm>
        </p:grpSpPr>
        <p:graphicFrame>
          <p:nvGraphicFramePr>
            <p:cNvPr id="1356" name=""/>
            <p:cNvGraphicFramePr/>
            <p:nvPr/>
          </p:nvGraphicFramePr>
          <p:xfrm>
            <a:off x="5156280" y="2508120"/>
            <a:ext cx="2793960" cy="2895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6280" y="2508120"/>
                      <a:ext cx="2793960" cy="289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"/>
            <p:cNvSpPr/>
            <p:nvPr/>
          </p:nvSpPr>
          <p:spPr>
            <a:xfrm>
              <a:off x="5342040" y="186372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entucky 1994-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07840" y="5491080"/>
              <a:ext cx="270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K Kentucky Fatality Assess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d Control Evaluatio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fetime chance of an overtur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95160" y="1842840"/>
            <a:ext cx="77536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in 9 Kentucky farmers age 55 or older have overturned a tractor and liv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/3 of these survivors have had two or more overtur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of these persons were injur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received minor injur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received severe injur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were permanently disabl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se of ROPS on Kentucky far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3" name=""/>
          <p:cNvGraphicFramePr/>
          <p:nvPr/>
        </p:nvGraphicFramePr>
        <p:xfrm>
          <a:off x="1496880" y="1557360"/>
          <a:ext cx="615024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557360"/>
                    <a:ext cx="61502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79440" y="24264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f 100 Kentucky farmers who drive tr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1774800" y="2406600"/>
            <a:ext cx="5769000" cy="231768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474480" y="5411880"/>
            <a:ext cx="833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ly 6 are fully protected by ROPS and seat be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410400" y="304920"/>
            <a:ext cx="8346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ther 24 farmers who drive tractors with 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wear their seat be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0400" y="304920"/>
            <a:ext cx="8346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ther 24 farmers who drive tractors with 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wear their seat be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502240" cy="38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408960" y="304920"/>
            <a:ext cx="8228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ther 70 farmers are unprotected because 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rive tractors without ROPS and seat be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015920" y="5818320"/>
            <a:ext cx="173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sky busine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124080" y="6019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57600" y="6095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monstrating how a ROPS work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59360" y="5838840"/>
            <a:ext cx="328320" cy="61920"/>
          </a:xfrm>
          <a:custGeom>
            <a:avLst/>
            <a:gdLst/>
            <a:ahLst/>
            <a:rect l="l" t="t" r="r" b="b"/>
            <a:pathLst>
              <a:path w="207" h="39">
                <a:moveTo>
                  <a:pt x="206" y="0"/>
                </a:moveTo>
                <a:lnTo>
                  <a:pt x="138" y="0"/>
                </a:lnTo>
                <a:lnTo>
                  <a:pt x="69" y="38"/>
                </a:lnTo>
                <a:lnTo>
                  <a:pt x="0" y="38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8280" y="3463920"/>
            <a:ext cx="4428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84400" y="3309840"/>
            <a:ext cx="4788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16320" y="330984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525840"/>
            <a:ext cx="284400" cy="271440"/>
          </a:xfrm>
          <a:custGeom>
            <a:avLst/>
            <a:gdLst/>
            <a:ahLst/>
            <a:rect l="l" t="t" r="r" b="b"/>
            <a:pathLst>
              <a:path w="179" h="171">
                <a:moveTo>
                  <a:pt x="0" y="70"/>
                </a:moveTo>
                <a:lnTo>
                  <a:pt x="124" y="0"/>
                </a:lnTo>
                <a:lnTo>
                  <a:pt x="178" y="101"/>
                </a:lnTo>
                <a:lnTo>
                  <a:pt x="62" y="170"/>
                </a:lnTo>
                <a:lnTo>
                  <a:pt x="0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002040" y="3315960"/>
            <a:ext cx="123840" cy="22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52400" y="3657240"/>
            <a:ext cx="72396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038480" y="3276360"/>
            <a:ext cx="4896720" cy="3141720"/>
            <a:chOff x="4038480" y="3276360"/>
            <a:chExt cx="4896720" cy="3141720"/>
          </a:xfrm>
        </p:grpSpPr>
        <p:sp>
          <p:nvSpPr>
            <p:cNvPr id="57" name=""/>
            <p:cNvSpPr/>
            <p:nvPr/>
          </p:nvSpPr>
          <p:spPr>
            <a:xfrm>
              <a:off x="4038480" y="5764320"/>
              <a:ext cx="1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46600" y="4160880"/>
              <a:ext cx="409680" cy="652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58040" y="605484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33960" y="3411720"/>
              <a:ext cx="279360" cy="763560"/>
            </a:xfrm>
            <a:custGeom>
              <a:avLst/>
              <a:gdLst/>
              <a:ahLst/>
              <a:rect l="l" t="t" r="r" b="b"/>
              <a:pathLst>
                <a:path w="176" h="481">
                  <a:moveTo>
                    <a:pt x="84" y="480"/>
                  </a:moveTo>
                  <a:lnTo>
                    <a:pt x="175" y="228"/>
                  </a:lnTo>
                  <a:lnTo>
                    <a:pt x="0" y="160"/>
                  </a:lnTo>
                  <a:lnTo>
                    <a:pt x="5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632480" y="3276360"/>
              <a:ext cx="1701720" cy="25542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5800" y="5938920"/>
              <a:ext cx="156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ame of saf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634000" y="4211640"/>
              <a:ext cx="993960" cy="1414440"/>
              <a:chOff x="5634000" y="4211640"/>
              <a:chExt cx="993960" cy="1414440"/>
            </a:xfrm>
          </p:grpSpPr>
          <p:sp>
            <p:nvSpPr>
              <p:cNvPr id="64" name=""/>
              <p:cNvSpPr/>
              <p:nvPr/>
            </p:nvSpPr>
            <p:spPr>
              <a:xfrm>
                <a:off x="6046920" y="4211640"/>
                <a:ext cx="577800" cy="15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634000" y="4318200"/>
                <a:ext cx="993960" cy="1307880"/>
              </a:xfrm>
              <a:custGeom>
                <a:avLst/>
                <a:gdLst/>
                <a:ahLst/>
                <a:rect l="l" t="t" r="r" b="b"/>
                <a:pathLst>
                  <a:path w="626" h="824">
                    <a:moveTo>
                      <a:pt x="38" y="312"/>
                    </a:moveTo>
                    <a:lnTo>
                      <a:pt x="31" y="343"/>
                    </a:lnTo>
                    <a:lnTo>
                      <a:pt x="23" y="366"/>
                    </a:lnTo>
                    <a:lnTo>
                      <a:pt x="15" y="396"/>
                    </a:lnTo>
                    <a:lnTo>
                      <a:pt x="8" y="427"/>
                    </a:lnTo>
                    <a:lnTo>
                      <a:pt x="8" y="457"/>
                    </a:lnTo>
                    <a:lnTo>
                      <a:pt x="8" y="480"/>
                    </a:lnTo>
                    <a:lnTo>
                      <a:pt x="0" y="510"/>
                    </a:lnTo>
                    <a:lnTo>
                      <a:pt x="8" y="541"/>
                    </a:lnTo>
                    <a:lnTo>
                      <a:pt x="8" y="564"/>
                    </a:lnTo>
                    <a:lnTo>
                      <a:pt x="8" y="594"/>
                    </a:lnTo>
                    <a:lnTo>
                      <a:pt x="15" y="617"/>
                    </a:lnTo>
                    <a:lnTo>
                      <a:pt x="23" y="640"/>
                    </a:lnTo>
                    <a:lnTo>
                      <a:pt x="31" y="663"/>
                    </a:lnTo>
                    <a:lnTo>
                      <a:pt x="38" y="686"/>
                    </a:lnTo>
                    <a:lnTo>
                      <a:pt x="53" y="709"/>
                    </a:lnTo>
                    <a:lnTo>
                      <a:pt x="61" y="732"/>
                    </a:lnTo>
                    <a:lnTo>
                      <a:pt x="76" y="747"/>
                    </a:lnTo>
                    <a:lnTo>
                      <a:pt x="91" y="762"/>
                    </a:lnTo>
                    <a:lnTo>
                      <a:pt x="107" y="777"/>
                    </a:lnTo>
                    <a:lnTo>
                      <a:pt x="122" y="792"/>
                    </a:lnTo>
                    <a:lnTo>
                      <a:pt x="137" y="800"/>
                    </a:lnTo>
                    <a:lnTo>
                      <a:pt x="160" y="808"/>
                    </a:lnTo>
                    <a:lnTo>
                      <a:pt x="175" y="815"/>
                    </a:lnTo>
                    <a:lnTo>
                      <a:pt x="198" y="823"/>
                    </a:lnTo>
                    <a:lnTo>
                      <a:pt x="213" y="823"/>
                    </a:lnTo>
                    <a:lnTo>
                      <a:pt x="236" y="823"/>
                    </a:lnTo>
                    <a:lnTo>
                      <a:pt x="259" y="823"/>
                    </a:lnTo>
                    <a:lnTo>
                      <a:pt x="282" y="823"/>
                    </a:lnTo>
                    <a:lnTo>
                      <a:pt x="297" y="815"/>
                    </a:lnTo>
                    <a:lnTo>
                      <a:pt x="320" y="808"/>
                    </a:lnTo>
                    <a:lnTo>
                      <a:pt x="343" y="800"/>
                    </a:lnTo>
                    <a:lnTo>
                      <a:pt x="366" y="785"/>
                    </a:lnTo>
                    <a:lnTo>
                      <a:pt x="389" y="777"/>
                    </a:lnTo>
                    <a:lnTo>
                      <a:pt x="404" y="762"/>
                    </a:lnTo>
                    <a:lnTo>
                      <a:pt x="427" y="747"/>
                    </a:lnTo>
                    <a:lnTo>
                      <a:pt x="450" y="724"/>
                    </a:lnTo>
                    <a:lnTo>
                      <a:pt x="465" y="709"/>
                    </a:lnTo>
                    <a:lnTo>
                      <a:pt x="488" y="686"/>
                    </a:lnTo>
                    <a:lnTo>
                      <a:pt x="503" y="663"/>
                    </a:lnTo>
                    <a:lnTo>
                      <a:pt x="518" y="640"/>
                    </a:lnTo>
                    <a:lnTo>
                      <a:pt x="533" y="617"/>
                    </a:lnTo>
                    <a:lnTo>
                      <a:pt x="549" y="594"/>
                    </a:lnTo>
                    <a:lnTo>
                      <a:pt x="564" y="564"/>
                    </a:lnTo>
                    <a:lnTo>
                      <a:pt x="572" y="541"/>
                    </a:lnTo>
                    <a:lnTo>
                      <a:pt x="587" y="510"/>
                    </a:lnTo>
                    <a:lnTo>
                      <a:pt x="594" y="480"/>
                    </a:lnTo>
                    <a:lnTo>
                      <a:pt x="602" y="457"/>
                    </a:lnTo>
                    <a:lnTo>
                      <a:pt x="610" y="427"/>
                    </a:lnTo>
                    <a:lnTo>
                      <a:pt x="617" y="396"/>
                    </a:lnTo>
                    <a:lnTo>
                      <a:pt x="617" y="366"/>
                    </a:lnTo>
                    <a:lnTo>
                      <a:pt x="617" y="335"/>
                    </a:lnTo>
                    <a:lnTo>
                      <a:pt x="625" y="312"/>
                    </a:lnTo>
                    <a:lnTo>
                      <a:pt x="617" y="282"/>
                    </a:lnTo>
                    <a:lnTo>
                      <a:pt x="617" y="259"/>
                    </a:lnTo>
                    <a:lnTo>
                      <a:pt x="617" y="228"/>
                    </a:lnTo>
                    <a:lnTo>
                      <a:pt x="610" y="206"/>
                    </a:lnTo>
                    <a:lnTo>
                      <a:pt x="602" y="183"/>
                    </a:lnTo>
                    <a:lnTo>
                      <a:pt x="594" y="160"/>
                    </a:lnTo>
                    <a:lnTo>
                      <a:pt x="587" y="137"/>
                    </a:lnTo>
                    <a:lnTo>
                      <a:pt x="572" y="114"/>
                    </a:lnTo>
                    <a:lnTo>
                      <a:pt x="564" y="91"/>
                    </a:lnTo>
                    <a:lnTo>
                      <a:pt x="549" y="76"/>
                    </a:lnTo>
                    <a:lnTo>
                      <a:pt x="533" y="61"/>
                    </a:lnTo>
                    <a:lnTo>
                      <a:pt x="518" y="46"/>
                    </a:lnTo>
                    <a:lnTo>
                      <a:pt x="503" y="30"/>
                    </a:lnTo>
                    <a:lnTo>
                      <a:pt x="488" y="23"/>
                    </a:lnTo>
                    <a:lnTo>
                      <a:pt x="465" y="15"/>
                    </a:lnTo>
                    <a:lnTo>
                      <a:pt x="450" y="7"/>
                    </a:lnTo>
                    <a:lnTo>
                      <a:pt x="427" y="0"/>
                    </a:lnTo>
                    <a:lnTo>
                      <a:pt x="412" y="0"/>
                    </a:lnTo>
                    <a:lnTo>
                      <a:pt x="389" y="0"/>
                    </a:lnTo>
                    <a:lnTo>
                      <a:pt x="366" y="0"/>
                    </a:lnTo>
                    <a:lnTo>
                      <a:pt x="343" y="0"/>
                    </a:lnTo>
                    <a:lnTo>
                      <a:pt x="328" y="7"/>
                    </a:lnTo>
                    <a:lnTo>
                      <a:pt x="305" y="15"/>
                    </a:lnTo>
                    <a:lnTo>
                      <a:pt x="282" y="23"/>
                    </a:lnTo>
                    <a:lnTo>
                      <a:pt x="259" y="38"/>
                    </a:lnTo>
                    <a:lnTo>
                      <a:pt x="236" y="46"/>
                    </a:lnTo>
                    <a:lnTo>
                      <a:pt x="221" y="61"/>
                    </a:lnTo>
                    <a:lnTo>
                      <a:pt x="198" y="76"/>
                    </a:lnTo>
                    <a:lnTo>
                      <a:pt x="175" y="99"/>
                    </a:lnTo>
                    <a:lnTo>
                      <a:pt x="160" y="114"/>
                    </a:lnTo>
                    <a:lnTo>
                      <a:pt x="137" y="137"/>
                    </a:lnTo>
                    <a:lnTo>
                      <a:pt x="122" y="160"/>
                    </a:lnTo>
                    <a:lnTo>
                      <a:pt x="107" y="183"/>
                    </a:lnTo>
                    <a:lnTo>
                      <a:pt x="91" y="206"/>
                    </a:lnTo>
                    <a:lnTo>
                      <a:pt x="76" y="228"/>
                    </a:lnTo>
                    <a:lnTo>
                      <a:pt x="61" y="259"/>
                    </a:lnTo>
                    <a:lnTo>
                      <a:pt x="53" y="282"/>
                    </a:lnTo>
                    <a:lnTo>
                      <a:pt x="38" y="3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033960" y="5176800"/>
                <a:ext cx="122400" cy="8568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0" y="0"/>
                    </a:moveTo>
                    <a:lnTo>
                      <a:pt x="30" y="53"/>
                    </a:lnTo>
                    <a:lnTo>
                      <a:pt x="76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75520" y="5286600"/>
                <a:ext cx="122040" cy="8568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0" y="0"/>
                    </a:moveTo>
                    <a:lnTo>
                      <a:pt x="30" y="53"/>
                    </a:lnTo>
                    <a:lnTo>
                      <a:pt x="76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094440" y="511668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15"/>
                    </a:move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7" y="38"/>
                    </a:lnTo>
                    <a:lnTo>
                      <a:pt x="7" y="46"/>
                    </a:lnTo>
                    <a:lnTo>
                      <a:pt x="15" y="46"/>
                    </a:lnTo>
                    <a:lnTo>
                      <a:pt x="22" y="46"/>
                    </a:lnTo>
                    <a:lnTo>
                      <a:pt x="30" y="46"/>
                    </a:lnTo>
                    <a:lnTo>
                      <a:pt x="38" y="38"/>
                    </a:lnTo>
                    <a:lnTo>
                      <a:pt x="45" y="38"/>
                    </a:lnTo>
                    <a:lnTo>
                      <a:pt x="45" y="30"/>
                    </a:lnTo>
                    <a:lnTo>
                      <a:pt x="45" y="23"/>
                    </a:lnTo>
                    <a:lnTo>
                      <a:pt x="45" y="15"/>
                    </a:lnTo>
                    <a:lnTo>
                      <a:pt x="45" y="7"/>
                    </a:lnTo>
                    <a:lnTo>
                      <a:pt x="38" y="7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3040" y="523728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15"/>
                    </a:move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8" y="46"/>
                    </a:lnTo>
                    <a:lnTo>
                      <a:pt x="16" y="46"/>
                    </a:lnTo>
                    <a:lnTo>
                      <a:pt x="23" y="46"/>
                    </a:lnTo>
                    <a:lnTo>
                      <a:pt x="31" y="46"/>
                    </a:lnTo>
                    <a:lnTo>
                      <a:pt x="38" y="38"/>
                    </a:lnTo>
                    <a:lnTo>
                      <a:pt x="46" y="38"/>
                    </a:lnTo>
                    <a:lnTo>
                      <a:pt x="46" y="31"/>
                    </a:lnTo>
                    <a:lnTo>
                      <a:pt x="46" y="23"/>
                    </a:lnTo>
                    <a:lnTo>
                      <a:pt x="46" y="15"/>
                    </a:lnTo>
                    <a:lnTo>
                      <a:pt x="46" y="8"/>
                    </a:lnTo>
                    <a:lnTo>
                      <a:pt x="38" y="8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88120" y="4983120"/>
                <a:ext cx="109440" cy="208080"/>
              </a:xfrm>
              <a:custGeom>
                <a:avLst/>
                <a:gdLst/>
                <a:ahLst/>
                <a:rect l="l" t="t" r="r" b="b"/>
                <a:pathLst>
                  <a:path w="69" h="131">
                    <a:moveTo>
                      <a:pt x="0" y="130"/>
                    </a:moveTo>
                    <a:lnTo>
                      <a:pt x="15" y="91"/>
                    </a:lnTo>
                    <a:lnTo>
                      <a:pt x="68" y="69"/>
                    </a:lnTo>
                    <a:lnTo>
                      <a:pt x="60" y="1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64360" y="4765680"/>
                <a:ext cx="266760" cy="195480"/>
              </a:xfrm>
              <a:custGeom>
                <a:avLst/>
                <a:gdLst/>
                <a:ahLst/>
                <a:rect l="l" t="t" r="r" b="b"/>
                <a:pathLst>
                  <a:path w="168" h="123">
                    <a:moveTo>
                      <a:pt x="0" y="23"/>
                    </a:moveTo>
                    <a:lnTo>
                      <a:pt x="53" y="0"/>
                    </a:lnTo>
                    <a:lnTo>
                      <a:pt x="99" y="15"/>
                    </a:lnTo>
                    <a:lnTo>
                      <a:pt x="137" y="38"/>
                    </a:lnTo>
                    <a:lnTo>
                      <a:pt x="167" y="76"/>
                    </a:lnTo>
                    <a:lnTo>
                      <a:pt x="152" y="12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365720" y="5807160"/>
              <a:ext cx="3921120" cy="111240"/>
            </a:xfrm>
            <a:custGeom>
              <a:avLst/>
              <a:gdLst/>
              <a:ahLst/>
              <a:rect l="l" t="t" r="r" b="b"/>
              <a:pathLst>
                <a:path w="2470" h="70">
                  <a:moveTo>
                    <a:pt x="0" y="31"/>
                  </a:moveTo>
                  <a:lnTo>
                    <a:pt x="69" y="0"/>
                  </a:lnTo>
                  <a:lnTo>
                    <a:pt x="107" y="69"/>
                  </a:lnTo>
                  <a:lnTo>
                    <a:pt x="175" y="31"/>
                  </a:lnTo>
                  <a:lnTo>
                    <a:pt x="244" y="31"/>
                  </a:lnTo>
                  <a:lnTo>
                    <a:pt x="313" y="31"/>
                  </a:lnTo>
                  <a:lnTo>
                    <a:pt x="381" y="31"/>
                  </a:lnTo>
                  <a:lnTo>
                    <a:pt x="450" y="0"/>
                  </a:lnTo>
                  <a:lnTo>
                    <a:pt x="518" y="0"/>
                  </a:lnTo>
                  <a:lnTo>
                    <a:pt x="587" y="31"/>
                  </a:lnTo>
                  <a:lnTo>
                    <a:pt x="655" y="69"/>
                  </a:lnTo>
                  <a:lnTo>
                    <a:pt x="724" y="69"/>
                  </a:lnTo>
                  <a:lnTo>
                    <a:pt x="793" y="69"/>
                  </a:lnTo>
                  <a:lnTo>
                    <a:pt x="861" y="69"/>
                  </a:lnTo>
                  <a:lnTo>
                    <a:pt x="930" y="69"/>
                  </a:lnTo>
                  <a:lnTo>
                    <a:pt x="998" y="69"/>
                  </a:lnTo>
                  <a:lnTo>
                    <a:pt x="1067" y="31"/>
                  </a:lnTo>
                  <a:lnTo>
                    <a:pt x="1135" y="31"/>
                  </a:lnTo>
                  <a:lnTo>
                    <a:pt x="1204" y="31"/>
                  </a:lnTo>
                  <a:lnTo>
                    <a:pt x="1273" y="31"/>
                  </a:lnTo>
                  <a:lnTo>
                    <a:pt x="1341" y="31"/>
                  </a:lnTo>
                  <a:lnTo>
                    <a:pt x="1410" y="31"/>
                  </a:lnTo>
                  <a:lnTo>
                    <a:pt x="1478" y="31"/>
                  </a:lnTo>
                  <a:lnTo>
                    <a:pt x="1547" y="31"/>
                  </a:lnTo>
                  <a:lnTo>
                    <a:pt x="1616" y="31"/>
                  </a:lnTo>
                  <a:lnTo>
                    <a:pt x="1684" y="0"/>
                  </a:lnTo>
                  <a:lnTo>
                    <a:pt x="1753" y="0"/>
                  </a:lnTo>
                  <a:lnTo>
                    <a:pt x="1821" y="31"/>
                  </a:lnTo>
                  <a:lnTo>
                    <a:pt x="1890" y="31"/>
                  </a:lnTo>
                  <a:lnTo>
                    <a:pt x="1958" y="31"/>
                  </a:lnTo>
                  <a:lnTo>
                    <a:pt x="2027" y="31"/>
                  </a:lnTo>
                  <a:lnTo>
                    <a:pt x="2096" y="0"/>
                  </a:lnTo>
                  <a:lnTo>
                    <a:pt x="2164" y="0"/>
                  </a:lnTo>
                  <a:lnTo>
                    <a:pt x="2233" y="31"/>
                  </a:lnTo>
                  <a:lnTo>
                    <a:pt x="2301" y="0"/>
                  </a:lnTo>
                  <a:lnTo>
                    <a:pt x="2400" y="0"/>
                  </a:lnTo>
                  <a:lnTo>
                    <a:pt x="2469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024320" y="5008680"/>
              <a:ext cx="181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340760" y="5045040"/>
              <a:ext cx="108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18160" y="3834000"/>
              <a:ext cx="944640" cy="461880"/>
            </a:xfrm>
            <a:custGeom>
              <a:avLst/>
              <a:gdLst/>
              <a:ahLst/>
              <a:rect l="l" t="t" r="r" b="b"/>
              <a:pathLst>
                <a:path w="595" h="291">
                  <a:moveTo>
                    <a:pt x="0" y="290"/>
                  </a:moveTo>
                  <a:lnTo>
                    <a:pt x="38" y="183"/>
                  </a:lnTo>
                  <a:lnTo>
                    <a:pt x="289" y="0"/>
                  </a:lnTo>
                  <a:lnTo>
                    <a:pt x="556" y="99"/>
                  </a:lnTo>
                  <a:lnTo>
                    <a:pt x="594" y="2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40440" y="4718160"/>
              <a:ext cx="317520" cy="546120"/>
            </a:xfrm>
            <a:custGeom>
              <a:avLst/>
              <a:gdLst/>
              <a:ahLst/>
              <a:rect l="l" t="t" r="r" b="b"/>
              <a:pathLst>
                <a:path w="200" h="344">
                  <a:moveTo>
                    <a:pt x="199" y="0"/>
                  </a:moveTo>
                  <a:lnTo>
                    <a:pt x="0" y="99"/>
                  </a:lnTo>
                  <a:lnTo>
                    <a:pt x="23" y="34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267680" y="4184640"/>
              <a:ext cx="19368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808680" y="5116680"/>
              <a:ext cx="14292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6759360" y="4838400"/>
              <a:ext cx="6012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278840" y="4076640"/>
              <a:ext cx="15696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56520" y="4064040"/>
              <a:ext cx="3492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62840" y="4875120"/>
              <a:ext cx="473040" cy="303480"/>
            </a:xfrm>
            <a:custGeom>
              <a:avLst/>
              <a:gdLst/>
              <a:ahLst/>
              <a:rect l="l" t="t" r="r" b="b"/>
              <a:pathLst>
                <a:path w="298" h="191">
                  <a:moveTo>
                    <a:pt x="259" y="190"/>
                  </a:moveTo>
                  <a:lnTo>
                    <a:pt x="0" y="99"/>
                  </a:lnTo>
                  <a:lnTo>
                    <a:pt x="30" y="0"/>
                  </a:lnTo>
                  <a:lnTo>
                    <a:pt x="297" y="91"/>
                  </a:lnTo>
                  <a:lnTo>
                    <a:pt x="259" y="19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00920" y="511668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5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8"/>
                  </a:lnTo>
                  <a:lnTo>
                    <a:pt x="46" y="30"/>
                  </a:lnTo>
                  <a:lnTo>
                    <a:pt x="46" y="23"/>
                  </a:lnTo>
                  <a:lnTo>
                    <a:pt x="46" y="15"/>
                  </a:lnTo>
                  <a:lnTo>
                    <a:pt x="46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4040" y="522468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16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0" y="46"/>
                  </a:lnTo>
                  <a:lnTo>
                    <a:pt x="38" y="39"/>
                  </a:lnTo>
                  <a:lnTo>
                    <a:pt x="45" y="39"/>
                  </a:lnTo>
                  <a:lnTo>
                    <a:pt x="45" y="31"/>
                  </a:lnTo>
                  <a:lnTo>
                    <a:pt x="45" y="23"/>
                  </a:lnTo>
                  <a:lnTo>
                    <a:pt x="45" y="16"/>
                  </a:lnTo>
                  <a:lnTo>
                    <a:pt x="45" y="8"/>
                  </a:lnTo>
                  <a:lnTo>
                    <a:pt x="38" y="8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7" y="8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77160" y="5275440"/>
              <a:ext cx="118404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72120" y="4259160"/>
              <a:ext cx="539640" cy="5889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91280" y="441504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83" y="175"/>
                  </a:moveTo>
                  <a:lnTo>
                    <a:pt x="0" y="68"/>
                  </a:lnTo>
                  <a:lnTo>
                    <a:pt x="83" y="0"/>
                  </a:lnTo>
                  <a:lnTo>
                    <a:pt x="175" y="106"/>
                  </a:lnTo>
                  <a:lnTo>
                    <a:pt x="83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779720" y="460872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9040" y="442908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682040" y="4325760"/>
              <a:ext cx="28728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0" y="3757680"/>
              <a:ext cx="1411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verturn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038200" y="5434200"/>
              <a:ext cx="4273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275520" y="3790800"/>
              <a:ext cx="23940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65520" y="34495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at be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01000" y="5891400"/>
              <a:ext cx="2635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62120" y="1905120"/>
            <a:ext cx="5453640" cy="2914560"/>
            <a:chOff x="762120" y="1905120"/>
            <a:chExt cx="5453640" cy="2914560"/>
          </a:xfrm>
        </p:grpSpPr>
        <p:grpSp>
          <p:nvGrpSpPr>
            <p:cNvPr id="97" name=""/>
            <p:cNvGrpSpPr/>
            <p:nvPr/>
          </p:nvGrpSpPr>
          <p:grpSpPr>
            <a:xfrm>
              <a:off x="1417680" y="2500560"/>
              <a:ext cx="922320" cy="1409760"/>
              <a:chOff x="1417680" y="2500560"/>
              <a:chExt cx="922320" cy="1409760"/>
            </a:xfrm>
          </p:grpSpPr>
          <p:sp>
            <p:nvSpPr>
              <p:cNvPr id="98" name=""/>
              <p:cNvSpPr/>
              <p:nvPr/>
            </p:nvSpPr>
            <p:spPr>
              <a:xfrm>
                <a:off x="1522440" y="3910320"/>
                <a:ext cx="627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17680" y="2500560"/>
                <a:ext cx="922320" cy="136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54000" y="2889360"/>
                <a:ext cx="149400" cy="61920"/>
              </a:xfrm>
              <a:custGeom>
                <a:avLst/>
                <a:gdLst/>
                <a:ahLst/>
                <a:rect l="l" t="t" r="r" b="b"/>
                <a:pathLst>
                  <a:path w="94" h="39">
                    <a:moveTo>
                      <a:pt x="0" y="38"/>
                    </a:moveTo>
                    <a:lnTo>
                      <a:pt x="47" y="0"/>
                    </a:lnTo>
                    <a:lnTo>
                      <a:pt x="93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131920" y="2863800"/>
                <a:ext cx="7308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05000" y="2876760"/>
                <a:ext cx="619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09800" y="2994120"/>
                <a:ext cx="48960" cy="47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68640" y="2955960"/>
                <a:ext cx="48960" cy="4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63880" y="3024360"/>
                <a:ext cx="112680" cy="210960"/>
              </a:xfrm>
              <a:custGeom>
                <a:avLst/>
                <a:gdLst/>
                <a:ahLst/>
                <a:rect l="l" t="t" r="r" b="b"/>
                <a:pathLst>
                  <a:path w="71" h="133">
                    <a:moveTo>
                      <a:pt x="23" y="0"/>
                    </a:moveTo>
                    <a:lnTo>
                      <a:pt x="23" y="46"/>
                    </a:lnTo>
                    <a:lnTo>
                      <a:pt x="70" y="85"/>
                    </a:lnTo>
                    <a:lnTo>
                      <a:pt x="47" y="132"/>
                    </a:lnTo>
                    <a:lnTo>
                      <a:pt x="0" y="1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41480" y="3319560"/>
                <a:ext cx="284040" cy="149400"/>
              </a:xfrm>
              <a:custGeom>
                <a:avLst/>
                <a:gdLst/>
                <a:ahLst/>
                <a:rect l="l" t="t" r="r" b="b"/>
                <a:pathLst>
                  <a:path w="179" h="94">
                    <a:moveTo>
                      <a:pt x="0" y="54"/>
                    </a:moveTo>
                    <a:lnTo>
                      <a:pt x="46" y="85"/>
                    </a:lnTo>
                    <a:lnTo>
                      <a:pt x="93" y="93"/>
                    </a:lnTo>
                    <a:lnTo>
                      <a:pt x="139" y="78"/>
                    </a:lnTo>
                    <a:lnTo>
                      <a:pt x="178" y="54"/>
                    </a:lnTo>
                    <a:lnTo>
                      <a:pt x="178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311280" y="2821320"/>
              <a:ext cx="1512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ering whe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3197520"/>
              <a:ext cx="231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05520" y="199728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560600" y="3430800"/>
              <a:ext cx="723600" cy="479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0400" y="3937320"/>
              <a:ext cx="1890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seat be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085920" y="3306600"/>
              <a:ext cx="367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6280" y="3197520"/>
              <a:ext cx="120600" cy="711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25520" y="3959280"/>
              <a:ext cx="309600" cy="716040"/>
            </a:xfrm>
            <a:custGeom>
              <a:avLst/>
              <a:gdLst/>
              <a:ahLst/>
              <a:rect l="l" t="t" r="r" b="b"/>
              <a:pathLst>
                <a:path w="195" h="451">
                  <a:moveTo>
                    <a:pt x="194" y="0"/>
                  </a:moveTo>
                  <a:lnTo>
                    <a:pt x="194" y="272"/>
                  </a:lnTo>
                  <a:lnTo>
                    <a:pt x="0" y="272"/>
                  </a:lnTo>
                  <a:lnTo>
                    <a:pt x="0" y="4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14560" y="3959280"/>
              <a:ext cx="863640" cy="604800"/>
            </a:xfrm>
            <a:custGeom>
              <a:avLst/>
              <a:gdLst/>
              <a:ahLst/>
              <a:rect l="l" t="t" r="r" b="b"/>
              <a:pathLst>
                <a:path w="544" h="381">
                  <a:moveTo>
                    <a:pt x="0" y="0"/>
                  </a:moveTo>
                  <a:lnTo>
                    <a:pt x="0" y="117"/>
                  </a:lnTo>
                  <a:lnTo>
                    <a:pt x="171" y="380"/>
                  </a:lnTo>
                  <a:lnTo>
                    <a:pt x="465" y="380"/>
                  </a:lnTo>
                  <a:lnTo>
                    <a:pt x="543" y="27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7920" y="3197520"/>
              <a:ext cx="247320" cy="615960"/>
            </a:xfrm>
            <a:custGeom>
              <a:avLst/>
              <a:gdLst/>
              <a:ahLst/>
              <a:rect l="l" t="t" r="r" b="b"/>
              <a:pathLst>
                <a:path w="156" h="388">
                  <a:moveTo>
                    <a:pt x="155" y="387"/>
                  </a:moveTo>
                  <a:lnTo>
                    <a:pt x="0" y="224"/>
                  </a:lnTo>
                  <a:lnTo>
                    <a:pt x="109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63800" y="3811680"/>
              <a:ext cx="0" cy="57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81200" y="3257640"/>
              <a:ext cx="14616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421000" y="2988000"/>
              <a:ext cx="295200" cy="5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690640" y="4365360"/>
              <a:ext cx="12384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17920" y="4279680"/>
              <a:ext cx="12348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65520" y="3454560"/>
              <a:ext cx="441360" cy="15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5520" y="300852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1905120"/>
              <a:ext cx="674640" cy="2914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2000" y="2614680"/>
              <a:ext cx="53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2680" y="218448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79200" y="2427480"/>
              <a:ext cx="343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tractor driver (a raw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4600" y="3268800"/>
              <a:ext cx="72720" cy="7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a ROPS and seat belt work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720" y="5649840"/>
            <a:ext cx="361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an overturn the operator st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the ROPS “frame of safety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1676520"/>
            <a:ext cx="7358760" cy="3975120"/>
            <a:chOff x="914400" y="1676520"/>
            <a:chExt cx="7358760" cy="3975120"/>
          </a:xfrm>
        </p:grpSpPr>
        <p:grpSp>
          <p:nvGrpSpPr>
            <p:cNvPr id="132" name=""/>
            <p:cNvGrpSpPr/>
            <p:nvPr/>
          </p:nvGrpSpPr>
          <p:grpSpPr>
            <a:xfrm>
              <a:off x="914400" y="1676520"/>
              <a:ext cx="3345840" cy="3409920"/>
              <a:chOff x="914400" y="1676520"/>
              <a:chExt cx="3345840" cy="3409920"/>
            </a:xfrm>
          </p:grpSpPr>
          <p:graphicFrame>
            <p:nvGraphicFramePr>
              <p:cNvPr id="133" name=""/>
              <p:cNvGraphicFramePr/>
              <p:nvPr/>
            </p:nvGraphicFramePr>
            <p:xfrm>
              <a:off x="914400" y="1676520"/>
              <a:ext cx="2985840" cy="34099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1676520"/>
                        <a:ext cx="2985840" cy="340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" name=""/>
              <p:cNvSpPr/>
              <p:nvPr/>
            </p:nvSpPr>
            <p:spPr>
              <a:xfrm>
                <a:off x="2847600" y="201960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15240" y="1839960"/>
                <a:ext cx="6890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68160" y="3370320"/>
                <a:ext cx="0" cy="148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88480" y="4638960"/>
                <a:ext cx="940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t bel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81120" y="486108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82800" y="3897360"/>
                <a:ext cx="54900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3417840"/>
                <a:ext cx="59472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60640" y="3197520"/>
                <a:ext cx="39960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63640" y="4173840"/>
                <a:ext cx="696600" cy="13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103200" y="4135680"/>
                <a:ext cx="3013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819320" y="2276640"/>
              <a:ext cx="3453840" cy="3375000"/>
              <a:chOff x="4819320" y="2276640"/>
              <a:chExt cx="3453840" cy="3375000"/>
            </a:xfrm>
          </p:grpSpPr>
          <p:sp>
            <p:nvSpPr>
              <p:cNvPr id="146" name=""/>
              <p:cNvSpPr/>
              <p:nvPr/>
            </p:nvSpPr>
            <p:spPr>
              <a:xfrm flipH="1" flipV="1">
                <a:off x="5514120" y="3382920"/>
                <a:ext cx="325080" cy="50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19320" y="3097440"/>
                <a:ext cx="7329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ROP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8" name=""/>
              <p:cNvGraphicFramePr/>
              <p:nvPr/>
            </p:nvGraphicFramePr>
            <p:xfrm>
              <a:off x="4872960" y="2276640"/>
              <a:ext cx="3400200" cy="337500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14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2960" y="2276640"/>
                        <a:ext cx="3400200" cy="337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50" name=""/>
          <p:cNvSpPr/>
          <p:nvPr/>
        </p:nvSpPr>
        <p:spPr>
          <a:xfrm>
            <a:off x="1293840" y="5073480"/>
            <a:ext cx="293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astened seat belt hold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or on the tractor se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ving dangerous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o ROPS, no seat bel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09760" y="3990960"/>
            <a:ext cx="61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9760" y="2959200"/>
            <a:ext cx="928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78920" y="1965240"/>
            <a:ext cx="6984000" cy="4146480"/>
            <a:chOff x="1078920" y="1965240"/>
            <a:chExt cx="6984000" cy="4146480"/>
          </a:xfrm>
        </p:grpSpPr>
        <p:sp>
          <p:nvSpPr>
            <p:cNvPr id="155" name=""/>
            <p:cNvSpPr/>
            <p:nvPr/>
          </p:nvSpPr>
          <p:spPr>
            <a:xfrm flipH="1" flipV="1">
              <a:off x="5519880" y="3501720"/>
              <a:ext cx="234720" cy="42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86520" y="3502080"/>
              <a:ext cx="66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74880" y="3295800"/>
              <a:ext cx="1528920" cy="1361880"/>
            </a:xfrm>
            <a:custGeom>
              <a:avLst/>
              <a:gdLst/>
              <a:ahLst/>
              <a:rect l="l" t="t" r="r" b="b"/>
              <a:pathLst>
                <a:path w="963" h="858">
                  <a:moveTo>
                    <a:pt x="0" y="0"/>
                  </a:moveTo>
                  <a:lnTo>
                    <a:pt x="207" y="857"/>
                  </a:lnTo>
                  <a:lnTo>
                    <a:pt x="962" y="857"/>
                  </a:lnTo>
                </a:path>
              </a:pathLst>
            </a:custGeom>
            <a:noFill/>
            <a:ln cap="rnd"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25560" y="4748040"/>
              <a:ext cx="589320" cy="1363680"/>
            </a:xfrm>
            <a:custGeom>
              <a:avLst/>
              <a:gdLst/>
              <a:ahLst/>
              <a:rect l="l" t="t" r="r" b="b"/>
              <a:pathLst>
                <a:path w="371" h="859">
                  <a:moveTo>
                    <a:pt x="370" y="0"/>
                  </a:moveTo>
                  <a:lnTo>
                    <a:pt x="370" y="518"/>
                  </a:lnTo>
                  <a:lnTo>
                    <a:pt x="0" y="518"/>
                  </a:lnTo>
                  <a:lnTo>
                    <a:pt x="0" y="85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1720" y="4748040"/>
              <a:ext cx="1646280" cy="1152720"/>
            </a:xfrm>
            <a:custGeom>
              <a:avLst/>
              <a:gdLst/>
              <a:ahLst/>
              <a:rect l="l" t="t" r="r" b="b"/>
              <a:pathLst>
                <a:path w="1037" h="726">
                  <a:moveTo>
                    <a:pt x="0" y="0"/>
                  </a:moveTo>
                  <a:lnTo>
                    <a:pt x="0" y="222"/>
                  </a:lnTo>
                  <a:lnTo>
                    <a:pt x="325" y="725"/>
                  </a:lnTo>
                  <a:lnTo>
                    <a:pt x="888" y="725"/>
                  </a:lnTo>
                  <a:lnTo>
                    <a:pt x="1036" y="51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92640" y="3292560"/>
              <a:ext cx="471600" cy="1176120"/>
            </a:xfrm>
            <a:custGeom>
              <a:avLst/>
              <a:gdLst/>
              <a:ahLst/>
              <a:rect l="l" t="t" r="r" b="b"/>
              <a:pathLst>
                <a:path w="297" h="741">
                  <a:moveTo>
                    <a:pt x="296" y="740"/>
                  </a:moveTo>
                  <a:lnTo>
                    <a:pt x="0" y="429"/>
                  </a:lnTo>
                  <a:lnTo>
                    <a:pt x="207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661000" y="4466880"/>
              <a:ext cx="0" cy="11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3960" y="3422520"/>
              <a:ext cx="252360" cy="135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814640" y="2906640"/>
              <a:ext cx="563400" cy="1003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0520" y="1965240"/>
              <a:ext cx="1771560" cy="2614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38880" y="2795760"/>
              <a:ext cx="172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ering whe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0000" y="3532320"/>
              <a:ext cx="780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6520" y="2717640"/>
              <a:ext cx="284040" cy="11916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0" y="74"/>
                  </a:moveTo>
                  <a:lnTo>
                    <a:pt x="89" y="0"/>
                  </a:lnTo>
                  <a:lnTo>
                    <a:pt x="178" y="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4200" y="2670120"/>
              <a:ext cx="282240" cy="119160"/>
            </a:xfrm>
            <a:custGeom>
              <a:avLst/>
              <a:gdLst/>
              <a:ahLst/>
              <a:rect l="l" t="t" r="r" b="b"/>
              <a:pathLst>
                <a:path w="178" h="75">
                  <a:moveTo>
                    <a:pt x="0" y="74"/>
                  </a:moveTo>
                  <a:lnTo>
                    <a:pt x="88" y="0"/>
                  </a:lnTo>
                  <a:lnTo>
                    <a:pt x="177" y="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40120" y="2881440"/>
              <a:ext cx="10332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34040" y="2811600"/>
              <a:ext cx="102960" cy="101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46480" y="2975040"/>
              <a:ext cx="212760" cy="401400"/>
            </a:xfrm>
            <a:custGeom>
              <a:avLst/>
              <a:gdLst/>
              <a:ahLst/>
              <a:rect l="l" t="t" r="r" b="b"/>
              <a:pathLst>
                <a:path w="134" h="253">
                  <a:moveTo>
                    <a:pt x="44" y="0"/>
                  </a:moveTo>
                  <a:lnTo>
                    <a:pt x="44" y="89"/>
                  </a:lnTo>
                  <a:lnTo>
                    <a:pt x="133" y="163"/>
                  </a:lnTo>
                  <a:lnTo>
                    <a:pt x="88" y="252"/>
                  </a:lnTo>
                  <a:lnTo>
                    <a:pt x="0" y="2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00600" y="3505320"/>
              <a:ext cx="541080" cy="282600"/>
            </a:xfrm>
            <a:custGeom>
              <a:avLst/>
              <a:gdLst/>
              <a:ahLst/>
              <a:rect l="l" t="t" r="r" b="b"/>
              <a:pathLst>
                <a:path w="341" h="178">
                  <a:moveTo>
                    <a:pt x="0" y="103"/>
                  </a:moveTo>
                  <a:lnTo>
                    <a:pt x="74" y="162"/>
                  </a:lnTo>
                  <a:lnTo>
                    <a:pt x="177" y="177"/>
                  </a:lnTo>
                  <a:lnTo>
                    <a:pt x="251" y="147"/>
                  </a:lnTo>
                  <a:lnTo>
                    <a:pt x="340" y="103"/>
                  </a:lnTo>
                  <a:lnTo>
                    <a:pt x="34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5330520" y="5520960"/>
              <a:ext cx="236520" cy="25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192640" y="5356080"/>
              <a:ext cx="231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72000" y="3784680"/>
              <a:ext cx="857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3800" y="3786120"/>
              <a:ext cx="853920" cy="312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4960" y="3468600"/>
              <a:ext cx="102960" cy="101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9640" y="3468600"/>
              <a:ext cx="103320" cy="101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78920" y="2263680"/>
              <a:ext cx="13852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 raw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21320" y="3292560"/>
              <a:ext cx="251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0720" y="444672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le 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97080" y="252576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7600" y="3897360"/>
              <a:ext cx="11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49760" y="29829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 overturn without a ROP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71520" y="1887120"/>
            <a:ext cx="6604560" cy="3926160"/>
            <a:chOff x="1271520" y="1887120"/>
            <a:chExt cx="6604560" cy="3926160"/>
          </a:xfrm>
        </p:grpSpPr>
        <p:sp>
          <p:nvSpPr>
            <p:cNvPr id="187" name=""/>
            <p:cNvSpPr/>
            <p:nvPr/>
          </p:nvSpPr>
          <p:spPr>
            <a:xfrm>
              <a:off x="1271520" y="3745080"/>
              <a:ext cx="6203880" cy="1415880"/>
            </a:xfrm>
            <a:custGeom>
              <a:avLst/>
              <a:gdLst/>
              <a:ahLst/>
              <a:rect l="l" t="t" r="r" b="b"/>
              <a:pathLst>
                <a:path w="3908" h="892">
                  <a:moveTo>
                    <a:pt x="3907" y="316"/>
                  </a:moveTo>
                  <a:lnTo>
                    <a:pt x="3814" y="328"/>
                  </a:lnTo>
                  <a:lnTo>
                    <a:pt x="3743" y="328"/>
                  </a:lnTo>
                  <a:lnTo>
                    <a:pt x="3673" y="328"/>
                  </a:lnTo>
                  <a:lnTo>
                    <a:pt x="3602" y="328"/>
                  </a:lnTo>
                  <a:lnTo>
                    <a:pt x="3532" y="293"/>
                  </a:lnTo>
                  <a:lnTo>
                    <a:pt x="3473" y="211"/>
                  </a:lnTo>
                  <a:lnTo>
                    <a:pt x="3403" y="328"/>
                  </a:lnTo>
                  <a:lnTo>
                    <a:pt x="3333" y="340"/>
                  </a:lnTo>
                  <a:lnTo>
                    <a:pt x="3215" y="387"/>
                  </a:lnTo>
                  <a:lnTo>
                    <a:pt x="3121" y="445"/>
                  </a:lnTo>
                  <a:lnTo>
                    <a:pt x="3051" y="481"/>
                  </a:lnTo>
                  <a:lnTo>
                    <a:pt x="2980" y="539"/>
                  </a:lnTo>
                  <a:lnTo>
                    <a:pt x="2910" y="551"/>
                  </a:lnTo>
                  <a:lnTo>
                    <a:pt x="2840" y="610"/>
                  </a:lnTo>
                  <a:lnTo>
                    <a:pt x="2769" y="610"/>
                  </a:lnTo>
                  <a:lnTo>
                    <a:pt x="2699" y="621"/>
                  </a:lnTo>
                  <a:lnTo>
                    <a:pt x="2617" y="645"/>
                  </a:lnTo>
                  <a:lnTo>
                    <a:pt x="2511" y="727"/>
                  </a:lnTo>
                  <a:lnTo>
                    <a:pt x="2441" y="762"/>
                  </a:lnTo>
                  <a:lnTo>
                    <a:pt x="2370" y="785"/>
                  </a:lnTo>
                  <a:lnTo>
                    <a:pt x="2265" y="844"/>
                  </a:lnTo>
                  <a:lnTo>
                    <a:pt x="2171" y="785"/>
                  </a:lnTo>
                  <a:lnTo>
                    <a:pt x="2100" y="797"/>
                  </a:lnTo>
                  <a:lnTo>
                    <a:pt x="2030" y="797"/>
                  </a:lnTo>
                  <a:lnTo>
                    <a:pt x="1913" y="821"/>
                  </a:lnTo>
                  <a:lnTo>
                    <a:pt x="1819" y="844"/>
                  </a:lnTo>
                  <a:lnTo>
                    <a:pt x="1737" y="891"/>
                  </a:lnTo>
                  <a:lnTo>
                    <a:pt x="1702" y="809"/>
                  </a:lnTo>
                  <a:lnTo>
                    <a:pt x="1631" y="762"/>
                  </a:lnTo>
                  <a:lnTo>
                    <a:pt x="1549" y="739"/>
                  </a:lnTo>
                  <a:lnTo>
                    <a:pt x="1479" y="715"/>
                  </a:lnTo>
                  <a:lnTo>
                    <a:pt x="1408" y="703"/>
                  </a:lnTo>
                  <a:lnTo>
                    <a:pt x="1326" y="703"/>
                  </a:lnTo>
                  <a:lnTo>
                    <a:pt x="1256" y="692"/>
                  </a:lnTo>
                  <a:lnTo>
                    <a:pt x="1185" y="633"/>
                  </a:lnTo>
                  <a:lnTo>
                    <a:pt x="1115" y="586"/>
                  </a:lnTo>
                  <a:lnTo>
                    <a:pt x="1033" y="516"/>
                  </a:lnTo>
                  <a:lnTo>
                    <a:pt x="962" y="469"/>
                  </a:lnTo>
                  <a:lnTo>
                    <a:pt x="915" y="398"/>
                  </a:lnTo>
                  <a:lnTo>
                    <a:pt x="857" y="328"/>
                  </a:lnTo>
                  <a:lnTo>
                    <a:pt x="786" y="281"/>
                  </a:lnTo>
                  <a:lnTo>
                    <a:pt x="716" y="211"/>
                  </a:lnTo>
                  <a:lnTo>
                    <a:pt x="645" y="152"/>
                  </a:lnTo>
                  <a:lnTo>
                    <a:pt x="575" y="93"/>
                  </a:lnTo>
                  <a:lnTo>
                    <a:pt x="493" y="58"/>
                  </a:lnTo>
                  <a:lnTo>
                    <a:pt x="399" y="23"/>
                  </a:lnTo>
                  <a:lnTo>
                    <a:pt x="317" y="0"/>
                  </a:lnTo>
                  <a:lnTo>
                    <a:pt x="35" y="246"/>
                  </a:lnTo>
                  <a:lnTo>
                    <a:pt x="0" y="176"/>
                  </a:lnTo>
                </a:path>
              </a:pathLst>
            </a:custGeom>
            <a:noFill/>
            <a:ln cap="rnd"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89600" y="3637080"/>
              <a:ext cx="1857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24480" y="3600360"/>
              <a:ext cx="68400" cy="3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11600" y="3048120"/>
              <a:ext cx="1211040" cy="1082520"/>
            </a:xfrm>
            <a:custGeom>
              <a:avLst/>
              <a:gdLst/>
              <a:ahLst/>
              <a:rect l="l" t="t" r="r" b="b"/>
              <a:pathLst>
                <a:path w="763" h="682">
                  <a:moveTo>
                    <a:pt x="0" y="681"/>
                  </a:moveTo>
                  <a:lnTo>
                    <a:pt x="164" y="0"/>
                  </a:lnTo>
                  <a:lnTo>
                    <a:pt x="762" y="0"/>
                  </a:lnTo>
                </a:path>
              </a:pathLst>
            </a:custGeom>
            <a:noFill/>
            <a:ln cap="rnd"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19480" y="2390760"/>
              <a:ext cx="0" cy="65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754360" y="2352600"/>
              <a:ext cx="48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754360" y="1887120"/>
              <a:ext cx="0" cy="4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2054160"/>
              <a:ext cx="1305000" cy="914400"/>
            </a:xfrm>
            <a:custGeom>
              <a:avLst/>
              <a:gdLst/>
              <a:ahLst/>
              <a:rect l="l" t="t" r="r" b="b"/>
              <a:pathLst>
                <a:path w="822" h="576">
                  <a:moveTo>
                    <a:pt x="0" y="575"/>
                  </a:moveTo>
                  <a:lnTo>
                    <a:pt x="0" y="399"/>
                  </a:lnTo>
                  <a:lnTo>
                    <a:pt x="258" y="0"/>
                  </a:lnTo>
                  <a:lnTo>
                    <a:pt x="704" y="0"/>
                  </a:lnTo>
                  <a:lnTo>
                    <a:pt x="821" y="16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2840" y="3191040"/>
              <a:ext cx="374760" cy="931680"/>
            </a:xfrm>
            <a:custGeom>
              <a:avLst/>
              <a:gdLst/>
              <a:ahLst/>
              <a:rect l="l" t="t" r="r" b="b"/>
              <a:pathLst>
                <a:path w="236" h="587">
                  <a:moveTo>
                    <a:pt x="235" y="0"/>
                  </a:moveTo>
                  <a:lnTo>
                    <a:pt x="0" y="246"/>
                  </a:lnTo>
                  <a:lnTo>
                    <a:pt x="164" y="5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13440" y="2316240"/>
              <a:ext cx="0" cy="87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80000" y="3903480"/>
              <a:ext cx="209520" cy="168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430520" y="3624120"/>
              <a:ext cx="446040" cy="85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840200" y="2166840"/>
              <a:ext cx="18576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2840" y="2241720"/>
              <a:ext cx="19692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65840" y="3489480"/>
              <a:ext cx="690480" cy="261720"/>
            </a:xfrm>
            <a:custGeom>
              <a:avLst/>
              <a:gdLst/>
              <a:ahLst/>
              <a:rect l="l" t="t" r="r" b="b"/>
              <a:pathLst>
                <a:path w="435" h="165">
                  <a:moveTo>
                    <a:pt x="434" y="164"/>
                  </a:moveTo>
                  <a:lnTo>
                    <a:pt x="0" y="164"/>
                  </a:lnTo>
                  <a:lnTo>
                    <a:pt x="0" y="0"/>
                  </a:lnTo>
                  <a:lnTo>
                    <a:pt x="434" y="0"/>
                  </a:lnTo>
                  <a:lnTo>
                    <a:pt x="434" y="164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65840" y="389880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5"/>
                  </a:moveTo>
                  <a:lnTo>
                    <a:pt x="0" y="35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23" y="70"/>
                  </a:lnTo>
                  <a:lnTo>
                    <a:pt x="35" y="70"/>
                  </a:lnTo>
                  <a:lnTo>
                    <a:pt x="47" y="70"/>
                  </a:lnTo>
                  <a:lnTo>
                    <a:pt x="58" y="58"/>
                  </a:lnTo>
                  <a:lnTo>
                    <a:pt x="70" y="58"/>
                  </a:lnTo>
                  <a:lnTo>
                    <a:pt x="70" y="47"/>
                  </a:lnTo>
                  <a:lnTo>
                    <a:pt x="70" y="35"/>
                  </a:lnTo>
                  <a:lnTo>
                    <a:pt x="70" y="23"/>
                  </a:lnTo>
                  <a:lnTo>
                    <a:pt x="70" y="11"/>
                  </a:lnTo>
                  <a:lnTo>
                    <a:pt x="58" y="11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7320" y="3898800"/>
              <a:ext cx="11448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35"/>
                  </a:moveTo>
                  <a:lnTo>
                    <a:pt x="0" y="35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6" y="70"/>
                  </a:lnTo>
                  <a:lnTo>
                    <a:pt x="47" y="70"/>
                  </a:lnTo>
                  <a:lnTo>
                    <a:pt x="59" y="58"/>
                  </a:lnTo>
                  <a:lnTo>
                    <a:pt x="71" y="58"/>
                  </a:lnTo>
                  <a:lnTo>
                    <a:pt x="71" y="47"/>
                  </a:lnTo>
                  <a:lnTo>
                    <a:pt x="71" y="35"/>
                  </a:lnTo>
                  <a:lnTo>
                    <a:pt x="71" y="23"/>
                  </a:lnTo>
                  <a:lnTo>
                    <a:pt x="71" y="11"/>
                  </a:lnTo>
                  <a:lnTo>
                    <a:pt x="59" y="11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3120" y="412128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897280" y="3637080"/>
              <a:ext cx="2120760" cy="2176200"/>
              <a:chOff x="2897280" y="3637080"/>
              <a:chExt cx="2120760" cy="2176200"/>
            </a:xfrm>
          </p:grpSpPr>
          <p:sp>
            <p:nvSpPr>
              <p:cNvPr id="206" name=""/>
              <p:cNvSpPr/>
              <p:nvPr/>
            </p:nvSpPr>
            <p:spPr>
              <a:xfrm>
                <a:off x="2897280" y="3637080"/>
                <a:ext cx="2050920" cy="1454040"/>
              </a:xfrm>
              <a:custGeom>
                <a:avLst/>
                <a:gdLst/>
                <a:ahLst/>
                <a:rect l="l" t="t" r="r" b="b"/>
                <a:pathLst>
                  <a:path w="1292" h="916">
                    <a:moveTo>
                      <a:pt x="528" y="892"/>
                    </a:moveTo>
                    <a:lnTo>
                      <a:pt x="575" y="904"/>
                    </a:lnTo>
                    <a:lnTo>
                      <a:pt x="622" y="904"/>
                    </a:lnTo>
                    <a:lnTo>
                      <a:pt x="669" y="915"/>
                    </a:lnTo>
                    <a:lnTo>
                      <a:pt x="704" y="915"/>
                    </a:lnTo>
                    <a:lnTo>
                      <a:pt x="751" y="915"/>
                    </a:lnTo>
                    <a:lnTo>
                      <a:pt x="798" y="915"/>
                    </a:lnTo>
                    <a:lnTo>
                      <a:pt x="845" y="915"/>
                    </a:lnTo>
                    <a:lnTo>
                      <a:pt x="880" y="915"/>
                    </a:lnTo>
                    <a:lnTo>
                      <a:pt x="927" y="904"/>
                    </a:lnTo>
                    <a:lnTo>
                      <a:pt x="962" y="892"/>
                    </a:lnTo>
                    <a:lnTo>
                      <a:pt x="998" y="880"/>
                    </a:lnTo>
                    <a:lnTo>
                      <a:pt x="1044" y="868"/>
                    </a:lnTo>
                    <a:lnTo>
                      <a:pt x="1080" y="857"/>
                    </a:lnTo>
                    <a:lnTo>
                      <a:pt x="1103" y="845"/>
                    </a:lnTo>
                    <a:lnTo>
                      <a:pt x="1138" y="821"/>
                    </a:lnTo>
                    <a:lnTo>
                      <a:pt x="1162" y="798"/>
                    </a:lnTo>
                    <a:lnTo>
                      <a:pt x="1185" y="775"/>
                    </a:lnTo>
                    <a:lnTo>
                      <a:pt x="1209" y="751"/>
                    </a:lnTo>
                    <a:lnTo>
                      <a:pt x="1232" y="728"/>
                    </a:lnTo>
                    <a:lnTo>
                      <a:pt x="1256" y="704"/>
                    </a:lnTo>
                    <a:lnTo>
                      <a:pt x="1267" y="669"/>
                    </a:lnTo>
                    <a:lnTo>
                      <a:pt x="1279" y="646"/>
                    </a:lnTo>
                    <a:lnTo>
                      <a:pt x="1279" y="610"/>
                    </a:lnTo>
                    <a:lnTo>
                      <a:pt x="1291" y="587"/>
                    </a:lnTo>
                    <a:lnTo>
                      <a:pt x="1291" y="552"/>
                    </a:lnTo>
                    <a:lnTo>
                      <a:pt x="1291" y="517"/>
                    </a:lnTo>
                    <a:lnTo>
                      <a:pt x="1279" y="481"/>
                    </a:lnTo>
                    <a:lnTo>
                      <a:pt x="1279" y="458"/>
                    </a:lnTo>
                    <a:lnTo>
                      <a:pt x="1267" y="423"/>
                    </a:lnTo>
                    <a:lnTo>
                      <a:pt x="1256" y="387"/>
                    </a:lnTo>
                    <a:lnTo>
                      <a:pt x="1232" y="364"/>
                    </a:lnTo>
                    <a:lnTo>
                      <a:pt x="1220" y="329"/>
                    </a:lnTo>
                    <a:lnTo>
                      <a:pt x="1197" y="294"/>
                    </a:lnTo>
                    <a:lnTo>
                      <a:pt x="1174" y="270"/>
                    </a:lnTo>
                    <a:lnTo>
                      <a:pt x="1138" y="235"/>
                    </a:lnTo>
                    <a:lnTo>
                      <a:pt x="1115" y="212"/>
                    </a:lnTo>
                    <a:lnTo>
                      <a:pt x="1080" y="188"/>
                    </a:lnTo>
                    <a:lnTo>
                      <a:pt x="1044" y="153"/>
                    </a:lnTo>
                    <a:lnTo>
                      <a:pt x="1009" y="129"/>
                    </a:lnTo>
                    <a:lnTo>
                      <a:pt x="974" y="106"/>
                    </a:lnTo>
                    <a:lnTo>
                      <a:pt x="927" y="94"/>
                    </a:lnTo>
                    <a:lnTo>
                      <a:pt x="892" y="71"/>
                    </a:lnTo>
                    <a:lnTo>
                      <a:pt x="845" y="59"/>
                    </a:lnTo>
                    <a:lnTo>
                      <a:pt x="810" y="36"/>
                    </a:lnTo>
                    <a:lnTo>
                      <a:pt x="763" y="24"/>
                    </a:lnTo>
                    <a:lnTo>
                      <a:pt x="716" y="12"/>
                    </a:lnTo>
                    <a:lnTo>
                      <a:pt x="669" y="12"/>
                    </a:lnTo>
                    <a:lnTo>
                      <a:pt x="622" y="0"/>
                    </a:lnTo>
                    <a:lnTo>
                      <a:pt x="587" y="0"/>
                    </a:lnTo>
                    <a:lnTo>
                      <a:pt x="540" y="0"/>
                    </a:lnTo>
                    <a:lnTo>
                      <a:pt x="493" y="0"/>
                    </a:lnTo>
                    <a:lnTo>
                      <a:pt x="446" y="0"/>
                    </a:lnTo>
                    <a:lnTo>
                      <a:pt x="411" y="0"/>
                    </a:lnTo>
                    <a:lnTo>
                      <a:pt x="364" y="12"/>
                    </a:lnTo>
                    <a:lnTo>
                      <a:pt x="329" y="24"/>
                    </a:lnTo>
                    <a:lnTo>
                      <a:pt x="294" y="36"/>
                    </a:lnTo>
                    <a:lnTo>
                      <a:pt x="247" y="47"/>
                    </a:lnTo>
                    <a:lnTo>
                      <a:pt x="211" y="59"/>
                    </a:lnTo>
                    <a:lnTo>
                      <a:pt x="188" y="71"/>
                    </a:lnTo>
                    <a:lnTo>
                      <a:pt x="153" y="94"/>
                    </a:lnTo>
                    <a:lnTo>
                      <a:pt x="129" y="118"/>
                    </a:lnTo>
                    <a:lnTo>
                      <a:pt x="106" y="141"/>
                    </a:lnTo>
                    <a:lnTo>
                      <a:pt x="82" y="165"/>
                    </a:lnTo>
                    <a:lnTo>
                      <a:pt x="59" y="188"/>
                    </a:lnTo>
                    <a:lnTo>
                      <a:pt x="35" y="212"/>
                    </a:lnTo>
                    <a:lnTo>
                      <a:pt x="24" y="247"/>
                    </a:lnTo>
                    <a:lnTo>
                      <a:pt x="12" y="270"/>
                    </a:lnTo>
                    <a:lnTo>
                      <a:pt x="12" y="305"/>
                    </a:lnTo>
                    <a:lnTo>
                      <a:pt x="0" y="329"/>
                    </a:lnTo>
                    <a:lnTo>
                      <a:pt x="0" y="364"/>
                    </a:lnTo>
                    <a:lnTo>
                      <a:pt x="0" y="399"/>
                    </a:lnTo>
                    <a:lnTo>
                      <a:pt x="12" y="434"/>
                    </a:lnTo>
                    <a:lnTo>
                      <a:pt x="12" y="458"/>
                    </a:lnTo>
                    <a:lnTo>
                      <a:pt x="24" y="493"/>
                    </a:lnTo>
                    <a:lnTo>
                      <a:pt x="35" y="528"/>
                    </a:lnTo>
                    <a:lnTo>
                      <a:pt x="59" y="563"/>
                    </a:lnTo>
                    <a:lnTo>
                      <a:pt x="71" y="587"/>
                    </a:lnTo>
                    <a:lnTo>
                      <a:pt x="94" y="622"/>
                    </a:lnTo>
                    <a:lnTo>
                      <a:pt x="118" y="646"/>
                    </a:lnTo>
                    <a:lnTo>
                      <a:pt x="153" y="681"/>
                    </a:lnTo>
                    <a:lnTo>
                      <a:pt x="176" y="704"/>
                    </a:lnTo>
                    <a:lnTo>
                      <a:pt x="211" y="728"/>
                    </a:lnTo>
                    <a:lnTo>
                      <a:pt x="247" y="763"/>
                    </a:lnTo>
                    <a:lnTo>
                      <a:pt x="282" y="786"/>
                    </a:lnTo>
                    <a:lnTo>
                      <a:pt x="317" y="810"/>
                    </a:lnTo>
                    <a:lnTo>
                      <a:pt x="364" y="821"/>
                    </a:lnTo>
                    <a:lnTo>
                      <a:pt x="399" y="845"/>
                    </a:lnTo>
                    <a:lnTo>
                      <a:pt x="446" y="857"/>
                    </a:lnTo>
                    <a:lnTo>
                      <a:pt x="481" y="880"/>
                    </a:lnTo>
                    <a:lnTo>
                      <a:pt x="528" y="89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57720" y="4289400"/>
                <a:ext cx="112680" cy="20628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0" y="129"/>
                    </a:moveTo>
                    <a:lnTo>
                      <a:pt x="70" y="82"/>
                    </a:lnTo>
                    <a:lnTo>
                      <a:pt x="7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22560" y="3954600"/>
                <a:ext cx="317520" cy="150840"/>
              </a:xfrm>
              <a:custGeom>
                <a:avLst/>
                <a:gdLst/>
                <a:ahLst/>
                <a:rect l="l" t="t" r="r" b="b"/>
                <a:pathLst>
                  <a:path w="200" h="95">
                    <a:moveTo>
                      <a:pt x="199" y="94"/>
                    </a:moveTo>
                    <a:lnTo>
                      <a:pt x="140" y="82"/>
                    </a:lnTo>
                    <a:lnTo>
                      <a:pt x="93" y="0"/>
                    </a:lnTo>
                    <a:lnTo>
                      <a:pt x="23" y="12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05040" y="3841920"/>
                <a:ext cx="150840" cy="448920"/>
              </a:xfrm>
              <a:custGeom>
                <a:avLst/>
                <a:gdLst/>
                <a:ahLst/>
                <a:rect l="l" t="t" r="r" b="b"/>
                <a:pathLst>
                  <a:path w="95" h="283">
                    <a:moveTo>
                      <a:pt x="0" y="282"/>
                    </a:moveTo>
                    <a:lnTo>
                      <a:pt x="70" y="235"/>
                    </a:lnTo>
                    <a:lnTo>
                      <a:pt x="94" y="165"/>
                    </a:lnTo>
                    <a:lnTo>
                      <a:pt x="94" y="94"/>
                    </a:lnTo>
                    <a:lnTo>
                      <a:pt x="7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86320" y="4400640"/>
                <a:ext cx="1361880" cy="615960"/>
              </a:xfrm>
              <a:custGeom>
                <a:avLst/>
                <a:gdLst/>
                <a:ahLst/>
                <a:rect l="l" t="t" r="r" b="b"/>
                <a:pathLst>
                  <a:path w="858" h="388">
                    <a:moveTo>
                      <a:pt x="0" y="387"/>
                    </a:moveTo>
                    <a:lnTo>
                      <a:pt x="59" y="0"/>
                    </a:lnTo>
                    <a:lnTo>
                      <a:pt x="305" y="364"/>
                    </a:lnTo>
                    <a:lnTo>
                      <a:pt x="317" y="211"/>
                    </a:lnTo>
                    <a:lnTo>
                      <a:pt x="517" y="294"/>
                    </a:lnTo>
                    <a:lnTo>
                      <a:pt x="575" y="165"/>
                    </a:lnTo>
                    <a:lnTo>
                      <a:pt x="857" y="141"/>
                    </a:lnTo>
                    <a:lnTo>
                      <a:pt x="763" y="270"/>
                    </a:lnTo>
                    <a:lnTo>
                      <a:pt x="716" y="376"/>
                    </a:lnTo>
                    <a:lnTo>
                      <a:pt x="810" y="329"/>
                    </a:lnTo>
                    <a:lnTo>
                      <a:pt x="0" y="387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53040" y="5122800"/>
                <a:ext cx="353880" cy="93600"/>
              </a:xfrm>
              <a:custGeom>
                <a:avLst/>
                <a:gdLst/>
                <a:ahLst/>
                <a:rect l="l" t="t" r="r" b="b"/>
                <a:pathLst>
                  <a:path w="223" h="59">
                    <a:moveTo>
                      <a:pt x="0" y="0"/>
                    </a:moveTo>
                    <a:lnTo>
                      <a:pt x="82" y="58"/>
                    </a:lnTo>
                    <a:lnTo>
                      <a:pt x="152" y="46"/>
                    </a:lnTo>
                    <a:lnTo>
                      <a:pt x="222" y="2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65480" y="4824360"/>
                <a:ext cx="839880" cy="635040"/>
              </a:xfrm>
              <a:custGeom>
                <a:avLst/>
                <a:gdLst/>
                <a:ahLst/>
                <a:rect l="l" t="t" r="r" b="b"/>
                <a:pathLst>
                  <a:path w="529" h="400">
                    <a:moveTo>
                      <a:pt x="340" y="211"/>
                    </a:moveTo>
                    <a:lnTo>
                      <a:pt x="505" y="59"/>
                    </a:lnTo>
                    <a:lnTo>
                      <a:pt x="528" y="0"/>
                    </a:lnTo>
                    <a:lnTo>
                      <a:pt x="505" y="59"/>
                    </a:lnTo>
                    <a:lnTo>
                      <a:pt x="505" y="164"/>
                    </a:lnTo>
                    <a:lnTo>
                      <a:pt x="493" y="223"/>
                    </a:lnTo>
                    <a:lnTo>
                      <a:pt x="470" y="317"/>
                    </a:lnTo>
                    <a:lnTo>
                      <a:pt x="387" y="352"/>
                    </a:lnTo>
                    <a:lnTo>
                      <a:pt x="329" y="399"/>
                    </a:lnTo>
                    <a:lnTo>
                      <a:pt x="270" y="387"/>
                    </a:lnTo>
                    <a:lnTo>
                      <a:pt x="176" y="352"/>
                    </a:lnTo>
                    <a:lnTo>
                      <a:pt x="71" y="317"/>
                    </a:lnTo>
                    <a:lnTo>
                      <a:pt x="0" y="293"/>
                    </a:lnTo>
                    <a:lnTo>
                      <a:pt x="82" y="270"/>
                    </a:lnTo>
                    <a:lnTo>
                      <a:pt x="118" y="188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78160" y="5122800"/>
                <a:ext cx="541440" cy="317520"/>
              </a:xfrm>
              <a:custGeom>
                <a:avLst/>
                <a:gdLst/>
                <a:ahLst/>
                <a:rect l="l" t="t" r="r" b="b"/>
                <a:pathLst>
                  <a:path w="341" h="200">
                    <a:moveTo>
                      <a:pt x="340" y="58"/>
                    </a:moveTo>
                    <a:lnTo>
                      <a:pt x="199" y="199"/>
                    </a:lnTo>
                    <a:lnTo>
                      <a:pt x="105" y="164"/>
                    </a:lnTo>
                    <a:lnTo>
                      <a:pt x="0" y="129"/>
                    </a:lnTo>
                    <a:lnTo>
                      <a:pt x="47" y="0"/>
                    </a:lnTo>
                    <a:lnTo>
                      <a:pt x="129" y="58"/>
                    </a:lnTo>
                    <a:lnTo>
                      <a:pt x="105" y="164"/>
                    </a:lnTo>
                    <a:lnTo>
                      <a:pt x="129" y="58"/>
                    </a:lnTo>
                    <a:lnTo>
                      <a:pt x="187" y="9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40000" y="5189400"/>
                <a:ext cx="820800" cy="244440"/>
              </a:xfrm>
              <a:custGeom>
                <a:avLst/>
                <a:gdLst/>
                <a:ahLst/>
                <a:rect l="l" t="t" r="r" b="b"/>
                <a:pathLst>
                  <a:path w="517" h="154">
                    <a:moveTo>
                      <a:pt x="516" y="59"/>
                    </a:moveTo>
                    <a:lnTo>
                      <a:pt x="434" y="35"/>
                    </a:lnTo>
                    <a:lnTo>
                      <a:pt x="363" y="24"/>
                    </a:lnTo>
                    <a:lnTo>
                      <a:pt x="305" y="82"/>
                    </a:lnTo>
                    <a:lnTo>
                      <a:pt x="328" y="153"/>
                    </a:lnTo>
                    <a:lnTo>
                      <a:pt x="211" y="129"/>
                    </a:lnTo>
                    <a:lnTo>
                      <a:pt x="152" y="106"/>
                    </a:lnTo>
                    <a:lnTo>
                      <a:pt x="58" y="47"/>
                    </a:lnTo>
                    <a:lnTo>
                      <a:pt x="0" y="24"/>
                    </a:lnTo>
                    <a:lnTo>
                      <a:pt x="58" y="35"/>
                    </a:lnTo>
                    <a:lnTo>
                      <a:pt x="176" y="35"/>
                    </a:lnTo>
                    <a:lnTo>
                      <a:pt x="293" y="0"/>
                    </a:lnTo>
                    <a:lnTo>
                      <a:pt x="352" y="12"/>
                    </a:lnTo>
                  </a:path>
                </a:pathLst>
              </a:custGeom>
              <a:noFill/>
              <a:ln cap="rnd"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280" y="5253120"/>
                <a:ext cx="355680" cy="149040"/>
              </a:xfrm>
              <a:custGeom>
                <a:avLst/>
                <a:gdLst/>
                <a:ahLst/>
                <a:rect l="l" t="t" r="r" b="b"/>
                <a:pathLst>
                  <a:path w="224" h="94">
                    <a:moveTo>
                      <a:pt x="0" y="93"/>
                    </a:moveTo>
                    <a:lnTo>
                      <a:pt x="94" y="47"/>
                    </a:lnTo>
                    <a:lnTo>
                      <a:pt x="223" y="0"/>
                    </a:lnTo>
                    <a:lnTo>
                      <a:pt x="211" y="7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56160" y="5364000"/>
                <a:ext cx="839520" cy="187560"/>
              </a:xfrm>
              <a:custGeom>
                <a:avLst/>
                <a:gdLst/>
                <a:ahLst/>
                <a:rect l="l" t="t" r="r" b="b"/>
                <a:pathLst>
                  <a:path w="529" h="118">
                    <a:moveTo>
                      <a:pt x="0" y="59"/>
                    </a:moveTo>
                    <a:lnTo>
                      <a:pt x="59" y="106"/>
                    </a:lnTo>
                    <a:lnTo>
                      <a:pt x="141" y="117"/>
                    </a:lnTo>
                    <a:lnTo>
                      <a:pt x="164" y="0"/>
                    </a:lnTo>
                    <a:lnTo>
                      <a:pt x="235" y="59"/>
                    </a:lnTo>
                    <a:lnTo>
                      <a:pt x="305" y="82"/>
                    </a:lnTo>
                    <a:lnTo>
                      <a:pt x="399" y="59"/>
                    </a:lnTo>
                    <a:lnTo>
                      <a:pt x="528" y="47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79720" y="5532480"/>
                <a:ext cx="765360" cy="187200"/>
              </a:xfrm>
              <a:custGeom>
                <a:avLst/>
                <a:gdLst/>
                <a:ahLst/>
                <a:rect l="l" t="t" r="r" b="b"/>
                <a:pathLst>
                  <a:path w="482" h="118">
                    <a:moveTo>
                      <a:pt x="481" y="58"/>
                    </a:moveTo>
                    <a:lnTo>
                      <a:pt x="364" y="58"/>
                    </a:lnTo>
                    <a:lnTo>
                      <a:pt x="152" y="82"/>
                    </a:lnTo>
                    <a:lnTo>
                      <a:pt x="82" y="117"/>
                    </a:lnTo>
                    <a:lnTo>
                      <a:pt x="0" y="11"/>
                    </a:lnTo>
                    <a:lnTo>
                      <a:pt x="129" y="58"/>
                    </a:lnTo>
                    <a:lnTo>
                      <a:pt x="235" y="0"/>
                    </a:lnTo>
                    <a:lnTo>
                      <a:pt x="293" y="1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10040" y="5383080"/>
                <a:ext cx="1008000" cy="430200"/>
              </a:xfrm>
              <a:custGeom>
                <a:avLst/>
                <a:gdLst/>
                <a:ahLst/>
                <a:rect l="l" t="t" r="r" b="b"/>
                <a:pathLst>
                  <a:path w="635" h="271">
                    <a:moveTo>
                      <a:pt x="422" y="94"/>
                    </a:moveTo>
                    <a:lnTo>
                      <a:pt x="422" y="0"/>
                    </a:lnTo>
                    <a:lnTo>
                      <a:pt x="481" y="23"/>
                    </a:lnTo>
                    <a:lnTo>
                      <a:pt x="563" y="35"/>
                    </a:lnTo>
                    <a:lnTo>
                      <a:pt x="634" y="82"/>
                    </a:lnTo>
                    <a:lnTo>
                      <a:pt x="551" y="176"/>
                    </a:lnTo>
                    <a:lnTo>
                      <a:pt x="493" y="234"/>
                    </a:lnTo>
                    <a:lnTo>
                      <a:pt x="422" y="258"/>
                    </a:lnTo>
                    <a:lnTo>
                      <a:pt x="317" y="270"/>
                    </a:lnTo>
                    <a:lnTo>
                      <a:pt x="258" y="270"/>
                    </a:lnTo>
                    <a:lnTo>
                      <a:pt x="188" y="258"/>
                    </a:lnTo>
                    <a:lnTo>
                      <a:pt x="117" y="246"/>
                    </a:lnTo>
                    <a:lnTo>
                      <a:pt x="70" y="176"/>
                    </a:lnTo>
                    <a:lnTo>
                      <a:pt x="0" y="21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43280" y="5532480"/>
                <a:ext cx="113040" cy="93600"/>
              </a:xfrm>
              <a:custGeom>
                <a:avLst/>
                <a:gdLst/>
                <a:ahLst/>
                <a:rect l="l" t="t" r="r" b="b"/>
                <a:pathLst>
                  <a:path w="71" h="59">
                    <a:moveTo>
                      <a:pt x="70" y="23"/>
                    </a:moveTo>
                    <a:lnTo>
                      <a:pt x="0" y="58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29120" y="5308560"/>
                <a:ext cx="784080" cy="243000"/>
              </a:xfrm>
              <a:custGeom>
                <a:avLst/>
                <a:gdLst/>
                <a:ahLst/>
                <a:rect l="l" t="t" r="r" b="b"/>
                <a:pathLst>
                  <a:path w="494" h="153">
                    <a:moveTo>
                      <a:pt x="0" y="94"/>
                    </a:moveTo>
                    <a:lnTo>
                      <a:pt x="70" y="117"/>
                    </a:lnTo>
                    <a:lnTo>
                      <a:pt x="141" y="141"/>
                    </a:lnTo>
                    <a:lnTo>
                      <a:pt x="199" y="152"/>
                    </a:lnTo>
                    <a:lnTo>
                      <a:pt x="281" y="129"/>
                    </a:lnTo>
                    <a:lnTo>
                      <a:pt x="469" y="70"/>
                    </a:lnTo>
                    <a:lnTo>
                      <a:pt x="493" y="12"/>
                    </a:lnTo>
                    <a:lnTo>
                      <a:pt x="410" y="47"/>
                    </a:lnTo>
                    <a:lnTo>
                      <a:pt x="352" y="0"/>
                    </a:lnTo>
                    <a:lnTo>
                      <a:pt x="199" y="47"/>
                    </a:lnTo>
                    <a:lnTo>
                      <a:pt x="164" y="94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35240" y="5122800"/>
                <a:ext cx="392040" cy="428760"/>
              </a:xfrm>
              <a:custGeom>
                <a:avLst/>
                <a:gdLst/>
                <a:ahLst/>
                <a:rect l="l" t="t" r="r" b="b"/>
                <a:pathLst>
                  <a:path w="247" h="270">
                    <a:moveTo>
                      <a:pt x="246" y="269"/>
                    </a:moveTo>
                    <a:lnTo>
                      <a:pt x="140" y="187"/>
                    </a:lnTo>
                    <a:lnTo>
                      <a:pt x="82" y="164"/>
                    </a:lnTo>
                    <a:lnTo>
                      <a:pt x="11" y="82"/>
                    </a:lnTo>
                    <a:lnTo>
                      <a:pt x="0" y="11"/>
                    </a:lnTo>
                    <a:lnTo>
                      <a:pt x="70" y="70"/>
                    </a:lnTo>
                    <a:lnTo>
                      <a:pt x="117" y="0"/>
                    </a:lnTo>
                    <a:lnTo>
                      <a:pt x="246" y="8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25840" y="5549760"/>
                <a:ext cx="392040" cy="150840"/>
              </a:xfrm>
              <a:custGeom>
                <a:avLst/>
                <a:gdLst/>
                <a:ahLst/>
                <a:rect l="l" t="t" r="r" b="b"/>
                <a:pathLst>
                  <a:path w="247" h="95">
                    <a:moveTo>
                      <a:pt x="0" y="0"/>
                    </a:moveTo>
                    <a:lnTo>
                      <a:pt x="82" y="47"/>
                    </a:lnTo>
                    <a:lnTo>
                      <a:pt x="188" y="71"/>
                    </a:lnTo>
                    <a:lnTo>
                      <a:pt x="246" y="94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81280" y="5010120"/>
                <a:ext cx="615960" cy="244440"/>
              </a:xfrm>
              <a:custGeom>
                <a:avLst/>
                <a:gdLst/>
                <a:ahLst/>
                <a:rect l="l" t="t" r="r" b="b"/>
                <a:pathLst>
                  <a:path w="388" h="154">
                    <a:moveTo>
                      <a:pt x="0" y="0"/>
                    </a:moveTo>
                    <a:lnTo>
                      <a:pt x="71" y="12"/>
                    </a:lnTo>
                    <a:lnTo>
                      <a:pt x="129" y="24"/>
                    </a:lnTo>
                    <a:lnTo>
                      <a:pt x="211" y="59"/>
                    </a:lnTo>
                    <a:lnTo>
                      <a:pt x="282" y="94"/>
                    </a:lnTo>
                    <a:lnTo>
                      <a:pt x="387" y="15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59080" y="4991040"/>
                <a:ext cx="560520" cy="133560"/>
              </a:xfrm>
              <a:custGeom>
                <a:avLst/>
                <a:gdLst/>
                <a:ahLst/>
                <a:rect l="l" t="t" r="r" b="b"/>
                <a:pathLst>
                  <a:path w="353" h="84">
                    <a:moveTo>
                      <a:pt x="0" y="59"/>
                    </a:moveTo>
                    <a:lnTo>
                      <a:pt x="59" y="83"/>
                    </a:lnTo>
                    <a:lnTo>
                      <a:pt x="94" y="36"/>
                    </a:lnTo>
                    <a:lnTo>
                      <a:pt x="164" y="47"/>
                    </a:lnTo>
                    <a:lnTo>
                      <a:pt x="352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73680" y="5029200"/>
                <a:ext cx="336240" cy="57240"/>
              </a:xfrm>
              <a:custGeom>
                <a:avLst/>
                <a:gdLst/>
                <a:ahLst/>
                <a:rect l="l" t="t" r="r" b="b"/>
                <a:pathLst>
                  <a:path w="212" h="36">
                    <a:moveTo>
                      <a:pt x="0" y="0"/>
                    </a:moveTo>
                    <a:lnTo>
                      <a:pt x="117" y="35"/>
                    </a:lnTo>
                    <a:lnTo>
                      <a:pt x="211" y="1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3462480" y="5010120"/>
                <a:ext cx="185760" cy="9684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1700000">
                <a:off x="4129200" y="4177800"/>
                <a:ext cx="373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1700000">
                <a:off x="4260960" y="3825360"/>
                <a:ext cx="373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24400" y="3935520"/>
                <a:ext cx="114120" cy="187200"/>
              </a:xfrm>
              <a:custGeom>
                <a:avLst/>
                <a:gdLst/>
                <a:ahLst/>
                <a:rect l="l" t="t" r="r" b="b"/>
                <a:pathLst>
                  <a:path w="72" h="118">
                    <a:moveTo>
                      <a:pt x="0" y="117"/>
                    </a:moveTo>
                    <a:lnTo>
                      <a:pt x="71" y="70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09960" y="5153040"/>
                <a:ext cx="430200" cy="336600"/>
              </a:xfrm>
              <a:custGeom>
                <a:avLst/>
                <a:gdLst/>
                <a:ahLst/>
                <a:rect l="l" t="t" r="r" b="b"/>
                <a:pathLst>
                  <a:path w="271" h="212">
                    <a:moveTo>
                      <a:pt x="270" y="140"/>
                    </a:moveTo>
                    <a:lnTo>
                      <a:pt x="176" y="58"/>
                    </a:lnTo>
                    <a:lnTo>
                      <a:pt x="70" y="0"/>
                    </a:lnTo>
                    <a:lnTo>
                      <a:pt x="12" y="58"/>
                    </a:lnTo>
                    <a:lnTo>
                      <a:pt x="0" y="129"/>
                    </a:lnTo>
                    <a:lnTo>
                      <a:pt x="70" y="187"/>
                    </a:lnTo>
                    <a:lnTo>
                      <a:pt x="141" y="211"/>
                    </a:lnTo>
                    <a:lnTo>
                      <a:pt x="164" y="105"/>
                    </a:lnTo>
                  </a:path>
                </a:pathLst>
              </a:custGeom>
              <a:noFill/>
              <a:ln cap="rnd"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09960" y="5357880"/>
                <a:ext cx="430200" cy="168120"/>
              </a:xfrm>
              <a:custGeom>
                <a:avLst/>
                <a:gdLst/>
                <a:ahLst/>
                <a:rect l="l" t="t" r="r" b="b"/>
                <a:pathLst>
                  <a:path w="271" h="106">
                    <a:moveTo>
                      <a:pt x="0" y="0"/>
                    </a:moveTo>
                    <a:lnTo>
                      <a:pt x="70" y="58"/>
                    </a:lnTo>
                    <a:lnTo>
                      <a:pt x="141" y="82"/>
                    </a:lnTo>
                    <a:lnTo>
                      <a:pt x="211" y="105"/>
                    </a:lnTo>
                    <a:lnTo>
                      <a:pt x="270" y="11"/>
                    </a:lnTo>
                  </a:path>
                </a:pathLst>
              </a:custGeom>
              <a:noFill/>
              <a:ln cap="rnd"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556240" y="1946160"/>
              <a:ext cx="1914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verturned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75200" y="2060640"/>
              <a:ext cx="115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96960" y="514980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41120" y="4938840"/>
              <a:ext cx="2334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crushed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713560" y="2554200"/>
              <a:ext cx="76176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027400" y="45291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367000" y="4681440"/>
              <a:ext cx="596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7600" y="180720"/>
            <a:ext cx="831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verturns without ROPS are deadl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7360" y="1535040"/>
            <a:ext cx="7824600" cy="4657680"/>
            <a:chOff x="657360" y="1535040"/>
            <a:chExt cx="7824600" cy="4657680"/>
          </a:xfrm>
        </p:grpSpPr>
        <p:grpSp>
          <p:nvGrpSpPr>
            <p:cNvPr id="241" name=""/>
            <p:cNvGrpSpPr/>
            <p:nvPr/>
          </p:nvGrpSpPr>
          <p:grpSpPr>
            <a:xfrm>
              <a:off x="5070600" y="1535040"/>
              <a:ext cx="3411360" cy="3808080"/>
              <a:chOff x="5070600" y="1535040"/>
              <a:chExt cx="3411360" cy="380808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2440" y="4476600"/>
                <a:ext cx="2772360" cy="86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Without a ROPS and seat bel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he operator is unprotected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during an overturn.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43" name=""/>
              <p:cNvGraphicFramePr/>
              <p:nvPr/>
            </p:nvGraphicFramePr>
            <p:xfrm>
              <a:off x="5070600" y="1535040"/>
              <a:ext cx="3411360" cy="29941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2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70600" y="1535040"/>
                        <a:ext cx="3411360" cy="299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45" name=""/>
            <p:cNvGrpSpPr/>
            <p:nvPr/>
          </p:nvGrpSpPr>
          <p:grpSpPr>
            <a:xfrm>
              <a:off x="657360" y="3065400"/>
              <a:ext cx="4384440" cy="3127320"/>
              <a:chOff x="657360" y="3065400"/>
              <a:chExt cx="4384440" cy="312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657360" y="5326200"/>
                <a:ext cx="4384440" cy="86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During a recent six-year period, 76 Kentucky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farmers died when their tractors overturned. ROPS and seat belts could have saved all 76.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47" name=""/>
              <p:cNvGraphicFramePr/>
              <p:nvPr/>
            </p:nvGraphicFramePr>
            <p:xfrm>
              <a:off x="781200" y="3065400"/>
              <a:ext cx="4022640" cy="232740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2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1200" y="3065400"/>
                        <a:ext cx="4022640" cy="232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tially prot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ROPS but no seat bel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84440" y="1724040"/>
            <a:ext cx="5825880" cy="4444920"/>
            <a:chOff x="1684440" y="1724040"/>
            <a:chExt cx="5825880" cy="4444920"/>
          </a:xfrm>
        </p:grpSpPr>
        <p:sp>
          <p:nvSpPr>
            <p:cNvPr id="251" name=""/>
            <p:cNvSpPr/>
            <p:nvPr/>
          </p:nvSpPr>
          <p:spPr>
            <a:xfrm flipH="1" flipV="1">
              <a:off x="4781520" y="3859200"/>
              <a:ext cx="18576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216400" y="3858840"/>
              <a:ext cx="6840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2080" y="3692520"/>
              <a:ext cx="1212840" cy="1082520"/>
            </a:xfrm>
            <a:custGeom>
              <a:avLst/>
              <a:gdLst/>
              <a:ahLst/>
              <a:rect l="l" t="t" r="r" b="b"/>
              <a:pathLst>
                <a:path w="764" h="682">
                  <a:moveTo>
                    <a:pt x="0" y="0"/>
                  </a:moveTo>
                  <a:lnTo>
                    <a:pt x="164" y="681"/>
                  </a:lnTo>
                  <a:lnTo>
                    <a:pt x="763" y="681"/>
                  </a:lnTo>
                </a:path>
              </a:pathLst>
            </a:custGeom>
            <a:noFill/>
            <a:ln cap="rnd"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7440" y="4842000"/>
              <a:ext cx="468360" cy="1081080"/>
            </a:xfrm>
            <a:custGeom>
              <a:avLst/>
              <a:gdLst/>
              <a:ahLst/>
              <a:rect l="l" t="t" r="r" b="b"/>
              <a:pathLst>
                <a:path w="295" h="681">
                  <a:moveTo>
                    <a:pt x="294" y="0"/>
                  </a:moveTo>
                  <a:lnTo>
                    <a:pt x="294" y="410"/>
                  </a:lnTo>
                  <a:lnTo>
                    <a:pt x="0" y="410"/>
                  </a:lnTo>
                  <a:lnTo>
                    <a:pt x="0" y="6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02160" y="4842000"/>
              <a:ext cx="1306440" cy="914400"/>
            </a:xfrm>
            <a:custGeom>
              <a:avLst/>
              <a:gdLst/>
              <a:ahLst/>
              <a:rect l="l" t="t" r="r" b="b"/>
              <a:pathLst>
                <a:path w="823" h="576">
                  <a:moveTo>
                    <a:pt x="0" y="0"/>
                  </a:moveTo>
                  <a:lnTo>
                    <a:pt x="0" y="176"/>
                  </a:lnTo>
                  <a:lnTo>
                    <a:pt x="258" y="575"/>
                  </a:lnTo>
                  <a:lnTo>
                    <a:pt x="704" y="575"/>
                  </a:lnTo>
                  <a:lnTo>
                    <a:pt x="822" y="4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14760" y="3686040"/>
              <a:ext cx="374760" cy="933480"/>
            </a:xfrm>
            <a:custGeom>
              <a:avLst/>
              <a:gdLst/>
              <a:ahLst/>
              <a:rect l="l" t="t" r="r" b="b"/>
              <a:pathLst>
                <a:path w="236" h="588">
                  <a:moveTo>
                    <a:pt x="235" y="587"/>
                  </a:moveTo>
                  <a:lnTo>
                    <a:pt x="0" y="34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894200" y="4618080"/>
              <a:ext cx="0" cy="87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1920" y="3790800"/>
              <a:ext cx="209520" cy="117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222440" y="3381480"/>
              <a:ext cx="446040" cy="80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6840" y="2643120"/>
              <a:ext cx="1396800" cy="206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49760" y="451944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le 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78240" y="3238560"/>
              <a:ext cx="225360" cy="95040"/>
            </a:xfrm>
            <a:custGeom>
              <a:avLst/>
              <a:gdLst/>
              <a:ahLst/>
              <a:rect l="l" t="t" r="r" b="b"/>
              <a:pathLst>
                <a:path w="142" h="60">
                  <a:moveTo>
                    <a:pt x="0" y="59"/>
                  </a:moveTo>
                  <a:lnTo>
                    <a:pt x="70" y="0"/>
                  </a:lnTo>
                  <a:lnTo>
                    <a:pt x="141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87920" y="3201840"/>
              <a:ext cx="225360" cy="9396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0" y="58"/>
                  </a:moveTo>
                  <a:lnTo>
                    <a:pt x="71" y="0"/>
                  </a:lnTo>
                  <a:lnTo>
                    <a:pt x="141" y="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2760" y="3387600"/>
              <a:ext cx="73080" cy="73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43360" y="3332160"/>
              <a:ext cx="74520" cy="73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51200" y="34434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93960" y="3556080"/>
              <a:ext cx="169920" cy="2062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0"/>
                  </a:moveTo>
                  <a:lnTo>
                    <a:pt x="106" y="58"/>
                  </a:lnTo>
                  <a:lnTo>
                    <a:pt x="71" y="129"/>
                  </a:lnTo>
                  <a:lnTo>
                    <a:pt x="0" y="1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89480" y="3871800"/>
              <a:ext cx="430200" cy="225360"/>
            </a:xfrm>
            <a:custGeom>
              <a:avLst/>
              <a:gdLst/>
              <a:ahLst/>
              <a:rect l="l" t="t" r="r" b="b"/>
              <a:pathLst>
                <a:path w="271" h="142">
                  <a:moveTo>
                    <a:pt x="0" y="82"/>
                  </a:moveTo>
                  <a:lnTo>
                    <a:pt x="71" y="129"/>
                  </a:lnTo>
                  <a:lnTo>
                    <a:pt x="141" y="141"/>
                  </a:lnTo>
                  <a:lnTo>
                    <a:pt x="212" y="118"/>
                  </a:lnTo>
                  <a:lnTo>
                    <a:pt x="270" y="82"/>
                  </a:lnTo>
                  <a:lnTo>
                    <a:pt x="27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632480" y="5462640"/>
              <a:ext cx="18576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514760" y="5330520"/>
              <a:ext cx="19692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45160" y="4083120"/>
              <a:ext cx="6760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38680" y="4076640"/>
              <a:ext cx="689040" cy="26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7760" y="3852720"/>
              <a:ext cx="7308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61040" y="3852720"/>
              <a:ext cx="7308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60120" y="2344680"/>
              <a:ext cx="2334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 raw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5040" y="3686040"/>
              <a:ext cx="273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4440" y="1724040"/>
              <a:ext cx="1047600" cy="44449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92960" y="198900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8240" y="2986200"/>
              <a:ext cx="906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960560" y="217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637080" y="2670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780080" y="3311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00280" y="1900080"/>
            <a:ext cx="2692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eat belt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difference between life and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fasten the seat belt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12480" y="1974960"/>
            <a:ext cx="6725160" cy="4244760"/>
            <a:chOff x="1212480" y="1974960"/>
            <a:chExt cx="6725160" cy="4244760"/>
          </a:xfrm>
        </p:grpSpPr>
        <p:sp>
          <p:nvSpPr>
            <p:cNvPr id="286" name=""/>
            <p:cNvSpPr/>
            <p:nvPr/>
          </p:nvSpPr>
          <p:spPr>
            <a:xfrm flipH="1">
              <a:off x="5302080" y="4199040"/>
              <a:ext cx="230400" cy="23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40560" y="42307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09920" y="3224160"/>
              <a:ext cx="1278000" cy="870120"/>
            </a:xfrm>
            <a:custGeom>
              <a:avLst/>
              <a:gdLst/>
              <a:ahLst/>
              <a:rect l="l" t="t" r="r" b="b"/>
              <a:pathLst>
                <a:path w="805" h="548">
                  <a:moveTo>
                    <a:pt x="0" y="547"/>
                  </a:moveTo>
                  <a:lnTo>
                    <a:pt x="299" y="0"/>
                  </a:lnTo>
                  <a:lnTo>
                    <a:pt x="804" y="134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6760" y="2168640"/>
              <a:ext cx="411120" cy="1031760"/>
            </a:xfrm>
            <a:custGeom>
              <a:avLst/>
              <a:gdLst/>
              <a:ahLst/>
              <a:rect l="l" t="t" r="r" b="b"/>
              <a:pathLst>
                <a:path w="259" h="650">
                  <a:moveTo>
                    <a:pt x="155" y="649"/>
                  </a:moveTo>
                  <a:lnTo>
                    <a:pt x="258" y="299"/>
                  </a:lnTo>
                  <a:lnTo>
                    <a:pt x="0" y="227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3320" y="2643120"/>
              <a:ext cx="1262160" cy="689040"/>
            </a:xfrm>
            <a:custGeom>
              <a:avLst/>
              <a:gdLst/>
              <a:ahLst/>
              <a:rect l="l" t="t" r="r" b="b"/>
              <a:pathLst>
                <a:path w="795" h="434">
                  <a:moveTo>
                    <a:pt x="0" y="433"/>
                  </a:moveTo>
                  <a:lnTo>
                    <a:pt x="41" y="278"/>
                  </a:lnTo>
                  <a:lnTo>
                    <a:pt x="350" y="0"/>
                  </a:lnTo>
                  <a:lnTo>
                    <a:pt x="732" y="103"/>
                  </a:lnTo>
                  <a:lnTo>
                    <a:pt x="794" y="26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51600" y="3805200"/>
              <a:ext cx="411120" cy="771480"/>
            </a:xfrm>
            <a:custGeom>
              <a:avLst/>
              <a:gdLst/>
              <a:ahLst/>
              <a:rect l="l" t="t" r="r" b="b"/>
              <a:pathLst>
                <a:path w="259" h="486">
                  <a:moveTo>
                    <a:pt x="258" y="0"/>
                  </a:moveTo>
                  <a:lnTo>
                    <a:pt x="0" y="155"/>
                  </a:lnTo>
                  <a:lnTo>
                    <a:pt x="62" y="48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6400" y="3068640"/>
              <a:ext cx="19692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016600" y="4390560"/>
              <a:ext cx="18252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917960" y="4021200"/>
              <a:ext cx="147600" cy="80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530680" y="2921040"/>
              <a:ext cx="1987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62640" y="2921040"/>
              <a:ext cx="106200" cy="23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0880" y="4033800"/>
              <a:ext cx="639720" cy="379440"/>
            </a:xfrm>
            <a:custGeom>
              <a:avLst/>
              <a:gdLst/>
              <a:ahLst/>
              <a:rect l="l" t="t" r="r" b="b"/>
              <a:pathLst>
                <a:path w="403" h="239">
                  <a:moveTo>
                    <a:pt x="361" y="238"/>
                  </a:moveTo>
                  <a:lnTo>
                    <a:pt x="0" y="135"/>
                  </a:lnTo>
                  <a:lnTo>
                    <a:pt x="31" y="0"/>
                  </a:lnTo>
                  <a:lnTo>
                    <a:pt x="402" y="93"/>
                  </a:lnTo>
                  <a:lnTo>
                    <a:pt x="361" y="238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68960" y="43815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21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2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42" y="62"/>
                  </a:lnTo>
                  <a:lnTo>
                    <a:pt x="52" y="62"/>
                  </a:lnTo>
                  <a:lnTo>
                    <a:pt x="52" y="52"/>
                  </a:lnTo>
                  <a:lnTo>
                    <a:pt x="62" y="52"/>
                  </a:lnTo>
                  <a:lnTo>
                    <a:pt x="62" y="42"/>
                  </a:lnTo>
                  <a:lnTo>
                    <a:pt x="62" y="31"/>
                  </a:lnTo>
                  <a:lnTo>
                    <a:pt x="62" y="21"/>
                  </a:lnTo>
                  <a:lnTo>
                    <a:pt x="62" y="11"/>
                  </a:lnTo>
                  <a:lnTo>
                    <a:pt x="52" y="11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95920" y="44798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21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10" y="52"/>
                  </a:lnTo>
                  <a:lnTo>
                    <a:pt x="10" y="62"/>
                  </a:lnTo>
                  <a:lnTo>
                    <a:pt x="20" y="62"/>
                  </a:lnTo>
                  <a:lnTo>
                    <a:pt x="30" y="62"/>
                  </a:lnTo>
                  <a:lnTo>
                    <a:pt x="41" y="62"/>
                  </a:lnTo>
                  <a:lnTo>
                    <a:pt x="51" y="62"/>
                  </a:lnTo>
                  <a:lnTo>
                    <a:pt x="51" y="52"/>
                  </a:lnTo>
                  <a:lnTo>
                    <a:pt x="61" y="52"/>
                  </a:lnTo>
                  <a:lnTo>
                    <a:pt x="61" y="41"/>
                  </a:lnTo>
                  <a:lnTo>
                    <a:pt x="61" y="31"/>
                  </a:lnTo>
                  <a:lnTo>
                    <a:pt x="61" y="21"/>
                  </a:lnTo>
                  <a:lnTo>
                    <a:pt x="61" y="11"/>
                  </a:lnTo>
                  <a:lnTo>
                    <a:pt x="51" y="11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49880" y="4587840"/>
              <a:ext cx="2197080" cy="5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41640" y="1974960"/>
              <a:ext cx="2017440" cy="36352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300560"/>
              <a:ext cx="1849680" cy="1919160"/>
              <a:chOff x="2914560" y="4300560"/>
              <a:chExt cx="1849680" cy="1919160"/>
            </a:xfrm>
          </p:grpSpPr>
          <p:sp>
            <p:nvSpPr>
              <p:cNvPr id="303" name=""/>
              <p:cNvSpPr/>
              <p:nvPr/>
            </p:nvSpPr>
            <p:spPr>
              <a:xfrm>
                <a:off x="2962440" y="4300560"/>
                <a:ext cx="1801800" cy="1279440"/>
              </a:xfrm>
              <a:custGeom>
                <a:avLst/>
                <a:gdLst/>
                <a:ahLst/>
                <a:rect l="l" t="t" r="r" b="b"/>
                <a:pathLst>
                  <a:path w="1135" h="806">
                    <a:moveTo>
                      <a:pt x="464" y="21"/>
                    </a:moveTo>
                    <a:lnTo>
                      <a:pt x="423" y="31"/>
                    </a:lnTo>
                    <a:lnTo>
                      <a:pt x="392" y="52"/>
                    </a:lnTo>
                    <a:lnTo>
                      <a:pt x="350" y="62"/>
                    </a:lnTo>
                    <a:lnTo>
                      <a:pt x="319" y="83"/>
                    </a:lnTo>
                    <a:lnTo>
                      <a:pt x="278" y="93"/>
                    </a:lnTo>
                    <a:lnTo>
                      <a:pt x="247" y="114"/>
                    </a:lnTo>
                    <a:lnTo>
                      <a:pt x="216" y="134"/>
                    </a:lnTo>
                    <a:lnTo>
                      <a:pt x="185" y="165"/>
                    </a:lnTo>
                    <a:lnTo>
                      <a:pt x="155" y="186"/>
                    </a:lnTo>
                    <a:lnTo>
                      <a:pt x="134" y="206"/>
                    </a:lnTo>
                    <a:lnTo>
                      <a:pt x="103" y="237"/>
                    </a:lnTo>
                    <a:lnTo>
                      <a:pt x="82" y="258"/>
                    </a:lnTo>
                    <a:lnTo>
                      <a:pt x="62" y="289"/>
                    </a:lnTo>
                    <a:lnTo>
                      <a:pt x="51" y="310"/>
                    </a:lnTo>
                    <a:lnTo>
                      <a:pt x="31" y="341"/>
                    </a:lnTo>
                    <a:lnTo>
                      <a:pt x="20" y="371"/>
                    </a:lnTo>
                    <a:lnTo>
                      <a:pt x="10" y="402"/>
                    </a:lnTo>
                    <a:lnTo>
                      <a:pt x="10" y="423"/>
                    </a:lnTo>
                    <a:lnTo>
                      <a:pt x="0" y="454"/>
                    </a:lnTo>
                    <a:lnTo>
                      <a:pt x="0" y="485"/>
                    </a:lnTo>
                    <a:lnTo>
                      <a:pt x="0" y="516"/>
                    </a:lnTo>
                    <a:lnTo>
                      <a:pt x="10" y="536"/>
                    </a:lnTo>
                    <a:lnTo>
                      <a:pt x="10" y="567"/>
                    </a:lnTo>
                    <a:lnTo>
                      <a:pt x="20" y="588"/>
                    </a:lnTo>
                    <a:lnTo>
                      <a:pt x="31" y="619"/>
                    </a:lnTo>
                    <a:lnTo>
                      <a:pt x="51" y="640"/>
                    </a:lnTo>
                    <a:lnTo>
                      <a:pt x="72" y="660"/>
                    </a:lnTo>
                    <a:lnTo>
                      <a:pt x="93" y="681"/>
                    </a:lnTo>
                    <a:lnTo>
                      <a:pt x="113" y="701"/>
                    </a:lnTo>
                    <a:lnTo>
                      <a:pt x="134" y="722"/>
                    </a:lnTo>
                    <a:lnTo>
                      <a:pt x="165" y="743"/>
                    </a:lnTo>
                    <a:lnTo>
                      <a:pt x="185" y="753"/>
                    </a:lnTo>
                    <a:lnTo>
                      <a:pt x="216" y="763"/>
                    </a:lnTo>
                    <a:lnTo>
                      <a:pt x="247" y="774"/>
                    </a:lnTo>
                    <a:lnTo>
                      <a:pt x="289" y="784"/>
                    </a:lnTo>
                    <a:lnTo>
                      <a:pt x="319" y="794"/>
                    </a:lnTo>
                    <a:lnTo>
                      <a:pt x="361" y="805"/>
                    </a:lnTo>
                    <a:lnTo>
                      <a:pt x="392" y="805"/>
                    </a:lnTo>
                    <a:lnTo>
                      <a:pt x="433" y="805"/>
                    </a:lnTo>
                    <a:lnTo>
                      <a:pt x="474" y="805"/>
                    </a:lnTo>
                    <a:lnTo>
                      <a:pt x="515" y="805"/>
                    </a:lnTo>
                    <a:lnTo>
                      <a:pt x="546" y="805"/>
                    </a:lnTo>
                    <a:lnTo>
                      <a:pt x="587" y="794"/>
                    </a:lnTo>
                    <a:lnTo>
                      <a:pt x="629" y="794"/>
                    </a:lnTo>
                    <a:lnTo>
                      <a:pt x="670" y="784"/>
                    </a:lnTo>
                    <a:lnTo>
                      <a:pt x="711" y="774"/>
                    </a:lnTo>
                    <a:lnTo>
                      <a:pt x="742" y="753"/>
                    </a:lnTo>
                    <a:lnTo>
                      <a:pt x="783" y="743"/>
                    </a:lnTo>
                    <a:lnTo>
                      <a:pt x="814" y="722"/>
                    </a:lnTo>
                    <a:lnTo>
                      <a:pt x="856" y="712"/>
                    </a:lnTo>
                    <a:lnTo>
                      <a:pt x="886" y="691"/>
                    </a:lnTo>
                    <a:lnTo>
                      <a:pt x="917" y="671"/>
                    </a:lnTo>
                    <a:lnTo>
                      <a:pt x="948" y="640"/>
                    </a:lnTo>
                    <a:lnTo>
                      <a:pt x="979" y="619"/>
                    </a:lnTo>
                    <a:lnTo>
                      <a:pt x="1000" y="598"/>
                    </a:lnTo>
                    <a:lnTo>
                      <a:pt x="1031" y="567"/>
                    </a:lnTo>
                    <a:lnTo>
                      <a:pt x="1051" y="547"/>
                    </a:lnTo>
                    <a:lnTo>
                      <a:pt x="1072" y="516"/>
                    </a:lnTo>
                    <a:lnTo>
                      <a:pt x="1082" y="495"/>
                    </a:lnTo>
                    <a:lnTo>
                      <a:pt x="1103" y="464"/>
                    </a:lnTo>
                    <a:lnTo>
                      <a:pt x="1113" y="433"/>
                    </a:lnTo>
                    <a:lnTo>
                      <a:pt x="1124" y="402"/>
                    </a:lnTo>
                    <a:lnTo>
                      <a:pt x="1124" y="382"/>
                    </a:lnTo>
                    <a:lnTo>
                      <a:pt x="1134" y="351"/>
                    </a:lnTo>
                    <a:lnTo>
                      <a:pt x="1134" y="320"/>
                    </a:lnTo>
                    <a:lnTo>
                      <a:pt x="1134" y="289"/>
                    </a:lnTo>
                    <a:lnTo>
                      <a:pt x="1124" y="268"/>
                    </a:lnTo>
                    <a:lnTo>
                      <a:pt x="1124" y="237"/>
                    </a:lnTo>
                    <a:lnTo>
                      <a:pt x="1113" y="217"/>
                    </a:lnTo>
                    <a:lnTo>
                      <a:pt x="1103" y="186"/>
                    </a:lnTo>
                    <a:lnTo>
                      <a:pt x="1082" y="165"/>
                    </a:lnTo>
                    <a:lnTo>
                      <a:pt x="1062" y="145"/>
                    </a:lnTo>
                    <a:lnTo>
                      <a:pt x="1041" y="124"/>
                    </a:lnTo>
                    <a:lnTo>
                      <a:pt x="1020" y="103"/>
                    </a:lnTo>
                    <a:lnTo>
                      <a:pt x="1000" y="83"/>
                    </a:lnTo>
                    <a:lnTo>
                      <a:pt x="969" y="62"/>
                    </a:lnTo>
                    <a:lnTo>
                      <a:pt x="948" y="52"/>
                    </a:lnTo>
                    <a:lnTo>
                      <a:pt x="917" y="41"/>
                    </a:lnTo>
                    <a:lnTo>
                      <a:pt x="886" y="31"/>
                    </a:lnTo>
                    <a:lnTo>
                      <a:pt x="845" y="21"/>
                    </a:lnTo>
                    <a:lnTo>
                      <a:pt x="814" y="10"/>
                    </a:lnTo>
                    <a:lnTo>
                      <a:pt x="773" y="0"/>
                    </a:lnTo>
                    <a:lnTo>
                      <a:pt x="742" y="0"/>
                    </a:lnTo>
                    <a:lnTo>
                      <a:pt x="701" y="0"/>
                    </a:lnTo>
                    <a:lnTo>
                      <a:pt x="660" y="0"/>
                    </a:lnTo>
                    <a:lnTo>
                      <a:pt x="618" y="0"/>
                    </a:lnTo>
                    <a:lnTo>
                      <a:pt x="587" y="0"/>
                    </a:lnTo>
                    <a:lnTo>
                      <a:pt x="546" y="10"/>
                    </a:lnTo>
                    <a:lnTo>
                      <a:pt x="505" y="10"/>
                    </a:lnTo>
                    <a:lnTo>
                      <a:pt x="464" y="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68600" y="4873680"/>
                <a:ext cx="117720" cy="182520"/>
              </a:xfrm>
              <a:custGeom>
                <a:avLst/>
                <a:gdLst/>
                <a:ahLst/>
                <a:rect l="l" t="t" r="r" b="b"/>
                <a:pathLst>
                  <a:path w="74" h="115">
                    <a:moveTo>
                      <a:pt x="73" y="114"/>
                    </a:moveTo>
                    <a:lnTo>
                      <a:pt x="0" y="72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84520" y="4578480"/>
                <a:ext cx="279360" cy="133200"/>
              </a:xfrm>
              <a:custGeom>
                <a:avLst/>
                <a:gdLst/>
                <a:ahLst/>
                <a:rect l="l" t="t" r="r" b="b"/>
                <a:pathLst>
                  <a:path w="176" h="84">
                    <a:moveTo>
                      <a:pt x="0" y="83"/>
                    </a:moveTo>
                    <a:lnTo>
                      <a:pt x="61" y="73"/>
                    </a:lnTo>
                    <a:lnTo>
                      <a:pt x="92" y="0"/>
                    </a:lnTo>
                    <a:lnTo>
                      <a:pt x="165" y="11"/>
                    </a:lnTo>
                    <a:lnTo>
                      <a:pt x="175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05360" y="4494240"/>
                <a:ext cx="133200" cy="393840"/>
              </a:xfrm>
              <a:custGeom>
                <a:avLst/>
                <a:gdLst/>
                <a:ahLst/>
                <a:rect l="l" t="t" r="r" b="b"/>
                <a:pathLst>
                  <a:path w="84" h="248">
                    <a:moveTo>
                      <a:pt x="83" y="247"/>
                    </a:moveTo>
                    <a:lnTo>
                      <a:pt x="21" y="206"/>
                    </a:lnTo>
                    <a:lnTo>
                      <a:pt x="0" y="144"/>
                    </a:lnTo>
                    <a:lnTo>
                      <a:pt x="0" y="82"/>
                    </a:lnTo>
                    <a:lnTo>
                      <a:pt x="21" y="20"/>
                    </a:lnTo>
                    <a:lnTo>
                      <a:pt x="83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62440" y="4971960"/>
                <a:ext cx="1212840" cy="541440"/>
              </a:xfrm>
              <a:custGeom>
                <a:avLst/>
                <a:gdLst/>
                <a:ahLst/>
                <a:rect l="l" t="t" r="r" b="b"/>
                <a:pathLst>
                  <a:path w="764" h="341">
                    <a:moveTo>
                      <a:pt x="763" y="340"/>
                    </a:moveTo>
                    <a:lnTo>
                      <a:pt x="701" y="0"/>
                    </a:lnTo>
                    <a:lnTo>
                      <a:pt x="484" y="320"/>
                    </a:lnTo>
                    <a:lnTo>
                      <a:pt x="474" y="196"/>
                    </a:lnTo>
                    <a:lnTo>
                      <a:pt x="309" y="258"/>
                    </a:lnTo>
                    <a:lnTo>
                      <a:pt x="247" y="144"/>
                    </a:lnTo>
                    <a:lnTo>
                      <a:pt x="0" y="124"/>
                    </a:lnTo>
                    <a:lnTo>
                      <a:pt x="93" y="237"/>
                    </a:lnTo>
                    <a:lnTo>
                      <a:pt x="134" y="330"/>
                    </a:lnTo>
                    <a:lnTo>
                      <a:pt x="51" y="299"/>
                    </a:lnTo>
                    <a:lnTo>
                      <a:pt x="763" y="34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74920" y="5611680"/>
                <a:ext cx="312840" cy="84240"/>
              </a:xfrm>
              <a:custGeom>
                <a:avLst/>
                <a:gdLst/>
                <a:ahLst/>
                <a:rect l="l" t="t" r="r" b="b"/>
                <a:pathLst>
                  <a:path w="197" h="53">
                    <a:moveTo>
                      <a:pt x="196" y="0"/>
                    </a:moveTo>
                    <a:lnTo>
                      <a:pt x="124" y="52"/>
                    </a:lnTo>
                    <a:lnTo>
                      <a:pt x="62" y="42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7360" y="5349960"/>
                <a:ext cx="736560" cy="558720"/>
              </a:xfrm>
              <a:custGeom>
                <a:avLst/>
                <a:gdLst/>
                <a:ahLst/>
                <a:rect l="l" t="t" r="r" b="b"/>
                <a:pathLst>
                  <a:path w="464" h="352">
                    <a:moveTo>
                      <a:pt x="175" y="186"/>
                    </a:moveTo>
                    <a:lnTo>
                      <a:pt x="30" y="62"/>
                    </a:lnTo>
                    <a:lnTo>
                      <a:pt x="0" y="0"/>
                    </a:lnTo>
                    <a:lnTo>
                      <a:pt x="30" y="62"/>
                    </a:lnTo>
                    <a:lnTo>
                      <a:pt x="30" y="145"/>
                    </a:lnTo>
                    <a:lnTo>
                      <a:pt x="41" y="196"/>
                    </a:lnTo>
                    <a:lnTo>
                      <a:pt x="61" y="279"/>
                    </a:lnTo>
                    <a:lnTo>
                      <a:pt x="134" y="310"/>
                    </a:lnTo>
                    <a:lnTo>
                      <a:pt x="175" y="351"/>
                    </a:lnTo>
                    <a:lnTo>
                      <a:pt x="237" y="341"/>
                    </a:lnTo>
                    <a:lnTo>
                      <a:pt x="309" y="310"/>
                    </a:lnTo>
                    <a:lnTo>
                      <a:pt x="412" y="279"/>
                    </a:lnTo>
                    <a:lnTo>
                      <a:pt x="463" y="268"/>
                    </a:lnTo>
                    <a:lnTo>
                      <a:pt x="402" y="238"/>
                    </a:lnTo>
                    <a:lnTo>
                      <a:pt x="371" y="165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60800" y="5611680"/>
                <a:ext cx="492120" cy="281160"/>
              </a:xfrm>
              <a:custGeom>
                <a:avLst/>
                <a:gdLst/>
                <a:ahLst/>
                <a:rect l="l" t="t" r="r" b="b"/>
                <a:pathLst>
                  <a:path w="310" h="177">
                    <a:moveTo>
                      <a:pt x="0" y="52"/>
                    </a:moveTo>
                    <a:lnTo>
                      <a:pt x="134" y="176"/>
                    </a:lnTo>
                    <a:lnTo>
                      <a:pt x="206" y="145"/>
                    </a:lnTo>
                    <a:lnTo>
                      <a:pt x="309" y="114"/>
                    </a:lnTo>
                    <a:lnTo>
                      <a:pt x="268" y="0"/>
                    </a:lnTo>
                    <a:lnTo>
                      <a:pt x="196" y="52"/>
                    </a:lnTo>
                    <a:lnTo>
                      <a:pt x="206" y="145"/>
                    </a:lnTo>
                    <a:lnTo>
                      <a:pt x="196" y="52"/>
                    </a:lnTo>
                    <a:lnTo>
                      <a:pt x="144" y="8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736800" y="5708520"/>
                <a:ext cx="136800" cy="11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67120" y="5681520"/>
                <a:ext cx="608040" cy="214560"/>
              </a:xfrm>
              <a:custGeom>
                <a:avLst/>
                <a:gdLst/>
                <a:ahLst/>
                <a:rect l="l" t="t" r="r" b="b"/>
                <a:pathLst>
                  <a:path w="383" h="135">
                    <a:moveTo>
                      <a:pt x="0" y="41"/>
                    </a:moveTo>
                    <a:lnTo>
                      <a:pt x="52" y="21"/>
                    </a:lnTo>
                    <a:lnTo>
                      <a:pt x="103" y="72"/>
                    </a:lnTo>
                    <a:lnTo>
                      <a:pt x="83" y="134"/>
                    </a:lnTo>
                    <a:lnTo>
                      <a:pt x="186" y="113"/>
                    </a:lnTo>
                    <a:lnTo>
                      <a:pt x="248" y="93"/>
                    </a:lnTo>
                    <a:lnTo>
                      <a:pt x="330" y="41"/>
                    </a:lnTo>
                    <a:lnTo>
                      <a:pt x="382" y="21"/>
                    </a:lnTo>
                    <a:lnTo>
                      <a:pt x="320" y="31"/>
                    </a:lnTo>
                    <a:lnTo>
                      <a:pt x="227" y="31"/>
                    </a:lnTo>
                    <a:lnTo>
                      <a:pt x="124" y="0"/>
                    </a:lnTo>
                    <a:lnTo>
                      <a:pt x="62" y="10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63880" y="5743440"/>
                <a:ext cx="297000" cy="115920"/>
              </a:xfrm>
              <a:custGeom>
                <a:avLst/>
                <a:gdLst/>
                <a:ahLst/>
                <a:rect l="l" t="t" r="r" b="b"/>
                <a:pathLst>
                  <a:path w="187" h="73">
                    <a:moveTo>
                      <a:pt x="186" y="72"/>
                    </a:moveTo>
                    <a:lnTo>
                      <a:pt x="103" y="31"/>
                    </a:lnTo>
                    <a:lnTo>
                      <a:pt x="0" y="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3560" y="5824440"/>
                <a:ext cx="720720" cy="166680"/>
              </a:xfrm>
              <a:custGeom>
                <a:avLst/>
                <a:gdLst/>
                <a:ahLst/>
                <a:rect l="l" t="t" r="r" b="b"/>
                <a:pathLst>
                  <a:path w="454" h="105">
                    <a:moveTo>
                      <a:pt x="453" y="52"/>
                    </a:moveTo>
                    <a:lnTo>
                      <a:pt x="412" y="93"/>
                    </a:lnTo>
                    <a:lnTo>
                      <a:pt x="340" y="104"/>
                    </a:lnTo>
                    <a:lnTo>
                      <a:pt x="309" y="0"/>
                    </a:lnTo>
                    <a:lnTo>
                      <a:pt x="257" y="52"/>
                    </a:lnTo>
                    <a:lnTo>
                      <a:pt x="185" y="73"/>
                    </a:lnTo>
                    <a:lnTo>
                      <a:pt x="113" y="52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41800" y="5989680"/>
                <a:ext cx="672840" cy="147600"/>
              </a:xfrm>
              <a:custGeom>
                <a:avLst/>
                <a:gdLst/>
                <a:ahLst/>
                <a:rect l="l" t="t" r="r" b="b"/>
                <a:pathLst>
                  <a:path w="424" h="93">
                    <a:moveTo>
                      <a:pt x="0" y="41"/>
                    </a:moveTo>
                    <a:lnTo>
                      <a:pt x="93" y="41"/>
                    </a:lnTo>
                    <a:lnTo>
                      <a:pt x="279" y="61"/>
                    </a:lnTo>
                    <a:lnTo>
                      <a:pt x="351" y="92"/>
                    </a:lnTo>
                    <a:lnTo>
                      <a:pt x="423" y="0"/>
                    </a:lnTo>
                    <a:lnTo>
                      <a:pt x="299" y="41"/>
                    </a:lnTo>
                    <a:lnTo>
                      <a:pt x="217" y="0"/>
                    </a:lnTo>
                    <a:lnTo>
                      <a:pt x="155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14560" y="5842080"/>
                <a:ext cx="885960" cy="377640"/>
              </a:xfrm>
              <a:custGeom>
                <a:avLst/>
                <a:gdLst/>
                <a:ahLst/>
                <a:rect l="l" t="t" r="r" b="b"/>
                <a:pathLst>
                  <a:path w="558" h="238">
                    <a:moveTo>
                      <a:pt x="186" y="82"/>
                    </a:moveTo>
                    <a:lnTo>
                      <a:pt x="186" y="0"/>
                    </a:lnTo>
                    <a:lnTo>
                      <a:pt x="134" y="20"/>
                    </a:lnTo>
                    <a:lnTo>
                      <a:pt x="62" y="31"/>
                    </a:lnTo>
                    <a:lnTo>
                      <a:pt x="0" y="72"/>
                    </a:lnTo>
                    <a:lnTo>
                      <a:pt x="72" y="154"/>
                    </a:lnTo>
                    <a:lnTo>
                      <a:pt x="113" y="206"/>
                    </a:lnTo>
                    <a:lnTo>
                      <a:pt x="186" y="227"/>
                    </a:lnTo>
                    <a:lnTo>
                      <a:pt x="268" y="237"/>
                    </a:lnTo>
                    <a:lnTo>
                      <a:pt x="330" y="237"/>
                    </a:lnTo>
                    <a:lnTo>
                      <a:pt x="392" y="227"/>
                    </a:lnTo>
                    <a:lnTo>
                      <a:pt x="443" y="216"/>
                    </a:lnTo>
                    <a:lnTo>
                      <a:pt x="485" y="154"/>
                    </a:lnTo>
                    <a:lnTo>
                      <a:pt x="557" y="185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56120" y="6018120"/>
                <a:ext cx="85680" cy="3672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3159000" y="5920920"/>
                <a:ext cx="146160" cy="19692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94200" y="5775480"/>
                <a:ext cx="688680" cy="215640"/>
              </a:xfrm>
              <a:custGeom>
                <a:avLst/>
                <a:gdLst/>
                <a:ahLst/>
                <a:rect l="l" t="t" r="r" b="b"/>
                <a:pathLst>
                  <a:path w="434" h="136">
                    <a:moveTo>
                      <a:pt x="433" y="83"/>
                    </a:moveTo>
                    <a:lnTo>
                      <a:pt x="361" y="104"/>
                    </a:lnTo>
                    <a:lnTo>
                      <a:pt x="310" y="135"/>
                    </a:lnTo>
                    <a:lnTo>
                      <a:pt x="248" y="135"/>
                    </a:lnTo>
                    <a:lnTo>
                      <a:pt x="186" y="114"/>
                    </a:lnTo>
                    <a:lnTo>
                      <a:pt x="21" y="62"/>
                    </a:lnTo>
                    <a:lnTo>
                      <a:pt x="0" y="11"/>
                    </a:lnTo>
                    <a:lnTo>
                      <a:pt x="73" y="42"/>
                    </a:lnTo>
                    <a:lnTo>
                      <a:pt x="124" y="0"/>
                    </a:lnTo>
                    <a:lnTo>
                      <a:pt x="248" y="42"/>
                    </a:lnTo>
                    <a:lnTo>
                      <a:pt x="289" y="8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4240" y="5611680"/>
                <a:ext cx="328680" cy="379440"/>
              </a:xfrm>
              <a:custGeom>
                <a:avLst/>
                <a:gdLst/>
                <a:ahLst/>
                <a:rect l="l" t="t" r="r" b="b"/>
                <a:pathLst>
                  <a:path w="207" h="239">
                    <a:moveTo>
                      <a:pt x="0" y="238"/>
                    </a:moveTo>
                    <a:lnTo>
                      <a:pt x="82" y="165"/>
                    </a:lnTo>
                    <a:lnTo>
                      <a:pt x="144" y="145"/>
                    </a:lnTo>
                    <a:lnTo>
                      <a:pt x="206" y="73"/>
                    </a:lnTo>
                    <a:lnTo>
                      <a:pt x="206" y="11"/>
                    </a:lnTo>
                    <a:lnTo>
                      <a:pt x="154" y="62"/>
                    </a:lnTo>
                    <a:lnTo>
                      <a:pt x="113" y="0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63880" y="5989680"/>
                <a:ext cx="362160" cy="131760"/>
              </a:xfrm>
              <a:custGeom>
                <a:avLst/>
                <a:gdLst/>
                <a:ahLst/>
                <a:rect l="l" t="t" r="r" b="b"/>
                <a:pathLst>
                  <a:path w="228" h="83">
                    <a:moveTo>
                      <a:pt x="227" y="0"/>
                    </a:moveTo>
                    <a:lnTo>
                      <a:pt x="144" y="41"/>
                    </a:lnTo>
                    <a:lnTo>
                      <a:pt x="62" y="61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35280" y="5513400"/>
                <a:ext cx="541440" cy="216000"/>
              </a:xfrm>
              <a:custGeom>
                <a:avLst/>
                <a:gdLst/>
                <a:ahLst/>
                <a:rect l="l" t="t" r="r" b="b"/>
                <a:pathLst>
                  <a:path w="341" h="136">
                    <a:moveTo>
                      <a:pt x="340" y="0"/>
                    </a:moveTo>
                    <a:lnTo>
                      <a:pt x="278" y="11"/>
                    </a:lnTo>
                    <a:lnTo>
                      <a:pt x="216" y="21"/>
                    </a:lnTo>
                    <a:lnTo>
                      <a:pt x="144" y="52"/>
                    </a:lnTo>
                    <a:lnTo>
                      <a:pt x="92" y="83"/>
                    </a:lnTo>
                    <a:lnTo>
                      <a:pt x="0" y="135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76640" y="5497560"/>
                <a:ext cx="492120" cy="115920"/>
              </a:xfrm>
              <a:custGeom>
                <a:avLst/>
                <a:gdLst/>
                <a:ahLst/>
                <a:rect l="l" t="t" r="r" b="b"/>
                <a:pathLst>
                  <a:path w="310" h="73">
                    <a:moveTo>
                      <a:pt x="309" y="52"/>
                    </a:moveTo>
                    <a:lnTo>
                      <a:pt x="258" y="72"/>
                    </a:lnTo>
                    <a:lnTo>
                      <a:pt x="216" y="31"/>
                    </a:lnTo>
                    <a:lnTo>
                      <a:pt x="165" y="4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19360" y="5530680"/>
                <a:ext cx="312840" cy="51120"/>
              </a:xfrm>
              <a:custGeom>
                <a:avLst/>
                <a:gdLst/>
                <a:ahLst/>
                <a:rect l="l" t="t" r="r" b="b"/>
                <a:pathLst>
                  <a:path w="197" h="32">
                    <a:moveTo>
                      <a:pt x="196" y="0"/>
                    </a:moveTo>
                    <a:lnTo>
                      <a:pt x="93" y="31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87880" y="5526000"/>
                <a:ext cx="19080" cy="8568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9900000">
                <a:off x="3456360" y="4767840"/>
                <a:ext cx="3520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9900000">
                <a:off x="3357720" y="4440960"/>
                <a:ext cx="3520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22800" y="4562640"/>
                <a:ext cx="115560" cy="16488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72" y="103"/>
                    </a:moveTo>
                    <a:lnTo>
                      <a:pt x="0" y="62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90920" y="5648400"/>
                <a:ext cx="377640" cy="296640"/>
              </a:xfrm>
              <a:custGeom>
                <a:avLst/>
                <a:gdLst/>
                <a:ahLst/>
                <a:rect l="l" t="t" r="r" b="b"/>
                <a:pathLst>
                  <a:path w="238" h="187">
                    <a:moveTo>
                      <a:pt x="0" y="124"/>
                    </a:moveTo>
                    <a:lnTo>
                      <a:pt x="93" y="52"/>
                    </a:lnTo>
                    <a:lnTo>
                      <a:pt x="186" y="0"/>
                    </a:lnTo>
                    <a:lnTo>
                      <a:pt x="237" y="62"/>
                    </a:lnTo>
                    <a:lnTo>
                      <a:pt x="237" y="114"/>
                    </a:lnTo>
                    <a:lnTo>
                      <a:pt x="186" y="165"/>
                    </a:lnTo>
                    <a:lnTo>
                      <a:pt x="114" y="186"/>
                    </a:lnTo>
                    <a:lnTo>
                      <a:pt x="103" y="93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90920" y="5829480"/>
                <a:ext cx="377640" cy="164880"/>
              </a:xfrm>
              <a:custGeom>
                <a:avLst/>
                <a:gdLst/>
                <a:ahLst/>
                <a:rect l="l" t="t" r="r" b="b"/>
                <a:pathLst>
                  <a:path w="238" h="104">
                    <a:moveTo>
                      <a:pt x="237" y="0"/>
                    </a:moveTo>
                    <a:lnTo>
                      <a:pt x="186" y="51"/>
                    </a:lnTo>
                    <a:lnTo>
                      <a:pt x="114" y="72"/>
                    </a:lnTo>
                    <a:lnTo>
                      <a:pt x="62" y="103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995480" y="432432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2480" y="4143240"/>
              <a:ext cx="79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06960" y="3146400"/>
              <a:ext cx="1930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verturned 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92560" y="5203800"/>
              <a:ext cx="1930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ushed simul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4656240" y="516204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713280" y="3568680"/>
              <a:ext cx="2286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ffectiveness of ROPS &amp; seat bel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9960" y="5253120"/>
            <a:ext cx="4145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is case, the ROPS saved his life.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ckled seat belt would have saved his leg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ed huge medical bills, and a permanent disa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09480" y="2286000"/>
          <a:ext cx="3479760" cy="301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3479760" cy="3014640"/>
                  </a:xfrm>
                  <a:prstGeom prst="rect">
                    <a:avLst/>
                  </a:prstGeom>
                  <a:ln w="1015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572000" y="2743200"/>
          <a:ext cx="3949560" cy="244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743200"/>
                    <a:ext cx="394956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557280" y="5253120"/>
            <a:ext cx="41799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ROPS alone greatly reduces the risk of be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led during an overturn compared to a tra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out a ROPS. Add a fastened seat belt and the operator is usually not injured in an overtur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57680" y="290664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9560" y="272880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1600200"/>
            <a:ext cx="590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gether ROPS and fastened seat belts are 98% effective in preventing injury and death during tractor overtu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21:39:13Z</dcterms:created>
  <dc:creator>Henry P. Cole</dc:creator>
  <dc:description/>
  <dc:language>en-US</dc:language>
  <cp:lastModifiedBy>aspaxt0</cp:lastModifiedBy>
  <cp:lastPrinted>2000-09-14T03:15:56Z</cp:lastPrinted>
  <dcterms:modified xsi:type="dcterms:W3CDTF">2002-06-21T19:31:10Z</dcterms:modified>
  <cp:revision>39</cp:revision>
  <dc:subject/>
  <dc:title>MGE Charts lnd scp v6</dc:title>
</cp:coreProperties>
</file>