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Tornado Is . . .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A powerful, circular windstorm that may be accompanied by winds in excess of 250 miles per hour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isks Posed by Tornado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ornadoes can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ip trees apart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estroy building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Uproot structures and object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nd debris and glass flying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Overturn cars and mobile home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1955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jita Wind-Damage Sc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easures tornado strength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ix levels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0:  Light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1:  Moderate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2:  Considerable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3:  Severe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4:  Devastating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5:  Incredible dam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unit1_40" descr=""/>
          <p:cNvPicPr/>
          <p:nvPr/>
        </p:nvPicPr>
        <p:blipFill>
          <a:blip r:embed="rId2"/>
          <a:stretch/>
        </p:blipFill>
        <p:spPr>
          <a:xfrm>
            <a:off x="5867280" y="2171880"/>
            <a:ext cx="2743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rnado Prepared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Know the risk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dentify a “safe” room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earn the community’s warning system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nduct family tornado drill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unit1_41" descr=""/>
          <p:cNvPicPr/>
          <p:nvPr/>
        </p:nvPicPr>
        <p:blipFill>
          <a:blip r:embed="rId2"/>
          <a:stretch/>
        </p:blipFill>
        <p:spPr>
          <a:xfrm>
            <a:off x="4521240" y="35812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rnado C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High wind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ery large hai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unit1_42" descr=""/>
          <p:cNvPicPr/>
          <p:nvPr/>
        </p:nvPicPr>
        <p:blipFill>
          <a:blip r:embed="rId2"/>
          <a:stretch/>
        </p:blipFill>
        <p:spPr>
          <a:xfrm>
            <a:off x="4521240" y="35812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uring a Tornado . . 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Keep windows and doors closed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Go to the “safe” room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isten to EAS or NOAA Weather Radio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" name="unit1_43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5053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HTi</cp:lastModifiedBy>
  <cp:lastPrinted>2001-11-28T13:14:08Z</cp:lastPrinted>
  <dcterms:modified xsi:type="dcterms:W3CDTF">2003-04-29T12:34:24Z</dcterms:modified>
  <cp:revision>267</cp:revision>
  <dc:subject/>
  <dc:title>September 11, 2001 Lessons Learned</dc:title>
</cp:coreProperties>
</file>