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2D10-9426-4EEE-9DD7-D175B7829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826A-7936-4B7A-A349-438CD21FF8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6" name="Rectangle 7"/>
          <p:cNvSpPr/>
          <p:nvPr/>
        </p:nvSpPr>
        <p:spPr>
          <a:xfrm>
            <a:off x="3971880" y="8832960"/>
            <a:ext cx="303840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4377749-350B-48A7-AECF-80B9BC475A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184400" y="698400"/>
            <a:ext cx="4643280" cy="3483000"/>
          </a:xfrm>
          <a:prstGeom prst="rect">
            <a:avLst/>
          </a:prstGeom>
          <a:ln w="0">
            <a:noFill/>
          </a:ln>
        </p:spPr>
      </p:sp>
      <p:sp>
        <p:nvSpPr>
          <p:cNvPr id="9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16A37-7AAC-4EFA-9A04-56BB6367F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650AC-A895-4D48-97F4-DE6D9001C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7BD86-112D-46BE-BA73-7B878F234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2AB53-2A58-411C-B2C3-4EFFE1A9B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979F6-DCC2-4B3C-B2CC-C65393920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5CBC5-891A-4703-9A67-F414C863E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1EFF9-8899-4A93-AB8C-58BC6D98F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CCA53-B435-44B9-A964-1234556F5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0FFA5-0150-42D5-9DCD-C629CA886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57B6A-357A-4587-84C2-B112CD96B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87721-B250-4319-8802-11E5A6DCC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538ED-E473-4A85-8D4D-9BD737D65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8B29-AC11-4EF2-AEA9-4F1CB582EF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jheinold@mahealthdata.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685800" y="1295280"/>
            <a:ext cx="8021520" cy="396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Arial"/>
              </a:rPr>
              <a:t>NHIN / HISPC / SLHIE Joint Conferenc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HISPC Consumer Education &amp; Engagement and Provider Education Collaborative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May 1, 200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99"/>
                </a:solidFill>
                <a:latin typeface="Arial"/>
              </a:rPr>
              <a:t>Dallas, T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resente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Jerilyn W. Heinold, M.P.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hyllis Albritt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Black"/>
              </a:rPr>
              <a:t>HISPC Education &am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Black"/>
              </a:rPr>
              <a:t>Consumer Engagement Collaborative</a:t>
            </a:r>
            <a:endParaRPr b="0" lang="en-US" sz="2000" spc="-1" strike="noStrike">
              <a:solidFill>
                <a:srgbClr val="ffffff"/>
              </a:solidFill>
              <a:latin typeface="Arial"/>
            </a:endParaRPr>
          </a:p>
        </p:txBody>
      </p:sp>
      <p:pic>
        <p:nvPicPr>
          <p:cNvPr id="49" name="Picture 3" descr="HISPC Phase 3 Logo"/>
          <p:cNvPicPr/>
          <p:nvPr/>
        </p:nvPicPr>
        <p:blipFill>
          <a:blip r:embed="rId1"/>
          <a:stretch/>
        </p:blipFill>
        <p:spPr>
          <a:xfrm>
            <a:off x="5970600" y="4572000"/>
            <a:ext cx="2457360" cy="1893960"/>
          </a:xfrm>
          <a:prstGeom prst="rect">
            <a:avLst/>
          </a:prstGeom>
          <a:ln w="0">
            <a:noFill/>
          </a:ln>
        </p:spPr>
      </p:pic>
      <p:pic>
        <p:nvPicPr>
          <p:cNvPr id="50" name="Picture 2" descr="Description: Logo of the Department of Health and Human Services: Office of the National Coordinator for Health Information Technology."/>
          <p:cNvPicPr/>
          <p:nvPr/>
        </p:nvPicPr>
        <p:blipFill>
          <a:blip r:embed="rId2"/>
          <a:stretch/>
        </p:blipFill>
        <p:spPr>
          <a:xfrm>
            <a:off x="169920" y="385920"/>
            <a:ext cx="2789280" cy="75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mmon Project 5</a:t>
            </a: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Creation of two guides: </a:t>
            </a:r>
            <a:r>
              <a:rPr b="0" i="1" lang="en-US" sz="2800" spc="-1" strike="noStrike">
                <a:solidFill>
                  <a:srgbClr val="ffffff"/>
                </a:solidFill>
                <a:latin typeface="Arial"/>
              </a:rPr>
              <a:t>Patient Rights Under HIPAA</a:t>
            </a:r>
            <a:r>
              <a:rPr b="0" lang="en-US" sz="2800" spc="-1" strike="noStrike">
                <a:solidFill>
                  <a:srgbClr val="ffffff"/>
                </a:solidFill>
                <a:latin typeface="Arial"/>
              </a:rPr>
              <a:t> and </a:t>
            </a:r>
            <a:r>
              <a:rPr b="0" i="1" lang="en-US" sz="2800" spc="-1" strike="noStrike">
                <a:solidFill>
                  <a:srgbClr val="ffffff"/>
                </a:solidFill>
                <a:latin typeface="Arial"/>
              </a:rPr>
              <a:t>Tips to Protect Health Information</a:t>
            </a:r>
            <a:endParaRPr b="0" lang="en-US" sz="2800" spc="-1" strike="noStrike">
              <a:solidFill>
                <a:srgbClr val="ffffff"/>
              </a:solidFill>
              <a:latin typeface="Arial"/>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note: Creation of pamphlets detailing rights and remedies to be included as part of an education packet for consumer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Dawn Bonder, J.D., Oregon, dawn.bonder@state.or.us</a:t>
            </a:r>
            <a:endParaRPr b="0" lang="en-US" sz="2800" spc="-1" strike="noStrike">
              <a:solidFill>
                <a:srgbClr val="ffffff"/>
              </a:solidFill>
              <a:latin typeface="Arial"/>
            </a:endParaRPr>
          </a:p>
          <a:p>
            <a:pPr lvl="1" marL="11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mmon Project 6</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Creation of guidelines for how to engage consumers in HIE</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note: Use of Internet resources, existing consumer committees for distribution to consumer and professional audience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Patricia Ruddick, R.N.,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st Virginia, pruddick@wvmi.org</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mmon Project 7</a:t>
            </a: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8540640" cy="4422600"/>
          </a:xfrm>
          <a:prstGeom prst="rect">
            <a:avLst/>
          </a:prstGeom>
          <a:noFill/>
          <a:ln w="0">
            <a:noFill/>
          </a:ln>
        </p:spPr>
        <p:txBody>
          <a:bodyPr anchor="t">
            <a:normAutofit/>
          </a:bodyPr>
          <a:p>
            <a:pPr lvl="1" marL="114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 Identification of methods and resources by which states can have their educational materials translated into multiple languages and literacy level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note: Exploration of what data should be evaluated to determine the appropriate literacy level for target populations using research of best practices and discussion with literacy and language expert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contact info: Dawn Bonder, J.D., Oregon, dawn.bonder@state.or.us</a:t>
            </a:r>
            <a:endParaRPr b="0" lang="en-US" sz="2400" spc="-1" strike="noStrike">
              <a:solidFill>
                <a:srgbClr val="ffffff"/>
              </a:solidFill>
              <a:latin typeface="Arial"/>
            </a:endParaRPr>
          </a:p>
          <a:p>
            <a:pPr lvl="1"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mmon Project 8</a:t>
            </a:r>
            <a:endParaRPr b="0" lang="en-US" sz="4400" spc="-1" strike="noStrike">
              <a:solidFill>
                <a:srgbClr val="b7e7ff"/>
              </a:solidFill>
              <a:latin typeface="Arial"/>
            </a:endParaRPr>
          </a:p>
        </p:txBody>
      </p:sp>
      <p:sp>
        <p:nvSpPr>
          <p:cNvPr id="74" name="PlaceHolder 2"/>
          <p:cNvSpPr>
            <a:spLocks noGrp="1"/>
          </p:cNvSpPr>
          <p:nvPr>
            <p:ph/>
          </p:nvPr>
        </p:nvSpPr>
        <p:spPr>
          <a:xfrm>
            <a:off x="301680" y="1676160"/>
            <a:ext cx="8540640" cy="44226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 Development of educational materials for consumers about the specific decisions they will make about whether and to what extent to consent to participate in HIE</a:t>
            </a:r>
            <a:endParaRPr b="0" lang="en-US" sz="24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note: Development of consumer consent template for other states including options.  Also, the compilation of questions to be used in the development of consent policie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contact info: Ellen Flink, M.B.A., New York, emf02@health.state.ny.us</a:t>
            </a:r>
            <a:endParaRPr b="0" lang="en-US" sz="24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llaborative State Projects</a:t>
            </a: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8540640" cy="44226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Please note that the descriptions, goals and outcomes that follow may only partially represent the efforts and wealth of information for those states.  For full descriptions and questions, please contact the leads for each project or subject of interest.  Thank you!</a:t>
            </a:r>
            <a:r>
              <a:rPr b="1" lang="en-US" sz="3200" spc="-1" strike="noStrike">
                <a:solidFill>
                  <a:srgbClr val="ffcc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Colorado</a:t>
            </a:r>
            <a:endParaRPr b="0" lang="en-US" sz="4000" spc="-1" strike="noStrike">
              <a:solidFill>
                <a:srgbClr val="b7e7ff"/>
              </a:solidFill>
              <a:latin typeface="Arial"/>
            </a:endParaRPr>
          </a:p>
        </p:txBody>
      </p:sp>
      <p:sp>
        <p:nvSpPr>
          <p:cNvPr id="7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Goal: To educate consumers statewide, in particular the Latino and chronic care communities, and to increase awareness and acceptance of HIE.</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comes/tools: clearinghouse for consumer information on HIE, video presentation, development of physician champions, standardize communication tools for the state.</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Phyllis Albritton, Colorado, palbritton@pcubedpartners.c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Georgia</a:t>
            </a:r>
            <a:endParaRPr b="0" lang="en-US" sz="4000" spc="-1" strike="noStrike">
              <a:solidFill>
                <a:srgbClr val="b7e7ff"/>
              </a:solidFill>
              <a:latin typeface="Arial"/>
            </a:endParaRPr>
          </a:p>
        </p:txBody>
      </p:sp>
      <p:sp>
        <p:nvSpPr>
          <p:cNvPr id="8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Goal: To develop a marketing campaign to communicate standard messages to promote trust for HIT and HI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comes/tools: Creation of website for consumer privacy and security educational informatio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contact info: Alicia McCord-Estes, Georgia, aestes@dch.ga.go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Kansas</a:t>
            </a:r>
            <a:endParaRPr b="0" lang="en-US" sz="4000" spc="-1" strike="noStrike">
              <a:solidFill>
                <a:srgbClr val="b7e7ff"/>
              </a:solidFill>
              <a:latin typeface="Arial"/>
            </a:endParaRPr>
          </a:p>
        </p:txBody>
      </p:sp>
      <p:sp>
        <p:nvSpPr>
          <p:cNvPr id="8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Goal: Development of educational materials that raise awareness of HIE/HIT privacy and security issues for use by rural consumer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comes/tools: Development of a tool kit and communication/dissemination pla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contact info: Victoria Wangia, Ph.D., Kansas, vwangia@kumc.ed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MA Projects</a:t>
            </a:r>
            <a:endParaRPr b="0" lang="en-US" sz="4000" spc="-1" strike="noStrike">
              <a:solidFill>
                <a:srgbClr val="b7e7ff"/>
              </a:solidFill>
              <a:latin typeface="Arial"/>
            </a:endParaRPr>
          </a:p>
        </p:txBody>
      </p:sp>
      <p:sp>
        <p:nvSpPr>
          <p:cNvPr id="84" name="PlaceHolder 2"/>
          <p:cNvSpPr>
            <a:spLocks noGrp="1"/>
          </p:cNvSpPr>
          <p:nvPr>
            <p:ph/>
          </p:nvPr>
        </p:nvSpPr>
        <p:spPr>
          <a:xfrm>
            <a:off x="301680" y="1676160"/>
            <a:ext cx="8540640" cy="48006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Goal: To inform and educate consumers and behavioral health clinicians about HIE for sensitive information by using language and literacy appropriate materials.</a:t>
            </a:r>
            <a:endParaRPr b="0" lang="en-US" sz="24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comes/tools:</a:t>
            </a:r>
            <a:r>
              <a:rPr b="1" lang="en-US" sz="2000" spc="-1" strike="noStrike">
                <a:solidFill>
                  <a:srgbClr val="ffff66"/>
                </a:solidFill>
                <a:latin typeface="Arial"/>
              </a:rPr>
              <a:t> </a:t>
            </a:r>
            <a:r>
              <a:rPr b="0" lang="en-US" sz="2400" spc="-1" strike="noStrike">
                <a:solidFill>
                  <a:srgbClr val="ffffff"/>
                </a:solidFill>
                <a:latin typeface="Arial"/>
              </a:rPr>
              <a:t>Online, self-directed tutorial, web-based FAQs for sensitive information. Laws and regulations for sensitive information under federal and MA law. Video with subject matter expert panel (e.g., consumer, psychiatrist, primary care physician, pediatrician, and consumer advocate. Development of inventory of PHR choices with special attention to the capture and display of sensitive health information. Guidelines for choosing an appropriate PHR.</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contact info: Jerilyn Heinold, M.P.H., Massachusetts, jheinold@mahealthdata.or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New York</a:t>
            </a:r>
            <a:endParaRPr b="0" lang="en-US" sz="40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Goal: To help New Yorkers navigate the consent choices they will be required to make in order to participate in HIE.</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comes/tools: Inventory of consent materials including e-forms and brochures. Creation of decision-making paradigm for types of consent. Focus group testing of materials, dissemination and communication strategy development.</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Ellen Flink, M.B.A., New York, emf02@health.state.ny.u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Goals</a:t>
            </a:r>
            <a:endParaRPr b="0" lang="en-US" sz="4000" spc="-1" strike="noStrike">
              <a:solidFill>
                <a:srgbClr val="b7e7ff"/>
              </a:solidFill>
              <a:latin typeface="Arial"/>
            </a:endParaRPr>
          </a:p>
        </p:txBody>
      </p:sp>
      <p:sp>
        <p:nvSpPr>
          <p:cNvPr id="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s are informed about HIE and its progres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s are engaged in the HIE proces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s know what to expect and how to interact with developed/developing HIE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Oregon</a:t>
            </a:r>
            <a:endParaRPr b="0" lang="en-US" sz="4000" spc="-1" strike="noStrike">
              <a:solidFill>
                <a:srgbClr val="b7e7ff"/>
              </a:solidFill>
              <a:latin typeface="Arial"/>
            </a:endParaRPr>
          </a:p>
        </p:txBody>
      </p:sp>
      <p:sp>
        <p:nvSpPr>
          <p:cNvPr id="8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Goal: Develop discussion of privacy issues such as access, control, consent, and secondary uses to inform policies, laws, and business practices.</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comes/tools: Development of common vocabulary. Educational material supporting the existing documentary regarding perceptions of privacy. Creation of Town Hall type meetings to support educational efforts.</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Dawn Bonder, J.D., Oregon, dawn.bonder@state.or.u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Washington</a:t>
            </a:r>
            <a:endParaRPr b="0" lang="en-US" sz="40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Goal: To educate consumers about the consumer-centric health record banking (HRB) model.</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comes/tools: Identification of target audiences, core messages, communication strategies. Development and testing of toolkit.  Encouragement of consumer use of health record banking.</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Peggy Evans, Ph.D., Washington, PeggyE@qualishealth.or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West Virginia</a:t>
            </a:r>
            <a:endParaRPr b="0" lang="en-US" sz="4000" spc="-1" strike="noStrike">
              <a:solidFill>
                <a:srgbClr val="b7e7ff"/>
              </a:solidFill>
              <a:latin typeface="Arial"/>
            </a:endParaRPr>
          </a:p>
        </p:txBody>
      </p:sp>
      <p:sp>
        <p:nvSpPr>
          <p:cNvPr id="9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Goal: Education of seniors, chronic disease patients (diabetes) and rural populations with respect to HIE by using a statewide media campaign.</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comes/tools: Development of website to serve as a clearinghouse for consumer information on HIE and EMRs. Creation of billboards and broadcasts. Identification and encouragement of physician champions by creation of a toolkit for distribution by physicians as well as a video.</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contact info: Patricia Ruddick ,R.N., West Virginia, pruddick@wvmi.org</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Questions?</a:t>
            </a:r>
            <a:endParaRPr b="0" lang="en-US" sz="4400" spc="-1" strike="noStrike">
              <a:solidFill>
                <a:srgbClr val="b7e7ff"/>
              </a:solidFill>
              <a:latin typeface="Arial"/>
            </a:endParaRPr>
          </a:p>
        </p:txBody>
      </p:sp>
      <p:sp>
        <p:nvSpPr>
          <p:cNvPr id="94"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 you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ilyn W. Heinold, M.P.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ject Director, HISPC Education and Consumer Engagement Collaborat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cc00"/>
                </a:solidFill>
                <a:uFillTx/>
                <a:latin typeface="Arial"/>
                <a:hlinkClick r:id="rId1"/>
              </a:rPr>
              <a:t>jheinold@mahealthdata.or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781) 419-781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Collaborative Strategy </a:t>
            </a:r>
            <a:br>
              <a:rPr sz="4000"/>
            </a:br>
            <a:r>
              <a:rPr b="0" lang="en-US" sz="4000" spc="-1" strike="noStrike">
                <a:solidFill>
                  <a:srgbClr val="b7e7ff"/>
                </a:solidFill>
                <a:latin typeface="Arial"/>
              </a:rPr>
              <a:t>(points to consider)</a:t>
            </a:r>
            <a:endParaRPr b="0" lang="en-US" sz="4000" spc="-1" strike="noStrike">
              <a:solidFill>
                <a:srgbClr val="b7e7ff"/>
              </a:solidFill>
              <a:latin typeface="Arial"/>
            </a:endParaRPr>
          </a:p>
        </p:txBody>
      </p:sp>
      <p:sp>
        <p:nvSpPr>
          <p:cNvPr id="54"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questions guided the strateg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 we engage consume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we educate them about?</a:t>
            </a:r>
            <a:endParaRPr b="0" lang="en-US" sz="28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roads to realization of HIE initiatives but all rely on intimate knowledge of local populations</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f literacy and language considerations to allow better “connections” with target popul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llaborative Strategy</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strategy of our Collaborative is to advance each state along their current HIE trajectory as well as leverage the expertise and experience of participant states to create a central resource/tool center.</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Process</a:t>
            </a:r>
            <a:endParaRPr b="0" lang="en-US" sz="4000" spc="-1" strike="noStrike">
              <a:solidFill>
                <a:srgbClr val="b7e7ff"/>
              </a:solidFill>
              <a:latin typeface="Arial"/>
            </a:endParaRPr>
          </a:p>
        </p:txBody>
      </p:sp>
      <p:sp>
        <p:nvSpPr>
          <p:cNvPr id="5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states each with a set of state projects</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common projects</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on of inventory matrix of existing consumer education/engagement materials and resource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on of summary document on risks and benefits of HIE</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on of a summary document on FAQs about privacy and security in HIE</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 of a glossary/definitions of common HIE and HIT privacy and security term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on of two guides: </a:t>
            </a:r>
            <a:r>
              <a:rPr b="0" i="1" lang="en-US" sz="1800" spc="-1" strike="noStrike">
                <a:solidFill>
                  <a:srgbClr val="ffffff"/>
                </a:solidFill>
                <a:latin typeface="Arial"/>
              </a:rPr>
              <a:t>Patient Rights Under HIPAA </a:t>
            </a:r>
            <a:r>
              <a:rPr b="0" lang="en-US" sz="1800" spc="-1" strike="noStrike">
                <a:solidFill>
                  <a:srgbClr val="ffffff"/>
                </a:solidFill>
                <a:latin typeface="Arial"/>
              </a:rPr>
              <a:t>and </a:t>
            </a:r>
            <a:r>
              <a:rPr b="0" i="1" lang="en-US" sz="1800" spc="-1" strike="noStrike">
                <a:solidFill>
                  <a:srgbClr val="ffffff"/>
                </a:solidFill>
                <a:latin typeface="Arial"/>
              </a:rPr>
              <a:t>Tips to Protect Health Information</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on of guidelines for how to engage consumers in HIE</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ication of methods and resources by which states can have their educational materials translated into multiple languages and literacy level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 of educational materials for consumers about the specific decisions they will make about whether and to what extent to consent to participate in HIE.</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mmon Project 1</a:t>
            </a: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8540640" cy="442260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Creation of inventory matrix of existing consumer education/engagement materials and resources</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note: Items will include, for example, HIT architecture type, record type, media, language available, population description and size, analytics, cost and other items.</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Peggy Evans, Ph.D, Washington, PeggyE@qualishealth.org</a:t>
            </a:r>
            <a:endParaRPr b="0" lang="en-US" sz="2800" spc="-1" strike="noStrike">
              <a:solidFill>
                <a:srgbClr val="ffffff"/>
              </a:solidFill>
              <a:latin typeface="Arial"/>
            </a:endParaRPr>
          </a:p>
          <a:p>
            <a:pPr lvl="1"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mmon Project 2</a:t>
            </a:r>
            <a:endParaRPr b="0" lang="en-US" sz="4400" spc="-1" strike="noStrike">
              <a:solidFill>
                <a:srgbClr val="b7e7ff"/>
              </a:solidFill>
              <a:latin typeface="Arial"/>
            </a:endParaRPr>
          </a:p>
        </p:txBody>
      </p:sp>
      <p:sp>
        <p:nvSpPr>
          <p:cNvPr id="62" name="PlaceHolder 2"/>
          <p:cNvSpPr>
            <a:spLocks noGrp="1"/>
          </p:cNvSpPr>
          <p:nvPr>
            <p:ph/>
          </p:nvPr>
        </p:nvSpPr>
        <p:spPr>
          <a:xfrm>
            <a:off x="301680" y="1676160"/>
            <a:ext cx="8540640" cy="4422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Creation of summary document on risks and benefits of HIE</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note: Misunderstanding of how HIE is used will be addressed by describing risks and benefits of technological improvements to the health care system.</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Phyllis Albritton, Colorado, palbritton@pcubedpartners.com</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mmon Project 3</a:t>
            </a: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8540640" cy="44226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Creation of a summary document on FAQs about privacy and security in HIE</a:t>
            </a:r>
            <a:endParaRPr b="0" lang="en-US" sz="32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note: Collaborative states will submit FAQs specific to specialty/target populations in their states. Answers will be reviewed by legal experts, refined, and released.</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Jerilyn Heinold, M.P.H., Massachusetts, jheinold@mahealthdata.org</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mmon Project 4</a:t>
            </a:r>
            <a:endParaRPr b="0" lang="en-US" sz="4400" spc="-1" strike="noStrike">
              <a:solidFill>
                <a:srgbClr val="b7e7ff"/>
              </a:solidFill>
              <a:latin typeface="Arial"/>
            </a:endParaRPr>
          </a:p>
        </p:txBody>
      </p:sp>
      <p:sp>
        <p:nvSpPr>
          <p:cNvPr id="66" name="PlaceHolder 2"/>
          <p:cNvSpPr>
            <a:spLocks noGrp="1"/>
          </p:cNvSpPr>
          <p:nvPr>
            <p:ph/>
          </p:nvPr>
        </p:nvSpPr>
        <p:spPr>
          <a:xfrm>
            <a:off x="301680" y="1676160"/>
            <a:ext cx="8540640" cy="4422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velopment of a glossary/definitions of common HIE and HIT privacy and security term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note: Inclusion of existing glossaries and resources, removal of redundancies, selection of high priority/high need term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Victoria Wangia, Ph.D., Kansas, vwangia@kumc.edu</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8:41:39Z</dcterms:created>
  <dc:creator>***</dc:creator>
  <dc:description/>
  <dc:language>en-US</dc:language>
  <cp:lastModifiedBy>lsmall</cp:lastModifiedBy>
  <dcterms:modified xsi:type="dcterms:W3CDTF">2008-06-13T13:47:47Z</dcterms:modified>
  <cp:revision>93</cp:revision>
  <dc:subject/>
  <dc:title>Multi-state HISPC Education &amp; Consumer Engagement Collaborative: Update</dc:title>
</cp:coreProperties>
</file>