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124-C56E-46EA-B7D6-4643DDC2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CFC-37C8-4EAD-92E2-7CED336C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00F-5C37-4C3E-B4C3-01F8E262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8EB-28E9-4279-BE31-F9F496AA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0F80-23F5-4B9F-8A83-CA051F6E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436B-F77E-4265-823F-F821465E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61F8-1820-49F4-B8A6-261BA045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E5AD-431B-4FCA-8B85-297A3204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654D-373C-4E4C-9545-A41B8832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5850-1DC3-4238-A50A-5792A9A8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5A7D-60D1-4A8E-B9A5-056F104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147-0B0A-4FE9-8C20-4FF95390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9059-DB4D-4746-9C75-94EE9D6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6ECB-C435-43E4-B5B1-83E000F7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7073-C903-46BD-8093-BF25D97C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FF9-BB68-46A9-9652-50AA402B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55A7-EE40-401B-BB1A-E5A7F3A1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14D-58D0-44D8-8E3B-4190F148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DE6-0838-467F-8585-BA4E26C8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D0B-3D2A-4090-B8A3-3E36D376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14B-9D1B-4169-ACAB-08278E41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419-CF13-4BDD-84FC-622D014A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10A-A079-45CB-B830-65857BF3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3AA-BA4E-4AF9-AD0B-A139B0C7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99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99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99cc"/>
          </a:solidFill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181-FED0-49F0-893F-F5C471A54D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5CDB-2FDC-489B-9BBB-929274019C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99cc"/>
          </a:solidFill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0099cc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0099cc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str.gov/Trade_Development/Preference_Programs/GSP/Section_Index.html" TargetMode="External"/><Relationship Id="rId3" Type="http://schemas.openxmlformats.org/officeDocument/2006/relationships/hyperlink" Target="http://www.customs.gov/xp/cgov/import/" TargetMode="External"/><Relationship Id="rId4" Type="http://schemas.openxmlformats.org/officeDocument/2006/relationships/hyperlink" Target="https://forms.customs.gov/customsrf/getformharness.asp?formName=cf-7501-form.xft" TargetMode="External"/><Relationship Id="rId5" Type="http://schemas.openxmlformats.org/officeDocument/2006/relationships/hyperlink" Target="http://www.customs.treas.gov/xp/cgov/toolbox/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sitc.gov/tata/hts" TargetMode="External"/><Relationship Id="rId3" Type="http://schemas.openxmlformats.org/officeDocument/2006/relationships/hyperlink" Target="http://www.trade.gov/td/tic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ctad.org/Templates/Page.asp?intItemID=1418&amp;lang=1" TargetMode="External"/><Relationship Id="rId3" Type="http://schemas.openxmlformats.org/officeDocument/2006/relationships/hyperlink" Target="http://www.unctad.org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0010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panding Ukraine’s Export Opportunities through GSP  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ice of the U.S. Trade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y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848720" y="5562720"/>
            <a:ext cx="102852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409760" cy="939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Obverse Side of the Great Seal"/>
          <p:cNvPicPr/>
          <p:nvPr/>
        </p:nvPicPr>
        <p:blipFill>
          <a:blip r:embed="rId4"/>
          <a:stretch/>
        </p:blipFill>
        <p:spPr>
          <a:xfrm>
            <a:off x="7848720" y="426708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kraine’s GSP Exports to the U.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Jan 23-Feb 28, 2006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gments &amp; preparations based on titanium dioxide (6% tariff), HTS 3206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colate and other cocoa preparations for wholesale use (6%), HTS 180690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worked human hair and human hair waste (1.4%), HTS 05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ords, bayonets and similar arms, sheaths, and scabbards (2.7%), HTS 93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rtain ready-to-eat sugar confections or sweetmeats - not of cocoa (5.6%), HTS 170490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threaded iron and steel articles - rivets, washers (2.8%), HTS 73182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getables preserved by vinegar or acetic acid (9.6%), HTS 2001903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A99-4F8F-4314-A1AE-BA79C25B27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ow to Increase Imports from Ukraine That Enter U.S. Duty-free Under GSP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  Ensure that GSP treatment is claimed for  eligible products currently imported from Ukra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  Identify GSP-eligible products that Ukraine is exporting to other markets and consider exporting them to the U.S. duty-fre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.  Export eligible products under other countries’ GSP progra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B0F-9D01-422D-B442-9BD53219D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Produ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823760"/>
            <a:ext cx="80010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$11.5 million in GSP-eligible products that U.S. imported from Ukraine between Jan. 23-Feb. 28, 2006, just $122,800 of those imports received GSP duty-free treatment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SP utilization rate, therefore, for initial period of Ukraine’s restored GSP eligibility was very low (1.1 percent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45B-83C9-4BEA-BA31-C735DC85B2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Produ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so - for all but one of the products that received GSP duty-free treatment, not all of the products’ shipments entered duty-free under GSP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xample, more than half ($112,000) of GSP-eligible titanium dioxide pigment and preparation imports were assessed 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% tariff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s’ cost to U.S. user was $6,720 more than it could have been, or the exports’ revenue to producer was $6,720 l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34B-C1E9-47C4-BEC5-12734935EF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Produ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uary-February imports charged tariffs that were likely duty-free under GSP included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4 million in radial tires of construction or industrial vehicles and machines @ 4% tariff =$160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3.3 million in railway/tramway locomotives or cars @ 0.4% tariff=$132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747,000 in rare gases (not argon) @ 3.7% tariff = $27,63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285,000 in certain gallium and gallium powders @ 3% tariff =$8,550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269,000 in sports gloves and mittens @ 2.8% tariff = $7,53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BE3-7992-470C-90FF-3DCCFCB330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SP-eligible Products Not Claim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87,000 in boron carbine @ 3.7% =$6,919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80,000 in downhill snow skis @ 2.6% tariff =$4,68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31,600 in inflatable pleasure or sports vessels @ 2.4% tariff = $3,15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16,000 in coloring matter of vegetable or animal origin @ 3.1% tariff =  $3,59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13,800 in optical telescopes @ 8% tariff =$9,104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10,000 in titanium oxides @ 5.5% tariff =$6,05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13D-A119-43F9-8FAF-F6BFAD832B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Produ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6 categories of GSP-eligible imports (11.3 million) paid tariffs in Jan-Feb. Why?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ipments could have already occurr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has b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ive ye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ince Ukraine’s exports have been eligible for GSP duty-free preferences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kraine’s utilization of GSP will improve. Ways to do so include…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313-1A90-4EC6-92B6-E51C8AA5DE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Expo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339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late GSP information into Ukrainian. Put both versions on government’s web-portal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t word out about GSP to Ukraine’s producers, manufacturers, and business/industry associ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ve exporters ensure that their importers mark the customs form correct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ld GSP seminars in key c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66E-E651-4057-B99D-840CC834A0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ek GSP Duty-Free Treatment for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Exports to the United Sta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ntify GSP-eligible products that Ukraine exports to other market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EU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OECD countri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der exporting them duty-free to the U.S. under GSP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A60-919E-4171-B8C2-FAA25AECB4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tilize the Benefits of Other Countries’ GSP Program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strali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laru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lgari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zech Republ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on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uropean Un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p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 Zeal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rwa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ussian Feder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vak Republic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witzerl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rkey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06B-238E-4A61-96C0-E63DD74A8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ay’s Discu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08240" y="1966680"/>
            <a:ext cx="6889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7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Ukraine’s current exports to the United States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Ukraine and the U.S. Generalized System of Preferences (GSP) Program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ow to increase Ukraine’s use of GSP duty-free opportunities  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B5A-CAE0-4764-8B59-6DCC77EF0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Further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fice of the U.S. Trade Representative Websit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SP guidebook and lists of GSP eligible an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t eligible product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cc"/>
                </a:solidFill>
                <a:uFillTx/>
                <a:latin typeface="Verdana"/>
                <a:hlinkClick r:id="rId2"/>
              </a:rPr>
              <a:t>http://www.ustr.gov/Trade_Development/Preference_Programs/GSP/Section_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artment of Homeland Security: Customs &amp; Border Protection:        </a:t>
            </a:r>
            <a:r>
              <a:rPr b="0" lang="en-US" sz="2100" spc="-1" strike="noStrike" u="sng">
                <a:solidFill>
                  <a:srgbClr val="0099cc"/>
                </a:solidFill>
                <a:uFillTx/>
                <a:latin typeface="Verdana"/>
                <a:hlinkClick r:id="rId3"/>
              </a:rPr>
              <a:t>http://www.customs.gov/xp/cgov/import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S FORM 7501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99cc"/>
                </a:solidFill>
                <a:uFillTx/>
                <a:latin typeface="Verdana"/>
                <a:hlinkClick r:id="rId4"/>
              </a:rPr>
              <a:t>https://forms.customs.gov/customsrf/getformharness.asp?formName=cf-7501-form.x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cc"/>
                </a:solidFill>
                <a:uFillTx/>
                <a:latin typeface="Verdana"/>
                <a:hlinkClick r:id="rId5"/>
              </a:rPr>
              <a:t>http://www.customs.treas.gov/xp/cgov/toolbox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99cc"/>
                </a:solidFill>
                <a:uFillTx/>
                <a:latin typeface="Verdana"/>
              </a:rPr>
              <a:t>publications</a:t>
            </a:r>
            <a:r>
              <a:rPr b="0" lang="en-US" sz="1800" spc="-1" strike="noStrike" u="sng">
                <a:solidFill>
                  <a:srgbClr val="0099cc"/>
                </a:solidFill>
                <a:uFillTx/>
                <a:latin typeface="Verdana"/>
              </a:rPr>
              <a:t>/</a:t>
            </a:r>
            <a:r>
              <a:rPr b="0" lang="en-US" sz="1800" spc="-1" strike="noStrike">
                <a:solidFill>
                  <a:srgbClr val="0099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F3F-D515-4A96-AF39-8C27564989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Further Informati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.S. Tariff Schedu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cc"/>
                </a:solidFill>
                <a:uFillTx/>
                <a:latin typeface="Verdana"/>
                <a:hlinkClick r:id="rId2"/>
              </a:rPr>
              <a:t>http://www.usitc.gov/tata/h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.S. Department of Commerce Trade Information Center: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cc"/>
                </a:solidFill>
                <a:uFillTx/>
                <a:latin typeface="Verdana"/>
                <a:hlinkClick r:id="rId3"/>
              </a:rPr>
              <a:t>http://www.trade.gov/td/tic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cc"/>
                </a:solidFill>
                <a:latin typeface="Verdana"/>
              </a:rPr>
              <a:t>email counseling: tic@ita.doc.gov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3F8-1AF2-4360-865F-7720A504B1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GSP Progra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cc"/>
                </a:solidFill>
                <a:uFillTx/>
                <a:latin typeface="Verdana"/>
                <a:hlinkClick r:id="rId2"/>
              </a:rPr>
              <a:t>http://www.unctad.org/Templates/Page.asp?intItemID=1418&amp;lang=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o to </a:t>
            </a:r>
            <a:r>
              <a:rPr b="0" lang="en-US" sz="3000" spc="-1" strike="noStrike" u="sng">
                <a:solidFill>
                  <a:srgbClr val="0099cc"/>
                </a:solidFill>
                <a:uFillTx/>
                <a:latin typeface="Verdana"/>
                <a:hlinkClick r:id="rId3"/>
              </a:rPr>
              <a:t>http://www.unctad.org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and type in “GSP” in the search window in the top right corner of the home pa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371600" y="533412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Obverse Side of the Great Seal"/>
          <p:cNvPicPr/>
          <p:nvPr/>
        </p:nvPicPr>
        <p:blipFill>
          <a:blip r:embed="rId5"/>
          <a:stretch/>
        </p:blipFill>
        <p:spPr>
          <a:xfrm>
            <a:off x="655308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809880" y="5486400"/>
            <a:ext cx="160020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4B5-7599-43FA-8325-67D1635715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kraine’s Top Exports to the U.S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by value in 200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hydrous ammonia (fertilize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semifinished products of iron or nonalloy ste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nonalloy pig ir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ke &amp; semicoke of coal, lignite or pe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hot-rolled flat-rolled iron/nonalloy steel produ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iron or nonalloy steel, seamless casing pi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alloy and iron/nonalloy steel bars and ro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rea &amp; ammonium nitrate mixtu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distillate &amp; residual fue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men’s or girls’ overcoats of wool or fine animal ha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B80-CBF2-4592-AB1A-D3002A223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kraine and the U.S. GSP Progra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kraine was redesignated as a GSP beneficiary country on January 23,  2006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at does that mean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kraine can export 3,400 products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duty-fr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the United Stat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SP duty-free treatment gives certain exports from Ukraine a competitive edge in the U.S. market because importing companies do not pay tariffs of between 1% and 16% (for current exports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94A-E517-4418-A7F0-59B80949FC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.S. Generalized System of Preferences (GSP) Progr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934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s economic opportunities in developing countries and expands choices of U.S.  industries and consu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duty-free treatment for 3,400 products from 136 developing count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26.7 billion in U.S. GSP imports in 2005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llowed are most textiles, watches, footwear, handbags, luggage, gloves &amp; leather appar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SP program expires December 31, 2006.  President Bush has requested a five-year reauthoriz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F33-FDC8-4410-96C8-C8C90D2B7A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Products from Ukraine Qualify for Duty-free Treatment under GSP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07880" y="1752480"/>
            <a:ext cx="6738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0099cc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t be a GSP-eligible product noted as “A” or “A*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51"/>
              </a:spcBef>
              <a:buClr>
                <a:srgbClr val="0099cc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t be imported into the U.S. directly from Ukraine or pass through another country in a sealed containe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51"/>
              </a:spcBef>
              <a:buClr>
                <a:srgbClr val="0099cc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t be growth, product, or manufacture of Ukrai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614-BF6B-45ED-ADB6-F814A9A29C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Products from Ukraine Qualify for Duty-free Treatment under GSP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First GSP value-added requirement (“Rule of Origin”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m of the cost or value of the materials produced in Ukraine, plus the direct costs of processing, must equal at least 35% of the product’s value when the product is sold for export into the United Stat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74C-E127-4AA8-80FB-01067B71B7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Products from Ukraine Qualify for Duty-free Treatment under GSP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cc"/>
                </a:solidFill>
                <a:latin typeface="Verdana"/>
              </a:rPr>
              <a:t>5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GSP value-added requirement (“Rule of Origin”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orted materials can count toward 35% value-added requirement.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BUT, they must be “substantially transformed” in Ukraine into new and different constituent materials, which are then used to produce or manufacture the eligible article to be exported.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bstantially transformed” means the U.S. would classify them as different items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8D1-42A5-450E-B532-B7AC82D867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taining Duty-free Treatment for Your Product under GSP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cc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It is important for the manufacturer or producer to know (and ensure that the importer knows)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porter must request the product’s duty-free treatment under GSP by placing an “A” or “A*” before the HTSUS number on form 7501, which is U.S. Customs’ shipment entry documentation 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B56-F2E4-4CBA-B7AE-2C88D1740F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4:43:01Z</dcterms:created>
  <dc:creator>sandler_m</dc:creator>
  <dc:description/>
  <dc:language>en-US</dc:language>
  <cp:lastModifiedBy>kravchenkoS</cp:lastModifiedBy>
  <dcterms:modified xsi:type="dcterms:W3CDTF">2006-07-07T07:51:50Z</dcterms:modified>
  <cp:revision>174</cp:revision>
  <dc:subject/>
  <dc:title>Iraq’s Export Opportunities including under the U.S. Generalized System of Preferences (GSP)</dc:title>
</cp:coreProperties>
</file>