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9.wmf" ContentType="image/x-wmf"/>
  <Override PartName="/ppt/media/image23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25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3.png" ContentType="image/png"/>
  <Override PartName="/ppt/media/image11.wmf" ContentType="image/x-wmf"/>
  <Override PartName="/ppt/media/image4.wmf" ContentType="image/x-wmf"/>
  <Override PartName="/ppt/media/image2.wmf" ContentType="image/x-wmf"/>
  <Override PartName="/ppt/media/image28.png" ContentType="image/png"/>
  <Override PartName="/ppt/media/image31.wmf" ContentType="image/x-wmf"/>
  <Override PartName="/ppt/media/image1.wmf" ContentType="image/x-wmf"/>
  <Override PartName="/ppt/media/image24.wmf" ContentType="image/x-wmf"/>
  <Override PartName="/ppt/media/image15.wmf" ContentType="image/x-wmf"/>
  <Override PartName="/ppt/media/image16.png" ContentType="image/png"/>
  <Override PartName="/ppt/media/image17.wmf" ContentType="image/x-wmf"/>
  <Override PartName="/ppt/media/image18.wmf" ContentType="image/x-wmf"/>
  <Override PartName="/ppt/media/image20.wmf" ContentType="image/x-wmf"/>
  <Override PartName="/ppt/media/image26.jpeg" ContentType="image/jpeg"/>
  <Override PartName="/ppt/media/image21.wmf" ContentType="image/x-wmf"/>
  <Override PartName="/ppt/media/image19.png" ContentType="image/png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7857-3366-4EA7-9A2D-3081AE2FC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1093-0F70-49A4-A2AF-F060A2E1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F535-5A6F-4744-AE83-DE56CF47F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62EC-6A4A-487E-880C-222503DEA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7328-5AAF-4A9D-BE74-8BBC921B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3586-B163-45A7-A5A3-05D9046F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0B84-D110-42D3-B86C-DEAE3692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8EC2-1417-421B-AA55-105FC1A9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FBB6-1E24-4C42-A875-3C2F44E5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803A-1C74-4BEC-B6BC-E96E69EE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768C-D42F-4498-BB9B-3FA9232A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F3FD-DCE1-48E7-A6F5-1B1DB415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4320" y="64576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339966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95AE-4F6E-42ED-A1D5-A8F53C1B9F2C}" type="slidenum">
              <a:rPr b="0" lang="en-US" sz="1800" spc="-1" strike="noStrike">
                <a:solidFill>
                  <a:srgbClr val="339966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wmf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wmf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2800440"/>
            <a:ext cx="495324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ndreas Albrecht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UC Dav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PS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hiladelphia, April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14440" y="0"/>
            <a:ext cx="5829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412920"/>
            <a:ext cx="7086600" cy="1068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smic acceleration and fundamental phys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6A59-B815-472F-AC1B-DAFCFE9E415D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228600"/>
            <a:ext cx="7772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Why 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If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the source of acceleration is some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dynamical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matter (“quintessence”), then it has to acquire the val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93720" y="1981080"/>
          <a:ext cx="4373640" cy="7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981080"/>
                    <a:ext cx="4373640" cy="7686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327672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32004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today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(</a:t>
            </a: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t=14.5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Gyr). (not some other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rcRect l="0" t="7466" r="0" b="49281"/>
          <a:stretch/>
        </p:blipFill>
        <p:spPr>
          <a:xfrm>
            <a:off x="1143000" y="3657600"/>
            <a:ext cx="6248520" cy="259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4038480" y="3657600"/>
          <a:ext cx="747720" cy="519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38480" y="3657600"/>
                    <a:ext cx="7477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 flipH="1">
            <a:off x="3819240" y="4038480"/>
            <a:ext cx="212760" cy="60984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410080" y="3581280"/>
          <a:ext cx="824040" cy="519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10080" y="3581280"/>
                    <a:ext cx="82404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 flipH="1">
            <a:off x="5300280" y="4038480"/>
            <a:ext cx="212760" cy="60984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238880" y="3733920"/>
          <a:ext cx="747720" cy="581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238880" y="3733920"/>
                    <a:ext cx="74772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 flipH="1">
            <a:off x="6393960" y="4038480"/>
            <a:ext cx="830520" cy="533520"/>
          </a:xfrm>
          <a:prstGeom prst="line">
            <a:avLst/>
          </a:prstGeom>
          <a:ln w="572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6095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4022640"/>
            <a:ext cx="76320" cy="230184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59436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Comic Sans MS"/>
              </a:rPr>
              <a:t>Time </a:t>
            </a:r>
            <a:r>
              <a:rPr b="0" i="1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6477120"/>
            <a:ext cx="96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I.2T he “why this/why now”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A0E2-E00D-45D4-9402-8C68B8C9B1F8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95280" y="1600200"/>
            <a:ext cx="7162920" cy="4572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228600"/>
            <a:ext cx="77724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hallenges for models of cosmic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1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The cosmological constant problem / links to fundamental grav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2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The “why this/why now”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3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Quantum corrections/long range fo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5535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I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838080" y="2879640"/>
            <a:ext cx="8001000" cy="1989000"/>
            <a:chOff x="838080" y="2879640"/>
            <a:chExt cx="8001000" cy="1989000"/>
          </a:xfrm>
        </p:grpSpPr>
        <p:sp>
          <p:nvSpPr>
            <p:cNvPr id="131" name=""/>
            <p:cNvSpPr/>
            <p:nvPr/>
          </p:nvSpPr>
          <p:spPr>
            <a:xfrm>
              <a:off x="838080" y="2879640"/>
              <a:ext cx="8001000" cy="19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0000"/>
                  </a:solidFill>
                  <a:uFillTx/>
                  <a:latin typeface="Comic Sans MS"/>
                </a:rPr>
                <a:t>II) </a:t>
              </a:r>
              <a:r>
                <a:rPr b="0" lang="en-US" sz="2400" spc="-1" strike="noStrike" u="sng">
                  <a:solidFill>
                    <a:srgbClr val="333399"/>
                  </a:solidFill>
                  <a:uFillTx/>
                  <a:latin typeface="Comic Sans MS"/>
                </a:rPr>
                <a:t>Exciting Dir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1 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The quantum physics of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2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 (adventure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3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I (getting seriou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2" name=""/>
            <p:cNvGraphicFramePr/>
            <p:nvPr/>
          </p:nvGraphicFramePr>
          <p:xfrm>
            <a:off x="5059440" y="3398760"/>
            <a:ext cx="350640" cy="380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59440" y="3398760"/>
                      <a:ext cx="3506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4" name=""/>
          <p:cNvSpPr/>
          <p:nvPr/>
        </p:nvSpPr>
        <p:spPr>
          <a:xfrm>
            <a:off x="0" y="646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Cosmic acceleration and fundamental physics,      APS April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66A5-0ACD-4004-8B7C-BC24FAC24AD7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95280" y="2133720"/>
            <a:ext cx="7162920" cy="4572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228600"/>
            <a:ext cx="77724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hallenges for models of cosmic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1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The cosmological constant problem / links to fundamental grav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2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The “why this/why now”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3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Quantum corrections/long range fo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5535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I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838080" y="2879640"/>
            <a:ext cx="8001000" cy="1989000"/>
            <a:chOff x="838080" y="2879640"/>
            <a:chExt cx="8001000" cy="1989000"/>
          </a:xfrm>
        </p:grpSpPr>
        <p:sp>
          <p:nvSpPr>
            <p:cNvPr id="140" name=""/>
            <p:cNvSpPr/>
            <p:nvPr/>
          </p:nvSpPr>
          <p:spPr>
            <a:xfrm>
              <a:off x="838080" y="2879640"/>
              <a:ext cx="8001000" cy="19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0000"/>
                  </a:solidFill>
                  <a:uFillTx/>
                  <a:latin typeface="Comic Sans MS"/>
                </a:rPr>
                <a:t>II) </a:t>
              </a:r>
              <a:r>
                <a:rPr b="0" lang="en-US" sz="2400" spc="-1" strike="noStrike" u="sng">
                  <a:solidFill>
                    <a:srgbClr val="333399"/>
                  </a:solidFill>
                  <a:uFillTx/>
                  <a:latin typeface="Comic Sans MS"/>
                </a:rPr>
                <a:t>Exciting Dir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1 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The quantum physics of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2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 (adventure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3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I (getting seriou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1" name=""/>
            <p:cNvGraphicFramePr/>
            <p:nvPr/>
          </p:nvGraphicFramePr>
          <p:xfrm>
            <a:off x="5059440" y="3398760"/>
            <a:ext cx="350640" cy="380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59440" y="3398760"/>
                      <a:ext cx="3506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3" name=""/>
          <p:cNvSpPr/>
          <p:nvPr/>
        </p:nvSpPr>
        <p:spPr>
          <a:xfrm>
            <a:off x="0" y="646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Cosmic acceleration and fundamental physics,      APS April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79A0-2518-4F17-9B12-C66B9F068E9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04920" y="6477120"/>
            <a:ext cx="96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I.3 Quantum corrections/long range fo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228600"/>
            <a:ext cx="7848720" cy="52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f the acceleration is produce by a scalar field (quintessenc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)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The quintessence field must have a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How can this value stay safe from quantum correc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124080" y="2514600"/>
          <a:ext cx="1981440" cy="58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514600"/>
                    <a:ext cx="1981440" cy="5824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6B0B-1BBA-4330-A297-371606471254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228600"/>
            <a:ext cx="7848720" cy="43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f the acceleration is produce by a scalar field (quintessenc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i)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If such a small mass is preserved, there is a new long range force mediated by the quintessence fiel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How can 5</a:t>
            </a:r>
            <a:r>
              <a:rPr b="0" lang="en-US" sz="2400" spc="-1" strike="noStrike" baseline="30000">
                <a:solidFill>
                  <a:srgbClr val="333399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force bounds be evad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(Carro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spcBef>
                <a:spcPts val="15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6477120"/>
            <a:ext cx="96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I.3 Quantum corrections/long range fo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87F9-8150-4C6D-AD9F-CB33BB0D22E7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95280" y="2133720"/>
            <a:ext cx="7162920" cy="4572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228600"/>
            <a:ext cx="77724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hallenges for models of cosmic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1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The cosmological constant problem / links to fundamental grav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2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The “why this/why now”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3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Quantum corrections/long range fo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5535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I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838080" y="2879640"/>
            <a:ext cx="8001000" cy="1989000"/>
            <a:chOff x="838080" y="2879640"/>
            <a:chExt cx="8001000" cy="1989000"/>
          </a:xfrm>
        </p:grpSpPr>
        <p:sp>
          <p:nvSpPr>
            <p:cNvPr id="157" name=""/>
            <p:cNvSpPr/>
            <p:nvPr/>
          </p:nvSpPr>
          <p:spPr>
            <a:xfrm>
              <a:off x="838080" y="2879640"/>
              <a:ext cx="8001000" cy="19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0000"/>
                  </a:solidFill>
                  <a:uFillTx/>
                  <a:latin typeface="Comic Sans MS"/>
                </a:rPr>
                <a:t>II) </a:t>
              </a:r>
              <a:r>
                <a:rPr b="0" lang="en-US" sz="2400" spc="-1" strike="noStrike" u="sng">
                  <a:solidFill>
                    <a:srgbClr val="333399"/>
                  </a:solidFill>
                  <a:uFillTx/>
                  <a:latin typeface="Comic Sans MS"/>
                </a:rPr>
                <a:t>Exciting Dir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1 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The quantum physics of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2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 (adventure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3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I (getting seriou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8" name=""/>
            <p:cNvGraphicFramePr/>
            <p:nvPr/>
          </p:nvGraphicFramePr>
          <p:xfrm>
            <a:off x="5059440" y="3398760"/>
            <a:ext cx="350640" cy="380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59440" y="3398760"/>
                      <a:ext cx="3506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0" name=""/>
          <p:cNvSpPr/>
          <p:nvPr/>
        </p:nvSpPr>
        <p:spPr>
          <a:xfrm>
            <a:off x="0" y="646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Cosmic acceleration and fundamental physics,      APS April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71EC-28C2-4F7D-B565-EF0064C05126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95280" y="3429000"/>
            <a:ext cx="7162920" cy="4572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228600"/>
            <a:ext cx="77724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hallenges for models of cosmic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1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The cosmological constant problem / links to fundamental grav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2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The “why this/why now”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3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Quantum corrections/long range fo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5535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I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838080" y="2895480"/>
            <a:ext cx="8001000" cy="1989000"/>
            <a:chOff x="838080" y="2895480"/>
            <a:chExt cx="8001000" cy="1989000"/>
          </a:xfrm>
        </p:grpSpPr>
        <p:sp>
          <p:nvSpPr>
            <p:cNvPr id="166" name=""/>
            <p:cNvSpPr/>
            <p:nvPr/>
          </p:nvSpPr>
          <p:spPr>
            <a:xfrm>
              <a:off x="838080" y="2895480"/>
              <a:ext cx="8001000" cy="19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0000"/>
                  </a:solidFill>
                  <a:uFillTx/>
                  <a:latin typeface="Comic Sans MS"/>
                </a:rPr>
                <a:t>II) </a:t>
              </a:r>
              <a:r>
                <a:rPr b="0" lang="en-US" sz="2400" spc="-1" strike="noStrike" u="sng">
                  <a:solidFill>
                    <a:srgbClr val="333399"/>
                  </a:solidFill>
                  <a:uFillTx/>
                  <a:latin typeface="Comic Sans MS"/>
                </a:rPr>
                <a:t>Exciting Dir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1 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The quantum physics of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2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 (adventure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3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I (getting seriou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7" name=""/>
            <p:cNvGraphicFramePr/>
            <p:nvPr/>
          </p:nvGraphicFramePr>
          <p:xfrm>
            <a:off x="5059440" y="3414600"/>
            <a:ext cx="350640" cy="380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59440" y="3414600"/>
                      <a:ext cx="3506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9" name=""/>
          <p:cNvSpPr/>
          <p:nvPr/>
        </p:nvSpPr>
        <p:spPr>
          <a:xfrm>
            <a:off x="0" y="646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Cosmic acceleration and fundamental physics,      APS April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A930-B372-4278-A7D4-CB5821510F9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514600" y="304920"/>
            <a:ext cx="4648320" cy="4597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a)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The entropy bou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219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f there really is a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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the late-time asymptotic state of the universe will have a horizon with ar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3139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his implies a Hawking-Beckenstein type upper bound on the entrop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47401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re we then compelled to only consider only models of physics with a finite dimensional Hilbert space?  (Excludes field theory, M-theory, SHO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676680" y="2390760"/>
          <a:ext cx="342720" cy="37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76680" y="2390760"/>
                    <a:ext cx="342720" cy="370080"/>
                  </a:xfrm>
                  <a:prstGeom prst="rect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4048200" y="3657600"/>
          <a:ext cx="4046400" cy="8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48200" y="3657600"/>
                    <a:ext cx="4046400" cy="884160"/>
                  </a:xfrm>
                  <a:prstGeom prst="rect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7315200" y="585144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Comic Sans MS"/>
                <a:ea typeface="Times New Roman"/>
              </a:rPr>
              <a:t>T. Banks &amp; W. Fisch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6477120"/>
            <a:ext cx="96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II.1 The quantum physic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267080" y="6477120"/>
          <a:ext cx="35100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6477120"/>
                    <a:ext cx="3510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A085-DD44-4AB6-95BD-67EE007B7546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209680" y="304920"/>
            <a:ext cx="5181840" cy="4597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b)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Holography &amp; the Causal P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990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wo basic facts about de Sitter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6477120"/>
            <a:ext cx="96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II.1 The quantum physic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267080" y="6477120"/>
          <a:ext cx="35100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6477120"/>
                    <a:ext cx="3510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0" name=""/>
          <p:cNvGrpSpPr/>
          <p:nvPr/>
        </p:nvGrpSpPr>
        <p:grpSpPr>
          <a:xfrm>
            <a:off x="1250640" y="2286000"/>
            <a:ext cx="1983240" cy="3048120"/>
            <a:chOff x="1250640" y="2286000"/>
            <a:chExt cx="1983240" cy="3048120"/>
          </a:xfrm>
        </p:grpSpPr>
        <p:grpSp>
          <p:nvGrpSpPr>
            <p:cNvPr id="191" name=""/>
            <p:cNvGrpSpPr/>
            <p:nvPr/>
          </p:nvGrpSpPr>
          <p:grpSpPr>
            <a:xfrm>
              <a:off x="1327320" y="2286000"/>
              <a:ext cx="506160" cy="3031920"/>
              <a:chOff x="1327320" y="2286000"/>
              <a:chExt cx="506160" cy="3031920"/>
            </a:xfrm>
          </p:grpSpPr>
          <p:sp>
            <p:nvSpPr>
              <p:cNvPr id="192" name=""/>
              <p:cNvSpPr/>
              <p:nvPr/>
            </p:nvSpPr>
            <p:spPr>
              <a:xfrm>
                <a:off x="1327320" y="2286000"/>
                <a:ext cx="506160" cy="1584360"/>
              </a:xfrm>
              <a:custGeom>
                <a:avLst/>
                <a:gdLst/>
                <a:ahLst/>
                <a:rect l="l" t="t" r="r" b="b"/>
                <a:pathLst>
                  <a:path w="319" h="998">
                    <a:moveTo>
                      <a:pt x="0" y="0"/>
                    </a:moveTo>
                    <a:cubicBezTo>
                      <a:pt x="72" y="128"/>
                      <a:pt x="142" y="267"/>
                      <a:pt x="192" y="384"/>
                    </a:cubicBezTo>
                    <a:cubicBezTo>
                      <a:pt x="242" y="501"/>
                      <a:pt x="277" y="599"/>
                      <a:pt x="298" y="701"/>
                    </a:cubicBezTo>
                    <a:cubicBezTo>
                      <a:pt x="319" y="803"/>
                      <a:pt x="313" y="936"/>
                      <a:pt x="317" y="998"/>
                    </a:cubicBezTo>
                  </a:path>
                </a:pathLst>
              </a:custGeom>
              <a:noFill/>
              <a:ln w="381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1327320" y="3733200"/>
                <a:ext cx="506160" cy="1584360"/>
              </a:xfrm>
              <a:custGeom>
                <a:avLst/>
                <a:gdLst/>
                <a:ahLst/>
                <a:rect l="l" t="t" r="r" b="b"/>
                <a:pathLst>
                  <a:path w="319" h="998">
                    <a:moveTo>
                      <a:pt x="0" y="0"/>
                    </a:moveTo>
                    <a:cubicBezTo>
                      <a:pt x="72" y="128"/>
                      <a:pt x="142" y="267"/>
                      <a:pt x="192" y="384"/>
                    </a:cubicBezTo>
                    <a:cubicBezTo>
                      <a:pt x="242" y="501"/>
                      <a:pt x="277" y="599"/>
                      <a:pt x="298" y="701"/>
                    </a:cubicBezTo>
                    <a:cubicBezTo>
                      <a:pt x="319" y="803"/>
                      <a:pt x="313" y="936"/>
                      <a:pt x="317" y="998"/>
                    </a:cubicBezTo>
                  </a:path>
                </a:pathLst>
              </a:custGeom>
              <a:noFill/>
              <a:ln w="381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1327320" y="2286000"/>
              <a:ext cx="837720" cy="3031920"/>
              <a:chOff x="1327320" y="2286000"/>
              <a:chExt cx="837720" cy="3031920"/>
            </a:xfrm>
          </p:grpSpPr>
          <p:sp>
            <p:nvSpPr>
              <p:cNvPr id="195" name=""/>
              <p:cNvSpPr/>
              <p:nvPr/>
            </p:nvSpPr>
            <p:spPr>
              <a:xfrm>
                <a:off x="1327320" y="2286000"/>
                <a:ext cx="837720" cy="1584360"/>
              </a:xfrm>
              <a:custGeom>
                <a:avLst/>
                <a:gdLst/>
                <a:ahLst/>
                <a:rect l="l" t="t" r="r" b="b"/>
                <a:pathLst>
                  <a:path w="319" h="998">
                    <a:moveTo>
                      <a:pt x="0" y="0"/>
                    </a:moveTo>
                    <a:cubicBezTo>
                      <a:pt x="72" y="128"/>
                      <a:pt x="142" y="267"/>
                      <a:pt x="192" y="384"/>
                    </a:cubicBezTo>
                    <a:cubicBezTo>
                      <a:pt x="242" y="501"/>
                      <a:pt x="277" y="599"/>
                      <a:pt x="298" y="701"/>
                    </a:cubicBezTo>
                    <a:cubicBezTo>
                      <a:pt x="319" y="803"/>
                      <a:pt x="313" y="936"/>
                      <a:pt x="317" y="998"/>
                    </a:cubicBezTo>
                  </a:path>
                </a:pathLst>
              </a:custGeom>
              <a:noFill/>
              <a:ln w="381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1327320" y="3733200"/>
                <a:ext cx="837720" cy="1584360"/>
              </a:xfrm>
              <a:custGeom>
                <a:avLst/>
                <a:gdLst/>
                <a:ahLst/>
                <a:rect l="l" t="t" r="r" b="b"/>
                <a:pathLst>
                  <a:path w="319" h="998">
                    <a:moveTo>
                      <a:pt x="0" y="0"/>
                    </a:moveTo>
                    <a:cubicBezTo>
                      <a:pt x="72" y="128"/>
                      <a:pt x="142" y="267"/>
                      <a:pt x="192" y="384"/>
                    </a:cubicBezTo>
                    <a:cubicBezTo>
                      <a:pt x="242" y="501"/>
                      <a:pt x="277" y="599"/>
                      <a:pt x="298" y="701"/>
                    </a:cubicBezTo>
                    <a:cubicBezTo>
                      <a:pt x="319" y="803"/>
                      <a:pt x="313" y="936"/>
                      <a:pt x="317" y="998"/>
                    </a:cubicBezTo>
                  </a:path>
                </a:pathLst>
              </a:custGeom>
              <a:noFill/>
              <a:ln w="381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1327320" y="2286000"/>
              <a:ext cx="1142280" cy="3031920"/>
              <a:chOff x="1327320" y="2286000"/>
              <a:chExt cx="1142280" cy="3031920"/>
            </a:xfrm>
          </p:grpSpPr>
          <p:sp>
            <p:nvSpPr>
              <p:cNvPr id="198" name=""/>
              <p:cNvSpPr/>
              <p:nvPr/>
            </p:nvSpPr>
            <p:spPr>
              <a:xfrm>
                <a:off x="1327320" y="2286000"/>
                <a:ext cx="1142280" cy="1584360"/>
              </a:xfrm>
              <a:custGeom>
                <a:avLst/>
                <a:gdLst/>
                <a:ahLst/>
                <a:rect l="l" t="t" r="r" b="b"/>
                <a:pathLst>
                  <a:path w="319" h="998">
                    <a:moveTo>
                      <a:pt x="0" y="0"/>
                    </a:moveTo>
                    <a:cubicBezTo>
                      <a:pt x="72" y="128"/>
                      <a:pt x="142" y="267"/>
                      <a:pt x="192" y="384"/>
                    </a:cubicBezTo>
                    <a:cubicBezTo>
                      <a:pt x="242" y="501"/>
                      <a:pt x="277" y="599"/>
                      <a:pt x="298" y="701"/>
                    </a:cubicBezTo>
                    <a:cubicBezTo>
                      <a:pt x="319" y="803"/>
                      <a:pt x="313" y="936"/>
                      <a:pt x="317" y="998"/>
                    </a:cubicBezTo>
                  </a:path>
                </a:pathLst>
              </a:custGeom>
              <a:noFill/>
              <a:ln w="381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V="1">
                <a:off x="1327320" y="3733200"/>
                <a:ext cx="1142280" cy="1584360"/>
              </a:xfrm>
              <a:custGeom>
                <a:avLst/>
                <a:gdLst/>
                <a:ahLst/>
                <a:rect l="l" t="t" r="r" b="b"/>
                <a:pathLst>
                  <a:path w="319" h="998">
                    <a:moveTo>
                      <a:pt x="0" y="0"/>
                    </a:moveTo>
                    <a:cubicBezTo>
                      <a:pt x="72" y="128"/>
                      <a:pt x="142" y="267"/>
                      <a:pt x="192" y="384"/>
                    </a:cubicBezTo>
                    <a:cubicBezTo>
                      <a:pt x="242" y="501"/>
                      <a:pt x="277" y="599"/>
                      <a:pt x="298" y="701"/>
                    </a:cubicBezTo>
                    <a:cubicBezTo>
                      <a:pt x="319" y="803"/>
                      <a:pt x="313" y="936"/>
                      <a:pt x="317" y="998"/>
                    </a:cubicBezTo>
                  </a:path>
                </a:pathLst>
              </a:custGeom>
              <a:noFill/>
              <a:ln w="381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1327320" y="2286000"/>
              <a:ext cx="0" cy="3048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1327320" y="3886200"/>
              <a:ext cx="1904760" cy="144792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27320" y="2286000"/>
              <a:ext cx="1904760" cy="160020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1250640" y="3886200"/>
              <a:ext cx="198108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311120" y="3429000"/>
              <a:ext cx="1890720" cy="473040"/>
            </a:xfrm>
            <a:custGeom>
              <a:avLst/>
              <a:gdLst/>
              <a:ahLst/>
              <a:rect l="l" t="t" r="r" b="b"/>
              <a:pathLst>
                <a:path w="1191" h="365">
                  <a:moveTo>
                    <a:pt x="1191" y="365"/>
                  </a:moveTo>
                  <a:cubicBezTo>
                    <a:pt x="1140" y="341"/>
                    <a:pt x="999" y="261"/>
                    <a:pt x="874" y="211"/>
                  </a:cubicBezTo>
                  <a:cubicBezTo>
                    <a:pt x="749" y="161"/>
                    <a:pt x="554" y="99"/>
                    <a:pt x="442" y="67"/>
                  </a:cubicBezTo>
                  <a:cubicBezTo>
                    <a:pt x="330" y="35"/>
                    <a:pt x="276" y="30"/>
                    <a:pt x="202" y="19"/>
                  </a:cubicBezTo>
                  <a:cubicBezTo>
                    <a:pt x="128" y="8"/>
                    <a:pt x="42" y="4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327320" y="2971800"/>
              <a:ext cx="1890720" cy="960480"/>
            </a:xfrm>
            <a:custGeom>
              <a:avLst/>
              <a:gdLst/>
              <a:ahLst/>
              <a:rect l="l" t="t" r="r" b="b"/>
              <a:pathLst>
                <a:path w="1191" h="365">
                  <a:moveTo>
                    <a:pt x="1191" y="365"/>
                  </a:moveTo>
                  <a:cubicBezTo>
                    <a:pt x="1140" y="341"/>
                    <a:pt x="999" y="261"/>
                    <a:pt x="874" y="211"/>
                  </a:cubicBezTo>
                  <a:cubicBezTo>
                    <a:pt x="749" y="161"/>
                    <a:pt x="554" y="99"/>
                    <a:pt x="442" y="67"/>
                  </a:cubicBezTo>
                  <a:cubicBezTo>
                    <a:pt x="330" y="35"/>
                    <a:pt x="276" y="30"/>
                    <a:pt x="202" y="19"/>
                  </a:cubicBezTo>
                  <a:cubicBezTo>
                    <a:pt x="128" y="8"/>
                    <a:pt x="42" y="4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1327320" y="3870360"/>
              <a:ext cx="1890720" cy="473040"/>
            </a:xfrm>
            <a:custGeom>
              <a:avLst/>
              <a:gdLst/>
              <a:ahLst/>
              <a:rect l="l" t="t" r="r" b="b"/>
              <a:pathLst>
                <a:path w="1191" h="365">
                  <a:moveTo>
                    <a:pt x="1191" y="365"/>
                  </a:moveTo>
                  <a:cubicBezTo>
                    <a:pt x="1140" y="341"/>
                    <a:pt x="999" y="261"/>
                    <a:pt x="874" y="211"/>
                  </a:cubicBezTo>
                  <a:cubicBezTo>
                    <a:pt x="749" y="161"/>
                    <a:pt x="554" y="99"/>
                    <a:pt x="442" y="67"/>
                  </a:cubicBezTo>
                  <a:cubicBezTo>
                    <a:pt x="330" y="35"/>
                    <a:pt x="276" y="30"/>
                    <a:pt x="202" y="19"/>
                  </a:cubicBezTo>
                  <a:cubicBezTo>
                    <a:pt x="128" y="8"/>
                    <a:pt x="42" y="4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1343160" y="3840120"/>
              <a:ext cx="1890720" cy="960480"/>
            </a:xfrm>
            <a:custGeom>
              <a:avLst/>
              <a:gdLst/>
              <a:ahLst/>
              <a:rect l="l" t="t" r="r" b="b"/>
              <a:pathLst>
                <a:path w="1191" h="365">
                  <a:moveTo>
                    <a:pt x="1191" y="365"/>
                  </a:moveTo>
                  <a:cubicBezTo>
                    <a:pt x="1140" y="341"/>
                    <a:pt x="999" y="261"/>
                    <a:pt x="874" y="211"/>
                  </a:cubicBezTo>
                  <a:cubicBezTo>
                    <a:pt x="749" y="161"/>
                    <a:pt x="554" y="99"/>
                    <a:pt x="442" y="67"/>
                  </a:cubicBezTo>
                  <a:cubicBezTo>
                    <a:pt x="330" y="35"/>
                    <a:pt x="276" y="30"/>
                    <a:pt x="202" y="19"/>
                  </a:cubicBezTo>
                  <a:cubicBezTo>
                    <a:pt x="128" y="8"/>
                    <a:pt x="42" y="4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 rot="16200000">
            <a:off x="16560" y="34884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r’s Worldlin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14600" y="1752480"/>
            <a:ext cx="266688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bjects never appear to leave the hori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580920" y="1752480"/>
            <a:ext cx="2514600" cy="3353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7008840" y="2057400"/>
            <a:ext cx="506520" cy="3031920"/>
            <a:chOff x="7008840" y="2057400"/>
            <a:chExt cx="506520" cy="3031920"/>
          </a:xfrm>
        </p:grpSpPr>
        <p:sp>
          <p:nvSpPr>
            <p:cNvPr id="212" name=""/>
            <p:cNvSpPr/>
            <p:nvPr/>
          </p:nvSpPr>
          <p:spPr>
            <a:xfrm>
              <a:off x="7008840" y="2057400"/>
              <a:ext cx="506520" cy="1584360"/>
            </a:xfrm>
            <a:custGeom>
              <a:avLst/>
              <a:gdLst/>
              <a:ahLst/>
              <a:rect l="l" t="t" r="r" b="b"/>
              <a:pathLst>
                <a:path w="319" h="998">
                  <a:moveTo>
                    <a:pt x="0" y="0"/>
                  </a:moveTo>
                  <a:cubicBezTo>
                    <a:pt x="72" y="128"/>
                    <a:pt x="142" y="267"/>
                    <a:pt x="192" y="384"/>
                  </a:cubicBezTo>
                  <a:cubicBezTo>
                    <a:pt x="242" y="501"/>
                    <a:pt x="277" y="599"/>
                    <a:pt x="298" y="701"/>
                  </a:cubicBezTo>
                  <a:cubicBezTo>
                    <a:pt x="319" y="803"/>
                    <a:pt x="313" y="936"/>
                    <a:pt x="317" y="998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7008840" y="3504600"/>
              <a:ext cx="506520" cy="1584360"/>
            </a:xfrm>
            <a:custGeom>
              <a:avLst/>
              <a:gdLst/>
              <a:ahLst/>
              <a:rect l="l" t="t" r="r" b="b"/>
              <a:pathLst>
                <a:path w="319" h="998">
                  <a:moveTo>
                    <a:pt x="0" y="0"/>
                  </a:moveTo>
                  <a:cubicBezTo>
                    <a:pt x="72" y="128"/>
                    <a:pt x="142" y="267"/>
                    <a:pt x="192" y="384"/>
                  </a:cubicBezTo>
                  <a:cubicBezTo>
                    <a:pt x="242" y="501"/>
                    <a:pt x="277" y="599"/>
                    <a:pt x="298" y="701"/>
                  </a:cubicBezTo>
                  <a:cubicBezTo>
                    <a:pt x="319" y="803"/>
                    <a:pt x="313" y="936"/>
                    <a:pt x="317" y="998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7008840" y="2057400"/>
            <a:ext cx="837720" cy="3031920"/>
            <a:chOff x="7008840" y="2057400"/>
            <a:chExt cx="837720" cy="3031920"/>
          </a:xfrm>
        </p:grpSpPr>
        <p:sp>
          <p:nvSpPr>
            <p:cNvPr id="215" name=""/>
            <p:cNvSpPr/>
            <p:nvPr/>
          </p:nvSpPr>
          <p:spPr>
            <a:xfrm>
              <a:off x="7008840" y="2057400"/>
              <a:ext cx="837720" cy="1584360"/>
            </a:xfrm>
            <a:custGeom>
              <a:avLst/>
              <a:gdLst/>
              <a:ahLst/>
              <a:rect l="l" t="t" r="r" b="b"/>
              <a:pathLst>
                <a:path w="319" h="998">
                  <a:moveTo>
                    <a:pt x="0" y="0"/>
                  </a:moveTo>
                  <a:cubicBezTo>
                    <a:pt x="72" y="128"/>
                    <a:pt x="142" y="267"/>
                    <a:pt x="192" y="384"/>
                  </a:cubicBezTo>
                  <a:cubicBezTo>
                    <a:pt x="242" y="501"/>
                    <a:pt x="277" y="599"/>
                    <a:pt x="298" y="701"/>
                  </a:cubicBezTo>
                  <a:cubicBezTo>
                    <a:pt x="319" y="803"/>
                    <a:pt x="313" y="936"/>
                    <a:pt x="317" y="998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7008840" y="3504600"/>
              <a:ext cx="837720" cy="1584360"/>
            </a:xfrm>
            <a:custGeom>
              <a:avLst/>
              <a:gdLst/>
              <a:ahLst/>
              <a:rect l="l" t="t" r="r" b="b"/>
              <a:pathLst>
                <a:path w="319" h="998">
                  <a:moveTo>
                    <a:pt x="0" y="0"/>
                  </a:moveTo>
                  <a:cubicBezTo>
                    <a:pt x="72" y="128"/>
                    <a:pt x="142" y="267"/>
                    <a:pt x="192" y="384"/>
                  </a:cubicBezTo>
                  <a:cubicBezTo>
                    <a:pt x="242" y="501"/>
                    <a:pt x="277" y="599"/>
                    <a:pt x="298" y="701"/>
                  </a:cubicBezTo>
                  <a:cubicBezTo>
                    <a:pt x="319" y="803"/>
                    <a:pt x="313" y="936"/>
                    <a:pt x="317" y="998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7008840" y="2057400"/>
            <a:ext cx="1142280" cy="3031920"/>
            <a:chOff x="7008840" y="2057400"/>
            <a:chExt cx="1142280" cy="3031920"/>
          </a:xfrm>
        </p:grpSpPr>
        <p:sp>
          <p:nvSpPr>
            <p:cNvPr id="218" name=""/>
            <p:cNvSpPr/>
            <p:nvPr/>
          </p:nvSpPr>
          <p:spPr>
            <a:xfrm>
              <a:off x="7008840" y="2057400"/>
              <a:ext cx="1142280" cy="1584360"/>
            </a:xfrm>
            <a:custGeom>
              <a:avLst/>
              <a:gdLst/>
              <a:ahLst/>
              <a:rect l="l" t="t" r="r" b="b"/>
              <a:pathLst>
                <a:path w="319" h="998">
                  <a:moveTo>
                    <a:pt x="0" y="0"/>
                  </a:moveTo>
                  <a:cubicBezTo>
                    <a:pt x="72" y="128"/>
                    <a:pt x="142" y="267"/>
                    <a:pt x="192" y="384"/>
                  </a:cubicBezTo>
                  <a:cubicBezTo>
                    <a:pt x="242" y="501"/>
                    <a:pt x="277" y="599"/>
                    <a:pt x="298" y="701"/>
                  </a:cubicBezTo>
                  <a:cubicBezTo>
                    <a:pt x="319" y="803"/>
                    <a:pt x="313" y="936"/>
                    <a:pt x="317" y="998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7008840" y="3504600"/>
              <a:ext cx="1142280" cy="1584360"/>
            </a:xfrm>
            <a:custGeom>
              <a:avLst/>
              <a:gdLst/>
              <a:ahLst/>
              <a:rect l="l" t="t" r="r" b="b"/>
              <a:pathLst>
                <a:path w="319" h="998">
                  <a:moveTo>
                    <a:pt x="0" y="0"/>
                  </a:moveTo>
                  <a:cubicBezTo>
                    <a:pt x="72" y="128"/>
                    <a:pt x="142" y="267"/>
                    <a:pt x="192" y="384"/>
                  </a:cubicBezTo>
                  <a:cubicBezTo>
                    <a:pt x="242" y="501"/>
                    <a:pt x="277" y="599"/>
                    <a:pt x="298" y="701"/>
                  </a:cubicBezTo>
                  <a:cubicBezTo>
                    <a:pt x="319" y="803"/>
                    <a:pt x="313" y="936"/>
                    <a:pt x="317" y="998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7008840" y="205740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7008840" y="3657600"/>
            <a:ext cx="1905120" cy="1447920"/>
          </a:xfrm>
          <a:prstGeom prst="line">
            <a:avLst/>
          </a:prstGeom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08840" y="2057400"/>
            <a:ext cx="1905120" cy="1600200"/>
          </a:xfrm>
          <a:prstGeom prst="line">
            <a:avLst/>
          </a:prstGeom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6932520" y="3657600"/>
            <a:ext cx="198144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993000" y="3200400"/>
            <a:ext cx="1890720" cy="473040"/>
          </a:xfrm>
          <a:custGeom>
            <a:avLst/>
            <a:gdLst/>
            <a:ahLst/>
            <a:rect l="l" t="t" r="r" b="b"/>
            <a:pathLst>
              <a:path w="1191" h="365">
                <a:moveTo>
                  <a:pt x="1191" y="365"/>
                </a:moveTo>
                <a:cubicBezTo>
                  <a:pt x="1140" y="341"/>
                  <a:pt x="999" y="261"/>
                  <a:pt x="874" y="211"/>
                </a:cubicBezTo>
                <a:cubicBezTo>
                  <a:pt x="749" y="161"/>
                  <a:pt x="554" y="99"/>
                  <a:pt x="442" y="67"/>
                </a:cubicBezTo>
                <a:cubicBezTo>
                  <a:pt x="330" y="35"/>
                  <a:pt x="276" y="30"/>
                  <a:pt x="202" y="19"/>
                </a:cubicBezTo>
                <a:cubicBezTo>
                  <a:pt x="128" y="8"/>
                  <a:pt x="42" y="4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008840" y="2743200"/>
            <a:ext cx="1890720" cy="960480"/>
          </a:xfrm>
          <a:custGeom>
            <a:avLst/>
            <a:gdLst/>
            <a:ahLst/>
            <a:rect l="l" t="t" r="r" b="b"/>
            <a:pathLst>
              <a:path w="1191" h="365">
                <a:moveTo>
                  <a:pt x="1191" y="365"/>
                </a:moveTo>
                <a:cubicBezTo>
                  <a:pt x="1140" y="341"/>
                  <a:pt x="999" y="261"/>
                  <a:pt x="874" y="211"/>
                </a:cubicBezTo>
                <a:cubicBezTo>
                  <a:pt x="749" y="161"/>
                  <a:pt x="554" y="99"/>
                  <a:pt x="442" y="67"/>
                </a:cubicBezTo>
                <a:cubicBezTo>
                  <a:pt x="330" y="35"/>
                  <a:pt x="276" y="30"/>
                  <a:pt x="202" y="19"/>
                </a:cubicBezTo>
                <a:cubicBezTo>
                  <a:pt x="128" y="8"/>
                  <a:pt x="42" y="4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7008840" y="3641760"/>
            <a:ext cx="1890720" cy="473040"/>
          </a:xfrm>
          <a:custGeom>
            <a:avLst/>
            <a:gdLst/>
            <a:ahLst/>
            <a:rect l="l" t="t" r="r" b="b"/>
            <a:pathLst>
              <a:path w="1191" h="365">
                <a:moveTo>
                  <a:pt x="1191" y="365"/>
                </a:moveTo>
                <a:cubicBezTo>
                  <a:pt x="1140" y="341"/>
                  <a:pt x="999" y="261"/>
                  <a:pt x="874" y="211"/>
                </a:cubicBezTo>
                <a:cubicBezTo>
                  <a:pt x="749" y="161"/>
                  <a:pt x="554" y="99"/>
                  <a:pt x="442" y="67"/>
                </a:cubicBezTo>
                <a:cubicBezTo>
                  <a:pt x="330" y="35"/>
                  <a:pt x="276" y="30"/>
                  <a:pt x="202" y="19"/>
                </a:cubicBezTo>
                <a:cubicBezTo>
                  <a:pt x="128" y="8"/>
                  <a:pt x="42" y="4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7024680" y="3611520"/>
            <a:ext cx="1890720" cy="960480"/>
          </a:xfrm>
          <a:custGeom>
            <a:avLst/>
            <a:gdLst/>
            <a:ahLst/>
            <a:rect l="l" t="t" r="r" b="b"/>
            <a:pathLst>
              <a:path w="1191" h="365">
                <a:moveTo>
                  <a:pt x="1191" y="365"/>
                </a:moveTo>
                <a:cubicBezTo>
                  <a:pt x="1140" y="341"/>
                  <a:pt x="999" y="261"/>
                  <a:pt x="874" y="211"/>
                </a:cubicBezTo>
                <a:cubicBezTo>
                  <a:pt x="749" y="161"/>
                  <a:pt x="554" y="99"/>
                  <a:pt x="442" y="67"/>
                </a:cubicBezTo>
                <a:cubicBezTo>
                  <a:pt x="330" y="35"/>
                  <a:pt x="276" y="30"/>
                  <a:pt x="202" y="19"/>
                </a:cubicBezTo>
                <a:cubicBezTo>
                  <a:pt x="128" y="8"/>
                  <a:pt x="42" y="4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7027920" y="2057400"/>
            <a:ext cx="560160" cy="3035160"/>
            <a:chOff x="7027920" y="2057400"/>
            <a:chExt cx="560160" cy="3035160"/>
          </a:xfrm>
        </p:grpSpPr>
        <p:sp>
          <p:nvSpPr>
            <p:cNvPr id="229" name=""/>
            <p:cNvSpPr/>
            <p:nvPr/>
          </p:nvSpPr>
          <p:spPr>
            <a:xfrm>
              <a:off x="7066080" y="2057400"/>
              <a:ext cx="522000" cy="1585800"/>
            </a:xfrm>
            <a:custGeom>
              <a:avLst/>
              <a:gdLst/>
              <a:ahLst/>
              <a:rect l="l" t="t" r="r" b="b"/>
              <a:pathLst>
                <a:path w="329" h="999">
                  <a:moveTo>
                    <a:pt x="11" y="0"/>
                  </a:moveTo>
                  <a:cubicBezTo>
                    <a:pt x="13" y="26"/>
                    <a:pt x="0" y="111"/>
                    <a:pt x="22" y="159"/>
                  </a:cubicBezTo>
                  <a:cubicBezTo>
                    <a:pt x="44" y="207"/>
                    <a:pt x="121" y="237"/>
                    <a:pt x="143" y="290"/>
                  </a:cubicBezTo>
                  <a:cubicBezTo>
                    <a:pt x="165" y="343"/>
                    <a:pt x="132" y="427"/>
                    <a:pt x="152" y="475"/>
                  </a:cubicBezTo>
                  <a:cubicBezTo>
                    <a:pt x="172" y="523"/>
                    <a:pt x="248" y="525"/>
                    <a:pt x="263" y="578"/>
                  </a:cubicBezTo>
                  <a:cubicBezTo>
                    <a:pt x="278" y="631"/>
                    <a:pt x="231" y="738"/>
                    <a:pt x="241" y="794"/>
                  </a:cubicBezTo>
                  <a:cubicBezTo>
                    <a:pt x="251" y="850"/>
                    <a:pt x="319" y="881"/>
                    <a:pt x="324" y="915"/>
                  </a:cubicBezTo>
                  <a:cubicBezTo>
                    <a:pt x="329" y="949"/>
                    <a:pt x="280" y="982"/>
                    <a:pt x="268" y="999"/>
                  </a:cubicBezTo>
                </a:path>
              </a:pathLst>
            </a:custGeom>
            <a:noFill/>
            <a:ln w="38160">
              <a:solidFill>
                <a:srgbClr val="fd80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27920" y="3639960"/>
              <a:ext cx="496800" cy="1452600"/>
            </a:xfrm>
            <a:custGeom>
              <a:avLst/>
              <a:gdLst/>
              <a:ahLst/>
              <a:rect l="l" t="t" r="r" b="b"/>
              <a:pathLst>
                <a:path w="313" h="915">
                  <a:moveTo>
                    <a:pt x="0" y="915"/>
                  </a:moveTo>
                  <a:cubicBezTo>
                    <a:pt x="5" y="888"/>
                    <a:pt x="10" y="802"/>
                    <a:pt x="32" y="754"/>
                  </a:cubicBezTo>
                  <a:cubicBezTo>
                    <a:pt x="54" y="706"/>
                    <a:pt x="109" y="673"/>
                    <a:pt x="132" y="625"/>
                  </a:cubicBezTo>
                  <a:cubicBezTo>
                    <a:pt x="155" y="577"/>
                    <a:pt x="147" y="513"/>
                    <a:pt x="172" y="466"/>
                  </a:cubicBezTo>
                  <a:cubicBezTo>
                    <a:pt x="197" y="419"/>
                    <a:pt x="268" y="404"/>
                    <a:pt x="283" y="345"/>
                  </a:cubicBezTo>
                  <a:cubicBezTo>
                    <a:pt x="298" y="286"/>
                    <a:pt x="260" y="170"/>
                    <a:pt x="265" y="113"/>
                  </a:cubicBezTo>
                  <a:cubicBezTo>
                    <a:pt x="270" y="56"/>
                    <a:pt x="303" y="24"/>
                    <a:pt x="313" y="0"/>
                  </a:cubicBezTo>
                </a:path>
              </a:pathLst>
            </a:custGeom>
            <a:noFill/>
            <a:ln w="38160">
              <a:solidFill>
                <a:srgbClr val="fd80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7010280" y="2057400"/>
            <a:ext cx="152280" cy="3035160"/>
            <a:chOff x="7010280" y="2057400"/>
            <a:chExt cx="152280" cy="3035160"/>
          </a:xfrm>
        </p:grpSpPr>
        <p:sp>
          <p:nvSpPr>
            <p:cNvPr id="232" name=""/>
            <p:cNvSpPr/>
            <p:nvPr/>
          </p:nvSpPr>
          <p:spPr>
            <a:xfrm>
              <a:off x="7020360" y="2057400"/>
              <a:ext cx="142200" cy="1585800"/>
            </a:xfrm>
            <a:custGeom>
              <a:avLst/>
              <a:gdLst/>
              <a:ahLst/>
              <a:rect l="l" t="t" r="r" b="b"/>
              <a:pathLst>
                <a:path w="329" h="999">
                  <a:moveTo>
                    <a:pt x="11" y="0"/>
                  </a:moveTo>
                  <a:cubicBezTo>
                    <a:pt x="13" y="26"/>
                    <a:pt x="0" y="111"/>
                    <a:pt x="22" y="159"/>
                  </a:cubicBezTo>
                  <a:cubicBezTo>
                    <a:pt x="44" y="207"/>
                    <a:pt x="121" y="237"/>
                    <a:pt x="143" y="290"/>
                  </a:cubicBezTo>
                  <a:cubicBezTo>
                    <a:pt x="165" y="343"/>
                    <a:pt x="132" y="427"/>
                    <a:pt x="152" y="475"/>
                  </a:cubicBezTo>
                  <a:cubicBezTo>
                    <a:pt x="172" y="523"/>
                    <a:pt x="248" y="525"/>
                    <a:pt x="263" y="578"/>
                  </a:cubicBezTo>
                  <a:cubicBezTo>
                    <a:pt x="278" y="631"/>
                    <a:pt x="231" y="738"/>
                    <a:pt x="241" y="794"/>
                  </a:cubicBezTo>
                  <a:cubicBezTo>
                    <a:pt x="251" y="850"/>
                    <a:pt x="319" y="881"/>
                    <a:pt x="324" y="915"/>
                  </a:cubicBezTo>
                  <a:cubicBezTo>
                    <a:pt x="329" y="949"/>
                    <a:pt x="280" y="982"/>
                    <a:pt x="268" y="999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010280" y="3639960"/>
              <a:ext cx="135360" cy="1452600"/>
            </a:xfrm>
            <a:custGeom>
              <a:avLst/>
              <a:gdLst/>
              <a:ahLst/>
              <a:rect l="l" t="t" r="r" b="b"/>
              <a:pathLst>
                <a:path w="313" h="915">
                  <a:moveTo>
                    <a:pt x="0" y="915"/>
                  </a:moveTo>
                  <a:cubicBezTo>
                    <a:pt x="5" y="888"/>
                    <a:pt x="10" y="802"/>
                    <a:pt x="32" y="754"/>
                  </a:cubicBezTo>
                  <a:cubicBezTo>
                    <a:pt x="54" y="706"/>
                    <a:pt x="109" y="673"/>
                    <a:pt x="132" y="625"/>
                  </a:cubicBezTo>
                  <a:cubicBezTo>
                    <a:pt x="155" y="577"/>
                    <a:pt x="147" y="513"/>
                    <a:pt x="172" y="466"/>
                  </a:cubicBezTo>
                  <a:cubicBezTo>
                    <a:pt x="197" y="419"/>
                    <a:pt x="268" y="404"/>
                    <a:pt x="283" y="345"/>
                  </a:cubicBezTo>
                  <a:cubicBezTo>
                    <a:pt x="298" y="286"/>
                    <a:pt x="260" y="170"/>
                    <a:pt x="265" y="113"/>
                  </a:cubicBezTo>
                  <a:cubicBezTo>
                    <a:pt x="270" y="56"/>
                    <a:pt x="303" y="24"/>
                    <a:pt x="313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7010280" y="2057400"/>
            <a:ext cx="913680" cy="3035160"/>
            <a:chOff x="7010280" y="2057400"/>
            <a:chExt cx="913680" cy="3035160"/>
          </a:xfrm>
        </p:grpSpPr>
        <p:sp>
          <p:nvSpPr>
            <p:cNvPr id="235" name=""/>
            <p:cNvSpPr/>
            <p:nvPr/>
          </p:nvSpPr>
          <p:spPr>
            <a:xfrm>
              <a:off x="7072200" y="2057400"/>
              <a:ext cx="851760" cy="1585800"/>
            </a:xfrm>
            <a:custGeom>
              <a:avLst/>
              <a:gdLst/>
              <a:ahLst/>
              <a:rect l="l" t="t" r="r" b="b"/>
              <a:pathLst>
                <a:path w="329" h="999">
                  <a:moveTo>
                    <a:pt x="11" y="0"/>
                  </a:moveTo>
                  <a:cubicBezTo>
                    <a:pt x="13" y="26"/>
                    <a:pt x="0" y="111"/>
                    <a:pt x="22" y="159"/>
                  </a:cubicBezTo>
                  <a:cubicBezTo>
                    <a:pt x="44" y="207"/>
                    <a:pt x="121" y="237"/>
                    <a:pt x="143" y="290"/>
                  </a:cubicBezTo>
                  <a:cubicBezTo>
                    <a:pt x="165" y="343"/>
                    <a:pt x="132" y="427"/>
                    <a:pt x="152" y="475"/>
                  </a:cubicBezTo>
                  <a:cubicBezTo>
                    <a:pt x="172" y="523"/>
                    <a:pt x="248" y="525"/>
                    <a:pt x="263" y="578"/>
                  </a:cubicBezTo>
                  <a:cubicBezTo>
                    <a:pt x="278" y="631"/>
                    <a:pt x="231" y="738"/>
                    <a:pt x="241" y="794"/>
                  </a:cubicBezTo>
                  <a:cubicBezTo>
                    <a:pt x="251" y="850"/>
                    <a:pt x="319" y="881"/>
                    <a:pt x="324" y="915"/>
                  </a:cubicBezTo>
                  <a:cubicBezTo>
                    <a:pt x="329" y="949"/>
                    <a:pt x="280" y="982"/>
                    <a:pt x="268" y="999"/>
                  </a:cubicBezTo>
                </a:path>
              </a:pathLst>
            </a:custGeom>
            <a:noFill/>
            <a:ln w="38160">
              <a:solidFill>
                <a:srgbClr val="059f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10280" y="3639960"/>
              <a:ext cx="810720" cy="1452600"/>
            </a:xfrm>
            <a:custGeom>
              <a:avLst/>
              <a:gdLst/>
              <a:ahLst/>
              <a:rect l="l" t="t" r="r" b="b"/>
              <a:pathLst>
                <a:path w="313" h="915">
                  <a:moveTo>
                    <a:pt x="0" y="915"/>
                  </a:moveTo>
                  <a:cubicBezTo>
                    <a:pt x="5" y="888"/>
                    <a:pt x="10" y="802"/>
                    <a:pt x="32" y="754"/>
                  </a:cubicBezTo>
                  <a:cubicBezTo>
                    <a:pt x="54" y="706"/>
                    <a:pt x="109" y="673"/>
                    <a:pt x="132" y="625"/>
                  </a:cubicBezTo>
                  <a:cubicBezTo>
                    <a:pt x="155" y="577"/>
                    <a:pt x="147" y="513"/>
                    <a:pt x="172" y="466"/>
                  </a:cubicBezTo>
                  <a:cubicBezTo>
                    <a:pt x="197" y="419"/>
                    <a:pt x="268" y="404"/>
                    <a:pt x="283" y="345"/>
                  </a:cubicBezTo>
                  <a:cubicBezTo>
                    <a:pt x="298" y="286"/>
                    <a:pt x="260" y="170"/>
                    <a:pt x="265" y="113"/>
                  </a:cubicBezTo>
                  <a:cubicBezTo>
                    <a:pt x="270" y="56"/>
                    <a:pt x="303" y="24"/>
                    <a:pt x="313" y="0"/>
                  </a:cubicBezTo>
                </a:path>
              </a:pathLst>
            </a:custGeom>
            <a:noFill/>
            <a:ln w="38160">
              <a:solidFill>
                <a:srgbClr val="059f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7010280" y="2057400"/>
            <a:ext cx="1294920" cy="3035160"/>
            <a:chOff x="7010280" y="2057400"/>
            <a:chExt cx="1294920" cy="3035160"/>
          </a:xfrm>
        </p:grpSpPr>
        <p:sp>
          <p:nvSpPr>
            <p:cNvPr id="238" name=""/>
            <p:cNvSpPr/>
            <p:nvPr/>
          </p:nvSpPr>
          <p:spPr>
            <a:xfrm>
              <a:off x="7098480" y="2057400"/>
              <a:ext cx="1206720" cy="1585800"/>
            </a:xfrm>
            <a:custGeom>
              <a:avLst/>
              <a:gdLst/>
              <a:ahLst/>
              <a:rect l="l" t="t" r="r" b="b"/>
              <a:pathLst>
                <a:path w="329" h="999">
                  <a:moveTo>
                    <a:pt x="11" y="0"/>
                  </a:moveTo>
                  <a:cubicBezTo>
                    <a:pt x="13" y="26"/>
                    <a:pt x="0" y="111"/>
                    <a:pt x="22" y="159"/>
                  </a:cubicBezTo>
                  <a:cubicBezTo>
                    <a:pt x="44" y="207"/>
                    <a:pt x="121" y="237"/>
                    <a:pt x="143" y="290"/>
                  </a:cubicBezTo>
                  <a:cubicBezTo>
                    <a:pt x="165" y="343"/>
                    <a:pt x="132" y="427"/>
                    <a:pt x="152" y="475"/>
                  </a:cubicBezTo>
                  <a:cubicBezTo>
                    <a:pt x="172" y="523"/>
                    <a:pt x="248" y="525"/>
                    <a:pt x="263" y="578"/>
                  </a:cubicBezTo>
                  <a:cubicBezTo>
                    <a:pt x="278" y="631"/>
                    <a:pt x="231" y="738"/>
                    <a:pt x="241" y="794"/>
                  </a:cubicBezTo>
                  <a:cubicBezTo>
                    <a:pt x="251" y="850"/>
                    <a:pt x="319" y="881"/>
                    <a:pt x="324" y="915"/>
                  </a:cubicBezTo>
                  <a:cubicBezTo>
                    <a:pt x="329" y="949"/>
                    <a:pt x="280" y="982"/>
                    <a:pt x="268" y="999"/>
                  </a:cubicBezTo>
                </a:path>
              </a:pathLst>
            </a:custGeom>
            <a:noFill/>
            <a:ln w="38160">
              <a:solidFill>
                <a:srgbClr val="3301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10280" y="3639960"/>
              <a:ext cx="1148400" cy="1452600"/>
            </a:xfrm>
            <a:custGeom>
              <a:avLst/>
              <a:gdLst/>
              <a:ahLst/>
              <a:rect l="l" t="t" r="r" b="b"/>
              <a:pathLst>
                <a:path w="313" h="915">
                  <a:moveTo>
                    <a:pt x="0" y="915"/>
                  </a:moveTo>
                  <a:cubicBezTo>
                    <a:pt x="5" y="888"/>
                    <a:pt x="10" y="802"/>
                    <a:pt x="32" y="754"/>
                  </a:cubicBezTo>
                  <a:cubicBezTo>
                    <a:pt x="54" y="706"/>
                    <a:pt x="109" y="673"/>
                    <a:pt x="132" y="625"/>
                  </a:cubicBezTo>
                  <a:cubicBezTo>
                    <a:pt x="155" y="577"/>
                    <a:pt x="147" y="513"/>
                    <a:pt x="172" y="466"/>
                  </a:cubicBezTo>
                  <a:cubicBezTo>
                    <a:pt x="197" y="419"/>
                    <a:pt x="268" y="404"/>
                    <a:pt x="283" y="345"/>
                  </a:cubicBezTo>
                  <a:cubicBezTo>
                    <a:pt x="298" y="286"/>
                    <a:pt x="260" y="170"/>
                    <a:pt x="265" y="113"/>
                  </a:cubicBezTo>
                  <a:cubicBezTo>
                    <a:pt x="270" y="56"/>
                    <a:pt x="303" y="24"/>
                    <a:pt x="313" y="0"/>
                  </a:cubicBezTo>
                </a:path>
              </a:pathLst>
            </a:custGeom>
            <a:noFill/>
            <a:ln w="38160">
              <a:solidFill>
                <a:srgbClr val="3301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 flipH="1">
            <a:off x="2514600" y="2590920"/>
            <a:ext cx="990720" cy="6858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438280" y="3352680"/>
            <a:ext cx="990720" cy="6858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429000" y="3124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02ca"/>
                </a:solidFill>
                <a:latin typeface="Arial"/>
              </a:rPr>
              <a:t>Const.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2590560" y="4114800"/>
            <a:ext cx="609480" cy="76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124080" y="4038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st.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876920" y="4952880"/>
            <a:ext cx="19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419720" y="495288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9f01"/>
                </a:solidFill>
                <a:latin typeface="Arial"/>
              </a:rPr>
              <a:t>(Gibbons &amp; Hawk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05520" y="3276720"/>
            <a:ext cx="1676160" cy="1472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free field appears at Tem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867280" y="4116240"/>
          <a:ext cx="90180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4116240"/>
                    <a:ext cx="9018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2057400" y="533412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ck Hole Analogy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D05F-42A0-48E5-B17D-830ACE56B76E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209680" y="304920"/>
            <a:ext cx="5181840" cy="4597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b)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Holography &amp; the Causal P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9480" y="990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wo basic facts about de Sitter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4920" y="6477120"/>
            <a:ext cx="96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II.1 The quantum physic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267080" y="6477120"/>
          <a:ext cx="35100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6477120"/>
                    <a:ext cx="3510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7" name=""/>
          <p:cNvGrpSpPr/>
          <p:nvPr/>
        </p:nvGrpSpPr>
        <p:grpSpPr>
          <a:xfrm>
            <a:off x="1250640" y="2286000"/>
            <a:ext cx="1983240" cy="3048120"/>
            <a:chOff x="1250640" y="2286000"/>
            <a:chExt cx="1983240" cy="3048120"/>
          </a:xfrm>
        </p:grpSpPr>
        <p:grpSp>
          <p:nvGrpSpPr>
            <p:cNvPr id="258" name=""/>
            <p:cNvGrpSpPr/>
            <p:nvPr/>
          </p:nvGrpSpPr>
          <p:grpSpPr>
            <a:xfrm>
              <a:off x="1327320" y="2286000"/>
              <a:ext cx="506160" cy="3031920"/>
              <a:chOff x="1327320" y="2286000"/>
              <a:chExt cx="506160" cy="3031920"/>
            </a:xfrm>
          </p:grpSpPr>
          <p:sp>
            <p:nvSpPr>
              <p:cNvPr id="259" name=""/>
              <p:cNvSpPr/>
              <p:nvPr/>
            </p:nvSpPr>
            <p:spPr>
              <a:xfrm>
                <a:off x="1327320" y="2286000"/>
                <a:ext cx="506160" cy="1584360"/>
              </a:xfrm>
              <a:custGeom>
                <a:avLst/>
                <a:gdLst/>
                <a:ahLst/>
                <a:rect l="l" t="t" r="r" b="b"/>
                <a:pathLst>
                  <a:path w="319" h="998">
                    <a:moveTo>
                      <a:pt x="0" y="0"/>
                    </a:moveTo>
                    <a:cubicBezTo>
                      <a:pt x="72" y="128"/>
                      <a:pt x="142" y="267"/>
                      <a:pt x="192" y="384"/>
                    </a:cubicBezTo>
                    <a:cubicBezTo>
                      <a:pt x="242" y="501"/>
                      <a:pt x="277" y="599"/>
                      <a:pt x="298" y="701"/>
                    </a:cubicBezTo>
                    <a:cubicBezTo>
                      <a:pt x="319" y="803"/>
                      <a:pt x="313" y="936"/>
                      <a:pt x="317" y="998"/>
                    </a:cubicBezTo>
                  </a:path>
                </a:pathLst>
              </a:custGeom>
              <a:noFill/>
              <a:ln w="381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1327320" y="3733200"/>
                <a:ext cx="506160" cy="1584360"/>
              </a:xfrm>
              <a:custGeom>
                <a:avLst/>
                <a:gdLst/>
                <a:ahLst/>
                <a:rect l="l" t="t" r="r" b="b"/>
                <a:pathLst>
                  <a:path w="319" h="998">
                    <a:moveTo>
                      <a:pt x="0" y="0"/>
                    </a:moveTo>
                    <a:cubicBezTo>
                      <a:pt x="72" y="128"/>
                      <a:pt x="142" y="267"/>
                      <a:pt x="192" y="384"/>
                    </a:cubicBezTo>
                    <a:cubicBezTo>
                      <a:pt x="242" y="501"/>
                      <a:pt x="277" y="599"/>
                      <a:pt x="298" y="701"/>
                    </a:cubicBezTo>
                    <a:cubicBezTo>
                      <a:pt x="319" y="803"/>
                      <a:pt x="313" y="936"/>
                      <a:pt x="317" y="998"/>
                    </a:cubicBezTo>
                  </a:path>
                </a:pathLst>
              </a:custGeom>
              <a:noFill/>
              <a:ln w="381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1327320" y="2286000"/>
              <a:ext cx="837720" cy="3031920"/>
              <a:chOff x="1327320" y="2286000"/>
              <a:chExt cx="837720" cy="3031920"/>
            </a:xfrm>
          </p:grpSpPr>
          <p:sp>
            <p:nvSpPr>
              <p:cNvPr id="262" name=""/>
              <p:cNvSpPr/>
              <p:nvPr/>
            </p:nvSpPr>
            <p:spPr>
              <a:xfrm>
                <a:off x="1327320" y="2286000"/>
                <a:ext cx="837720" cy="1584360"/>
              </a:xfrm>
              <a:custGeom>
                <a:avLst/>
                <a:gdLst/>
                <a:ahLst/>
                <a:rect l="l" t="t" r="r" b="b"/>
                <a:pathLst>
                  <a:path w="319" h="998">
                    <a:moveTo>
                      <a:pt x="0" y="0"/>
                    </a:moveTo>
                    <a:cubicBezTo>
                      <a:pt x="72" y="128"/>
                      <a:pt x="142" y="267"/>
                      <a:pt x="192" y="384"/>
                    </a:cubicBezTo>
                    <a:cubicBezTo>
                      <a:pt x="242" y="501"/>
                      <a:pt x="277" y="599"/>
                      <a:pt x="298" y="701"/>
                    </a:cubicBezTo>
                    <a:cubicBezTo>
                      <a:pt x="319" y="803"/>
                      <a:pt x="313" y="936"/>
                      <a:pt x="317" y="998"/>
                    </a:cubicBezTo>
                  </a:path>
                </a:pathLst>
              </a:custGeom>
              <a:noFill/>
              <a:ln w="381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1327320" y="3733200"/>
                <a:ext cx="837720" cy="1584360"/>
              </a:xfrm>
              <a:custGeom>
                <a:avLst/>
                <a:gdLst/>
                <a:ahLst/>
                <a:rect l="l" t="t" r="r" b="b"/>
                <a:pathLst>
                  <a:path w="319" h="998">
                    <a:moveTo>
                      <a:pt x="0" y="0"/>
                    </a:moveTo>
                    <a:cubicBezTo>
                      <a:pt x="72" y="128"/>
                      <a:pt x="142" y="267"/>
                      <a:pt x="192" y="384"/>
                    </a:cubicBezTo>
                    <a:cubicBezTo>
                      <a:pt x="242" y="501"/>
                      <a:pt x="277" y="599"/>
                      <a:pt x="298" y="701"/>
                    </a:cubicBezTo>
                    <a:cubicBezTo>
                      <a:pt x="319" y="803"/>
                      <a:pt x="313" y="936"/>
                      <a:pt x="317" y="998"/>
                    </a:cubicBezTo>
                  </a:path>
                </a:pathLst>
              </a:custGeom>
              <a:noFill/>
              <a:ln w="381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1327320" y="2286000"/>
              <a:ext cx="1142280" cy="3031920"/>
              <a:chOff x="1327320" y="2286000"/>
              <a:chExt cx="1142280" cy="3031920"/>
            </a:xfrm>
          </p:grpSpPr>
          <p:sp>
            <p:nvSpPr>
              <p:cNvPr id="265" name=""/>
              <p:cNvSpPr/>
              <p:nvPr/>
            </p:nvSpPr>
            <p:spPr>
              <a:xfrm>
                <a:off x="1327320" y="2286000"/>
                <a:ext cx="1142280" cy="1584360"/>
              </a:xfrm>
              <a:custGeom>
                <a:avLst/>
                <a:gdLst/>
                <a:ahLst/>
                <a:rect l="l" t="t" r="r" b="b"/>
                <a:pathLst>
                  <a:path w="319" h="998">
                    <a:moveTo>
                      <a:pt x="0" y="0"/>
                    </a:moveTo>
                    <a:cubicBezTo>
                      <a:pt x="72" y="128"/>
                      <a:pt x="142" y="267"/>
                      <a:pt x="192" y="384"/>
                    </a:cubicBezTo>
                    <a:cubicBezTo>
                      <a:pt x="242" y="501"/>
                      <a:pt x="277" y="599"/>
                      <a:pt x="298" y="701"/>
                    </a:cubicBezTo>
                    <a:cubicBezTo>
                      <a:pt x="319" y="803"/>
                      <a:pt x="313" y="936"/>
                      <a:pt x="317" y="998"/>
                    </a:cubicBezTo>
                  </a:path>
                </a:pathLst>
              </a:custGeom>
              <a:noFill/>
              <a:ln w="381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1327320" y="3733200"/>
                <a:ext cx="1142280" cy="1584360"/>
              </a:xfrm>
              <a:custGeom>
                <a:avLst/>
                <a:gdLst/>
                <a:ahLst/>
                <a:rect l="l" t="t" r="r" b="b"/>
                <a:pathLst>
                  <a:path w="319" h="998">
                    <a:moveTo>
                      <a:pt x="0" y="0"/>
                    </a:moveTo>
                    <a:cubicBezTo>
                      <a:pt x="72" y="128"/>
                      <a:pt x="142" y="267"/>
                      <a:pt x="192" y="384"/>
                    </a:cubicBezTo>
                    <a:cubicBezTo>
                      <a:pt x="242" y="501"/>
                      <a:pt x="277" y="599"/>
                      <a:pt x="298" y="701"/>
                    </a:cubicBezTo>
                    <a:cubicBezTo>
                      <a:pt x="319" y="803"/>
                      <a:pt x="313" y="936"/>
                      <a:pt x="317" y="998"/>
                    </a:cubicBezTo>
                  </a:path>
                </a:pathLst>
              </a:custGeom>
              <a:noFill/>
              <a:ln w="381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1327320" y="2286000"/>
              <a:ext cx="0" cy="3048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1327320" y="3886200"/>
              <a:ext cx="1904760" cy="144792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327320" y="2286000"/>
              <a:ext cx="1904760" cy="160020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1250640" y="3886200"/>
              <a:ext cx="198108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311120" y="3429000"/>
              <a:ext cx="1890720" cy="473040"/>
            </a:xfrm>
            <a:custGeom>
              <a:avLst/>
              <a:gdLst/>
              <a:ahLst/>
              <a:rect l="l" t="t" r="r" b="b"/>
              <a:pathLst>
                <a:path w="1191" h="365">
                  <a:moveTo>
                    <a:pt x="1191" y="365"/>
                  </a:moveTo>
                  <a:cubicBezTo>
                    <a:pt x="1140" y="341"/>
                    <a:pt x="999" y="261"/>
                    <a:pt x="874" y="211"/>
                  </a:cubicBezTo>
                  <a:cubicBezTo>
                    <a:pt x="749" y="161"/>
                    <a:pt x="554" y="99"/>
                    <a:pt x="442" y="67"/>
                  </a:cubicBezTo>
                  <a:cubicBezTo>
                    <a:pt x="330" y="35"/>
                    <a:pt x="276" y="30"/>
                    <a:pt x="202" y="19"/>
                  </a:cubicBezTo>
                  <a:cubicBezTo>
                    <a:pt x="128" y="8"/>
                    <a:pt x="42" y="4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327320" y="2971800"/>
              <a:ext cx="1890720" cy="960480"/>
            </a:xfrm>
            <a:custGeom>
              <a:avLst/>
              <a:gdLst/>
              <a:ahLst/>
              <a:rect l="l" t="t" r="r" b="b"/>
              <a:pathLst>
                <a:path w="1191" h="365">
                  <a:moveTo>
                    <a:pt x="1191" y="365"/>
                  </a:moveTo>
                  <a:cubicBezTo>
                    <a:pt x="1140" y="341"/>
                    <a:pt x="999" y="261"/>
                    <a:pt x="874" y="211"/>
                  </a:cubicBezTo>
                  <a:cubicBezTo>
                    <a:pt x="749" y="161"/>
                    <a:pt x="554" y="99"/>
                    <a:pt x="442" y="67"/>
                  </a:cubicBezTo>
                  <a:cubicBezTo>
                    <a:pt x="330" y="35"/>
                    <a:pt x="276" y="30"/>
                    <a:pt x="202" y="19"/>
                  </a:cubicBezTo>
                  <a:cubicBezTo>
                    <a:pt x="128" y="8"/>
                    <a:pt x="42" y="4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1327320" y="3870360"/>
              <a:ext cx="1890720" cy="473040"/>
            </a:xfrm>
            <a:custGeom>
              <a:avLst/>
              <a:gdLst/>
              <a:ahLst/>
              <a:rect l="l" t="t" r="r" b="b"/>
              <a:pathLst>
                <a:path w="1191" h="365">
                  <a:moveTo>
                    <a:pt x="1191" y="365"/>
                  </a:moveTo>
                  <a:cubicBezTo>
                    <a:pt x="1140" y="341"/>
                    <a:pt x="999" y="261"/>
                    <a:pt x="874" y="211"/>
                  </a:cubicBezTo>
                  <a:cubicBezTo>
                    <a:pt x="749" y="161"/>
                    <a:pt x="554" y="99"/>
                    <a:pt x="442" y="67"/>
                  </a:cubicBezTo>
                  <a:cubicBezTo>
                    <a:pt x="330" y="35"/>
                    <a:pt x="276" y="30"/>
                    <a:pt x="202" y="19"/>
                  </a:cubicBezTo>
                  <a:cubicBezTo>
                    <a:pt x="128" y="8"/>
                    <a:pt x="42" y="4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1343160" y="3840120"/>
              <a:ext cx="1890720" cy="960480"/>
            </a:xfrm>
            <a:custGeom>
              <a:avLst/>
              <a:gdLst/>
              <a:ahLst/>
              <a:rect l="l" t="t" r="r" b="b"/>
              <a:pathLst>
                <a:path w="1191" h="365">
                  <a:moveTo>
                    <a:pt x="1191" y="365"/>
                  </a:moveTo>
                  <a:cubicBezTo>
                    <a:pt x="1140" y="341"/>
                    <a:pt x="999" y="261"/>
                    <a:pt x="874" y="211"/>
                  </a:cubicBezTo>
                  <a:cubicBezTo>
                    <a:pt x="749" y="161"/>
                    <a:pt x="554" y="99"/>
                    <a:pt x="442" y="67"/>
                  </a:cubicBezTo>
                  <a:cubicBezTo>
                    <a:pt x="330" y="35"/>
                    <a:pt x="276" y="30"/>
                    <a:pt x="202" y="19"/>
                  </a:cubicBezTo>
                  <a:cubicBezTo>
                    <a:pt x="128" y="8"/>
                    <a:pt x="42" y="4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 rot="16200000">
            <a:off x="16560" y="34884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r’s Worldlin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14600" y="1752480"/>
            <a:ext cx="266688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bjects never appear to leave the hori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7008840" y="2057400"/>
            <a:ext cx="506520" cy="3031920"/>
            <a:chOff x="7008840" y="2057400"/>
            <a:chExt cx="506520" cy="3031920"/>
          </a:xfrm>
        </p:grpSpPr>
        <p:sp>
          <p:nvSpPr>
            <p:cNvPr id="278" name=""/>
            <p:cNvSpPr/>
            <p:nvPr/>
          </p:nvSpPr>
          <p:spPr>
            <a:xfrm>
              <a:off x="7008840" y="2057400"/>
              <a:ext cx="506520" cy="1584360"/>
            </a:xfrm>
            <a:custGeom>
              <a:avLst/>
              <a:gdLst/>
              <a:ahLst/>
              <a:rect l="l" t="t" r="r" b="b"/>
              <a:pathLst>
                <a:path w="319" h="998">
                  <a:moveTo>
                    <a:pt x="0" y="0"/>
                  </a:moveTo>
                  <a:cubicBezTo>
                    <a:pt x="72" y="128"/>
                    <a:pt x="142" y="267"/>
                    <a:pt x="192" y="384"/>
                  </a:cubicBezTo>
                  <a:cubicBezTo>
                    <a:pt x="242" y="501"/>
                    <a:pt x="277" y="599"/>
                    <a:pt x="298" y="701"/>
                  </a:cubicBezTo>
                  <a:cubicBezTo>
                    <a:pt x="319" y="803"/>
                    <a:pt x="313" y="936"/>
                    <a:pt x="317" y="998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7008840" y="3504600"/>
              <a:ext cx="506520" cy="1584360"/>
            </a:xfrm>
            <a:custGeom>
              <a:avLst/>
              <a:gdLst/>
              <a:ahLst/>
              <a:rect l="l" t="t" r="r" b="b"/>
              <a:pathLst>
                <a:path w="319" h="998">
                  <a:moveTo>
                    <a:pt x="0" y="0"/>
                  </a:moveTo>
                  <a:cubicBezTo>
                    <a:pt x="72" y="128"/>
                    <a:pt x="142" y="267"/>
                    <a:pt x="192" y="384"/>
                  </a:cubicBezTo>
                  <a:cubicBezTo>
                    <a:pt x="242" y="501"/>
                    <a:pt x="277" y="599"/>
                    <a:pt x="298" y="701"/>
                  </a:cubicBezTo>
                  <a:cubicBezTo>
                    <a:pt x="319" y="803"/>
                    <a:pt x="313" y="936"/>
                    <a:pt x="317" y="998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7008840" y="2057400"/>
            <a:ext cx="837720" cy="3031920"/>
            <a:chOff x="7008840" y="2057400"/>
            <a:chExt cx="837720" cy="3031920"/>
          </a:xfrm>
        </p:grpSpPr>
        <p:sp>
          <p:nvSpPr>
            <p:cNvPr id="281" name=""/>
            <p:cNvSpPr/>
            <p:nvPr/>
          </p:nvSpPr>
          <p:spPr>
            <a:xfrm>
              <a:off x="7008840" y="2057400"/>
              <a:ext cx="837720" cy="1584360"/>
            </a:xfrm>
            <a:custGeom>
              <a:avLst/>
              <a:gdLst/>
              <a:ahLst/>
              <a:rect l="l" t="t" r="r" b="b"/>
              <a:pathLst>
                <a:path w="319" h="998">
                  <a:moveTo>
                    <a:pt x="0" y="0"/>
                  </a:moveTo>
                  <a:cubicBezTo>
                    <a:pt x="72" y="128"/>
                    <a:pt x="142" y="267"/>
                    <a:pt x="192" y="384"/>
                  </a:cubicBezTo>
                  <a:cubicBezTo>
                    <a:pt x="242" y="501"/>
                    <a:pt x="277" y="599"/>
                    <a:pt x="298" y="701"/>
                  </a:cubicBezTo>
                  <a:cubicBezTo>
                    <a:pt x="319" y="803"/>
                    <a:pt x="313" y="936"/>
                    <a:pt x="317" y="998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7008840" y="3504600"/>
              <a:ext cx="837720" cy="1584360"/>
            </a:xfrm>
            <a:custGeom>
              <a:avLst/>
              <a:gdLst/>
              <a:ahLst/>
              <a:rect l="l" t="t" r="r" b="b"/>
              <a:pathLst>
                <a:path w="319" h="998">
                  <a:moveTo>
                    <a:pt x="0" y="0"/>
                  </a:moveTo>
                  <a:cubicBezTo>
                    <a:pt x="72" y="128"/>
                    <a:pt x="142" y="267"/>
                    <a:pt x="192" y="384"/>
                  </a:cubicBezTo>
                  <a:cubicBezTo>
                    <a:pt x="242" y="501"/>
                    <a:pt x="277" y="599"/>
                    <a:pt x="298" y="701"/>
                  </a:cubicBezTo>
                  <a:cubicBezTo>
                    <a:pt x="319" y="803"/>
                    <a:pt x="313" y="936"/>
                    <a:pt x="317" y="998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7008840" y="2057400"/>
            <a:ext cx="1142280" cy="3031920"/>
            <a:chOff x="7008840" y="2057400"/>
            <a:chExt cx="1142280" cy="3031920"/>
          </a:xfrm>
        </p:grpSpPr>
        <p:sp>
          <p:nvSpPr>
            <p:cNvPr id="284" name=""/>
            <p:cNvSpPr/>
            <p:nvPr/>
          </p:nvSpPr>
          <p:spPr>
            <a:xfrm>
              <a:off x="7008840" y="2057400"/>
              <a:ext cx="1142280" cy="1584360"/>
            </a:xfrm>
            <a:custGeom>
              <a:avLst/>
              <a:gdLst/>
              <a:ahLst/>
              <a:rect l="l" t="t" r="r" b="b"/>
              <a:pathLst>
                <a:path w="319" h="998">
                  <a:moveTo>
                    <a:pt x="0" y="0"/>
                  </a:moveTo>
                  <a:cubicBezTo>
                    <a:pt x="72" y="128"/>
                    <a:pt x="142" y="267"/>
                    <a:pt x="192" y="384"/>
                  </a:cubicBezTo>
                  <a:cubicBezTo>
                    <a:pt x="242" y="501"/>
                    <a:pt x="277" y="599"/>
                    <a:pt x="298" y="701"/>
                  </a:cubicBezTo>
                  <a:cubicBezTo>
                    <a:pt x="319" y="803"/>
                    <a:pt x="313" y="936"/>
                    <a:pt x="317" y="998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7008840" y="3504600"/>
              <a:ext cx="1142280" cy="1584360"/>
            </a:xfrm>
            <a:custGeom>
              <a:avLst/>
              <a:gdLst/>
              <a:ahLst/>
              <a:rect l="l" t="t" r="r" b="b"/>
              <a:pathLst>
                <a:path w="319" h="998">
                  <a:moveTo>
                    <a:pt x="0" y="0"/>
                  </a:moveTo>
                  <a:cubicBezTo>
                    <a:pt x="72" y="128"/>
                    <a:pt x="142" y="267"/>
                    <a:pt x="192" y="384"/>
                  </a:cubicBezTo>
                  <a:cubicBezTo>
                    <a:pt x="242" y="501"/>
                    <a:pt x="277" y="599"/>
                    <a:pt x="298" y="701"/>
                  </a:cubicBezTo>
                  <a:cubicBezTo>
                    <a:pt x="319" y="803"/>
                    <a:pt x="313" y="936"/>
                    <a:pt x="317" y="998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7008840" y="205740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7008840" y="3657600"/>
            <a:ext cx="1905120" cy="1447920"/>
          </a:xfrm>
          <a:prstGeom prst="line">
            <a:avLst/>
          </a:prstGeom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008840" y="2057400"/>
            <a:ext cx="1905120" cy="1600200"/>
          </a:xfrm>
          <a:prstGeom prst="line">
            <a:avLst/>
          </a:prstGeom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6932520" y="3657600"/>
            <a:ext cx="198144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993000" y="3200400"/>
            <a:ext cx="1890720" cy="473040"/>
          </a:xfrm>
          <a:custGeom>
            <a:avLst/>
            <a:gdLst/>
            <a:ahLst/>
            <a:rect l="l" t="t" r="r" b="b"/>
            <a:pathLst>
              <a:path w="1191" h="365">
                <a:moveTo>
                  <a:pt x="1191" y="365"/>
                </a:moveTo>
                <a:cubicBezTo>
                  <a:pt x="1140" y="341"/>
                  <a:pt x="999" y="261"/>
                  <a:pt x="874" y="211"/>
                </a:cubicBezTo>
                <a:cubicBezTo>
                  <a:pt x="749" y="161"/>
                  <a:pt x="554" y="99"/>
                  <a:pt x="442" y="67"/>
                </a:cubicBezTo>
                <a:cubicBezTo>
                  <a:pt x="330" y="35"/>
                  <a:pt x="276" y="30"/>
                  <a:pt x="202" y="19"/>
                </a:cubicBezTo>
                <a:cubicBezTo>
                  <a:pt x="128" y="8"/>
                  <a:pt x="42" y="4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08840" y="2743200"/>
            <a:ext cx="1890720" cy="960480"/>
          </a:xfrm>
          <a:custGeom>
            <a:avLst/>
            <a:gdLst/>
            <a:ahLst/>
            <a:rect l="l" t="t" r="r" b="b"/>
            <a:pathLst>
              <a:path w="1191" h="365">
                <a:moveTo>
                  <a:pt x="1191" y="365"/>
                </a:moveTo>
                <a:cubicBezTo>
                  <a:pt x="1140" y="341"/>
                  <a:pt x="999" y="261"/>
                  <a:pt x="874" y="211"/>
                </a:cubicBezTo>
                <a:cubicBezTo>
                  <a:pt x="749" y="161"/>
                  <a:pt x="554" y="99"/>
                  <a:pt x="442" y="67"/>
                </a:cubicBezTo>
                <a:cubicBezTo>
                  <a:pt x="330" y="35"/>
                  <a:pt x="276" y="30"/>
                  <a:pt x="202" y="19"/>
                </a:cubicBezTo>
                <a:cubicBezTo>
                  <a:pt x="128" y="8"/>
                  <a:pt x="42" y="4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7008840" y="3641760"/>
            <a:ext cx="1890720" cy="473040"/>
          </a:xfrm>
          <a:custGeom>
            <a:avLst/>
            <a:gdLst/>
            <a:ahLst/>
            <a:rect l="l" t="t" r="r" b="b"/>
            <a:pathLst>
              <a:path w="1191" h="365">
                <a:moveTo>
                  <a:pt x="1191" y="365"/>
                </a:moveTo>
                <a:cubicBezTo>
                  <a:pt x="1140" y="341"/>
                  <a:pt x="999" y="261"/>
                  <a:pt x="874" y="211"/>
                </a:cubicBezTo>
                <a:cubicBezTo>
                  <a:pt x="749" y="161"/>
                  <a:pt x="554" y="99"/>
                  <a:pt x="442" y="67"/>
                </a:cubicBezTo>
                <a:cubicBezTo>
                  <a:pt x="330" y="35"/>
                  <a:pt x="276" y="30"/>
                  <a:pt x="202" y="19"/>
                </a:cubicBezTo>
                <a:cubicBezTo>
                  <a:pt x="128" y="8"/>
                  <a:pt x="42" y="4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7024680" y="3611520"/>
            <a:ext cx="1890720" cy="960480"/>
          </a:xfrm>
          <a:custGeom>
            <a:avLst/>
            <a:gdLst/>
            <a:ahLst/>
            <a:rect l="l" t="t" r="r" b="b"/>
            <a:pathLst>
              <a:path w="1191" h="365">
                <a:moveTo>
                  <a:pt x="1191" y="365"/>
                </a:moveTo>
                <a:cubicBezTo>
                  <a:pt x="1140" y="341"/>
                  <a:pt x="999" y="261"/>
                  <a:pt x="874" y="211"/>
                </a:cubicBezTo>
                <a:cubicBezTo>
                  <a:pt x="749" y="161"/>
                  <a:pt x="554" y="99"/>
                  <a:pt x="442" y="67"/>
                </a:cubicBezTo>
                <a:cubicBezTo>
                  <a:pt x="330" y="35"/>
                  <a:pt x="276" y="30"/>
                  <a:pt x="202" y="19"/>
                </a:cubicBezTo>
                <a:cubicBezTo>
                  <a:pt x="128" y="8"/>
                  <a:pt x="42" y="4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027920" y="2057400"/>
            <a:ext cx="560160" cy="3035160"/>
            <a:chOff x="7027920" y="2057400"/>
            <a:chExt cx="560160" cy="3035160"/>
          </a:xfrm>
        </p:grpSpPr>
        <p:sp>
          <p:nvSpPr>
            <p:cNvPr id="295" name=""/>
            <p:cNvSpPr/>
            <p:nvPr/>
          </p:nvSpPr>
          <p:spPr>
            <a:xfrm>
              <a:off x="7066080" y="2057400"/>
              <a:ext cx="522000" cy="1585800"/>
            </a:xfrm>
            <a:custGeom>
              <a:avLst/>
              <a:gdLst/>
              <a:ahLst/>
              <a:rect l="l" t="t" r="r" b="b"/>
              <a:pathLst>
                <a:path w="329" h="999">
                  <a:moveTo>
                    <a:pt x="11" y="0"/>
                  </a:moveTo>
                  <a:cubicBezTo>
                    <a:pt x="13" y="26"/>
                    <a:pt x="0" y="111"/>
                    <a:pt x="22" y="159"/>
                  </a:cubicBezTo>
                  <a:cubicBezTo>
                    <a:pt x="44" y="207"/>
                    <a:pt x="121" y="237"/>
                    <a:pt x="143" y="290"/>
                  </a:cubicBezTo>
                  <a:cubicBezTo>
                    <a:pt x="165" y="343"/>
                    <a:pt x="132" y="427"/>
                    <a:pt x="152" y="475"/>
                  </a:cubicBezTo>
                  <a:cubicBezTo>
                    <a:pt x="172" y="523"/>
                    <a:pt x="248" y="525"/>
                    <a:pt x="263" y="578"/>
                  </a:cubicBezTo>
                  <a:cubicBezTo>
                    <a:pt x="278" y="631"/>
                    <a:pt x="231" y="738"/>
                    <a:pt x="241" y="794"/>
                  </a:cubicBezTo>
                  <a:cubicBezTo>
                    <a:pt x="251" y="850"/>
                    <a:pt x="319" y="881"/>
                    <a:pt x="324" y="915"/>
                  </a:cubicBezTo>
                  <a:cubicBezTo>
                    <a:pt x="329" y="949"/>
                    <a:pt x="280" y="982"/>
                    <a:pt x="268" y="999"/>
                  </a:cubicBezTo>
                </a:path>
              </a:pathLst>
            </a:custGeom>
            <a:noFill/>
            <a:ln w="38160">
              <a:solidFill>
                <a:srgbClr val="fd80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27920" y="3639960"/>
              <a:ext cx="496800" cy="1452600"/>
            </a:xfrm>
            <a:custGeom>
              <a:avLst/>
              <a:gdLst/>
              <a:ahLst/>
              <a:rect l="l" t="t" r="r" b="b"/>
              <a:pathLst>
                <a:path w="313" h="915">
                  <a:moveTo>
                    <a:pt x="0" y="915"/>
                  </a:moveTo>
                  <a:cubicBezTo>
                    <a:pt x="5" y="888"/>
                    <a:pt x="10" y="802"/>
                    <a:pt x="32" y="754"/>
                  </a:cubicBezTo>
                  <a:cubicBezTo>
                    <a:pt x="54" y="706"/>
                    <a:pt x="109" y="673"/>
                    <a:pt x="132" y="625"/>
                  </a:cubicBezTo>
                  <a:cubicBezTo>
                    <a:pt x="155" y="577"/>
                    <a:pt x="147" y="513"/>
                    <a:pt x="172" y="466"/>
                  </a:cubicBezTo>
                  <a:cubicBezTo>
                    <a:pt x="197" y="419"/>
                    <a:pt x="268" y="404"/>
                    <a:pt x="283" y="345"/>
                  </a:cubicBezTo>
                  <a:cubicBezTo>
                    <a:pt x="298" y="286"/>
                    <a:pt x="260" y="170"/>
                    <a:pt x="265" y="113"/>
                  </a:cubicBezTo>
                  <a:cubicBezTo>
                    <a:pt x="270" y="56"/>
                    <a:pt x="303" y="24"/>
                    <a:pt x="313" y="0"/>
                  </a:cubicBezTo>
                </a:path>
              </a:pathLst>
            </a:custGeom>
            <a:noFill/>
            <a:ln w="38160">
              <a:solidFill>
                <a:srgbClr val="fd80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7010280" y="2057400"/>
            <a:ext cx="152280" cy="3035160"/>
            <a:chOff x="7010280" y="2057400"/>
            <a:chExt cx="152280" cy="3035160"/>
          </a:xfrm>
        </p:grpSpPr>
        <p:sp>
          <p:nvSpPr>
            <p:cNvPr id="298" name=""/>
            <p:cNvSpPr/>
            <p:nvPr/>
          </p:nvSpPr>
          <p:spPr>
            <a:xfrm>
              <a:off x="7020360" y="2057400"/>
              <a:ext cx="142200" cy="1585800"/>
            </a:xfrm>
            <a:custGeom>
              <a:avLst/>
              <a:gdLst/>
              <a:ahLst/>
              <a:rect l="l" t="t" r="r" b="b"/>
              <a:pathLst>
                <a:path w="329" h="999">
                  <a:moveTo>
                    <a:pt x="11" y="0"/>
                  </a:moveTo>
                  <a:cubicBezTo>
                    <a:pt x="13" y="26"/>
                    <a:pt x="0" y="111"/>
                    <a:pt x="22" y="159"/>
                  </a:cubicBezTo>
                  <a:cubicBezTo>
                    <a:pt x="44" y="207"/>
                    <a:pt x="121" y="237"/>
                    <a:pt x="143" y="290"/>
                  </a:cubicBezTo>
                  <a:cubicBezTo>
                    <a:pt x="165" y="343"/>
                    <a:pt x="132" y="427"/>
                    <a:pt x="152" y="475"/>
                  </a:cubicBezTo>
                  <a:cubicBezTo>
                    <a:pt x="172" y="523"/>
                    <a:pt x="248" y="525"/>
                    <a:pt x="263" y="578"/>
                  </a:cubicBezTo>
                  <a:cubicBezTo>
                    <a:pt x="278" y="631"/>
                    <a:pt x="231" y="738"/>
                    <a:pt x="241" y="794"/>
                  </a:cubicBezTo>
                  <a:cubicBezTo>
                    <a:pt x="251" y="850"/>
                    <a:pt x="319" y="881"/>
                    <a:pt x="324" y="915"/>
                  </a:cubicBezTo>
                  <a:cubicBezTo>
                    <a:pt x="329" y="949"/>
                    <a:pt x="280" y="982"/>
                    <a:pt x="268" y="999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10280" y="3639960"/>
              <a:ext cx="135360" cy="1452600"/>
            </a:xfrm>
            <a:custGeom>
              <a:avLst/>
              <a:gdLst/>
              <a:ahLst/>
              <a:rect l="l" t="t" r="r" b="b"/>
              <a:pathLst>
                <a:path w="313" h="915">
                  <a:moveTo>
                    <a:pt x="0" y="915"/>
                  </a:moveTo>
                  <a:cubicBezTo>
                    <a:pt x="5" y="888"/>
                    <a:pt x="10" y="802"/>
                    <a:pt x="32" y="754"/>
                  </a:cubicBezTo>
                  <a:cubicBezTo>
                    <a:pt x="54" y="706"/>
                    <a:pt x="109" y="673"/>
                    <a:pt x="132" y="625"/>
                  </a:cubicBezTo>
                  <a:cubicBezTo>
                    <a:pt x="155" y="577"/>
                    <a:pt x="147" y="513"/>
                    <a:pt x="172" y="466"/>
                  </a:cubicBezTo>
                  <a:cubicBezTo>
                    <a:pt x="197" y="419"/>
                    <a:pt x="268" y="404"/>
                    <a:pt x="283" y="345"/>
                  </a:cubicBezTo>
                  <a:cubicBezTo>
                    <a:pt x="298" y="286"/>
                    <a:pt x="260" y="170"/>
                    <a:pt x="265" y="113"/>
                  </a:cubicBezTo>
                  <a:cubicBezTo>
                    <a:pt x="270" y="56"/>
                    <a:pt x="303" y="24"/>
                    <a:pt x="313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7010280" y="2057400"/>
            <a:ext cx="913680" cy="3035160"/>
            <a:chOff x="7010280" y="2057400"/>
            <a:chExt cx="913680" cy="3035160"/>
          </a:xfrm>
        </p:grpSpPr>
        <p:sp>
          <p:nvSpPr>
            <p:cNvPr id="301" name=""/>
            <p:cNvSpPr/>
            <p:nvPr/>
          </p:nvSpPr>
          <p:spPr>
            <a:xfrm>
              <a:off x="7072200" y="2057400"/>
              <a:ext cx="851760" cy="1585800"/>
            </a:xfrm>
            <a:custGeom>
              <a:avLst/>
              <a:gdLst/>
              <a:ahLst/>
              <a:rect l="l" t="t" r="r" b="b"/>
              <a:pathLst>
                <a:path w="329" h="999">
                  <a:moveTo>
                    <a:pt x="11" y="0"/>
                  </a:moveTo>
                  <a:cubicBezTo>
                    <a:pt x="13" y="26"/>
                    <a:pt x="0" y="111"/>
                    <a:pt x="22" y="159"/>
                  </a:cubicBezTo>
                  <a:cubicBezTo>
                    <a:pt x="44" y="207"/>
                    <a:pt x="121" y="237"/>
                    <a:pt x="143" y="290"/>
                  </a:cubicBezTo>
                  <a:cubicBezTo>
                    <a:pt x="165" y="343"/>
                    <a:pt x="132" y="427"/>
                    <a:pt x="152" y="475"/>
                  </a:cubicBezTo>
                  <a:cubicBezTo>
                    <a:pt x="172" y="523"/>
                    <a:pt x="248" y="525"/>
                    <a:pt x="263" y="578"/>
                  </a:cubicBezTo>
                  <a:cubicBezTo>
                    <a:pt x="278" y="631"/>
                    <a:pt x="231" y="738"/>
                    <a:pt x="241" y="794"/>
                  </a:cubicBezTo>
                  <a:cubicBezTo>
                    <a:pt x="251" y="850"/>
                    <a:pt x="319" y="881"/>
                    <a:pt x="324" y="915"/>
                  </a:cubicBezTo>
                  <a:cubicBezTo>
                    <a:pt x="329" y="949"/>
                    <a:pt x="280" y="982"/>
                    <a:pt x="268" y="999"/>
                  </a:cubicBezTo>
                </a:path>
              </a:pathLst>
            </a:custGeom>
            <a:noFill/>
            <a:ln w="38160">
              <a:solidFill>
                <a:srgbClr val="059f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010280" y="3639960"/>
              <a:ext cx="810720" cy="1452600"/>
            </a:xfrm>
            <a:custGeom>
              <a:avLst/>
              <a:gdLst/>
              <a:ahLst/>
              <a:rect l="l" t="t" r="r" b="b"/>
              <a:pathLst>
                <a:path w="313" h="915">
                  <a:moveTo>
                    <a:pt x="0" y="915"/>
                  </a:moveTo>
                  <a:cubicBezTo>
                    <a:pt x="5" y="888"/>
                    <a:pt x="10" y="802"/>
                    <a:pt x="32" y="754"/>
                  </a:cubicBezTo>
                  <a:cubicBezTo>
                    <a:pt x="54" y="706"/>
                    <a:pt x="109" y="673"/>
                    <a:pt x="132" y="625"/>
                  </a:cubicBezTo>
                  <a:cubicBezTo>
                    <a:pt x="155" y="577"/>
                    <a:pt x="147" y="513"/>
                    <a:pt x="172" y="466"/>
                  </a:cubicBezTo>
                  <a:cubicBezTo>
                    <a:pt x="197" y="419"/>
                    <a:pt x="268" y="404"/>
                    <a:pt x="283" y="345"/>
                  </a:cubicBezTo>
                  <a:cubicBezTo>
                    <a:pt x="298" y="286"/>
                    <a:pt x="260" y="170"/>
                    <a:pt x="265" y="113"/>
                  </a:cubicBezTo>
                  <a:cubicBezTo>
                    <a:pt x="270" y="56"/>
                    <a:pt x="303" y="24"/>
                    <a:pt x="313" y="0"/>
                  </a:cubicBezTo>
                </a:path>
              </a:pathLst>
            </a:custGeom>
            <a:noFill/>
            <a:ln w="38160">
              <a:solidFill>
                <a:srgbClr val="059f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7010280" y="2057400"/>
            <a:ext cx="1294920" cy="3035160"/>
            <a:chOff x="7010280" y="2057400"/>
            <a:chExt cx="1294920" cy="3035160"/>
          </a:xfrm>
        </p:grpSpPr>
        <p:sp>
          <p:nvSpPr>
            <p:cNvPr id="304" name=""/>
            <p:cNvSpPr/>
            <p:nvPr/>
          </p:nvSpPr>
          <p:spPr>
            <a:xfrm>
              <a:off x="7098480" y="2057400"/>
              <a:ext cx="1206720" cy="1585800"/>
            </a:xfrm>
            <a:custGeom>
              <a:avLst/>
              <a:gdLst/>
              <a:ahLst/>
              <a:rect l="l" t="t" r="r" b="b"/>
              <a:pathLst>
                <a:path w="329" h="999">
                  <a:moveTo>
                    <a:pt x="11" y="0"/>
                  </a:moveTo>
                  <a:cubicBezTo>
                    <a:pt x="13" y="26"/>
                    <a:pt x="0" y="111"/>
                    <a:pt x="22" y="159"/>
                  </a:cubicBezTo>
                  <a:cubicBezTo>
                    <a:pt x="44" y="207"/>
                    <a:pt x="121" y="237"/>
                    <a:pt x="143" y="290"/>
                  </a:cubicBezTo>
                  <a:cubicBezTo>
                    <a:pt x="165" y="343"/>
                    <a:pt x="132" y="427"/>
                    <a:pt x="152" y="475"/>
                  </a:cubicBezTo>
                  <a:cubicBezTo>
                    <a:pt x="172" y="523"/>
                    <a:pt x="248" y="525"/>
                    <a:pt x="263" y="578"/>
                  </a:cubicBezTo>
                  <a:cubicBezTo>
                    <a:pt x="278" y="631"/>
                    <a:pt x="231" y="738"/>
                    <a:pt x="241" y="794"/>
                  </a:cubicBezTo>
                  <a:cubicBezTo>
                    <a:pt x="251" y="850"/>
                    <a:pt x="319" y="881"/>
                    <a:pt x="324" y="915"/>
                  </a:cubicBezTo>
                  <a:cubicBezTo>
                    <a:pt x="329" y="949"/>
                    <a:pt x="280" y="982"/>
                    <a:pt x="268" y="999"/>
                  </a:cubicBezTo>
                </a:path>
              </a:pathLst>
            </a:custGeom>
            <a:noFill/>
            <a:ln w="38160">
              <a:solidFill>
                <a:srgbClr val="3301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010280" y="3639960"/>
              <a:ext cx="1148400" cy="1452600"/>
            </a:xfrm>
            <a:custGeom>
              <a:avLst/>
              <a:gdLst/>
              <a:ahLst/>
              <a:rect l="l" t="t" r="r" b="b"/>
              <a:pathLst>
                <a:path w="313" h="915">
                  <a:moveTo>
                    <a:pt x="0" y="915"/>
                  </a:moveTo>
                  <a:cubicBezTo>
                    <a:pt x="5" y="888"/>
                    <a:pt x="10" y="802"/>
                    <a:pt x="32" y="754"/>
                  </a:cubicBezTo>
                  <a:cubicBezTo>
                    <a:pt x="54" y="706"/>
                    <a:pt x="109" y="673"/>
                    <a:pt x="132" y="625"/>
                  </a:cubicBezTo>
                  <a:cubicBezTo>
                    <a:pt x="155" y="577"/>
                    <a:pt x="147" y="513"/>
                    <a:pt x="172" y="466"/>
                  </a:cubicBezTo>
                  <a:cubicBezTo>
                    <a:pt x="197" y="419"/>
                    <a:pt x="268" y="404"/>
                    <a:pt x="283" y="345"/>
                  </a:cubicBezTo>
                  <a:cubicBezTo>
                    <a:pt x="298" y="286"/>
                    <a:pt x="260" y="170"/>
                    <a:pt x="265" y="113"/>
                  </a:cubicBezTo>
                  <a:cubicBezTo>
                    <a:pt x="270" y="56"/>
                    <a:pt x="303" y="24"/>
                    <a:pt x="313" y="0"/>
                  </a:cubicBezTo>
                </a:path>
              </a:pathLst>
            </a:custGeom>
            <a:noFill/>
            <a:ln w="38160">
              <a:solidFill>
                <a:srgbClr val="3301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 flipH="1">
            <a:off x="2514600" y="2590920"/>
            <a:ext cx="990720" cy="6858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2438280" y="3352680"/>
            <a:ext cx="990720" cy="6858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3124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02ca"/>
                </a:solidFill>
                <a:latin typeface="Arial"/>
              </a:rPr>
              <a:t>Const.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2590560" y="4114800"/>
            <a:ext cx="609480" cy="76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4038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st.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09480" y="55627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9f01"/>
                </a:solidFill>
                <a:latin typeface="Arial"/>
              </a:rPr>
              <a:t>See Kaloper (Davis Inflation Meeting ’03) (t’ Hooft: BH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4191120" y="3504960"/>
            <a:ext cx="5181480" cy="2685240"/>
            <a:chOff x="4191120" y="3504960"/>
            <a:chExt cx="5181480" cy="2685240"/>
          </a:xfrm>
        </p:grpSpPr>
        <p:sp>
          <p:nvSpPr>
            <p:cNvPr id="313" name=""/>
            <p:cNvSpPr/>
            <p:nvPr/>
          </p:nvSpPr>
          <p:spPr>
            <a:xfrm>
              <a:off x="4191120" y="4724280"/>
              <a:ext cx="1676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B: Tollman taught 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4" name=""/>
            <p:cNvGraphicFramePr/>
            <p:nvPr/>
          </p:nvGraphicFramePr>
          <p:xfrm>
            <a:off x="5181480" y="5257800"/>
            <a:ext cx="1524240" cy="703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81480" y="5257800"/>
                      <a:ext cx="1524240" cy="70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6" name=""/>
            <p:cNvSpPr/>
            <p:nvPr/>
          </p:nvSpPr>
          <p:spPr>
            <a:xfrm>
              <a:off x="6705720" y="5486400"/>
              <a:ext cx="2666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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creasing (divergent)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(r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 flipV="1">
              <a:off x="7162560" y="3962160"/>
              <a:ext cx="60948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>
              <a:off x="7543440" y="3504960"/>
              <a:ext cx="22860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7772400" y="3504960"/>
              <a:ext cx="15228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7772400" y="3504960"/>
              <a:ext cx="53352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5105520" y="3276720"/>
            <a:ext cx="1676160" cy="1472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free field appears at Tem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5867280" y="4116240"/>
          <a:ext cx="901800" cy="60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116240"/>
                    <a:ext cx="9018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2971800" y="6172200"/>
            <a:ext cx="838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3580920" y="1752480"/>
            <a:ext cx="2514600" cy="3353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22C0-7CF9-4C15-9280-76BD9C0690A5}" type="slidenum">
              <a:t>19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228600"/>
            <a:ext cx="77724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hallenges for models of cosmic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1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The cosmological constant problem / links to fundamental grav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2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The “why this/why now”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3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Quantum corrections/long range fo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5535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I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38080" y="2879640"/>
            <a:ext cx="8001000" cy="1989000"/>
            <a:chOff x="838080" y="2879640"/>
            <a:chExt cx="8001000" cy="1989000"/>
          </a:xfrm>
        </p:grpSpPr>
        <p:sp>
          <p:nvSpPr>
            <p:cNvPr id="47" name=""/>
            <p:cNvSpPr/>
            <p:nvPr/>
          </p:nvSpPr>
          <p:spPr>
            <a:xfrm>
              <a:off x="838080" y="2879640"/>
              <a:ext cx="8001000" cy="19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0000"/>
                  </a:solidFill>
                  <a:uFillTx/>
                  <a:latin typeface="Comic Sans MS"/>
                </a:rPr>
                <a:t>II) </a:t>
              </a:r>
              <a:r>
                <a:rPr b="0" lang="en-US" sz="2400" spc="-1" strike="noStrike" u="sng">
                  <a:solidFill>
                    <a:srgbClr val="333399"/>
                  </a:solidFill>
                  <a:uFillTx/>
                  <a:latin typeface="Comic Sans MS"/>
                </a:rPr>
                <a:t>Exciting Dir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1 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The quantum physics of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2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 (adventure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3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I (getting seriou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8" name=""/>
            <p:cNvGraphicFramePr/>
            <p:nvPr/>
          </p:nvGraphicFramePr>
          <p:xfrm>
            <a:off x="5059440" y="3398760"/>
            <a:ext cx="350640" cy="380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59440" y="3398760"/>
                      <a:ext cx="3506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0" name=""/>
          <p:cNvSpPr/>
          <p:nvPr/>
        </p:nvSpPr>
        <p:spPr>
          <a:xfrm>
            <a:off x="0" y="646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Cosmic acceleration and fundamental physics,      APS April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E15A-D636-415E-A1CA-307B473456A9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209680" y="304920"/>
            <a:ext cx="5181840" cy="4597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b)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Holography &amp; the Causal P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9144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usal Patch “unification” hypothe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04920" y="6477120"/>
            <a:ext cx="96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II.1 The quantum physic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4267080" y="6477120"/>
          <a:ext cx="35100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6477120"/>
                    <a:ext cx="3510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380880" y="1371600"/>
            <a:ext cx="266724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bjects never appear to leave the hori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7008840" y="2057400"/>
            <a:ext cx="506520" cy="3031920"/>
            <a:chOff x="7008840" y="2057400"/>
            <a:chExt cx="506520" cy="3031920"/>
          </a:xfrm>
        </p:grpSpPr>
        <p:sp>
          <p:nvSpPr>
            <p:cNvPr id="334" name=""/>
            <p:cNvSpPr/>
            <p:nvPr/>
          </p:nvSpPr>
          <p:spPr>
            <a:xfrm>
              <a:off x="7008840" y="2057400"/>
              <a:ext cx="506520" cy="1584360"/>
            </a:xfrm>
            <a:custGeom>
              <a:avLst/>
              <a:gdLst/>
              <a:ahLst/>
              <a:rect l="l" t="t" r="r" b="b"/>
              <a:pathLst>
                <a:path w="319" h="998">
                  <a:moveTo>
                    <a:pt x="0" y="0"/>
                  </a:moveTo>
                  <a:cubicBezTo>
                    <a:pt x="72" y="128"/>
                    <a:pt x="142" y="267"/>
                    <a:pt x="192" y="384"/>
                  </a:cubicBezTo>
                  <a:cubicBezTo>
                    <a:pt x="242" y="501"/>
                    <a:pt x="277" y="599"/>
                    <a:pt x="298" y="701"/>
                  </a:cubicBezTo>
                  <a:cubicBezTo>
                    <a:pt x="319" y="803"/>
                    <a:pt x="313" y="936"/>
                    <a:pt x="317" y="998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7008840" y="3504600"/>
              <a:ext cx="506520" cy="1584360"/>
            </a:xfrm>
            <a:custGeom>
              <a:avLst/>
              <a:gdLst/>
              <a:ahLst/>
              <a:rect l="l" t="t" r="r" b="b"/>
              <a:pathLst>
                <a:path w="319" h="998">
                  <a:moveTo>
                    <a:pt x="0" y="0"/>
                  </a:moveTo>
                  <a:cubicBezTo>
                    <a:pt x="72" y="128"/>
                    <a:pt x="142" y="267"/>
                    <a:pt x="192" y="384"/>
                  </a:cubicBezTo>
                  <a:cubicBezTo>
                    <a:pt x="242" y="501"/>
                    <a:pt x="277" y="599"/>
                    <a:pt x="298" y="701"/>
                  </a:cubicBezTo>
                  <a:cubicBezTo>
                    <a:pt x="319" y="803"/>
                    <a:pt x="313" y="936"/>
                    <a:pt x="317" y="998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7008840" y="2057400"/>
            <a:ext cx="837720" cy="3031920"/>
            <a:chOff x="7008840" y="2057400"/>
            <a:chExt cx="837720" cy="3031920"/>
          </a:xfrm>
        </p:grpSpPr>
        <p:sp>
          <p:nvSpPr>
            <p:cNvPr id="337" name=""/>
            <p:cNvSpPr/>
            <p:nvPr/>
          </p:nvSpPr>
          <p:spPr>
            <a:xfrm>
              <a:off x="7008840" y="2057400"/>
              <a:ext cx="837720" cy="1584360"/>
            </a:xfrm>
            <a:custGeom>
              <a:avLst/>
              <a:gdLst/>
              <a:ahLst/>
              <a:rect l="l" t="t" r="r" b="b"/>
              <a:pathLst>
                <a:path w="319" h="998">
                  <a:moveTo>
                    <a:pt x="0" y="0"/>
                  </a:moveTo>
                  <a:cubicBezTo>
                    <a:pt x="72" y="128"/>
                    <a:pt x="142" y="267"/>
                    <a:pt x="192" y="384"/>
                  </a:cubicBezTo>
                  <a:cubicBezTo>
                    <a:pt x="242" y="501"/>
                    <a:pt x="277" y="599"/>
                    <a:pt x="298" y="701"/>
                  </a:cubicBezTo>
                  <a:cubicBezTo>
                    <a:pt x="319" y="803"/>
                    <a:pt x="313" y="936"/>
                    <a:pt x="317" y="998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7008840" y="3504600"/>
              <a:ext cx="837720" cy="1584360"/>
            </a:xfrm>
            <a:custGeom>
              <a:avLst/>
              <a:gdLst/>
              <a:ahLst/>
              <a:rect l="l" t="t" r="r" b="b"/>
              <a:pathLst>
                <a:path w="319" h="998">
                  <a:moveTo>
                    <a:pt x="0" y="0"/>
                  </a:moveTo>
                  <a:cubicBezTo>
                    <a:pt x="72" y="128"/>
                    <a:pt x="142" y="267"/>
                    <a:pt x="192" y="384"/>
                  </a:cubicBezTo>
                  <a:cubicBezTo>
                    <a:pt x="242" y="501"/>
                    <a:pt x="277" y="599"/>
                    <a:pt x="298" y="701"/>
                  </a:cubicBezTo>
                  <a:cubicBezTo>
                    <a:pt x="319" y="803"/>
                    <a:pt x="313" y="936"/>
                    <a:pt x="317" y="998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7008840" y="2057400"/>
            <a:ext cx="1142280" cy="3031920"/>
            <a:chOff x="7008840" y="2057400"/>
            <a:chExt cx="1142280" cy="3031920"/>
          </a:xfrm>
        </p:grpSpPr>
        <p:sp>
          <p:nvSpPr>
            <p:cNvPr id="340" name=""/>
            <p:cNvSpPr/>
            <p:nvPr/>
          </p:nvSpPr>
          <p:spPr>
            <a:xfrm>
              <a:off x="7008840" y="2057400"/>
              <a:ext cx="1142280" cy="1584360"/>
            </a:xfrm>
            <a:custGeom>
              <a:avLst/>
              <a:gdLst/>
              <a:ahLst/>
              <a:rect l="l" t="t" r="r" b="b"/>
              <a:pathLst>
                <a:path w="319" h="998">
                  <a:moveTo>
                    <a:pt x="0" y="0"/>
                  </a:moveTo>
                  <a:cubicBezTo>
                    <a:pt x="72" y="128"/>
                    <a:pt x="142" y="267"/>
                    <a:pt x="192" y="384"/>
                  </a:cubicBezTo>
                  <a:cubicBezTo>
                    <a:pt x="242" y="501"/>
                    <a:pt x="277" y="599"/>
                    <a:pt x="298" y="701"/>
                  </a:cubicBezTo>
                  <a:cubicBezTo>
                    <a:pt x="319" y="803"/>
                    <a:pt x="313" y="936"/>
                    <a:pt x="317" y="998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7008840" y="3504600"/>
              <a:ext cx="1142280" cy="1584360"/>
            </a:xfrm>
            <a:custGeom>
              <a:avLst/>
              <a:gdLst/>
              <a:ahLst/>
              <a:rect l="l" t="t" r="r" b="b"/>
              <a:pathLst>
                <a:path w="319" h="998">
                  <a:moveTo>
                    <a:pt x="0" y="0"/>
                  </a:moveTo>
                  <a:cubicBezTo>
                    <a:pt x="72" y="128"/>
                    <a:pt x="142" y="267"/>
                    <a:pt x="192" y="384"/>
                  </a:cubicBezTo>
                  <a:cubicBezTo>
                    <a:pt x="242" y="501"/>
                    <a:pt x="277" y="599"/>
                    <a:pt x="298" y="701"/>
                  </a:cubicBezTo>
                  <a:cubicBezTo>
                    <a:pt x="319" y="803"/>
                    <a:pt x="313" y="936"/>
                    <a:pt x="317" y="998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7008840" y="205740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008840" y="3657600"/>
            <a:ext cx="1905120" cy="1447920"/>
          </a:xfrm>
          <a:prstGeom prst="line">
            <a:avLst/>
          </a:prstGeom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008840" y="2057400"/>
            <a:ext cx="1905120" cy="1600200"/>
          </a:xfrm>
          <a:prstGeom prst="line">
            <a:avLst/>
          </a:prstGeom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6932520" y="3657600"/>
            <a:ext cx="198144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993000" y="3200400"/>
            <a:ext cx="1890720" cy="473040"/>
          </a:xfrm>
          <a:custGeom>
            <a:avLst/>
            <a:gdLst/>
            <a:ahLst/>
            <a:rect l="l" t="t" r="r" b="b"/>
            <a:pathLst>
              <a:path w="1191" h="365">
                <a:moveTo>
                  <a:pt x="1191" y="365"/>
                </a:moveTo>
                <a:cubicBezTo>
                  <a:pt x="1140" y="341"/>
                  <a:pt x="999" y="261"/>
                  <a:pt x="874" y="211"/>
                </a:cubicBezTo>
                <a:cubicBezTo>
                  <a:pt x="749" y="161"/>
                  <a:pt x="554" y="99"/>
                  <a:pt x="442" y="67"/>
                </a:cubicBezTo>
                <a:cubicBezTo>
                  <a:pt x="330" y="35"/>
                  <a:pt x="276" y="30"/>
                  <a:pt x="202" y="19"/>
                </a:cubicBezTo>
                <a:cubicBezTo>
                  <a:pt x="128" y="8"/>
                  <a:pt x="42" y="4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008840" y="2743200"/>
            <a:ext cx="1890720" cy="960480"/>
          </a:xfrm>
          <a:custGeom>
            <a:avLst/>
            <a:gdLst/>
            <a:ahLst/>
            <a:rect l="l" t="t" r="r" b="b"/>
            <a:pathLst>
              <a:path w="1191" h="365">
                <a:moveTo>
                  <a:pt x="1191" y="365"/>
                </a:moveTo>
                <a:cubicBezTo>
                  <a:pt x="1140" y="341"/>
                  <a:pt x="999" y="261"/>
                  <a:pt x="874" y="211"/>
                </a:cubicBezTo>
                <a:cubicBezTo>
                  <a:pt x="749" y="161"/>
                  <a:pt x="554" y="99"/>
                  <a:pt x="442" y="67"/>
                </a:cubicBezTo>
                <a:cubicBezTo>
                  <a:pt x="330" y="35"/>
                  <a:pt x="276" y="30"/>
                  <a:pt x="202" y="19"/>
                </a:cubicBezTo>
                <a:cubicBezTo>
                  <a:pt x="128" y="8"/>
                  <a:pt x="42" y="4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7008840" y="3641760"/>
            <a:ext cx="1890720" cy="473040"/>
          </a:xfrm>
          <a:custGeom>
            <a:avLst/>
            <a:gdLst/>
            <a:ahLst/>
            <a:rect l="l" t="t" r="r" b="b"/>
            <a:pathLst>
              <a:path w="1191" h="365">
                <a:moveTo>
                  <a:pt x="1191" y="365"/>
                </a:moveTo>
                <a:cubicBezTo>
                  <a:pt x="1140" y="341"/>
                  <a:pt x="999" y="261"/>
                  <a:pt x="874" y="211"/>
                </a:cubicBezTo>
                <a:cubicBezTo>
                  <a:pt x="749" y="161"/>
                  <a:pt x="554" y="99"/>
                  <a:pt x="442" y="67"/>
                </a:cubicBezTo>
                <a:cubicBezTo>
                  <a:pt x="330" y="35"/>
                  <a:pt x="276" y="30"/>
                  <a:pt x="202" y="19"/>
                </a:cubicBezTo>
                <a:cubicBezTo>
                  <a:pt x="128" y="8"/>
                  <a:pt x="42" y="4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7024680" y="3611520"/>
            <a:ext cx="1890720" cy="960480"/>
          </a:xfrm>
          <a:custGeom>
            <a:avLst/>
            <a:gdLst/>
            <a:ahLst/>
            <a:rect l="l" t="t" r="r" b="b"/>
            <a:pathLst>
              <a:path w="1191" h="365">
                <a:moveTo>
                  <a:pt x="1191" y="365"/>
                </a:moveTo>
                <a:cubicBezTo>
                  <a:pt x="1140" y="341"/>
                  <a:pt x="999" y="261"/>
                  <a:pt x="874" y="211"/>
                </a:cubicBezTo>
                <a:cubicBezTo>
                  <a:pt x="749" y="161"/>
                  <a:pt x="554" y="99"/>
                  <a:pt x="442" y="67"/>
                </a:cubicBezTo>
                <a:cubicBezTo>
                  <a:pt x="330" y="35"/>
                  <a:pt x="276" y="30"/>
                  <a:pt x="202" y="19"/>
                </a:cubicBezTo>
                <a:cubicBezTo>
                  <a:pt x="128" y="8"/>
                  <a:pt x="42" y="4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027920" y="2057400"/>
            <a:ext cx="560160" cy="3035160"/>
            <a:chOff x="7027920" y="2057400"/>
            <a:chExt cx="560160" cy="3035160"/>
          </a:xfrm>
        </p:grpSpPr>
        <p:sp>
          <p:nvSpPr>
            <p:cNvPr id="351" name=""/>
            <p:cNvSpPr/>
            <p:nvPr/>
          </p:nvSpPr>
          <p:spPr>
            <a:xfrm>
              <a:off x="7066080" y="2057400"/>
              <a:ext cx="522000" cy="1585800"/>
            </a:xfrm>
            <a:custGeom>
              <a:avLst/>
              <a:gdLst/>
              <a:ahLst/>
              <a:rect l="l" t="t" r="r" b="b"/>
              <a:pathLst>
                <a:path w="329" h="999">
                  <a:moveTo>
                    <a:pt x="11" y="0"/>
                  </a:moveTo>
                  <a:cubicBezTo>
                    <a:pt x="13" y="26"/>
                    <a:pt x="0" y="111"/>
                    <a:pt x="22" y="159"/>
                  </a:cubicBezTo>
                  <a:cubicBezTo>
                    <a:pt x="44" y="207"/>
                    <a:pt x="121" y="237"/>
                    <a:pt x="143" y="290"/>
                  </a:cubicBezTo>
                  <a:cubicBezTo>
                    <a:pt x="165" y="343"/>
                    <a:pt x="132" y="427"/>
                    <a:pt x="152" y="475"/>
                  </a:cubicBezTo>
                  <a:cubicBezTo>
                    <a:pt x="172" y="523"/>
                    <a:pt x="248" y="525"/>
                    <a:pt x="263" y="578"/>
                  </a:cubicBezTo>
                  <a:cubicBezTo>
                    <a:pt x="278" y="631"/>
                    <a:pt x="231" y="738"/>
                    <a:pt x="241" y="794"/>
                  </a:cubicBezTo>
                  <a:cubicBezTo>
                    <a:pt x="251" y="850"/>
                    <a:pt x="319" y="881"/>
                    <a:pt x="324" y="915"/>
                  </a:cubicBezTo>
                  <a:cubicBezTo>
                    <a:pt x="329" y="949"/>
                    <a:pt x="280" y="982"/>
                    <a:pt x="268" y="999"/>
                  </a:cubicBezTo>
                </a:path>
              </a:pathLst>
            </a:custGeom>
            <a:noFill/>
            <a:ln w="38160">
              <a:solidFill>
                <a:srgbClr val="fd80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27920" y="3639960"/>
              <a:ext cx="496800" cy="1452600"/>
            </a:xfrm>
            <a:custGeom>
              <a:avLst/>
              <a:gdLst/>
              <a:ahLst/>
              <a:rect l="l" t="t" r="r" b="b"/>
              <a:pathLst>
                <a:path w="313" h="915">
                  <a:moveTo>
                    <a:pt x="0" y="915"/>
                  </a:moveTo>
                  <a:cubicBezTo>
                    <a:pt x="5" y="888"/>
                    <a:pt x="10" y="802"/>
                    <a:pt x="32" y="754"/>
                  </a:cubicBezTo>
                  <a:cubicBezTo>
                    <a:pt x="54" y="706"/>
                    <a:pt x="109" y="673"/>
                    <a:pt x="132" y="625"/>
                  </a:cubicBezTo>
                  <a:cubicBezTo>
                    <a:pt x="155" y="577"/>
                    <a:pt x="147" y="513"/>
                    <a:pt x="172" y="466"/>
                  </a:cubicBezTo>
                  <a:cubicBezTo>
                    <a:pt x="197" y="419"/>
                    <a:pt x="268" y="404"/>
                    <a:pt x="283" y="345"/>
                  </a:cubicBezTo>
                  <a:cubicBezTo>
                    <a:pt x="298" y="286"/>
                    <a:pt x="260" y="170"/>
                    <a:pt x="265" y="113"/>
                  </a:cubicBezTo>
                  <a:cubicBezTo>
                    <a:pt x="270" y="56"/>
                    <a:pt x="303" y="24"/>
                    <a:pt x="313" y="0"/>
                  </a:cubicBezTo>
                </a:path>
              </a:pathLst>
            </a:custGeom>
            <a:noFill/>
            <a:ln w="38160">
              <a:solidFill>
                <a:srgbClr val="fd80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7010280" y="2057400"/>
            <a:ext cx="152280" cy="3035160"/>
            <a:chOff x="7010280" y="2057400"/>
            <a:chExt cx="152280" cy="3035160"/>
          </a:xfrm>
        </p:grpSpPr>
        <p:sp>
          <p:nvSpPr>
            <p:cNvPr id="354" name=""/>
            <p:cNvSpPr/>
            <p:nvPr/>
          </p:nvSpPr>
          <p:spPr>
            <a:xfrm>
              <a:off x="7020360" y="2057400"/>
              <a:ext cx="142200" cy="1585800"/>
            </a:xfrm>
            <a:custGeom>
              <a:avLst/>
              <a:gdLst/>
              <a:ahLst/>
              <a:rect l="l" t="t" r="r" b="b"/>
              <a:pathLst>
                <a:path w="329" h="999">
                  <a:moveTo>
                    <a:pt x="11" y="0"/>
                  </a:moveTo>
                  <a:cubicBezTo>
                    <a:pt x="13" y="26"/>
                    <a:pt x="0" y="111"/>
                    <a:pt x="22" y="159"/>
                  </a:cubicBezTo>
                  <a:cubicBezTo>
                    <a:pt x="44" y="207"/>
                    <a:pt x="121" y="237"/>
                    <a:pt x="143" y="290"/>
                  </a:cubicBezTo>
                  <a:cubicBezTo>
                    <a:pt x="165" y="343"/>
                    <a:pt x="132" y="427"/>
                    <a:pt x="152" y="475"/>
                  </a:cubicBezTo>
                  <a:cubicBezTo>
                    <a:pt x="172" y="523"/>
                    <a:pt x="248" y="525"/>
                    <a:pt x="263" y="578"/>
                  </a:cubicBezTo>
                  <a:cubicBezTo>
                    <a:pt x="278" y="631"/>
                    <a:pt x="231" y="738"/>
                    <a:pt x="241" y="794"/>
                  </a:cubicBezTo>
                  <a:cubicBezTo>
                    <a:pt x="251" y="850"/>
                    <a:pt x="319" y="881"/>
                    <a:pt x="324" y="915"/>
                  </a:cubicBezTo>
                  <a:cubicBezTo>
                    <a:pt x="329" y="949"/>
                    <a:pt x="280" y="982"/>
                    <a:pt x="268" y="999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010280" y="3639960"/>
              <a:ext cx="135360" cy="1452600"/>
            </a:xfrm>
            <a:custGeom>
              <a:avLst/>
              <a:gdLst/>
              <a:ahLst/>
              <a:rect l="l" t="t" r="r" b="b"/>
              <a:pathLst>
                <a:path w="313" h="915">
                  <a:moveTo>
                    <a:pt x="0" y="915"/>
                  </a:moveTo>
                  <a:cubicBezTo>
                    <a:pt x="5" y="888"/>
                    <a:pt x="10" y="802"/>
                    <a:pt x="32" y="754"/>
                  </a:cubicBezTo>
                  <a:cubicBezTo>
                    <a:pt x="54" y="706"/>
                    <a:pt x="109" y="673"/>
                    <a:pt x="132" y="625"/>
                  </a:cubicBezTo>
                  <a:cubicBezTo>
                    <a:pt x="155" y="577"/>
                    <a:pt x="147" y="513"/>
                    <a:pt x="172" y="466"/>
                  </a:cubicBezTo>
                  <a:cubicBezTo>
                    <a:pt x="197" y="419"/>
                    <a:pt x="268" y="404"/>
                    <a:pt x="283" y="345"/>
                  </a:cubicBezTo>
                  <a:cubicBezTo>
                    <a:pt x="298" y="286"/>
                    <a:pt x="260" y="170"/>
                    <a:pt x="265" y="113"/>
                  </a:cubicBezTo>
                  <a:cubicBezTo>
                    <a:pt x="270" y="56"/>
                    <a:pt x="303" y="24"/>
                    <a:pt x="313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7010280" y="2057400"/>
            <a:ext cx="913680" cy="3035160"/>
            <a:chOff x="7010280" y="2057400"/>
            <a:chExt cx="913680" cy="3035160"/>
          </a:xfrm>
        </p:grpSpPr>
        <p:sp>
          <p:nvSpPr>
            <p:cNvPr id="357" name=""/>
            <p:cNvSpPr/>
            <p:nvPr/>
          </p:nvSpPr>
          <p:spPr>
            <a:xfrm>
              <a:off x="7072200" y="2057400"/>
              <a:ext cx="851760" cy="1585800"/>
            </a:xfrm>
            <a:custGeom>
              <a:avLst/>
              <a:gdLst/>
              <a:ahLst/>
              <a:rect l="l" t="t" r="r" b="b"/>
              <a:pathLst>
                <a:path w="329" h="999">
                  <a:moveTo>
                    <a:pt x="11" y="0"/>
                  </a:moveTo>
                  <a:cubicBezTo>
                    <a:pt x="13" y="26"/>
                    <a:pt x="0" y="111"/>
                    <a:pt x="22" y="159"/>
                  </a:cubicBezTo>
                  <a:cubicBezTo>
                    <a:pt x="44" y="207"/>
                    <a:pt x="121" y="237"/>
                    <a:pt x="143" y="290"/>
                  </a:cubicBezTo>
                  <a:cubicBezTo>
                    <a:pt x="165" y="343"/>
                    <a:pt x="132" y="427"/>
                    <a:pt x="152" y="475"/>
                  </a:cubicBezTo>
                  <a:cubicBezTo>
                    <a:pt x="172" y="523"/>
                    <a:pt x="248" y="525"/>
                    <a:pt x="263" y="578"/>
                  </a:cubicBezTo>
                  <a:cubicBezTo>
                    <a:pt x="278" y="631"/>
                    <a:pt x="231" y="738"/>
                    <a:pt x="241" y="794"/>
                  </a:cubicBezTo>
                  <a:cubicBezTo>
                    <a:pt x="251" y="850"/>
                    <a:pt x="319" y="881"/>
                    <a:pt x="324" y="915"/>
                  </a:cubicBezTo>
                  <a:cubicBezTo>
                    <a:pt x="329" y="949"/>
                    <a:pt x="280" y="982"/>
                    <a:pt x="268" y="999"/>
                  </a:cubicBezTo>
                </a:path>
              </a:pathLst>
            </a:custGeom>
            <a:noFill/>
            <a:ln w="38160">
              <a:solidFill>
                <a:srgbClr val="059f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10280" y="3639960"/>
              <a:ext cx="810720" cy="1452600"/>
            </a:xfrm>
            <a:custGeom>
              <a:avLst/>
              <a:gdLst/>
              <a:ahLst/>
              <a:rect l="l" t="t" r="r" b="b"/>
              <a:pathLst>
                <a:path w="313" h="915">
                  <a:moveTo>
                    <a:pt x="0" y="915"/>
                  </a:moveTo>
                  <a:cubicBezTo>
                    <a:pt x="5" y="888"/>
                    <a:pt x="10" y="802"/>
                    <a:pt x="32" y="754"/>
                  </a:cubicBezTo>
                  <a:cubicBezTo>
                    <a:pt x="54" y="706"/>
                    <a:pt x="109" y="673"/>
                    <a:pt x="132" y="625"/>
                  </a:cubicBezTo>
                  <a:cubicBezTo>
                    <a:pt x="155" y="577"/>
                    <a:pt x="147" y="513"/>
                    <a:pt x="172" y="466"/>
                  </a:cubicBezTo>
                  <a:cubicBezTo>
                    <a:pt x="197" y="419"/>
                    <a:pt x="268" y="404"/>
                    <a:pt x="283" y="345"/>
                  </a:cubicBezTo>
                  <a:cubicBezTo>
                    <a:pt x="298" y="286"/>
                    <a:pt x="260" y="170"/>
                    <a:pt x="265" y="113"/>
                  </a:cubicBezTo>
                  <a:cubicBezTo>
                    <a:pt x="270" y="56"/>
                    <a:pt x="303" y="24"/>
                    <a:pt x="313" y="0"/>
                  </a:cubicBezTo>
                </a:path>
              </a:pathLst>
            </a:custGeom>
            <a:noFill/>
            <a:ln w="38160">
              <a:solidFill>
                <a:srgbClr val="059f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7010280" y="2057400"/>
            <a:ext cx="1294920" cy="3035160"/>
            <a:chOff x="7010280" y="2057400"/>
            <a:chExt cx="1294920" cy="3035160"/>
          </a:xfrm>
        </p:grpSpPr>
        <p:sp>
          <p:nvSpPr>
            <p:cNvPr id="360" name=""/>
            <p:cNvSpPr/>
            <p:nvPr/>
          </p:nvSpPr>
          <p:spPr>
            <a:xfrm>
              <a:off x="7098480" y="2057400"/>
              <a:ext cx="1206720" cy="1585800"/>
            </a:xfrm>
            <a:custGeom>
              <a:avLst/>
              <a:gdLst/>
              <a:ahLst/>
              <a:rect l="l" t="t" r="r" b="b"/>
              <a:pathLst>
                <a:path w="329" h="999">
                  <a:moveTo>
                    <a:pt x="11" y="0"/>
                  </a:moveTo>
                  <a:cubicBezTo>
                    <a:pt x="13" y="26"/>
                    <a:pt x="0" y="111"/>
                    <a:pt x="22" y="159"/>
                  </a:cubicBezTo>
                  <a:cubicBezTo>
                    <a:pt x="44" y="207"/>
                    <a:pt x="121" y="237"/>
                    <a:pt x="143" y="290"/>
                  </a:cubicBezTo>
                  <a:cubicBezTo>
                    <a:pt x="165" y="343"/>
                    <a:pt x="132" y="427"/>
                    <a:pt x="152" y="475"/>
                  </a:cubicBezTo>
                  <a:cubicBezTo>
                    <a:pt x="172" y="523"/>
                    <a:pt x="248" y="525"/>
                    <a:pt x="263" y="578"/>
                  </a:cubicBezTo>
                  <a:cubicBezTo>
                    <a:pt x="278" y="631"/>
                    <a:pt x="231" y="738"/>
                    <a:pt x="241" y="794"/>
                  </a:cubicBezTo>
                  <a:cubicBezTo>
                    <a:pt x="251" y="850"/>
                    <a:pt x="319" y="881"/>
                    <a:pt x="324" y="915"/>
                  </a:cubicBezTo>
                  <a:cubicBezTo>
                    <a:pt x="329" y="949"/>
                    <a:pt x="280" y="982"/>
                    <a:pt x="268" y="999"/>
                  </a:cubicBezTo>
                </a:path>
              </a:pathLst>
            </a:custGeom>
            <a:noFill/>
            <a:ln w="38160">
              <a:solidFill>
                <a:srgbClr val="3301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10280" y="3639960"/>
              <a:ext cx="1148400" cy="1452600"/>
            </a:xfrm>
            <a:custGeom>
              <a:avLst/>
              <a:gdLst/>
              <a:ahLst/>
              <a:rect l="l" t="t" r="r" b="b"/>
              <a:pathLst>
                <a:path w="313" h="915">
                  <a:moveTo>
                    <a:pt x="0" y="915"/>
                  </a:moveTo>
                  <a:cubicBezTo>
                    <a:pt x="5" y="888"/>
                    <a:pt x="10" y="802"/>
                    <a:pt x="32" y="754"/>
                  </a:cubicBezTo>
                  <a:cubicBezTo>
                    <a:pt x="54" y="706"/>
                    <a:pt x="109" y="673"/>
                    <a:pt x="132" y="625"/>
                  </a:cubicBezTo>
                  <a:cubicBezTo>
                    <a:pt x="155" y="577"/>
                    <a:pt x="147" y="513"/>
                    <a:pt x="172" y="466"/>
                  </a:cubicBezTo>
                  <a:cubicBezTo>
                    <a:pt x="197" y="419"/>
                    <a:pt x="268" y="404"/>
                    <a:pt x="283" y="345"/>
                  </a:cubicBezTo>
                  <a:cubicBezTo>
                    <a:pt x="298" y="286"/>
                    <a:pt x="260" y="170"/>
                    <a:pt x="265" y="113"/>
                  </a:cubicBezTo>
                  <a:cubicBezTo>
                    <a:pt x="270" y="56"/>
                    <a:pt x="303" y="24"/>
                    <a:pt x="313" y="0"/>
                  </a:cubicBezTo>
                </a:path>
              </a:pathLst>
            </a:custGeom>
            <a:noFill/>
            <a:ln w="38160">
              <a:solidFill>
                <a:srgbClr val="3301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3200400" y="1371600"/>
            <a:ext cx="327672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free field appears at Temp.                    (divergent at horiz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6200000">
            <a:off x="2895480" y="-152280"/>
            <a:ext cx="380880" cy="5715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149040 h 5715000"/>
              <a:gd name="textAreaBottom" fmla="*/ 5565960 h 571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2819520"/>
            <a:ext cx="5181480" cy="35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olographic (quantum gravity) “magic” g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utoff for “divergent” entropy at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000099"/>
                </a:solidFill>
                <a:latin typeface="Arial"/>
              </a:rPr>
              <a:t>H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area entropy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“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ll Physics” inside causal patch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.  Objects thermalize as they approach the horizon (no “outside” = no “inside” of Black Ho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istency of the above across different observ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end of inflation? (Dyson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et al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’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40080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934320" y="3581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534520" y="3429000"/>
            <a:ext cx="533160" cy="4572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172200" y="533412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observer sees divergent entropy here, cut off by quantum grav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6781680" y="3733920"/>
            <a:ext cx="152640" cy="1676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8305920" y="3886200"/>
            <a:ext cx="3808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20120" y="304920"/>
            <a:ext cx="129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9f01"/>
                </a:solidFill>
                <a:latin typeface="Arial"/>
              </a:rPr>
              <a:t>Banks Bousso Fischler t’Hooft Sussk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924680" y="1981080"/>
            <a:ext cx="121932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phys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4114800" y="1704960"/>
          <a:ext cx="1214280" cy="352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14800" y="1704960"/>
                    <a:ext cx="12142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1BC1-5471-4BF2-B009-006F08AF1388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57200" y="304920"/>
            <a:ext cx="8381880" cy="4597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i)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Other constraints on fundamental theories with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1219320"/>
            <a:ext cx="7772400" cy="18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o scattering states exist?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(Banks, Fischl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oes string theory exist in de Sitter space?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(see Kachru </a:t>
            </a:r>
            <a:r>
              <a:rPr b="0" i="1" lang="en-US" sz="2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et al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  ’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oes quantum de Sitter space exist?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(Goheer et al ’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04920" y="6477120"/>
            <a:ext cx="96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II.1 The quantum physic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4267080" y="6477120"/>
          <a:ext cx="35100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6477120"/>
                    <a:ext cx="3510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38F7-5628-4279-ADD0-4A243EEEF0BA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57200" y="304920"/>
            <a:ext cx="8381880" cy="4597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ii)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Causal set theory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of gravity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09480" y="3124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 prediction of causal set theory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2819520" y="1378080"/>
          <a:ext cx="259056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378080"/>
                    <a:ext cx="259056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"/>
          <p:cNvSpPr/>
          <p:nvPr/>
        </p:nvSpPr>
        <p:spPr>
          <a:xfrm>
            <a:off x="4876920" y="47242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(Ahmed et al. Sep 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04920" y="6477120"/>
            <a:ext cx="96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II.1 The quantum physic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4267080" y="6477120"/>
          <a:ext cx="35100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6477120"/>
                    <a:ext cx="3510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F38F-7F5B-4688-A402-28A3EE1BAF4D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295280" y="3429000"/>
            <a:ext cx="7162920" cy="4572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38080" y="228600"/>
            <a:ext cx="77724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hallenges for models of cosmic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1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The cosmological constant problem / links to fundamental grav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2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The “why this/why now”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3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Quantum corrections/long range fo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38080" y="5535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I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838080" y="2879640"/>
            <a:ext cx="8001000" cy="1989000"/>
            <a:chOff x="838080" y="2879640"/>
            <a:chExt cx="8001000" cy="1989000"/>
          </a:xfrm>
        </p:grpSpPr>
        <p:sp>
          <p:nvSpPr>
            <p:cNvPr id="394" name=""/>
            <p:cNvSpPr/>
            <p:nvPr/>
          </p:nvSpPr>
          <p:spPr>
            <a:xfrm>
              <a:off x="838080" y="2879640"/>
              <a:ext cx="8001000" cy="19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0000"/>
                  </a:solidFill>
                  <a:uFillTx/>
                  <a:latin typeface="Comic Sans MS"/>
                </a:rPr>
                <a:t>II) </a:t>
              </a:r>
              <a:r>
                <a:rPr b="0" lang="en-US" sz="2400" spc="-1" strike="noStrike" u="sng">
                  <a:solidFill>
                    <a:srgbClr val="333399"/>
                  </a:solidFill>
                  <a:uFillTx/>
                  <a:latin typeface="Comic Sans MS"/>
                </a:rPr>
                <a:t>Exciting Dir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1 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The quantum physics of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2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 (adventure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3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I (getting seriou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95" name=""/>
            <p:cNvGraphicFramePr/>
            <p:nvPr/>
          </p:nvGraphicFramePr>
          <p:xfrm>
            <a:off x="5059440" y="3398760"/>
            <a:ext cx="350640" cy="380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59440" y="3398760"/>
                      <a:ext cx="3506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97" name=""/>
          <p:cNvSpPr/>
          <p:nvPr/>
        </p:nvSpPr>
        <p:spPr>
          <a:xfrm>
            <a:off x="0" y="646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Cosmic acceleration and fundamental physics,      APS April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2033-DA58-4F79-A4BF-D8FF017684E1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295280" y="3886200"/>
            <a:ext cx="7162920" cy="4572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38080" y="228600"/>
            <a:ext cx="77724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hallenges for models of cosmic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1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The cosmological constant problem / links to fundamental grav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2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The “why this/why now”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3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Quantum corrections/long range fo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38080" y="5535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I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838080" y="2879640"/>
            <a:ext cx="8001000" cy="1989000"/>
            <a:chOff x="838080" y="2879640"/>
            <a:chExt cx="8001000" cy="1989000"/>
          </a:xfrm>
        </p:grpSpPr>
        <p:sp>
          <p:nvSpPr>
            <p:cNvPr id="403" name=""/>
            <p:cNvSpPr/>
            <p:nvPr/>
          </p:nvSpPr>
          <p:spPr>
            <a:xfrm>
              <a:off x="838080" y="2879640"/>
              <a:ext cx="8001000" cy="19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0000"/>
                  </a:solidFill>
                  <a:uFillTx/>
                  <a:latin typeface="Comic Sans MS"/>
                </a:rPr>
                <a:t>II) </a:t>
              </a:r>
              <a:r>
                <a:rPr b="0" lang="en-US" sz="2400" spc="-1" strike="noStrike" u="sng">
                  <a:solidFill>
                    <a:srgbClr val="333399"/>
                  </a:solidFill>
                  <a:uFillTx/>
                  <a:latin typeface="Comic Sans MS"/>
                </a:rPr>
                <a:t>Exciting Dir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1 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The quantum physics of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2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 (adventure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3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I (getting seriou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04" name=""/>
            <p:cNvGraphicFramePr/>
            <p:nvPr/>
          </p:nvGraphicFramePr>
          <p:xfrm>
            <a:off x="5059440" y="3398760"/>
            <a:ext cx="350640" cy="380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59440" y="3398760"/>
                      <a:ext cx="3506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06" name=""/>
          <p:cNvSpPr/>
          <p:nvPr/>
        </p:nvSpPr>
        <p:spPr>
          <a:xfrm>
            <a:off x="0" y="646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Cosmic acceleration and fundamental physics,      APS April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5D4C-05F1-4D13-8065-E22642849D6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5181480" y="3429000"/>
            <a:ext cx="3962520" cy="31669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762120" y="2444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nflation has taught us how to accelerate the universe with a scalar field… why not try aga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685800" y="1600200"/>
          <a:ext cx="3352680" cy="55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600200"/>
                    <a:ext cx="3352680" cy="552600"/>
                  </a:xfrm>
                  <a:prstGeom prst="rect">
                    <a:avLst/>
                  </a:prstGeom>
                  <a:ln w="9360">
                    <a:solidFill>
                      <a:srgbClr val="ff505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12" name=""/>
          <p:cNvSpPr/>
          <p:nvPr/>
        </p:nvSpPr>
        <p:spPr>
          <a:xfrm>
            <a:off x="838080" y="243828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With    f </a:t>
            </a:r>
            <a:r>
              <a:rPr b="0" i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 10</a:t>
            </a:r>
            <a:r>
              <a:rPr b="0" i="1" lang="en-US" sz="2400" spc="-1" strike="noStrike" baseline="30000">
                <a:solidFill>
                  <a:srgbClr val="333399"/>
                </a:solidFill>
                <a:latin typeface="Times New Roman"/>
              </a:rPr>
              <a:t>18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GeV,    M </a:t>
            </a:r>
            <a:r>
              <a:rPr b="0" i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 10</a:t>
            </a:r>
            <a:r>
              <a:rPr b="0" i="1" lang="en-US" sz="2400" spc="-1" strike="noStrike" baseline="30000">
                <a:solidFill>
                  <a:srgbClr val="333399"/>
                </a:solidFill>
                <a:latin typeface="Times New Roman"/>
              </a:rPr>
              <a:t>-3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33520" y="1447920"/>
            <a:ext cx="6858000" cy="167616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1676520"/>
            <a:ext cx="1447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PNGB: Frieman, Hill, Stebbins, &amp; Waga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609480" y="3505320"/>
          <a:ext cx="2062440" cy="552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480" y="3505320"/>
                    <a:ext cx="2062440" cy="552240"/>
                  </a:xfrm>
                  <a:prstGeom prst="rect">
                    <a:avLst/>
                  </a:prstGeom>
                  <a:ln w="9360">
                    <a:solidFill>
                      <a:srgbClr val="ff505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457200" y="4191120"/>
          <a:ext cx="3819600" cy="598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4191120"/>
                    <a:ext cx="3819600" cy="598320"/>
                  </a:xfrm>
                  <a:prstGeom prst="rect">
                    <a:avLst/>
                  </a:prstGeom>
                  <a:ln w="9360">
                    <a:solidFill>
                      <a:srgbClr val="ff505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19" name=""/>
          <p:cNvSpPr/>
          <p:nvPr/>
        </p:nvSpPr>
        <p:spPr>
          <a:xfrm>
            <a:off x="304920" y="3276720"/>
            <a:ext cx="8381880" cy="289548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57200" y="4952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M=1 meV - 1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819520" y="34290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Zlatev, Wang &amp; Steinhardt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381880" y="5029200"/>
            <a:ext cx="228600" cy="838080"/>
          </a:xfrm>
          <a:prstGeom prst="line">
            <a:avLst/>
          </a:prstGeom>
          <a:ln w="5724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467480" y="4191120"/>
            <a:ext cx="20574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Scalar field domination/ accel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646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II.2 Dark energy/quintessence, Stage I (adventu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B30B-293C-4CA5-B50C-B853C0797200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4800600" y="3081240"/>
            <a:ext cx="3962520" cy="31672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762120" y="2444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nflation has taught us how to accelerate the universe with a scalar field… why not try aga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685800" y="1600200"/>
          <a:ext cx="3352680" cy="55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600200"/>
                    <a:ext cx="3352680" cy="552600"/>
                  </a:xfrm>
                  <a:prstGeom prst="rect">
                    <a:avLst/>
                  </a:prstGeom>
                  <a:ln w="9360">
                    <a:solidFill>
                      <a:srgbClr val="ff505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0" name=""/>
          <p:cNvSpPr/>
          <p:nvPr/>
        </p:nvSpPr>
        <p:spPr>
          <a:xfrm>
            <a:off x="838080" y="243828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With    f </a:t>
            </a:r>
            <a:r>
              <a:rPr b="0" i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 10</a:t>
            </a:r>
            <a:r>
              <a:rPr b="0" i="1" lang="en-US" sz="2400" spc="-1" strike="noStrike" baseline="30000">
                <a:solidFill>
                  <a:srgbClr val="333399"/>
                </a:solidFill>
                <a:latin typeface="Times New Roman"/>
              </a:rPr>
              <a:t>18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GeV,    M </a:t>
            </a:r>
            <a:r>
              <a:rPr b="0" i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 10</a:t>
            </a:r>
            <a:r>
              <a:rPr b="0" i="1" lang="en-US" sz="2400" spc="-1" strike="noStrike" baseline="30000">
                <a:solidFill>
                  <a:srgbClr val="333399"/>
                </a:solidFill>
                <a:latin typeface="Times New Roman"/>
              </a:rPr>
              <a:t>-3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33520" y="1447920"/>
            <a:ext cx="6858000" cy="167616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410080" y="1676520"/>
            <a:ext cx="1447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PNGB: Frieman, Hill, Stebbins, &amp; Waga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609480" y="3505320"/>
          <a:ext cx="2062440" cy="552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480" y="3505320"/>
                    <a:ext cx="2062440" cy="552240"/>
                  </a:xfrm>
                  <a:prstGeom prst="rect">
                    <a:avLst/>
                  </a:prstGeom>
                  <a:ln w="9360">
                    <a:solidFill>
                      <a:srgbClr val="ff505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5" name=""/>
          <p:cNvGraphicFramePr/>
          <p:nvPr/>
        </p:nvGraphicFramePr>
        <p:xfrm>
          <a:off x="457200" y="4191120"/>
          <a:ext cx="3819600" cy="598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4191120"/>
                    <a:ext cx="3819600" cy="598320"/>
                  </a:xfrm>
                  <a:prstGeom prst="rect">
                    <a:avLst/>
                  </a:prstGeom>
                  <a:ln w="9360">
                    <a:solidFill>
                      <a:srgbClr val="ff505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7" name=""/>
          <p:cNvSpPr/>
          <p:nvPr/>
        </p:nvSpPr>
        <p:spPr>
          <a:xfrm>
            <a:off x="304920" y="3276720"/>
            <a:ext cx="8381880" cy="289548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" y="4952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M=1 meV - 1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819520" y="34290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Zlatev, Wang &amp; Steinhardt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381880" y="5029200"/>
            <a:ext cx="228600" cy="838080"/>
          </a:xfrm>
          <a:prstGeom prst="line">
            <a:avLst/>
          </a:prstGeom>
          <a:ln w="5724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467480" y="4191120"/>
            <a:ext cx="20574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Scalar field domination/ accel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219320"/>
            <a:ext cx="20574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N.B Resurrect the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0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d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646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II.2 Dark energy/quintessence, Stage I (adventu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11A7-B4DF-41EC-A5E3-4463B99A580D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762120" y="24444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Some more scalar field models of dark ener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5029200" y="1450800"/>
            <a:ext cx="3860640" cy="350208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5638680" y="52578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Dodelson Kaplinghat &amp; Stewart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90360" y="1295280"/>
            <a:ext cx="4862160" cy="2489760"/>
            <a:chOff x="90360" y="1295280"/>
            <a:chExt cx="4862160" cy="2489760"/>
          </a:xfrm>
        </p:grpSpPr>
        <p:pic>
          <p:nvPicPr>
            <p:cNvPr id="449" name="" descr=""/>
            <p:cNvPicPr/>
            <p:nvPr/>
          </p:nvPicPr>
          <p:blipFill>
            <a:blip r:embed="rId2"/>
            <a:srcRect l="0" t="7466" r="0" b="49281"/>
            <a:stretch/>
          </p:blipFill>
          <p:spPr>
            <a:xfrm>
              <a:off x="90360" y="1295280"/>
              <a:ext cx="4439520" cy="23698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50" name=""/>
            <p:cNvGraphicFramePr/>
            <p:nvPr/>
          </p:nvGraphicFramePr>
          <p:xfrm>
            <a:off x="2147760" y="1295280"/>
            <a:ext cx="531000" cy="474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47760" y="1295280"/>
                      <a:ext cx="531000" cy="47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2" name=""/>
            <p:cNvSpPr/>
            <p:nvPr/>
          </p:nvSpPr>
          <p:spPr>
            <a:xfrm flipH="1">
              <a:off x="1991520" y="1643760"/>
              <a:ext cx="150840" cy="55728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3043800" y="1643760"/>
              <a:ext cx="150840" cy="5572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54" name=""/>
            <p:cNvGraphicFramePr/>
            <p:nvPr/>
          </p:nvGraphicFramePr>
          <p:xfrm>
            <a:off x="4421520" y="1364760"/>
            <a:ext cx="531000" cy="531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421520" y="1364760"/>
                      <a:ext cx="531000" cy="53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6" name=""/>
            <p:cNvSpPr/>
            <p:nvPr/>
          </p:nvSpPr>
          <p:spPr>
            <a:xfrm flipH="1">
              <a:off x="3821400" y="1643760"/>
              <a:ext cx="589680" cy="487440"/>
            </a:xfrm>
            <a:prstGeom prst="line">
              <a:avLst/>
            </a:prstGeom>
            <a:ln w="5724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122280" y="1629360"/>
              <a:ext cx="53640" cy="210528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73240" y="3386160"/>
              <a:ext cx="135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99"/>
                  </a:solidFill>
                  <a:latin typeface="Comic Sans MS"/>
                </a:rPr>
                <a:t>Time </a:t>
              </a:r>
              <a:r>
                <a:rPr b="0" i="1" lang="en-US" sz="2000" spc="-1" strike="noStrike">
                  <a:solidFill>
                    <a:srgbClr val="333399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59" name=""/>
          <p:cNvGraphicFramePr/>
          <p:nvPr/>
        </p:nvGraphicFramePr>
        <p:xfrm>
          <a:off x="2909880" y="1066680"/>
          <a:ext cx="824040" cy="519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09880" y="1066680"/>
                    <a:ext cx="82404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1" name=""/>
          <p:cNvSpPr/>
          <p:nvPr/>
        </p:nvSpPr>
        <p:spPr>
          <a:xfrm>
            <a:off x="685800" y="39625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lbrecht &amp; Skordis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638680" y="89856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Oscill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990720" y="83808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Shado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" y="51814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There are </a:t>
            </a: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many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other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646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II.2 Dark energy/quintessence, Stage I (adventu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2CF3-0D8C-4BAC-A138-502F657D8207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609480" y="3049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A note about the “why this/now”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143000" y="1371600"/>
            <a:ext cx="68580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Essentially all existing quintessence models “solve” it by relating        to parameters in the quintessence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Attractor behavior gets rid of initial conditions 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How compelling this “solution” is depends on how convinced you are that nature has chosen those parame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4191120" y="1836720"/>
          <a:ext cx="60948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836720"/>
                    <a:ext cx="609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"/>
          <p:cNvSpPr/>
          <p:nvPr/>
        </p:nvSpPr>
        <p:spPr>
          <a:xfrm>
            <a:off x="0" y="646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II.2 Dark energy/quintessence, Stage I (adventu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DDC2-A277-44B0-8879-4621A8061AF7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609480" y="3049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A note about Quantum corrections/long range for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143000" y="13716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Almost all models of dynamical dark energy/quintessence completely ignore these issues.   </a:t>
            </a:r>
            <a:r>
              <a:rPr b="0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“adventur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1828800" y="2584440"/>
            <a:ext cx="5562720" cy="358776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0" y="646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II.2 Dark energy/quintessence, Stage I (adventu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692B-C6B4-4C82-8F66-0116491DCCDB}" type="slidenum">
              <a:t>29</a:t>
            </a:fld>
          </a:p>
        </p:txBody>
      </p: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95280" y="762120"/>
            <a:ext cx="7162920" cy="7617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228600"/>
            <a:ext cx="77724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hallenges for models of cosmic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1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The cosmological constant problem / links to fundamental grav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2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The “why this/why now”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3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Quantum corrections/long range fo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5535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I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838080" y="2879640"/>
            <a:ext cx="8001000" cy="1989000"/>
            <a:chOff x="838080" y="2879640"/>
            <a:chExt cx="8001000" cy="1989000"/>
          </a:xfrm>
        </p:grpSpPr>
        <p:sp>
          <p:nvSpPr>
            <p:cNvPr id="56" name=""/>
            <p:cNvSpPr/>
            <p:nvPr/>
          </p:nvSpPr>
          <p:spPr>
            <a:xfrm>
              <a:off x="838080" y="2879640"/>
              <a:ext cx="8001000" cy="19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0000"/>
                  </a:solidFill>
                  <a:uFillTx/>
                  <a:latin typeface="Comic Sans MS"/>
                </a:rPr>
                <a:t>II) </a:t>
              </a:r>
              <a:r>
                <a:rPr b="0" lang="en-US" sz="2400" spc="-1" strike="noStrike" u="sng">
                  <a:solidFill>
                    <a:srgbClr val="333399"/>
                  </a:solidFill>
                  <a:uFillTx/>
                  <a:latin typeface="Comic Sans MS"/>
                </a:rPr>
                <a:t>Exciting Dir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1 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The quantum physics of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2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 (adventure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3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I (getting seriou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7" name=""/>
            <p:cNvGraphicFramePr/>
            <p:nvPr/>
          </p:nvGraphicFramePr>
          <p:xfrm>
            <a:off x="5059440" y="3398760"/>
            <a:ext cx="350640" cy="380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59440" y="3398760"/>
                      <a:ext cx="3506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9" name=""/>
          <p:cNvSpPr/>
          <p:nvPr/>
        </p:nvSpPr>
        <p:spPr>
          <a:xfrm>
            <a:off x="0" y="646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Cosmic acceleration and fundamental physics,      APS April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C2D8-69D9-451B-A530-53CC9E2B1062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1295280" y="3886200"/>
            <a:ext cx="7162920" cy="4572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38080" y="228600"/>
            <a:ext cx="77724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hallenges for models of cosmic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1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The cosmological constant problem / links to fundamental grav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2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The “why this/why now”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3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Quantum corrections/long range fo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38080" y="5535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I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838080" y="2879640"/>
            <a:ext cx="8001000" cy="1989000"/>
            <a:chOff x="838080" y="2879640"/>
            <a:chExt cx="8001000" cy="1989000"/>
          </a:xfrm>
        </p:grpSpPr>
        <p:sp>
          <p:nvSpPr>
            <p:cNvPr id="482" name=""/>
            <p:cNvSpPr/>
            <p:nvPr/>
          </p:nvSpPr>
          <p:spPr>
            <a:xfrm>
              <a:off x="838080" y="2879640"/>
              <a:ext cx="8001000" cy="19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0000"/>
                  </a:solidFill>
                  <a:uFillTx/>
                  <a:latin typeface="Comic Sans MS"/>
                </a:rPr>
                <a:t>II) </a:t>
              </a:r>
              <a:r>
                <a:rPr b="0" lang="en-US" sz="2400" spc="-1" strike="noStrike" u="sng">
                  <a:solidFill>
                    <a:srgbClr val="333399"/>
                  </a:solidFill>
                  <a:uFillTx/>
                  <a:latin typeface="Comic Sans MS"/>
                </a:rPr>
                <a:t>Exciting Dir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1 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The quantum physics of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2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 (adventure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3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I (getting seriou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83" name=""/>
            <p:cNvGraphicFramePr/>
            <p:nvPr/>
          </p:nvGraphicFramePr>
          <p:xfrm>
            <a:off x="5059440" y="3398760"/>
            <a:ext cx="350640" cy="380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59440" y="3398760"/>
                      <a:ext cx="3506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85" name=""/>
          <p:cNvSpPr/>
          <p:nvPr/>
        </p:nvSpPr>
        <p:spPr>
          <a:xfrm>
            <a:off x="0" y="646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Cosmic acceleration and fundamental physics,      APS April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1300-5030-4E33-9310-3FB99812199F}" type="slidenum">
              <a:t>30</a:t>
            </a:fld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1295280" y="4419720"/>
            <a:ext cx="7162920" cy="7617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38080" y="228600"/>
            <a:ext cx="77724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hallenges for models of cosmic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1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The cosmological constant problem / links to fundamental grav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2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The “why this/why now”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3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Quantum corrections/long range fo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38080" y="5535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I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838080" y="2879640"/>
            <a:ext cx="8001000" cy="1989000"/>
            <a:chOff x="838080" y="2879640"/>
            <a:chExt cx="8001000" cy="1989000"/>
          </a:xfrm>
        </p:grpSpPr>
        <p:sp>
          <p:nvSpPr>
            <p:cNvPr id="491" name=""/>
            <p:cNvSpPr/>
            <p:nvPr/>
          </p:nvSpPr>
          <p:spPr>
            <a:xfrm>
              <a:off x="838080" y="2879640"/>
              <a:ext cx="8001000" cy="19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0000"/>
                  </a:solidFill>
                  <a:uFillTx/>
                  <a:latin typeface="Comic Sans MS"/>
                </a:rPr>
                <a:t>II) </a:t>
              </a:r>
              <a:r>
                <a:rPr b="0" lang="en-US" sz="2400" spc="-1" strike="noStrike" u="sng">
                  <a:solidFill>
                    <a:srgbClr val="333399"/>
                  </a:solidFill>
                  <a:uFillTx/>
                  <a:latin typeface="Comic Sans MS"/>
                </a:rPr>
                <a:t>Exciting Dir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1 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The quantum physics of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2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 (adventure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3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I (getting seriou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92" name=""/>
            <p:cNvGraphicFramePr/>
            <p:nvPr/>
          </p:nvGraphicFramePr>
          <p:xfrm>
            <a:off x="5059440" y="3398760"/>
            <a:ext cx="350640" cy="380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59440" y="3398760"/>
                      <a:ext cx="3506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94" name=""/>
          <p:cNvSpPr/>
          <p:nvPr/>
        </p:nvSpPr>
        <p:spPr>
          <a:xfrm>
            <a:off x="0" y="646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Cosmic acceleration and fundamental physics,      APS April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8AFA-F5CD-46F1-BF10-B66A0F4BF24B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304920" y="6477120"/>
            <a:ext cx="96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II.3 Dark energy/quintessence, Stage II (getting ser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62120" y="5335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Stage II:  Take quantum corrections/long range forces seri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914400" y="1523880"/>
            <a:ext cx="1447920" cy="1465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*PNGB: Frieman, Hill, Stebbins, &amp; Waga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200400" y="1600200"/>
            <a:ext cx="1447920" cy="1882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* Extra dim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A.A, Burgess, Ravndal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638680" y="990720"/>
            <a:ext cx="167652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* Supergravity Kalosh et al.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85800" y="3581280"/>
            <a:ext cx="39625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Challenging particle physics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782880" cy="42674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B652-447C-480B-AE87-4B70369D0F0D}" type="slidenum">
              <a:t>32</a:t>
            </a:fld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762120" y="5335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Stage II:  Take quantum corrections/long range forces seri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914400" y="1523880"/>
            <a:ext cx="1447920" cy="1465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*PNGB: Frieman, Hill, Stebbins, &amp; Waga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85800" y="3581280"/>
            <a:ext cx="396252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Challenging particle physics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lso: Risky because more radical developments could invalidate these eff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04920" y="6477120"/>
            <a:ext cx="9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  <a:ea typeface="Arial"/>
              </a:rPr>
              <a:t>II.3 Dark energy/quintessence, Stage II (getting serio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4876920" y="1981080"/>
            <a:ext cx="3782880" cy="4267440"/>
            <a:chOff x="4876920" y="1981080"/>
            <a:chExt cx="3782880" cy="4267440"/>
          </a:xfrm>
        </p:grpSpPr>
        <p:pic>
          <p:nvPicPr>
            <p:cNvPr id="510" name="" descr=""/>
            <p:cNvPicPr/>
            <p:nvPr/>
          </p:nvPicPr>
          <p:blipFill>
            <a:blip r:embed="rId1"/>
            <a:stretch/>
          </p:blipFill>
          <p:spPr>
            <a:xfrm>
              <a:off x="4876920" y="1981080"/>
              <a:ext cx="3782880" cy="4267440"/>
            </a:xfrm>
            <a:prstGeom prst="rect">
              <a:avLst/>
            </a:prstGeom>
            <a:ln w="9360">
              <a:solidFill>
                <a:srgbClr val="800000"/>
              </a:solidFill>
              <a:miter/>
            </a:ln>
          </p:spPr>
        </p:pic>
        <p:sp>
          <p:nvSpPr>
            <p:cNvPr id="511" name=""/>
            <p:cNvSpPr/>
            <p:nvPr/>
          </p:nvSpPr>
          <p:spPr>
            <a:xfrm>
              <a:off x="5645160" y="3962520"/>
              <a:ext cx="146160" cy="55440"/>
            </a:xfrm>
            <a:custGeom>
              <a:avLst/>
              <a:gdLst/>
              <a:ahLst/>
              <a:rect l="l" t="t" r="r" b="b"/>
              <a:pathLst>
                <a:path w="829" h="342">
                  <a:moveTo>
                    <a:pt x="0" y="342"/>
                  </a:moveTo>
                  <a:cubicBezTo>
                    <a:pt x="38" y="293"/>
                    <a:pt x="128" y="98"/>
                    <a:pt x="226" y="49"/>
                  </a:cubicBezTo>
                  <a:cubicBezTo>
                    <a:pt x="324" y="0"/>
                    <a:pt x="488" y="0"/>
                    <a:pt x="588" y="49"/>
                  </a:cubicBezTo>
                  <a:cubicBezTo>
                    <a:pt x="688" y="98"/>
                    <a:pt x="779" y="281"/>
                    <a:pt x="829" y="342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016760" y="2992320"/>
              <a:ext cx="146160" cy="55800"/>
            </a:xfrm>
            <a:custGeom>
              <a:avLst/>
              <a:gdLst/>
              <a:ahLst/>
              <a:rect l="l" t="t" r="r" b="b"/>
              <a:pathLst>
                <a:path w="829" h="342">
                  <a:moveTo>
                    <a:pt x="0" y="342"/>
                  </a:moveTo>
                  <a:cubicBezTo>
                    <a:pt x="38" y="293"/>
                    <a:pt x="128" y="98"/>
                    <a:pt x="226" y="49"/>
                  </a:cubicBezTo>
                  <a:cubicBezTo>
                    <a:pt x="324" y="0"/>
                    <a:pt x="488" y="0"/>
                    <a:pt x="588" y="49"/>
                  </a:cubicBezTo>
                  <a:cubicBezTo>
                    <a:pt x="688" y="98"/>
                    <a:pt x="779" y="281"/>
                    <a:pt x="829" y="342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848720" y="3048120"/>
              <a:ext cx="145800" cy="55440"/>
            </a:xfrm>
            <a:custGeom>
              <a:avLst/>
              <a:gdLst/>
              <a:ahLst/>
              <a:rect l="l" t="t" r="r" b="b"/>
              <a:pathLst>
                <a:path w="829" h="342">
                  <a:moveTo>
                    <a:pt x="0" y="342"/>
                  </a:moveTo>
                  <a:cubicBezTo>
                    <a:pt x="38" y="293"/>
                    <a:pt x="128" y="98"/>
                    <a:pt x="226" y="49"/>
                  </a:cubicBezTo>
                  <a:cubicBezTo>
                    <a:pt x="324" y="0"/>
                    <a:pt x="488" y="0"/>
                    <a:pt x="588" y="49"/>
                  </a:cubicBezTo>
                  <a:cubicBezTo>
                    <a:pt x="688" y="98"/>
                    <a:pt x="779" y="281"/>
                    <a:pt x="829" y="342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3200400" y="1600200"/>
            <a:ext cx="1447920" cy="1882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* Extra dim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A.A, Burgess, Ravndal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638680" y="990720"/>
            <a:ext cx="167652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* Supergravity Kalosh et al.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2"/>
          <a:srcRect l="0" t="16666" r="0" b="9376"/>
          <a:stretch/>
        </p:blipFill>
        <p:spPr>
          <a:xfrm>
            <a:off x="5562720" y="4343400"/>
            <a:ext cx="3047760" cy="1690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7B56-6CA0-4025-AD58-65861BE92677}" type="slidenum">
              <a:t>33</a:t>
            </a:fld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1295280" y="4419720"/>
            <a:ext cx="7162920" cy="7617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38080" y="228600"/>
            <a:ext cx="77724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hallenges for models of cosmic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1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The cosmological constant problem / links to fundamental grav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2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The “why this/why now”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3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Quantum corrections/long range fo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38080" y="5535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I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838080" y="2879640"/>
            <a:ext cx="8001000" cy="1989000"/>
            <a:chOff x="838080" y="2879640"/>
            <a:chExt cx="8001000" cy="1989000"/>
          </a:xfrm>
        </p:grpSpPr>
        <p:sp>
          <p:nvSpPr>
            <p:cNvPr id="521" name=""/>
            <p:cNvSpPr/>
            <p:nvPr/>
          </p:nvSpPr>
          <p:spPr>
            <a:xfrm>
              <a:off x="838080" y="2879640"/>
              <a:ext cx="8001000" cy="19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0000"/>
                  </a:solidFill>
                  <a:uFillTx/>
                  <a:latin typeface="Comic Sans MS"/>
                </a:rPr>
                <a:t>II) </a:t>
              </a:r>
              <a:r>
                <a:rPr b="0" lang="en-US" sz="2400" spc="-1" strike="noStrike" u="sng">
                  <a:solidFill>
                    <a:srgbClr val="333399"/>
                  </a:solidFill>
                  <a:uFillTx/>
                  <a:latin typeface="Comic Sans MS"/>
                </a:rPr>
                <a:t>Exciting Dir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1 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The quantum physics of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2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 (adventure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3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I (getting seriou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22" name=""/>
            <p:cNvGraphicFramePr/>
            <p:nvPr/>
          </p:nvGraphicFramePr>
          <p:xfrm>
            <a:off x="5059440" y="3398760"/>
            <a:ext cx="350640" cy="380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59440" y="3398760"/>
                      <a:ext cx="3506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24" name=""/>
          <p:cNvSpPr/>
          <p:nvPr/>
        </p:nvSpPr>
        <p:spPr>
          <a:xfrm>
            <a:off x="0" y="646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Cosmic acceleration and fundamental physics,      APS April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AB14-B164-4009-851F-DACFD3E0BAEF}" type="slidenum">
              <a:t>34</a:t>
            </a:fld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838080" y="5486400"/>
            <a:ext cx="7162920" cy="5335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38080" y="228600"/>
            <a:ext cx="77724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hallenges for models of cosmic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1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The cosmological constant problem / links to fundamental grav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2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The “why this/why now”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3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Quantum corrections/long range fo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838080" y="5535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I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838080" y="2879640"/>
            <a:ext cx="8001000" cy="1989000"/>
            <a:chOff x="838080" y="2879640"/>
            <a:chExt cx="8001000" cy="1989000"/>
          </a:xfrm>
        </p:grpSpPr>
        <p:sp>
          <p:nvSpPr>
            <p:cNvPr id="530" name=""/>
            <p:cNvSpPr/>
            <p:nvPr/>
          </p:nvSpPr>
          <p:spPr>
            <a:xfrm>
              <a:off x="838080" y="2879640"/>
              <a:ext cx="8001000" cy="19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0000"/>
                  </a:solidFill>
                  <a:uFillTx/>
                  <a:latin typeface="Comic Sans MS"/>
                </a:rPr>
                <a:t>II) </a:t>
              </a:r>
              <a:r>
                <a:rPr b="0" lang="en-US" sz="2400" spc="-1" strike="noStrike" u="sng">
                  <a:solidFill>
                    <a:srgbClr val="333399"/>
                  </a:solidFill>
                  <a:uFillTx/>
                  <a:latin typeface="Comic Sans MS"/>
                </a:rPr>
                <a:t>Exciting Dir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1 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The quantum physics of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2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 (adventure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3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I (getting seriou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31" name=""/>
            <p:cNvGraphicFramePr/>
            <p:nvPr/>
          </p:nvGraphicFramePr>
          <p:xfrm>
            <a:off x="5059440" y="3398760"/>
            <a:ext cx="350640" cy="380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59440" y="3398760"/>
                      <a:ext cx="3506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3" name=""/>
          <p:cNvSpPr/>
          <p:nvPr/>
        </p:nvSpPr>
        <p:spPr>
          <a:xfrm>
            <a:off x="0" y="646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Cosmic acceleration and fundamental physics,      APS April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E980-DC48-49D3-AF4A-D10E8035BD3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261960" y="331920"/>
            <a:ext cx="27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III)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Comic Sans MS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1143000"/>
            <a:ext cx="78487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Modeling cosmic acceleration lead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Exciting challenges and new directions, many of which are connected with very fundamental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Real opportunity for dramatic observational adv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4724280" y="3124080"/>
            <a:ext cx="4114800" cy="333720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3962520" y="6338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Weller &amp; 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rot="20907600">
            <a:off x="7162920" y="4952520"/>
            <a:ext cx="5331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EF9B-F8E0-42E5-8228-6685BFBA2BC7}" type="slidenum">
              <a:t>36</a:t>
            </a:fld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"/>
          <p:cNvGrpSpPr/>
          <p:nvPr/>
        </p:nvGrpSpPr>
        <p:grpSpPr>
          <a:xfrm>
            <a:off x="4191120" y="1523880"/>
            <a:ext cx="4952880" cy="4571640"/>
            <a:chOff x="4191120" y="1523880"/>
            <a:chExt cx="4952880" cy="4571640"/>
          </a:xfrm>
        </p:grpSpPr>
        <p:sp>
          <p:nvSpPr>
            <p:cNvPr id="541" name=""/>
            <p:cNvSpPr/>
            <p:nvPr/>
          </p:nvSpPr>
          <p:spPr>
            <a:xfrm>
              <a:off x="4191120" y="1626480"/>
              <a:ext cx="141300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2" name="" descr=""/>
            <p:cNvPicPr/>
            <p:nvPr/>
          </p:nvPicPr>
          <p:blipFill>
            <a:blip r:embed="rId1"/>
            <a:srcRect l="9070" t="0" r="0" b="0"/>
            <a:stretch/>
          </p:blipFill>
          <p:spPr>
            <a:xfrm>
              <a:off x="6419520" y="1523880"/>
              <a:ext cx="2724480" cy="44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7560720" y="5835960"/>
              <a:ext cx="706680" cy="25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44" name=""/>
            <p:cNvGraphicFramePr/>
            <p:nvPr/>
          </p:nvGraphicFramePr>
          <p:xfrm>
            <a:off x="5984640" y="2199240"/>
            <a:ext cx="353160" cy="33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984640" y="2199240"/>
                      <a:ext cx="353160" cy="33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6" name=""/>
            <p:cNvSpPr/>
            <p:nvPr/>
          </p:nvSpPr>
          <p:spPr>
            <a:xfrm>
              <a:off x="4571640" y="3394080"/>
              <a:ext cx="173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% devi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47" name=""/>
            <p:cNvGraphicFramePr/>
            <p:nvPr/>
          </p:nvGraphicFramePr>
          <p:xfrm>
            <a:off x="5821560" y="4589280"/>
            <a:ext cx="509400" cy="2995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4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821560" y="4589280"/>
                      <a:ext cx="509400" cy="29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549" name="" descr=""/>
          <p:cNvPicPr/>
          <p:nvPr/>
        </p:nvPicPr>
        <p:blipFill>
          <a:blip r:embed="rId6"/>
          <a:stretch/>
        </p:blipFill>
        <p:spPr>
          <a:xfrm>
            <a:off x="152280" y="1143000"/>
            <a:ext cx="4876920" cy="395280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4952880" y="3886200"/>
            <a:ext cx="16002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952880" y="3962520"/>
            <a:ext cx="160020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 rot="1302000">
            <a:off x="5105160" y="3962520"/>
            <a:ext cx="16002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91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Degeneracy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3" name=""/>
          <p:cNvSpPr/>
          <p:nvPr/>
        </p:nvSpPr>
        <p:spPr>
          <a:xfrm rot="20907600">
            <a:off x="3200400" y="327672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52280" y="6400800"/>
            <a:ext cx="8686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99"/>
                </a:solidFill>
                <a:latin typeface="Comic Sans MS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336699"/>
                </a:solidFill>
                <a:latin typeface="Comic Sans MS"/>
                <a:ea typeface="Times New Roman"/>
              </a:rPr>
              <a:t>Parameters and Cosmic Confusion                       IV-</a:t>
            </a:r>
            <a:fld id="{C5295EDF-3384-412F-BAC2-94AF86B5CFEE}" type="slidenum">
              <a:rPr b="0" i="1" lang="en-US" sz="2400" spc="-1" strike="noStrike">
                <a:solidFill>
                  <a:srgbClr val="336699"/>
                </a:solidFill>
                <a:latin typeface="Comic Sans MS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52280" y="6400800"/>
            <a:ext cx="57150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09480" y="152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NB: Don’t be afraid of degeneracies!!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Data can still distinguish among many interesting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486400" y="58672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Maor et 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3C52-9FAA-4353-9131-CAF4A5ADF476}" type="slidenum">
              <a:t>37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16002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As far as we can tell so far, the cosmic acceleration might be the result of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440000" y="2984400"/>
          <a:ext cx="4054320" cy="7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000" y="2984400"/>
                    <a:ext cx="4054320" cy="7686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0" y="646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I.1 The cosmological constant problem / fundamental gra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2BCA-CAAF-41FC-8F99-AA8265D41302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95280" y="2590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= 10</a:t>
            </a:r>
            <a:r>
              <a:rPr b="0" lang="en-US" sz="2800" spc="-1" strike="noStrike" baseline="30000">
                <a:solidFill>
                  <a:srgbClr val="000099"/>
                </a:solidFill>
                <a:latin typeface="Comic Sans MS"/>
                <a:ea typeface="Times New Roman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4038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0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3480" y="1371600"/>
            <a:ext cx="1130400" cy="1295280"/>
          </a:xfrm>
          <a:custGeom>
            <a:avLst/>
            <a:gdLst/>
            <a:ahLst/>
            <a:rect l="l" t="t" r="r" b="b"/>
            <a:pathLst>
              <a:path w="960" h="984">
                <a:moveTo>
                  <a:pt x="0" y="0"/>
                </a:moveTo>
                <a:cubicBezTo>
                  <a:pt x="25" y="94"/>
                  <a:pt x="89" y="410"/>
                  <a:pt x="150" y="564"/>
                </a:cubicBezTo>
                <a:cubicBezTo>
                  <a:pt x="211" y="718"/>
                  <a:pt x="294" y="864"/>
                  <a:pt x="366" y="924"/>
                </a:cubicBezTo>
                <a:cubicBezTo>
                  <a:pt x="438" y="984"/>
                  <a:pt x="516" y="978"/>
                  <a:pt x="582" y="924"/>
                </a:cubicBezTo>
                <a:cubicBezTo>
                  <a:pt x="648" y="870"/>
                  <a:pt x="699" y="754"/>
                  <a:pt x="762" y="600"/>
                </a:cubicBezTo>
                <a:cubicBezTo>
                  <a:pt x="825" y="446"/>
                  <a:pt x="919" y="125"/>
                  <a:pt x="960" y="0"/>
                </a:cubicBezTo>
              </a:path>
            </a:pathLst>
          </a:custGeom>
          <a:noFill/>
          <a:ln w="5724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2066760"/>
            <a:ext cx="1752480" cy="600120"/>
          </a:xfrm>
          <a:custGeom>
            <a:avLst/>
            <a:gdLst/>
            <a:ahLst/>
            <a:rect l="l" t="t" r="r" b="b"/>
            <a:pathLst>
              <a:path w="1488" h="456">
                <a:moveTo>
                  <a:pt x="0" y="408"/>
                </a:moveTo>
                <a:cubicBezTo>
                  <a:pt x="48" y="406"/>
                  <a:pt x="201" y="413"/>
                  <a:pt x="288" y="396"/>
                </a:cubicBezTo>
                <a:cubicBezTo>
                  <a:pt x="375" y="379"/>
                  <a:pt x="466" y="344"/>
                  <a:pt x="522" y="306"/>
                </a:cubicBezTo>
                <a:cubicBezTo>
                  <a:pt x="578" y="268"/>
                  <a:pt x="591" y="207"/>
                  <a:pt x="624" y="168"/>
                </a:cubicBezTo>
                <a:cubicBezTo>
                  <a:pt x="657" y="129"/>
                  <a:pt x="677" y="100"/>
                  <a:pt x="720" y="72"/>
                </a:cubicBezTo>
                <a:cubicBezTo>
                  <a:pt x="763" y="44"/>
                  <a:pt x="828" y="0"/>
                  <a:pt x="882" y="0"/>
                </a:cubicBezTo>
                <a:cubicBezTo>
                  <a:pt x="936" y="0"/>
                  <a:pt x="996" y="42"/>
                  <a:pt x="1044" y="72"/>
                </a:cubicBezTo>
                <a:cubicBezTo>
                  <a:pt x="1092" y="102"/>
                  <a:pt x="1131" y="138"/>
                  <a:pt x="1170" y="180"/>
                </a:cubicBezTo>
                <a:cubicBezTo>
                  <a:pt x="1209" y="222"/>
                  <a:pt x="1225" y="278"/>
                  <a:pt x="1278" y="324"/>
                </a:cubicBezTo>
                <a:cubicBezTo>
                  <a:pt x="1331" y="370"/>
                  <a:pt x="1444" y="428"/>
                  <a:pt x="1488" y="456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3600" y="3124080"/>
            <a:ext cx="1981080" cy="7621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Vacuum Fluc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2458800">
            <a:off x="2286000" y="3429000"/>
            <a:ext cx="1066680" cy="380880"/>
          </a:xfrm>
          <a:prstGeom prst="leftRightArrow">
            <a:avLst>
              <a:gd name="adj1" fmla="val 50000"/>
              <a:gd name="adj2" fmla="val 55752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1073800">
            <a:off x="3733920" y="2285640"/>
            <a:ext cx="1066680" cy="380880"/>
          </a:xfrm>
          <a:prstGeom prst="leftRightArrow">
            <a:avLst>
              <a:gd name="adj1" fmla="val 50000"/>
              <a:gd name="adj2" fmla="val 55752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20224200">
            <a:off x="4723920" y="3885840"/>
            <a:ext cx="1067040" cy="380880"/>
          </a:xfrm>
          <a:prstGeom prst="leftRightArrow">
            <a:avLst>
              <a:gd name="adj1" fmla="val 50000"/>
              <a:gd name="adj2" fmla="val 55771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80880" y="304920"/>
            <a:ext cx="7086600" cy="1096920"/>
            <a:chOff x="380880" y="304920"/>
            <a:chExt cx="7086600" cy="1096920"/>
          </a:xfrm>
        </p:grpSpPr>
        <p:sp>
          <p:nvSpPr>
            <p:cNvPr id="75" name=""/>
            <p:cNvSpPr/>
            <p:nvPr/>
          </p:nvSpPr>
          <p:spPr>
            <a:xfrm>
              <a:off x="380880" y="304920"/>
              <a:ext cx="70866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Greatest unsolved problem in physics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Why i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6" name=""/>
            <p:cNvGraphicFramePr/>
            <p:nvPr/>
          </p:nvGraphicFramePr>
          <p:xfrm>
            <a:off x="1600200" y="762120"/>
            <a:ext cx="2362320" cy="639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0200" y="762120"/>
                      <a:ext cx="236232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8" name=""/>
          <p:cNvSpPr/>
          <p:nvPr/>
        </p:nvSpPr>
        <p:spPr>
          <a:xfrm>
            <a:off x="0" y="646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I.1 The cosmological constant problem / fundamental gra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CF0D-C082-4A5A-B432-BD8FB866F259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38080" y="519120"/>
            <a:ext cx="77724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hallen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0 dream may no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A more mature fundamental theory of gravity could overturn ideas about the origins of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Huge potential for observations to impact fundamental the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46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I.1 The cosmological constant problem / fundamental gra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8098-D2B4-4890-8601-FED3A3264838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95280" y="762120"/>
            <a:ext cx="7162920" cy="7617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228600"/>
            <a:ext cx="77724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hallenges for models of cosmic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1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The cosmological constant problem / links to fundamental grav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2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The “why this/why now”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3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Quantum corrections/long range fo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5535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I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838080" y="2879640"/>
            <a:ext cx="8001000" cy="1989000"/>
            <a:chOff x="838080" y="2879640"/>
            <a:chExt cx="8001000" cy="1989000"/>
          </a:xfrm>
        </p:grpSpPr>
        <p:sp>
          <p:nvSpPr>
            <p:cNvPr id="87" name=""/>
            <p:cNvSpPr/>
            <p:nvPr/>
          </p:nvSpPr>
          <p:spPr>
            <a:xfrm>
              <a:off x="838080" y="2879640"/>
              <a:ext cx="8001000" cy="19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0000"/>
                  </a:solidFill>
                  <a:uFillTx/>
                  <a:latin typeface="Comic Sans MS"/>
                </a:rPr>
                <a:t>II) </a:t>
              </a:r>
              <a:r>
                <a:rPr b="0" lang="en-US" sz="2400" spc="-1" strike="noStrike" u="sng">
                  <a:solidFill>
                    <a:srgbClr val="333399"/>
                  </a:solidFill>
                  <a:uFillTx/>
                  <a:latin typeface="Comic Sans MS"/>
                </a:rPr>
                <a:t>Exciting Dir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1 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The quantum physics of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2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 (adventure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3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I (getting seriou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8" name=""/>
            <p:cNvGraphicFramePr/>
            <p:nvPr/>
          </p:nvGraphicFramePr>
          <p:xfrm>
            <a:off x="5059440" y="3398760"/>
            <a:ext cx="350640" cy="380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59440" y="3398760"/>
                      <a:ext cx="3506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0" name=""/>
          <p:cNvSpPr/>
          <p:nvPr/>
        </p:nvSpPr>
        <p:spPr>
          <a:xfrm>
            <a:off x="0" y="646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Cosmic acceleration and fundamental physics,      APS April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0EBB-408E-4DF8-A73A-C0B8D9AEAB6E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95280" y="1600200"/>
            <a:ext cx="7162920" cy="4572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228600"/>
            <a:ext cx="77724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hallenges for models of cosmic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1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The cosmological constant problem / links to fundamental grav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2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The “why this/why now”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3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Quantum corrections/long range fo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5535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I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838080" y="2879640"/>
            <a:ext cx="8001000" cy="1989000"/>
            <a:chOff x="838080" y="2879640"/>
            <a:chExt cx="8001000" cy="1989000"/>
          </a:xfrm>
        </p:grpSpPr>
        <p:sp>
          <p:nvSpPr>
            <p:cNvPr id="96" name=""/>
            <p:cNvSpPr/>
            <p:nvPr/>
          </p:nvSpPr>
          <p:spPr>
            <a:xfrm>
              <a:off x="838080" y="2879640"/>
              <a:ext cx="8001000" cy="19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0000"/>
                  </a:solidFill>
                  <a:uFillTx/>
                  <a:latin typeface="Comic Sans MS"/>
                </a:rPr>
                <a:t>II) </a:t>
              </a:r>
              <a:r>
                <a:rPr b="0" lang="en-US" sz="2400" spc="-1" strike="noStrike" u="sng">
                  <a:solidFill>
                    <a:srgbClr val="333399"/>
                  </a:solidFill>
                  <a:uFillTx/>
                  <a:latin typeface="Comic Sans MS"/>
                </a:rPr>
                <a:t>Exciting Dir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1 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The quantum physics of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2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 (adventure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3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I (getting seriou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7" name=""/>
            <p:cNvGraphicFramePr/>
            <p:nvPr/>
          </p:nvGraphicFramePr>
          <p:xfrm>
            <a:off x="5059440" y="3398760"/>
            <a:ext cx="350640" cy="380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59440" y="3398760"/>
                      <a:ext cx="3506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9" name=""/>
          <p:cNvSpPr/>
          <p:nvPr/>
        </p:nvSpPr>
        <p:spPr>
          <a:xfrm>
            <a:off x="0" y="646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Cosmic acceleration and fundamental physics,      APS April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431F-101A-4C9D-9D21-87D45ABE03F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6477120"/>
            <a:ext cx="96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I.2 The “why this/why now”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160020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Why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Where does this strange parameter come from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0000" y="2984400"/>
          <a:ext cx="4054320" cy="7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000" y="2984400"/>
                    <a:ext cx="4054320" cy="7686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2971800" y="4952880"/>
            <a:ext cx="5562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(not really a separate “why now problem”, with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8BE7-EA57-4D33-A416-17F48510F386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0T17:03:27Z</dcterms:created>
  <dc:creator>Andreas Albrecht</dc:creator>
  <dc:description/>
  <dc:language>en-US</dc:language>
  <cp:lastModifiedBy>Andreas Albrecht</cp:lastModifiedBy>
  <dcterms:modified xsi:type="dcterms:W3CDTF">2003-04-08T17:25:45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57454116</vt:r8>
  </property>
  <property fmtid="{D5CDD505-2E9C-101B-9397-08002B2CF9AE}" pid="3" name="_AuthorEmail">
    <vt:lpwstr>albrecht@physics.ucdavis.edu</vt:lpwstr>
  </property>
  <property fmtid="{D5CDD505-2E9C-101B-9397-08002B2CF9AE}" pid="4" name="_AuthorEmailDisplayName">
    <vt:lpwstr>Andreas Albrecht</vt:lpwstr>
  </property>
  <property fmtid="{D5CDD505-2E9C-101B-9397-08002B2CF9AE}" pid="5" name="_EmailSubject">
    <vt:lpwstr>collected talks</vt:lpwstr>
  </property>
</Properties>
</file>