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24490-5410-4841-B6F0-2D1A3E71A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3877F88C-D86E-48D7-936D-8C182111D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20BB8C42-FEEB-4B54-8C4D-916E74C71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2FFFFC45-B67C-4447-9AB5-8850BDEE4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23734F9-EC8A-480B-B0D1-659ADD9E6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4647F3-802B-4EEE-BF77-DB6873916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A5D57D-1706-45C5-A8B1-9EE082270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37D10E-53F2-4366-8631-8126350AD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2418A9-F040-4E3D-B723-FB22638C9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E6939D-D4DD-4B53-9AB7-46C03E05B3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47B5C6-3291-4F88-B356-384FE36F16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4B262B3-AD57-419E-B0C6-B3C5C041CB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45C1F8-586E-4C99-94C3-9990FE746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9FECBA-3062-4307-BBA0-4CF8D7A54A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07FF0C-63D4-435F-8209-BD68431F4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AC2EFA-43BF-4692-AC43-3BC1F39631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FF6F67-4652-48DA-9590-2F3EEB2578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A3A0809-1A3F-4301-8227-57CEC1EADC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A4C233D6-8575-4D40-B10D-89711E8FA5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3A32ADB1-C81D-4473-8722-25CFC2055C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DEC83281-0EA8-408C-A477-7B5D3A97B2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C1C3A991-086C-487A-94A9-EFADB02037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3AE4312A-4BEC-487A-A1C0-F3C043EC4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ED9432C2-71BA-41F3-BF9C-E7CB3E78D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cc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99cc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99cc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7162920" y="640080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73AE-0B13-403B-9A91-1D2ED394D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
          <p:cNvSpPr/>
          <p:nvPr/>
        </p:nvSpPr>
        <p:spPr>
          <a:xfrm>
            <a:off x="152280" y="838080"/>
            <a:ext cx="228600" cy="22860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
          <p:cNvSpPr/>
          <p:nvPr/>
        </p:nvSpPr>
        <p:spPr>
          <a:xfrm>
            <a:off x="539640" y="838080"/>
            <a:ext cx="228600" cy="228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927000" y="838080"/>
            <a:ext cx="228600" cy="2286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lick to edit the title text format</a:t>
            </a:r>
            <a:endParaRPr b="0" lang="en-US" sz="4600" spc="-1" strike="noStrike">
              <a:solidFill>
                <a:srgbClr val="000000"/>
              </a:solidFill>
              <a:latin typeface="Arial"/>
            </a:endParaRPr>
          </a:p>
        </p:txBody>
      </p:sp>
      <p:sp>
        <p:nvSpPr>
          <p:cNvPr id="44" name="PlaceHolder 2"/>
          <p:cNvSpPr>
            <a:spLocks noGrp="1"/>
          </p:cNvSpPr>
          <p:nvPr>
            <p:ph type="dt" idx="2"/>
          </p:nvPr>
        </p:nvSpPr>
        <p:spPr>
          <a:xfrm>
            <a:off x="7238880" y="6400800"/>
            <a:ext cx="1524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3"/>
          </p:nvPr>
        </p:nvSpPr>
        <p:spPr>
          <a:xfrm>
            <a:off x="3581280" y="6019560"/>
            <a:ext cx="2895840" cy="5331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4"/>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7A7E-91EF-4584-AC80-743F4B173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99cc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cc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cc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ontinuation of Pay (COP)</a:t>
            </a:r>
            <a:endParaRPr b="0" lang="en-US" sz="4600" spc="-1" strike="noStrike">
              <a:solidFill>
                <a:srgbClr val="000000"/>
              </a:solidFill>
              <a:latin typeface="Arial"/>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for Agency Representativ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15, 2007</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zabeth Wa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S. Department of Lab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 of Technical Assistanc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rminating COP - continued</a:t>
            </a:r>
            <a:endParaRPr b="0" lang="en-US" sz="36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lvl="1" marL="743040" indent="-285840">
              <a:spcBef>
                <a:spcPts val="700"/>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returns to work with no loss of pay</a:t>
            </a:r>
            <a:endParaRPr b="0" lang="en-US" sz="2800" spc="-1" strike="noStrike">
              <a:solidFill>
                <a:srgbClr val="000000"/>
              </a:solidFill>
              <a:latin typeface="Arial"/>
            </a:endParaRPr>
          </a:p>
          <a:p>
            <a:pPr lvl="1" marL="743040" indent="-285840">
              <a:spcBef>
                <a:spcPts val="700"/>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period of employment expires</a:t>
            </a:r>
            <a:endParaRPr b="0" lang="en-US" sz="2800" spc="-1" strike="noStrike">
              <a:solidFill>
                <a:srgbClr val="000000"/>
              </a:solidFill>
              <a:latin typeface="Arial"/>
            </a:endParaRPr>
          </a:p>
          <a:p>
            <a:pPr lvl="1" marL="743040" indent="-285840">
              <a:spcBef>
                <a:spcPts val="700"/>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CP directs the employer to stop</a:t>
            </a:r>
            <a:endParaRPr b="0" lang="en-US" sz="2800" spc="-1" strike="noStrike">
              <a:solidFill>
                <a:srgbClr val="000000"/>
              </a:solidFill>
              <a:latin typeface="Arial"/>
            </a:endParaRPr>
          </a:p>
          <a:p>
            <a:pPr lvl="1" marL="743040" indent="-285840">
              <a:spcBef>
                <a:spcPts val="700"/>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 has been paid for 45 days</a:t>
            </a:r>
            <a:endParaRPr b="0" lang="en-US" sz="28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C2D0601-B113-4C77-9CA6-3F00FFB02E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ing COP</a:t>
            </a:r>
            <a:endParaRPr b="0" lang="en-US" sz="36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ay rate for COP purposes is equal to the employee’s regular weekly pay rate</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ludes overtime pay, but includes other applicable extra pay except to the extent prohibited by law</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pay which would have otherwise occurred during the 45 day period are to be reflected. (i.e., promotion, demotion, step increase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E68DA0-EEFB-42D0-9D2E-84A9092208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Regular Schedule</a:t>
            </a:r>
            <a:endParaRPr b="0" lang="en-US" sz="36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full or part time workers (permanent or temporary) who work the same number of hours each week of the year, the weekly pay rate is the hourly pay rate (A) in effect on the date of injury multiplied by (x) the number of hours worked each week (B):</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x B = Weekly Pay R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27BA0-A1B0-478E-A6B1-FF25C41DCE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Irregular Schedule</a:t>
            </a:r>
            <a:endParaRPr b="0" lang="en-US" sz="36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part-time workers who do not work the same number of hours each week, but who do work each week of the year, the weekly pay rate is an average of the weekly earnings established by dividing (/) the total earnings from the year immediately preceding the injury (A) by the number of weeks worked in that year (B):</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Weekly Pay R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4EC4B-7CF3-4237-9E31-AAE9E4635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Intermittent, Seasonal, On-Call</a:t>
            </a:r>
            <a:endParaRPr b="0" lang="en-US" sz="36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eekly pay rate is the average weekly earnings established by dividing (/) the total earnings during the full 12 month period immediately preceding the date of injury (A) by the number of weeks (or partial weeks) worked during the year (B) (that is A / B); or 150 times the average daily wage earned in the employment during the days employed within the full year immediately preceding the date of injury divided by 52 weeks, whichever is greater.</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27C5756-000C-4D45-8C85-FE5B370DDD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Determining Dates</a:t>
            </a:r>
            <a:endParaRPr b="0" lang="en-US" sz="36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irst day of COP is the day following the date of injury (DOI) where there is immediate time loss</a:t>
            </a:r>
            <a:endParaRPr b="0" lang="en-US" sz="2100" spc="-1" strike="noStrike">
              <a:solidFill>
                <a:srgbClr val="000000"/>
              </a:solidFill>
              <a:latin typeface="Arial"/>
            </a:endParaRPr>
          </a:p>
          <a:p>
            <a:pPr lvl="1" marL="743040" indent="-285840">
              <a:lnSpc>
                <a:spcPct val="90000"/>
              </a:lnSpc>
              <a:spcBef>
                <a:spcPts val="499"/>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immediate time loss on the DOI and if the employee was injured during official work hours, time lost on DOI is charged to Administrative Leave</a:t>
            </a:r>
            <a:endParaRPr b="0" lang="en-US" sz="2000" spc="-1" strike="noStrike">
              <a:solidFill>
                <a:srgbClr val="000000"/>
              </a:solidFill>
              <a:latin typeface="Arial"/>
            </a:endParaRPr>
          </a:p>
          <a:p>
            <a:pPr lvl="1" marL="743040" indent="-285840">
              <a:lnSpc>
                <a:spcPct val="90000"/>
              </a:lnSpc>
              <a:spcBef>
                <a:spcPts val="499"/>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mployee is injured before work hours and there is immediate time loss, the first day of COP is the DOI</a:t>
            </a:r>
            <a:endParaRPr b="0" lang="en-US" sz="2000" spc="-1" strike="noStrike">
              <a:solidFill>
                <a:srgbClr val="000000"/>
              </a:solidFill>
              <a:latin typeface="Arial"/>
            </a:endParaRPr>
          </a:p>
          <a:p>
            <a:pPr marL="343080" indent="-343080">
              <a:lnSpc>
                <a:spcPct val="9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disability wasn’t immediate, the timeline begins on the first return to work date – so long as that was within 45 days of the DOI  </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967BDF-630C-4AE1-9A96-24F85844ED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Determining Dates</a:t>
            </a:r>
            <a:endParaRPr b="0" lang="en-US" sz="36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tinual disability for work begins within 45 days after the first return to work, and all 45 days of COP haven’t been used, COP continues until 45 days of COP have been used  </a:t>
            </a:r>
            <a:endParaRPr b="0" lang="en-US" sz="2600" spc="-1" strike="noStrike">
              <a:solidFill>
                <a:srgbClr val="000000"/>
              </a:solidFill>
              <a:latin typeface="Arial"/>
            </a:endParaRPr>
          </a:p>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disability for work was intermittent, COP can be used only up to 45 calendar days after the first return to work – even if less than 45 days of COP have been used (Procedure Manual §2-0807- 6)</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3DF05B-2633-4D6E-A99B-D6F44FAFB1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a:t>
            </a:r>
            <a:endParaRPr b="0" lang="en-US" sz="3600" spc="-1" strike="noStrike">
              <a:solidFill>
                <a:srgbClr val="000000"/>
              </a:solidFill>
              <a:latin typeface="Arial"/>
            </a:endParaRPr>
          </a:p>
        </p:txBody>
      </p:sp>
      <p:sp>
        <p:nvSpPr>
          <p:cNvPr id="121" name="PlaceHolder 2"/>
          <p:cNvSpPr>
            <a:spLocks noGrp="1"/>
          </p:cNvSpPr>
          <p:nvPr>
            <p:ph/>
          </p:nvPr>
        </p:nvSpPr>
        <p:spPr>
          <a:xfrm>
            <a:off x="1599840" y="1447920"/>
            <a:ext cx="7010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 looks at calendar days, not just work day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ny part of a day towards COP makes it a COP day (1 hr COP to see MD = 1 day CO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lost must be certified by physician – read medical carefully for disability for work dates </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 is charged for weekends and holidays if medical evidence shows IW was disabled on those day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factors for COP are disability for work or absence for obtaining medical care for inju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FC18A-1C8B-456E-93EA-FF7C8ECDA3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 – </a:t>
            </a:r>
            <a:br>
              <a:rPr sz="3600"/>
            </a:br>
            <a:r>
              <a:rPr b="0" lang="en-US" sz="3600" spc="-1" strike="noStrike">
                <a:solidFill>
                  <a:srgbClr val="000000"/>
                </a:solidFill>
                <a:latin typeface="Arial"/>
              </a:rPr>
              <a:t>Example 1</a:t>
            </a:r>
            <a:endParaRPr b="0" lang="en-US" sz="36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er is injured on 6/1</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ability starts on 6/2</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er returns to full time limited duty on 6/14.</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ability returns on 6/22 and is continu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29819AE-0FF2-4C85-B406-492029266E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990720" y="2971800"/>
          <a:ext cx="3657600" cy="2478240"/>
        </p:xfrm>
        <a:graphic>
          <a:graphicData uri="http://schemas.openxmlformats.org/drawingml/2006/table">
            <a:tbl>
              <a:tblPr/>
              <a:tblGrid>
                <a:gridCol w="522000"/>
                <a:gridCol w="522360"/>
                <a:gridCol w="555840"/>
                <a:gridCol w="488880"/>
                <a:gridCol w="523800"/>
                <a:gridCol w="522360"/>
                <a:gridCol w="522360"/>
              </a:tblGrid>
              <a:tr h="4860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I</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60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W</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ab Again</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5" name=""/>
          <p:cNvGraphicFramePr/>
          <p:nvPr/>
        </p:nvGraphicFramePr>
        <p:xfrm>
          <a:off x="4952880" y="2971800"/>
          <a:ext cx="3657600" cy="2505240"/>
        </p:xfrm>
        <a:graphic>
          <a:graphicData uri="http://schemas.openxmlformats.org/drawingml/2006/table">
            <a:tbl>
              <a:tblPr/>
              <a:tblGrid>
                <a:gridCol w="522360"/>
                <a:gridCol w="522360"/>
                <a:gridCol w="523800"/>
                <a:gridCol w="520920"/>
                <a:gridCol w="523800"/>
                <a:gridCol w="522360"/>
                <a:gridCol w="522000"/>
              </a:tblGrid>
              <a:tr h="485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5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COP</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143000" y="251460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ne</a:t>
            </a:r>
            <a:endParaRPr b="0" lang="en-US" sz="1800" spc="-1" strike="noStrike">
              <a:solidFill>
                <a:srgbClr val="336666"/>
              </a:solidFill>
              <a:latin typeface="Arial"/>
            </a:endParaRPr>
          </a:p>
        </p:txBody>
      </p:sp>
      <p:sp>
        <p:nvSpPr>
          <p:cNvPr id="127" name=""/>
          <p:cNvSpPr/>
          <p:nvPr/>
        </p:nvSpPr>
        <p:spPr>
          <a:xfrm>
            <a:off x="5105520" y="251460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ly</a:t>
            </a:r>
            <a:endParaRPr b="0" lang="en-US" sz="1800" spc="-1" strike="noStrike">
              <a:solidFill>
                <a:srgbClr val="336666"/>
              </a:solidFill>
              <a:latin typeface="Arial"/>
            </a:endParaRPr>
          </a:p>
        </p:txBody>
      </p:sp>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Calendar – Example 1</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D4BA727-C673-47B3-96EA-B0B5280747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pics to Be Covered</a:t>
            </a:r>
            <a:endParaRPr b="0" lang="en-US" sz="3600" spc="-1" strike="noStrike">
              <a:solidFill>
                <a:srgbClr val="000000"/>
              </a:solidFill>
              <a:latin typeface="Arial"/>
            </a:endParaRPr>
          </a:p>
        </p:txBody>
      </p:sp>
      <p:sp>
        <p:nvSpPr>
          <p:cNvPr id="9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 Defined</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igibility for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verting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inating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culating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ing Dates </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ing COP Days</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 Examples</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 Duty and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ences</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E1C9E6-9AEF-49EC-89CD-80B730344A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 – </a:t>
            </a:r>
            <a:br>
              <a:rPr sz="3600"/>
            </a:br>
            <a:r>
              <a:rPr b="0" lang="en-US" sz="3600" spc="-1" strike="noStrike">
                <a:solidFill>
                  <a:srgbClr val="000000"/>
                </a:solidFill>
                <a:latin typeface="Arial"/>
              </a:rPr>
              <a:t>Example 1</a:t>
            </a:r>
            <a:endParaRPr b="0" lang="en-US" sz="36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12 days COP for 6/2 – 6/13</a:t>
            </a:r>
            <a:endParaRPr b="0" lang="en-US" sz="3000" spc="-1" strike="noStrike">
              <a:solidFill>
                <a:srgbClr val="000000"/>
              </a:solidFill>
              <a:latin typeface="Arial"/>
            </a:endParaRPr>
          </a:p>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 is first RTW date</a:t>
            </a:r>
            <a:endParaRPr b="0" lang="en-US" sz="3000" spc="-1" strike="noStrike">
              <a:solidFill>
                <a:srgbClr val="000000"/>
              </a:solidFill>
              <a:latin typeface="Arial"/>
            </a:endParaRPr>
          </a:p>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22 – disability resumes and is continuous  </a:t>
            </a:r>
            <a:endParaRPr b="0" lang="en-US" sz="3000" spc="-1" strike="noStrike">
              <a:solidFill>
                <a:srgbClr val="000000"/>
              </a:solidFill>
              <a:latin typeface="Arial"/>
            </a:endParaRPr>
          </a:p>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use balance of 33 days of COP because continual disability is within 45 days of first RTW</a:t>
            </a:r>
            <a:endParaRPr b="0" lang="en-US" sz="3000" spc="-1" strike="noStrike">
              <a:solidFill>
                <a:srgbClr val="000000"/>
              </a:solidFill>
              <a:latin typeface="Arial"/>
            </a:endParaRPr>
          </a:p>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5th of COP is 7/24</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8A9830C-1ACA-4D0E-A234-FF0A98E24C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 – </a:t>
            </a:r>
            <a:br>
              <a:rPr sz="3600"/>
            </a:br>
            <a:r>
              <a:rPr b="0" lang="en-US" sz="3600" spc="-1" strike="noStrike">
                <a:solidFill>
                  <a:srgbClr val="000000"/>
                </a:solidFill>
                <a:latin typeface="Arial"/>
              </a:rPr>
              <a:t>Example 2</a:t>
            </a:r>
            <a:endParaRPr b="0" lang="en-US" sz="3600" spc="-1" strike="noStrike">
              <a:solidFill>
                <a:srgbClr val="000000"/>
              </a:solidFill>
              <a:latin typeface="Arial"/>
            </a:endParaRPr>
          </a:p>
        </p:txBody>
      </p:sp>
      <p:sp>
        <p:nvSpPr>
          <p:cNvPr id="132"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er is injured on 6/1.</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bility starts on 6/1. Physician certifies IW disabled through 6/13.</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er returns to full time limited duty on 6/14. Physician wants IW to attend PT on Tuesdays and Thursdays for the next 2 weeks.</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ian certifies another 10 days of disability starting 7/1.</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W returns to full time limited duty on 7/12.</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ian takes IW off work again starting 7/30.</a:t>
            </a:r>
            <a:endParaRPr b="0" lang="en-US" sz="2600" spc="-1" strike="noStrike">
              <a:solidFill>
                <a:srgbClr val="000000"/>
              </a:solidFill>
              <a:latin typeface="Arial"/>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54EC93-CC27-4549-89BB-9EB83E8693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762120" y="2971800"/>
          <a:ext cx="3886200" cy="3124080"/>
        </p:xfrm>
        <a:graphic>
          <a:graphicData uri="http://schemas.openxmlformats.org/drawingml/2006/table">
            <a:tbl>
              <a:tblPr/>
              <a:tblGrid>
                <a:gridCol w="750600"/>
                <a:gridCol w="522360"/>
                <a:gridCol w="555840"/>
                <a:gridCol w="488880"/>
                <a:gridCol w="523800"/>
                <a:gridCol w="522360"/>
                <a:gridCol w="522360"/>
              </a:tblGrid>
              <a:tr h="487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I</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W</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T</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T</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T</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T</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28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4" name=""/>
          <p:cNvGraphicFramePr/>
          <p:nvPr/>
        </p:nvGraphicFramePr>
        <p:xfrm>
          <a:off x="5181480" y="2971800"/>
          <a:ext cx="3657600" cy="3117960"/>
        </p:xfrm>
        <a:graphic>
          <a:graphicData uri="http://schemas.openxmlformats.org/drawingml/2006/table">
            <a:tbl>
              <a:tblPr/>
              <a:tblGrid>
                <a:gridCol w="522360"/>
                <a:gridCol w="522360"/>
                <a:gridCol w="523800"/>
                <a:gridCol w="520920"/>
                <a:gridCol w="523800"/>
                <a:gridCol w="522360"/>
                <a:gridCol w="522000"/>
              </a:tblGrid>
              <a:tr h="562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ab</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ain</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1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W</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 days from 1</a:t>
                      </a:r>
                      <a:r>
                        <a:rPr b="0" lang="en-US" sz="900" spc="-1" strike="noStrike" baseline="30000">
                          <a:solidFill>
                            <a:srgbClr val="000000"/>
                          </a:solidFill>
                          <a:latin typeface="Arial"/>
                        </a:rPr>
                        <a:t>st</a:t>
                      </a:r>
                      <a:r>
                        <a:rPr b="0" lang="en-US" sz="900" spc="-1" strike="noStrike">
                          <a:solidFill>
                            <a:srgbClr val="000000"/>
                          </a:solidFill>
                          <a:latin typeface="Arial"/>
                        </a:rPr>
                        <a:t> RTW</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1143000" y="251460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ne</a:t>
            </a:r>
            <a:endParaRPr b="0" lang="en-US" sz="1800" spc="-1" strike="noStrike">
              <a:solidFill>
                <a:srgbClr val="336666"/>
              </a:solidFill>
              <a:latin typeface="Arial"/>
            </a:endParaRPr>
          </a:p>
        </p:txBody>
      </p:sp>
      <p:sp>
        <p:nvSpPr>
          <p:cNvPr id="136" name=""/>
          <p:cNvSpPr/>
          <p:nvPr/>
        </p:nvSpPr>
        <p:spPr>
          <a:xfrm>
            <a:off x="5257800" y="259092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ly</a:t>
            </a:r>
            <a:endParaRPr b="0" lang="en-US" sz="1800" spc="-1" strike="noStrike">
              <a:solidFill>
                <a:srgbClr val="336666"/>
              </a:solidFill>
              <a:latin typeface="Arial"/>
            </a:endParaRPr>
          </a:p>
        </p:txBody>
      </p:sp>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Calendar – Example 2</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52B85A77-A479-4CB8-914E-C0015D5147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 – </a:t>
            </a:r>
            <a:br>
              <a:rPr sz="3600"/>
            </a:br>
            <a:r>
              <a:rPr b="0" lang="en-US" sz="3600" spc="-1" strike="noStrike">
                <a:solidFill>
                  <a:srgbClr val="000000"/>
                </a:solidFill>
                <a:latin typeface="Arial"/>
              </a:rPr>
              <a:t>Example 2</a:t>
            </a:r>
            <a:endParaRPr b="0" lang="en-US" sz="36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12 days COP for 6/2 – 6/13</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14 is first RTW date</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4 more days of COP for PT – making 16 days of COP used through 6/24 </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10 more days of COP 7/1 – 7/11 – total of 26 days of COP used through 7/12</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eligible for COP for period of disability starting 7/30 because 7/30 is more than 45 days after 1</a:t>
            </a:r>
            <a:r>
              <a:rPr b="0" lang="en-US" sz="2600" spc="-1" strike="noStrike" baseline="30000">
                <a:solidFill>
                  <a:srgbClr val="000000"/>
                </a:solidFill>
                <a:latin typeface="Arial"/>
              </a:rPr>
              <a:t>st</a:t>
            </a:r>
            <a:r>
              <a:rPr b="0" lang="en-US" sz="2600" spc="-1" strike="noStrike">
                <a:solidFill>
                  <a:srgbClr val="000000"/>
                </a:solidFill>
                <a:latin typeface="Arial"/>
              </a:rPr>
              <a:t> RTW.</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551098-C8B7-4811-BA9C-E76D069F4E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ght Duty and COP</a:t>
            </a:r>
            <a:endParaRPr b="0" lang="en-US" sz="3600" spc="-1" strike="noStrike">
              <a:solidFill>
                <a:srgbClr val="000000"/>
              </a:solidFill>
              <a:latin typeface="Arial"/>
            </a:endParaRPr>
          </a:p>
        </p:txBody>
      </p:sp>
      <p:sp>
        <p:nvSpPr>
          <p:cNvPr id="1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W may be charged COP when assigned to light duty if the light duty job is</a:t>
            </a:r>
            <a:endParaRPr b="0" lang="en-US" sz="2600" spc="-1" strike="noStrike">
              <a:solidFill>
                <a:srgbClr val="000000"/>
              </a:solidFill>
              <a:latin typeface="Arial"/>
            </a:endParaRPr>
          </a:p>
          <a:p>
            <a:pPr lvl="1" marL="690840" indent="-26568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a personnel action; and</a:t>
            </a:r>
            <a:endParaRPr b="0" lang="en-US" sz="2400" spc="-1" strike="noStrike">
              <a:solidFill>
                <a:srgbClr val="000000"/>
              </a:solidFill>
              <a:latin typeface="Arial"/>
            </a:endParaRPr>
          </a:p>
          <a:p>
            <a:pPr lvl="1" marL="690840" indent="-26568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bonafide position with a job description; and</a:t>
            </a:r>
            <a:endParaRPr b="0" lang="en-US" sz="2400" spc="-1" strike="noStrike">
              <a:solidFill>
                <a:srgbClr val="000000"/>
              </a:solidFill>
              <a:latin typeface="Arial"/>
            </a:endParaRPr>
          </a:p>
          <a:p>
            <a:pPr lvl="1" marL="690840" indent="-26568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lassified at a lower pay level than the pay level of the job the employee held when injured; or a lower grade or rate of pay than IW’s preinjury job; or is on a different schedule which causes a loss of salary or premium pay authorized as part of the IW’s normal work week (e.g. Sunday premium or night differenti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0C1CC-B247-4C0F-A8E4-B22944AB28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ght Duty and COP</a:t>
            </a:r>
            <a:endParaRPr b="0" lang="en-US" sz="36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W may not be charged COP if an agency assigns IW to limited or light duty in the absence of a personnel action unless it results in loss of salary or premium pay as a result of being on a different schedul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3A23688-B184-4FE4-AD9C-19A502369F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Referenc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CP Procedure Manual – Part 2 – 807 – on web at http://www.dol.gov/esa/regs/compliance/owcp/INDEXofResources.htm#bookmark3</a:t>
            </a:r>
            <a:endParaRPr b="0" lang="en-US" sz="2600" spc="-1" strike="noStrike">
              <a:solidFill>
                <a:srgbClr val="000000"/>
              </a:solidFill>
              <a:latin typeface="Arial"/>
            </a:endParaRPr>
          </a:p>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810 – Chapter 5</a:t>
            </a:r>
            <a:endParaRPr b="0" lang="en-US" sz="2600" spc="-1" strike="noStrike">
              <a:solidFill>
                <a:srgbClr val="000000"/>
              </a:solidFill>
              <a:latin typeface="Arial"/>
            </a:endParaRPr>
          </a:p>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 – 550 – Chapter D</a:t>
            </a:r>
            <a:endParaRPr b="0" lang="en-US" sz="2600" spc="-1" strike="noStrike">
              <a:solidFill>
                <a:srgbClr val="000000"/>
              </a:solidFill>
              <a:latin typeface="Arial"/>
            </a:endParaRPr>
          </a:p>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jury Compensation Specialist Training – on CD or on web at http://www.dol.gov/esa/owcp/share/Shareppt/ppt.aspx</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7F9C6C-FAE5-4B80-A0C4-C5BE3381941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Defined</a:t>
            </a:r>
            <a:endParaRPr b="0" lang="en-US" sz="3600" spc="-1" strike="noStrike">
              <a:solidFill>
                <a:srgbClr val="000000"/>
              </a:solidFill>
              <a:latin typeface="Arial"/>
            </a:endParaRPr>
          </a:p>
        </p:txBody>
      </p:sp>
      <p:sp>
        <p:nvSpPr>
          <p:cNvPr id="93" name="PlaceHolder 2"/>
          <p:cNvSpPr>
            <a:spLocks noGrp="1"/>
          </p:cNvSpPr>
          <p:nvPr>
            <p:ph/>
          </p:nvPr>
        </p:nvSpPr>
        <p:spPr>
          <a:xfrm>
            <a:off x="1523880" y="1371600"/>
            <a:ext cx="7010640" cy="464832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tion of regular pay for up to 45 calendar days of wage loss due to disability and/or medical treatment after a traumatic injury</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t is to avoid interruption of pay while the claim is adjudicated</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ject to usual deductions from pay, such as income tax, retirement, allotments, etc.</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 to use leave over COP is not irrevocable.  Employee who uses leave can later elect COP within one year of the leave usage or date the case is accepted by OWCP, whichever is later.    </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C55E0D-A6B1-45F1-8606-601B2D6CC9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tion of Pay - Eligibility</a:t>
            </a:r>
            <a:endParaRPr b="0" lang="en-US" sz="36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be a traumatic injury </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file the CA-1(or notice of injury) within 30 days of the date of injury</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begin losing time from work within 45 days of the injur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2E484B2-31C7-4030-82A6-899FADFD29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ne Reasons for Controverting COP</a:t>
            </a:r>
            <a:endParaRPr b="0" lang="en-US" sz="36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cy may controvert (not pay) COP </a:t>
            </a:r>
            <a:r>
              <a:rPr b="1" lang="en-US" sz="2600" spc="-1" strike="noStrike">
                <a:solidFill>
                  <a:srgbClr val="000066"/>
                </a:solidFill>
                <a:latin typeface="Arial"/>
              </a:rPr>
              <a:t>ONLY</a:t>
            </a:r>
            <a:r>
              <a:rPr b="0" lang="en-US" sz="2600" spc="-1" strike="noStrike">
                <a:solidFill>
                  <a:srgbClr val="000000"/>
                </a:solidFill>
                <a:latin typeface="Arial"/>
              </a:rPr>
              <a:t> if one of the following applies: </a:t>
            </a:r>
            <a:endParaRPr b="0" lang="en-US" sz="26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ility is a result of occupational disease or illness</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comes within the exclusions of 5 USC 8101 (1) (B) or (E)  (volunteers)</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is neither a citizen nor resident of the US or  Canada</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ury occurred off the agency’s premises and the employee was not engaged in official “off premises” du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C8F30-2917-446B-AE66-D715B565A2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ne Reasons for Controverting COP - continued</a:t>
            </a:r>
            <a:endParaRPr b="0" lang="en-US" sz="36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s willful misconduct, intentional harm or death, or proximate intoxication</a:t>
            </a:r>
            <a:endParaRPr b="0" lang="en-US" sz="24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ury not reported within 30 days of injury</a:t>
            </a:r>
            <a:endParaRPr b="0" lang="en-US" sz="24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stoppage first occurred more than 45 days after the injury</a:t>
            </a:r>
            <a:endParaRPr b="0" lang="en-US" sz="24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reported injury after employment was terminated</a:t>
            </a:r>
            <a:endParaRPr b="0" lang="en-US" sz="24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is enrolled in Civil Air Patrol, Peace Corps, or other group covered by special legisl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007CB-E487-4108-B8AF-643CAF8B86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acceptable Reasons for Controverting COP</a:t>
            </a:r>
            <a:endParaRPr b="0" lang="en-US" sz="36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jury was not witnessed</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loyee was careless</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loyee is a “bad” employee and doesn’t deserve any benefi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F0E255C-F67F-4B08-ABD9-049570D40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overting COP</a:t>
            </a:r>
            <a:endParaRPr b="0" lang="en-US" sz="36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cate controversion on CA-1 and attach narrative statement and specific evidence substantiating controversion</a:t>
            </a:r>
            <a:endParaRPr b="0" lang="en-US" sz="2600" spc="-1" strike="noStrike">
              <a:solidFill>
                <a:srgbClr val="000000"/>
              </a:solidFill>
              <a:latin typeface="Arial"/>
            </a:endParaRPr>
          </a:p>
          <a:p>
            <a:pPr marL="329040" indent="-3290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se employee of controversion</a:t>
            </a:r>
            <a:endParaRPr b="0" lang="en-US" sz="2600" spc="-1" strike="noStrike">
              <a:solidFill>
                <a:srgbClr val="000000"/>
              </a:solidFill>
              <a:latin typeface="Arial"/>
            </a:endParaRPr>
          </a:p>
          <a:p>
            <a:pPr marL="329040" indent="-3290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also terminate COP if no prima facie medical evidence received within ten calendar days</a:t>
            </a:r>
            <a:endParaRPr b="0" lang="en-US" sz="2600" spc="-1" strike="noStrike">
              <a:solidFill>
                <a:srgbClr val="000000"/>
              </a:solidFill>
              <a:latin typeface="Arial"/>
            </a:endParaRPr>
          </a:p>
          <a:p>
            <a:pPr marL="329040" indent="-3290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CP reviews COP controversion and can overturn it and require that COP be paid.  Agency is provided with explanation of basis for decision.</a:t>
            </a:r>
            <a:endParaRPr b="0" lang="en-US" sz="26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6997F-128F-492B-81DE-D7F24474F1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rminating COP</a:t>
            </a:r>
            <a:endParaRPr b="0" lang="en-US" sz="36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the employer has paid COP, it may be stopped only when at least one of the following occurs:</a:t>
            </a:r>
            <a:endParaRPr b="0" lang="en-US" sz="26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vidence is not received within 10 calendar days after the claim is submitted</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vidence shows that the employee is not disabled from his/her regular position</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vidence shows that the employee is capable of performing light duty, and the employee has refused a suitable written job off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88C1B-BF3A-4A92-949A-91F51BFFCC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5:31:07Z</dcterms:created>
  <dc:creator>Administrator</dc:creator>
  <dc:description/>
  <dc:language>en-US</dc:language>
  <cp:lastModifiedBy>Administrator</cp:lastModifiedBy>
  <dcterms:modified xsi:type="dcterms:W3CDTF">2007-02-14T17:33:02Z</dcterms:modified>
  <cp:revision>25</cp:revision>
  <dc:subject/>
  <dc:title>Continuation of Pay (C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89687441</vt:r8>
  </property>
  <property fmtid="{D5CDD505-2E9C-101B-9397-08002B2CF9AE}" pid="3" name="_AuthorEmail">
    <vt:lpwstr>Way.Elizabeth@dol.gov</vt:lpwstr>
  </property>
  <property fmtid="{D5CDD505-2E9C-101B-9397-08002B2CF9AE}" pid="4" name="_AuthorEmailDisplayName">
    <vt:lpwstr>Way, Elizabeth - ESA</vt:lpwstr>
  </property>
  <property fmtid="{D5CDD505-2E9C-101B-9397-08002B2CF9AE}" pid="5" name="_EmailSubject">
    <vt:lpwstr>Web Changes for SHARE Event - presentations, etc.</vt:lpwstr>
  </property>
</Properties>
</file>