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224-33F5-4D99-BAEF-BED0AF7D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F42-FEC3-4E05-B6D1-C7190823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570-21E0-47DF-B66C-E11C7D91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DF0-1658-4998-8565-453AE4AC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8F52-A58A-4265-B744-BBD1D2AE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D308-4F1F-4ECC-B1E2-FE44CFC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814-920B-4449-8C5A-7AEC103C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258-4B36-4241-B2D2-AC5FD96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AE5E-1304-444B-8A3C-D7672D69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065-833C-4F16-9B97-5B5E9821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844C-DCEF-4174-BBA3-83C98B5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514-8980-4CC7-ADAD-3C643AE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9D9-84FC-4207-96CC-80B4823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B627-15C3-4653-944D-E8B7F35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F3C3-2034-43BA-AE4D-EAD497E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9DA7-38AD-4FA0-B90B-8B2594E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F07-B44F-4699-8166-2480F5E5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F97-D738-4148-93E1-F3E5DA6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BD2-841D-453B-A738-8E837AD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FC5-8BA1-4D6B-89AD-A19846C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D15-4BB6-415F-968B-152F336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9AF-3AB9-4D8C-840A-CA9307E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964-06C7-4223-A272-30CCC56A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9AC-0ABA-4D90-B5EE-D190858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1DDF-BE14-472F-89E9-AEF99147CF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011C-15C4-40DC-9257-E4C78C1692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G Governance issu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h Rasch, U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gional meetings / Technical Assistance (WB-DGF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meetings and provision of technical assistance are supported via the World Bank Development Grant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for the use of these funds for these purposes will take place at th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of 2006 based on time frame of DG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an opportunity for renewal of the DGF and extension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uss issue of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group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groups formed each time a major work topic is agreed upon at annua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3-4 workgroups will exist at any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ask is completed the group will di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group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preparing / presenting position papers at annual mee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ill solicit comments on position papers from the full WG membership via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ill provide a brief, semi-annual report of progress to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orkgroup format: discussion po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s of workgroup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pportunity for multiple contribu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ariety of persp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otentially reduces work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 of workgroup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munication difficul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nflicting time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ther commi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orkgroup format: discussion po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ze of work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chanism for input from the full WG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tablish new workgroups and/or reformulate workgroups based on outcomes of th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os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oal of the WG be to develop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ld Compendium of Disability Statistics in conjunction with the UNSD and OE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ents on WG gover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: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tation sched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represent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, present and future meeting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ps from each major geograph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is non-rotating ex-officio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ng body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members replaced y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selected at annual meetings by full WG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terms with option to complete 2nd term if WG membership a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: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tation sched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mittee will have terms varying from 1-3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lecting new member, a balanced regional representation will be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/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/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/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 will select committe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handout (SC rotat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filled a temporary position for the initial SC (for continuity) and will rotat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will rotate into position of current meet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past meeting host) will rotat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need to select new SC member, trying to maintain a balanced regional re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, the steering committee was charged with developing a long-range work plan and timeline for implementation of the work plan to facilitate W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ft of the plan was developed by the SC for review at this meeting (refer to 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 annual meetings, 5 categories of activity are propo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nd implement general disability measure (short 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nd implement extended measurement 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ical issues and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al meetings (WB-DG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Assistance (WB-DG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velop and implement general disability measure (short se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include selecting the short set/s of measures; developing a plan for implementation; pre-testing; developing training materials; preparing translations; enumerator training; implementing the measure in targeted countries; and dissemination of th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velop and implement extended measurement se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of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similar to those for developing and implementing the short se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thodological issues and resear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is concurrent with development of short and extended question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meeting and 2005, discussion of full population coverage has been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006, discussion of the use of combined survey data and administrative data has been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24:54Z</dcterms:created>
  <dc:creator>egr4</dc:creator>
  <dc:description/>
  <dc:language>en-US</dc:language>
  <cp:lastModifiedBy>egr4</cp:lastModifiedBy>
  <dcterms:modified xsi:type="dcterms:W3CDTF">2004-10-19T14:39:28Z</dcterms:modified>
  <cp:revision>11</cp:revision>
  <dc:subject/>
  <dc:title>WG Governance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5281588</vt:r8>
  </property>
  <property fmtid="{D5CDD505-2E9C-101B-9397-08002B2CF9AE}" pid="3" name="_AuthorEmail">
    <vt:lpwstr>EGR4@CDC.GOV</vt:lpwstr>
  </property>
  <property fmtid="{D5CDD505-2E9C-101B-9397-08002B2CF9AE}" pid="4" name="_AuthorEmailDisplayName">
    <vt:lpwstr>Rasch, Elizabeth K.</vt:lpwstr>
  </property>
  <property fmtid="{D5CDD505-2E9C-101B-9397-08002B2CF9AE}" pid="5" name="_EmailSubject">
    <vt:lpwstr>Need your review: WG website updates</vt:lpwstr>
  </property>
</Properties>
</file>