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ct" ContentType="image/x-pict"/>
  <Override PartName="/ppt/media/image5.pct" ContentType="image/x-pict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070-B9FB-4A2A-A6BF-A8B2377D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7731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0F5-2BF1-4272-B4E5-A9B514D2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731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7731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E14-F2CD-4045-A2ED-084C77D6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7731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7731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7731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DA6-789F-47BE-889F-19BE06C4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CD5-7A13-434F-935B-8CA2B325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24A-F43C-46F2-8644-374B589A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0EE-7FF8-4995-9DAD-09FFD046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E4A-9646-454D-8828-891849D5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815-313F-49A9-ACC8-F6C2EBD8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7731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661-17E6-4E29-A66D-6BECE6A3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7731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F8E-3DD6-4D9B-936A-A73AC88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7731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293-3C91-4FCA-85DF-6ADA7E3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2520" y="270000"/>
            <a:ext cx="8778960" cy="521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a3475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lvl="1" marL="568440" indent="-228600">
              <a:spcBef>
                <a:spcPts val="700"/>
              </a:spcBef>
              <a:buClr>
                <a:srgbClr val="4d69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lvl="2" marL="792000" indent="-1094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lvl="3" marL="1019160" indent="-112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lvl="4" marL="1301760" indent="-16812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lvl="5" marL="1301760" indent="-16812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lvl="6" marL="1301760" indent="-16812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43200" y="630504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365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365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12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5818-843A-4806-BAC7-664BA3DE1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53440" y="6000840"/>
            <a:ext cx="714240" cy="78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ct"/><Relationship Id="rId4" Type="http://schemas.openxmlformats.org/officeDocument/2006/relationships/image" Target="../media/image7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eraGrid AAA (Today)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Jim Marsteller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PSC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Jam@psc.edu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eraGrid Account Creation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1617480" cy="243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61240" y="47858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er/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60160" y="2209680"/>
            <a:ext cx="2775960" cy="3261960"/>
            <a:chOff x="3260160" y="2209680"/>
            <a:chExt cx="2775960" cy="3261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3581280" y="2209680"/>
              <a:ext cx="2117880" cy="21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260160" y="4890960"/>
              <a:ext cx="2775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nership Online Propos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stem (POP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438280" y="342900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6960" y="1065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ject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905120" cy="4287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5792760" y="2666520"/>
            <a:ext cx="982440" cy="533880"/>
            <a:chOff x="5792760" y="2666520"/>
            <a:chExt cx="982440" cy="533880"/>
          </a:xfrm>
        </p:grpSpPr>
        <p:sp>
          <p:nvSpPr>
            <p:cNvPr id="55" name=""/>
            <p:cNvSpPr/>
            <p:nvPr/>
          </p:nvSpPr>
          <p:spPr>
            <a:xfrm>
              <a:off x="5867280" y="320040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92760" y="266652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eraGrid Account Creation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3126960" y="1065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ject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1600200" cy="36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6880" y="2894400"/>
            <a:ext cx="9259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0400" y="4280040"/>
            <a:ext cx="1517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480024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 V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2803680"/>
            <a:ext cx="3167640" cy="459720"/>
            <a:chOff x="1676520" y="2803680"/>
            <a:chExt cx="3167640" cy="459720"/>
          </a:xfrm>
        </p:grpSpPr>
        <p:sp>
          <p:nvSpPr>
            <p:cNvPr id="65" name=""/>
            <p:cNvSpPr/>
            <p:nvPr/>
          </p:nvSpPr>
          <p:spPr>
            <a:xfrm>
              <a:off x="3598200" y="2803680"/>
              <a:ext cx="12459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TGC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6520" y="30481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012440" y="1295280"/>
            <a:ext cx="1232280" cy="3520800"/>
            <a:chOff x="7012440" y="1295280"/>
            <a:chExt cx="1232280" cy="3520800"/>
          </a:xfrm>
        </p:grpSpPr>
        <p:sp>
          <p:nvSpPr>
            <p:cNvPr id="68" name=""/>
            <p:cNvSpPr/>
            <p:nvPr/>
          </p:nvSpPr>
          <p:spPr>
            <a:xfrm>
              <a:off x="7158960" y="2070360"/>
              <a:ext cx="772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AN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83000" y="2832480"/>
              <a:ext cx="8056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P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83000" y="3594240"/>
              <a:ext cx="102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SD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82640" y="4356360"/>
              <a:ext cx="11620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Purd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12440" y="1295280"/>
              <a:ext cx="104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876560" y="2437560"/>
            <a:ext cx="2057760" cy="459000"/>
            <a:chOff x="4876560" y="2437560"/>
            <a:chExt cx="2057760" cy="459000"/>
          </a:xfrm>
        </p:grpSpPr>
        <p:sp>
          <p:nvSpPr>
            <p:cNvPr id="74" name=""/>
            <p:cNvSpPr/>
            <p:nvPr/>
          </p:nvSpPr>
          <p:spPr>
            <a:xfrm>
              <a:off x="4876560" y="2437560"/>
              <a:ext cx="187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RP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(Request Project Crea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6920" y="2895480"/>
              <a:ext cx="2057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76920" y="3123360"/>
            <a:ext cx="2057400" cy="459000"/>
            <a:chOff x="4876920" y="3123360"/>
            <a:chExt cx="2057400" cy="459000"/>
          </a:xfrm>
        </p:grpSpPr>
        <p:sp>
          <p:nvSpPr>
            <p:cNvPr id="77" name=""/>
            <p:cNvSpPr/>
            <p:nvPr/>
          </p:nvSpPr>
          <p:spPr>
            <a:xfrm>
              <a:off x="5029200" y="3123360"/>
              <a:ext cx="169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NP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(Notify Project Crea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6920" y="3124080"/>
              <a:ext cx="20574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eraGrid Account Creation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365120" cy="2057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800" y="449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er/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7760" y="4723920"/>
            <a:ext cx="380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aGrid Add/Delete User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teragrid.org/userinfo/add_user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42900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1000" y="76104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User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114800" cy="305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7275600" y="4267080"/>
            <a:ext cx="1706400" cy="565560"/>
            <a:chOff x="7275600" y="4267080"/>
            <a:chExt cx="1706400" cy="565560"/>
          </a:xfrm>
        </p:grpSpPr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7467480" y="4267080"/>
              <a:ext cx="12193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275600" y="4495320"/>
              <a:ext cx="170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ocations Dep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603920" y="2895480"/>
            <a:ext cx="1070640" cy="1132560"/>
            <a:chOff x="7603920" y="2895480"/>
            <a:chExt cx="1070640" cy="113256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7772400" y="2895480"/>
              <a:ext cx="80964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603920" y="369072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w 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696080" y="1143000"/>
            <a:ext cx="858960" cy="1632240"/>
            <a:chOff x="7696080" y="1143000"/>
            <a:chExt cx="858960" cy="1632240"/>
          </a:xfrm>
        </p:grpSpPr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7696080" y="1143000"/>
              <a:ext cx="858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924680" y="2437920"/>
              <a:ext cx="37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477120" y="2438280"/>
            <a:ext cx="1143000" cy="609840"/>
            <a:chOff x="6477120" y="2438280"/>
            <a:chExt cx="1143000" cy="609840"/>
          </a:xfrm>
        </p:grpSpPr>
        <p:sp>
          <p:nvSpPr>
            <p:cNvPr id="96" name=""/>
            <p:cNvSpPr/>
            <p:nvPr/>
          </p:nvSpPr>
          <p:spPr>
            <a:xfrm>
              <a:off x="6477120" y="304812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67480" y="243828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eraGrid Account Creation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053880" y="106560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ccount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1600200" cy="360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6880" y="2894400"/>
            <a:ext cx="9259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6760" y="4281480"/>
            <a:ext cx="1070640" cy="58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ew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V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6520" y="2803680"/>
            <a:ext cx="3167640" cy="459720"/>
            <a:chOff x="1676520" y="2803680"/>
            <a:chExt cx="3167640" cy="459720"/>
          </a:xfrm>
        </p:grpSpPr>
        <p:sp>
          <p:nvSpPr>
            <p:cNvPr id="105" name=""/>
            <p:cNvSpPr/>
            <p:nvPr/>
          </p:nvSpPr>
          <p:spPr>
            <a:xfrm>
              <a:off x="3598200" y="2803680"/>
              <a:ext cx="12459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TGC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30481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012440" y="1295280"/>
            <a:ext cx="1232280" cy="3520800"/>
            <a:chOff x="7012440" y="1295280"/>
            <a:chExt cx="1232280" cy="3520800"/>
          </a:xfrm>
        </p:grpSpPr>
        <p:sp>
          <p:nvSpPr>
            <p:cNvPr id="108" name=""/>
            <p:cNvSpPr/>
            <p:nvPr/>
          </p:nvSpPr>
          <p:spPr>
            <a:xfrm>
              <a:off x="7162200" y="2070360"/>
              <a:ext cx="772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AN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3000" y="2832480"/>
              <a:ext cx="8056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P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3000" y="3594240"/>
              <a:ext cx="102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SD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2640" y="4356360"/>
              <a:ext cx="11620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Purd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12440" y="1295280"/>
              <a:ext cx="104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840920" y="2437560"/>
            <a:ext cx="2093400" cy="459000"/>
            <a:chOff x="4840920" y="2437560"/>
            <a:chExt cx="2093400" cy="459000"/>
          </a:xfrm>
        </p:grpSpPr>
        <p:sp>
          <p:nvSpPr>
            <p:cNvPr id="114" name=""/>
            <p:cNvSpPr/>
            <p:nvPr/>
          </p:nvSpPr>
          <p:spPr>
            <a:xfrm>
              <a:off x="4840920" y="2437560"/>
              <a:ext cx="194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RA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(Request Account Crea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2895480"/>
              <a:ext cx="2057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876920" y="3123360"/>
            <a:ext cx="2133360" cy="459000"/>
            <a:chOff x="4876920" y="3123360"/>
            <a:chExt cx="2133360" cy="459000"/>
          </a:xfrm>
        </p:grpSpPr>
        <p:sp>
          <p:nvSpPr>
            <p:cNvPr id="117" name=""/>
            <p:cNvSpPr/>
            <p:nvPr/>
          </p:nvSpPr>
          <p:spPr>
            <a:xfrm>
              <a:off x="5029200" y="3123360"/>
              <a:ext cx="19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NA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(Notify Account Crea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920" y="3124080"/>
              <a:ext cx="20574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480" y="515268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 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ffiliation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eraGrid Account Creation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051000" y="76104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User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68280" y="2895480"/>
            <a:ext cx="1219320" cy="274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312372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ions De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299000" y="2590920"/>
            <a:ext cx="1070640" cy="1132200"/>
            <a:chOff x="7299000" y="2590920"/>
            <a:chExt cx="1070640" cy="113220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7467480" y="2590920"/>
              <a:ext cx="8096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299000" y="338580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w 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114800" y="2438280"/>
            <a:ext cx="858960" cy="1632600"/>
            <a:chOff x="4114800" y="2438280"/>
            <a:chExt cx="858960" cy="163260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4114800" y="2438280"/>
              <a:ext cx="85896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343400" y="3733560"/>
              <a:ext cx="37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28800" y="2468520"/>
            <a:ext cx="2133720" cy="655560"/>
            <a:chOff x="1828800" y="2468520"/>
            <a:chExt cx="2133720" cy="655560"/>
          </a:xfrm>
        </p:grpSpPr>
        <p:sp>
          <p:nvSpPr>
            <p:cNvPr id="131" name=""/>
            <p:cNvSpPr/>
            <p:nvPr/>
          </p:nvSpPr>
          <p:spPr>
            <a:xfrm>
              <a:off x="1828800" y="3124080"/>
              <a:ext cx="2133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18800" y="2468520"/>
              <a:ext cx="159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ail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ount Pack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074560" y="2438280"/>
            <a:ext cx="2164320" cy="685800"/>
            <a:chOff x="5074560" y="2438280"/>
            <a:chExt cx="2164320" cy="685800"/>
          </a:xfrm>
        </p:grpSpPr>
        <p:sp>
          <p:nvSpPr>
            <p:cNvPr id="134" name=""/>
            <p:cNvSpPr/>
            <p:nvPr/>
          </p:nvSpPr>
          <p:spPr>
            <a:xfrm>
              <a:off x="5105520" y="3124080"/>
              <a:ext cx="2133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4560" y="2438280"/>
              <a:ext cx="197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 Distribu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to New 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3581280"/>
            <a:ext cx="190476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C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276720"/>
            <a:ext cx="19047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2362320"/>
            <a:ext cx="762120" cy="1371600"/>
          </a:xfrm>
          <a:prstGeom prst="can">
            <a:avLst>
              <a:gd name="adj" fmla="val 15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’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5120" y="2286000"/>
            <a:ext cx="838080" cy="533520"/>
            <a:chOff x="1905120" y="2286000"/>
            <a:chExt cx="838080" cy="533520"/>
          </a:xfrm>
        </p:grpSpPr>
        <p:sp>
          <p:nvSpPr>
            <p:cNvPr id="140" name=""/>
            <p:cNvSpPr/>
            <p:nvPr/>
          </p:nvSpPr>
          <p:spPr>
            <a:xfrm>
              <a:off x="2133720" y="2286000"/>
              <a:ext cx="60948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2286000"/>
              <a:ext cx="60948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2286000"/>
              <a:ext cx="60984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05120" y="2286000"/>
              <a:ext cx="60948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31720" y="4724280"/>
            <a:ext cx="36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 traditional HPC 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057400"/>
            <a:ext cx="4114800" cy="312408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276720"/>
            <a:ext cx="914400" cy="228600"/>
          </a:xfrm>
          <a:prstGeom prst="leftRightArrow">
            <a:avLst>
              <a:gd name="adj1" fmla="val 50000"/>
              <a:gd name="adj2" fmla="val 59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514600"/>
            <a:ext cx="609480" cy="152280"/>
          </a:xfrm>
          <a:prstGeom prst="left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819520"/>
            <a:ext cx="457200" cy="457200"/>
          </a:xfrm>
          <a:prstGeom prst="downArrow">
            <a:avLst>
              <a:gd name="adj1" fmla="val 63889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14600"/>
            <a:ext cx="1447920" cy="1828800"/>
          </a:xfrm>
          <a:prstGeom prst="can">
            <a:avLst>
              <a:gd name="adj" fmla="val 1510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C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971800"/>
            <a:ext cx="1676160" cy="609480"/>
          </a:xfrm>
          <a:prstGeom prst="leftRightArrow">
            <a:avLst>
              <a:gd name="adj1" fmla="val 68231"/>
              <a:gd name="adj2" fmla="val 5495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4343400"/>
            <a:ext cx="838080" cy="11430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480060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724280"/>
            <a:ext cx="6858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434340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G Account Management</a:t>
            </a:r>
            <a:br>
              <a:rPr sz="3200"/>
            </a:b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Overview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54864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_us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5105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41148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068720"/>
            <a:ext cx="72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gu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4680" y="1752480"/>
            <a:ext cx="99072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60" idx="2"/>
            <a:endCxn id="149" idx="4"/>
          </p:cNvCxnSpPr>
          <p:nvPr/>
        </p:nvCxnSpPr>
        <p:spPr>
          <a:xfrm rot="5400000">
            <a:off x="7600320" y="2609640"/>
            <a:ext cx="76284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1671480" y="5924520"/>
            <a:ext cx="3129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640044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Diagram Provided by Dave Hart (SDS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FIN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m Marsteller</cp:lastModifiedBy>
  <dcterms:modified xsi:type="dcterms:W3CDTF">2006-09-01T13:01:04Z</dcterms:modified>
  <cp:revision>12</cp:revision>
  <dc:subject/>
  <dc:title>TeraGrid 2.0</dc:title>
</cp:coreProperties>
</file>