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68C-D8DD-43B9-AB30-C8BFA264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4DF-FB50-496A-B2EB-ECA01393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C7B-BD5D-40B6-8F0E-03EEDC9D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3BA-98F9-4D5C-A121-738E0524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A9EC-9523-479E-A454-B1CE961C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D4FB-343A-4679-885A-7E69F568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3AAD-6CC5-456B-B856-23F583C7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9C35-3A1B-4C63-85CD-15B8FB51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F18C-1A60-4DA7-BD21-9690C16B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7786-7086-42D1-B4B3-221C2537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87E9-5A80-41BC-BD48-524BB03C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13A-5535-4AA2-BCAB-6049415F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FF35-7309-4D45-90A6-F207621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C520-4E3A-4A64-A19C-4CB4536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23A6-0747-425B-A420-488E8530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C4A9-21F4-4922-B22F-26D2812F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1C4A-A829-4865-BA52-19777521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86E-39D2-4FA8-9FA3-2F1A7D62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0BE-315D-451D-9DFC-14D583B2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24E-34EE-4C73-AF27-C975CC90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4EE-9BAA-4FEF-A04C-89EF02C8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C4D-0E3E-43DA-826D-7F8AE628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539-0B83-401C-B737-0AD9F9E6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647-FBC2-4CB0-971B-88358042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6B23-593D-4E7D-9CE8-80FD7C14062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792-1D0F-4B6E-B790-B3FE00D8063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ORMP DATA MANAGEMENT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TS PLANNING MEETING, 6/25/02, CHARLESTON, S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990720"/>
            <a:ext cx="13892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b5249"/>
                </a:solidFill>
                <a:latin typeface="Bauhaus 93"/>
              </a:rPr>
              <a:t>RMP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8132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981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1295280"/>
            <a:ext cx="3962160" cy="46137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arameter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nit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ocation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lum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helf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hysical: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ir pressur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/Hg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urrent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m/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adiance/irradianc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pl-PL" sz="1100" spc="-1" strike="noStrike">
                <a:solidFill>
                  <a:srgbClr val="5b5249"/>
                </a:solidFill>
                <a:latin typeface="WP MathA"/>
                <a:ea typeface="WP MathA"/>
              </a:rPr>
              <a:t></a:t>
            </a:r>
            <a:r>
              <a:rPr b="0" lang="pl-PL" sz="1100" spc="-1" strike="noStrike">
                <a:solidFill>
                  <a:srgbClr val="5b5249"/>
                </a:solidFill>
                <a:latin typeface="Times New Roman"/>
                <a:ea typeface="SimSun"/>
              </a:rPr>
              <a:t>E</a:t>
            </a:r>
            <a:r>
              <a:rPr b="0" lang="pl-PL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/m</a:t>
            </a:r>
            <a:r>
              <a:rPr b="0" lang="pl-PL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pl-PL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/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alinity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pt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a state/wave ht.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t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emperatur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o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</a:t>
            </a:r>
            <a:r>
              <a:rPr b="0" lang="en-US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nd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kt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ological: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urbidity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TU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hemical: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mmonium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issolved oxygen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OC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itrat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rthophosphat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H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-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licat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otal nitrogen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otal phosphoru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iological: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hlorophyll a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fauna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/m</a:t>
            </a:r>
            <a:r>
              <a:rPr b="0" lang="en-US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zoo/meroplankton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/m</a:t>
            </a:r>
            <a:r>
              <a:rPr b="0" lang="en-US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obCFPsta" descr=""/>
          <p:cNvPicPr/>
          <p:nvPr/>
        </p:nvPicPr>
        <p:blipFill>
          <a:blip r:embed="rId1"/>
          <a:srcRect l="0" t="15306" r="0" b="0"/>
          <a:stretch/>
        </p:blipFill>
        <p:spPr>
          <a:xfrm>
            <a:off x="914400" y="990720"/>
            <a:ext cx="5372280" cy="3467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752480" y="1523880"/>
            <a:ext cx="6248520" cy="4552920"/>
            <a:chOff x="1752480" y="1523880"/>
            <a:chExt cx="6248520" cy="45529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52480" y="1523880"/>
              <a:ext cx="6248520" cy="45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20160" y="3041280"/>
              <a:ext cx="8146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OB1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34840" y="3437280"/>
              <a:ext cx="81504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OB2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84080" y="4625280"/>
              <a:ext cx="815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OB4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04760" y="3833280"/>
              <a:ext cx="815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OB3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54000" y="5416920"/>
              <a:ext cx="815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LB6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82560" y="4757040"/>
              <a:ext cx="8146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LB5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ETADAT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ring 02- train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ummer 02- drafting workshop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inter 02- posted to CastNet clearinghouse node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ATA S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ring 02- draft pl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y 02- requirements analysis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ata invento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ioritize (effort, value to user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otential produc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inter 02- QA/QC procedur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ust accompany metada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aried standar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ummer 02- DVTs* (e.g., www.uncwil.edu/riverview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BD- Relational dbase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BD- Archival/retention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ring 03- GIS (UNCW Spatial Analysis La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22:29:10Z</dcterms:created>
  <dc:creator>Tom Potts</dc:creator>
  <dc:description/>
  <dc:language>en-US</dc:language>
  <cp:lastModifiedBy>Tom Potts</cp:lastModifiedBy>
  <dcterms:modified xsi:type="dcterms:W3CDTF">2002-06-25T12:16:59Z</dcterms:modified>
  <cp:revision>3</cp:revision>
  <dc:subject/>
  <dc:title>CORMP DATA MANAGEMENT</dc:title>
</cp:coreProperties>
</file>