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B01-071E-4DB0-B8DE-D86001BF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C35-35F5-4623-970D-8F4E154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CE8-BFF9-4418-B61A-0E583E1A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7B1-3B40-4B31-8928-4A473A4C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89B1-2C87-497F-9E87-CE5B948B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5B25-3ED2-4D0E-B2BF-21D0D493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0EAC-765F-4F5D-82EC-6D1E6A0C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181C-A6EA-4B09-A910-DB1FFD7D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1AF4-53A9-44DB-BA9F-D31E584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39A3-505C-4F60-8C6B-CA4F9A42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D5FE-57CE-431C-8A0B-D36590D1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084-9BAC-4B3A-8DBB-98E26B33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36AB-5C93-412C-A5BD-E1EE7B3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0C25-E676-4688-82F2-F899207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2FF6-D2A4-495B-820B-3618CAEC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541A-B40C-489B-84BB-ED7B6EFD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3C79-5E01-4181-9032-C3ABFE4A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AC6-F711-4C81-83A2-E6227D82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0DF-9A77-4CC3-8F20-DB5344AA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C95-62A1-45B5-BE76-EA18B155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B78-38D2-4F69-A256-6C827590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945-F60B-4CBA-A501-87D81CCF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CB1-3E89-42B4-9F35-ABB6BAD6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BD8-8AD9-4FDD-8E16-3A805ED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BCD0-50BA-49E3-B32F-5673C7EBD10C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B51B-1D21-4FD9-80D8-B87FB9546E24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hyperlink" Target="http://images.google.com/imgres?imgurl=siri.uvm.edu/graphics/Emergencies/Emergency_shower_2.gif&amp;imgrefurl=http://siri.uvm.edu/graphics/Emergencies/&amp;h=826&amp;w=744&amp;prev=/images%3Fq%3Demergency%2Bshower%26svnum%3D10%26hl%3Den%26lr%3D%26ie%3DUTF-8" TargetMode="External"/><Relationship Id="rId7" Type="http://schemas.openxmlformats.org/officeDocument/2006/relationships/image" Target="../media/image20.png"/><Relationship Id="rId8" Type="http://schemas.openxmlformats.org/officeDocument/2006/relationships/hyperlink" Target="http://images.google.com/imgres?imgurl=www.njredcross.org/index3.gif&amp;imgrefurl=http://www.njredcross.org/&amp;h=157&amp;w=158&amp;prev=/images%3Fq%3Dred%2Bcross%26start%3D20%26svnum%3D10%26hl%3Den%26lr%3D%26ie%3DUTF-8%26sa%3DN" TargetMode="External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nnual Refresher Trainin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8120" y="1752480"/>
            <a:ext cx="354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Emergency Respons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45291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hemical Spil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 colleague has just spilled acid on his clothe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lood exposed area with running water from faucet or safety shower for at least 5 minut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move contaminated clothing at onc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ake sure chemical has not accumulated in sho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Obtain medical attention, and report the incident to supervis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05520" y="1752480"/>
            <a:ext cx="3027240" cy="3353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15200" y="4952880"/>
            <a:ext cx="103968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hemical Spil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You dropped 250 mL bottle of ammonium hydroxide on the floor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lert others of the spil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Locate the spill kit in the hallwa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ut on the Personal Protective Equipmen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Neutralize it with bicarbona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llect residue into plastic bag, secure it, and label it a hazardous wast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3581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adiation Spil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You’ve just spilled radioactive material on your lab coat and ar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move contaminated clothing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inse exposed area thoroughly with soap and wat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Obtain medical attention if necessar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port the incident to your supervis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4800600" y="1770120"/>
            <a:ext cx="2133720" cy="1658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5791320" y="3657600"/>
            <a:ext cx="2735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lectrical Outag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f working with chemicals under the fume hoo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ap the contain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lose the hood sash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ntact person directing work in the laborator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xit building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eet at designated evacuation spot – parking lot behind the facilit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3627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Threa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62520" y="190512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dentification cards must be worn at all times and visible to all personnel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f you observe someone committing a crime, DO NOT attempt to apprehend or detain the suspect. Try to memorize the physical appearance of the suspect and call 5-111 (Cornell police) or 911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295280" y="2133720"/>
            <a:ext cx="22860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threats, cont.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6248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Non-emergency situation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l Cornell campus police at 5-1111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l Bill Shaben at 5-1065 or his cell phone at (607) 280-1506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Emergency situation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l 911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l Bill Shaben at 5-1065 or his cell phone at (607) 280-1506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Our records are good, let’s keep it that way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502920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ll Done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ake sure you fill out the quiz, sign it, and drop it off in my mailbox for record keeping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member:  This is an annual requirement.          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EE YOU NEXT YEA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600200"/>
          <a:ext cx="265428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1600200"/>
                    <a:ext cx="26542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33720" y="480060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ntact:  Kathie Moh                  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255-8849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kcm25@cornell.edu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re is the most potentially devastating emergency in the modern laborator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se the smallest quantities of flammable solvents practic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tore stock quantities in flammable storage cabine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parate flammable solvents from sources of ignition/ bunsen burn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lcohol lab bench fire."/>
          <p:cNvPicPr/>
          <p:nvPr/>
        </p:nvPicPr>
        <p:blipFill>
          <a:blip r:embed="rId3"/>
          <a:stretch/>
        </p:blipFill>
        <p:spPr>
          <a:xfrm>
            <a:off x="4572000" y="1676520"/>
            <a:ext cx="2114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othing F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A co-worker in your lab has just spilled ethanol.  The spill has burst into flame and his clothing has caught fi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ut out the fire: Drop and roll; roll around on the floor to smother the flam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hill burn with cold wat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ek medical attention, and report the incident to your supervis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257800" y="1905120"/>
          <a:ext cx="3657600" cy="35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1905120"/>
                    <a:ext cx="3657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b Bench F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 flammable liquid has just spilled onto the bench and has caught fi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lert people in the laboratory and activate alar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4" name="photo1" descr="bench fire photo"/>
          <p:cNvPicPr/>
          <p:nvPr/>
        </p:nvPicPr>
        <p:blipFill>
          <a:blip r:embed="rId3"/>
          <a:stretch/>
        </p:blipFill>
        <p:spPr>
          <a:xfrm>
            <a:off x="4648320" y="2490840"/>
            <a:ext cx="3809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b Bench Fire, continu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mother fire or use correct fire extinguisher (only those who have been trained can use the extinguisher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 wood, paper, cloth, &amp; trash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 gasoline, grease, oil, paint, and flam. liquids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 live electrical equipment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" descr="bench fire photo"/>
          <p:cNvPicPr/>
          <p:nvPr/>
        </p:nvPicPr>
        <p:blipFill>
          <a:blip r:embed="rId6"/>
          <a:stretch/>
        </p:blipFill>
        <p:spPr>
          <a:xfrm>
            <a:off x="5195880" y="1905120"/>
            <a:ext cx="2714760" cy="2019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0" y="189072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81480" y="48006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5181480" y="39625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5181480" y="56386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b Bench Fire, continu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3" name="" descr="bench fire photo"/>
          <p:cNvPicPr/>
          <p:nvPr/>
        </p:nvPicPr>
        <p:blipFill>
          <a:blip r:embed="rId2"/>
          <a:stretch/>
        </p:blipFill>
        <p:spPr>
          <a:xfrm>
            <a:off x="2057400" y="2133720"/>
            <a:ext cx="48006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b Bench Fire, continu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tay on exit side of the fi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port the incident to your superviso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photo4" descr="bench fire photo"/>
          <p:cNvPicPr/>
          <p:nvPr/>
        </p:nvPicPr>
        <p:blipFill>
          <a:blip r:embed="rId4"/>
          <a:stretch/>
        </p:blipFill>
        <p:spPr>
          <a:xfrm>
            <a:off x="4648320" y="2490840"/>
            <a:ext cx="3809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ajor Lab F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ollow these immediate procedures in case of major lab fire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lert people to evacuate the are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ctivate nearest fire alarm or call for emergency respons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lose lab doors to confine fi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Have person who is knowledgeable about the lab and incident ready to assist emergency personn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" descr="Burning solvent bottle"/>
          <p:cNvPicPr/>
          <p:nvPr/>
        </p:nvPicPr>
        <p:blipFill>
          <a:blip r:embed="rId6"/>
          <a:stretch/>
        </p:blipFill>
        <p:spPr>
          <a:xfrm>
            <a:off x="5261040" y="1905120"/>
            <a:ext cx="2584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ye Splash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Working quickly, you flicked open an Eppendorf tube and several droplets of phenol hit your ey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mmediately rinse eyeball and inner surface for 15 minut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cibly hold eye open to insure effective wash behind eyelid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Obtain medical attenti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port the incident to your supervis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867280" y="3809880"/>
            <a:ext cx="2286000" cy="2514600"/>
            <a:chOff x="5867280" y="3809880"/>
            <a:chExt cx="2286000" cy="251460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5867280" y="3809880"/>
              <a:ext cx="22860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5867280" y="3809880"/>
              <a:ext cx="228600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410080" y="1676520"/>
            <a:ext cx="3048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20:17:05Z</dcterms:created>
  <dc:creator>STEPHEN SCHAEFER</dc:creator>
  <dc:description/>
  <dc:language>en-US</dc:language>
  <cp:lastModifiedBy>KMOH</cp:lastModifiedBy>
  <dcterms:modified xsi:type="dcterms:W3CDTF">2004-10-05T22:33:38Z</dcterms:modified>
  <cp:revision>29</cp:revision>
  <dc:subject/>
  <dc:title>Emergency Procdures</dc:title>
</cp:coreProperties>
</file>