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AE32-E15C-46AD-A989-4C43AEFB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364-BA8C-4B38-94A4-59C30E08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D15-64D8-4190-AB8A-8E92015F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9701-4FDB-4B98-ADAF-6DF9C717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7365-05E4-4E18-9640-4734A517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CC4D-0127-43EF-84EF-60B37C9A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2D5A-801B-4469-BCF6-3797D2BE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63B-B3B9-42F7-8219-0F609E36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3D0-2D0D-45BA-9DE8-B9187706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4A6-D2FD-4BC6-BBC0-D13D0D4B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F78B-48E3-4C8E-A21F-C21BBFC5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0CC4-67AC-44D1-B7AD-A0471501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2C96-5103-43B8-9FD6-F79A07E22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reation of a Composite Solar Ultraviolet Irradiance Data Set</a:t>
            </a:r>
            <a:br>
              <a:rPr sz="40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tthew T. DeLand and Richard P. Cebula</a:t>
            </a:r>
            <a:br>
              <a:rPr sz="4000"/>
            </a:br>
            <a:r>
              <a:rPr b="0" i="1" lang="en-US" sz="2800" spc="-1" strike="noStrike">
                <a:solidFill>
                  <a:srgbClr val="00cc00"/>
                </a:solidFill>
                <a:latin typeface="Arial"/>
              </a:rPr>
              <a:t>Science Systems and Application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ar UV irradiance measurements from satellite instruments extend from 1978 to the present using overlapping data s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data sets have wavelength-dependent and time-dependent differences that prevent easy merg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487692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520" y="762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 absolute differences between instruments using recently created reference spectrum 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uillier et al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004]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spectral and temporal differences during overlap periods based on knowledge of instrument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composite irradiance data set of daily spectra for general us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.g. atmospheric model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8717" t="6732" r="8490" b="9084"/>
          <a:stretch/>
        </p:blipFill>
        <p:spPr>
          <a:xfrm>
            <a:off x="4419720" y="457200"/>
            <a:ext cx="44593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4:24:29Z</dcterms:created>
  <dc:creator>Matthew DeLand</dc:creator>
  <dc:description/>
  <dc:language>en-US</dc:language>
  <cp:lastModifiedBy>Jennifer Rumburg</cp:lastModifiedBy>
  <dcterms:modified xsi:type="dcterms:W3CDTF">2006-01-25T00:17:27Z</dcterms:modified>
  <cp:revision>5</cp:revision>
  <dc:subject/>
  <dc:title>Creation of a Composite Solar Ultraviolet Irradiance Data Set Matthew T. DeLand and Richard P. Cebula Science Systems and Applications, Inc.</dc:title>
</cp:coreProperties>
</file>