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gfa Rotis Sans Serif ExBd"/>
              </a:rPr>
              <a:t>Click to move the slide</a:t>
            </a:r>
            <a:endParaRPr b="1" lang="en-US" sz="14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AE4D-8892-47F8-915B-B840D1C71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B8C0-357D-4B18-B4B1-5F5437E6D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1060-4E85-4998-8255-AFCB540C1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9D54-EA55-4304-9F74-8C33874E8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3000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31C2-B7E0-4FE5-B5A1-2E86F6BC6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D08D-2F87-427E-868B-4081AAE22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E774-481D-4DDD-B128-FC9B48970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D578-BB61-490D-83CC-48EA3B70B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63000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7A91-059F-49AE-849C-E859794F2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FDB7-EA7C-4C21-8578-62C47579E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1C2A-3384-478A-99E7-12021CB07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C699-0BD2-4E8B-8C5C-E1B052255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18" t="7926" r="0" b="28463"/>
          <a:stretch/>
        </p:blipFill>
        <p:spPr>
          <a:xfrm>
            <a:off x="0" y="0"/>
            <a:ext cx="1474920" cy="120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597120" y="6589440"/>
            <a:ext cx="1694160" cy="26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77DA-F034-4E54-B807-CE8B685AB6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92000" y="0"/>
            <a:ext cx="3859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Agriculture eGovern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760" y="651528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78920" y="6230880"/>
            <a:ext cx="86508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416400"/>
          </a:xfrm>
          <a:prstGeom prst="rect">
            <a:avLst/>
          </a:prstGeom>
          <a:solidFill>
            <a:srgbClr val="005231"/>
          </a:solidFill>
          <a:ln w="9360">
            <a:solidFill>
              <a:srgbClr val="00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4769" r="0" b="26851"/>
          <a:stretch/>
        </p:blipFill>
        <p:spPr>
          <a:xfrm>
            <a:off x="0" y="0"/>
            <a:ext cx="3908520" cy="341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43560"/>
            <a:ext cx="914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3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gfa Rotis Sans Serif ExBd"/>
              </a:rPr>
              <a:t>Click to edit the title text format</a:t>
            </a:r>
            <a:endParaRPr b="1" lang="en-US" sz="14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0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208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6880" y="3733560"/>
            <a:ext cx="8283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Initiat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cy Funding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overnment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160" y="12063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20" y="15494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2CF7-9990-474C-8BDC-1A4AA46CD2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09880" y="2257560"/>
            <a:ext cx="3335400" cy="26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51F8-3216-422D-B79D-BDE61ABC83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ix A –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cy GPEA and eAuthentication Responsi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6120" y="2300400"/>
            <a:ext cx="508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 GPEA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0200" y="2449440"/>
            <a:ext cx="59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ia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84480" y="2598840"/>
            <a:ext cx="68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actio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1680" y="2151000"/>
            <a:ext cx="37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3680" y="2300400"/>
            <a:ext cx="58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lectroni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14720" y="2449440"/>
            <a:ext cx="68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mis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3280" y="2598840"/>
            <a:ext cx="689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 Tool(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1320" y="185256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1280" y="2001960"/>
            <a:ext cx="835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ent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62520" y="2151000"/>
            <a:ext cx="79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act Profi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04280" y="2300400"/>
            <a:ext cx="709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essm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56120" y="2449440"/>
            <a:ext cx="605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for Oct 2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7800" y="2598840"/>
            <a:ext cx="689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ac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22720" y="230040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9840" y="2449440"/>
            <a:ext cx="563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98520" y="2598840"/>
            <a:ext cx="771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23720" y="2300400"/>
            <a:ext cx="826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firm GP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95640" y="2449440"/>
            <a:ext cx="88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0680" y="2598840"/>
            <a:ext cx="333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77080" y="215100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9440" y="2300400"/>
            <a:ext cx="58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7720" y="2449440"/>
            <a:ext cx="573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0040" y="2598840"/>
            <a:ext cx="49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45320" y="2449440"/>
            <a:ext cx="1098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hedule/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1120" y="2598840"/>
            <a:ext cx="1134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-Design 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32960" y="2449440"/>
            <a:ext cx="1098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hedule/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10000" y="2598840"/>
            <a:ext cx="912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680" y="2751120"/>
            <a:ext cx="28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42080" y="2763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50360" y="27637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73200" y="27637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120" y="2908440"/>
            <a:ext cx="37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PH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42080" y="2921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50360" y="2921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20400" y="2921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3065400"/>
            <a:ext cx="249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42080" y="3078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9440" y="307800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2840" y="3222720"/>
            <a:ext cx="433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CSRE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42080" y="3235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54320" y="323532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8640" y="3379680"/>
            <a:ext cx="195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4208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9932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537000"/>
            <a:ext cx="234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42080" y="3549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440" y="354960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800" y="3693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4208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50360" y="37051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860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73200" y="37051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7640" y="3851280"/>
            <a:ext cx="249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208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932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73200" y="386244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760" y="4006800"/>
            <a:ext cx="156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2080" y="40194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54320" y="401940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73200" y="401940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9800" y="416412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4208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2948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50360" y="41767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8440" y="4321080"/>
            <a:ext cx="232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42080" y="4334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50360" y="4334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32360" y="4334040"/>
            <a:ext cx="765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73200" y="433404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4560" y="4478400"/>
            <a:ext cx="37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GIPS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208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54320" y="449100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860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840" y="4635360"/>
            <a:ext cx="328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AS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4208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948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932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1860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4400" y="46483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54000" y="46483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680" y="4792680"/>
            <a:ext cx="335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RC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4208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948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50360" y="480528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0520" y="4950000"/>
            <a:ext cx="246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B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4208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948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50360" y="496080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160" y="5106960"/>
            <a:ext cx="256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H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4208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9932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0400" y="51181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5840" y="5262480"/>
            <a:ext cx="32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M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208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2948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49440" y="527544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720" y="5419800"/>
            <a:ext cx="256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U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42080" y="54291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50360" y="542916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0400" y="542916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3320" y="1847880"/>
            <a:ext cx="25200" cy="37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7172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1720" y="1873080"/>
            <a:ext cx="108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732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7324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336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364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750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1824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18240" y="1873080"/>
            <a:ext cx="108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4848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848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992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4992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3108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3108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15480" y="1873080"/>
            <a:ext cx="25200" cy="371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8520" y="1847880"/>
            <a:ext cx="89121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8520" y="27399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8520" y="273996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8520" y="28972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8520" y="289728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8520" y="30542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8520" y="30542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8520" y="32097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8520" y="3209760"/>
            <a:ext cx="8886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8520" y="33670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8520" y="33670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520" y="352440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8520" y="352440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8520" y="36813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8520" y="36813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8520" y="38386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8520" y="38386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8520" y="39956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8520" y="39956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8520" y="415296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8520" y="415296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8520" y="430992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8520" y="430992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8520" y="446580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8520" y="446580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8520" y="46227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8520" y="46227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8520" y="47800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8520" y="47800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520" y="49370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8520" y="4937040"/>
            <a:ext cx="8886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520" y="509436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8520" y="50943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8520" y="525132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520" y="525132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8520" y="540864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8520" y="54086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8520" y="5567400"/>
            <a:ext cx="89121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12280" y="27766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12280" y="2933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12280" y="30909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2280" y="32479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12280" y="34052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12280" y="35622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12280" y="37180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2280" y="3875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12280" y="40323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12280" y="4189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12280" y="4346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12280" y="4503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12280" y="46609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2280" y="48182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2280" y="49737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12280" y="5130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12280" y="5288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12280" y="5442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77440" y="2763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77440" y="2921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77440" y="3078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7440" y="3235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744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77440" y="3549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7744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744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77440" y="40194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7744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7744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7744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7744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7744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7744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7744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77440" y="54291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7426-7AF6-47D9-8612-70E453F0B42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24C2-9782-4050-979E-2AAD2BFA60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160" y="6134040"/>
            <a:ext cx="2400120" cy="66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197760"/>
            <a:ext cx="431640" cy="139680"/>
          </a:xfrm>
          <a:prstGeom prst="rect">
            <a:avLst/>
          </a:prstGeom>
          <a:solidFill>
            <a:srgbClr val="e7e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920" y="6180120"/>
            <a:ext cx="116532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388200"/>
            <a:ext cx="431640" cy="1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00" y="6370560"/>
            <a:ext cx="142416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uthentication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78640"/>
            <a:ext cx="431640" cy="1396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6548400"/>
            <a:ext cx="136332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cy GPEA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05640" y="2514600"/>
            <a:ext cx="1397160" cy="1105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ertify Registr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511280"/>
            <a:ext cx="0" cy="459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1040" y="1486080"/>
            <a:ext cx="0" cy="459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04120" y="1523880"/>
            <a:ext cx="0" cy="459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cy GPEA and eAuthentication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9796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4880" y="1219320"/>
            <a:ext cx="133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04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264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Coordinatio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5600" y="4622760"/>
            <a:ext cx="1231920" cy="25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’03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9680" y="4610160"/>
            <a:ext cx="1269720" cy="25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’04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2425680"/>
            <a:ext cx="1206360" cy="58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GPEA-Complia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8560" y="1612800"/>
            <a:ext cx="120636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lectronic Submission Web Tool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5600" y="3137040"/>
            <a:ext cx="123192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uthentication Impact Profile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11360" y="2107800"/>
            <a:ext cx="291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200" y="3162240"/>
            <a:ext cx="304560" cy="20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3962520"/>
            <a:ext cx="1231920" cy="58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GPEA Implementation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03520" y="1828800"/>
            <a:ext cx="2260440" cy="181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 Appl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9680" y="4114800"/>
            <a:ext cx="126972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MB Appro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43680" y="1841400"/>
            <a:ext cx="2095200" cy="181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d Appl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05640" y="2057400"/>
            <a:ext cx="137160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1574640"/>
            <a:ext cx="107964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8840" y="4114800"/>
            <a:ext cx="116856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eRecords Disposition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4419720"/>
            <a:ext cx="1447920" cy="8571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ain Pers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2540160"/>
            <a:ext cx="160020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eAuth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13000" y="2984400"/>
            <a:ext cx="1600200" cy="586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eAuth Identity &amp; Access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41680" y="2095560"/>
            <a:ext cx="154944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echnical  eAuth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4440" y="2120760"/>
            <a:ext cx="176508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echnical eAuth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3480" y="2565360"/>
            <a:ext cx="157464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eAuth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3480" y="3009960"/>
            <a:ext cx="1574640" cy="586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eAuth Identity &amp; Access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5640" y="4952880"/>
            <a:ext cx="1371600" cy="25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L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4699080"/>
            <a:ext cx="1371600" cy="25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Adm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111480"/>
            <a:ext cx="106668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y LRA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42120" y="2829240"/>
            <a:ext cx="1076400" cy="21024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Goes Production (10/2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eAuth/ Desig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1040" y="5343480"/>
            <a:ext cx="1434960" cy="743040"/>
          </a:xfrm>
          <a:prstGeom prst="rect">
            <a:avLst/>
          </a:prstGeom>
          <a:solidFill>
            <a:srgbClr val="e7e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Reporting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284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/ Certificatio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05640" y="5343480"/>
            <a:ext cx="143532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1091-10D8-4442-845F-1ED9F75A86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3560" y="11685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763-1449-4E1D-8580-EA5E4300A5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4120" y="1233360"/>
            <a:ext cx="40816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user administration and role assign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ntityM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nd development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ntralized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94280" y="1233360"/>
            <a:ext cx="3916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ic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ments gath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 agent installatio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policy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lp Des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920" y="579276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 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229A-E170-44CF-99C7-E3ED3F77E1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4120" y="1233360"/>
            <a:ext cx="443700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remot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ing f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administ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, IdentityMinder, WebLogic and ActiveDirectory administ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keep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 external and CyberSecurity aud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inuing 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s to the eAuthentication 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ncluding any potential upgrades to support assurance level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94280" y="1233360"/>
            <a:ext cx="3916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ic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ments gath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 agent installatio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policy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lp Des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920" y="579276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5A3E-0441-47B6-BEC7-9DF88A2849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9240" y="1373040"/>
            <a:ext cx="86277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ixed and variable costs for the eAuthentication initiative are broken out as follow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gency Integration costs will vary by agency depending on the number and type of interactions and development currently underway or already complet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09600" y="2249640"/>
          <a:ext cx="6176880" cy="2360520"/>
        </p:xfrm>
        <a:graphic>
          <a:graphicData uri="http://schemas.openxmlformats.org/drawingml/2006/table">
            <a:tbl>
              <a:tblPr/>
              <a:tblGrid>
                <a:gridCol w="3089520"/>
                <a:gridCol w="308736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Outstanding Fixed eAuthentic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38,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4 Fixed eAuthentic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4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 and FY 2004 Variable eAuthentication Integr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291960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and 2004 Agency Integr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11240" y="37036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649440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E:  All costs are estimates until requirements gathering process is completed by all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5713-E28E-4D8B-82AB-07908F070F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’03 Funding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30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02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2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3040" y="1384200"/>
            <a:ext cx="876312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cies will contribute to the fixed costs based on their anticipated % of use and contribute towards the integration costs at the time of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xed Costs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Variabl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otal fixed cost x % of total interactions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-application cost x # of applic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200" y="5803920"/>
            <a:ext cx="836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ed variable costs for each application will be determined with the Agencies upon completion of the Design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60920" y="3035160"/>
            <a:ext cx="42544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 Cost Fac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xity of Application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 of URLs to be pro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timates range from 40 man-hours to integration a simple web application (~$6,000) to 400 man-hours (~$60,000) for the most complex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8280" y="3035160"/>
            <a:ext cx="42544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xed Cost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user administration and role assign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C38D-361B-4840-9EF9-751672AB0A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240" y="1309680"/>
            <a:ext cx="87296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 Center Agencies have contributed $3.38M towards the overall FY 03 eAuthentication Fixed Costs, leaving $1.14M in outstanding cost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Y03 Overall Cos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FY03 Outstanding Funding - $1.14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’03 Fixed Costs Funding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449600" y="2260440"/>
          <a:ext cx="3716640" cy="41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9600" y="2260440"/>
                    <a:ext cx="37166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703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2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9720" y="649440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E:  All costs are estimates until requirements gathering process is completed by all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0520" y="2260440"/>
          <a:ext cx="3552840" cy="41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2260440"/>
                    <a:ext cx="3552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D392-6E5A-4099-B893-37402996BB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7:30:30Z</dcterms:created>
  <dc:creator>Martin_W_Rodgers</dc:creator>
  <dc:description>Accenture Sample Presentation v9.1</dc:description>
  <dc:language>en-US</dc:language>
  <cp:lastModifiedBy>jennifer.l.combs</cp:lastModifiedBy>
  <cp:lastPrinted>2000-08-10T20:43:38Z</cp:lastPrinted>
  <dcterms:modified xsi:type="dcterms:W3CDTF">2003-08-12T13:56:22Z</dcterms:modified>
  <cp:revision>1073</cp:revision>
  <dc:subject/>
  <dc:title>PowerPoint Presentation</dc:title>
</cp:coreProperties>
</file>