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B868D-4D5B-42D7-8ADC-57C6ECA09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3000" y="1666440"/>
            <a:ext cx="785484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3000" y="4254480"/>
            <a:ext cx="785484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01F3F-A889-4A98-9E3F-667991E9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1666440"/>
            <a:ext cx="383292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7800" y="1666440"/>
            <a:ext cx="383292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3000" y="4254480"/>
            <a:ext cx="383292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7800" y="4254480"/>
            <a:ext cx="383292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78BD8-6194-42EC-9F3B-2234AED42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3000" y="1666440"/>
            <a:ext cx="252900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8720" y="1666440"/>
            <a:ext cx="252900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4800" y="1666440"/>
            <a:ext cx="252900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3000" y="4254480"/>
            <a:ext cx="252900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8720" y="4254480"/>
            <a:ext cx="252900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4800" y="4254480"/>
            <a:ext cx="252900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46884-C0E4-4FC7-96F1-72BCE8DDF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909AC-83C2-49DF-AD8A-873D8A5E9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3000" y="1666440"/>
            <a:ext cx="785484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3EF51-2D53-41C3-B04C-EC13272D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3000" y="1666440"/>
            <a:ext cx="7854840" cy="495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C7162-2A91-4F80-A0D4-3048527C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3000" y="1666440"/>
            <a:ext cx="3832920" cy="495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7800" y="1666440"/>
            <a:ext cx="3832920" cy="495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1D639-EA14-4451-AE9D-A00925BE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8E8A7-8938-4675-9000-AE3AD946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D21E39-AAF6-4E85-B6D5-82A78770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3000" y="1666440"/>
            <a:ext cx="383292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7800" y="1666440"/>
            <a:ext cx="3832920" cy="495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3000" y="4254480"/>
            <a:ext cx="383292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663FB-C67E-4FAC-98EA-DABDDAEC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3000" y="1666440"/>
            <a:ext cx="785484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6BBB9-BEBA-443E-8023-C82670EC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3000" y="1666440"/>
            <a:ext cx="3832920" cy="495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7800" y="1666440"/>
            <a:ext cx="383292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27800" y="4254480"/>
            <a:ext cx="383292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9DE37-6D16-4A09-86D6-87FD8F15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3000" y="1666440"/>
            <a:ext cx="383292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7800" y="1666440"/>
            <a:ext cx="383292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3000" y="4254480"/>
            <a:ext cx="785484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726B3-F6E6-4575-95F9-45B86FE8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3000" y="1666440"/>
            <a:ext cx="785484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3000" y="4254480"/>
            <a:ext cx="785484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83789-9CF4-4A3D-A0D3-77705B35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3000" y="1666440"/>
            <a:ext cx="383292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7800" y="1666440"/>
            <a:ext cx="383292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3000" y="4254480"/>
            <a:ext cx="383292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27800" y="4254480"/>
            <a:ext cx="383292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887B2-A968-4F10-951B-128A0E439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3000" y="1666440"/>
            <a:ext cx="252900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8720" y="1666440"/>
            <a:ext cx="252900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14800" y="1666440"/>
            <a:ext cx="252900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3000" y="4254480"/>
            <a:ext cx="252900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8720" y="4254480"/>
            <a:ext cx="252900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14800" y="4254480"/>
            <a:ext cx="252900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3A202D-C0D2-4AC3-AF19-3540645A5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3000" y="1666440"/>
            <a:ext cx="7854840" cy="495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AB506-3217-424E-BE6B-4B136D8C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3000" y="1666440"/>
            <a:ext cx="3832920" cy="495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7800" y="1666440"/>
            <a:ext cx="3832920" cy="495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896C0-7A34-4C34-8A9A-7849C60D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8DAA8-997D-4C9C-A53E-1E129DEB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1356A-15BB-41CD-8385-83733998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3000" y="1666440"/>
            <a:ext cx="383292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7800" y="1666440"/>
            <a:ext cx="3832920" cy="495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3000" y="4254480"/>
            <a:ext cx="383292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9ABE1-EE60-406C-B8A3-4C05F3E0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3000" y="1666440"/>
            <a:ext cx="3832920" cy="495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7800" y="1666440"/>
            <a:ext cx="383292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7800" y="4254480"/>
            <a:ext cx="383292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997BB-6FE0-43D6-80CF-4542C869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3000" y="1666440"/>
            <a:ext cx="383292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7800" y="1666440"/>
            <a:ext cx="383292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3000" y="4254480"/>
            <a:ext cx="785484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779C1-19CA-4CF8-8202-EFF19E83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03000" y="1666440"/>
            <a:ext cx="7854840" cy="495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3328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892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00120" y="6657840"/>
            <a:ext cx="1905120" cy="1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360" bIns="9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01BDB7CB-99BA-4722-82D5-696C79E8EF3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723920" y="6686640"/>
            <a:ext cx="3816360" cy="17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1bg" descr=""/>
          <p:cNvPicPr/>
          <p:nvPr/>
        </p:nvPicPr>
        <p:blipFill>
          <a:blip r:embed="rId2"/>
          <a:stretch/>
        </p:blipFill>
        <p:spPr>
          <a:xfrm>
            <a:off x="3941640" y="870120"/>
            <a:ext cx="1252800" cy="271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39720"/>
            <a:ext cx="7772400" cy="188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1" lang="en-US" sz="6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4"/>
          </p:nvPr>
        </p:nvSpPr>
        <p:spPr>
          <a:xfrm>
            <a:off x="600120" y="6648480"/>
            <a:ext cx="1905120" cy="20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360" bIns="9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EC0EB70D-9D97-4B20-84A4-BA943CE5D32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4343040" y="6399360"/>
            <a:ext cx="4181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7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484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4792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95160" y="1122480"/>
            <a:ext cx="7769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39720"/>
            <a:ext cx="7772400" cy="105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0099"/>
                </a:solidFill>
                <a:latin typeface="Times New Roman"/>
              </a:rPr>
              <a:t>Halon Replacement</a:t>
            </a:r>
            <a:br>
              <a:rPr sz="5400"/>
            </a:br>
            <a:r>
              <a:rPr b="1" lang="en-US" sz="5400" spc="-1" strike="noStrike">
                <a:solidFill>
                  <a:srgbClr val="330099"/>
                </a:solidFill>
                <a:latin typeface="Times New Roman"/>
              </a:rPr>
              <a:t>Lavex Bottle Tests</a:t>
            </a:r>
            <a:endParaRPr b="1" lang="en-US" sz="5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3520" y="3886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ard J. Maz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yloads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eing Commercial Airplan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h 27 &amp; 28,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Lavatory Trash Container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re Extinguisher (Lavex) Tes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128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211680" indent="-21168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16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1680" indent="-21168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eing requested all interested suppliers to submit data to show they have an agent/bottle candidate that meets Spec 10-619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16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11680" indent="-21168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ed supplier drawings &amp; data &amp; authorized five suppliers to proceed to alternative agent screening test at FAA Tech Cen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16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11680" indent="-21168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ed seven non-Halon and three Halon bottles from each suppl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760" indent="-21456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AA conformity of non-Halon bottles done p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760" indent="-21456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ier drawing w/exception no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76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11680" indent="-21168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ed two more Halon bottles from two different suppliers to re-validate test equipment and data collection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16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11680" indent="-21168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ed three agents from four suppliers week of Dec 11, 2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Mazzone - BCA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60AA1-95D2-41A7-99F1-A06FB20599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Lavatory Trash Container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re Extinguisher (Lavex) Tes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3000" y="1666440"/>
            <a:ext cx="785484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agents pass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M-200™ (HFC-227ea)  one supp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-36™  (HFC-236fa)  two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agent from one supplier fai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gel™ (Ammonium Polyphosphate in HFC 134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ure analysis being performed by supp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Mazzone - BCA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86B5D-1CB2-4D08-BA52-46431C31DC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dcp_0422" descr=""/>
          <p:cNvPicPr/>
          <p:nvPr/>
        </p:nvPicPr>
        <p:blipFill>
          <a:blip r:embed="rId1"/>
          <a:srcRect l="6818" t="5139" r="0" b="0"/>
          <a:stretch/>
        </p:blipFill>
        <p:spPr>
          <a:xfrm>
            <a:off x="457200" y="380880"/>
            <a:ext cx="8236080" cy="60724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5790960"/>
            <a:ext cx="3048120" cy="57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AA Test Setup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Mazzone - BCA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F5652-BEC2-4D7C-B23A-9AD9A48726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Lavatory Trash Container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re Extinguisher (Lavex) Tes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55200" cy="495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essons Lear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ain concurrence on Test Acceptance Criteria before test st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22860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iers, TBC &amp; FAA Airworthiness Certification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box leaked at air supply shut off slid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22860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y/repairs made early in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ion to MPS to clarify Appendix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22860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e wording of discharge performance criteria (Sec. 4.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22860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location of upper thermocouple (Sec 5.2.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22860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upper thermocouple to Figure D-1. (page D-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gathering interval should be less than five seconds a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Mazzone - BCA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52013-10C4-495F-BE6C-BF2E31EE13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Lavatory Trash Container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re Extinguisher  (Lavex) Tes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8548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xt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cessful suppliers preparing to submit Qualification Test Procedure to Boeing fo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iers then perform Qual tests with FAA  conformed bott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tle passing Qual tests will then be tested by Boeing in actual waste compartment installation using conformed bott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eing Lavatory specification will be revised to add suppliers part number for bottles that meet all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v suppliers are then authorized add those parts to their own draw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Mazzone - BCA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148EE-CF35-418D-AE19-1B71493C3C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1T18:25:54Z</dcterms:created>
  <dc:creator>Everett Site Standard</dc:creator>
  <dc:description/>
  <dc:language>en-US</dc:language>
  <cp:lastModifiedBy>Everett Site Standard</cp:lastModifiedBy>
  <cp:lastPrinted>2001-03-07T16:38:33Z</cp:lastPrinted>
  <dcterms:modified xsi:type="dcterms:W3CDTF">2001-04-10T13:40:53Z</dcterms:modified>
  <cp:revision>29</cp:revision>
  <dc:subject/>
  <dc:title>Halon Replacement Lavex Test Status</dc:title>
</cp:coreProperties>
</file>