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9B4-F1D8-4337-A10C-324CD240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8B4-9039-4350-B8C7-E40D710F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992-9ED0-47FD-9C09-4108E69F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797-6BF3-4A31-8AA6-FEF6F9DC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C1F-505C-498B-AB52-B46B4C91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455-B48C-4028-AFBE-D51338A1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C8B-6C8E-4E3A-A28A-09941FE2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BB2-2979-4E5F-A119-39987AF9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0B5-9AF5-41A1-BAE1-EE01618F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CA2-F176-4BFD-93C7-D4C1F77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CDC-1C44-4266-BCDD-BB41AA51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DF1-4D11-4CB3-B3FB-1A906063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9AB3-E7A7-47FC-89CC-0CE4EA038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Job in C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g Gra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to Phy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pecification of fully reduced workflow specification (all contexts resolved, job leve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pecification of contexts actually used in modifying a workflow (why does a constant have value x?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pecifica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Job in C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Job is an Application Configuration and Job Creation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Job uses metadata to abstract application steps and bolt them together into a workflow (Configura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Job uses metadata to abstract service invocations and iterators to parallelize job creation (other Configurator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Job has an abstract model of jo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can be translated into concrete jobs for a variety of environments (local or grid)  later depending on what modules are plugged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Job in C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Job does job creation in scripts (parallelized or n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Job scripts support external service invocations, looping over data things, inline job submission, metadata constraint modeling among applications and services, persistence, and conventional proven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ipts can be factored into simpler scripts and contexts.  Contexts contain site level details, administrative details, logical details about constraints on the simpler scrip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ing the context scripts can enable “meta-provenance” in the sense that recording constraints provides clues as to why certain parameters are set the way they are instead of just their val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Job in C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ial Monte Carlo Gene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30 sites, over 75 million GEANT events, controlled centrally by central RefDB (pull mode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halleng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t CERN to govern online reconstruction of simulated data at 25 Hz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t FNAL to create physics plots from reconstructed data transferred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Job in C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to Run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P: An XML persistency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EEK: Runtime extensions to RunJob, monitoring, and late job bui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ger: An event lo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iptObjects: Abstract descriptions of jobs that serve as input to code generators producing actual jobs for specific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T: A GUI for construction Configurators and workf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5105520"/>
            <a:ext cx="152388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 Cata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5105520"/>
            <a:ext cx="152424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/Gr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599480" y="2819520"/>
            <a:ext cx="62485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k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ntainer for Configurators that en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 propagation, workflow modeling, proven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ipting, and context resolution of scrip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62520"/>
            <a:ext cx="62485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Oriented,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description of services or applications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s for extending behaviors to many environ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510552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5105520"/>
            <a:ext cx="152388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2133720"/>
            <a:ext cx="3124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Job 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2133720"/>
            <a:ext cx="3124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Job Con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228600"/>
            <a:ext cx="1828800" cy="914400"/>
          </a:xfrm>
          <a:prstGeom prst="ellipse">
            <a:avLst/>
          </a:prstGeom>
          <a:solidFill>
            <a:srgbClr val="75e3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28600"/>
            <a:ext cx="1828800" cy="914400"/>
          </a:xfrm>
          <a:prstGeom prst="ellipse">
            <a:avLst/>
          </a:prstGeom>
          <a:solidFill>
            <a:srgbClr val="75e3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1371600"/>
            <a:ext cx="838080" cy="900000"/>
          </a:xfrm>
          <a:prstGeom prst="downArrow">
            <a:avLst>
              <a:gd name="adj1" fmla="val 50000"/>
              <a:gd name="adj2" fmla="val 26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1371600"/>
            <a:ext cx="838080" cy="900000"/>
          </a:xfrm>
          <a:prstGeom prst="downArrow">
            <a:avLst>
              <a:gd name="adj1" fmla="val 50000"/>
              <a:gd name="adj2" fmla="val 26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5943600"/>
            <a:ext cx="1676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ript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to Phy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s Parameters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hysics group: in a context file written by a special user designated by the physic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s working within a physics group will inherit these parameters by using a common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s multiple applications according to the same set of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knowledgeable user: in a personal MCRunjob script file or in a personal context fi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novice user: on the command line of a pre-existing MCRunjob script written by a knowledgeable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case, the novice is restricted to specifying parameters foreseen by the author of the MCRunjob script in ques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>
            <a:off x="685080" y="3733920"/>
            <a:ext cx="70102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k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ntainer for Configurators that en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 propagation, workflow modeling, proven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ipting, and context resolution of scrip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743200"/>
            <a:ext cx="3124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Job 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743200"/>
            <a:ext cx="3124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Job Con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28600"/>
            <a:ext cx="1828800" cy="914400"/>
          </a:xfrm>
          <a:prstGeom prst="ellipse">
            <a:avLst/>
          </a:prstGeom>
          <a:solidFill>
            <a:srgbClr val="75e3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152280"/>
            <a:ext cx="1828800" cy="914400"/>
          </a:xfrm>
          <a:prstGeom prst="ellipse">
            <a:avLst/>
          </a:prstGeom>
          <a:solidFill>
            <a:srgbClr val="75e3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143000"/>
            <a:ext cx="685800" cy="1752480"/>
          </a:xfrm>
          <a:prstGeom prst="downArrow">
            <a:avLst>
              <a:gd name="adj1" fmla="val 50000"/>
              <a:gd name="adj2" fmla="val 63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1066680"/>
            <a:ext cx="609480" cy="1828800"/>
          </a:xfrm>
          <a:prstGeom prst="downArrow">
            <a:avLst>
              <a:gd name="adj1" fmla="val 50000"/>
              <a:gd name="adj2" fmla="val 750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2240" y="1219320"/>
            <a:ext cx="2968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User’s Job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attach Pyt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Batch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Physics Parameters of User Inte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TopMass=275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Specification of Which Contex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03960" y="990720"/>
            <a:ext cx="3711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Physics Parameters set by Physic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HiggsMass=115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Mass=273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ay Parameters from a Control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Physical Description of Site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 BatchManager=F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Configuration of Site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FBSQueueName=CMS; Submit Jobs In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4876920"/>
            <a:ext cx="914400" cy="1295280"/>
          </a:xfrm>
          <a:prstGeom prst="downArrow">
            <a:avLst>
              <a:gd name="adj1" fmla="val 50000"/>
              <a:gd name="adj2" fmla="val 354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28160" y="4876920"/>
            <a:ext cx="392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Combine all specified contex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Fully Specified Workflow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attach Control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Pyt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gsMass=115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Mass=275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ay Parameters from a Control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F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S QueueName=CMS; Submit Jobs In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34290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34290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342900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Read User Scri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1920" y="3429000"/>
            <a:ext cx="28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Read Context(s) specified by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066680"/>
            <a:ext cx="380880" cy="2286000"/>
          </a:xfrm>
          <a:prstGeom prst="upArrow">
            <a:avLst>
              <a:gd name="adj1" fmla="val 50000"/>
              <a:gd name="adj2" fmla="val 15004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1240" y="342900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ult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6120" y="586728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ult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4724280"/>
            <a:ext cx="457200" cy="18288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00200" y="571500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447920" y="152280"/>
            <a:ext cx="62481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k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ntainer for Configurators that en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 propagation, workflow modeling, proven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ipting, and context resolution of scrip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3048120"/>
            <a:ext cx="62481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Oriented,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description of services or applications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s for extending behaviors to many environ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715000"/>
            <a:ext cx="2133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yth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71500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4560" y="1254240"/>
            <a:ext cx="3448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Fully Specified Workflow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attach Control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Pyt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gsMass=115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Mass=275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ay Parameters from a Control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F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S QueueName=CMS; Submit J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295280"/>
            <a:ext cx="380880" cy="1752840"/>
          </a:xfrm>
          <a:prstGeom prst="downArrow">
            <a:avLst>
              <a:gd name="adj1" fmla="val 50000"/>
              <a:gd name="adj2" fmla="val 1150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5715000"/>
            <a:ext cx="990720" cy="685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943600"/>
            <a:ext cx="304560" cy="228600"/>
          </a:xfrm>
          <a:prstGeom prst="leftRightArrow">
            <a:avLst>
              <a:gd name="adj1" fmla="val 50000"/>
              <a:gd name="adj2" fmla="val 265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648320"/>
            <a:ext cx="228600" cy="1143000"/>
          </a:xfrm>
          <a:prstGeom prst="downArrow">
            <a:avLst>
              <a:gd name="adj1" fmla="val 50000"/>
              <a:gd name="adj2" fmla="val 1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7360" y="4191120"/>
            <a:ext cx="17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Control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decay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2640" y="5257800"/>
            <a:ext cx="138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urn dec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s: {x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114800"/>
            <a:ext cx="228600" cy="1219320"/>
          </a:xfrm>
          <a:prstGeom prst="up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44197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4191120"/>
            <a:ext cx="182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Pyt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gsMass=1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Mass=2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ayParameters {x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4114800"/>
            <a:ext cx="228600" cy="1219320"/>
          </a:xfrm>
          <a:prstGeom prst="up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1800" y="5273640"/>
            <a:ext cx="121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urn Pyt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ript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4876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1143000"/>
            <a:ext cx="457200" cy="1447920"/>
          </a:xfrm>
          <a:prstGeom prst="upArrow">
            <a:avLst>
              <a:gd name="adj1" fmla="val 50000"/>
              <a:gd name="adj2" fmla="val 791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41911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F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SQueueName=C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 Job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4038480"/>
            <a:ext cx="228600" cy="1219320"/>
          </a:xfrm>
          <a:prstGeom prst="upArrow">
            <a:avLst>
              <a:gd name="adj1" fmla="val 50000"/>
              <a:gd name="adj2" fmla="val 13334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257800"/>
            <a:ext cx="11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BS Sub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259092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BS Subm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5638680"/>
            <a:ext cx="985680" cy="762120"/>
          </a:xfrm>
          <a:custGeom>
            <a:avLst/>
            <a:gdLst>
              <a:gd name="textAreaLeft" fmla="*/ 216720 w 985680"/>
              <a:gd name="textAreaRight" fmla="*/ 768960 w 985680"/>
              <a:gd name="textAreaTop" fmla="*/ 167400 h 762120"/>
              <a:gd name="textAreaBottom" fmla="*/ 5947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5943600"/>
            <a:ext cx="290520" cy="228600"/>
          </a:xfrm>
          <a:prstGeom prst="rightArrow">
            <a:avLst>
              <a:gd name="adj1" fmla="val 50000"/>
              <a:gd name="adj2" fmla="val 317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7:37:30Z</dcterms:created>
  <dc:creator>Trial User</dc:creator>
  <dc:description/>
  <dc:language>en-US</dc:language>
  <cp:lastModifiedBy>Trial User</cp:lastModifiedBy>
  <dcterms:modified xsi:type="dcterms:W3CDTF">2004-03-16T16:35:23Z</dcterms:modified>
  <cp:revision>14</cp:revision>
  <dc:subject/>
  <dc:title>RunJob in CMS</dc:title>
</cp:coreProperties>
</file>