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25360" y="704880"/>
            <a:ext cx="4631040" cy="347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1600" spc="-1" strike="noStrike">
                <a:solidFill>
                  <a:srgbClr val="ffff00"/>
                </a:solidFill>
                <a:latin typeface="Agfa Rotis Sans Serif ExBd"/>
              </a:rPr>
              <a:t>Click to move the slide</a:t>
            </a:r>
            <a:endParaRPr b="1" lang="en-US" sz="1600" spc="-1" strike="noStrike">
              <a:solidFill>
                <a:srgbClr val="ffff00"/>
              </a:solidFill>
              <a:latin typeface="Agfa Rotis Sans Serif ExB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jazz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s are happe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IRB meeting tomorrow for 30 minutes exclusively 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 and I will be meeting with DS ideally this week as w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y slip to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ly positive feedback from OMB based on 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– only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efforts to date.  Time to roll up sleeves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jazz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s are happe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IRB meeting tomorrow for 30 minutes exclusively 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 and I will be meeting with DS ideally this week as w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y slip to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ly positive feedback from OMB based on 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– only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efforts to date.  Time to roll up sleeves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jazz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s are happe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IRB meeting tomorrow for 30 minutes exclusively 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 and I will be meeting with DS ideally this week as w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y slip to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ly positive feedback from OMB based on 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– only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efforts to date.  Time to roll up sleeves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jazz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s are happe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IRB meeting tomorrow for 30 minutes exclusively 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 and I will be meeting with DS ideally this week as w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y slip to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ly positive feedback from OMB based on 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– only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efforts to date.  Time to roll up sleeves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jazz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s are happe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IRB meeting tomorrow for 30 minutes exclusively 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 and I will be meeting with DS ideally this week as w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y slip to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ly positive feedback from OMB based on 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– only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efforts to date.  Time to roll up sleeves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BEC87-A4B5-45BC-90CB-0269DF0B94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862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9240" y="3997080"/>
            <a:ext cx="862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E861A-809D-4C12-92EB-CEC254EC5D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40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9240" y="399708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400" y="399708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A6685-A093-4AF7-BC77-6BF657551D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6320" y="138600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3400" y="138600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19240" y="399708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6320" y="399708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3400" y="399708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2EA3C-E9B5-43BE-9FD0-AF7936BE7E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19240" y="1386000"/>
            <a:ext cx="8627760" cy="49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862776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421020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1386000"/>
            <a:ext cx="421020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39360" y="630000"/>
            <a:ext cx="760428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1386000"/>
            <a:ext cx="421020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19240" y="399708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19240" y="1386000"/>
            <a:ext cx="8627760" cy="49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A6651-B2F8-4B82-8B03-7BC5F93DAA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421020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399708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19240" y="3997080"/>
            <a:ext cx="862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862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19240" y="3997080"/>
            <a:ext cx="862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19240" y="399708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399708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36320" y="138600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53400" y="138600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19240" y="399708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36320" y="399708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53400" y="399708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862776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B221B-4069-4DBF-86EC-B59F5CBC30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421020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400" y="1386000"/>
            <a:ext cx="421020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3C14B-1433-4A52-99F9-3AB69EA1CC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E2E81-570E-43DB-A6CA-2C6D9E525E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39360" y="630000"/>
            <a:ext cx="760428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96EDF-5A95-4909-BD3D-AA2FC6DD73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400" y="1386000"/>
            <a:ext cx="421020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19240" y="399708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D53C6-F647-489A-AB4F-125EA85301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421020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40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400" y="399708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58FA7-E619-42DE-8272-BAB3774718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40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19240" y="3997080"/>
            <a:ext cx="862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71381-F376-469C-891F-9C10A0E27F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718" t="7926" r="0" b="28463"/>
          <a:stretch/>
        </p:blipFill>
        <p:spPr>
          <a:xfrm>
            <a:off x="0" y="0"/>
            <a:ext cx="1474920" cy="1208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19240" y="1386000"/>
            <a:ext cx="862776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7840">
              <a:lnSpc>
                <a:spcPct val="90000"/>
              </a:lnSpc>
              <a:spcBef>
                <a:spcPts val="901"/>
              </a:spcBef>
              <a:buClr>
                <a:srgbClr val="6699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77840" indent="-177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7840" indent="-177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840" indent="-177840">
              <a:lnSpc>
                <a:spcPct val="90000"/>
              </a:lnSpc>
              <a:spcBef>
                <a:spcPts val="901"/>
              </a:spcBef>
              <a:buClr>
                <a:srgbClr val="6699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840" indent="-177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840" indent="-177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597120" y="6589440"/>
            <a:ext cx="1694160" cy="26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lstStyle>
            <a:lvl1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90EC-C162-4418-9411-AAD55DB39D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292000" y="0"/>
            <a:ext cx="38595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Department of Agriculture eGovernment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06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0760" y="6515280"/>
            <a:ext cx="821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278920" y="6230880"/>
            <a:ext cx="865080" cy="627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416400"/>
          </a:xfrm>
          <a:prstGeom prst="rect">
            <a:avLst/>
          </a:prstGeom>
          <a:solidFill>
            <a:srgbClr val="005231"/>
          </a:solidFill>
          <a:ln w="9360">
            <a:solidFill>
              <a:srgbClr val="0052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4769" r="0" b="26851"/>
          <a:stretch/>
        </p:blipFill>
        <p:spPr>
          <a:xfrm>
            <a:off x="0" y="0"/>
            <a:ext cx="3908520" cy="341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938920" y="600120"/>
            <a:ext cx="1361880" cy="985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22760" y="1878120"/>
            <a:ext cx="38991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.S. Department of Agricul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Government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638680"/>
            <a:ext cx="9144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12,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gfa Rotis Sans Serif ExBd"/>
              </a:rPr>
              <a:t>Click to edit the title text format</a:t>
            </a:r>
            <a:endParaRPr b="1" lang="en-US" sz="1600" spc="-1" strike="noStrike">
              <a:solidFill>
                <a:srgbClr val="ffff00"/>
              </a:solidFill>
              <a:latin typeface="Agfa Rotis Sans Serif ExB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036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208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260360" algn="ctr">
              <a:lnSpc>
                <a:spcPct val="90000"/>
              </a:lnSpc>
              <a:spcBef>
                <a:spcPts val="499"/>
              </a:spcBef>
              <a:buClr>
                <a:srgbClr val="669900"/>
              </a:buClr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260360">
              <a:spcBef>
                <a:spcPts val="2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260360">
              <a:spcBef>
                <a:spcPts val="2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68280" y="3970080"/>
            <a:ext cx="8283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Government Working Group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938920" y="600120"/>
            <a:ext cx="1361880" cy="985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22760" y="1878120"/>
            <a:ext cx="38991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.S. Department of Agricul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Government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419120" y="1447920"/>
            <a:ext cx="6823080" cy="42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ctical Plan Creation &amp; U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ed Reporting 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uthentication Employee Reg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prise Content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&amp;A and 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56840" y="1203480"/>
            <a:ext cx="102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4038480"/>
            <a:ext cx="457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66560" y="1911240"/>
            <a:ext cx="102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44240" y="2651040"/>
            <a:ext cx="102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53960" y="3295800"/>
            <a:ext cx="102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0D37E-8D6F-45C6-8789-16433CB5F60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prise Content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31680" y="1552680"/>
            <a:ext cx="8754840" cy="42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3640" indent="-455760">
              <a:lnSpc>
                <a:spcPct val="105000"/>
              </a:lnSpc>
              <a:spcBef>
                <a:spcPts val="2551"/>
              </a:spcBef>
              <a:buClr>
                <a:srgbClr val="66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act awarded to Unisys and FileNet on May 2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1600" indent="-392040">
              <a:lnSpc>
                <a:spcPct val="105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s Software, installation and support services, and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455760">
              <a:lnSpc>
                <a:spcPct val="105000"/>
              </a:lnSpc>
              <a:spcBef>
                <a:spcPts val="2551"/>
              </a:spcBef>
              <a:buClr>
                <a:srgbClr val="66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ment environments being installed in St. Louis and KC (30 da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455760">
              <a:lnSpc>
                <a:spcPct val="105000"/>
              </a:lnSpc>
              <a:spcBef>
                <a:spcPts val="2551"/>
              </a:spcBef>
              <a:buClr>
                <a:srgbClr val="66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suite of environments being installed in KC (90 da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455760">
              <a:lnSpc>
                <a:spcPct val="105000"/>
              </a:lnSpc>
              <a:spcBef>
                <a:spcPts val="2551"/>
              </a:spcBef>
              <a:buClr>
                <a:srgbClr val="66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CM template and tool development under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F76E7-C8D2-4174-ADB7-175995B87F3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419120" y="1447920"/>
            <a:ext cx="6823080" cy="42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ctical Plan Creation &amp; U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ed Reporting 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uthentication Employee Reg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prise Content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&amp;A and 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56840" y="1203480"/>
            <a:ext cx="102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4038480"/>
            <a:ext cx="457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66560" y="1911240"/>
            <a:ext cx="102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44240" y="2651040"/>
            <a:ext cx="102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53960" y="3295800"/>
            <a:ext cx="102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47480" y="4003560"/>
            <a:ext cx="102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FD9B7-6231-4960-ABCC-0A9B4BFA786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 and Answ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909880" y="2295360"/>
            <a:ext cx="3335400" cy="268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219240" y="1386000"/>
          <a:ext cx="8626320" cy="499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240" y="1386000"/>
                    <a:ext cx="862632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4F1A6-42B0-4D93-A91E-FE820F757CB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1325520"/>
            <a:ext cx="8856720" cy="53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596880" indent="-304920">
              <a:lnSpc>
                <a:spcPct val="90000"/>
              </a:lnSpc>
              <a:spcBef>
                <a:spcPts val="1400"/>
              </a:spcBef>
              <a:buClr>
                <a:srgbClr val="66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6880" indent="-3049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WG Schedule: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Wednesday of every mon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6880" indent="-304920"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58680" indent="-266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EGWG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8680" indent="-266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ay 26, 2004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58680" indent="-266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1:00 AM – 12:00PM 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58680" indent="-266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1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58680" indent="-266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58680" indent="-266400">
              <a:lnSpc>
                <a:spcPct val="55000"/>
              </a:lnSpc>
              <a:spcBef>
                <a:spcPts val="123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674B4-C873-4A7A-882C-E5C10164420B}" type="slidenum">
              <a:t>14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19120" y="1447920"/>
            <a:ext cx="6823080" cy="42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ctical Plan Creation &amp; U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ed Reporting 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uthentication Employee Reg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prise Content Manag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&amp;A and 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56840" y="1203480"/>
            <a:ext cx="102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4038480"/>
            <a:ext cx="457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F64BF-F1D5-4E76-AFF1-4C5C8358702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overnment Tactical Plan Cre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00" y="1512720"/>
            <a:ext cx="85150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1040" indent="-457200">
              <a:lnSpc>
                <a:spcPct val="105000"/>
              </a:lnSpc>
              <a:spcBef>
                <a:spcPts val="4501"/>
              </a:spcBef>
              <a:buClr>
                <a:srgbClr val="6699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planning, generally, does your Agency d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1040" indent="-457200">
              <a:lnSpc>
                <a:spcPct val="105000"/>
              </a:lnSpc>
              <a:spcBef>
                <a:spcPts val="4501"/>
              </a:spcBef>
              <a:buClr>
                <a:srgbClr val="6699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are your eGovernment Tactical plans connected to or integrated with the aforementioned pla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1040" indent="-457200">
              <a:lnSpc>
                <a:spcPct val="105000"/>
              </a:lnSpc>
              <a:spcBef>
                <a:spcPts val="4501"/>
              </a:spcBef>
              <a:buClr>
                <a:srgbClr val="6699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Agency process for updating the tactical and related pla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1040" indent="-457200">
              <a:lnSpc>
                <a:spcPct val="105000"/>
              </a:lnSpc>
              <a:spcBef>
                <a:spcPts val="4501"/>
              </a:spcBef>
              <a:buClr>
                <a:srgbClr val="6699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process did your agency use to prioritize eGovernment projects in the tactical pl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1040" indent="-457200">
              <a:lnSpc>
                <a:spcPct val="105000"/>
              </a:lnSpc>
              <a:spcBef>
                <a:spcPts val="2551"/>
              </a:spcBef>
              <a:buClr>
                <a:srgbClr val="6699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6437D-D5C1-4EB1-87E7-D56D8A81840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overnment Tactical Plan Cre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1644480"/>
            <a:ext cx="838188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1040" indent="-457200">
              <a:lnSpc>
                <a:spcPct val="105000"/>
              </a:lnSpc>
              <a:spcBef>
                <a:spcPts val="4501"/>
              </a:spcBef>
              <a:buClr>
                <a:srgbClr val="669900"/>
              </a:buClr>
              <a:buFont typeface="Arial"/>
              <a:buAutoNum type="arabicPeriod" startAt="5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you think the tactical plan or the creation process can be improv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1040" indent="-457200">
              <a:lnSpc>
                <a:spcPct val="105000"/>
              </a:lnSpc>
              <a:spcBef>
                <a:spcPts val="4501"/>
              </a:spcBef>
              <a:buClr>
                <a:srgbClr val="669900"/>
              </a:buClr>
              <a:buFont typeface="Arial"/>
              <a:buAutoNum type="arabicPeriod" startAt="5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your Agency’s tactical plan align with USDA’s Enterprise Architec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1040" indent="-457200">
              <a:lnSpc>
                <a:spcPct val="105000"/>
              </a:lnSpc>
              <a:spcBef>
                <a:spcPts val="4501"/>
              </a:spcBef>
              <a:buClr>
                <a:srgbClr val="669900"/>
              </a:buClr>
              <a:buFont typeface="Arial"/>
              <a:buAutoNum type="arabicPeriod" startAt="5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will your Agency implement the eGovernment Tactical Pl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1040" indent="-457200">
              <a:lnSpc>
                <a:spcPct val="105000"/>
              </a:lnSpc>
              <a:spcBef>
                <a:spcPts val="2551"/>
              </a:spcBef>
              <a:buClr>
                <a:srgbClr val="6699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9544F-145A-4D31-AE2A-C59147AB788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19120" y="1447920"/>
            <a:ext cx="6823080" cy="42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ctical Plan Creation &amp; U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ed Reporting 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uthentication Employee Reg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prise Content Manag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&amp;A and 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56840" y="1203480"/>
            <a:ext cx="102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4038480"/>
            <a:ext cx="457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66560" y="1911240"/>
            <a:ext cx="102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032E7-96E7-4241-8498-8F48EFB9F95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ed eGovernment 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8880" y="1671120"/>
            <a:ext cx="4236840" cy="499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2040" indent="-392040">
              <a:lnSpc>
                <a:spcPct val="80000"/>
              </a:lnSpc>
              <a:spcBef>
                <a:spcPts val="901"/>
              </a:spcBef>
              <a:buClr>
                <a:srgbClr val="66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port consists of three major components: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2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93760">
              <a:lnSpc>
                <a:spcPct val="80000"/>
              </a:lnSpc>
              <a:spcBef>
                <a:spcPts val="901"/>
              </a:spcBef>
              <a:buClr>
                <a:srgbClr val="6699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letion of spreadsheets that contain key GPEA, eAuthentication and Information Value Chain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93760">
              <a:lnSpc>
                <a:spcPct val="80000"/>
              </a:lnSpc>
              <a:spcBef>
                <a:spcPts val="901"/>
              </a:spcBef>
              <a:buClr>
                <a:srgbClr val="6699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ment of GPEA Compliance Project Plans that describe key milestones of current/planned initiatives to offer electronic options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93760">
              <a:lnSpc>
                <a:spcPct val="80000"/>
              </a:lnSpc>
              <a:spcBef>
                <a:spcPts val="901"/>
              </a:spcBef>
              <a:buClr>
                <a:srgbClr val="6699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view/revision of Agency eGovernment Tactical Plans based on spreadsheets, GPEA Compliance Project Plans and other OCIO feedback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2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572000" y="2209680"/>
            <a:ext cx="4140000" cy="3641760"/>
            <a:chOff x="4572000" y="2209680"/>
            <a:chExt cx="4140000" cy="3641760"/>
          </a:xfrm>
        </p:grpSpPr>
        <p:sp>
          <p:nvSpPr>
            <p:cNvPr id="109" name=""/>
            <p:cNvSpPr/>
            <p:nvPr/>
          </p:nvSpPr>
          <p:spPr>
            <a:xfrm>
              <a:off x="4572000" y="2230200"/>
              <a:ext cx="1814400" cy="160020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. Spreadshee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97600" y="2209680"/>
              <a:ext cx="1814400" cy="160020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I. Project Plan Outli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78280" y="4251240"/>
              <a:ext cx="1814760" cy="160020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II. Revised Agency eGovernment Tactical P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89640" y="3024000"/>
              <a:ext cx="4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614640" y="3819600"/>
              <a:ext cx="1127160" cy="39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10080" y="3846600"/>
              <a:ext cx="109872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4441680" y="1714680"/>
            <a:ext cx="4395960" cy="361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gency Integrated eGovernment Re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EEDEE-3BF6-424A-90D9-CBDA2072940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19120" y="1447920"/>
            <a:ext cx="6823080" cy="42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ctical Plan Creation &amp; U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ed Reporting 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uthentication Employee Reg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prise Content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&amp;A and 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56840" y="1203480"/>
            <a:ext cx="102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4038480"/>
            <a:ext cx="457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66560" y="1911240"/>
            <a:ext cx="102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53960" y="2622600"/>
            <a:ext cx="102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F338C-7573-415D-89F9-E1F51AC1C04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uthentication Employee Regist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124000"/>
            <a:ext cx="8755200" cy="38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6480" indent="-407880">
              <a:lnSpc>
                <a:spcPct val="105000"/>
              </a:lnSpc>
              <a:spcBef>
                <a:spcPts val="2126"/>
              </a:spcBef>
              <a:buClr>
                <a:srgbClr val="6699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loyees will be able to self-register to obtain an eAuthentication credenti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6480" indent="-407880">
              <a:lnSpc>
                <a:spcPct val="105000"/>
              </a:lnSpc>
              <a:spcBef>
                <a:spcPts val="2126"/>
              </a:spcBef>
              <a:buClr>
                <a:srgbClr val="6699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loyee data required to validate a user account includes, but is not limited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1600" indent="-277920">
              <a:lnSpc>
                <a:spcPct val="100000"/>
              </a:lnSpc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1600" indent="-277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Security Number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1600" indent="-277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 of Birth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1600" indent="-277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cy;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1600" indent="-277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ment Grade and Ste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36480" indent="-407880">
              <a:lnSpc>
                <a:spcPct val="105000"/>
              </a:lnSpc>
              <a:spcBef>
                <a:spcPts val="2126"/>
              </a:spcBef>
              <a:buClr>
                <a:srgbClr val="6699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ecessary information can be found on Earnings and Leave Statements and Personnel Action For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3111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USDA eAuthentication service is expanding its capabilities to include all USDA employees in July 2004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102C9-4622-46FC-915F-FF4B4197BA9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uthentication Employee Regist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187720"/>
            <a:ext cx="875520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6480" indent="-407880">
              <a:lnSpc>
                <a:spcPct val="105000"/>
              </a:lnSpc>
              <a:spcBef>
                <a:spcPts val="2126"/>
              </a:spcBef>
              <a:buClr>
                <a:srgbClr val="6699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USDA employee credential rollout will be completed along the following schedul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1600" indent="-277920">
              <a:lnSpc>
                <a:spcPct val="105000"/>
              </a:lnSpc>
              <a:spcBef>
                <a:spcPts val="191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2004  – Roll out Employee Registration process to pilot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1600" indent="-277920">
              <a:lnSpc>
                <a:spcPct val="105000"/>
              </a:lnSpc>
              <a:spcBef>
                <a:spcPts val="191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 2004  – Roll out Employee Registration process to all USDA employe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13590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y obtaining an eAuthentication credential, employees will be able to access numerous Internet-based resources across USD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C5DFC-3ACC-49D5-B61F-012227318A7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8T17:30:30Z</dcterms:created>
  <dc:creator>Martin_W_Rodgers</dc:creator>
  <dc:description>Accenture Sample Presentation v9.1</dc:description>
  <dc:language>en-US</dc:language>
  <cp:lastModifiedBy>Elfije_Salihu</cp:lastModifiedBy>
  <cp:lastPrinted>2000-08-10T20:43:38Z</cp:lastPrinted>
  <dcterms:modified xsi:type="dcterms:W3CDTF">2004-05-12T14:05:20Z</dcterms:modified>
  <cp:revision>9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