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5704-354C-40E9-BC0A-D8C17777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1F1-474D-4D95-B3AA-91310D66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824-345F-4CDC-AB5D-547F7C0F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9E3-4B2D-4408-A9FA-BCE113B7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7C2D-1372-402C-BDB8-444BAECA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3453-B290-4568-A8DE-0F067D36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C1F9-9089-4FA6-AC47-7F8652D6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3B48-1868-47CD-BE56-6FCF61AB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B703-D359-45D9-8689-A5A37EC3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261A-4785-470A-BE61-BAF6C9A5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6258-85C8-40B3-9DBF-CB154316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746-30E4-4F29-B2EB-DF373F22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7A90-5E9A-4388-860B-383753ED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9F6A-5456-4BD8-9740-FCDDF576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E0A9-512B-49B0-A7E5-69D2B27D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F179-8D9F-4A23-9BB9-550A9E75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C98B-2FA8-4E30-AC10-D7B52744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459-9444-4EB5-AD04-1DF1D39D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273-9BFA-4F46-BBCE-14C0D27C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37E2-1A9F-496F-8430-D05C98E9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FA4-A32C-48AB-82E5-8E5003E5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492-3A1E-41DA-AC02-A766830C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1EB8-7FC9-4D97-97A5-8015EBDF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C0E-8E20-43AA-8636-12C410A3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2E6C-DCA4-43CC-82DA-12A1D07113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809B-F680-4822-B51E-3F3ACE749A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ow Temperature Heat Capacity of the Frustrated Pyrochlore Magnets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f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and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r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200"/>
            <a:ext cx="72392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ice Dur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fessor L.R. Corruccin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ter Klavi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iversity of California, Dav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eat Capacity for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f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harp peak at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≈ 0.77 K is consistent with long-range magnetic ord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peak is superimposed on the broad maximum centered at about 1 K, the latter indicating short-range ord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eak maximum is about 17 J/mol-K, which is within 18% of the mean field prediction for a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rder magnetic phase transition for S = 7/2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magnitude of the heat capacity maximum for this material resembles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ore closely than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here the transition is largely first-order with a peak amplitude that is roughly an order of magnitude higher, at ~100 J/mol-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W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~ 10 (similar to the stannate and titanate pyrochlor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ntropy for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f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entropy of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pproaches Rln(8)/mol at high temperatu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eat Capacity for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r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1447920"/>
          <a:ext cx="876312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7631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eat Capacity for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r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sharp peak is a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C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≈ 0.77 K, which is nearly identical to the hafnate and again consistent with long-range magnetic ord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r results disagree with earlier measurements of the same material by S. Lutique et al., which showed no long-range order pea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fference is probably due to a longer annealing schedule for our sampl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eak amplitude is larger than that of the hafnate, and is superimposed on a broad maximum whose amplitude is lower than in the hafnat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eak maximum is about 24 J/mol-K, which is again close to the mean field prediction for the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rder magnetic phase transit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heat capacity is qualitatively distinct from both the titanate and the stanna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ntropy for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r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entropy of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pproaches Rln(8)/mol at high temperatu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m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surprising result for our heat capacity measurements is that the long-range order peak maximum for the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much larger than that of the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, even though other investigators have associated greater crystalline disorder with the zirconate latt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etveld refinements of both zirconium and hafnium pyrochlores give results consistent with some degree of cation disorder – at least 8% in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ifferences between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 likely due to the 1% smaller radius of the H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4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on – G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3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Z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4+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 closer in size than G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3+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H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4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se materials resemble the titanate and the stannate in the degree of frustration present, but their heat capacities are distinc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nature of the ordered ground state for the hafnate and the zirconate remains to be determi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oretically, pyrochlore lattices with isotropic anti-ferromagnetic exchange exhibit no magnetic order as temperature nears 0 K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use the isotropic Heisenberg Hamiltonian to model the nearest neighbor interactions for such pyrochl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equ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 far, the closest model systems have been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both pyrochlores order magnetically at about 1/10 of the Curie-Weiss temperature. Even though these materials have identical crystal structures, they have different ground states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systems have been studied extensively by previous group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yrochlore Lattice Diagra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5867280" cy="4819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162920" y="22096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ack dots    = Gadolinium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eat Capacity of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i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2300" spc="-1" strike="noStrike" baseline="-25000">
                <a:solidFill>
                  <a:srgbClr val="0066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P. Bonville et 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51181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eat Capacity of 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Gd</a:t>
            </a:r>
            <a:r>
              <a:rPr b="0" lang="en-US" sz="35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Sn</a:t>
            </a:r>
            <a:r>
              <a:rPr b="0" lang="en-US" sz="35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5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. Bonville et al., J. Phys.: Condens. Matter 15 (2003) 777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1642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 Continu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ong range order peaks in all of these materials implies that we need to take into account further-neighbor and dipole-dipole (potentially important for frustrated systems) interactions for the Hamiltonia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a potentially useful third model system to stud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measuring the heat capacity for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e discovered evidence of long-range ordering near 0.75 K in both the hafnium and zirconium pyrochlo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agnetic Susceptibility for Gd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Hf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and Gd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Zr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678348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Χ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t) yields a magnetic moment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= 7.86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hich is close to the free-ion value of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= 7.94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31080" y="1827360"/>
          <a:ext cx="17236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1080" y="1827360"/>
                    <a:ext cx="17236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838080" y="914400"/>
          <a:ext cx="7772400" cy="3581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14400"/>
                    <a:ext cx="77724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838080" y="4038480"/>
          <a:ext cx="7543800" cy="2638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038480"/>
                    <a:ext cx="754380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attice Consta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compar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: a = 10.515 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7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= 10.522 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Curie-Weiss constant: </a:t>
            </a:r>
            <a:r>
              <a:rPr b="0" lang="el-GR" sz="2000" spc="-1" strike="noStrike">
                <a:solidFill>
                  <a:srgbClr val="0066cc"/>
                </a:solidFill>
                <a:latin typeface="Verdana"/>
              </a:rPr>
              <a:t>θ</a:t>
            </a:r>
            <a:r>
              <a:rPr b="0" lang="en-US" sz="2000" spc="-1" strike="noStrike" baseline="-25000">
                <a:solidFill>
                  <a:srgbClr val="0066cc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 ≈ -7 K (for both material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: a = 10.184 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: a = 10.460 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Curie-Weiss constant: </a:t>
            </a:r>
            <a:r>
              <a:rPr b="0" lang="el-GR" sz="2000" spc="-1" strike="noStrike">
                <a:solidFill>
                  <a:srgbClr val="0066cc"/>
                </a:solidFill>
                <a:latin typeface="Verdana"/>
              </a:rPr>
              <a:t>θ</a:t>
            </a:r>
            <a:r>
              <a:rPr b="0" lang="en-US" sz="2000" spc="-1" strike="noStrike" baseline="-25000">
                <a:solidFill>
                  <a:srgbClr val="0066cc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 ≈ -9 K (for both materia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Zr(+4) ion is ~1% bigger than the Hf(+4) ion, which accounts for the slightly larger lattice constant in the zircon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eat Capacity for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f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1523880"/>
          <a:ext cx="90439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90439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2:13:27Z</dcterms:created>
  <dc:creator>Durand</dc:creator>
  <dc:description/>
  <dc:language>en-US</dc:language>
  <cp:lastModifiedBy>Durand</cp:lastModifiedBy>
  <dcterms:modified xsi:type="dcterms:W3CDTF">2007-10-25T23:20:31Z</dcterms:modified>
  <cp:revision>27</cp:revision>
  <dc:subject/>
  <dc:title>Low Temperature Heat Capacity of the Frustrated Pyrochlore Magnets Gd2Hf2O7 and Gd2Zr2O7 </dc:title>
</cp:coreProperties>
</file>