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A283-200F-454D-B563-980EFDCE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9A8-ED30-4628-90AF-AB9FF7C3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6E2-103E-4A3F-8B14-CF189204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A29-22CE-46C4-8F47-2061048D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9CD-0622-41CD-8B7F-2EB03582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BB0-142E-4395-8A8C-E0F56883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1F1-E075-4356-8805-E0F4666A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C30-07C1-4535-A1FD-E29624C0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D2D-71A7-41A7-925E-CA70D90C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C49E-55F6-46D3-837E-44714817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D4C-2C4C-4E43-B0F8-73C91BAA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0E2-5F9D-4201-A86C-3B7FFA7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4EC2-526E-4725-9EB9-65E7CB94E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xel Clus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ied presentation today ign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column clus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ield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tion damag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18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pulse heigh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4840"/>
            <a:ext cx="7772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knowledge of track angle, the best estimate of track position is given by the digital center of cluster (ignoring pulse heigh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rack angle is known, the best estimate of track position is given by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N,P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re are 2-3 possible values of N (others arise fro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ay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pulse heights on the left and right edges of the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lse heights in the center of the cluster contain NO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ing the track angle means knowing the track length in the central pixe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f is determined from data &amp; sim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54080" y="1592280"/>
            <a:ext cx="4956480" cy="4624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85880" y="220680"/>
            <a:ext cx="5930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tion of f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N,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56880" y="1362240"/>
            <a:ext cx="36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from 1999 test beam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7560" y="6046920"/>
            <a:ext cx="6043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a = (P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/(P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P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… really would create a lookup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bits of pulse heigh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64 possibil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92520" y="3130560"/>
            <a:ext cx="3598920" cy="1630440"/>
          </a:xfrm>
          <a:custGeom>
            <a:avLst/>
            <a:gdLst/>
            <a:ahLst/>
            <a:rect l="l" t="t" r="r" b="b"/>
            <a:pathLst>
              <a:path w="2267" h="1027">
                <a:moveTo>
                  <a:pt x="0" y="1027"/>
                </a:moveTo>
                <a:cubicBezTo>
                  <a:pt x="77" y="930"/>
                  <a:pt x="154" y="834"/>
                  <a:pt x="232" y="758"/>
                </a:cubicBezTo>
                <a:cubicBezTo>
                  <a:pt x="310" y="682"/>
                  <a:pt x="398" y="608"/>
                  <a:pt x="470" y="570"/>
                </a:cubicBezTo>
                <a:cubicBezTo>
                  <a:pt x="542" y="532"/>
                  <a:pt x="567" y="550"/>
                  <a:pt x="664" y="532"/>
                </a:cubicBezTo>
                <a:cubicBezTo>
                  <a:pt x="761" y="514"/>
                  <a:pt x="917" y="485"/>
                  <a:pt x="1052" y="463"/>
                </a:cubicBezTo>
                <a:cubicBezTo>
                  <a:pt x="1187" y="441"/>
                  <a:pt x="1362" y="430"/>
                  <a:pt x="1472" y="401"/>
                </a:cubicBezTo>
                <a:cubicBezTo>
                  <a:pt x="1582" y="372"/>
                  <a:pt x="1623" y="337"/>
                  <a:pt x="1710" y="288"/>
                </a:cubicBezTo>
                <a:cubicBezTo>
                  <a:pt x="1797" y="239"/>
                  <a:pt x="1917" y="150"/>
                  <a:pt x="1991" y="107"/>
                </a:cubicBezTo>
                <a:cubicBezTo>
                  <a:pt x="2065" y="64"/>
                  <a:pt x="2108" y="49"/>
                  <a:pt x="2154" y="31"/>
                </a:cubicBezTo>
                <a:cubicBezTo>
                  <a:pt x="2200" y="13"/>
                  <a:pt x="2244" y="5"/>
                  <a:pt x="2267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93640" y="1652760"/>
            <a:ext cx="8023320" cy="4027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60480" y="272880"/>
            <a:ext cx="71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idual distributions for tracks at normal inc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81960" y="5786280"/>
            <a:ext cx="1160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redic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6880" y="446040"/>
            <a:ext cx="8488440" cy="604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0040" y="193680"/>
            <a:ext cx="70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 as a function of track 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0" y="6351480"/>
            <a:ext cx="3696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tandard deviation of Gaussian f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on pulse height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5404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ore than one pixel is hit,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information is in the small pulse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ulse height is more than ~1/2 M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for fine binning of pulse height (fluctuations in dE/dx are larg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+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use only 3 bits for pulse h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range still not finally dec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&gt;1/2 MIP, but &lt;1 M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4560" y="1917720"/>
            <a:ext cx="4173480" cy="4200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09680" y="317520"/>
            <a:ext cx="81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pulse height measurements on cluster edges have large information content --- Low discriminator threshold is important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30080" y="1481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charge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hat determine cluster s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carrier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iminator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bias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use of charge shar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bile charge creation in silic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-hole pair is created per 3.62 eV lost by a particle.  On average, 24000 e-hole pairs are created per 3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rack length for a minimum-ionizing particle (~87 KeV lost by trac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been using 3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ck sensors so far; nominally expect to use 25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ck sensors in BT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 height distribution is well fit with a Landau function convoluted with a Gauss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ctuations are large: FHWM(30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000 e-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is asymmetric (long high-energy tai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814720" cy="5405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04040" y="228600"/>
            <a:ext cx="54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rom 1999 testbeam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49760" y="43434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C 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0200" y="4495680"/>
            <a:ext cx="189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 loss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pixel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800240" y="4648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48006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 creation &amp; col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426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e-hole pairs are created within ~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r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ptions are due to “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rays” – electrons with energy of many 10’s of KeV (up to MeV) – these are the cause of the long high energy tail in dE/d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rays are produced nearly perpendicular to track (elastic scattering kinematic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usion adds to “width” of tr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criminator thres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ias volt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diffusion at higher bias volt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2320" y="4057560"/>
            <a:ext cx="4155840" cy="2068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60991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“width” of trac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0" y="45910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u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0" y="1230480"/>
            <a:ext cx="9141120" cy="439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 flipV="1">
            <a:off x="3978000" y="3287520"/>
            <a:ext cx="460440" cy="26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37840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as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2400" y="5410080"/>
            <a:ext cx="232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iminator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28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e of Cluster Fraction on Bias Voltage and Discriminator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57560" y="6005520"/>
            <a:ext cx="503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get 50% charge sharing at normal incidence (5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de pixels) with sensor just deple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e of cluster size on track 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62120" y="1981080"/>
            <a:ext cx="7543800" cy="3810240"/>
            <a:chOff x="762120" y="1981080"/>
            <a:chExt cx="7543800" cy="3810240"/>
          </a:xfrm>
        </p:grpSpPr>
        <p:sp>
          <p:nvSpPr>
            <p:cNvPr id="65" name=""/>
            <p:cNvSpPr/>
            <p:nvPr/>
          </p:nvSpPr>
          <p:spPr>
            <a:xfrm>
              <a:off x="762120" y="1981080"/>
              <a:ext cx="7543800" cy="38102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1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79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195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53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11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769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85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343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01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68480" y="6134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2880" y="6134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3600" y="6172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6600" y="6134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21360" y="6134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074600" y="1569240"/>
            <a:ext cx="298440" cy="4551480"/>
          </a:xfrm>
          <a:custGeom>
            <a:avLst/>
            <a:gdLst>
              <a:gd name="textAreaLeft" fmla="*/ 77040 w 298440"/>
              <a:gd name="textAreaRight" fmla="*/ 221400 w 298440"/>
              <a:gd name="textAreaTop" fmla="*/ 1175760 h 4551480"/>
              <a:gd name="textAreaBottom" fmla="*/ 3375720 h 455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706" y="21600"/>
                </a:lnTo>
                <a:lnTo>
                  <a:pt x="6894" y="216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54080" y="1583640"/>
            <a:ext cx="298440" cy="4551480"/>
          </a:xfrm>
          <a:custGeom>
            <a:avLst/>
            <a:gdLst>
              <a:gd name="textAreaLeft" fmla="*/ 77040 w 298440"/>
              <a:gd name="textAreaRight" fmla="*/ 221400 w 298440"/>
              <a:gd name="textAreaTop" fmla="*/ 1175760 h 4551480"/>
              <a:gd name="textAreaBottom" fmla="*/ 3375720 h 455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706" y="21600"/>
                </a:lnTo>
                <a:lnTo>
                  <a:pt x="6894" y="216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 rot="342600">
            <a:off x="3297240" y="1566000"/>
            <a:ext cx="298440" cy="4551480"/>
          </a:xfrm>
          <a:custGeom>
            <a:avLst/>
            <a:gdLst>
              <a:gd name="textAreaLeft" fmla="*/ 77040 w 298440"/>
              <a:gd name="textAreaRight" fmla="*/ 221400 w 298440"/>
              <a:gd name="textAreaTop" fmla="*/ 1175760 h 4551480"/>
              <a:gd name="textAreaBottom" fmla="*/ 3375720 h 455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706" y="21600"/>
                </a:lnTo>
                <a:lnTo>
                  <a:pt x="6894" y="216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 rot="1171200">
            <a:off x="4956480" y="1740240"/>
            <a:ext cx="298440" cy="4551480"/>
          </a:xfrm>
          <a:custGeom>
            <a:avLst/>
            <a:gdLst>
              <a:gd name="textAreaLeft" fmla="*/ 77040 w 298440"/>
              <a:gd name="textAreaRight" fmla="*/ 221400 w 298440"/>
              <a:gd name="textAreaTop" fmla="*/ 1175760 h 4551480"/>
              <a:gd name="textAreaBottom" fmla="*/ 3375720 h 455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706" y="21600"/>
                </a:lnTo>
                <a:lnTo>
                  <a:pt x="6894" y="216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 rot="1456200">
            <a:off x="6948360" y="1714320"/>
            <a:ext cx="298440" cy="4551120"/>
          </a:xfrm>
          <a:custGeom>
            <a:avLst/>
            <a:gdLst>
              <a:gd name="textAreaLeft" fmla="*/ 77040 w 298440"/>
              <a:gd name="textAreaRight" fmla="*/ 221400 w 298440"/>
              <a:gd name="textAreaTop" fmla="*/ 1175760 h 4551120"/>
              <a:gd name="textAreaBottom" fmla="*/ 3375360 h 455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706" y="21600"/>
                </a:lnTo>
                <a:lnTo>
                  <a:pt x="6894" y="216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33520" y="15937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-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11120" y="584028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5960" y="2019240"/>
            <a:ext cx="3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11600" y="363996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726160" y="33987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26160" y="387036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59520" y="6018120"/>
            <a:ext cx="17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tan(1/6) = 9.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229600" cy="29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e of cluster size on track angle (data from 1999 testbeam r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2895480"/>
            <a:ext cx="22860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124080"/>
            <a:ext cx="22860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3610080"/>
            <a:ext cx="22860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3848040"/>
            <a:ext cx="22860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49440" y="3354480"/>
            <a:ext cx="1133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14760" y="4089240"/>
            <a:ext cx="22860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92280" y="1020600"/>
            <a:ext cx="5746680" cy="5288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284800" y="1962000"/>
            <a:ext cx="128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3% have more than 2 pixels 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38760" y="380880"/>
            <a:ext cx="12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21:07:25Z</dcterms:created>
  <dc:creator>David Christian</dc:creator>
  <dc:description/>
  <dc:language>en-US</dc:language>
  <cp:lastModifiedBy>David Christian</cp:lastModifiedBy>
  <dcterms:modified xsi:type="dcterms:W3CDTF">2004-02-11T20:20:38Z</dcterms:modified>
  <cp:revision>18</cp:revision>
  <dc:subject/>
  <dc:title>Mobile charge creation in silicon</dc:title>
</cp:coreProperties>
</file>