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D474-0280-4253-BA12-21E60CF68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3C24-653B-4838-8009-B613EC28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D6E8-9099-4F5F-AC90-F323857D0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8D92-4BE1-4938-B366-0AAA0D241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21F0-E73D-481A-979F-DB915921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BF93-D80D-4D31-9C2F-EA26F380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640C-9961-4678-ADFC-29F9C6B23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143D-D3C9-4833-86F5-867973D4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0E2B-F1B5-4F6A-AFC9-E29BDA55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8D3C-17B2-4FBC-9C31-05707A3B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767A-F2DF-4B6A-9A20-ABC1FCC8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5E63-4783-473B-8531-7DD5DA46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ac1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93C2-5F94-4B7C-8814-3FE601181D6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ac1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820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"/>
              </a:rPr>
              <a:t>Aspects of the use of 4 GCs in human and veterinary medicine in Eur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2920" y="3213000"/>
            <a:ext cx="69138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eterinary Medicine Advisory Committe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ublic Hearing, 25 September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6200" y="6040440"/>
            <a:ext cx="39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7480" y="5084640"/>
            <a:ext cx="30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. André Bryskier,  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1FCC-3FB6-454C-8E6B-ABD6734FD68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ac1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96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III. Mechanisms of resistance – Characteristics of ESBLs and Am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75480" y="6400800"/>
            <a:ext cx="131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40000" y="5734080"/>
            <a:ext cx="2663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95280" y="1628640"/>
          <a:ext cx="8229600" cy="4011840"/>
        </p:xfrm>
        <a:graphic>
          <a:graphicData uri="http://schemas.openxmlformats.org/drawingml/2006/table">
            <a:tbl>
              <a:tblPr/>
              <a:tblGrid>
                <a:gridCol w="1701720"/>
                <a:gridCol w="3133800"/>
                <a:gridCol w="3394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SB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mp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5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elec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ll beta-lacta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ll beta-lactams (</a:t>
                      </a:r>
                      <a:r>
                        <a:rPr b="1" lang="en-US" sz="16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except 4GCs, carbapenem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</a:tr>
              <a:tr h="23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pectrum of hydroly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minopenicill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Symbol" charset="2"/>
                        <a:buChar char="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Carboxy-penicill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arrow spectrum cephalospor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xtended spectrum beta-lacta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minopenicillin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α</a:t>
                      </a:r>
                      <a:r>
                        <a:rPr b="1" lang="fr-FR" sz="16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arboxy- and ureidopenicillin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ephamycin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ximino-cephalosporin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ztreona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oca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lasm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hromosomal or plasm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231840" y="64515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9280" y="65530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-92520" y="6526080"/>
            <a:ext cx="18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Nordmann P, 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4AB9-664D-49FA-A727-B809EA49889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ac1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9933"/>
                </a:solidFill>
                <a:latin typeface="Arial"/>
              </a:rPr>
              <a:t>III. 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Mechanisms of resistance –</a:t>
            </a:r>
            <a:r>
              <a:rPr b="1" lang="en-US" sz="4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339933"/>
                </a:solidFill>
                <a:latin typeface="Arial"/>
              </a:rPr>
              <a:t>Prevalence of AmpC i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116000" y="1773360"/>
          <a:ext cx="7200720" cy="3930480"/>
        </p:xfrm>
        <a:graphic>
          <a:graphicData uri="http://schemas.openxmlformats.org/drawingml/2006/table">
            <a:tbl>
              <a:tblPr/>
              <a:tblGrid>
                <a:gridCol w="1937520"/>
                <a:gridCol w="2363040"/>
                <a:gridCol w="29001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acterial spe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m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Huma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Vet (livestoc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04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.co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since 199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-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8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almonel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nter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+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since 199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-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1047960" y="5734080"/>
            <a:ext cx="366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-): sporadic cases have been re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6553080"/>
            <a:ext cx="395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80" y="6521400"/>
            <a:ext cx="232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ilippon A et al., 200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456E-B699-4E12-9005-895367F306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ac1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9933"/>
                </a:solidFill>
                <a:latin typeface="Arial"/>
              </a:rPr>
              <a:t>III. 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Mechanisms of resistance - </a:t>
            </a:r>
            <a:r>
              <a:rPr b="1" lang="de-DE" sz="2800" spc="-1" strike="noStrike">
                <a:solidFill>
                  <a:srgbClr val="339933"/>
                </a:solidFill>
                <a:latin typeface="Arial"/>
              </a:rPr>
              <a:t>Prevalence  of ESBLs in Europe</a:t>
            </a: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826920" y="1628640"/>
          <a:ext cx="7417080" cy="3807000"/>
        </p:xfrm>
        <a:graphic>
          <a:graphicData uri="http://schemas.openxmlformats.org/drawingml/2006/table">
            <a:tbl>
              <a:tblPr/>
              <a:tblGrid>
                <a:gridCol w="1976760"/>
                <a:gridCol w="2720880"/>
                <a:gridCol w="27194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acterial spe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SB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Hu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Vet (livestoc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8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.co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since 198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-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8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almonel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nter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+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since 199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-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735120" y="6329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00000" y="5445000"/>
            <a:ext cx="41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-): sporadic cases have been re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9280" y="65530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-50760" y="6521400"/>
            <a:ext cx="548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ahey.org; Batchelor M et al., 2005; Miriagou V et al.,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53C1-2872-448D-B350-7727D23CD9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ac1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9933"/>
                </a:solidFill>
                <a:latin typeface="Arial"/>
              </a:rPr>
              <a:t>III. 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Mechanisms of resistance – Variety</a:t>
            </a:r>
            <a:r>
              <a:rPr b="1" lang="de-DE" sz="2800" spc="-1" strike="noStrike">
                <a:solidFill>
                  <a:srgbClr val="339933"/>
                </a:solidFill>
                <a:latin typeface="Arial"/>
              </a:rPr>
              <a:t>  of  ESBLs and Am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57200" y="2516040"/>
          <a:ext cx="4038480" cy="26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16040"/>
                    <a:ext cx="4038480" cy="26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755640" y="1413000"/>
          <a:ext cx="7219800" cy="454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1413000"/>
                    <a:ext cx="7219800" cy="45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4067280" y="6165720"/>
            <a:ext cx="410364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Great variety in human med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56000" y="6237360"/>
            <a:ext cx="976320" cy="287280"/>
          </a:xfrm>
          <a:prstGeom prst="rightArrow">
            <a:avLst>
              <a:gd name="adj1" fmla="val 50000"/>
              <a:gd name="adj2" fmla="val 84962"/>
            </a:avLst>
          </a:prstGeom>
          <a:solidFill>
            <a:srgbClr val="339933"/>
          </a:solidFill>
          <a:ln w="9360">
            <a:solidFill>
              <a:srgbClr val="6158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rot="5400600">
            <a:off x="3601080" y="4400640"/>
            <a:ext cx="141120" cy="2808360"/>
          </a:xfrm>
          <a:custGeom>
            <a:avLst/>
            <a:gdLst>
              <a:gd name="textAreaLeft" fmla="*/ 90360 w 141120"/>
              <a:gd name="textAreaRight" fmla="*/ 141480 w 141120"/>
              <a:gd name="textAreaTop" fmla="*/ 69480 h 2808360"/>
              <a:gd name="textAreaBottom" fmla="*/ 2738880 h 28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57"/>
                  <a:pt x="10800" y="1714"/>
                </a:cubicBezTo>
                <a:lnTo>
                  <a:pt x="10800" y="9086"/>
                </a:lnTo>
                <a:cubicBezTo>
                  <a:pt x="10800" y="9943"/>
                  <a:pt x="5400" y="10800"/>
                  <a:pt x="0" y="10800"/>
                </a:cubicBezTo>
                <a:cubicBezTo>
                  <a:pt x="5400" y="10800"/>
                  <a:pt x="10800" y="11657"/>
                  <a:pt x="10800" y="12514"/>
                </a:cubicBezTo>
                <a:lnTo>
                  <a:pt x="10800" y="19886"/>
                </a:lnTo>
                <a:cubicBezTo>
                  <a:pt x="10800" y="2074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 rot="5244000">
            <a:off x="5724360" y="5373360"/>
            <a:ext cx="71280" cy="792360"/>
          </a:xfrm>
          <a:custGeom>
            <a:avLst/>
            <a:gdLst>
              <a:gd name="textAreaLeft" fmla="*/ 0 w 71280"/>
              <a:gd name="textAreaRight" fmla="*/ 25560 w 71280"/>
              <a:gd name="textAreaTop" fmla="*/ 46440 h 792360"/>
              <a:gd name="textAreaBottom" fmla="*/ 7459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25"/>
                  <a:pt x="10800" y="4050"/>
                </a:cubicBezTo>
                <a:lnTo>
                  <a:pt x="10800" y="6450"/>
                </a:lnTo>
                <a:cubicBezTo>
                  <a:pt x="10800" y="8475"/>
                  <a:pt x="16200" y="10500"/>
                  <a:pt x="21600" y="10500"/>
                </a:cubicBezTo>
                <a:cubicBezTo>
                  <a:pt x="16200" y="10500"/>
                  <a:pt x="10800" y="12525"/>
                  <a:pt x="10800" y="14550"/>
                </a:cubicBezTo>
                <a:lnTo>
                  <a:pt x="10800" y="17550"/>
                </a:lnTo>
                <a:cubicBezTo>
                  <a:pt x="10800" y="1957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132000" y="5805360"/>
            <a:ext cx="11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SB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94880" y="580536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m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9280" y="65530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-23760" y="6521400"/>
            <a:ext cx="33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ahey.org; Batchelor M et al.,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1D28-C2AF-46DF-8C24-22463B4F0D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ac1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9933"/>
                </a:solidFill>
                <a:latin typeface="Arial"/>
              </a:rPr>
              <a:t>III. 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Mechanisms of resistance -</a:t>
            </a:r>
            <a:r>
              <a:rPr b="1" lang="de-DE" sz="2800" spc="-1" strike="noStrike">
                <a:solidFill>
                  <a:srgbClr val="339933"/>
                </a:solidFill>
                <a:latin typeface="Arial"/>
              </a:rPr>
              <a:t> 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ESBL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road spectrum of hydrolysis except carbapen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dentified since 1988 in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E.coli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in human med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Great variety in human isola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poradic cases in livestock</a:t>
            </a:r>
            <a:r>
              <a:rPr b="1" lang="en-US" sz="21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n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m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road spectrum of hydrolysis except 4GCs and carbapen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12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dentified since 1990 in human med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12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ome variants in human isola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12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poradic cases in livestock in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E369-1DE0-4090-ADB3-E199780416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ac1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IV. Susceptibility surveillance programs for </a:t>
            </a:r>
            <a:r>
              <a:rPr b="1" i="1" lang="en-US" sz="2800" spc="-1" strike="noStrike">
                <a:solidFill>
                  <a:srgbClr val="339933"/>
                </a:solidFill>
                <a:latin typeface="Arial"/>
              </a:rPr>
              <a:t>E.coli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 and non typhoidal </a:t>
            </a:r>
            <a:r>
              <a:rPr b="1" i="1" lang="en-US" sz="2800" spc="-1" strike="noStrike">
                <a:solidFill>
                  <a:srgbClr val="339933"/>
                </a:solidFill>
                <a:latin typeface="Arial"/>
              </a:rPr>
              <a:t>Salmonell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ublished susceptibility surveillance data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4GCs (cefepime) are limited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.E.S.T and SENTRY surveillance programs identified as sources for human medic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ASSA surveillance program for veterinary medic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65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uropean surveillance programs  are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3GCs as representatives of E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ARSS (ceftazidime, ceftriaxone, cefotaxime), Enter-net (cefotaxim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94A8-D99F-4399-8A84-05D237E662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ac1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IV. Cefepime susceptibility surveillance for </a:t>
            </a:r>
            <a:r>
              <a:rPr b="1" i="1" lang="en-US" sz="2800" spc="-1" strike="noStrike">
                <a:solidFill>
                  <a:srgbClr val="339933"/>
                </a:solidFill>
                <a:latin typeface="Arial"/>
              </a:rPr>
              <a:t>E.coli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 and non typhoidal </a:t>
            </a:r>
            <a:r>
              <a:rPr b="1" i="1" lang="en-US" sz="2800" spc="-1" strike="noStrike">
                <a:solidFill>
                  <a:srgbClr val="339933"/>
                </a:solidFill>
                <a:latin typeface="Arial"/>
              </a:rPr>
              <a:t>Salmon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80360" cy="1656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.E.S.T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igecycline Evaluation and Surveillance T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ollection of human clinical isolates from blood, respiratory tract, urine  and other infections (skin, wound, fluid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MIC determination of cefepime as tigecycline comparator by broth micro-dilution techn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efepime MIC interpretive criteria  R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≥ 32 µg/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3068640"/>
            <a:ext cx="8280360" cy="1584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3" marL="1551960" indent="-2214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ENTRY surveillanc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ded 1993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ollection of human clinical isolates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MIC determination of cefepime by broth micro-dilution techn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efepime MIC interpretative criteria R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≥ 32 µg/ml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8360" y="4724280"/>
            <a:ext cx="8280360" cy="1585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AS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uropean Antimicrobial Susceptibility Surveillance in Anim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ollection of foodborne and commensals bacteria from healthy anima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t slaugh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MIC determination of cefepime by broth micro-dilution techn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efepime MIC interpretative criteria R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≥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32 µg/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7708-3CA6-468D-8BB5-D690A8ACE4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ac1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9933"/>
                </a:solidFill>
                <a:latin typeface="Arial"/>
              </a:rPr>
              <a:t>IV.</a:t>
            </a:r>
            <a:r>
              <a:rPr b="0" lang="de-DE" sz="28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339933"/>
                </a:solidFill>
                <a:latin typeface="Arial"/>
              </a:rPr>
              <a:t>Cefepime</a:t>
            </a:r>
            <a:r>
              <a:rPr b="0" lang="de-DE" sz="28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339933"/>
                </a:solidFill>
                <a:latin typeface="Arial"/>
              </a:rPr>
              <a:t>susceptibility surveillance for </a:t>
            </a:r>
            <a:r>
              <a:rPr b="1" i="1" lang="de-DE" sz="2800" spc="-1" strike="noStrike">
                <a:solidFill>
                  <a:srgbClr val="339933"/>
                </a:solidFill>
                <a:latin typeface="Arial"/>
              </a:rPr>
              <a:t>E.c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580000" y="544500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9640" y="1413000"/>
            <a:ext cx="799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.E.S.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Cefepime susceptibility data and percent of resistant </a:t>
            </a: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Enterobacteriaceae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E.coli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human</a:t>
            </a: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clinical isolates collected in Europe in 2004-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6521400"/>
            <a:ext cx="896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Hoban D et al., E-326, ICAAC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763640" y="2492280"/>
          <a:ext cx="5832720" cy="3273480"/>
        </p:xfrm>
        <a:graphic>
          <a:graphicData uri="http://schemas.openxmlformats.org/drawingml/2006/table">
            <a:tbl>
              <a:tblPr/>
              <a:tblGrid>
                <a:gridCol w="2578320"/>
                <a:gridCol w="223560"/>
                <a:gridCol w="1284480"/>
                <a:gridCol w="1746360"/>
              </a:tblGrid>
              <a:tr h="699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acterial spe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Number of isola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efep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nterobacteriaceae </a:t>
                      </a:r>
                      <a:r>
                        <a:rPr b="0" i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84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IC</a:t>
                      </a:r>
                      <a:r>
                        <a:rPr b="0" lang="en-US" sz="16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IC</a:t>
                      </a:r>
                      <a:r>
                        <a:rPr b="0" lang="en-US" sz="16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%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≤ </a:t>
                      </a: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0.5 µg/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 </a:t>
                      </a: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µg/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28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.co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2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ICI</a:t>
                      </a:r>
                      <a:r>
                        <a:rPr b="0" lang="en-US" sz="16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IC</a:t>
                      </a:r>
                      <a:r>
                        <a:rPr b="0" lang="en-US" sz="16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%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≤ </a:t>
                      </a: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0.5 µg/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1 µg/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D79E-864E-4FC2-B1D1-4157020619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ac1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9933"/>
                </a:solidFill>
                <a:latin typeface="Arial"/>
              </a:rPr>
              <a:t>IV. Cefepime susceptibility surveillance for </a:t>
            </a:r>
            <a:r>
              <a:rPr b="1" i="1" lang="de-DE" sz="2800" spc="-1" strike="noStrike">
                <a:solidFill>
                  <a:srgbClr val="339933"/>
                </a:solidFill>
                <a:latin typeface="Arial"/>
              </a:rPr>
              <a:t>E.coli </a:t>
            </a:r>
            <a:r>
              <a:rPr b="1" lang="de-DE" sz="2800" spc="-1" strike="noStrike">
                <a:solidFill>
                  <a:srgbClr val="339933"/>
                </a:solidFill>
                <a:latin typeface="Arial"/>
              </a:rPr>
              <a:t>and</a:t>
            </a:r>
            <a:r>
              <a:rPr b="1" i="1" lang="de-DE" sz="2800" spc="-1" strike="noStrike">
                <a:solidFill>
                  <a:srgbClr val="339933"/>
                </a:solidFill>
                <a:latin typeface="Arial"/>
              </a:rPr>
              <a:t> Salmon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35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ENTRY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ercent of resistant </a:t>
            </a: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E.coli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nd </a:t>
            </a: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Salmonella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pp</a:t>
            </a: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solates collected in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ediatric infections in Europe in 2004 to cefep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2720" y="6526080"/>
            <a:ext cx="21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edler KA et al.,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403280" y="2924280"/>
          <a:ext cx="6193080" cy="2466720"/>
        </p:xfrm>
        <a:graphic>
          <a:graphicData uri="http://schemas.openxmlformats.org/drawingml/2006/table">
            <a:tbl>
              <a:tblPr/>
              <a:tblGrid>
                <a:gridCol w="2724120"/>
                <a:gridCol w="3468960"/>
              </a:tblGrid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acterial spec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Number of isola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% R cefep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7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.co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66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99ff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99ff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almonella 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p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7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3433-CC26-4199-9948-BDBE5821CA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ac1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9933"/>
                </a:solidFill>
                <a:latin typeface="Arial"/>
              </a:rPr>
              <a:t>IV. Cefepime susceptibility surveillance for </a:t>
            </a:r>
            <a:r>
              <a:rPr b="1" i="1" lang="de-DE" sz="2800" spc="-1" strike="noStrike">
                <a:solidFill>
                  <a:srgbClr val="339933"/>
                </a:solidFill>
                <a:latin typeface="Arial"/>
              </a:rPr>
              <a:t>E.coli </a:t>
            </a:r>
            <a:r>
              <a:rPr b="1" lang="de-DE" sz="2800" spc="-1" strike="noStrike">
                <a:solidFill>
                  <a:srgbClr val="339933"/>
                </a:solidFill>
                <a:latin typeface="Arial"/>
              </a:rPr>
              <a:t>and</a:t>
            </a:r>
            <a:r>
              <a:rPr b="1" i="1" lang="de-DE" sz="2800" spc="-1" strike="noStrike">
                <a:solidFill>
                  <a:srgbClr val="339933"/>
                </a:solidFill>
                <a:latin typeface="Arial"/>
              </a:rPr>
              <a:t> Salmon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ASSA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usceptibility of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E.coli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nd </a:t>
            </a: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Salmonella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pp</a:t>
            </a: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solates collected from healthy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livestock at slaughter to cefep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971640" y="2565360"/>
          <a:ext cx="7632360" cy="3065400"/>
        </p:xfrm>
        <a:graphic>
          <a:graphicData uri="http://schemas.openxmlformats.org/drawingml/2006/table">
            <a:tbl>
              <a:tblPr/>
              <a:tblGrid>
                <a:gridCol w="1527120"/>
                <a:gridCol w="1526040"/>
                <a:gridCol w="1525680"/>
                <a:gridCol w="1526040"/>
                <a:gridCol w="1527480"/>
              </a:tblGrid>
              <a:tr h="70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nimal spe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. co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MIC</a:t>
                      </a:r>
                      <a:r>
                        <a:rPr b="0" lang="de-DE" sz="16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90</a:t>
                      </a:r>
                      <a:r>
                        <a:rPr b="0" lang="de-DE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µg/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almonella</a:t>
                      </a:r>
                      <a:r>
                        <a:rPr b="1" lang="de-DE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sp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MIC</a:t>
                      </a:r>
                      <a:r>
                        <a:rPr b="0" lang="de-DE" sz="16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90</a:t>
                      </a:r>
                      <a:r>
                        <a:rPr b="0" lang="de-DE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µg/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999-2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2-2003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999-2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2-2003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6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at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.0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n = 66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.0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n = 49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.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n = 1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6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i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.0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n = 65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.0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n = 49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.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n = 14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.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n = 12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6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hick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.0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n = 80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.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n = 48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.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n = 11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.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n = 6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226" name=""/>
          <p:cNvSpPr/>
          <p:nvPr/>
        </p:nvSpPr>
        <p:spPr>
          <a:xfrm>
            <a:off x="-93240" y="6567480"/>
            <a:ext cx="382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Bywater et al., 2004; *: unpublished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211640" y="6021360"/>
            <a:ext cx="367344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No resistant isolate re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700360" y="6093000"/>
            <a:ext cx="976320" cy="288720"/>
          </a:xfrm>
          <a:prstGeom prst="rightArrow">
            <a:avLst>
              <a:gd name="adj1" fmla="val 50000"/>
              <a:gd name="adj2" fmla="val 84539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42C8-EE5E-41F5-824E-872A225C9E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ac1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Aspects unde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haracterization of C3’quaternary ammonium cephalosporins class (4GC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nical indications of 4GCs in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echanisms of resistance of 4G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usceptibility surveillance programs for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E.coli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d non typhoidal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Salmon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ummary and 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BE73-98BE-4856-A9EA-D737B06C01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ac1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IV. Susceptibility surveillance -  European surveillance programs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209080" cy="1728720"/>
          </a:xfrm>
          <a:prstGeom prst="rect">
            <a:avLst/>
          </a:prstGeom>
          <a:solidFill>
            <a:srgbClr val="dbf1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AR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uropean Antimicrobial Resistance Surveillanc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unded by European Commission in 1999, partner of 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n going collection of antimicrobial susceptibility tests of invasive bacteria (Blood culture and CSF)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9640" y="3860640"/>
            <a:ext cx="8280360" cy="2160720"/>
          </a:xfrm>
          <a:prstGeom prst="rect">
            <a:avLst/>
          </a:prstGeom>
          <a:solidFill>
            <a:srgbClr val="db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nter-n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nternational surveillance network for enteric infections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Salmonella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, verotoxigenic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E.coli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(VTEC) and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Campylob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unded by European Commission in 1993, partner of 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ernational database of fully characterized bacteria including data on epidemiology and antibiotic res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1649-3A80-4D4B-918F-973B6714B4F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ac1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IV. Surveillance surveillance - European surveillance programs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rcRect l="3544" t="2601" r="23355" b="3192"/>
          <a:stretch/>
        </p:blipFill>
        <p:spPr>
          <a:xfrm>
            <a:off x="539640" y="2276640"/>
            <a:ext cx="4789440" cy="4203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924360" y="2492280"/>
            <a:ext cx="1320840" cy="10810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5484240" y="2781360"/>
            <a:ext cx="3477240" cy="18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n 2004 : 30119 isola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ol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verage resistance rate : 2.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Resistance breakpoints 1-32 µg/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132200" y="1341360"/>
            <a:ext cx="77364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ARSS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roportion of invasive </a:t>
            </a: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E.coli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solates with resistance to 3GCs in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AC76-1FC8-4142-9941-78239A996CF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ac1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362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IV.</a:t>
            </a:r>
            <a:r>
              <a:rPr b="1" i="1" lang="en-US" sz="28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Susceptibility surveillance - European surveillance programs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0" y="1341360"/>
          <a:ext cx="10404360" cy="49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1360"/>
                    <a:ext cx="10404360" cy="49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1763640" y="6021360"/>
            <a:ext cx="71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N=63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48000" y="6021360"/>
            <a:ext cx="71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N=101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859280" y="6021360"/>
            <a:ext cx="71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N=86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72360" y="6021360"/>
            <a:ext cx="7189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N=100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8360" y="566100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79480" y="857160"/>
            <a:ext cx="772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55640" y="836640"/>
            <a:ext cx="871236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Enter-net data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ercent of resistant</a:t>
            </a: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 Salmonella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spp isolates to ampicillin (21.7 to 27.5 %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nd cefotaxime (0.2 to 0.4%) from 2001 to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88920" y="6186600"/>
            <a:ext cx="815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6381720"/>
            <a:ext cx="858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: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uropean enlargement and inclusion of Austral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FBF8-7AD3-4C01-8299-6CDFA455E25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ac1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IV. Susceptibility surveillance - European surveillance programs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915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nter-ne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ercent of resistant isolates of </a:t>
            </a: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E.coli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(VTEC, environmental and animal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reservoirs) to cefotaxime from 2005 to first quarter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763640" y="2421000"/>
          <a:ext cx="6264000" cy="2759040"/>
        </p:xfrm>
        <a:graphic>
          <a:graphicData uri="http://schemas.openxmlformats.org/drawingml/2006/table">
            <a:tbl>
              <a:tblPr/>
              <a:tblGrid>
                <a:gridCol w="2265840"/>
                <a:gridCol w="1987920"/>
                <a:gridCol w="20102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umber of isol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% of resist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8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st quart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252" name=""/>
          <p:cNvSpPr/>
          <p:nvPr/>
        </p:nvSpPr>
        <p:spPr>
          <a:xfrm>
            <a:off x="3995640" y="5877000"/>
            <a:ext cx="410364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No resistance to ESC in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26920" y="5300640"/>
            <a:ext cx="808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695600" y="5157720"/>
            <a:ext cx="327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efotaxime R breakpoint &gt; 1µg/m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11280" y="5950080"/>
            <a:ext cx="976320" cy="287280"/>
          </a:xfrm>
          <a:prstGeom prst="rightArrow">
            <a:avLst>
              <a:gd name="adj1" fmla="val 50000"/>
              <a:gd name="adj2" fmla="val 84962"/>
            </a:avLst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96F8-6C71-41E2-9FD3-A0278BA4EF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ac1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IV. Susceptibility surveillance - 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8229600" cy="53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esistance to ESC in human clinical cases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imately 3 % in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E.coli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solated from invasive inf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Very low in 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almonella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(&lt; 1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Not found in VTEC (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FBA8-0E7B-4F59-89FE-AF2E8296E3D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ac1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V. Summary and  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8360" y="809640"/>
            <a:ext cx="822960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105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4GC structure confers a low affinity for most </a:t>
            </a:r>
            <a:r>
              <a:rPr b="1" lang="el-GR" sz="2000" spc="-1" strike="noStrike">
                <a:solidFill>
                  <a:srgbClr val="333399"/>
                </a:solidFill>
                <a:latin typeface="Arial"/>
                <a:ea typeface="Arial"/>
              </a:rPr>
              <a:t>β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-lactamases including Am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5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sistance due to ESBL emerged about 15 years ago and evolved to a great variety in human isol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2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nly sporadic cases reported of ESBL and AmpC in veterinary medicine in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2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No 4GC resistance in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E.coli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Salmonella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spp. in animals at slaugh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92360" y="5589720"/>
            <a:ext cx="976320" cy="503280"/>
          </a:xfrm>
          <a:prstGeom prst="rightArrow">
            <a:avLst>
              <a:gd name="adj1" fmla="val 50000"/>
              <a:gd name="adj2" fmla="val 484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03640" y="5157720"/>
            <a:ext cx="5761080" cy="1496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he use of cefquinome for more than 10 years in Europe has not promoted the emergence of resistance in human medic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47F1-5D13-46E6-9762-42DA11CEB8F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ac1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1433520"/>
            <a:ext cx="8569080" cy="40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Penams (Penicilli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Cephems (</a:t>
            </a:r>
            <a:r>
              <a:rPr b="0" lang="en-US" sz="2200" spc="-1" strike="noStrike">
                <a:solidFill>
                  <a:srgbClr val="339933"/>
                </a:solidFill>
                <a:latin typeface="Arial"/>
                <a:ea typeface="Arial"/>
              </a:rPr>
              <a:t>Cephalosporins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, Cephamycins, Oxa-1-cephems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        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Carbacephems, Isocephem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Monocyclic β-lactams (monobactam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Penems (carbapenems</a:t>
            </a:r>
            <a:r>
              <a:rPr b="0" lang="fr-FR" sz="2200" spc="-1" strike="noStrike">
                <a:solidFill>
                  <a:srgbClr val="333399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274680"/>
            <a:ext cx="882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I. Classification - </a:t>
            </a:r>
            <a:r>
              <a:rPr b="1" lang="en-US" sz="2800" spc="-1" strike="noStrike">
                <a:solidFill>
                  <a:srgbClr val="339933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-lactam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58972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35280" y="4724280"/>
            <a:ext cx="6984720" cy="1434600"/>
          </a:xfrm>
          <a:prstGeom prst="rect">
            <a:avLst/>
          </a:prstGeom>
          <a:solidFill>
            <a:srgbClr val="d3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C3’quaternary ammonium cephalosporins (4GCs) belong to the Cephem grou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Together with 3GCs, they are identified as extended spectrum cephalosporins (ES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4D15-7C06-4B8D-879A-C923669235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ac1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94400" y="1674720"/>
            <a:ext cx="193680" cy="1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7588080" y="1628280"/>
            <a:ext cx="276480" cy="17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7594560" y="1595160"/>
            <a:ext cx="208080" cy="12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48480" y="105084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7660800" y="1158480"/>
            <a:ext cx="20340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313760" y="1152360"/>
            <a:ext cx="223560" cy="138240"/>
          </a:xfrm>
          <a:custGeom>
            <a:avLst/>
            <a:gdLst/>
            <a:ahLst/>
            <a:rect l="l" t="t" r="r" b="b"/>
            <a:pathLst>
              <a:path w="305" h="176">
                <a:moveTo>
                  <a:pt x="0" y="163"/>
                </a:moveTo>
                <a:lnTo>
                  <a:pt x="9" y="176"/>
                </a:lnTo>
                <a:lnTo>
                  <a:pt x="305" y="20"/>
                </a:lnTo>
                <a:lnTo>
                  <a:pt x="277" y="10"/>
                </a:lnTo>
                <a:lnTo>
                  <a:pt x="249" y="0"/>
                </a:lnTo>
                <a:lnTo>
                  <a:pt x="0" y="163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864560" y="1285920"/>
            <a:ext cx="144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64560" y="1628640"/>
            <a:ext cx="274680" cy="17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73800" y="15652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18440" y="1285920"/>
            <a:ext cx="1440" cy="25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7000560" y="1628640"/>
            <a:ext cx="243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7000920" y="1285920"/>
            <a:ext cx="144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00920" y="1285920"/>
            <a:ext cx="3175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720" y="981000"/>
            <a:ext cx="92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6853320" y="1126800"/>
            <a:ext cx="14760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416280" y="979560"/>
            <a:ext cx="19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6627600" y="1044720"/>
            <a:ext cx="745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00920" y="9795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303600" y="1042920"/>
            <a:ext cx="82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19760" y="1038240"/>
            <a:ext cx="247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02000" y="1319040"/>
            <a:ext cx="25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R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43760" y="1127160"/>
            <a:ext cx="1440" cy="169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76920" y="2052720"/>
            <a:ext cx="50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COO</a:t>
            </a:r>
            <a:r>
              <a:rPr b="1" lang="en-US" sz="1600" spc="-1" strike="noStrike" baseline="30000">
                <a:solidFill>
                  <a:srgbClr val="cc66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88080" y="1800360"/>
            <a:ext cx="1800" cy="25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728760" y="1805040"/>
            <a:ext cx="9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832080" y="1590840"/>
            <a:ext cx="163800" cy="17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873840" y="1633680"/>
            <a:ext cx="162000" cy="17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43080" y="1549440"/>
            <a:ext cx="21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N</a:t>
            </a:r>
            <a:r>
              <a:rPr b="1" lang="en-US" sz="1600" spc="-1" strike="noStrike" baseline="30000">
                <a:solidFill>
                  <a:srgbClr val="cc66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8139240" y="1674360"/>
            <a:ext cx="212760" cy="1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344080" y="6629400"/>
            <a:ext cx="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52960" y="685800"/>
            <a:ext cx="792360" cy="503280"/>
          </a:xfrm>
          <a:prstGeom prst="ellipse">
            <a:avLst/>
          </a:prstGeom>
          <a:solidFill>
            <a:srgbClr val="e7f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810400" y="2421000"/>
            <a:ext cx="333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Zwitterionic cephems (4GC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67640" y="292428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227720" y="3716280"/>
            <a:ext cx="1590480" cy="916920"/>
          </a:xfrm>
          <a:prstGeom prst="rect">
            <a:avLst/>
          </a:prstGeom>
          <a:solidFill>
            <a:srgbClr val="db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Cefep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Cefpir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9933"/>
                </a:solidFill>
                <a:latin typeface="Arial"/>
              </a:rPr>
              <a:t>Cefquinome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57400" y="1577880"/>
            <a:ext cx="193680" cy="1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151080" y="1531440"/>
            <a:ext cx="276480" cy="17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3157560" y="1498320"/>
            <a:ext cx="208080" cy="12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11480" y="98100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223800" y="1083960"/>
            <a:ext cx="20340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76400" y="1076400"/>
            <a:ext cx="223920" cy="137880"/>
          </a:xfrm>
          <a:custGeom>
            <a:avLst/>
            <a:gdLst/>
            <a:ahLst/>
            <a:rect l="l" t="t" r="r" b="b"/>
            <a:pathLst>
              <a:path w="305" h="176">
                <a:moveTo>
                  <a:pt x="0" y="163"/>
                </a:moveTo>
                <a:lnTo>
                  <a:pt x="9" y="176"/>
                </a:lnTo>
                <a:lnTo>
                  <a:pt x="305" y="20"/>
                </a:lnTo>
                <a:lnTo>
                  <a:pt x="277" y="10"/>
                </a:lnTo>
                <a:lnTo>
                  <a:pt x="249" y="0"/>
                </a:lnTo>
                <a:lnTo>
                  <a:pt x="0" y="163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27560" y="1214280"/>
            <a:ext cx="1440" cy="34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27560" y="1536840"/>
            <a:ext cx="274320" cy="17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36800" y="147312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81440" y="1189080"/>
            <a:ext cx="1440" cy="25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99920" y="1555920"/>
            <a:ext cx="243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563920" y="1189080"/>
            <a:ext cx="144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56000" y="1197000"/>
            <a:ext cx="3175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95360" y="888840"/>
            <a:ext cx="92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2416320" y="1050480"/>
            <a:ext cx="14760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79280" y="887400"/>
            <a:ext cx="19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190600" y="968400"/>
            <a:ext cx="74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63920" y="887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866600" y="946080"/>
            <a:ext cx="82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82760" y="941400"/>
            <a:ext cx="247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65000" y="1227240"/>
            <a:ext cx="25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R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06400" y="1030320"/>
            <a:ext cx="1800" cy="169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39920" y="1960560"/>
            <a:ext cx="50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COO</a:t>
            </a:r>
            <a:r>
              <a:rPr b="1" lang="en-US" sz="1600" spc="-1" strike="noStrike" baseline="30000">
                <a:solidFill>
                  <a:srgbClr val="cc66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51080" y="1708200"/>
            <a:ext cx="1800" cy="25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91760" y="1712880"/>
            <a:ext cx="9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66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395440" y="1494000"/>
            <a:ext cx="163440" cy="17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436840" y="1541520"/>
            <a:ext cx="162000" cy="17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00320" y="14572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701880" y="1582200"/>
            <a:ext cx="212760" cy="1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593640"/>
            <a:ext cx="792000" cy="503280"/>
          </a:xfrm>
          <a:prstGeom prst="ellipse">
            <a:avLst/>
          </a:prstGeom>
          <a:solidFill>
            <a:srgbClr val="dbf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2000" y="2270160"/>
            <a:ext cx="345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Monoanionic cephems (3GC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92360" y="2638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6920" y="3317760"/>
            <a:ext cx="144144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Cefotax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Ceftriax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9933"/>
                </a:solidFill>
                <a:latin typeface="Arial"/>
              </a:rPr>
              <a:t>Ceftiofur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9933"/>
                </a:solidFill>
                <a:latin typeface="Arial"/>
              </a:rPr>
              <a:t>Cefovecin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35640" y="4508640"/>
            <a:ext cx="19368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651640" y="4443480"/>
            <a:ext cx="291960" cy="20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673600" y="4410000"/>
            <a:ext cx="208080" cy="13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27520" y="386568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5740560" y="3973680"/>
            <a:ext cx="20304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92800" y="3967200"/>
            <a:ext cx="223920" cy="138240"/>
          </a:xfrm>
          <a:custGeom>
            <a:avLst/>
            <a:gdLst/>
            <a:ahLst/>
            <a:rect l="l" t="t" r="r" b="b"/>
            <a:pathLst>
              <a:path w="305" h="176">
                <a:moveTo>
                  <a:pt x="0" y="163"/>
                </a:moveTo>
                <a:lnTo>
                  <a:pt x="9" y="176"/>
                </a:lnTo>
                <a:lnTo>
                  <a:pt x="305" y="20"/>
                </a:lnTo>
                <a:lnTo>
                  <a:pt x="277" y="10"/>
                </a:lnTo>
                <a:lnTo>
                  <a:pt x="249" y="0"/>
                </a:lnTo>
                <a:lnTo>
                  <a:pt x="0" y="163"/>
                </a:lnTo>
                <a:close/>
              </a:path>
            </a:pathLst>
          </a:custGeom>
          <a:solidFill>
            <a:srgbClr val="000000"/>
          </a:solidFill>
          <a:ln w="1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43600" y="4100400"/>
            <a:ext cx="1440" cy="34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43600" y="4443480"/>
            <a:ext cx="274680" cy="17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53200" y="43797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7480" y="4100400"/>
            <a:ext cx="1440" cy="25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079600" y="4443480"/>
            <a:ext cx="243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079960" y="4100040"/>
            <a:ext cx="1800" cy="34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9960" y="4100400"/>
            <a:ext cx="3175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11760" y="3795840"/>
            <a:ext cx="92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4932360" y="3941280"/>
            <a:ext cx="14760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95680" y="3794040"/>
            <a:ext cx="19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706640" y="3859200"/>
            <a:ext cx="745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79960" y="37940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383000" y="3857760"/>
            <a:ext cx="82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924360" y="3854160"/>
            <a:ext cx="222120" cy="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86080" y="4133880"/>
            <a:ext cx="50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COO</a:t>
            </a:r>
            <a:r>
              <a:rPr b="1" lang="en-US" sz="1600" spc="-1" strike="noStrike" baseline="30000">
                <a:solidFill>
                  <a:srgbClr val="cc66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22800" y="3941640"/>
            <a:ext cx="1440" cy="169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55960" y="4867200"/>
            <a:ext cx="50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COO</a:t>
            </a:r>
            <a:r>
              <a:rPr b="1" lang="en-US" sz="1600" spc="-1" strike="noStrike" baseline="30000">
                <a:solidFill>
                  <a:srgbClr val="cc66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51640" y="4653000"/>
            <a:ext cx="1440" cy="25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07800" y="4619520"/>
            <a:ext cx="9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911840" y="4405320"/>
            <a:ext cx="163440" cy="17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952880" y="4448160"/>
            <a:ext cx="162000" cy="17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522480" y="4363920"/>
            <a:ext cx="21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N</a:t>
            </a:r>
            <a:r>
              <a:rPr b="1" lang="en-US" sz="1600" spc="-1" strike="noStrike" baseline="30000">
                <a:solidFill>
                  <a:srgbClr val="cc66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218280" y="4489560"/>
            <a:ext cx="21276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32000" y="3500280"/>
            <a:ext cx="792360" cy="503280"/>
          </a:xfrm>
          <a:prstGeom prst="ellipse">
            <a:avLst/>
          </a:prstGeom>
          <a:solidFill>
            <a:srgbClr val="dbf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53737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30160" y="5013360"/>
            <a:ext cx="299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Dianionic cephems </a:t>
            </a:r>
            <a:r>
              <a:rPr b="1" lang="fr-FR" sz="1600" spc="-1" strike="noStrike">
                <a:solidFill>
                  <a:srgbClr val="333399"/>
                </a:solidFill>
                <a:latin typeface="Arial"/>
              </a:rPr>
              <a:t>(3GC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42520" y="5950080"/>
            <a:ext cx="146232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Ceftazid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0" y="6521400"/>
            <a:ext cx="408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cc"/>
                </a:solidFill>
                <a:latin typeface="Arial"/>
              </a:rPr>
              <a:t>*</a:t>
            </a:r>
            <a:r>
              <a:rPr b="0" lang="fr-FR" sz="1600" spc="-1" strike="noStrike">
                <a:solidFill>
                  <a:srgbClr val="339933"/>
                </a:solidFill>
                <a:latin typeface="Arial"/>
              </a:rPr>
              <a:t>Cephems only used in veterinary medic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0"/>
            <a:ext cx="8388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-468360" y="0"/>
            <a:ext cx="94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I. Characterization – Chemical structure of E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5558-E59E-440A-8996-EC39C0C4AC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ac1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I. Characterization – Dual mode of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4479840" cy="4402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859280" y="1700280"/>
            <a:ext cx="4032360" cy="4483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Rapid penetration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the outer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Rapid crossing of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periplasmic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Low affinity for 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  <a:ea typeface="Arial"/>
              </a:rPr>
              <a:t>β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  <a:ea typeface="Arial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  <a:ea typeface="Arial"/>
              </a:rPr>
              <a:t>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  <a:ea typeface="Arial"/>
              </a:rPr>
              <a:t>lactam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High affinity fo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Penicillin Bin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Proteins (PB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11160" y="655308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Nikaido et al., 1990; Pucci et al. 199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A246-F644-4536-A3D4-D0F1485A84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ac1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II. Clinical indications of 4GCs in human    medicine i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116000" y="1628640"/>
          <a:ext cx="7273800" cy="5035680"/>
        </p:xfrm>
        <a:graphic>
          <a:graphicData uri="http://schemas.openxmlformats.org/drawingml/2006/table">
            <a:tbl>
              <a:tblPr/>
              <a:tblGrid>
                <a:gridCol w="2441520"/>
                <a:gridCol w="4832280"/>
              </a:tblGrid>
              <a:tr h="84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efepime – Cefpir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injectabl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linical indic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Respiratory tract infections/pneumo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Bacteriemia/septicem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Complicated urinary tract infections (UT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Biliary tract infe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333399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mpiric therapy for neutropenic pat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333399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3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li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ntro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9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1042920" y="6165720"/>
            <a:ext cx="6048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59FB-A91B-4907-8FD1-F08EB0E199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ac1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II. Clinical indications of cefquinome in veterinary medicine i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39640" y="1700280"/>
          <a:ext cx="8229600" cy="4556160"/>
        </p:xfrm>
        <a:graphic>
          <a:graphicData uri="http://schemas.openxmlformats.org/drawingml/2006/table">
            <a:tbl>
              <a:tblPr/>
              <a:tblGrid>
                <a:gridCol w="1522440"/>
                <a:gridCol w="1944720"/>
                <a:gridCol w="1716120"/>
                <a:gridCol w="1657440"/>
                <a:gridCol w="1388880"/>
              </a:tblGrid>
              <a:tr h="107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att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nject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i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nject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Hor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nject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at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ntra-ma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78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linical indic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espiratory tract infec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eonatal </a:t>
                      </a:r>
                      <a:r>
                        <a:rPr b="1" i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.coli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septicem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cute </a:t>
                      </a:r>
                      <a:r>
                        <a:rPr b="1" i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.coli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masti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oot infec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espiratory tract infec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astitis Metritis Agalactiae (MM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eningi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pidermi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rthri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espiratory  tract infec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eonatal </a:t>
                      </a:r>
                      <a:r>
                        <a:rPr b="1" i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.coli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epticem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linical   masti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li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ntro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9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9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9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1737-98B0-4B84-982F-EA03766F05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ac1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III. Resistance mechanisms</a:t>
            </a:r>
            <a:r>
              <a:rPr b="1" lang="en-US" sz="3600" spc="-1" strike="noStrike">
                <a:solidFill>
                  <a:srgbClr val="339933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uter-membrane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inor epidemiologic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mpermeability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levance in Gram neg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fflux pu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9933"/>
                </a:solidFill>
                <a:latin typeface="Arial"/>
                <a:ea typeface="Arial"/>
              </a:rPr>
              <a:t>β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-lactamases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Major epidemiological 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relevance in Gram neg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enicillin Binding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levance in Gram po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otein (PBP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lterations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780000" y="2133720"/>
            <a:ext cx="976320" cy="215640"/>
          </a:xfrm>
          <a:prstGeom prst="rightArrow">
            <a:avLst>
              <a:gd name="adj1" fmla="val 50000"/>
              <a:gd name="adj2" fmla="val 113189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24360" y="3716280"/>
            <a:ext cx="976320" cy="216000"/>
          </a:xfrm>
          <a:prstGeom prst="rightArrow">
            <a:avLst>
              <a:gd name="adj1" fmla="val 50000"/>
              <a:gd name="adj2" fmla="val 113000"/>
            </a:avLst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24360" y="4797360"/>
            <a:ext cx="976320" cy="216000"/>
          </a:xfrm>
          <a:prstGeom prst="rightArrow">
            <a:avLst>
              <a:gd name="adj1" fmla="val 50000"/>
              <a:gd name="adj2" fmla="val 113000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20841600">
            <a:off x="3779640" y="2565360"/>
            <a:ext cx="976320" cy="216000"/>
          </a:xfrm>
          <a:prstGeom prst="rightArrow">
            <a:avLst>
              <a:gd name="adj1" fmla="val 50000"/>
              <a:gd name="adj2" fmla="val 113000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64000" y="5516640"/>
            <a:ext cx="5327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90DF-A68B-4A21-8ED1-3B450CE7BA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ac1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III. Resistance mechanisms – Major </a:t>
            </a:r>
            <a:r>
              <a:rPr b="1" lang="el-GR" sz="2800" spc="-1" strike="noStrike">
                <a:solidFill>
                  <a:srgbClr val="339933"/>
                </a:solidFill>
                <a:latin typeface="Arial"/>
                <a:ea typeface="Arial"/>
              </a:rPr>
              <a:t>β</a:t>
            </a:r>
            <a:r>
              <a:rPr b="1" lang="de-DE" sz="2800" spc="-1" strike="noStrike">
                <a:solidFill>
                  <a:srgbClr val="339933"/>
                </a:solidFill>
                <a:latin typeface="Arial"/>
                <a:ea typeface="Arial"/>
              </a:rPr>
              <a:t>-lactam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45964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  <a:ea typeface="Arial"/>
              </a:rPr>
              <a:t>β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  <a:ea typeface="Arial"/>
              </a:rPr>
              <a:t>-lactamases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are divided in four clas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Ambler classificat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Class A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arrow- spectrum </a:t>
            </a:r>
            <a:r>
              <a:rPr b="0" lang="el-GR" sz="1800" spc="-1" strike="noStrike">
                <a:solidFill>
                  <a:srgbClr val="333399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lactamases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EM-1, TEM-2, SHV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ESBLs: TEM, SHV-derivatives, CTX-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lass B: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etallo enzymes: carbapenem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Class C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AmpC: FOX, MOX, CMY, ACC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lass D: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xacillin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32000" y="5445000"/>
            <a:ext cx="5616720" cy="1145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Most important beta-lactamases are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   cephalosporinases (AmpC) and Extended       Spectrum Beta-Lactamases (ESBL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76360" y="5805360"/>
            <a:ext cx="976320" cy="358920"/>
          </a:xfrm>
          <a:prstGeom prst="rightArrow">
            <a:avLst>
              <a:gd name="adj1" fmla="val 50000"/>
              <a:gd name="adj2" fmla="val 68004"/>
            </a:avLst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FD33-329E-4E5F-8695-74E863390A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1T00:02:46Z</dcterms:created>
  <dc:creator>Andre Bryskier</dc:creator>
  <dc:description/>
  <cp:keywords>CVM veterinary VMAC Europe 4 GC's Bryskier</cp:keywords>
  <dc:language>en-US</dc:language>
  <cp:lastModifiedBy>dbrooks</cp:lastModifiedBy>
  <dcterms:modified xsi:type="dcterms:W3CDTF">2006-10-04T20:43:37Z</dcterms:modified>
  <cp:revision>169</cp:revision>
  <dc:subject>Bryskier - Aspects of the use of 4 GCs in human and veterinary medicine in Europe </dc:subject>
  <dc:title>VMAC Fall 2006 Meeting Presentations - Bryskier</dc:title>
</cp:coreProperties>
</file>