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6.wmf" ContentType="image/x-wmf"/>
  <Override PartName="/ppt/media/image15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4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1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12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74F-30DF-49DC-BF5A-D7EBE5B2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98F-FDFF-4D59-B6B3-15BC721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FC2-8503-426D-AEDE-789C2C03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B80-C4C9-4366-B42F-E6883834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CC1-9DA9-4E9A-B005-B3D92A75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97C-6A44-4B9E-A56A-C2EDA259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F5B-6FB5-4C4F-8543-978C5024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306-B6EA-46D3-B42B-89A532D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91A-04FC-4919-AECA-17F6CAE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AC0-2BFD-42D3-8FD9-29CBAB4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7BF-CCC8-4A59-A491-7364864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5E1-929B-4966-974E-5B42A9C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M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C69-2C45-4ED3-A38D-B9D7BA73EEE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152280" y="152280"/>
            <a:ext cx="175284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7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8.png"/><Relationship Id="rId15" Type="http://schemas.openxmlformats.org/officeDocument/2006/relationships/package" Target="../embeddings/oleObject8.docx"/><Relationship Id="rId16" Type="http://schemas.openxmlformats.org/officeDocument/2006/relationships/image" Target="../media/image9.png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0.png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11.png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12.png"/><Relationship Id="rId23" Type="http://schemas.openxmlformats.org/officeDocument/2006/relationships/package" Target="../embeddings/oleObject12.docx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package" Target="../embeddings/oleObject14.docx"/><Relationship Id="rId28" Type="http://schemas.openxmlformats.org/officeDocument/2006/relationships/image" Target="../media/image15.png"/><Relationship Id="rId29" Type="http://schemas.openxmlformats.org/officeDocument/2006/relationships/package" Target="../embeddings/oleObject15.docx"/><Relationship Id="rId30" Type="http://schemas.openxmlformats.org/officeDocument/2006/relationships/image" Target="../media/image16.png"/><Relationship Id="rId31" Type="http://schemas.openxmlformats.org/officeDocument/2006/relationships/image" Target="../media/image17.wmf"/><Relationship Id="rId32" Type="http://schemas.openxmlformats.org/officeDocument/2006/relationships/image" Target="../media/image18.wmf"/><Relationship Id="rId33" Type="http://schemas.openxmlformats.org/officeDocument/2006/relationships/image" Target="../media/image19.wmf"/><Relationship Id="rId34" Type="http://schemas.openxmlformats.org/officeDocument/2006/relationships/image" Target="../media/image20.wmf"/><Relationship Id="rId35" Type="http://schemas.openxmlformats.org/officeDocument/2006/relationships/image" Target="../media/image21.wmf"/><Relationship Id="rId36" Type="http://schemas.openxmlformats.org/officeDocument/2006/relationships/image" Target="../media/image22.wmf"/><Relationship Id="rId37" Type="http://schemas.openxmlformats.org/officeDocument/2006/relationships/image" Target="../media/image23.wmf"/><Relationship Id="rId38" Type="http://schemas.openxmlformats.org/officeDocument/2006/relationships/image" Target="../media/image24.wmf"/><Relationship Id="rId39" Type="http://schemas.openxmlformats.org/officeDocument/2006/relationships/image" Target="../media/image25.png"/><Relationship Id="rId40" Type="http://schemas.openxmlformats.org/officeDocument/2006/relationships/image" Target="../media/image26.wmf"/><Relationship Id="rId41" Type="http://schemas.openxmlformats.org/officeDocument/2006/relationships/image" Target="../media/image27.wmf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15184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uropean Paediatric Initiativ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ence in Onc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270828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Dr Agnès Saint Raymon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&amp; Dr Ralf Herol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Scientific Advice, Paediatrics and Orphan Drugs Secto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uropean Medicines Agency, EMEA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DA April 16 2008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152280" y="152280"/>
            <a:ext cx="175284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f-patent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aediatric Use Marketing Authorisation (PUMA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vers Paediatric Indication and Formul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eed for agreed Paediatric Investigation Pl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eed for compliance and results in Product inform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centive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Data protection of 10 years (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as for new products in EU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ediatric Investigation Plan (PIP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0592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 proposed by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y end of phase 1 for new product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lan is discussed, modified, and agreed/refused by Paediatric Committe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llowed by EMEA Decis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inding on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ediatric Investigation Pl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05920" cy="54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e necessary data on Quality, Safety and Efficacy for use in the paediatric population   (0 – 18 years)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Unicode MS"/>
              </a:rPr>
              <a:t>No explicit link with adult indication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pecify development timelines, including deferral of studi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e age-appropriate formul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 according to agreed plan serves as basis for approva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Waivers/Deferr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072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n request from applicant or initiative of Paediatric Committee, for all or part of the paediatric population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Waiver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development for ‘classes’ of indications, or for a specific produc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Deferral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initiation of studies and/or comple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Development is most often a combination of a plan with deferrals and waivers (population subset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771640" y="371628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Paediatric Investiga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35812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2852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2852640"/>
            <a:ext cx="12189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2852640"/>
            <a:ext cx="1371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852640"/>
            <a:ext cx="1981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2852640"/>
            <a:ext cx="2057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Appro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645000"/>
            <a:ext cx="533520" cy="685800"/>
          </a:xfrm>
          <a:prstGeom prst="upArrow">
            <a:avLst>
              <a:gd name="adj1" fmla="val 50000"/>
              <a:gd name="adj2" fmla="val 32136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2852640"/>
            <a:ext cx="304920" cy="500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50864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5013360"/>
            <a:ext cx="42670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ediatric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773360"/>
            <a:ext cx="12956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1773360"/>
            <a:ext cx="10670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365720"/>
            <a:ext cx="21337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27280" y="371628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Paediatric Investiga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812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852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2852640"/>
            <a:ext cx="1219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2852640"/>
            <a:ext cx="1371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2852640"/>
            <a:ext cx="15825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2852640"/>
            <a:ext cx="3059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Appro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371628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4508640"/>
            <a:ext cx="21337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2852640"/>
            <a:ext cx="3049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450864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64500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181480"/>
            <a:ext cx="5749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ediatric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773360"/>
            <a:ext cx="129528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24000" y="1700280"/>
            <a:ext cx="10670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10480" y="3573360"/>
            <a:ext cx="533520" cy="914400"/>
          </a:xfrm>
          <a:prstGeom prst="upArrow">
            <a:avLst>
              <a:gd name="adj1" fmla="val 50000"/>
              <a:gd name="adj2" fmla="val 42848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48360" y="1557360"/>
            <a:ext cx="3095640" cy="533520"/>
          </a:xfrm>
          <a:custGeom>
            <a:avLst/>
            <a:gdLst>
              <a:gd name="textAreaLeft" fmla="*/ 642960 w 3095640"/>
              <a:gd name="textAreaRight" fmla="*/ 2170440 w 309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72" hR="21600" stAng="10800000" swAng="5400000"/>
                <a:lnTo>
                  <a:pt x="10659" y="0"/>
                </a:lnTo>
                <a:arcTo wR="8972" hR="21600" stAng="-5400000" swAng="2975782"/>
                <a:lnTo>
                  <a:pt x="21087" y="14400"/>
                </a:lnTo>
                <a:lnTo>
                  <a:pt x="18788" y="21600"/>
                </a:lnTo>
                <a:lnTo>
                  <a:pt x="15462" y="14400"/>
                </a:lnTo>
                <a:lnTo>
                  <a:pt x="17431" y="14400"/>
                </a:lnTo>
                <a:arcTo wR="8972" hR="21600" stAng="-2424218" swAng="-2841006"/>
                <a:lnTo>
                  <a:pt x="9816" y="96"/>
                </a:lnTo>
                <a:arcTo wR="8972" hR="21600" stAng="-5534775" swAng="-5265225"/>
                <a:close/>
              </a:path>
              <a:path fill="darkenLess" w="21600" h="21600">
                <a:moveTo>
                  <a:pt x="0" y="21600"/>
                </a:moveTo>
                <a:arcTo wR="8972" hR="21600" stAng="10800000" swAng="5400000"/>
                <a:lnTo>
                  <a:pt x="8972" y="0"/>
                </a:lnTo>
                <a:arcTo wR="8972" hR="21600" stAng="-5400000" swAng="134775"/>
                <a:lnTo>
                  <a:pt x="9816" y="96"/>
                </a:lnTo>
                <a:arcTo wR="8972" hR="21600" stAng="-5534775" swAng="-526522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59640" y="206064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defer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ications and Ind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PIP corresponds to an active substance (or a combination) from a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PIP usually covers more than one indication (e.g. high grade glioma and neuroblastoma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and Waivers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ugust 2007 – April 2008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 Indications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326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IP/Waiver applications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17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Authorised products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0">
              <a:spcBef>
                <a:spcPts val="700"/>
              </a:spcBef>
              <a:buNone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6165720"/>
            <a:ext cx="2664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3/18/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Therapeutic areas 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NS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ardiovascular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Unicode MS"/>
              </a:rPr>
              <a:t>Oncology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nti-infectives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Endocrinology / metabolism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Immunology / vaccines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Other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7020000" y="2708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of the Reg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rove the health of childr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high quality, ethical research into medicines for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availability of authorised medicines for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information on medicin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chieve the above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ithout unnecessary studies in childr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ithout delaying authorisation for adul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*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4640" indent="-314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ctive substance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Total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New: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Authorised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Cytotoxic / established / conventional: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Non-cytotoxic / innovative: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Supportive (antiemetics, growth factors) 3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4640" indent="-314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Written requests: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14640" indent="0">
              <a:spcBef>
                <a:spcPts val="601"/>
              </a:spcBef>
              <a:buNone/>
              <a:tabLst>
                <a:tab algn="l" pos="0"/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xclude full Waive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6084720" y="6093000"/>
            <a:ext cx="2664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3/18/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79200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*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1320" indent="-30132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umber of conditions / indications in oncology (15 active substances):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otal: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52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ult condition only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aediatric condition only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ront line-treatment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lapse treatment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ult and paediatric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0">
              <a:spcBef>
                <a:spcPts val="700"/>
              </a:spcBef>
              <a:buNone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01320" indent="0">
              <a:spcBef>
                <a:spcPts val="451"/>
              </a:spcBef>
              <a:buNone/>
              <a:tabLst>
                <a:tab algn="l" pos="0"/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xcludes full waiver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aiv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ublished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ropharyngeal epithelial cance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Lung cancer (small cell and non-small cell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Basal cell carcinom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Breast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varian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ndometrial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Prostate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Hairy cell leukaemi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Multiple myel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ssues with PIPs/Waivers in paediatric oncolog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744200"/>
            <a:ext cx="81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Low incidence for condition but exist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ition of conditio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ider name = extended scope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Lower age range for studies: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lioma, neuroblastoma, rhabdomyosarcoma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hich is the appropriate cut-off: 0 – 6 mo – 1 – 2 - 3 years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hich minimal age for relapse / refractory disease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trials for 15 active substances: 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leted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oposed, ongoing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ot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Unicode MS"/>
              </a:rPr>
              <a:t>per active substanc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~ 1.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llaborative paediatric oncology group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~ 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ropose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Unicode MS"/>
              </a:rPr>
              <a:t>planned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trial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1/2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2 single arm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3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bination therapy studie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Additional to Written Requests (n=3)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ediatric condition/indic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habdomyosarc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n-RMS soft tissue sarcoma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wing sarc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euroblast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igh-grade glioma (HGG)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rainstem HGG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eukaemi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ymph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rcin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elan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y solid tumours’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First-line treatment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Treatment of relapse or refractory disease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o corresponding development in adults (no proof-of-concept)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eonates: waiver very often request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on-clinical data : highly variable level of detail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odels of paediatric tumours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tudy design choice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tudies deferred not described: Lack of overall strategy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0" y="333360"/>
          <a:ext cx="9143640" cy="6107040"/>
        </p:xfrm>
        <a:graphic>
          <a:graphicData uri="http://schemas.openxmlformats.org/drawingml/2006/table">
            <a:tbl>
              <a:tblPr/>
              <a:tblGrid>
                <a:gridCol w="1594080"/>
                <a:gridCol w="2264400"/>
                <a:gridCol w="2685600"/>
                <a:gridCol w="259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 BP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 P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velop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ndatory if likely to be largely used and/or meaningful bene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nda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ptional for off-pa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ritten Requ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ediatric Investigation P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m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months excl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months pa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rugs (section 50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ith excl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iologicals (mos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ph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c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EA Paediatric Committ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arency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 ACCESS to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cisions on 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ummary of conte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imelin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 in Product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ation of Assessment Reports (public outcome of evaluation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arency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 ACCESS to EU Database of all clinical trials (</a:t>
            </a: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called EudraCT)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rotocol-related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-related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l trials with at least a study site in EU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l those performed outside EU if included in a Paediatric Investigation Pl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Establishment of an EMEA network of paediatric research networks (</a:t>
            </a:r>
            <a:r>
              <a:rPr b="0" i="1" lang="en-US" sz="3600" spc="-1" strike="noStrike">
                <a:solidFill>
                  <a:srgbClr val="ffffff"/>
                </a:solidFill>
                <a:latin typeface="Arial Unicode MS"/>
              </a:rPr>
              <a:t>in particular paediatric oncology groups e.g. SIOP, ITCC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Inventory of all paediatric uses of medicines in Member Sta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o help define ‘paediatric needs’ for future 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funding 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ies on off-patent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Off-patent drugs on EMEA Priority List of about 60 drug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EU funding (Framework Programme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~ 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0-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30 million Euros available in 2007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5 projects fund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w call for proposals in July 2008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uccessful implem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oncology as a model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sider Mechanism of action/Target of a drug rather than Adult indic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ack of Proof of concept in adults/ in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ack of models of paediatric tumours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ge groups to be included in trial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eak level of evidence proposed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ollaborative approach highly need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971640" y="980640"/>
            <a:ext cx="7632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CHMP: Committee for Human Medicinal Products (EMEA ‘approval’ Committee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CT: Clinical Trial(s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MEA: European Medicines Agency 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Unicode MS"/>
              </a:rPr>
              <a:t>ww.emea.europa.eu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: European Un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DRACT: European Database of Clinical Trial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ropean Commission 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Unicode MS"/>
              </a:rPr>
              <a:t>pharmacos.europa.eu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GCP: Good Clinical Practic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ICH: International Conference on Harmoniz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MA: Marketing Authorisation (Drug Approval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MS: Member Stat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IP: Paediatric Investigation Pla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UMA: Paediatric Use Marketing Authoris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ion of a Paediatric Committe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xpert Committ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ix of Academics and Agencies employees, including paediatric oncologis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eting monthly at EME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cientific decisi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6280" y="314280"/>
            <a:ext cx="790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aediatric Committe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344840" y="1066680"/>
          <a:ext cx="454320" cy="2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1066680"/>
                    <a:ext cx="4543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1143000"/>
          <a:ext cx="453960" cy="26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143000"/>
                    <a:ext cx="4539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943600" y="1295280"/>
          <a:ext cx="496800" cy="373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1295280"/>
                    <a:ext cx="4968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7600" y="6019920"/>
          <a:ext cx="453960" cy="257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6019920"/>
                    <a:ext cx="4539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62120" y="4038480"/>
          <a:ext cx="453960" cy="285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03848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90720" y="4572000"/>
          <a:ext cx="453960" cy="285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457200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344840" y="6019920"/>
          <a:ext cx="454320" cy="2854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4840" y="6019920"/>
                    <a:ext cx="454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7400" y="5562720"/>
          <a:ext cx="453960" cy="28404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562720"/>
                    <a:ext cx="453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95280" y="5181480"/>
          <a:ext cx="452520" cy="2858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95280" y="5181480"/>
                    <a:ext cx="452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62120" y="2895480"/>
          <a:ext cx="453960" cy="28584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120" y="289548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66680" y="2362320"/>
          <a:ext cx="454320" cy="28548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2362320"/>
                    <a:ext cx="454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16200" y="1857240"/>
          <a:ext cx="452160" cy="335160"/>
        </p:xfrm>
        <a:graphic>
          <a:graphicData uri="http://schemas.openxmlformats.org/presentationml/2006/ole">
            <p:oleObj progId="Word.Document.12" r:id="rId2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16200" y="1857240"/>
                    <a:ext cx="45216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14600" y="1371600"/>
          <a:ext cx="453960" cy="30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1371600"/>
                    <a:ext cx="453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5867280"/>
          <a:ext cx="453960" cy="293760"/>
        </p:xfrm>
        <a:graphic>
          <a:graphicData uri="http://schemas.openxmlformats.org/presentationml/2006/ole">
            <p:oleObj progId="Word.Document.12" r:id="rId2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819520" y="5867280"/>
                    <a:ext cx="4539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429000" y="1143000"/>
          <a:ext cx="453960" cy="285840"/>
        </p:xfrm>
        <a:graphic>
          <a:graphicData uri="http://schemas.openxmlformats.org/presentationml/2006/ole">
            <p:oleObj progId="Word.Document.12" r:id="rId2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114300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181480" y="5943600"/>
            <a:ext cx="553680" cy="328680"/>
            <a:chOff x="5181480" y="5943600"/>
            <a:chExt cx="553680" cy="328680"/>
          </a:xfrm>
        </p:grpSpPr>
        <p:sp>
          <p:nvSpPr>
            <p:cNvPr id="83" name=""/>
            <p:cNvSpPr/>
            <p:nvPr/>
          </p:nvSpPr>
          <p:spPr>
            <a:xfrm>
              <a:off x="5342760" y="6233760"/>
              <a:ext cx="226800" cy="33480"/>
            </a:xfrm>
            <a:custGeom>
              <a:avLst/>
              <a:gdLst/>
              <a:ahLst/>
              <a:rect l="l" t="t" r="r" b="b"/>
              <a:pathLst>
                <a:path w="2037" h="346">
                  <a:moveTo>
                    <a:pt x="1002" y="200"/>
                  </a:moveTo>
                  <a:lnTo>
                    <a:pt x="1133" y="232"/>
                  </a:lnTo>
                  <a:lnTo>
                    <a:pt x="1266" y="263"/>
                  </a:lnTo>
                  <a:lnTo>
                    <a:pt x="1395" y="290"/>
                  </a:lnTo>
                  <a:lnTo>
                    <a:pt x="1524" y="312"/>
                  </a:lnTo>
                  <a:lnTo>
                    <a:pt x="1652" y="328"/>
                  </a:lnTo>
                  <a:lnTo>
                    <a:pt x="1781" y="341"/>
                  </a:lnTo>
                  <a:lnTo>
                    <a:pt x="1908" y="346"/>
                  </a:lnTo>
                  <a:lnTo>
                    <a:pt x="2037" y="344"/>
                  </a:lnTo>
                  <a:lnTo>
                    <a:pt x="2032" y="292"/>
                  </a:lnTo>
                  <a:lnTo>
                    <a:pt x="1911" y="294"/>
                  </a:lnTo>
                  <a:lnTo>
                    <a:pt x="1792" y="290"/>
                  </a:lnTo>
                  <a:lnTo>
                    <a:pt x="1671" y="281"/>
                  </a:lnTo>
                  <a:lnTo>
                    <a:pt x="1551" y="266"/>
                  </a:lnTo>
                  <a:lnTo>
                    <a:pt x="1430" y="246"/>
                  </a:lnTo>
                  <a:lnTo>
                    <a:pt x="1308" y="222"/>
                  </a:lnTo>
                  <a:lnTo>
                    <a:pt x="1184" y="195"/>
                  </a:lnTo>
                  <a:lnTo>
                    <a:pt x="1060" y="165"/>
                  </a:lnTo>
                  <a:lnTo>
                    <a:pt x="924" y="128"/>
                  </a:lnTo>
                  <a:lnTo>
                    <a:pt x="789" y="97"/>
                  </a:lnTo>
                  <a:lnTo>
                    <a:pt x="656" y="66"/>
                  </a:lnTo>
                  <a:lnTo>
                    <a:pt x="525" y="42"/>
                  </a:lnTo>
                  <a:lnTo>
                    <a:pt x="392" y="21"/>
                  </a:lnTo>
                  <a:lnTo>
                    <a:pt x="261" y="7"/>
                  </a:lnTo>
                  <a:lnTo>
                    <a:pt x="130" y="0"/>
                  </a:lnTo>
                  <a:lnTo>
                    <a:pt x="0" y="2"/>
                  </a:lnTo>
                  <a:lnTo>
                    <a:pt x="3" y="55"/>
                  </a:lnTo>
                  <a:lnTo>
                    <a:pt x="125" y="53"/>
                  </a:lnTo>
                  <a:lnTo>
                    <a:pt x="249" y="59"/>
                  </a:lnTo>
                  <a:lnTo>
                    <a:pt x="372" y="71"/>
                  </a:lnTo>
                  <a:lnTo>
                    <a:pt x="497" y="90"/>
                  </a:lnTo>
                  <a:lnTo>
                    <a:pt x="621" y="110"/>
                  </a:lnTo>
                  <a:lnTo>
                    <a:pt x="747" y="138"/>
                  </a:lnTo>
                  <a:lnTo>
                    <a:pt x="871" y="167"/>
                  </a:lnTo>
                  <a:lnTo>
                    <a:pt x="1002" y="200"/>
                  </a:lnTo>
                  <a:lnTo>
                    <a:pt x="100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1160" y="5943600"/>
              <a:ext cx="213840" cy="33120"/>
            </a:xfrm>
            <a:custGeom>
              <a:avLst/>
              <a:gdLst/>
              <a:ahLst/>
              <a:rect l="l" t="t" r="r" b="b"/>
              <a:pathLst>
                <a:path w="1922" h="345">
                  <a:moveTo>
                    <a:pt x="64" y="53"/>
                  </a:moveTo>
                  <a:lnTo>
                    <a:pt x="212" y="62"/>
                  </a:lnTo>
                  <a:lnTo>
                    <a:pt x="362" y="84"/>
                  </a:lnTo>
                  <a:lnTo>
                    <a:pt x="510" y="112"/>
                  </a:lnTo>
                  <a:lnTo>
                    <a:pt x="661" y="146"/>
                  </a:lnTo>
                  <a:lnTo>
                    <a:pt x="809" y="183"/>
                  </a:lnTo>
                  <a:lnTo>
                    <a:pt x="958" y="222"/>
                  </a:lnTo>
                  <a:lnTo>
                    <a:pt x="1111" y="258"/>
                  </a:lnTo>
                  <a:lnTo>
                    <a:pt x="1264" y="294"/>
                  </a:lnTo>
                  <a:lnTo>
                    <a:pt x="1348" y="308"/>
                  </a:lnTo>
                  <a:lnTo>
                    <a:pt x="1431" y="321"/>
                  </a:lnTo>
                  <a:lnTo>
                    <a:pt x="1513" y="333"/>
                  </a:lnTo>
                  <a:lnTo>
                    <a:pt x="1597" y="339"/>
                  </a:lnTo>
                  <a:lnTo>
                    <a:pt x="1677" y="344"/>
                  </a:lnTo>
                  <a:lnTo>
                    <a:pt x="1758" y="345"/>
                  </a:lnTo>
                  <a:lnTo>
                    <a:pt x="1840" y="345"/>
                  </a:lnTo>
                  <a:lnTo>
                    <a:pt x="1922" y="341"/>
                  </a:lnTo>
                  <a:lnTo>
                    <a:pt x="1917" y="290"/>
                  </a:lnTo>
                  <a:lnTo>
                    <a:pt x="1828" y="292"/>
                  </a:lnTo>
                  <a:lnTo>
                    <a:pt x="1741" y="292"/>
                  </a:lnTo>
                  <a:lnTo>
                    <a:pt x="1652" y="290"/>
                  </a:lnTo>
                  <a:lnTo>
                    <a:pt x="1565" y="284"/>
                  </a:lnTo>
                  <a:lnTo>
                    <a:pt x="1473" y="276"/>
                  </a:lnTo>
                  <a:lnTo>
                    <a:pt x="1384" y="264"/>
                  </a:lnTo>
                  <a:lnTo>
                    <a:pt x="1293" y="248"/>
                  </a:lnTo>
                  <a:lnTo>
                    <a:pt x="1204" y="232"/>
                  </a:lnTo>
                  <a:lnTo>
                    <a:pt x="1050" y="193"/>
                  </a:lnTo>
                  <a:lnTo>
                    <a:pt x="898" y="156"/>
                  </a:lnTo>
                  <a:lnTo>
                    <a:pt x="747" y="117"/>
                  </a:lnTo>
                  <a:lnTo>
                    <a:pt x="598" y="83"/>
                  </a:lnTo>
                  <a:lnTo>
                    <a:pt x="447" y="49"/>
                  </a:lnTo>
                  <a:lnTo>
                    <a:pt x="298" y="24"/>
                  </a:lnTo>
                  <a:lnTo>
                    <a:pt x="149" y="5"/>
                  </a:lnTo>
                  <a:lnTo>
                    <a:pt x="0" y="0"/>
                  </a:lnTo>
                  <a:lnTo>
                    <a:pt x="3" y="52"/>
                  </a:lnTo>
                  <a:lnTo>
                    <a:pt x="17" y="52"/>
                  </a:lnTo>
                  <a:lnTo>
                    <a:pt x="32" y="52"/>
                  </a:lnTo>
                  <a:lnTo>
                    <a:pt x="46" y="52"/>
                  </a:lnTo>
                  <a:lnTo>
                    <a:pt x="64" y="53"/>
                  </a:lnTo>
                  <a:lnTo>
                    <a:pt x="6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35000" y="5944680"/>
              <a:ext cx="158040" cy="31320"/>
            </a:xfrm>
            <a:custGeom>
              <a:avLst/>
              <a:gdLst/>
              <a:ahLst/>
              <a:rect l="l" t="t" r="r" b="b"/>
              <a:pathLst>
                <a:path w="1420" h="330">
                  <a:moveTo>
                    <a:pt x="519" y="247"/>
                  </a:moveTo>
                  <a:lnTo>
                    <a:pt x="631" y="216"/>
                  </a:lnTo>
                  <a:lnTo>
                    <a:pt x="744" y="187"/>
                  </a:lnTo>
                  <a:lnTo>
                    <a:pt x="857" y="158"/>
                  </a:lnTo>
                  <a:lnTo>
                    <a:pt x="970" y="130"/>
                  </a:lnTo>
                  <a:lnTo>
                    <a:pt x="1081" y="103"/>
                  </a:lnTo>
                  <a:lnTo>
                    <a:pt x="1193" y="83"/>
                  </a:lnTo>
                  <a:lnTo>
                    <a:pt x="1306" y="64"/>
                  </a:lnTo>
                  <a:lnTo>
                    <a:pt x="1420" y="51"/>
                  </a:lnTo>
                  <a:lnTo>
                    <a:pt x="1411" y="0"/>
                  </a:lnTo>
                  <a:lnTo>
                    <a:pt x="1293" y="13"/>
                  </a:lnTo>
                  <a:lnTo>
                    <a:pt x="1179" y="31"/>
                  </a:lnTo>
                  <a:lnTo>
                    <a:pt x="1064" y="52"/>
                  </a:lnTo>
                  <a:lnTo>
                    <a:pt x="952" y="80"/>
                  </a:lnTo>
                  <a:lnTo>
                    <a:pt x="835" y="108"/>
                  </a:lnTo>
                  <a:lnTo>
                    <a:pt x="720" y="140"/>
                  </a:lnTo>
                  <a:lnTo>
                    <a:pt x="606" y="171"/>
                  </a:lnTo>
                  <a:lnTo>
                    <a:pt x="491" y="202"/>
                  </a:lnTo>
                  <a:lnTo>
                    <a:pt x="429" y="215"/>
                  </a:lnTo>
                  <a:lnTo>
                    <a:pt x="367" y="229"/>
                  </a:lnTo>
                  <a:lnTo>
                    <a:pt x="305" y="240"/>
                  </a:lnTo>
                  <a:lnTo>
                    <a:pt x="245" y="252"/>
                  </a:lnTo>
                  <a:lnTo>
                    <a:pt x="184" y="259"/>
                  </a:lnTo>
                  <a:lnTo>
                    <a:pt x="121" y="268"/>
                  </a:lnTo>
                  <a:lnTo>
                    <a:pt x="60" y="273"/>
                  </a:lnTo>
                  <a:lnTo>
                    <a:pt x="0" y="279"/>
                  </a:lnTo>
                  <a:lnTo>
                    <a:pt x="5" y="330"/>
                  </a:lnTo>
                  <a:lnTo>
                    <a:pt x="70" y="323"/>
                  </a:lnTo>
                  <a:lnTo>
                    <a:pt x="133" y="317"/>
                  </a:lnTo>
                  <a:lnTo>
                    <a:pt x="197" y="309"/>
                  </a:lnTo>
                  <a:lnTo>
                    <a:pt x="262" y="301"/>
                  </a:lnTo>
                  <a:lnTo>
                    <a:pt x="326" y="288"/>
                  </a:lnTo>
                  <a:lnTo>
                    <a:pt x="389" y="278"/>
                  </a:lnTo>
                  <a:lnTo>
                    <a:pt x="453" y="263"/>
                  </a:lnTo>
                  <a:lnTo>
                    <a:pt x="519" y="247"/>
                  </a:lnTo>
                  <a:lnTo>
                    <a:pt x="519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92320" y="5943600"/>
              <a:ext cx="34560" cy="176040"/>
            </a:xfrm>
            <a:custGeom>
              <a:avLst/>
              <a:gdLst/>
              <a:ahLst/>
              <a:rect l="l" t="t" r="r" b="b"/>
              <a:pathLst>
                <a:path w="315" h="1829">
                  <a:moveTo>
                    <a:pt x="264" y="53"/>
                  </a:moveTo>
                  <a:lnTo>
                    <a:pt x="262" y="231"/>
                  </a:lnTo>
                  <a:lnTo>
                    <a:pt x="262" y="412"/>
                  </a:lnTo>
                  <a:lnTo>
                    <a:pt x="262" y="589"/>
                  </a:lnTo>
                  <a:lnTo>
                    <a:pt x="262" y="767"/>
                  </a:lnTo>
                  <a:lnTo>
                    <a:pt x="262" y="944"/>
                  </a:lnTo>
                  <a:lnTo>
                    <a:pt x="262" y="1124"/>
                  </a:lnTo>
                  <a:lnTo>
                    <a:pt x="262" y="1304"/>
                  </a:lnTo>
                  <a:lnTo>
                    <a:pt x="262" y="1488"/>
                  </a:lnTo>
                  <a:lnTo>
                    <a:pt x="262" y="1495"/>
                  </a:lnTo>
                  <a:lnTo>
                    <a:pt x="262" y="1506"/>
                  </a:lnTo>
                  <a:lnTo>
                    <a:pt x="262" y="1516"/>
                  </a:lnTo>
                  <a:lnTo>
                    <a:pt x="262" y="1527"/>
                  </a:lnTo>
                  <a:lnTo>
                    <a:pt x="262" y="1529"/>
                  </a:lnTo>
                  <a:lnTo>
                    <a:pt x="262" y="1530"/>
                  </a:lnTo>
                  <a:lnTo>
                    <a:pt x="313" y="1829"/>
                  </a:lnTo>
                  <a:lnTo>
                    <a:pt x="313" y="1607"/>
                  </a:lnTo>
                  <a:lnTo>
                    <a:pt x="313" y="1386"/>
                  </a:lnTo>
                  <a:lnTo>
                    <a:pt x="313" y="1165"/>
                  </a:lnTo>
                  <a:lnTo>
                    <a:pt x="313" y="944"/>
                  </a:lnTo>
                  <a:lnTo>
                    <a:pt x="313" y="722"/>
                  </a:lnTo>
                  <a:lnTo>
                    <a:pt x="313" y="501"/>
                  </a:lnTo>
                  <a:lnTo>
                    <a:pt x="313" y="277"/>
                  </a:lnTo>
                  <a:lnTo>
                    <a:pt x="315" y="55"/>
                  </a:lnTo>
                  <a:lnTo>
                    <a:pt x="315" y="42"/>
                  </a:lnTo>
                  <a:lnTo>
                    <a:pt x="315" y="29"/>
                  </a:lnTo>
                  <a:lnTo>
                    <a:pt x="315" y="16"/>
                  </a:lnTo>
                  <a:lnTo>
                    <a:pt x="315" y="3"/>
                  </a:lnTo>
                  <a:lnTo>
                    <a:pt x="301" y="1"/>
                  </a:lnTo>
                  <a:lnTo>
                    <a:pt x="288" y="1"/>
                  </a:lnTo>
                  <a:lnTo>
                    <a:pt x="275" y="1"/>
                  </a:lnTo>
                  <a:lnTo>
                    <a:pt x="264" y="1"/>
                  </a:lnTo>
                  <a:lnTo>
                    <a:pt x="230" y="0"/>
                  </a:lnTo>
                  <a:lnTo>
                    <a:pt x="196" y="0"/>
                  </a:lnTo>
                  <a:lnTo>
                    <a:pt x="164" y="0"/>
                  </a:lnTo>
                  <a:lnTo>
                    <a:pt x="132" y="0"/>
                  </a:lnTo>
                  <a:lnTo>
                    <a:pt x="98" y="0"/>
                  </a:lnTo>
                  <a:lnTo>
                    <a:pt x="66" y="3"/>
                  </a:lnTo>
                  <a:lnTo>
                    <a:pt x="33" y="5"/>
                  </a:lnTo>
                  <a:lnTo>
                    <a:pt x="0" y="9"/>
                  </a:lnTo>
                  <a:lnTo>
                    <a:pt x="9" y="60"/>
                  </a:lnTo>
                  <a:lnTo>
                    <a:pt x="40" y="56"/>
                  </a:lnTo>
                  <a:lnTo>
                    <a:pt x="71" y="55"/>
                  </a:lnTo>
                  <a:lnTo>
                    <a:pt x="102" y="51"/>
                  </a:lnTo>
                  <a:lnTo>
                    <a:pt x="135" y="51"/>
                  </a:lnTo>
                  <a:lnTo>
                    <a:pt x="166" y="51"/>
                  </a:lnTo>
                  <a:lnTo>
                    <a:pt x="198" y="51"/>
                  </a:lnTo>
                  <a:lnTo>
                    <a:pt x="231" y="51"/>
                  </a:lnTo>
                  <a:lnTo>
                    <a:pt x="264" y="53"/>
                  </a:lnTo>
                  <a:lnTo>
                    <a:pt x="26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5943600"/>
              <a:ext cx="161640" cy="323280"/>
            </a:xfrm>
            <a:custGeom>
              <a:avLst/>
              <a:gdLst/>
              <a:ahLst/>
              <a:rect l="l" t="t" r="r" b="b"/>
              <a:pathLst>
                <a:path w="1449" h="3354">
                  <a:moveTo>
                    <a:pt x="1317" y="3024"/>
                  </a:moveTo>
                  <a:lnTo>
                    <a:pt x="1167" y="3044"/>
                  </a:lnTo>
                  <a:lnTo>
                    <a:pt x="1024" y="3073"/>
                  </a:lnTo>
                  <a:lnTo>
                    <a:pt x="882" y="3107"/>
                  </a:lnTo>
                  <a:lnTo>
                    <a:pt x="739" y="3145"/>
                  </a:lnTo>
                  <a:lnTo>
                    <a:pt x="596" y="3182"/>
                  </a:lnTo>
                  <a:lnTo>
                    <a:pt x="454" y="3221"/>
                  </a:lnTo>
                  <a:lnTo>
                    <a:pt x="311" y="3253"/>
                  </a:lnTo>
                  <a:lnTo>
                    <a:pt x="166" y="3283"/>
                  </a:lnTo>
                  <a:lnTo>
                    <a:pt x="151" y="3283"/>
                  </a:lnTo>
                  <a:lnTo>
                    <a:pt x="137" y="3287"/>
                  </a:lnTo>
                  <a:lnTo>
                    <a:pt x="121" y="3287"/>
                  </a:lnTo>
                  <a:lnTo>
                    <a:pt x="109" y="3290"/>
                  </a:lnTo>
                  <a:lnTo>
                    <a:pt x="95" y="3290"/>
                  </a:lnTo>
                  <a:lnTo>
                    <a:pt x="82" y="3294"/>
                  </a:lnTo>
                  <a:lnTo>
                    <a:pt x="67" y="3294"/>
                  </a:lnTo>
                  <a:lnTo>
                    <a:pt x="55" y="3297"/>
                  </a:lnTo>
                  <a:lnTo>
                    <a:pt x="53" y="2917"/>
                  </a:lnTo>
                  <a:lnTo>
                    <a:pt x="53" y="2542"/>
                  </a:lnTo>
                  <a:lnTo>
                    <a:pt x="53" y="2167"/>
                  </a:lnTo>
                  <a:lnTo>
                    <a:pt x="53" y="1797"/>
                  </a:lnTo>
                  <a:lnTo>
                    <a:pt x="50" y="1422"/>
                  </a:lnTo>
                  <a:lnTo>
                    <a:pt x="50" y="1047"/>
                  </a:lnTo>
                  <a:lnTo>
                    <a:pt x="50" y="667"/>
                  </a:lnTo>
                  <a:lnTo>
                    <a:pt x="50" y="286"/>
                  </a:lnTo>
                  <a:lnTo>
                    <a:pt x="63" y="282"/>
                  </a:lnTo>
                  <a:lnTo>
                    <a:pt x="78" y="279"/>
                  </a:lnTo>
                  <a:lnTo>
                    <a:pt x="90" y="276"/>
                  </a:lnTo>
                  <a:lnTo>
                    <a:pt x="105" y="274"/>
                  </a:lnTo>
                  <a:lnTo>
                    <a:pt x="118" y="270"/>
                  </a:lnTo>
                  <a:lnTo>
                    <a:pt x="132" y="266"/>
                  </a:lnTo>
                  <a:lnTo>
                    <a:pt x="145" y="263"/>
                  </a:lnTo>
                  <a:lnTo>
                    <a:pt x="161" y="261"/>
                  </a:lnTo>
                  <a:lnTo>
                    <a:pt x="298" y="224"/>
                  </a:lnTo>
                  <a:lnTo>
                    <a:pt x="435" y="187"/>
                  </a:lnTo>
                  <a:lnTo>
                    <a:pt x="569" y="152"/>
                  </a:lnTo>
                  <a:lnTo>
                    <a:pt x="705" y="121"/>
                  </a:lnTo>
                  <a:lnTo>
                    <a:pt x="840" y="91"/>
                  </a:lnTo>
                  <a:lnTo>
                    <a:pt x="976" y="70"/>
                  </a:lnTo>
                  <a:lnTo>
                    <a:pt x="1114" y="55"/>
                  </a:lnTo>
                  <a:lnTo>
                    <a:pt x="1256" y="52"/>
                  </a:lnTo>
                  <a:lnTo>
                    <a:pt x="1253" y="0"/>
                  </a:lnTo>
                  <a:lnTo>
                    <a:pt x="1241" y="0"/>
                  </a:lnTo>
                  <a:lnTo>
                    <a:pt x="1230" y="0"/>
                  </a:lnTo>
                  <a:lnTo>
                    <a:pt x="1078" y="5"/>
                  </a:lnTo>
                  <a:lnTo>
                    <a:pt x="929" y="24"/>
                  </a:lnTo>
                  <a:lnTo>
                    <a:pt x="781" y="49"/>
                  </a:lnTo>
                  <a:lnTo>
                    <a:pt x="636" y="83"/>
                  </a:lnTo>
                  <a:lnTo>
                    <a:pt x="489" y="119"/>
                  </a:lnTo>
                  <a:lnTo>
                    <a:pt x="343" y="157"/>
                  </a:lnTo>
                  <a:lnTo>
                    <a:pt x="196" y="195"/>
                  </a:lnTo>
                  <a:lnTo>
                    <a:pt x="50" y="233"/>
                  </a:lnTo>
                  <a:lnTo>
                    <a:pt x="36" y="235"/>
                  </a:lnTo>
                  <a:lnTo>
                    <a:pt x="23" y="239"/>
                  </a:lnTo>
                  <a:lnTo>
                    <a:pt x="11" y="240"/>
                  </a:lnTo>
                  <a:lnTo>
                    <a:pt x="0" y="244"/>
                  </a:lnTo>
                  <a:lnTo>
                    <a:pt x="0" y="257"/>
                  </a:lnTo>
                  <a:lnTo>
                    <a:pt x="0" y="270"/>
                  </a:lnTo>
                  <a:lnTo>
                    <a:pt x="0" y="282"/>
                  </a:lnTo>
                  <a:lnTo>
                    <a:pt x="0" y="297"/>
                  </a:lnTo>
                  <a:lnTo>
                    <a:pt x="0" y="677"/>
                  </a:lnTo>
                  <a:lnTo>
                    <a:pt x="0" y="1055"/>
                  </a:lnTo>
                  <a:lnTo>
                    <a:pt x="0" y="1429"/>
                  </a:lnTo>
                  <a:lnTo>
                    <a:pt x="2" y="1804"/>
                  </a:lnTo>
                  <a:lnTo>
                    <a:pt x="2" y="2175"/>
                  </a:lnTo>
                  <a:lnTo>
                    <a:pt x="2" y="2550"/>
                  </a:lnTo>
                  <a:lnTo>
                    <a:pt x="2" y="2925"/>
                  </a:lnTo>
                  <a:lnTo>
                    <a:pt x="3" y="3303"/>
                  </a:lnTo>
                  <a:lnTo>
                    <a:pt x="3" y="3315"/>
                  </a:lnTo>
                  <a:lnTo>
                    <a:pt x="3" y="3329"/>
                  </a:lnTo>
                  <a:lnTo>
                    <a:pt x="3" y="3340"/>
                  </a:lnTo>
                  <a:lnTo>
                    <a:pt x="3" y="3354"/>
                  </a:lnTo>
                  <a:lnTo>
                    <a:pt x="14" y="3352"/>
                  </a:lnTo>
                  <a:lnTo>
                    <a:pt x="27" y="3352"/>
                  </a:lnTo>
                  <a:lnTo>
                    <a:pt x="40" y="3351"/>
                  </a:lnTo>
                  <a:lnTo>
                    <a:pt x="55" y="3351"/>
                  </a:lnTo>
                  <a:lnTo>
                    <a:pt x="201" y="3327"/>
                  </a:lnTo>
                  <a:lnTo>
                    <a:pt x="351" y="3297"/>
                  </a:lnTo>
                  <a:lnTo>
                    <a:pt x="496" y="3261"/>
                  </a:lnTo>
                  <a:lnTo>
                    <a:pt x="644" y="3224"/>
                  </a:lnTo>
                  <a:lnTo>
                    <a:pt x="787" y="3182"/>
                  </a:lnTo>
                  <a:lnTo>
                    <a:pt x="934" y="3145"/>
                  </a:lnTo>
                  <a:lnTo>
                    <a:pt x="1082" y="3112"/>
                  </a:lnTo>
                  <a:lnTo>
                    <a:pt x="1233" y="3086"/>
                  </a:lnTo>
                  <a:lnTo>
                    <a:pt x="1258" y="3081"/>
                  </a:lnTo>
                  <a:lnTo>
                    <a:pt x="1285" y="3079"/>
                  </a:lnTo>
                  <a:lnTo>
                    <a:pt x="1312" y="3075"/>
                  </a:lnTo>
                  <a:lnTo>
                    <a:pt x="1340" y="3073"/>
                  </a:lnTo>
                  <a:lnTo>
                    <a:pt x="1367" y="3070"/>
                  </a:lnTo>
                  <a:lnTo>
                    <a:pt x="1394" y="3068"/>
                  </a:lnTo>
                  <a:lnTo>
                    <a:pt x="1422" y="3068"/>
                  </a:lnTo>
                  <a:lnTo>
                    <a:pt x="1449" y="3068"/>
                  </a:lnTo>
                  <a:lnTo>
                    <a:pt x="1446" y="3015"/>
                  </a:lnTo>
                  <a:lnTo>
                    <a:pt x="1429" y="3015"/>
                  </a:lnTo>
                  <a:lnTo>
                    <a:pt x="1412" y="3015"/>
                  </a:lnTo>
                  <a:lnTo>
                    <a:pt x="1396" y="3015"/>
                  </a:lnTo>
                  <a:lnTo>
                    <a:pt x="1380" y="3016"/>
                  </a:lnTo>
                  <a:lnTo>
                    <a:pt x="1364" y="3016"/>
                  </a:lnTo>
                  <a:lnTo>
                    <a:pt x="1347" y="3018"/>
                  </a:lnTo>
                  <a:lnTo>
                    <a:pt x="1331" y="3020"/>
                  </a:lnTo>
                  <a:lnTo>
                    <a:pt x="1317" y="3024"/>
                  </a:lnTo>
                  <a:lnTo>
                    <a:pt x="1317" y="30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9200" y="6091200"/>
              <a:ext cx="157680" cy="175680"/>
            </a:xfrm>
            <a:custGeom>
              <a:avLst/>
              <a:gdLst/>
              <a:ahLst/>
              <a:rect l="l" t="t" r="r" b="b"/>
              <a:pathLst>
                <a:path w="1418" h="1825">
                  <a:moveTo>
                    <a:pt x="1365" y="33"/>
                  </a:moveTo>
                  <a:lnTo>
                    <a:pt x="1365" y="215"/>
                  </a:lnTo>
                  <a:lnTo>
                    <a:pt x="1365" y="398"/>
                  </a:lnTo>
                  <a:lnTo>
                    <a:pt x="1365" y="578"/>
                  </a:lnTo>
                  <a:lnTo>
                    <a:pt x="1365" y="760"/>
                  </a:lnTo>
                  <a:lnTo>
                    <a:pt x="1365" y="940"/>
                  </a:lnTo>
                  <a:lnTo>
                    <a:pt x="1365" y="1122"/>
                  </a:lnTo>
                  <a:lnTo>
                    <a:pt x="1365" y="1304"/>
                  </a:lnTo>
                  <a:lnTo>
                    <a:pt x="1367" y="1492"/>
                  </a:lnTo>
                  <a:lnTo>
                    <a:pt x="1217" y="1510"/>
                  </a:lnTo>
                  <a:lnTo>
                    <a:pt x="1074" y="1540"/>
                  </a:lnTo>
                  <a:lnTo>
                    <a:pt x="930" y="1572"/>
                  </a:lnTo>
                  <a:lnTo>
                    <a:pt x="789" y="1611"/>
                  </a:lnTo>
                  <a:lnTo>
                    <a:pt x="645" y="1648"/>
                  </a:lnTo>
                  <a:lnTo>
                    <a:pt x="504" y="1687"/>
                  </a:lnTo>
                  <a:lnTo>
                    <a:pt x="359" y="1721"/>
                  </a:lnTo>
                  <a:lnTo>
                    <a:pt x="216" y="1751"/>
                  </a:lnTo>
                  <a:lnTo>
                    <a:pt x="188" y="1752"/>
                  </a:lnTo>
                  <a:lnTo>
                    <a:pt x="161" y="1757"/>
                  </a:lnTo>
                  <a:lnTo>
                    <a:pt x="134" y="1760"/>
                  </a:lnTo>
                  <a:lnTo>
                    <a:pt x="106" y="1764"/>
                  </a:lnTo>
                  <a:lnTo>
                    <a:pt x="79" y="1765"/>
                  </a:lnTo>
                  <a:lnTo>
                    <a:pt x="52" y="1767"/>
                  </a:lnTo>
                  <a:lnTo>
                    <a:pt x="24" y="1770"/>
                  </a:lnTo>
                  <a:lnTo>
                    <a:pt x="0" y="1773"/>
                  </a:lnTo>
                  <a:lnTo>
                    <a:pt x="5" y="1825"/>
                  </a:lnTo>
                  <a:lnTo>
                    <a:pt x="27" y="1822"/>
                  </a:lnTo>
                  <a:lnTo>
                    <a:pt x="50" y="1820"/>
                  </a:lnTo>
                  <a:lnTo>
                    <a:pt x="72" y="1819"/>
                  </a:lnTo>
                  <a:lnTo>
                    <a:pt x="95" y="1819"/>
                  </a:lnTo>
                  <a:lnTo>
                    <a:pt x="118" y="1815"/>
                  </a:lnTo>
                  <a:lnTo>
                    <a:pt x="141" y="1814"/>
                  </a:lnTo>
                  <a:lnTo>
                    <a:pt x="164" y="1809"/>
                  </a:lnTo>
                  <a:lnTo>
                    <a:pt x="188" y="1808"/>
                  </a:lnTo>
                  <a:lnTo>
                    <a:pt x="336" y="1778"/>
                  </a:lnTo>
                  <a:lnTo>
                    <a:pt x="485" y="1746"/>
                  </a:lnTo>
                  <a:lnTo>
                    <a:pt x="631" y="1707"/>
                  </a:lnTo>
                  <a:lnTo>
                    <a:pt x="776" y="1671"/>
                  </a:lnTo>
                  <a:lnTo>
                    <a:pt x="921" y="1630"/>
                  </a:lnTo>
                  <a:lnTo>
                    <a:pt x="1069" y="1595"/>
                  </a:lnTo>
                  <a:lnTo>
                    <a:pt x="1216" y="1565"/>
                  </a:lnTo>
                  <a:lnTo>
                    <a:pt x="1367" y="1546"/>
                  </a:lnTo>
                  <a:lnTo>
                    <a:pt x="1378" y="1543"/>
                  </a:lnTo>
                  <a:lnTo>
                    <a:pt x="1391" y="1541"/>
                  </a:lnTo>
                  <a:lnTo>
                    <a:pt x="1404" y="1540"/>
                  </a:lnTo>
                  <a:lnTo>
                    <a:pt x="1418" y="1540"/>
                  </a:lnTo>
                  <a:lnTo>
                    <a:pt x="1418" y="1525"/>
                  </a:lnTo>
                  <a:lnTo>
                    <a:pt x="1418" y="1512"/>
                  </a:lnTo>
                  <a:lnTo>
                    <a:pt x="1418" y="1499"/>
                  </a:lnTo>
                  <a:lnTo>
                    <a:pt x="1418" y="1486"/>
                  </a:lnTo>
                  <a:lnTo>
                    <a:pt x="1416" y="1333"/>
                  </a:lnTo>
                  <a:lnTo>
                    <a:pt x="1416" y="1185"/>
                  </a:lnTo>
                  <a:lnTo>
                    <a:pt x="1416" y="1036"/>
                  </a:lnTo>
                  <a:lnTo>
                    <a:pt x="1416" y="887"/>
                  </a:lnTo>
                  <a:lnTo>
                    <a:pt x="1416" y="739"/>
                  </a:lnTo>
                  <a:lnTo>
                    <a:pt x="1416" y="591"/>
                  </a:lnTo>
                  <a:lnTo>
                    <a:pt x="1416" y="445"/>
                  </a:lnTo>
                  <a:lnTo>
                    <a:pt x="1416" y="299"/>
                  </a:lnTo>
                  <a:lnTo>
                    <a:pt x="1365" y="0"/>
                  </a:lnTo>
                  <a:lnTo>
                    <a:pt x="1365" y="17"/>
                  </a:lnTo>
                  <a:lnTo>
                    <a:pt x="1365" y="33"/>
                  </a:lnTo>
                  <a:lnTo>
                    <a:pt x="13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2560" y="6248520"/>
              <a:ext cx="104040" cy="23400"/>
            </a:xfrm>
            <a:custGeom>
              <a:avLst/>
              <a:gdLst/>
              <a:ahLst/>
              <a:rect l="l" t="t" r="r" b="b"/>
              <a:pathLst>
                <a:path w="939" h="244">
                  <a:moveTo>
                    <a:pt x="28" y="244"/>
                  </a:moveTo>
                  <a:lnTo>
                    <a:pt x="143" y="225"/>
                  </a:lnTo>
                  <a:lnTo>
                    <a:pt x="259" y="199"/>
                  </a:lnTo>
                  <a:lnTo>
                    <a:pt x="372" y="169"/>
                  </a:lnTo>
                  <a:lnTo>
                    <a:pt x="485" y="138"/>
                  </a:lnTo>
                  <a:lnTo>
                    <a:pt x="596" y="103"/>
                  </a:lnTo>
                  <a:lnTo>
                    <a:pt x="710" y="69"/>
                  </a:lnTo>
                  <a:lnTo>
                    <a:pt x="823" y="33"/>
                  </a:lnTo>
                  <a:lnTo>
                    <a:pt x="939" y="0"/>
                  </a:lnTo>
                  <a:lnTo>
                    <a:pt x="819" y="28"/>
                  </a:lnTo>
                  <a:lnTo>
                    <a:pt x="702" y="61"/>
                  </a:lnTo>
                  <a:lnTo>
                    <a:pt x="586" y="90"/>
                  </a:lnTo>
                  <a:lnTo>
                    <a:pt x="472" y="122"/>
                  </a:lnTo>
                  <a:lnTo>
                    <a:pt x="354" y="150"/>
                  </a:lnTo>
                  <a:lnTo>
                    <a:pt x="237" y="175"/>
                  </a:lnTo>
                  <a:lnTo>
                    <a:pt x="119" y="195"/>
                  </a:lnTo>
                  <a:lnTo>
                    <a:pt x="0" y="210"/>
                  </a:lnTo>
                  <a:lnTo>
                    <a:pt x="13" y="226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0280" y="6242760"/>
              <a:ext cx="153360" cy="29160"/>
            </a:xfrm>
            <a:custGeom>
              <a:avLst/>
              <a:gdLst/>
              <a:ahLst/>
              <a:rect l="l" t="t" r="r" b="b"/>
              <a:pathLst>
                <a:path w="1375" h="302">
                  <a:moveTo>
                    <a:pt x="1208" y="60"/>
                  </a:moveTo>
                  <a:lnTo>
                    <a:pt x="1228" y="50"/>
                  </a:lnTo>
                  <a:lnTo>
                    <a:pt x="1248" y="43"/>
                  </a:lnTo>
                  <a:lnTo>
                    <a:pt x="1270" y="34"/>
                  </a:lnTo>
                  <a:lnTo>
                    <a:pt x="1291" y="28"/>
                  </a:lnTo>
                  <a:lnTo>
                    <a:pt x="1312" y="21"/>
                  </a:lnTo>
                  <a:lnTo>
                    <a:pt x="1331" y="13"/>
                  </a:lnTo>
                  <a:lnTo>
                    <a:pt x="1354" y="6"/>
                  </a:lnTo>
                  <a:lnTo>
                    <a:pt x="1375" y="0"/>
                  </a:lnTo>
                  <a:lnTo>
                    <a:pt x="1199" y="23"/>
                  </a:lnTo>
                  <a:lnTo>
                    <a:pt x="1026" y="58"/>
                  </a:lnTo>
                  <a:lnTo>
                    <a:pt x="853" y="99"/>
                  </a:lnTo>
                  <a:lnTo>
                    <a:pt x="684" y="144"/>
                  </a:lnTo>
                  <a:lnTo>
                    <a:pt x="513" y="186"/>
                  </a:lnTo>
                  <a:lnTo>
                    <a:pt x="344" y="227"/>
                  </a:lnTo>
                  <a:lnTo>
                    <a:pt x="174" y="260"/>
                  </a:lnTo>
                  <a:lnTo>
                    <a:pt x="0" y="284"/>
                  </a:lnTo>
                  <a:lnTo>
                    <a:pt x="2" y="302"/>
                  </a:lnTo>
                  <a:lnTo>
                    <a:pt x="153" y="284"/>
                  </a:lnTo>
                  <a:lnTo>
                    <a:pt x="304" y="258"/>
                  </a:lnTo>
                  <a:lnTo>
                    <a:pt x="454" y="227"/>
                  </a:lnTo>
                  <a:lnTo>
                    <a:pt x="602" y="193"/>
                  </a:lnTo>
                  <a:lnTo>
                    <a:pt x="752" y="157"/>
                  </a:lnTo>
                  <a:lnTo>
                    <a:pt x="903" y="120"/>
                  </a:lnTo>
                  <a:lnTo>
                    <a:pt x="1053" y="87"/>
                  </a:lnTo>
                  <a:lnTo>
                    <a:pt x="1208" y="60"/>
                  </a:lnTo>
                  <a:lnTo>
                    <a:pt x="120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43120" y="6242760"/>
              <a:ext cx="36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43120" y="6242760"/>
              <a:ext cx="227160" cy="29520"/>
            </a:xfrm>
            <a:custGeom>
              <a:avLst/>
              <a:gdLst/>
              <a:ahLst/>
              <a:rect l="l" t="t" r="r" b="b"/>
              <a:pathLst>
                <a:path w="2037" h="311">
                  <a:moveTo>
                    <a:pt x="1734" y="288"/>
                  </a:moveTo>
                  <a:lnTo>
                    <a:pt x="1515" y="261"/>
                  </a:lnTo>
                  <a:lnTo>
                    <a:pt x="1298" y="220"/>
                  </a:lnTo>
                  <a:lnTo>
                    <a:pt x="1079" y="168"/>
                  </a:lnTo>
                  <a:lnTo>
                    <a:pt x="863" y="116"/>
                  </a:lnTo>
                  <a:lnTo>
                    <a:pt x="645" y="64"/>
                  </a:lnTo>
                  <a:lnTo>
                    <a:pt x="431" y="25"/>
                  </a:lnTo>
                  <a:lnTo>
                    <a:pt x="214" y="1"/>
                  </a:lnTo>
                  <a:lnTo>
                    <a:pt x="0" y="0"/>
                  </a:lnTo>
                  <a:lnTo>
                    <a:pt x="204" y="1"/>
                  </a:lnTo>
                  <a:lnTo>
                    <a:pt x="409" y="27"/>
                  </a:lnTo>
                  <a:lnTo>
                    <a:pt x="613" y="66"/>
                  </a:lnTo>
                  <a:lnTo>
                    <a:pt x="819" y="116"/>
                  </a:lnTo>
                  <a:lnTo>
                    <a:pt x="1024" y="167"/>
                  </a:lnTo>
                  <a:lnTo>
                    <a:pt x="1232" y="218"/>
                  </a:lnTo>
                  <a:lnTo>
                    <a:pt x="1439" y="264"/>
                  </a:lnTo>
                  <a:lnTo>
                    <a:pt x="1648" y="300"/>
                  </a:lnTo>
                  <a:lnTo>
                    <a:pt x="1695" y="303"/>
                  </a:lnTo>
                  <a:lnTo>
                    <a:pt x="1745" y="306"/>
                  </a:lnTo>
                  <a:lnTo>
                    <a:pt x="1794" y="308"/>
                  </a:lnTo>
                  <a:lnTo>
                    <a:pt x="1843" y="311"/>
                  </a:lnTo>
                  <a:lnTo>
                    <a:pt x="1890" y="308"/>
                  </a:lnTo>
                  <a:lnTo>
                    <a:pt x="1939" y="308"/>
                  </a:lnTo>
                  <a:lnTo>
                    <a:pt x="1988" y="305"/>
                  </a:lnTo>
                  <a:lnTo>
                    <a:pt x="2037" y="303"/>
                  </a:lnTo>
                  <a:lnTo>
                    <a:pt x="2035" y="285"/>
                  </a:lnTo>
                  <a:lnTo>
                    <a:pt x="1998" y="287"/>
                  </a:lnTo>
                  <a:lnTo>
                    <a:pt x="1959" y="288"/>
                  </a:lnTo>
                  <a:lnTo>
                    <a:pt x="1921" y="290"/>
                  </a:lnTo>
                  <a:lnTo>
                    <a:pt x="1885" y="292"/>
                  </a:lnTo>
                  <a:lnTo>
                    <a:pt x="1847" y="290"/>
                  </a:lnTo>
                  <a:lnTo>
                    <a:pt x="1808" y="290"/>
                  </a:lnTo>
                  <a:lnTo>
                    <a:pt x="1770" y="288"/>
                  </a:lnTo>
                  <a:lnTo>
                    <a:pt x="1734" y="288"/>
                  </a:lnTo>
                  <a:lnTo>
                    <a:pt x="1734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30120" y="6146640"/>
              <a:ext cx="5040" cy="78480"/>
            </a:xfrm>
            <a:custGeom>
              <a:avLst/>
              <a:gdLst/>
              <a:ahLst/>
              <a:rect l="l" t="t" r="r" b="b"/>
              <a:pathLst>
                <a:path w="46" h="818">
                  <a:moveTo>
                    <a:pt x="9" y="818"/>
                  </a:moveTo>
                  <a:lnTo>
                    <a:pt x="13" y="807"/>
                  </a:lnTo>
                  <a:lnTo>
                    <a:pt x="17" y="796"/>
                  </a:lnTo>
                  <a:lnTo>
                    <a:pt x="22" y="784"/>
                  </a:lnTo>
                  <a:lnTo>
                    <a:pt x="28" y="776"/>
                  </a:lnTo>
                  <a:lnTo>
                    <a:pt x="31" y="765"/>
                  </a:lnTo>
                  <a:lnTo>
                    <a:pt x="35" y="755"/>
                  </a:lnTo>
                  <a:lnTo>
                    <a:pt x="41" y="744"/>
                  </a:lnTo>
                  <a:lnTo>
                    <a:pt x="46" y="735"/>
                  </a:lnTo>
                  <a:lnTo>
                    <a:pt x="38" y="641"/>
                  </a:lnTo>
                  <a:lnTo>
                    <a:pt x="33" y="549"/>
                  </a:lnTo>
                  <a:lnTo>
                    <a:pt x="28" y="458"/>
                  </a:lnTo>
                  <a:lnTo>
                    <a:pt x="22" y="367"/>
                  </a:lnTo>
                  <a:lnTo>
                    <a:pt x="17" y="274"/>
                  </a:lnTo>
                  <a:lnTo>
                    <a:pt x="11" y="184"/>
                  </a:lnTo>
                  <a:lnTo>
                    <a:pt x="5" y="9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2" y="204"/>
                  </a:lnTo>
                  <a:lnTo>
                    <a:pt x="2" y="305"/>
                  </a:lnTo>
                  <a:lnTo>
                    <a:pt x="4" y="408"/>
                  </a:lnTo>
                  <a:lnTo>
                    <a:pt x="4" y="510"/>
                  </a:lnTo>
                  <a:lnTo>
                    <a:pt x="5" y="610"/>
                  </a:lnTo>
                  <a:lnTo>
                    <a:pt x="7" y="713"/>
                  </a:lnTo>
                  <a:lnTo>
                    <a:pt x="9" y="818"/>
                  </a:lnTo>
                  <a:lnTo>
                    <a:pt x="9" y="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0120" y="5945760"/>
              <a:ext cx="5040" cy="167040"/>
            </a:xfrm>
            <a:custGeom>
              <a:avLst/>
              <a:gdLst/>
              <a:ahLst/>
              <a:rect l="l" t="t" r="r" b="b"/>
              <a:pathLst>
                <a:path w="47" h="1731">
                  <a:moveTo>
                    <a:pt x="11" y="0"/>
                  </a:moveTo>
                  <a:lnTo>
                    <a:pt x="9" y="215"/>
                  </a:lnTo>
                  <a:lnTo>
                    <a:pt x="7" y="432"/>
                  </a:lnTo>
                  <a:lnTo>
                    <a:pt x="5" y="646"/>
                  </a:lnTo>
                  <a:lnTo>
                    <a:pt x="5" y="861"/>
                  </a:lnTo>
                  <a:lnTo>
                    <a:pt x="4" y="1076"/>
                  </a:lnTo>
                  <a:lnTo>
                    <a:pt x="2" y="1293"/>
                  </a:lnTo>
                  <a:lnTo>
                    <a:pt x="0" y="1510"/>
                  </a:lnTo>
                  <a:lnTo>
                    <a:pt x="0" y="1731"/>
                  </a:lnTo>
                  <a:lnTo>
                    <a:pt x="5" y="1517"/>
                  </a:lnTo>
                  <a:lnTo>
                    <a:pt x="11" y="1307"/>
                  </a:lnTo>
                  <a:lnTo>
                    <a:pt x="17" y="1098"/>
                  </a:lnTo>
                  <a:lnTo>
                    <a:pt x="23" y="890"/>
                  </a:lnTo>
                  <a:lnTo>
                    <a:pt x="29" y="681"/>
                  </a:lnTo>
                  <a:lnTo>
                    <a:pt x="35" y="474"/>
                  </a:lnTo>
                  <a:lnTo>
                    <a:pt x="41" y="265"/>
                  </a:lnTo>
                  <a:lnTo>
                    <a:pt x="47" y="57"/>
                  </a:lnTo>
                  <a:lnTo>
                    <a:pt x="36" y="42"/>
                  </a:lnTo>
                  <a:lnTo>
                    <a:pt x="29" y="28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35720" y="6075000"/>
              <a:ext cx="15120" cy="34200"/>
            </a:xfrm>
            <a:custGeom>
              <a:avLst/>
              <a:gdLst/>
              <a:ahLst/>
              <a:rect l="l" t="t" r="r" b="b"/>
              <a:pathLst>
                <a:path w="136" h="358">
                  <a:moveTo>
                    <a:pt x="73" y="4"/>
                  </a:moveTo>
                  <a:lnTo>
                    <a:pt x="54" y="0"/>
                  </a:lnTo>
                  <a:lnTo>
                    <a:pt x="42" y="0"/>
                  </a:lnTo>
                  <a:lnTo>
                    <a:pt x="29" y="2"/>
                  </a:lnTo>
                  <a:lnTo>
                    <a:pt x="22" y="9"/>
                  </a:lnTo>
                  <a:lnTo>
                    <a:pt x="17" y="15"/>
                  </a:lnTo>
                  <a:lnTo>
                    <a:pt x="11" y="22"/>
                  </a:lnTo>
                  <a:lnTo>
                    <a:pt x="8" y="31"/>
                  </a:lnTo>
                  <a:lnTo>
                    <a:pt x="6" y="44"/>
                  </a:lnTo>
                  <a:lnTo>
                    <a:pt x="1" y="56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1" y="106"/>
                  </a:lnTo>
                  <a:lnTo>
                    <a:pt x="8" y="130"/>
                  </a:lnTo>
                  <a:lnTo>
                    <a:pt x="20" y="161"/>
                  </a:lnTo>
                  <a:lnTo>
                    <a:pt x="37" y="197"/>
                  </a:lnTo>
                  <a:lnTo>
                    <a:pt x="59" y="236"/>
                  </a:lnTo>
                  <a:lnTo>
                    <a:pt x="78" y="270"/>
                  </a:lnTo>
                  <a:lnTo>
                    <a:pt x="101" y="304"/>
                  </a:lnTo>
                  <a:lnTo>
                    <a:pt x="120" y="335"/>
                  </a:lnTo>
                  <a:lnTo>
                    <a:pt x="136" y="358"/>
                  </a:lnTo>
                  <a:lnTo>
                    <a:pt x="101" y="4"/>
                  </a:lnTo>
                  <a:lnTo>
                    <a:pt x="85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87240" y="5948280"/>
              <a:ext cx="155520" cy="312480"/>
            </a:xfrm>
            <a:custGeom>
              <a:avLst/>
              <a:gdLst/>
              <a:ahLst/>
              <a:rect l="l" t="t" r="r" b="b"/>
              <a:pathLst>
                <a:path w="1396" h="3245">
                  <a:moveTo>
                    <a:pt x="111" y="209"/>
                  </a:moveTo>
                  <a:lnTo>
                    <a:pt x="95" y="211"/>
                  </a:lnTo>
                  <a:lnTo>
                    <a:pt x="82" y="214"/>
                  </a:lnTo>
                  <a:lnTo>
                    <a:pt x="68" y="218"/>
                  </a:lnTo>
                  <a:lnTo>
                    <a:pt x="55" y="222"/>
                  </a:lnTo>
                  <a:lnTo>
                    <a:pt x="40" y="224"/>
                  </a:lnTo>
                  <a:lnTo>
                    <a:pt x="28" y="227"/>
                  </a:lnTo>
                  <a:lnTo>
                    <a:pt x="13" y="230"/>
                  </a:lnTo>
                  <a:lnTo>
                    <a:pt x="0" y="234"/>
                  </a:lnTo>
                  <a:lnTo>
                    <a:pt x="0" y="615"/>
                  </a:lnTo>
                  <a:lnTo>
                    <a:pt x="0" y="995"/>
                  </a:lnTo>
                  <a:lnTo>
                    <a:pt x="0" y="1370"/>
                  </a:lnTo>
                  <a:lnTo>
                    <a:pt x="3" y="1745"/>
                  </a:lnTo>
                  <a:lnTo>
                    <a:pt x="3" y="2115"/>
                  </a:lnTo>
                  <a:lnTo>
                    <a:pt x="3" y="2490"/>
                  </a:lnTo>
                  <a:lnTo>
                    <a:pt x="3" y="2865"/>
                  </a:lnTo>
                  <a:lnTo>
                    <a:pt x="5" y="3245"/>
                  </a:lnTo>
                  <a:lnTo>
                    <a:pt x="17" y="3242"/>
                  </a:lnTo>
                  <a:lnTo>
                    <a:pt x="32" y="3242"/>
                  </a:lnTo>
                  <a:lnTo>
                    <a:pt x="45" y="3238"/>
                  </a:lnTo>
                  <a:lnTo>
                    <a:pt x="59" y="3238"/>
                  </a:lnTo>
                  <a:lnTo>
                    <a:pt x="71" y="3235"/>
                  </a:lnTo>
                  <a:lnTo>
                    <a:pt x="87" y="3235"/>
                  </a:lnTo>
                  <a:lnTo>
                    <a:pt x="101" y="3231"/>
                  </a:lnTo>
                  <a:lnTo>
                    <a:pt x="116" y="3231"/>
                  </a:lnTo>
                  <a:lnTo>
                    <a:pt x="261" y="3201"/>
                  </a:lnTo>
                  <a:lnTo>
                    <a:pt x="404" y="3169"/>
                  </a:lnTo>
                  <a:lnTo>
                    <a:pt x="546" y="3130"/>
                  </a:lnTo>
                  <a:lnTo>
                    <a:pt x="689" y="3093"/>
                  </a:lnTo>
                  <a:lnTo>
                    <a:pt x="832" y="3055"/>
                  </a:lnTo>
                  <a:lnTo>
                    <a:pt x="974" y="3021"/>
                  </a:lnTo>
                  <a:lnTo>
                    <a:pt x="1117" y="2992"/>
                  </a:lnTo>
                  <a:lnTo>
                    <a:pt x="1267" y="2972"/>
                  </a:lnTo>
                  <a:lnTo>
                    <a:pt x="1281" y="2968"/>
                  </a:lnTo>
                  <a:lnTo>
                    <a:pt x="1297" y="2966"/>
                  </a:lnTo>
                  <a:lnTo>
                    <a:pt x="1314" y="2964"/>
                  </a:lnTo>
                  <a:lnTo>
                    <a:pt x="1330" y="2964"/>
                  </a:lnTo>
                  <a:lnTo>
                    <a:pt x="1346" y="2963"/>
                  </a:lnTo>
                  <a:lnTo>
                    <a:pt x="1362" y="2963"/>
                  </a:lnTo>
                  <a:lnTo>
                    <a:pt x="1379" y="2963"/>
                  </a:lnTo>
                  <a:lnTo>
                    <a:pt x="1396" y="2963"/>
                  </a:lnTo>
                  <a:lnTo>
                    <a:pt x="1206" y="0"/>
                  </a:lnTo>
                  <a:lnTo>
                    <a:pt x="1064" y="3"/>
                  </a:lnTo>
                  <a:lnTo>
                    <a:pt x="926" y="18"/>
                  </a:lnTo>
                  <a:lnTo>
                    <a:pt x="790" y="39"/>
                  </a:lnTo>
                  <a:lnTo>
                    <a:pt x="655" y="69"/>
                  </a:lnTo>
                  <a:lnTo>
                    <a:pt x="519" y="100"/>
                  </a:lnTo>
                  <a:lnTo>
                    <a:pt x="385" y="135"/>
                  </a:lnTo>
                  <a:lnTo>
                    <a:pt x="248" y="172"/>
                  </a:lnTo>
                  <a:lnTo>
                    <a:pt x="111" y="209"/>
                  </a:lnTo>
                  <a:lnTo>
                    <a:pt x="111" y="20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3400" y="5948280"/>
              <a:ext cx="28440" cy="142560"/>
            </a:xfrm>
            <a:custGeom>
              <a:avLst/>
              <a:gdLst/>
              <a:ahLst/>
              <a:rect l="l" t="t" r="r" b="b"/>
              <a:pathLst>
                <a:path w="255" h="1479">
                  <a:moveTo>
                    <a:pt x="253" y="1476"/>
                  </a:moveTo>
                  <a:lnTo>
                    <a:pt x="253" y="1465"/>
                  </a:lnTo>
                  <a:lnTo>
                    <a:pt x="253" y="1455"/>
                  </a:lnTo>
                  <a:lnTo>
                    <a:pt x="253" y="1444"/>
                  </a:lnTo>
                  <a:lnTo>
                    <a:pt x="253" y="1437"/>
                  </a:lnTo>
                  <a:lnTo>
                    <a:pt x="253" y="1253"/>
                  </a:lnTo>
                  <a:lnTo>
                    <a:pt x="253" y="1073"/>
                  </a:lnTo>
                  <a:lnTo>
                    <a:pt x="253" y="893"/>
                  </a:lnTo>
                  <a:lnTo>
                    <a:pt x="253" y="716"/>
                  </a:lnTo>
                  <a:lnTo>
                    <a:pt x="253" y="538"/>
                  </a:lnTo>
                  <a:lnTo>
                    <a:pt x="253" y="361"/>
                  </a:lnTo>
                  <a:lnTo>
                    <a:pt x="253" y="180"/>
                  </a:lnTo>
                  <a:lnTo>
                    <a:pt x="255" y="2"/>
                  </a:lnTo>
                  <a:lnTo>
                    <a:pt x="222" y="0"/>
                  </a:lnTo>
                  <a:lnTo>
                    <a:pt x="189" y="0"/>
                  </a:lnTo>
                  <a:lnTo>
                    <a:pt x="157" y="0"/>
                  </a:lnTo>
                  <a:lnTo>
                    <a:pt x="126" y="0"/>
                  </a:lnTo>
                  <a:lnTo>
                    <a:pt x="93" y="0"/>
                  </a:lnTo>
                  <a:lnTo>
                    <a:pt x="62" y="4"/>
                  </a:lnTo>
                  <a:lnTo>
                    <a:pt x="31" y="5"/>
                  </a:lnTo>
                  <a:lnTo>
                    <a:pt x="0" y="9"/>
                  </a:lnTo>
                  <a:lnTo>
                    <a:pt x="253" y="1479"/>
                  </a:lnTo>
                  <a:lnTo>
                    <a:pt x="253" y="1478"/>
                  </a:lnTo>
                  <a:lnTo>
                    <a:pt x="253" y="1476"/>
                  </a:lnTo>
                  <a:lnTo>
                    <a:pt x="253" y="14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21880" y="5948280"/>
              <a:ext cx="247320" cy="313920"/>
            </a:xfrm>
            <a:custGeom>
              <a:avLst/>
              <a:gdLst/>
              <a:ahLst/>
              <a:rect l="l" t="t" r="r" b="b"/>
              <a:pathLst>
                <a:path w="2222" h="3255">
                  <a:moveTo>
                    <a:pt x="2042" y="1735"/>
                  </a:moveTo>
                  <a:lnTo>
                    <a:pt x="2032" y="1737"/>
                  </a:lnTo>
                  <a:lnTo>
                    <a:pt x="2024" y="1739"/>
                  </a:lnTo>
                  <a:lnTo>
                    <a:pt x="2011" y="1739"/>
                  </a:lnTo>
                  <a:lnTo>
                    <a:pt x="1996" y="1734"/>
                  </a:lnTo>
                  <a:lnTo>
                    <a:pt x="1985" y="1727"/>
                  </a:lnTo>
                  <a:lnTo>
                    <a:pt x="1974" y="1724"/>
                  </a:lnTo>
                  <a:lnTo>
                    <a:pt x="1960" y="1722"/>
                  </a:lnTo>
                  <a:lnTo>
                    <a:pt x="1947" y="1722"/>
                  </a:lnTo>
                  <a:lnTo>
                    <a:pt x="1931" y="1721"/>
                  </a:lnTo>
                  <a:lnTo>
                    <a:pt x="1916" y="1722"/>
                  </a:lnTo>
                  <a:lnTo>
                    <a:pt x="1902" y="1727"/>
                  </a:lnTo>
                  <a:lnTo>
                    <a:pt x="1889" y="1735"/>
                  </a:lnTo>
                  <a:lnTo>
                    <a:pt x="1866" y="1740"/>
                  </a:lnTo>
                  <a:lnTo>
                    <a:pt x="1850" y="1748"/>
                  </a:lnTo>
                  <a:lnTo>
                    <a:pt x="1834" y="1748"/>
                  </a:lnTo>
                  <a:lnTo>
                    <a:pt x="1821" y="1750"/>
                  </a:lnTo>
                  <a:lnTo>
                    <a:pt x="1808" y="1748"/>
                  </a:lnTo>
                  <a:lnTo>
                    <a:pt x="1802" y="1747"/>
                  </a:lnTo>
                  <a:lnTo>
                    <a:pt x="1796" y="1745"/>
                  </a:lnTo>
                  <a:lnTo>
                    <a:pt x="1794" y="1745"/>
                  </a:lnTo>
                  <a:lnTo>
                    <a:pt x="1789" y="1740"/>
                  </a:lnTo>
                  <a:lnTo>
                    <a:pt x="1784" y="1740"/>
                  </a:lnTo>
                  <a:lnTo>
                    <a:pt x="1781" y="1735"/>
                  </a:lnTo>
                  <a:lnTo>
                    <a:pt x="1779" y="1732"/>
                  </a:lnTo>
                  <a:lnTo>
                    <a:pt x="1773" y="1721"/>
                  </a:lnTo>
                  <a:lnTo>
                    <a:pt x="1760" y="1711"/>
                  </a:lnTo>
                  <a:lnTo>
                    <a:pt x="1744" y="1701"/>
                  </a:lnTo>
                  <a:lnTo>
                    <a:pt x="1728" y="1691"/>
                  </a:lnTo>
                  <a:lnTo>
                    <a:pt x="1712" y="1685"/>
                  </a:lnTo>
                  <a:lnTo>
                    <a:pt x="1702" y="1684"/>
                  </a:lnTo>
                  <a:lnTo>
                    <a:pt x="1689" y="1682"/>
                  </a:lnTo>
                  <a:lnTo>
                    <a:pt x="1679" y="1682"/>
                  </a:lnTo>
                  <a:lnTo>
                    <a:pt x="1668" y="1682"/>
                  </a:lnTo>
                  <a:lnTo>
                    <a:pt x="1660" y="1684"/>
                  </a:lnTo>
                  <a:lnTo>
                    <a:pt x="1650" y="1685"/>
                  </a:lnTo>
                  <a:lnTo>
                    <a:pt x="1645" y="1691"/>
                  </a:lnTo>
                  <a:lnTo>
                    <a:pt x="1634" y="1701"/>
                  </a:lnTo>
                  <a:lnTo>
                    <a:pt x="1626" y="1713"/>
                  </a:lnTo>
                  <a:lnTo>
                    <a:pt x="1620" y="1726"/>
                  </a:lnTo>
                  <a:lnTo>
                    <a:pt x="1618" y="1740"/>
                  </a:lnTo>
                  <a:lnTo>
                    <a:pt x="1614" y="1753"/>
                  </a:lnTo>
                  <a:lnTo>
                    <a:pt x="1614" y="1768"/>
                  </a:lnTo>
                  <a:lnTo>
                    <a:pt x="1614" y="1779"/>
                  </a:lnTo>
                  <a:lnTo>
                    <a:pt x="1615" y="1790"/>
                  </a:lnTo>
                  <a:lnTo>
                    <a:pt x="1615" y="1792"/>
                  </a:lnTo>
                  <a:lnTo>
                    <a:pt x="1615" y="1796"/>
                  </a:lnTo>
                  <a:lnTo>
                    <a:pt x="1614" y="1798"/>
                  </a:lnTo>
                  <a:lnTo>
                    <a:pt x="1614" y="1802"/>
                  </a:lnTo>
                  <a:lnTo>
                    <a:pt x="1609" y="1807"/>
                  </a:lnTo>
                  <a:lnTo>
                    <a:pt x="1604" y="1818"/>
                  </a:lnTo>
                  <a:lnTo>
                    <a:pt x="1596" y="1829"/>
                  </a:lnTo>
                  <a:lnTo>
                    <a:pt x="1589" y="1842"/>
                  </a:lnTo>
                  <a:lnTo>
                    <a:pt x="1578" y="1851"/>
                  </a:lnTo>
                  <a:lnTo>
                    <a:pt x="1567" y="1860"/>
                  </a:lnTo>
                  <a:lnTo>
                    <a:pt x="1552" y="1865"/>
                  </a:lnTo>
                  <a:lnTo>
                    <a:pt x="1539" y="1872"/>
                  </a:lnTo>
                  <a:lnTo>
                    <a:pt x="1525" y="1872"/>
                  </a:lnTo>
                  <a:lnTo>
                    <a:pt x="1510" y="1873"/>
                  </a:lnTo>
                  <a:lnTo>
                    <a:pt x="1494" y="1875"/>
                  </a:lnTo>
                  <a:lnTo>
                    <a:pt x="1478" y="1880"/>
                  </a:lnTo>
                  <a:lnTo>
                    <a:pt x="1457" y="1884"/>
                  </a:lnTo>
                  <a:lnTo>
                    <a:pt x="1441" y="1890"/>
                  </a:lnTo>
                  <a:lnTo>
                    <a:pt x="1425" y="1897"/>
                  </a:lnTo>
                  <a:lnTo>
                    <a:pt x="1410" y="1906"/>
                  </a:lnTo>
                  <a:lnTo>
                    <a:pt x="1380" y="1914"/>
                  </a:lnTo>
                  <a:lnTo>
                    <a:pt x="1338" y="1919"/>
                  </a:lnTo>
                  <a:lnTo>
                    <a:pt x="1287" y="1919"/>
                  </a:lnTo>
                  <a:lnTo>
                    <a:pt x="1230" y="1917"/>
                  </a:lnTo>
                  <a:lnTo>
                    <a:pt x="1172" y="1910"/>
                  </a:lnTo>
                  <a:lnTo>
                    <a:pt x="1118" y="1904"/>
                  </a:lnTo>
                  <a:lnTo>
                    <a:pt x="1068" y="1897"/>
                  </a:lnTo>
                  <a:lnTo>
                    <a:pt x="1032" y="1891"/>
                  </a:lnTo>
                  <a:lnTo>
                    <a:pt x="1007" y="1886"/>
                  </a:lnTo>
                  <a:lnTo>
                    <a:pt x="989" y="1888"/>
                  </a:lnTo>
                  <a:lnTo>
                    <a:pt x="972" y="1891"/>
                  </a:lnTo>
                  <a:lnTo>
                    <a:pt x="961" y="1899"/>
                  </a:lnTo>
                  <a:lnTo>
                    <a:pt x="950" y="1906"/>
                  </a:lnTo>
                  <a:lnTo>
                    <a:pt x="945" y="1914"/>
                  </a:lnTo>
                  <a:lnTo>
                    <a:pt x="939" y="1917"/>
                  </a:lnTo>
                  <a:lnTo>
                    <a:pt x="939" y="1922"/>
                  </a:lnTo>
                  <a:lnTo>
                    <a:pt x="932" y="1938"/>
                  </a:lnTo>
                  <a:lnTo>
                    <a:pt x="924" y="1953"/>
                  </a:lnTo>
                  <a:lnTo>
                    <a:pt x="917" y="1963"/>
                  </a:lnTo>
                  <a:lnTo>
                    <a:pt x="909" y="1974"/>
                  </a:lnTo>
                  <a:lnTo>
                    <a:pt x="891" y="1984"/>
                  </a:lnTo>
                  <a:lnTo>
                    <a:pt x="874" y="1987"/>
                  </a:lnTo>
                  <a:lnTo>
                    <a:pt x="861" y="1982"/>
                  </a:lnTo>
                  <a:lnTo>
                    <a:pt x="850" y="1974"/>
                  </a:lnTo>
                  <a:lnTo>
                    <a:pt x="844" y="1967"/>
                  </a:lnTo>
                  <a:lnTo>
                    <a:pt x="839" y="1959"/>
                  </a:lnTo>
                  <a:lnTo>
                    <a:pt x="833" y="1950"/>
                  </a:lnTo>
                  <a:lnTo>
                    <a:pt x="829" y="1941"/>
                  </a:lnTo>
                  <a:lnTo>
                    <a:pt x="819" y="1925"/>
                  </a:lnTo>
                  <a:lnTo>
                    <a:pt x="809" y="1910"/>
                  </a:lnTo>
                  <a:lnTo>
                    <a:pt x="797" y="1899"/>
                  </a:lnTo>
                  <a:lnTo>
                    <a:pt x="784" y="1890"/>
                  </a:lnTo>
                  <a:lnTo>
                    <a:pt x="769" y="1878"/>
                  </a:lnTo>
                  <a:lnTo>
                    <a:pt x="758" y="1873"/>
                  </a:lnTo>
                  <a:lnTo>
                    <a:pt x="748" y="1868"/>
                  </a:lnTo>
                  <a:lnTo>
                    <a:pt x="742" y="1868"/>
                  </a:lnTo>
                  <a:lnTo>
                    <a:pt x="642" y="1852"/>
                  </a:lnTo>
                  <a:lnTo>
                    <a:pt x="558" y="1833"/>
                  </a:lnTo>
                  <a:lnTo>
                    <a:pt x="486" y="1805"/>
                  </a:lnTo>
                  <a:lnTo>
                    <a:pt x="428" y="1774"/>
                  </a:lnTo>
                  <a:lnTo>
                    <a:pt x="378" y="1740"/>
                  </a:lnTo>
                  <a:lnTo>
                    <a:pt x="344" y="1709"/>
                  </a:lnTo>
                  <a:lnTo>
                    <a:pt x="320" y="1680"/>
                  </a:lnTo>
                  <a:lnTo>
                    <a:pt x="307" y="1659"/>
                  </a:lnTo>
                  <a:lnTo>
                    <a:pt x="301" y="1640"/>
                  </a:lnTo>
                  <a:lnTo>
                    <a:pt x="295" y="1622"/>
                  </a:lnTo>
                  <a:lnTo>
                    <a:pt x="289" y="1601"/>
                  </a:lnTo>
                  <a:lnTo>
                    <a:pt x="283" y="1583"/>
                  </a:lnTo>
                  <a:lnTo>
                    <a:pt x="278" y="1570"/>
                  </a:lnTo>
                  <a:lnTo>
                    <a:pt x="275" y="1557"/>
                  </a:lnTo>
                  <a:lnTo>
                    <a:pt x="272" y="1544"/>
                  </a:lnTo>
                  <a:lnTo>
                    <a:pt x="267" y="1534"/>
                  </a:lnTo>
                  <a:lnTo>
                    <a:pt x="264" y="1522"/>
                  </a:lnTo>
                  <a:lnTo>
                    <a:pt x="260" y="1513"/>
                  </a:lnTo>
                  <a:lnTo>
                    <a:pt x="257" y="1506"/>
                  </a:lnTo>
                  <a:lnTo>
                    <a:pt x="257" y="1502"/>
                  </a:lnTo>
                  <a:lnTo>
                    <a:pt x="249" y="1487"/>
                  </a:lnTo>
                  <a:lnTo>
                    <a:pt x="248" y="1474"/>
                  </a:lnTo>
                  <a:lnTo>
                    <a:pt x="248" y="1459"/>
                  </a:lnTo>
                  <a:lnTo>
                    <a:pt x="249" y="1445"/>
                  </a:lnTo>
                  <a:lnTo>
                    <a:pt x="249" y="1427"/>
                  </a:lnTo>
                  <a:lnTo>
                    <a:pt x="251" y="1409"/>
                  </a:lnTo>
                  <a:lnTo>
                    <a:pt x="249" y="1397"/>
                  </a:lnTo>
                  <a:lnTo>
                    <a:pt x="249" y="1386"/>
                  </a:lnTo>
                  <a:lnTo>
                    <a:pt x="248" y="1375"/>
                  </a:lnTo>
                  <a:lnTo>
                    <a:pt x="248" y="1367"/>
                  </a:lnTo>
                  <a:lnTo>
                    <a:pt x="240" y="1346"/>
                  </a:lnTo>
                  <a:lnTo>
                    <a:pt x="233" y="1331"/>
                  </a:lnTo>
                  <a:lnTo>
                    <a:pt x="228" y="1316"/>
                  </a:lnTo>
                  <a:lnTo>
                    <a:pt x="222" y="1307"/>
                  </a:lnTo>
                  <a:lnTo>
                    <a:pt x="214" y="1294"/>
                  </a:lnTo>
                  <a:lnTo>
                    <a:pt x="211" y="1291"/>
                  </a:lnTo>
                  <a:lnTo>
                    <a:pt x="196" y="1278"/>
                  </a:lnTo>
                  <a:lnTo>
                    <a:pt x="183" y="1260"/>
                  </a:lnTo>
                  <a:lnTo>
                    <a:pt x="177" y="1247"/>
                  </a:lnTo>
                  <a:lnTo>
                    <a:pt x="175" y="1235"/>
                  </a:lnTo>
                  <a:lnTo>
                    <a:pt x="175" y="1224"/>
                  </a:lnTo>
                  <a:lnTo>
                    <a:pt x="180" y="1214"/>
                  </a:lnTo>
                  <a:lnTo>
                    <a:pt x="186" y="1203"/>
                  </a:lnTo>
                  <a:lnTo>
                    <a:pt x="195" y="1197"/>
                  </a:lnTo>
                  <a:lnTo>
                    <a:pt x="206" y="1193"/>
                  </a:lnTo>
                  <a:lnTo>
                    <a:pt x="217" y="1193"/>
                  </a:lnTo>
                  <a:lnTo>
                    <a:pt x="225" y="1193"/>
                  </a:lnTo>
                  <a:lnTo>
                    <a:pt x="236" y="1195"/>
                  </a:lnTo>
                  <a:lnTo>
                    <a:pt x="246" y="1199"/>
                  </a:lnTo>
                  <a:lnTo>
                    <a:pt x="254" y="1203"/>
                  </a:lnTo>
                  <a:lnTo>
                    <a:pt x="259" y="1201"/>
                  </a:lnTo>
                  <a:lnTo>
                    <a:pt x="270" y="1201"/>
                  </a:lnTo>
                  <a:lnTo>
                    <a:pt x="280" y="1199"/>
                  </a:lnTo>
                  <a:lnTo>
                    <a:pt x="295" y="1197"/>
                  </a:lnTo>
                  <a:lnTo>
                    <a:pt x="306" y="1193"/>
                  </a:lnTo>
                  <a:lnTo>
                    <a:pt x="318" y="1191"/>
                  </a:lnTo>
                  <a:lnTo>
                    <a:pt x="328" y="1190"/>
                  </a:lnTo>
                  <a:lnTo>
                    <a:pt x="336" y="1188"/>
                  </a:lnTo>
                  <a:lnTo>
                    <a:pt x="351" y="1180"/>
                  </a:lnTo>
                  <a:lnTo>
                    <a:pt x="370" y="1177"/>
                  </a:lnTo>
                  <a:lnTo>
                    <a:pt x="378" y="1175"/>
                  </a:lnTo>
                  <a:lnTo>
                    <a:pt x="389" y="1175"/>
                  </a:lnTo>
                  <a:lnTo>
                    <a:pt x="399" y="1173"/>
                  </a:lnTo>
                  <a:lnTo>
                    <a:pt x="409" y="1173"/>
                  </a:lnTo>
                  <a:lnTo>
                    <a:pt x="420" y="1172"/>
                  </a:lnTo>
                  <a:lnTo>
                    <a:pt x="431" y="1172"/>
                  </a:lnTo>
                  <a:lnTo>
                    <a:pt x="435" y="1172"/>
                  </a:lnTo>
                  <a:lnTo>
                    <a:pt x="441" y="1172"/>
                  </a:lnTo>
                  <a:lnTo>
                    <a:pt x="447" y="1169"/>
                  </a:lnTo>
                  <a:lnTo>
                    <a:pt x="457" y="1167"/>
                  </a:lnTo>
                  <a:lnTo>
                    <a:pt x="468" y="1166"/>
                  </a:lnTo>
                  <a:lnTo>
                    <a:pt x="478" y="1166"/>
                  </a:lnTo>
                  <a:lnTo>
                    <a:pt x="489" y="1162"/>
                  </a:lnTo>
                  <a:lnTo>
                    <a:pt x="504" y="1160"/>
                  </a:lnTo>
                  <a:lnTo>
                    <a:pt x="517" y="1154"/>
                  </a:lnTo>
                  <a:lnTo>
                    <a:pt x="533" y="1151"/>
                  </a:lnTo>
                  <a:lnTo>
                    <a:pt x="552" y="1141"/>
                  </a:lnTo>
                  <a:lnTo>
                    <a:pt x="573" y="1135"/>
                  </a:lnTo>
                  <a:lnTo>
                    <a:pt x="595" y="1129"/>
                  </a:lnTo>
                  <a:lnTo>
                    <a:pt x="618" y="1129"/>
                  </a:lnTo>
                  <a:lnTo>
                    <a:pt x="642" y="1129"/>
                  </a:lnTo>
                  <a:lnTo>
                    <a:pt x="668" y="1136"/>
                  </a:lnTo>
                  <a:lnTo>
                    <a:pt x="693" y="1148"/>
                  </a:lnTo>
                  <a:lnTo>
                    <a:pt x="721" y="1166"/>
                  </a:lnTo>
                  <a:lnTo>
                    <a:pt x="724" y="1166"/>
                  </a:lnTo>
                  <a:lnTo>
                    <a:pt x="727" y="1167"/>
                  </a:lnTo>
                  <a:lnTo>
                    <a:pt x="735" y="1162"/>
                  </a:lnTo>
                  <a:lnTo>
                    <a:pt x="745" y="1157"/>
                  </a:lnTo>
                  <a:lnTo>
                    <a:pt x="755" y="1146"/>
                  </a:lnTo>
                  <a:lnTo>
                    <a:pt x="764" y="1136"/>
                  </a:lnTo>
                  <a:lnTo>
                    <a:pt x="773" y="1123"/>
                  </a:lnTo>
                  <a:lnTo>
                    <a:pt x="782" y="1112"/>
                  </a:lnTo>
                  <a:lnTo>
                    <a:pt x="790" y="1102"/>
                  </a:lnTo>
                  <a:lnTo>
                    <a:pt x="797" y="1092"/>
                  </a:lnTo>
                  <a:lnTo>
                    <a:pt x="802" y="1081"/>
                  </a:lnTo>
                  <a:lnTo>
                    <a:pt x="809" y="1070"/>
                  </a:lnTo>
                  <a:lnTo>
                    <a:pt x="813" y="1060"/>
                  </a:lnTo>
                  <a:lnTo>
                    <a:pt x="819" y="1048"/>
                  </a:lnTo>
                  <a:lnTo>
                    <a:pt x="822" y="1032"/>
                  </a:lnTo>
                  <a:lnTo>
                    <a:pt x="829" y="1019"/>
                  </a:lnTo>
                  <a:lnTo>
                    <a:pt x="839" y="1006"/>
                  </a:lnTo>
                  <a:lnTo>
                    <a:pt x="855" y="1000"/>
                  </a:lnTo>
                  <a:lnTo>
                    <a:pt x="866" y="998"/>
                  </a:lnTo>
                  <a:lnTo>
                    <a:pt x="877" y="1000"/>
                  </a:lnTo>
                  <a:lnTo>
                    <a:pt x="888" y="1005"/>
                  </a:lnTo>
                  <a:lnTo>
                    <a:pt x="904" y="1013"/>
                  </a:lnTo>
                  <a:lnTo>
                    <a:pt x="932" y="1024"/>
                  </a:lnTo>
                  <a:lnTo>
                    <a:pt x="978" y="1045"/>
                  </a:lnTo>
                  <a:lnTo>
                    <a:pt x="1037" y="1067"/>
                  </a:lnTo>
                  <a:lnTo>
                    <a:pt x="1106" y="1092"/>
                  </a:lnTo>
                  <a:lnTo>
                    <a:pt x="1174" y="1115"/>
                  </a:lnTo>
                  <a:lnTo>
                    <a:pt x="1237" y="1136"/>
                  </a:lnTo>
                  <a:lnTo>
                    <a:pt x="1292" y="1153"/>
                  </a:lnTo>
                  <a:lnTo>
                    <a:pt x="1332" y="1166"/>
                  </a:lnTo>
                  <a:lnTo>
                    <a:pt x="1374" y="1169"/>
                  </a:lnTo>
                  <a:lnTo>
                    <a:pt x="1441" y="1175"/>
                  </a:lnTo>
                  <a:lnTo>
                    <a:pt x="1523" y="1179"/>
                  </a:lnTo>
                  <a:lnTo>
                    <a:pt x="1615" y="1182"/>
                  </a:lnTo>
                  <a:lnTo>
                    <a:pt x="1707" y="1182"/>
                  </a:lnTo>
                  <a:lnTo>
                    <a:pt x="1790" y="1182"/>
                  </a:lnTo>
                  <a:lnTo>
                    <a:pt x="1856" y="1179"/>
                  </a:lnTo>
                  <a:lnTo>
                    <a:pt x="1902" y="1175"/>
                  </a:lnTo>
                  <a:lnTo>
                    <a:pt x="1916" y="1167"/>
                  </a:lnTo>
                  <a:lnTo>
                    <a:pt x="1932" y="1162"/>
                  </a:lnTo>
                  <a:lnTo>
                    <a:pt x="1947" y="1157"/>
                  </a:lnTo>
                  <a:lnTo>
                    <a:pt x="1961" y="1151"/>
                  </a:lnTo>
                  <a:lnTo>
                    <a:pt x="1972" y="1144"/>
                  </a:lnTo>
                  <a:lnTo>
                    <a:pt x="1984" y="1136"/>
                  </a:lnTo>
                  <a:lnTo>
                    <a:pt x="1994" y="1129"/>
                  </a:lnTo>
                  <a:lnTo>
                    <a:pt x="2005" y="1122"/>
                  </a:lnTo>
                  <a:lnTo>
                    <a:pt x="1919" y="289"/>
                  </a:lnTo>
                  <a:lnTo>
                    <a:pt x="1837" y="293"/>
                  </a:lnTo>
                  <a:lnTo>
                    <a:pt x="1755" y="293"/>
                  </a:lnTo>
                  <a:lnTo>
                    <a:pt x="1674" y="292"/>
                  </a:lnTo>
                  <a:lnTo>
                    <a:pt x="1594" y="287"/>
                  </a:lnTo>
                  <a:lnTo>
                    <a:pt x="1510" y="281"/>
                  </a:lnTo>
                  <a:lnTo>
                    <a:pt x="1428" y="269"/>
                  </a:lnTo>
                  <a:lnTo>
                    <a:pt x="1345" y="256"/>
                  </a:lnTo>
                  <a:lnTo>
                    <a:pt x="1261" y="242"/>
                  </a:lnTo>
                  <a:lnTo>
                    <a:pt x="1108" y="206"/>
                  </a:lnTo>
                  <a:lnTo>
                    <a:pt x="955" y="170"/>
                  </a:lnTo>
                  <a:lnTo>
                    <a:pt x="806" y="131"/>
                  </a:lnTo>
                  <a:lnTo>
                    <a:pt x="658" y="94"/>
                  </a:lnTo>
                  <a:lnTo>
                    <a:pt x="507" y="60"/>
                  </a:lnTo>
                  <a:lnTo>
                    <a:pt x="359" y="32"/>
                  </a:lnTo>
                  <a:lnTo>
                    <a:pt x="209" y="10"/>
                  </a:lnTo>
                  <a:lnTo>
                    <a:pt x="61" y="1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90" y="2963"/>
                  </a:lnTo>
                  <a:lnTo>
                    <a:pt x="320" y="2961"/>
                  </a:lnTo>
                  <a:lnTo>
                    <a:pt x="451" y="2968"/>
                  </a:lnTo>
                  <a:lnTo>
                    <a:pt x="582" y="2982"/>
                  </a:lnTo>
                  <a:lnTo>
                    <a:pt x="715" y="3003"/>
                  </a:lnTo>
                  <a:lnTo>
                    <a:pt x="846" y="3027"/>
                  </a:lnTo>
                  <a:lnTo>
                    <a:pt x="979" y="3058"/>
                  </a:lnTo>
                  <a:lnTo>
                    <a:pt x="1114" y="3089"/>
                  </a:lnTo>
                  <a:lnTo>
                    <a:pt x="1250" y="3126"/>
                  </a:lnTo>
                  <a:lnTo>
                    <a:pt x="1374" y="3156"/>
                  </a:lnTo>
                  <a:lnTo>
                    <a:pt x="1498" y="3183"/>
                  </a:lnTo>
                  <a:lnTo>
                    <a:pt x="1620" y="3207"/>
                  </a:lnTo>
                  <a:lnTo>
                    <a:pt x="1741" y="3227"/>
                  </a:lnTo>
                  <a:lnTo>
                    <a:pt x="1861" y="3242"/>
                  </a:lnTo>
                  <a:lnTo>
                    <a:pt x="1982" y="3251"/>
                  </a:lnTo>
                  <a:lnTo>
                    <a:pt x="2101" y="3255"/>
                  </a:lnTo>
                  <a:lnTo>
                    <a:pt x="2222" y="3253"/>
                  </a:lnTo>
                  <a:lnTo>
                    <a:pt x="2063" y="1697"/>
                  </a:lnTo>
                  <a:lnTo>
                    <a:pt x="2059" y="1704"/>
                  </a:lnTo>
                  <a:lnTo>
                    <a:pt x="2056" y="1716"/>
                  </a:lnTo>
                  <a:lnTo>
                    <a:pt x="2048" y="1724"/>
                  </a:lnTo>
                  <a:lnTo>
                    <a:pt x="2042" y="1735"/>
                  </a:lnTo>
                  <a:lnTo>
                    <a:pt x="2042" y="1735"/>
                  </a:lnTo>
                  <a:close/>
                  <a:moveTo>
                    <a:pt x="1860" y="2415"/>
                  </a:moveTo>
                  <a:lnTo>
                    <a:pt x="1852" y="2430"/>
                  </a:lnTo>
                  <a:lnTo>
                    <a:pt x="1843" y="2446"/>
                  </a:lnTo>
                  <a:lnTo>
                    <a:pt x="1829" y="2459"/>
                  </a:lnTo>
                  <a:lnTo>
                    <a:pt x="1812" y="2474"/>
                  </a:lnTo>
                  <a:lnTo>
                    <a:pt x="1825" y="2490"/>
                  </a:lnTo>
                  <a:lnTo>
                    <a:pt x="1834" y="2507"/>
                  </a:lnTo>
                  <a:lnTo>
                    <a:pt x="1837" y="2520"/>
                  </a:lnTo>
                  <a:lnTo>
                    <a:pt x="1843" y="2533"/>
                  </a:lnTo>
                  <a:lnTo>
                    <a:pt x="1831" y="2536"/>
                  </a:lnTo>
                  <a:lnTo>
                    <a:pt x="1820" y="2540"/>
                  </a:lnTo>
                  <a:lnTo>
                    <a:pt x="1807" y="2542"/>
                  </a:lnTo>
                  <a:lnTo>
                    <a:pt x="1796" y="2545"/>
                  </a:lnTo>
                  <a:lnTo>
                    <a:pt x="1784" y="2545"/>
                  </a:lnTo>
                  <a:lnTo>
                    <a:pt x="1774" y="2545"/>
                  </a:lnTo>
                  <a:lnTo>
                    <a:pt x="1774" y="2552"/>
                  </a:lnTo>
                  <a:lnTo>
                    <a:pt x="1778" y="2558"/>
                  </a:lnTo>
                  <a:lnTo>
                    <a:pt x="1765" y="2560"/>
                  </a:lnTo>
                  <a:lnTo>
                    <a:pt x="1754" y="2566"/>
                  </a:lnTo>
                  <a:lnTo>
                    <a:pt x="1738" y="2568"/>
                  </a:lnTo>
                  <a:lnTo>
                    <a:pt x="1721" y="2570"/>
                  </a:lnTo>
                  <a:lnTo>
                    <a:pt x="1707" y="2568"/>
                  </a:lnTo>
                  <a:lnTo>
                    <a:pt x="1694" y="2566"/>
                  </a:lnTo>
                  <a:lnTo>
                    <a:pt x="1696" y="2575"/>
                  </a:lnTo>
                  <a:lnTo>
                    <a:pt x="1699" y="2584"/>
                  </a:lnTo>
                  <a:lnTo>
                    <a:pt x="1686" y="2586"/>
                  </a:lnTo>
                  <a:lnTo>
                    <a:pt x="1676" y="2589"/>
                  </a:lnTo>
                  <a:lnTo>
                    <a:pt x="1657" y="2591"/>
                  </a:lnTo>
                  <a:lnTo>
                    <a:pt x="1641" y="2591"/>
                  </a:lnTo>
                  <a:lnTo>
                    <a:pt x="1625" y="2589"/>
                  </a:lnTo>
                  <a:lnTo>
                    <a:pt x="1609" y="2586"/>
                  </a:lnTo>
                  <a:lnTo>
                    <a:pt x="1612" y="2596"/>
                  </a:lnTo>
                  <a:lnTo>
                    <a:pt x="1615" y="2607"/>
                  </a:lnTo>
                  <a:lnTo>
                    <a:pt x="1604" y="2608"/>
                  </a:lnTo>
                  <a:lnTo>
                    <a:pt x="1592" y="2610"/>
                  </a:lnTo>
                  <a:lnTo>
                    <a:pt x="1573" y="2610"/>
                  </a:lnTo>
                  <a:lnTo>
                    <a:pt x="1557" y="2612"/>
                  </a:lnTo>
                  <a:lnTo>
                    <a:pt x="1543" y="2608"/>
                  </a:lnTo>
                  <a:lnTo>
                    <a:pt x="1530" y="2607"/>
                  </a:lnTo>
                  <a:lnTo>
                    <a:pt x="1533" y="2615"/>
                  </a:lnTo>
                  <a:lnTo>
                    <a:pt x="1536" y="2627"/>
                  </a:lnTo>
                  <a:lnTo>
                    <a:pt x="1523" y="2627"/>
                  </a:lnTo>
                  <a:lnTo>
                    <a:pt x="1512" y="2630"/>
                  </a:lnTo>
                  <a:lnTo>
                    <a:pt x="1494" y="2628"/>
                  </a:lnTo>
                  <a:lnTo>
                    <a:pt x="1478" y="2628"/>
                  </a:lnTo>
                  <a:lnTo>
                    <a:pt x="1463" y="2627"/>
                  </a:lnTo>
                  <a:lnTo>
                    <a:pt x="1449" y="2623"/>
                  </a:lnTo>
                  <a:lnTo>
                    <a:pt x="1451" y="2633"/>
                  </a:lnTo>
                  <a:lnTo>
                    <a:pt x="1454" y="2645"/>
                  </a:lnTo>
                  <a:lnTo>
                    <a:pt x="1443" y="2646"/>
                  </a:lnTo>
                  <a:lnTo>
                    <a:pt x="1432" y="2649"/>
                  </a:lnTo>
                  <a:lnTo>
                    <a:pt x="1416" y="2649"/>
                  </a:lnTo>
                  <a:lnTo>
                    <a:pt x="1401" y="2649"/>
                  </a:lnTo>
                  <a:lnTo>
                    <a:pt x="1387" y="2645"/>
                  </a:lnTo>
                  <a:lnTo>
                    <a:pt x="1375" y="2643"/>
                  </a:lnTo>
                  <a:lnTo>
                    <a:pt x="1363" y="2638"/>
                  </a:lnTo>
                  <a:lnTo>
                    <a:pt x="1352" y="2632"/>
                  </a:lnTo>
                  <a:lnTo>
                    <a:pt x="1341" y="2625"/>
                  </a:lnTo>
                  <a:lnTo>
                    <a:pt x="1332" y="2619"/>
                  </a:lnTo>
                  <a:lnTo>
                    <a:pt x="1325" y="2628"/>
                  </a:lnTo>
                  <a:lnTo>
                    <a:pt x="1319" y="2638"/>
                  </a:lnTo>
                  <a:lnTo>
                    <a:pt x="1314" y="2645"/>
                  </a:lnTo>
                  <a:lnTo>
                    <a:pt x="1311" y="2654"/>
                  </a:lnTo>
                  <a:lnTo>
                    <a:pt x="1299" y="2649"/>
                  </a:lnTo>
                  <a:lnTo>
                    <a:pt x="1288" y="2643"/>
                  </a:lnTo>
                  <a:lnTo>
                    <a:pt x="1279" y="2638"/>
                  </a:lnTo>
                  <a:lnTo>
                    <a:pt x="1270" y="2632"/>
                  </a:lnTo>
                  <a:lnTo>
                    <a:pt x="1258" y="2623"/>
                  </a:lnTo>
                  <a:lnTo>
                    <a:pt x="1243" y="2615"/>
                  </a:lnTo>
                  <a:lnTo>
                    <a:pt x="1225" y="2604"/>
                  </a:lnTo>
                  <a:lnTo>
                    <a:pt x="1205" y="2594"/>
                  </a:lnTo>
                  <a:lnTo>
                    <a:pt x="1183" y="2583"/>
                  </a:lnTo>
                  <a:lnTo>
                    <a:pt x="1163" y="2571"/>
                  </a:lnTo>
                  <a:lnTo>
                    <a:pt x="1142" y="2571"/>
                  </a:lnTo>
                  <a:lnTo>
                    <a:pt x="1119" y="2573"/>
                  </a:lnTo>
                  <a:lnTo>
                    <a:pt x="1100" y="2573"/>
                  </a:lnTo>
                  <a:lnTo>
                    <a:pt x="1082" y="2575"/>
                  </a:lnTo>
                  <a:lnTo>
                    <a:pt x="1066" y="2575"/>
                  </a:lnTo>
                  <a:lnTo>
                    <a:pt x="1053" y="2576"/>
                  </a:lnTo>
                  <a:lnTo>
                    <a:pt x="1043" y="2576"/>
                  </a:lnTo>
                  <a:lnTo>
                    <a:pt x="1039" y="2579"/>
                  </a:lnTo>
                  <a:lnTo>
                    <a:pt x="1029" y="2579"/>
                  </a:lnTo>
                  <a:lnTo>
                    <a:pt x="1018" y="2579"/>
                  </a:lnTo>
                  <a:lnTo>
                    <a:pt x="1012" y="2568"/>
                  </a:lnTo>
                  <a:lnTo>
                    <a:pt x="1008" y="2558"/>
                  </a:lnTo>
                  <a:lnTo>
                    <a:pt x="1002" y="2545"/>
                  </a:lnTo>
                  <a:lnTo>
                    <a:pt x="995" y="2533"/>
                  </a:lnTo>
                  <a:lnTo>
                    <a:pt x="983" y="2533"/>
                  </a:lnTo>
                  <a:lnTo>
                    <a:pt x="972" y="2534"/>
                  </a:lnTo>
                  <a:lnTo>
                    <a:pt x="961" y="2533"/>
                  </a:lnTo>
                  <a:lnTo>
                    <a:pt x="950" y="2533"/>
                  </a:lnTo>
                  <a:lnTo>
                    <a:pt x="937" y="2529"/>
                  </a:lnTo>
                  <a:lnTo>
                    <a:pt x="924" y="2526"/>
                  </a:lnTo>
                  <a:lnTo>
                    <a:pt x="909" y="2518"/>
                  </a:lnTo>
                  <a:lnTo>
                    <a:pt x="897" y="2513"/>
                  </a:lnTo>
                  <a:lnTo>
                    <a:pt x="885" y="2505"/>
                  </a:lnTo>
                  <a:lnTo>
                    <a:pt x="875" y="2500"/>
                  </a:lnTo>
                  <a:lnTo>
                    <a:pt x="877" y="2489"/>
                  </a:lnTo>
                  <a:lnTo>
                    <a:pt x="880" y="2479"/>
                  </a:lnTo>
                  <a:lnTo>
                    <a:pt x="864" y="2476"/>
                  </a:lnTo>
                  <a:lnTo>
                    <a:pt x="850" y="2472"/>
                  </a:lnTo>
                  <a:lnTo>
                    <a:pt x="833" y="2466"/>
                  </a:lnTo>
                  <a:lnTo>
                    <a:pt x="816" y="2459"/>
                  </a:lnTo>
                  <a:lnTo>
                    <a:pt x="804" y="2451"/>
                  </a:lnTo>
                  <a:lnTo>
                    <a:pt x="793" y="2445"/>
                  </a:lnTo>
                  <a:lnTo>
                    <a:pt x="797" y="2435"/>
                  </a:lnTo>
                  <a:lnTo>
                    <a:pt x="800" y="2427"/>
                  </a:lnTo>
                  <a:lnTo>
                    <a:pt x="784" y="2424"/>
                  </a:lnTo>
                  <a:lnTo>
                    <a:pt x="769" y="2420"/>
                  </a:lnTo>
                  <a:lnTo>
                    <a:pt x="753" y="2414"/>
                  </a:lnTo>
                  <a:lnTo>
                    <a:pt x="737" y="2406"/>
                  </a:lnTo>
                  <a:lnTo>
                    <a:pt x="724" y="2399"/>
                  </a:lnTo>
                  <a:lnTo>
                    <a:pt x="713" y="2393"/>
                  </a:lnTo>
                  <a:lnTo>
                    <a:pt x="716" y="2384"/>
                  </a:lnTo>
                  <a:lnTo>
                    <a:pt x="721" y="2377"/>
                  </a:lnTo>
                  <a:lnTo>
                    <a:pt x="705" y="2373"/>
                  </a:lnTo>
                  <a:lnTo>
                    <a:pt x="687" y="2370"/>
                  </a:lnTo>
                  <a:lnTo>
                    <a:pt x="669" y="2364"/>
                  </a:lnTo>
                  <a:lnTo>
                    <a:pt x="653" y="2357"/>
                  </a:lnTo>
                  <a:lnTo>
                    <a:pt x="640" y="2349"/>
                  </a:lnTo>
                  <a:lnTo>
                    <a:pt x="629" y="2342"/>
                  </a:lnTo>
                  <a:lnTo>
                    <a:pt x="631" y="2334"/>
                  </a:lnTo>
                  <a:lnTo>
                    <a:pt x="635" y="2328"/>
                  </a:lnTo>
                  <a:lnTo>
                    <a:pt x="621" y="2323"/>
                  </a:lnTo>
                  <a:lnTo>
                    <a:pt x="605" y="2320"/>
                  </a:lnTo>
                  <a:lnTo>
                    <a:pt x="589" y="2315"/>
                  </a:lnTo>
                  <a:lnTo>
                    <a:pt x="575" y="2307"/>
                  </a:lnTo>
                  <a:lnTo>
                    <a:pt x="562" y="2300"/>
                  </a:lnTo>
                  <a:lnTo>
                    <a:pt x="552" y="2294"/>
                  </a:lnTo>
                  <a:lnTo>
                    <a:pt x="553" y="2289"/>
                  </a:lnTo>
                  <a:lnTo>
                    <a:pt x="555" y="2283"/>
                  </a:lnTo>
                  <a:lnTo>
                    <a:pt x="542" y="2279"/>
                  </a:lnTo>
                  <a:lnTo>
                    <a:pt x="531" y="2277"/>
                  </a:lnTo>
                  <a:lnTo>
                    <a:pt x="518" y="2271"/>
                  </a:lnTo>
                  <a:lnTo>
                    <a:pt x="507" y="2266"/>
                  </a:lnTo>
                  <a:lnTo>
                    <a:pt x="495" y="2259"/>
                  </a:lnTo>
                  <a:lnTo>
                    <a:pt x="484" y="2253"/>
                  </a:lnTo>
                  <a:lnTo>
                    <a:pt x="489" y="2242"/>
                  </a:lnTo>
                  <a:lnTo>
                    <a:pt x="495" y="2232"/>
                  </a:lnTo>
                  <a:lnTo>
                    <a:pt x="502" y="2217"/>
                  </a:lnTo>
                  <a:lnTo>
                    <a:pt x="517" y="2203"/>
                  </a:lnTo>
                  <a:lnTo>
                    <a:pt x="505" y="2193"/>
                  </a:lnTo>
                  <a:lnTo>
                    <a:pt x="497" y="2183"/>
                  </a:lnTo>
                  <a:lnTo>
                    <a:pt x="489" y="2175"/>
                  </a:lnTo>
                  <a:lnTo>
                    <a:pt x="484" y="2167"/>
                  </a:lnTo>
                  <a:lnTo>
                    <a:pt x="473" y="2149"/>
                  </a:lnTo>
                  <a:lnTo>
                    <a:pt x="468" y="2134"/>
                  </a:lnTo>
                  <a:lnTo>
                    <a:pt x="464" y="2121"/>
                  </a:lnTo>
                  <a:lnTo>
                    <a:pt x="460" y="2110"/>
                  </a:lnTo>
                  <a:lnTo>
                    <a:pt x="471" y="2107"/>
                  </a:lnTo>
                  <a:lnTo>
                    <a:pt x="484" y="2105"/>
                  </a:lnTo>
                  <a:lnTo>
                    <a:pt x="493" y="2101"/>
                  </a:lnTo>
                  <a:lnTo>
                    <a:pt x="504" y="2099"/>
                  </a:lnTo>
                  <a:lnTo>
                    <a:pt x="515" y="2099"/>
                  </a:lnTo>
                  <a:lnTo>
                    <a:pt x="526" y="2101"/>
                  </a:lnTo>
                  <a:lnTo>
                    <a:pt x="534" y="2101"/>
                  </a:lnTo>
                  <a:lnTo>
                    <a:pt x="546" y="2105"/>
                  </a:lnTo>
                  <a:lnTo>
                    <a:pt x="555" y="2109"/>
                  </a:lnTo>
                  <a:lnTo>
                    <a:pt x="566" y="2114"/>
                  </a:lnTo>
                  <a:lnTo>
                    <a:pt x="566" y="2102"/>
                  </a:lnTo>
                  <a:lnTo>
                    <a:pt x="570" y="2094"/>
                  </a:lnTo>
                  <a:lnTo>
                    <a:pt x="573" y="2086"/>
                  </a:lnTo>
                  <a:lnTo>
                    <a:pt x="579" y="2081"/>
                  </a:lnTo>
                  <a:lnTo>
                    <a:pt x="584" y="2071"/>
                  </a:lnTo>
                  <a:lnTo>
                    <a:pt x="591" y="2063"/>
                  </a:lnTo>
                  <a:lnTo>
                    <a:pt x="600" y="2068"/>
                  </a:lnTo>
                  <a:lnTo>
                    <a:pt x="611" y="2075"/>
                  </a:lnTo>
                  <a:lnTo>
                    <a:pt x="621" y="2081"/>
                  </a:lnTo>
                  <a:lnTo>
                    <a:pt x="631" y="2089"/>
                  </a:lnTo>
                  <a:lnTo>
                    <a:pt x="640" y="2097"/>
                  </a:lnTo>
                  <a:lnTo>
                    <a:pt x="650" y="2107"/>
                  </a:lnTo>
                  <a:lnTo>
                    <a:pt x="652" y="2101"/>
                  </a:lnTo>
                  <a:lnTo>
                    <a:pt x="653" y="2099"/>
                  </a:lnTo>
                  <a:lnTo>
                    <a:pt x="664" y="2105"/>
                  </a:lnTo>
                  <a:lnTo>
                    <a:pt x="674" y="2112"/>
                  </a:lnTo>
                  <a:lnTo>
                    <a:pt x="689" y="2120"/>
                  </a:lnTo>
                  <a:lnTo>
                    <a:pt x="702" y="2130"/>
                  </a:lnTo>
                  <a:lnTo>
                    <a:pt x="711" y="2141"/>
                  </a:lnTo>
                  <a:lnTo>
                    <a:pt x="722" y="2152"/>
                  </a:lnTo>
                  <a:lnTo>
                    <a:pt x="724" y="2147"/>
                  </a:lnTo>
                  <a:lnTo>
                    <a:pt x="729" y="2141"/>
                  </a:lnTo>
                  <a:lnTo>
                    <a:pt x="739" y="2147"/>
                  </a:lnTo>
                  <a:lnTo>
                    <a:pt x="751" y="2154"/>
                  </a:lnTo>
                  <a:lnTo>
                    <a:pt x="766" y="2165"/>
                  </a:lnTo>
                  <a:lnTo>
                    <a:pt x="780" y="2177"/>
                  </a:lnTo>
                  <a:lnTo>
                    <a:pt x="792" y="2187"/>
                  </a:lnTo>
                  <a:lnTo>
                    <a:pt x="802" y="2203"/>
                  </a:lnTo>
                  <a:lnTo>
                    <a:pt x="806" y="2193"/>
                  </a:lnTo>
                  <a:lnTo>
                    <a:pt x="811" y="2185"/>
                  </a:lnTo>
                  <a:lnTo>
                    <a:pt x="821" y="2191"/>
                  </a:lnTo>
                  <a:lnTo>
                    <a:pt x="833" y="2200"/>
                  </a:lnTo>
                  <a:lnTo>
                    <a:pt x="848" y="2208"/>
                  </a:lnTo>
                  <a:lnTo>
                    <a:pt x="861" y="2219"/>
                  </a:lnTo>
                  <a:lnTo>
                    <a:pt x="871" y="2229"/>
                  </a:lnTo>
                  <a:lnTo>
                    <a:pt x="882" y="2240"/>
                  </a:lnTo>
                  <a:lnTo>
                    <a:pt x="884" y="2235"/>
                  </a:lnTo>
                  <a:lnTo>
                    <a:pt x="885" y="2232"/>
                  </a:lnTo>
                  <a:lnTo>
                    <a:pt x="897" y="2237"/>
                  </a:lnTo>
                  <a:lnTo>
                    <a:pt x="909" y="2246"/>
                  </a:lnTo>
                  <a:lnTo>
                    <a:pt x="922" y="2253"/>
                  </a:lnTo>
                  <a:lnTo>
                    <a:pt x="937" y="2265"/>
                  </a:lnTo>
                  <a:lnTo>
                    <a:pt x="947" y="2276"/>
                  </a:lnTo>
                  <a:lnTo>
                    <a:pt x="958" y="2287"/>
                  </a:lnTo>
                  <a:lnTo>
                    <a:pt x="960" y="2283"/>
                  </a:lnTo>
                  <a:lnTo>
                    <a:pt x="963" y="2279"/>
                  </a:lnTo>
                  <a:lnTo>
                    <a:pt x="974" y="2284"/>
                  </a:lnTo>
                  <a:lnTo>
                    <a:pt x="984" y="2292"/>
                  </a:lnTo>
                  <a:lnTo>
                    <a:pt x="1005" y="2303"/>
                  </a:lnTo>
                  <a:lnTo>
                    <a:pt x="1021" y="2320"/>
                  </a:lnTo>
                  <a:lnTo>
                    <a:pt x="1036" y="2336"/>
                  </a:lnTo>
                  <a:lnTo>
                    <a:pt x="1048" y="2354"/>
                  </a:lnTo>
                  <a:lnTo>
                    <a:pt x="1058" y="2371"/>
                  </a:lnTo>
                  <a:lnTo>
                    <a:pt x="1065" y="2391"/>
                  </a:lnTo>
                  <a:lnTo>
                    <a:pt x="1068" y="2412"/>
                  </a:lnTo>
                  <a:lnTo>
                    <a:pt x="1071" y="2433"/>
                  </a:lnTo>
                  <a:lnTo>
                    <a:pt x="1081" y="2440"/>
                  </a:lnTo>
                  <a:lnTo>
                    <a:pt x="1092" y="2446"/>
                  </a:lnTo>
                  <a:lnTo>
                    <a:pt x="1103" y="2454"/>
                  </a:lnTo>
                  <a:lnTo>
                    <a:pt x="1116" y="2461"/>
                  </a:lnTo>
                  <a:lnTo>
                    <a:pt x="1127" y="2466"/>
                  </a:lnTo>
                  <a:lnTo>
                    <a:pt x="1140" y="2474"/>
                  </a:lnTo>
                  <a:lnTo>
                    <a:pt x="1152" y="2482"/>
                  </a:lnTo>
                  <a:lnTo>
                    <a:pt x="1164" y="2489"/>
                  </a:lnTo>
                  <a:lnTo>
                    <a:pt x="1176" y="2487"/>
                  </a:lnTo>
                  <a:lnTo>
                    <a:pt x="1187" y="2485"/>
                  </a:lnTo>
                  <a:lnTo>
                    <a:pt x="1198" y="2485"/>
                  </a:lnTo>
                  <a:lnTo>
                    <a:pt x="1211" y="2485"/>
                  </a:lnTo>
                  <a:lnTo>
                    <a:pt x="1221" y="2483"/>
                  </a:lnTo>
                  <a:lnTo>
                    <a:pt x="1234" y="2483"/>
                  </a:lnTo>
                  <a:lnTo>
                    <a:pt x="1245" y="2483"/>
                  </a:lnTo>
                  <a:lnTo>
                    <a:pt x="1258" y="2483"/>
                  </a:lnTo>
                  <a:lnTo>
                    <a:pt x="1256" y="2461"/>
                  </a:lnTo>
                  <a:lnTo>
                    <a:pt x="1261" y="2443"/>
                  </a:lnTo>
                  <a:lnTo>
                    <a:pt x="1267" y="2427"/>
                  </a:lnTo>
                  <a:lnTo>
                    <a:pt x="1277" y="2414"/>
                  </a:lnTo>
                  <a:lnTo>
                    <a:pt x="1288" y="2401"/>
                  </a:lnTo>
                  <a:lnTo>
                    <a:pt x="1305" y="2393"/>
                  </a:lnTo>
                  <a:lnTo>
                    <a:pt x="1321" y="2386"/>
                  </a:lnTo>
                  <a:lnTo>
                    <a:pt x="1343" y="2384"/>
                  </a:lnTo>
                  <a:lnTo>
                    <a:pt x="1354" y="2382"/>
                  </a:lnTo>
                  <a:lnTo>
                    <a:pt x="1367" y="2382"/>
                  </a:lnTo>
                  <a:lnTo>
                    <a:pt x="1369" y="2388"/>
                  </a:lnTo>
                  <a:lnTo>
                    <a:pt x="1372" y="2393"/>
                  </a:lnTo>
                  <a:lnTo>
                    <a:pt x="1381" y="2386"/>
                  </a:lnTo>
                  <a:lnTo>
                    <a:pt x="1393" y="2380"/>
                  </a:lnTo>
                  <a:lnTo>
                    <a:pt x="1404" y="2375"/>
                  </a:lnTo>
                  <a:lnTo>
                    <a:pt x="1422" y="2375"/>
                  </a:lnTo>
                  <a:lnTo>
                    <a:pt x="1432" y="2373"/>
                  </a:lnTo>
                  <a:lnTo>
                    <a:pt x="1445" y="2371"/>
                  </a:lnTo>
                  <a:lnTo>
                    <a:pt x="1445" y="2377"/>
                  </a:lnTo>
                  <a:lnTo>
                    <a:pt x="1449" y="2384"/>
                  </a:lnTo>
                  <a:lnTo>
                    <a:pt x="1457" y="2377"/>
                  </a:lnTo>
                  <a:lnTo>
                    <a:pt x="1469" y="2371"/>
                  </a:lnTo>
                  <a:lnTo>
                    <a:pt x="1481" y="2365"/>
                  </a:lnTo>
                  <a:lnTo>
                    <a:pt x="1498" y="2364"/>
                  </a:lnTo>
                  <a:lnTo>
                    <a:pt x="1509" y="2360"/>
                  </a:lnTo>
                  <a:lnTo>
                    <a:pt x="1520" y="2360"/>
                  </a:lnTo>
                  <a:lnTo>
                    <a:pt x="1523" y="2370"/>
                  </a:lnTo>
                  <a:lnTo>
                    <a:pt x="1528" y="2378"/>
                  </a:lnTo>
                  <a:lnTo>
                    <a:pt x="1536" y="2367"/>
                  </a:lnTo>
                  <a:lnTo>
                    <a:pt x="1549" y="2362"/>
                  </a:lnTo>
                  <a:lnTo>
                    <a:pt x="1562" y="2354"/>
                  </a:lnTo>
                  <a:lnTo>
                    <a:pt x="1580" y="2352"/>
                  </a:lnTo>
                  <a:lnTo>
                    <a:pt x="1591" y="2349"/>
                  </a:lnTo>
                  <a:lnTo>
                    <a:pt x="1601" y="2347"/>
                  </a:lnTo>
                  <a:lnTo>
                    <a:pt x="1605" y="2354"/>
                  </a:lnTo>
                  <a:lnTo>
                    <a:pt x="1609" y="2362"/>
                  </a:lnTo>
                  <a:lnTo>
                    <a:pt x="1615" y="2352"/>
                  </a:lnTo>
                  <a:lnTo>
                    <a:pt x="1626" y="2346"/>
                  </a:lnTo>
                  <a:lnTo>
                    <a:pt x="1638" y="2339"/>
                  </a:lnTo>
                  <a:lnTo>
                    <a:pt x="1654" y="2336"/>
                  </a:lnTo>
                  <a:lnTo>
                    <a:pt x="1665" y="2334"/>
                  </a:lnTo>
                  <a:lnTo>
                    <a:pt x="1676" y="2333"/>
                  </a:lnTo>
                  <a:lnTo>
                    <a:pt x="1678" y="2336"/>
                  </a:lnTo>
                  <a:lnTo>
                    <a:pt x="1681" y="2339"/>
                  </a:lnTo>
                  <a:lnTo>
                    <a:pt x="1686" y="2334"/>
                  </a:lnTo>
                  <a:lnTo>
                    <a:pt x="1696" y="2329"/>
                  </a:lnTo>
                  <a:lnTo>
                    <a:pt x="1705" y="2325"/>
                  </a:lnTo>
                  <a:lnTo>
                    <a:pt x="1718" y="2321"/>
                  </a:lnTo>
                  <a:lnTo>
                    <a:pt x="1728" y="2318"/>
                  </a:lnTo>
                  <a:lnTo>
                    <a:pt x="1739" y="2316"/>
                  </a:lnTo>
                  <a:lnTo>
                    <a:pt x="1745" y="2325"/>
                  </a:lnTo>
                  <a:lnTo>
                    <a:pt x="1750" y="2336"/>
                  </a:lnTo>
                  <a:lnTo>
                    <a:pt x="1754" y="2342"/>
                  </a:lnTo>
                  <a:lnTo>
                    <a:pt x="1758" y="2351"/>
                  </a:lnTo>
                  <a:lnTo>
                    <a:pt x="1760" y="2362"/>
                  </a:lnTo>
                  <a:lnTo>
                    <a:pt x="1763" y="2373"/>
                  </a:lnTo>
                  <a:lnTo>
                    <a:pt x="1781" y="2370"/>
                  </a:lnTo>
                  <a:lnTo>
                    <a:pt x="1802" y="2370"/>
                  </a:lnTo>
                  <a:lnTo>
                    <a:pt x="1812" y="2370"/>
                  </a:lnTo>
                  <a:lnTo>
                    <a:pt x="1823" y="2373"/>
                  </a:lnTo>
                  <a:lnTo>
                    <a:pt x="1834" y="2377"/>
                  </a:lnTo>
                  <a:lnTo>
                    <a:pt x="1845" y="2382"/>
                  </a:lnTo>
                  <a:lnTo>
                    <a:pt x="1856" y="2388"/>
                  </a:lnTo>
                  <a:lnTo>
                    <a:pt x="1868" y="2393"/>
                  </a:lnTo>
                  <a:lnTo>
                    <a:pt x="1863" y="2404"/>
                  </a:lnTo>
                  <a:lnTo>
                    <a:pt x="1860" y="2415"/>
                  </a:lnTo>
                  <a:lnTo>
                    <a:pt x="1860" y="24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5360" y="5949720"/>
              <a:ext cx="186120" cy="312120"/>
            </a:xfrm>
            <a:custGeom>
              <a:avLst/>
              <a:gdLst/>
              <a:ahLst/>
              <a:rect l="l" t="t" r="r" b="b"/>
              <a:pathLst>
                <a:path w="1670" h="3243">
                  <a:moveTo>
                    <a:pt x="1670" y="2962"/>
                  </a:moveTo>
                  <a:lnTo>
                    <a:pt x="1668" y="2774"/>
                  </a:lnTo>
                  <a:lnTo>
                    <a:pt x="1668" y="2592"/>
                  </a:lnTo>
                  <a:lnTo>
                    <a:pt x="1668" y="2410"/>
                  </a:lnTo>
                  <a:lnTo>
                    <a:pt x="1668" y="2230"/>
                  </a:lnTo>
                  <a:lnTo>
                    <a:pt x="1668" y="2048"/>
                  </a:lnTo>
                  <a:lnTo>
                    <a:pt x="1668" y="1868"/>
                  </a:lnTo>
                  <a:lnTo>
                    <a:pt x="1668" y="1685"/>
                  </a:lnTo>
                  <a:lnTo>
                    <a:pt x="1668" y="1503"/>
                  </a:lnTo>
                  <a:lnTo>
                    <a:pt x="1668" y="1487"/>
                  </a:lnTo>
                  <a:lnTo>
                    <a:pt x="1668" y="1470"/>
                  </a:lnTo>
                  <a:lnTo>
                    <a:pt x="1415" y="0"/>
                  </a:lnTo>
                  <a:lnTo>
                    <a:pt x="1301" y="13"/>
                  </a:lnTo>
                  <a:lnTo>
                    <a:pt x="1188" y="32"/>
                  </a:lnTo>
                  <a:lnTo>
                    <a:pt x="1076" y="52"/>
                  </a:lnTo>
                  <a:lnTo>
                    <a:pt x="965" y="79"/>
                  </a:lnTo>
                  <a:lnTo>
                    <a:pt x="852" y="107"/>
                  </a:lnTo>
                  <a:lnTo>
                    <a:pt x="739" y="136"/>
                  </a:lnTo>
                  <a:lnTo>
                    <a:pt x="626" y="165"/>
                  </a:lnTo>
                  <a:lnTo>
                    <a:pt x="514" y="196"/>
                  </a:lnTo>
                  <a:lnTo>
                    <a:pt x="448" y="212"/>
                  </a:lnTo>
                  <a:lnTo>
                    <a:pt x="384" y="227"/>
                  </a:lnTo>
                  <a:lnTo>
                    <a:pt x="321" y="237"/>
                  </a:lnTo>
                  <a:lnTo>
                    <a:pt x="257" y="250"/>
                  </a:lnTo>
                  <a:lnTo>
                    <a:pt x="192" y="258"/>
                  </a:lnTo>
                  <a:lnTo>
                    <a:pt x="128" y="266"/>
                  </a:lnTo>
                  <a:lnTo>
                    <a:pt x="65" y="272"/>
                  </a:lnTo>
                  <a:lnTo>
                    <a:pt x="0" y="279"/>
                  </a:lnTo>
                  <a:lnTo>
                    <a:pt x="86" y="1112"/>
                  </a:lnTo>
                  <a:lnTo>
                    <a:pt x="95" y="1102"/>
                  </a:lnTo>
                  <a:lnTo>
                    <a:pt x="105" y="1094"/>
                  </a:lnTo>
                  <a:lnTo>
                    <a:pt x="115" y="1082"/>
                  </a:lnTo>
                  <a:lnTo>
                    <a:pt x="126" y="1071"/>
                  </a:lnTo>
                  <a:lnTo>
                    <a:pt x="139" y="1057"/>
                  </a:lnTo>
                  <a:lnTo>
                    <a:pt x="152" y="1047"/>
                  </a:lnTo>
                  <a:lnTo>
                    <a:pt x="164" y="1040"/>
                  </a:lnTo>
                  <a:lnTo>
                    <a:pt x="177" y="1038"/>
                  </a:lnTo>
                  <a:lnTo>
                    <a:pt x="187" y="1035"/>
                  </a:lnTo>
                  <a:lnTo>
                    <a:pt x="200" y="1032"/>
                  </a:lnTo>
                  <a:lnTo>
                    <a:pt x="211" y="1032"/>
                  </a:lnTo>
                  <a:lnTo>
                    <a:pt x="224" y="1035"/>
                  </a:lnTo>
                  <a:lnTo>
                    <a:pt x="234" y="1035"/>
                  </a:lnTo>
                  <a:lnTo>
                    <a:pt x="244" y="1035"/>
                  </a:lnTo>
                  <a:lnTo>
                    <a:pt x="253" y="1032"/>
                  </a:lnTo>
                  <a:lnTo>
                    <a:pt x="263" y="1031"/>
                  </a:lnTo>
                  <a:lnTo>
                    <a:pt x="275" y="1022"/>
                  </a:lnTo>
                  <a:lnTo>
                    <a:pt x="295" y="1007"/>
                  </a:lnTo>
                  <a:lnTo>
                    <a:pt x="319" y="987"/>
                  </a:lnTo>
                  <a:lnTo>
                    <a:pt x="350" y="967"/>
                  </a:lnTo>
                  <a:lnTo>
                    <a:pt x="379" y="941"/>
                  </a:lnTo>
                  <a:lnTo>
                    <a:pt x="411" y="917"/>
                  </a:lnTo>
                  <a:lnTo>
                    <a:pt x="440" y="891"/>
                  </a:lnTo>
                  <a:lnTo>
                    <a:pt x="467" y="870"/>
                  </a:lnTo>
                  <a:lnTo>
                    <a:pt x="482" y="886"/>
                  </a:lnTo>
                  <a:lnTo>
                    <a:pt x="499" y="904"/>
                  </a:lnTo>
                  <a:lnTo>
                    <a:pt x="495" y="906"/>
                  </a:lnTo>
                  <a:lnTo>
                    <a:pt x="488" y="915"/>
                  </a:lnTo>
                  <a:lnTo>
                    <a:pt x="477" y="928"/>
                  </a:lnTo>
                  <a:lnTo>
                    <a:pt x="466" y="946"/>
                  </a:lnTo>
                  <a:lnTo>
                    <a:pt x="451" y="963"/>
                  </a:lnTo>
                  <a:lnTo>
                    <a:pt x="437" y="983"/>
                  </a:lnTo>
                  <a:lnTo>
                    <a:pt x="422" y="1003"/>
                  </a:lnTo>
                  <a:lnTo>
                    <a:pt x="411" y="1022"/>
                  </a:lnTo>
                  <a:lnTo>
                    <a:pt x="397" y="1037"/>
                  </a:lnTo>
                  <a:lnTo>
                    <a:pt x="380" y="1053"/>
                  </a:lnTo>
                  <a:lnTo>
                    <a:pt x="361" y="1069"/>
                  </a:lnTo>
                  <a:lnTo>
                    <a:pt x="340" y="1087"/>
                  </a:lnTo>
                  <a:lnTo>
                    <a:pt x="319" y="1102"/>
                  </a:lnTo>
                  <a:lnTo>
                    <a:pt x="298" y="1117"/>
                  </a:lnTo>
                  <a:lnTo>
                    <a:pt x="280" y="1126"/>
                  </a:lnTo>
                  <a:lnTo>
                    <a:pt x="269" y="1138"/>
                  </a:lnTo>
                  <a:lnTo>
                    <a:pt x="258" y="1154"/>
                  </a:lnTo>
                  <a:lnTo>
                    <a:pt x="248" y="1178"/>
                  </a:lnTo>
                  <a:lnTo>
                    <a:pt x="229" y="1204"/>
                  </a:lnTo>
                  <a:lnTo>
                    <a:pt x="211" y="1232"/>
                  </a:lnTo>
                  <a:lnTo>
                    <a:pt x="187" y="1256"/>
                  </a:lnTo>
                  <a:lnTo>
                    <a:pt x="163" y="1279"/>
                  </a:lnTo>
                  <a:lnTo>
                    <a:pt x="134" y="1294"/>
                  </a:lnTo>
                  <a:lnTo>
                    <a:pt x="105" y="1305"/>
                  </a:lnTo>
                  <a:lnTo>
                    <a:pt x="140" y="1659"/>
                  </a:lnTo>
                  <a:lnTo>
                    <a:pt x="142" y="1661"/>
                  </a:lnTo>
                  <a:lnTo>
                    <a:pt x="147" y="1665"/>
                  </a:lnTo>
                  <a:lnTo>
                    <a:pt x="147" y="1668"/>
                  </a:lnTo>
                  <a:lnTo>
                    <a:pt x="147" y="1672"/>
                  </a:lnTo>
                  <a:lnTo>
                    <a:pt x="144" y="1678"/>
                  </a:lnTo>
                  <a:lnTo>
                    <a:pt x="144" y="1687"/>
                  </a:lnTo>
                  <a:lnTo>
                    <a:pt x="303" y="3243"/>
                  </a:lnTo>
                  <a:lnTo>
                    <a:pt x="327" y="3240"/>
                  </a:lnTo>
                  <a:lnTo>
                    <a:pt x="355" y="3237"/>
                  </a:lnTo>
                  <a:lnTo>
                    <a:pt x="382" y="3235"/>
                  </a:lnTo>
                  <a:lnTo>
                    <a:pt x="409" y="3234"/>
                  </a:lnTo>
                  <a:lnTo>
                    <a:pt x="437" y="3230"/>
                  </a:lnTo>
                  <a:lnTo>
                    <a:pt x="464" y="3227"/>
                  </a:lnTo>
                  <a:lnTo>
                    <a:pt x="491" y="3222"/>
                  </a:lnTo>
                  <a:lnTo>
                    <a:pt x="519" y="3221"/>
                  </a:lnTo>
                  <a:lnTo>
                    <a:pt x="662" y="3191"/>
                  </a:lnTo>
                  <a:lnTo>
                    <a:pt x="807" y="3157"/>
                  </a:lnTo>
                  <a:lnTo>
                    <a:pt x="948" y="3118"/>
                  </a:lnTo>
                  <a:lnTo>
                    <a:pt x="1092" y="3081"/>
                  </a:lnTo>
                  <a:lnTo>
                    <a:pt x="1233" y="3042"/>
                  </a:lnTo>
                  <a:lnTo>
                    <a:pt x="1377" y="3010"/>
                  </a:lnTo>
                  <a:lnTo>
                    <a:pt x="1520" y="2980"/>
                  </a:lnTo>
                  <a:lnTo>
                    <a:pt x="1670" y="2962"/>
                  </a:lnTo>
                  <a:lnTo>
                    <a:pt x="1670" y="2962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5080" y="6033240"/>
              <a:ext cx="45720" cy="41760"/>
            </a:xfrm>
            <a:custGeom>
              <a:avLst/>
              <a:gdLst/>
              <a:ahLst/>
              <a:rect l="l" t="t" r="r" b="b"/>
              <a:pathLst>
                <a:path w="413" h="435">
                  <a:moveTo>
                    <a:pt x="58" y="219"/>
                  </a:moveTo>
                  <a:lnTo>
                    <a:pt x="72" y="203"/>
                  </a:lnTo>
                  <a:lnTo>
                    <a:pt x="87" y="196"/>
                  </a:lnTo>
                  <a:lnTo>
                    <a:pt x="104" y="190"/>
                  </a:lnTo>
                  <a:lnTo>
                    <a:pt x="120" y="190"/>
                  </a:lnTo>
                  <a:lnTo>
                    <a:pt x="135" y="190"/>
                  </a:lnTo>
                  <a:lnTo>
                    <a:pt x="149" y="190"/>
                  </a:lnTo>
                  <a:lnTo>
                    <a:pt x="165" y="188"/>
                  </a:lnTo>
                  <a:lnTo>
                    <a:pt x="182" y="185"/>
                  </a:lnTo>
                  <a:lnTo>
                    <a:pt x="200" y="170"/>
                  </a:lnTo>
                  <a:lnTo>
                    <a:pt x="231" y="149"/>
                  </a:lnTo>
                  <a:lnTo>
                    <a:pt x="265" y="123"/>
                  </a:lnTo>
                  <a:lnTo>
                    <a:pt x="304" y="93"/>
                  </a:lnTo>
                  <a:lnTo>
                    <a:pt x="336" y="63"/>
                  </a:lnTo>
                  <a:lnTo>
                    <a:pt x="365" y="42"/>
                  </a:lnTo>
                  <a:lnTo>
                    <a:pt x="386" y="24"/>
                  </a:lnTo>
                  <a:lnTo>
                    <a:pt x="394" y="19"/>
                  </a:lnTo>
                  <a:lnTo>
                    <a:pt x="391" y="21"/>
                  </a:lnTo>
                  <a:lnTo>
                    <a:pt x="384" y="31"/>
                  </a:lnTo>
                  <a:lnTo>
                    <a:pt x="373" y="43"/>
                  </a:lnTo>
                  <a:lnTo>
                    <a:pt x="362" y="62"/>
                  </a:lnTo>
                  <a:lnTo>
                    <a:pt x="347" y="81"/>
                  </a:lnTo>
                  <a:lnTo>
                    <a:pt x="333" y="100"/>
                  </a:lnTo>
                  <a:lnTo>
                    <a:pt x="318" y="118"/>
                  </a:lnTo>
                  <a:lnTo>
                    <a:pt x="307" y="139"/>
                  </a:lnTo>
                  <a:lnTo>
                    <a:pt x="291" y="154"/>
                  </a:lnTo>
                  <a:lnTo>
                    <a:pt x="270" y="172"/>
                  </a:lnTo>
                  <a:lnTo>
                    <a:pt x="247" y="190"/>
                  </a:lnTo>
                  <a:lnTo>
                    <a:pt x="224" y="209"/>
                  </a:lnTo>
                  <a:lnTo>
                    <a:pt x="200" y="224"/>
                  </a:lnTo>
                  <a:lnTo>
                    <a:pt x="182" y="237"/>
                  </a:lnTo>
                  <a:lnTo>
                    <a:pt x="169" y="245"/>
                  </a:lnTo>
                  <a:lnTo>
                    <a:pt x="165" y="249"/>
                  </a:lnTo>
                  <a:lnTo>
                    <a:pt x="162" y="255"/>
                  </a:lnTo>
                  <a:lnTo>
                    <a:pt x="153" y="271"/>
                  </a:lnTo>
                  <a:lnTo>
                    <a:pt x="138" y="295"/>
                  </a:lnTo>
                  <a:lnTo>
                    <a:pt x="122" y="326"/>
                  </a:lnTo>
                  <a:lnTo>
                    <a:pt x="98" y="354"/>
                  </a:lnTo>
                  <a:lnTo>
                    <a:pt x="75" y="380"/>
                  </a:lnTo>
                  <a:lnTo>
                    <a:pt x="45" y="399"/>
                  </a:lnTo>
                  <a:lnTo>
                    <a:pt x="16" y="409"/>
                  </a:lnTo>
                  <a:lnTo>
                    <a:pt x="19" y="435"/>
                  </a:lnTo>
                  <a:lnTo>
                    <a:pt x="48" y="424"/>
                  </a:lnTo>
                  <a:lnTo>
                    <a:pt x="77" y="409"/>
                  </a:lnTo>
                  <a:lnTo>
                    <a:pt x="101" y="386"/>
                  </a:lnTo>
                  <a:lnTo>
                    <a:pt x="125" y="362"/>
                  </a:lnTo>
                  <a:lnTo>
                    <a:pt x="143" y="334"/>
                  </a:lnTo>
                  <a:lnTo>
                    <a:pt x="162" y="308"/>
                  </a:lnTo>
                  <a:lnTo>
                    <a:pt x="172" y="284"/>
                  </a:lnTo>
                  <a:lnTo>
                    <a:pt x="183" y="268"/>
                  </a:lnTo>
                  <a:lnTo>
                    <a:pt x="194" y="256"/>
                  </a:lnTo>
                  <a:lnTo>
                    <a:pt x="212" y="247"/>
                  </a:lnTo>
                  <a:lnTo>
                    <a:pt x="233" y="232"/>
                  </a:lnTo>
                  <a:lnTo>
                    <a:pt x="254" y="217"/>
                  </a:lnTo>
                  <a:lnTo>
                    <a:pt x="275" y="199"/>
                  </a:lnTo>
                  <a:lnTo>
                    <a:pt x="294" y="183"/>
                  </a:lnTo>
                  <a:lnTo>
                    <a:pt x="311" y="167"/>
                  </a:lnTo>
                  <a:lnTo>
                    <a:pt x="325" y="152"/>
                  </a:lnTo>
                  <a:lnTo>
                    <a:pt x="336" y="133"/>
                  </a:lnTo>
                  <a:lnTo>
                    <a:pt x="351" y="113"/>
                  </a:lnTo>
                  <a:lnTo>
                    <a:pt x="365" y="93"/>
                  </a:lnTo>
                  <a:lnTo>
                    <a:pt x="380" y="76"/>
                  </a:lnTo>
                  <a:lnTo>
                    <a:pt x="391" y="58"/>
                  </a:lnTo>
                  <a:lnTo>
                    <a:pt x="402" y="45"/>
                  </a:lnTo>
                  <a:lnTo>
                    <a:pt x="409" y="36"/>
                  </a:lnTo>
                  <a:lnTo>
                    <a:pt x="413" y="34"/>
                  </a:lnTo>
                  <a:lnTo>
                    <a:pt x="396" y="16"/>
                  </a:lnTo>
                  <a:lnTo>
                    <a:pt x="381" y="0"/>
                  </a:lnTo>
                  <a:lnTo>
                    <a:pt x="354" y="21"/>
                  </a:lnTo>
                  <a:lnTo>
                    <a:pt x="325" y="47"/>
                  </a:lnTo>
                  <a:lnTo>
                    <a:pt x="293" y="71"/>
                  </a:lnTo>
                  <a:lnTo>
                    <a:pt x="264" y="97"/>
                  </a:lnTo>
                  <a:lnTo>
                    <a:pt x="233" y="117"/>
                  </a:lnTo>
                  <a:lnTo>
                    <a:pt x="209" y="137"/>
                  </a:lnTo>
                  <a:lnTo>
                    <a:pt x="189" y="152"/>
                  </a:lnTo>
                  <a:lnTo>
                    <a:pt x="177" y="161"/>
                  </a:lnTo>
                  <a:lnTo>
                    <a:pt x="167" y="162"/>
                  </a:lnTo>
                  <a:lnTo>
                    <a:pt x="158" y="165"/>
                  </a:lnTo>
                  <a:lnTo>
                    <a:pt x="148" y="165"/>
                  </a:lnTo>
                  <a:lnTo>
                    <a:pt x="138" y="165"/>
                  </a:lnTo>
                  <a:lnTo>
                    <a:pt x="125" y="162"/>
                  </a:lnTo>
                  <a:lnTo>
                    <a:pt x="114" y="162"/>
                  </a:lnTo>
                  <a:lnTo>
                    <a:pt x="101" y="165"/>
                  </a:lnTo>
                  <a:lnTo>
                    <a:pt x="91" y="168"/>
                  </a:lnTo>
                  <a:lnTo>
                    <a:pt x="78" y="170"/>
                  </a:lnTo>
                  <a:lnTo>
                    <a:pt x="66" y="177"/>
                  </a:lnTo>
                  <a:lnTo>
                    <a:pt x="53" y="187"/>
                  </a:lnTo>
                  <a:lnTo>
                    <a:pt x="40" y="201"/>
                  </a:lnTo>
                  <a:lnTo>
                    <a:pt x="29" y="212"/>
                  </a:lnTo>
                  <a:lnTo>
                    <a:pt x="19" y="224"/>
                  </a:lnTo>
                  <a:lnTo>
                    <a:pt x="9" y="232"/>
                  </a:lnTo>
                  <a:lnTo>
                    <a:pt x="0" y="242"/>
                  </a:lnTo>
                  <a:lnTo>
                    <a:pt x="1" y="273"/>
                  </a:lnTo>
                  <a:lnTo>
                    <a:pt x="14" y="260"/>
                  </a:lnTo>
                  <a:lnTo>
                    <a:pt x="29" y="247"/>
                  </a:lnTo>
                  <a:lnTo>
                    <a:pt x="42" y="232"/>
                  </a:lnTo>
                  <a:lnTo>
                    <a:pt x="58" y="219"/>
                  </a:lnTo>
                  <a:lnTo>
                    <a:pt x="58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0960" y="6044760"/>
              <a:ext cx="210240" cy="95040"/>
            </a:xfrm>
            <a:custGeom>
              <a:avLst/>
              <a:gdLst/>
              <a:ahLst/>
              <a:rect l="l" t="t" r="r" b="b"/>
              <a:pathLst>
                <a:path w="1888" h="989">
                  <a:moveTo>
                    <a:pt x="1157" y="168"/>
                  </a:moveTo>
                  <a:lnTo>
                    <a:pt x="1117" y="155"/>
                  </a:lnTo>
                  <a:lnTo>
                    <a:pt x="1062" y="138"/>
                  </a:lnTo>
                  <a:lnTo>
                    <a:pt x="999" y="117"/>
                  </a:lnTo>
                  <a:lnTo>
                    <a:pt x="931" y="94"/>
                  </a:lnTo>
                  <a:lnTo>
                    <a:pt x="862" y="69"/>
                  </a:lnTo>
                  <a:lnTo>
                    <a:pt x="803" y="47"/>
                  </a:lnTo>
                  <a:lnTo>
                    <a:pt x="757" y="26"/>
                  </a:lnTo>
                  <a:lnTo>
                    <a:pt x="729" y="15"/>
                  </a:lnTo>
                  <a:lnTo>
                    <a:pt x="713" y="7"/>
                  </a:lnTo>
                  <a:lnTo>
                    <a:pt x="702" y="2"/>
                  </a:lnTo>
                  <a:lnTo>
                    <a:pt x="691" y="0"/>
                  </a:lnTo>
                  <a:lnTo>
                    <a:pt x="680" y="2"/>
                  </a:lnTo>
                  <a:lnTo>
                    <a:pt x="664" y="8"/>
                  </a:lnTo>
                  <a:lnTo>
                    <a:pt x="654" y="21"/>
                  </a:lnTo>
                  <a:lnTo>
                    <a:pt x="647" y="34"/>
                  </a:lnTo>
                  <a:lnTo>
                    <a:pt x="644" y="50"/>
                  </a:lnTo>
                  <a:lnTo>
                    <a:pt x="638" y="62"/>
                  </a:lnTo>
                  <a:lnTo>
                    <a:pt x="634" y="72"/>
                  </a:lnTo>
                  <a:lnTo>
                    <a:pt x="627" y="83"/>
                  </a:lnTo>
                  <a:lnTo>
                    <a:pt x="622" y="94"/>
                  </a:lnTo>
                  <a:lnTo>
                    <a:pt x="615" y="104"/>
                  </a:lnTo>
                  <a:lnTo>
                    <a:pt x="607" y="114"/>
                  </a:lnTo>
                  <a:lnTo>
                    <a:pt x="598" y="125"/>
                  </a:lnTo>
                  <a:lnTo>
                    <a:pt x="589" y="138"/>
                  </a:lnTo>
                  <a:lnTo>
                    <a:pt x="580" y="148"/>
                  </a:lnTo>
                  <a:lnTo>
                    <a:pt x="570" y="159"/>
                  </a:lnTo>
                  <a:lnTo>
                    <a:pt x="560" y="164"/>
                  </a:lnTo>
                  <a:lnTo>
                    <a:pt x="552" y="169"/>
                  </a:lnTo>
                  <a:lnTo>
                    <a:pt x="549" y="168"/>
                  </a:lnTo>
                  <a:lnTo>
                    <a:pt x="546" y="168"/>
                  </a:lnTo>
                  <a:lnTo>
                    <a:pt x="518" y="150"/>
                  </a:lnTo>
                  <a:lnTo>
                    <a:pt x="493" y="138"/>
                  </a:lnTo>
                  <a:lnTo>
                    <a:pt x="467" y="131"/>
                  </a:lnTo>
                  <a:lnTo>
                    <a:pt x="443" y="131"/>
                  </a:lnTo>
                  <a:lnTo>
                    <a:pt x="420" y="131"/>
                  </a:lnTo>
                  <a:lnTo>
                    <a:pt x="398" y="137"/>
                  </a:lnTo>
                  <a:lnTo>
                    <a:pt x="377" y="143"/>
                  </a:lnTo>
                  <a:lnTo>
                    <a:pt x="358" y="153"/>
                  </a:lnTo>
                  <a:lnTo>
                    <a:pt x="342" y="156"/>
                  </a:lnTo>
                  <a:lnTo>
                    <a:pt x="329" y="162"/>
                  </a:lnTo>
                  <a:lnTo>
                    <a:pt x="314" y="164"/>
                  </a:lnTo>
                  <a:lnTo>
                    <a:pt x="303" y="168"/>
                  </a:lnTo>
                  <a:lnTo>
                    <a:pt x="293" y="168"/>
                  </a:lnTo>
                  <a:lnTo>
                    <a:pt x="282" y="169"/>
                  </a:lnTo>
                  <a:lnTo>
                    <a:pt x="272" y="171"/>
                  </a:lnTo>
                  <a:lnTo>
                    <a:pt x="266" y="174"/>
                  </a:lnTo>
                  <a:lnTo>
                    <a:pt x="260" y="174"/>
                  </a:lnTo>
                  <a:lnTo>
                    <a:pt x="256" y="174"/>
                  </a:lnTo>
                  <a:lnTo>
                    <a:pt x="245" y="174"/>
                  </a:lnTo>
                  <a:lnTo>
                    <a:pt x="234" y="175"/>
                  </a:lnTo>
                  <a:lnTo>
                    <a:pt x="224" y="175"/>
                  </a:lnTo>
                  <a:lnTo>
                    <a:pt x="214" y="177"/>
                  </a:lnTo>
                  <a:lnTo>
                    <a:pt x="203" y="177"/>
                  </a:lnTo>
                  <a:lnTo>
                    <a:pt x="195" y="179"/>
                  </a:lnTo>
                  <a:lnTo>
                    <a:pt x="176" y="182"/>
                  </a:lnTo>
                  <a:lnTo>
                    <a:pt x="161" y="190"/>
                  </a:lnTo>
                  <a:lnTo>
                    <a:pt x="153" y="192"/>
                  </a:lnTo>
                  <a:lnTo>
                    <a:pt x="143" y="193"/>
                  </a:lnTo>
                  <a:lnTo>
                    <a:pt x="131" y="195"/>
                  </a:lnTo>
                  <a:lnTo>
                    <a:pt x="120" y="199"/>
                  </a:lnTo>
                  <a:lnTo>
                    <a:pt x="105" y="201"/>
                  </a:lnTo>
                  <a:lnTo>
                    <a:pt x="95" y="203"/>
                  </a:lnTo>
                  <a:lnTo>
                    <a:pt x="84" y="203"/>
                  </a:lnTo>
                  <a:lnTo>
                    <a:pt x="79" y="205"/>
                  </a:lnTo>
                  <a:lnTo>
                    <a:pt x="71" y="201"/>
                  </a:lnTo>
                  <a:lnTo>
                    <a:pt x="61" y="197"/>
                  </a:lnTo>
                  <a:lnTo>
                    <a:pt x="50" y="195"/>
                  </a:lnTo>
                  <a:lnTo>
                    <a:pt x="42" y="195"/>
                  </a:lnTo>
                  <a:lnTo>
                    <a:pt x="31" y="195"/>
                  </a:lnTo>
                  <a:lnTo>
                    <a:pt x="20" y="199"/>
                  </a:lnTo>
                  <a:lnTo>
                    <a:pt x="11" y="205"/>
                  </a:lnTo>
                  <a:lnTo>
                    <a:pt x="5" y="216"/>
                  </a:lnTo>
                  <a:lnTo>
                    <a:pt x="0" y="226"/>
                  </a:lnTo>
                  <a:lnTo>
                    <a:pt x="0" y="237"/>
                  </a:lnTo>
                  <a:lnTo>
                    <a:pt x="2" y="249"/>
                  </a:lnTo>
                  <a:lnTo>
                    <a:pt x="8" y="262"/>
                  </a:lnTo>
                  <a:lnTo>
                    <a:pt x="21" y="280"/>
                  </a:lnTo>
                  <a:lnTo>
                    <a:pt x="36" y="293"/>
                  </a:lnTo>
                  <a:lnTo>
                    <a:pt x="39" y="296"/>
                  </a:lnTo>
                  <a:lnTo>
                    <a:pt x="47" y="309"/>
                  </a:lnTo>
                  <a:lnTo>
                    <a:pt x="53" y="318"/>
                  </a:lnTo>
                  <a:lnTo>
                    <a:pt x="58" y="333"/>
                  </a:lnTo>
                  <a:lnTo>
                    <a:pt x="65" y="348"/>
                  </a:lnTo>
                  <a:lnTo>
                    <a:pt x="73" y="369"/>
                  </a:lnTo>
                  <a:lnTo>
                    <a:pt x="73" y="377"/>
                  </a:lnTo>
                  <a:lnTo>
                    <a:pt x="74" y="388"/>
                  </a:lnTo>
                  <a:lnTo>
                    <a:pt x="74" y="399"/>
                  </a:lnTo>
                  <a:lnTo>
                    <a:pt x="76" y="411"/>
                  </a:lnTo>
                  <a:lnTo>
                    <a:pt x="74" y="429"/>
                  </a:lnTo>
                  <a:lnTo>
                    <a:pt x="74" y="447"/>
                  </a:lnTo>
                  <a:lnTo>
                    <a:pt x="73" y="461"/>
                  </a:lnTo>
                  <a:lnTo>
                    <a:pt x="73" y="476"/>
                  </a:lnTo>
                  <a:lnTo>
                    <a:pt x="74" y="489"/>
                  </a:lnTo>
                  <a:lnTo>
                    <a:pt x="82" y="504"/>
                  </a:lnTo>
                  <a:lnTo>
                    <a:pt x="82" y="508"/>
                  </a:lnTo>
                  <a:lnTo>
                    <a:pt x="85" y="515"/>
                  </a:lnTo>
                  <a:lnTo>
                    <a:pt x="89" y="524"/>
                  </a:lnTo>
                  <a:lnTo>
                    <a:pt x="92" y="536"/>
                  </a:lnTo>
                  <a:lnTo>
                    <a:pt x="97" y="546"/>
                  </a:lnTo>
                  <a:lnTo>
                    <a:pt x="100" y="559"/>
                  </a:lnTo>
                  <a:lnTo>
                    <a:pt x="103" y="572"/>
                  </a:lnTo>
                  <a:lnTo>
                    <a:pt x="108" y="585"/>
                  </a:lnTo>
                  <a:lnTo>
                    <a:pt x="114" y="603"/>
                  </a:lnTo>
                  <a:lnTo>
                    <a:pt x="120" y="624"/>
                  </a:lnTo>
                  <a:lnTo>
                    <a:pt x="126" y="642"/>
                  </a:lnTo>
                  <a:lnTo>
                    <a:pt x="132" y="661"/>
                  </a:lnTo>
                  <a:lnTo>
                    <a:pt x="145" y="682"/>
                  </a:lnTo>
                  <a:lnTo>
                    <a:pt x="169" y="711"/>
                  </a:lnTo>
                  <a:lnTo>
                    <a:pt x="203" y="742"/>
                  </a:lnTo>
                  <a:lnTo>
                    <a:pt x="253" y="776"/>
                  </a:lnTo>
                  <a:lnTo>
                    <a:pt x="311" y="807"/>
                  </a:lnTo>
                  <a:lnTo>
                    <a:pt x="383" y="835"/>
                  </a:lnTo>
                  <a:lnTo>
                    <a:pt x="467" y="854"/>
                  </a:lnTo>
                  <a:lnTo>
                    <a:pt x="567" y="870"/>
                  </a:lnTo>
                  <a:lnTo>
                    <a:pt x="573" y="870"/>
                  </a:lnTo>
                  <a:lnTo>
                    <a:pt x="583" y="875"/>
                  </a:lnTo>
                  <a:lnTo>
                    <a:pt x="594" y="880"/>
                  </a:lnTo>
                  <a:lnTo>
                    <a:pt x="609" y="892"/>
                  </a:lnTo>
                  <a:lnTo>
                    <a:pt x="622" y="901"/>
                  </a:lnTo>
                  <a:lnTo>
                    <a:pt x="634" y="912"/>
                  </a:lnTo>
                  <a:lnTo>
                    <a:pt x="644" y="927"/>
                  </a:lnTo>
                  <a:lnTo>
                    <a:pt x="654" y="943"/>
                  </a:lnTo>
                  <a:lnTo>
                    <a:pt x="658" y="952"/>
                  </a:lnTo>
                  <a:lnTo>
                    <a:pt x="664" y="961"/>
                  </a:lnTo>
                  <a:lnTo>
                    <a:pt x="669" y="969"/>
                  </a:lnTo>
                  <a:lnTo>
                    <a:pt x="675" y="976"/>
                  </a:lnTo>
                  <a:lnTo>
                    <a:pt x="686" y="984"/>
                  </a:lnTo>
                  <a:lnTo>
                    <a:pt x="699" y="989"/>
                  </a:lnTo>
                  <a:lnTo>
                    <a:pt x="716" y="986"/>
                  </a:lnTo>
                  <a:lnTo>
                    <a:pt x="734" y="976"/>
                  </a:lnTo>
                  <a:lnTo>
                    <a:pt x="742" y="965"/>
                  </a:lnTo>
                  <a:lnTo>
                    <a:pt x="749" y="955"/>
                  </a:lnTo>
                  <a:lnTo>
                    <a:pt x="757" y="940"/>
                  </a:lnTo>
                  <a:lnTo>
                    <a:pt x="764" y="924"/>
                  </a:lnTo>
                  <a:lnTo>
                    <a:pt x="764" y="919"/>
                  </a:lnTo>
                  <a:lnTo>
                    <a:pt x="770" y="916"/>
                  </a:lnTo>
                  <a:lnTo>
                    <a:pt x="775" y="908"/>
                  </a:lnTo>
                  <a:lnTo>
                    <a:pt x="786" y="901"/>
                  </a:lnTo>
                  <a:lnTo>
                    <a:pt x="797" y="893"/>
                  </a:lnTo>
                  <a:lnTo>
                    <a:pt x="814" y="890"/>
                  </a:lnTo>
                  <a:lnTo>
                    <a:pt x="832" y="888"/>
                  </a:lnTo>
                  <a:lnTo>
                    <a:pt x="857" y="893"/>
                  </a:lnTo>
                  <a:lnTo>
                    <a:pt x="893" y="899"/>
                  </a:lnTo>
                  <a:lnTo>
                    <a:pt x="943" y="906"/>
                  </a:lnTo>
                  <a:lnTo>
                    <a:pt x="997" y="912"/>
                  </a:lnTo>
                  <a:lnTo>
                    <a:pt x="1055" y="919"/>
                  </a:lnTo>
                  <a:lnTo>
                    <a:pt x="1112" y="921"/>
                  </a:lnTo>
                  <a:lnTo>
                    <a:pt x="1163" y="921"/>
                  </a:lnTo>
                  <a:lnTo>
                    <a:pt x="1205" y="916"/>
                  </a:lnTo>
                  <a:lnTo>
                    <a:pt x="1235" y="908"/>
                  </a:lnTo>
                  <a:lnTo>
                    <a:pt x="1250" y="899"/>
                  </a:lnTo>
                  <a:lnTo>
                    <a:pt x="1266" y="892"/>
                  </a:lnTo>
                  <a:lnTo>
                    <a:pt x="1282" y="886"/>
                  </a:lnTo>
                  <a:lnTo>
                    <a:pt x="1303" y="882"/>
                  </a:lnTo>
                  <a:lnTo>
                    <a:pt x="1319" y="877"/>
                  </a:lnTo>
                  <a:lnTo>
                    <a:pt x="1335" y="875"/>
                  </a:lnTo>
                  <a:lnTo>
                    <a:pt x="1350" y="874"/>
                  </a:lnTo>
                  <a:lnTo>
                    <a:pt x="1364" y="874"/>
                  </a:lnTo>
                  <a:lnTo>
                    <a:pt x="1377" y="867"/>
                  </a:lnTo>
                  <a:lnTo>
                    <a:pt x="1392" y="862"/>
                  </a:lnTo>
                  <a:lnTo>
                    <a:pt x="1403" y="853"/>
                  </a:lnTo>
                  <a:lnTo>
                    <a:pt x="1414" y="844"/>
                  </a:lnTo>
                  <a:lnTo>
                    <a:pt x="1421" y="831"/>
                  </a:lnTo>
                  <a:lnTo>
                    <a:pt x="1429" y="820"/>
                  </a:lnTo>
                  <a:lnTo>
                    <a:pt x="1434" y="809"/>
                  </a:lnTo>
                  <a:lnTo>
                    <a:pt x="1439" y="804"/>
                  </a:lnTo>
                  <a:lnTo>
                    <a:pt x="1439" y="800"/>
                  </a:lnTo>
                  <a:lnTo>
                    <a:pt x="1440" y="798"/>
                  </a:lnTo>
                  <a:lnTo>
                    <a:pt x="1440" y="794"/>
                  </a:lnTo>
                  <a:lnTo>
                    <a:pt x="1440" y="792"/>
                  </a:lnTo>
                  <a:lnTo>
                    <a:pt x="1439" y="781"/>
                  </a:lnTo>
                  <a:lnTo>
                    <a:pt x="1439" y="770"/>
                  </a:lnTo>
                  <a:lnTo>
                    <a:pt x="1439" y="755"/>
                  </a:lnTo>
                  <a:lnTo>
                    <a:pt x="1443" y="742"/>
                  </a:lnTo>
                  <a:lnTo>
                    <a:pt x="1445" y="728"/>
                  </a:lnTo>
                  <a:lnTo>
                    <a:pt x="1451" y="715"/>
                  </a:lnTo>
                  <a:lnTo>
                    <a:pt x="1459" y="703"/>
                  </a:lnTo>
                  <a:lnTo>
                    <a:pt x="1470" y="693"/>
                  </a:lnTo>
                  <a:lnTo>
                    <a:pt x="1475" y="687"/>
                  </a:lnTo>
                  <a:lnTo>
                    <a:pt x="1485" y="686"/>
                  </a:lnTo>
                  <a:lnTo>
                    <a:pt x="1493" y="684"/>
                  </a:lnTo>
                  <a:lnTo>
                    <a:pt x="1504" y="684"/>
                  </a:lnTo>
                  <a:lnTo>
                    <a:pt x="1514" y="684"/>
                  </a:lnTo>
                  <a:lnTo>
                    <a:pt x="1527" y="686"/>
                  </a:lnTo>
                  <a:lnTo>
                    <a:pt x="1537" y="687"/>
                  </a:lnTo>
                  <a:lnTo>
                    <a:pt x="1553" y="693"/>
                  </a:lnTo>
                  <a:lnTo>
                    <a:pt x="1569" y="703"/>
                  </a:lnTo>
                  <a:lnTo>
                    <a:pt x="1585" y="713"/>
                  </a:lnTo>
                  <a:lnTo>
                    <a:pt x="1598" y="723"/>
                  </a:lnTo>
                  <a:lnTo>
                    <a:pt x="1604" y="734"/>
                  </a:lnTo>
                  <a:lnTo>
                    <a:pt x="1606" y="737"/>
                  </a:lnTo>
                  <a:lnTo>
                    <a:pt x="1609" y="742"/>
                  </a:lnTo>
                  <a:lnTo>
                    <a:pt x="1614" y="742"/>
                  </a:lnTo>
                  <a:lnTo>
                    <a:pt x="1619" y="747"/>
                  </a:lnTo>
                  <a:lnTo>
                    <a:pt x="1621" y="747"/>
                  </a:lnTo>
                  <a:lnTo>
                    <a:pt x="1627" y="749"/>
                  </a:lnTo>
                  <a:lnTo>
                    <a:pt x="1633" y="750"/>
                  </a:lnTo>
                  <a:lnTo>
                    <a:pt x="1646" y="752"/>
                  </a:lnTo>
                  <a:lnTo>
                    <a:pt x="1659" y="750"/>
                  </a:lnTo>
                  <a:lnTo>
                    <a:pt x="1675" y="750"/>
                  </a:lnTo>
                  <a:lnTo>
                    <a:pt x="1691" y="742"/>
                  </a:lnTo>
                  <a:lnTo>
                    <a:pt x="1714" y="737"/>
                  </a:lnTo>
                  <a:lnTo>
                    <a:pt x="1727" y="729"/>
                  </a:lnTo>
                  <a:lnTo>
                    <a:pt x="1741" y="724"/>
                  </a:lnTo>
                  <a:lnTo>
                    <a:pt x="1756" y="723"/>
                  </a:lnTo>
                  <a:lnTo>
                    <a:pt x="1772" y="724"/>
                  </a:lnTo>
                  <a:lnTo>
                    <a:pt x="1785" y="724"/>
                  </a:lnTo>
                  <a:lnTo>
                    <a:pt x="1799" y="726"/>
                  </a:lnTo>
                  <a:lnTo>
                    <a:pt x="1810" y="729"/>
                  </a:lnTo>
                  <a:lnTo>
                    <a:pt x="1821" y="736"/>
                  </a:lnTo>
                  <a:lnTo>
                    <a:pt x="1836" y="741"/>
                  </a:lnTo>
                  <a:lnTo>
                    <a:pt x="1849" y="741"/>
                  </a:lnTo>
                  <a:lnTo>
                    <a:pt x="1857" y="739"/>
                  </a:lnTo>
                  <a:lnTo>
                    <a:pt x="1867" y="737"/>
                  </a:lnTo>
                  <a:lnTo>
                    <a:pt x="1873" y="726"/>
                  </a:lnTo>
                  <a:lnTo>
                    <a:pt x="1881" y="718"/>
                  </a:lnTo>
                  <a:lnTo>
                    <a:pt x="1884" y="706"/>
                  </a:lnTo>
                  <a:lnTo>
                    <a:pt x="1888" y="699"/>
                  </a:lnTo>
                  <a:lnTo>
                    <a:pt x="1884" y="671"/>
                  </a:lnTo>
                  <a:lnTo>
                    <a:pt x="1868" y="648"/>
                  </a:lnTo>
                  <a:lnTo>
                    <a:pt x="1849" y="617"/>
                  </a:lnTo>
                  <a:lnTo>
                    <a:pt x="1826" y="583"/>
                  </a:lnTo>
                  <a:lnTo>
                    <a:pt x="1807" y="549"/>
                  </a:lnTo>
                  <a:lnTo>
                    <a:pt x="1785" y="510"/>
                  </a:lnTo>
                  <a:lnTo>
                    <a:pt x="1768" y="474"/>
                  </a:lnTo>
                  <a:lnTo>
                    <a:pt x="1756" y="443"/>
                  </a:lnTo>
                  <a:lnTo>
                    <a:pt x="1749" y="419"/>
                  </a:lnTo>
                  <a:lnTo>
                    <a:pt x="1748" y="399"/>
                  </a:lnTo>
                  <a:lnTo>
                    <a:pt x="1748" y="385"/>
                  </a:lnTo>
                  <a:lnTo>
                    <a:pt x="1749" y="369"/>
                  </a:lnTo>
                  <a:lnTo>
                    <a:pt x="1754" y="357"/>
                  </a:lnTo>
                  <a:lnTo>
                    <a:pt x="1756" y="344"/>
                  </a:lnTo>
                  <a:lnTo>
                    <a:pt x="1759" y="335"/>
                  </a:lnTo>
                  <a:lnTo>
                    <a:pt x="1765" y="328"/>
                  </a:lnTo>
                  <a:lnTo>
                    <a:pt x="1770" y="322"/>
                  </a:lnTo>
                  <a:lnTo>
                    <a:pt x="1777" y="315"/>
                  </a:lnTo>
                  <a:lnTo>
                    <a:pt x="1790" y="313"/>
                  </a:lnTo>
                  <a:lnTo>
                    <a:pt x="1802" y="313"/>
                  </a:lnTo>
                  <a:lnTo>
                    <a:pt x="1821" y="317"/>
                  </a:lnTo>
                  <a:lnTo>
                    <a:pt x="1833" y="317"/>
                  </a:lnTo>
                  <a:lnTo>
                    <a:pt x="1849" y="317"/>
                  </a:lnTo>
                  <a:lnTo>
                    <a:pt x="1846" y="291"/>
                  </a:lnTo>
                  <a:lnTo>
                    <a:pt x="1838" y="291"/>
                  </a:lnTo>
                  <a:lnTo>
                    <a:pt x="1828" y="291"/>
                  </a:lnTo>
                  <a:lnTo>
                    <a:pt x="1796" y="287"/>
                  </a:lnTo>
                  <a:lnTo>
                    <a:pt x="1770" y="291"/>
                  </a:lnTo>
                  <a:lnTo>
                    <a:pt x="1752" y="302"/>
                  </a:lnTo>
                  <a:lnTo>
                    <a:pt x="1739" y="318"/>
                  </a:lnTo>
                  <a:lnTo>
                    <a:pt x="1728" y="338"/>
                  </a:lnTo>
                  <a:lnTo>
                    <a:pt x="1725" y="364"/>
                  </a:lnTo>
                  <a:lnTo>
                    <a:pt x="1723" y="390"/>
                  </a:lnTo>
                  <a:lnTo>
                    <a:pt x="1727" y="421"/>
                  </a:lnTo>
                  <a:lnTo>
                    <a:pt x="1733" y="455"/>
                  </a:lnTo>
                  <a:lnTo>
                    <a:pt x="1749" y="497"/>
                  </a:lnTo>
                  <a:lnTo>
                    <a:pt x="1772" y="539"/>
                  </a:lnTo>
                  <a:lnTo>
                    <a:pt x="1797" y="583"/>
                  </a:lnTo>
                  <a:lnTo>
                    <a:pt x="1821" y="622"/>
                  </a:lnTo>
                  <a:lnTo>
                    <a:pt x="1843" y="655"/>
                  </a:lnTo>
                  <a:lnTo>
                    <a:pt x="1857" y="677"/>
                  </a:lnTo>
                  <a:lnTo>
                    <a:pt x="1865" y="686"/>
                  </a:lnTo>
                  <a:lnTo>
                    <a:pt x="1863" y="692"/>
                  </a:lnTo>
                  <a:lnTo>
                    <a:pt x="1859" y="705"/>
                  </a:lnTo>
                  <a:lnTo>
                    <a:pt x="1854" y="708"/>
                  </a:lnTo>
                  <a:lnTo>
                    <a:pt x="1850" y="713"/>
                  </a:lnTo>
                  <a:lnTo>
                    <a:pt x="1843" y="715"/>
                  </a:lnTo>
                  <a:lnTo>
                    <a:pt x="1833" y="713"/>
                  </a:lnTo>
                  <a:lnTo>
                    <a:pt x="1819" y="706"/>
                  </a:lnTo>
                  <a:lnTo>
                    <a:pt x="1804" y="703"/>
                  </a:lnTo>
                  <a:lnTo>
                    <a:pt x="1788" y="697"/>
                  </a:lnTo>
                  <a:lnTo>
                    <a:pt x="1772" y="697"/>
                  </a:lnTo>
                  <a:lnTo>
                    <a:pt x="1752" y="697"/>
                  </a:lnTo>
                  <a:lnTo>
                    <a:pt x="1735" y="700"/>
                  </a:lnTo>
                  <a:lnTo>
                    <a:pt x="1717" y="705"/>
                  </a:lnTo>
                  <a:lnTo>
                    <a:pt x="1701" y="713"/>
                  </a:lnTo>
                  <a:lnTo>
                    <a:pt x="1685" y="719"/>
                  </a:lnTo>
                  <a:lnTo>
                    <a:pt x="1670" y="723"/>
                  </a:lnTo>
                  <a:lnTo>
                    <a:pt x="1657" y="724"/>
                  </a:lnTo>
                  <a:lnTo>
                    <a:pt x="1648" y="726"/>
                  </a:lnTo>
                  <a:lnTo>
                    <a:pt x="1632" y="724"/>
                  </a:lnTo>
                  <a:lnTo>
                    <a:pt x="1628" y="723"/>
                  </a:lnTo>
                  <a:lnTo>
                    <a:pt x="1619" y="711"/>
                  </a:lnTo>
                  <a:lnTo>
                    <a:pt x="1609" y="703"/>
                  </a:lnTo>
                  <a:lnTo>
                    <a:pt x="1599" y="693"/>
                  </a:lnTo>
                  <a:lnTo>
                    <a:pt x="1588" y="686"/>
                  </a:lnTo>
                  <a:lnTo>
                    <a:pt x="1577" y="679"/>
                  </a:lnTo>
                  <a:lnTo>
                    <a:pt x="1569" y="673"/>
                  </a:lnTo>
                  <a:lnTo>
                    <a:pt x="1561" y="669"/>
                  </a:lnTo>
                  <a:lnTo>
                    <a:pt x="1504" y="658"/>
                  </a:lnTo>
                  <a:lnTo>
                    <a:pt x="1466" y="664"/>
                  </a:lnTo>
                  <a:lnTo>
                    <a:pt x="1439" y="682"/>
                  </a:lnTo>
                  <a:lnTo>
                    <a:pt x="1424" y="710"/>
                  </a:lnTo>
                  <a:lnTo>
                    <a:pt x="1416" y="737"/>
                  </a:lnTo>
                  <a:lnTo>
                    <a:pt x="1414" y="763"/>
                  </a:lnTo>
                  <a:lnTo>
                    <a:pt x="1414" y="781"/>
                  </a:lnTo>
                  <a:lnTo>
                    <a:pt x="1416" y="791"/>
                  </a:lnTo>
                  <a:lnTo>
                    <a:pt x="1414" y="791"/>
                  </a:lnTo>
                  <a:lnTo>
                    <a:pt x="1410" y="798"/>
                  </a:lnTo>
                  <a:lnTo>
                    <a:pt x="1403" y="807"/>
                  </a:lnTo>
                  <a:lnTo>
                    <a:pt x="1397" y="818"/>
                  </a:lnTo>
                  <a:lnTo>
                    <a:pt x="1388" y="828"/>
                  </a:lnTo>
                  <a:lnTo>
                    <a:pt x="1379" y="836"/>
                  </a:lnTo>
                  <a:lnTo>
                    <a:pt x="1368" y="843"/>
                  </a:lnTo>
                  <a:lnTo>
                    <a:pt x="1359" y="848"/>
                  </a:lnTo>
                  <a:lnTo>
                    <a:pt x="1345" y="848"/>
                  </a:lnTo>
                  <a:lnTo>
                    <a:pt x="1328" y="848"/>
                  </a:lnTo>
                  <a:lnTo>
                    <a:pt x="1310" y="849"/>
                  </a:lnTo>
                  <a:lnTo>
                    <a:pt x="1292" y="854"/>
                  </a:lnTo>
                  <a:lnTo>
                    <a:pt x="1271" y="861"/>
                  </a:lnTo>
                  <a:lnTo>
                    <a:pt x="1252" y="867"/>
                  </a:lnTo>
                  <a:lnTo>
                    <a:pt x="1234" y="875"/>
                  </a:lnTo>
                  <a:lnTo>
                    <a:pt x="1218" y="886"/>
                  </a:lnTo>
                  <a:lnTo>
                    <a:pt x="1190" y="892"/>
                  </a:lnTo>
                  <a:lnTo>
                    <a:pt x="1154" y="895"/>
                  </a:lnTo>
                  <a:lnTo>
                    <a:pt x="1107" y="895"/>
                  </a:lnTo>
                  <a:lnTo>
                    <a:pt x="1054" y="893"/>
                  </a:lnTo>
                  <a:lnTo>
                    <a:pt x="996" y="888"/>
                  </a:lnTo>
                  <a:lnTo>
                    <a:pt x="943" y="882"/>
                  </a:lnTo>
                  <a:lnTo>
                    <a:pt x="893" y="875"/>
                  </a:lnTo>
                  <a:lnTo>
                    <a:pt x="857" y="867"/>
                  </a:lnTo>
                  <a:lnTo>
                    <a:pt x="827" y="862"/>
                  </a:lnTo>
                  <a:lnTo>
                    <a:pt x="801" y="864"/>
                  </a:lnTo>
                  <a:lnTo>
                    <a:pt x="780" y="867"/>
                  </a:lnTo>
                  <a:lnTo>
                    <a:pt x="766" y="879"/>
                  </a:lnTo>
                  <a:lnTo>
                    <a:pt x="755" y="888"/>
                  </a:lnTo>
                  <a:lnTo>
                    <a:pt x="747" y="898"/>
                  </a:lnTo>
                  <a:lnTo>
                    <a:pt x="742" y="905"/>
                  </a:lnTo>
                  <a:lnTo>
                    <a:pt x="742" y="908"/>
                  </a:lnTo>
                  <a:lnTo>
                    <a:pt x="738" y="912"/>
                  </a:lnTo>
                  <a:lnTo>
                    <a:pt x="734" y="921"/>
                  </a:lnTo>
                  <a:lnTo>
                    <a:pt x="728" y="934"/>
                  </a:lnTo>
                  <a:lnTo>
                    <a:pt x="720" y="948"/>
                  </a:lnTo>
                  <a:lnTo>
                    <a:pt x="709" y="958"/>
                  </a:lnTo>
                  <a:lnTo>
                    <a:pt x="699" y="961"/>
                  </a:lnTo>
                  <a:lnTo>
                    <a:pt x="687" y="956"/>
                  </a:lnTo>
                  <a:lnTo>
                    <a:pt x="678" y="942"/>
                  </a:lnTo>
                  <a:lnTo>
                    <a:pt x="665" y="917"/>
                  </a:lnTo>
                  <a:lnTo>
                    <a:pt x="649" y="898"/>
                  </a:lnTo>
                  <a:lnTo>
                    <a:pt x="631" y="879"/>
                  </a:lnTo>
                  <a:lnTo>
                    <a:pt x="612" y="867"/>
                  </a:lnTo>
                  <a:lnTo>
                    <a:pt x="594" y="854"/>
                  </a:lnTo>
                  <a:lnTo>
                    <a:pt x="581" y="849"/>
                  </a:lnTo>
                  <a:lnTo>
                    <a:pt x="570" y="844"/>
                  </a:lnTo>
                  <a:lnTo>
                    <a:pt x="569" y="844"/>
                  </a:lnTo>
                  <a:lnTo>
                    <a:pt x="475" y="831"/>
                  </a:lnTo>
                  <a:lnTo>
                    <a:pt x="395" y="812"/>
                  </a:lnTo>
                  <a:lnTo>
                    <a:pt x="325" y="786"/>
                  </a:lnTo>
                  <a:lnTo>
                    <a:pt x="271" y="760"/>
                  </a:lnTo>
                  <a:lnTo>
                    <a:pt x="225" y="728"/>
                  </a:lnTo>
                  <a:lnTo>
                    <a:pt x="190" y="699"/>
                  </a:lnTo>
                  <a:lnTo>
                    <a:pt x="167" y="671"/>
                  </a:lnTo>
                  <a:lnTo>
                    <a:pt x="156" y="651"/>
                  </a:lnTo>
                  <a:lnTo>
                    <a:pt x="147" y="629"/>
                  </a:lnTo>
                  <a:lnTo>
                    <a:pt x="142" y="607"/>
                  </a:lnTo>
                  <a:lnTo>
                    <a:pt x="132" y="581"/>
                  </a:lnTo>
                  <a:lnTo>
                    <a:pt x="127" y="559"/>
                  </a:lnTo>
                  <a:lnTo>
                    <a:pt x="120" y="536"/>
                  </a:lnTo>
                  <a:lnTo>
                    <a:pt x="113" y="517"/>
                  </a:lnTo>
                  <a:lnTo>
                    <a:pt x="107" y="500"/>
                  </a:lnTo>
                  <a:lnTo>
                    <a:pt x="103" y="491"/>
                  </a:lnTo>
                  <a:lnTo>
                    <a:pt x="98" y="481"/>
                  </a:lnTo>
                  <a:lnTo>
                    <a:pt x="98" y="469"/>
                  </a:lnTo>
                  <a:lnTo>
                    <a:pt x="98" y="456"/>
                  </a:lnTo>
                  <a:lnTo>
                    <a:pt x="102" y="442"/>
                  </a:lnTo>
                  <a:lnTo>
                    <a:pt x="102" y="424"/>
                  </a:lnTo>
                  <a:lnTo>
                    <a:pt x="102" y="405"/>
                  </a:lnTo>
                  <a:lnTo>
                    <a:pt x="100" y="383"/>
                  </a:lnTo>
                  <a:lnTo>
                    <a:pt x="97" y="362"/>
                  </a:lnTo>
                  <a:lnTo>
                    <a:pt x="87" y="338"/>
                  </a:lnTo>
                  <a:lnTo>
                    <a:pt x="82" y="322"/>
                  </a:lnTo>
                  <a:lnTo>
                    <a:pt x="73" y="306"/>
                  </a:lnTo>
                  <a:lnTo>
                    <a:pt x="68" y="294"/>
                  </a:lnTo>
                  <a:lnTo>
                    <a:pt x="58" y="280"/>
                  </a:lnTo>
                  <a:lnTo>
                    <a:pt x="55" y="276"/>
                  </a:lnTo>
                  <a:lnTo>
                    <a:pt x="32" y="254"/>
                  </a:lnTo>
                  <a:lnTo>
                    <a:pt x="26" y="239"/>
                  </a:lnTo>
                  <a:lnTo>
                    <a:pt x="23" y="229"/>
                  </a:lnTo>
                  <a:lnTo>
                    <a:pt x="31" y="224"/>
                  </a:lnTo>
                  <a:lnTo>
                    <a:pt x="40" y="221"/>
                  </a:lnTo>
                  <a:lnTo>
                    <a:pt x="50" y="223"/>
                  </a:lnTo>
                  <a:lnTo>
                    <a:pt x="61" y="224"/>
                  </a:lnTo>
                  <a:lnTo>
                    <a:pt x="73" y="229"/>
                  </a:lnTo>
                  <a:lnTo>
                    <a:pt x="79" y="229"/>
                  </a:lnTo>
                  <a:lnTo>
                    <a:pt x="92" y="231"/>
                  </a:lnTo>
                  <a:lnTo>
                    <a:pt x="107" y="229"/>
                  </a:lnTo>
                  <a:lnTo>
                    <a:pt x="124" y="226"/>
                  </a:lnTo>
                  <a:lnTo>
                    <a:pt x="138" y="223"/>
                  </a:lnTo>
                  <a:lnTo>
                    <a:pt x="155" y="219"/>
                  </a:lnTo>
                  <a:lnTo>
                    <a:pt x="166" y="216"/>
                  </a:lnTo>
                  <a:lnTo>
                    <a:pt x="176" y="214"/>
                  </a:lnTo>
                  <a:lnTo>
                    <a:pt x="182" y="208"/>
                  </a:lnTo>
                  <a:lnTo>
                    <a:pt x="192" y="206"/>
                  </a:lnTo>
                  <a:lnTo>
                    <a:pt x="203" y="203"/>
                  </a:lnTo>
                  <a:lnTo>
                    <a:pt x="216" y="203"/>
                  </a:lnTo>
                  <a:lnTo>
                    <a:pt x="227" y="201"/>
                  </a:lnTo>
                  <a:lnTo>
                    <a:pt x="238" y="201"/>
                  </a:lnTo>
                  <a:lnTo>
                    <a:pt x="248" y="199"/>
                  </a:lnTo>
                  <a:lnTo>
                    <a:pt x="261" y="199"/>
                  </a:lnTo>
                  <a:lnTo>
                    <a:pt x="271" y="197"/>
                  </a:lnTo>
                  <a:lnTo>
                    <a:pt x="282" y="195"/>
                  </a:lnTo>
                  <a:lnTo>
                    <a:pt x="293" y="193"/>
                  </a:lnTo>
                  <a:lnTo>
                    <a:pt x="307" y="193"/>
                  </a:lnTo>
                  <a:lnTo>
                    <a:pt x="320" y="190"/>
                  </a:lnTo>
                  <a:lnTo>
                    <a:pt x="336" y="188"/>
                  </a:lnTo>
                  <a:lnTo>
                    <a:pt x="353" y="182"/>
                  </a:lnTo>
                  <a:lnTo>
                    <a:pt x="372" y="177"/>
                  </a:lnTo>
                  <a:lnTo>
                    <a:pt x="388" y="168"/>
                  </a:lnTo>
                  <a:lnTo>
                    <a:pt x="409" y="162"/>
                  </a:lnTo>
                  <a:lnTo>
                    <a:pt x="427" y="156"/>
                  </a:lnTo>
                  <a:lnTo>
                    <a:pt x="449" y="156"/>
                  </a:lnTo>
                  <a:lnTo>
                    <a:pt x="469" y="156"/>
                  </a:lnTo>
                  <a:lnTo>
                    <a:pt x="489" y="162"/>
                  </a:lnTo>
                  <a:lnTo>
                    <a:pt x="511" y="171"/>
                  </a:lnTo>
                  <a:lnTo>
                    <a:pt x="533" y="187"/>
                  </a:lnTo>
                  <a:lnTo>
                    <a:pt x="552" y="193"/>
                  </a:lnTo>
                  <a:lnTo>
                    <a:pt x="573" y="190"/>
                  </a:lnTo>
                  <a:lnTo>
                    <a:pt x="591" y="179"/>
                  </a:lnTo>
                  <a:lnTo>
                    <a:pt x="609" y="162"/>
                  </a:lnTo>
                  <a:lnTo>
                    <a:pt x="623" y="142"/>
                  </a:lnTo>
                  <a:lnTo>
                    <a:pt x="636" y="122"/>
                  </a:lnTo>
                  <a:lnTo>
                    <a:pt x="647" y="104"/>
                  </a:lnTo>
                  <a:lnTo>
                    <a:pt x="657" y="93"/>
                  </a:lnTo>
                  <a:lnTo>
                    <a:pt x="660" y="80"/>
                  </a:lnTo>
                  <a:lnTo>
                    <a:pt x="665" y="67"/>
                  </a:lnTo>
                  <a:lnTo>
                    <a:pt x="669" y="54"/>
                  </a:lnTo>
                  <a:lnTo>
                    <a:pt x="675" y="43"/>
                  </a:lnTo>
                  <a:lnTo>
                    <a:pt x="680" y="31"/>
                  </a:lnTo>
                  <a:lnTo>
                    <a:pt x="689" y="28"/>
                  </a:lnTo>
                  <a:lnTo>
                    <a:pt x="702" y="28"/>
                  </a:lnTo>
                  <a:lnTo>
                    <a:pt x="720" y="36"/>
                  </a:lnTo>
                  <a:lnTo>
                    <a:pt x="749" y="49"/>
                  </a:lnTo>
                  <a:lnTo>
                    <a:pt x="797" y="69"/>
                  </a:lnTo>
                  <a:lnTo>
                    <a:pt x="859" y="93"/>
                  </a:lnTo>
                  <a:lnTo>
                    <a:pt x="928" y="120"/>
                  </a:lnTo>
                  <a:lnTo>
                    <a:pt x="997" y="142"/>
                  </a:lnTo>
                  <a:lnTo>
                    <a:pt x="1062" y="164"/>
                  </a:lnTo>
                  <a:lnTo>
                    <a:pt x="1117" y="181"/>
                  </a:lnTo>
                  <a:lnTo>
                    <a:pt x="1157" y="193"/>
                  </a:lnTo>
                  <a:lnTo>
                    <a:pt x="1199" y="197"/>
                  </a:lnTo>
                  <a:lnTo>
                    <a:pt x="1266" y="203"/>
                  </a:lnTo>
                  <a:lnTo>
                    <a:pt x="1350" y="206"/>
                  </a:lnTo>
                  <a:lnTo>
                    <a:pt x="1443" y="210"/>
                  </a:lnTo>
                  <a:lnTo>
                    <a:pt x="1533" y="210"/>
                  </a:lnTo>
                  <a:lnTo>
                    <a:pt x="1617" y="210"/>
                  </a:lnTo>
                  <a:lnTo>
                    <a:pt x="1686" y="206"/>
                  </a:lnTo>
                  <a:lnTo>
                    <a:pt x="1732" y="203"/>
                  </a:lnTo>
                  <a:lnTo>
                    <a:pt x="1746" y="197"/>
                  </a:lnTo>
                  <a:lnTo>
                    <a:pt x="1761" y="192"/>
                  </a:lnTo>
                  <a:lnTo>
                    <a:pt x="1773" y="187"/>
                  </a:lnTo>
                  <a:lnTo>
                    <a:pt x="1788" y="181"/>
                  </a:lnTo>
                  <a:lnTo>
                    <a:pt x="1799" y="174"/>
                  </a:lnTo>
                  <a:lnTo>
                    <a:pt x="1810" y="168"/>
                  </a:lnTo>
                  <a:lnTo>
                    <a:pt x="1821" y="161"/>
                  </a:lnTo>
                  <a:lnTo>
                    <a:pt x="1831" y="155"/>
                  </a:lnTo>
                  <a:lnTo>
                    <a:pt x="1830" y="124"/>
                  </a:lnTo>
                  <a:lnTo>
                    <a:pt x="1819" y="131"/>
                  </a:lnTo>
                  <a:lnTo>
                    <a:pt x="1809" y="138"/>
                  </a:lnTo>
                  <a:lnTo>
                    <a:pt x="1797" y="146"/>
                  </a:lnTo>
                  <a:lnTo>
                    <a:pt x="1786" y="153"/>
                  </a:lnTo>
                  <a:lnTo>
                    <a:pt x="1772" y="159"/>
                  </a:lnTo>
                  <a:lnTo>
                    <a:pt x="1757" y="164"/>
                  </a:lnTo>
                  <a:lnTo>
                    <a:pt x="1741" y="169"/>
                  </a:lnTo>
                  <a:lnTo>
                    <a:pt x="1727" y="177"/>
                  </a:lnTo>
                  <a:lnTo>
                    <a:pt x="1681" y="181"/>
                  </a:lnTo>
                  <a:lnTo>
                    <a:pt x="1615" y="184"/>
                  </a:lnTo>
                  <a:lnTo>
                    <a:pt x="1532" y="184"/>
                  </a:lnTo>
                  <a:lnTo>
                    <a:pt x="1440" y="184"/>
                  </a:lnTo>
                  <a:lnTo>
                    <a:pt x="1348" y="181"/>
                  </a:lnTo>
                  <a:lnTo>
                    <a:pt x="1266" y="177"/>
                  </a:lnTo>
                  <a:lnTo>
                    <a:pt x="1199" y="171"/>
                  </a:lnTo>
                  <a:lnTo>
                    <a:pt x="1157" y="168"/>
                  </a:lnTo>
                  <a:lnTo>
                    <a:pt x="115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50840" y="6109200"/>
              <a:ext cx="720" cy="2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13"/>
                  </a:moveTo>
                  <a:lnTo>
                    <a:pt x="7" y="9"/>
                  </a:lnTo>
                  <a:lnTo>
                    <a:pt x="7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45080" y="6035040"/>
              <a:ext cx="43560" cy="37080"/>
            </a:xfrm>
            <a:custGeom>
              <a:avLst/>
              <a:gdLst/>
              <a:ahLst/>
              <a:rect l="l" t="t" r="r" b="b"/>
              <a:pathLst>
                <a:path w="393" h="390">
                  <a:moveTo>
                    <a:pt x="164" y="230"/>
                  </a:moveTo>
                  <a:lnTo>
                    <a:pt x="168" y="226"/>
                  </a:lnTo>
                  <a:lnTo>
                    <a:pt x="181" y="218"/>
                  </a:lnTo>
                  <a:lnTo>
                    <a:pt x="199" y="205"/>
                  </a:lnTo>
                  <a:lnTo>
                    <a:pt x="223" y="190"/>
                  </a:lnTo>
                  <a:lnTo>
                    <a:pt x="246" y="171"/>
                  </a:lnTo>
                  <a:lnTo>
                    <a:pt x="269" y="153"/>
                  </a:lnTo>
                  <a:lnTo>
                    <a:pt x="290" y="135"/>
                  </a:lnTo>
                  <a:lnTo>
                    <a:pt x="306" y="120"/>
                  </a:lnTo>
                  <a:lnTo>
                    <a:pt x="317" y="99"/>
                  </a:lnTo>
                  <a:lnTo>
                    <a:pt x="332" y="81"/>
                  </a:lnTo>
                  <a:lnTo>
                    <a:pt x="346" y="62"/>
                  </a:lnTo>
                  <a:lnTo>
                    <a:pt x="361" y="43"/>
                  </a:lnTo>
                  <a:lnTo>
                    <a:pt x="372" y="24"/>
                  </a:lnTo>
                  <a:lnTo>
                    <a:pt x="383" y="12"/>
                  </a:lnTo>
                  <a:lnTo>
                    <a:pt x="390" y="2"/>
                  </a:lnTo>
                  <a:lnTo>
                    <a:pt x="393" y="0"/>
                  </a:lnTo>
                  <a:lnTo>
                    <a:pt x="385" y="5"/>
                  </a:lnTo>
                  <a:lnTo>
                    <a:pt x="364" y="23"/>
                  </a:lnTo>
                  <a:lnTo>
                    <a:pt x="335" y="44"/>
                  </a:lnTo>
                  <a:lnTo>
                    <a:pt x="303" y="74"/>
                  </a:lnTo>
                  <a:lnTo>
                    <a:pt x="264" y="104"/>
                  </a:lnTo>
                  <a:lnTo>
                    <a:pt x="230" y="130"/>
                  </a:lnTo>
                  <a:lnTo>
                    <a:pt x="199" y="151"/>
                  </a:lnTo>
                  <a:lnTo>
                    <a:pt x="181" y="166"/>
                  </a:lnTo>
                  <a:lnTo>
                    <a:pt x="164" y="169"/>
                  </a:lnTo>
                  <a:lnTo>
                    <a:pt x="148" y="171"/>
                  </a:lnTo>
                  <a:lnTo>
                    <a:pt x="134" y="171"/>
                  </a:lnTo>
                  <a:lnTo>
                    <a:pt x="119" y="171"/>
                  </a:lnTo>
                  <a:lnTo>
                    <a:pt x="103" y="171"/>
                  </a:lnTo>
                  <a:lnTo>
                    <a:pt x="86" y="177"/>
                  </a:lnTo>
                  <a:lnTo>
                    <a:pt x="71" y="184"/>
                  </a:lnTo>
                  <a:lnTo>
                    <a:pt x="57" y="200"/>
                  </a:lnTo>
                  <a:lnTo>
                    <a:pt x="41" y="213"/>
                  </a:lnTo>
                  <a:lnTo>
                    <a:pt x="28" y="228"/>
                  </a:lnTo>
                  <a:lnTo>
                    <a:pt x="13" y="241"/>
                  </a:lnTo>
                  <a:lnTo>
                    <a:pt x="0" y="254"/>
                  </a:lnTo>
                  <a:lnTo>
                    <a:pt x="15" y="390"/>
                  </a:lnTo>
                  <a:lnTo>
                    <a:pt x="44" y="380"/>
                  </a:lnTo>
                  <a:lnTo>
                    <a:pt x="74" y="361"/>
                  </a:lnTo>
                  <a:lnTo>
                    <a:pt x="97" y="335"/>
                  </a:lnTo>
                  <a:lnTo>
                    <a:pt x="121" y="307"/>
                  </a:lnTo>
                  <a:lnTo>
                    <a:pt x="137" y="276"/>
                  </a:lnTo>
                  <a:lnTo>
                    <a:pt x="152" y="252"/>
                  </a:lnTo>
                  <a:lnTo>
                    <a:pt x="161" y="236"/>
                  </a:lnTo>
                  <a:lnTo>
                    <a:pt x="164" y="23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f7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3480" y="6047640"/>
              <a:ext cx="204840" cy="89640"/>
            </a:xfrm>
            <a:custGeom>
              <a:avLst/>
              <a:gdLst/>
              <a:ahLst/>
              <a:rect l="l" t="t" r="r" b="b"/>
              <a:pathLst>
                <a:path w="1842" h="933">
                  <a:moveTo>
                    <a:pt x="1709" y="175"/>
                  </a:moveTo>
                  <a:lnTo>
                    <a:pt x="1663" y="178"/>
                  </a:lnTo>
                  <a:lnTo>
                    <a:pt x="1594" y="182"/>
                  </a:lnTo>
                  <a:lnTo>
                    <a:pt x="1510" y="182"/>
                  </a:lnTo>
                  <a:lnTo>
                    <a:pt x="1420" y="182"/>
                  </a:lnTo>
                  <a:lnTo>
                    <a:pt x="1327" y="178"/>
                  </a:lnTo>
                  <a:lnTo>
                    <a:pt x="1243" y="175"/>
                  </a:lnTo>
                  <a:lnTo>
                    <a:pt x="1176" y="169"/>
                  </a:lnTo>
                  <a:lnTo>
                    <a:pt x="1134" y="165"/>
                  </a:lnTo>
                  <a:lnTo>
                    <a:pt x="1094" y="153"/>
                  </a:lnTo>
                  <a:lnTo>
                    <a:pt x="1039" y="136"/>
                  </a:lnTo>
                  <a:lnTo>
                    <a:pt x="974" y="114"/>
                  </a:lnTo>
                  <a:lnTo>
                    <a:pt x="905" y="92"/>
                  </a:lnTo>
                  <a:lnTo>
                    <a:pt x="836" y="65"/>
                  </a:lnTo>
                  <a:lnTo>
                    <a:pt x="774" y="41"/>
                  </a:lnTo>
                  <a:lnTo>
                    <a:pt x="726" y="21"/>
                  </a:lnTo>
                  <a:lnTo>
                    <a:pt x="697" y="8"/>
                  </a:lnTo>
                  <a:lnTo>
                    <a:pt x="679" y="0"/>
                  </a:lnTo>
                  <a:lnTo>
                    <a:pt x="666" y="0"/>
                  </a:lnTo>
                  <a:lnTo>
                    <a:pt x="657" y="3"/>
                  </a:lnTo>
                  <a:lnTo>
                    <a:pt x="652" y="15"/>
                  </a:lnTo>
                  <a:lnTo>
                    <a:pt x="646" y="26"/>
                  </a:lnTo>
                  <a:lnTo>
                    <a:pt x="642" y="39"/>
                  </a:lnTo>
                  <a:lnTo>
                    <a:pt x="637" y="52"/>
                  </a:lnTo>
                  <a:lnTo>
                    <a:pt x="634" y="65"/>
                  </a:lnTo>
                  <a:lnTo>
                    <a:pt x="624" y="76"/>
                  </a:lnTo>
                  <a:lnTo>
                    <a:pt x="613" y="94"/>
                  </a:lnTo>
                  <a:lnTo>
                    <a:pt x="600" y="114"/>
                  </a:lnTo>
                  <a:lnTo>
                    <a:pt x="586" y="134"/>
                  </a:lnTo>
                  <a:lnTo>
                    <a:pt x="568" y="151"/>
                  </a:lnTo>
                  <a:lnTo>
                    <a:pt x="550" y="162"/>
                  </a:lnTo>
                  <a:lnTo>
                    <a:pt x="529" y="165"/>
                  </a:lnTo>
                  <a:lnTo>
                    <a:pt x="510" y="159"/>
                  </a:lnTo>
                  <a:lnTo>
                    <a:pt x="488" y="143"/>
                  </a:lnTo>
                  <a:lnTo>
                    <a:pt x="466" y="134"/>
                  </a:lnTo>
                  <a:lnTo>
                    <a:pt x="446" y="128"/>
                  </a:lnTo>
                  <a:lnTo>
                    <a:pt x="426" y="128"/>
                  </a:lnTo>
                  <a:lnTo>
                    <a:pt x="404" y="128"/>
                  </a:lnTo>
                  <a:lnTo>
                    <a:pt x="386" y="134"/>
                  </a:lnTo>
                  <a:lnTo>
                    <a:pt x="365" y="140"/>
                  </a:lnTo>
                  <a:lnTo>
                    <a:pt x="349" y="149"/>
                  </a:lnTo>
                  <a:lnTo>
                    <a:pt x="330" y="154"/>
                  </a:lnTo>
                  <a:lnTo>
                    <a:pt x="313" y="160"/>
                  </a:lnTo>
                  <a:lnTo>
                    <a:pt x="297" y="162"/>
                  </a:lnTo>
                  <a:lnTo>
                    <a:pt x="284" y="165"/>
                  </a:lnTo>
                  <a:lnTo>
                    <a:pt x="270" y="165"/>
                  </a:lnTo>
                  <a:lnTo>
                    <a:pt x="259" y="167"/>
                  </a:lnTo>
                  <a:lnTo>
                    <a:pt x="248" y="169"/>
                  </a:lnTo>
                  <a:lnTo>
                    <a:pt x="238" y="171"/>
                  </a:lnTo>
                  <a:lnTo>
                    <a:pt x="225" y="171"/>
                  </a:lnTo>
                  <a:lnTo>
                    <a:pt x="215" y="173"/>
                  </a:lnTo>
                  <a:lnTo>
                    <a:pt x="204" y="173"/>
                  </a:lnTo>
                  <a:lnTo>
                    <a:pt x="193" y="175"/>
                  </a:lnTo>
                  <a:lnTo>
                    <a:pt x="180" y="175"/>
                  </a:lnTo>
                  <a:lnTo>
                    <a:pt x="169" y="178"/>
                  </a:lnTo>
                  <a:lnTo>
                    <a:pt x="159" y="180"/>
                  </a:lnTo>
                  <a:lnTo>
                    <a:pt x="153" y="186"/>
                  </a:lnTo>
                  <a:lnTo>
                    <a:pt x="143" y="188"/>
                  </a:lnTo>
                  <a:lnTo>
                    <a:pt x="132" y="191"/>
                  </a:lnTo>
                  <a:lnTo>
                    <a:pt x="115" y="195"/>
                  </a:lnTo>
                  <a:lnTo>
                    <a:pt x="101" y="198"/>
                  </a:lnTo>
                  <a:lnTo>
                    <a:pt x="84" y="201"/>
                  </a:lnTo>
                  <a:lnTo>
                    <a:pt x="69" y="203"/>
                  </a:lnTo>
                  <a:lnTo>
                    <a:pt x="56" y="201"/>
                  </a:lnTo>
                  <a:lnTo>
                    <a:pt x="50" y="201"/>
                  </a:lnTo>
                  <a:lnTo>
                    <a:pt x="38" y="196"/>
                  </a:lnTo>
                  <a:lnTo>
                    <a:pt x="27" y="195"/>
                  </a:lnTo>
                  <a:lnTo>
                    <a:pt x="17" y="193"/>
                  </a:lnTo>
                  <a:lnTo>
                    <a:pt x="8" y="196"/>
                  </a:lnTo>
                  <a:lnTo>
                    <a:pt x="0" y="201"/>
                  </a:lnTo>
                  <a:lnTo>
                    <a:pt x="3" y="211"/>
                  </a:lnTo>
                  <a:lnTo>
                    <a:pt x="9" y="226"/>
                  </a:lnTo>
                  <a:lnTo>
                    <a:pt x="32" y="248"/>
                  </a:lnTo>
                  <a:lnTo>
                    <a:pt x="35" y="252"/>
                  </a:lnTo>
                  <a:lnTo>
                    <a:pt x="45" y="266"/>
                  </a:lnTo>
                  <a:lnTo>
                    <a:pt x="50" y="278"/>
                  </a:lnTo>
                  <a:lnTo>
                    <a:pt x="59" y="294"/>
                  </a:lnTo>
                  <a:lnTo>
                    <a:pt x="64" y="310"/>
                  </a:lnTo>
                  <a:lnTo>
                    <a:pt x="74" y="334"/>
                  </a:lnTo>
                  <a:lnTo>
                    <a:pt x="77" y="355"/>
                  </a:lnTo>
                  <a:lnTo>
                    <a:pt x="79" y="377"/>
                  </a:lnTo>
                  <a:lnTo>
                    <a:pt x="79" y="396"/>
                  </a:lnTo>
                  <a:lnTo>
                    <a:pt x="79" y="414"/>
                  </a:lnTo>
                  <a:lnTo>
                    <a:pt x="75" y="428"/>
                  </a:lnTo>
                  <a:lnTo>
                    <a:pt x="75" y="441"/>
                  </a:lnTo>
                  <a:lnTo>
                    <a:pt x="75" y="453"/>
                  </a:lnTo>
                  <a:lnTo>
                    <a:pt x="80" y="463"/>
                  </a:lnTo>
                  <a:lnTo>
                    <a:pt x="84" y="472"/>
                  </a:lnTo>
                  <a:lnTo>
                    <a:pt x="90" y="489"/>
                  </a:lnTo>
                  <a:lnTo>
                    <a:pt x="97" y="508"/>
                  </a:lnTo>
                  <a:lnTo>
                    <a:pt x="104" y="531"/>
                  </a:lnTo>
                  <a:lnTo>
                    <a:pt x="109" y="553"/>
                  </a:lnTo>
                  <a:lnTo>
                    <a:pt x="119" y="579"/>
                  </a:lnTo>
                  <a:lnTo>
                    <a:pt x="124" y="601"/>
                  </a:lnTo>
                  <a:lnTo>
                    <a:pt x="133" y="623"/>
                  </a:lnTo>
                  <a:lnTo>
                    <a:pt x="144" y="643"/>
                  </a:lnTo>
                  <a:lnTo>
                    <a:pt x="167" y="671"/>
                  </a:lnTo>
                  <a:lnTo>
                    <a:pt x="202" y="700"/>
                  </a:lnTo>
                  <a:lnTo>
                    <a:pt x="248" y="732"/>
                  </a:lnTo>
                  <a:lnTo>
                    <a:pt x="302" y="758"/>
                  </a:lnTo>
                  <a:lnTo>
                    <a:pt x="372" y="784"/>
                  </a:lnTo>
                  <a:lnTo>
                    <a:pt x="452" y="803"/>
                  </a:lnTo>
                  <a:lnTo>
                    <a:pt x="546" y="816"/>
                  </a:lnTo>
                  <a:lnTo>
                    <a:pt x="547" y="816"/>
                  </a:lnTo>
                  <a:lnTo>
                    <a:pt x="558" y="821"/>
                  </a:lnTo>
                  <a:lnTo>
                    <a:pt x="571" y="826"/>
                  </a:lnTo>
                  <a:lnTo>
                    <a:pt x="589" y="839"/>
                  </a:lnTo>
                  <a:lnTo>
                    <a:pt x="608" y="851"/>
                  </a:lnTo>
                  <a:lnTo>
                    <a:pt x="626" y="870"/>
                  </a:lnTo>
                  <a:lnTo>
                    <a:pt x="642" y="889"/>
                  </a:lnTo>
                  <a:lnTo>
                    <a:pt x="655" y="914"/>
                  </a:lnTo>
                  <a:lnTo>
                    <a:pt x="664" y="928"/>
                  </a:lnTo>
                  <a:lnTo>
                    <a:pt x="676" y="933"/>
                  </a:lnTo>
                  <a:lnTo>
                    <a:pt x="686" y="930"/>
                  </a:lnTo>
                  <a:lnTo>
                    <a:pt x="697" y="920"/>
                  </a:lnTo>
                  <a:lnTo>
                    <a:pt x="705" y="906"/>
                  </a:lnTo>
                  <a:lnTo>
                    <a:pt x="711" y="893"/>
                  </a:lnTo>
                  <a:lnTo>
                    <a:pt x="715" y="884"/>
                  </a:lnTo>
                  <a:lnTo>
                    <a:pt x="719" y="880"/>
                  </a:lnTo>
                  <a:lnTo>
                    <a:pt x="719" y="877"/>
                  </a:lnTo>
                  <a:lnTo>
                    <a:pt x="724" y="870"/>
                  </a:lnTo>
                  <a:lnTo>
                    <a:pt x="732" y="860"/>
                  </a:lnTo>
                  <a:lnTo>
                    <a:pt x="743" y="851"/>
                  </a:lnTo>
                  <a:lnTo>
                    <a:pt x="757" y="839"/>
                  </a:lnTo>
                  <a:lnTo>
                    <a:pt x="778" y="836"/>
                  </a:lnTo>
                  <a:lnTo>
                    <a:pt x="804" y="834"/>
                  </a:lnTo>
                  <a:lnTo>
                    <a:pt x="834" y="839"/>
                  </a:lnTo>
                  <a:lnTo>
                    <a:pt x="870" y="847"/>
                  </a:lnTo>
                  <a:lnTo>
                    <a:pt x="920" y="854"/>
                  </a:lnTo>
                  <a:lnTo>
                    <a:pt x="973" y="860"/>
                  </a:lnTo>
                  <a:lnTo>
                    <a:pt x="1031" y="865"/>
                  </a:lnTo>
                  <a:lnTo>
                    <a:pt x="1084" y="867"/>
                  </a:lnTo>
                  <a:lnTo>
                    <a:pt x="1131" y="867"/>
                  </a:lnTo>
                  <a:lnTo>
                    <a:pt x="1167" y="864"/>
                  </a:lnTo>
                  <a:lnTo>
                    <a:pt x="1195" y="858"/>
                  </a:lnTo>
                  <a:lnTo>
                    <a:pt x="1211" y="847"/>
                  </a:lnTo>
                  <a:lnTo>
                    <a:pt x="1229" y="839"/>
                  </a:lnTo>
                  <a:lnTo>
                    <a:pt x="1248" y="833"/>
                  </a:lnTo>
                  <a:lnTo>
                    <a:pt x="1269" y="826"/>
                  </a:lnTo>
                  <a:lnTo>
                    <a:pt x="1287" y="821"/>
                  </a:lnTo>
                  <a:lnTo>
                    <a:pt x="1305" y="820"/>
                  </a:lnTo>
                  <a:lnTo>
                    <a:pt x="1322" y="820"/>
                  </a:lnTo>
                  <a:lnTo>
                    <a:pt x="1336" y="820"/>
                  </a:lnTo>
                  <a:lnTo>
                    <a:pt x="1345" y="815"/>
                  </a:lnTo>
                  <a:lnTo>
                    <a:pt x="1356" y="808"/>
                  </a:lnTo>
                  <a:lnTo>
                    <a:pt x="1365" y="800"/>
                  </a:lnTo>
                  <a:lnTo>
                    <a:pt x="1374" y="790"/>
                  </a:lnTo>
                  <a:lnTo>
                    <a:pt x="1380" y="779"/>
                  </a:lnTo>
                  <a:lnTo>
                    <a:pt x="1387" y="770"/>
                  </a:lnTo>
                  <a:lnTo>
                    <a:pt x="1391" y="763"/>
                  </a:lnTo>
                  <a:lnTo>
                    <a:pt x="1393" y="763"/>
                  </a:lnTo>
                  <a:lnTo>
                    <a:pt x="1391" y="753"/>
                  </a:lnTo>
                  <a:lnTo>
                    <a:pt x="1391" y="735"/>
                  </a:lnTo>
                  <a:lnTo>
                    <a:pt x="1393" y="709"/>
                  </a:lnTo>
                  <a:lnTo>
                    <a:pt x="1401" y="682"/>
                  </a:lnTo>
                  <a:lnTo>
                    <a:pt x="1416" y="654"/>
                  </a:lnTo>
                  <a:lnTo>
                    <a:pt x="1443" y="636"/>
                  </a:lnTo>
                  <a:lnTo>
                    <a:pt x="1481" y="630"/>
                  </a:lnTo>
                  <a:lnTo>
                    <a:pt x="1538" y="641"/>
                  </a:lnTo>
                  <a:lnTo>
                    <a:pt x="1546" y="645"/>
                  </a:lnTo>
                  <a:lnTo>
                    <a:pt x="1554" y="651"/>
                  </a:lnTo>
                  <a:lnTo>
                    <a:pt x="1565" y="658"/>
                  </a:lnTo>
                  <a:lnTo>
                    <a:pt x="1576" y="665"/>
                  </a:lnTo>
                  <a:lnTo>
                    <a:pt x="1586" y="675"/>
                  </a:lnTo>
                  <a:lnTo>
                    <a:pt x="1596" y="683"/>
                  </a:lnTo>
                  <a:lnTo>
                    <a:pt x="1605" y="695"/>
                  </a:lnTo>
                  <a:lnTo>
                    <a:pt x="1609" y="696"/>
                  </a:lnTo>
                  <a:lnTo>
                    <a:pt x="1625" y="698"/>
                  </a:lnTo>
                  <a:lnTo>
                    <a:pt x="1634" y="696"/>
                  </a:lnTo>
                  <a:lnTo>
                    <a:pt x="1647" y="695"/>
                  </a:lnTo>
                  <a:lnTo>
                    <a:pt x="1662" y="691"/>
                  </a:lnTo>
                  <a:lnTo>
                    <a:pt x="1678" y="685"/>
                  </a:lnTo>
                  <a:lnTo>
                    <a:pt x="1694" y="677"/>
                  </a:lnTo>
                  <a:lnTo>
                    <a:pt x="1712" y="672"/>
                  </a:lnTo>
                  <a:lnTo>
                    <a:pt x="1729" y="669"/>
                  </a:lnTo>
                  <a:lnTo>
                    <a:pt x="1749" y="669"/>
                  </a:lnTo>
                  <a:lnTo>
                    <a:pt x="1765" y="669"/>
                  </a:lnTo>
                  <a:lnTo>
                    <a:pt x="1781" y="675"/>
                  </a:lnTo>
                  <a:lnTo>
                    <a:pt x="1796" y="678"/>
                  </a:lnTo>
                  <a:lnTo>
                    <a:pt x="1810" y="685"/>
                  </a:lnTo>
                  <a:lnTo>
                    <a:pt x="1820" y="687"/>
                  </a:lnTo>
                  <a:lnTo>
                    <a:pt x="1827" y="685"/>
                  </a:lnTo>
                  <a:lnTo>
                    <a:pt x="1831" y="680"/>
                  </a:lnTo>
                  <a:lnTo>
                    <a:pt x="1836" y="677"/>
                  </a:lnTo>
                  <a:lnTo>
                    <a:pt x="1840" y="664"/>
                  </a:lnTo>
                  <a:lnTo>
                    <a:pt x="1842" y="658"/>
                  </a:lnTo>
                  <a:lnTo>
                    <a:pt x="1834" y="649"/>
                  </a:lnTo>
                  <a:lnTo>
                    <a:pt x="1820" y="627"/>
                  </a:lnTo>
                  <a:lnTo>
                    <a:pt x="1798" y="594"/>
                  </a:lnTo>
                  <a:lnTo>
                    <a:pt x="1774" y="555"/>
                  </a:lnTo>
                  <a:lnTo>
                    <a:pt x="1749" y="511"/>
                  </a:lnTo>
                  <a:lnTo>
                    <a:pt x="1726" y="469"/>
                  </a:lnTo>
                  <a:lnTo>
                    <a:pt x="1710" y="427"/>
                  </a:lnTo>
                  <a:lnTo>
                    <a:pt x="1704" y="393"/>
                  </a:lnTo>
                  <a:lnTo>
                    <a:pt x="1700" y="362"/>
                  </a:lnTo>
                  <a:lnTo>
                    <a:pt x="1702" y="336"/>
                  </a:lnTo>
                  <a:lnTo>
                    <a:pt x="1705" y="310"/>
                  </a:lnTo>
                  <a:lnTo>
                    <a:pt x="1716" y="290"/>
                  </a:lnTo>
                  <a:lnTo>
                    <a:pt x="1729" y="274"/>
                  </a:lnTo>
                  <a:lnTo>
                    <a:pt x="1747" y="263"/>
                  </a:lnTo>
                  <a:lnTo>
                    <a:pt x="1773" y="259"/>
                  </a:lnTo>
                  <a:lnTo>
                    <a:pt x="1805" y="263"/>
                  </a:lnTo>
                  <a:lnTo>
                    <a:pt x="1815" y="263"/>
                  </a:lnTo>
                  <a:lnTo>
                    <a:pt x="1823" y="263"/>
                  </a:lnTo>
                  <a:lnTo>
                    <a:pt x="1808" y="127"/>
                  </a:lnTo>
                  <a:lnTo>
                    <a:pt x="1798" y="133"/>
                  </a:lnTo>
                  <a:lnTo>
                    <a:pt x="1787" y="140"/>
                  </a:lnTo>
                  <a:lnTo>
                    <a:pt x="1776" y="146"/>
                  </a:lnTo>
                  <a:lnTo>
                    <a:pt x="1765" y="153"/>
                  </a:lnTo>
                  <a:lnTo>
                    <a:pt x="1750" y="159"/>
                  </a:lnTo>
                  <a:lnTo>
                    <a:pt x="1738" y="164"/>
                  </a:lnTo>
                  <a:lnTo>
                    <a:pt x="1723" y="169"/>
                  </a:lnTo>
                  <a:lnTo>
                    <a:pt x="1709" y="175"/>
                  </a:lnTo>
                  <a:lnTo>
                    <a:pt x="1709" y="17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73000" y="6147360"/>
              <a:ext cx="156600" cy="56520"/>
            </a:xfrm>
            <a:custGeom>
              <a:avLst/>
              <a:gdLst/>
              <a:ahLst/>
              <a:rect l="l" t="t" r="r" b="b"/>
              <a:pathLst>
                <a:path w="1408" h="591">
                  <a:moveTo>
                    <a:pt x="1303" y="310"/>
                  </a:moveTo>
                  <a:lnTo>
                    <a:pt x="1300" y="299"/>
                  </a:lnTo>
                  <a:lnTo>
                    <a:pt x="1298" y="288"/>
                  </a:lnTo>
                  <a:lnTo>
                    <a:pt x="1294" y="279"/>
                  </a:lnTo>
                  <a:lnTo>
                    <a:pt x="1290" y="273"/>
                  </a:lnTo>
                  <a:lnTo>
                    <a:pt x="1285" y="262"/>
                  </a:lnTo>
                  <a:lnTo>
                    <a:pt x="1279" y="253"/>
                  </a:lnTo>
                  <a:lnTo>
                    <a:pt x="1268" y="255"/>
                  </a:lnTo>
                  <a:lnTo>
                    <a:pt x="1258" y="258"/>
                  </a:lnTo>
                  <a:lnTo>
                    <a:pt x="1245" y="262"/>
                  </a:lnTo>
                  <a:lnTo>
                    <a:pt x="1236" y="266"/>
                  </a:lnTo>
                  <a:lnTo>
                    <a:pt x="1226" y="271"/>
                  </a:lnTo>
                  <a:lnTo>
                    <a:pt x="1221" y="276"/>
                  </a:lnTo>
                  <a:lnTo>
                    <a:pt x="1218" y="273"/>
                  </a:lnTo>
                  <a:lnTo>
                    <a:pt x="1216" y="270"/>
                  </a:lnTo>
                  <a:lnTo>
                    <a:pt x="1205" y="271"/>
                  </a:lnTo>
                  <a:lnTo>
                    <a:pt x="1194" y="273"/>
                  </a:lnTo>
                  <a:lnTo>
                    <a:pt x="1178" y="276"/>
                  </a:lnTo>
                  <a:lnTo>
                    <a:pt x="1166" y="283"/>
                  </a:lnTo>
                  <a:lnTo>
                    <a:pt x="1155" y="289"/>
                  </a:lnTo>
                  <a:lnTo>
                    <a:pt x="1149" y="299"/>
                  </a:lnTo>
                  <a:lnTo>
                    <a:pt x="1145" y="291"/>
                  </a:lnTo>
                  <a:lnTo>
                    <a:pt x="1141" y="284"/>
                  </a:lnTo>
                  <a:lnTo>
                    <a:pt x="1131" y="286"/>
                  </a:lnTo>
                  <a:lnTo>
                    <a:pt x="1120" y="289"/>
                  </a:lnTo>
                  <a:lnTo>
                    <a:pt x="1102" y="291"/>
                  </a:lnTo>
                  <a:lnTo>
                    <a:pt x="1089" y="299"/>
                  </a:lnTo>
                  <a:lnTo>
                    <a:pt x="1076" y="304"/>
                  </a:lnTo>
                  <a:lnTo>
                    <a:pt x="1068" y="315"/>
                  </a:lnTo>
                  <a:lnTo>
                    <a:pt x="1063" y="307"/>
                  </a:lnTo>
                  <a:lnTo>
                    <a:pt x="1060" y="297"/>
                  </a:lnTo>
                  <a:lnTo>
                    <a:pt x="1049" y="297"/>
                  </a:lnTo>
                  <a:lnTo>
                    <a:pt x="1038" y="301"/>
                  </a:lnTo>
                  <a:lnTo>
                    <a:pt x="1021" y="302"/>
                  </a:lnTo>
                  <a:lnTo>
                    <a:pt x="1009" y="308"/>
                  </a:lnTo>
                  <a:lnTo>
                    <a:pt x="997" y="314"/>
                  </a:lnTo>
                  <a:lnTo>
                    <a:pt x="989" y="321"/>
                  </a:lnTo>
                  <a:lnTo>
                    <a:pt x="985" y="314"/>
                  </a:lnTo>
                  <a:lnTo>
                    <a:pt x="985" y="308"/>
                  </a:lnTo>
                  <a:lnTo>
                    <a:pt x="972" y="310"/>
                  </a:lnTo>
                  <a:lnTo>
                    <a:pt x="962" y="312"/>
                  </a:lnTo>
                  <a:lnTo>
                    <a:pt x="944" y="312"/>
                  </a:lnTo>
                  <a:lnTo>
                    <a:pt x="933" y="317"/>
                  </a:lnTo>
                  <a:lnTo>
                    <a:pt x="921" y="323"/>
                  </a:lnTo>
                  <a:lnTo>
                    <a:pt x="912" y="330"/>
                  </a:lnTo>
                  <a:lnTo>
                    <a:pt x="909" y="325"/>
                  </a:lnTo>
                  <a:lnTo>
                    <a:pt x="907" y="319"/>
                  </a:lnTo>
                  <a:lnTo>
                    <a:pt x="894" y="319"/>
                  </a:lnTo>
                  <a:lnTo>
                    <a:pt x="883" y="321"/>
                  </a:lnTo>
                  <a:lnTo>
                    <a:pt x="861" y="323"/>
                  </a:lnTo>
                  <a:lnTo>
                    <a:pt x="845" y="330"/>
                  </a:lnTo>
                  <a:lnTo>
                    <a:pt x="828" y="338"/>
                  </a:lnTo>
                  <a:lnTo>
                    <a:pt x="817" y="351"/>
                  </a:lnTo>
                  <a:lnTo>
                    <a:pt x="807" y="364"/>
                  </a:lnTo>
                  <a:lnTo>
                    <a:pt x="801" y="380"/>
                  </a:lnTo>
                  <a:lnTo>
                    <a:pt x="796" y="398"/>
                  </a:lnTo>
                  <a:lnTo>
                    <a:pt x="798" y="420"/>
                  </a:lnTo>
                  <a:lnTo>
                    <a:pt x="785" y="420"/>
                  </a:lnTo>
                  <a:lnTo>
                    <a:pt x="774" y="420"/>
                  </a:lnTo>
                  <a:lnTo>
                    <a:pt x="761" y="420"/>
                  </a:lnTo>
                  <a:lnTo>
                    <a:pt x="751" y="422"/>
                  </a:lnTo>
                  <a:lnTo>
                    <a:pt x="738" y="422"/>
                  </a:lnTo>
                  <a:lnTo>
                    <a:pt x="727" y="422"/>
                  </a:lnTo>
                  <a:lnTo>
                    <a:pt x="716" y="424"/>
                  </a:lnTo>
                  <a:lnTo>
                    <a:pt x="704" y="426"/>
                  </a:lnTo>
                  <a:lnTo>
                    <a:pt x="692" y="419"/>
                  </a:lnTo>
                  <a:lnTo>
                    <a:pt x="680" y="411"/>
                  </a:lnTo>
                  <a:lnTo>
                    <a:pt x="667" y="403"/>
                  </a:lnTo>
                  <a:lnTo>
                    <a:pt x="656" y="398"/>
                  </a:lnTo>
                  <a:lnTo>
                    <a:pt x="643" y="391"/>
                  </a:lnTo>
                  <a:lnTo>
                    <a:pt x="632" y="383"/>
                  </a:lnTo>
                  <a:lnTo>
                    <a:pt x="621" y="377"/>
                  </a:lnTo>
                  <a:lnTo>
                    <a:pt x="611" y="370"/>
                  </a:lnTo>
                  <a:lnTo>
                    <a:pt x="608" y="349"/>
                  </a:lnTo>
                  <a:lnTo>
                    <a:pt x="605" y="328"/>
                  </a:lnTo>
                  <a:lnTo>
                    <a:pt x="598" y="308"/>
                  </a:lnTo>
                  <a:lnTo>
                    <a:pt x="588" y="291"/>
                  </a:lnTo>
                  <a:lnTo>
                    <a:pt x="576" y="273"/>
                  </a:lnTo>
                  <a:lnTo>
                    <a:pt x="561" y="257"/>
                  </a:lnTo>
                  <a:lnTo>
                    <a:pt x="545" y="240"/>
                  </a:lnTo>
                  <a:lnTo>
                    <a:pt x="524" y="229"/>
                  </a:lnTo>
                  <a:lnTo>
                    <a:pt x="514" y="221"/>
                  </a:lnTo>
                  <a:lnTo>
                    <a:pt x="503" y="216"/>
                  </a:lnTo>
                  <a:lnTo>
                    <a:pt x="500" y="220"/>
                  </a:lnTo>
                  <a:lnTo>
                    <a:pt x="498" y="224"/>
                  </a:lnTo>
                  <a:lnTo>
                    <a:pt x="487" y="213"/>
                  </a:lnTo>
                  <a:lnTo>
                    <a:pt x="477" y="202"/>
                  </a:lnTo>
                  <a:lnTo>
                    <a:pt x="462" y="190"/>
                  </a:lnTo>
                  <a:lnTo>
                    <a:pt x="449" y="183"/>
                  </a:lnTo>
                  <a:lnTo>
                    <a:pt x="437" y="174"/>
                  </a:lnTo>
                  <a:lnTo>
                    <a:pt x="425" y="169"/>
                  </a:lnTo>
                  <a:lnTo>
                    <a:pt x="424" y="172"/>
                  </a:lnTo>
                  <a:lnTo>
                    <a:pt x="422" y="177"/>
                  </a:lnTo>
                  <a:lnTo>
                    <a:pt x="411" y="166"/>
                  </a:lnTo>
                  <a:lnTo>
                    <a:pt x="401" y="156"/>
                  </a:lnTo>
                  <a:lnTo>
                    <a:pt x="388" y="145"/>
                  </a:lnTo>
                  <a:lnTo>
                    <a:pt x="373" y="137"/>
                  </a:lnTo>
                  <a:lnTo>
                    <a:pt x="361" y="128"/>
                  </a:lnTo>
                  <a:lnTo>
                    <a:pt x="351" y="122"/>
                  </a:lnTo>
                  <a:lnTo>
                    <a:pt x="346" y="130"/>
                  </a:lnTo>
                  <a:lnTo>
                    <a:pt x="342" y="140"/>
                  </a:lnTo>
                  <a:lnTo>
                    <a:pt x="332" y="124"/>
                  </a:lnTo>
                  <a:lnTo>
                    <a:pt x="320" y="114"/>
                  </a:lnTo>
                  <a:lnTo>
                    <a:pt x="306" y="102"/>
                  </a:lnTo>
                  <a:lnTo>
                    <a:pt x="291" y="91"/>
                  </a:lnTo>
                  <a:lnTo>
                    <a:pt x="279" y="84"/>
                  </a:lnTo>
                  <a:lnTo>
                    <a:pt x="269" y="78"/>
                  </a:lnTo>
                  <a:lnTo>
                    <a:pt x="264" y="84"/>
                  </a:lnTo>
                  <a:lnTo>
                    <a:pt x="262" y="89"/>
                  </a:lnTo>
                  <a:lnTo>
                    <a:pt x="251" y="78"/>
                  </a:lnTo>
                  <a:lnTo>
                    <a:pt x="242" y="67"/>
                  </a:lnTo>
                  <a:lnTo>
                    <a:pt x="229" y="57"/>
                  </a:lnTo>
                  <a:lnTo>
                    <a:pt x="214" y="49"/>
                  </a:lnTo>
                  <a:lnTo>
                    <a:pt x="204" y="42"/>
                  </a:lnTo>
                  <a:lnTo>
                    <a:pt x="193" y="36"/>
                  </a:lnTo>
                  <a:lnTo>
                    <a:pt x="192" y="38"/>
                  </a:lnTo>
                  <a:lnTo>
                    <a:pt x="190" y="44"/>
                  </a:lnTo>
                  <a:lnTo>
                    <a:pt x="180" y="34"/>
                  </a:lnTo>
                  <a:lnTo>
                    <a:pt x="171" y="26"/>
                  </a:lnTo>
                  <a:lnTo>
                    <a:pt x="161" y="18"/>
                  </a:lnTo>
                  <a:lnTo>
                    <a:pt x="151" y="12"/>
                  </a:lnTo>
                  <a:lnTo>
                    <a:pt x="140" y="5"/>
                  </a:lnTo>
                  <a:lnTo>
                    <a:pt x="131" y="0"/>
                  </a:lnTo>
                  <a:lnTo>
                    <a:pt x="124" y="8"/>
                  </a:lnTo>
                  <a:lnTo>
                    <a:pt x="119" y="18"/>
                  </a:lnTo>
                  <a:lnTo>
                    <a:pt x="113" y="23"/>
                  </a:lnTo>
                  <a:lnTo>
                    <a:pt x="110" y="31"/>
                  </a:lnTo>
                  <a:lnTo>
                    <a:pt x="106" y="39"/>
                  </a:lnTo>
                  <a:lnTo>
                    <a:pt x="106" y="51"/>
                  </a:lnTo>
                  <a:lnTo>
                    <a:pt x="95" y="46"/>
                  </a:lnTo>
                  <a:lnTo>
                    <a:pt x="86" y="42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55" y="36"/>
                  </a:lnTo>
                  <a:lnTo>
                    <a:pt x="44" y="36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11" y="4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71"/>
                  </a:lnTo>
                  <a:lnTo>
                    <a:pt x="13" y="86"/>
                  </a:lnTo>
                  <a:lnTo>
                    <a:pt x="24" y="104"/>
                  </a:lnTo>
                  <a:lnTo>
                    <a:pt x="29" y="112"/>
                  </a:lnTo>
                  <a:lnTo>
                    <a:pt x="37" y="120"/>
                  </a:lnTo>
                  <a:lnTo>
                    <a:pt x="45" y="130"/>
                  </a:lnTo>
                  <a:lnTo>
                    <a:pt x="57" y="140"/>
                  </a:lnTo>
                  <a:lnTo>
                    <a:pt x="42" y="154"/>
                  </a:lnTo>
                  <a:lnTo>
                    <a:pt x="35" y="169"/>
                  </a:lnTo>
                  <a:lnTo>
                    <a:pt x="29" y="179"/>
                  </a:lnTo>
                  <a:lnTo>
                    <a:pt x="24" y="190"/>
                  </a:lnTo>
                  <a:lnTo>
                    <a:pt x="35" y="196"/>
                  </a:lnTo>
                  <a:lnTo>
                    <a:pt x="47" y="203"/>
                  </a:lnTo>
                  <a:lnTo>
                    <a:pt x="58" y="208"/>
                  </a:lnTo>
                  <a:lnTo>
                    <a:pt x="71" y="214"/>
                  </a:lnTo>
                  <a:lnTo>
                    <a:pt x="82" y="216"/>
                  </a:lnTo>
                  <a:lnTo>
                    <a:pt x="95" y="220"/>
                  </a:lnTo>
                  <a:lnTo>
                    <a:pt x="93" y="226"/>
                  </a:lnTo>
                  <a:lnTo>
                    <a:pt x="92" y="231"/>
                  </a:lnTo>
                  <a:lnTo>
                    <a:pt x="102" y="237"/>
                  </a:lnTo>
                  <a:lnTo>
                    <a:pt x="115" y="244"/>
                  </a:lnTo>
                  <a:lnTo>
                    <a:pt x="129" y="252"/>
                  </a:lnTo>
                  <a:lnTo>
                    <a:pt x="145" y="257"/>
                  </a:lnTo>
                  <a:lnTo>
                    <a:pt x="161" y="260"/>
                  </a:lnTo>
                  <a:lnTo>
                    <a:pt x="175" y="265"/>
                  </a:lnTo>
                  <a:lnTo>
                    <a:pt x="171" y="271"/>
                  </a:lnTo>
                  <a:lnTo>
                    <a:pt x="169" y="279"/>
                  </a:lnTo>
                  <a:lnTo>
                    <a:pt x="180" y="286"/>
                  </a:lnTo>
                  <a:lnTo>
                    <a:pt x="193" y="294"/>
                  </a:lnTo>
                  <a:lnTo>
                    <a:pt x="209" y="301"/>
                  </a:lnTo>
                  <a:lnTo>
                    <a:pt x="227" y="307"/>
                  </a:lnTo>
                  <a:lnTo>
                    <a:pt x="245" y="310"/>
                  </a:lnTo>
                  <a:lnTo>
                    <a:pt x="261" y="314"/>
                  </a:lnTo>
                  <a:lnTo>
                    <a:pt x="256" y="321"/>
                  </a:lnTo>
                  <a:lnTo>
                    <a:pt x="253" y="330"/>
                  </a:lnTo>
                  <a:lnTo>
                    <a:pt x="264" y="336"/>
                  </a:lnTo>
                  <a:lnTo>
                    <a:pt x="277" y="343"/>
                  </a:lnTo>
                  <a:lnTo>
                    <a:pt x="293" y="351"/>
                  </a:lnTo>
                  <a:lnTo>
                    <a:pt x="309" y="357"/>
                  </a:lnTo>
                  <a:lnTo>
                    <a:pt x="324" y="361"/>
                  </a:lnTo>
                  <a:lnTo>
                    <a:pt x="340" y="364"/>
                  </a:lnTo>
                  <a:lnTo>
                    <a:pt x="337" y="372"/>
                  </a:lnTo>
                  <a:lnTo>
                    <a:pt x="333" y="382"/>
                  </a:lnTo>
                  <a:lnTo>
                    <a:pt x="344" y="388"/>
                  </a:lnTo>
                  <a:lnTo>
                    <a:pt x="356" y="396"/>
                  </a:lnTo>
                  <a:lnTo>
                    <a:pt x="373" y="403"/>
                  </a:lnTo>
                  <a:lnTo>
                    <a:pt x="390" y="409"/>
                  </a:lnTo>
                  <a:lnTo>
                    <a:pt x="404" y="413"/>
                  </a:lnTo>
                  <a:lnTo>
                    <a:pt x="420" y="416"/>
                  </a:lnTo>
                  <a:lnTo>
                    <a:pt x="417" y="426"/>
                  </a:lnTo>
                  <a:lnTo>
                    <a:pt x="415" y="437"/>
                  </a:lnTo>
                  <a:lnTo>
                    <a:pt x="425" y="442"/>
                  </a:lnTo>
                  <a:lnTo>
                    <a:pt x="437" y="450"/>
                  </a:lnTo>
                  <a:lnTo>
                    <a:pt x="449" y="455"/>
                  </a:lnTo>
                  <a:lnTo>
                    <a:pt x="464" y="463"/>
                  </a:lnTo>
                  <a:lnTo>
                    <a:pt x="477" y="466"/>
                  </a:lnTo>
                  <a:lnTo>
                    <a:pt x="490" y="470"/>
                  </a:lnTo>
                  <a:lnTo>
                    <a:pt x="501" y="470"/>
                  </a:lnTo>
                  <a:lnTo>
                    <a:pt x="512" y="471"/>
                  </a:lnTo>
                  <a:lnTo>
                    <a:pt x="523" y="470"/>
                  </a:lnTo>
                  <a:lnTo>
                    <a:pt x="535" y="470"/>
                  </a:lnTo>
                  <a:lnTo>
                    <a:pt x="542" y="482"/>
                  </a:lnTo>
                  <a:lnTo>
                    <a:pt x="548" y="495"/>
                  </a:lnTo>
                  <a:lnTo>
                    <a:pt x="552" y="505"/>
                  </a:lnTo>
                  <a:lnTo>
                    <a:pt x="558" y="516"/>
                  </a:lnTo>
                  <a:lnTo>
                    <a:pt x="569" y="516"/>
                  </a:lnTo>
                  <a:lnTo>
                    <a:pt x="579" y="516"/>
                  </a:lnTo>
                  <a:lnTo>
                    <a:pt x="583" y="513"/>
                  </a:lnTo>
                  <a:lnTo>
                    <a:pt x="593" y="513"/>
                  </a:lnTo>
                  <a:lnTo>
                    <a:pt x="606" y="512"/>
                  </a:lnTo>
                  <a:lnTo>
                    <a:pt x="622" y="512"/>
                  </a:lnTo>
                  <a:lnTo>
                    <a:pt x="640" y="510"/>
                  </a:lnTo>
                  <a:lnTo>
                    <a:pt x="659" y="510"/>
                  </a:lnTo>
                  <a:lnTo>
                    <a:pt x="682" y="508"/>
                  </a:lnTo>
                  <a:lnTo>
                    <a:pt x="703" y="508"/>
                  </a:lnTo>
                  <a:lnTo>
                    <a:pt x="723" y="520"/>
                  </a:lnTo>
                  <a:lnTo>
                    <a:pt x="745" y="531"/>
                  </a:lnTo>
                  <a:lnTo>
                    <a:pt x="765" y="541"/>
                  </a:lnTo>
                  <a:lnTo>
                    <a:pt x="783" y="552"/>
                  </a:lnTo>
                  <a:lnTo>
                    <a:pt x="798" y="560"/>
                  </a:lnTo>
                  <a:lnTo>
                    <a:pt x="810" y="569"/>
                  </a:lnTo>
                  <a:lnTo>
                    <a:pt x="819" y="575"/>
                  </a:lnTo>
                  <a:lnTo>
                    <a:pt x="828" y="580"/>
                  </a:lnTo>
                  <a:lnTo>
                    <a:pt x="839" y="586"/>
                  </a:lnTo>
                  <a:lnTo>
                    <a:pt x="851" y="591"/>
                  </a:lnTo>
                  <a:lnTo>
                    <a:pt x="854" y="582"/>
                  </a:lnTo>
                  <a:lnTo>
                    <a:pt x="859" y="575"/>
                  </a:lnTo>
                  <a:lnTo>
                    <a:pt x="865" y="565"/>
                  </a:lnTo>
                  <a:lnTo>
                    <a:pt x="872" y="556"/>
                  </a:lnTo>
                  <a:lnTo>
                    <a:pt x="881" y="562"/>
                  </a:lnTo>
                  <a:lnTo>
                    <a:pt x="892" y="569"/>
                  </a:lnTo>
                  <a:lnTo>
                    <a:pt x="903" y="575"/>
                  </a:lnTo>
                  <a:lnTo>
                    <a:pt x="915" y="580"/>
                  </a:lnTo>
                  <a:lnTo>
                    <a:pt x="927" y="582"/>
                  </a:lnTo>
                  <a:lnTo>
                    <a:pt x="941" y="586"/>
                  </a:lnTo>
                  <a:lnTo>
                    <a:pt x="956" y="586"/>
                  </a:lnTo>
                  <a:lnTo>
                    <a:pt x="972" y="586"/>
                  </a:lnTo>
                  <a:lnTo>
                    <a:pt x="983" y="583"/>
                  </a:lnTo>
                  <a:lnTo>
                    <a:pt x="994" y="582"/>
                  </a:lnTo>
                  <a:lnTo>
                    <a:pt x="991" y="570"/>
                  </a:lnTo>
                  <a:lnTo>
                    <a:pt x="989" y="560"/>
                  </a:lnTo>
                  <a:lnTo>
                    <a:pt x="1003" y="564"/>
                  </a:lnTo>
                  <a:lnTo>
                    <a:pt x="1018" y="565"/>
                  </a:lnTo>
                  <a:lnTo>
                    <a:pt x="1034" y="565"/>
                  </a:lnTo>
                  <a:lnTo>
                    <a:pt x="1052" y="567"/>
                  </a:lnTo>
                  <a:lnTo>
                    <a:pt x="1063" y="564"/>
                  </a:lnTo>
                  <a:lnTo>
                    <a:pt x="1076" y="564"/>
                  </a:lnTo>
                  <a:lnTo>
                    <a:pt x="1073" y="552"/>
                  </a:lnTo>
                  <a:lnTo>
                    <a:pt x="1070" y="544"/>
                  </a:lnTo>
                  <a:lnTo>
                    <a:pt x="1083" y="545"/>
                  </a:lnTo>
                  <a:lnTo>
                    <a:pt x="1097" y="549"/>
                  </a:lnTo>
                  <a:lnTo>
                    <a:pt x="1113" y="547"/>
                  </a:lnTo>
                  <a:lnTo>
                    <a:pt x="1132" y="547"/>
                  </a:lnTo>
                  <a:lnTo>
                    <a:pt x="1144" y="545"/>
                  </a:lnTo>
                  <a:lnTo>
                    <a:pt x="1155" y="544"/>
                  </a:lnTo>
                  <a:lnTo>
                    <a:pt x="1152" y="533"/>
                  </a:lnTo>
                  <a:lnTo>
                    <a:pt x="1149" y="523"/>
                  </a:lnTo>
                  <a:lnTo>
                    <a:pt x="1165" y="526"/>
                  </a:lnTo>
                  <a:lnTo>
                    <a:pt x="1181" y="528"/>
                  </a:lnTo>
                  <a:lnTo>
                    <a:pt x="1197" y="528"/>
                  </a:lnTo>
                  <a:lnTo>
                    <a:pt x="1216" y="526"/>
                  </a:lnTo>
                  <a:lnTo>
                    <a:pt x="1226" y="523"/>
                  </a:lnTo>
                  <a:lnTo>
                    <a:pt x="1239" y="521"/>
                  </a:lnTo>
                  <a:lnTo>
                    <a:pt x="1236" y="512"/>
                  </a:lnTo>
                  <a:lnTo>
                    <a:pt x="1234" y="503"/>
                  </a:lnTo>
                  <a:lnTo>
                    <a:pt x="1247" y="505"/>
                  </a:lnTo>
                  <a:lnTo>
                    <a:pt x="1261" y="507"/>
                  </a:lnTo>
                  <a:lnTo>
                    <a:pt x="1278" y="505"/>
                  </a:lnTo>
                  <a:lnTo>
                    <a:pt x="1294" y="503"/>
                  </a:lnTo>
                  <a:lnTo>
                    <a:pt x="1305" y="497"/>
                  </a:lnTo>
                  <a:lnTo>
                    <a:pt x="1318" y="495"/>
                  </a:lnTo>
                  <a:lnTo>
                    <a:pt x="1314" y="489"/>
                  </a:lnTo>
                  <a:lnTo>
                    <a:pt x="1314" y="482"/>
                  </a:lnTo>
                  <a:lnTo>
                    <a:pt x="1324" y="482"/>
                  </a:lnTo>
                  <a:lnTo>
                    <a:pt x="1336" y="482"/>
                  </a:lnTo>
                  <a:lnTo>
                    <a:pt x="1347" y="479"/>
                  </a:lnTo>
                  <a:lnTo>
                    <a:pt x="1360" y="477"/>
                  </a:lnTo>
                  <a:lnTo>
                    <a:pt x="1371" y="473"/>
                  </a:lnTo>
                  <a:lnTo>
                    <a:pt x="1383" y="470"/>
                  </a:lnTo>
                  <a:lnTo>
                    <a:pt x="1377" y="457"/>
                  </a:lnTo>
                  <a:lnTo>
                    <a:pt x="1374" y="444"/>
                  </a:lnTo>
                  <a:lnTo>
                    <a:pt x="1365" y="427"/>
                  </a:lnTo>
                  <a:lnTo>
                    <a:pt x="1352" y="411"/>
                  </a:lnTo>
                  <a:lnTo>
                    <a:pt x="1369" y="396"/>
                  </a:lnTo>
                  <a:lnTo>
                    <a:pt x="1383" y="383"/>
                  </a:lnTo>
                  <a:lnTo>
                    <a:pt x="1392" y="367"/>
                  </a:lnTo>
                  <a:lnTo>
                    <a:pt x="1400" y="352"/>
                  </a:lnTo>
                  <a:lnTo>
                    <a:pt x="1403" y="341"/>
                  </a:lnTo>
                  <a:lnTo>
                    <a:pt x="1408" y="330"/>
                  </a:lnTo>
                  <a:lnTo>
                    <a:pt x="1396" y="325"/>
                  </a:lnTo>
                  <a:lnTo>
                    <a:pt x="1385" y="319"/>
                  </a:lnTo>
                  <a:lnTo>
                    <a:pt x="1374" y="314"/>
                  </a:lnTo>
                  <a:lnTo>
                    <a:pt x="1363" y="310"/>
                  </a:lnTo>
                  <a:lnTo>
                    <a:pt x="1352" y="307"/>
                  </a:lnTo>
                  <a:lnTo>
                    <a:pt x="1342" y="307"/>
                  </a:lnTo>
                  <a:lnTo>
                    <a:pt x="1321" y="307"/>
                  </a:lnTo>
                  <a:lnTo>
                    <a:pt x="1303" y="310"/>
                  </a:lnTo>
                  <a:lnTo>
                    <a:pt x="1303" y="310"/>
                  </a:lnTo>
                  <a:close/>
                  <a:moveTo>
                    <a:pt x="1265" y="388"/>
                  </a:moveTo>
                  <a:lnTo>
                    <a:pt x="1260" y="388"/>
                  </a:lnTo>
                  <a:lnTo>
                    <a:pt x="1256" y="391"/>
                  </a:lnTo>
                  <a:lnTo>
                    <a:pt x="1278" y="393"/>
                  </a:lnTo>
                  <a:lnTo>
                    <a:pt x="1300" y="400"/>
                  </a:lnTo>
                  <a:lnTo>
                    <a:pt x="1314" y="409"/>
                  </a:lnTo>
                  <a:lnTo>
                    <a:pt x="1329" y="422"/>
                  </a:lnTo>
                  <a:lnTo>
                    <a:pt x="1337" y="431"/>
                  </a:lnTo>
                  <a:lnTo>
                    <a:pt x="1345" y="442"/>
                  </a:lnTo>
                  <a:lnTo>
                    <a:pt x="1348" y="450"/>
                  </a:lnTo>
                  <a:lnTo>
                    <a:pt x="1350" y="453"/>
                  </a:lnTo>
                  <a:lnTo>
                    <a:pt x="1323" y="457"/>
                  </a:lnTo>
                  <a:lnTo>
                    <a:pt x="1301" y="455"/>
                  </a:lnTo>
                  <a:lnTo>
                    <a:pt x="1281" y="448"/>
                  </a:lnTo>
                  <a:lnTo>
                    <a:pt x="1266" y="439"/>
                  </a:lnTo>
                  <a:lnTo>
                    <a:pt x="1252" y="426"/>
                  </a:lnTo>
                  <a:lnTo>
                    <a:pt x="1243" y="414"/>
                  </a:lnTo>
                  <a:lnTo>
                    <a:pt x="1236" y="401"/>
                  </a:lnTo>
                  <a:lnTo>
                    <a:pt x="1232" y="396"/>
                  </a:lnTo>
                  <a:lnTo>
                    <a:pt x="1219" y="398"/>
                  </a:lnTo>
                  <a:lnTo>
                    <a:pt x="1208" y="401"/>
                  </a:lnTo>
                  <a:lnTo>
                    <a:pt x="1195" y="403"/>
                  </a:lnTo>
                  <a:lnTo>
                    <a:pt x="1185" y="409"/>
                  </a:lnTo>
                  <a:lnTo>
                    <a:pt x="1208" y="411"/>
                  </a:lnTo>
                  <a:lnTo>
                    <a:pt x="1231" y="420"/>
                  </a:lnTo>
                  <a:lnTo>
                    <a:pt x="1247" y="431"/>
                  </a:lnTo>
                  <a:lnTo>
                    <a:pt x="1261" y="444"/>
                  </a:lnTo>
                  <a:lnTo>
                    <a:pt x="1271" y="455"/>
                  </a:lnTo>
                  <a:lnTo>
                    <a:pt x="1278" y="466"/>
                  </a:lnTo>
                  <a:lnTo>
                    <a:pt x="1284" y="473"/>
                  </a:lnTo>
                  <a:lnTo>
                    <a:pt x="1285" y="477"/>
                  </a:lnTo>
                  <a:lnTo>
                    <a:pt x="1256" y="479"/>
                  </a:lnTo>
                  <a:lnTo>
                    <a:pt x="1234" y="477"/>
                  </a:lnTo>
                  <a:lnTo>
                    <a:pt x="1214" y="468"/>
                  </a:lnTo>
                  <a:lnTo>
                    <a:pt x="1200" y="458"/>
                  </a:lnTo>
                  <a:lnTo>
                    <a:pt x="1185" y="444"/>
                  </a:lnTo>
                  <a:lnTo>
                    <a:pt x="1176" y="433"/>
                  </a:lnTo>
                  <a:lnTo>
                    <a:pt x="1168" y="420"/>
                  </a:lnTo>
                  <a:lnTo>
                    <a:pt x="1165" y="414"/>
                  </a:lnTo>
                  <a:lnTo>
                    <a:pt x="1149" y="416"/>
                  </a:lnTo>
                  <a:lnTo>
                    <a:pt x="1136" y="420"/>
                  </a:lnTo>
                  <a:lnTo>
                    <a:pt x="1121" y="422"/>
                  </a:lnTo>
                  <a:lnTo>
                    <a:pt x="1108" y="426"/>
                  </a:lnTo>
                  <a:lnTo>
                    <a:pt x="1132" y="429"/>
                  </a:lnTo>
                  <a:lnTo>
                    <a:pt x="1154" y="440"/>
                  </a:lnTo>
                  <a:lnTo>
                    <a:pt x="1171" y="451"/>
                  </a:lnTo>
                  <a:lnTo>
                    <a:pt x="1185" y="466"/>
                  </a:lnTo>
                  <a:lnTo>
                    <a:pt x="1194" y="477"/>
                  </a:lnTo>
                  <a:lnTo>
                    <a:pt x="1202" y="490"/>
                  </a:lnTo>
                  <a:lnTo>
                    <a:pt x="1205" y="497"/>
                  </a:lnTo>
                  <a:lnTo>
                    <a:pt x="1207" y="502"/>
                  </a:lnTo>
                  <a:lnTo>
                    <a:pt x="1178" y="502"/>
                  </a:lnTo>
                  <a:lnTo>
                    <a:pt x="1155" y="497"/>
                  </a:lnTo>
                  <a:lnTo>
                    <a:pt x="1134" y="489"/>
                  </a:lnTo>
                  <a:lnTo>
                    <a:pt x="1120" y="479"/>
                  </a:lnTo>
                  <a:lnTo>
                    <a:pt x="1105" y="464"/>
                  </a:lnTo>
                  <a:lnTo>
                    <a:pt x="1096" y="451"/>
                  </a:lnTo>
                  <a:lnTo>
                    <a:pt x="1089" y="439"/>
                  </a:lnTo>
                  <a:lnTo>
                    <a:pt x="1084" y="431"/>
                  </a:lnTo>
                  <a:lnTo>
                    <a:pt x="1070" y="433"/>
                  </a:lnTo>
                  <a:lnTo>
                    <a:pt x="1057" y="437"/>
                  </a:lnTo>
                  <a:lnTo>
                    <a:pt x="1045" y="439"/>
                  </a:lnTo>
                  <a:lnTo>
                    <a:pt x="1033" y="442"/>
                  </a:lnTo>
                  <a:lnTo>
                    <a:pt x="1054" y="448"/>
                  </a:lnTo>
                  <a:lnTo>
                    <a:pt x="1076" y="461"/>
                  </a:lnTo>
                  <a:lnTo>
                    <a:pt x="1091" y="471"/>
                  </a:lnTo>
                  <a:lnTo>
                    <a:pt x="1103" y="486"/>
                  </a:lnTo>
                  <a:lnTo>
                    <a:pt x="1110" y="497"/>
                  </a:lnTo>
                  <a:lnTo>
                    <a:pt x="1118" y="510"/>
                  </a:lnTo>
                  <a:lnTo>
                    <a:pt x="1121" y="518"/>
                  </a:lnTo>
                  <a:lnTo>
                    <a:pt x="1123" y="521"/>
                  </a:lnTo>
                  <a:lnTo>
                    <a:pt x="1094" y="521"/>
                  </a:lnTo>
                  <a:lnTo>
                    <a:pt x="1073" y="518"/>
                  </a:lnTo>
                  <a:lnTo>
                    <a:pt x="1052" y="507"/>
                  </a:lnTo>
                  <a:lnTo>
                    <a:pt x="1038" y="497"/>
                  </a:lnTo>
                  <a:lnTo>
                    <a:pt x="1023" y="482"/>
                  </a:lnTo>
                  <a:lnTo>
                    <a:pt x="1012" y="470"/>
                  </a:lnTo>
                  <a:lnTo>
                    <a:pt x="1003" y="457"/>
                  </a:lnTo>
                  <a:lnTo>
                    <a:pt x="999" y="448"/>
                  </a:lnTo>
                  <a:lnTo>
                    <a:pt x="986" y="448"/>
                  </a:lnTo>
                  <a:lnTo>
                    <a:pt x="976" y="451"/>
                  </a:lnTo>
                  <a:lnTo>
                    <a:pt x="963" y="451"/>
                  </a:lnTo>
                  <a:lnTo>
                    <a:pt x="952" y="455"/>
                  </a:lnTo>
                  <a:lnTo>
                    <a:pt x="973" y="463"/>
                  </a:lnTo>
                  <a:lnTo>
                    <a:pt x="996" y="476"/>
                  </a:lnTo>
                  <a:lnTo>
                    <a:pt x="1010" y="489"/>
                  </a:lnTo>
                  <a:lnTo>
                    <a:pt x="1023" y="505"/>
                  </a:lnTo>
                  <a:lnTo>
                    <a:pt x="1031" y="518"/>
                  </a:lnTo>
                  <a:lnTo>
                    <a:pt x="1038" y="528"/>
                  </a:lnTo>
                  <a:lnTo>
                    <a:pt x="1041" y="538"/>
                  </a:lnTo>
                  <a:lnTo>
                    <a:pt x="1043" y="541"/>
                  </a:lnTo>
                  <a:lnTo>
                    <a:pt x="1014" y="539"/>
                  </a:lnTo>
                  <a:lnTo>
                    <a:pt x="991" y="534"/>
                  </a:lnTo>
                  <a:lnTo>
                    <a:pt x="968" y="523"/>
                  </a:lnTo>
                  <a:lnTo>
                    <a:pt x="954" y="512"/>
                  </a:lnTo>
                  <a:lnTo>
                    <a:pt x="939" y="497"/>
                  </a:lnTo>
                  <a:lnTo>
                    <a:pt x="930" y="482"/>
                  </a:lnTo>
                  <a:lnTo>
                    <a:pt x="921" y="470"/>
                  </a:lnTo>
                  <a:lnTo>
                    <a:pt x="917" y="461"/>
                  </a:lnTo>
                  <a:lnTo>
                    <a:pt x="905" y="461"/>
                  </a:lnTo>
                  <a:lnTo>
                    <a:pt x="892" y="463"/>
                  </a:lnTo>
                  <a:lnTo>
                    <a:pt x="880" y="464"/>
                  </a:lnTo>
                  <a:lnTo>
                    <a:pt x="869" y="466"/>
                  </a:lnTo>
                  <a:lnTo>
                    <a:pt x="894" y="473"/>
                  </a:lnTo>
                  <a:lnTo>
                    <a:pt x="914" y="489"/>
                  </a:lnTo>
                  <a:lnTo>
                    <a:pt x="930" y="503"/>
                  </a:lnTo>
                  <a:lnTo>
                    <a:pt x="943" y="520"/>
                  </a:lnTo>
                  <a:lnTo>
                    <a:pt x="950" y="534"/>
                  </a:lnTo>
                  <a:lnTo>
                    <a:pt x="957" y="547"/>
                  </a:lnTo>
                  <a:lnTo>
                    <a:pt x="962" y="556"/>
                  </a:lnTo>
                  <a:lnTo>
                    <a:pt x="963" y="560"/>
                  </a:lnTo>
                  <a:lnTo>
                    <a:pt x="933" y="558"/>
                  </a:lnTo>
                  <a:lnTo>
                    <a:pt x="909" y="551"/>
                  </a:lnTo>
                  <a:lnTo>
                    <a:pt x="886" y="539"/>
                  </a:lnTo>
                  <a:lnTo>
                    <a:pt x="870" y="526"/>
                  </a:lnTo>
                  <a:lnTo>
                    <a:pt x="856" y="510"/>
                  </a:lnTo>
                  <a:lnTo>
                    <a:pt x="846" y="495"/>
                  </a:lnTo>
                  <a:lnTo>
                    <a:pt x="838" y="481"/>
                  </a:lnTo>
                  <a:lnTo>
                    <a:pt x="833" y="471"/>
                  </a:lnTo>
                  <a:lnTo>
                    <a:pt x="825" y="471"/>
                  </a:lnTo>
                  <a:lnTo>
                    <a:pt x="817" y="471"/>
                  </a:lnTo>
                  <a:lnTo>
                    <a:pt x="807" y="471"/>
                  </a:lnTo>
                  <a:lnTo>
                    <a:pt x="798" y="473"/>
                  </a:lnTo>
                  <a:lnTo>
                    <a:pt x="785" y="473"/>
                  </a:lnTo>
                  <a:lnTo>
                    <a:pt x="774" y="476"/>
                  </a:lnTo>
                  <a:lnTo>
                    <a:pt x="761" y="476"/>
                  </a:lnTo>
                  <a:lnTo>
                    <a:pt x="751" y="477"/>
                  </a:lnTo>
                  <a:lnTo>
                    <a:pt x="769" y="489"/>
                  </a:lnTo>
                  <a:lnTo>
                    <a:pt x="787" y="499"/>
                  </a:lnTo>
                  <a:lnTo>
                    <a:pt x="803" y="508"/>
                  </a:lnTo>
                  <a:lnTo>
                    <a:pt x="819" y="518"/>
                  </a:lnTo>
                  <a:lnTo>
                    <a:pt x="830" y="523"/>
                  </a:lnTo>
                  <a:lnTo>
                    <a:pt x="841" y="531"/>
                  </a:lnTo>
                  <a:lnTo>
                    <a:pt x="846" y="534"/>
                  </a:lnTo>
                  <a:lnTo>
                    <a:pt x="851" y="536"/>
                  </a:lnTo>
                  <a:lnTo>
                    <a:pt x="843" y="545"/>
                  </a:lnTo>
                  <a:lnTo>
                    <a:pt x="838" y="556"/>
                  </a:lnTo>
                  <a:lnTo>
                    <a:pt x="828" y="551"/>
                  </a:lnTo>
                  <a:lnTo>
                    <a:pt x="817" y="545"/>
                  </a:lnTo>
                  <a:lnTo>
                    <a:pt x="803" y="538"/>
                  </a:lnTo>
                  <a:lnTo>
                    <a:pt x="787" y="528"/>
                  </a:lnTo>
                  <a:lnTo>
                    <a:pt x="767" y="516"/>
                  </a:lnTo>
                  <a:lnTo>
                    <a:pt x="746" y="505"/>
                  </a:lnTo>
                  <a:lnTo>
                    <a:pt x="725" y="492"/>
                  </a:lnTo>
                  <a:lnTo>
                    <a:pt x="704" y="481"/>
                  </a:lnTo>
                  <a:lnTo>
                    <a:pt x="682" y="481"/>
                  </a:lnTo>
                  <a:lnTo>
                    <a:pt x="659" y="482"/>
                  </a:lnTo>
                  <a:lnTo>
                    <a:pt x="638" y="482"/>
                  </a:lnTo>
                  <a:lnTo>
                    <a:pt x="619" y="484"/>
                  </a:lnTo>
                  <a:lnTo>
                    <a:pt x="601" y="484"/>
                  </a:lnTo>
                  <a:lnTo>
                    <a:pt x="588" y="486"/>
                  </a:lnTo>
                  <a:lnTo>
                    <a:pt x="577" y="486"/>
                  </a:lnTo>
                  <a:lnTo>
                    <a:pt x="572" y="489"/>
                  </a:lnTo>
                  <a:lnTo>
                    <a:pt x="563" y="473"/>
                  </a:lnTo>
                  <a:lnTo>
                    <a:pt x="558" y="461"/>
                  </a:lnTo>
                  <a:lnTo>
                    <a:pt x="558" y="458"/>
                  </a:lnTo>
                  <a:lnTo>
                    <a:pt x="564" y="458"/>
                  </a:lnTo>
                  <a:lnTo>
                    <a:pt x="574" y="458"/>
                  </a:lnTo>
                  <a:lnTo>
                    <a:pt x="587" y="458"/>
                  </a:lnTo>
                  <a:lnTo>
                    <a:pt x="601" y="457"/>
                  </a:lnTo>
                  <a:lnTo>
                    <a:pt x="617" y="457"/>
                  </a:lnTo>
                  <a:lnTo>
                    <a:pt x="638" y="455"/>
                  </a:lnTo>
                  <a:lnTo>
                    <a:pt x="659" y="455"/>
                  </a:lnTo>
                  <a:lnTo>
                    <a:pt x="645" y="445"/>
                  </a:lnTo>
                  <a:lnTo>
                    <a:pt x="632" y="439"/>
                  </a:lnTo>
                  <a:lnTo>
                    <a:pt x="619" y="429"/>
                  </a:lnTo>
                  <a:lnTo>
                    <a:pt x="608" y="424"/>
                  </a:lnTo>
                  <a:lnTo>
                    <a:pt x="598" y="419"/>
                  </a:lnTo>
                  <a:lnTo>
                    <a:pt x="588" y="413"/>
                  </a:lnTo>
                  <a:lnTo>
                    <a:pt x="579" y="408"/>
                  </a:lnTo>
                  <a:lnTo>
                    <a:pt x="574" y="403"/>
                  </a:lnTo>
                  <a:lnTo>
                    <a:pt x="566" y="411"/>
                  </a:lnTo>
                  <a:lnTo>
                    <a:pt x="559" y="422"/>
                  </a:lnTo>
                  <a:lnTo>
                    <a:pt x="548" y="431"/>
                  </a:lnTo>
                  <a:lnTo>
                    <a:pt x="535" y="440"/>
                  </a:lnTo>
                  <a:lnTo>
                    <a:pt x="518" y="444"/>
                  </a:lnTo>
                  <a:lnTo>
                    <a:pt x="495" y="445"/>
                  </a:lnTo>
                  <a:lnTo>
                    <a:pt x="473" y="440"/>
                  </a:lnTo>
                  <a:lnTo>
                    <a:pt x="446" y="429"/>
                  </a:lnTo>
                  <a:lnTo>
                    <a:pt x="446" y="426"/>
                  </a:lnTo>
                  <a:lnTo>
                    <a:pt x="449" y="419"/>
                  </a:lnTo>
                  <a:lnTo>
                    <a:pt x="453" y="408"/>
                  </a:lnTo>
                  <a:lnTo>
                    <a:pt x="464" y="398"/>
                  </a:lnTo>
                  <a:lnTo>
                    <a:pt x="475" y="387"/>
                  </a:lnTo>
                  <a:lnTo>
                    <a:pt x="492" y="382"/>
                  </a:lnTo>
                  <a:lnTo>
                    <a:pt x="514" y="378"/>
                  </a:lnTo>
                  <a:lnTo>
                    <a:pt x="542" y="383"/>
                  </a:lnTo>
                  <a:lnTo>
                    <a:pt x="527" y="374"/>
                  </a:lnTo>
                  <a:lnTo>
                    <a:pt x="516" y="367"/>
                  </a:lnTo>
                  <a:lnTo>
                    <a:pt x="503" y="357"/>
                  </a:lnTo>
                  <a:lnTo>
                    <a:pt x="490" y="351"/>
                  </a:lnTo>
                  <a:lnTo>
                    <a:pt x="482" y="357"/>
                  </a:lnTo>
                  <a:lnTo>
                    <a:pt x="477" y="369"/>
                  </a:lnTo>
                  <a:lnTo>
                    <a:pt x="466" y="378"/>
                  </a:lnTo>
                  <a:lnTo>
                    <a:pt x="453" y="387"/>
                  </a:lnTo>
                  <a:lnTo>
                    <a:pt x="435" y="391"/>
                  </a:lnTo>
                  <a:lnTo>
                    <a:pt x="415" y="391"/>
                  </a:lnTo>
                  <a:lnTo>
                    <a:pt x="391" y="385"/>
                  </a:lnTo>
                  <a:lnTo>
                    <a:pt x="366" y="374"/>
                  </a:lnTo>
                  <a:lnTo>
                    <a:pt x="366" y="370"/>
                  </a:lnTo>
                  <a:lnTo>
                    <a:pt x="369" y="364"/>
                  </a:lnTo>
                  <a:lnTo>
                    <a:pt x="373" y="354"/>
                  </a:lnTo>
                  <a:lnTo>
                    <a:pt x="384" y="345"/>
                  </a:lnTo>
                  <a:lnTo>
                    <a:pt x="395" y="333"/>
                  </a:lnTo>
                  <a:lnTo>
                    <a:pt x="414" y="328"/>
                  </a:lnTo>
                  <a:lnTo>
                    <a:pt x="433" y="325"/>
                  </a:lnTo>
                  <a:lnTo>
                    <a:pt x="459" y="330"/>
                  </a:lnTo>
                  <a:lnTo>
                    <a:pt x="446" y="321"/>
                  </a:lnTo>
                  <a:lnTo>
                    <a:pt x="433" y="314"/>
                  </a:lnTo>
                  <a:lnTo>
                    <a:pt x="420" y="307"/>
                  </a:lnTo>
                  <a:lnTo>
                    <a:pt x="409" y="301"/>
                  </a:lnTo>
                  <a:lnTo>
                    <a:pt x="402" y="307"/>
                  </a:lnTo>
                  <a:lnTo>
                    <a:pt x="395" y="315"/>
                  </a:lnTo>
                  <a:lnTo>
                    <a:pt x="384" y="323"/>
                  </a:lnTo>
                  <a:lnTo>
                    <a:pt x="372" y="332"/>
                  </a:lnTo>
                  <a:lnTo>
                    <a:pt x="353" y="336"/>
                  </a:lnTo>
                  <a:lnTo>
                    <a:pt x="335" y="338"/>
                  </a:lnTo>
                  <a:lnTo>
                    <a:pt x="311" y="332"/>
                  </a:lnTo>
                  <a:lnTo>
                    <a:pt x="288" y="321"/>
                  </a:lnTo>
                  <a:lnTo>
                    <a:pt x="288" y="317"/>
                  </a:lnTo>
                  <a:lnTo>
                    <a:pt x="291" y="312"/>
                  </a:lnTo>
                  <a:lnTo>
                    <a:pt x="295" y="302"/>
                  </a:lnTo>
                  <a:lnTo>
                    <a:pt x="306" y="294"/>
                  </a:lnTo>
                  <a:lnTo>
                    <a:pt x="317" y="283"/>
                  </a:lnTo>
                  <a:lnTo>
                    <a:pt x="333" y="276"/>
                  </a:lnTo>
                  <a:lnTo>
                    <a:pt x="351" y="275"/>
                  </a:lnTo>
                  <a:lnTo>
                    <a:pt x="377" y="279"/>
                  </a:lnTo>
                  <a:lnTo>
                    <a:pt x="362" y="270"/>
                  </a:lnTo>
                  <a:lnTo>
                    <a:pt x="349" y="262"/>
                  </a:lnTo>
                  <a:lnTo>
                    <a:pt x="337" y="255"/>
                  </a:lnTo>
                  <a:lnTo>
                    <a:pt x="324" y="247"/>
                  </a:lnTo>
                  <a:lnTo>
                    <a:pt x="317" y="253"/>
                  </a:lnTo>
                  <a:lnTo>
                    <a:pt x="311" y="262"/>
                  </a:lnTo>
                  <a:lnTo>
                    <a:pt x="298" y="271"/>
                  </a:lnTo>
                  <a:lnTo>
                    <a:pt x="288" y="281"/>
                  </a:lnTo>
                  <a:lnTo>
                    <a:pt x="269" y="284"/>
                  </a:lnTo>
                  <a:lnTo>
                    <a:pt x="251" y="286"/>
                  </a:lnTo>
                  <a:lnTo>
                    <a:pt x="227" y="281"/>
                  </a:lnTo>
                  <a:lnTo>
                    <a:pt x="203" y="271"/>
                  </a:lnTo>
                  <a:lnTo>
                    <a:pt x="203" y="268"/>
                  </a:lnTo>
                  <a:lnTo>
                    <a:pt x="206" y="260"/>
                  </a:lnTo>
                  <a:lnTo>
                    <a:pt x="211" y="252"/>
                  </a:lnTo>
                  <a:lnTo>
                    <a:pt x="222" y="244"/>
                  </a:lnTo>
                  <a:lnTo>
                    <a:pt x="235" y="233"/>
                  </a:lnTo>
                  <a:lnTo>
                    <a:pt x="253" y="229"/>
                  </a:lnTo>
                  <a:lnTo>
                    <a:pt x="274" y="227"/>
                  </a:lnTo>
                  <a:lnTo>
                    <a:pt x="300" y="233"/>
                  </a:lnTo>
                  <a:lnTo>
                    <a:pt x="285" y="221"/>
                  </a:lnTo>
                  <a:lnTo>
                    <a:pt x="274" y="214"/>
                  </a:lnTo>
                  <a:lnTo>
                    <a:pt x="259" y="205"/>
                  </a:lnTo>
                  <a:lnTo>
                    <a:pt x="246" y="200"/>
                  </a:lnTo>
                  <a:lnTo>
                    <a:pt x="238" y="203"/>
                  </a:lnTo>
                  <a:lnTo>
                    <a:pt x="233" y="213"/>
                  </a:lnTo>
                  <a:lnTo>
                    <a:pt x="221" y="221"/>
                  </a:lnTo>
                  <a:lnTo>
                    <a:pt x="209" y="231"/>
                  </a:lnTo>
                  <a:lnTo>
                    <a:pt x="192" y="234"/>
                  </a:lnTo>
                  <a:lnTo>
                    <a:pt x="171" y="237"/>
                  </a:lnTo>
                  <a:lnTo>
                    <a:pt x="150" y="233"/>
                  </a:lnTo>
                  <a:lnTo>
                    <a:pt x="124" y="224"/>
                  </a:lnTo>
                  <a:lnTo>
                    <a:pt x="124" y="220"/>
                  </a:lnTo>
                  <a:lnTo>
                    <a:pt x="127" y="213"/>
                  </a:lnTo>
                  <a:lnTo>
                    <a:pt x="133" y="203"/>
                  </a:lnTo>
                  <a:lnTo>
                    <a:pt x="145" y="196"/>
                  </a:lnTo>
                  <a:lnTo>
                    <a:pt x="156" y="185"/>
                  </a:lnTo>
                  <a:lnTo>
                    <a:pt x="175" y="182"/>
                  </a:lnTo>
                  <a:lnTo>
                    <a:pt x="197" y="179"/>
                  </a:lnTo>
                  <a:lnTo>
                    <a:pt x="224" y="187"/>
                  </a:lnTo>
                  <a:lnTo>
                    <a:pt x="211" y="177"/>
                  </a:lnTo>
                  <a:lnTo>
                    <a:pt x="200" y="171"/>
                  </a:lnTo>
                  <a:lnTo>
                    <a:pt x="187" y="163"/>
                  </a:lnTo>
                  <a:lnTo>
                    <a:pt x="177" y="158"/>
                  </a:lnTo>
                  <a:lnTo>
                    <a:pt x="169" y="163"/>
                  </a:lnTo>
                  <a:lnTo>
                    <a:pt x="164" y="172"/>
                  </a:lnTo>
                  <a:lnTo>
                    <a:pt x="151" y="179"/>
                  </a:lnTo>
                  <a:lnTo>
                    <a:pt x="140" y="189"/>
                  </a:lnTo>
                  <a:lnTo>
                    <a:pt x="122" y="192"/>
                  </a:lnTo>
                  <a:lnTo>
                    <a:pt x="103" y="194"/>
                  </a:lnTo>
                  <a:lnTo>
                    <a:pt x="82" y="190"/>
                  </a:lnTo>
                  <a:lnTo>
                    <a:pt x="58" y="182"/>
                  </a:lnTo>
                  <a:lnTo>
                    <a:pt x="58" y="177"/>
                  </a:lnTo>
                  <a:lnTo>
                    <a:pt x="63" y="172"/>
                  </a:lnTo>
                  <a:lnTo>
                    <a:pt x="68" y="163"/>
                  </a:lnTo>
                  <a:lnTo>
                    <a:pt x="79" y="154"/>
                  </a:lnTo>
                  <a:lnTo>
                    <a:pt x="92" y="145"/>
                  </a:lnTo>
                  <a:lnTo>
                    <a:pt x="108" y="141"/>
                  </a:lnTo>
                  <a:lnTo>
                    <a:pt x="127" y="140"/>
                  </a:lnTo>
                  <a:lnTo>
                    <a:pt x="153" y="145"/>
                  </a:lnTo>
                  <a:lnTo>
                    <a:pt x="150" y="141"/>
                  </a:lnTo>
                  <a:lnTo>
                    <a:pt x="145" y="140"/>
                  </a:lnTo>
                  <a:lnTo>
                    <a:pt x="113" y="135"/>
                  </a:lnTo>
                  <a:lnTo>
                    <a:pt x="89" y="128"/>
                  </a:lnTo>
                  <a:lnTo>
                    <a:pt x="68" y="117"/>
                  </a:lnTo>
                  <a:lnTo>
                    <a:pt x="55" y="104"/>
                  </a:lnTo>
                  <a:lnTo>
                    <a:pt x="42" y="89"/>
                  </a:lnTo>
                  <a:lnTo>
                    <a:pt x="37" y="78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53" y="62"/>
                  </a:lnTo>
                  <a:lnTo>
                    <a:pt x="73" y="64"/>
                  </a:lnTo>
                  <a:lnTo>
                    <a:pt x="89" y="67"/>
                  </a:lnTo>
                  <a:lnTo>
                    <a:pt x="106" y="78"/>
                  </a:lnTo>
                  <a:lnTo>
                    <a:pt x="116" y="88"/>
                  </a:lnTo>
                  <a:lnTo>
                    <a:pt x="127" y="101"/>
                  </a:lnTo>
                  <a:lnTo>
                    <a:pt x="137" y="112"/>
                  </a:lnTo>
                  <a:lnTo>
                    <a:pt x="144" y="122"/>
                  </a:lnTo>
                  <a:lnTo>
                    <a:pt x="148" y="124"/>
                  </a:lnTo>
                  <a:lnTo>
                    <a:pt x="151" y="128"/>
                  </a:lnTo>
                  <a:lnTo>
                    <a:pt x="139" y="108"/>
                  </a:lnTo>
                  <a:lnTo>
                    <a:pt x="131" y="91"/>
                  </a:lnTo>
                  <a:lnTo>
                    <a:pt x="129" y="75"/>
                  </a:lnTo>
                  <a:lnTo>
                    <a:pt x="131" y="62"/>
                  </a:lnTo>
                  <a:lnTo>
                    <a:pt x="133" y="49"/>
                  </a:lnTo>
                  <a:lnTo>
                    <a:pt x="137" y="42"/>
                  </a:lnTo>
                  <a:lnTo>
                    <a:pt x="139" y="34"/>
                  </a:lnTo>
                  <a:lnTo>
                    <a:pt x="142" y="34"/>
                  </a:lnTo>
                  <a:lnTo>
                    <a:pt x="163" y="49"/>
                  </a:lnTo>
                  <a:lnTo>
                    <a:pt x="177" y="65"/>
                  </a:lnTo>
                  <a:lnTo>
                    <a:pt x="184" y="82"/>
                  </a:lnTo>
                  <a:lnTo>
                    <a:pt x="190" y="99"/>
                  </a:lnTo>
                  <a:lnTo>
                    <a:pt x="190" y="112"/>
                  </a:lnTo>
                  <a:lnTo>
                    <a:pt x="187" y="127"/>
                  </a:lnTo>
                  <a:lnTo>
                    <a:pt x="184" y="135"/>
                  </a:lnTo>
                  <a:lnTo>
                    <a:pt x="182" y="146"/>
                  </a:lnTo>
                  <a:lnTo>
                    <a:pt x="200" y="158"/>
                  </a:lnTo>
                  <a:lnTo>
                    <a:pt x="219" y="169"/>
                  </a:lnTo>
                  <a:lnTo>
                    <a:pt x="204" y="146"/>
                  </a:lnTo>
                  <a:lnTo>
                    <a:pt x="197" y="130"/>
                  </a:lnTo>
                  <a:lnTo>
                    <a:pt x="193" y="112"/>
                  </a:lnTo>
                  <a:lnTo>
                    <a:pt x="195" y="99"/>
                  </a:lnTo>
                  <a:lnTo>
                    <a:pt x="197" y="86"/>
                  </a:lnTo>
                  <a:lnTo>
                    <a:pt x="200" y="78"/>
                  </a:lnTo>
                  <a:lnTo>
                    <a:pt x="203" y="71"/>
                  </a:lnTo>
                  <a:lnTo>
                    <a:pt x="206" y="71"/>
                  </a:lnTo>
                  <a:lnTo>
                    <a:pt x="226" y="86"/>
                  </a:lnTo>
                  <a:lnTo>
                    <a:pt x="240" y="102"/>
                  </a:lnTo>
                  <a:lnTo>
                    <a:pt x="250" y="119"/>
                  </a:lnTo>
                  <a:lnTo>
                    <a:pt x="255" y="135"/>
                  </a:lnTo>
                  <a:lnTo>
                    <a:pt x="255" y="150"/>
                  </a:lnTo>
                  <a:lnTo>
                    <a:pt x="255" y="164"/>
                  </a:lnTo>
                  <a:lnTo>
                    <a:pt x="253" y="176"/>
                  </a:lnTo>
                  <a:lnTo>
                    <a:pt x="251" y="187"/>
                  </a:lnTo>
                  <a:lnTo>
                    <a:pt x="262" y="192"/>
                  </a:lnTo>
                  <a:lnTo>
                    <a:pt x="274" y="200"/>
                  </a:lnTo>
                  <a:lnTo>
                    <a:pt x="284" y="205"/>
                  </a:lnTo>
                  <a:lnTo>
                    <a:pt x="295" y="213"/>
                  </a:lnTo>
                  <a:lnTo>
                    <a:pt x="280" y="190"/>
                  </a:lnTo>
                  <a:lnTo>
                    <a:pt x="274" y="174"/>
                  </a:lnTo>
                  <a:lnTo>
                    <a:pt x="269" y="156"/>
                  </a:lnTo>
                  <a:lnTo>
                    <a:pt x="271" y="143"/>
                  </a:lnTo>
                  <a:lnTo>
                    <a:pt x="274" y="130"/>
                  </a:lnTo>
                  <a:lnTo>
                    <a:pt x="277" y="120"/>
                  </a:lnTo>
                  <a:lnTo>
                    <a:pt x="280" y="114"/>
                  </a:lnTo>
                  <a:lnTo>
                    <a:pt x="282" y="114"/>
                  </a:lnTo>
                  <a:lnTo>
                    <a:pt x="303" y="128"/>
                  </a:lnTo>
                  <a:lnTo>
                    <a:pt x="319" y="145"/>
                  </a:lnTo>
                  <a:lnTo>
                    <a:pt x="327" y="161"/>
                  </a:lnTo>
                  <a:lnTo>
                    <a:pt x="335" y="179"/>
                  </a:lnTo>
                  <a:lnTo>
                    <a:pt x="335" y="194"/>
                  </a:lnTo>
                  <a:lnTo>
                    <a:pt x="335" y="208"/>
                  </a:lnTo>
                  <a:lnTo>
                    <a:pt x="333" y="221"/>
                  </a:lnTo>
                  <a:lnTo>
                    <a:pt x="332" y="233"/>
                  </a:lnTo>
                  <a:lnTo>
                    <a:pt x="342" y="239"/>
                  </a:lnTo>
                  <a:lnTo>
                    <a:pt x="355" y="247"/>
                  </a:lnTo>
                  <a:lnTo>
                    <a:pt x="367" y="253"/>
                  </a:lnTo>
                  <a:lnTo>
                    <a:pt x="382" y="262"/>
                  </a:lnTo>
                  <a:lnTo>
                    <a:pt x="366" y="240"/>
                  </a:lnTo>
                  <a:lnTo>
                    <a:pt x="359" y="221"/>
                  </a:lnTo>
                  <a:lnTo>
                    <a:pt x="353" y="203"/>
                  </a:lnTo>
                  <a:lnTo>
                    <a:pt x="355" y="189"/>
                  </a:lnTo>
                  <a:lnTo>
                    <a:pt x="355" y="174"/>
                  </a:lnTo>
                  <a:lnTo>
                    <a:pt x="359" y="164"/>
                  </a:lnTo>
                  <a:lnTo>
                    <a:pt x="362" y="158"/>
                  </a:lnTo>
                  <a:lnTo>
                    <a:pt x="364" y="158"/>
                  </a:lnTo>
                  <a:lnTo>
                    <a:pt x="386" y="174"/>
                  </a:lnTo>
                  <a:lnTo>
                    <a:pt x="402" y="192"/>
                  </a:lnTo>
                  <a:lnTo>
                    <a:pt x="414" y="208"/>
                  </a:lnTo>
                  <a:lnTo>
                    <a:pt x="420" y="229"/>
                  </a:lnTo>
                  <a:lnTo>
                    <a:pt x="420" y="244"/>
                  </a:lnTo>
                  <a:lnTo>
                    <a:pt x="422" y="258"/>
                  </a:lnTo>
                  <a:lnTo>
                    <a:pt x="420" y="271"/>
                  </a:lnTo>
                  <a:lnTo>
                    <a:pt x="419" y="284"/>
                  </a:lnTo>
                  <a:lnTo>
                    <a:pt x="437" y="294"/>
                  </a:lnTo>
                  <a:lnTo>
                    <a:pt x="454" y="307"/>
                  </a:lnTo>
                  <a:lnTo>
                    <a:pt x="443" y="284"/>
                  </a:lnTo>
                  <a:lnTo>
                    <a:pt x="435" y="266"/>
                  </a:lnTo>
                  <a:lnTo>
                    <a:pt x="431" y="247"/>
                  </a:lnTo>
                  <a:lnTo>
                    <a:pt x="431" y="233"/>
                  </a:lnTo>
                  <a:lnTo>
                    <a:pt x="431" y="220"/>
                  </a:lnTo>
                  <a:lnTo>
                    <a:pt x="435" y="211"/>
                  </a:lnTo>
                  <a:lnTo>
                    <a:pt x="438" y="203"/>
                  </a:lnTo>
                  <a:lnTo>
                    <a:pt x="440" y="203"/>
                  </a:lnTo>
                  <a:lnTo>
                    <a:pt x="462" y="220"/>
                  </a:lnTo>
                  <a:lnTo>
                    <a:pt x="479" y="239"/>
                  </a:lnTo>
                  <a:lnTo>
                    <a:pt x="490" y="255"/>
                  </a:lnTo>
                  <a:lnTo>
                    <a:pt x="498" y="273"/>
                  </a:lnTo>
                  <a:lnTo>
                    <a:pt x="500" y="289"/>
                  </a:lnTo>
                  <a:lnTo>
                    <a:pt x="501" y="307"/>
                  </a:lnTo>
                  <a:lnTo>
                    <a:pt x="500" y="319"/>
                  </a:lnTo>
                  <a:lnTo>
                    <a:pt x="500" y="332"/>
                  </a:lnTo>
                  <a:lnTo>
                    <a:pt x="514" y="341"/>
                  </a:lnTo>
                  <a:lnTo>
                    <a:pt x="530" y="351"/>
                  </a:lnTo>
                  <a:lnTo>
                    <a:pt x="518" y="328"/>
                  </a:lnTo>
                  <a:lnTo>
                    <a:pt x="512" y="310"/>
                  </a:lnTo>
                  <a:lnTo>
                    <a:pt x="508" y="294"/>
                  </a:lnTo>
                  <a:lnTo>
                    <a:pt x="510" y="279"/>
                  </a:lnTo>
                  <a:lnTo>
                    <a:pt x="510" y="266"/>
                  </a:lnTo>
                  <a:lnTo>
                    <a:pt x="514" y="258"/>
                  </a:lnTo>
                  <a:lnTo>
                    <a:pt x="516" y="252"/>
                  </a:lnTo>
                  <a:lnTo>
                    <a:pt x="518" y="252"/>
                  </a:lnTo>
                  <a:lnTo>
                    <a:pt x="540" y="266"/>
                  </a:lnTo>
                  <a:lnTo>
                    <a:pt x="558" y="284"/>
                  </a:lnTo>
                  <a:lnTo>
                    <a:pt x="569" y="301"/>
                  </a:lnTo>
                  <a:lnTo>
                    <a:pt x="577" y="321"/>
                  </a:lnTo>
                  <a:lnTo>
                    <a:pt x="579" y="336"/>
                  </a:lnTo>
                  <a:lnTo>
                    <a:pt x="582" y="352"/>
                  </a:lnTo>
                  <a:lnTo>
                    <a:pt x="582" y="367"/>
                  </a:lnTo>
                  <a:lnTo>
                    <a:pt x="582" y="380"/>
                  </a:lnTo>
                  <a:lnTo>
                    <a:pt x="592" y="385"/>
                  </a:lnTo>
                  <a:lnTo>
                    <a:pt x="605" y="393"/>
                  </a:lnTo>
                  <a:lnTo>
                    <a:pt x="619" y="400"/>
                  </a:lnTo>
                  <a:lnTo>
                    <a:pt x="635" y="411"/>
                  </a:lnTo>
                  <a:lnTo>
                    <a:pt x="653" y="420"/>
                  </a:lnTo>
                  <a:lnTo>
                    <a:pt x="669" y="431"/>
                  </a:lnTo>
                  <a:lnTo>
                    <a:pt x="687" y="440"/>
                  </a:lnTo>
                  <a:lnTo>
                    <a:pt x="704" y="451"/>
                  </a:lnTo>
                  <a:lnTo>
                    <a:pt x="722" y="450"/>
                  </a:lnTo>
                  <a:lnTo>
                    <a:pt x="740" y="448"/>
                  </a:lnTo>
                  <a:lnTo>
                    <a:pt x="756" y="448"/>
                  </a:lnTo>
                  <a:lnTo>
                    <a:pt x="772" y="448"/>
                  </a:lnTo>
                  <a:lnTo>
                    <a:pt x="787" y="445"/>
                  </a:lnTo>
                  <a:lnTo>
                    <a:pt x="801" y="444"/>
                  </a:lnTo>
                  <a:lnTo>
                    <a:pt x="814" y="444"/>
                  </a:lnTo>
                  <a:lnTo>
                    <a:pt x="827" y="444"/>
                  </a:lnTo>
                  <a:lnTo>
                    <a:pt x="823" y="429"/>
                  </a:lnTo>
                  <a:lnTo>
                    <a:pt x="823" y="414"/>
                  </a:lnTo>
                  <a:lnTo>
                    <a:pt x="823" y="400"/>
                  </a:lnTo>
                  <a:lnTo>
                    <a:pt x="828" y="385"/>
                  </a:lnTo>
                  <a:lnTo>
                    <a:pt x="836" y="370"/>
                  </a:lnTo>
                  <a:lnTo>
                    <a:pt x="849" y="359"/>
                  </a:lnTo>
                  <a:lnTo>
                    <a:pt x="867" y="351"/>
                  </a:lnTo>
                  <a:lnTo>
                    <a:pt x="892" y="346"/>
                  </a:lnTo>
                  <a:lnTo>
                    <a:pt x="894" y="354"/>
                  </a:lnTo>
                  <a:lnTo>
                    <a:pt x="896" y="365"/>
                  </a:lnTo>
                  <a:lnTo>
                    <a:pt x="898" y="380"/>
                  </a:lnTo>
                  <a:lnTo>
                    <a:pt x="896" y="393"/>
                  </a:lnTo>
                  <a:lnTo>
                    <a:pt x="894" y="409"/>
                  </a:lnTo>
                  <a:lnTo>
                    <a:pt x="888" y="424"/>
                  </a:lnTo>
                  <a:lnTo>
                    <a:pt x="878" y="440"/>
                  </a:lnTo>
                  <a:lnTo>
                    <a:pt x="894" y="437"/>
                  </a:lnTo>
                  <a:lnTo>
                    <a:pt x="910" y="437"/>
                  </a:lnTo>
                  <a:lnTo>
                    <a:pt x="907" y="424"/>
                  </a:lnTo>
                  <a:lnTo>
                    <a:pt x="905" y="409"/>
                  </a:lnTo>
                  <a:lnTo>
                    <a:pt x="905" y="395"/>
                  </a:lnTo>
                  <a:lnTo>
                    <a:pt x="909" y="380"/>
                  </a:lnTo>
                  <a:lnTo>
                    <a:pt x="914" y="364"/>
                  </a:lnTo>
                  <a:lnTo>
                    <a:pt x="927" y="352"/>
                  </a:lnTo>
                  <a:lnTo>
                    <a:pt x="944" y="341"/>
                  </a:lnTo>
                  <a:lnTo>
                    <a:pt x="970" y="338"/>
                  </a:lnTo>
                  <a:lnTo>
                    <a:pt x="970" y="339"/>
                  </a:lnTo>
                  <a:lnTo>
                    <a:pt x="972" y="346"/>
                  </a:lnTo>
                  <a:lnTo>
                    <a:pt x="973" y="356"/>
                  </a:lnTo>
                  <a:lnTo>
                    <a:pt x="978" y="370"/>
                  </a:lnTo>
                  <a:lnTo>
                    <a:pt x="976" y="383"/>
                  </a:lnTo>
                  <a:lnTo>
                    <a:pt x="972" y="400"/>
                  </a:lnTo>
                  <a:lnTo>
                    <a:pt x="965" y="414"/>
                  </a:lnTo>
                  <a:lnTo>
                    <a:pt x="954" y="431"/>
                  </a:lnTo>
                  <a:lnTo>
                    <a:pt x="972" y="429"/>
                  </a:lnTo>
                  <a:lnTo>
                    <a:pt x="992" y="427"/>
                  </a:lnTo>
                  <a:lnTo>
                    <a:pt x="989" y="414"/>
                  </a:lnTo>
                  <a:lnTo>
                    <a:pt x="986" y="401"/>
                  </a:lnTo>
                  <a:lnTo>
                    <a:pt x="985" y="385"/>
                  </a:lnTo>
                  <a:lnTo>
                    <a:pt x="989" y="370"/>
                  </a:lnTo>
                  <a:lnTo>
                    <a:pt x="994" y="354"/>
                  </a:lnTo>
                  <a:lnTo>
                    <a:pt x="1005" y="343"/>
                  </a:lnTo>
                  <a:lnTo>
                    <a:pt x="1021" y="332"/>
                  </a:lnTo>
                  <a:lnTo>
                    <a:pt x="1047" y="327"/>
                  </a:lnTo>
                  <a:lnTo>
                    <a:pt x="1047" y="328"/>
                  </a:lnTo>
                  <a:lnTo>
                    <a:pt x="1049" y="336"/>
                  </a:lnTo>
                  <a:lnTo>
                    <a:pt x="1050" y="345"/>
                  </a:lnTo>
                  <a:lnTo>
                    <a:pt x="1054" y="359"/>
                  </a:lnTo>
                  <a:lnTo>
                    <a:pt x="1052" y="374"/>
                  </a:lnTo>
                  <a:lnTo>
                    <a:pt x="1049" y="391"/>
                  </a:lnTo>
                  <a:lnTo>
                    <a:pt x="1041" y="406"/>
                  </a:lnTo>
                  <a:lnTo>
                    <a:pt x="1028" y="422"/>
                  </a:lnTo>
                  <a:lnTo>
                    <a:pt x="1039" y="419"/>
                  </a:lnTo>
                  <a:lnTo>
                    <a:pt x="1052" y="419"/>
                  </a:lnTo>
                  <a:lnTo>
                    <a:pt x="1065" y="414"/>
                  </a:lnTo>
                  <a:lnTo>
                    <a:pt x="1078" y="414"/>
                  </a:lnTo>
                  <a:lnTo>
                    <a:pt x="1074" y="401"/>
                  </a:lnTo>
                  <a:lnTo>
                    <a:pt x="1073" y="388"/>
                  </a:lnTo>
                  <a:lnTo>
                    <a:pt x="1070" y="374"/>
                  </a:lnTo>
                  <a:lnTo>
                    <a:pt x="1074" y="359"/>
                  </a:lnTo>
                  <a:lnTo>
                    <a:pt x="1079" y="343"/>
                  </a:lnTo>
                  <a:lnTo>
                    <a:pt x="1091" y="330"/>
                  </a:lnTo>
                  <a:lnTo>
                    <a:pt x="1105" y="319"/>
                  </a:lnTo>
                  <a:lnTo>
                    <a:pt x="1129" y="314"/>
                  </a:lnTo>
                  <a:lnTo>
                    <a:pt x="1129" y="315"/>
                  </a:lnTo>
                  <a:lnTo>
                    <a:pt x="1132" y="323"/>
                  </a:lnTo>
                  <a:lnTo>
                    <a:pt x="1134" y="332"/>
                  </a:lnTo>
                  <a:lnTo>
                    <a:pt x="1137" y="346"/>
                  </a:lnTo>
                  <a:lnTo>
                    <a:pt x="1136" y="361"/>
                  </a:lnTo>
                  <a:lnTo>
                    <a:pt x="1134" y="378"/>
                  </a:lnTo>
                  <a:lnTo>
                    <a:pt x="1126" y="393"/>
                  </a:lnTo>
                  <a:lnTo>
                    <a:pt x="1113" y="409"/>
                  </a:lnTo>
                  <a:lnTo>
                    <a:pt x="1125" y="406"/>
                  </a:lnTo>
                  <a:lnTo>
                    <a:pt x="1136" y="403"/>
                  </a:lnTo>
                  <a:lnTo>
                    <a:pt x="1147" y="400"/>
                  </a:lnTo>
                  <a:lnTo>
                    <a:pt x="1160" y="400"/>
                  </a:lnTo>
                  <a:lnTo>
                    <a:pt x="1154" y="387"/>
                  </a:lnTo>
                  <a:lnTo>
                    <a:pt x="1152" y="377"/>
                  </a:lnTo>
                  <a:lnTo>
                    <a:pt x="1150" y="361"/>
                  </a:lnTo>
                  <a:lnTo>
                    <a:pt x="1152" y="346"/>
                  </a:lnTo>
                  <a:lnTo>
                    <a:pt x="1155" y="330"/>
                  </a:lnTo>
                  <a:lnTo>
                    <a:pt x="1166" y="317"/>
                  </a:lnTo>
                  <a:lnTo>
                    <a:pt x="1181" y="307"/>
                  </a:lnTo>
                  <a:lnTo>
                    <a:pt x="1205" y="299"/>
                  </a:lnTo>
                  <a:lnTo>
                    <a:pt x="1208" y="307"/>
                  </a:lnTo>
                  <a:lnTo>
                    <a:pt x="1210" y="317"/>
                  </a:lnTo>
                  <a:lnTo>
                    <a:pt x="1214" y="332"/>
                  </a:lnTo>
                  <a:lnTo>
                    <a:pt x="1212" y="345"/>
                  </a:lnTo>
                  <a:lnTo>
                    <a:pt x="1210" y="361"/>
                  </a:lnTo>
                  <a:lnTo>
                    <a:pt x="1203" y="377"/>
                  </a:lnTo>
                  <a:lnTo>
                    <a:pt x="1192" y="393"/>
                  </a:lnTo>
                  <a:lnTo>
                    <a:pt x="1208" y="387"/>
                  </a:lnTo>
                  <a:lnTo>
                    <a:pt x="1226" y="383"/>
                  </a:lnTo>
                  <a:lnTo>
                    <a:pt x="1223" y="372"/>
                  </a:lnTo>
                  <a:lnTo>
                    <a:pt x="1219" y="359"/>
                  </a:lnTo>
                  <a:lnTo>
                    <a:pt x="1218" y="345"/>
                  </a:lnTo>
                  <a:lnTo>
                    <a:pt x="1219" y="332"/>
                  </a:lnTo>
                  <a:lnTo>
                    <a:pt x="1223" y="317"/>
                  </a:lnTo>
                  <a:lnTo>
                    <a:pt x="1232" y="304"/>
                  </a:lnTo>
                  <a:lnTo>
                    <a:pt x="1247" y="291"/>
                  </a:lnTo>
                  <a:lnTo>
                    <a:pt x="1268" y="283"/>
                  </a:lnTo>
                  <a:lnTo>
                    <a:pt x="1272" y="289"/>
                  </a:lnTo>
                  <a:lnTo>
                    <a:pt x="1274" y="299"/>
                  </a:lnTo>
                  <a:lnTo>
                    <a:pt x="1278" y="314"/>
                  </a:lnTo>
                  <a:lnTo>
                    <a:pt x="1276" y="327"/>
                  </a:lnTo>
                  <a:lnTo>
                    <a:pt x="1276" y="343"/>
                  </a:lnTo>
                  <a:lnTo>
                    <a:pt x="1268" y="359"/>
                  </a:lnTo>
                  <a:lnTo>
                    <a:pt x="1258" y="377"/>
                  </a:lnTo>
                  <a:lnTo>
                    <a:pt x="1261" y="374"/>
                  </a:lnTo>
                  <a:lnTo>
                    <a:pt x="1265" y="372"/>
                  </a:lnTo>
                  <a:lnTo>
                    <a:pt x="1271" y="364"/>
                  </a:lnTo>
                  <a:lnTo>
                    <a:pt x="1279" y="354"/>
                  </a:lnTo>
                  <a:lnTo>
                    <a:pt x="1289" y="343"/>
                  </a:lnTo>
                  <a:lnTo>
                    <a:pt x="1303" y="338"/>
                  </a:lnTo>
                  <a:lnTo>
                    <a:pt x="1316" y="332"/>
                  </a:lnTo>
                  <a:lnTo>
                    <a:pt x="1334" y="332"/>
                  </a:lnTo>
                  <a:lnTo>
                    <a:pt x="1352" y="333"/>
                  </a:lnTo>
                  <a:lnTo>
                    <a:pt x="1376" y="343"/>
                  </a:lnTo>
                  <a:lnTo>
                    <a:pt x="1374" y="345"/>
                  </a:lnTo>
                  <a:lnTo>
                    <a:pt x="1371" y="354"/>
                  </a:lnTo>
                  <a:lnTo>
                    <a:pt x="1363" y="364"/>
                  </a:lnTo>
                  <a:lnTo>
                    <a:pt x="1352" y="377"/>
                  </a:lnTo>
                  <a:lnTo>
                    <a:pt x="1336" y="385"/>
                  </a:lnTo>
                  <a:lnTo>
                    <a:pt x="1318" y="393"/>
                  </a:lnTo>
                  <a:lnTo>
                    <a:pt x="1294" y="395"/>
                  </a:lnTo>
                  <a:lnTo>
                    <a:pt x="1265" y="388"/>
                  </a:lnTo>
                  <a:lnTo>
                    <a:pt x="1265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76600" y="6150600"/>
              <a:ext cx="74880" cy="40680"/>
            </a:xfrm>
            <a:custGeom>
              <a:avLst/>
              <a:gdLst/>
              <a:ahLst/>
              <a:rect l="l" t="t" r="r" b="b"/>
              <a:pathLst>
                <a:path w="671" h="421">
                  <a:moveTo>
                    <a:pt x="549" y="346"/>
                  </a:moveTo>
                  <a:lnTo>
                    <a:pt x="549" y="333"/>
                  </a:lnTo>
                  <a:lnTo>
                    <a:pt x="549" y="318"/>
                  </a:lnTo>
                  <a:lnTo>
                    <a:pt x="546" y="302"/>
                  </a:lnTo>
                  <a:lnTo>
                    <a:pt x="544" y="287"/>
                  </a:lnTo>
                  <a:lnTo>
                    <a:pt x="536" y="267"/>
                  </a:lnTo>
                  <a:lnTo>
                    <a:pt x="525" y="250"/>
                  </a:lnTo>
                  <a:lnTo>
                    <a:pt x="507" y="232"/>
                  </a:lnTo>
                  <a:lnTo>
                    <a:pt x="485" y="218"/>
                  </a:lnTo>
                  <a:lnTo>
                    <a:pt x="483" y="218"/>
                  </a:lnTo>
                  <a:lnTo>
                    <a:pt x="481" y="224"/>
                  </a:lnTo>
                  <a:lnTo>
                    <a:pt x="477" y="232"/>
                  </a:lnTo>
                  <a:lnTo>
                    <a:pt x="477" y="245"/>
                  </a:lnTo>
                  <a:lnTo>
                    <a:pt x="475" y="260"/>
                  </a:lnTo>
                  <a:lnTo>
                    <a:pt x="479" y="276"/>
                  </a:lnTo>
                  <a:lnTo>
                    <a:pt x="485" y="294"/>
                  </a:lnTo>
                  <a:lnTo>
                    <a:pt x="497" y="317"/>
                  </a:lnTo>
                  <a:lnTo>
                    <a:pt x="481" y="307"/>
                  </a:lnTo>
                  <a:lnTo>
                    <a:pt x="467" y="298"/>
                  </a:lnTo>
                  <a:lnTo>
                    <a:pt x="467" y="285"/>
                  </a:lnTo>
                  <a:lnTo>
                    <a:pt x="468" y="273"/>
                  </a:lnTo>
                  <a:lnTo>
                    <a:pt x="467" y="255"/>
                  </a:lnTo>
                  <a:lnTo>
                    <a:pt x="465" y="239"/>
                  </a:lnTo>
                  <a:lnTo>
                    <a:pt x="457" y="221"/>
                  </a:lnTo>
                  <a:lnTo>
                    <a:pt x="446" y="205"/>
                  </a:lnTo>
                  <a:lnTo>
                    <a:pt x="429" y="186"/>
                  </a:lnTo>
                  <a:lnTo>
                    <a:pt x="407" y="169"/>
                  </a:lnTo>
                  <a:lnTo>
                    <a:pt x="405" y="169"/>
                  </a:lnTo>
                  <a:lnTo>
                    <a:pt x="402" y="177"/>
                  </a:lnTo>
                  <a:lnTo>
                    <a:pt x="398" y="186"/>
                  </a:lnTo>
                  <a:lnTo>
                    <a:pt x="398" y="199"/>
                  </a:lnTo>
                  <a:lnTo>
                    <a:pt x="398" y="213"/>
                  </a:lnTo>
                  <a:lnTo>
                    <a:pt x="402" y="232"/>
                  </a:lnTo>
                  <a:lnTo>
                    <a:pt x="410" y="250"/>
                  </a:lnTo>
                  <a:lnTo>
                    <a:pt x="421" y="273"/>
                  </a:lnTo>
                  <a:lnTo>
                    <a:pt x="404" y="260"/>
                  </a:lnTo>
                  <a:lnTo>
                    <a:pt x="386" y="250"/>
                  </a:lnTo>
                  <a:lnTo>
                    <a:pt x="387" y="237"/>
                  </a:lnTo>
                  <a:lnTo>
                    <a:pt x="389" y="224"/>
                  </a:lnTo>
                  <a:lnTo>
                    <a:pt x="387" y="210"/>
                  </a:lnTo>
                  <a:lnTo>
                    <a:pt x="387" y="195"/>
                  </a:lnTo>
                  <a:lnTo>
                    <a:pt x="381" y="174"/>
                  </a:lnTo>
                  <a:lnTo>
                    <a:pt x="369" y="158"/>
                  </a:lnTo>
                  <a:lnTo>
                    <a:pt x="353" y="140"/>
                  </a:lnTo>
                  <a:lnTo>
                    <a:pt x="331" y="124"/>
                  </a:lnTo>
                  <a:lnTo>
                    <a:pt x="329" y="124"/>
                  </a:lnTo>
                  <a:lnTo>
                    <a:pt x="326" y="130"/>
                  </a:lnTo>
                  <a:lnTo>
                    <a:pt x="322" y="140"/>
                  </a:lnTo>
                  <a:lnTo>
                    <a:pt x="322" y="155"/>
                  </a:lnTo>
                  <a:lnTo>
                    <a:pt x="320" y="169"/>
                  </a:lnTo>
                  <a:lnTo>
                    <a:pt x="326" y="187"/>
                  </a:lnTo>
                  <a:lnTo>
                    <a:pt x="333" y="206"/>
                  </a:lnTo>
                  <a:lnTo>
                    <a:pt x="349" y="228"/>
                  </a:lnTo>
                  <a:lnTo>
                    <a:pt x="334" y="219"/>
                  </a:lnTo>
                  <a:lnTo>
                    <a:pt x="322" y="213"/>
                  </a:lnTo>
                  <a:lnTo>
                    <a:pt x="309" y="205"/>
                  </a:lnTo>
                  <a:lnTo>
                    <a:pt x="299" y="199"/>
                  </a:lnTo>
                  <a:lnTo>
                    <a:pt x="300" y="187"/>
                  </a:lnTo>
                  <a:lnTo>
                    <a:pt x="302" y="174"/>
                  </a:lnTo>
                  <a:lnTo>
                    <a:pt x="302" y="160"/>
                  </a:lnTo>
                  <a:lnTo>
                    <a:pt x="302" y="145"/>
                  </a:lnTo>
                  <a:lnTo>
                    <a:pt x="294" y="127"/>
                  </a:lnTo>
                  <a:lnTo>
                    <a:pt x="286" y="111"/>
                  </a:lnTo>
                  <a:lnTo>
                    <a:pt x="270" y="94"/>
                  </a:lnTo>
                  <a:lnTo>
                    <a:pt x="249" y="80"/>
                  </a:lnTo>
                  <a:lnTo>
                    <a:pt x="247" y="80"/>
                  </a:lnTo>
                  <a:lnTo>
                    <a:pt x="244" y="86"/>
                  </a:lnTo>
                  <a:lnTo>
                    <a:pt x="241" y="96"/>
                  </a:lnTo>
                  <a:lnTo>
                    <a:pt x="238" y="109"/>
                  </a:lnTo>
                  <a:lnTo>
                    <a:pt x="236" y="122"/>
                  </a:lnTo>
                  <a:lnTo>
                    <a:pt x="241" y="140"/>
                  </a:lnTo>
                  <a:lnTo>
                    <a:pt x="247" y="156"/>
                  </a:lnTo>
                  <a:lnTo>
                    <a:pt x="262" y="179"/>
                  </a:lnTo>
                  <a:lnTo>
                    <a:pt x="251" y="171"/>
                  </a:lnTo>
                  <a:lnTo>
                    <a:pt x="241" y="166"/>
                  </a:lnTo>
                  <a:lnTo>
                    <a:pt x="229" y="158"/>
                  </a:lnTo>
                  <a:lnTo>
                    <a:pt x="218" y="153"/>
                  </a:lnTo>
                  <a:lnTo>
                    <a:pt x="220" y="142"/>
                  </a:lnTo>
                  <a:lnTo>
                    <a:pt x="222" y="130"/>
                  </a:lnTo>
                  <a:lnTo>
                    <a:pt x="222" y="116"/>
                  </a:lnTo>
                  <a:lnTo>
                    <a:pt x="222" y="101"/>
                  </a:lnTo>
                  <a:lnTo>
                    <a:pt x="217" y="85"/>
                  </a:lnTo>
                  <a:lnTo>
                    <a:pt x="207" y="68"/>
                  </a:lnTo>
                  <a:lnTo>
                    <a:pt x="193" y="52"/>
                  </a:lnTo>
                  <a:lnTo>
                    <a:pt x="173" y="37"/>
                  </a:lnTo>
                  <a:lnTo>
                    <a:pt x="170" y="37"/>
                  </a:lnTo>
                  <a:lnTo>
                    <a:pt x="167" y="44"/>
                  </a:lnTo>
                  <a:lnTo>
                    <a:pt x="164" y="52"/>
                  </a:lnTo>
                  <a:lnTo>
                    <a:pt x="162" y="65"/>
                  </a:lnTo>
                  <a:lnTo>
                    <a:pt x="160" y="78"/>
                  </a:lnTo>
                  <a:lnTo>
                    <a:pt x="164" y="96"/>
                  </a:lnTo>
                  <a:lnTo>
                    <a:pt x="171" y="112"/>
                  </a:lnTo>
                  <a:lnTo>
                    <a:pt x="186" y="135"/>
                  </a:lnTo>
                  <a:lnTo>
                    <a:pt x="167" y="124"/>
                  </a:lnTo>
                  <a:lnTo>
                    <a:pt x="149" y="112"/>
                  </a:lnTo>
                  <a:lnTo>
                    <a:pt x="151" y="101"/>
                  </a:lnTo>
                  <a:lnTo>
                    <a:pt x="154" y="93"/>
                  </a:lnTo>
                  <a:lnTo>
                    <a:pt x="157" y="78"/>
                  </a:lnTo>
                  <a:lnTo>
                    <a:pt x="157" y="65"/>
                  </a:lnTo>
                  <a:lnTo>
                    <a:pt x="151" y="48"/>
                  </a:lnTo>
                  <a:lnTo>
                    <a:pt x="144" y="31"/>
                  </a:lnTo>
                  <a:lnTo>
                    <a:pt x="130" y="15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4" y="8"/>
                  </a:lnTo>
                  <a:lnTo>
                    <a:pt x="100" y="15"/>
                  </a:lnTo>
                  <a:lnTo>
                    <a:pt x="98" y="28"/>
                  </a:lnTo>
                  <a:lnTo>
                    <a:pt x="96" y="41"/>
                  </a:lnTo>
                  <a:lnTo>
                    <a:pt x="98" y="57"/>
                  </a:lnTo>
                  <a:lnTo>
                    <a:pt x="106" y="74"/>
                  </a:lnTo>
                  <a:lnTo>
                    <a:pt x="118" y="94"/>
                  </a:lnTo>
                  <a:lnTo>
                    <a:pt x="115" y="90"/>
                  </a:lnTo>
                  <a:lnTo>
                    <a:pt x="111" y="88"/>
                  </a:lnTo>
                  <a:lnTo>
                    <a:pt x="104" y="78"/>
                  </a:lnTo>
                  <a:lnTo>
                    <a:pt x="94" y="67"/>
                  </a:lnTo>
                  <a:lnTo>
                    <a:pt x="83" y="5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40" y="30"/>
                  </a:lnTo>
                  <a:lnTo>
                    <a:pt x="20" y="28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9" y="55"/>
                  </a:lnTo>
                  <a:lnTo>
                    <a:pt x="22" y="70"/>
                  </a:lnTo>
                  <a:lnTo>
                    <a:pt x="35" y="83"/>
                  </a:lnTo>
                  <a:lnTo>
                    <a:pt x="56" y="94"/>
                  </a:lnTo>
                  <a:lnTo>
                    <a:pt x="80" y="101"/>
                  </a:lnTo>
                  <a:lnTo>
                    <a:pt x="112" y="106"/>
                  </a:lnTo>
                  <a:lnTo>
                    <a:pt x="117" y="107"/>
                  </a:lnTo>
                  <a:lnTo>
                    <a:pt x="120" y="111"/>
                  </a:lnTo>
                  <a:lnTo>
                    <a:pt x="94" y="106"/>
                  </a:lnTo>
                  <a:lnTo>
                    <a:pt x="75" y="107"/>
                  </a:lnTo>
                  <a:lnTo>
                    <a:pt x="59" y="111"/>
                  </a:lnTo>
                  <a:lnTo>
                    <a:pt x="46" y="120"/>
                  </a:lnTo>
                  <a:lnTo>
                    <a:pt x="35" y="129"/>
                  </a:lnTo>
                  <a:lnTo>
                    <a:pt x="30" y="138"/>
                  </a:lnTo>
                  <a:lnTo>
                    <a:pt x="25" y="143"/>
                  </a:lnTo>
                  <a:lnTo>
                    <a:pt x="25" y="148"/>
                  </a:lnTo>
                  <a:lnTo>
                    <a:pt x="49" y="156"/>
                  </a:lnTo>
                  <a:lnTo>
                    <a:pt x="70" y="160"/>
                  </a:lnTo>
                  <a:lnTo>
                    <a:pt x="89" y="158"/>
                  </a:lnTo>
                  <a:lnTo>
                    <a:pt x="107" y="155"/>
                  </a:lnTo>
                  <a:lnTo>
                    <a:pt x="118" y="145"/>
                  </a:lnTo>
                  <a:lnTo>
                    <a:pt x="131" y="138"/>
                  </a:lnTo>
                  <a:lnTo>
                    <a:pt x="136" y="129"/>
                  </a:lnTo>
                  <a:lnTo>
                    <a:pt x="144" y="124"/>
                  </a:lnTo>
                  <a:lnTo>
                    <a:pt x="154" y="129"/>
                  </a:lnTo>
                  <a:lnTo>
                    <a:pt x="167" y="137"/>
                  </a:lnTo>
                  <a:lnTo>
                    <a:pt x="178" y="143"/>
                  </a:lnTo>
                  <a:lnTo>
                    <a:pt x="191" y="153"/>
                  </a:lnTo>
                  <a:lnTo>
                    <a:pt x="164" y="145"/>
                  </a:lnTo>
                  <a:lnTo>
                    <a:pt x="142" y="148"/>
                  </a:lnTo>
                  <a:lnTo>
                    <a:pt x="123" y="151"/>
                  </a:lnTo>
                  <a:lnTo>
                    <a:pt x="112" y="162"/>
                  </a:lnTo>
                  <a:lnTo>
                    <a:pt x="100" y="169"/>
                  </a:lnTo>
                  <a:lnTo>
                    <a:pt x="94" y="179"/>
                  </a:lnTo>
                  <a:lnTo>
                    <a:pt x="91" y="186"/>
                  </a:lnTo>
                  <a:lnTo>
                    <a:pt x="91" y="190"/>
                  </a:lnTo>
                  <a:lnTo>
                    <a:pt x="117" y="199"/>
                  </a:lnTo>
                  <a:lnTo>
                    <a:pt x="138" y="203"/>
                  </a:lnTo>
                  <a:lnTo>
                    <a:pt x="159" y="200"/>
                  </a:lnTo>
                  <a:lnTo>
                    <a:pt x="176" y="197"/>
                  </a:lnTo>
                  <a:lnTo>
                    <a:pt x="188" y="187"/>
                  </a:lnTo>
                  <a:lnTo>
                    <a:pt x="200" y="179"/>
                  </a:lnTo>
                  <a:lnTo>
                    <a:pt x="205" y="169"/>
                  </a:lnTo>
                  <a:lnTo>
                    <a:pt x="213" y="166"/>
                  </a:lnTo>
                  <a:lnTo>
                    <a:pt x="226" y="171"/>
                  </a:lnTo>
                  <a:lnTo>
                    <a:pt x="241" y="180"/>
                  </a:lnTo>
                  <a:lnTo>
                    <a:pt x="252" y="187"/>
                  </a:lnTo>
                  <a:lnTo>
                    <a:pt x="267" y="199"/>
                  </a:lnTo>
                  <a:lnTo>
                    <a:pt x="241" y="193"/>
                  </a:lnTo>
                  <a:lnTo>
                    <a:pt x="220" y="195"/>
                  </a:lnTo>
                  <a:lnTo>
                    <a:pt x="202" y="199"/>
                  </a:lnTo>
                  <a:lnTo>
                    <a:pt x="189" y="210"/>
                  </a:lnTo>
                  <a:lnTo>
                    <a:pt x="178" y="218"/>
                  </a:lnTo>
                  <a:lnTo>
                    <a:pt x="173" y="226"/>
                  </a:lnTo>
                  <a:lnTo>
                    <a:pt x="170" y="234"/>
                  </a:lnTo>
                  <a:lnTo>
                    <a:pt x="170" y="237"/>
                  </a:lnTo>
                  <a:lnTo>
                    <a:pt x="194" y="247"/>
                  </a:lnTo>
                  <a:lnTo>
                    <a:pt x="218" y="252"/>
                  </a:lnTo>
                  <a:lnTo>
                    <a:pt x="236" y="250"/>
                  </a:lnTo>
                  <a:lnTo>
                    <a:pt x="255" y="247"/>
                  </a:lnTo>
                  <a:lnTo>
                    <a:pt x="265" y="237"/>
                  </a:lnTo>
                  <a:lnTo>
                    <a:pt x="278" y="228"/>
                  </a:lnTo>
                  <a:lnTo>
                    <a:pt x="284" y="219"/>
                  </a:lnTo>
                  <a:lnTo>
                    <a:pt x="291" y="213"/>
                  </a:lnTo>
                  <a:lnTo>
                    <a:pt x="304" y="221"/>
                  </a:lnTo>
                  <a:lnTo>
                    <a:pt x="316" y="228"/>
                  </a:lnTo>
                  <a:lnTo>
                    <a:pt x="329" y="236"/>
                  </a:lnTo>
                  <a:lnTo>
                    <a:pt x="344" y="245"/>
                  </a:lnTo>
                  <a:lnTo>
                    <a:pt x="318" y="241"/>
                  </a:lnTo>
                  <a:lnTo>
                    <a:pt x="300" y="242"/>
                  </a:lnTo>
                  <a:lnTo>
                    <a:pt x="284" y="249"/>
                  </a:lnTo>
                  <a:lnTo>
                    <a:pt x="273" y="260"/>
                  </a:lnTo>
                  <a:lnTo>
                    <a:pt x="262" y="268"/>
                  </a:lnTo>
                  <a:lnTo>
                    <a:pt x="258" y="278"/>
                  </a:lnTo>
                  <a:lnTo>
                    <a:pt x="255" y="283"/>
                  </a:lnTo>
                  <a:lnTo>
                    <a:pt x="255" y="287"/>
                  </a:lnTo>
                  <a:lnTo>
                    <a:pt x="278" y="298"/>
                  </a:lnTo>
                  <a:lnTo>
                    <a:pt x="302" y="304"/>
                  </a:lnTo>
                  <a:lnTo>
                    <a:pt x="320" y="302"/>
                  </a:lnTo>
                  <a:lnTo>
                    <a:pt x="339" y="298"/>
                  </a:lnTo>
                  <a:lnTo>
                    <a:pt x="351" y="289"/>
                  </a:lnTo>
                  <a:lnTo>
                    <a:pt x="362" y="281"/>
                  </a:lnTo>
                  <a:lnTo>
                    <a:pt x="369" y="273"/>
                  </a:lnTo>
                  <a:lnTo>
                    <a:pt x="376" y="267"/>
                  </a:lnTo>
                  <a:lnTo>
                    <a:pt x="387" y="273"/>
                  </a:lnTo>
                  <a:lnTo>
                    <a:pt x="400" y="280"/>
                  </a:lnTo>
                  <a:lnTo>
                    <a:pt x="413" y="287"/>
                  </a:lnTo>
                  <a:lnTo>
                    <a:pt x="426" y="296"/>
                  </a:lnTo>
                  <a:lnTo>
                    <a:pt x="400" y="291"/>
                  </a:lnTo>
                  <a:lnTo>
                    <a:pt x="381" y="294"/>
                  </a:lnTo>
                  <a:lnTo>
                    <a:pt x="362" y="299"/>
                  </a:lnTo>
                  <a:lnTo>
                    <a:pt x="351" y="311"/>
                  </a:lnTo>
                  <a:lnTo>
                    <a:pt x="340" y="320"/>
                  </a:lnTo>
                  <a:lnTo>
                    <a:pt x="336" y="330"/>
                  </a:lnTo>
                  <a:lnTo>
                    <a:pt x="333" y="336"/>
                  </a:lnTo>
                  <a:lnTo>
                    <a:pt x="333" y="340"/>
                  </a:lnTo>
                  <a:lnTo>
                    <a:pt x="358" y="351"/>
                  </a:lnTo>
                  <a:lnTo>
                    <a:pt x="382" y="357"/>
                  </a:lnTo>
                  <a:lnTo>
                    <a:pt x="402" y="357"/>
                  </a:lnTo>
                  <a:lnTo>
                    <a:pt x="420" y="353"/>
                  </a:lnTo>
                  <a:lnTo>
                    <a:pt x="433" y="344"/>
                  </a:lnTo>
                  <a:lnTo>
                    <a:pt x="444" y="335"/>
                  </a:lnTo>
                  <a:lnTo>
                    <a:pt x="449" y="323"/>
                  </a:lnTo>
                  <a:lnTo>
                    <a:pt x="457" y="317"/>
                  </a:lnTo>
                  <a:lnTo>
                    <a:pt x="470" y="323"/>
                  </a:lnTo>
                  <a:lnTo>
                    <a:pt x="483" y="333"/>
                  </a:lnTo>
                  <a:lnTo>
                    <a:pt x="494" y="340"/>
                  </a:lnTo>
                  <a:lnTo>
                    <a:pt x="509" y="349"/>
                  </a:lnTo>
                  <a:lnTo>
                    <a:pt x="481" y="344"/>
                  </a:lnTo>
                  <a:lnTo>
                    <a:pt x="459" y="348"/>
                  </a:lnTo>
                  <a:lnTo>
                    <a:pt x="442" y="353"/>
                  </a:lnTo>
                  <a:lnTo>
                    <a:pt x="431" y="364"/>
                  </a:lnTo>
                  <a:lnTo>
                    <a:pt x="420" y="374"/>
                  </a:lnTo>
                  <a:lnTo>
                    <a:pt x="416" y="385"/>
                  </a:lnTo>
                  <a:lnTo>
                    <a:pt x="413" y="392"/>
                  </a:lnTo>
                  <a:lnTo>
                    <a:pt x="413" y="395"/>
                  </a:lnTo>
                  <a:lnTo>
                    <a:pt x="440" y="406"/>
                  </a:lnTo>
                  <a:lnTo>
                    <a:pt x="462" y="411"/>
                  </a:lnTo>
                  <a:lnTo>
                    <a:pt x="485" y="410"/>
                  </a:lnTo>
                  <a:lnTo>
                    <a:pt x="502" y="406"/>
                  </a:lnTo>
                  <a:lnTo>
                    <a:pt x="515" y="397"/>
                  </a:lnTo>
                  <a:lnTo>
                    <a:pt x="526" y="388"/>
                  </a:lnTo>
                  <a:lnTo>
                    <a:pt x="533" y="377"/>
                  </a:lnTo>
                  <a:lnTo>
                    <a:pt x="541" y="369"/>
                  </a:lnTo>
                  <a:lnTo>
                    <a:pt x="546" y="374"/>
                  </a:lnTo>
                  <a:lnTo>
                    <a:pt x="555" y="379"/>
                  </a:lnTo>
                  <a:lnTo>
                    <a:pt x="565" y="385"/>
                  </a:lnTo>
                  <a:lnTo>
                    <a:pt x="575" y="390"/>
                  </a:lnTo>
                  <a:lnTo>
                    <a:pt x="586" y="395"/>
                  </a:lnTo>
                  <a:lnTo>
                    <a:pt x="599" y="405"/>
                  </a:lnTo>
                  <a:lnTo>
                    <a:pt x="612" y="411"/>
                  </a:lnTo>
                  <a:lnTo>
                    <a:pt x="626" y="421"/>
                  </a:lnTo>
                  <a:lnTo>
                    <a:pt x="637" y="419"/>
                  </a:lnTo>
                  <a:lnTo>
                    <a:pt x="649" y="419"/>
                  </a:lnTo>
                  <a:lnTo>
                    <a:pt x="659" y="417"/>
                  </a:lnTo>
                  <a:lnTo>
                    <a:pt x="671" y="417"/>
                  </a:lnTo>
                  <a:lnTo>
                    <a:pt x="654" y="406"/>
                  </a:lnTo>
                  <a:lnTo>
                    <a:pt x="636" y="397"/>
                  </a:lnTo>
                  <a:lnTo>
                    <a:pt x="620" y="386"/>
                  </a:lnTo>
                  <a:lnTo>
                    <a:pt x="602" y="377"/>
                  </a:lnTo>
                  <a:lnTo>
                    <a:pt x="586" y="366"/>
                  </a:lnTo>
                  <a:lnTo>
                    <a:pt x="572" y="359"/>
                  </a:lnTo>
                  <a:lnTo>
                    <a:pt x="559" y="351"/>
                  </a:lnTo>
                  <a:lnTo>
                    <a:pt x="549" y="346"/>
                  </a:lnTo>
                  <a:lnTo>
                    <a:pt x="549" y="346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51480" y="6193440"/>
              <a:ext cx="15840" cy="756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34" y="79"/>
                  </a:moveTo>
                  <a:lnTo>
                    <a:pt x="139" y="68"/>
                  </a:lnTo>
                  <a:lnTo>
                    <a:pt x="147" y="59"/>
                  </a:lnTo>
                  <a:lnTo>
                    <a:pt x="142" y="57"/>
                  </a:lnTo>
                  <a:lnTo>
                    <a:pt x="137" y="54"/>
                  </a:lnTo>
                  <a:lnTo>
                    <a:pt x="126" y="46"/>
                  </a:lnTo>
                  <a:lnTo>
                    <a:pt x="115" y="41"/>
                  </a:lnTo>
                  <a:lnTo>
                    <a:pt x="99" y="31"/>
                  </a:lnTo>
                  <a:lnTo>
                    <a:pt x="83" y="22"/>
                  </a:lnTo>
                  <a:lnTo>
                    <a:pt x="65" y="12"/>
                  </a:lnTo>
                  <a:lnTo>
                    <a:pt x="47" y="0"/>
                  </a:lnTo>
                  <a:lnTo>
                    <a:pt x="34" y="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21" y="15"/>
                  </a:lnTo>
                  <a:lnTo>
                    <a:pt x="42" y="28"/>
                  </a:lnTo>
                  <a:lnTo>
                    <a:pt x="63" y="39"/>
                  </a:lnTo>
                  <a:lnTo>
                    <a:pt x="83" y="51"/>
                  </a:lnTo>
                  <a:lnTo>
                    <a:pt x="99" y="61"/>
                  </a:lnTo>
                  <a:lnTo>
                    <a:pt x="113" y="68"/>
                  </a:lnTo>
                  <a:lnTo>
                    <a:pt x="124" y="74"/>
                  </a:lnTo>
                  <a:lnTo>
                    <a:pt x="134" y="79"/>
                  </a:lnTo>
                  <a:lnTo>
                    <a:pt x="134" y="79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4920" y="6174360"/>
              <a:ext cx="91080" cy="27000"/>
            </a:xfrm>
            <a:custGeom>
              <a:avLst/>
              <a:gdLst/>
              <a:ahLst/>
              <a:rect l="l" t="t" r="r" b="b"/>
              <a:pathLst>
                <a:path w="818" h="277">
                  <a:moveTo>
                    <a:pt x="707" y="89"/>
                  </a:moveTo>
                  <a:lnTo>
                    <a:pt x="703" y="91"/>
                  </a:lnTo>
                  <a:lnTo>
                    <a:pt x="700" y="94"/>
                  </a:lnTo>
                  <a:lnTo>
                    <a:pt x="710" y="76"/>
                  </a:lnTo>
                  <a:lnTo>
                    <a:pt x="718" y="60"/>
                  </a:lnTo>
                  <a:lnTo>
                    <a:pt x="718" y="44"/>
                  </a:lnTo>
                  <a:lnTo>
                    <a:pt x="720" y="31"/>
                  </a:lnTo>
                  <a:lnTo>
                    <a:pt x="716" y="16"/>
                  </a:lnTo>
                  <a:lnTo>
                    <a:pt x="714" y="6"/>
                  </a:lnTo>
                  <a:lnTo>
                    <a:pt x="710" y="0"/>
                  </a:lnTo>
                  <a:lnTo>
                    <a:pt x="689" y="8"/>
                  </a:lnTo>
                  <a:lnTo>
                    <a:pt x="674" y="21"/>
                  </a:lnTo>
                  <a:lnTo>
                    <a:pt x="665" y="34"/>
                  </a:lnTo>
                  <a:lnTo>
                    <a:pt x="661" y="49"/>
                  </a:lnTo>
                  <a:lnTo>
                    <a:pt x="660" y="62"/>
                  </a:lnTo>
                  <a:lnTo>
                    <a:pt x="661" y="76"/>
                  </a:lnTo>
                  <a:lnTo>
                    <a:pt x="665" y="89"/>
                  </a:lnTo>
                  <a:lnTo>
                    <a:pt x="668" y="100"/>
                  </a:lnTo>
                  <a:lnTo>
                    <a:pt x="650" y="104"/>
                  </a:lnTo>
                  <a:lnTo>
                    <a:pt x="634" y="110"/>
                  </a:lnTo>
                  <a:lnTo>
                    <a:pt x="645" y="94"/>
                  </a:lnTo>
                  <a:lnTo>
                    <a:pt x="652" y="78"/>
                  </a:lnTo>
                  <a:lnTo>
                    <a:pt x="654" y="62"/>
                  </a:lnTo>
                  <a:lnTo>
                    <a:pt x="656" y="49"/>
                  </a:lnTo>
                  <a:lnTo>
                    <a:pt x="652" y="34"/>
                  </a:lnTo>
                  <a:lnTo>
                    <a:pt x="650" y="24"/>
                  </a:lnTo>
                  <a:lnTo>
                    <a:pt x="647" y="16"/>
                  </a:lnTo>
                  <a:lnTo>
                    <a:pt x="623" y="24"/>
                  </a:lnTo>
                  <a:lnTo>
                    <a:pt x="608" y="34"/>
                  </a:lnTo>
                  <a:lnTo>
                    <a:pt x="597" y="47"/>
                  </a:lnTo>
                  <a:lnTo>
                    <a:pt x="594" y="63"/>
                  </a:lnTo>
                  <a:lnTo>
                    <a:pt x="592" y="78"/>
                  </a:lnTo>
                  <a:lnTo>
                    <a:pt x="594" y="94"/>
                  </a:lnTo>
                  <a:lnTo>
                    <a:pt x="596" y="104"/>
                  </a:lnTo>
                  <a:lnTo>
                    <a:pt x="602" y="117"/>
                  </a:lnTo>
                  <a:lnTo>
                    <a:pt x="589" y="117"/>
                  </a:lnTo>
                  <a:lnTo>
                    <a:pt x="578" y="120"/>
                  </a:lnTo>
                  <a:lnTo>
                    <a:pt x="567" y="123"/>
                  </a:lnTo>
                  <a:lnTo>
                    <a:pt x="555" y="126"/>
                  </a:lnTo>
                  <a:lnTo>
                    <a:pt x="568" y="110"/>
                  </a:lnTo>
                  <a:lnTo>
                    <a:pt x="576" y="95"/>
                  </a:lnTo>
                  <a:lnTo>
                    <a:pt x="578" y="78"/>
                  </a:lnTo>
                  <a:lnTo>
                    <a:pt x="579" y="63"/>
                  </a:lnTo>
                  <a:lnTo>
                    <a:pt x="576" y="49"/>
                  </a:lnTo>
                  <a:lnTo>
                    <a:pt x="574" y="40"/>
                  </a:lnTo>
                  <a:lnTo>
                    <a:pt x="571" y="32"/>
                  </a:lnTo>
                  <a:lnTo>
                    <a:pt x="571" y="31"/>
                  </a:lnTo>
                  <a:lnTo>
                    <a:pt x="547" y="36"/>
                  </a:lnTo>
                  <a:lnTo>
                    <a:pt x="533" y="47"/>
                  </a:lnTo>
                  <a:lnTo>
                    <a:pt x="521" y="60"/>
                  </a:lnTo>
                  <a:lnTo>
                    <a:pt x="516" y="76"/>
                  </a:lnTo>
                  <a:lnTo>
                    <a:pt x="512" y="91"/>
                  </a:lnTo>
                  <a:lnTo>
                    <a:pt x="515" y="105"/>
                  </a:lnTo>
                  <a:lnTo>
                    <a:pt x="516" y="118"/>
                  </a:lnTo>
                  <a:lnTo>
                    <a:pt x="520" y="131"/>
                  </a:lnTo>
                  <a:lnTo>
                    <a:pt x="507" y="131"/>
                  </a:lnTo>
                  <a:lnTo>
                    <a:pt x="494" y="136"/>
                  </a:lnTo>
                  <a:lnTo>
                    <a:pt x="481" y="136"/>
                  </a:lnTo>
                  <a:lnTo>
                    <a:pt x="470" y="139"/>
                  </a:lnTo>
                  <a:lnTo>
                    <a:pt x="483" y="123"/>
                  </a:lnTo>
                  <a:lnTo>
                    <a:pt x="491" y="108"/>
                  </a:lnTo>
                  <a:lnTo>
                    <a:pt x="494" y="91"/>
                  </a:lnTo>
                  <a:lnTo>
                    <a:pt x="496" y="76"/>
                  </a:lnTo>
                  <a:lnTo>
                    <a:pt x="492" y="62"/>
                  </a:lnTo>
                  <a:lnTo>
                    <a:pt x="491" y="53"/>
                  </a:lnTo>
                  <a:lnTo>
                    <a:pt x="489" y="45"/>
                  </a:lnTo>
                  <a:lnTo>
                    <a:pt x="489" y="44"/>
                  </a:lnTo>
                  <a:lnTo>
                    <a:pt x="463" y="49"/>
                  </a:lnTo>
                  <a:lnTo>
                    <a:pt x="447" y="60"/>
                  </a:lnTo>
                  <a:lnTo>
                    <a:pt x="436" y="71"/>
                  </a:lnTo>
                  <a:lnTo>
                    <a:pt x="431" y="87"/>
                  </a:lnTo>
                  <a:lnTo>
                    <a:pt x="427" y="102"/>
                  </a:lnTo>
                  <a:lnTo>
                    <a:pt x="428" y="118"/>
                  </a:lnTo>
                  <a:lnTo>
                    <a:pt x="431" y="131"/>
                  </a:lnTo>
                  <a:lnTo>
                    <a:pt x="434" y="144"/>
                  </a:lnTo>
                  <a:lnTo>
                    <a:pt x="414" y="146"/>
                  </a:lnTo>
                  <a:lnTo>
                    <a:pt x="396" y="148"/>
                  </a:lnTo>
                  <a:lnTo>
                    <a:pt x="407" y="131"/>
                  </a:lnTo>
                  <a:lnTo>
                    <a:pt x="414" y="117"/>
                  </a:lnTo>
                  <a:lnTo>
                    <a:pt x="418" y="100"/>
                  </a:lnTo>
                  <a:lnTo>
                    <a:pt x="420" y="87"/>
                  </a:lnTo>
                  <a:lnTo>
                    <a:pt x="415" y="73"/>
                  </a:lnTo>
                  <a:lnTo>
                    <a:pt x="414" y="63"/>
                  </a:lnTo>
                  <a:lnTo>
                    <a:pt x="412" y="56"/>
                  </a:lnTo>
                  <a:lnTo>
                    <a:pt x="412" y="55"/>
                  </a:lnTo>
                  <a:lnTo>
                    <a:pt x="386" y="58"/>
                  </a:lnTo>
                  <a:lnTo>
                    <a:pt x="369" y="69"/>
                  </a:lnTo>
                  <a:lnTo>
                    <a:pt x="356" y="81"/>
                  </a:lnTo>
                  <a:lnTo>
                    <a:pt x="351" y="97"/>
                  </a:lnTo>
                  <a:lnTo>
                    <a:pt x="347" y="112"/>
                  </a:lnTo>
                  <a:lnTo>
                    <a:pt x="347" y="126"/>
                  </a:lnTo>
                  <a:lnTo>
                    <a:pt x="349" y="141"/>
                  </a:lnTo>
                  <a:lnTo>
                    <a:pt x="352" y="154"/>
                  </a:lnTo>
                  <a:lnTo>
                    <a:pt x="336" y="154"/>
                  </a:lnTo>
                  <a:lnTo>
                    <a:pt x="320" y="157"/>
                  </a:lnTo>
                  <a:lnTo>
                    <a:pt x="330" y="141"/>
                  </a:lnTo>
                  <a:lnTo>
                    <a:pt x="336" y="126"/>
                  </a:lnTo>
                  <a:lnTo>
                    <a:pt x="338" y="110"/>
                  </a:lnTo>
                  <a:lnTo>
                    <a:pt x="340" y="97"/>
                  </a:lnTo>
                  <a:lnTo>
                    <a:pt x="338" y="82"/>
                  </a:lnTo>
                  <a:lnTo>
                    <a:pt x="336" y="71"/>
                  </a:lnTo>
                  <a:lnTo>
                    <a:pt x="334" y="63"/>
                  </a:lnTo>
                  <a:lnTo>
                    <a:pt x="309" y="68"/>
                  </a:lnTo>
                  <a:lnTo>
                    <a:pt x="291" y="76"/>
                  </a:lnTo>
                  <a:lnTo>
                    <a:pt x="278" y="87"/>
                  </a:lnTo>
                  <a:lnTo>
                    <a:pt x="270" y="102"/>
                  </a:lnTo>
                  <a:lnTo>
                    <a:pt x="265" y="117"/>
                  </a:lnTo>
                  <a:lnTo>
                    <a:pt x="265" y="131"/>
                  </a:lnTo>
                  <a:lnTo>
                    <a:pt x="265" y="146"/>
                  </a:lnTo>
                  <a:lnTo>
                    <a:pt x="269" y="161"/>
                  </a:lnTo>
                  <a:lnTo>
                    <a:pt x="256" y="161"/>
                  </a:lnTo>
                  <a:lnTo>
                    <a:pt x="243" y="161"/>
                  </a:lnTo>
                  <a:lnTo>
                    <a:pt x="229" y="162"/>
                  </a:lnTo>
                  <a:lnTo>
                    <a:pt x="214" y="165"/>
                  </a:lnTo>
                  <a:lnTo>
                    <a:pt x="198" y="165"/>
                  </a:lnTo>
                  <a:lnTo>
                    <a:pt x="182" y="165"/>
                  </a:lnTo>
                  <a:lnTo>
                    <a:pt x="164" y="167"/>
                  </a:lnTo>
                  <a:lnTo>
                    <a:pt x="146" y="168"/>
                  </a:lnTo>
                  <a:lnTo>
                    <a:pt x="134" y="168"/>
                  </a:lnTo>
                  <a:lnTo>
                    <a:pt x="124" y="170"/>
                  </a:lnTo>
                  <a:lnTo>
                    <a:pt x="112" y="170"/>
                  </a:lnTo>
                  <a:lnTo>
                    <a:pt x="101" y="172"/>
                  </a:lnTo>
                  <a:lnTo>
                    <a:pt x="80" y="172"/>
                  </a:lnTo>
                  <a:lnTo>
                    <a:pt x="59" y="174"/>
                  </a:lnTo>
                  <a:lnTo>
                    <a:pt x="43" y="174"/>
                  </a:lnTo>
                  <a:lnTo>
                    <a:pt x="29" y="175"/>
                  </a:lnTo>
                  <a:lnTo>
                    <a:pt x="16" y="175"/>
                  </a:lnTo>
                  <a:lnTo>
                    <a:pt x="6" y="175"/>
                  </a:lnTo>
                  <a:lnTo>
                    <a:pt x="0" y="175"/>
                  </a:lnTo>
                  <a:lnTo>
                    <a:pt x="0" y="178"/>
                  </a:lnTo>
                  <a:lnTo>
                    <a:pt x="5" y="190"/>
                  </a:lnTo>
                  <a:lnTo>
                    <a:pt x="14" y="206"/>
                  </a:lnTo>
                  <a:lnTo>
                    <a:pt x="19" y="203"/>
                  </a:lnTo>
                  <a:lnTo>
                    <a:pt x="30" y="203"/>
                  </a:lnTo>
                  <a:lnTo>
                    <a:pt x="43" y="201"/>
                  </a:lnTo>
                  <a:lnTo>
                    <a:pt x="61" y="201"/>
                  </a:lnTo>
                  <a:lnTo>
                    <a:pt x="80" y="199"/>
                  </a:lnTo>
                  <a:lnTo>
                    <a:pt x="101" y="199"/>
                  </a:lnTo>
                  <a:lnTo>
                    <a:pt x="124" y="198"/>
                  </a:lnTo>
                  <a:lnTo>
                    <a:pt x="146" y="198"/>
                  </a:lnTo>
                  <a:lnTo>
                    <a:pt x="158" y="196"/>
                  </a:lnTo>
                  <a:lnTo>
                    <a:pt x="169" y="196"/>
                  </a:lnTo>
                  <a:lnTo>
                    <a:pt x="180" y="194"/>
                  </a:lnTo>
                  <a:lnTo>
                    <a:pt x="193" y="194"/>
                  </a:lnTo>
                  <a:lnTo>
                    <a:pt x="203" y="193"/>
                  </a:lnTo>
                  <a:lnTo>
                    <a:pt x="216" y="193"/>
                  </a:lnTo>
                  <a:lnTo>
                    <a:pt x="227" y="190"/>
                  </a:lnTo>
                  <a:lnTo>
                    <a:pt x="240" y="190"/>
                  </a:lnTo>
                  <a:lnTo>
                    <a:pt x="249" y="188"/>
                  </a:lnTo>
                  <a:lnTo>
                    <a:pt x="259" y="188"/>
                  </a:lnTo>
                  <a:lnTo>
                    <a:pt x="267" y="188"/>
                  </a:lnTo>
                  <a:lnTo>
                    <a:pt x="275" y="188"/>
                  </a:lnTo>
                  <a:lnTo>
                    <a:pt x="280" y="198"/>
                  </a:lnTo>
                  <a:lnTo>
                    <a:pt x="288" y="212"/>
                  </a:lnTo>
                  <a:lnTo>
                    <a:pt x="298" y="227"/>
                  </a:lnTo>
                  <a:lnTo>
                    <a:pt x="312" y="243"/>
                  </a:lnTo>
                  <a:lnTo>
                    <a:pt x="328" y="256"/>
                  </a:lnTo>
                  <a:lnTo>
                    <a:pt x="351" y="268"/>
                  </a:lnTo>
                  <a:lnTo>
                    <a:pt x="375" y="275"/>
                  </a:lnTo>
                  <a:lnTo>
                    <a:pt x="405" y="277"/>
                  </a:lnTo>
                  <a:lnTo>
                    <a:pt x="404" y="273"/>
                  </a:lnTo>
                  <a:lnTo>
                    <a:pt x="399" y="264"/>
                  </a:lnTo>
                  <a:lnTo>
                    <a:pt x="392" y="251"/>
                  </a:lnTo>
                  <a:lnTo>
                    <a:pt x="385" y="237"/>
                  </a:lnTo>
                  <a:lnTo>
                    <a:pt x="372" y="220"/>
                  </a:lnTo>
                  <a:lnTo>
                    <a:pt x="356" y="206"/>
                  </a:lnTo>
                  <a:lnTo>
                    <a:pt x="336" y="190"/>
                  </a:lnTo>
                  <a:lnTo>
                    <a:pt x="311" y="183"/>
                  </a:lnTo>
                  <a:lnTo>
                    <a:pt x="322" y="181"/>
                  </a:lnTo>
                  <a:lnTo>
                    <a:pt x="334" y="180"/>
                  </a:lnTo>
                  <a:lnTo>
                    <a:pt x="347" y="178"/>
                  </a:lnTo>
                  <a:lnTo>
                    <a:pt x="359" y="178"/>
                  </a:lnTo>
                  <a:lnTo>
                    <a:pt x="363" y="187"/>
                  </a:lnTo>
                  <a:lnTo>
                    <a:pt x="372" y="199"/>
                  </a:lnTo>
                  <a:lnTo>
                    <a:pt x="381" y="214"/>
                  </a:lnTo>
                  <a:lnTo>
                    <a:pt x="396" y="229"/>
                  </a:lnTo>
                  <a:lnTo>
                    <a:pt x="410" y="240"/>
                  </a:lnTo>
                  <a:lnTo>
                    <a:pt x="433" y="251"/>
                  </a:lnTo>
                  <a:lnTo>
                    <a:pt x="456" y="256"/>
                  </a:lnTo>
                  <a:lnTo>
                    <a:pt x="485" y="258"/>
                  </a:lnTo>
                  <a:lnTo>
                    <a:pt x="483" y="255"/>
                  </a:lnTo>
                  <a:lnTo>
                    <a:pt x="480" y="245"/>
                  </a:lnTo>
                  <a:lnTo>
                    <a:pt x="473" y="235"/>
                  </a:lnTo>
                  <a:lnTo>
                    <a:pt x="465" y="222"/>
                  </a:lnTo>
                  <a:lnTo>
                    <a:pt x="452" y="206"/>
                  </a:lnTo>
                  <a:lnTo>
                    <a:pt x="438" y="193"/>
                  </a:lnTo>
                  <a:lnTo>
                    <a:pt x="415" y="180"/>
                  </a:lnTo>
                  <a:lnTo>
                    <a:pt x="394" y="172"/>
                  </a:lnTo>
                  <a:lnTo>
                    <a:pt x="405" y="168"/>
                  </a:lnTo>
                  <a:lnTo>
                    <a:pt x="418" y="168"/>
                  </a:lnTo>
                  <a:lnTo>
                    <a:pt x="428" y="165"/>
                  </a:lnTo>
                  <a:lnTo>
                    <a:pt x="441" y="165"/>
                  </a:lnTo>
                  <a:lnTo>
                    <a:pt x="445" y="174"/>
                  </a:lnTo>
                  <a:lnTo>
                    <a:pt x="454" y="187"/>
                  </a:lnTo>
                  <a:lnTo>
                    <a:pt x="465" y="199"/>
                  </a:lnTo>
                  <a:lnTo>
                    <a:pt x="480" y="214"/>
                  </a:lnTo>
                  <a:lnTo>
                    <a:pt x="494" y="224"/>
                  </a:lnTo>
                  <a:lnTo>
                    <a:pt x="515" y="235"/>
                  </a:lnTo>
                  <a:lnTo>
                    <a:pt x="536" y="238"/>
                  </a:lnTo>
                  <a:lnTo>
                    <a:pt x="565" y="238"/>
                  </a:lnTo>
                  <a:lnTo>
                    <a:pt x="563" y="235"/>
                  </a:lnTo>
                  <a:lnTo>
                    <a:pt x="560" y="227"/>
                  </a:lnTo>
                  <a:lnTo>
                    <a:pt x="552" y="214"/>
                  </a:lnTo>
                  <a:lnTo>
                    <a:pt x="545" y="203"/>
                  </a:lnTo>
                  <a:lnTo>
                    <a:pt x="533" y="188"/>
                  </a:lnTo>
                  <a:lnTo>
                    <a:pt x="518" y="178"/>
                  </a:lnTo>
                  <a:lnTo>
                    <a:pt x="496" y="165"/>
                  </a:lnTo>
                  <a:lnTo>
                    <a:pt x="475" y="159"/>
                  </a:lnTo>
                  <a:lnTo>
                    <a:pt x="487" y="156"/>
                  </a:lnTo>
                  <a:lnTo>
                    <a:pt x="499" y="154"/>
                  </a:lnTo>
                  <a:lnTo>
                    <a:pt x="512" y="150"/>
                  </a:lnTo>
                  <a:lnTo>
                    <a:pt x="526" y="148"/>
                  </a:lnTo>
                  <a:lnTo>
                    <a:pt x="531" y="156"/>
                  </a:lnTo>
                  <a:lnTo>
                    <a:pt x="538" y="168"/>
                  </a:lnTo>
                  <a:lnTo>
                    <a:pt x="547" y="181"/>
                  </a:lnTo>
                  <a:lnTo>
                    <a:pt x="562" y="196"/>
                  </a:lnTo>
                  <a:lnTo>
                    <a:pt x="576" y="206"/>
                  </a:lnTo>
                  <a:lnTo>
                    <a:pt x="597" y="214"/>
                  </a:lnTo>
                  <a:lnTo>
                    <a:pt x="620" y="219"/>
                  </a:lnTo>
                  <a:lnTo>
                    <a:pt x="649" y="219"/>
                  </a:lnTo>
                  <a:lnTo>
                    <a:pt x="647" y="214"/>
                  </a:lnTo>
                  <a:lnTo>
                    <a:pt x="644" y="207"/>
                  </a:lnTo>
                  <a:lnTo>
                    <a:pt x="636" y="194"/>
                  </a:lnTo>
                  <a:lnTo>
                    <a:pt x="627" y="183"/>
                  </a:lnTo>
                  <a:lnTo>
                    <a:pt x="613" y="168"/>
                  </a:lnTo>
                  <a:lnTo>
                    <a:pt x="596" y="157"/>
                  </a:lnTo>
                  <a:lnTo>
                    <a:pt x="574" y="146"/>
                  </a:lnTo>
                  <a:lnTo>
                    <a:pt x="550" y="143"/>
                  </a:lnTo>
                  <a:lnTo>
                    <a:pt x="563" y="139"/>
                  </a:lnTo>
                  <a:lnTo>
                    <a:pt x="578" y="137"/>
                  </a:lnTo>
                  <a:lnTo>
                    <a:pt x="591" y="133"/>
                  </a:lnTo>
                  <a:lnTo>
                    <a:pt x="607" y="131"/>
                  </a:lnTo>
                  <a:lnTo>
                    <a:pt x="610" y="137"/>
                  </a:lnTo>
                  <a:lnTo>
                    <a:pt x="618" y="150"/>
                  </a:lnTo>
                  <a:lnTo>
                    <a:pt x="627" y="161"/>
                  </a:lnTo>
                  <a:lnTo>
                    <a:pt x="642" y="175"/>
                  </a:lnTo>
                  <a:lnTo>
                    <a:pt x="656" y="185"/>
                  </a:lnTo>
                  <a:lnTo>
                    <a:pt x="676" y="194"/>
                  </a:lnTo>
                  <a:lnTo>
                    <a:pt x="698" y="196"/>
                  </a:lnTo>
                  <a:lnTo>
                    <a:pt x="727" y="194"/>
                  </a:lnTo>
                  <a:lnTo>
                    <a:pt x="726" y="190"/>
                  </a:lnTo>
                  <a:lnTo>
                    <a:pt x="720" y="183"/>
                  </a:lnTo>
                  <a:lnTo>
                    <a:pt x="713" y="172"/>
                  </a:lnTo>
                  <a:lnTo>
                    <a:pt x="703" y="161"/>
                  </a:lnTo>
                  <a:lnTo>
                    <a:pt x="689" y="148"/>
                  </a:lnTo>
                  <a:lnTo>
                    <a:pt x="673" y="137"/>
                  </a:lnTo>
                  <a:lnTo>
                    <a:pt x="650" y="128"/>
                  </a:lnTo>
                  <a:lnTo>
                    <a:pt x="627" y="126"/>
                  </a:lnTo>
                  <a:lnTo>
                    <a:pt x="637" y="120"/>
                  </a:lnTo>
                  <a:lnTo>
                    <a:pt x="650" y="118"/>
                  </a:lnTo>
                  <a:lnTo>
                    <a:pt x="661" y="115"/>
                  </a:lnTo>
                  <a:lnTo>
                    <a:pt x="674" y="113"/>
                  </a:lnTo>
                  <a:lnTo>
                    <a:pt x="678" y="118"/>
                  </a:lnTo>
                  <a:lnTo>
                    <a:pt x="685" y="131"/>
                  </a:lnTo>
                  <a:lnTo>
                    <a:pt x="694" y="143"/>
                  </a:lnTo>
                  <a:lnTo>
                    <a:pt x="708" y="156"/>
                  </a:lnTo>
                  <a:lnTo>
                    <a:pt x="723" y="165"/>
                  </a:lnTo>
                  <a:lnTo>
                    <a:pt x="743" y="172"/>
                  </a:lnTo>
                  <a:lnTo>
                    <a:pt x="765" y="174"/>
                  </a:lnTo>
                  <a:lnTo>
                    <a:pt x="792" y="170"/>
                  </a:lnTo>
                  <a:lnTo>
                    <a:pt x="790" y="167"/>
                  </a:lnTo>
                  <a:lnTo>
                    <a:pt x="787" y="159"/>
                  </a:lnTo>
                  <a:lnTo>
                    <a:pt x="779" y="148"/>
                  </a:lnTo>
                  <a:lnTo>
                    <a:pt x="771" y="139"/>
                  </a:lnTo>
                  <a:lnTo>
                    <a:pt x="756" y="126"/>
                  </a:lnTo>
                  <a:lnTo>
                    <a:pt x="742" y="117"/>
                  </a:lnTo>
                  <a:lnTo>
                    <a:pt x="720" y="110"/>
                  </a:lnTo>
                  <a:lnTo>
                    <a:pt x="698" y="108"/>
                  </a:lnTo>
                  <a:lnTo>
                    <a:pt x="702" y="105"/>
                  </a:lnTo>
                  <a:lnTo>
                    <a:pt x="707" y="105"/>
                  </a:lnTo>
                  <a:lnTo>
                    <a:pt x="736" y="112"/>
                  </a:lnTo>
                  <a:lnTo>
                    <a:pt x="760" y="110"/>
                  </a:lnTo>
                  <a:lnTo>
                    <a:pt x="778" y="102"/>
                  </a:lnTo>
                  <a:lnTo>
                    <a:pt x="794" y="94"/>
                  </a:lnTo>
                  <a:lnTo>
                    <a:pt x="805" y="81"/>
                  </a:lnTo>
                  <a:lnTo>
                    <a:pt x="813" y="71"/>
                  </a:lnTo>
                  <a:lnTo>
                    <a:pt x="816" y="62"/>
                  </a:lnTo>
                  <a:lnTo>
                    <a:pt x="818" y="60"/>
                  </a:lnTo>
                  <a:lnTo>
                    <a:pt x="794" y="50"/>
                  </a:lnTo>
                  <a:lnTo>
                    <a:pt x="776" y="49"/>
                  </a:lnTo>
                  <a:lnTo>
                    <a:pt x="758" y="49"/>
                  </a:lnTo>
                  <a:lnTo>
                    <a:pt x="745" y="55"/>
                  </a:lnTo>
                  <a:lnTo>
                    <a:pt x="731" y="60"/>
                  </a:lnTo>
                  <a:lnTo>
                    <a:pt x="721" y="71"/>
                  </a:lnTo>
                  <a:lnTo>
                    <a:pt x="713" y="81"/>
                  </a:lnTo>
                  <a:lnTo>
                    <a:pt x="707" y="89"/>
                  </a:lnTo>
                  <a:lnTo>
                    <a:pt x="707" y="89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31"/>
          <a:stretch/>
        </p:blipFill>
        <p:spPr>
          <a:xfrm>
            <a:off x="6019920" y="57913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2"/>
          <a:stretch/>
        </p:blipFill>
        <p:spPr>
          <a:xfrm>
            <a:off x="7391520" y="5181480"/>
            <a:ext cx="430200" cy="2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3"/>
          <a:stretch/>
        </p:blipFill>
        <p:spPr>
          <a:xfrm>
            <a:off x="6705720" y="5562720"/>
            <a:ext cx="447480" cy="29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4"/>
          <a:stretch/>
        </p:blipFill>
        <p:spPr>
          <a:xfrm>
            <a:off x="7848720" y="4648320"/>
            <a:ext cx="495360" cy="31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5"/>
          <a:stretch/>
        </p:blipFill>
        <p:spPr>
          <a:xfrm>
            <a:off x="8001000" y="4038480"/>
            <a:ext cx="492120" cy="331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6"/>
          <a:stretch/>
        </p:blipFill>
        <p:spPr>
          <a:xfrm>
            <a:off x="7924680" y="2971800"/>
            <a:ext cx="52092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7"/>
          <a:stretch/>
        </p:blipFill>
        <p:spPr>
          <a:xfrm>
            <a:off x="7620120" y="2438280"/>
            <a:ext cx="556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55000" y="1954080"/>
            <a:ext cx="509400" cy="362160"/>
            <a:chOff x="7155000" y="1954080"/>
            <a:chExt cx="509400" cy="362160"/>
          </a:xfrm>
        </p:grpSpPr>
        <p:sp>
          <p:nvSpPr>
            <p:cNvPr id="117" name=""/>
            <p:cNvSpPr/>
            <p:nvPr/>
          </p:nvSpPr>
          <p:spPr>
            <a:xfrm>
              <a:off x="7396560" y="2011320"/>
              <a:ext cx="4320" cy="276120"/>
            </a:xfrm>
            <a:custGeom>
              <a:avLst/>
              <a:gdLst/>
              <a:ahLst/>
              <a:rect l="l" t="t" r="r" b="b"/>
              <a:pathLst>
                <a:path w="31" h="2001">
                  <a:moveTo>
                    <a:pt x="31" y="2001"/>
                  </a:moveTo>
                  <a:lnTo>
                    <a:pt x="27" y="1747"/>
                  </a:lnTo>
                  <a:lnTo>
                    <a:pt x="23" y="1494"/>
                  </a:lnTo>
                  <a:lnTo>
                    <a:pt x="19" y="1243"/>
                  </a:lnTo>
                  <a:lnTo>
                    <a:pt x="15" y="996"/>
                  </a:lnTo>
                  <a:lnTo>
                    <a:pt x="12" y="746"/>
                  </a:lnTo>
                  <a:lnTo>
                    <a:pt x="7" y="498"/>
                  </a:lnTo>
                  <a:lnTo>
                    <a:pt x="4" y="249"/>
                  </a:lnTo>
                  <a:lnTo>
                    <a:pt x="0" y="0"/>
                  </a:lnTo>
                  <a:lnTo>
                    <a:pt x="4" y="249"/>
                  </a:lnTo>
                  <a:lnTo>
                    <a:pt x="7" y="498"/>
                  </a:lnTo>
                  <a:lnTo>
                    <a:pt x="12" y="746"/>
                  </a:lnTo>
                  <a:lnTo>
                    <a:pt x="15" y="996"/>
                  </a:lnTo>
                  <a:lnTo>
                    <a:pt x="19" y="1243"/>
                  </a:lnTo>
                  <a:lnTo>
                    <a:pt x="23" y="1494"/>
                  </a:lnTo>
                  <a:lnTo>
                    <a:pt x="27" y="1747"/>
                  </a:lnTo>
                  <a:lnTo>
                    <a:pt x="31" y="2001"/>
                  </a:lnTo>
                  <a:lnTo>
                    <a:pt x="31" y="20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01240" y="1964880"/>
              <a:ext cx="4680" cy="320400"/>
            </a:xfrm>
            <a:custGeom>
              <a:avLst/>
              <a:gdLst/>
              <a:ahLst/>
              <a:rect l="l" t="t" r="r" b="b"/>
              <a:pathLst>
                <a:path w="34" h="2321">
                  <a:moveTo>
                    <a:pt x="34" y="2321"/>
                  </a:moveTo>
                  <a:lnTo>
                    <a:pt x="29" y="2025"/>
                  </a:lnTo>
                  <a:lnTo>
                    <a:pt x="25" y="1734"/>
                  </a:lnTo>
                  <a:lnTo>
                    <a:pt x="19" y="1442"/>
                  </a:lnTo>
                  <a:lnTo>
                    <a:pt x="16" y="1155"/>
                  </a:lnTo>
                  <a:lnTo>
                    <a:pt x="11" y="866"/>
                  </a:lnTo>
                  <a:lnTo>
                    <a:pt x="8" y="579"/>
                  </a:lnTo>
                  <a:lnTo>
                    <a:pt x="3" y="289"/>
                  </a:lnTo>
                  <a:lnTo>
                    <a:pt x="0" y="0"/>
                  </a:lnTo>
                  <a:lnTo>
                    <a:pt x="3" y="289"/>
                  </a:lnTo>
                  <a:lnTo>
                    <a:pt x="8" y="579"/>
                  </a:lnTo>
                  <a:lnTo>
                    <a:pt x="11" y="866"/>
                  </a:lnTo>
                  <a:lnTo>
                    <a:pt x="16" y="1155"/>
                  </a:lnTo>
                  <a:lnTo>
                    <a:pt x="19" y="1442"/>
                  </a:lnTo>
                  <a:lnTo>
                    <a:pt x="25" y="1734"/>
                  </a:lnTo>
                  <a:lnTo>
                    <a:pt x="29" y="2025"/>
                  </a:lnTo>
                  <a:lnTo>
                    <a:pt x="34" y="2321"/>
                  </a:lnTo>
                  <a:lnTo>
                    <a:pt x="34" y="2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39040" y="1954080"/>
              <a:ext cx="192600" cy="46080"/>
            </a:xfrm>
            <a:custGeom>
              <a:avLst/>
              <a:gdLst/>
              <a:ahLst/>
              <a:rect l="l" t="t" r="r" b="b"/>
              <a:pathLst>
                <a:path w="1339" h="334">
                  <a:moveTo>
                    <a:pt x="587" y="139"/>
                  </a:moveTo>
                  <a:lnTo>
                    <a:pt x="681" y="170"/>
                  </a:lnTo>
                  <a:lnTo>
                    <a:pt x="778" y="202"/>
                  </a:lnTo>
                  <a:lnTo>
                    <a:pt x="872" y="233"/>
                  </a:lnTo>
                  <a:lnTo>
                    <a:pt x="968" y="263"/>
                  </a:lnTo>
                  <a:lnTo>
                    <a:pt x="1060" y="287"/>
                  </a:lnTo>
                  <a:lnTo>
                    <a:pt x="1154" y="308"/>
                  </a:lnTo>
                  <a:lnTo>
                    <a:pt x="1246" y="324"/>
                  </a:lnTo>
                  <a:lnTo>
                    <a:pt x="1339" y="334"/>
                  </a:lnTo>
                  <a:lnTo>
                    <a:pt x="1336" y="295"/>
                  </a:lnTo>
                  <a:lnTo>
                    <a:pt x="1243" y="286"/>
                  </a:lnTo>
                  <a:lnTo>
                    <a:pt x="1151" y="270"/>
                  </a:lnTo>
                  <a:lnTo>
                    <a:pt x="1057" y="249"/>
                  </a:lnTo>
                  <a:lnTo>
                    <a:pt x="965" y="225"/>
                  </a:lnTo>
                  <a:lnTo>
                    <a:pt x="870" y="195"/>
                  </a:lnTo>
                  <a:lnTo>
                    <a:pt x="775" y="165"/>
                  </a:lnTo>
                  <a:lnTo>
                    <a:pt x="679" y="132"/>
                  </a:lnTo>
                  <a:lnTo>
                    <a:pt x="584" y="101"/>
                  </a:lnTo>
                  <a:lnTo>
                    <a:pt x="507" y="75"/>
                  </a:lnTo>
                  <a:lnTo>
                    <a:pt x="432" y="55"/>
                  </a:lnTo>
                  <a:lnTo>
                    <a:pt x="359" y="36"/>
                  </a:lnTo>
                  <a:lnTo>
                    <a:pt x="286" y="22"/>
                  </a:lnTo>
                  <a:lnTo>
                    <a:pt x="212" y="11"/>
                  </a:lnTo>
                  <a:lnTo>
                    <a:pt x="141" y="4"/>
                  </a:lnTo>
                  <a:lnTo>
                    <a:pt x="70" y="0"/>
                  </a:lnTo>
                  <a:lnTo>
                    <a:pt x="0" y="2"/>
                  </a:lnTo>
                  <a:lnTo>
                    <a:pt x="6" y="41"/>
                  </a:lnTo>
                  <a:lnTo>
                    <a:pt x="76" y="40"/>
                  </a:lnTo>
                  <a:lnTo>
                    <a:pt x="147" y="42"/>
                  </a:lnTo>
                  <a:lnTo>
                    <a:pt x="218" y="49"/>
                  </a:lnTo>
                  <a:lnTo>
                    <a:pt x="290" y="60"/>
                  </a:lnTo>
                  <a:lnTo>
                    <a:pt x="362" y="74"/>
                  </a:lnTo>
                  <a:lnTo>
                    <a:pt x="436" y="93"/>
                  </a:lnTo>
                  <a:lnTo>
                    <a:pt x="511" y="113"/>
                  </a:lnTo>
                  <a:lnTo>
                    <a:pt x="587" y="139"/>
                  </a:lnTo>
                  <a:lnTo>
                    <a:pt x="587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27080" y="2262960"/>
              <a:ext cx="172440" cy="48240"/>
            </a:xfrm>
            <a:custGeom>
              <a:avLst/>
              <a:gdLst/>
              <a:ahLst/>
              <a:rect l="l" t="t" r="r" b="b"/>
              <a:pathLst>
                <a:path w="1197" h="351">
                  <a:moveTo>
                    <a:pt x="549" y="163"/>
                  </a:moveTo>
                  <a:lnTo>
                    <a:pt x="540" y="167"/>
                  </a:lnTo>
                  <a:lnTo>
                    <a:pt x="531" y="171"/>
                  </a:lnTo>
                  <a:lnTo>
                    <a:pt x="522" y="175"/>
                  </a:lnTo>
                  <a:lnTo>
                    <a:pt x="512" y="178"/>
                  </a:lnTo>
                  <a:lnTo>
                    <a:pt x="448" y="202"/>
                  </a:lnTo>
                  <a:lnTo>
                    <a:pt x="386" y="225"/>
                  </a:lnTo>
                  <a:lnTo>
                    <a:pt x="321" y="246"/>
                  </a:lnTo>
                  <a:lnTo>
                    <a:pt x="258" y="267"/>
                  </a:lnTo>
                  <a:lnTo>
                    <a:pt x="193" y="282"/>
                  </a:lnTo>
                  <a:lnTo>
                    <a:pt x="130" y="294"/>
                  </a:lnTo>
                  <a:lnTo>
                    <a:pt x="64" y="306"/>
                  </a:lnTo>
                  <a:lnTo>
                    <a:pt x="0" y="313"/>
                  </a:lnTo>
                  <a:lnTo>
                    <a:pt x="6" y="351"/>
                  </a:lnTo>
                  <a:lnTo>
                    <a:pt x="75" y="343"/>
                  </a:lnTo>
                  <a:lnTo>
                    <a:pt x="143" y="331"/>
                  </a:lnTo>
                  <a:lnTo>
                    <a:pt x="211" y="318"/>
                  </a:lnTo>
                  <a:lnTo>
                    <a:pt x="279" y="300"/>
                  </a:lnTo>
                  <a:lnTo>
                    <a:pt x="345" y="280"/>
                  </a:lnTo>
                  <a:lnTo>
                    <a:pt x="412" y="258"/>
                  </a:lnTo>
                  <a:lnTo>
                    <a:pt x="479" y="231"/>
                  </a:lnTo>
                  <a:lnTo>
                    <a:pt x="548" y="205"/>
                  </a:lnTo>
                  <a:lnTo>
                    <a:pt x="626" y="171"/>
                  </a:lnTo>
                  <a:lnTo>
                    <a:pt x="707" y="141"/>
                  </a:lnTo>
                  <a:lnTo>
                    <a:pt x="788" y="114"/>
                  </a:lnTo>
                  <a:lnTo>
                    <a:pt x="868" y="89"/>
                  </a:lnTo>
                  <a:lnTo>
                    <a:pt x="947" y="69"/>
                  </a:lnTo>
                  <a:lnTo>
                    <a:pt x="1030" y="54"/>
                  </a:lnTo>
                  <a:lnTo>
                    <a:pt x="1111" y="41"/>
                  </a:lnTo>
                  <a:lnTo>
                    <a:pt x="1197" y="39"/>
                  </a:lnTo>
                  <a:lnTo>
                    <a:pt x="1190" y="0"/>
                  </a:lnTo>
                  <a:lnTo>
                    <a:pt x="1107" y="2"/>
                  </a:lnTo>
                  <a:lnTo>
                    <a:pt x="1025" y="15"/>
                  </a:lnTo>
                  <a:lnTo>
                    <a:pt x="944" y="28"/>
                  </a:lnTo>
                  <a:lnTo>
                    <a:pt x="865" y="49"/>
                  </a:lnTo>
                  <a:lnTo>
                    <a:pt x="787" y="73"/>
                  </a:lnTo>
                  <a:lnTo>
                    <a:pt x="707" y="100"/>
                  </a:lnTo>
                  <a:lnTo>
                    <a:pt x="628" y="131"/>
                  </a:lnTo>
                  <a:lnTo>
                    <a:pt x="549" y="163"/>
                  </a:lnTo>
                  <a:lnTo>
                    <a:pt x="549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8440" y="2144520"/>
              <a:ext cx="158040" cy="161640"/>
            </a:xfrm>
            <a:custGeom>
              <a:avLst/>
              <a:gdLst/>
              <a:ahLst/>
              <a:rect l="l" t="t" r="r" b="b"/>
              <a:pathLst>
                <a:path w="1097" h="1173">
                  <a:moveTo>
                    <a:pt x="1052" y="21"/>
                  </a:moveTo>
                  <a:lnTo>
                    <a:pt x="1052" y="34"/>
                  </a:lnTo>
                  <a:lnTo>
                    <a:pt x="1052" y="49"/>
                  </a:lnTo>
                  <a:lnTo>
                    <a:pt x="1052" y="55"/>
                  </a:lnTo>
                  <a:lnTo>
                    <a:pt x="1052" y="63"/>
                  </a:lnTo>
                  <a:lnTo>
                    <a:pt x="1052" y="70"/>
                  </a:lnTo>
                  <a:lnTo>
                    <a:pt x="1052" y="78"/>
                  </a:lnTo>
                  <a:lnTo>
                    <a:pt x="1052" y="209"/>
                  </a:lnTo>
                  <a:lnTo>
                    <a:pt x="1052" y="343"/>
                  </a:lnTo>
                  <a:lnTo>
                    <a:pt x="1052" y="473"/>
                  </a:lnTo>
                  <a:lnTo>
                    <a:pt x="1053" y="604"/>
                  </a:lnTo>
                  <a:lnTo>
                    <a:pt x="1053" y="733"/>
                  </a:lnTo>
                  <a:lnTo>
                    <a:pt x="1054" y="864"/>
                  </a:lnTo>
                  <a:lnTo>
                    <a:pt x="1054" y="995"/>
                  </a:lnTo>
                  <a:lnTo>
                    <a:pt x="1055" y="1128"/>
                  </a:lnTo>
                  <a:lnTo>
                    <a:pt x="944" y="1099"/>
                  </a:lnTo>
                  <a:lnTo>
                    <a:pt x="834" y="1065"/>
                  </a:lnTo>
                  <a:lnTo>
                    <a:pt x="723" y="1027"/>
                  </a:lnTo>
                  <a:lnTo>
                    <a:pt x="613" y="991"/>
                  </a:lnTo>
                  <a:lnTo>
                    <a:pt x="502" y="953"/>
                  </a:lnTo>
                  <a:lnTo>
                    <a:pt x="393" y="919"/>
                  </a:lnTo>
                  <a:lnTo>
                    <a:pt x="283" y="890"/>
                  </a:lnTo>
                  <a:lnTo>
                    <a:pt x="175" y="869"/>
                  </a:lnTo>
                  <a:lnTo>
                    <a:pt x="151" y="866"/>
                  </a:lnTo>
                  <a:lnTo>
                    <a:pt x="130" y="862"/>
                  </a:lnTo>
                  <a:lnTo>
                    <a:pt x="108" y="860"/>
                  </a:lnTo>
                  <a:lnTo>
                    <a:pt x="86" y="860"/>
                  </a:lnTo>
                  <a:lnTo>
                    <a:pt x="64" y="857"/>
                  </a:lnTo>
                  <a:lnTo>
                    <a:pt x="44" y="857"/>
                  </a:lnTo>
                  <a:lnTo>
                    <a:pt x="21" y="857"/>
                  </a:lnTo>
                  <a:lnTo>
                    <a:pt x="0" y="859"/>
                  </a:lnTo>
                  <a:lnTo>
                    <a:pt x="7" y="898"/>
                  </a:lnTo>
                  <a:lnTo>
                    <a:pt x="26" y="897"/>
                  </a:lnTo>
                  <a:lnTo>
                    <a:pt x="47" y="897"/>
                  </a:lnTo>
                  <a:lnTo>
                    <a:pt x="68" y="897"/>
                  </a:lnTo>
                  <a:lnTo>
                    <a:pt x="90" y="898"/>
                  </a:lnTo>
                  <a:lnTo>
                    <a:pt x="109" y="899"/>
                  </a:lnTo>
                  <a:lnTo>
                    <a:pt x="130" y="902"/>
                  </a:lnTo>
                  <a:lnTo>
                    <a:pt x="151" y="904"/>
                  </a:lnTo>
                  <a:lnTo>
                    <a:pt x="174" y="907"/>
                  </a:lnTo>
                  <a:lnTo>
                    <a:pt x="282" y="927"/>
                  </a:lnTo>
                  <a:lnTo>
                    <a:pt x="392" y="954"/>
                  </a:lnTo>
                  <a:lnTo>
                    <a:pt x="502" y="988"/>
                  </a:lnTo>
                  <a:lnTo>
                    <a:pt x="613" y="1026"/>
                  </a:lnTo>
                  <a:lnTo>
                    <a:pt x="722" y="1062"/>
                  </a:lnTo>
                  <a:lnTo>
                    <a:pt x="833" y="1101"/>
                  </a:lnTo>
                  <a:lnTo>
                    <a:pt x="943" y="1134"/>
                  </a:lnTo>
                  <a:lnTo>
                    <a:pt x="1055" y="1165"/>
                  </a:lnTo>
                  <a:lnTo>
                    <a:pt x="1064" y="1166"/>
                  </a:lnTo>
                  <a:lnTo>
                    <a:pt x="1075" y="1168"/>
                  </a:lnTo>
                  <a:lnTo>
                    <a:pt x="1086" y="1171"/>
                  </a:lnTo>
                  <a:lnTo>
                    <a:pt x="1097" y="1173"/>
                  </a:lnTo>
                  <a:lnTo>
                    <a:pt x="1097" y="1163"/>
                  </a:lnTo>
                  <a:lnTo>
                    <a:pt x="1097" y="1153"/>
                  </a:lnTo>
                  <a:lnTo>
                    <a:pt x="1097" y="1143"/>
                  </a:lnTo>
                  <a:lnTo>
                    <a:pt x="1097" y="1136"/>
                  </a:lnTo>
                  <a:lnTo>
                    <a:pt x="1095" y="1036"/>
                  </a:lnTo>
                  <a:lnTo>
                    <a:pt x="1095" y="937"/>
                  </a:lnTo>
                  <a:lnTo>
                    <a:pt x="1093" y="838"/>
                  </a:lnTo>
                  <a:lnTo>
                    <a:pt x="1093" y="740"/>
                  </a:lnTo>
                  <a:lnTo>
                    <a:pt x="1092" y="641"/>
                  </a:lnTo>
                  <a:lnTo>
                    <a:pt x="1092" y="543"/>
                  </a:lnTo>
                  <a:lnTo>
                    <a:pt x="1092" y="444"/>
                  </a:lnTo>
                  <a:lnTo>
                    <a:pt x="1092" y="346"/>
                  </a:lnTo>
                  <a:lnTo>
                    <a:pt x="1052" y="0"/>
                  </a:lnTo>
                  <a:lnTo>
                    <a:pt x="1052" y="11"/>
                  </a:lnTo>
                  <a:lnTo>
                    <a:pt x="1052" y="21"/>
                  </a:lnTo>
                  <a:lnTo>
                    <a:pt x="10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1280" y="1994040"/>
              <a:ext cx="24120" cy="198000"/>
            </a:xfrm>
            <a:custGeom>
              <a:avLst/>
              <a:gdLst/>
              <a:ahLst/>
              <a:rect l="l" t="t" r="r" b="b"/>
              <a:pathLst>
                <a:path w="169" h="1434">
                  <a:moveTo>
                    <a:pt x="160" y="0"/>
                  </a:moveTo>
                  <a:lnTo>
                    <a:pt x="149" y="0"/>
                  </a:lnTo>
                  <a:lnTo>
                    <a:pt x="140" y="1"/>
                  </a:lnTo>
                  <a:lnTo>
                    <a:pt x="130" y="2"/>
                  </a:lnTo>
                  <a:lnTo>
                    <a:pt x="121" y="3"/>
                  </a:lnTo>
                  <a:lnTo>
                    <a:pt x="104" y="3"/>
                  </a:lnTo>
                  <a:lnTo>
                    <a:pt x="91" y="3"/>
                  </a:lnTo>
                  <a:lnTo>
                    <a:pt x="74" y="3"/>
                  </a:lnTo>
                  <a:lnTo>
                    <a:pt x="59" y="4"/>
                  </a:lnTo>
                  <a:lnTo>
                    <a:pt x="45" y="3"/>
                  </a:lnTo>
                  <a:lnTo>
                    <a:pt x="30" y="3"/>
                  </a:lnTo>
                  <a:lnTo>
                    <a:pt x="13" y="3"/>
                  </a:lnTo>
                  <a:lnTo>
                    <a:pt x="0" y="3"/>
                  </a:lnTo>
                  <a:lnTo>
                    <a:pt x="3" y="42"/>
                  </a:lnTo>
                  <a:lnTo>
                    <a:pt x="18" y="42"/>
                  </a:lnTo>
                  <a:lnTo>
                    <a:pt x="32" y="42"/>
                  </a:lnTo>
                  <a:lnTo>
                    <a:pt x="47" y="42"/>
                  </a:lnTo>
                  <a:lnTo>
                    <a:pt x="63" y="44"/>
                  </a:lnTo>
                  <a:lnTo>
                    <a:pt x="77" y="42"/>
                  </a:lnTo>
                  <a:lnTo>
                    <a:pt x="92" y="42"/>
                  </a:lnTo>
                  <a:lnTo>
                    <a:pt x="106" y="42"/>
                  </a:lnTo>
                  <a:lnTo>
                    <a:pt x="122" y="42"/>
                  </a:lnTo>
                  <a:lnTo>
                    <a:pt x="122" y="175"/>
                  </a:lnTo>
                  <a:lnTo>
                    <a:pt x="123" y="306"/>
                  </a:lnTo>
                  <a:lnTo>
                    <a:pt x="123" y="438"/>
                  </a:lnTo>
                  <a:lnTo>
                    <a:pt x="124" y="568"/>
                  </a:lnTo>
                  <a:lnTo>
                    <a:pt x="124" y="697"/>
                  </a:lnTo>
                  <a:lnTo>
                    <a:pt x="126" y="827"/>
                  </a:lnTo>
                  <a:lnTo>
                    <a:pt x="127" y="956"/>
                  </a:lnTo>
                  <a:lnTo>
                    <a:pt x="129" y="1088"/>
                  </a:lnTo>
                  <a:lnTo>
                    <a:pt x="169" y="1434"/>
                  </a:lnTo>
                  <a:lnTo>
                    <a:pt x="168" y="1262"/>
                  </a:lnTo>
                  <a:lnTo>
                    <a:pt x="167" y="1091"/>
                  </a:lnTo>
                  <a:lnTo>
                    <a:pt x="165" y="917"/>
                  </a:lnTo>
                  <a:lnTo>
                    <a:pt x="165" y="744"/>
                  </a:lnTo>
                  <a:lnTo>
                    <a:pt x="163" y="569"/>
                  </a:lnTo>
                  <a:lnTo>
                    <a:pt x="163" y="394"/>
                  </a:lnTo>
                  <a:lnTo>
                    <a:pt x="160" y="216"/>
                  </a:lnTo>
                  <a:lnTo>
                    <a:pt x="160" y="39"/>
                  </a:lnTo>
                  <a:lnTo>
                    <a:pt x="160" y="29"/>
                  </a:lnTo>
                  <a:lnTo>
                    <a:pt x="160" y="19"/>
                  </a:lnTo>
                  <a:lnTo>
                    <a:pt x="160" y="9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78840" y="1954080"/>
              <a:ext cx="160920" cy="48240"/>
            </a:xfrm>
            <a:custGeom>
              <a:avLst/>
              <a:gdLst/>
              <a:ahLst/>
              <a:rect l="l" t="t" r="r" b="b"/>
              <a:pathLst>
                <a:path w="1117" h="349">
                  <a:moveTo>
                    <a:pt x="73" y="342"/>
                  </a:moveTo>
                  <a:lnTo>
                    <a:pt x="167" y="322"/>
                  </a:lnTo>
                  <a:lnTo>
                    <a:pt x="261" y="296"/>
                  </a:lnTo>
                  <a:lnTo>
                    <a:pt x="353" y="264"/>
                  </a:lnTo>
                  <a:lnTo>
                    <a:pt x="446" y="231"/>
                  </a:lnTo>
                  <a:lnTo>
                    <a:pt x="537" y="194"/>
                  </a:lnTo>
                  <a:lnTo>
                    <a:pt x="628" y="157"/>
                  </a:lnTo>
                  <a:lnTo>
                    <a:pt x="719" y="122"/>
                  </a:lnTo>
                  <a:lnTo>
                    <a:pt x="812" y="91"/>
                  </a:lnTo>
                  <a:lnTo>
                    <a:pt x="820" y="87"/>
                  </a:lnTo>
                  <a:lnTo>
                    <a:pt x="830" y="84"/>
                  </a:lnTo>
                  <a:lnTo>
                    <a:pt x="838" y="81"/>
                  </a:lnTo>
                  <a:lnTo>
                    <a:pt x="849" y="79"/>
                  </a:lnTo>
                  <a:lnTo>
                    <a:pt x="882" y="69"/>
                  </a:lnTo>
                  <a:lnTo>
                    <a:pt x="916" y="62"/>
                  </a:lnTo>
                  <a:lnTo>
                    <a:pt x="949" y="54"/>
                  </a:lnTo>
                  <a:lnTo>
                    <a:pt x="984" y="50"/>
                  </a:lnTo>
                  <a:lnTo>
                    <a:pt x="1016" y="44"/>
                  </a:lnTo>
                  <a:lnTo>
                    <a:pt x="1050" y="42"/>
                  </a:lnTo>
                  <a:lnTo>
                    <a:pt x="1084" y="39"/>
                  </a:lnTo>
                  <a:lnTo>
                    <a:pt x="1117" y="39"/>
                  </a:lnTo>
                  <a:lnTo>
                    <a:pt x="1111" y="0"/>
                  </a:lnTo>
                  <a:lnTo>
                    <a:pt x="1077" y="0"/>
                  </a:lnTo>
                  <a:lnTo>
                    <a:pt x="1043" y="3"/>
                  </a:lnTo>
                  <a:lnTo>
                    <a:pt x="1010" y="5"/>
                  </a:lnTo>
                  <a:lnTo>
                    <a:pt x="977" y="11"/>
                  </a:lnTo>
                  <a:lnTo>
                    <a:pt x="942" y="14"/>
                  </a:lnTo>
                  <a:lnTo>
                    <a:pt x="911" y="23"/>
                  </a:lnTo>
                  <a:lnTo>
                    <a:pt x="876" y="29"/>
                  </a:lnTo>
                  <a:lnTo>
                    <a:pt x="845" y="40"/>
                  </a:lnTo>
                  <a:lnTo>
                    <a:pt x="744" y="71"/>
                  </a:lnTo>
                  <a:lnTo>
                    <a:pt x="646" y="108"/>
                  </a:lnTo>
                  <a:lnTo>
                    <a:pt x="547" y="147"/>
                  </a:lnTo>
                  <a:lnTo>
                    <a:pt x="449" y="187"/>
                  </a:lnTo>
                  <a:lnTo>
                    <a:pt x="350" y="224"/>
                  </a:lnTo>
                  <a:lnTo>
                    <a:pt x="252" y="258"/>
                  </a:lnTo>
                  <a:lnTo>
                    <a:pt x="151" y="285"/>
                  </a:lnTo>
                  <a:lnTo>
                    <a:pt x="48" y="305"/>
                  </a:lnTo>
                  <a:lnTo>
                    <a:pt x="35" y="306"/>
                  </a:lnTo>
                  <a:lnTo>
                    <a:pt x="24" y="307"/>
                  </a:lnTo>
                  <a:lnTo>
                    <a:pt x="11" y="307"/>
                  </a:lnTo>
                  <a:lnTo>
                    <a:pt x="0" y="309"/>
                  </a:lnTo>
                  <a:lnTo>
                    <a:pt x="7" y="349"/>
                  </a:lnTo>
                  <a:lnTo>
                    <a:pt x="15" y="346"/>
                  </a:lnTo>
                  <a:lnTo>
                    <a:pt x="23" y="345"/>
                  </a:lnTo>
                  <a:lnTo>
                    <a:pt x="30" y="344"/>
                  </a:lnTo>
                  <a:lnTo>
                    <a:pt x="39" y="344"/>
                  </a:lnTo>
                  <a:lnTo>
                    <a:pt x="47" y="343"/>
                  </a:lnTo>
                  <a:lnTo>
                    <a:pt x="56" y="343"/>
                  </a:lnTo>
                  <a:lnTo>
                    <a:pt x="64" y="342"/>
                  </a:lnTo>
                  <a:lnTo>
                    <a:pt x="73" y="342"/>
                  </a:lnTo>
                  <a:lnTo>
                    <a:pt x="7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55000" y="1971360"/>
              <a:ext cx="172800" cy="340560"/>
            </a:xfrm>
            <a:custGeom>
              <a:avLst/>
              <a:gdLst/>
              <a:ahLst/>
              <a:rect l="l" t="t" r="r" b="b"/>
              <a:pathLst>
                <a:path w="1202" h="2466">
                  <a:moveTo>
                    <a:pt x="950" y="2415"/>
                  </a:moveTo>
                  <a:lnTo>
                    <a:pt x="848" y="2394"/>
                  </a:lnTo>
                  <a:lnTo>
                    <a:pt x="745" y="2367"/>
                  </a:lnTo>
                  <a:lnTo>
                    <a:pt x="644" y="2336"/>
                  </a:lnTo>
                  <a:lnTo>
                    <a:pt x="543" y="2303"/>
                  </a:lnTo>
                  <a:lnTo>
                    <a:pt x="440" y="2267"/>
                  </a:lnTo>
                  <a:lnTo>
                    <a:pt x="338" y="2231"/>
                  </a:lnTo>
                  <a:lnTo>
                    <a:pt x="234" y="2199"/>
                  </a:lnTo>
                  <a:lnTo>
                    <a:pt x="131" y="2172"/>
                  </a:lnTo>
                  <a:lnTo>
                    <a:pt x="120" y="2168"/>
                  </a:lnTo>
                  <a:lnTo>
                    <a:pt x="108" y="2163"/>
                  </a:lnTo>
                  <a:lnTo>
                    <a:pt x="98" y="2161"/>
                  </a:lnTo>
                  <a:lnTo>
                    <a:pt x="86" y="2160"/>
                  </a:lnTo>
                  <a:lnTo>
                    <a:pt x="75" y="2157"/>
                  </a:lnTo>
                  <a:lnTo>
                    <a:pt x="63" y="2155"/>
                  </a:lnTo>
                  <a:lnTo>
                    <a:pt x="53" y="2152"/>
                  </a:lnTo>
                  <a:lnTo>
                    <a:pt x="41" y="2151"/>
                  </a:lnTo>
                  <a:lnTo>
                    <a:pt x="40" y="1881"/>
                  </a:lnTo>
                  <a:lnTo>
                    <a:pt x="40" y="1616"/>
                  </a:lnTo>
                  <a:lnTo>
                    <a:pt x="40" y="1352"/>
                  </a:lnTo>
                  <a:lnTo>
                    <a:pt x="40" y="1092"/>
                  </a:lnTo>
                  <a:lnTo>
                    <a:pt x="40" y="832"/>
                  </a:lnTo>
                  <a:lnTo>
                    <a:pt x="41" y="573"/>
                  </a:lnTo>
                  <a:lnTo>
                    <a:pt x="41" y="312"/>
                  </a:lnTo>
                  <a:lnTo>
                    <a:pt x="44" y="51"/>
                  </a:lnTo>
                  <a:lnTo>
                    <a:pt x="54" y="54"/>
                  </a:lnTo>
                  <a:lnTo>
                    <a:pt x="66" y="59"/>
                  </a:lnTo>
                  <a:lnTo>
                    <a:pt x="76" y="62"/>
                  </a:lnTo>
                  <a:lnTo>
                    <a:pt x="88" y="66"/>
                  </a:lnTo>
                  <a:lnTo>
                    <a:pt x="99" y="70"/>
                  </a:lnTo>
                  <a:lnTo>
                    <a:pt x="111" y="74"/>
                  </a:lnTo>
                  <a:lnTo>
                    <a:pt x="122" y="78"/>
                  </a:lnTo>
                  <a:lnTo>
                    <a:pt x="135" y="82"/>
                  </a:lnTo>
                  <a:lnTo>
                    <a:pt x="228" y="113"/>
                  </a:lnTo>
                  <a:lnTo>
                    <a:pt x="323" y="143"/>
                  </a:lnTo>
                  <a:lnTo>
                    <a:pt x="415" y="169"/>
                  </a:lnTo>
                  <a:lnTo>
                    <a:pt x="508" y="191"/>
                  </a:lnTo>
                  <a:lnTo>
                    <a:pt x="598" y="207"/>
                  </a:lnTo>
                  <a:lnTo>
                    <a:pt x="689" y="219"/>
                  </a:lnTo>
                  <a:lnTo>
                    <a:pt x="779" y="225"/>
                  </a:lnTo>
                  <a:lnTo>
                    <a:pt x="869" y="224"/>
                  </a:lnTo>
                  <a:lnTo>
                    <a:pt x="862" y="184"/>
                  </a:lnTo>
                  <a:lnTo>
                    <a:pt x="761" y="186"/>
                  </a:lnTo>
                  <a:lnTo>
                    <a:pt x="661" y="179"/>
                  </a:lnTo>
                  <a:lnTo>
                    <a:pt x="560" y="163"/>
                  </a:lnTo>
                  <a:lnTo>
                    <a:pt x="460" y="142"/>
                  </a:lnTo>
                  <a:lnTo>
                    <a:pt x="356" y="114"/>
                  </a:lnTo>
                  <a:lnTo>
                    <a:pt x="253" y="83"/>
                  </a:lnTo>
                  <a:lnTo>
                    <a:pt x="147" y="48"/>
                  </a:lnTo>
                  <a:lnTo>
                    <a:pt x="44" y="14"/>
                  </a:lnTo>
                  <a:lnTo>
                    <a:pt x="31" y="10"/>
                  </a:lnTo>
                  <a:lnTo>
                    <a:pt x="21" y="6"/>
                  </a:lnTo>
                  <a:lnTo>
                    <a:pt x="10" y="2"/>
                  </a:lnTo>
                  <a:lnTo>
                    <a:pt x="1" y="0"/>
                  </a:lnTo>
                  <a:lnTo>
                    <a:pt x="1" y="7"/>
                  </a:lnTo>
                  <a:lnTo>
                    <a:pt x="1" y="16"/>
                  </a:lnTo>
                  <a:lnTo>
                    <a:pt x="1" y="25"/>
                  </a:lnTo>
                  <a:lnTo>
                    <a:pt x="1" y="36"/>
                  </a:lnTo>
                  <a:lnTo>
                    <a:pt x="0" y="297"/>
                  </a:lnTo>
                  <a:lnTo>
                    <a:pt x="0" y="559"/>
                  </a:lnTo>
                  <a:lnTo>
                    <a:pt x="0" y="819"/>
                  </a:lnTo>
                  <a:lnTo>
                    <a:pt x="0" y="1082"/>
                  </a:lnTo>
                  <a:lnTo>
                    <a:pt x="0" y="1342"/>
                  </a:lnTo>
                  <a:lnTo>
                    <a:pt x="0" y="1606"/>
                  </a:lnTo>
                  <a:lnTo>
                    <a:pt x="1" y="1872"/>
                  </a:lnTo>
                  <a:lnTo>
                    <a:pt x="2" y="2143"/>
                  </a:lnTo>
                  <a:lnTo>
                    <a:pt x="2" y="2152"/>
                  </a:lnTo>
                  <a:lnTo>
                    <a:pt x="2" y="2161"/>
                  </a:lnTo>
                  <a:lnTo>
                    <a:pt x="2" y="2170"/>
                  </a:lnTo>
                  <a:lnTo>
                    <a:pt x="2" y="2181"/>
                  </a:lnTo>
                  <a:lnTo>
                    <a:pt x="11" y="2182"/>
                  </a:lnTo>
                  <a:lnTo>
                    <a:pt x="22" y="2185"/>
                  </a:lnTo>
                  <a:lnTo>
                    <a:pt x="31" y="2186"/>
                  </a:lnTo>
                  <a:lnTo>
                    <a:pt x="41" y="2189"/>
                  </a:lnTo>
                  <a:lnTo>
                    <a:pt x="151" y="2212"/>
                  </a:lnTo>
                  <a:lnTo>
                    <a:pt x="263" y="2245"/>
                  </a:lnTo>
                  <a:lnTo>
                    <a:pt x="373" y="2280"/>
                  </a:lnTo>
                  <a:lnTo>
                    <a:pt x="484" y="2319"/>
                  </a:lnTo>
                  <a:lnTo>
                    <a:pt x="593" y="2356"/>
                  </a:lnTo>
                  <a:lnTo>
                    <a:pt x="704" y="2393"/>
                  </a:lnTo>
                  <a:lnTo>
                    <a:pt x="814" y="2423"/>
                  </a:lnTo>
                  <a:lnTo>
                    <a:pt x="925" y="2449"/>
                  </a:lnTo>
                  <a:lnTo>
                    <a:pt x="960" y="2453"/>
                  </a:lnTo>
                  <a:lnTo>
                    <a:pt x="995" y="2458"/>
                  </a:lnTo>
                  <a:lnTo>
                    <a:pt x="1029" y="2461"/>
                  </a:lnTo>
                  <a:lnTo>
                    <a:pt x="1064" y="2464"/>
                  </a:lnTo>
                  <a:lnTo>
                    <a:pt x="1098" y="2464"/>
                  </a:lnTo>
                  <a:lnTo>
                    <a:pt x="1134" y="2466"/>
                  </a:lnTo>
                  <a:lnTo>
                    <a:pt x="1166" y="2464"/>
                  </a:lnTo>
                  <a:lnTo>
                    <a:pt x="1202" y="2463"/>
                  </a:lnTo>
                  <a:lnTo>
                    <a:pt x="1196" y="2425"/>
                  </a:lnTo>
                  <a:lnTo>
                    <a:pt x="1165" y="2425"/>
                  </a:lnTo>
                  <a:lnTo>
                    <a:pt x="1135" y="2426"/>
                  </a:lnTo>
                  <a:lnTo>
                    <a:pt x="1105" y="2426"/>
                  </a:lnTo>
                  <a:lnTo>
                    <a:pt x="1074" y="2426"/>
                  </a:lnTo>
                  <a:lnTo>
                    <a:pt x="1043" y="2424"/>
                  </a:lnTo>
                  <a:lnTo>
                    <a:pt x="1013" y="2423"/>
                  </a:lnTo>
                  <a:lnTo>
                    <a:pt x="980" y="2419"/>
                  </a:lnTo>
                  <a:lnTo>
                    <a:pt x="950" y="2415"/>
                  </a:lnTo>
                  <a:lnTo>
                    <a:pt x="950" y="2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6080" y="2274480"/>
              <a:ext cx="109800" cy="31680"/>
            </a:xfrm>
            <a:custGeom>
              <a:avLst/>
              <a:gdLst/>
              <a:ahLst/>
              <a:rect l="l" t="t" r="r" b="b"/>
              <a:pathLst>
                <a:path w="765" h="231">
                  <a:moveTo>
                    <a:pt x="21" y="30"/>
                  </a:moveTo>
                  <a:lnTo>
                    <a:pt x="112" y="44"/>
                  </a:lnTo>
                  <a:lnTo>
                    <a:pt x="205" y="67"/>
                  </a:lnTo>
                  <a:lnTo>
                    <a:pt x="297" y="91"/>
                  </a:lnTo>
                  <a:lnTo>
                    <a:pt x="392" y="120"/>
                  </a:lnTo>
                  <a:lnTo>
                    <a:pt x="484" y="147"/>
                  </a:lnTo>
                  <a:lnTo>
                    <a:pt x="577" y="177"/>
                  </a:lnTo>
                  <a:lnTo>
                    <a:pt x="671" y="205"/>
                  </a:lnTo>
                  <a:lnTo>
                    <a:pt x="765" y="231"/>
                  </a:lnTo>
                  <a:lnTo>
                    <a:pt x="668" y="201"/>
                  </a:lnTo>
                  <a:lnTo>
                    <a:pt x="571" y="169"/>
                  </a:lnTo>
                  <a:lnTo>
                    <a:pt x="476" y="136"/>
                  </a:lnTo>
                  <a:lnTo>
                    <a:pt x="380" y="102"/>
                  </a:lnTo>
                  <a:lnTo>
                    <a:pt x="285" y="70"/>
                  </a:lnTo>
                  <a:lnTo>
                    <a:pt x="189" y="42"/>
                  </a:lnTo>
                  <a:lnTo>
                    <a:pt x="95" y="18"/>
                  </a:lnTo>
                  <a:lnTo>
                    <a:pt x="0" y="0"/>
                  </a:lnTo>
                  <a:lnTo>
                    <a:pt x="3" y="6"/>
                  </a:lnTo>
                  <a:lnTo>
                    <a:pt x="9" y="14"/>
                  </a:lnTo>
                  <a:lnTo>
                    <a:pt x="14" y="22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00240" y="2271960"/>
              <a:ext cx="152280" cy="36360"/>
            </a:xfrm>
            <a:custGeom>
              <a:avLst/>
              <a:gdLst/>
              <a:ahLst/>
              <a:rect l="l" t="t" r="r" b="b"/>
              <a:pathLst>
                <a:path w="1059" h="266">
                  <a:moveTo>
                    <a:pt x="923" y="257"/>
                  </a:moveTo>
                  <a:lnTo>
                    <a:pt x="939" y="257"/>
                  </a:lnTo>
                  <a:lnTo>
                    <a:pt x="957" y="259"/>
                  </a:lnTo>
                  <a:lnTo>
                    <a:pt x="974" y="259"/>
                  </a:lnTo>
                  <a:lnTo>
                    <a:pt x="990" y="263"/>
                  </a:lnTo>
                  <a:lnTo>
                    <a:pt x="1006" y="263"/>
                  </a:lnTo>
                  <a:lnTo>
                    <a:pt x="1023" y="264"/>
                  </a:lnTo>
                  <a:lnTo>
                    <a:pt x="1041" y="265"/>
                  </a:lnTo>
                  <a:lnTo>
                    <a:pt x="1059" y="266"/>
                  </a:lnTo>
                  <a:lnTo>
                    <a:pt x="924" y="233"/>
                  </a:lnTo>
                  <a:lnTo>
                    <a:pt x="789" y="191"/>
                  </a:lnTo>
                  <a:lnTo>
                    <a:pt x="656" y="149"/>
                  </a:lnTo>
                  <a:lnTo>
                    <a:pt x="523" y="107"/>
                  </a:lnTo>
                  <a:lnTo>
                    <a:pt x="391" y="67"/>
                  </a:lnTo>
                  <a:lnTo>
                    <a:pt x="261" y="34"/>
                  </a:lnTo>
                  <a:lnTo>
                    <a:pt x="128" y="9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16" y="25"/>
                  </a:lnTo>
                  <a:lnTo>
                    <a:pt x="228" y="45"/>
                  </a:lnTo>
                  <a:lnTo>
                    <a:pt x="341" y="72"/>
                  </a:lnTo>
                  <a:lnTo>
                    <a:pt x="457" y="106"/>
                  </a:lnTo>
                  <a:lnTo>
                    <a:pt x="572" y="141"/>
                  </a:lnTo>
                  <a:lnTo>
                    <a:pt x="688" y="180"/>
                  </a:lnTo>
                  <a:lnTo>
                    <a:pt x="804" y="218"/>
                  </a:lnTo>
                  <a:lnTo>
                    <a:pt x="923" y="257"/>
                  </a:lnTo>
                  <a:lnTo>
                    <a:pt x="92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28880" y="2271600"/>
              <a:ext cx="171720" cy="43920"/>
            </a:xfrm>
            <a:custGeom>
              <a:avLst/>
              <a:gdLst/>
              <a:ahLst/>
              <a:rect l="l" t="t" r="r" b="b"/>
              <a:pathLst>
                <a:path w="1196" h="319">
                  <a:moveTo>
                    <a:pt x="1060" y="6"/>
                  </a:moveTo>
                  <a:lnTo>
                    <a:pt x="923" y="31"/>
                  </a:lnTo>
                  <a:lnTo>
                    <a:pt x="789" y="70"/>
                  </a:lnTo>
                  <a:lnTo>
                    <a:pt x="659" y="119"/>
                  </a:lnTo>
                  <a:lnTo>
                    <a:pt x="530" y="170"/>
                  </a:lnTo>
                  <a:lnTo>
                    <a:pt x="400" y="220"/>
                  </a:lnTo>
                  <a:lnTo>
                    <a:pt x="270" y="266"/>
                  </a:lnTo>
                  <a:lnTo>
                    <a:pt x="136" y="299"/>
                  </a:lnTo>
                  <a:lnTo>
                    <a:pt x="0" y="319"/>
                  </a:lnTo>
                  <a:lnTo>
                    <a:pt x="128" y="303"/>
                  </a:lnTo>
                  <a:lnTo>
                    <a:pt x="255" y="274"/>
                  </a:lnTo>
                  <a:lnTo>
                    <a:pt x="377" y="234"/>
                  </a:lnTo>
                  <a:lnTo>
                    <a:pt x="499" y="190"/>
                  </a:lnTo>
                  <a:lnTo>
                    <a:pt x="621" y="142"/>
                  </a:lnTo>
                  <a:lnTo>
                    <a:pt x="743" y="98"/>
                  </a:lnTo>
                  <a:lnTo>
                    <a:pt x="868" y="56"/>
                  </a:lnTo>
                  <a:lnTo>
                    <a:pt x="997" y="30"/>
                  </a:lnTo>
                  <a:lnTo>
                    <a:pt x="1020" y="25"/>
                  </a:lnTo>
                  <a:lnTo>
                    <a:pt x="1045" y="22"/>
                  </a:lnTo>
                  <a:lnTo>
                    <a:pt x="1070" y="20"/>
                  </a:lnTo>
                  <a:lnTo>
                    <a:pt x="1096" y="17"/>
                  </a:lnTo>
                  <a:lnTo>
                    <a:pt x="1119" y="16"/>
                  </a:lnTo>
                  <a:lnTo>
                    <a:pt x="1144" y="16"/>
                  </a:lnTo>
                  <a:lnTo>
                    <a:pt x="1169" y="16"/>
                  </a:lnTo>
                  <a:lnTo>
                    <a:pt x="1196" y="17"/>
                  </a:lnTo>
                  <a:lnTo>
                    <a:pt x="1191" y="1"/>
                  </a:lnTo>
                  <a:lnTo>
                    <a:pt x="1174" y="0"/>
                  </a:lnTo>
                  <a:lnTo>
                    <a:pt x="1157" y="0"/>
                  </a:lnTo>
                  <a:lnTo>
                    <a:pt x="1141" y="0"/>
                  </a:lnTo>
                  <a:lnTo>
                    <a:pt x="1125" y="1"/>
                  </a:lnTo>
                  <a:lnTo>
                    <a:pt x="1107" y="1"/>
                  </a:lnTo>
                  <a:lnTo>
                    <a:pt x="1091" y="2"/>
                  </a:lnTo>
                  <a:lnTo>
                    <a:pt x="1075" y="3"/>
                  </a:lnTo>
                  <a:lnTo>
                    <a:pt x="1060" y="6"/>
                  </a:lnTo>
                  <a:lnTo>
                    <a:pt x="10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3480" y="2315880"/>
              <a:ext cx="5040" cy="360"/>
            </a:xfrm>
            <a:custGeom>
              <a:avLst/>
              <a:gdLst/>
              <a:ahLst/>
              <a:rect l="l" t="t" r="r" b="b"/>
              <a:pathLst>
                <a:path w="36" h="4">
                  <a:moveTo>
                    <a:pt x="0" y="4"/>
                  </a:moveTo>
                  <a:lnTo>
                    <a:pt x="8" y="2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9360" y="2210400"/>
              <a:ext cx="1080" cy="1872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1" y="68"/>
                  </a:lnTo>
                  <a:lnTo>
                    <a:pt x="9" y="137"/>
                  </a:lnTo>
                  <a:lnTo>
                    <a:pt x="8" y="118"/>
                  </a:lnTo>
                  <a:lnTo>
                    <a:pt x="7" y="103"/>
                  </a:lnTo>
                  <a:lnTo>
                    <a:pt x="5" y="85"/>
                  </a:lnTo>
                  <a:lnTo>
                    <a:pt x="4" y="69"/>
                  </a:lnTo>
                  <a:lnTo>
                    <a:pt x="2" y="50"/>
                  </a:lnTo>
                  <a:lnTo>
                    <a:pt x="1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59360" y="2220120"/>
              <a:ext cx="5040" cy="72720"/>
            </a:xfrm>
            <a:custGeom>
              <a:avLst/>
              <a:gdLst/>
              <a:ahLst/>
              <a:rect l="l" t="t" r="r" b="b"/>
              <a:pathLst>
                <a:path w="36" h="527">
                  <a:moveTo>
                    <a:pt x="0" y="0"/>
                  </a:moveTo>
                  <a:lnTo>
                    <a:pt x="0" y="65"/>
                  </a:lnTo>
                  <a:lnTo>
                    <a:pt x="1" y="132"/>
                  </a:lnTo>
                  <a:lnTo>
                    <a:pt x="3" y="197"/>
                  </a:lnTo>
                  <a:lnTo>
                    <a:pt x="4" y="263"/>
                  </a:lnTo>
                  <a:lnTo>
                    <a:pt x="4" y="329"/>
                  </a:lnTo>
                  <a:lnTo>
                    <a:pt x="6" y="395"/>
                  </a:lnTo>
                  <a:lnTo>
                    <a:pt x="7" y="462"/>
                  </a:lnTo>
                  <a:lnTo>
                    <a:pt x="8" y="527"/>
                  </a:lnTo>
                  <a:lnTo>
                    <a:pt x="15" y="513"/>
                  </a:lnTo>
                  <a:lnTo>
                    <a:pt x="21" y="501"/>
                  </a:lnTo>
                  <a:lnTo>
                    <a:pt x="28" y="486"/>
                  </a:lnTo>
                  <a:lnTo>
                    <a:pt x="36" y="473"/>
                  </a:lnTo>
                  <a:lnTo>
                    <a:pt x="33" y="422"/>
                  </a:lnTo>
                  <a:lnTo>
                    <a:pt x="28" y="371"/>
                  </a:lnTo>
                  <a:lnTo>
                    <a:pt x="24" y="320"/>
                  </a:lnTo>
                  <a:lnTo>
                    <a:pt x="21" y="270"/>
                  </a:lnTo>
                  <a:lnTo>
                    <a:pt x="18" y="220"/>
                  </a:lnTo>
                  <a:lnTo>
                    <a:pt x="15" y="168"/>
                  </a:lnTo>
                  <a:lnTo>
                    <a:pt x="11" y="118"/>
                  </a:lnTo>
                  <a:lnTo>
                    <a:pt x="8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8640" y="1995480"/>
              <a:ext cx="3600" cy="179280"/>
            </a:xfrm>
            <a:custGeom>
              <a:avLst/>
              <a:gdLst/>
              <a:ahLst/>
              <a:rect l="l" t="t" r="r" b="b"/>
              <a:pathLst>
                <a:path w="27" h="1299">
                  <a:moveTo>
                    <a:pt x="27" y="36"/>
                  </a:moveTo>
                  <a:lnTo>
                    <a:pt x="20" y="25"/>
                  </a:lnTo>
                  <a:lnTo>
                    <a:pt x="14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" y="328"/>
                  </a:lnTo>
                  <a:lnTo>
                    <a:pt x="2" y="491"/>
                  </a:lnTo>
                  <a:lnTo>
                    <a:pt x="4" y="654"/>
                  </a:lnTo>
                  <a:lnTo>
                    <a:pt x="4" y="814"/>
                  </a:lnTo>
                  <a:lnTo>
                    <a:pt x="4" y="976"/>
                  </a:lnTo>
                  <a:lnTo>
                    <a:pt x="4" y="1137"/>
                  </a:lnTo>
                  <a:lnTo>
                    <a:pt x="5" y="1299"/>
                  </a:lnTo>
                  <a:lnTo>
                    <a:pt x="7" y="1142"/>
                  </a:lnTo>
                  <a:lnTo>
                    <a:pt x="10" y="986"/>
                  </a:lnTo>
                  <a:lnTo>
                    <a:pt x="13" y="829"/>
                  </a:lnTo>
                  <a:lnTo>
                    <a:pt x="17" y="674"/>
                  </a:lnTo>
                  <a:lnTo>
                    <a:pt x="19" y="516"/>
                  </a:lnTo>
                  <a:lnTo>
                    <a:pt x="22" y="357"/>
                  </a:lnTo>
                  <a:lnTo>
                    <a:pt x="25" y="197"/>
                  </a:lnTo>
                  <a:lnTo>
                    <a:pt x="27" y="36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77760" y="1973520"/>
              <a:ext cx="70560" cy="18360"/>
            </a:xfrm>
            <a:custGeom>
              <a:avLst/>
              <a:gdLst/>
              <a:ahLst/>
              <a:rect l="l" t="t" r="r" b="b"/>
              <a:pathLst>
                <a:path w="488" h="135">
                  <a:moveTo>
                    <a:pt x="0" y="112"/>
                  </a:moveTo>
                  <a:lnTo>
                    <a:pt x="3" y="135"/>
                  </a:lnTo>
                  <a:lnTo>
                    <a:pt x="64" y="127"/>
                  </a:lnTo>
                  <a:lnTo>
                    <a:pt x="126" y="115"/>
                  </a:lnTo>
                  <a:lnTo>
                    <a:pt x="187" y="101"/>
                  </a:lnTo>
                  <a:lnTo>
                    <a:pt x="247" y="85"/>
                  </a:lnTo>
                  <a:lnTo>
                    <a:pt x="307" y="66"/>
                  </a:lnTo>
                  <a:lnTo>
                    <a:pt x="367" y="46"/>
                  </a:lnTo>
                  <a:lnTo>
                    <a:pt x="427" y="23"/>
                  </a:lnTo>
                  <a:lnTo>
                    <a:pt x="488" y="0"/>
                  </a:lnTo>
                  <a:lnTo>
                    <a:pt x="426" y="21"/>
                  </a:lnTo>
                  <a:lnTo>
                    <a:pt x="366" y="40"/>
                  </a:lnTo>
                  <a:lnTo>
                    <a:pt x="305" y="58"/>
                  </a:lnTo>
                  <a:lnTo>
                    <a:pt x="245" y="75"/>
                  </a:lnTo>
                  <a:lnTo>
                    <a:pt x="183" y="86"/>
                  </a:lnTo>
                  <a:lnTo>
                    <a:pt x="123" y="97"/>
                  </a:lnTo>
                  <a:lnTo>
                    <a:pt x="61" y="10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9840" y="1974960"/>
              <a:ext cx="98280" cy="17640"/>
            </a:xfrm>
            <a:custGeom>
              <a:avLst/>
              <a:gdLst/>
              <a:ahLst/>
              <a:rect l="l" t="t" r="r" b="b"/>
              <a:pathLst>
                <a:path w="684" h="128">
                  <a:moveTo>
                    <a:pt x="137" y="27"/>
                  </a:moveTo>
                  <a:lnTo>
                    <a:pt x="118" y="23"/>
                  </a:lnTo>
                  <a:lnTo>
                    <a:pt x="101" y="20"/>
                  </a:lnTo>
                  <a:lnTo>
                    <a:pt x="84" y="17"/>
                  </a:lnTo>
                  <a:lnTo>
                    <a:pt x="68" y="14"/>
                  </a:lnTo>
                  <a:lnTo>
                    <a:pt x="49" y="10"/>
                  </a:lnTo>
                  <a:lnTo>
                    <a:pt x="32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76" y="27"/>
                  </a:lnTo>
                  <a:lnTo>
                    <a:pt x="154" y="50"/>
                  </a:lnTo>
                  <a:lnTo>
                    <a:pt x="230" y="73"/>
                  </a:lnTo>
                  <a:lnTo>
                    <a:pt x="306" y="93"/>
                  </a:lnTo>
                  <a:lnTo>
                    <a:pt x="380" y="106"/>
                  </a:lnTo>
                  <a:lnTo>
                    <a:pt x="456" y="118"/>
                  </a:lnTo>
                  <a:lnTo>
                    <a:pt x="531" y="125"/>
                  </a:lnTo>
                  <a:lnTo>
                    <a:pt x="606" y="128"/>
                  </a:lnTo>
                  <a:lnTo>
                    <a:pt x="615" y="127"/>
                  </a:lnTo>
                  <a:lnTo>
                    <a:pt x="624" y="127"/>
                  </a:lnTo>
                  <a:lnTo>
                    <a:pt x="633" y="127"/>
                  </a:lnTo>
                  <a:lnTo>
                    <a:pt x="644" y="127"/>
                  </a:lnTo>
                  <a:lnTo>
                    <a:pt x="653" y="126"/>
                  </a:lnTo>
                  <a:lnTo>
                    <a:pt x="663" y="126"/>
                  </a:lnTo>
                  <a:lnTo>
                    <a:pt x="673" y="125"/>
                  </a:lnTo>
                  <a:lnTo>
                    <a:pt x="684" y="125"/>
                  </a:lnTo>
                  <a:lnTo>
                    <a:pt x="681" y="102"/>
                  </a:lnTo>
                  <a:lnTo>
                    <a:pt x="614" y="103"/>
                  </a:lnTo>
                  <a:lnTo>
                    <a:pt x="548" y="102"/>
                  </a:lnTo>
                  <a:lnTo>
                    <a:pt x="480" y="97"/>
                  </a:lnTo>
                  <a:lnTo>
                    <a:pt x="413" y="91"/>
                  </a:lnTo>
                  <a:lnTo>
                    <a:pt x="344" y="79"/>
                  </a:lnTo>
                  <a:lnTo>
                    <a:pt x="276" y="66"/>
                  </a:lnTo>
                  <a:lnTo>
                    <a:pt x="206" y="48"/>
                  </a:lnTo>
                  <a:lnTo>
                    <a:pt x="137" y="27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9920" y="1966680"/>
              <a:ext cx="120960" cy="339480"/>
            </a:xfrm>
            <a:custGeom>
              <a:avLst/>
              <a:gdLst/>
              <a:ahLst/>
              <a:rect l="l" t="t" r="r" b="b"/>
              <a:pathLst>
                <a:path w="839" h="2459">
                  <a:moveTo>
                    <a:pt x="805" y="0"/>
                  </a:moveTo>
                  <a:lnTo>
                    <a:pt x="712" y="31"/>
                  </a:lnTo>
                  <a:lnTo>
                    <a:pt x="621" y="66"/>
                  </a:lnTo>
                  <a:lnTo>
                    <a:pt x="530" y="103"/>
                  </a:lnTo>
                  <a:lnTo>
                    <a:pt x="439" y="140"/>
                  </a:lnTo>
                  <a:lnTo>
                    <a:pt x="346" y="173"/>
                  </a:lnTo>
                  <a:lnTo>
                    <a:pt x="254" y="205"/>
                  </a:lnTo>
                  <a:lnTo>
                    <a:pt x="160" y="231"/>
                  </a:lnTo>
                  <a:lnTo>
                    <a:pt x="66" y="251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0" y="252"/>
                  </a:lnTo>
                  <a:lnTo>
                    <a:pt x="32" y="253"/>
                  </a:lnTo>
                  <a:lnTo>
                    <a:pt x="23" y="253"/>
                  </a:lnTo>
                  <a:lnTo>
                    <a:pt x="16" y="254"/>
                  </a:lnTo>
                  <a:lnTo>
                    <a:pt x="8" y="255"/>
                  </a:lnTo>
                  <a:lnTo>
                    <a:pt x="0" y="258"/>
                  </a:lnTo>
                  <a:lnTo>
                    <a:pt x="327" y="2459"/>
                  </a:lnTo>
                  <a:lnTo>
                    <a:pt x="391" y="2452"/>
                  </a:lnTo>
                  <a:lnTo>
                    <a:pt x="457" y="2440"/>
                  </a:lnTo>
                  <a:lnTo>
                    <a:pt x="520" y="2428"/>
                  </a:lnTo>
                  <a:lnTo>
                    <a:pt x="585" y="2413"/>
                  </a:lnTo>
                  <a:lnTo>
                    <a:pt x="648" y="2392"/>
                  </a:lnTo>
                  <a:lnTo>
                    <a:pt x="713" y="2371"/>
                  </a:lnTo>
                  <a:lnTo>
                    <a:pt x="775" y="2348"/>
                  </a:lnTo>
                  <a:lnTo>
                    <a:pt x="839" y="2324"/>
                  </a:lnTo>
                  <a:lnTo>
                    <a:pt x="835" y="2070"/>
                  </a:lnTo>
                  <a:lnTo>
                    <a:pt x="831" y="1817"/>
                  </a:lnTo>
                  <a:lnTo>
                    <a:pt x="827" y="1566"/>
                  </a:lnTo>
                  <a:lnTo>
                    <a:pt x="823" y="1319"/>
                  </a:lnTo>
                  <a:lnTo>
                    <a:pt x="820" y="1069"/>
                  </a:lnTo>
                  <a:lnTo>
                    <a:pt x="815" y="821"/>
                  </a:lnTo>
                  <a:lnTo>
                    <a:pt x="812" y="572"/>
                  </a:lnTo>
                  <a:lnTo>
                    <a:pt x="808" y="323"/>
                  </a:lnTo>
                  <a:lnTo>
                    <a:pt x="807" y="282"/>
                  </a:lnTo>
                  <a:lnTo>
                    <a:pt x="807" y="241"/>
                  </a:lnTo>
                  <a:lnTo>
                    <a:pt x="806" y="201"/>
                  </a:lnTo>
                  <a:lnTo>
                    <a:pt x="806" y="162"/>
                  </a:lnTo>
                  <a:lnTo>
                    <a:pt x="805" y="120"/>
                  </a:lnTo>
                  <a:lnTo>
                    <a:pt x="805" y="79"/>
                  </a:lnTo>
                  <a:lnTo>
                    <a:pt x="805" y="39"/>
                  </a:lnTo>
                  <a:lnTo>
                    <a:pt x="805" y="0"/>
                  </a:lnTo>
                  <a:lnTo>
                    <a:pt x="80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0760" y="1978200"/>
              <a:ext cx="165960" cy="327960"/>
            </a:xfrm>
            <a:custGeom>
              <a:avLst/>
              <a:gdLst/>
              <a:ahLst/>
              <a:rect l="l" t="t" r="r" b="b"/>
              <a:pathLst>
                <a:path w="1156" h="2375">
                  <a:moveTo>
                    <a:pt x="95" y="31"/>
                  </a:moveTo>
                  <a:lnTo>
                    <a:pt x="82" y="27"/>
                  </a:lnTo>
                  <a:lnTo>
                    <a:pt x="71" y="23"/>
                  </a:lnTo>
                  <a:lnTo>
                    <a:pt x="59" y="19"/>
                  </a:lnTo>
                  <a:lnTo>
                    <a:pt x="48" y="15"/>
                  </a:lnTo>
                  <a:lnTo>
                    <a:pt x="36" y="11"/>
                  </a:lnTo>
                  <a:lnTo>
                    <a:pt x="26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1" y="261"/>
                  </a:lnTo>
                  <a:lnTo>
                    <a:pt x="1" y="522"/>
                  </a:lnTo>
                  <a:lnTo>
                    <a:pt x="0" y="781"/>
                  </a:lnTo>
                  <a:lnTo>
                    <a:pt x="0" y="1041"/>
                  </a:lnTo>
                  <a:lnTo>
                    <a:pt x="0" y="1301"/>
                  </a:lnTo>
                  <a:lnTo>
                    <a:pt x="0" y="1565"/>
                  </a:lnTo>
                  <a:lnTo>
                    <a:pt x="0" y="1830"/>
                  </a:lnTo>
                  <a:lnTo>
                    <a:pt x="1" y="2100"/>
                  </a:lnTo>
                  <a:lnTo>
                    <a:pt x="13" y="2101"/>
                  </a:lnTo>
                  <a:lnTo>
                    <a:pt x="23" y="2104"/>
                  </a:lnTo>
                  <a:lnTo>
                    <a:pt x="35" y="2106"/>
                  </a:lnTo>
                  <a:lnTo>
                    <a:pt x="46" y="2109"/>
                  </a:lnTo>
                  <a:lnTo>
                    <a:pt x="58" y="2110"/>
                  </a:lnTo>
                  <a:lnTo>
                    <a:pt x="68" y="2112"/>
                  </a:lnTo>
                  <a:lnTo>
                    <a:pt x="80" y="2117"/>
                  </a:lnTo>
                  <a:lnTo>
                    <a:pt x="91" y="2121"/>
                  </a:lnTo>
                  <a:lnTo>
                    <a:pt x="194" y="2148"/>
                  </a:lnTo>
                  <a:lnTo>
                    <a:pt x="298" y="2180"/>
                  </a:lnTo>
                  <a:lnTo>
                    <a:pt x="400" y="2216"/>
                  </a:lnTo>
                  <a:lnTo>
                    <a:pt x="503" y="2252"/>
                  </a:lnTo>
                  <a:lnTo>
                    <a:pt x="604" y="2285"/>
                  </a:lnTo>
                  <a:lnTo>
                    <a:pt x="705" y="2316"/>
                  </a:lnTo>
                  <a:lnTo>
                    <a:pt x="808" y="2343"/>
                  </a:lnTo>
                  <a:lnTo>
                    <a:pt x="910" y="2364"/>
                  </a:lnTo>
                  <a:lnTo>
                    <a:pt x="940" y="2368"/>
                  </a:lnTo>
                  <a:lnTo>
                    <a:pt x="973" y="2372"/>
                  </a:lnTo>
                  <a:lnTo>
                    <a:pt x="1003" y="2373"/>
                  </a:lnTo>
                  <a:lnTo>
                    <a:pt x="1034" y="2375"/>
                  </a:lnTo>
                  <a:lnTo>
                    <a:pt x="1065" y="2375"/>
                  </a:lnTo>
                  <a:lnTo>
                    <a:pt x="1095" y="2375"/>
                  </a:lnTo>
                  <a:lnTo>
                    <a:pt x="1125" y="2374"/>
                  </a:lnTo>
                  <a:lnTo>
                    <a:pt x="1156" y="2374"/>
                  </a:lnTo>
                  <a:lnTo>
                    <a:pt x="829" y="173"/>
                  </a:lnTo>
                  <a:lnTo>
                    <a:pt x="739" y="174"/>
                  </a:lnTo>
                  <a:lnTo>
                    <a:pt x="649" y="168"/>
                  </a:lnTo>
                  <a:lnTo>
                    <a:pt x="558" y="156"/>
                  </a:lnTo>
                  <a:lnTo>
                    <a:pt x="468" y="140"/>
                  </a:lnTo>
                  <a:lnTo>
                    <a:pt x="375" y="118"/>
                  </a:lnTo>
                  <a:lnTo>
                    <a:pt x="283" y="92"/>
                  </a:lnTo>
                  <a:lnTo>
                    <a:pt x="188" y="62"/>
                  </a:lnTo>
                  <a:lnTo>
                    <a:pt x="95" y="31"/>
                  </a:lnTo>
                  <a:lnTo>
                    <a:pt x="9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5840" y="1964880"/>
              <a:ext cx="10080" cy="322560"/>
            </a:xfrm>
            <a:custGeom>
              <a:avLst/>
              <a:gdLst/>
              <a:ahLst/>
              <a:rect l="l" t="t" r="r" b="b"/>
              <a:pathLst>
                <a:path w="71" h="2336">
                  <a:moveTo>
                    <a:pt x="0" y="12"/>
                  </a:moveTo>
                  <a:lnTo>
                    <a:pt x="0" y="51"/>
                  </a:lnTo>
                  <a:lnTo>
                    <a:pt x="0" y="91"/>
                  </a:lnTo>
                  <a:lnTo>
                    <a:pt x="0" y="132"/>
                  </a:lnTo>
                  <a:lnTo>
                    <a:pt x="1" y="174"/>
                  </a:lnTo>
                  <a:lnTo>
                    <a:pt x="1" y="213"/>
                  </a:lnTo>
                  <a:lnTo>
                    <a:pt x="2" y="253"/>
                  </a:lnTo>
                  <a:lnTo>
                    <a:pt x="2" y="294"/>
                  </a:lnTo>
                  <a:lnTo>
                    <a:pt x="3" y="335"/>
                  </a:lnTo>
                  <a:lnTo>
                    <a:pt x="7" y="584"/>
                  </a:lnTo>
                  <a:lnTo>
                    <a:pt x="10" y="833"/>
                  </a:lnTo>
                  <a:lnTo>
                    <a:pt x="15" y="1081"/>
                  </a:lnTo>
                  <a:lnTo>
                    <a:pt x="18" y="1331"/>
                  </a:lnTo>
                  <a:lnTo>
                    <a:pt x="22" y="1578"/>
                  </a:lnTo>
                  <a:lnTo>
                    <a:pt x="26" y="1829"/>
                  </a:lnTo>
                  <a:lnTo>
                    <a:pt x="30" y="2082"/>
                  </a:lnTo>
                  <a:lnTo>
                    <a:pt x="34" y="2336"/>
                  </a:lnTo>
                  <a:lnTo>
                    <a:pt x="44" y="2333"/>
                  </a:lnTo>
                  <a:lnTo>
                    <a:pt x="53" y="2329"/>
                  </a:lnTo>
                  <a:lnTo>
                    <a:pt x="62" y="2325"/>
                  </a:lnTo>
                  <a:lnTo>
                    <a:pt x="71" y="2321"/>
                  </a:lnTo>
                  <a:lnTo>
                    <a:pt x="66" y="2025"/>
                  </a:lnTo>
                  <a:lnTo>
                    <a:pt x="62" y="1734"/>
                  </a:lnTo>
                  <a:lnTo>
                    <a:pt x="56" y="1442"/>
                  </a:lnTo>
                  <a:lnTo>
                    <a:pt x="53" y="1155"/>
                  </a:lnTo>
                  <a:lnTo>
                    <a:pt x="48" y="866"/>
                  </a:lnTo>
                  <a:lnTo>
                    <a:pt x="45" y="579"/>
                  </a:lnTo>
                  <a:lnTo>
                    <a:pt x="40" y="289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39760" y="1959120"/>
              <a:ext cx="210240" cy="340920"/>
            </a:xfrm>
            <a:custGeom>
              <a:avLst/>
              <a:gdLst/>
              <a:ahLst/>
              <a:rect l="l" t="t" r="r" b="b"/>
              <a:pathLst>
                <a:path w="1462" h="2468">
                  <a:moveTo>
                    <a:pt x="0" y="1"/>
                  </a:moveTo>
                  <a:lnTo>
                    <a:pt x="407" y="2199"/>
                  </a:lnTo>
                  <a:lnTo>
                    <a:pt x="428" y="2197"/>
                  </a:lnTo>
                  <a:lnTo>
                    <a:pt x="451" y="2197"/>
                  </a:lnTo>
                  <a:lnTo>
                    <a:pt x="471" y="2197"/>
                  </a:lnTo>
                  <a:lnTo>
                    <a:pt x="493" y="2200"/>
                  </a:lnTo>
                  <a:lnTo>
                    <a:pt x="515" y="2200"/>
                  </a:lnTo>
                  <a:lnTo>
                    <a:pt x="537" y="2202"/>
                  </a:lnTo>
                  <a:lnTo>
                    <a:pt x="558" y="2206"/>
                  </a:lnTo>
                  <a:lnTo>
                    <a:pt x="582" y="2209"/>
                  </a:lnTo>
                  <a:lnTo>
                    <a:pt x="690" y="2230"/>
                  </a:lnTo>
                  <a:lnTo>
                    <a:pt x="800" y="2259"/>
                  </a:lnTo>
                  <a:lnTo>
                    <a:pt x="909" y="2293"/>
                  </a:lnTo>
                  <a:lnTo>
                    <a:pt x="1020" y="2331"/>
                  </a:lnTo>
                  <a:lnTo>
                    <a:pt x="1130" y="2367"/>
                  </a:lnTo>
                  <a:lnTo>
                    <a:pt x="1241" y="2405"/>
                  </a:lnTo>
                  <a:lnTo>
                    <a:pt x="1351" y="2439"/>
                  </a:lnTo>
                  <a:lnTo>
                    <a:pt x="1462" y="2468"/>
                  </a:lnTo>
                  <a:lnTo>
                    <a:pt x="1461" y="2335"/>
                  </a:lnTo>
                  <a:lnTo>
                    <a:pt x="1461" y="2204"/>
                  </a:lnTo>
                  <a:lnTo>
                    <a:pt x="1460" y="2073"/>
                  </a:lnTo>
                  <a:lnTo>
                    <a:pt x="1460" y="1944"/>
                  </a:lnTo>
                  <a:lnTo>
                    <a:pt x="1459" y="1813"/>
                  </a:lnTo>
                  <a:lnTo>
                    <a:pt x="1459" y="1683"/>
                  </a:lnTo>
                  <a:lnTo>
                    <a:pt x="1459" y="1549"/>
                  </a:lnTo>
                  <a:lnTo>
                    <a:pt x="1459" y="1418"/>
                  </a:lnTo>
                  <a:lnTo>
                    <a:pt x="1459" y="1410"/>
                  </a:lnTo>
                  <a:lnTo>
                    <a:pt x="1459" y="1403"/>
                  </a:lnTo>
                  <a:lnTo>
                    <a:pt x="1459" y="1395"/>
                  </a:lnTo>
                  <a:lnTo>
                    <a:pt x="1459" y="1389"/>
                  </a:lnTo>
                  <a:lnTo>
                    <a:pt x="1459" y="1374"/>
                  </a:lnTo>
                  <a:lnTo>
                    <a:pt x="1459" y="1361"/>
                  </a:lnTo>
                  <a:lnTo>
                    <a:pt x="1459" y="1351"/>
                  </a:lnTo>
                  <a:lnTo>
                    <a:pt x="1459" y="1340"/>
                  </a:lnTo>
                  <a:lnTo>
                    <a:pt x="1333" y="294"/>
                  </a:lnTo>
                  <a:lnTo>
                    <a:pt x="1240" y="284"/>
                  </a:lnTo>
                  <a:lnTo>
                    <a:pt x="1148" y="268"/>
                  </a:lnTo>
                  <a:lnTo>
                    <a:pt x="1054" y="247"/>
                  </a:lnTo>
                  <a:lnTo>
                    <a:pt x="962" y="223"/>
                  </a:lnTo>
                  <a:lnTo>
                    <a:pt x="866" y="193"/>
                  </a:lnTo>
                  <a:lnTo>
                    <a:pt x="772" y="162"/>
                  </a:lnTo>
                  <a:lnTo>
                    <a:pt x="675" y="130"/>
                  </a:lnTo>
                  <a:lnTo>
                    <a:pt x="581" y="99"/>
                  </a:lnTo>
                  <a:lnTo>
                    <a:pt x="505" y="73"/>
                  </a:lnTo>
                  <a:lnTo>
                    <a:pt x="430" y="53"/>
                  </a:lnTo>
                  <a:lnTo>
                    <a:pt x="356" y="34"/>
                  </a:lnTo>
                  <a:lnTo>
                    <a:pt x="284" y="20"/>
                  </a:lnTo>
                  <a:lnTo>
                    <a:pt x="212" y="9"/>
                  </a:lnTo>
                  <a:lnTo>
                    <a:pt x="141" y="2"/>
                  </a:lnTo>
                  <a:lnTo>
                    <a:pt x="7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32000" y="2000160"/>
              <a:ext cx="17640" cy="144360"/>
            </a:xfrm>
            <a:custGeom>
              <a:avLst/>
              <a:gdLst/>
              <a:ahLst/>
              <a:rect l="l" t="t" r="r" b="b"/>
              <a:pathLst>
                <a:path w="126" h="1046">
                  <a:moveTo>
                    <a:pt x="119" y="0"/>
                  </a:moveTo>
                  <a:lnTo>
                    <a:pt x="103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26" y="1046"/>
                  </a:lnTo>
                  <a:lnTo>
                    <a:pt x="124" y="914"/>
                  </a:lnTo>
                  <a:lnTo>
                    <a:pt x="123" y="785"/>
                  </a:lnTo>
                  <a:lnTo>
                    <a:pt x="121" y="655"/>
                  </a:lnTo>
                  <a:lnTo>
                    <a:pt x="121" y="526"/>
                  </a:lnTo>
                  <a:lnTo>
                    <a:pt x="120" y="396"/>
                  </a:lnTo>
                  <a:lnTo>
                    <a:pt x="120" y="264"/>
                  </a:lnTo>
                  <a:lnTo>
                    <a:pt x="119" y="133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01240" y="1959480"/>
              <a:ext cx="96840" cy="326160"/>
            </a:xfrm>
            <a:custGeom>
              <a:avLst/>
              <a:gdLst/>
              <a:ahLst/>
              <a:rect l="l" t="t" r="r" b="b"/>
              <a:pathLst>
                <a:path w="675" h="2361">
                  <a:moveTo>
                    <a:pt x="0" y="40"/>
                  </a:moveTo>
                  <a:lnTo>
                    <a:pt x="3" y="329"/>
                  </a:lnTo>
                  <a:lnTo>
                    <a:pt x="8" y="619"/>
                  </a:lnTo>
                  <a:lnTo>
                    <a:pt x="11" y="906"/>
                  </a:lnTo>
                  <a:lnTo>
                    <a:pt x="16" y="1195"/>
                  </a:lnTo>
                  <a:lnTo>
                    <a:pt x="19" y="1482"/>
                  </a:lnTo>
                  <a:lnTo>
                    <a:pt x="25" y="1774"/>
                  </a:lnTo>
                  <a:lnTo>
                    <a:pt x="29" y="2065"/>
                  </a:lnTo>
                  <a:lnTo>
                    <a:pt x="34" y="2361"/>
                  </a:lnTo>
                  <a:lnTo>
                    <a:pt x="113" y="2329"/>
                  </a:lnTo>
                  <a:lnTo>
                    <a:pt x="192" y="2298"/>
                  </a:lnTo>
                  <a:lnTo>
                    <a:pt x="272" y="2271"/>
                  </a:lnTo>
                  <a:lnTo>
                    <a:pt x="350" y="2247"/>
                  </a:lnTo>
                  <a:lnTo>
                    <a:pt x="429" y="2226"/>
                  </a:lnTo>
                  <a:lnTo>
                    <a:pt x="510" y="2213"/>
                  </a:lnTo>
                  <a:lnTo>
                    <a:pt x="592" y="2200"/>
                  </a:lnTo>
                  <a:lnTo>
                    <a:pt x="675" y="2198"/>
                  </a:lnTo>
                  <a:lnTo>
                    <a:pt x="268" y="0"/>
                  </a:lnTo>
                  <a:lnTo>
                    <a:pt x="235" y="0"/>
                  </a:lnTo>
                  <a:lnTo>
                    <a:pt x="201" y="3"/>
                  </a:lnTo>
                  <a:lnTo>
                    <a:pt x="167" y="5"/>
                  </a:lnTo>
                  <a:lnTo>
                    <a:pt x="135" y="11"/>
                  </a:lnTo>
                  <a:lnTo>
                    <a:pt x="100" y="15"/>
                  </a:lnTo>
                  <a:lnTo>
                    <a:pt x="67" y="23"/>
                  </a:lnTo>
                  <a:lnTo>
                    <a:pt x="33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78040" y="2009880"/>
              <a:ext cx="54360" cy="55080"/>
            </a:xfrm>
            <a:custGeom>
              <a:avLst/>
              <a:gdLst/>
              <a:ahLst/>
              <a:rect l="l" t="t" r="r" b="b"/>
              <a:pathLst>
                <a:path w="378" h="400">
                  <a:moveTo>
                    <a:pt x="255" y="90"/>
                  </a:moveTo>
                  <a:lnTo>
                    <a:pt x="266" y="93"/>
                  </a:lnTo>
                  <a:lnTo>
                    <a:pt x="274" y="98"/>
                  </a:lnTo>
                  <a:lnTo>
                    <a:pt x="281" y="104"/>
                  </a:lnTo>
                  <a:lnTo>
                    <a:pt x="287" y="110"/>
                  </a:lnTo>
                  <a:lnTo>
                    <a:pt x="291" y="117"/>
                  </a:lnTo>
                  <a:lnTo>
                    <a:pt x="293" y="124"/>
                  </a:lnTo>
                  <a:lnTo>
                    <a:pt x="294" y="130"/>
                  </a:lnTo>
                  <a:lnTo>
                    <a:pt x="295" y="136"/>
                  </a:lnTo>
                  <a:lnTo>
                    <a:pt x="299" y="136"/>
                  </a:lnTo>
                  <a:lnTo>
                    <a:pt x="308" y="136"/>
                  </a:lnTo>
                  <a:lnTo>
                    <a:pt x="322" y="136"/>
                  </a:lnTo>
                  <a:lnTo>
                    <a:pt x="337" y="136"/>
                  </a:lnTo>
                  <a:lnTo>
                    <a:pt x="352" y="136"/>
                  </a:lnTo>
                  <a:lnTo>
                    <a:pt x="365" y="136"/>
                  </a:lnTo>
                  <a:lnTo>
                    <a:pt x="375" y="136"/>
                  </a:lnTo>
                  <a:lnTo>
                    <a:pt x="378" y="136"/>
                  </a:lnTo>
                  <a:lnTo>
                    <a:pt x="370" y="265"/>
                  </a:lnTo>
                  <a:lnTo>
                    <a:pt x="367" y="265"/>
                  </a:lnTo>
                  <a:lnTo>
                    <a:pt x="357" y="265"/>
                  </a:lnTo>
                  <a:lnTo>
                    <a:pt x="345" y="265"/>
                  </a:lnTo>
                  <a:lnTo>
                    <a:pt x="330" y="265"/>
                  </a:lnTo>
                  <a:lnTo>
                    <a:pt x="314" y="265"/>
                  </a:lnTo>
                  <a:lnTo>
                    <a:pt x="301" y="265"/>
                  </a:lnTo>
                  <a:lnTo>
                    <a:pt x="292" y="265"/>
                  </a:lnTo>
                  <a:lnTo>
                    <a:pt x="288" y="265"/>
                  </a:lnTo>
                  <a:lnTo>
                    <a:pt x="285" y="276"/>
                  </a:lnTo>
                  <a:lnTo>
                    <a:pt x="279" y="286"/>
                  </a:lnTo>
                  <a:lnTo>
                    <a:pt x="273" y="294"/>
                  </a:lnTo>
                  <a:lnTo>
                    <a:pt x="266" y="299"/>
                  </a:lnTo>
                  <a:lnTo>
                    <a:pt x="259" y="304"/>
                  </a:lnTo>
                  <a:lnTo>
                    <a:pt x="253" y="306"/>
                  </a:lnTo>
                  <a:lnTo>
                    <a:pt x="247" y="309"/>
                  </a:lnTo>
                  <a:lnTo>
                    <a:pt x="241" y="310"/>
                  </a:lnTo>
                  <a:lnTo>
                    <a:pt x="240" y="324"/>
                  </a:lnTo>
                  <a:lnTo>
                    <a:pt x="239" y="355"/>
                  </a:lnTo>
                  <a:lnTo>
                    <a:pt x="238" y="386"/>
                  </a:lnTo>
                  <a:lnTo>
                    <a:pt x="236" y="400"/>
                  </a:lnTo>
                  <a:lnTo>
                    <a:pt x="117" y="397"/>
                  </a:lnTo>
                  <a:lnTo>
                    <a:pt x="118" y="383"/>
                  </a:lnTo>
                  <a:lnTo>
                    <a:pt x="119" y="353"/>
                  </a:lnTo>
                  <a:lnTo>
                    <a:pt x="120" y="322"/>
                  </a:lnTo>
                  <a:lnTo>
                    <a:pt x="121" y="309"/>
                  </a:lnTo>
                  <a:lnTo>
                    <a:pt x="111" y="305"/>
                  </a:lnTo>
                  <a:lnTo>
                    <a:pt x="102" y="301"/>
                  </a:lnTo>
                  <a:lnTo>
                    <a:pt x="96" y="295"/>
                  </a:lnTo>
                  <a:lnTo>
                    <a:pt x="90" y="289"/>
                  </a:lnTo>
                  <a:lnTo>
                    <a:pt x="87" y="282"/>
                  </a:lnTo>
                  <a:lnTo>
                    <a:pt x="84" y="275"/>
                  </a:lnTo>
                  <a:lnTo>
                    <a:pt x="82" y="269"/>
                  </a:lnTo>
                  <a:lnTo>
                    <a:pt x="81" y="264"/>
                  </a:lnTo>
                  <a:lnTo>
                    <a:pt x="77" y="264"/>
                  </a:lnTo>
                  <a:lnTo>
                    <a:pt x="68" y="262"/>
                  </a:lnTo>
                  <a:lnTo>
                    <a:pt x="56" y="262"/>
                  </a:lnTo>
                  <a:lnTo>
                    <a:pt x="41" y="262"/>
                  </a:lnTo>
                  <a:lnTo>
                    <a:pt x="26" y="262"/>
                  </a:lnTo>
                  <a:lnTo>
                    <a:pt x="13" y="262"/>
                  </a:lnTo>
                  <a:lnTo>
                    <a:pt x="4" y="262"/>
                  </a:lnTo>
                  <a:lnTo>
                    <a:pt x="0" y="262"/>
                  </a:lnTo>
                  <a:lnTo>
                    <a:pt x="7" y="133"/>
                  </a:lnTo>
                  <a:lnTo>
                    <a:pt x="11" y="133"/>
                  </a:lnTo>
                  <a:lnTo>
                    <a:pt x="20" y="133"/>
                  </a:lnTo>
                  <a:lnTo>
                    <a:pt x="33" y="133"/>
                  </a:lnTo>
                  <a:lnTo>
                    <a:pt x="47" y="133"/>
                  </a:lnTo>
                  <a:lnTo>
                    <a:pt x="62" y="135"/>
                  </a:lnTo>
                  <a:lnTo>
                    <a:pt x="75" y="135"/>
                  </a:lnTo>
                  <a:lnTo>
                    <a:pt x="83" y="135"/>
                  </a:lnTo>
                  <a:lnTo>
                    <a:pt x="87" y="135"/>
                  </a:lnTo>
                  <a:lnTo>
                    <a:pt x="88" y="129"/>
                  </a:lnTo>
                  <a:lnTo>
                    <a:pt x="90" y="123"/>
                  </a:lnTo>
                  <a:lnTo>
                    <a:pt x="94" y="116"/>
                  </a:lnTo>
                  <a:lnTo>
                    <a:pt x="99" y="109"/>
                  </a:lnTo>
                  <a:lnTo>
                    <a:pt x="105" y="102"/>
                  </a:lnTo>
                  <a:lnTo>
                    <a:pt x="113" y="97"/>
                  </a:lnTo>
                  <a:lnTo>
                    <a:pt x="122" y="92"/>
                  </a:lnTo>
                  <a:lnTo>
                    <a:pt x="135" y="89"/>
                  </a:lnTo>
                  <a:lnTo>
                    <a:pt x="136" y="75"/>
                  </a:lnTo>
                  <a:lnTo>
                    <a:pt x="137" y="45"/>
                  </a:lnTo>
                  <a:lnTo>
                    <a:pt x="138" y="14"/>
                  </a:lnTo>
                  <a:lnTo>
                    <a:pt x="140" y="0"/>
                  </a:lnTo>
                  <a:lnTo>
                    <a:pt x="259" y="1"/>
                  </a:lnTo>
                  <a:lnTo>
                    <a:pt x="258" y="15"/>
                  </a:lnTo>
                  <a:lnTo>
                    <a:pt x="257" y="45"/>
                  </a:lnTo>
                  <a:lnTo>
                    <a:pt x="256" y="76"/>
                  </a:lnTo>
                  <a:lnTo>
                    <a:pt x="255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79840" y="2011320"/>
              <a:ext cx="50760" cy="51840"/>
            </a:xfrm>
            <a:custGeom>
              <a:avLst/>
              <a:gdLst/>
              <a:ahLst/>
              <a:rect l="l" t="t" r="r" b="b"/>
              <a:pathLst>
                <a:path w="353" h="376">
                  <a:moveTo>
                    <a:pt x="274" y="136"/>
                  </a:moveTo>
                  <a:lnTo>
                    <a:pt x="353" y="137"/>
                  </a:lnTo>
                  <a:lnTo>
                    <a:pt x="348" y="242"/>
                  </a:lnTo>
                  <a:lnTo>
                    <a:pt x="268" y="241"/>
                  </a:lnTo>
                  <a:lnTo>
                    <a:pt x="264" y="257"/>
                  </a:lnTo>
                  <a:lnTo>
                    <a:pt x="258" y="269"/>
                  </a:lnTo>
                  <a:lnTo>
                    <a:pt x="250" y="277"/>
                  </a:lnTo>
                  <a:lnTo>
                    <a:pt x="242" y="283"/>
                  </a:lnTo>
                  <a:lnTo>
                    <a:pt x="234" y="286"/>
                  </a:lnTo>
                  <a:lnTo>
                    <a:pt x="227" y="287"/>
                  </a:lnTo>
                  <a:lnTo>
                    <a:pt x="222" y="288"/>
                  </a:lnTo>
                  <a:lnTo>
                    <a:pt x="220" y="288"/>
                  </a:lnTo>
                  <a:lnTo>
                    <a:pt x="214" y="376"/>
                  </a:lnTo>
                  <a:lnTo>
                    <a:pt x="116" y="375"/>
                  </a:lnTo>
                  <a:lnTo>
                    <a:pt x="122" y="288"/>
                  </a:lnTo>
                  <a:lnTo>
                    <a:pt x="107" y="285"/>
                  </a:lnTo>
                  <a:lnTo>
                    <a:pt x="97" y="279"/>
                  </a:lnTo>
                  <a:lnTo>
                    <a:pt x="88" y="271"/>
                  </a:lnTo>
                  <a:lnTo>
                    <a:pt x="83" y="263"/>
                  </a:lnTo>
                  <a:lnTo>
                    <a:pt x="80" y="254"/>
                  </a:lnTo>
                  <a:lnTo>
                    <a:pt x="78" y="247"/>
                  </a:lnTo>
                  <a:lnTo>
                    <a:pt x="78" y="242"/>
                  </a:lnTo>
                  <a:lnTo>
                    <a:pt x="78" y="240"/>
                  </a:lnTo>
                  <a:lnTo>
                    <a:pt x="0" y="239"/>
                  </a:lnTo>
                  <a:lnTo>
                    <a:pt x="6" y="134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5" y="127"/>
                  </a:lnTo>
                  <a:lnTo>
                    <a:pt x="87" y="120"/>
                  </a:lnTo>
                  <a:lnTo>
                    <a:pt x="91" y="112"/>
                  </a:lnTo>
                  <a:lnTo>
                    <a:pt x="97" y="103"/>
                  </a:lnTo>
                  <a:lnTo>
                    <a:pt x="106" y="96"/>
                  </a:lnTo>
                  <a:lnTo>
                    <a:pt x="117" y="90"/>
                  </a:lnTo>
                  <a:lnTo>
                    <a:pt x="133" y="87"/>
                  </a:lnTo>
                  <a:lnTo>
                    <a:pt x="138" y="0"/>
                  </a:lnTo>
                  <a:lnTo>
                    <a:pt x="236" y="2"/>
                  </a:lnTo>
                  <a:lnTo>
                    <a:pt x="231" y="87"/>
                  </a:lnTo>
                  <a:lnTo>
                    <a:pt x="246" y="91"/>
                  </a:lnTo>
                  <a:lnTo>
                    <a:pt x="257" y="97"/>
                  </a:lnTo>
                  <a:lnTo>
                    <a:pt x="265" y="105"/>
                  </a:lnTo>
                  <a:lnTo>
                    <a:pt x="269" y="114"/>
                  </a:lnTo>
                  <a:lnTo>
                    <a:pt x="273" y="122"/>
                  </a:lnTo>
                  <a:lnTo>
                    <a:pt x="274" y="129"/>
                  </a:lnTo>
                  <a:lnTo>
                    <a:pt x="274" y="134"/>
                  </a:lnTo>
                  <a:lnTo>
                    <a:pt x="274" y="13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19440" y="2029320"/>
              <a:ext cx="12600" cy="180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86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9" y="15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88" y="2"/>
                  </a:lnTo>
                  <a:lnTo>
                    <a:pt x="79" y="0"/>
                  </a:lnTo>
                  <a:lnTo>
                    <a:pt x="86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28800" y="2030400"/>
              <a:ext cx="2520" cy="1512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7" y="112"/>
                  </a:moveTo>
                  <a:lnTo>
                    <a:pt x="14" y="105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105"/>
                  </a:lnTo>
                  <a:lnTo>
                    <a:pt x="7" y="98"/>
                  </a:lnTo>
                  <a:lnTo>
                    <a:pt x="7" y="113"/>
                  </a:lnTo>
                  <a:lnTo>
                    <a:pt x="14" y="113"/>
                  </a:lnTo>
                  <a:lnTo>
                    <a:pt x="14" y="105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17640" y="2043720"/>
              <a:ext cx="12240" cy="21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14" y="9"/>
                  </a:moveTo>
                  <a:lnTo>
                    <a:pt x="7" y="15"/>
                  </a:lnTo>
                  <a:lnTo>
                    <a:pt x="87" y="16"/>
                  </a:lnTo>
                  <a:lnTo>
                    <a:pt x="87" y="2"/>
                  </a:lnTo>
                  <a:lnTo>
                    <a:pt x="7" y="1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0440" y="2044440"/>
              <a:ext cx="9000" cy="7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14" y="48"/>
                  </a:moveTo>
                  <a:lnTo>
                    <a:pt x="7" y="56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23" y="53"/>
                  </a:lnTo>
                  <a:lnTo>
                    <a:pt x="32" y="50"/>
                  </a:lnTo>
                  <a:lnTo>
                    <a:pt x="41" y="43"/>
                  </a:lnTo>
                  <a:lnTo>
                    <a:pt x="51" y="33"/>
                  </a:lnTo>
                  <a:lnTo>
                    <a:pt x="58" y="20"/>
                  </a:lnTo>
                  <a:lnTo>
                    <a:pt x="62" y="2"/>
                  </a:lnTo>
                  <a:lnTo>
                    <a:pt x="48" y="0"/>
                  </a:lnTo>
                  <a:lnTo>
                    <a:pt x="44" y="15"/>
                  </a:lnTo>
                  <a:lnTo>
                    <a:pt x="39" y="24"/>
                  </a:lnTo>
                  <a:lnTo>
                    <a:pt x="32" y="31"/>
                  </a:lnTo>
                  <a:lnTo>
                    <a:pt x="25" y="36"/>
                  </a:lnTo>
                  <a:lnTo>
                    <a:pt x="18" y="39"/>
                  </a:lnTo>
                  <a:lnTo>
                    <a:pt x="13" y="40"/>
                  </a:lnTo>
                  <a:lnTo>
                    <a:pt x="8" y="41"/>
                  </a:lnTo>
                  <a:lnTo>
                    <a:pt x="7" y="40"/>
                  </a:lnTo>
                  <a:lnTo>
                    <a:pt x="0" y="48"/>
                  </a:lnTo>
                  <a:lnTo>
                    <a:pt x="7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9720" y="2051280"/>
              <a:ext cx="2520" cy="1296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7" y="95"/>
                  </a:moveTo>
                  <a:lnTo>
                    <a:pt x="14" y="88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88"/>
                  </a:lnTo>
                  <a:lnTo>
                    <a:pt x="7" y="81"/>
                  </a:lnTo>
                  <a:lnTo>
                    <a:pt x="7" y="96"/>
                  </a:lnTo>
                  <a:lnTo>
                    <a:pt x="14" y="96"/>
                  </a:lnTo>
                  <a:lnTo>
                    <a:pt x="14" y="88"/>
                  </a:lnTo>
                  <a:lnTo>
                    <a:pt x="7" y="9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95320" y="2062080"/>
              <a:ext cx="15120" cy="1800"/>
            </a:xfrm>
            <a:custGeom>
              <a:avLst/>
              <a:gdLst/>
              <a:ahLst/>
              <a:rect l="l" t="t" r="r" b="b"/>
              <a:pathLst>
                <a:path w="106" h="15">
                  <a:moveTo>
                    <a:pt x="1" y="7"/>
                  </a:moveTo>
                  <a:lnTo>
                    <a:pt x="8" y="14"/>
                  </a:lnTo>
                  <a:lnTo>
                    <a:pt x="106" y="15"/>
                  </a:lnTo>
                  <a:lnTo>
                    <a:pt x="106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95680" y="2050200"/>
              <a:ext cx="2880" cy="126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13" y="14"/>
                  </a:moveTo>
                  <a:lnTo>
                    <a:pt x="6" y="7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89920" y="2043360"/>
              <a:ext cx="7200" cy="864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8" y="15"/>
                  </a:moveTo>
                  <a:lnTo>
                    <a:pt x="1" y="8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3"/>
                  </a:lnTo>
                  <a:lnTo>
                    <a:pt x="13" y="44"/>
                  </a:lnTo>
                  <a:lnTo>
                    <a:pt x="22" y="53"/>
                  </a:lnTo>
                  <a:lnTo>
                    <a:pt x="35" y="60"/>
                  </a:lnTo>
                  <a:lnTo>
                    <a:pt x="52" y="63"/>
                  </a:lnTo>
                  <a:lnTo>
                    <a:pt x="52" y="49"/>
                  </a:lnTo>
                  <a:lnTo>
                    <a:pt x="39" y="46"/>
                  </a:lnTo>
                  <a:lnTo>
                    <a:pt x="31" y="41"/>
                  </a:lnTo>
                  <a:lnTo>
                    <a:pt x="24" y="34"/>
                  </a:lnTo>
                  <a:lnTo>
                    <a:pt x="20" y="29"/>
                  </a:lnTo>
                  <a:lnTo>
                    <a:pt x="17" y="21"/>
                  </a:lnTo>
                  <a:lnTo>
                    <a:pt x="15" y="14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8" y="1"/>
                  </a:lnTo>
                  <a:lnTo>
                    <a:pt x="16" y="8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78760" y="2043360"/>
              <a:ext cx="12240" cy="180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1" y="7"/>
                  </a:moveTo>
                  <a:lnTo>
                    <a:pt x="8" y="14"/>
                  </a:lnTo>
                  <a:lnTo>
                    <a:pt x="86" y="15"/>
                  </a:lnTo>
                  <a:lnTo>
                    <a:pt x="86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8760" y="2028600"/>
              <a:ext cx="2520" cy="1512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6" y="8"/>
                  </a:lnTo>
                  <a:lnTo>
                    <a:pt x="0" y="113"/>
                  </a:lnTo>
                  <a:lnTo>
                    <a:pt x="14" y="113"/>
                  </a:lnTo>
                  <a:lnTo>
                    <a:pt x="19" y="8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6" y="1"/>
                  </a:lnTo>
                  <a:lnTo>
                    <a:pt x="6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80920" y="2028600"/>
              <a:ext cx="11880" cy="216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71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8" y="16"/>
                  </a:lnTo>
                  <a:lnTo>
                    <a:pt x="85" y="8"/>
                  </a:lnTo>
                  <a:lnTo>
                    <a:pt x="78" y="16"/>
                  </a:lnTo>
                  <a:lnTo>
                    <a:pt x="85" y="15"/>
                  </a:lnTo>
                  <a:lnTo>
                    <a:pt x="85" y="8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90640" y="2022480"/>
              <a:ext cx="9000" cy="720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49" y="7"/>
                  </a:moveTo>
                  <a:lnTo>
                    <a:pt x="56" y="0"/>
                  </a:lnTo>
                  <a:lnTo>
                    <a:pt x="38" y="3"/>
                  </a:lnTo>
                  <a:lnTo>
                    <a:pt x="25" y="10"/>
                  </a:lnTo>
                  <a:lnTo>
                    <a:pt x="14" y="18"/>
                  </a:lnTo>
                  <a:lnTo>
                    <a:pt x="7" y="29"/>
                  </a:lnTo>
                  <a:lnTo>
                    <a:pt x="3" y="38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7" y="42"/>
                  </a:lnTo>
                  <a:lnTo>
                    <a:pt x="21" y="36"/>
                  </a:lnTo>
                  <a:lnTo>
                    <a:pt x="25" y="28"/>
                  </a:lnTo>
                  <a:lnTo>
                    <a:pt x="32" y="22"/>
                  </a:lnTo>
                  <a:lnTo>
                    <a:pt x="43" y="17"/>
                  </a:lnTo>
                  <a:lnTo>
                    <a:pt x="56" y="14"/>
                  </a:lnTo>
                  <a:lnTo>
                    <a:pt x="63" y="7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3" y="7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98200" y="2010240"/>
              <a:ext cx="2520" cy="12960"/>
            </a:xfrm>
            <a:custGeom>
              <a:avLst/>
              <a:gdLst/>
              <a:ahLst/>
              <a:rect l="l" t="t" r="r" b="b"/>
              <a:pathLst>
                <a:path w="19" h="95">
                  <a:moveTo>
                    <a:pt x="12" y="1"/>
                  </a:moveTo>
                  <a:lnTo>
                    <a:pt x="5" y="8"/>
                  </a:lnTo>
                  <a:lnTo>
                    <a:pt x="0" y="95"/>
                  </a:lnTo>
                  <a:lnTo>
                    <a:pt x="14" y="95"/>
                  </a:lnTo>
                  <a:lnTo>
                    <a:pt x="19" y="8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640" y="2010600"/>
              <a:ext cx="15120" cy="1800"/>
            </a:xfrm>
            <a:custGeom>
              <a:avLst/>
              <a:gdLst/>
              <a:ahLst/>
              <a:rect l="l" t="t" r="r" b="b"/>
              <a:pathLst>
                <a:path w="106" h="15">
                  <a:moveTo>
                    <a:pt x="105" y="9"/>
                  </a:moveTo>
                  <a:lnTo>
                    <a:pt x="98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98" y="15"/>
                  </a:lnTo>
                  <a:lnTo>
                    <a:pt x="91" y="9"/>
                  </a:lnTo>
                  <a:lnTo>
                    <a:pt x="105" y="9"/>
                  </a:lnTo>
                  <a:lnTo>
                    <a:pt x="106" y="2"/>
                  </a:lnTo>
                  <a:lnTo>
                    <a:pt x="98" y="0"/>
                  </a:lnTo>
                  <a:lnTo>
                    <a:pt x="105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12240" y="2011680"/>
              <a:ext cx="2520" cy="12600"/>
            </a:xfrm>
            <a:custGeom>
              <a:avLst/>
              <a:gdLst/>
              <a:ahLst/>
              <a:rect l="l" t="t" r="r" b="b"/>
              <a:pathLst>
                <a:path w="20" h="92">
                  <a:moveTo>
                    <a:pt x="9" y="78"/>
                  </a:moveTo>
                  <a:lnTo>
                    <a:pt x="15" y="85"/>
                  </a:lnTo>
                  <a:lnTo>
                    <a:pt x="20" y="0"/>
                  </a:lnTo>
                  <a:lnTo>
                    <a:pt x="6" y="0"/>
                  </a:lnTo>
                  <a:lnTo>
                    <a:pt x="1" y="85"/>
                  </a:lnTo>
                  <a:lnTo>
                    <a:pt x="7" y="92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7" y="92"/>
                  </a:lnTo>
                  <a:lnTo>
                    <a:pt x="9" y="7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12960" y="2022480"/>
              <a:ext cx="7200" cy="864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4" y="49"/>
                  </a:moveTo>
                  <a:lnTo>
                    <a:pt x="51" y="56"/>
                  </a:lnTo>
                  <a:lnTo>
                    <a:pt x="52" y="54"/>
                  </a:lnTo>
                  <a:lnTo>
                    <a:pt x="51" y="49"/>
                  </a:lnTo>
                  <a:lnTo>
                    <a:pt x="50" y="40"/>
                  </a:lnTo>
                  <a:lnTo>
                    <a:pt x="46" y="32"/>
                  </a:lnTo>
                  <a:lnTo>
                    <a:pt x="41" y="21"/>
                  </a:lnTo>
                  <a:lnTo>
                    <a:pt x="31" y="11"/>
                  </a:lnTo>
                  <a:lnTo>
                    <a:pt x="19" y="4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4" y="18"/>
                  </a:lnTo>
                  <a:lnTo>
                    <a:pt x="22" y="23"/>
                  </a:lnTo>
                  <a:lnTo>
                    <a:pt x="29" y="30"/>
                  </a:lnTo>
                  <a:lnTo>
                    <a:pt x="32" y="37"/>
                  </a:lnTo>
                  <a:lnTo>
                    <a:pt x="36" y="45"/>
                  </a:lnTo>
                  <a:lnTo>
                    <a:pt x="37" y="49"/>
                  </a:lnTo>
                  <a:lnTo>
                    <a:pt x="36" y="54"/>
                  </a:lnTo>
                  <a:lnTo>
                    <a:pt x="37" y="56"/>
                  </a:lnTo>
                  <a:lnTo>
                    <a:pt x="44" y="63"/>
                  </a:lnTo>
                  <a:lnTo>
                    <a:pt x="37" y="56"/>
                  </a:lnTo>
                  <a:lnTo>
                    <a:pt x="36" y="63"/>
                  </a:lnTo>
                  <a:lnTo>
                    <a:pt x="44" y="64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82360" y="2013840"/>
              <a:ext cx="45720" cy="46440"/>
            </a:xfrm>
            <a:custGeom>
              <a:avLst/>
              <a:gdLst/>
              <a:ahLst/>
              <a:rect l="l" t="t" r="r" b="b"/>
              <a:pathLst>
                <a:path w="319" h="338">
                  <a:moveTo>
                    <a:pt x="244" y="124"/>
                  </a:moveTo>
                  <a:lnTo>
                    <a:pt x="243" y="131"/>
                  </a:lnTo>
                  <a:lnTo>
                    <a:pt x="319" y="131"/>
                  </a:lnTo>
                  <a:lnTo>
                    <a:pt x="315" y="210"/>
                  </a:lnTo>
                  <a:lnTo>
                    <a:pt x="239" y="209"/>
                  </a:lnTo>
                  <a:lnTo>
                    <a:pt x="239" y="215"/>
                  </a:lnTo>
                  <a:lnTo>
                    <a:pt x="235" y="229"/>
                  </a:lnTo>
                  <a:lnTo>
                    <a:pt x="229" y="239"/>
                  </a:lnTo>
                  <a:lnTo>
                    <a:pt x="223" y="246"/>
                  </a:lnTo>
                  <a:lnTo>
                    <a:pt x="216" y="251"/>
                  </a:lnTo>
                  <a:lnTo>
                    <a:pt x="208" y="254"/>
                  </a:lnTo>
                  <a:lnTo>
                    <a:pt x="202" y="255"/>
                  </a:lnTo>
                  <a:lnTo>
                    <a:pt x="197" y="257"/>
                  </a:lnTo>
                  <a:lnTo>
                    <a:pt x="196" y="257"/>
                  </a:lnTo>
                  <a:lnTo>
                    <a:pt x="190" y="257"/>
                  </a:lnTo>
                  <a:lnTo>
                    <a:pt x="186" y="338"/>
                  </a:lnTo>
                  <a:lnTo>
                    <a:pt x="112" y="338"/>
                  </a:lnTo>
                  <a:lnTo>
                    <a:pt x="117" y="255"/>
                  </a:lnTo>
                  <a:lnTo>
                    <a:pt x="112" y="255"/>
                  </a:lnTo>
                  <a:lnTo>
                    <a:pt x="99" y="253"/>
                  </a:lnTo>
                  <a:lnTo>
                    <a:pt x="90" y="248"/>
                  </a:lnTo>
                  <a:lnTo>
                    <a:pt x="83" y="242"/>
                  </a:lnTo>
                  <a:lnTo>
                    <a:pt x="79" y="233"/>
                  </a:lnTo>
                  <a:lnTo>
                    <a:pt x="75" y="227"/>
                  </a:lnTo>
                  <a:lnTo>
                    <a:pt x="74" y="220"/>
                  </a:lnTo>
                  <a:lnTo>
                    <a:pt x="74" y="215"/>
                  </a:lnTo>
                  <a:lnTo>
                    <a:pt x="74" y="214"/>
                  </a:lnTo>
                  <a:lnTo>
                    <a:pt x="74" y="208"/>
                  </a:lnTo>
                  <a:lnTo>
                    <a:pt x="0" y="207"/>
                  </a:lnTo>
                  <a:lnTo>
                    <a:pt x="5" y="128"/>
                  </a:lnTo>
                  <a:lnTo>
                    <a:pt x="79" y="129"/>
                  </a:lnTo>
                  <a:lnTo>
                    <a:pt x="79" y="123"/>
                  </a:lnTo>
                  <a:lnTo>
                    <a:pt x="79" y="122"/>
                  </a:lnTo>
                  <a:lnTo>
                    <a:pt x="80" y="117"/>
                  </a:lnTo>
                  <a:lnTo>
                    <a:pt x="81" y="110"/>
                  </a:lnTo>
                  <a:lnTo>
                    <a:pt x="84" y="103"/>
                  </a:lnTo>
                  <a:lnTo>
                    <a:pt x="90" y="95"/>
                  </a:lnTo>
                  <a:lnTo>
                    <a:pt x="97" y="88"/>
                  </a:lnTo>
                  <a:lnTo>
                    <a:pt x="107" y="84"/>
                  </a:lnTo>
                  <a:lnTo>
                    <a:pt x="121" y="81"/>
                  </a:lnTo>
                  <a:lnTo>
                    <a:pt x="128" y="81"/>
                  </a:lnTo>
                  <a:lnTo>
                    <a:pt x="133" y="0"/>
                  </a:lnTo>
                  <a:lnTo>
                    <a:pt x="206" y="1"/>
                  </a:lnTo>
                  <a:lnTo>
                    <a:pt x="202" y="81"/>
                  </a:lnTo>
                  <a:lnTo>
                    <a:pt x="206" y="81"/>
                  </a:lnTo>
                  <a:lnTo>
                    <a:pt x="219" y="85"/>
                  </a:lnTo>
                  <a:lnTo>
                    <a:pt x="229" y="91"/>
                  </a:lnTo>
                  <a:lnTo>
                    <a:pt x="235" y="98"/>
                  </a:lnTo>
                  <a:lnTo>
                    <a:pt x="240" y="104"/>
                  </a:lnTo>
                  <a:lnTo>
                    <a:pt x="243" y="113"/>
                  </a:lnTo>
                  <a:lnTo>
                    <a:pt x="244" y="118"/>
                  </a:lnTo>
                  <a:lnTo>
                    <a:pt x="244" y="123"/>
                  </a:lnTo>
                  <a:lnTo>
                    <a:pt x="244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6200" y="2030760"/>
              <a:ext cx="2520" cy="2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6" y="9"/>
                  </a:lnTo>
                  <a:lnTo>
                    <a:pt x="17" y="2"/>
                  </a:lnTo>
                  <a:lnTo>
                    <a:pt x="4" y="0"/>
                  </a:lnTo>
                  <a:lnTo>
                    <a:pt x="2" y="7"/>
                  </a:lnTo>
                  <a:lnTo>
                    <a:pt x="9" y="16"/>
                  </a:lnTo>
                  <a:lnTo>
                    <a:pt x="2" y="7"/>
                  </a:lnTo>
                  <a:lnTo>
                    <a:pt x="0" y="15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17640" y="2030760"/>
              <a:ext cx="11880" cy="216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3" y="8"/>
                  </a:moveTo>
                  <a:lnTo>
                    <a:pt x="7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6" y="16"/>
                  </a:lnTo>
                  <a:lnTo>
                    <a:pt x="69" y="8"/>
                  </a:lnTo>
                  <a:lnTo>
                    <a:pt x="83" y="8"/>
                  </a:lnTo>
                  <a:lnTo>
                    <a:pt x="84" y="1"/>
                  </a:lnTo>
                  <a:lnTo>
                    <a:pt x="76" y="0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7000" y="2031840"/>
              <a:ext cx="2520" cy="11880"/>
            </a:xfrm>
            <a:custGeom>
              <a:avLst/>
              <a:gdLst/>
              <a:ahLst/>
              <a:rect l="l" t="t" r="r" b="b"/>
              <a:pathLst>
                <a:path w="18" h="88">
                  <a:moveTo>
                    <a:pt x="7" y="86"/>
                  </a:moveTo>
                  <a:lnTo>
                    <a:pt x="14" y="79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9"/>
                  </a:lnTo>
                  <a:lnTo>
                    <a:pt x="7" y="73"/>
                  </a:lnTo>
                  <a:lnTo>
                    <a:pt x="7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15480" y="2041560"/>
              <a:ext cx="11880" cy="216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16" y="8"/>
                  </a:moveTo>
                  <a:lnTo>
                    <a:pt x="8" y="15"/>
                  </a:lnTo>
                  <a:lnTo>
                    <a:pt x="84" y="16"/>
                  </a:lnTo>
                  <a:lnTo>
                    <a:pt x="84" y="3"/>
                  </a:lnTo>
                  <a:lnTo>
                    <a:pt x="8" y="1"/>
                  </a:lnTo>
                  <a:lnTo>
                    <a:pt x="0" y="8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15480" y="2043000"/>
              <a:ext cx="2160" cy="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0800" y="2043720"/>
              <a:ext cx="6840" cy="64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7" y="47"/>
                  </a:lnTo>
                  <a:lnTo>
                    <a:pt x="14" y="46"/>
                  </a:lnTo>
                  <a:lnTo>
                    <a:pt x="23" y="43"/>
                  </a:lnTo>
                  <a:lnTo>
                    <a:pt x="31" y="37"/>
                  </a:lnTo>
                  <a:lnTo>
                    <a:pt x="39" y="29"/>
                  </a:lnTo>
                  <a:lnTo>
                    <a:pt x="46" y="16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2" y="12"/>
                  </a:lnTo>
                  <a:lnTo>
                    <a:pt x="28" y="20"/>
                  </a:lnTo>
                  <a:lnTo>
                    <a:pt x="22" y="25"/>
                  </a:lnTo>
                  <a:lnTo>
                    <a:pt x="16" y="29"/>
                  </a:lnTo>
                  <a:lnTo>
                    <a:pt x="9" y="32"/>
                  </a:lnTo>
                  <a:lnTo>
                    <a:pt x="5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09000" y="2048040"/>
              <a:ext cx="1800" cy="2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9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08280" y="2049120"/>
              <a:ext cx="2520" cy="12240"/>
            </a:xfrm>
            <a:custGeom>
              <a:avLst/>
              <a:gdLst/>
              <a:ahLst/>
              <a:rect l="l" t="t" r="r" b="b"/>
              <a:pathLst>
                <a:path w="18" h="89">
                  <a:moveTo>
                    <a:pt x="7" y="89"/>
                  </a:moveTo>
                  <a:lnTo>
                    <a:pt x="14" y="81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81"/>
                  </a:lnTo>
                  <a:lnTo>
                    <a:pt x="7" y="73"/>
                  </a:lnTo>
                  <a:lnTo>
                    <a:pt x="7" y="89"/>
                  </a:lnTo>
                  <a:lnTo>
                    <a:pt x="14" y="88"/>
                  </a:lnTo>
                  <a:lnTo>
                    <a:pt x="14" y="81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7480" y="205956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6">
                  <a:moveTo>
                    <a:pt x="1" y="8"/>
                  </a:moveTo>
                  <a:lnTo>
                    <a:pt x="8" y="16"/>
                  </a:lnTo>
                  <a:lnTo>
                    <a:pt x="82" y="16"/>
                  </a:lnTo>
                  <a:lnTo>
                    <a:pt x="82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1" y="8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7840" y="2048040"/>
              <a:ext cx="2520" cy="12240"/>
            </a:xfrm>
            <a:custGeom>
              <a:avLst/>
              <a:gdLst/>
              <a:ahLst/>
              <a:rect l="l" t="t" r="r" b="b"/>
              <a:pathLst>
                <a:path w="20" h="91">
                  <a:moveTo>
                    <a:pt x="12" y="16"/>
                  </a:moveTo>
                  <a:lnTo>
                    <a:pt x="5" y="8"/>
                  </a:lnTo>
                  <a:lnTo>
                    <a:pt x="0" y="91"/>
                  </a:lnTo>
                  <a:lnTo>
                    <a:pt x="14" y="91"/>
                  </a:lnTo>
                  <a:lnTo>
                    <a:pt x="18" y="8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98560" y="2048040"/>
              <a:ext cx="360" cy="21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5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92080" y="2043360"/>
              <a:ext cx="6480" cy="64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6"/>
                  </a:lnTo>
                  <a:lnTo>
                    <a:pt x="2" y="15"/>
                  </a:lnTo>
                  <a:lnTo>
                    <a:pt x="6" y="23"/>
                  </a:lnTo>
                  <a:lnTo>
                    <a:pt x="11" y="32"/>
                  </a:lnTo>
                  <a:lnTo>
                    <a:pt x="19" y="40"/>
                  </a:lnTo>
                  <a:lnTo>
                    <a:pt x="31" y="46"/>
                  </a:lnTo>
                  <a:lnTo>
                    <a:pt x="46" y="48"/>
                  </a:lnTo>
                  <a:lnTo>
                    <a:pt x="46" y="34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9" y="16"/>
                  </a:lnTo>
                  <a:lnTo>
                    <a:pt x="16" y="10"/>
                  </a:lnTo>
                  <a:lnTo>
                    <a:pt x="15" y="6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2080" y="2041560"/>
              <a:ext cx="2160" cy="21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15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8" y="1"/>
                  </a:lnTo>
                  <a:lnTo>
                    <a:pt x="16" y="8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1280" y="204156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1" y="7"/>
                  </a:moveTo>
                  <a:lnTo>
                    <a:pt x="8" y="14"/>
                  </a:lnTo>
                  <a:lnTo>
                    <a:pt x="82" y="15"/>
                  </a:lnTo>
                  <a:lnTo>
                    <a:pt x="82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81640" y="2030400"/>
              <a:ext cx="2520" cy="11880"/>
            </a:xfrm>
            <a:custGeom>
              <a:avLst/>
              <a:gdLst/>
              <a:ahLst/>
              <a:rect l="l" t="t" r="r" b="b"/>
              <a:pathLst>
                <a:path w="19" h="88">
                  <a:moveTo>
                    <a:pt x="12" y="2"/>
                  </a:moveTo>
                  <a:lnTo>
                    <a:pt x="5" y="9"/>
                  </a:lnTo>
                  <a:lnTo>
                    <a:pt x="0" y="88"/>
                  </a:lnTo>
                  <a:lnTo>
                    <a:pt x="14" y="88"/>
                  </a:lnTo>
                  <a:lnTo>
                    <a:pt x="19" y="9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9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83080" y="203040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6">
                  <a:moveTo>
                    <a:pt x="65" y="8"/>
                  </a:moveTo>
                  <a:lnTo>
                    <a:pt x="74" y="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74" y="15"/>
                  </a:lnTo>
                  <a:lnTo>
                    <a:pt x="82" y="8"/>
                  </a:lnTo>
                  <a:lnTo>
                    <a:pt x="74" y="16"/>
                  </a:lnTo>
                  <a:lnTo>
                    <a:pt x="82" y="16"/>
                  </a:lnTo>
                  <a:lnTo>
                    <a:pt x="82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92440" y="2030760"/>
              <a:ext cx="2160" cy="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2800" y="2023920"/>
              <a:ext cx="7200" cy="648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0"/>
                  </a:moveTo>
                  <a:lnTo>
                    <a:pt x="49" y="2"/>
                  </a:lnTo>
                  <a:lnTo>
                    <a:pt x="34" y="4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7" y="27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0"/>
                  </a:lnTo>
                  <a:lnTo>
                    <a:pt x="18" y="34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6" y="18"/>
                  </a:lnTo>
                  <a:lnTo>
                    <a:pt x="49" y="15"/>
                  </a:lnTo>
                  <a:lnTo>
                    <a:pt x="49" y="1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0000" y="2023920"/>
              <a:ext cx="1440" cy="2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4" y="8"/>
                  </a:lnTo>
                  <a:lnTo>
                    <a:pt x="7" y="17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00000" y="2012760"/>
              <a:ext cx="2520" cy="12240"/>
            </a:xfrm>
            <a:custGeom>
              <a:avLst/>
              <a:gdLst/>
              <a:ahLst/>
              <a:rect l="l" t="t" r="r" b="b"/>
              <a:pathLst>
                <a:path w="19" h="89">
                  <a:moveTo>
                    <a:pt x="12" y="1"/>
                  </a:moveTo>
                  <a:lnTo>
                    <a:pt x="5" y="8"/>
                  </a:lnTo>
                  <a:lnTo>
                    <a:pt x="0" y="89"/>
                  </a:lnTo>
                  <a:lnTo>
                    <a:pt x="14" y="89"/>
                  </a:lnTo>
                  <a:lnTo>
                    <a:pt x="19" y="8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01440" y="2012760"/>
              <a:ext cx="11520" cy="21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80" y="8"/>
                  </a:moveTo>
                  <a:lnTo>
                    <a:pt x="7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3" y="15"/>
                  </a:lnTo>
                  <a:lnTo>
                    <a:pt x="67" y="8"/>
                  </a:lnTo>
                  <a:lnTo>
                    <a:pt x="80" y="8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0440" y="2013840"/>
              <a:ext cx="2520" cy="12240"/>
            </a:xfrm>
            <a:custGeom>
              <a:avLst/>
              <a:gdLst/>
              <a:ahLst/>
              <a:rect l="l" t="t" r="r" b="b"/>
              <a:pathLst>
                <a:path w="19" h="89">
                  <a:moveTo>
                    <a:pt x="8" y="72"/>
                  </a:moveTo>
                  <a:lnTo>
                    <a:pt x="15" y="80"/>
                  </a:lnTo>
                  <a:lnTo>
                    <a:pt x="19" y="0"/>
                  </a:lnTo>
                  <a:lnTo>
                    <a:pt x="6" y="0"/>
                  </a:lnTo>
                  <a:lnTo>
                    <a:pt x="1" y="80"/>
                  </a:lnTo>
                  <a:lnTo>
                    <a:pt x="8" y="89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8" y="89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11520" y="2023920"/>
              <a:ext cx="720" cy="21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12240" y="2023920"/>
              <a:ext cx="6480" cy="7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6" y="50"/>
                  </a:moveTo>
                  <a:lnTo>
                    <a:pt x="46" y="49"/>
                  </a:lnTo>
                  <a:lnTo>
                    <a:pt x="48" y="48"/>
                  </a:lnTo>
                  <a:lnTo>
                    <a:pt x="46" y="43"/>
                  </a:lnTo>
                  <a:lnTo>
                    <a:pt x="45" y="35"/>
                  </a:lnTo>
                  <a:lnTo>
                    <a:pt x="42" y="26"/>
                  </a:lnTo>
                  <a:lnTo>
                    <a:pt x="36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2" y="17"/>
                  </a:lnTo>
                  <a:lnTo>
                    <a:pt x="20" y="21"/>
                  </a:lnTo>
                  <a:lnTo>
                    <a:pt x="24" y="27"/>
                  </a:lnTo>
                  <a:lnTo>
                    <a:pt x="28" y="33"/>
                  </a:lnTo>
                  <a:lnTo>
                    <a:pt x="31" y="40"/>
                  </a:lnTo>
                  <a:lnTo>
                    <a:pt x="33" y="43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3" y="48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93520" y="2025360"/>
              <a:ext cx="23400" cy="24120"/>
            </a:xfrm>
            <a:custGeom>
              <a:avLst/>
              <a:gdLst/>
              <a:ahLst/>
              <a:rect l="l" t="t" r="r" b="b"/>
              <a:pathLst>
                <a:path w="165" h="178">
                  <a:moveTo>
                    <a:pt x="88" y="0"/>
                  </a:moveTo>
                  <a:lnTo>
                    <a:pt x="104" y="3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4" y="27"/>
                  </a:lnTo>
                  <a:lnTo>
                    <a:pt x="153" y="40"/>
                  </a:lnTo>
                  <a:lnTo>
                    <a:pt x="160" y="56"/>
                  </a:lnTo>
                  <a:lnTo>
                    <a:pt x="164" y="72"/>
                  </a:lnTo>
                  <a:lnTo>
                    <a:pt x="165" y="90"/>
                  </a:lnTo>
                  <a:lnTo>
                    <a:pt x="162" y="108"/>
                  </a:lnTo>
                  <a:lnTo>
                    <a:pt x="156" y="125"/>
                  </a:lnTo>
                  <a:lnTo>
                    <a:pt x="148" y="140"/>
                  </a:lnTo>
                  <a:lnTo>
                    <a:pt x="137" y="152"/>
                  </a:lnTo>
                  <a:lnTo>
                    <a:pt x="124" y="163"/>
                  </a:lnTo>
                  <a:lnTo>
                    <a:pt x="110" y="171"/>
                  </a:lnTo>
                  <a:lnTo>
                    <a:pt x="94" y="176"/>
                  </a:lnTo>
                  <a:lnTo>
                    <a:pt x="77" y="178"/>
                  </a:lnTo>
                  <a:lnTo>
                    <a:pt x="61" y="176"/>
                  </a:lnTo>
                  <a:lnTo>
                    <a:pt x="45" y="170"/>
                  </a:lnTo>
                  <a:lnTo>
                    <a:pt x="31" y="162"/>
                  </a:lnTo>
                  <a:lnTo>
                    <a:pt x="20" y="151"/>
                  </a:lnTo>
                  <a:lnTo>
                    <a:pt x="11" y="138"/>
                  </a:lnTo>
                  <a:lnTo>
                    <a:pt x="5" y="123"/>
                  </a:lnTo>
                  <a:lnTo>
                    <a:pt x="0" y="106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8" y="53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41" y="15"/>
                  </a:lnTo>
                  <a:lnTo>
                    <a:pt x="56" y="7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06120" y="2023920"/>
              <a:ext cx="11880" cy="133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84" y="98"/>
                  </a:moveTo>
                  <a:lnTo>
                    <a:pt x="84" y="98"/>
                  </a:lnTo>
                  <a:lnTo>
                    <a:pt x="83" y="80"/>
                  </a:lnTo>
                  <a:lnTo>
                    <a:pt x="79" y="61"/>
                  </a:lnTo>
                  <a:lnTo>
                    <a:pt x="72" y="44"/>
                  </a:lnTo>
                  <a:lnTo>
                    <a:pt x="62" y="30"/>
                  </a:lnTo>
                  <a:lnTo>
                    <a:pt x="49" y="18"/>
                  </a:lnTo>
                  <a:lnTo>
                    <a:pt x="33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5" y="18"/>
                  </a:lnTo>
                  <a:lnTo>
                    <a:pt x="29" y="22"/>
                  </a:lnTo>
                  <a:lnTo>
                    <a:pt x="40" y="29"/>
                  </a:lnTo>
                  <a:lnTo>
                    <a:pt x="50" y="40"/>
                  </a:lnTo>
                  <a:lnTo>
                    <a:pt x="59" y="51"/>
                  </a:lnTo>
                  <a:lnTo>
                    <a:pt x="65" y="66"/>
                  </a:lnTo>
                  <a:lnTo>
                    <a:pt x="69" y="80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84" y="9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4680" y="2037600"/>
              <a:ext cx="13320" cy="1296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0" y="95"/>
                  </a:moveTo>
                  <a:lnTo>
                    <a:pt x="0" y="96"/>
                  </a:lnTo>
                  <a:lnTo>
                    <a:pt x="18" y="92"/>
                  </a:lnTo>
                  <a:lnTo>
                    <a:pt x="35" y="88"/>
                  </a:lnTo>
                  <a:lnTo>
                    <a:pt x="50" y="79"/>
                  </a:lnTo>
                  <a:lnTo>
                    <a:pt x="65" y="68"/>
                  </a:lnTo>
                  <a:lnTo>
                    <a:pt x="76" y="53"/>
                  </a:lnTo>
                  <a:lnTo>
                    <a:pt x="86" y="37"/>
                  </a:lnTo>
                  <a:lnTo>
                    <a:pt x="91" y="19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78" y="16"/>
                  </a:lnTo>
                  <a:lnTo>
                    <a:pt x="72" y="33"/>
                  </a:lnTo>
                  <a:lnTo>
                    <a:pt x="65" y="46"/>
                  </a:lnTo>
                  <a:lnTo>
                    <a:pt x="56" y="57"/>
                  </a:lnTo>
                  <a:lnTo>
                    <a:pt x="43" y="67"/>
                  </a:lnTo>
                  <a:lnTo>
                    <a:pt x="30" y="74"/>
                  </a:lnTo>
                  <a:lnTo>
                    <a:pt x="15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2440" y="2036880"/>
              <a:ext cx="11880" cy="133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" y="37"/>
                  </a:lnTo>
                  <a:lnTo>
                    <a:pt x="11" y="53"/>
                  </a:lnTo>
                  <a:lnTo>
                    <a:pt x="21" y="68"/>
                  </a:lnTo>
                  <a:lnTo>
                    <a:pt x="34" y="79"/>
                  </a:lnTo>
                  <a:lnTo>
                    <a:pt x="50" y="89"/>
                  </a:lnTo>
                  <a:lnTo>
                    <a:pt x="67" y="94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69" y="81"/>
                  </a:lnTo>
                  <a:lnTo>
                    <a:pt x="54" y="75"/>
                  </a:lnTo>
                  <a:lnTo>
                    <a:pt x="43" y="68"/>
                  </a:lnTo>
                  <a:lnTo>
                    <a:pt x="33" y="59"/>
                  </a:lnTo>
                  <a:lnTo>
                    <a:pt x="25" y="46"/>
                  </a:lnTo>
                  <a:lnTo>
                    <a:pt x="19" y="32"/>
                  </a:lnTo>
                  <a:lnTo>
                    <a:pt x="14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92440" y="2023920"/>
              <a:ext cx="13320" cy="1296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95" y="0"/>
                  </a:moveTo>
                  <a:lnTo>
                    <a:pt x="95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4" y="18"/>
                  </a:lnTo>
                  <a:lnTo>
                    <a:pt x="30" y="28"/>
                  </a:lnTo>
                  <a:lnTo>
                    <a:pt x="18" y="42"/>
                  </a:lnTo>
                  <a:lnTo>
                    <a:pt x="8" y="59"/>
                  </a:lnTo>
                  <a:lnTo>
                    <a:pt x="3" y="78"/>
                  </a:lnTo>
                  <a:lnTo>
                    <a:pt x="0" y="96"/>
                  </a:lnTo>
                  <a:lnTo>
                    <a:pt x="14" y="96"/>
                  </a:lnTo>
                  <a:lnTo>
                    <a:pt x="16" y="80"/>
                  </a:lnTo>
                  <a:lnTo>
                    <a:pt x="22" y="64"/>
                  </a:lnTo>
                  <a:lnTo>
                    <a:pt x="29" y="51"/>
                  </a:lnTo>
                  <a:lnTo>
                    <a:pt x="39" y="40"/>
                  </a:lnTo>
                  <a:lnTo>
                    <a:pt x="51" y="29"/>
                  </a:lnTo>
                  <a:lnTo>
                    <a:pt x="65" y="22"/>
                  </a:lnTo>
                  <a:lnTo>
                    <a:pt x="79" y="18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7120" y="2028960"/>
              <a:ext cx="15840" cy="1620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60" y="0"/>
                  </a:moveTo>
                  <a:lnTo>
                    <a:pt x="71" y="1"/>
                  </a:lnTo>
                  <a:lnTo>
                    <a:pt x="82" y="5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27"/>
                  </a:lnTo>
                  <a:lnTo>
                    <a:pt x="109" y="37"/>
                  </a:lnTo>
                  <a:lnTo>
                    <a:pt x="111" y="48"/>
                  </a:lnTo>
                  <a:lnTo>
                    <a:pt x="111" y="61"/>
                  </a:lnTo>
                  <a:lnTo>
                    <a:pt x="110" y="74"/>
                  </a:lnTo>
                  <a:lnTo>
                    <a:pt x="106" y="84"/>
                  </a:lnTo>
                  <a:lnTo>
                    <a:pt x="100" y="95"/>
                  </a:lnTo>
                  <a:lnTo>
                    <a:pt x="93" y="104"/>
                  </a:lnTo>
                  <a:lnTo>
                    <a:pt x="84" y="112"/>
                  </a:lnTo>
                  <a:lnTo>
                    <a:pt x="73" y="116"/>
                  </a:lnTo>
                  <a:lnTo>
                    <a:pt x="63" y="120"/>
                  </a:lnTo>
                  <a:lnTo>
                    <a:pt x="52" y="121"/>
                  </a:lnTo>
                  <a:lnTo>
                    <a:pt x="40" y="120"/>
                  </a:lnTo>
                  <a:lnTo>
                    <a:pt x="30" y="116"/>
                  </a:lnTo>
                  <a:lnTo>
                    <a:pt x="20" y="111"/>
                  </a:lnTo>
                  <a:lnTo>
                    <a:pt x="14" y="103"/>
                  </a:lnTo>
                  <a:lnTo>
                    <a:pt x="7" y="95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7" y="10"/>
                  </a:lnTo>
                  <a:lnTo>
                    <a:pt x="38" y="5"/>
                  </a:lnTo>
                  <a:lnTo>
                    <a:pt x="4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05760" y="2027880"/>
              <a:ext cx="8280" cy="936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58" y="69"/>
                  </a:moveTo>
                  <a:lnTo>
                    <a:pt x="58" y="69"/>
                  </a:lnTo>
                  <a:lnTo>
                    <a:pt x="58" y="56"/>
                  </a:lnTo>
                  <a:lnTo>
                    <a:pt x="56" y="43"/>
                  </a:lnTo>
                  <a:lnTo>
                    <a:pt x="50" y="31"/>
                  </a:lnTo>
                  <a:lnTo>
                    <a:pt x="43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9" y="20"/>
                  </a:lnTo>
                  <a:lnTo>
                    <a:pt x="26" y="24"/>
                  </a:lnTo>
                  <a:lnTo>
                    <a:pt x="32" y="31"/>
                  </a:lnTo>
                  <a:lnTo>
                    <a:pt x="39" y="38"/>
                  </a:lnTo>
                  <a:lnTo>
                    <a:pt x="42" y="47"/>
                  </a:lnTo>
                  <a:lnTo>
                    <a:pt x="45" y="56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8" y="6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04680" y="2037240"/>
              <a:ext cx="9720" cy="9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0" y="68"/>
                  </a:moveTo>
                  <a:lnTo>
                    <a:pt x="0" y="67"/>
                  </a:lnTo>
                  <a:lnTo>
                    <a:pt x="12" y="66"/>
                  </a:lnTo>
                  <a:lnTo>
                    <a:pt x="24" y="62"/>
                  </a:lnTo>
                  <a:lnTo>
                    <a:pt x="35" y="57"/>
                  </a:lnTo>
                  <a:lnTo>
                    <a:pt x="47" y="47"/>
                  </a:lnTo>
                  <a:lnTo>
                    <a:pt x="54" y="37"/>
                  </a:lnTo>
                  <a:lnTo>
                    <a:pt x="61" y="27"/>
                  </a:lnTo>
                  <a:lnTo>
                    <a:pt x="65" y="14"/>
                  </a:lnTo>
                  <a:lnTo>
                    <a:pt x="66" y="0"/>
                  </a:lnTo>
                  <a:lnTo>
                    <a:pt x="53" y="0"/>
                  </a:lnTo>
                  <a:lnTo>
                    <a:pt x="51" y="12"/>
                  </a:lnTo>
                  <a:lnTo>
                    <a:pt x="47" y="20"/>
                  </a:lnTo>
                  <a:lnTo>
                    <a:pt x="42" y="30"/>
                  </a:lnTo>
                  <a:lnTo>
                    <a:pt x="35" y="38"/>
                  </a:lnTo>
                  <a:lnTo>
                    <a:pt x="28" y="45"/>
                  </a:lnTo>
                  <a:lnTo>
                    <a:pt x="19" y="49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96400" y="2036880"/>
              <a:ext cx="8280" cy="936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6"/>
                  </a:lnTo>
                  <a:lnTo>
                    <a:pt x="8" y="38"/>
                  </a:lnTo>
                  <a:lnTo>
                    <a:pt x="15" y="47"/>
                  </a:lnTo>
                  <a:lnTo>
                    <a:pt x="23" y="56"/>
                  </a:lnTo>
                  <a:lnTo>
                    <a:pt x="34" y="63"/>
                  </a:lnTo>
                  <a:lnTo>
                    <a:pt x="46" y="67"/>
                  </a:lnTo>
                  <a:lnTo>
                    <a:pt x="59" y="69"/>
                  </a:lnTo>
                  <a:lnTo>
                    <a:pt x="59" y="53"/>
                  </a:lnTo>
                  <a:lnTo>
                    <a:pt x="48" y="53"/>
                  </a:lnTo>
                  <a:lnTo>
                    <a:pt x="39" y="50"/>
                  </a:lnTo>
                  <a:lnTo>
                    <a:pt x="32" y="45"/>
                  </a:lnTo>
                  <a:lnTo>
                    <a:pt x="26" y="38"/>
                  </a:lnTo>
                  <a:lnTo>
                    <a:pt x="19" y="31"/>
                  </a:lnTo>
                  <a:lnTo>
                    <a:pt x="16" y="22"/>
                  </a:lnTo>
                  <a:lnTo>
                    <a:pt x="14" y="1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6400" y="2027880"/>
              <a:ext cx="9360" cy="9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0"/>
                  </a:move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1" y="13"/>
                  </a:lnTo>
                  <a:lnTo>
                    <a:pt x="21" y="21"/>
                  </a:lnTo>
                  <a:lnTo>
                    <a:pt x="12" y="31"/>
                  </a:lnTo>
                  <a:lnTo>
                    <a:pt x="6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14" y="68"/>
                  </a:lnTo>
                  <a:lnTo>
                    <a:pt x="15" y="56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4"/>
                  </a:lnTo>
                  <a:lnTo>
                    <a:pt x="47" y="20"/>
                  </a:lnTo>
                  <a:lnTo>
                    <a:pt x="56" y="16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38"/>
          <a:stretch/>
        </p:blipFill>
        <p:spPr>
          <a:xfrm>
            <a:off x="6629400" y="1571760"/>
            <a:ext cx="533520" cy="320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9"/>
          <a:stretch/>
        </p:blipFill>
        <p:spPr>
          <a:xfrm>
            <a:off x="7315200" y="228600"/>
            <a:ext cx="1674720" cy="93672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0"/>
          <a:stretch/>
        </p:blipFill>
        <p:spPr>
          <a:xfrm>
            <a:off x="609480" y="3429000"/>
            <a:ext cx="432000" cy="28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1"/>
          <a:stretch/>
        </p:blipFill>
        <p:spPr>
          <a:xfrm>
            <a:off x="8067600" y="3500280"/>
            <a:ext cx="536760" cy="34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28800" y="2362320"/>
            <a:ext cx="5791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 members from Approval Committee (CH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2 representatives from other Member Sta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Patients/families’ representatives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Health Professionals representative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81000"/>
            <a:ext cx="13716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 elected  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6324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*still to be appoi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drugs before appro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bligation to sub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sult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Paediatric Investigation Plan (PIP)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t time of Marketing Authorisation Application, OR Deferral of studies, OR Waiver of development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war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6-month extension of the patent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ndition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mpliance with PIP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ults in product inform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pproval in all Member Stat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-Patent marketed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bligation to sub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sult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Paediatric Investigation Plan (PIP)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hen applying for new indication, new route of administration, and/or new formulatio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 deferral of studies, OR waive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war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6-month extension of the patent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ndition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mpliance with PIP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ults in product informatio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pproval in all Member Stat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phan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mong orphan drugs, 15-20% are for diseases only affecting children, 55% for diseases affecting both adult and children*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phan drugs receive 10 years of market exclusivity in EU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phan drugs must submit a Paediatric Investigation Pla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phan drugs can get 2 additional years of exclusivity when they comply with PIP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EU orphan designation dat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23:13:16Z</dcterms:created>
  <dc:creator>emeauser</dc:creator>
  <dc:description/>
  <dc:language>en-US</dc:language>
  <cp:lastModifiedBy>Nicole Vesely</cp:lastModifiedBy>
  <dcterms:modified xsi:type="dcterms:W3CDTF">2008-04-25T15:24:27Z</dcterms:modified>
  <cp:revision>280</cp:revision>
  <dc:subject/>
  <dc:title>Principles of the draft Paediatric Regulation</dc:title>
</cp:coreProperties>
</file>