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63A-B601-4AA5-82B3-DF4981CC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2FE-72FA-4E11-BC9A-26E0757A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B3E-8B24-4732-B22E-B7E8DD0E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209-3BC8-4A22-9D62-FBFE09B3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A5C-2F62-4009-8E40-32FB324A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6AE-FE0C-44D7-ABD3-4EC88D15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54C-DB46-49A4-93FD-33D723A2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BD4-8DB5-4017-BFA2-E04C4AA1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C6A-82CE-4A4C-B060-9D143939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0A0-CB8A-4366-9C70-5236DE18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5BE-E910-45C6-BA44-9EA64425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D66-61F2-44AB-8454-04ECDE1B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33B1-46EF-4462-BB40-681684FC7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-cdf.fnal.gov/internal/physics/qcd/qcdmc6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6 MC Stntu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52280"/>
            <a:ext cx="5638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b Snihur – McGill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CD mtg., Dec. 08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74320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et70: Data vs. 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t Rapidity: Before jet c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0880" y="2362320"/>
            <a:ext cx="3921120" cy="2698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3921120" cy="2698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goodrun + event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342900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3429000"/>
            <a:ext cx="99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040" y="51814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 we expect better agre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ts: After jet c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921120" cy="269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921120" cy="2698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goodrun + event + jet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342900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295596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040" y="56386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tributions are sculpted by cuts  </a:t>
            </a:r>
            <a:r>
              <a:rPr b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etter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pT (G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ze 3 other MC datasets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compare with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~10 stntuples to MC jet70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tntuples for btop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F-enriched Pythia dijets pt&gt;20 (with high pt central lept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te more MC dijet samples at higher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hat (120, 150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tntuples for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6 MC Stntuples exist for 4 inclusive dijet samples corresponding to 1.2/f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page exists w/ more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data-MC comparison of Jet70 shows reasonable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is slightly more active than MC (“hotter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we expect better agreement in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ntuples available using standard cat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ease help to look a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seful SAM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4% sam describe dataset definition --defname="bt0sq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Name : bt0sq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Id   : 735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cription     : 6.1.4 Stntuple dev_243 v0 of btopqb (Pythia dijet 18 MinBias EvtGen) with jets flags 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eation date   : 27-Oct-2006 05:00:00 (UT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ser name       : snih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 name      :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s      : CDF.DATASET bt0sq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5% sam describe dataset definition --defname="bt0sr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Name : bt0sr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Id   : 735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cription     : 6.1.4 Stntuple dev_243 v0 of btoprb (Pythia_dijet_40_MinBias_614mcb) with jets flags 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eation date   : 27-Oct-2006 05:00:00 (UT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ser name       : snih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 name      :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s      : CDF.DATASET bt0sr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6% sam describe dataset definition --defname="bt0ss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Name : bt0ss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Id   : 735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cription     : 6.1.4 Stntuple dev_243 v0 of btopsb (Pythia_dijet_60_MinBias) with jets flags 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eation date   : 27-Oct-2006 05:00:00 (UT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ser name       : snih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 name      :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s      : CDF.DATASET bt0ss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7% sam describe dataset definition --defname="bt0st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Name : bt0s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Id   : 735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cription     : 6.1.4 Stntuple dev_243 v0 of btoptb (Pythia_dijet_90_MinBias) with jets flags 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eation date   : 27-Oct-2006 05:00:00 (UT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ser name       : snih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 name      :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s      : CDF.DATASET bt0s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8% sam list files --dim="__set__ btopq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026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9% sam list files --dim="__set__ btopr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39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0% sam list files --dim="__set__ btops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239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1% sam list files --dim="__set__ btopt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98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2% sam list files --dim="__set__ bt0sq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020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3% sam list files --dim="__set__ bt0sr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678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4% sam list files --dim="__set__ bt0ss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231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5% sam list files --dim="__set__ bt0st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4% sam describe dataset definition --defname="bt0sq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Name : bt0sq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Id   : 735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cription     : 6.1.4 Stntuple dev_243 v0 of btopqb (Pythia dijet 18 MinBias EvtGen) with jets flags 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eation date   : 27-Oct-2006 05:00:00 (UT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ser name       : snih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 name      :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s      : CDF.DATASET bt0sq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5% sam describe dataset definition --defname="bt0sr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Name : bt0sr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Id   : 735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cription     : 6.1.4 Stntuple dev_243 v0 of btoprb (Pythia_dijet_40_MinBias_614mcb) with jets flags 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eation date   : 27-Oct-2006 05:00:00 (UT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ser name       : snih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 name      :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s      : CDF.DATASET bt0sr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6% sam describe dataset definition --defname="bt0ss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Name : bt0ss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Id   : 735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cription     : 6.1.4 Stntuple dev_243 v0 of btopsb (Pythia_dijet_60_MinBias) with jets flags 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eation date   : 27-Oct-2006 05:00:00 (UT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ser name       : snih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 name      :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s      : CDF.DATASET bt0ss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7% sam describe dataset definition --defname="bt0st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Name : bt0s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Id   : 735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cription     : 6.1.4 Stntuple dev_243 v0 of btoptb (Pythia_dijet_90_MinBias) with jets flags 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eation date   : 27-Oct-2006 05:00:00 (UT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ser name       : snih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 name      :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s      : CDF.DATASET bt0s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8% sam list files --dim="__set__ btopq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026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9% sam list files --dim="__set__ btopr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39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0% sam list files --dim="__set__ btops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239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1% sam list files --dim="__set__ btopt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98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2% sam list files --dim="__set__ bt0sq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020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3% sam list files --dim="__set__ bt0sr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678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4% sam list files --dim="__set__ bt0ss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231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5% sam list files --dim="__set__ bt0st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SAM Meta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Param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generated' :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generator' : 'Pythia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showering' : 'Pythia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process' : 'dijetPtHat&gt;90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minbias' : 'yes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simulatedversion' : '6.1.4mcb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effective_cross_section' : '1.961E-05mb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cdf' :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LogFile' : 'snihur_btoptb1_v1_p0_000148.tgz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Fields = { 'parents': [ 'bb02cfaa.0001topt'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-cdf.fnal.gov/internal/physics/qcd/qcdmc6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pMCProd_v614mc_c.tar.g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ntuple: 6.1.4 dev_243 (from Ray Culbert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datafile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1 ntupl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b02cfaa.0001topt </a:t>
            </a:r>
            <a:r>
              <a:rPr b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b02cfaa.0001t0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 of ParentFile &amp; LogFile (will be) saved in SAM metadata for ntupl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0 Stntuple files per fil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s in MC Stntu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ader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r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s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pr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p2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sCorrected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c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t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Timing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t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igger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igSim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3Summary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wdDet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as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tex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PrimeVtxFi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Vertex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ck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Phoenix_Trac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PhoenixSI_Trac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t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CluModule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CluModule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cone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h1alg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h1alg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h1alg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merg50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cone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1676520"/>
            <a:ext cx="3504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CluModule-had-cone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CluModule-had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CluModule-had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had-cone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had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had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had-merg50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had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had-cone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had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par-cone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par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par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par-merg50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par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par-cone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par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p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sp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enix_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o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fMatch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52388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p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sp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enix_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o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fMatch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0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Pi0CandidateCollection_ma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u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CdfTauCollection-Compati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CdfTauCollection-LeptonTr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versio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mic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VtxTag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SecVtxModule-JetClu-cone0.4-lo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SecVtxModule-JetClu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SecVtxModule-MidPoint-cone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SecVtxModule-MidPoint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SecVtxModule-MidPoint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SecVtxModule-MidPoint-h1alg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SecVtxModule-MidPoint-h1alg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SecVtxModule-MidPoint-h1alg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tProb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ProbModule-MidPointModule-cone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ProbModule-JetCluModule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ProbModule-MidPointModule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ProbModule-MidPointModule-merg50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jobs by filesets: 51+34+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0=107 total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is talk, look only at Jet70 (0d &amp; 0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Point Cone 0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t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rections use Monica’s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un list V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Sig &lt;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z| &lt; 6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y(jet)| &lt;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orrected je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95.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lots normalized to unit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ts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goodrun, no other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57400" y="1676520"/>
            <a:ext cx="6827760" cy="4700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277344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94360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8440" indent="-38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activity i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ata </a:t>
            </a:r>
            <a:r>
              <a:rPr b="1" lang="en-GB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ho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ve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894120" cy="2679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3903840" cy="2687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goodrun, no other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342900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429000"/>
            <a:ext cx="99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040" y="51814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97440" indent="-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activity i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ata </a:t>
            </a:r>
            <a:r>
              <a:rPr b="1" lang="en-GB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hott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for both 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C agrees better in 0i than 0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umber of ver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7880" y="2362320"/>
            <a:ext cx="3894120" cy="267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3913200" cy="2695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goodrun, no other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42900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42900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9040" y="51814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97440" indent="-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activity i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ata </a:t>
            </a:r>
            <a:r>
              <a:rPr b="1" lang="en-GB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hott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for both 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C agrees better in 0d than 0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t pT: Before jet c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57400" y="1828800"/>
            <a:ext cx="6827760" cy="4700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goodrun + event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295596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0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040" y="59436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ows thres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5:26:08Z</dcterms:created>
  <dc:creator>hep</dc:creator>
  <dc:description/>
  <dc:language>en-US</dc:language>
  <cp:lastModifiedBy>snihur</cp:lastModifiedBy>
  <dcterms:modified xsi:type="dcterms:W3CDTF">2006-12-08T14:49:18Z</dcterms:modified>
  <cp:revision>144</cp:revision>
  <dc:subject/>
  <dc:title>Jet SubGroup Report</dc:title>
</cp:coreProperties>
</file>