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CE6C-7CA6-4766-8EC1-7DEBDAC51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55A1-4B40-4481-B302-C20C59EB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564B-D2DF-44AC-917C-4155C27F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1519-AF44-40F6-BF8F-62EB3032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40B6-AA21-4ED9-BF29-D634B43A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B0F2-4F8A-469A-9517-AFD40ED4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F089-D340-402D-95E1-65A39DC7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5B6C-FC1A-494D-8A0E-26290A68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9FEA-3507-4EDC-9967-8E525573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E52B-E060-44E4-9488-10134164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4333-3475-4BE7-901E-0ED01FEF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6AFF-2866-4B6F-82C6-58A178EE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0791-D167-4B56-A367-885C6C607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rgonomic Injuries/illnes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Nature of Inju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se Creation Date October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September 3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9200" y="1143000"/>
          <a:ext cx="866628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" y="1143000"/>
                    <a:ext cx="866628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rgonomic Injuries/illnes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Nature of Inju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umulating Cases By Chanrgeback Ye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8600" y="1349280"/>
          <a:ext cx="866628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49280"/>
                    <a:ext cx="866628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rgonomic Injuries/illnes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Nature of Injury M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se Creation Date October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September 3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2057400"/>
          <a:ext cx="777240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77724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4191120" y="617220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rgonomic Injuries/illnes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Nature of Injury M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hargeback year - Accumulating Pay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rgonomic Injuries/illnes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nature of injury M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se Creation Date October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September 3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2560" y="1476360"/>
          <a:ext cx="8143920" cy="49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476360"/>
                    <a:ext cx="814392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429000" y="6248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4572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rgonomic Injuries/illnes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nature of injury M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umulating Cases By Chanrgeback Ye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2560" y="1476360"/>
          <a:ext cx="8143920" cy="49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476360"/>
                    <a:ext cx="814392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429000" y="6248520"/>
            <a:ext cx="1371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rgonomic Injuries/illnes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nature of injury MC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se Creation Date October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September 3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2560" y="1746360"/>
          <a:ext cx="7778880" cy="46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746360"/>
                    <a:ext cx="777888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886200" y="6172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rgonomic Injuries/illnes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nature of injury M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hargeback year - Accumulating Pay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2560" y="1793880"/>
          <a:ext cx="7778880" cy="46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793880"/>
                    <a:ext cx="777888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2T19:56:55Z</dcterms:created>
  <dc:creator>vacodennyf</dc:creator>
  <dc:description/>
  <dc:language>en-US</dc:language>
  <cp:lastModifiedBy>Frank Denny</cp:lastModifiedBy>
  <dcterms:modified xsi:type="dcterms:W3CDTF">2003-11-10T13:43:15Z</dcterms:modified>
  <cp:revision>21</cp:revision>
  <dc:subject/>
  <dc:title>FY2001 OWCP for ergo</dc:title>
</cp:coreProperties>
</file>