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A896-9622-46CC-B9EF-6A9B6C99A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training workshops offered--5 were short - half days, presented with local tra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of these workshops had a specialized foc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ntal health &amp; ad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ducation and supported em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ci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ceedings will be used by the provincial government as training manuals, or to develop training man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a booklet, lifeguard strategies for Supporting Adolescents &amp; Adulst Affected by FASD, in one of the workshops, based on the analogy of providing supports to persons with FASD is like lifeguarding.  The the participants provided strategies they could think of, which were recorded and used to create the bookle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recently, recognition of value of mentorships—and so that is starting to develop; now housing is looking more urg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beginning to be recognition of what persons with FASD need f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to be recognition of support needs of persons with FASD;  Little recognition of needs of those providing suppo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evolved during the period of this projec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s 3 – 6 months for money to begin t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s 3 – 6 months for money to begin to flow;  Low application rate of persons with FASD~20%; Few services available to purchase for persons with FASD; Mentors—must take it on as self-employed person; no accountability structure, training, etc.  Could fit very nicely with the Supported Housing Project.  With Support Coordinators in place, would provide structure under which additional mentors could be hired, trained &amp; supervised.   So far rejecting funding of any structure, other than mentor coordinator; hopeful that may change in the fu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7476-BE17-49AA-B6F6-4F39A9D30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B9651-9C9E-4D64-B0DF-FB21958C6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3EC8E-67F2-4B0B-8A87-C53DCC4D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A8271-D6B5-49B5-A897-686C06AA4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E6780-955A-4F32-9FF5-4DF0A76F8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AB1B-60A5-47D6-B832-D3269E10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70707-AADE-4261-92CF-D6AA3B7C2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8708B-059A-4946-88A5-290D7515F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8A283-7987-4D68-8DE0-63DE66852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83D0B-CA50-4B72-BC46-B8C819EC8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894D9-B69F-4CF0-9911-E88E3CFC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D5CA-471F-49C6-B695-0723D0CF5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BEC0-FC93-4553-A3B8-79358B069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52EC5-9960-4B9A-9E1B-1B2571BD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61771-6112-4176-A9AB-FB2682264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D0BB5-A118-4F48-8DA6-9D09DD102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B1027-7877-48E3-90E8-ED609897B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4CD9-85B8-49CE-AD07-B4C41529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47D7-1952-444E-8C65-AC26F938B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70C5-C293-4D51-AF2E-B51BDC4A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129F-876F-46AB-80D6-746108725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B4B5-23EE-4604-8D0B-2288A3F71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C50B-AE88-4141-AFBD-126F01FC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7A4E-093E-4272-8EC1-EB0D8B83C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0DD-530C-4A2A-8B80-F43F8332556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B528-7E6C-437C-A6BC-D31132F01AE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www.skfasnetwork.ca/"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Saskatoon Supported Housing Project for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1600200" y="388584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onsored by the FASD Support Network of Sask &amp;</a:t>
            </a:r>
            <a:endParaRPr b="0" lang="en-US" sz="2800" spc="-1" strike="noStrike">
              <a:solidFill>
                <a:srgbClr val="000000"/>
              </a:solidFill>
              <a:latin typeface="Arial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unded by The National Homelessness Initiative</a:t>
            </a:r>
            <a:endParaRPr b="0" lang="en-US" sz="2800" spc="-1" strike="noStrike">
              <a:solidFill>
                <a:srgbClr val="000000"/>
              </a:solidFill>
              <a:latin typeface="Arial Black"/>
            </a:endParaRPr>
          </a:p>
        </p:txBody>
      </p:sp>
      <p:sp>
        <p:nvSpPr>
          <p:cNvPr id="93" name=""/>
          <p:cNvSpPr/>
          <p:nvPr/>
        </p:nvSpPr>
        <p:spPr>
          <a:xfrm>
            <a:off x="2556360" y="2209680"/>
            <a:ext cx="4621680" cy="703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sons with FASD</a:t>
            </a:r>
            <a:endParaRPr b="0" lang="en-US" sz="4000" spc="-1" strike="noStrike">
              <a:solidFill>
                <a:srgbClr val="000000"/>
              </a:solidFill>
              <a:latin typeface="Times New Roman"/>
            </a:endParaRPr>
          </a:p>
        </p:txBody>
      </p:sp>
      <p:sp>
        <p:nvSpPr>
          <p:cNvPr id="94" name=""/>
          <p:cNvSpPr/>
          <p:nvPr/>
        </p:nvSpPr>
        <p:spPr>
          <a:xfrm>
            <a:off x="2740320" y="3048120"/>
            <a:ext cx="4038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 Eunice Bergst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velo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amp; Guiding Principles</a:t>
            </a:r>
            <a:br>
              <a:rPr sz="32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16" name="PlaceHolder 2"/>
          <p:cNvSpPr>
            <a:spLocks noGrp="1"/>
          </p:cNvSpPr>
          <p:nvPr>
            <p:ph/>
          </p:nvPr>
        </p:nvSpPr>
        <p:spPr>
          <a:xfrm>
            <a:off x="457200" y="1676520"/>
            <a:ext cx="8229600" cy="4324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ision</a:t>
            </a:r>
            <a:r>
              <a:rPr b="0" i="1" lang="en-US" sz="2800" spc="-1" strike="noStrike">
                <a:solidFill>
                  <a:srgbClr val="000000"/>
                </a:solidFill>
                <a:latin typeface="Tahoma"/>
              </a:rPr>
              <a:t>:  A community that enables individuals with FASD to be safe &amp; valued members through individualized supports and supported housing</a:t>
            </a:r>
            <a:endParaRPr b="0" lang="en-US" sz="28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uiding Principles:</a:t>
            </a:r>
            <a:endParaRPr b="0" lang="en-US" sz="24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s with FAS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ntitled to respect &amp; dignity</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ntitled to a personally satisfying quality of life</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cognized as valuable contributors &amp; members of society</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cognized as having a disability that is legitimate and life-lo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uiding Principles </a:t>
            </a:r>
            <a:r>
              <a:rPr b="0" lang="en-US" sz="1600" spc="-1" strike="noStrike">
                <a:solidFill>
                  <a:srgbClr val="000000"/>
                </a:solidFill>
                <a:latin typeface="Arial Black"/>
              </a:rPr>
              <a:t>continued</a:t>
            </a:r>
            <a:br>
              <a:rPr sz="16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re supported in a way that:</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person-centered &amp; looks at needs from a holistic perspectiv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individual strengths &amp; challenge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need for interdependenc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sters inclusion in the community </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need for individual consent</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legitimate value of caregivers/support persons in the development &amp; implementation of support plan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culturally sensitiv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concerns of the community</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s for succes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uiding Principles </a:t>
            </a:r>
            <a:r>
              <a:rPr b="0" lang="en-US" sz="1600" spc="-1" strike="noStrike">
                <a:solidFill>
                  <a:srgbClr val="000000"/>
                </a:solidFill>
                <a:latin typeface="Arial Black"/>
              </a:rPr>
              <a:t>continued</a:t>
            </a:r>
            <a:br>
              <a:rPr sz="16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givers and Staff:</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ntitled to respect and dig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need for ongoing support is recogniz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access to appropriate tra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is recognized as highly skilled &amp; is entitled to working conditions and remuneration that reflect the value of their work &amp; the skill &amp; dedication requir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givers/parents are recognized for their expertise &amp; insigh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supported in their need for stress management &amp; development of coping skill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oals:  </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ulfill the vision statement by providing leadership to:</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partnerships to provide the supports required by individuals with FASD</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st in locating safe, stable &amp; supportive living condition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ongoing education to front-line workers regarding the ramifications of an FASD &amp; strategies for appropriate support</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gaps in services &amp; then assist in closing these gap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supports that recognize spiritual, emotional, social, physical &amp; intellectual dimension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sustainable program for the community</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e &amp; develop awareness among government departments &amp; funders on the necessity for long-term support</a:t>
            </a:r>
            <a:endParaRPr b="0" lang="en-US" sz="2000" spc="-1" strike="noStrike">
              <a:solidFill>
                <a:srgbClr val="000000"/>
              </a:solidFill>
              <a:latin typeface="Tahoma"/>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viding Training &amp; Community Forums a Highlight</a:t>
            </a:r>
            <a:endParaRPr b="0" lang="en-US" sz="3200" spc="-1" strike="noStrike">
              <a:solidFill>
                <a:srgbClr val="000000"/>
              </a:solidFill>
              <a:latin typeface="Arial Black"/>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ing training &amp; getting community feedback</a:t>
            </a:r>
            <a:endParaRPr b="0" lang="en-US" sz="32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13 training workshops were offered, providing training to over 400 people, throughout the province.  </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were half-day, more basic workshops, with local presenters</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were 1-2 days in length, with presenters with high level of skill and knowledge</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eding were developed from 5 of these workshops to be widely distributed.  </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llent opportunity for people to get to know each other</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see the epiphanies—see people “get it” about FASD</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ecdotally, know that it changed practice in the community</a:t>
            </a:r>
            <a:endParaRPr b="0" lang="en-US" sz="2000" spc="-1" strike="noStrike">
              <a:solidFill>
                <a:srgbClr val="000000"/>
              </a:solidFill>
              <a:latin typeface="Tahoma"/>
            </a:endParaRPr>
          </a:p>
          <a:p>
            <a:pPr lvl="1" marL="67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from Project activities</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sence of ongoing support with some accessibility on a 24/7 basis will have the greatest effect on stability in the lives of individuals with FASD &amp; their quality of life</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entrating on the support aspect rather than building residences, holds the best promise for meeting the needs of all older youth and adults with FASD</a:t>
            </a:r>
            <a:endParaRPr b="0" lang="en-US" sz="18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um of housing options exist in Saskatoon, so preference is to work with others who have expertise in housing, and put project energy into devising the ongoing support system that is not available</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ing with existing organizations &amp; resources is efficient and adds strength, &amp; allows for a more modest design of the proje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ur Models for Supported Housing</a:t>
            </a:r>
            <a:endParaRPr b="0" lang="en-US" sz="3600" spc="-1" strike="noStrike">
              <a:solidFill>
                <a:srgbClr val="000000"/>
              </a:solidFill>
              <a:latin typeface="Arial Black"/>
            </a:endParaRPr>
          </a:p>
        </p:txBody>
      </p:sp>
      <p:grpSp>
        <p:nvGrpSpPr>
          <p:cNvPr id="128" name=""/>
          <p:cNvGrpSpPr/>
          <p:nvPr/>
        </p:nvGrpSpPr>
        <p:grpSpPr>
          <a:xfrm>
            <a:off x="442800" y="1874880"/>
            <a:ext cx="8137080" cy="4102200"/>
            <a:chOff x="442800" y="1874880"/>
            <a:chExt cx="8137080" cy="4102200"/>
          </a:xfrm>
        </p:grpSpPr>
        <p:cxnSp>
          <p:nvCxnSpPr>
            <p:cNvPr id="129" name="_s49164"/>
            <p:cNvCxnSpPr>
              <a:stCxn id="130" idx="0"/>
              <a:endCxn id="131" idx="2"/>
            </p:cNvCxnSpPr>
            <p:nvPr/>
          </p:nvCxnSpPr>
          <p:spPr>
            <a:xfrm flipV="1" rot="16200000">
              <a:off x="5524560" y="2501280"/>
              <a:ext cx="821160" cy="2848680"/>
            </a:xfrm>
            <a:prstGeom prst="bentConnector3">
              <a:avLst>
                <a:gd name="adj1" fmla="val 13903"/>
              </a:avLst>
            </a:prstGeom>
            <a:ln w="28440">
              <a:solidFill>
                <a:srgbClr val="000000"/>
              </a:solidFill>
              <a:miter/>
            </a:ln>
          </p:spPr>
        </p:cxnSp>
        <p:cxnSp>
          <p:nvCxnSpPr>
            <p:cNvPr id="132" name="_s49163"/>
            <p:cNvCxnSpPr>
              <a:stCxn id="133" idx="0"/>
              <a:endCxn id="131" idx="2"/>
            </p:cNvCxnSpPr>
            <p:nvPr/>
          </p:nvCxnSpPr>
          <p:spPr>
            <a:xfrm flipV="1">
              <a:off x="4511520" y="3515040"/>
              <a:ext cx="3600" cy="821160"/>
            </a:xfrm>
            <a:prstGeom prst="bentConnector2">
              <a:avLst/>
            </a:prstGeom>
            <a:ln w="28440">
              <a:solidFill>
                <a:srgbClr val="000000"/>
              </a:solidFill>
              <a:miter/>
            </a:ln>
          </p:spPr>
        </p:cxnSp>
        <p:cxnSp>
          <p:nvCxnSpPr>
            <p:cNvPr id="134" name="_s49162"/>
            <p:cNvCxnSpPr>
              <a:stCxn id="135" idx="0"/>
              <a:endCxn id="131" idx="2"/>
            </p:cNvCxnSpPr>
            <p:nvPr/>
          </p:nvCxnSpPr>
          <p:spPr>
            <a:xfrm flipH="1" flipV="1" rot="5400000">
              <a:off x="2676600" y="2501280"/>
              <a:ext cx="821160" cy="2848680"/>
            </a:xfrm>
            <a:prstGeom prst="bentConnector3">
              <a:avLst>
                <a:gd name="adj1" fmla="val 13903"/>
              </a:avLst>
            </a:prstGeom>
            <a:ln w="28440">
              <a:solidFill>
                <a:srgbClr val="000000"/>
              </a:solidFill>
              <a:miter/>
            </a:ln>
          </p:spPr>
        </p:cxnSp>
        <p:sp>
          <p:nvSpPr>
            <p:cNvPr id="131" name="_s49158"/>
            <p:cNvSpPr/>
            <p:nvPr/>
          </p:nvSpPr>
          <p:spPr>
            <a:xfrm>
              <a:off x="3290760" y="187488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oundational Model</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upport Coordinator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ntors/Advocates</a:t>
              </a:r>
              <a:endParaRPr b="0" lang="en-US" sz="2100" spc="-1" strike="noStrike">
                <a:solidFill>
                  <a:srgbClr val="000000"/>
                </a:solidFill>
                <a:latin typeface="Times New Roman"/>
              </a:endParaRPr>
            </a:p>
          </p:txBody>
        </p:sp>
        <p:sp>
          <p:nvSpPr>
            <p:cNvPr id="135" name="_s49159"/>
            <p:cNvSpPr/>
            <p:nvPr/>
          </p:nvSpPr>
          <p:spPr>
            <a:xfrm>
              <a:off x="44280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Resource Centre</a:t>
              </a:r>
              <a:endParaRPr b="0" lang="en-US" sz="2100" spc="-1" strike="noStrike">
                <a:solidFill>
                  <a:srgbClr val="000000"/>
                </a:solidFill>
                <a:latin typeface="Times New Roman"/>
              </a:endParaRPr>
            </a:p>
          </p:txBody>
        </p:sp>
        <p:sp>
          <p:nvSpPr>
            <p:cNvPr id="133" name="_s49160"/>
            <p:cNvSpPr/>
            <p:nvPr/>
          </p:nvSpPr>
          <p:spPr>
            <a:xfrm>
              <a:off x="329076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Transitional or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mergency Housing</a:t>
              </a:r>
              <a:endParaRPr b="0" lang="en-US" sz="2100" spc="-1" strike="noStrike">
                <a:solidFill>
                  <a:srgbClr val="000000"/>
                </a:solidFill>
                <a:latin typeface="Times New Roman"/>
              </a:endParaRPr>
            </a:p>
          </p:txBody>
        </p:sp>
        <p:sp>
          <p:nvSpPr>
            <p:cNvPr id="130" name="_s49161"/>
            <p:cNvSpPr/>
            <p:nvPr/>
          </p:nvSpPr>
          <p:spPr>
            <a:xfrm>
              <a:off x="613872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Develop Housing</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undational Model</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upport/mentoring/advocacy that is accessible 24 hours/day, as needed, to persons with FASD</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people to live as independently as possible in various housing situations</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receptive housing, from private landlords to intensively supportive hous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foundational model is in place, any of the three other models can also be pursued</a:t>
            </a:r>
            <a:endParaRPr b="0" lang="en-US" sz="28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ssential Elements of Model</a:t>
            </a:r>
            <a:endParaRPr b="0" lang="en-US" sz="3600" spc="-1" strike="noStrike">
              <a:solidFill>
                <a:srgbClr val="000000"/>
              </a:solidFill>
              <a:latin typeface="Arial Black"/>
            </a:endParaRPr>
          </a:p>
        </p:txBody>
      </p:sp>
      <p:sp>
        <p:nvSpPr>
          <p:cNvPr id="13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ersons with FASD</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hasize building on strengths, through recreation, employment, social &amp; family activit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ble relationships with support coordinators/mentors, other service provid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te for and link to services, incom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0"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upport coordinators/ mentors</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training</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equate salary &amp; benefit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ve work environment to avoid burn-out</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work approach so that time away from work is stress-free—know that someone else is providing suppor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Foundational Model of Support Coordinators/Mentors</a:t>
            </a:r>
            <a:endParaRPr b="0" lang="en-US" sz="3600" spc="-1" strike="noStrike">
              <a:solidFill>
                <a:srgbClr val="000000"/>
              </a:solidFill>
              <a:latin typeface="Arial Black"/>
            </a:endParaRPr>
          </a:p>
        </p:txBody>
      </p:sp>
      <p:sp>
        <p:nvSpPr>
          <p:cNvPr id="1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nership developed with Saskatoon Crisis Services, Inc. who provide emergency social services, as well as ongoing support for those who are repeat users of their emergency servic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project would operate as distinct entit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gin with 3 support coordinators who each would provide 1 to 1 support to perhaps 5 persons with FASD</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project expands, mentors would be hired and support coordinators would become team leader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Steering Committee would evolve into Advisory committee to ensure continued focus on FASD</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Saskatoon Crisis Services cannot commit to being the major partner &amp; delivery structure in this project unless funding for 3 years is in pla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is Saskatoon, Saskatchewan</a:t>
            </a:r>
            <a:r>
              <a:rPr b="0" lang="en-US" sz="4000" spc="-1" strike="noStrike">
                <a:solidFill>
                  <a:srgbClr val="000000"/>
                </a:solidFill>
                <a:latin typeface="Arial Black"/>
              </a:rPr>
              <a:t>?</a:t>
            </a:r>
            <a:endParaRPr b="0" lang="en-US" sz="4000" spc="-1" strike="noStrike">
              <a:solidFill>
                <a:srgbClr val="000000"/>
              </a:solidFill>
              <a:latin typeface="Arial Black"/>
            </a:endParaRPr>
          </a:p>
        </p:txBody>
      </p:sp>
      <p:sp>
        <p:nvSpPr>
          <p:cNvPr id="96" name="PlaceHolder 2"/>
          <p:cNvSpPr>
            <a:spLocks noGrp="1"/>
          </p:cNvSpPr>
          <p:nvPr>
            <p:ph/>
          </p:nvPr>
        </p:nvSpPr>
        <p:spPr>
          <a:xfrm>
            <a:off x="837720" y="5791320"/>
            <a:ext cx="7543800" cy="4572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t>
            </a:r>
            <a:r>
              <a:rPr b="0" lang="en-US" sz="2000" spc="-1" strike="noStrike">
                <a:solidFill>
                  <a:srgbClr val="000000"/>
                </a:solidFill>
                <a:latin typeface="Tahoma"/>
              </a:rPr>
              <a:t>http://www.hayriver.com/assets/map-canada.jpg</a:t>
            </a:r>
            <a:endParaRPr b="0" lang="en-US" sz="2000" spc="-1" strike="noStrike">
              <a:solidFill>
                <a:srgbClr val="000000"/>
              </a:solidFill>
              <a:latin typeface="Tahoma"/>
            </a:endParaRPr>
          </a:p>
        </p:txBody>
      </p:sp>
      <p:pic>
        <p:nvPicPr>
          <p:cNvPr id="97" name="" descr=""/>
          <p:cNvPicPr/>
          <p:nvPr/>
        </p:nvPicPr>
        <p:blipFill>
          <a:blip r:embed="rId1"/>
          <a:stretch/>
        </p:blipFill>
        <p:spPr>
          <a:xfrm>
            <a:off x="1752480" y="1600200"/>
            <a:ext cx="5105520" cy="4187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urrent Status of Project</a:t>
            </a:r>
            <a:endParaRPr b="0" lang="en-US" sz="4000" spc="-1" strike="noStrike">
              <a:solidFill>
                <a:srgbClr val="000000"/>
              </a:solidFill>
              <a:latin typeface="Arial Black"/>
            </a:endParaRPr>
          </a:p>
        </p:txBody>
      </p:sp>
      <p:sp>
        <p:nvSpPr>
          <p:cNvPr id="1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from the National Homelessness Initiative was depleted March 31, 2006</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from provincial government will last until May, to complete proceedings from training workshops</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to implement project has not been achieved</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attained a couple of grants, and have applied for others</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to pursue full fund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ants Achieved</a:t>
            </a:r>
            <a:endParaRPr b="0" lang="en-US" sz="4000" spc="-1" strike="noStrike">
              <a:solidFill>
                <a:srgbClr val="000000"/>
              </a:solidFill>
              <a:latin typeface="Arial Black"/>
            </a:endParaRPr>
          </a:p>
        </p:txBody>
      </p:sp>
      <p:sp>
        <p:nvSpPr>
          <p:cNvPr id="1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deral Crime Prevention Grant - $100,000 over 22 months for 1 mentor/advocat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ncial gov’t through Cognitive Disability Fund - $32,000 over 6 months for a Mentor coordinat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Grants Applied for</a:t>
            </a:r>
            <a:endParaRPr b="0" lang="en-US" sz="4000" spc="-1" strike="noStrike">
              <a:solidFill>
                <a:srgbClr val="000000"/>
              </a:solidFill>
              <a:latin typeface="Arial Black"/>
            </a:endParaRPr>
          </a:p>
        </p:txBody>
      </p:sp>
      <p:sp>
        <p:nvSpPr>
          <p:cNvPr id="1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ed by a Metis Organization &amp; a First Nations organization, applied for grant through the Urban Aboriginal Strategy for Aboriginal mentor – not successful</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y of Saskatoon – application for $25,000 for part-time mentor: unknown</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skatoon Health District – application for ongoing training and support for addictions workers; $15,000.  Not successful in March applications, but has been resubmitted for May</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grant through University of Saskatchewan - $6,000 for Masters student to assist with evaluation for Crime Prevention proje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Funding Possibilities</a:t>
            </a: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Research &amp; Knowledge Development Fund/Crime Prevention-provides up to $500,000 annually for up to 3 years for demonstration projec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Homelessness Initiative has put out another call for proposals – 9-10 months of funding</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skatoon United Wa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ewers’ Associat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exus Credit Union; Saskatoon Credit Un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Outcomes:</a:t>
            </a:r>
            <a:endParaRPr b="0" lang="en-US" sz="4000" spc="-1" strike="noStrike">
              <a:solidFill>
                <a:srgbClr val="000000"/>
              </a:solidFill>
              <a:latin typeface="Arial Black"/>
            </a:endParaRPr>
          </a:p>
        </p:txBody>
      </p:sp>
      <p:sp>
        <p:nvSpPr>
          <p:cNvPr id="1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gether with similar project in Regina have:</a:t>
            </a:r>
            <a:endParaRPr b="0" lang="en-US" sz="32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the profile and awareness of FASD</a:t>
            </a:r>
            <a:endParaRPr b="0" lang="en-US" sz="20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thin communitie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ong service provider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ong politicians</a:t>
            </a:r>
            <a:endParaRPr b="0" lang="en-US" sz="16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profile of the FASD Support Network and recognition of its expertise</a:t>
            </a:r>
            <a:endParaRPr b="0" lang="en-US" sz="20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ased contacts and networking within the province, communities, and government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  On program advisory committee of Provincial technical institute; Judge in youth court who requests staff from Network attend circles when FASD is an issue</a:t>
            </a:r>
            <a:endParaRPr b="0" lang="en-US" sz="16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pin-off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4.  Other Programs/ Initiatives</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gnitive Disability Strategy</a:t>
            </a:r>
            <a:endParaRPr b="0" lang="en-US" sz="32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ncially run</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aboration of primarily 4 provincial Depts:</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Education)</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 Resources (Social Services)</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ions &amp; Public Safety</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lth</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ersons with any type of cognitive disability</a:t>
            </a: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gnitive Disability Strategy </a:t>
            </a:r>
            <a:r>
              <a:rPr b="0" lang="en-US" sz="2800" spc="-1" strike="noStrike">
                <a:solidFill>
                  <a:srgbClr val="000000"/>
                </a:solidFill>
                <a:latin typeface="Arial Black"/>
              </a:rPr>
              <a:t>continued</a:t>
            </a:r>
            <a:endParaRPr b="0" lang="en-US" sz="28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l Process</a:t>
            </a:r>
            <a:endParaRPr b="0" lang="en-US" sz="32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ake proces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al proces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using DLSA Assessment tool) to establish level of fund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ruitment of a case coordinator and a tea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a plan for individu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al of pla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bursement of fund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re-assessment</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ized fun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ther Organizations &amp; Initiatives in Saskatchewan</a:t>
            </a:r>
            <a:endParaRPr b="0" lang="en-US" sz="3200" spc="-1" strike="noStrike">
              <a:solidFill>
                <a:srgbClr val="000000"/>
              </a:solidFill>
              <a:latin typeface="Arial Black"/>
            </a:endParaRPr>
          </a:p>
        </p:txBody>
      </p:sp>
      <p:sp>
        <p:nvSpPr>
          <p:cNvPr id="15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vention Institute</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cy and information to prevent handicap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D is one of the preventable handicaps they focus o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involved in prevention of FASD</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Organizations &amp; Initiative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skatoon Tribal Council and John Howard Society: Extra-judicial measures project for youth</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screening tool – validation proces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orative Circles project</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ms to be political will to change IQ&lt;70 as requirement for established service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ank you!</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 Information: Eunice Bergstrom</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Housing Project for Older Youth and Adults with FASD</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SD Network of Saskatchewa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 </a:t>
            </a:r>
            <a:r>
              <a:rPr b="0" lang="en-US" sz="3200" spc="-1" strike="noStrike" u="sng">
                <a:solidFill>
                  <a:srgbClr val="996633"/>
                </a:solidFill>
                <a:uFillTx/>
                <a:latin typeface="Tahoma"/>
                <a:hlinkClick r:id="rId1"/>
              </a:rPr>
              <a:t>http://www.skfasnetwork.ca</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e:  (306) 975-0896/975-0884</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0 Cynthia Street, Saskatoon S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entation:</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ver 4 Area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ganizations, Programs with a Specific FASD focu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FASD Support Network of Saskatchewan &amp; the FASD Inter-agency committe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Supported Housing Projec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Other Programs and Projects in the Provi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 Organizations/Programs Specifically Focused on FASD in Saskatchewan</a:t>
            </a:r>
            <a:endParaRPr b="0" lang="en-US" sz="2800" spc="-1" strike="noStrike">
              <a:solidFill>
                <a:srgbClr val="000000"/>
              </a:solidFill>
              <a:latin typeface="Arial Black"/>
            </a:endParaRPr>
          </a:p>
        </p:txBody>
      </p:sp>
      <p:sp>
        <p:nvSpPr>
          <p:cNvPr id="101"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1000"/>
          </a:bodyPr>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SD Support Network of Saskatchewan</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onal FASD Inter-agency Groups throughout the province</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ported Housing Project for Persons with FASD</a:t>
            </a:r>
            <a:endParaRPr b="0" lang="en-US" sz="2800" spc="-1" strike="noStrike">
              <a:solidFill>
                <a:srgbClr val="000000"/>
              </a:solidFill>
              <a:latin typeface="Tahoma"/>
            </a:endParaRPr>
          </a:p>
        </p:txBody>
      </p:sp>
      <p:sp>
        <p:nvSpPr>
          <p:cNvPr id="102"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vincial Cognitive Disability Strategy (CD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evention Institute of Saskatchew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rojects and Initi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 FASD Support Network of Saskatchewan</a:t>
            </a:r>
            <a:endParaRPr b="0" lang="en-US" sz="4000" spc="-1" strike="noStrike">
              <a:solidFill>
                <a:srgbClr val="000000"/>
              </a:solidFill>
              <a:latin typeface="Arial Black"/>
            </a:endParaRPr>
          </a:p>
        </p:txBody>
      </p:sp>
      <p:sp>
        <p:nvSpPr>
          <p:cNvPr id="10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87000"/>
          </a:bodyPr>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gency</a:t>
            </a:r>
            <a:endParaRPr b="0" lang="en-US" sz="2800" spc="-1" strike="noStrike">
              <a:solidFill>
                <a:srgbClr val="000000"/>
              </a:solidFill>
              <a:latin typeface="Tahoma"/>
            </a:endParaRPr>
          </a:p>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d by a very active parent board</a:t>
            </a:r>
            <a:endParaRPr b="0" lang="en-US" sz="2800" spc="-1" strike="noStrike">
              <a:solidFill>
                <a:srgbClr val="000000"/>
              </a:solidFill>
              <a:latin typeface="Tahoma"/>
            </a:endParaRPr>
          </a:p>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profit</a:t>
            </a:r>
            <a:endParaRPr b="0" lang="en-US" sz="2800" spc="-1" strike="noStrike">
              <a:solidFill>
                <a:srgbClr val="000000"/>
              </a:solidFill>
              <a:latin typeface="Tahoma"/>
            </a:endParaRPr>
          </a:p>
          <a:p>
            <a:pPr marL="464040" indent="-464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primarily by the provincial government - </a:t>
            </a:r>
            <a:r>
              <a:rPr b="0" lang="en-US" sz="2400" spc="-1" strike="noStrike">
                <a:solidFill>
                  <a:srgbClr val="000000"/>
                </a:solidFill>
                <a:latin typeface="Tahoma"/>
              </a:rPr>
              <a:t>Depts. Of Health, Learning, Community Resources, Corrections &amp; Public Safety</a:t>
            </a:r>
            <a:endParaRPr b="0" lang="en-US" sz="2400" spc="-1" strike="noStrike">
              <a:solidFill>
                <a:srgbClr val="000000"/>
              </a:solidFill>
              <a:latin typeface="Tahoma"/>
            </a:endParaRPr>
          </a:p>
          <a:p>
            <a:pPr marL="46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6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Special project funding</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ffed b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ve director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s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oordinat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develope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ision &amp; Activities of the FASD Support Network</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 A climate in Saskatchewan where persons with FASD are productive &amp; valued members of our community </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ities:</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Parents &amp; Families Through:</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information &amp; education</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terly newsletter, Twice annual publication, Tip sheet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lephone support; parent support group</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e assessment &amp; diagnosi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te for lifelong supports &amp; service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ster increased awarenes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partnerships throughout the province</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skatoon FASD Interagency Committee</a:t>
            </a:r>
            <a:endParaRPr b="0" lang="en-US" sz="36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sed mostly of staff from</a:t>
            </a:r>
            <a:endParaRPr b="0" lang="en-US" sz="28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community based organizations</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Nations &amp; Metis organizations, </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amp; provincial government organizations</a:t>
            </a:r>
            <a:endParaRPr b="0" lang="en-US" sz="24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regularly to exchange information and support FASD initiatives</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evolving in the province because fairly recently established</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operate somewhat differently in each re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3. Background &amp; Organization of Supported Housing Project</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er 2004: </a:t>
            </a:r>
            <a:r>
              <a:rPr b="0" lang="en-US" sz="2400" spc="-1" strike="noStrike">
                <a:solidFill>
                  <a:srgbClr val="000000"/>
                </a:solidFill>
                <a:latin typeface="Tahoma"/>
              </a:rPr>
              <a:t>FASD Support Network &amp; the Saskatoon FASD Interagency committee applied for Homelessness grant from the federal government</a:t>
            </a:r>
            <a:endParaRPr b="0" lang="en-US" sz="24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nt was approved by local advisory committee</a:t>
            </a:r>
            <a:endParaRPr b="0" lang="en-US" sz="2800" spc="-1" strike="noStrike">
              <a:solidFill>
                <a:srgbClr val="000000"/>
              </a:solidFill>
              <a:latin typeface="Tahoma"/>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to include feasibility study &amp; develop a plan to put supported housing in place for persons with FASD</a:t>
            </a:r>
            <a:r>
              <a:rPr b="0" lang="en-US" sz="3200" spc="-1" strike="noStrike">
                <a:solidFill>
                  <a:srgbClr val="000000"/>
                </a:solidFill>
                <a:latin typeface="Tahoma"/>
              </a:rPr>
              <a:t> </a:t>
            </a:r>
            <a:endParaRPr b="0" lang="en-US" sz="32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2004:  Steering Committee developed from Network &amp; Inter-agency group; project developer hi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ies of the Project</a:t>
            </a:r>
            <a:endParaRPr b="0" lang="en-US" sz="4000" spc="-1" strike="noStrike">
              <a:solidFill>
                <a:srgbClr val="000000"/>
              </a:solidFill>
              <a:latin typeface="Arial Black"/>
            </a:endParaRPr>
          </a:p>
        </p:txBody>
      </p:sp>
      <p:sp>
        <p:nvSpPr>
          <p:cNvPr id="11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terature review</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ing vision, guiding principles &amp; objectives</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ising awareness of project; networking with others in community &amp; developing partnerships</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information &amp; training to others in the community</a:t>
            </a:r>
            <a:endParaRPr b="0" lang="en-US" sz="20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range of needs of persons with FAS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ntory of community supports &amp; existing resource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gaps &amp; proposing ways to fill them</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engthening the FASD Support Networ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4:37:15Z</dcterms:created>
  <dc:creator>Eunice</dc:creator>
  <dc:description/>
  <dc:language>en-US</dc:language>
  <cp:lastModifiedBy>roberes</cp:lastModifiedBy>
  <cp:lastPrinted>2006-04-21T21:28:34Z</cp:lastPrinted>
  <dcterms:modified xsi:type="dcterms:W3CDTF">2006-04-25T13:59:30Z</dcterms:modified>
  <cp:revision>10</cp:revision>
  <dc:subject/>
  <dc:title>The Saskatoon Supported Housing Project for </dc:title>
</cp:coreProperties>
</file>