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png" ContentType="image/png"/>
  <Override PartName="/ppt/media/image17.wmf" ContentType="image/x-wmf"/>
  <Override PartName="/ppt/media/image11.wmf" ContentType="image/x-wmf"/>
  <Override PartName="/ppt/media/image7.png" ContentType="image/png"/>
  <Override PartName="/ppt/media/image8.png" ContentType="image/png"/>
  <Override PartName="/ppt/media/image16.wmf" ContentType="image/x-wmf"/>
  <Override PartName="/ppt/media/image21.jpeg" ContentType="image/jpeg"/>
  <Override PartName="/ppt/media/image19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6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4279A-F8CB-49CE-8FD9-E1A04C775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30640" cy="17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 slides from Hank showing basin landcover and nutrient applica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30640" cy="17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 slides from Hank showing basin landcover and nutrient applica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30640" cy="17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 slides from Hank showing basin landcover and nutrient applica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30640" cy="17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 slides from Hank showing basin landcover and nutrient applica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30640" cy="17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 slides from Hank showing basin landcover and nutrient applica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30640" cy="411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tial Patterns from H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-term patter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on, Keokuk, Winona.Clint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livery ratios for these subbas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30640" cy="17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 slides from Hank showing basin landcover and nutrient applica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30640" cy="17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 slides from Hank showing basin landcover and nutrient applica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30640" cy="17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 slides from Hank showing basin landcover and nutrient applica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30640" cy="17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 slides from Hank showing basin landcover and nutrient applica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30640" cy="17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 slides from Hank showing basin landcover and nutrient applica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30640" cy="17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 slides from Hank showing basin landcover and nutrient applica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30640" cy="17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 slides from Hank showing basin landcover and nutrient applica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30640" cy="17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 slides from Hank showing basin landcover and nutrient applica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30640" cy="17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 slides from Hank showing basin landcover and nutrient applica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30640" cy="17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 slides from Hank showing basin landcover and nutrient applica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30640" cy="17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 slides from Hank showing basin landcover and nutrient applica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30640" cy="17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 slides from Hank showing basin landcover and nutrient applica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30640" cy="17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 slides from Hank showing basin landcover and nutrient applica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30640" cy="17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 slides from Hank showing basin landcover and nutrient applica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30640" cy="17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 slides from Hank showing basin landcover and nutrient applica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EACA-BEE4-4D11-9C4C-00C03BE97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40A3-1B9C-4824-BBEA-FA961C55A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9C2A-0A84-438E-9130-16AC02DAD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3047-7923-482E-B4FF-34A756551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B48A-E701-46AF-8ADD-A7694D19E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462B-30A1-4B6F-A8C9-7BB335DF3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2CE2-4069-4934-B810-D4313858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F08A-F0EA-463A-B0C1-443BB9217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D527-3EBC-42CD-8934-5B17F4555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E542-2082-410E-92CE-9324CFBB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5F76-4857-40F0-90D7-86FC73D4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F894-EDFD-448F-B565-26AB1058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E26E4-816A-434D-B78D-0D4A3B3612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3.wm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5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G0011" descr=""/>
          <p:cNvPicPr/>
          <p:nvPr/>
        </p:nvPicPr>
        <p:blipFill>
          <a:blip r:embed="rId1"/>
          <a:srcRect l="11978" t="18750" r="16147" b="10940"/>
          <a:stretch/>
        </p:blipFill>
        <p:spPr>
          <a:xfrm>
            <a:off x="-1219320" y="0"/>
            <a:ext cx="10515600" cy="6858000"/>
          </a:xfrm>
          <a:prstGeom prst="rect">
            <a:avLst/>
          </a:prstGeom>
          <a:ln w="9360">
            <a:solidFill>
              <a:srgbClr val="b2b2b2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49" name=""/>
          <p:cNvSpPr/>
          <p:nvPr/>
        </p:nvSpPr>
        <p:spPr>
          <a:xfrm>
            <a:off x="2768760" y="-304920"/>
            <a:ext cx="6298920" cy="2438640"/>
          </a:xfrm>
          <a:prstGeom prst="rect">
            <a:avLst/>
          </a:prstGeom>
          <a:solidFill>
            <a:srgbClr val="0d03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Long Term Biological Monitoring on the Upper Mississippi River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A Springboard For Broad-Scale, Multidisciplinary Investiga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57440" y="5765760"/>
            <a:ext cx="5829120" cy="990720"/>
          </a:xfrm>
          <a:prstGeom prst="rect">
            <a:avLst/>
          </a:prstGeom>
          <a:solidFill>
            <a:srgbClr val="0d03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 Black"/>
              </a:rPr>
              <a:t>David M. Sobal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 Black"/>
              </a:rPr>
              <a:t>U.S. Geological Surv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 Black"/>
              </a:rPr>
              <a:t>Upper Midwest Environmental Sciences Ce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buClr>
                <a:srgbClr val="ffff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c_USGSid" descr=""/>
          <p:cNvPicPr/>
          <p:nvPr/>
        </p:nvPicPr>
        <p:blipFill>
          <a:blip r:embed="rId2"/>
          <a:stretch/>
        </p:blipFill>
        <p:spPr>
          <a:xfrm>
            <a:off x="0" y="0"/>
            <a:ext cx="1809720" cy="6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Fixed Locations - Fixed Interval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95320" y="1371600"/>
            <a:ext cx="75628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manent sampling locations (8-20) in each of 6 study reac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cus on short-term variations, watershed influences, downstream transformation and trans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-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week sampling interv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bout  3,800 site visits per ye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c_USGSid_NM" descr=""/>
          <p:cNvPicPr/>
          <p:nvPr/>
        </p:nvPicPr>
        <p:blipFill>
          <a:blip r:embed="rId1"/>
          <a:stretch/>
        </p:blipFill>
        <p:spPr>
          <a:xfrm>
            <a:off x="0" y="6662880"/>
            <a:ext cx="722160" cy="19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Stratified Random Sampl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58680" y="1371600"/>
            <a:ext cx="73472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ives unbiased estimates of seasonal conditions in broad aquatic areas within the study reac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arterly sampling in specific date window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-5 sampling strata (probability sample) in each of 6 study reac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50 sites per episode, per study reach (3,600 site visits per yea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c_USGSid_NM" descr=""/>
          <p:cNvPicPr/>
          <p:nvPr/>
        </p:nvPicPr>
        <p:blipFill>
          <a:blip r:embed="rId1"/>
          <a:stretch/>
        </p:blipFill>
        <p:spPr>
          <a:xfrm>
            <a:off x="0" y="6662880"/>
            <a:ext cx="722160" cy="19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bathyB" descr=""/>
          <p:cNvPicPr/>
          <p:nvPr/>
        </p:nvPicPr>
        <p:blipFill>
          <a:blip r:embed="rId1"/>
          <a:stretch/>
        </p:blipFill>
        <p:spPr>
          <a:xfrm>
            <a:off x="1092240" y="262080"/>
            <a:ext cx="1711440" cy="5486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227240" y="1481040"/>
            <a:ext cx="1268280" cy="2514600"/>
          </a:xfrm>
          <a:prstGeom prst="rect">
            <a:avLst/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27240" y="1481040"/>
            <a:ext cx="2168280" cy="83844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03440" y="4006800"/>
            <a:ext cx="3200400" cy="214308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12840" y="3987720"/>
            <a:ext cx="2189160" cy="217008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14600" y="1481040"/>
            <a:ext cx="3182760" cy="82872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nox_velb" descr=""/>
          <p:cNvPicPr/>
          <p:nvPr/>
        </p:nvPicPr>
        <p:blipFill>
          <a:blip r:embed="rId2"/>
          <a:stretch/>
        </p:blipFill>
        <p:spPr>
          <a:xfrm>
            <a:off x="3429000" y="2362320"/>
            <a:ext cx="4764240" cy="37954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376440" y="2320920"/>
            <a:ext cx="2319480" cy="38368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343400" y="304920"/>
            <a:ext cx="3733920" cy="1523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SRS Spatial Sca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Water Quality Measur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1219320"/>
            <a:ext cx="45720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tal nitro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mon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itrate + nit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tal phospho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luble reactive ph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solved Si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tal suspended sol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olatile suspended sol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lorophyll/phytoplank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ons : Ca,K,Mg,Na: Cl,S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d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52520" y="1219320"/>
            <a:ext cx="358164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ter dep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chi transpar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ce and s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solved oxy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du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urbid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elo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c_USGSid_NM" descr=""/>
          <p:cNvPicPr/>
          <p:nvPr/>
        </p:nvPicPr>
        <p:blipFill>
          <a:blip r:embed="rId1"/>
          <a:stretch/>
        </p:blipFill>
        <p:spPr>
          <a:xfrm>
            <a:off x="0" y="6662880"/>
            <a:ext cx="722160" cy="19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LTRMP WQ Provides Fundamental Limnological Inform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5280" y="1904760"/>
            <a:ext cx="69343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38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mphasis  on biological aspects of water quality: nutrients, sediment, and physical limnolog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38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1993 to present: 7 study reaches (9 navigational pools,  40 tributarie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38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Only source of current limnological data for much of Upper Mississippi River Syste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c_USGSid_NM" descr=""/>
          <p:cNvPicPr/>
          <p:nvPr/>
        </p:nvPicPr>
        <p:blipFill>
          <a:blip r:embed="rId1"/>
          <a:stretch/>
        </p:blipFill>
        <p:spPr>
          <a:xfrm>
            <a:off x="0" y="6662880"/>
            <a:ext cx="72216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Program Resources Are Stretch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1295280"/>
            <a:ext cx="73911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ver 1,000 river miles within the study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 field stations with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out $150 per site vis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85,000 chemical measurements in 1999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b &amp; Field QA/QC = about 40% of 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ut $2.50 per measurement (12% of WQ budget in LTRM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0% reduction in effort in FY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reductions lik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c_USGSid_NM" descr=""/>
          <p:cNvPicPr/>
          <p:nvPr/>
        </p:nvPicPr>
        <p:blipFill>
          <a:blip r:embed="rId1"/>
          <a:stretch/>
        </p:blipFill>
        <p:spPr>
          <a:xfrm>
            <a:off x="0" y="6662880"/>
            <a:ext cx="722160" cy="19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LTRMP Supports Multiple Scales of Investigation and Collab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28800" y="2286000"/>
            <a:ext cx="59436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812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hole Basin - Decad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812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River reaches (multiple year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812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ndividual locations (hours-year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c_USGSid_NM" descr=""/>
          <p:cNvPicPr/>
          <p:nvPr/>
        </p:nvPicPr>
        <p:blipFill>
          <a:blip r:embed="rId1"/>
          <a:stretch/>
        </p:blipFill>
        <p:spPr>
          <a:xfrm>
            <a:off x="0" y="6662880"/>
            <a:ext cx="722160" cy="19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tn-yield" descr=""/>
          <p:cNvPicPr/>
          <p:nvPr/>
        </p:nvPicPr>
        <p:blipFill>
          <a:blip r:embed="rId1"/>
          <a:stretch/>
        </p:blipFill>
        <p:spPr>
          <a:xfrm>
            <a:off x="0" y="-345960"/>
            <a:ext cx="9144000" cy="7203960"/>
          </a:xfrm>
          <a:prstGeom prst="rect">
            <a:avLst/>
          </a:prstGeom>
          <a:ln w="0">
            <a:noFill/>
          </a:ln>
        </p:spPr>
      </p:pic>
      <p:pic>
        <p:nvPicPr>
          <p:cNvPr id="124" name="c_USGSid_NM" descr=""/>
          <p:cNvPicPr/>
          <p:nvPr/>
        </p:nvPicPr>
        <p:blipFill>
          <a:blip r:embed="rId2"/>
          <a:stretch/>
        </p:blipFill>
        <p:spPr>
          <a:xfrm>
            <a:off x="14400" y="6630840"/>
            <a:ext cx="760320" cy="2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570560" y="3403440"/>
            <a:ext cx="1440" cy="493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570560" y="3403440"/>
            <a:ext cx="1440" cy="493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066680" y="3049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Fall Nitrate + Nitrite in Pools 4, 8, and 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c_USGSid_NM" descr=""/>
          <p:cNvPicPr/>
          <p:nvPr/>
        </p:nvPicPr>
        <p:blipFill>
          <a:blip r:embed="rId3"/>
          <a:stretch/>
        </p:blipFill>
        <p:spPr>
          <a:xfrm>
            <a:off x="0" y="6662880"/>
            <a:ext cx="722160" cy="1904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533520" y="971640"/>
            <a:ext cx="8229600" cy="52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otal Nitrogen Flux in Pool 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85800" y="1295280"/>
          <a:ext cx="7848720" cy="527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295280"/>
                    <a:ext cx="7848720" cy="52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4648320" y="2286000"/>
            <a:ext cx="99036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40f9f"/>
                </a:solidFill>
                <a:latin typeface="Arial"/>
              </a:rPr>
              <a:t>Inpu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13e0d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91320" y="2438280"/>
            <a:ext cx="118800" cy="11916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2666880"/>
            <a:ext cx="152280" cy="152640"/>
          </a:xfrm>
          <a:prstGeom prst="flowChartExtract">
            <a:avLst/>
          </a:prstGeom>
          <a:solidFill>
            <a:srgbClr val="f13e0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c_USGSid_NM" descr=""/>
          <p:cNvPicPr/>
          <p:nvPr/>
        </p:nvPicPr>
        <p:blipFill>
          <a:blip r:embed="rId3"/>
          <a:stretch/>
        </p:blipFill>
        <p:spPr>
          <a:xfrm>
            <a:off x="0" y="6662880"/>
            <a:ext cx="722160" cy="19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90720" y="3429000"/>
            <a:ext cx="2590560" cy="642600"/>
          </a:xfrm>
          <a:prstGeom prst="rect">
            <a:avLst/>
          </a:prstGeom>
          <a:solidFill>
            <a:srgbClr val="3333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TRM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4343400"/>
            <a:ext cx="2590920" cy="642600"/>
          </a:xfrm>
          <a:prstGeom prst="rect">
            <a:avLst/>
          </a:prstGeom>
          <a:solidFill>
            <a:srgbClr val="3333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ASQ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3108240"/>
            <a:ext cx="2590920" cy="642600"/>
          </a:xfrm>
          <a:prstGeom prst="rect">
            <a:avLst/>
          </a:prstGeom>
          <a:solidFill>
            <a:srgbClr val="3333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AWQ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66880" y="1981080"/>
            <a:ext cx="2590920" cy="642600"/>
          </a:xfrm>
          <a:prstGeom prst="rect">
            <a:avLst/>
          </a:prstGeom>
          <a:solidFill>
            <a:srgbClr val="3333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USEP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76520" y="4495680"/>
            <a:ext cx="2590560" cy="642600"/>
          </a:xfrm>
          <a:prstGeom prst="rect">
            <a:avLst/>
          </a:prstGeom>
          <a:solidFill>
            <a:srgbClr val="3333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USACO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5105520"/>
            <a:ext cx="2590560" cy="642600"/>
          </a:xfrm>
          <a:prstGeom prst="rect">
            <a:avLst/>
          </a:prstGeom>
          <a:solidFill>
            <a:srgbClr val="3333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R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5791320"/>
            <a:ext cx="2438280" cy="642600"/>
          </a:xfrm>
          <a:prstGeom prst="rect">
            <a:avLst/>
          </a:prstGeom>
          <a:solidFill>
            <a:srgbClr val="3333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istri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24480" y="1523880"/>
            <a:ext cx="2590920" cy="642600"/>
          </a:xfrm>
          <a:prstGeom prst="rect">
            <a:avLst/>
          </a:prstGeom>
          <a:solidFill>
            <a:srgbClr val="3333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USFW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676520"/>
            <a:ext cx="2590920" cy="642600"/>
          </a:xfrm>
          <a:prstGeom prst="rect">
            <a:avLst/>
          </a:prstGeom>
          <a:solidFill>
            <a:srgbClr val="3333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91320" y="5943600"/>
            <a:ext cx="2590560" cy="642600"/>
          </a:xfrm>
          <a:prstGeom prst="rect">
            <a:avLst/>
          </a:prstGeom>
          <a:solidFill>
            <a:srgbClr val="3333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US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029200" y="609480"/>
            <a:ext cx="2590920" cy="642600"/>
          </a:xfrm>
          <a:prstGeom prst="rect">
            <a:avLst/>
          </a:prstGeom>
          <a:solidFill>
            <a:srgbClr val="3333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H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4114800"/>
            <a:ext cx="2590920" cy="642600"/>
          </a:xfrm>
          <a:prstGeom prst="rect">
            <a:avLst/>
          </a:prstGeom>
          <a:solidFill>
            <a:srgbClr val="3333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EP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2778120"/>
            <a:ext cx="2590560" cy="642600"/>
          </a:xfrm>
          <a:prstGeom prst="rect">
            <a:avLst/>
          </a:prstGeom>
          <a:solidFill>
            <a:srgbClr val="3333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DN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1371600"/>
            <a:ext cx="2590920" cy="642600"/>
          </a:xfrm>
          <a:prstGeom prst="rect">
            <a:avLst/>
          </a:prstGeom>
          <a:solidFill>
            <a:srgbClr val="3333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P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2778120"/>
            <a:ext cx="2590920" cy="642600"/>
          </a:xfrm>
          <a:prstGeom prst="rect">
            <a:avLst/>
          </a:prstGeom>
          <a:solidFill>
            <a:srgbClr val="3333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DN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5257800"/>
            <a:ext cx="2590920" cy="642600"/>
          </a:xfrm>
          <a:prstGeom prst="rect">
            <a:avLst/>
          </a:prstGeom>
          <a:solidFill>
            <a:srgbClr val="3333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oD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76720" y="6019920"/>
            <a:ext cx="2590560" cy="642600"/>
          </a:xfrm>
          <a:prstGeom prst="rect">
            <a:avLst/>
          </a:prstGeom>
          <a:solidFill>
            <a:srgbClr val="3333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DN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19920" y="2286000"/>
            <a:ext cx="2895480" cy="642600"/>
          </a:xfrm>
          <a:prstGeom prst="rect">
            <a:avLst/>
          </a:prstGeom>
          <a:solidFill>
            <a:srgbClr val="3333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et.Counc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2280" y="0"/>
            <a:ext cx="4724640" cy="1556280"/>
          </a:xfrm>
          <a:prstGeom prst="rect">
            <a:avLst/>
          </a:prstGeom>
          <a:solidFill>
            <a:srgbClr val="cc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UMR PARTN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43200" y="3809880"/>
            <a:ext cx="2590920" cy="642600"/>
          </a:xfrm>
          <a:prstGeom prst="rect">
            <a:avLst/>
          </a:prstGeom>
          <a:solidFill>
            <a:srgbClr val="3333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UMES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94100466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279760" cy="54100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990720" y="22860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Black"/>
              </a:rPr>
              <a:t>Mississippi River near Harper’s Ferry, Iowa  (Pool 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c_USGSid_NM" descr=""/>
          <p:cNvPicPr/>
          <p:nvPr/>
        </p:nvPicPr>
        <p:blipFill>
          <a:blip r:embed="rId2"/>
          <a:stretch/>
        </p:blipFill>
        <p:spPr>
          <a:xfrm>
            <a:off x="0" y="6662880"/>
            <a:ext cx="722160" cy="19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bkclassb" descr=""/>
          <p:cNvPicPr/>
          <p:nvPr/>
        </p:nvPicPr>
        <p:blipFill>
          <a:blip r:embed="rId1"/>
          <a:stretch/>
        </p:blipFill>
        <p:spPr>
          <a:xfrm>
            <a:off x="4876920" y="190440"/>
            <a:ext cx="3760560" cy="6477120"/>
          </a:xfrm>
          <a:prstGeom prst="rect">
            <a:avLst/>
          </a:prstGeom>
          <a:ln w="0">
            <a:noFill/>
          </a:ln>
        </p:spPr>
      </p:pic>
      <p:pic>
        <p:nvPicPr>
          <p:cNvPr id="141" name="c_USGSid_NM" descr=""/>
          <p:cNvPicPr/>
          <p:nvPr/>
        </p:nvPicPr>
        <p:blipFill>
          <a:blip r:embed="rId2"/>
          <a:stretch/>
        </p:blipFill>
        <p:spPr>
          <a:xfrm>
            <a:off x="0" y="6662880"/>
            <a:ext cx="722160" cy="19044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1447920" y="212760"/>
            <a:ext cx="2438280" cy="6431040"/>
            <a:chOff x="1447920" y="212760"/>
            <a:chExt cx="2438280" cy="6431040"/>
          </a:xfrm>
        </p:grpSpPr>
        <p:pic>
          <p:nvPicPr>
            <p:cNvPr id="143" name="TEST2" descr=""/>
            <p:cNvPicPr/>
            <p:nvPr/>
          </p:nvPicPr>
          <p:blipFill>
            <a:blip r:embed="rId3"/>
            <a:stretch/>
          </p:blipFill>
          <p:spPr>
            <a:xfrm>
              <a:off x="1447920" y="212760"/>
              <a:ext cx="2249280" cy="643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447920" y="356544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 flipV="1">
              <a:off x="1828440" y="3793680"/>
              <a:ext cx="6094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38280" y="1965240"/>
              <a:ext cx="1447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 Black"/>
                </a:rPr>
                <a:t>unsui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2971800" y="2193840"/>
              <a:ext cx="228600" cy="457200"/>
            </a:xfrm>
            <a:prstGeom prst="line">
              <a:avLst/>
            </a:prstGeom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UMR Collaborations Within USGS Are Well Establish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838160" y="2666880"/>
            <a:ext cx="54676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Aft>
                <a:spcPts val="18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LTRMP-UMESC-NRP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18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UMESC-LTRMP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18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LTRMP – NASQ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18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LTRMP-Districts-NASQ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c_USGSid_NM" descr=""/>
          <p:cNvPicPr/>
          <p:nvPr/>
        </p:nvPicPr>
        <p:blipFill>
          <a:blip r:embed="rId1"/>
          <a:stretch/>
        </p:blipFill>
        <p:spPr>
          <a:xfrm>
            <a:off x="0" y="6662880"/>
            <a:ext cx="722160" cy="19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LTRMP And NASQAN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38080" y="1905120"/>
            <a:ext cx="74678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00000"/>
              </a:lnSpc>
              <a:spcAft>
                <a:spcPts val="18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iffering objectives, differing design, but overlap in study areas and paramete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Aft>
                <a:spcPts val="18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ollaborations in selected areas seem very promi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Aft>
                <a:spcPts val="18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 more complete picture can be obtained in combination than in isol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c_USGSid_NM" descr=""/>
          <p:cNvPicPr/>
          <p:nvPr/>
        </p:nvPicPr>
        <p:blipFill>
          <a:blip r:embed="rId1"/>
          <a:stretch/>
        </p:blipFill>
        <p:spPr>
          <a:xfrm>
            <a:off x="0" y="6662880"/>
            <a:ext cx="722160" cy="19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Differing Focus = Differing Desig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c_USGSid_NM" descr=""/>
          <p:cNvPicPr/>
          <p:nvPr/>
        </p:nvPicPr>
        <p:blipFill>
          <a:blip r:embed="rId1"/>
          <a:stretch/>
        </p:blipFill>
        <p:spPr>
          <a:xfrm>
            <a:off x="0" y="6662880"/>
            <a:ext cx="722160" cy="190440"/>
          </a:xfrm>
          <a:prstGeom prst="rect">
            <a:avLst/>
          </a:prstGeom>
          <a:ln w="0">
            <a:noFill/>
          </a:ln>
        </p:spPr>
      </p:pic>
      <p:grpSp>
        <p:nvGrpSpPr>
          <p:cNvPr id="156" name=""/>
          <p:cNvGrpSpPr/>
          <p:nvPr/>
        </p:nvGrpSpPr>
        <p:grpSpPr>
          <a:xfrm>
            <a:off x="419040" y="1447920"/>
            <a:ext cx="8305920" cy="2133360"/>
            <a:chOff x="419040" y="1447920"/>
            <a:chExt cx="8305920" cy="2133360"/>
          </a:xfrm>
        </p:grpSpPr>
        <p:grpSp>
          <p:nvGrpSpPr>
            <p:cNvPr id="157" name=""/>
            <p:cNvGrpSpPr/>
            <p:nvPr/>
          </p:nvGrpSpPr>
          <p:grpSpPr>
            <a:xfrm>
              <a:off x="6210360" y="1447920"/>
              <a:ext cx="2514600" cy="2057400"/>
              <a:chOff x="6210360" y="1447920"/>
              <a:chExt cx="2514600" cy="205740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6210360" y="1447920"/>
                <a:ext cx="2400120" cy="787320"/>
                <a:chOff x="6210360" y="1447920"/>
                <a:chExt cx="2400120" cy="78732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6210360" y="1447920"/>
                  <a:ext cx="2400120" cy="787320"/>
                </a:xfrm>
                <a:custGeom>
                  <a:avLst/>
                  <a:gdLst/>
                  <a:ahLst/>
                  <a:rect l="l" t="t" r="r" b="b"/>
                  <a:pathLst>
                    <a:path w="1512" h="496">
                      <a:moveTo>
                        <a:pt x="264" y="0"/>
                      </a:moveTo>
                      <a:lnTo>
                        <a:pt x="1512" y="0"/>
                      </a:lnTo>
                      <a:cubicBezTo>
                        <a:pt x="1496" y="32"/>
                        <a:pt x="1475" y="62"/>
                        <a:pt x="1464" y="96"/>
                      </a:cubicBezTo>
                      <a:cubicBezTo>
                        <a:pt x="1461" y="104"/>
                        <a:pt x="1475" y="112"/>
                        <a:pt x="1472" y="120"/>
                      </a:cubicBezTo>
                      <a:cubicBezTo>
                        <a:pt x="1466" y="138"/>
                        <a:pt x="1451" y="152"/>
                        <a:pt x="1440" y="168"/>
                      </a:cubicBezTo>
                      <a:cubicBezTo>
                        <a:pt x="1427" y="188"/>
                        <a:pt x="1417" y="226"/>
                        <a:pt x="1400" y="240"/>
                      </a:cubicBezTo>
                      <a:cubicBezTo>
                        <a:pt x="1393" y="245"/>
                        <a:pt x="1384" y="245"/>
                        <a:pt x="1376" y="248"/>
                      </a:cubicBezTo>
                      <a:cubicBezTo>
                        <a:pt x="1371" y="256"/>
                        <a:pt x="1367" y="265"/>
                        <a:pt x="1360" y="272"/>
                      </a:cubicBezTo>
                      <a:cubicBezTo>
                        <a:pt x="1353" y="279"/>
                        <a:pt x="1342" y="280"/>
                        <a:pt x="1336" y="288"/>
                      </a:cubicBezTo>
                      <a:cubicBezTo>
                        <a:pt x="1322" y="306"/>
                        <a:pt x="1318" y="342"/>
                        <a:pt x="1304" y="360"/>
                      </a:cubicBezTo>
                      <a:cubicBezTo>
                        <a:pt x="1291" y="376"/>
                        <a:pt x="1250" y="404"/>
                        <a:pt x="1232" y="416"/>
                      </a:cubicBezTo>
                      <a:cubicBezTo>
                        <a:pt x="1185" y="487"/>
                        <a:pt x="1165" y="468"/>
                        <a:pt x="1088" y="480"/>
                      </a:cubicBezTo>
                      <a:cubicBezTo>
                        <a:pt x="1061" y="484"/>
                        <a:pt x="1008" y="496"/>
                        <a:pt x="1008" y="496"/>
                      </a:cubicBezTo>
                      <a:cubicBezTo>
                        <a:pt x="944" y="493"/>
                        <a:pt x="880" y="493"/>
                        <a:pt x="816" y="488"/>
                      </a:cubicBezTo>
                      <a:cubicBezTo>
                        <a:pt x="790" y="486"/>
                        <a:pt x="791" y="474"/>
                        <a:pt x="768" y="464"/>
                      </a:cubicBezTo>
                      <a:cubicBezTo>
                        <a:pt x="743" y="453"/>
                        <a:pt x="700" y="438"/>
                        <a:pt x="672" y="432"/>
                      </a:cubicBezTo>
                      <a:cubicBezTo>
                        <a:pt x="620" y="422"/>
                        <a:pt x="509" y="406"/>
                        <a:pt x="464" y="376"/>
                      </a:cubicBezTo>
                      <a:cubicBezTo>
                        <a:pt x="422" y="348"/>
                        <a:pt x="385" y="316"/>
                        <a:pt x="344" y="288"/>
                      </a:cubicBezTo>
                      <a:cubicBezTo>
                        <a:pt x="296" y="216"/>
                        <a:pt x="224" y="187"/>
                        <a:pt x="144" y="160"/>
                      </a:cubicBezTo>
                      <a:cubicBezTo>
                        <a:pt x="117" y="151"/>
                        <a:pt x="96" y="120"/>
                        <a:pt x="72" y="104"/>
                      </a:cubicBezTo>
                      <a:cubicBezTo>
                        <a:pt x="66" y="79"/>
                        <a:pt x="0" y="17"/>
                        <a:pt x="24" y="0"/>
                      </a:cubicBezTo>
                      <a:lnTo>
                        <a:pt x="216" y="0"/>
                      </a:lnTo>
                      <a:lnTo>
                        <a:pt x="264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6362640" y="144792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514920" y="1447920"/>
                  <a:ext cx="0" cy="28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flipH="1">
                  <a:off x="6665400" y="1447920"/>
                  <a:ext cx="180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 flipH="1">
                  <a:off x="6818400" y="1447920"/>
                  <a:ext cx="1440" cy="500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6972120" y="1447920"/>
                  <a:ext cx="0" cy="60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flipH="1">
                  <a:off x="7122600" y="1447920"/>
                  <a:ext cx="1800" cy="65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7277040" y="1447920"/>
                  <a:ext cx="0" cy="685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7429320" y="1447920"/>
                  <a:ext cx="0" cy="73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7581960" y="1447920"/>
                  <a:ext cx="0" cy="761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7734240" y="1447920"/>
                  <a:ext cx="0" cy="761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7886520" y="1447920"/>
                  <a:ext cx="0" cy="761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flipH="1">
                  <a:off x="8035560" y="1447920"/>
                  <a:ext cx="3240" cy="745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8190000" y="1457280"/>
                  <a:ext cx="1440" cy="62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8343720" y="144792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8496360" y="1447920"/>
                  <a:ext cx="0" cy="247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7048440" y="2514600"/>
                <a:ext cx="1371600" cy="685800"/>
                <a:chOff x="7048440" y="2514600"/>
                <a:chExt cx="1371600" cy="6858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7048440" y="2514600"/>
                  <a:ext cx="1371600" cy="685800"/>
                </a:xfrm>
                <a:prstGeom prst="rect">
                  <a:avLst/>
                </a:prstGeom>
                <a:solidFill>
                  <a:srgbClr val="ff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7087320" y="2630880"/>
                  <a:ext cx="1306440" cy="516600"/>
                </a:xfrm>
                <a:custGeom>
                  <a:avLst/>
                  <a:gdLst/>
                  <a:ahLst/>
                  <a:rect l="l" t="t" r="r" b="b"/>
                  <a:pathLst>
                    <a:path w="1143" h="470">
                      <a:moveTo>
                        <a:pt x="0" y="470"/>
                      </a:moveTo>
                      <a:cubicBezTo>
                        <a:pt x="24" y="447"/>
                        <a:pt x="23" y="420"/>
                        <a:pt x="46" y="397"/>
                      </a:cubicBezTo>
                      <a:cubicBezTo>
                        <a:pt x="65" y="378"/>
                        <a:pt x="96" y="357"/>
                        <a:pt x="119" y="342"/>
                      </a:cubicBezTo>
                      <a:cubicBezTo>
                        <a:pt x="139" y="313"/>
                        <a:pt x="154" y="298"/>
                        <a:pt x="183" y="278"/>
                      </a:cubicBezTo>
                      <a:cubicBezTo>
                        <a:pt x="193" y="247"/>
                        <a:pt x="211" y="232"/>
                        <a:pt x="229" y="205"/>
                      </a:cubicBezTo>
                      <a:cubicBezTo>
                        <a:pt x="251" y="135"/>
                        <a:pt x="326" y="74"/>
                        <a:pt x="393" y="49"/>
                      </a:cubicBezTo>
                      <a:cubicBezTo>
                        <a:pt x="445" y="0"/>
                        <a:pt x="545" y="27"/>
                        <a:pt x="604" y="31"/>
                      </a:cubicBezTo>
                      <a:cubicBezTo>
                        <a:pt x="657" y="49"/>
                        <a:pt x="691" y="102"/>
                        <a:pt x="732" y="141"/>
                      </a:cubicBezTo>
                      <a:cubicBezTo>
                        <a:pt x="753" y="203"/>
                        <a:pt x="722" y="129"/>
                        <a:pt x="796" y="205"/>
                      </a:cubicBezTo>
                      <a:cubicBezTo>
                        <a:pt x="827" y="237"/>
                        <a:pt x="850" y="263"/>
                        <a:pt x="887" y="287"/>
                      </a:cubicBezTo>
                      <a:cubicBezTo>
                        <a:pt x="929" y="352"/>
                        <a:pt x="977" y="346"/>
                        <a:pt x="1043" y="369"/>
                      </a:cubicBezTo>
                      <a:cubicBezTo>
                        <a:pt x="1113" y="393"/>
                        <a:pt x="1015" y="363"/>
                        <a:pt x="1116" y="388"/>
                      </a:cubicBezTo>
                      <a:cubicBezTo>
                        <a:pt x="1125" y="390"/>
                        <a:pt x="1143" y="397"/>
                        <a:pt x="1143" y="397"/>
                      </a:cubicBezTo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8" name=""/>
              <p:cNvSpPr/>
              <p:nvPr/>
            </p:nvSpPr>
            <p:spPr>
              <a:xfrm flipV="1">
                <a:off x="6667560" y="1752120"/>
                <a:ext cx="761760" cy="76212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667560" y="2514600"/>
                <a:ext cx="380880" cy="38088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7200720" y="2666880"/>
                <a:ext cx="1371600" cy="685800"/>
                <a:chOff x="7200720" y="2666880"/>
                <a:chExt cx="1371600" cy="6858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7200720" y="2666880"/>
                  <a:ext cx="1371600" cy="685800"/>
                </a:xfrm>
                <a:prstGeom prst="rect">
                  <a:avLst/>
                </a:prstGeom>
                <a:solidFill>
                  <a:srgbClr val="ff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7239600" y="2783160"/>
                  <a:ext cx="1306440" cy="516600"/>
                </a:xfrm>
                <a:custGeom>
                  <a:avLst/>
                  <a:gdLst/>
                  <a:ahLst/>
                  <a:rect l="l" t="t" r="r" b="b"/>
                  <a:pathLst>
                    <a:path w="1143" h="470">
                      <a:moveTo>
                        <a:pt x="0" y="470"/>
                      </a:moveTo>
                      <a:cubicBezTo>
                        <a:pt x="24" y="447"/>
                        <a:pt x="23" y="420"/>
                        <a:pt x="46" y="397"/>
                      </a:cubicBezTo>
                      <a:cubicBezTo>
                        <a:pt x="65" y="378"/>
                        <a:pt x="96" y="357"/>
                        <a:pt x="119" y="342"/>
                      </a:cubicBezTo>
                      <a:cubicBezTo>
                        <a:pt x="139" y="313"/>
                        <a:pt x="154" y="298"/>
                        <a:pt x="183" y="278"/>
                      </a:cubicBezTo>
                      <a:cubicBezTo>
                        <a:pt x="193" y="247"/>
                        <a:pt x="211" y="232"/>
                        <a:pt x="229" y="205"/>
                      </a:cubicBezTo>
                      <a:cubicBezTo>
                        <a:pt x="251" y="135"/>
                        <a:pt x="326" y="74"/>
                        <a:pt x="393" y="49"/>
                      </a:cubicBezTo>
                      <a:cubicBezTo>
                        <a:pt x="445" y="0"/>
                        <a:pt x="545" y="27"/>
                        <a:pt x="604" y="31"/>
                      </a:cubicBezTo>
                      <a:cubicBezTo>
                        <a:pt x="657" y="49"/>
                        <a:pt x="691" y="102"/>
                        <a:pt x="732" y="141"/>
                      </a:cubicBezTo>
                      <a:cubicBezTo>
                        <a:pt x="753" y="203"/>
                        <a:pt x="722" y="129"/>
                        <a:pt x="796" y="205"/>
                      </a:cubicBezTo>
                      <a:cubicBezTo>
                        <a:pt x="827" y="237"/>
                        <a:pt x="850" y="263"/>
                        <a:pt x="887" y="287"/>
                      </a:cubicBezTo>
                      <a:cubicBezTo>
                        <a:pt x="929" y="352"/>
                        <a:pt x="977" y="346"/>
                        <a:pt x="1043" y="369"/>
                      </a:cubicBezTo>
                      <a:cubicBezTo>
                        <a:pt x="1113" y="393"/>
                        <a:pt x="1015" y="363"/>
                        <a:pt x="1116" y="388"/>
                      </a:cubicBezTo>
                      <a:cubicBezTo>
                        <a:pt x="1125" y="390"/>
                        <a:pt x="1143" y="397"/>
                        <a:pt x="1143" y="397"/>
                      </a:cubicBezTo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7353360" y="2819520"/>
                <a:ext cx="1371600" cy="685800"/>
                <a:chOff x="7353360" y="2819520"/>
                <a:chExt cx="1371600" cy="68580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7353360" y="2819520"/>
                  <a:ext cx="1371600" cy="685800"/>
                </a:xfrm>
                <a:prstGeom prst="rect">
                  <a:avLst/>
                </a:prstGeom>
                <a:solidFill>
                  <a:srgbClr val="ff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7392240" y="2935800"/>
                  <a:ext cx="1306440" cy="516600"/>
                </a:xfrm>
                <a:custGeom>
                  <a:avLst/>
                  <a:gdLst/>
                  <a:ahLst/>
                  <a:rect l="l" t="t" r="r" b="b"/>
                  <a:pathLst>
                    <a:path w="1143" h="470">
                      <a:moveTo>
                        <a:pt x="0" y="470"/>
                      </a:moveTo>
                      <a:cubicBezTo>
                        <a:pt x="24" y="447"/>
                        <a:pt x="23" y="420"/>
                        <a:pt x="46" y="397"/>
                      </a:cubicBezTo>
                      <a:cubicBezTo>
                        <a:pt x="65" y="378"/>
                        <a:pt x="96" y="357"/>
                        <a:pt x="119" y="342"/>
                      </a:cubicBezTo>
                      <a:cubicBezTo>
                        <a:pt x="139" y="313"/>
                        <a:pt x="154" y="298"/>
                        <a:pt x="183" y="278"/>
                      </a:cubicBezTo>
                      <a:cubicBezTo>
                        <a:pt x="193" y="247"/>
                        <a:pt x="211" y="232"/>
                        <a:pt x="229" y="205"/>
                      </a:cubicBezTo>
                      <a:cubicBezTo>
                        <a:pt x="251" y="135"/>
                        <a:pt x="326" y="74"/>
                        <a:pt x="393" y="49"/>
                      </a:cubicBezTo>
                      <a:cubicBezTo>
                        <a:pt x="445" y="0"/>
                        <a:pt x="545" y="27"/>
                        <a:pt x="604" y="31"/>
                      </a:cubicBezTo>
                      <a:cubicBezTo>
                        <a:pt x="657" y="49"/>
                        <a:pt x="691" y="102"/>
                        <a:pt x="732" y="141"/>
                      </a:cubicBezTo>
                      <a:cubicBezTo>
                        <a:pt x="753" y="203"/>
                        <a:pt x="722" y="129"/>
                        <a:pt x="796" y="205"/>
                      </a:cubicBezTo>
                      <a:cubicBezTo>
                        <a:pt x="827" y="237"/>
                        <a:pt x="850" y="263"/>
                        <a:pt x="887" y="287"/>
                      </a:cubicBezTo>
                      <a:cubicBezTo>
                        <a:pt x="929" y="352"/>
                        <a:pt x="977" y="346"/>
                        <a:pt x="1043" y="369"/>
                      </a:cubicBezTo>
                      <a:cubicBezTo>
                        <a:pt x="1113" y="393"/>
                        <a:pt x="1015" y="363"/>
                        <a:pt x="1116" y="388"/>
                      </a:cubicBezTo>
                      <a:cubicBezTo>
                        <a:pt x="1125" y="390"/>
                        <a:pt x="1143" y="397"/>
                        <a:pt x="1143" y="397"/>
                      </a:cubicBezTo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6" name=""/>
            <p:cNvSpPr/>
            <p:nvPr/>
          </p:nvSpPr>
          <p:spPr>
            <a:xfrm>
              <a:off x="419040" y="1447920"/>
              <a:ext cx="5562720" cy="21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NASQAN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Rating Curve approach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Long-term flux of many parameter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Broad spatial scal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7" name="15-N-fert_input-map" descr=""/>
            <p:cNvPicPr/>
            <p:nvPr/>
          </p:nvPicPr>
          <p:blipFill>
            <a:blip r:embed="rId2"/>
            <a:stretch/>
          </p:blipFill>
          <p:spPr>
            <a:xfrm>
              <a:off x="5295960" y="2185920"/>
              <a:ext cx="1218960" cy="1014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8" name=""/>
          <p:cNvGrpSpPr/>
          <p:nvPr/>
        </p:nvGrpSpPr>
        <p:grpSpPr>
          <a:xfrm>
            <a:off x="266760" y="4038480"/>
            <a:ext cx="8877240" cy="2273400"/>
            <a:chOff x="266760" y="4038480"/>
            <a:chExt cx="8877240" cy="2273400"/>
          </a:xfrm>
        </p:grpSpPr>
        <p:pic>
          <p:nvPicPr>
            <p:cNvPr id="189" name="tn-yield" descr=""/>
            <p:cNvPicPr/>
            <p:nvPr/>
          </p:nvPicPr>
          <p:blipFill>
            <a:blip r:embed="rId3"/>
            <a:stretch/>
          </p:blipFill>
          <p:spPr>
            <a:xfrm>
              <a:off x="7620120" y="4800600"/>
              <a:ext cx="1523880" cy="120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266760" y="4114800"/>
              <a:ext cx="5776920" cy="21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LTRMP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Habitat and long-term biotic response in UMR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Short-term, spatially-varying event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1" name="bathyB" descr=""/>
            <p:cNvPicPr/>
            <p:nvPr/>
          </p:nvPicPr>
          <p:blipFill>
            <a:blip r:embed="rId4"/>
            <a:stretch/>
          </p:blipFill>
          <p:spPr>
            <a:xfrm>
              <a:off x="5981760" y="4038480"/>
              <a:ext cx="806400" cy="2273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2" name=""/>
            <p:cNvGrpSpPr/>
            <p:nvPr/>
          </p:nvGrpSpPr>
          <p:grpSpPr>
            <a:xfrm>
              <a:off x="7010280" y="5607000"/>
              <a:ext cx="870120" cy="547560"/>
              <a:chOff x="7010280" y="5607000"/>
              <a:chExt cx="870120" cy="547560"/>
            </a:xfrm>
          </p:grpSpPr>
          <p:sp>
            <p:nvSpPr>
              <p:cNvPr id="193" name=""/>
              <p:cNvSpPr/>
              <p:nvPr/>
            </p:nvSpPr>
            <p:spPr>
              <a:xfrm>
                <a:off x="7010280" y="5607000"/>
                <a:ext cx="870120" cy="547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035120" y="5614920"/>
                <a:ext cx="828720" cy="496800"/>
              </a:xfrm>
              <a:custGeom>
                <a:avLst/>
                <a:gdLst/>
                <a:ahLst/>
                <a:rect l="l" t="t" r="r" b="b"/>
                <a:pathLst>
                  <a:path w="960" h="479">
                    <a:moveTo>
                      <a:pt x="0" y="479"/>
                    </a:moveTo>
                    <a:cubicBezTo>
                      <a:pt x="20" y="460"/>
                      <a:pt x="8" y="300"/>
                      <a:pt x="28" y="280"/>
                    </a:cubicBezTo>
                    <a:cubicBezTo>
                      <a:pt x="44" y="264"/>
                      <a:pt x="81" y="384"/>
                      <a:pt x="100" y="371"/>
                    </a:cubicBezTo>
                    <a:cubicBezTo>
                      <a:pt x="117" y="346"/>
                      <a:pt x="137" y="410"/>
                      <a:pt x="162" y="393"/>
                    </a:cubicBezTo>
                    <a:cubicBezTo>
                      <a:pt x="170" y="367"/>
                      <a:pt x="166" y="207"/>
                      <a:pt x="181" y="184"/>
                    </a:cubicBezTo>
                    <a:cubicBezTo>
                      <a:pt x="199" y="160"/>
                      <a:pt x="198" y="342"/>
                      <a:pt x="219" y="355"/>
                    </a:cubicBezTo>
                    <a:cubicBezTo>
                      <a:pt x="231" y="341"/>
                      <a:pt x="235" y="141"/>
                      <a:pt x="255" y="99"/>
                    </a:cubicBezTo>
                    <a:cubicBezTo>
                      <a:pt x="299" y="58"/>
                      <a:pt x="291" y="100"/>
                      <a:pt x="340" y="103"/>
                    </a:cubicBezTo>
                    <a:cubicBezTo>
                      <a:pt x="362" y="98"/>
                      <a:pt x="360" y="73"/>
                      <a:pt x="378" y="99"/>
                    </a:cubicBezTo>
                    <a:cubicBezTo>
                      <a:pt x="396" y="125"/>
                      <a:pt x="427" y="276"/>
                      <a:pt x="448" y="261"/>
                    </a:cubicBezTo>
                    <a:cubicBezTo>
                      <a:pt x="469" y="246"/>
                      <a:pt x="477" y="0"/>
                      <a:pt x="502" y="9"/>
                    </a:cubicBezTo>
                    <a:cubicBezTo>
                      <a:pt x="539" y="48"/>
                      <a:pt x="535" y="248"/>
                      <a:pt x="598" y="312"/>
                    </a:cubicBezTo>
                    <a:cubicBezTo>
                      <a:pt x="624" y="339"/>
                      <a:pt x="653" y="53"/>
                      <a:pt x="684" y="73"/>
                    </a:cubicBezTo>
                    <a:cubicBezTo>
                      <a:pt x="719" y="128"/>
                      <a:pt x="794" y="410"/>
                      <a:pt x="849" y="430"/>
                    </a:cubicBezTo>
                    <a:cubicBezTo>
                      <a:pt x="908" y="450"/>
                      <a:pt x="852" y="346"/>
                      <a:pt x="937" y="367"/>
                    </a:cubicBezTo>
                    <a:cubicBezTo>
                      <a:pt x="945" y="368"/>
                      <a:pt x="960" y="417"/>
                      <a:pt x="960" y="417"/>
                    </a:cubicBez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6931080" y="4430880"/>
              <a:ext cx="869400" cy="558360"/>
              <a:chOff x="6931080" y="4430880"/>
              <a:chExt cx="869400" cy="558360"/>
            </a:xfrm>
          </p:grpSpPr>
          <p:sp>
            <p:nvSpPr>
              <p:cNvPr id="196" name=""/>
              <p:cNvSpPr/>
              <p:nvPr/>
            </p:nvSpPr>
            <p:spPr>
              <a:xfrm>
                <a:off x="6931080" y="4440600"/>
                <a:ext cx="869400" cy="548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955560" y="4430880"/>
                <a:ext cx="828360" cy="547200"/>
              </a:xfrm>
              <a:custGeom>
                <a:avLst/>
                <a:gdLst/>
                <a:ahLst/>
                <a:rect l="l" t="t" r="r" b="b"/>
                <a:pathLst>
                  <a:path w="503" h="335">
                    <a:moveTo>
                      <a:pt x="0" y="316"/>
                    </a:moveTo>
                    <a:cubicBezTo>
                      <a:pt x="10" y="304"/>
                      <a:pt x="27" y="294"/>
                      <a:pt x="38" y="281"/>
                    </a:cubicBezTo>
                    <a:cubicBezTo>
                      <a:pt x="46" y="271"/>
                      <a:pt x="42" y="256"/>
                      <a:pt x="52" y="247"/>
                    </a:cubicBezTo>
                    <a:cubicBezTo>
                      <a:pt x="61" y="231"/>
                      <a:pt x="73" y="323"/>
                      <a:pt x="86" y="312"/>
                    </a:cubicBezTo>
                    <a:cubicBezTo>
                      <a:pt x="90" y="296"/>
                      <a:pt x="87" y="143"/>
                      <a:pt x="95" y="128"/>
                    </a:cubicBezTo>
                    <a:cubicBezTo>
                      <a:pt x="104" y="113"/>
                      <a:pt x="104" y="229"/>
                      <a:pt x="115" y="237"/>
                    </a:cubicBezTo>
                    <a:cubicBezTo>
                      <a:pt x="121" y="220"/>
                      <a:pt x="123" y="15"/>
                      <a:pt x="134" y="26"/>
                    </a:cubicBezTo>
                    <a:cubicBezTo>
                      <a:pt x="157" y="0"/>
                      <a:pt x="157" y="301"/>
                      <a:pt x="183" y="303"/>
                    </a:cubicBezTo>
                    <a:cubicBezTo>
                      <a:pt x="195" y="299"/>
                      <a:pt x="189" y="95"/>
                      <a:pt x="198" y="74"/>
                    </a:cubicBezTo>
                    <a:cubicBezTo>
                      <a:pt x="206" y="74"/>
                      <a:pt x="220" y="277"/>
                      <a:pt x="233" y="306"/>
                    </a:cubicBezTo>
                    <a:cubicBezTo>
                      <a:pt x="246" y="335"/>
                      <a:pt x="265" y="262"/>
                      <a:pt x="278" y="246"/>
                    </a:cubicBezTo>
                    <a:cubicBezTo>
                      <a:pt x="297" y="271"/>
                      <a:pt x="280" y="169"/>
                      <a:pt x="313" y="210"/>
                    </a:cubicBezTo>
                    <a:cubicBezTo>
                      <a:pt x="327" y="227"/>
                      <a:pt x="343" y="266"/>
                      <a:pt x="359" y="278"/>
                    </a:cubicBezTo>
                    <a:cubicBezTo>
                      <a:pt x="378" y="314"/>
                      <a:pt x="416" y="272"/>
                      <a:pt x="445" y="285"/>
                    </a:cubicBezTo>
                    <a:cubicBezTo>
                      <a:pt x="476" y="298"/>
                      <a:pt x="446" y="231"/>
                      <a:pt x="491" y="245"/>
                    </a:cubicBezTo>
                    <a:cubicBezTo>
                      <a:pt x="495" y="245"/>
                      <a:pt x="503" y="277"/>
                      <a:pt x="503" y="277"/>
                    </a:cubicBez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 flipH="1">
              <a:off x="6535800" y="5919840"/>
              <a:ext cx="4744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6456240" y="4743360"/>
              <a:ext cx="633600" cy="2365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Design Differ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81200" y="1123920"/>
            <a:ext cx="758160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NASQ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frequent (monthly, quarterly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tegrated, isokinetic channel cross-section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any paramet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ew locations (3-4 in UMR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LTRMP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requent (biweekly, monthly, quarterly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iscrete horizontal &amp; vertical samp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ew transects, few vertical profi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ewer paramet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any locations (about 1000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c_USGSid_NM" descr=""/>
          <p:cNvPicPr/>
          <p:nvPr/>
        </p:nvPicPr>
        <p:blipFill>
          <a:blip r:embed="rId1"/>
          <a:stretch/>
        </p:blipFill>
        <p:spPr>
          <a:xfrm>
            <a:off x="0" y="6662880"/>
            <a:ext cx="722160" cy="19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09720" y="151920"/>
            <a:ext cx="34290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ommon Locatio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15000" y="23623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 marL="274320" indent="-274320">
              <a:lnSpc>
                <a:spcPct val="100000"/>
              </a:lnSpc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nt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c_USGSid_NM" descr=""/>
          <p:cNvPicPr/>
          <p:nvPr/>
        </p:nvPicPr>
        <p:blipFill>
          <a:blip r:embed="rId1"/>
          <a:stretch/>
        </p:blipFill>
        <p:spPr>
          <a:xfrm>
            <a:off x="0" y="6662880"/>
            <a:ext cx="722160" cy="190440"/>
          </a:xfrm>
          <a:prstGeom prst="rect">
            <a:avLst/>
          </a:prstGeom>
          <a:ln w="0">
            <a:noFill/>
          </a:ln>
        </p:spPr>
      </p:pic>
      <p:pic>
        <p:nvPicPr>
          <p:cNvPr id="206" name="ltrmarea" descr=""/>
          <p:cNvPicPr/>
          <p:nvPr/>
        </p:nvPicPr>
        <p:blipFill>
          <a:blip r:embed="rId2"/>
          <a:stretch/>
        </p:blipFill>
        <p:spPr>
          <a:xfrm>
            <a:off x="0" y="0"/>
            <a:ext cx="526248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715000" y="41148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 marL="274320" indent="-274320">
              <a:lnSpc>
                <a:spcPct val="100000"/>
              </a:lnSpc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Graft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715000" y="5334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 marL="274320" indent="-274320">
              <a:lnSpc>
                <a:spcPct val="100000"/>
              </a:lnSpc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b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3733920" y="5410080"/>
            <a:ext cx="2141280" cy="20160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3352320" y="4392720"/>
            <a:ext cx="2521080" cy="25560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3346560" y="2637000"/>
            <a:ext cx="2527200" cy="88416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omparability of Flux at Theb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c_USGSid_NM" descr=""/>
          <p:cNvPicPr/>
          <p:nvPr/>
        </p:nvPicPr>
        <p:blipFill>
          <a:blip r:embed="rId1"/>
          <a:stretch/>
        </p:blipFill>
        <p:spPr>
          <a:xfrm>
            <a:off x="0" y="6662880"/>
            <a:ext cx="722160" cy="1904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28600" y="990720"/>
            <a:ext cx="5181480" cy="31035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82880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3886200" y="3944880"/>
            <a:ext cx="4876920" cy="29131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6248520" y="4343400"/>
            <a:ext cx="2133360" cy="82548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spended Sol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200400" y="16002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 Phospho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Short-term Patterns Not Addressed by NASQA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c_USGSid_NM" descr=""/>
          <p:cNvPicPr/>
          <p:nvPr/>
        </p:nvPicPr>
        <p:blipFill>
          <a:blip r:embed="rId1"/>
          <a:stretch/>
        </p:blipFill>
        <p:spPr>
          <a:xfrm>
            <a:off x="0" y="6662880"/>
            <a:ext cx="722160" cy="1904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82880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1104840" y="1523880"/>
            <a:ext cx="6934320" cy="50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320" y="304920"/>
            <a:ext cx="8001000" cy="16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Additional NASQAN-LTRMP Comparison and Collaboration Underw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28640" y="2133720"/>
            <a:ext cx="7686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00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Aft>
                <a:spcPts val="18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plitting samples between lab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Aft>
                <a:spcPts val="18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multaneous sampl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Aft>
                <a:spcPts val="18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omparisons of existing data at Thebes, Grafton, and Clinton are progres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Aft>
                <a:spcPts val="18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odelling to better cross-calibr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c_USGSid_NM" descr=""/>
          <p:cNvPicPr/>
          <p:nvPr/>
        </p:nvPicPr>
        <p:blipFill>
          <a:blip r:embed="rId1"/>
          <a:stretch/>
        </p:blipFill>
        <p:spPr>
          <a:xfrm>
            <a:off x="0" y="6662880"/>
            <a:ext cx="722160" cy="19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523880" y="2514600"/>
            <a:ext cx="6096240" cy="1477080"/>
          </a:xfrm>
          <a:prstGeom prst="rect">
            <a:avLst/>
          </a:prstGeom>
          <a:solidFill>
            <a:srgbClr val="3333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UMES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52480" y="3103560"/>
            <a:ext cx="2590920" cy="642600"/>
          </a:xfrm>
          <a:prstGeom prst="rect">
            <a:avLst/>
          </a:prstGeom>
          <a:solidFill>
            <a:srgbClr val="3333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TRM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00280" y="4648320"/>
            <a:ext cx="7543800" cy="1739880"/>
          </a:xfrm>
          <a:prstGeom prst="rect">
            <a:avLst/>
          </a:prstGeom>
          <a:solidFill>
            <a:srgbClr val="3333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ovides Foundation and Connecting Web for Big River Ecological Stud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280" y="0"/>
            <a:ext cx="4724640" cy="1556280"/>
          </a:xfrm>
          <a:prstGeom prst="rect">
            <a:avLst/>
          </a:prstGeom>
          <a:solidFill>
            <a:srgbClr val="cc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UMR PARTN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EXAMPLE II: The Flood of 200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14400" y="1676520"/>
            <a:ext cx="73152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Aft>
                <a:spcPts val="18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ombined BRD/WRD investig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18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n-place capabilities allow this event to be monitore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18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ombining expertise and sampling networks across divisions gives a more complete view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18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e Post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c_USGSid_NM" descr=""/>
          <p:cNvPicPr/>
          <p:nvPr/>
        </p:nvPicPr>
        <p:blipFill>
          <a:blip r:embed="rId1"/>
          <a:stretch/>
        </p:blipFill>
        <p:spPr>
          <a:xfrm>
            <a:off x="0" y="6662880"/>
            <a:ext cx="722160" cy="190440"/>
          </a:xfrm>
          <a:prstGeom prst="rect">
            <a:avLst/>
          </a:prstGeom>
          <a:ln w="0">
            <a:noFill/>
          </a:ln>
        </p:spPr>
      </p:pic>
      <p:grpSp>
        <p:nvGrpSpPr>
          <p:cNvPr id="229" name=""/>
          <p:cNvGrpSpPr/>
          <p:nvPr/>
        </p:nvGrpSpPr>
        <p:grpSpPr>
          <a:xfrm>
            <a:off x="5791320" y="4495680"/>
            <a:ext cx="2960640" cy="2210040"/>
            <a:chOff x="5791320" y="4495680"/>
            <a:chExt cx="2960640" cy="2210040"/>
          </a:xfrm>
        </p:grpSpPr>
        <p:pic>
          <p:nvPicPr>
            <p:cNvPr id="230" name="jja1993" descr=""/>
            <p:cNvPicPr/>
            <p:nvPr/>
          </p:nvPicPr>
          <p:blipFill>
            <a:blip r:embed="rId2"/>
            <a:stretch/>
          </p:blipFill>
          <p:spPr>
            <a:xfrm>
              <a:off x="5791320" y="4495680"/>
              <a:ext cx="1590480" cy="205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jja2001" descr=""/>
            <p:cNvPicPr/>
            <p:nvPr/>
          </p:nvPicPr>
          <p:blipFill>
            <a:blip r:embed="rId3"/>
            <a:stretch/>
          </p:blipFill>
          <p:spPr>
            <a:xfrm>
              <a:off x="7162920" y="4648320"/>
              <a:ext cx="1589040" cy="20574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925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ombined Contribu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81040" y="1219320"/>
            <a:ext cx="7981920" cy="51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RD and NASQAN: discharge records, lower Miss. and Ohio concentra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RD Iowa City: special flood monitoring, (Lagrangian) of concentration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BRD and LTRMP: flood concentrations by routine monitoring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BRD and WRD – data analysis and interpretation, joint authorship of manuscript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c_USGSid_NM" descr=""/>
          <p:cNvPicPr/>
          <p:nvPr/>
        </p:nvPicPr>
        <p:blipFill>
          <a:blip r:embed="rId1"/>
          <a:stretch/>
        </p:blipFill>
        <p:spPr>
          <a:xfrm>
            <a:off x="0" y="6662880"/>
            <a:ext cx="722160" cy="19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Preliminary Result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0880" y="1523880"/>
            <a:ext cx="8382240" cy="45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pring flood (2001) substantially different from Spring-Summer Flood (1993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lood from uppermost basin (2001) unlike flood of entire region (1993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2001 flood volume was unremarkable below Thebes, but [NOx] was near record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Lack of dilution from lower basin (Ohio) in 2001 sent high [NO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] to the Gulf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c_USGSid_NM" descr=""/>
          <p:cNvPicPr/>
          <p:nvPr/>
        </p:nvPicPr>
        <p:blipFill>
          <a:blip r:embed="rId1"/>
          <a:stretch/>
        </p:blipFill>
        <p:spPr>
          <a:xfrm>
            <a:off x="0" y="6662880"/>
            <a:ext cx="722160" cy="19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ld5a" descr=""/>
          <p:cNvPicPr/>
          <p:nvPr/>
        </p:nvPicPr>
        <p:blipFill>
          <a:blip r:embed="rId1"/>
          <a:stretch/>
        </p:blipFill>
        <p:spPr>
          <a:xfrm>
            <a:off x="228600" y="0"/>
            <a:ext cx="8793000" cy="68594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631800" y="5359320"/>
            <a:ext cx="78487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Black"/>
              </a:rPr>
              <a:t>WWW.UMESC.USGS.GO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19520" y="495288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ank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ve Soballe &amp; Dennis Was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Primary LTRMP Produ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38080" y="2057400"/>
            <a:ext cx="73152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Unique information for resource managers and decision makers on large rive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igh-quality, relevant data, in readily accessible and useable 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c_USGSid_NM" descr=""/>
          <p:cNvPicPr/>
          <p:nvPr/>
        </p:nvPicPr>
        <p:blipFill>
          <a:blip r:embed="rId1"/>
          <a:stretch/>
        </p:blipFill>
        <p:spPr>
          <a:xfrm>
            <a:off x="0" y="6662880"/>
            <a:ext cx="722160" cy="19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ommon Grou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00280" y="1638360"/>
            <a:ext cx="7886520" cy="43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00000"/>
              </a:lnSpc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Overlap in major water quality constituents measure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Both address long-term temporal patterns in the Upper Mississippi Rive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ata collected at overlapping locations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omparable measurements obtained to the extent allowed by differing objective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c_USGSid_NM" descr=""/>
          <p:cNvPicPr/>
          <p:nvPr/>
        </p:nvPicPr>
        <p:blipFill>
          <a:blip r:embed="rId1"/>
          <a:stretch/>
        </p:blipFill>
        <p:spPr>
          <a:xfrm>
            <a:off x="0" y="6662880"/>
            <a:ext cx="722160" cy="19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LTRMP Part of the Environmental Management Program (EMP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749"/>
              </a:spcBef>
              <a:spcAft>
                <a:spcPts val="17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ablished by Act of Congress in 1986 to counter effects of navi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749"/>
              </a:spcBef>
              <a:spcAft>
                <a:spcPts val="17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/3 EMP budget = Habitat Rehabilitation and Enhancement Program (HREP -USACO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749"/>
              </a:spcBef>
              <a:spcAft>
                <a:spcPts val="17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/3 EMP budget = Long Term Resource Monitoring Program (LTRMP-USDO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749"/>
              </a:spcBef>
              <a:spcAft>
                <a:spcPts val="17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COE given oversight respons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c_USGSid_NM" descr=""/>
          <p:cNvPicPr/>
          <p:nvPr/>
        </p:nvPicPr>
        <p:blipFill>
          <a:blip r:embed="rId1"/>
          <a:stretch/>
        </p:blipFill>
        <p:spPr>
          <a:xfrm>
            <a:off x="0" y="6662880"/>
            <a:ext cx="72216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ltrmarea" descr=""/>
          <p:cNvPicPr/>
          <p:nvPr/>
        </p:nvPicPr>
        <p:blipFill>
          <a:blip r:embed="rId1"/>
          <a:stretch/>
        </p:blipFill>
        <p:spPr>
          <a:xfrm>
            <a:off x="0" y="0"/>
            <a:ext cx="526248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c_USGSid_NM" descr=""/>
          <p:cNvPicPr/>
          <p:nvPr/>
        </p:nvPicPr>
        <p:blipFill>
          <a:blip r:embed="rId2"/>
          <a:stretch/>
        </p:blipFill>
        <p:spPr>
          <a:xfrm>
            <a:off x="0" y="6662880"/>
            <a:ext cx="722160" cy="190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241960" y="990720"/>
            <a:ext cx="390204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TRMP Study Area: The Upper Mississippi River System (UMRS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ississippi River mainstem between Ohio River and St. Paul, Minnesota, plus the Illinois Riv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The LTRMP is Multi-Disciplinary: Research, Monitoring, and Data Ac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0195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sh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17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Water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quatic and Floodplain Veg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quatic Inverteb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dimentation and Bathyme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nd Cover and Land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ta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c_USGSid_NM" descr=""/>
          <p:cNvPicPr/>
          <p:nvPr/>
        </p:nvPicPr>
        <p:blipFill>
          <a:blip r:embed="rId1"/>
          <a:stretch/>
        </p:blipFill>
        <p:spPr>
          <a:xfrm>
            <a:off x="0" y="6662880"/>
            <a:ext cx="72216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LTRMP WQ Activity Driven by Resource Manag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26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ect changes in habitat availability and sui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26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normal variations and natural interactions among river biota and the physiochemical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26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aluate effects of human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26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aluate effects of watershed inpu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26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k river biology to transport and transformation of nutrients and sedi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c_USGSid_NM" descr=""/>
          <p:cNvPicPr/>
          <p:nvPr/>
        </p:nvPicPr>
        <p:blipFill>
          <a:blip r:embed="rId1"/>
          <a:stretch/>
        </p:blipFill>
        <p:spPr>
          <a:xfrm>
            <a:off x="0" y="6662880"/>
            <a:ext cx="72216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Upper Mississippi Resource Issues Cover a Broad Spectr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30481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utr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quatic habi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di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vi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 sup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ste dispo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ood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dro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re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1981080"/>
            <a:ext cx="380988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xic sp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gratory anim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ox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stainable agri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ffer z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min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otic d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angered spe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ve cul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story &amp; archae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c_USGSid_NM" descr=""/>
          <p:cNvPicPr/>
          <p:nvPr/>
        </p:nvPicPr>
        <p:blipFill>
          <a:blip r:embed="rId1"/>
          <a:stretch/>
        </p:blipFill>
        <p:spPr>
          <a:xfrm>
            <a:off x="0" y="6662880"/>
            <a:ext cx="722160" cy="19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Two-Phase Approach to Limnological (WQ) Monitoring in LTRM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2286000"/>
            <a:ext cx="76201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xed site sampling (FSS) at permanent locations and fixed intervals (2- 4 week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ratified random sampling (SRS) conducted quarter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c_USGSid_NM" descr=""/>
          <p:cNvPicPr/>
          <p:nvPr/>
        </p:nvPicPr>
        <p:blipFill>
          <a:blip r:embed="rId1"/>
          <a:stretch/>
        </p:blipFill>
        <p:spPr>
          <a:xfrm>
            <a:off x="0" y="6662880"/>
            <a:ext cx="722160" cy="190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0T18:57:40Z</dcterms:created>
  <dc:creator>DMS0</dc:creator>
  <dc:description/>
  <dc:language>en-US</dc:language>
  <cp:lastModifiedBy>David M. Soballe</cp:lastModifiedBy>
  <dcterms:modified xsi:type="dcterms:W3CDTF">2002-03-25T17:52:09Z</dcterms:modified>
  <cp:revision>23</cp:revision>
  <dc:subject/>
  <dc:title>Management Issues</dc:title>
</cp:coreProperties>
</file>