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3CAA5-4258-43C0-A57A-EA43766AE2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3A00D-883A-4923-A672-7586D835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01142-390C-4C61-AD59-4BBC5AD3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E4F45-8E8A-4C85-8E71-2AC60F71C0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4823C-DB4A-407B-9003-9EE24D15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7A55A-F446-4384-BED6-B40467FD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386CA-8D76-4459-A9F1-3FB05D3B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FF013-A6CE-4D0D-BE36-F62BD903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4E6EE-9129-4136-AFB7-155F249A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07520-4B87-4CCC-9657-9F73BA8D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61168-855D-4AC6-9F49-F3A7FE4A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C3901-38D1-45E8-B1F8-6F6F3593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032C-155F-49BE-B318-C69EEC023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9144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OF FOODBORNE PATHOGENS IN MEAT PRODUCTS BY SANITATION, DRYING AND ANTIMICROBIALS</a:t>
            </a:r>
            <a:br>
              <a:rPr sz="32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N. Sofo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rado State University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.Sofos@colostate.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1200240"/>
          <a:ext cx="9142560" cy="57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00240"/>
                    <a:ext cx="914256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 rot="16200000">
            <a:off x="306000" y="274176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39080" y="33526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839080" y="310824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839080" y="35053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34131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0" y="3260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34131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3260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33368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31845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3124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29559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839080" y="455616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39080" y="478476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3946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4114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4403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4572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4724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4572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0" y="4724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4495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4648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id-adapt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steria monocytoge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vacuum packaged bee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-treated:    , Water (5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:   , Water (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:   , Lactic acid (5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:     or Acetic acid (5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609480"/>
            <a:ext cx="15228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914400"/>
            <a:ext cx="228600" cy="228600"/>
          </a:xfrm>
          <a:prstGeom prst="diamond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9144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5335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609480"/>
            <a:ext cx="152640" cy="1526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id-adapt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steria monocytoge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vacuum packaged bee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-treated:    , Water (5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:   , Water (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:   , Lactic acid (5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:     or Acetic acid (5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560" y="1143000"/>
          <a:ext cx="9091440" cy="571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" y="1143000"/>
                    <a:ext cx="9091440" cy="57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648320" y="609480"/>
            <a:ext cx="15228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914400"/>
            <a:ext cx="228600" cy="228600"/>
          </a:xfrm>
          <a:prstGeom prst="diamond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9144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5335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306000" y="26654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839080" y="44956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839080" y="24382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839080" y="2666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839080" y="3962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839080" y="17524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4114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4343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2651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1676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2209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42670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4197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25909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676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21337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4419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2286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71800" y="2133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2438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4495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40989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3946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971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3276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81680" y="609480"/>
            <a:ext cx="152640" cy="1526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of organic acids (acetic or lactic acid) to meat can reduce levels of contamination and then inhibit growt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. monocytoge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uring storage at 4 or 1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7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water decreased the initial popula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. monocytoge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meat, growth of the pathogen occurred during stor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 acid-adaptation of this strain did not enhance growth on meat treated with acid or w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tudy emphasizes the importance of long-term residual effects of acid and water decontamination treatments and storage temperatures on meat saf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OF PROCESSES TO DESTRO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SCHERICHIA CO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157:H7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ERIA MONOCYTOGEN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WHOLE MUSCLE HOME DRIED BEEF JER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8382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etermine the survival of inocula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157:H7 populations during preparation of whole muscle beef jerky with and without marinade and ac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065600" y="304920"/>
            <a:ext cx="338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cherichia co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157:H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ef Jer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332640" y="2362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19640" y="595440"/>
            <a:ext cx="6256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2.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67560" y="595440"/>
            <a:ext cx="625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2.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15480" y="595440"/>
            <a:ext cx="625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2.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19640" y="1281240"/>
            <a:ext cx="6256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2.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7560" y="1281240"/>
            <a:ext cx="625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8.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115480" y="1281240"/>
            <a:ext cx="625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8.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1523880"/>
            <a:ext cx="22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osed symbols = T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symbols = S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065600" y="304920"/>
            <a:ext cx="338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cherichia co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157:H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ef Jer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332640" y="2362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19640" y="609480"/>
            <a:ext cx="62568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2.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67560" y="609480"/>
            <a:ext cx="62532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2.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115480" y="609480"/>
            <a:ext cx="62532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2.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1281240"/>
            <a:ext cx="6256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2.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67560" y="1281240"/>
            <a:ext cx="625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8.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15480" y="1281240"/>
            <a:ext cx="625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8.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1523880"/>
            <a:ext cx="22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osed symbols = TSA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symbols = S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065600" y="92160"/>
            <a:ext cx="338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cherichia co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157:H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ef Jerky (68.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228600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osed symbols = T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symbols = S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329400" y="22309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533520"/>
            <a:ext cx="175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ater = 9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, 15 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10280" y="533520"/>
            <a:ext cx="175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inate/store at 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, 24 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0666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ason/store at 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, 24 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62920" y="10666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t brine = 7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, 90 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2880" y="1600200"/>
            <a:ext cx="297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etic acid (2.5%), 57.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 20 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1141920" y="4572000"/>
            <a:ext cx="338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cherichia co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157:H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ef Jerky (68.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724280" y="4419720"/>
            <a:ext cx="4343400" cy="990000"/>
            <a:chOff x="4724280" y="4419720"/>
            <a:chExt cx="4343400" cy="990000"/>
          </a:xfrm>
        </p:grpSpPr>
        <p:sp>
          <p:nvSpPr>
            <p:cNvPr id="170" name=""/>
            <p:cNvSpPr/>
            <p:nvPr/>
          </p:nvSpPr>
          <p:spPr>
            <a:xfrm>
              <a:off x="4724280" y="4419720"/>
              <a:ext cx="175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ater = 94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, 15 s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10280" y="4419720"/>
              <a:ext cx="175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rinate/store at 4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, 24 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24280" y="4647960"/>
              <a:ext cx="2133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ason/store at 4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, 24 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10280" y="4647960"/>
              <a:ext cx="2057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ot brine = 78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, 90 s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24280" y="5181480"/>
              <a:ext cx="2971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cetic acid (2.5%), 57.5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 20 s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1141920" y="152280"/>
            <a:ext cx="338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cherichia co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157:H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ef Jerky (62.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452520" y="708120"/>
          <a:ext cx="7256520" cy="5441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708120"/>
                    <a:ext cx="7256520" cy="54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3718080" y="117360"/>
            <a:ext cx="253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22860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terial counts (TSA+0.1% pyruvate) on jerky (dried at 60.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) inoculated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157:H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92480" y="4419720"/>
            <a:ext cx="140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0 log re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4800600"/>
            <a:ext cx="6781680" cy="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ITIZER INACTIVATION OF ACID-ADAPTED AND NONADAPT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ERIA MONOCYTOGE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OFIL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373480"/>
            <a:ext cx="792504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valuate the antimicrobial effects of sodium hypochlorite (200 ppm, pH 10.4), pH-adjusted (pH 6.8) sodium hypochlorite (200 ppm), a quaternary ammonium compound (200 ppm), and peroxyacetic acid (150 ppm) on biofilms produced by previously acid-adapted or nonadap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steria monocytoge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oculated in fresh beef decontamination wash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82760" y="531720"/>
          <a:ext cx="7719840" cy="5791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31720"/>
                    <a:ext cx="77198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104840" y="365040"/>
            <a:ext cx="742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vival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. monocytoge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beef jerky—(PALCA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3880" y="5181480"/>
            <a:ext cx="6858000" cy="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46480" y="4876920"/>
            <a:ext cx="140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0 log re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aditional marination procedure did not result in a 5 log reduction of either patho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, the traditional marination procedure may provide protection/resistance of pathogens during dry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application of pre-drying treatments or modified marination was more detrimental to either pathogen than the control or traditional procedures and more detrimental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steria monocytoge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157:H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terial injury may be occurring during dry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S TO CONTROL POST-PROCESSING CONTAMINATION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RIA MONOCYTOGE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PORK FRANKFURTERS AND SLICED BOLOGNA STORED AT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 VACUUM 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o evaluate antimicrobials or their combinations in the formulation of frankfurters, or as dipping solutions for bologna slices, against surface inocula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isteria monocytoge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after peeling/slicing and before vacuum packag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0" y="822240"/>
          <a:ext cx="9110520" cy="52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22240"/>
                    <a:ext cx="9110520" cy="52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 rot="16200000">
            <a:off x="442080" y="3061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1040" y="4876920"/>
            <a:ext cx="77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ogna slices inoculated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isteria monocytogen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then immersed (1 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0" y="804960"/>
          <a:ext cx="9144000" cy="52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04960"/>
                    <a:ext cx="9144000" cy="52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 rot="16200000">
            <a:off x="305640" y="3061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58760" y="4815000"/>
            <a:ext cx="77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ogna slices inoculated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isteria monocytogen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then immersed (1 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0" y="804960"/>
          <a:ext cx="9144000" cy="52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04960"/>
                    <a:ext cx="9144000" cy="52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 rot="16200000">
            <a:off x="288360" y="3061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58760" y="4876920"/>
            <a:ext cx="77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ogna slices inoculated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isteria monocytogen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then immersed (1 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0" y="711360"/>
          <a:ext cx="9080640" cy="54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11360"/>
                    <a:ext cx="9080640" cy="54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 rot="16200000">
            <a:off x="229320" y="31374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 rot="16200000">
            <a:off x="366120" y="34423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1200" y="5334120"/>
            <a:ext cx="77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ogna slices inoculated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isteria monocytogen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then immersed (1 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ria monocytoge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oculated (2-3 log CFU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on bologna slices before vacuum packaging reached high populations (&gt; 7 log CFU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n 10-20 days of storage at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ersion of inoculated bologna slices in acetic acid (2.5 and 5%), lactic acid (5%), sodium diacetate (5%) or potassium benzoate (5%) inhibi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ria monocytoge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over 90 days at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immersion concentrations of lactic acid (2.5%) and sodium diacetate (2.5%), or immersion in sodium acetate (2.5 and 5%), and sodium lactate (5 and 10%) exhibited lower levels of inhibi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of this study revealed that post-processing contam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. monocytoge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y be controlled in cured meat products by post-processing exposure to solutions of acetic, lactic, benzoic or sorbic acid or their sal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y evaluation studies should be performed, however to refine the concentrations needed and to determine their effects in product shelf-life before the commercial application of any of the effective treatments of this stud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 of antimicrobial effects at abusive temperature is also suggested and technological innovations are needed for commercial application of the treat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 rot="16200000">
            <a:off x="213480" y="3734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47680" y="2666880"/>
            <a:ext cx="651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osed symbols = acid-adapted cells; open symbols = nonadapted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74880" y="304920"/>
            <a:ext cx="77457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inless steel attached cells; fresh beef washings (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, 2 days) inoculat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steria monocyto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 rot="16200000">
            <a:off x="369000" y="3429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4952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nkfurters with antimicrobials included in the formulation inocula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isteria monocytog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 rot="16200000">
            <a:off x="366120" y="3429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5720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oculated frankfurters dipped in hot (7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) water; open symbols = 1 frankfurter/bag; closed symbols = 2 frankfurters/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 rot="16200000">
            <a:off x="275400" y="3518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4997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nkfurters with antimicrobials included in the formulation inocula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isteria monocytog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steria monocytoge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oculated (2-4 log CFU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n frankfurters after peeling exceed 7 log CFU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fter 20-35 day at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in vacuum pack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ssible concentrations of sodium acetate and sodium diacetate (both at  0.25% of the total formulation weight) were inhibitory to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steria monocytoge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oculated on frankfurters post-processing for up to 30 days at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ermissible concentration of sodium lactate (3% of the total formulation weight) inhibited growth of the pathogen for 50 to 70 days during storage at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under the experimental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of the permissible concentrations of sodium acetate to 0.5% did not affect growt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. monocytoge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more than 20 days, while by doubling their permissible concentrations,  sodium diacetate and sodium lactate exhibited complete control for 120 days at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pplied, post-packaging thermal pasteurization (75-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/30-90sec) had variable effects in reducing initial contamination and was not effective or reliable in controlling growth of L. monocytogenes during storage, especially when two frankfurters were included in a pack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increase in the permissible concentrations of antimicrobials in frankfurters could be avoided by combining a lower level of sodium lactate (1.8%) with sodium acetate (0.25%) or sodium diacetate (0.25%); these combinations inhibited growth of the pathogen for up to 120 days at 4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st-packaging thermal treatment may enhance the inhibitory activity of the combined antimicrobials during storage at 4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adequate levels of antimicrobials or their combinations, in the formulation of cooked meat products, needs to be evaluated for effects on product quality and shelf-life, and for antimicrobial effects at abusive temperatur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u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.E. Be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.A. Kend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.A. Scan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.R. Schmi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.C. Sm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Do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. Same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. Ike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. Caliciog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ts val="25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 Assoc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ts val="25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.L. K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0600" y="129492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te Stud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Abushelai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. Alb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And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. Ba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. Be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. Burnh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 Derrick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. DiPers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. Lakkak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. Ran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. Segom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. Stopfo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. Yo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5257800"/>
            <a:ext cx="5638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DA-CS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orado Agricultural Experiment 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Pork Producers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047680" y="2590920"/>
            <a:ext cx="651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osed symbols = acid-adapted cells; open symbols = nonadapted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14120" y="380880"/>
            <a:ext cx="79178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ttached cells; fresh beef washings (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, 2 days) inoculated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steria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nocyto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685800"/>
            <a:ext cx="8229600" cy="55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acid adaptation did not affect biofilm formation or inactiv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act biofilms were more resistant to inactivation than biofilm cells (deattached) removed into suspen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xyacetic acid was more effective on the attached cells of the natural flora than those o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. monocytoge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xyacetic acid was relatively less effective on biofilm cells in suspension than on attached biofilm cells when compared with the other sanitiz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dium hypochlorite adjusted to pH 6.8 was more effective than when unadjusted (pH 10.4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RIA MONOCYTOGE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FRESH MEAT DECONTAMIN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IDS AT 4 AND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valuate the potential for survival and growth of acid-adapted, partially acid-adapted or nonadap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ria monocytoge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cid or nonacid (water) spray-washings of fresh beef at low temperatures to simulate conditions encountered in the meat industry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804960"/>
          <a:ext cx="9144000" cy="52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04960"/>
                    <a:ext cx="9144000" cy="52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577160" y="152280"/>
            <a:ext cx="68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steria monocytoge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meat was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 survival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. monocytoge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t maximum 4 days may be expected in undiluted acidic (lactate or acetate) meat decontamination washings, or mixed with water washings, when the resulting pH is less than 4.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-containing washings with a pH above 4.0 may support survival and potential growth for extended times, while in nonacid (water) washings the pathogen may increase to high numb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SH BEEF DECONTAMINATION AND POPULATION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STERIA MONOCYTOGEN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VACUUM-PACKAGED STORAGE (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,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5280" y="2514600"/>
            <a:ext cx="51055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(pH 6.7, 5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(pH 6.7, 7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ic acid (2%, pH 2.3, 5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ic acid (2%, pH 2.8, 5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0:20:09Z</dcterms:created>
  <dc:creator>Mindy Kain</dc:creator>
  <dc:description/>
  <dc:language>en-US</dc:language>
  <cp:lastModifiedBy>OPPDE, FSIS</cp:lastModifiedBy>
  <dcterms:modified xsi:type="dcterms:W3CDTF">2001-06-21T18:42:47Z</dcterms:modified>
  <cp:revision>6</cp:revision>
  <dc:subject/>
  <dc:title>CONTROL OF FOODBORNE PATHOGENS IN MEAT PRODUCTS BY SANITATION, DRYING AND ANTIMICROBIA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Web Pages\RDAD Web Pages\97-01N files from Dan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