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43C-CE4D-4591-AE76-D9051A770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nly a partial listing of the manufacturers and program sponsors involved in promoting ENERGY STAR qualified CFS equipment. For a full listing of manufacturers, visit www.energystar.gov.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or a full listing of utility partners and their rebate programs, visit www.energystar.gov/cfsrebate_loc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1C36-674C-4588-AAC9-C2064650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600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59F2-648A-4076-B66A-5B437DCFB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9000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001000" cy="1295280"/>
          </a:xfrm>
          <a:prstGeom prst="rect">
            <a:avLst/>
          </a:prstGeom>
          <a:solidFill>
            <a:srgbClr val="3ba2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80400" y="0"/>
            <a:ext cx="126360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ryer"/>
          <p:cNvPicPr/>
          <p:nvPr/>
        </p:nvPicPr>
        <p:blipFill>
          <a:blip r:embed="rId1"/>
          <a:srcRect l="15038" t="2785" r="16361" b="2785"/>
          <a:stretch/>
        </p:blipFill>
        <p:spPr>
          <a:xfrm>
            <a:off x="5753160" y="2211480"/>
            <a:ext cx="1600200" cy="1520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6760" y="1892160"/>
            <a:ext cx="43765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Narrow"/>
              </a:rPr>
              <a:t>ENERGY STAR</a:t>
            </a:r>
            <a:r>
              <a:rPr b="0" lang="en-US" sz="2400" spc="-1" strike="noStrike" baseline="100000">
                <a:solidFill>
                  <a:srgbClr val="808080"/>
                </a:solidFill>
                <a:latin typeface="Arial Narrow"/>
              </a:rPr>
              <a:t>®</a:t>
            </a:r>
            <a:r>
              <a:rPr b="1" lang="en-US" sz="4000" spc="-1" strike="noStrike" baseline="100000">
                <a:solidFill>
                  <a:srgbClr val="808080"/>
                </a:solidFill>
                <a:latin typeface="Arial Narrow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FOR FOOD SERVICE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4267080" cy="55627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60880" y="1752480"/>
            <a:ext cx="40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ommercial Food Service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343400"/>
            <a:ext cx="2948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av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ave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e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Fryer"/>
          <p:cNvPicPr/>
          <p:nvPr/>
        </p:nvPicPr>
        <p:blipFill>
          <a:blip r:embed="rId2"/>
          <a:srcRect l="15038" t="2785" r="16361" b="2785"/>
          <a:stretch/>
        </p:blipFill>
        <p:spPr>
          <a:xfrm>
            <a:off x="1081080" y="3359160"/>
            <a:ext cx="22716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team Coo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2757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3443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08240" y="1919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82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61722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494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Pressure and pressure-less gas and electric models can qualify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(3 – 6+ p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ENERGY STAR qualified products must have a minimum cooking efficiency of 50% for electric or 38% for gas. They must also meet maximum idle energ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Use 90% less water compared to standard steam cooker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0 manufacturer partners with qualified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s of March 2008, 68 gas and electric model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733920"/>
            <a:ext cx="4419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ccuTemp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Cleveland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Crown Foodservice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DI Food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Hobart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733920"/>
            <a:ext cx="502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Intek 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Market Forge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Southbend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Stellar Food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Vulcan-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680" indent="-3196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A4F7-C5AB-4402-8FD5-DB6242ADB82F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Hot Food Holding Cabin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ENERGY STAR qualified hot food holding cabinets are 60% more energy efficient than standard models and must meet maximum idle energ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Improved insulation, and other features, helps reduce energy loss and maintain temperature uniformity throughout the cabi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4 Manufacturer Partners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s of March 2008, 82 model numbers representing 536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200400"/>
            <a:ext cx="48960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Alto-Shaam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Bevles/Bakers Pride/APW Wyo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Cambro 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Carter-Hoff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Cres C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Food Warming Equipment Company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Hatco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3124080"/>
            <a:ext cx="35240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Henny Penny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InterMetro 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McCall Refrig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Nor-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Traulsen &amp; Co.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Winston Industries,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Wittco Foodservice Equipment, A Division of ITW Food Equipmen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1A9E-893B-4A2F-8A3E-B0F41AE95EFE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9000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olid Door Refrigerators &amp; Freez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9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ENERGY STAR qualified refrigerators &amp; freezers are more energy efficient than standard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Qualified models are designed with components such as ECM evaporator and condenser fan motors, hot gas anti-sweat heaters, or high-efficiency compressors, which will significantly reduce energy consumption and utility b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7 manufacturers with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qualified products (selected companies belo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s of March 2008, 794 qualified refrigerator and 705 qualified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freezer mod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705120"/>
            <a:ext cx="3181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rctic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Beverag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Hoshizaki America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McCall Refrig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Nor-Lake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689280"/>
            <a:ext cx="35622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Silver King Refrig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Traulsen and Co.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True 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Victory Refrig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AE14-47A4-4662-A64D-385CC319DD2B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Ice Mach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ir-cooled, cube-type machines are eligible for ENERGY STAR qualification, including ice-making head, self-contained, and remote condensing un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Commercial Ice Machines that have earned the ENERGY STAR are on average    15 percent more energy-efficient and 10 percent more water-efficient than standard model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Four manufacturers with qualified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s of March 2008, 109 qualified mod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191120"/>
            <a:ext cx="6858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Hoshizaki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Manitowoc Foodservice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Mile High Equipment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Scotsman Ic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9555-E8AF-4F7C-925F-51D718EEBF46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upported by Major Market Pla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371600"/>
            <a:ext cx="4724280" cy="60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anufactur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905120" cy="110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2409840" cy="3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2571840" cy="936720"/>
          </a:xfrm>
          <a:prstGeom prst="rect">
            <a:avLst/>
          </a:prstGeom>
          <a:ln w="0">
            <a:noFill/>
          </a:ln>
        </p:spPr>
      </p:pic>
      <p:pic>
        <p:nvPicPr>
          <p:cNvPr id="122" name="logo" descr="Hobart -- Solid Equipment, Sound Advice"/>
          <p:cNvPicPr/>
          <p:nvPr/>
        </p:nvPicPr>
        <p:blipFill>
          <a:blip r:embed="rId4"/>
          <a:stretch/>
        </p:blipFill>
        <p:spPr>
          <a:xfrm>
            <a:off x="6705720" y="2438280"/>
            <a:ext cx="2438280" cy="781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09680" y="3733920"/>
            <a:ext cx="4572000" cy="60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rogram Spons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sdge_logo" descr=""/>
          <p:cNvPicPr/>
          <p:nvPr/>
        </p:nvPicPr>
        <p:blipFill>
          <a:blip r:embed="rId5"/>
          <a:stretch/>
        </p:blipFill>
        <p:spPr>
          <a:xfrm>
            <a:off x="304920" y="5726160"/>
            <a:ext cx="2666880" cy="1131840"/>
          </a:xfrm>
          <a:prstGeom prst="rect">
            <a:avLst/>
          </a:prstGeom>
          <a:ln w="0">
            <a:noFill/>
          </a:ln>
        </p:spPr>
      </p:pic>
      <p:pic>
        <p:nvPicPr>
          <p:cNvPr id="125" name="logo" descr="PG&amp;E logo"/>
          <p:cNvPicPr/>
          <p:nvPr/>
        </p:nvPicPr>
        <p:blipFill>
          <a:blip r:embed="rId6"/>
          <a:stretch/>
        </p:blipFill>
        <p:spPr>
          <a:xfrm>
            <a:off x="457200" y="4724280"/>
            <a:ext cx="2819520" cy="757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GasNetworks"/>
          <p:cNvPicPr/>
          <p:nvPr/>
        </p:nvPicPr>
        <p:blipFill>
          <a:blip r:embed="rId7"/>
          <a:stretch/>
        </p:blipFill>
        <p:spPr>
          <a:xfrm>
            <a:off x="6781680" y="4648320"/>
            <a:ext cx="1752840" cy="992160"/>
          </a:xfrm>
          <a:prstGeom prst="rect">
            <a:avLst/>
          </a:prstGeom>
          <a:ln w="0">
            <a:noFill/>
          </a:ln>
        </p:spPr>
      </p:pic>
      <p:pic>
        <p:nvPicPr>
          <p:cNvPr id="127" name="sce_logo" descr=""/>
          <p:cNvPicPr/>
          <p:nvPr/>
        </p:nvPicPr>
        <p:blipFill>
          <a:blip r:embed="rId8"/>
          <a:stretch/>
        </p:blipFill>
        <p:spPr>
          <a:xfrm>
            <a:off x="3733920" y="4724280"/>
            <a:ext cx="2209680" cy="781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3962520" y="5700600"/>
            <a:ext cx="1752480" cy="1157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30E4-8137-4BA9-BD48-CE3E9F16C641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6095880" y="5943600"/>
            <a:ext cx="2171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artner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Why are utilities involved in promoting high efficiency equi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Many states require utilities to fund energy efficiency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Helps reduce demand for power, slows need for new generation and transmission systems, and customers like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Why promote high efficiency food service equi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Food service industry is grow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Untapped energy savings opportunities in kitch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Can target existing and new institu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Both gas and electric equipment is cove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7AC2-5C20-42D6-BD40-592F188747FF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vailable Product Reb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Rebates are generally directed at the end-user (kitchen operator) after installation.</a:t>
            </a:r>
            <a:br>
              <a:rPr sz="2400"/>
            </a:b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Many utilities offer rebates on ENERGY STAR qualified CFS equipment. Some of these utilities include*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Pacific Gas and Electric (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Southern California Edi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San Diego Gas and Electric (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Southern California Gas Comp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GasNetworks (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Focus on Energy (W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Puget Sound Energy (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Narrow"/>
              </a:rPr>
              <a:t>*As of December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A13-A7EC-4686-A774-890280E4F162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ENERGY STA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14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Promoting online tools to increase awareness of and access to existing utility reb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Fostering greater cooperation and coordination between utilities and manufactur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Developing specifications for new CFS equipment typ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Working with manufacturers to add new models to existing qualified products li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Working with industry and their associations to encourage the installation of energy-efficient CFS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6500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536C-C748-47CA-829D-4501B92D79A7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NERGY STAR Support fo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ommercial Food Ser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ERGY STAR Commercial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od Service: Over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ENERGY STAR is: </a:t>
            </a:r>
            <a:br>
              <a:rPr sz="2400"/>
            </a:b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A government -backed program dedicated to helping consumers protect the environment through superior energy efficiency. ENERGY STAR qualified commercial food service equipment saves energy, money and the 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 Narrow"/>
              </a:rPr>
              <a:t>ENERGY STAR qualified commercial food service equipment off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Shorter cook ti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mproved burn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More efficient ice harvesting and water delivery during the rinse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Higher production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mproved ins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More efficient components such as compressors, evaporators, fan mot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Annual savings range from $60 - $1,000 (depending on the type of fo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equip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229600" y="6500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05A9-9CDD-418B-BBED-D267339C1890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5181840" cy="1166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49240" y="5943600"/>
            <a:ext cx="72406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 learn more, visit the ENERGY STAR Training Center page a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www.energystar.gov/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66800"/>
            <a:ext cx="854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The ENERGY STAR Training Center is a user-friendly and easily navigable micro-site containing training tools for Partners. Users can navigate throughout three main categories to find training resources relevant to them: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product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,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campaign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,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utilities/energy efficiency program sponsor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EASY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: Access to all ENERGY STAR training materials and resources on your 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ACCURATE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: The most current training materials to share with your sales associates for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increasing the sale of ENERGY STAR qualified products and service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RELEVANT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: A location for collaboration and idea exchange with other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" y="1295280"/>
            <a:ext cx="434016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64160" y="2058840"/>
            <a:ext cx="429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ENERGY STAR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government-backed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that helps consumers identify energy-efficient products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ENERGY STAR qualified 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av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av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ave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63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What is ENERGY ST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2485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7A19-61A4-42AC-BF00-476C6CF17C08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NERGY STAR Qualified                            Commercial Food Service Equi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tabLst>
                <a:tab algn="l" pos="0"/>
                <a:tab algn="l" pos="914400"/>
                <a:tab algn="l" pos="159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47920"/>
            <a:ext cx="79804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Equipment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Steam Cook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Fry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Dishwas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ENERGY STAR qualified food service equipment improves kitchen performance throug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Shorter cook ti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Higher production r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mproved ins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High-efficiency compres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Narrow"/>
              </a:rPr>
              <a:t>Source: Food Service Technology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981080"/>
            <a:ext cx="506736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Hot Food Holding Cabin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Solid-door Refrigerators and Freez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ce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0721-CCF3-4256-815A-D5F85948253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Why Buy ENERGY ST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424160"/>
            <a:ext cx="822960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High quality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26496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ENERGY STAR qualified food service equipment can cost the same as standard equipment. And, any additional cost is usually paid-back in energy savings within three years.</a:t>
            </a: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26496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Qualified equipment uses less energy                                                    so it costs less to operate.</a:t>
            </a: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Save time and serv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       –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Qualified food service equipment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has shorter cook times and                               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higher production rates, allowing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you to prepare more meals in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less tim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72280" y="3048120"/>
          <a:ext cx="3466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3048120"/>
                    <a:ext cx="3466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B099-9F63-4FCC-A922-FA866E9C98C5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9240" y="228600"/>
            <a:ext cx="57337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aving Energy Help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otect th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1454040"/>
            <a:ext cx="22100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91040" y="4343400"/>
            <a:ext cx="384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051520" cy="5581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077320" y="62485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068E-E556-40F4-9974-10CF0A693AD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1523880"/>
            <a:ext cx="3581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ENERGY STAR qualified food service equipment helps prevent global warming by reducing the greenhouse gas emissions  caused by burning fossil fuels at power pla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Restaurants that invest strategically can cut utility costs 10-30% without sacrificing service, quality, style or comfort—all while making significant contributions to a cleaner environ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295280"/>
            <a:ext cx="807696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Annual Saving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Steam Cookers – up to $5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Fryers – $600 (Gas); $80 (Electri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Hot Food Holding Cabinets – $4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Solid-door Refrigerators -- $1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Solid-door Freezers -- $1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Ice Machines – $100 on utility bills; $10 on water b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Dishwashers – $850 on utility bills; $200 on water b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Narrow"/>
              </a:rPr>
              <a:t>Source: US Environmental Protection Agency, ENERGY STAR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Narrow"/>
              </a:rPr>
              <a:t>*Savings numbers approxim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CB61-1B31-41E2-A340-B2F6D335005E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aving Energy Equal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aving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oduct Lifecycle 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1371600"/>
          <a:ext cx="7848720" cy="4632480"/>
        </p:xfrm>
        <a:graphic>
          <a:graphicData uri="http://schemas.openxmlformats.org/drawingml/2006/table">
            <a:tbl>
              <a:tblPr/>
              <a:tblGrid>
                <a:gridCol w="1752840"/>
                <a:gridCol w="1523880"/>
                <a:gridCol w="1612800"/>
                <a:gridCol w="1444680"/>
                <a:gridCol w="15145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alified Pro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itial Additional (Incremental)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fecycle Saving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yback of Additional Cost 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fecycle Savings as % of Retail Pr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Ice Machine (IM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$3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$1,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Refrig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$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$1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Hot Food Holding Cabin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$1,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$3,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Dishwasher  </a:t>
                      </a:r>
                      <a:r>
                        <a:rPr b="1" lang="en-US" sz="16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(undercounter, high te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-$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$6,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1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609588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Narrow"/>
              </a:rPr>
              <a:t>Source: US Environmental Protection Agency, ENERGY STAR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Narrow"/>
              </a:rPr>
              <a:t>*Savings numbers approxim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4AAC-B34C-469C-8B9E-667FC2754A21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ishwas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High and low undercounter temp, single tank door type, single and multiple tank conveyor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can be ENERGY STAR qual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Commercial dishwashers that have earned the ENERGY STAR are on average 25% more energy efficient and 25% more water efficient than standard models. They must meet maximum gallons per rack requirements during the final rinse and use less energy while idling between wash cy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12 manufacturer partners with qualified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American Dish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Auto-Chlo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Champion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CMA Dish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Electrolux Profes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Fag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DAF-AE34-41C4-9730-EBFDA2B8579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019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s of March 2008, 153 models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9560" y="3932280"/>
            <a:ext cx="38761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Hobart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Insinger Machine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Jackson MSC 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Meiko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Moyer Di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St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r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Open deep-fat gas and electric fryers can qua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ENERGY STAR qualified models must have a minimum cooking efficiency of 50% for gas or 80% for electric. They must also meet maximum idle energ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6 manufacturer partners with qualified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ga Foodservice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Fry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Henny Penny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s of March 2008, 77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gas and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electric model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AAE6-0581-4934-B760-3267F724CFAA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870360"/>
            <a:ext cx="34290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Keating of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Pitco Fria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Ultrafryer Systems, Inc</a:t>
            </a:r>
            <a:br>
              <a:rPr sz="2000"/>
            </a:b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46:53Z</dcterms:created>
  <dc:creator>EPA EPA</dc:creator>
  <dc:description/>
  <dc:language>en-US</dc:language>
  <cp:lastModifiedBy> </cp:lastModifiedBy>
  <dcterms:modified xsi:type="dcterms:W3CDTF">2008-03-18T17:02:34Z</dcterms:modified>
  <cp:revision>476</cp:revision>
  <dc:subject/>
  <dc:title>No Slide Title</dc:title>
</cp:coreProperties>
</file>