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6D4-0735-4299-99C5-2DF5438A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A20-835A-44AE-9817-3F2FDF96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F96-7D10-404A-87BB-F01BF3C6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C58-FB2B-4A60-9E92-E928FAA5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62D-58EA-4622-8D93-9CF049FA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1EA-1F34-4EAA-8561-88992601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1B6-F154-4A74-8F41-57AC809E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DD1-B4CA-4A30-8A91-FD5DD20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D60-D9CC-484B-8B92-1F42630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DFA-8E4C-4F05-9864-B444B8B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A19-322A-41F3-8732-C613FE0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261-E818-4937-988E-B19F6DE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D34-8125-47B0-844E-9ECE1398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AA Metadata Manager and Reposit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Shir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Re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E. H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Image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4920" y="1600200"/>
            <a:ext cx="619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Micro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19360" y="1600200"/>
            <a:ext cx="570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52600" y="1600200"/>
            <a:ext cx="443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5760" y="19670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5760" y="1751040"/>
            <a:ext cx="52527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tadata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cation Inform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it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itation Inform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iginator: Operational Significant Event Imag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blication Date: 199810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tle: Hurricane Mit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bstract: Hurricane Mitch. Central pressure: 923 MB. Sustained wind: 155 M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pose: The Operational Significant Event Imagery team produces high-resolution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tailed imagery of significant environmental events which are visible in remotely-sens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 available at the NOAA Science Center in Suitland, Maryla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me Period of Content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me Period Inform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ngle Date/Time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endar Date: 199810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me of Day: 134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urrentness Reference: Publication 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tu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ess: Comp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intenance and Update Frequency: None Plan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patial Domai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unding Coordinate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st Bounding Coordinate: -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st Bounding Coordinate: -7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rth Bounding Coordinate: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th Bounding Coordinate: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Keyword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me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me Keyword Thesaurus: NASA/GCMD Keyword Thesaur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me Keyword: Earth Science  &gt; Atmosphere &gt; Atmospheric Phenomena &gt; Cycl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352680"/>
            <a:ext cx="2743200" cy="38124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86200"/>
            <a:ext cx="3276720" cy="38088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or multipl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opera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ections using defaul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4160" y="1600200"/>
            <a:ext cx="503388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10080" y="4952880"/>
            <a:ext cx="533520" cy="304920"/>
          </a:xfrm>
          <a:prstGeom prst="ellipse">
            <a:avLst/>
          </a:prstGeom>
          <a:noFill/>
          <a:ln w="28440">
            <a:solidFill>
              <a:srgbClr val="fa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7"/>
            <a:endCxn id="130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3"/>
            <a:endCxn id="131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0" idx="3"/>
            <a:endCxn id="129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29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2" idx="3"/>
            <a:endCxn id="129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0" idx="7"/>
            <a:endCxn id="131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1" idx="7"/>
            <a:endCxn id="132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checks and error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 metadata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chema vali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917720"/>
            <a:ext cx="8229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3276720"/>
            <a:ext cx="266724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819520"/>
            <a:ext cx="2743200" cy="38088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94040" y="338940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1524240" cy="53352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257800"/>
            <a:ext cx="281952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5257800"/>
            <a:ext cx="1295640" cy="38088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752480"/>
            <a:ext cx="73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tadata formats can be a challenge. The basic FGDC format contains over 300 fields. There are various FGDC profiles, including Biological, Shoreline and Remote Sensing, which add even more fields. We need a tool that supports creation, editing, storage and public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4" idx="7"/>
            <a:endCxn id="155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3"/>
            <a:endCxn id="156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5" idx="3"/>
            <a:endCxn id="154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6" idx="3"/>
            <a:endCxn id="154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7" idx="3"/>
            <a:endCxn id="154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55" idx="7"/>
            <a:endCxn id="156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6" idx="7"/>
            <a:endCxn id="157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itle, Abstrac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keywords/thesaurus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58760" y="1600200"/>
            <a:ext cx="702468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62120" y="26668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a16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666880"/>
            <a:ext cx="990720" cy="304920"/>
          </a:xfrm>
          <a:prstGeom prst="ellipse">
            <a:avLst/>
          </a:prstGeom>
          <a:noFill/>
          <a:ln w="19080">
            <a:solidFill>
              <a:srgbClr val="fa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1" idx="7"/>
            <a:endCxn id="182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3"/>
            <a:endCxn id="183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1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3" idx="3"/>
            <a:endCxn id="181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4" idx="3"/>
            <a:endCxn id="181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82" idx="7"/>
            <a:endCxn id="183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3" idx="7"/>
            <a:endCxn id="184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419720"/>
            <a:ext cx="1828800" cy="30456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s available via publ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Z39.50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interna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GDC/NSDI Clearinghous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-based search (Title, Keyword,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39.50 client or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19440" y="1600200"/>
            <a:ext cx="550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ince 2002 by NGDC, NODC, C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thing since sliced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AA Metadata Manager and Repository (NMM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NGDC and NO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multiple metadata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, SOAP, and search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metadata, with minimal understanding of FGD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workflow with multipl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/granule (parent/child) record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2095560"/>
            <a:ext cx="1600200" cy="1600200"/>
            <a:chOff x="914400" y="2095560"/>
            <a:chExt cx="1600200" cy="1600200"/>
          </a:xfrm>
        </p:grpSpPr>
        <p:sp>
          <p:nvSpPr>
            <p:cNvPr id="55" name=""/>
            <p:cNvSpPr/>
            <p:nvPr/>
          </p:nvSpPr>
          <p:spPr>
            <a:xfrm>
              <a:off x="914400" y="2095560"/>
              <a:ext cx="1600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2400" y="27115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05720" y="2095560"/>
            <a:ext cx="1600200" cy="1600200"/>
            <a:chOff x="6705720" y="2095560"/>
            <a:chExt cx="1600200" cy="1600200"/>
          </a:xfrm>
        </p:grpSpPr>
        <p:sp>
          <p:nvSpPr>
            <p:cNvPr id="58" name=""/>
            <p:cNvSpPr/>
            <p:nvPr/>
          </p:nvSpPr>
          <p:spPr>
            <a:xfrm>
              <a:off x="6705720" y="2095560"/>
              <a:ext cx="1600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1640" y="271296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809880" y="4876920"/>
            <a:ext cx="1600200" cy="1600200"/>
            <a:chOff x="3809880" y="4876920"/>
            <a:chExt cx="1600200" cy="1600200"/>
          </a:xfrm>
        </p:grpSpPr>
        <p:sp>
          <p:nvSpPr>
            <p:cNvPr id="61" name=""/>
            <p:cNvSpPr/>
            <p:nvPr/>
          </p:nvSpPr>
          <p:spPr>
            <a:xfrm>
              <a:off x="3809880" y="4876920"/>
              <a:ext cx="1600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9640" y="5492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638680" y="274320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e4b8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74320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e4b8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57880" y="42670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e4b8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81280" y="1523880"/>
            <a:ext cx="2057400" cy="2743200"/>
            <a:chOff x="3581280" y="1523880"/>
            <a:chExt cx="2057400" cy="2743200"/>
          </a:xfrm>
        </p:grpSpPr>
        <p:sp>
          <p:nvSpPr>
            <p:cNvPr id="67" name=""/>
            <p:cNvSpPr/>
            <p:nvPr/>
          </p:nvSpPr>
          <p:spPr>
            <a:xfrm>
              <a:off x="3581280" y="1523880"/>
              <a:ext cx="2057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733920" y="1905120"/>
              <a:ext cx="1752480" cy="685800"/>
              <a:chOff x="3733920" y="1905120"/>
              <a:chExt cx="1752480" cy="685800"/>
            </a:xfrm>
          </p:grpSpPr>
          <p:sp>
            <p:nvSpPr>
              <p:cNvPr id="69" name=""/>
              <p:cNvSpPr/>
              <p:nvPr/>
            </p:nvSpPr>
            <p:spPr>
              <a:xfrm>
                <a:off x="3733920" y="1905120"/>
                <a:ext cx="1752480" cy="685800"/>
              </a:xfrm>
              <a:prstGeom prst="rect">
                <a:avLst/>
              </a:prstGeom>
              <a:solidFill>
                <a:srgbClr val="ade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65120" y="1927440"/>
                <a:ext cx="1090440" cy="641520"/>
              </a:xfrm>
              <a:prstGeom prst="rect">
                <a:avLst/>
              </a:prstGeom>
              <a:solidFill>
                <a:srgbClr val="ad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lue Ang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chnolog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ava Libra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3809880" y="2895480"/>
              <a:ext cx="1600200" cy="609840"/>
              <a:chOff x="3809880" y="2895480"/>
              <a:chExt cx="1600200" cy="609840"/>
            </a:xfrm>
          </p:grpSpPr>
          <p:sp>
            <p:nvSpPr>
              <p:cNvPr id="72" name=""/>
              <p:cNvSpPr/>
              <p:nvPr/>
            </p:nvSpPr>
            <p:spPr>
              <a:xfrm>
                <a:off x="3809880" y="2895480"/>
                <a:ext cx="160020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191480" y="2971800"/>
                <a:ext cx="835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ac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164480" y="15238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MM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69" idx="2"/>
              <a:endCxn id="72" idx="0"/>
            </p:cNvCxnSpPr>
            <p:nvPr/>
          </p:nvCxnSpPr>
          <p:spPr>
            <a:xfrm>
              <a:off x="4609800" y="25909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" name=""/>
            <p:cNvGrpSpPr/>
            <p:nvPr/>
          </p:nvGrpSpPr>
          <p:grpSpPr>
            <a:xfrm>
              <a:off x="3886200" y="3733920"/>
              <a:ext cx="1447920" cy="304560"/>
              <a:chOff x="3886200" y="3733920"/>
              <a:chExt cx="1447920" cy="304560"/>
            </a:xfrm>
          </p:grpSpPr>
          <p:sp>
            <p:nvSpPr>
              <p:cNvPr id="77" name=""/>
              <p:cNvSpPr/>
              <p:nvPr/>
            </p:nvSpPr>
            <p:spPr>
              <a:xfrm>
                <a:off x="3886200" y="3733920"/>
                <a:ext cx="1447920" cy="304560"/>
              </a:xfrm>
              <a:prstGeom prst="rect">
                <a:avLst/>
              </a:prstGeom>
              <a:solidFill>
                <a:srgbClr val="ade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5960" y="3747960"/>
                <a:ext cx="1149840" cy="276480"/>
              </a:xfrm>
              <a:prstGeom prst="rect">
                <a:avLst/>
              </a:prstGeom>
              <a:solidFill>
                <a:srgbClr val="ad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39.50 Ser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5720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metadata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data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types are defined by creation of templates that specif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 and vali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or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records for comm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support basic FGDC, plus Biological profile and Remote Sensing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o support ISO 19115/19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4" idx="7"/>
            <a:endCxn id="85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7" idx="3"/>
            <a:endCxn id="86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5" idx="3"/>
            <a:endCxn id="84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4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4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/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5" idx="7"/>
            <a:endCxn id="86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86" idx="7"/>
            <a:endCxn id="87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2209680"/>
            <a:ext cx="365760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429000"/>
            <a:ext cx="601992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existing record in XM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rom scr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rom default record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with customize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703520"/>
            <a:ext cx="82296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5:50:39Z</dcterms:created>
  <dc:creator>jshirley</dc:creator>
  <dc:description/>
  <dc:language>en-US</dc:language>
  <cp:lastModifiedBy>jshirley</cp:lastModifiedBy>
  <dcterms:modified xsi:type="dcterms:W3CDTF">2005-10-31T21:40:46Z</dcterms:modified>
  <cp:revision>71</cp:revision>
  <dc:subject/>
  <dc:title>NOAA Metadata Manager and Repository </dc:title>
</cp:coreProperties>
</file>