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A8E51-D59B-4C63-BB5E-A28595DC40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60296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068A4-FA33-4904-8D44-DC46BA1B94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60296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60296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21928-CF32-4559-ADD3-B95D6861D8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60296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60296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60296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5C855-281C-4B77-B777-B0C92216C4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D0E9C-9E7A-4EFB-A205-024A3CA5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E7B5B-D45D-4E6E-9A71-A3E84A32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8B902-4F6E-4840-9586-27394F0B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ECF22-9E24-4D37-B078-2384DC22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0F148-6C76-49B7-8EAB-17671DB7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5DFD8-6E7C-46CE-A75E-CA8EA866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60296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04E6F-5921-4664-92D6-7B5FDA67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92B53-CB98-4F6B-87DB-7D2E7933D9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60296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6D722-5E4C-42A7-B417-6D8044E8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60296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A6D46-50A9-4817-A79A-45A25339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60296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E2402-1304-46C8-BC09-CAE7AAFE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60296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60296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294C1-E51C-4253-B5C8-CFCF91DA1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60296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60296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60296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6597D-659A-4923-A071-2A1750A9B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896E6-9DF8-4E27-8C5D-5EB6E23B2C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A7CAB-4362-45E8-91E3-41D71D4788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113CC-3767-4F6C-9355-35E0C3B980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BDC64-FEA8-48CB-8A58-300B229D52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60296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0CD3E-870C-4AFF-8909-DBEEA65E26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60296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594F2-2AF0-4793-A81A-354BF2F38D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60296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281D8-C91B-418D-8B3D-61C3D9B674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6868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828800"/>
            <a:ext cx="7696080" cy="419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095880"/>
            <a:ext cx="289584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228240" y="63241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ge </a:t>
            </a:r>
            <a:fld id="{E3F6D98D-693B-430F-937F-56596917B4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228600" y="6019920"/>
            <a:ext cx="1905120" cy="30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047760" y="6095880"/>
            <a:ext cx="2971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228600" y="6324120"/>
            <a:ext cx="1905120" cy="3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2D09-BC83-481E-900E-0D01A80A80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llectual Property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ours, Mine, and Ou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28600" y="2666520"/>
            <a:ext cx="8610480" cy="2590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able L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venabl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hael Goll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2-344-407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ollin@venable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3,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64120" y="486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-76320" y="685800"/>
          <a:ext cx="9163080" cy="544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685800"/>
                    <a:ext cx="9163080" cy="54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A1214-70F1-45CE-A4D1-0444A84088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demarks &amp; Service Mar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724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eral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nciful / arbitrary / suggestive / descriptive (secondary mea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1600200"/>
            <a:ext cx="35049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. Trade 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or pack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. Trade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. Domain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infringement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ikelihood of con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r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EC7BC-762F-4AB2-9291-ABFFB7E989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-1600200" y="1219320"/>
          <a:ext cx="12344400" cy="521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600200" y="1219320"/>
                    <a:ext cx="1234440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138C7-A55B-4F56-B272-9A721ABA4F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pyrigh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al Works of Autho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programs, database architecture, software mining tools, reports, marketing materials, web-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infringement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ubstantially Simi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Cre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r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57800" y="1855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C9B5B-D1C0-4FE6-B39F-666A88B913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 Management Ti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ed management of all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cate responsi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ide and out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uct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, maintain, and enforce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eful timing of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ly fil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1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dget planning for expensive a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oid liability and ownership disp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 ow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45942-35CE-42CF-83FF-79175BC749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14400" y="12193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fer Agre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1752480"/>
            <a:ext cx="80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dentiality or Non-Discl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Contractor or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sourcing o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ADAs or Collabo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, Distribution or Res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c Alliances or J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&amp;A or 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ts &amp; Investment Agre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9BD44-6B9D-4615-B6C0-8D57F24769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28600" y="7621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37160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M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logical materials, instruments, reagents, software, documentation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and Up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lectual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ema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e Secr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-H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ndle of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ment to Lic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2B0DD-BCBA-46FE-890F-FF0FEA3256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28600" y="91440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523880"/>
            <a:ext cx="76201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petual v. 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lusive v. Non-Exclu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licensable v. Non-Sublicens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able v. Non-Transfer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wide v. Terr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v. No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yalty (Fixed, Sliding, Tiers, Caps, Floors, Variable on IP,, Deduction for other Royalt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yalty-Free (e.g., Grantback, Improvements, other 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-front Fee &amp; Milest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h Thr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9DF1E-CE71-429B-884F-520EAC0F3D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28600" y="7621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er Check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600200"/>
            <a:ext cx="3505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tri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rved R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arch-in, reporting etc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y, Improve, or  Create  Deriv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erse Engine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wner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1600200"/>
            <a:ext cx="3962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Comp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icit Employees or Cust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age in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ct w/ Competi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ble Laws, Rules, &amp; Reg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A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 &amp; Saf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P, GLP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r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CCB1D-97BE-47F7-88A0-70DEFB7756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" y="91440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676520"/>
            <a:ext cx="3505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k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s and Warran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m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ation of Li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2880" y="1676520"/>
            <a:ext cx="3505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table Reli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erning Law &amp; Ve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ce Majeure &amp; Wa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ation &amp; Trans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C8315-E5DD-4353-91B0-9C0617D192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EGIC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IP systematically over time to improve an organization’s competitive pos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s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, long-term, consistent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ound understanding of competitiv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appraisal of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99F10-B082-4D21-BA14-F7B3829865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er Pitfa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62680" y="1828800"/>
            <a:ext cx="377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ignment of ownership to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ring rights company does not have (assignment of federally funded inven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ownership vs. r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adequate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tory grantbacks (federal licen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business, product or IP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realistic expectations &amp; val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inven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2B788-085F-46D8-8C9A-6341ED5022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762120" y="-38160"/>
          <a:ext cx="8800920" cy="897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-38160"/>
                    <a:ext cx="8800920" cy="897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 flipH="1" flipV="1">
            <a:off x="5921280" y="2749320"/>
            <a:ext cx="76680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81080" y="228600"/>
            <a:ext cx="6019920" cy="5786280"/>
            <a:chOff x="1981080" y="228600"/>
            <a:chExt cx="6019920" cy="5786280"/>
          </a:xfrm>
        </p:grpSpPr>
        <p:grpSp>
          <p:nvGrpSpPr>
            <p:cNvPr id="134" name=""/>
            <p:cNvGrpSpPr/>
            <p:nvPr/>
          </p:nvGrpSpPr>
          <p:grpSpPr>
            <a:xfrm>
              <a:off x="1981080" y="228600"/>
              <a:ext cx="6019920" cy="5786280"/>
              <a:chOff x="1981080" y="228600"/>
              <a:chExt cx="6019920" cy="5786280"/>
            </a:xfrm>
          </p:grpSpPr>
          <p:sp>
            <p:nvSpPr>
              <p:cNvPr id="135" name=""/>
              <p:cNvSpPr/>
              <p:nvPr/>
            </p:nvSpPr>
            <p:spPr>
              <a:xfrm>
                <a:off x="3411360" y="4395600"/>
                <a:ext cx="11977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5598720" y="4387680"/>
                <a:ext cx="1072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08000" y="4395600"/>
                <a:ext cx="97416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411360" y="5398920"/>
                <a:ext cx="11977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4606920" y="5404320"/>
                <a:ext cx="206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622680" y="4075200"/>
                <a:ext cx="766080" cy="2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li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592960" y="4052520"/>
                <a:ext cx="133596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ollaborat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664880" y="4075200"/>
                <a:ext cx="818280" cy="2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JOI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622680" y="5072760"/>
                <a:ext cx="766080" cy="2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li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241960" y="5105880"/>
                <a:ext cx="133596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ollaborat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294360" y="5704920"/>
                <a:ext cx="766080" cy="2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li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694400" y="5704920"/>
                <a:ext cx="133596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ollaborat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1981080" y="228600"/>
                <a:ext cx="6019920" cy="5786280"/>
                <a:chOff x="1981080" y="228600"/>
                <a:chExt cx="6019920" cy="5786280"/>
              </a:xfrm>
            </p:grpSpPr>
            <p:sp>
              <p:nvSpPr>
                <p:cNvPr id="148" name=""/>
                <p:cNvSpPr/>
                <p:nvPr/>
              </p:nvSpPr>
              <p:spPr>
                <a:xfrm flipV="1">
                  <a:off x="3403800" y="6007680"/>
                  <a:ext cx="591120" cy="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4004280" y="6012000"/>
                  <a:ext cx="2681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0" name=""/>
                <p:cNvGrpSpPr/>
                <p:nvPr/>
              </p:nvGrpSpPr>
              <p:grpSpPr>
                <a:xfrm>
                  <a:off x="1981080" y="228600"/>
                  <a:ext cx="6019920" cy="5786280"/>
                  <a:chOff x="1981080" y="228600"/>
                  <a:chExt cx="6019920" cy="578628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3960360" y="1500480"/>
                    <a:ext cx="20880" cy="45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3403800" y="1485000"/>
                    <a:ext cx="0" cy="45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5921280" y="1500480"/>
                    <a:ext cx="0" cy="45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6687360" y="1485000"/>
                    <a:ext cx="0" cy="4519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4608000" y="2413800"/>
                    <a:ext cx="766080" cy="260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lien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5846040" y="2413800"/>
                    <a:ext cx="1336320" cy="28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ollaborato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3403800" y="2748600"/>
                    <a:ext cx="2517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flipV="1">
                    <a:off x="3409920" y="3380400"/>
                    <a:ext cx="2183040" cy="6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9" name=""/>
                  <p:cNvGrpSpPr/>
                  <p:nvPr/>
                </p:nvGrpSpPr>
                <p:grpSpPr>
                  <a:xfrm>
                    <a:off x="5592960" y="3275280"/>
                    <a:ext cx="1094400" cy="202320"/>
                    <a:chOff x="5592960" y="3275280"/>
                    <a:chExt cx="1094400" cy="202320"/>
                  </a:xfrm>
                </p:grpSpPr>
                <p:sp>
                  <p:nvSpPr>
                    <p:cNvPr id="160" name=""/>
                    <p:cNvSpPr/>
                    <p:nvPr/>
                  </p:nvSpPr>
                  <p:spPr>
                    <a:xfrm flipH="1">
                      <a:off x="5592960" y="3385080"/>
                      <a:ext cx="1094400" cy="1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 flipV="1">
                      <a:off x="6687360" y="3275280"/>
                      <a:ext cx="0" cy="2023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2" name=""/>
                  <p:cNvSpPr/>
                  <p:nvPr/>
                </p:nvSpPr>
                <p:spPr>
                  <a:xfrm>
                    <a:off x="4279320" y="3126960"/>
                    <a:ext cx="766080" cy="260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lien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5592960" y="3126960"/>
                    <a:ext cx="1335960" cy="28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ollaborato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4" name=""/>
                  <p:cNvGrpSpPr/>
                  <p:nvPr/>
                </p:nvGrpSpPr>
                <p:grpSpPr>
                  <a:xfrm>
                    <a:off x="1981080" y="228600"/>
                    <a:ext cx="6019920" cy="1937520"/>
                    <a:chOff x="1981080" y="228600"/>
                    <a:chExt cx="6019920" cy="1937520"/>
                  </a:xfrm>
                </p:grpSpPr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3981600" y="642240"/>
                      <a:ext cx="1939680" cy="152388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3388680" y="810360"/>
                      <a:ext cx="2079360" cy="1200600"/>
                    </a:xfrm>
                    <a:prstGeom prst="ellipse">
                      <a:avLst/>
                    </a:prstGeom>
                    <a:blipFill rotWithShape="0">
                      <a:blip r:embed="rId3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4608000" y="810360"/>
                      <a:ext cx="2079360" cy="1200600"/>
                    </a:xfrm>
                    <a:prstGeom prst="ellipse">
                      <a:avLst/>
                    </a:prstGeom>
                    <a:blipFill rotWithShape="0">
                      <a:blip r:embed="rId4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1981080" y="958320"/>
                      <a:ext cx="984960" cy="631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637720" y="1379520"/>
                      <a:ext cx="1041840" cy="210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418840" y="228600"/>
                      <a:ext cx="984960" cy="631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int Scope of 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184920" y="747720"/>
                      <a:ext cx="10944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6140160" y="228600"/>
                      <a:ext cx="984960" cy="631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int Cre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6906600" y="958320"/>
                      <a:ext cx="1094400" cy="631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bo-rator Cre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 flipH="1">
                      <a:off x="6391440" y="1274400"/>
                      <a:ext cx="733320" cy="1051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4608000" y="958320"/>
                      <a:ext cx="984960" cy="947520"/>
                    </a:xfrm>
                    <a:prstGeom prst="ellipse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6" name=""/>
                  <p:cNvSpPr/>
                  <p:nvPr/>
                </p:nvSpPr>
                <p:spPr>
                  <a:xfrm>
                    <a:off x="4608000" y="1485000"/>
                    <a:ext cx="0" cy="45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5592960" y="1485000"/>
                    <a:ext cx="0" cy="45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78" name=""/>
            <p:cNvSpPr/>
            <p:nvPr/>
          </p:nvSpPr>
          <p:spPr>
            <a:xfrm flipH="1">
              <a:off x="5045760" y="537120"/>
              <a:ext cx="1203840" cy="73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6C34F-0B24-4CF7-AE39-AD3F9BABB7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6868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ntee obligations to federal govern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19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s://s-edison.info.nih.gov/iEdison/timeline.j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e invention disclosure/assignment agre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ion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tee or Subcontractor retains title to i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deral paid up non-exclusive lic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or rights in released inven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of patent application, issuance, and aband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business can assign pa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D433F-E7BC-4B84-8DD5-06B61E0134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llectual Property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rs, Mine, and Ours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s &amp; Answ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304920" y="2971800"/>
            <a:ext cx="8534160" cy="228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Gollin  202-344-407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ollin@venabl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mas Wiseman  202-344-4614  tgwiseman@venabl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ic  Namrow  202-344-4621  esnamrow@venabl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64120" y="486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066680" y="10666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 OF IP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752480"/>
            <a:ext cx="8077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enterprise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 short and long term competitive adva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marketing and pos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 relationships with personnel and part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act capital and protect 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o technology, materials, software &amp;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 yourself, customers, and partners from IP challenges and avoid 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 dissemination of knowledge and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78637-25C0-43BC-BA75-CB545E0C52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 TRIGGER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ying, investing in, starting up, or selling a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ng a name or logo for a product, service, or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ing a new product or service (biotechnology, software, devices, and instrum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ing an existing product or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ing for a federal grant (SB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ing into government, academic, or corporate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nging on a key employee or contractor for design, research, or developmen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business or technical information to suppliers, customers, partners or inve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ing a major sales effort or marketing initi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ing or expanding a customer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ing for advantages in a competitiv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5E2DA-74CB-4656-A03A-98A54D75A2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S OF INTELLECTUAL PROPER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 Secr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marks &amp; Service 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9F37C-56B5-4008-9E3A-7047A26BBE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-457200" y="800280"/>
          <a:ext cx="10039320" cy="521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800280"/>
                    <a:ext cx="1003932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6DAAE-EBB5-413F-8F89-91A7B55CBE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-228600" y="457200"/>
          <a:ext cx="9582120" cy="670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457200"/>
                    <a:ext cx="958212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D0343-8726-48E3-B6BB-B2FBAC626E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52388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ject Ma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ublished anywhere in the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d within 1 year of sale or discl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st to invent and not abandon or sup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erson reasonably skilled in the 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-- specific, substantial, cred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technology -- identify specif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E042A-5CCE-47FD-9302-43EC73948F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3886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ing with U.S. Patent &amp; Trademark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i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1828800"/>
            <a:ext cx="42670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rin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creation no def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 validity &amp; enforce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34724-F505-4F45-9F73-2B22ADD097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2T22:33:18Z</dcterms:created>
  <dc:creator>nzd02</dc:creator>
  <dc:description/>
  <dc:language>en-US</dc:language>
  <cp:lastModifiedBy>mag02</cp:lastModifiedBy>
  <cp:lastPrinted>2003-05-08T22:20:21Z</cp:lastPrinted>
  <dcterms:modified xsi:type="dcterms:W3CDTF">2004-05-25T19:51:37Z</dcterms:modified>
  <cp:revision>79</cp:revision>
  <dc:subject/>
  <dc:title>Intellectual Property Ownership:  United Sta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64791238</vt:r8>
  </property>
  <property fmtid="{D5CDD505-2E9C-101B-9397-08002B2CF9AE}" pid="3" name="_AuthorEmail">
    <vt:lpwstr>ACRuifrok@Venable.com</vt:lpwstr>
  </property>
  <property fmtid="{D5CDD505-2E9C-101B-9397-08002B2CF9AE}" pid="4" name="_AuthorEmailDisplayName">
    <vt:lpwstr>Ruifrok, Allison C.</vt:lpwstr>
  </property>
  <property fmtid="{D5CDD505-2E9C-101B-9397-08002B2CF9AE}" pid="5" name="_EmailSubject">
    <vt:lpwstr>Speaker Confirmation for NIH SBIR/STTR Conference, June 2-3</vt:lpwstr>
  </property>
</Properties>
</file>