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E7FD-8FB1-4A28-8F4C-73628AFB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7DB6-BB70-4B5D-8F3A-88CC8864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F010-925C-428A-AB52-03AC88AF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2CC5-2A79-4DFF-8C07-7B5CE3D1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E292-A137-41C9-B5BD-5519C27D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696C-D225-44BB-9B6E-65D7A9F3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AD5A-A33E-4438-ACEC-70545A90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7831-46C9-4976-8589-669DDCE8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65F4-4795-456B-9D39-5A07910B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4487-241F-4815-9C59-7BD536A7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CE05-2A01-4C57-90EB-27830E61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32E9-A52A-4AE3-9CD6-2045975C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632A-B5B1-47E3-AB4D-8E2F37B89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eather.gov/mdl/synop/gmos/landwater.html" TargetMode="External"/><Relationship Id="rId3" Type="http://schemas.openxmlformats.org/officeDocument/2006/relationships/hyperlink" Target="http://www.weather.gov/geodata" TargetMode="External"/><Relationship Id="rId4" Type="http://schemas.openxmlformats.org/officeDocument/2006/relationships/hyperlink" Target="mailto:Kari.sheets@noaa.gov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reation of Gridded MOS Land Water M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atistical Modeling Bra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teorological Development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vember 9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nd Water Mask Shape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066680" y="1219320"/>
            <a:ext cx="716292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nd Water Mask Shape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lygon Shapefile converted to Raster 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aster cell given value of polygon directly under the CENTER of the grid cell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eck was made by assigning polygon value to NDFD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rid values were extracted to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ew Land Water M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66680" y="1325520"/>
            <a:ext cx="716292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w Land Water Mask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eas of Forecaster Conc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562720" y="4091040"/>
            <a:ext cx="3581280" cy="2766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4191120"/>
            <a:ext cx="3505320" cy="2708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0" y="1371600"/>
            <a:ext cx="3657600" cy="2825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5486400" y="1365120"/>
            <a:ext cx="3657600" cy="2826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3276720" y="3124080"/>
            <a:ext cx="2514600" cy="1943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2666880" y="1523880"/>
            <a:ext cx="8575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ML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514600" y="6400800"/>
            <a:ext cx="8571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BO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077320" y="3657600"/>
            <a:ext cx="8571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OK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8077320" y="6400800"/>
            <a:ext cx="8571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IL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800600" y="4648320"/>
            <a:ext cx="8571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GY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ifference in Current GMOS and New Land Water - KGY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295280" y="1447920"/>
            <a:ext cx="6705720" cy="51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mperature F24 November 4, 2007 12Z Cycle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posed Land Water M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219320" y="1306440"/>
            <a:ext cx="7086600" cy="5475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447920" y="1523880"/>
            <a:ext cx="6629400" cy="3794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422720" y="6248520"/>
            <a:ext cx="672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ps are available on web site as *.pdf files with zoom 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7086600" cy="54752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mperature F24 November 4, 2007 12Z Cycle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perational Land Water M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447920" y="1523880"/>
            <a:ext cx="6629400" cy="379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22720" y="6248520"/>
            <a:ext cx="672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ps are available on web site as *.pdf files with zoom 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06768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Resources and Contact Inform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eb Based Land Water Mask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WIPS Map Databas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– shapefile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SRI’s ArcInfo 9.2 was used to create the land water m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 Furthe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Kari Sheets, SMB GIS team l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301-713-0023 ext 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Kari.sheets@noaa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urrent GMOS Land Water Mas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arse U.S. shapefile  from ESRI media DV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nual editing tailored to analysis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astline was adjusted to match station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rid point location not considered in 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urpose of Regenerating Land Water Mas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mon land water mask for GMOS and verification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or Gridded MOS verifications in coastal areas when compared to NDF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MOS users expressed concern along the east co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arrier is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arbor and Bay sizes not 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urrent GMOS Land Water Mas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90720" y="1147680"/>
            <a:ext cx="739116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WIPS High Resolution Shape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rine Zones only consider US terr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xico &amp; Cuba not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cludes all US l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aps between US and Canada where water ex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WIPS High Resolution Shape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90720" y="1143000"/>
            <a:ext cx="716256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odified AWIPS High Resolution Shapefiles for GM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WIPS States Shape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moved Lake Okeechobee due to lack of MOS station guidance in the l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 Mexico AWIPS shape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sed ESRI Media States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rew polygon to “fill in” holes left due to differing resolution with AWIPS states shap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lan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WIPS Lakes Shap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elected Great Lakes, Great Salt Lake, &amp; Lake St. Cl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WIPS Canadian Province Shape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coarse than AWIPS states shap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rew polygon to “fill in” holes left due to differing re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ce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 Ocean Shapefiles exi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sed a rectangular polygon bigger than the coverage area and erased all of the aforementioned shapefiles, so the remaining area became o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moving Lake Okeechob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5800" y="1447920"/>
            <a:ext cx="8001000" cy="4527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ake care to delete entire sketch, so no residual evidence of the lake is le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hapefile Edits for Land Water Mas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lygons were dissolved to eliminate holes and bound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land water, Ocean, and Land shapefiles were merged to form a single shape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ttribute field indicates land o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cean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land Water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nd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13:18:11Z</dcterms:created>
  <dc:creator>SheetsKL</dc:creator>
  <dc:description/>
  <dc:language>en-US</dc:language>
  <cp:lastModifiedBy>Rebecca Cosgrove</cp:lastModifiedBy>
  <dcterms:modified xsi:type="dcterms:W3CDTF">2007-11-13T21:59:51Z</dcterms:modified>
  <cp:revision>22</cp:revision>
  <dc:subject/>
  <dc:title>Creation of Gridded MOS Land Water Mask</dc:title>
</cp:coreProperties>
</file>