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3162240"/>
            <a:ext cx="77724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Refining the Vision</a:t>
            </a:r>
            <a:br>
              <a:rPr sz="40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&amp;</a:t>
            </a:r>
            <a:br>
              <a:rPr sz="3600"/>
            </a:b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Defining Success</a:t>
            </a:r>
            <a:br>
              <a:rPr sz="4000"/>
            </a:br>
            <a:r>
              <a:rPr b="1" i="1" lang="en-US" sz="2800" spc="-1" strike="noStrike">
                <a:solidFill>
                  <a:srgbClr val="3366ff"/>
                </a:solidFill>
                <a:latin typeface="Arial"/>
                <a:ea typeface="Arial"/>
              </a:rPr>
              <a:t>10 Dec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332320" y="5864400"/>
            <a:ext cx="3809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ig Gen Frank J. Anderson, J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ted States Ai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uty Assistant Secretary (Contract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istant Secretary (Acqui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238480" y="716040"/>
            <a:ext cx="46720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339933"/>
                </a:solidFill>
                <a:latin typeface="Arial"/>
                <a:ea typeface="Arial"/>
              </a:rPr>
              <a:t>Contracts &amp; Procurement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339933"/>
                </a:solidFill>
                <a:latin typeface="Arial"/>
                <a:ea typeface="Arial"/>
              </a:rPr>
              <a:t>Alternative Dispute Resolution (A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339933"/>
                </a:solidFill>
                <a:latin typeface="Arial"/>
                <a:ea typeface="Arial"/>
              </a:rPr>
              <a:t>Interagency Working Group (IA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6760" y="1295280"/>
            <a:ext cx="8610480" cy="5484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604880" y="187200"/>
            <a:ext cx="5934240" cy="11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Arial"/>
              </a:rPr>
              <a:t>Contracts &amp; Procurement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Arial"/>
              </a:rPr>
              <a:t>ADR Success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  <a:ea typeface="Arial"/>
              </a:rPr>
              <a:t>Sept 98 - Sep 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Spreading th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61920" y="2057400"/>
            <a:ext cx="721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Air Force Annual CEO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t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 Corporate Agreements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NCMA East Coast Conference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v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0+  Attended ADR 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ostly Business Mana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National Defense Industry Assoc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61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Air Force General Counsel Education Con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b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Since 14 O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67000" y="2286000"/>
            <a:ext cx="6210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ined Task Force Ch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ed Task Force C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ed Year-Long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ote Draft Agency P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ed Success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rted Spreading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Completing the President’s Cha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2888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2 Agencies Particip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ing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olidating Examples &amp; B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ing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 Section Meetings (Including the American Bar Association Con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cking Success Through th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ing &amp; Issuing Fin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533520"/>
            <a:ext cx="7772400" cy="13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5000"/>
              </a:lnSpc>
            </a:pP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          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ADR Program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i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  <a:ea typeface="Arial"/>
              </a:rPr>
              <a:t>Frank Ca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e Chair: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Pat Sheri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Program Design Assistance (as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hance &amp; Further Develop Program Design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liverab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Program Design Gui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, Consolidate Agency Program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Design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533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Task Forces, Chairs,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457200"/>
            <a:ext cx="777240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5000"/>
              </a:lnSpc>
            </a:pP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     </a:t>
            </a:r>
            <a:r>
              <a:rPr b="1" lang="en-US" sz="4200" spc="-1" strike="noStrike">
                <a:solidFill>
                  <a:srgbClr val="3366ff"/>
                </a:solidFill>
                <a:latin typeface="Arial"/>
                <a:ea typeface="Arial"/>
              </a:rPr>
              <a:t>ADR Case Process Desig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i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  <a:ea typeface="Arial"/>
              </a:rPr>
              <a:t>Tony Pallad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e Chair: 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hance &amp; Further Develop AD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Case Process Design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s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liverab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Federal ADR Resource Compen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ADR Agreement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Settlement Agreement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R Process Assistance (as needed thru Sep 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6720" y="425520"/>
            <a:ext cx="5302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Task Forces, Chairs,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457200"/>
            <a:ext cx="7772400" cy="13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5000"/>
              </a:lnSpc>
            </a:pP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              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ADR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0512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i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  <a:ea typeface="Arial"/>
              </a:rPr>
              <a:t>Carole Ho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e Chair:  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sure agency ADR needs are matched with ADR train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hance &amp; Further Develop AD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lp Agencies Identify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liverab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DR Training Resource List &amp; Consolidated Training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DR Train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lp Agencies Build Trai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73040" y="425520"/>
            <a:ext cx="5302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Task Forces, Chairs,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53352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5000"/>
              </a:lnSpc>
            </a:pP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             </a:t>
            </a:r>
            <a:r>
              <a:rPr b="1" lang="en-US" sz="4800" spc="-1" strike="noStrike">
                <a:solidFill>
                  <a:srgbClr val="3366ff"/>
                </a:solidFill>
                <a:latin typeface="Arial"/>
                <a:ea typeface="Arial"/>
              </a:rPr>
              <a:t>ADR Neutr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28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i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  <a:ea typeface="Arial"/>
              </a:rPr>
              <a:t>Judge Martin H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e Chair:  Judge Eunice 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sure Agency Neutral Needs are Matched with Existing Government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liver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Roster of Government Neutrals With Specialties &amp; Disseminate to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501480"/>
            <a:ext cx="5302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Task Forces, Chairs,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697120" y="655560"/>
            <a:ext cx="3751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Our Plan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7680" y="1781280"/>
            <a:ext cx="8648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Major Milest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6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4 Feb</a:t>
            </a:r>
            <a:r>
              <a:rPr b="1" lang="en-US" sz="2600" spc="-1" strike="noStrike">
                <a:solidFill>
                  <a:srgbClr val="339933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Meeting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utrals &amp;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6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26-28 Ap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- ABA Con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6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26 M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- Meeting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DR Program &amp; Case Process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6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2 J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1" lang="en-US" sz="2600" spc="-1" strike="noStrike">
                <a:solidFill>
                  <a:srgbClr val="339933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gency Self-Evaluations D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6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21 J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- Meeting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66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gency Evaluations &amp; Final Report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79"/>
              </a:spcBef>
              <a:buClr>
                <a:srgbClr val="ff0066"/>
              </a:buClr>
              <a:buSzPct val="45000"/>
              <a:buFont typeface="CP1252"/>
              <a:buChar char=""/>
            </a:pPr>
            <a:r>
              <a:rPr b="1" lang="en-US" sz="26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1 Se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- Final Report to DO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FNET</dc:creator>
  <dc:description/>
  <dc:language>en-US</dc:language>
  <cp:lastModifiedBy>SAFNET</cp:lastModifiedBy>
  <cp:revision>0</cp:revision>
  <dc:subject/>
  <dc:title>No Slide Title</dc:title>
</cp:coreProperties>
</file>