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819-76A2-4BD7-ABF9-B3E1564A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061-FC44-491B-8C1F-D70D2CB5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69E-B692-4F33-8646-CB85877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EFB-B266-4339-9BF1-6A40D842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669-C950-410E-9210-0221BE0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288-46EE-4D77-9F0A-D13142EF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A73-E56F-45BB-8AA7-AE6531CF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CF8-2EA7-4308-B84A-7BA3C28C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149-1E23-4ADE-BFFF-1DA6B3B6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73E-45D0-4DE5-8EF4-0E8CB91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B73-3574-40BC-A6E8-3BEDFE11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CA2-2E5F-4F56-8390-C99BFB6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2C2A-2902-47B6-997E-96644CE02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sei.noaa.gov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ellite Services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AA Science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ion Brief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nuary 28,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457200"/>
            <a:ext cx="762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ational Environmental Satellite, Data, and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905120"/>
          <a:ext cx="740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740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828800"/>
          <a:ext cx="771516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151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1905120"/>
          <a:ext cx="7209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720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600200"/>
            <a:ext cx="6705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y Mission Are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azard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733920"/>
            <a:ext cx="6324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merical Weather Predic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WS Field Offices &amp; National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AA Coast 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AA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ntral Satellite Data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Events/Operational Significant Events Ima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057400"/>
            <a:ext cx="670572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lcanic Ash Advi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opical Cyclon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erimental Smoke and Fir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avy precipit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Natural Hazard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interpretative analysis support in monitoring global natural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15364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nts include, but not limi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st 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df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 ic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re 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ther hazards including volcanic ash and tropical cyc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2880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Special Events/Operational Significant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specialized, high resolution imagery for significant natural and anthropogenic events on a world-wid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447920"/>
            <a:ext cx="670536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ily snow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ES Sou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density wi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cipit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52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Numerical Weather Predict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 To provide global operational interpretive analysis support to 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057400"/>
            <a:ext cx="67057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WIPS satellite ima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OS satellite cloud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avy precipitation estimates (flash floo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mapped GOES, POES IR, VIS, &amp; water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7524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NWS and National Cent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NWS forecast and field offices, and national centers with operational satellite-derived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057400"/>
            <a:ext cx="754380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sea surface temper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resolution IR, VIS and water vapor image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cean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7524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  NOAA Coast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 To provide operational satellite-derived products and in-situ data to Federal , state, and local marine scientists and coastal resource agencies and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day’s Agenda – 1.5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roduction &amp; Overview -- Reggie Law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ellite Analysis Branch -- George  Serafino, 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active Processing Branch -- Sharolyn Young, 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ture Directions-- John Paquette, Team Lead, Products &amp;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ur -- SSD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600200"/>
            <a:ext cx="861048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SD Web Site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lcanic Ash Advi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 GOES imagery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significant imagery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ast W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zar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ES special bulletins, eclipse &amp; dissemination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    NOAA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public and private access to satellite-derived products and services produced by Satellite Service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152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ome of SSD’s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20" y="1822320"/>
            <a:ext cx="7981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WS Forecast Offices, National Centers, and Riverforecast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ional Marine Fisherie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ld Meteorological Organization (W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uropean Weather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ureau of Recla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leet Numerical Meteorology and Oceanography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e Weather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ional Snow and Ice Data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Various Worldwide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artment of Defense (Air Force Weather Agenc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ional Weather Service (N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ederal Aviation Administration (FA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ederal Emergency Management Agency (FE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US Airlines (United, Continental, American, Atl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ederal 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0 Meteorological Watch Offices in Mexico, Central America, northern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merica, and Carib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19240" y="3805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Website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Operational Significant Event Imagery Website (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sei.noaa.gov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atellite Services Division Website (http://www.ssd.noaa.go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Joint Typhoon Warning Center Products (http://www.npmoc.navy.mil/jtwc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ational Hurricane Center (http://www.nhc.noaa.gov/products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Volcanic Ash Advisory Centers (http://www.ssd.noaa.gov/VAAC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lobal Volcanism Program (http://www.volcano.si.edu/gvp/gvn/notices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ational Interagency Fire Center (http://www.nifc.go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lobal Fire Monitoring Center (GFMC) (http://www.ruf.uni-freiburg.de/fireglobe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ASA Global Fire Monitoring (http://earthobservatory.nasa.gov/Library/GlobalFire/fire_5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International Geosynchronous Imagery (http://www.goes.noaa.go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457200"/>
            <a:ext cx="762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33412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ational Environmental Satellite, Data, and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1522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828800"/>
            <a:ext cx="861048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ission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atellite Services Division supports the National Oceanic and Atmospheric Administration and the National Environmental Satellite, Data, and Information Services mission by providing real-time and near real-time environmental data, analyses, and interpretations from polar-orbiting and geostationary operational environmental satellites to a diverse user community for environmental assessment, prediction, and stewardship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atellite Services Division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ech and Admin Sta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94480" y="345924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ggie Lawrence,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1600" y="3306600"/>
            <a:ext cx="14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freda Carter, Div. 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3560" y="262080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thy Dinkins, IPD S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0400" y="505944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bra Marchant, SAB Se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2600" y="4983120"/>
            <a:ext cx="132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il Neal, Tech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266724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95680" y="50292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05520" y="12193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934320" y="3200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934320" y="160020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838080" y="4800600"/>
            <a:ext cx="1752840" cy="1533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1905120" cy="1562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2286000" y="3124080"/>
            <a:ext cx="1989000" cy="1722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2438280" y="4724280"/>
            <a:ext cx="229392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400800" y="4952880"/>
            <a:ext cx="2027160" cy="1752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25146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CATHY PAX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971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JOHN PAQU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2666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PHILLIP N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666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ELIZABETH E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572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THOMAS RENKEV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5720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SHAROL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47242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REGINALD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47242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GEORGE SERAF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8672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ZIYADAH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6172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KATHY DINK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63244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ALFRED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62485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DEBRA MARC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7520" y="31680"/>
          <a:ext cx="9048960" cy="679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31680"/>
                    <a:ext cx="904896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vernment Personne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6 F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act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$25.0M support &amp; services contract awarded to RSIS, Inc in February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se contract is now $6M per year with 3 option years rem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st plus performance award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0 contract employees staffed in systems engineering, software engineering, communications, system maintenance, and 24/7 help desk 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0200" y="302256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0640" y="1981080"/>
          <a:ext cx="5560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1981080"/>
                    <a:ext cx="5560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685800"/>
            <a:ext cx="8397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3800" y="2752560"/>
            <a:ext cx="3016440" cy="1532160"/>
          </a:xfrm>
          <a:prstGeom prst="ellipse">
            <a:avLst/>
          </a:prstGeom>
          <a:solidFill>
            <a:srgbClr val="a0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9760" y="2693880"/>
            <a:ext cx="3016080" cy="1474920"/>
          </a:xfrm>
          <a:prstGeom prst="ellipse">
            <a:avLst/>
          </a:prstGeom>
          <a:solidFill>
            <a:srgbClr val="a0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9800" y="4923000"/>
            <a:ext cx="2957760" cy="1533240"/>
          </a:xfrm>
          <a:prstGeom prst="ellipse">
            <a:avLst/>
          </a:prstGeom>
          <a:solidFill>
            <a:srgbClr val="a0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5581800"/>
            <a:ext cx="2347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41880" y="3184560"/>
            <a:ext cx="313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440" y="3355920"/>
            <a:ext cx="3132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286160"/>
            <a:ext cx="91584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0" y="0"/>
                </a:moveTo>
                <a:lnTo>
                  <a:pt x="576" y="576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172040"/>
            <a:ext cx="1144440" cy="1087200"/>
          </a:xfrm>
          <a:custGeom>
            <a:avLst/>
            <a:gdLst/>
            <a:ahLst/>
            <a:rect l="l" t="t" r="r" b="b"/>
            <a:pathLst>
              <a:path w="721" h="685">
                <a:moveTo>
                  <a:pt x="0" y="684"/>
                </a:move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3480" y="3429000"/>
            <a:ext cx="1373040" cy="1440"/>
          </a:xfrm>
          <a:custGeom>
            <a:avLst/>
            <a:gdLst/>
            <a:ahLst/>
            <a:rect l="l" t="t" r="r" b="b"/>
            <a:pathLst>
              <a:path w="865" h="1">
                <a:moveTo>
                  <a:pt x="0" y="0"/>
                </a:moveTo>
                <a:lnTo>
                  <a:pt x="864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84280" y="2057400"/>
            <a:ext cx="39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D T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4:07:42Z</dcterms:created>
  <dc:creator>Satellite Services Division</dc:creator>
  <dc:description/>
  <dc:language>en-US</dc:language>
  <cp:lastModifiedBy>sabadmin</cp:lastModifiedBy>
  <dcterms:modified xsi:type="dcterms:W3CDTF">2003-01-30T11:22:34Z</dcterms:modified>
  <cp:revision>105</cp:revision>
  <dc:subject/>
  <dc:title>SAB Mission</dc:title>
</cp:coreProperties>
</file>