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8266-A003-442D-A915-20ADE0145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F5046-ADDF-46CB-847F-D1E4DD8C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614C4-2F31-4527-A63C-F22493CEF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AA72-F005-4423-9D3B-DD947B9FC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EFE3-7D93-4D82-9809-0807DBAC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F2F7-BF8E-4ECA-8215-76165A2D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63AA-E804-4856-A083-10900E2C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87C2-E540-4E1C-8EA5-4C1EE7278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0881-7AE9-41E8-BD7A-9F74CBC0E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8584-11BA-4163-8497-92601019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53EDC-EFEB-466F-9801-71A920CC4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0C55-4C74-42C3-AED7-71550F3D2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6FBF-6D5E-475F-B1B9-B0D598F9DD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9144000" cy="93024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838080"/>
            <a:ext cx="77724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ies for Addressing </a:t>
            </a:r>
            <a:br>
              <a:rPr sz="3600"/>
            </a:br>
            <a:r>
              <a:rPr b="0" lang="en-US" sz="3600" spc="-1" strike="noStrike">
                <a:solidFill>
                  <a:srgbClr val="000000"/>
                </a:solidFill>
                <a:latin typeface="Arial"/>
              </a:rPr>
              <a:t>PM2.5 Precursor Emissions</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8960" y="5181480"/>
            <a:ext cx="739116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amber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Office of Air Quality Planning and Standard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 2007</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2133720" y="2057400"/>
            <a:ext cx="4854600" cy="3110040"/>
          </a:xfrm>
          <a:prstGeom prst="rect">
            <a:avLst/>
          </a:prstGeom>
          <a:ln w="0">
            <a:noFill/>
          </a:ln>
        </p:spPr>
      </p:pic>
      <p:sp>
        <p:nvSpPr>
          <p:cNvPr id="4" name="PlaceHolder 3"/>
          <p:cNvSpPr>
            <a:spLocks noGrp="1"/>
          </p:cNvSpPr>
          <p:nvPr>
            <p:ph type="sldNum" idx="3"/>
          </p:nvPr>
        </p:nvSpPr>
        <p:spPr/>
        <p:txBody>
          <a:bodyPr/>
          <a:p>
            <a:fld id="{9A5D80E0-EACB-42C9-AE8D-B265902F04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140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x (cont.)</a:t>
            </a:r>
            <a:endParaRPr b="0" lang="en-US" sz="3600" spc="-1" strike="noStrike">
              <a:solidFill>
                <a:srgbClr val="000000"/>
              </a:solidFill>
              <a:latin typeface="Arial"/>
            </a:endParaRPr>
          </a:p>
        </p:txBody>
      </p:sp>
      <p:sp>
        <p:nvSpPr>
          <p:cNvPr id="62" name="PlaceHolder 2"/>
          <p:cNvSpPr>
            <a:spLocks noGrp="1"/>
          </p:cNvSpPr>
          <p:nvPr>
            <p:ph/>
          </p:nvPr>
        </p:nvSpPr>
        <p:spPr>
          <a:xfrm>
            <a:off x="53352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onia reacts preferentially with SO2, but in the absence of significant amounts of SO2, nitric acid will readily form ammonium nitrate (such as in many western c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crease in NOx can reduce the oxidation process and thereby reduce sulfate form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States are required to address NOx as a PM2.5 attainment plan precursor and evaluate reasonable controls for NOx in PM2.5 attainment plans, unless the State and EPA make a finding that NOx emissions from sources in the State do not significantly contribute to PM2.5 concentrations in the relevant nonattainment are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BAC302-1DBF-483A-A623-5590D9DC49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Demonstrations</a:t>
            </a:r>
            <a:endParaRPr b="0" lang="en-US" sz="3600" spc="-1" strike="noStrike">
              <a:solidFill>
                <a:srgbClr val="000000"/>
              </a:solidFill>
              <a:latin typeface="Arial"/>
            </a:endParaRPr>
          </a:p>
        </p:txBody>
      </p:sp>
      <p:sp>
        <p:nvSpPr>
          <p:cNvPr id="64" name="PlaceHolder 2"/>
          <p:cNvSpPr>
            <a:spLocks noGrp="1"/>
          </p:cNvSpPr>
          <p:nvPr>
            <p:ph/>
          </p:nvPr>
        </p:nvSpPr>
        <p:spPr>
          <a:xfrm>
            <a:off x="609480" y="20574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posed technical demonstrations should be developed in advance of the attainment demonstration and in consultation with the EPA Regional Offi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should consider all available scientific and technical informa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e SIP, it will be subject to public review and comment under State administrative proces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ministrative record related to development of the SIP shows that the presumption for a precursor is not technically justified for that area, the State must submit a demonstration to reverse the presumption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 CFR 51.1002 (c)(5)]</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48EFA8-B9A2-49B3-A602-A645A26BD2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Demonstrations (cont.)</a:t>
            </a:r>
            <a:endParaRPr b="0" lang="en-US" sz="3600" spc="-1" strike="noStrike">
              <a:solidFill>
                <a:srgbClr val="000000"/>
              </a:solidFill>
              <a:latin typeface="Arial"/>
            </a:endParaRPr>
          </a:p>
        </p:txBody>
      </p:sp>
      <p:sp>
        <p:nvSpPr>
          <p:cNvPr id="66"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of evidence approach based on a number of  technical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analyses vary by polluta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ions will be reviewed on case-by-case ba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9E2FD2-107B-4287-95CC-9D1BA5876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9907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Assessing Significance / Insignificance</a:t>
            </a:r>
            <a:br>
              <a:rPr sz="2800"/>
            </a:br>
            <a:r>
              <a:rPr b="0" lang="en-US" sz="2800" spc="-1" strike="noStrike">
                <a:solidFill>
                  <a:srgbClr val="000000"/>
                </a:solidFill>
                <a:latin typeface="Arial"/>
              </a:rPr>
              <a:t> of Contribution from All Statewide Sources to Nonattainment Area PM2.5 Concentrations</a:t>
            </a:r>
            <a:endParaRPr b="0" lang="en-US" sz="2800" spc="-1" strike="noStrike">
              <a:solidFill>
                <a:srgbClr val="000000"/>
              </a:solidFill>
              <a:latin typeface="Arial"/>
            </a:endParaRPr>
          </a:p>
        </p:txBody>
      </p:sp>
      <p:sp>
        <p:nvSpPr>
          <p:cNvPr id="68"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hemical modeling – zero-out analysis; sensitivity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hemical source apportionment tools (PSAT, DDM, TSSA,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stimating impact of all sour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modeling (e.g. PMF, CM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ambient monitoring data, speciation data, and tr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emissions inventories and tr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3D316A-8062-47EF-AF5B-2D714CE1F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a:t>
            </a:r>
            <a:endParaRPr b="0" lang="en-US" sz="3200" spc="-1" strike="noStrike">
              <a:solidFill>
                <a:srgbClr val="000000"/>
              </a:solidFill>
              <a:latin typeface="Arial"/>
            </a:endParaRPr>
          </a:p>
        </p:txBody>
      </p:sp>
      <p:sp>
        <p:nvSpPr>
          <p:cNvPr id="70" name="PlaceHolder 2"/>
          <p:cNvSpPr>
            <a:spLocks noGrp="1"/>
          </p:cNvSpPr>
          <p:nvPr>
            <p:ph/>
          </p:nvPr>
        </p:nvSpPr>
        <p:spPr>
          <a:xfrm>
            <a:off x="533520" y="1371600"/>
            <a:ext cx="7772400" cy="838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hat is the contribution of all Statewide sources of the precursor (e.g. NOx, VOC, or ammonia) towards annual average PM2.5 concentrations in the nonattainment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7091280" y="5410080"/>
            <a:ext cx="8161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p:txBody>
      </p:sp>
      <p:pic>
        <p:nvPicPr>
          <p:cNvPr id="72" name="" descr=""/>
          <p:cNvPicPr/>
          <p:nvPr/>
        </p:nvPicPr>
        <p:blipFill>
          <a:blip r:embed="rId1"/>
          <a:stretch/>
        </p:blipFill>
        <p:spPr>
          <a:xfrm>
            <a:off x="1981080" y="2438280"/>
            <a:ext cx="5073840" cy="4205520"/>
          </a:xfrm>
          <a:prstGeom prst="rect">
            <a:avLst/>
          </a:prstGeom>
          <a:ln w="0">
            <a:noFill/>
          </a:ln>
        </p:spPr>
      </p:pic>
      <p:sp>
        <p:nvSpPr>
          <p:cNvPr id="4" name="PlaceHolder 3"/>
          <p:cNvSpPr>
            <a:spLocks noGrp="1"/>
          </p:cNvSpPr>
          <p:nvPr>
            <p:ph type="sldNum" idx="3"/>
          </p:nvPr>
        </p:nvSpPr>
        <p:spPr/>
        <p:txBody>
          <a:bodyPr/>
          <a:p>
            <a:fld id="{67C5576E-E6D6-41A2-B405-A9D48A6AF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3208320"/>
            <a:ext cx="4000680" cy="3649680"/>
          </a:xfrm>
          <a:prstGeom prst="rect">
            <a:avLst/>
          </a:prstGeom>
          <a:ln w="0">
            <a:noFill/>
          </a:ln>
        </p:spPr>
      </p:pic>
      <p:pic>
        <p:nvPicPr>
          <p:cNvPr id="74" name="" descr=""/>
          <p:cNvPicPr/>
          <p:nvPr/>
        </p:nvPicPr>
        <p:blipFill>
          <a:blip r:embed="rId2"/>
          <a:stretch/>
        </p:blipFill>
        <p:spPr>
          <a:xfrm>
            <a:off x="3586320" y="228600"/>
            <a:ext cx="5557680" cy="6396120"/>
          </a:xfrm>
          <a:prstGeom prst="rect">
            <a:avLst/>
          </a:prstGeom>
          <a:ln w="0">
            <a:noFill/>
          </a:ln>
        </p:spPr>
      </p:pic>
      <p:sp>
        <p:nvSpPr>
          <p:cNvPr id="75" name="PlaceHolder 1"/>
          <p:cNvSpPr>
            <a:spLocks noGrp="1"/>
          </p:cNvSpPr>
          <p:nvPr>
            <p:ph type="title"/>
          </p:nvPr>
        </p:nvSpPr>
        <p:spPr>
          <a:xfrm>
            <a:off x="228240" y="151920"/>
            <a:ext cx="60958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to Address</a:t>
            </a:r>
            <a:br>
              <a:rPr sz="2400"/>
            </a:br>
            <a:r>
              <a:rPr b="0" lang="en-US" sz="2400" spc="-1" strike="noStrike">
                <a:solidFill>
                  <a:srgbClr val="000000"/>
                </a:solidFill>
                <a:latin typeface="Arial"/>
              </a:rPr>
              <a:t>in Technical Demonstrations (cont.)</a:t>
            </a:r>
            <a:endParaRPr b="0" lang="en-US" sz="2400" spc="-1" strike="noStrike">
              <a:solidFill>
                <a:srgbClr val="000000"/>
              </a:solidFill>
              <a:latin typeface="Arial"/>
            </a:endParaRPr>
          </a:p>
        </p:txBody>
      </p:sp>
      <p:sp>
        <p:nvSpPr>
          <p:cNvPr id="76" name="PlaceHolder 2"/>
          <p:cNvSpPr>
            <a:spLocks noGrp="1"/>
          </p:cNvSpPr>
          <p:nvPr>
            <p:ph/>
          </p:nvPr>
        </p:nvSpPr>
        <p:spPr>
          <a:xfrm>
            <a:off x="-360" y="990360"/>
            <a:ext cx="6095880" cy="1523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Do contributions from the precursor to PM2.5 vary by seas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f so, are the contributions small in one or more seasons, but possibly significant in other seas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s the precursor a key contributor to high concentrations on individual days?</a:t>
            </a:r>
            <a:endParaRPr b="0" lang="en-US" sz="1800" spc="-1" strike="noStrike">
              <a:solidFill>
                <a:srgbClr val="000000"/>
              </a:solidFill>
              <a:latin typeface="Arial"/>
            </a:endParaRPr>
          </a:p>
        </p:txBody>
      </p:sp>
      <p:sp>
        <p:nvSpPr>
          <p:cNvPr id="77" name=""/>
          <p:cNvSpPr/>
          <p:nvPr/>
        </p:nvSpPr>
        <p:spPr>
          <a:xfrm>
            <a:off x="4264200" y="6356520"/>
            <a:ext cx="4879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Source Apportionment Analysis of Air Quality Monitoring Data: Phase II,” prepared by</a:t>
            </a:r>
            <a:r>
              <a:rPr b="0" i="1" lang="en-US" sz="900" spc="-1" strike="noStrike">
                <a:solidFill>
                  <a:srgbClr val="000000"/>
                </a:solidFill>
                <a:latin typeface="TimesNewRomanPS-ItalicMT"/>
              </a:rPr>
              <a:t> </a:t>
            </a:r>
            <a:r>
              <a:rPr b="0" lang="en-US" sz="900" spc="-1" strike="noStrike">
                <a:solidFill>
                  <a:srgbClr val="000000"/>
                </a:solidFill>
                <a:latin typeface="TimesNewRomanPSMT"/>
              </a:rPr>
              <a:t>Desert Research Institute, </a:t>
            </a:r>
            <a:r>
              <a:rPr b="0" lang="en-US" sz="900" spc="-1" strike="noStrike">
                <a:solidFill>
                  <a:srgbClr val="000000"/>
                </a:solidFill>
                <a:latin typeface="TimesNewRomanPS-BoldMT"/>
              </a:rPr>
              <a:t>March 2005, for the </a:t>
            </a:r>
            <a:r>
              <a:rPr b="0" lang="en-US" sz="900" spc="-1" strike="noStrike">
                <a:solidFill>
                  <a:srgbClr val="000000"/>
                </a:solidFill>
                <a:latin typeface="TimesNewRomanPSMT"/>
              </a:rPr>
              <a:t>Mid-Atlantic/Northeast Visibility Un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And Midwest Regional Planning Organizatio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50AEAAA9-77CE-45D6-97ED-35D56F6F89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79" name="PlaceHolder 2"/>
          <p:cNvSpPr>
            <a:spLocks noGrp="1"/>
          </p:cNvSpPr>
          <p:nvPr>
            <p:ph/>
          </p:nvPr>
        </p:nvSpPr>
        <p:spPr>
          <a:xfrm>
            <a:off x="609480" y="1371600"/>
            <a:ext cx="8229600" cy="18288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o reductions or increases in the precursor affect the concentrations of other PM2.5 species?  If so, what is the individual impact on each PM2.5 species?</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ammonia reductions on atmospheric acidity</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NOx reductions on sulfate and SOA</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anthropogenic VOC reductions on SOA, sulfate, and nitrate</a:t>
            </a:r>
            <a:endParaRPr b="0" lang="en-US" sz="2000" spc="-1" strike="noStrike">
              <a:solidFill>
                <a:srgbClr val="000000"/>
              </a:solidFill>
              <a:latin typeface="Arial"/>
            </a:endParaRPr>
          </a:p>
        </p:txBody>
      </p:sp>
      <p:pic>
        <p:nvPicPr>
          <p:cNvPr id="80" name="" descr=""/>
          <p:cNvPicPr/>
          <p:nvPr/>
        </p:nvPicPr>
        <p:blipFill>
          <a:blip r:embed="rId1"/>
          <a:srcRect l="0" t="17773" r="0" b="0"/>
          <a:stretch/>
        </p:blipFill>
        <p:spPr>
          <a:xfrm>
            <a:off x="914400" y="3352680"/>
            <a:ext cx="4186080" cy="3173400"/>
          </a:xfrm>
          <a:prstGeom prst="rect">
            <a:avLst/>
          </a:prstGeom>
          <a:ln w="0">
            <a:noFill/>
          </a:ln>
        </p:spPr>
      </p:pic>
      <p:sp>
        <p:nvSpPr>
          <p:cNvPr id="81" name=""/>
          <p:cNvSpPr/>
          <p:nvPr/>
        </p:nvSpPr>
        <p:spPr>
          <a:xfrm>
            <a:off x="4724280" y="5257800"/>
            <a:ext cx="4191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Sulfate Concentrations from a Domainwide 50% NOx reduc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5BE9E7-DB88-42B7-8E5E-F79DE8DFAD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83" name="PlaceHolder 2"/>
          <p:cNvSpPr>
            <a:spLocks noGrp="1"/>
          </p:cNvSpPr>
          <p:nvPr>
            <p:ph/>
          </p:nvPr>
        </p:nvSpPr>
        <p:spPr>
          <a:xfrm>
            <a:off x="457200" y="1828440"/>
            <a:ext cx="8229600" cy="108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Does ambient monitoring support the conclu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re there available monitoring data to determine whether an area is ammonia-limited or nitric acid limit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92DC581-58F9-4349-A3EF-5A871A6EA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Are there uncertainties in the emissions inventories that might lead to inconclusive findings regarding significance/insignificance of a precurs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Do the uncertainties in the air quality models lead to inconclusive findings regarding significance/insignificance of a precurso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F03818-9C05-417F-8044-1B3972A9A3B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903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direct PM2.5 and SO2 must be evaluated for  control measures in all nonattainment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ecific area, the presumptive policy for NOx, VOC, or ammonia can be reversed if the State and/or EPA provide a robust technical demonst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  if statewide emissions of the precursor contribute significantly to PM2.5 concentrations in the area, then the state will need to evaluate sources of that precursor for reasonable control meas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asures could include RACT/RACM for sources in the nonattainment area, and measures on other sources located in the state as needed for expeditious attain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C8A8C8-7480-485D-A38F-B9D726D2E1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228600"/>
            <a:ext cx="9021600" cy="6251400"/>
          </a:xfrm>
          <a:prstGeom prst="rect">
            <a:avLst/>
          </a:prstGeom>
          <a:ln w="0">
            <a:noFill/>
          </a:ln>
        </p:spPr>
      </p:pic>
      <p:sp>
        <p:nvSpPr>
          <p:cNvPr id="48" name=""/>
          <p:cNvSpPr/>
          <p:nvPr/>
        </p:nvSpPr>
        <p:spPr>
          <a:xfrm>
            <a:off x="5640840" y="6324480"/>
            <a:ext cx="316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articulate Matter Science for Policy Mak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A NARSTO Assessment, 2003.</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A52E58F0-F8C9-4522-B673-70A6D07E8C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PM2.5 and SO2</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Sulfate and carbon are significant fractions of PM</a:t>
            </a:r>
            <a:r>
              <a:rPr b="0" lang="en-US" sz="2400" spc="-1" strike="noStrike" baseline="-30000">
                <a:solidFill>
                  <a:srgbClr val="000000"/>
                </a:solidFill>
                <a:latin typeface="Arial"/>
                <a:ea typeface="Courier New"/>
              </a:rPr>
              <a:t>2.5</a:t>
            </a:r>
            <a:r>
              <a:rPr b="0" lang="en-US" sz="2400" spc="-1" strike="noStrike">
                <a:solidFill>
                  <a:srgbClr val="000000"/>
                </a:solidFill>
                <a:latin typeface="Arial"/>
                <a:ea typeface="Courier New"/>
              </a:rPr>
              <a:t> mass in all nonattainment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Reductions in SO2 lead to net reductions in PM2.5 mass concentrations despite potential slight increases in particulate nitrate lev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Direct PM2.5 emissions (includes organic carbon, elemental carbon, and crustal material) and SO2 must be addressed in all are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59D3E9-A796-44FA-9275-F0BB323D1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t>
            </a:r>
            <a:endParaRPr b="0" lang="en-US" sz="3600" spc="-1" strike="noStrike">
              <a:solidFill>
                <a:srgbClr val="000000"/>
              </a:solidFill>
              <a:latin typeface="Arial"/>
            </a:endParaRPr>
          </a:p>
        </p:txBody>
      </p:sp>
      <p:sp>
        <p:nvSpPr>
          <p:cNvPr id="5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organic carbon component of ambient PM2.5 is a complex mixture of hundreds or even thousands of organic compou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High molecular weight VOC condense readily when emitted to ambient air and are considered direct organic carbon particle emis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lative importance of anthropogenic and biogenic VOC in the formation of secondary organic aerosol (SOA) varies from area to area, depending upon local emissions sources, atmospheric chemistry, and season of the ye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While significant progress has been made in understanding the role of gaseous organic material in the formation of organic PM, this relationship remains complex.  </a:t>
            </a:r>
            <a:r>
              <a:rPr b="0" lang="en-US" sz="2000" spc="-1" strike="noStrike">
                <a:solidFill>
                  <a:srgbClr val="000000"/>
                </a:solidFill>
                <a:latin typeface="Arial"/>
              </a:rPr>
              <a:t>SOA remains probably the least understood component of PM2.5.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706AE84-25FE-4837-A2D6-1CF2886335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 (cont.)</a:t>
            </a:r>
            <a:endParaRPr b="0" lang="en-US" sz="3600" spc="-1" strike="noStrike">
              <a:solidFill>
                <a:srgbClr val="000000"/>
              </a:solidFill>
              <a:latin typeface="Arial"/>
            </a:endParaRPr>
          </a:p>
        </p:txBody>
      </p:sp>
      <p:sp>
        <p:nvSpPr>
          <p:cNvPr id="5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Organic carbon typically exhibits higher mass during the summer, when photochemical SOA formation and biogenic VOC emissions are highest.</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romatic compounds such as toluene, xylene, and trimethyl benzene are considered to be the most significant anthropogenic SOA precursors and have been estimated to be responsible for 50 to 70 percent of total SOA in some airsheds.  Man-made sources of aromatic gases include mobile sources, petrochemical manufacturing and solvents.</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States are not required to address VOC in PM2.5 implementation plans and evaluate control measures for VOC unless the State or EPA makes a technical demonstration that emissions of VOCs from sources in the State significantly contribute to PM2.5 concentrations in a given nonattainment area.</a:t>
            </a: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DDDC2E-0682-476B-8B70-8547E27020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monia</a:t>
            </a:r>
            <a:endParaRPr b="0" lang="en-US" sz="3600" spc="-1" strike="noStrike">
              <a:solidFill>
                <a:srgbClr val="000000"/>
              </a:solidFill>
              <a:latin typeface="Arial"/>
            </a:endParaRPr>
          </a:p>
        </p:txBody>
      </p:sp>
      <p:sp>
        <p:nvSpPr>
          <p:cNvPr id="56"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monia reacts with sulfuric acid and nitric acid to form ammonium sulfate and ammonium nitrate.  Ammonium sulfate formation is preferential under most conditions, though ammonium nitrate is favored by low temperature and high humid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ission inventories of ammonia contain uncertainties.   Researchers are seeking improvements through process-based inventory approaches for animal feeding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f ammonia gas and nitric acid is important for identifying when PM2.5 formation in an area is limited by ammonia or by nitric acid.  However, there are a limited number of such monitoring si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27219E-AB74-40B0-AA30-2BD21221F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903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monia (cont.)</a:t>
            </a:r>
            <a:endParaRPr b="0" lang="en-US" sz="3600" spc="-1" strike="noStrike">
              <a:solidFill>
                <a:srgbClr val="000000"/>
              </a:solidFill>
              <a:latin typeface="Arial"/>
            </a:endParaRPr>
          </a:p>
        </p:txBody>
      </p:sp>
      <p:sp>
        <p:nvSpPr>
          <p:cNvPr id="58"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ing ammonia emissions in some areas may increase the acidity of particles and of deposition.  Increased acidity is linked to adverse ecological effects and is suspected to be linked with human health effects and with an increase in the formation of secondary organic compounds.</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reas with high SO2 emissions, ammonia reductions may marginally reduce PM2.5 concentrations, but particle and precipitation acidity may increase.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bstantial SO2 reductions in the east, in general PM2.5 changes are predicted to be less responsive to reductions in ammonia than to reductions in nitric acid.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licy</a:t>
            </a:r>
            <a:r>
              <a:rPr b="0" lang="en-US" sz="2000" spc="-1" strike="noStrike">
                <a:solidFill>
                  <a:srgbClr val="000000"/>
                </a:solidFill>
                <a:latin typeface="Arial"/>
              </a:rPr>
              <a:t>:  A State is not required to address ammonia in its attainment plan or evaluate sources of ammonia emissions for reduction measures unless the State or EPA makes a technical demonstration that emissions of ammonia from sources in the State significantly contribute to PM2.5 concentrations in a given nonattainment are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8ED254-53EB-4AAE-8D23-55C9D31654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x</a:t>
            </a:r>
            <a:endParaRPr b="0" lang="en-US" sz="3600" spc="-1" strike="noStrike">
              <a:solidFill>
                <a:srgbClr val="000000"/>
              </a:solidFill>
              <a:latin typeface="Arial"/>
            </a:endParaRPr>
          </a:p>
        </p:txBody>
      </p:sp>
      <p:sp>
        <p:nvSpPr>
          <p:cNvPr id="60" name="PlaceHolder 2"/>
          <p:cNvSpPr>
            <a:spLocks noGrp="1"/>
          </p:cNvSpPr>
          <p:nvPr>
            <p:ph/>
          </p:nvPr>
        </p:nvSpPr>
        <p:spPr>
          <a:xfrm>
            <a:off x="685800" y="1828800"/>
            <a:ext cx="77724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ate continuously transfers between the gas and the condensed phases through condensation and evaporation processes in the atmosphe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aerosol ammonium nitrate is favored by the availability of ammonia, low temperatures, and high relative humidit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mmonium nitrate is semivolatile and not stable in higher temperatures, nitrate levels are typically lower in the summer months and higher in the winter month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PM2.5 concentrations typically will respond most effectively to NOx reductions in the wint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warm temperatures, Federal Reference Method monitors retain less nitrate in measured PM2.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D145CA-43A2-4B35-87E7-8462995F1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8:28:35Z</dcterms:created>
  <dc:creator>Rich Damberg</dc:creator>
  <dc:description/>
  <dc:language>en-US</dc:language>
  <cp:lastModifiedBy>OAQPS</cp:lastModifiedBy>
  <dcterms:modified xsi:type="dcterms:W3CDTF">2007-06-19T21:30:09Z</dcterms:modified>
  <cp:revision>51</cp:revision>
  <dc:subject/>
  <dc:title>Policies for PM2.5 Precursors</dc:title>
</cp:coreProperties>
</file>