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625-0D2C-4F4E-9077-DED2235D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BCC-DE73-40FB-8EF0-C6C0594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43C-187B-4916-83BF-48D9AA3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806-8D33-4C73-A56B-E6E94BD9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12C-A9AC-4D0F-BAA9-C50FA26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AE6-B1B1-4C38-8579-521EFBFA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D75-95E9-440E-A707-8F1C08A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EB5-D7E1-4557-935E-466E219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540-A7FD-45B9-ACD4-297F3A0E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9D3-33B1-430A-A14D-93E6815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50B-7214-4489-9F78-A1BA2E1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E71-2B31-4AD3-AE89-E979026F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1BD0-A22D-4E15-8D00-1468DF19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to Diversity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3760" y="62136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196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Leadership Developmen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O sponsored Pilot Leadership Development Program for the Financial and Resourc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: 9 months (starts in 11/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ize: 18 journey- or senior-level personnel (GS11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ticipants to develop competencies to become forward-looking leaders, capable of successfully helping our community define and create its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494-7D6B-4227-AB59-DE6EACD12A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Leadership Developmen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utilize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Director’s Colloqu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mentor-protégé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group co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Developm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owing a mid- to senior-level manager for 1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s with managers, special readings of articles/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periodic self-assessment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EAE-7FBB-420D-AFAF-71F4F5C0B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R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 Learning Group (CLG) for Supervi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Diversity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s and Get Toge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 Leadership Development Program for the Financial and Resource Managemen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884-CB7E-4611-946C-9D4920B16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the R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lidated 2 stovepipe organizations into one on 8/14/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t with a huge issue of 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have been broke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employees no longer see HQ or GSFC, they see one organization planning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C55-93F0-4F97-A5C4-E6530657E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the R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ve we been successf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 from supervisors and leaders within organization - involved 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age - ku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B13-E69D-4956-84FF-F1CEEE00A7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ve Learning Group for 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are individuals and partners who are dedicated to personal transformation and growth. We work to continually achieve excellence in serving our internal and external customers. We are committed to a work environment that reflects our shared values of respect, freedom, trust, integrity, balance, and crea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all Code 150 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monthly for 3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develop and maintain a high degree of  trust and respect among supervisors and eliminate barriers between accounting and resource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C7A-A1F5-4444-82B8-F4D1BD726C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 Diversity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first line 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first line supervis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group - must understand the value of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mendous impact on employees - set the tone of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ie Baker - 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ing arm for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0F4-9053-4DC7-9301-BDA08FCEDD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 and Get Togeth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rterly All Hands meet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 Annual Pic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of Fiscal Year Pizza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offsite retreat with Supervi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09E-94F4-41A2-AE11-487DBC9D77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A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nual award program to recognize and reward exceptional members (civil servant and contractor) of the CFO community who best exemplify the following quality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o att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ity/Inno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 ori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rds ceremony is held in conjunction with our CFO pic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504-3E6A-4ED8-8532-0C149659B4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ru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relationships with University of Maryland, Towson University and Gallaudet for recruiting entry level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to build relationships with University of Puerto Rico and Rochester Institute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ggling to bring on board entry level accoun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93A-9D22-4DDC-A121-572F3EF01D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6:37:25Z</dcterms:created>
  <dc:creator>PGALEDD</dc:creator>
  <dc:description/>
  <dc:language>en-US</dc:language>
  <cp:lastModifiedBy>SFTONGUE</cp:lastModifiedBy>
  <cp:lastPrinted>2001-10-09T16:58:56Z</cp:lastPrinted>
  <dcterms:modified xsi:type="dcterms:W3CDTF">2005-03-01T14:42:55Z</dcterms:modified>
  <cp:revision>13</cp:revision>
  <dc:subject/>
  <dc:title>Code 150 Diversity Activities</dc:title>
</cp:coreProperties>
</file>