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01000" cy="2144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440" y="4329360"/>
            <a:ext cx="8001000" cy="2144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04200" cy="2144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85120" y="1980720"/>
            <a:ext cx="3904200" cy="2144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04200" cy="2144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85120" y="4329360"/>
            <a:ext cx="3904200" cy="2144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76160" cy="2144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90840" y="1980720"/>
            <a:ext cx="2576160" cy="2144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96240" y="1980720"/>
            <a:ext cx="2576160" cy="2144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440" y="4329360"/>
            <a:ext cx="2576160" cy="2144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90840" y="4329360"/>
            <a:ext cx="2576160" cy="2144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96240" y="4329360"/>
            <a:ext cx="2576160" cy="2144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800100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010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042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85120" y="1980720"/>
            <a:ext cx="39042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04200" cy="2144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5120" y="1980720"/>
            <a:ext cx="39042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04200" cy="2144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042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5120" y="1980720"/>
            <a:ext cx="3904200" cy="2144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85120" y="4329360"/>
            <a:ext cx="3904200" cy="2144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04200" cy="2144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5120" y="1980720"/>
            <a:ext cx="3904200" cy="2144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8001000" cy="2144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80010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ZapfDingba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774720" y="6629400"/>
            <a:ext cx="7975440" cy="246600"/>
            <a:chOff x="774720" y="6629400"/>
            <a:chExt cx="7975440" cy="246600"/>
          </a:xfrm>
        </p:grpSpPr>
        <p:sp>
          <p:nvSpPr>
            <p:cNvPr id="3" name=""/>
            <p:cNvSpPr/>
            <p:nvPr/>
          </p:nvSpPr>
          <p:spPr>
            <a:xfrm>
              <a:off x="774720" y="6629400"/>
              <a:ext cx="7975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590920" y="6647040"/>
              <a:ext cx="4432320" cy="2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Geneva"/>
                </a:rPr>
                <a:t>	</a:t>
              </a:r>
              <a:fld id="{8A1D3D6C-C3BB-48E6-A537-70BCE97E114A}" type="slidenum">
                <a:rPr b="1" lang="en-US" sz="800" spc="-1" strike="noStrike">
                  <a:solidFill>
                    <a:srgbClr val="000000"/>
                  </a:solidFill>
                  <a:latin typeface="Geneva"/>
                </a:rPr>
                <a:t>&lt;number&gt;</a:t>
              </a:fld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010280" y="114480"/>
            <a:ext cx="1557360" cy="57132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457200" y="838080"/>
            <a:ext cx="7975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56440" y="6583320"/>
            <a:ext cx="169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BL Analysis 4 Jan 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on Stub Reconstr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2819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olo Calafiura, L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on Reco Strategy (CDF 406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010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ZapfDingba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-Bank cre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formed by DA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-Bank contains hit digitized times wrto to beam-crossing (?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ts (E-Bank) cre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formed by CMU_DtoEMo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ZapfDingba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bs (S-Bank) cre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formed by MuonStubMo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ZapfDingba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Muon (O-Bank) cre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formed by MuonLinkModule(?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MuonHit" descr=""/>
          <p:cNvPicPr/>
          <p:nvPr/>
        </p:nvPicPr>
        <p:blipFill>
          <a:blip r:embed="rId1"/>
          <a:stretch/>
        </p:blipFill>
        <p:spPr>
          <a:xfrm>
            <a:off x="4745160" y="438120"/>
            <a:ext cx="4856040" cy="64198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t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0010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ZapfDingba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onHit common AB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gicode(which wire and count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ulation info (associated partic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signed drift dis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ZapfDingba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onXZHi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lds Z-positio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charge-splitting (CMU, BMU?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ZapfDingba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onSignedH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by StubFin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gn = side of the w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te itself in global an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ional (stack) co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lds pointer to MuonH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Stub" descr=""/>
          <p:cNvPicPr/>
          <p:nvPr/>
        </p:nvPicPr>
        <p:blipFill>
          <a:blip r:embed="rId1"/>
          <a:stretch/>
        </p:blipFill>
        <p:spPr>
          <a:xfrm>
            <a:off x="-2044800" y="990720"/>
            <a:ext cx="11188800" cy="529884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onStub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010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ZapfDingba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t point of view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publi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point in 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dir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ollection of associated h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t quality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ZapfDingba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b Finder point of view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priva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 aspect ang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ollection of candidate h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helper class for the stub f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6934320" y="3581280"/>
            <a:ext cx="1752120" cy="1447920"/>
            <a:chOff x="6934320" y="3581280"/>
            <a:chExt cx="1752120" cy="1447920"/>
          </a:xfrm>
        </p:grpSpPr>
        <p:sp>
          <p:nvSpPr>
            <p:cNvPr id="56" name=""/>
            <p:cNvSpPr/>
            <p:nvPr/>
          </p:nvSpPr>
          <p:spPr>
            <a:xfrm>
              <a:off x="7162560" y="3809880"/>
              <a:ext cx="1523880" cy="304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934320" y="4114800"/>
              <a:ext cx="1523880" cy="304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934320" y="4724280"/>
              <a:ext cx="1523880" cy="304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162560" y="4419360"/>
              <a:ext cx="1523880" cy="304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315200" y="4952880"/>
              <a:ext cx="75600" cy="76320"/>
            </a:xfrm>
            <a:prstGeom prst="octagon">
              <a:avLst>
                <a:gd name="adj" fmla="val 29287"/>
              </a:avLst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920" bIns="7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7315200" y="3581280"/>
              <a:ext cx="837720" cy="144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7480" y="4800600"/>
              <a:ext cx="151920" cy="152280"/>
            </a:xfrm>
            <a:custGeom>
              <a:avLst/>
              <a:gdLst>
                <a:gd name="textAreaLeft" fmla="*/ 62640 w 151920"/>
                <a:gd name="textAreaRight" fmla="*/ 89280 w 151920"/>
                <a:gd name="textAreaTop" fmla="*/ 62640 h 152280"/>
                <a:gd name="textAreaBottom" fmla="*/ 8964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543800" y="4419360"/>
              <a:ext cx="151920" cy="152640"/>
            </a:xfrm>
            <a:custGeom>
              <a:avLst/>
              <a:gdLst>
                <a:gd name="textAreaLeft" fmla="*/ 62640 w 151920"/>
                <a:gd name="textAreaRight" fmla="*/ 89280 w 151920"/>
                <a:gd name="textAreaTop" fmla="*/ 63000 h 152640"/>
                <a:gd name="textAreaBottom" fmla="*/ 89640 h 152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619760" y="4190760"/>
              <a:ext cx="152280" cy="152640"/>
            </a:xfrm>
            <a:custGeom>
              <a:avLst/>
              <a:gdLst>
                <a:gd name="textAreaLeft" fmla="*/ 62640 w 152280"/>
                <a:gd name="textAreaRight" fmla="*/ 89640 w 152280"/>
                <a:gd name="textAreaTop" fmla="*/ 63000 h 152640"/>
                <a:gd name="textAreaBottom" fmla="*/ 89640 h 152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924680" y="3886200"/>
              <a:ext cx="151920" cy="152280"/>
            </a:xfrm>
            <a:custGeom>
              <a:avLst/>
              <a:gdLst>
                <a:gd name="textAreaLeft" fmla="*/ 62640 w 151920"/>
                <a:gd name="textAreaRight" fmla="*/ 89280 w 151920"/>
                <a:gd name="textAreaTop" fmla="*/ 62640 h 152280"/>
                <a:gd name="textAreaBottom" fmla="*/ 8964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8229600" y="55627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8229600" y="51055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944480" y="4975200"/>
            <a:ext cx="28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533080" y="5530680"/>
            <a:ext cx="28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b Fin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010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ZapfDingba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arch in wedges with at least 3 h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ZapfDingba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p over the 4 stacks in a wedge and the 4 layer in a stack looking for a "seed" h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ZapfDingba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arch a matching hit two layers up in any stack of the wed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ZapfDingba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w a segment out of the two hits  and a road around it. If can find one more hit in the road define a candidate stu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ZapfDingba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t candidate stubs and sort them by chiSquare. Take the best and all the remaining ones which have at least one unique h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StubFit" descr=""/>
          <p:cNvPicPr/>
          <p:nvPr/>
        </p:nvPicPr>
        <p:blipFill>
          <a:blip r:embed="rId1"/>
          <a:stretch/>
        </p:blipFill>
        <p:spPr>
          <a:xfrm>
            <a:off x="4648320" y="152280"/>
            <a:ext cx="433224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33720" y="7596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b Fit Fra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392292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ZapfDingba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on interface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the f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ss the 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ZapfDingba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tilities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/fix fit parame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act with the MuonStub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 private interfac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rien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ZapfDingba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e fitters pos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ve tw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t only one works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04T05:16:50Z</dcterms:created>
  <dc:creator>Paolo Calafiura</dc:creator>
  <dc:description/>
  <dc:language>en-US</dc:language>
  <cp:lastModifiedBy>Craig E. Tull</cp:lastModifiedBy>
  <cp:lastPrinted>2001-01-04T21:34:54Z</cp:lastPrinted>
  <dcterms:modified xsi:type="dcterms:W3CDTF">2001-01-04T21:53:30Z</dcterms:modified>
  <cp:revision>59</cp:revision>
  <dc:subject/>
  <dc:title>Control States</dc:title>
</cp:coreProperties>
</file>