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B38-F88F-4540-BEF0-090D0834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B9F-7AE9-4DFA-98E7-613FC517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069-1114-46CD-8CD8-9B5883FD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89F-8043-41D7-8180-05538ECE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67C-9DFA-4718-B2C2-9BDCA8F7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26A-01FC-4065-AF3C-AAC16FC0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AC1-0B34-43AC-95CC-7CA87CDD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910-2D9E-4E0B-9488-3D95923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0AF-CA97-4609-89BC-D057B0F6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B0F-3A82-460B-BE89-0127FB32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EF5-39B6-4CD8-90CE-0C0793E8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3EC-6ED6-4534-9E34-0214667E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1B75-F61C-4CA3-B9FC-75CD1E4B7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828800"/>
            <a:ext cx="365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MANA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INFORMATION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RESOUR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USING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AN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WORK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8280" y="4952880"/>
            <a:ext cx="2286720" cy="1328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esentation t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O’s Counc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orking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4 Februar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HE USE OF CONTENT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152388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, user-sensitive rend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indexing and sear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links to creat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mantic web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ment links for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use through 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rtual documents.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HE ROLE OF THE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TD defines a ‘grammar’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mily of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 XML requires a D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valid XML ensures reliabl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of the structure and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2. DT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57360" y="4191120"/>
            <a:ext cx="6006960" cy="1557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DTD we have created for OMB A-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only for the purpose of illustrating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jor principles involved.  It is not in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be a production-strength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4400" y="1066680"/>
            <a:ext cx="7488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 (Header, Body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Header (OMBCirc.Index, OMBCirc.Title?, OMBCirc.Date?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BCirc.Subject, OMBCirc.Author?, Content.List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Body (Section1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Circ.Index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Circ.Titl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Circ.Dat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Circ.Subject (para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Circ.Author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Content.List (Content.List.Item+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Content.List.Item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ATTLIST Content.List.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To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bold (#PCDATA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italic (#PCDATA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underline (#PCDATA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titl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para (#PCDATA | bold | italic | underline | ExtDoc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DTD FOR OMB A-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2. DT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1066680"/>
            <a:ext cx="7488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Section1 (title, (para | Section2)*)+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ATTLIST Sectio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Type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xflag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gt; &lt;!ELEMENT Section2 (title?, (para | Section3)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ATTLIST Sectio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xflag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Section3 (title?, (para | Section4)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ATTLIST Section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xflag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Section4 (title?, (para | Section5)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ATTLIST Section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xflag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Section5 (title?, (para)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ATTLIST Section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xflag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DTD FOR OMB A-130: use of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2. DT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914400"/>
            <a:ext cx="85629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ExtDoc (Act | ExecOrder | OMBMemo | OtherOMBCirc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Act (#PCDATA | Act.Section | Act.Name | Act.Alias | Act.Year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USCNumber | PublicLaw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ExecOrder (#PCDATA | ExecOrder.Section | ExecOrder.Num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ExecOrder.Date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OMBMemo (#PCDATA | OMBMemo.Index | OMBMemo.Description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OtherOMBCirc (#PCDATA | OtherOMBCirc.Index | OtherOMBCirc.Subject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Act.Section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Act.Nam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Act.Alias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Act.Year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USCNumber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PublicLaw (#PCDATA | PublicLaw.Title | PublicLaw.Range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ExecOrder.Num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ExecOrder.Section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ExecOrder.Dat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Memo.Index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Memo.Description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therOMBCirc.Index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therOMBCirc.Subject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PublicLaw.Titl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PublicLaw.Rang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DTD FOR OMB A-130: use of nam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2. DT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5640" y="106668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41520" y="2209680"/>
            <a:ext cx="443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resistance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costs/learning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304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CREATING &amp; EDITING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9720" y="1295280"/>
            <a:ext cx="49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A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information creators in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9000" y="4495680"/>
            <a:ext cx="40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going correc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9000" y="3581280"/>
            <a:ext cx="48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A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XML after content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ND ANOTHER APPROACH:</a:t>
            </a:r>
            <a:br>
              <a:rPr sz="2400"/>
            </a:br>
            <a:r>
              <a:rPr b="1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AGLESS E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3360" y="1218960"/>
            <a:ext cx="6629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4i’s assault on the barriers to enterprise-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oyment of XML creation and editing tool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user a familiar interfa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®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 the ta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to the user's understand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logic of th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800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 INTERFACE, SIMPLE PARADI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477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477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5562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HE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560" y="1294920"/>
            <a:ext cx="6019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ut OMB A-0130 in XML, an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how the XML can be us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he effectiveness of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management, as requir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icies set out in OMB A-1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477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23080" y="4734000"/>
            <a:ext cx="1066680" cy="914400"/>
          </a:xfrm>
          <a:custGeom>
            <a:avLst/>
            <a:gdLst/>
            <a:ahLst/>
            <a:rect l="l" t="t" r="r" b="b"/>
            <a:pathLst>
              <a:path w="527" h="390">
                <a:moveTo>
                  <a:pt x="0" y="0"/>
                </a:moveTo>
                <a:lnTo>
                  <a:pt x="527" y="0"/>
                </a:lnTo>
                <a:lnTo>
                  <a:pt x="527" y="353"/>
                </a:lnTo>
                <a:lnTo>
                  <a:pt x="523" y="342"/>
                </a:lnTo>
                <a:lnTo>
                  <a:pt x="509" y="333"/>
                </a:lnTo>
                <a:lnTo>
                  <a:pt x="487" y="324"/>
                </a:lnTo>
                <a:lnTo>
                  <a:pt x="460" y="317"/>
                </a:lnTo>
                <a:lnTo>
                  <a:pt x="432" y="315"/>
                </a:lnTo>
                <a:lnTo>
                  <a:pt x="396" y="313"/>
                </a:lnTo>
                <a:lnTo>
                  <a:pt x="360" y="315"/>
                </a:lnTo>
                <a:lnTo>
                  <a:pt x="329" y="317"/>
                </a:lnTo>
                <a:lnTo>
                  <a:pt x="304" y="324"/>
                </a:lnTo>
                <a:lnTo>
                  <a:pt x="280" y="333"/>
                </a:lnTo>
                <a:lnTo>
                  <a:pt x="268" y="342"/>
                </a:lnTo>
                <a:lnTo>
                  <a:pt x="264" y="353"/>
                </a:lnTo>
                <a:lnTo>
                  <a:pt x="259" y="363"/>
                </a:lnTo>
                <a:lnTo>
                  <a:pt x="246" y="371"/>
                </a:lnTo>
                <a:lnTo>
                  <a:pt x="223" y="380"/>
                </a:lnTo>
                <a:lnTo>
                  <a:pt x="198" y="387"/>
                </a:lnTo>
                <a:lnTo>
                  <a:pt x="167" y="389"/>
                </a:lnTo>
                <a:lnTo>
                  <a:pt x="131" y="390"/>
                </a:lnTo>
                <a:lnTo>
                  <a:pt x="95" y="389"/>
                </a:lnTo>
                <a:lnTo>
                  <a:pt x="66" y="387"/>
                </a:lnTo>
                <a:lnTo>
                  <a:pt x="39" y="380"/>
                </a:lnTo>
                <a:lnTo>
                  <a:pt x="18" y="371"/>
                </a:lnTo>
                <a:lnTo>
                  <a:pt x="3" y="363"/>
                </a:lnTo>
                <a:lnTo>
                  <a:pt x="0" y="3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S4/TEXT- TAGLESS EDITO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65280" y="4741920"/>
            <a:ext cx="1067040" cy="914400"/>
          </a:xfrm>
          <a:custGeom>
            <a:avLst/>
            <a:gdLst/>
            <a:ahLst/>
            <a:rect l="l" t="t" r="r" b="b"/>
            <a:pathLst>
              <a:path w="527" h="390">
                <a:moveTo>
                  <a:pt x="0" y="0"/>
                </a:moveTo>
                <a:lnTo>
                  <a:pt x="527" y="0"/>
                </a:lnTo>
                <a:lnTo>
                  <a:pt x="527" y="353"/>
                </a:lnTo>
                <a:lnTo>
                  <a:pt x="523" y="342"/>
                </a:lnTo>
                <a:lnTo>
                  <a:pt x="509" y="333"/>
                </a:lnTo>
                <a:lnTo>
                  <a:pt x="487" y="324"/>
                </a:lnTo>
                <a:lnTo>
                  <a:pt x="460" y="317"/>
                </a:lnTo>
                <a:lnTo>
                  <a:pt x="432" y="315"/>
                </a:lnTo>
                <a:lnTo>
                  <a:pt x="396" y="313"/>
                </a:lnTo>
                <a:lnTo>
                  <a:pt x="360" y="315"/>
                </a:lnTo>
                <a:lnTo>
                  <a:pt x="329" y="317"/>
                </a:lnTo>
                <a:lnTo>
                  <a:pt x="304" y="324"/>
                </a:lnTo>
                <a:lnTo>
                  <a:pt x="280" y="333"/>
                </a:lnTo>
                <a:lnTo>
                  <a:pt x="268" y="342"/>
                </a:lnTo>
                <a:lnTo>
                  <a:pt x="264" y="353"/>
                </a:lnTo>
                <a:lnTo>
                  <a:pt x="259" y="363"/>
                </a:lnTo>
                <a:lnTo>
                  <a:pt x="246" y="371"/>
                </a:lnTo>
                <a:lnTo>
                  <a:pt x="223" y="380"/>
                </a:lnTo>
                <a:lnTo>
                  <a:pt x="198" y="387"/>
                </a:lnTo>
                <a:lnTo>
                  <a:pt x="167" y="389"/>
                </a:lnTo>
                <a:lnTo>
                  <a:pt x="131" y="390"/>
                </a:lnTo>
                <a:lnTo>
                  <a:pt x="95" y="389"/>
                </a:lnTo>
                <a:lnTo>
                  <a:pt x="66" y="387"/>
                </a:lnTo>
                <a:lnTo>
                  <a:pt x="39" y="380"/>
                </a:lnTo>
                <a:lnTo>
                  <a:pt x="18" y="371"/>
                </a:lnTo>
                <a:lnTo>
                  <a:pt x="3" y="363"/>
                </a:lnTo>
                <a:lnTo>
                  <a:pt x="0" y="3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1760" y="493236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13520" y="49626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80080" y="55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4741920"/>
            <a:ext cx="1226880" cy="1098360"/>
          </a:xfrm>
          <a:custGeom>
            <a:avLst/>
            <a:gdLst/>
            <a:ahLst/>
            <a:rect l="l" t="t" r="r" b="b"/>
            <a:pathLst>
              <a:path w="456" h="324">
                <a:moveTo>
                  <a:pt x="0" y="304"/>
                </a:moveTo>
                <a:lnTo>
                  <a:pt x="20" y="309"/>
                </a:lnTo>
                <a:lnTo>
                  <a:pt x="40" y="313"/>
                </a:lnTo>
                <a:lnTo>
                  <a:pt x="60" y="316"/>
                </a:lnTo>
                <a:lnTo>
                  <a:pt x="76" y="320"/>
                </a:lnTo>
                <a:lnTo>
                  <a:pt x="92" y="322"/>
                </a:lnTo>
                <a:lnTo>
                  <a:pt x="108" y="324"/>
                </a:lnTo>
                <a:lnTo>
                  <a:pt x="148" y="324"/>
                </a:lnTo>
                <a:lnTo>
                  <a:pt x="162" y="322"/>
                </a:lnTo>
                <a:lnTo>
                  <a:pt x="173" y="320"/>
                </a:lnTo>
                <a:lnTo>
                  <a:pt x="186" y="318"/>
                </a:lnTo>
                <a:lnTo>
                  <a:pt x="197" y="315"/>
                </a:lnTo>
                <a:lnTo>
                  <a:pt x="207" y="313"/>
                </a:lnTo>
                <a:lnTo>
                  <a:pt x="218" y="309"/>
                </a:lnTo>
                <a:lnTo>
                  <a:pt x="227" y="306"/>
                </a:lnTo>
                <a:lnTo>
                  <a:pt x="240" y="302"/>
                </a:lnTo>
                <a:lnTo>
                  <a:pt x="251" y="298"/>
                </a:lnTo>
                <a:lnTo>
                  <a:pt x="261" y="295"/>
                </a:lnTo>
                <a:lnTo>
                  <a:pt x="272" y="291"/>
                </a:lnTo>
                <a:lnTo>
                  <a:pt x="283" y="288"/>
                </a:lnTo>
                <a:lnTo>
                  <a:pt x="296" y="284"/>
                </a:lnTo>
                <a:lnTo>
                  <a:pt x="306" y="280"/>
                </a:lnTo>
                <a:lnTo>
                  <a:pt x="321" y="277"/>
                </a:lnTo>
                <a:lnTo>
                  <a:pt x="333" y="273"/>
                </a:lnTo>
                <a:lnTo>
                  <a:pt x="350" y="270"/>
                </a:lnTo>
                <a:lnTo>
                  <a:pt x="364" y="268"/>
                </a:lnTo>
                <a:lnTo>
                  <a:pt x="380" y="264"/>
                </a:lnTo>
                <a:lnTo>
                  <a:pt x="396" y="262"/>
                </a:lnTo>
                <a:lnTo>
                  <a:pt x="414" y="262"/>
                </a:lnTo>
                <a:lnTo>
                  <a:pt x="436" y="261"/>
                </a:lnTo>
                <a:lnTo>
                  <a:pt x="456" y="261"/>
                </a:lnTo>
                <a:lnTo>
                  <a:pt x="456" y="0"/>
                </a:lnTo>
                <a:lnTo>
                  <a:pt x="0" y="0"/>
                </a:lnTo>
                <a:lnTo>
                  <a:pt x="0" y="3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75320" y="4916520"/>
            <a:ext cx="92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8080" y="3708360"/>
            <a:ext cx="3692520" cy="6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3680" y="2671920"/>
            <a:ext cx="3691080" cy="65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65880" y="1685880"/>
            <a:ext cx="1981080" cy="159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8400" y="434988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92320" y="435600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00400" y="3314880"/>
            <a:ext cx="0" cy="37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1676520"/>
            <a:ext cx="3691080" cy="65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22720" y="231948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964120" y="297504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972040" y="200484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6360" y="2106720"/>
            <a:ext cx="1404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®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60800" y="2689200"/>
            <a:ext cx="1925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Pipe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4/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09960" y="1676520"/>
            <a:ext cx="2221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gless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57680" y="3741840"/>
            <a:ext cx="2506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Services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4 and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4560" y="2676600"/>
            <a:ext cx="1219320" cy="914400"/>
          </a:xfrm>
          <a:custGeom>
            <a:avLst/>
            <a:gdLst/>
            <a:ahLst/>
            <a:rect l="l" t="t" r="r" b="b"/>
            <a:pathLst>
              <a:path w="527" h="390">
                <a:moveTo>
                  <a:pt x="0" y="0"/>
                </a:moveTo>
                <a:lnTo>
                  <a:pt x="527" y="0"/>
                </a:lnTo>
                <a:lnTo>
                  <a:pt x="527" y="353"/>
                </a:lnTo>
                <a:lnTo>
                  <a:pt x="523" y="342"/>
                </a:lnTo>
                <a:lnTo>
                  <a:pt x="509" y="333"/>
                </a:lnTo>
                <a:lnTo>
                  <a:pt x="487" y="324"/>
                </a:lnTo>
                <a:lnTo>
                  <a:pt x="460" y="317"/>
                </a:lnTo>
                <a:lnTo>
                  <a:pt x="432" y="315"/>
                </a:lnTo>
                <a:lnTo>
                  <a:pt x="396" y="313"/>
                </a:lnTo>
                <a:lnTo>
                  <a:pt x="360" y="315"/>
                </a:lnTo>
                <a:lnTo>
                  <a:pt x="329" y="317"/>
                </a:lnTo>
                <a:lnTo>
                  <a:pt x="304" y="324"/>
                </a:lnTo>
                <a:lnTo>
                  <a:pt x="280" y="333"/>
                </a:lnTo>
                <a:lnTo>
                  <a:pt x="268" y="342"/>
                </a:lnTo>
                <a:lnTo>
                  <a:pt x="264" y="353"/>
                </a:lnTo>
                <a:lnTo>
                  <a:pt x="259" y="363"/>
                </a:lnTo>
                <a:lnTo>
                  <a:pt x="246" y="371"/>
                </a:lnTo>
                <a:lnTo>
                  <a:pt x="223" y="380"/>
                </a:lnTo>
                <a:lnTo>
                  <a:pt x="198" y="387"/>
                </a:lnTo>
                <a:lnTo>
                  <a:pt x="167" y="389"/>
                </a:lnTo>
                <a:lnTo>
                  <a:pt x="131" y="390"/>
                </a:lnTo>
                <a:lnTo>
                  <a:pt x="95" y="389"/>
                </a:lnTo>
                <a:lnTo>
                  <a:pt x="66" y="387"/>
                </a:lnTo>
                <a:lnTo>
                  <a:pt x="39" y="380"/>
                </a:lnTo>
                <a:lnTo>
                  <a:pt x="18" y="371"/>
                </a:lnTo>
                <a:lnTo>
                  <a:pt x="3" y="363"/>
                </a:lnTo>
                <a:lnTo>
                  <a:pt x="0" y="3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560" y="1609560"/>
            <a:ext cx="1219320" cy="914400"/>
          </a:xfrm>
          <a:custGeom>
            <a:avLst/>
            <a:gdLst/>
            <a:ahLst/>
            <a:rect l="l" t="t" r="r" b="b"/>
            <a:pathLst>
              <a:path w="527" h="390">
                <a:moveTo>
                  <a:pt x="0" y="0"/>
                </a:moveTo>
                <a:lnTo>
                  <a:pt x="527" y="0"/>
                </a:lnTo>
                <a:lnTo>
                  <a:pt x="527" y="353"/>
                </a:lnTo>
                <a:lnTo>
                  <a:pt x="523" y="342"/>
                </a:lnTo>
                <a:lnTo>
                  <a:pt x="509" y="333"/>
                </a:lnTo>
                <a:lnTo>
                  <a:pt x="487" y="324"/>
                </a:lnTo>
                <a:lnTo>
                  <a:pt x="460" y="317"/>
                </a:lnTo>
                <a:lnTo>
                  <a:pt x="432" y="315"/>
                </a:lnTo>
                <a:lnTo>
                  <a:pt x="396" y="313"/>
                </a:lnTo>
                <a:lnTo>
                  <a:pt x="360" y="315"/>
                </a:lnTo>
                <a:lnTo>
                  <a:pt x="329" y="317"/>
                </a:lnTo>
                <a:lnTo>
                  <a:pt x="304" y="324"/>
                </a:lnTo>
                <a:lnTo>
                  <a:pt x="280" y="333"/>
                </a:lnTo>
                <a:lnTo>
                  <a:pt x="268" y="342"/>
                </a:lnTo>
                <a:lnTo>
                  <a:pt x="264" y="353"/>
                </a:lnTo>
                <a:lnTo>
                  <a:pt x="259" y="363"/>
                </a:lnTo>
                <a:lnTo>
                  <a:pt x="246" y="371"/>
                </a:lnTo>
                <a:lnTo>
                  <a:pt x="223" y="380"/>
                </a:lnTo>
                <a:lnTo>
                  <a:pt x="198" y="387"/>
                </a:lnTo>
                <a:lnTo>
                  <a:pt x="167" y="389"/>
                </a:lnTo>
                <a:lnTo>
                  <a:pt x="131" y="390"/>
                </a:lnTo>
                <a:lnTo>
                  <a:pt x="95" y="389"/>
                </a:lnTo>
                <a:lnTo>
                  <a:pt x="66" y="387"/>
                </a:lnTo>
                <a:lnTo>
                  <a:pt x="39" y="380"/>
                </a:lnTo>
                <a:lnTo>
                  <a:pt x="18" y="371"/>
                </a:lnTo>
                <a:lnTo>
                  <a:pt x="3" y="363"/>
                </a:lnTo>
                <a:lnTo>
                  <a:pt x="0" y="3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870200" y="298116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870200" y="199080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3040" y="2752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7800" y="160956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16560" y="3708360"/>
            <a:ext cx="1981440" cy="6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935680" y="401328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56600" y="435276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16360" y="3666960"/>
            <a:ext cx="1640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5562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MANAGING CONTENT </a:t>
            </a:r>
            <a:br>
              <a:rPr sz="2400"/>
            </a:b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LIFE-CYCLE AND RE-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133720" y="1447560"/>
            <a:ext cx="6324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b of content raises new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tion creators understand the content web and manage their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legacy resources included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6521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4. Managing Life Cycle &amp; Re-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5562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CONTENT WORK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1066680"/>
            <a:ext cx="6629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ent workspace is a visual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ing the components for a task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owser is not en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ent workspace is a product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-- the tags, attributes and other properties, plus links, derived from the X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ent workspace is itself a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, supported by a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, while the actual content re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521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4. Managing Life Cycle &amp; Re-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MB%20Screen" descr=""/>
          <p:cNvPicPr/>
          <p:nvPr/>
        </p:nvPicPr>
        <p:blipFill>
          <a:blip r:embed="rId1"/>
          <a:stretch/>
        </p:blipFill>
        <p:spPr>
          <a:xfrm>
            <a:off x="380880" y="0"/>
            <a:ext cx="12196800" cy="9147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80880" y="6521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4. Managing Life Cycle &amp; Re-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505320" y="3505320"/>
            <a:ext cx="2743200" cy="60948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S4/ENTERPRIS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80080" y="55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5410080"/>
            <a:ext cx="1371600" cy="60984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410080"/>
            <a:ext cx="1371600" cy="60984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5410080"/>
            <a:ext cx="1371600" cy="60984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4267080"/>
            <a:ext cx="3504960" cy="609840"/>
          </a:xfrm>
          <a:prstGeom prst="cloudCallout">
            <a:avLst>
              <a:gd name="adj1" fmla="val 46"/>
              <a:gd name="adj2" fmla="val 47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6040" y="541008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3760" y="533412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t.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8560" y="541008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410080"/>
            <a:ext cx="1371600" cy="60984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17360" y="541008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3429000"/>
            <a:ext cx="2590920" cy="60948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7120" y="34290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/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2590920"/>
            <a:ext cx="3504960" cy="609480"/>
          </a:xfrm>
          <a:prstGeom prst="cloudCallout">
            <a:avLst>
              <a:gd name="adj1" fmla="val 46"/>
              <a:gd name="adj2" fmla="val 47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AP/HTTP/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1523880"/>
            <a:ext cx="1981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/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981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3048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4038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905120" y="4876920"/>
            <a:ext cx="167616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886200" y="495288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4952880"/>
            <a:ext cx="99036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4876920"/>
            <a:ext cx="221004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15238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/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15238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1523880"/>
            <a:ext cx="5790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15238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6521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4. Managing Life Cycle &amp; Re-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361960" y="11426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can deliver a ‘semantic web’ of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can be deployed enterprise-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an army of markup technici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can be deployed incrementally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your current inves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n open standard, your investmen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protec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CONTACT U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33720" y="1066680"/>
            <a:ext cx="6781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e-mai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thomas@i4i.com          (416) 504-1041 x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johnson@i4i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16) 504-0141 x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oisson@i4i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16) 504-0141 x2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 our Web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ww.i4i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gless Editing Dem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OMB A-1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5562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STEPS TOWARDS 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90560" y="1371240"/>
            <a:ext cx="6019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dentify the target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velop the D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reate and deploy the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 framework for mana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ent life cycle and re-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DOCUMENT-ORIENTATED </a:t>
            </a:r>
            <a:br>
              <a:rPr sz="2400"/>
            </a:b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XM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1676520"/>
            <a:ext cx="64771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al XML is more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-orientated XML is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‘super’ HTML. It could prov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hole new way to manage con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52680" y="1676520"/>
            <a:ext cx="25146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13716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2819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42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362320"/>
            <a:ext cx="53316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2971800"/>
            <a:ext cx="53352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3962520"/>
            <a:ext cx="53352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724280" y="1828440"/>
            <a:ext cx="228600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124080"/>
            <a:ext cx="2133360" cy="137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29200" y="3352320"/>
            <a:ext cx="19810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2362320"/>
            <a:ext cx="53316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962520"/>
            <a:ext cx="53316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4382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4038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DOCUMENT IS PART OF A NETWORK OF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952880"/>
            <a:ext cx="533520" cy="15264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866920" y="4266720"/>
            <a:ext cx="121932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1752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A-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1447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7680" y="43434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0040" y="17524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5791320"/>
            <a:ext cx="53352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8672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334120"/>
            <a:ext cx="236232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240" y="5334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DOCUMENT IS AN AGGREGATE OF INFORMATIO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1676520"/>
            <a:ext cx="25146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1752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A-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36232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2895480"/>
            <a:ext cx="2133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35812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3800" y="23623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4520" y="28954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3440" y="3581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i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320040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33526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4114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9625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4267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84840" y="2666880"/>
            <a:ext cx="3466440" cy="3111480"/>
            <a:chOff x="3084840" y="2666880"/>
            <a:chExt cx="3466440" cy="3111480"/>
          </a:xfrm>
        </p:grpSpPr>
        <p:sp>
          <p:nvSpPr>
            <p:cNvPr id="94" name=""/>
            <p:cNvSpPr/>
            <p:nvPr/>
          </p:nvSpPr>
          <p:spPr>
            <a:xfrm>
              <a:off x="3733920" y="4267080"/>
              <a:ext cx="9144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3920" y="3962520"/>
              <a:ext cx="9144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9880" y="3200400"/>
              <a:ext cx="53352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81280" y="2666880"/>
              <a:ext cx="213372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84840" y="4952880"/>
              <a:ext cx="346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ch change over tim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sion to 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HE COMPONENTS ARE </a:t>
            </a:r>
            <a:br>
              <a:rPr sz="2400"/>
            </a:b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H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1676520"/>
            <a:ext cx="25146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1752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A-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36232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2895480"/>
            <a:ext cx="2133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5812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3800" y="23623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4520" y="28954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3440" y="3581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i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20040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35812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40384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7339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3434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3048120"/>
            <a:ext cx="533520" cy="152280"/>
          </a:xfrm>
          <a:prstGeom prst="flowChartTermina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3276720"/>
            <a:ext cx="533520" cy="152280"/>
          </a:xfrm>
          <a:prstGeom prst="flowChartTermina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886200"/>
            <a:ext cx="533520" cy="152280"/>
          </a:xfrm>
          <a:prstGeom prst="flowChartTermina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114800"/>
            <a:ext cx="533520" cy="152280"/>
          </a:xfrm>
          <a:prstGeom prst="flowChartTermina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343400"/>
            <a:ext cx="533520" cy="152280"/>
          </a:xfrm>
          <a:prstGeom prst="flowChartTermina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124080"/>
            <a:ext cx="9144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352680"/>
            <a:ext cx="15238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361960" y="3809880"/>
            <a:ext cx="14475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828440" y="4114800"/>
            <a:ext cx="1981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361960" y="441972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8160" y="1447920"/>
            <a:ext cx="29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host document c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 shell with links to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99120" y="1447920"/>
            <a:ext cx="2768400" cy="3355200"/>
            <a:chOff x="6099120" y="1447920"/>
            <a:chExt cx="2768400" cy="3355200"/>
          </a:xfrm>
        </p:grpSpPr>
        <p:sp>
          <p:nvSpPr>
            <p:cNvPr id="126" name=""/>
            <p:cNvSpPr/>
            <p:nvPr/>
          </p:nvSpPr>
          <p:spPr>
            <a:xfrm>
              <a:off x="6099120" y="3886200"/>
              <a:ext cx="276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 And these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uld be used in 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0" y="1447920"/>
              <a:ext cx="16002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600" y="1752480"/>
              <a:ext cx="533520" cy="152640"/>
            </a:xfrm>
            <a:prstGeom prst="flowChartTerminator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2400" y="2209680"/>
              <a:ext cx="533520" cy="152640"/>
            </a:xfrm>
            <a:prstGeom prst="flowChartTerminator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629040" y="190512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314840" y="2362320"/>
              <a:ext cx="68580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7440" y="2514600"/>
            <a:ext cx="2934720" cy="1905120"/>
            <a:chOff x="307440" y="2514600"/>
            <a:chExt cx="2934720" cy="1905120"/>
          </a:xfrm>
        </p:grpSpPr>
        <p:sp>
          <p:nvSpPr>
            <p:cNvPr id="133" name=""/>
            <p:cNvSpPr/>
            <p:nvPr/>
          </p:nvSpPr>
          <p:spPr>
            <a:xfrm>
              <a:off x="307440" y="2514600"/>
              <a:ext cx="293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These components ma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ve their own life cyc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71600" y="3657600"/>
              <a:ext cx="9144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5280" y="3581280"/>
              <a:ext cx="9144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4267080"/>
              <a:ext cx="9144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098760" y="4952880"/>
            <a:ext cx="301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nd some of th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emsel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ht be shells, with link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486400"/>
            <a:ext cx="533520" cy="152280"/>
          </a:xfrm>
          <a:prstGeom prst="flowChartTermina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5627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029200"/>
            <a:ext cx="243864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50292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MENT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NEW VIEW OF </a:t>
            </a:r>
            <a:br>
              <a:rPr sz="2400"/>
            </a:b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CONTENT M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1219320"/>
            <a:ext cx="632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 of information conten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e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onent may be text, graphic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readsheet, data from an RDBMS, o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cument is just anothe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web of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component creation and re-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anaged in this enviro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CONTENT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1523880"/>
            <a:ext cx="594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provides the means to emb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semantics using meaning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 and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can be used to ‘wrap’ non-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XML is to en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programs to manip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tructure and content reliab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9:53:54Z</dcterms:created>
  <dc:creator>Sue Dalos</dc:creator>
  <dc:description/>
  <dc:language>en-US</dc:language>
  <cp:lastModifiedBy>Connie Jordan</cp:lastModifiedBy>
  <cp:lastPrinted>2001-02-07T15:32:41Z</cp:lastPrinted>
  <dcterms:modified xsi:type="dcterms:W3CDTF">2001-02-13T21:23:59Z</dcterms:modified>
  <cp:revision>2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xml.gov</vt:lpwstr>
  </property>
  <property fmtid="{D5CDD505-2E9C-101B-9397-08002B2CF9AE}" pid="9" name="LinkColor">
    <vt:r8>16711782</vt:r8>
  </property>
  <property fmtid="{D5CDD505-2E9C-101B-9397-08002B2CF9AE}" pid="10" name="MailAddress">
    <vt:lpwstr>hjohnson@i4i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ADVTECH\MaryO\x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