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CD362-9113-4DF4-A0B7-72BC73808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5AA31-F169-476B-8333-3C54AE009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DC4F2-D6C9-4E20-BA3D-20F5FC308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29D8A-43CF-45A1-8689-376A636C1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94DF2-0903-4C31-A25E-156F9B52BD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E49B9-A863-4815-AE94-8CD93597B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C2826-5104-4100-A814-3991741F4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AA49C-A4CA-4D16-80A9-82326D253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2F5A4-3EAF-4374-B181-A36B4FB29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8BAE5-9639-4E0D-A7A9-7A72DFBBB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AE2FB-7E90-49F8-BC0B-27B8B9E31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C31F0-81F4-4D7E-8537-9AF33FA39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64142-3C9C-4898-9815-0D7D7C586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E7FFF-10F9-4F26-8D83-05E980278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5735C-B465-4298-B8B5-7E1C9CE52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EAFBD-2A1A-410D-B87D-268AF464C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9925A-D4B5-4084-851C-7C8402E94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1D6E2-9FE9-42F4-9E32-5370D0B2A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4B058-DE01-47BF-9F36-9D0406F70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640FB-B8D4-40C1-8616-25D1FE762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128BB-09B4-41E4-BEEF-E4D11185D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A5A13-0892-457F-919A-75FA76F99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141E0-A2D5-4B7A-B213-814B423A0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11271-6AFE-4FC5-AE15-6210E2E0C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82D5-EA3D-4C3F-A65C-700D1BC909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E8D5-A0E9-4E84-BA3B-9F24F0EE98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MNM Fatal 2005-19</a:t>
            </a:r>
            <a:endParaRPr b="0" lang="en-US" sz="4400" spc="-1" strike="noStrike">
              <a:solidFill>
                <a:srgbClr val="e5ffff"/>
              </a:solidFill>
              <a:latin typeface="Tahoma"/>
            </a:endParaRPr>
          </a:p>
        </p:txBody>
      </p:sp>
      <p:sp>
        <p:nvSpPr>
          <p:cNvPr id="8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wered Haulag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30, 2005 (Nevad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ld Oper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quipment Operato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years ol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years mining experi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verview</a:t>
            </a: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victim was operating a water truck that left a haul road and drove onto the berm.  The truck climbed the berm, causing it to overturn and land back on the haul road.  The victim, who was not wearing a seat belt, was ejected from the cab of the truck.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Photo of Accident Scene"/>
          <p:cNvPicPr/>
          <p:nvPr/>
        </p:nvPicPr>
        <p:blipFill>
          <a:blip r:embed="rId2"/>
          <a:stretch/>
        </p:blipFill>
        <p:spPr>
          <a:xfrm>
            <a:off x="914400" y="762120"/>
            <a:ext cx="7129440" cy="515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ausal Factors</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river failed to maintain control of the water truck while it was in motion.  Although the levels of the methamphetamine could not be established as impairing the victim, it is a medical fact that fatigue occurs as the user withdraws from the substanc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river of the water truck failed to fasten his seat beat while operating his truc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Best Practices</a:t>
            </a: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op, Look, Analyze, and Manage (SLAM) each task.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ways wear a seat belt when operating a truck or moving machine.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duct pre-operational checks to identify any defects that may affect the safe operation of equipment before it is placed into servic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agement should continue to focus attention toward substance abuse and educate miners regarding the symptoms and behavior exhibited by persons who may be abusing controlled substanc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18:12:34Z</dcterms:created>
  <dc:creator>hancher-michael</dc:creator>
  <dc:description/>
  <dc:language>en-US</dc:language>
  <cp:lastModifiedBy>west-william</cp:lastModifiedBy>
  <dcterms:modified xsi:type="dcterms:W3CDTF">2005-10-26T14:24:22Z</dcterms:modified>
  <cp:revision>1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94427165</vt:r8>
  </property>
  <property fmtid="{D5CDD505-2E9C-101B-9397-08002B2CF9AE}" pid="3" name="_AuthorEmail">
    <vt:lpwstr>Hancher.Michael@DOL.GOV</vt:lpwstr>
  </property>
  <property fmtid="{D5CDD505-2E9C-101B-9397-08002B2CF9AE}" pid="4" name="_AuthorEmailDisplayName">
    <vt:lpwstr>Hancher, Michael - MSHA</vt:lpwstr>
  </property>
  <property fmtid="{D5CDD505-2E9C-101B-9397-08002B2CF9AE}" pid="5" name="_EmailSubject">
    <vt:lpwstr>MNM Fatal #19 PPT</vt:lpwstr>
  </property>
  <property fmtid="{D5CDD505-2E9C-101B-9397-08002B2CF9AE}" pid="6" name="_ReviewingToolsShownOnce">
    <vt:lpwstr/>
  </property>
</Properties>
</file>