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4093B-1194-49BF-B07A-4D0C5E3A3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812F7-A509-44E6-83F3-2FBC4BB48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06DC7-C5E0-4037-BAEB-8973AD73B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83752-9136-43A1-8B86-3961C39A6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50FF2-4AE1-48B9-8827-E87A03937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E5429-F34F-42FA-B722-B6379B543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1058C-C82A-4EDD-9A43-4282A83D8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A8E83-369D-4436-8319-C497E49A2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62CB7-B02D-4FC1-9B1F-82234A1C7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B2627-109D-476A-8563-B53289A3C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51ECE-32A2-4170-AF3E-06F8B8FFA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188EA-D0DD-47A0-811C-36A642EA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0CBE2-A91E-4974-B699-7ECE75A4D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6623F-3C0D-47F8-A072-9B7FCBB6A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33EA6-5A87-442B-B66E-28ACC4274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A2574-9F8C-4B60-AB91-E896437F1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6D9AA-A199-45FD-8D41-965E29913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C470A-66D0-4E0C-84C7-DEC59E3EA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31BA9-3466-4146-BC60-204289405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4ABC-B540-460C-BA5A-99A77E7DD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2EFFC-2738-402F-994A-28E89BCC7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03370-F4CF-4569-9FE9-C5CA7FB8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B2476-F92A-4C63-8DEC-8B40945C6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E0BAF-97B6-4FD3-963D-F7CA1B678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5246-CAB3-4FEA-A1AB-39083EA8C8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02A7-95E2-4D56-98D0-AC89B02D42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MNM Fatal 2005-24</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ed Haul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13, 2005 (Pennsylvani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ushed Stone Ope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ck Driv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4 years ol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 years mining experi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ictim was fatally injured when the 50-ton haul truck he was operating overturned.  He was preparing to dump a load of rock over the edge of the 21-foot high truck dump site when a portion of the dump site failed.  The collapse caused the truck to overturn and land on its roo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Photo of Accident Scene"/>
          <p:cNvPicPr/>
          <p:nvPr/>
        </p:nvPicPr>
        <p:blipFill>
          <a:blip r:embed="rId2"/>
          <a:stretch/>
        </p:blipFill>
        <p:spPr>
          <a:xfrm>
            <a:off x="914400" y="685800"/>
            <a:ext cx="687384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usal Factors</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cies, standards, and controls were inadequate and failed to ensure that berms or similar impeding devices were maintained at the dump site.</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dures were not in place to ensure that the dump site was inspected for hazards before a haul truck dumped the first load.  Material had been loaded from the stockpile directly below the dump locations which steepened the slope angle and reduced the stability.</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dures were not in place to ensure that the provided seat belts were worn when persons operated mobile equipmen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est Practices</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6000"/>
          </a:bodyPr>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p, Look, Analyze, and Manage ( SLAM ) each task to identify all possible hazards. Initiate action so the task can be safely performed. </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ways inspect dumping locations prior to dumping the first load. Where material has been loaded out of the stockpile or where ground conditions may fail to support the weight of the mobile equipment, loads should be dumped a safe distance back from the edge. </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 berms or similar impeding devices at dumping locations where there is a hazard of overtravel. </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en your seat belt every time you operate a truck or self-propelled mobile equipment. </a:t>
            </a:r>
            <a:endParaRPr b="0" lang="en-US" sz="2400" spc="-1" strike="noStrike">
              <a:solidFill>
                <a:srgbClr val="ffffff"/>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12:34Z</dcterms:created>
  <dc:creator>hancher-michael</dc:creator>
  <dc:description/>
  <dc:language>en-US</dc:language>
  <cp:lastModifiedBy>west-william</cp:lastModifiedBy>
  <dcterms:modified xsi:type="dcterms:W3CDTF">2005-11-10T18:31:55Z</dcterms:modified>
  <cp:revision>1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382949</vt:r8>
  </property>
  <property fmtid="{D5CDD505-2E9C-101B-9397-08002B2CF9AE}" pid="3" name="_AuthorEmail">
    <vt:lpwstr>Hancher.Michael@DOL.GOV</vt:lpwstr>
  </property>
  <property fmtid="{D5CDD505-2E9C-101B-9397-08002B2CF9AE}" pid="4" name="_AuthorEmailDisplayName">
    <vt:lpwstr>Hancher, Michael - MSHA</vt:lpwstr>
  </property>
  <property fmtid="{D5CDD505-2E9C-101B-9397-08002B2CF9AE}" pid="5" name="_EmailSubject">
    <vt:lpwstr>MNM PPT's</vt:lpwstr>
  </property>
  <property fmtid="{D5CDD505-2E9C-101B-9397-08002B2CF9AE}" pid="6" name="_ReviewingToolsShownOnce">
    <vt:lpwstr/>
  </property>
</Properties>
</file>