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75757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16BB-0B43-468B-BC24-26A1FC885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XML S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mmer = PERL/JSP/XML|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the user in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make the mistakes we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Access Skills at 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 was designed by production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y Tennet XML4LIB XML/XSLT as a ha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 look at XML/XSLT as a hammer -- once you have it,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gt; and know how to use it, you find all kinds of uses for it that would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gt; not necessarily have occurred to you without that tool in your hand. I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gt; liken this to Perl (insert your favorite web scripting language here),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gt; which once you know it, you find all kinds of uses to which to put it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coon in later dissemintation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5F8E-AE20-4B4C-8E3C-BB356905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80520"/>
            <a:ext cx="77724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7339-4B9A-47CB-9BB3-BD40C644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8052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8052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504EC-197B-46E5-BB58-05E7AE23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3628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3628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8052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8052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8052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261D-3A89-49F3-9E96-81CCA0AA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1299-FCC4-40E9-8124-576F53CD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1447-8BA9-434A-B76C-F7B531CB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CBE5-0959-4BFD-9BE6-26AD86F1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9938-B1D4-4B6A-AA2D-6EEFECB1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E051-4776-47A2-9D01-34D46008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82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8F3B-21B6-45EA-A5DA-3E69F4B1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052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2E33-30A1-488D-BD2A-FCFB4120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695F-5B2A-43B7-8FB2-6C1B9750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398052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001A-9F96-424F-A54A-A454219B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980520"/>
            <a:ext cx="77724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29AF-F24A-4068-9475-6289306D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3980520"/>
            <a:ext cx="77724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0AFC-47D1-47E8-BDB9-532CC9B2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398052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398052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D5FF-B784-4A85-959B-BDE91D8E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73628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73628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398052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398052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398052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04B8-5AC7-4AA7-80B4-CB1EC323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DC2D-7BBB-403F-AA0F-7A3E1512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C439-BA9F-475B-B15B-C8092C7C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1305-049A-496D-9C33-AFF8098C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82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A8DD-03B6-484F-BECC-AD006828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8052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F44AA-FB51-478D-9031-02477791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8052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77D0-9E2C-4259-B85C-A168045A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80520"/>
            <a:ext cx="77724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372C-35F7-44B5-87DE-0FA8BE68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583320"/>
            <a:ext cx="6800760" cy="274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2612880" y="0"/>
            <a:ext cx="6553440" cy="35701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6583320"/>
            <a:ext cx="6800760" cy="27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85800" y="6579720"/>
            <a:ext cx="1905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75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75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6553080" y="6579720"/>
            <a:ext cx="1905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75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004D-2C7B-4DD4-BF4A-A85F81AA7FCB}" type="slidenum">
              <a:rPr b="0" lang="en-US" sz="1400" spc="-1" strike="noStrike">
                <a:solidFill>
                  <a:srgbClr val="57575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3"/>
          </p:nvPr>
        </p:nvSpPr>
        <p:spPr>
          <a:xfrm>
            <a:off x="3124080" y="657972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75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75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094360" y="282600"/>
            <a:ext cx="4038480" cy="29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5757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009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009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009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0090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7575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7575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583320"/>
            <a:ext cx="6800760" cy="274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14360" y="0"/>
            <a:ext cx="8729640" cy="475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14360" y="0"/>
            <a:ext cx="8729640" cy="475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0" y="1440"/>
            <a:ext cx="425124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0" y="6583320"/>
            <a:ext cx="6800760" cy="274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52280" y="458640"/>
            <a:ext cx="4251600" cy="193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52920" y="438120"/>
            <a:ext cx="2021040" cy="227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0" y="1440"/>
            <a:ext cx="4251240" cy="536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52280" y="458640"/>
            <a:ext cx="4251600" cy="19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5452920" y="438120"/>
            <a:ext cx="2021040" cy="2271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579720"/>
            <a:ext cx="1905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75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75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57972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75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75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579720"/>
            <a:ext cx="1905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75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868A-75CB-4415-A8B6-8F0FC0B4CB49}" type="slidenum">
              <a:rPr b="0" lang="en-US" sz="1400" spc="-1" strike="noStrike">
                <a:solidFill>
                  <a:srgbClr val="57575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75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7575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0090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5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7575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0090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5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7575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0090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5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7575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7575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5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7575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7575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5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reykeith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METS Creation</a:t>
            </a:r>
            <a:br>
              <a:rPr sz="4400"/>
            </a:br>
            <a:r>
              <a:rPr b="0" lang="en-US" sz="2000" spc="-1" strike="noStrike">
                <a:solidFill>
                  <a:srgbClr val="4d5e96"/>
                </a:solidFill>
                <a:latin typeface="Arial"/>
              </a:rPr>
              <a:t>in a production environment</a:t>
            </a:r>
            <a:endParaRPr b="0" lang="en-US" sz="20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30080" y="43430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57"/>
                </a:solidFill>
                <a:latin typeface="Arial"/>
              </a:rPr>
              <a:t>METS Opening Day</a:t>
            </a:r>
            <a:endParaRPr b="0" lang="en-US" sz="2400" spc="-1" strike="noStrike">
              <a:solidFill>
                <a:srgbClr val="575757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rey Keith</a:t>
            </a:r>
            <a:endParaRPr b="0" lang="en-US" sz="2400" spc="-1" strike="noStrike">
              <a:solidFill>
                <a:srgbClr val="575757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57"/>
                </a:solidFill>
                <a:latin typeface="Arial"/>
              </a:rPr>
              <a:t>ckeith@loc.gov</a:t>
            </a:r>
            <a:endParaRPr b="0" lang="en-US" sz="24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Pros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Multiple interfaces to back end DB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Centralized DB &amp; Application Code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Better support for MODS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Controlled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Instant feedback XML generation on the fly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Profile Validation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Cons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Still using Access for front end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09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757"/>
                </a:solidFill>
                <a:latin typeface="Arial"/>
              </a:rPr>
              <a:t>Efficient data entry from web based forms?</a:t>
            </a:r>
            <a:endParaRPr b="0" lang="en-US" sz="28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What you need to take away from this presentation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Avoid developing your own METS editor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Use your best hammer for the job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09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757"/>
                </a:solidFill>
                <a:latin typeface="Arial"/>
              </a:rPr>
              <a:t>Perl, Java, XSLT</a:t>
            </a:r>
            <a:endParaRPr b="0" lang="en-US" sz="28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Tradeoffs between expressing features of METS and usability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Specialized tools appropriate for the complexity of the profile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Evolution of Tools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Carl’s Talk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METS Editor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09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757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57575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0090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57"/>
                </a:solidFill>
                <a:latin typeface="Arial"/>
              </a:rPr>
              <a:t>Create and edit all METS</a:t>
            </a:r>
            <a:endParaRPr b="0" lang="en-US" sz="2400" spc="-1" strike="noStrike">
              <a:solidFill>
                <a:srgbClr val="5757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09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757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57575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0090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57"/>
                </a:solidFill>
                <a:latin typeface="Arial"/>
              </a:rPr>
              <a:t>Too much METS knowledge needed for production staff</a:t>
            </a:r>
            <a:endParaRPr b="0" lang="en-US" sz="2400" spc="-1" strike="noStrike">
              <a:solidFill>
                <a:srgbClr val="57575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0090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57"/>
                </a:solidFill>
                <a:latin typeface="Arial"/>
              </a:rPr>
              <a:t>Too slow for volume production</a:t>
            </a:r>
            <a:endParaRPr b="0" lang="en-US" sz="24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Just Enough Approach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Appropriate tools product appropriate metadata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09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757"/>
                </a:solidFill>
                <a:latin typeface="Arial"/>
              </a:rPr>
              <a:t>Extract Technical</a:t>
            </a:r>
            <a:endParaRPr b="0" lang="en-US" sz="28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Version 1.0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Access DB -&gt; XML via XML Spy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Filesystem directory structure -&gt; XML via Perl Script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XSLT builds METS object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09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757"/>
                </a:solidFill>
                <a:latin typeface="Arial"/>
              </a:rPr>
              <a:t>PROFILE + Filenaming Conventions = Structmap</a:t>
            </a:r>
            <a:endParaRPr b="0" lang="en-US" sz="28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Extract technical metadata from files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Descriptive from DB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Pros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Production staff understood the database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Higher Throughput 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METS Creation” and profiles controlled by generation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Cons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DB wasn’t normalized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Multiple copies of DB 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Little constraints on DB data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Weak descriptive metadata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Version 2.0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MYSQL DB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MS Access Frontend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Apache/Tomcat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Cocoon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XML/XSLT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7680" y="3149640"/>
            <a:ext cx="9144000" cy="36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575757"/>
              </a:solidFill>
              <a:latin typeface="Times New Roman"/>
            </a:endParaRPr>
          </a:p>
        </p:txBody>
      </p:sp>
      <p:pic>
        <p:nvPicPr>
          <p:cNvPr id="120" name="" descr="Cocoon"/>
          <p:cNvPicPr/>
          <p:nvPr/>
        </p:nvPicPr>
        <p:blipFill>
          <a:blip r:embed="rId1"/>
          <a:stretch/>
        </p:blipFill>
        <p:spPr>
          <a:xfrm>
            <a:off x="4419720" y="3200400"/>
            <a:ext cx="3429000" cy="56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25369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4:06:19Z</dcterms:created>
  <dc:creator>ckeith</dc:creator>
  <dc:description/>
  <dc:language>en-US</dc:language>
  <cp:lastModifiedBy>Corey Keith</cp:lastModifiedBy>
  <dcterms:modified xsi:type="dcterms:W3CDTF">2005-12-12T17:29:05Z</dcterms:modified>
  <cp:revision>42</cp:revision>
  <dc:subject/>
  <dc:title>METS</dc:title>
</cp:coreProperties>
</file>