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0B0B-3FEF-45BB-9F7A-C18467283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6F9F-1822-4A57-9E9E-A5CB60692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7FD3-3D31-4E90-BF8B-FA99E56DE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0D93-33FC-440E-A444-007AEC5D6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F47F-8CFA-4FB5-819D-13172D3D6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048A-0CDC-45BF-94A0-0C290C148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151B-C430-4517-8F7B-1F2FDCB52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131F-67DD-408D-AB0B-B60627C1E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A285-B9D7-4910-8CB3-D0524699F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BEF9-B565-44D3-A765-956DCD9EE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F234-7A4B-4573-B530-3BD6ACCA5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E3D9-9851-4DEB-B8C4-5F49E5E1C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2010-9A40-4B03-95E0-57F081056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8804000">
            <a:off x="1016280" y="240768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</a:rPr>
              <a:t>D R A F 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6996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98440" y="4040280"/>
            <a:ext cx="6885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 Jones-Le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States Environmental Protection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of Research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L-Environmental Sciences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Chemistry Bra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 Nev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5400" y="160344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mical markers of human waste contamination in source waters: A simplified analyt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6400" y="5835600"/>
            <a:ext cx="693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2000" y="1420920"/>
            <a:ext cx="7259760" cy="4290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2560" y="246240"/>
            <a:ext cx="790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. Portland Maine WWTP &amp;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ore River Ma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A26906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A26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8278-134E-47D1-AFFD-310354BAA4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5600" y="441000"/>
            <a:ext cx="77850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Yarmouth Boat Landing     &amp; Yarmouth POTW</a:t>
            </a:r>
            <a:br>
              <a:rPr sz="2400"/>
            </a:b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AA26903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AA26902</a:t>
            </a:r>
            <a:endParaRPr b="1" i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02120" y="307512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92120" y="1492200"/>
            <a:ext cx="5838840" cy="410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1880" y="5673600"/>
            <a:ext cx="769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Yarmouth water supply tested positive for coliform Aug and Oct 200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es were collected Nov 2002.  Royal River Yarmouth Town Landing same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E60F-FCAB-44EA-BD5F-5ECBFCBC72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87160" y="223920"/>
            <a:ext cx="61722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Hampden Boat Landing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360" y="1130400"/>
            <a:ext cx="8283600" cy="50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DACC-2223-434E-B9C9-E1FB228F09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4600" y="0"/>
            <a:ext cx="77835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New England –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gion 1 Connecticut</a:t>
            </a:r>
            <a:br>
              <a:rPr sz="2800"/>
            </a:b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9 sites</a:t>
            </a:r>
            <a:endParaRPr b="1" i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2120" y="1387440"/>
          <a:ext cx="8704080" cy="3313080"/>
        </p:xfrm>
        <a:graphic>
          <a:graphicData uri="http://schemas.openxmlformats.org/drawingml/2006/table">
            <a:tbl>
              <a:tblPr/>
              <a:tblGrid>
                <a:gridCol w="6251400"/>
                <a:gridCol w="798480"/>
                <a:gridCol w="1262160"/>
                <a:gridCol w="392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obil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ithromyc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3 – 1.64 miles downstream Manchester WW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4 – rural stream no housing in the immediate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5 – densely populated 60% stream flow wastewater 1.25mi upstr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6 – stream flow 70% wastewat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7 --  stream flow 90% waste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8 --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lected 0.8 km downstream from a senior hous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ominium complex, which has its own small WWT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9 0.65 mi from WW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30 field duplicate of 29829 but collected 15 min a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31 – 2mi downstream WWTP – failed septic systems 90% waste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32 – 2mi downstream WWTP – stream flow 40 % waste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bl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30040" y="5443560"/>
            <a:ext cx="856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 of the Connecticut samples were collected directly from WWTPs. Most were located 1 km or greater from WWTP sewage outfalls, yet both urobilin and azithromycin were detected in some samp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0960" y="4743360"/>
            <a:ext cx="49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d = non-detect; † positive MS/MS identification, but below LO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B150-F2F0-4ABE-95BF-148A6D6B06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7160" y="542880"/>
            <a:ext cx="61722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Conclusion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8800" y="1212480"/>
            <a:ext cx="7618320" cy="21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of urobilin, along w/ a human-use drugs can equivocally show that human waste is entering a water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tiary/secondary treatment does not seem to efficiently remove azithromycin, as evidenced by its detection at both the Sanford and Portland WWTPs, as they both have similar environmental loadings, 0.5 kg/yr and 0.6 kg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33840" y="3208320"/>
            <a:ext cx="40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Future Researc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7440" y="4210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correlations between urobilin, nitrate, and coliform levels using principal componen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38B2-97EF-4562-9F57-6744372D2A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3520" y="3548160"/>
            <a:ext cx="61722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NOTICE</a:t>
            </a:r>
            <a:endParaRPr b="1" i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4160520"/>
            <a:ext cx="8593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86"/>
              </a:spcBef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this work was reviewed by EPA and approved for publication, it may not necessarily reflect official Agency policy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ntion of trade names or commercial products does not constitute endorsement or recommendation for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47760" y="276120"/>
            <a:ext cx="63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Acknowle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880" y="973080"/>
            <a:ext cx="809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Y Miyabara, Shinshu University - Education and Research Center for Inlandwater Environment, for his very thoughtful discussions regarding urobilin as a human waste marker; Dr. Jaci Batista, University of Nevada-Las Vegas for sharing Southern Nevada site information; Mr. Peter Philbrook, USEPA Region 1, for sharing his environmental extracts; and Ms. Elizabeth Sams, USEPA ORD/NHEERL, for sampling throughout the summer 2004, at Lake Michig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922E-B529-4995-A93D-F337587320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03000" y="223920"/>
            <a:ext cx="61722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0680" y="1106640"/>
            <a:ext cx="82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ing public water authorities a tool to monitor and measure levels of human waste contamination of waters simply and rapidly would enhance public prot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s shed in feces and urine might be used to detect human waste contamination of environmental wa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e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obi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human-use drugs affiliated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obilin can help define the waste as hum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thromycin (antibiotic) and methamphetamine (substance of abuse) were det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68880" y="2803680"/>
            <a:ext cx="2882880" cy="1434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3880" y="4944960"/>
            <a:ext cx="3775320" cy="12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21E8-3FFF-4635-80A6-C1BA603C0E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9640" y="163440"/>
            <a:ext cx="61722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Experimental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7920" y="855720"/>
            <a:ext cx="855036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b samples collected, 1L or less, keep cool, above freezing but &lt;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until extraction w/in 24-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 adjust to &lt; 3.0 with 12N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 phase 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SIS HLB cartridges [Waters Corporation (Milford, MA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-mL capacity, 0.2 g, 30-µ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cartridges 5 mL methanol followed by 5 mL DI water at a rate of  1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samples, 500 mL, into 60-mL reservoirs (60 mLs at a time); start extractions w/ pump at a rate of 4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y samples, via pump, for &lt; 5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 with 40 mL methanol:1%acetic acid at a rate of 1mL/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gen blow-down extract to 0.5 mL – ready for LC/M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5800" y="4262400"/>
            <a:ext cx="333360" cy="71280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5600" y="4965840"/>
            <a:ext cx="164880" cy="35712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1200" y="3718080"/>
            <a:ext cx="189000" cy="558720"/>
          </a:xfrm>
          <a:prstGeom prst="downArrow">
            <a:avLst>
              <a:gd name="adj1" fmla="val 50000"/>
              <a:gd name="adj2" fmla="val 739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56000" y="3490920"/>
            <a:ext cx="1863720" cy="45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83720" y="3776760"/>
            <a:ext cx="276732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24200" y="2505240"/>
            <a:ext cx="1627200" cy="34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65280" y="2766960"/>
            <a:ext cx="1519200" cy="23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 rot="8335200">
            <a:off x="151920" y="2765520"/>
            <a:ext cx="754200" cy="83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3EBB-CCD4-49AE-A646-3E9860CB8C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7168 L 4.16667E-006 0.23167 E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9160" y="198000"/>
            <a:ext cx="6256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Experimental con’t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627120"/>
            <a:ext cx="894888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-electrospray-ion trap mass spectrometer (ThermoQuest Finnigan LC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58720" y="3419640"/>
            <a:ext cx="3152880" cy="2855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64000" y="2992320"/>
            <a:ext cx="4205160" cy="31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-IT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ionization m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ing - scanned from 120 to 830 amu (full-scan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ted capillary - 215°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quantifying and confirming - Two other modes, selected ion monitoring (SIM) and collision-induced dissociation (CID), wer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7360" y="1397160"/>
            <a:ext cx="7137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P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18 RP, 5 µm particle size, 150 × 3.2 mm liquid chromatography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rate of 0.40 mL min–1, and a 40:60 split after the column, such that 40% of the flow (160 µL min–1) goes to the ES-IT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phase: A: 99% water/1 mM ammonium acetate/0.1% acetic acid/1% methanol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 98% methanol/1 mM ammonium acetate/0.1% acetic acid/2% wat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 mobile phase A (hold for 1 min) to 100% mobile phase B (hold for 5 min) over a 20-min gradient, with a 5-min equilibrium between r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11BF-BF18-4088-9BD9-AB3D045B1E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9640" y="150480"/>
            <a:ext cx="61722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Experimental cont</a:t>
            </a:r>
            <a:endParaRPr b="1" i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760" y="760320"/>
            <a:ext cx="8609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mits-of-detection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ing regression analysis on the data obtained from analyzing urobilin at four different concentrations, using full scan mode, the LOD for urobilin was calculated as 32 pg (r2 = 0.999) on-colum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ollision energy =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760" y="2400480"/>
            <a:ext cx="8602560" cy="3728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9880" y="4710240"/>
            <a:ext cx="3122640" cy="94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1E0E-C927-4D83-B7E2-3E69C47DEA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179280"/>
            <a:ext cx="61722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Sampling Sites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7960" y="1226880"/>
            <a:ext cx="673272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– 1 site in Southern Nev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Lakes – 2 sites on Lake Michi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48440" y="287280"/>
            <a:ext cx="180972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95440" y="4518000"/>
            <a:ext cx="2143080" cy="144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16360" y="4354560"/>
            <a:ext cx="594972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ngland – 18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in 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in Connectic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325680" y="2849400"/>
            <a:ext cx="2943360" cy="12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642B-3D83-4E7D-9F84-48387B1DA4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85640" y="237600"/>
            <a:ext cx="61722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outhern Nevada – 1 site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88480" y="1476360"/>
            <a:ext cx="6324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39840" y="1512720"/>
            <a:ext cx="6940440" cy="43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4252-B444-44FB-AA77-95982846FA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6880" y="542520"/>
            <a:ext cx="881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Great Lakes – 2 sites </a:t>
            </a:r>
            <a:br>
              <a:rPr sz="3600"/>
            </a:br>
            <a:r>
              <a:rPr b="1" i="1" lang="en-US" sz="2000" spc="-1" strike="noStrike">
                <a:solidFill>
                  <a:srgbClr val="ff9900"/>
                </a:solidFill>
                <a:latin typeface="Times New Roman"/>
                <a:ea typeface="Arial"/>
              </a:rPr>
              <a:t>Lake Michigan beach site 1 (Silver Beach)     </a:t>
            </a:r>
            <a:br>
              <a:rPr sz="2000"/>
            </a:br>
            <a:r>
              <a:rPr b="1" i="1" lang="en-US" sz="2000" spc="-1" strike="noStrike">
                <a:solidFill>
                  <a:srgbClr val="ff9900"/>
                </a:solidFill>
                <a:latin typeface="Times New Roman"/>
                <a:ea typeface="Arial"/>
              </a:rPr>
              <a:t>  Lake Michigan beach site 2 (Washington Beach)</a:t>
            </a:r>
            <a:br>
              <a:rPr sz="2000"/>
            </a:br>
            <a:endParaRPr b="1" i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64960" y="1955880"/>
          <a:ext cx="8317080" cy="3948120"/>
        </p:xfrm>
        <a:graphic>
          <a:graphicData uri="http://schemas.openxmlformats.org/drawingml/2006/table">
            <a:tbl>
              <a:tblPr/>
              <a:tblGrid>
                <a:gridCol w="4597560"/>
                <a:gridCol w="2930400"/>
                <a:gridCol w="78912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obilin           Azithromyc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/L                        n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ke Michigan beach site 1 (Silver Beach)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e 29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 13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 27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17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ember 8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ke Michigan beach site 2 (Washington Bea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e 29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 13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 27, 2004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17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ember 8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C88B-5452-4F6B-AE56-9CA6273BA8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440" y="193320"/>
            <a:ext cx="811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New England –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gion 1 Maine </a:t>
            </a:r>
            <a:br>
              <a:rPr sz="2800"/>
            </a:b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9 sites</a:t>
            </a:r>
            <a:endParaRPr b="1" i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35080" y="20160"/>
            <a:ext cx="54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3560" y="1582560"/>
          <a:ext cx="8110800" cy="3603960"/>
        </p:xfrm>
        <a:graphic>
          <a:graphicData uri="http://schemas.openxmlformats.org/drawingml/2006/table">
            <a:tbl>
              <a:tblPr/>
              <a:tblGrid>
                <a:gridCol w="5051520"/>
                <a:gridCol w="971640"/>
                <a:gridCol w="1509840"/>
                <a:gridCol w="577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obil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ithromyc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0a – Sanford WW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0b   laboratory duplic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1    400 ft downstream Sanford WW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2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Yarmouth POT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2b   laboratory duplic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3    Royal River L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4    Lewiston WW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5    Androscoggin River 0.8 mi downstre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wiston WW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6    South Portland WW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7    Fore River - mar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9    Hampden boat l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53880" y="5564880"/>
            <a:ext cx="732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d = non-detect; † positive MS/MS identification, but below LOQ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thamphetamine detected: 5 ng/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BA7D-B331-4E0A-A35C-9F82B663C5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7:09:55Z</dcterms:created>
  <dc:creator>dermont</dc:creator>
  <dc:description/>
  <dc:language>en-US</dc:language>
  <cp:lastModifiedBy>Tammy Jones-Lepp</cp:lastModifiedBy>
  <dcterms:modified xsi:type="dcterms:W3CDTF">2006-05-09T21:13:00Z</dcterms:modified>
  <cp:revision>776</cp:revision>
  <dc:subject/>
  <dc:title>SS briefing</dc:title>
</cp:coreProperties>
</file>