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13.wmf" ContentType="image/x-wmf"/>
  <Override PartName="/ppt/media/image15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305F3-63BC-4B7A-AC5C-625BD1BDE7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953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53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953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238A2-A648-476A-93BA-B8092980CF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953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953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391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953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391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0DCA6-036A-460E-8822-1AF921E964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953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953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974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994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953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974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994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C1C23-D30E-4C2D-8D22-2421B528B0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AB23-0966-4A44-B1CA-8266B514DDA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953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953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E1A5-5342-4FD7-9B15-6D3FEFDAE87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953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953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42AA-AF65-4B63-BFBD-FAB7E40E1D2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953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953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91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64BF-F57D-438C-82B6-DEECEE9540A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953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A31A-F78A-422C-82EC-1EE23314730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895320" y="27432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8B9B-FE4B-41A1-B2F1-180F711815A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953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953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91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953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3C2C-B38C-4FA5-8D41-54D3E76B3E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953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953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5B754-F196-4862-B896-6BCF8E7EBE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953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953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391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391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2DE7-50D3-40C6-A3D2-4BE4F2083AA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953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953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391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953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6054-D95D-4C56-B621-50C60DEE476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953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953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953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F308-0D01-4CB6-9ABC-4B064E87C87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953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953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91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953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391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8EC4-9536-4CC7-9FFE-9A36507C03F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953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953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974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994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953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4974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994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7A8F-D618-4AFD-B333-15A7382130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953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953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F5B1F-4881-48D0-8AB4-7A738243EC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953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953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391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B8550-B427-4445-BA68-E4BE234F96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953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D0E4D-3259-4B97-A91C-364FC0635A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95320" y="27432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73030-1037-46FF-AB3D-150C013AEF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953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953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391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953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0EC28-7B0B-4274-A367-09E93A7EBD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953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953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391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391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B88D6-C054-42AF-B570-3BB1E072BE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953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953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391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953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837B6-2C6E-427E-8116-D33ED0CD6C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6324480"/>
            <a:ext cx="8534520" cy="53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2b85b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39720" y="0"/>
            <a:ext cx="8504280" cy="533520"/>
          </a:xfrm>
          <a:prstGeom prst="rect">
            <a:avLst/>
          </a:prstGeom>
          <a:gradFill rotWithShape="0">
            <a:gsLst>
              <a:gs pos="0">
                <a:srgbClr val="2b85bb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953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953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52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2b85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79992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82740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0AD1B91C-DB21-4030-9A3D-F56ECC1EE45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701640" cy="6858000"/>
          </a:xfrm>
          <a:prstGeom prst="rect">
            <a:avLst/>
          </a:prstGeom>
          <a:solidFill>
            <a:srgbClr val="ff5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5400000">
            <a:off x="-3314160" y="2863080"/>
            <a:ext cx="71643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ff742f"/>
                </a:solidFill>
                <a:latin typeface="Kabel Ult BT"/>
              </a:rPr>
              <a:t>Family Education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09480" y="6324480"/>
            <a:ext cx="8534520" cy="53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2b85b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82760" y="1295280"/>
            <a:ext cx="69343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682740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F1B9F479-5D88-4085-B253-DB9EBE37566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9720" y="0"/>
            <a:ext cx="8504280" cy="533520"/>
          </a:xfrm>
          <a:prstGeom prst="rect">
            <a:avLst/>
          </a:prstGeom>
          <a:gradFill rotWithShape="0">
            <a:gsLst>
              <a:gs pos="0">
                <a:srgbClr val="2b85bb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01640" cy="6858000"/>
          </a:xfrm>
          <a:prstGeom prst="rect">
            <a:avLst/>
          </a:prstGeom>
          <a:solidFill>
            <a:srgbClr val="ff5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-3314160" y="2863080"/>
            <a:ext cx="71643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ff742f"/>
                </a:solidFill>
                <a:latin typeface="Kabel Ult BT"/>
              </a:rPr>
              <a:t>Family Education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943600" y="457200"/>
            <a:ext cx="2998800" cy="914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143000" y="5105520"/>
            <a:ext cx="5019840" cy="10508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2b85bb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600" y="1882800"/>
            <a:ext cx="6934320" cy="16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ssion 2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lcohol and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7AE4-3B3E-429E-9CEE-6D402344106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953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ng-Term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953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y drinking over time damage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diovascular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mu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ocri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rvou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trix I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38F14-CC45-4417-8744-5652BA5F3D3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953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953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coholic hepati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rh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cohol dependence is the leading cause of liver-related deaths in the United State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495680" y="1447920"/>
            <a:ext cx="308160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trix I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A1631-C5EC-4BB5-9D5E-B5DCFE33D9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953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953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lammation of the esophag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ophageal canc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larged blood vessels in the esophagus (often fa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ncreatit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cers of the throat, colon, rec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trix I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42648-90C9-4AF1-90E5-79F2A02DF12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953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rdiovascular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53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ious heart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regular and/or weak heartbe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blood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risk of stro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maged platelets/increase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k of blee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095880" y="2590920"/>
            <a:ext cx="2529000" cy="3429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trix I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FA3DA-3181-40FB-9974-4F2B54AD452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953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mun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953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maged white and red blood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risk of infectious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mune system attack on the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trix I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CE056-6A92-4EED-A330-02F06E9528B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953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docrin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953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be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ed release of reproductive hormones, growth hormone, and testoster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eased testicle and ovary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rupted sperm and egg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xual dysfunction in both men and w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trix I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EF798-B8F4-4CFA-9981-50ED5E975B0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953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rvous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953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pheral neuropat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rnicke’s synd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rsakoff’s synd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s of mental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d brain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s in the function of brain cel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34120" y="1676520"/>
            <a:ext cx="2571480" cy="218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trix I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2D035-AA76-4AAA-ACFE-7A18FD1CDFB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953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havioral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953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mestic violence and child ab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i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ily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ined relationships with colleag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ence from or lateness to wor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s of employment because of decreased produ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itting or being the victim of vio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ving under the influence arr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trix I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F9E8A-90C9-4DD9-8BB0-B64A7CE650F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953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cohol and W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0" y="1752120"/>
            <a:ext cx="41911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d with men, women develop alcohol-related disease more quickly and with less alcoh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3492360" cy="376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trix I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FF9A5-6C0F-4593-B44A-5ED97844959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953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cohol and Pregna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95320" y="1600200"/>
            <a:ext cx="626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bies born to mothers who drank during pregnancy may have mental retardation or other learning and behavioral probl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629400" y="1523880"/>
            <a:ext cx="1800360" cy="439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trix I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29D66-E92A-4349-A71B-84F49DF559E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953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cohol in th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953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cohol upsets a delicate balance between chemical systems th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imul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chemical systems th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hibi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s of the brain and bod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191120" y="2971800"/>
            <a:ext cx="4140000" cy="3164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trix I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33267-C413-4DA1-8C98-8E7874542F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953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tal Alcohol Spectrum Dis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9496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st serious risk during pregnancy is fetal alcohol spectrum disorders (FAS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D is the leading known cause of mental retardation in the United St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895480" y="3429000"/>
            <a:ext cx="3772080" cy="288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trix I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CE801-B622-4E74-82AC-6132DF88E41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95320" y="3805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tal Alcohol Spectrum Disorders</a:t>
            </a:r>
            <a:br>
              <a:rPr sz="32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gnitive and Behavioral Impair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8020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havioral and neurological problems associated with FASD may lead to poor academic performance and legal and employment difficulties in adolescence and adulth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trix I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6BF87-EF97-41F0-8A9B-33C3EF79FEC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953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tal Alcohol Spectrum Disorders</a:t>
            </a:r>
            <a:br>
              <a:rPr sz="32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raniofacial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752480" y="1868400"/>
            <a:ext cx="5943600" cy="396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trix IO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981FC-5E36-41E0-9D83-44D15E82DF7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953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tal Abstin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ents in Matrix treatment are asked to stop using all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icit drug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coh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648320" y="2971800"/>
            <a:ext cx="3062160" cy="295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trix I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2CE18-CC24-4341-BC63-4E612295196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953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cohol Triggers Are Every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953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ertis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V show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iends and family who dr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ebration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holi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114800" y="3352680"/>
            <a:ext cx="3809880" cy="2814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trix I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D5718-BA22-431A-A3B5-32A09C71431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953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nal Trig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953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x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el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il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114800" y="1447920"/>
            <a:ext cx="4122720" cy="412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trix I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7FB2C-B5A4-4350-8DD9-D3636E001BD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953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lapse W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953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in recovery who drink alcohol are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8 tim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re likely to relapse to stimulant use than those who don’t drin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trix I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6C036-210E-4EDF-816A-A0F589BE258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953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la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9496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cohol          Lowered inhib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a trigger, and the result may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mpulsive use of stimulants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352680" y="2362320"/>
            <a:ext cx="577800" cy="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trix I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37AE3-AD80-4BAF-936C-A21E06220FE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953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ther Reasons for Abst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953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nking prevents people in recovery from directly confronting their stimulant use disor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nking puts people in recovery at risk of becoming dependent on alcoh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trix I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D6DBF-77A9-43AE-B449-1A6E5B32C97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953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Not To Dr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953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 about other ways of celebrat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being around others who are drink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 about other ways of spending time with frien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friends with others in recove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 saying “no thank you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going to bars and part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lk to your fami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095880" y="4191120"/>
            <a:ext cx="2048040" cy="214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trix I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48EE1-AD31-4386-9FF2-5D54B99E33F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953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ap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953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ation           Dependence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ence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drawal Sympto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76720" y="2895480"/>
            <a:ext cx="577800" cy="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352680" y="3962520"/>
            <a:ext cx="577800" cy="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trix I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1A6E8-441E-4E95-8E08-E2006D9222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953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To 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end 12-Step or mutual-help group meet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your feelings in gro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tain a 12-Step spons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 relaxation techniq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 HAL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ind yourself that uncomfortable feelings are normal and will p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tain help from a therapi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trix I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821BE-8E68-49F6-98C0-2601DF6719B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953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drawal Symp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953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iz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m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ditory or visual hallucin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om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i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trix I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4874C-A14E-49F6-B839-2A2FB415B4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953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lirium Trem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pid heart r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ased body tempera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em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ss of ability to control muscle mov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ased blood press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normally fast breath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wea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tered mental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llucin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rdiovascular collapse and dea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trix I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A4914-65A2-485F-A89C-8514A4E754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953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953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half of Americans ages 12 and older report drinking alcoho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3 in 10 (30 percent) American adults drink at levels that increase their risk for physical, emotional, and social probl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se heavy drinkers, about 1 in 4 currently has an alcohol abuse or dependence disor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trix I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E7C15-6A40-4FD8-91A0-79E3B5FDD0E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953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idence by Gender and 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95320" y="1600200"/>
            <a:ext cx="7562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en report being current drinkers than do wom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ate of alcoho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pend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lso lower for women than for m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cidence of heavy alcohol use is highest among young adults between ages 21 and 29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cidence of alcohol problems is lowest among adults ages 65 and ol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trix I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344B5-0B7D-450B-877E-D165CFFD7D2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953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itial Effects of Alcoh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953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elings of euph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lkativeness, soc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ed inhib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114800" y="2743200"/>
            <a:ext cx="3986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trix I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D2126-B4A3-4FD7-A13A-B3C25A62A32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953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ter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53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dation and drow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uble with bal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ired peripheral vi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ayed reaction ti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urring of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ee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8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black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trix I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337E8-1803-4DA4-B44F-F5BA304950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9:28:38Z</dcterms:created>
  <dc:creator>Candace Baker</dc:creator>
  <dc:description/>
  <dc:language>en-US</dc:language>
  <cp:lastModifiedBy>Wendy Caron</cp:lastModifiedBy>
  <dcterms:modified xsi:type="dcterms:W3CDTF">2006-04-28T14:36:50Z</dcterms:modified>
  <cp:revision>39</cp:revision>
  <dc:subject/>
  <dc:title>Alcohol</dc:title>
</cp:coreProperties>
</file>