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ECF9-206F-49A8-9D8B-C71EAA852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8FC7-23F5-4169-B837-BE0C5E03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7668-BC3D-4A3C-AE04-4642D2FD6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752F-87D4-45DC-A02B-864D67320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DD5A-919C-4FAF-A07B-EE3EF00A1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32B2-232A-42BE-92D4-3AC4F153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BFA9-30A2-44F0-8F76-60F1C313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DE7A-3706-4CA6-BE04-56CD8D6B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23E0-0E18-402C-BB76-2C43CB5C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47C9-897D-4761-88B9-5FD6C54D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05EF-DC96-4C4A-8C36-E6E0FC5B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518E-7E63-4532-91E6-DF2119EE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5018-C7B7-4029-B489-DCB1CA4C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1F5D-4BFA-49AA-896A-7F39CB26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305F-B538-4099-9D40-350C323E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4560-7A4A-4221-8634-96CC62C65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7CD8-E3E5-4FB0-856C-3F29B48B5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D953-041E-431C-B83F-1988328C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70C9-5CA1-474D-A4B3-4096A807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47A3-FB68-4A44-98ED-7D6ADD87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3BD2-7B63-4737-880D-E253F836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0B4A-15EF-4748-8766-0BC6AD85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78DD-C6F1-4E3B-B8BD-D83C0503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DD86-FEAA-45E7-A704-608C0D0B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63AC-59D6-4324-85C2-CF5B4E4131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7543800" y="6388200"/>
            <a:ext cx="1600200" cy="469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7BE6-9487-4719-819B-476A8FD8C3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im.heald@wdc.usda.gov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USDA 2008 Imagery Planning Meeting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irley H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rm Service Ag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800600" y="5581800"/>
            <a:ext cx="43434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eb Only, Pros and C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ntralized Environment/Databases supports most FSA current and future nee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fficient for many types of GIS appl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ows full integration with Business Apps (SCIMS, Farm Recor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roved Security of Data and Infra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roved Software 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eaper Workstation Refre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ntralized Management.  Reduced dependence on Service Center staff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lower Transi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gnificant new software development and Database Desig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y not be ready when current Environment reaches critical fail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formance for heavy editing applications using ArcGIS Server is unpro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nd Use would be very risk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velopment of Full Function GIS apps would be very difficult and s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U Maintena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unication with Sys/3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Option 4, Centralized Hybrid Web and Terminal Servic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ntralized Servers replace Service Center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Applications “Desktop”/Term Sv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s needing More GIS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vy Polygon editing, Cartographic Nee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U Mainten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n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rt-term Trans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Apps go to the W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ht Editing, Canned Maps, Canned Re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n Tool, TERRA, CLU View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ybrid Centralized, Pros and C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ralized Environment/Databases support all FSA current and future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ffici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ster Transition (limited software development to utilize the environme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80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ols that will remain in Terminal Services long-te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80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ols moved to Term Svcs for an interim peri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ows full integration with Business Apps (SCIMS, Farm Record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ows mid and long term transition to full Web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roved Security of Data and Infra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roved Software Distrib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eaper Workstation Refre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ralized Management.  Reduced dependence on Service Center staf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ires additional software licensing for Term Sv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unication with Sys/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Next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ly completing new Business Case and Cost Benefit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ly testing Terminal Services on a Small Test network using current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pe to Pilot Test Citrix Terminal Services for Geospatial Applications later this Fiscal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U – Farm Records Data Reconcil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ntac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im Heald 202-720-078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Jim.heald@wdc.usda.go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d Payne 202-720-218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d.payne@wdc.usda.go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SA Compliance Chang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5652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O Aud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sed Statistical Sampling Method Establish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r Selection – All Programs/All Farms Review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Y 2007 – 2000+ Fa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am dependent site visits required throughout the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r Selection for 2008 in Janu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hanges Under Review for NAIP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re focus on over-all programmatic support and less on compliance (acreage spot check) activ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ve to 1 meter onl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vise the cycle timefra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SA area of concern is only CLU are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ill Leaf-On/Growing Season, but look at extending collection window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termine if flexibility can be provided in delivery timefram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ther long term opportunitie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Remains Consta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nership Particip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ormance Measures with USGS for 17 Western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ue to work to stabilize fu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collect/publicize benefits of NAIP and impacts if the program goes a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uous Program Impr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IP continues to fit into the IFTN Propos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arget States for 2008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s “next in line” based on acquisition cycle schedule: *MN, OK, *IN, VA, MA, *NH, *VT, RI, NY**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 of Cycle States with potential partnership contributions identified:  TN, TX, KS, WI, 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 of Cycle States that have more recently indicated potential partnership: NC, 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Potential State partners identif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*FSA planned replac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n-going Activiti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ncile/review requirement submiss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ing at other issues and opportunities (e.g., discontinue public CCM Downloads, how to handle out of cycle collecti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irm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transition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 funding and subsequent imp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al announcement of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e with planned RFP and selection activ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22892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ystem of Records Chang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411804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ogram Compliance Chang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4133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hanging Imagery Needs and NAIP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327960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IS Centralization Eff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114624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arm Service Agenc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ystem of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blic Federal Notices of System of Records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MS (12/11/0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(12/12/0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s sharing CLU and other data with other Federal, State, local partners for conservation pr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d users of the data to FSA ethical standards and not to disclose the information without customer per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91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Move to GIS Centralization: The Problem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e Center Servers are old and out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urrent Server Hardware does not adequately support High Performance for GIS Apps Like Land Us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placement is Cost Prohibiti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eed a Solution So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fresh for Workstations are also very Costl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Distributed Environment Doesn’t Support FSA nee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al time access to CLU da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eb Distribution and other Data Shar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fficient Management of Out of County L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stribution Costs of Image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ata Backup and other Data Vulnerability Issu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pendency on Service Center Staff for Routine Data Management tasks (DB compression, history table updat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Option 1 Enhanced Distributed Environmen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Servers at Every Service Ce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ar Real Time Replication of Databases to a Centralized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 Access and View Only Web Access to Geospatial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ted Desktop Business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 Use, CRP, Price Support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kage to SCIMS, Farm Records and other Data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istributed, Pros and C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zes current applications/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inless” tran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atively stable update pa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cation with Sys3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nsive Infra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350+ Ser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,000 Workstations to Manage and Refre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Management Expe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ftware Distrib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ed Support for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rity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 security of servers and workst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Security, more points of access for P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Option 2 – Centralized, Terminal Services Environment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ralized Servers Replace Service Center 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tilizes Current Desktop Applications running remot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apps would be added as necess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integration of Business Apps over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 access and View Only Web access to Geospatial Dat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erm Svcs Only, Pros and C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692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ntralized Environment/Databases Support most FSA current and future nee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ffic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en High Performance GIS Environ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ster Transi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imited software development to utilize the environ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ows full integration with Business Apps (SCIMS, Farm Recor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roved Security of Data and Infra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roved Software 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sier Database and Hardware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aper Workstation Refre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ntralized Management.  Reduced dependence on Service Center staff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quires additional software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 the We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y not meet all FSA requirements (unknow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munication with Sys/3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ption 3 Centralized, All Web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b Servers replace all Service Center Serv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igration of all Apps to Web Interf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grated Business Ap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blic Access and read-write Web Access to Geospatial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00:30:01Z</dcterms:created>
  <dc:creator>Shirley.Hall</dc:creator>
  <dc:description/>
  <dc:language>en-US</dc:language>
  <cp:lastModifiedBy>sal</cp:lastModifiedBy>
  <dcterms:modified xsi:type="dcterms:W3CDTF">2007-12-12T20:35:38Z</dcterms:modified>
  <cp:revision>10</cp:revision>
  <dc:subject/>
  <dc:title>USDA 2008 Imagery Planning Meeting</dc:title>
</cp:coreProperties>
</file>