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32.wmf" ContentType="image/x-wmf"/>
  <Override PartName="/ppt/media/image27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0.wmf" ContentType="image/x-wmf"/>
  <Override PartName="/ppt/media/image17.png" ContentType="image/png"/>
  <Override PartName="/ppt/media/image38.wmf" ContentType="image/x-wmf"/>
  <Override PartName="/ppt/media/image12.jpeg" ContentType="image/jpeg"/>
  <Override PartName="/ppt/media/image18.png" ContentType="image/png"/>
  <Override PartName="/ppt/media/image6.jpeg" ContentType="image/jpeg"/>
  <Override PartName="/ppt/media/image8.png" ContentType="image/png"/>
  <Override PartName="/ppt/media/image30.png" ContentType="image/png"/>
  <Override PartName="/ppt/media/image13.wmf" ContentType="image/x-wmf"/>
  <Override PartName="/ppt/media/image14.png" ContentType="image/png"/>
  <Override PartName="/ppt/media/image10.jpeg" ContentType="image/jpeg"/>
  <Override PartName="/ppt/media/image31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36.png" ContentType="image/png"/>
  <Override PartName="/ppt/media/image37.wmf" ContentType="image/x-wmf"/>
  <Override PartName="/ppt/media/image34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7.jpeg" ContentType="image/jpeg"/>
  <Override PartName="/ppt/media/image28.png" ContentType="image/png"/>
  <Override PartName="/ppt/media/image1.wmf" ContentType="image/x-wmf"/>
  <Override PartName="/ppt/media/image16.png" ContentType="image/png"/>
  <Override PartName="/ppt/media/image21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C7F1-9235-4DAA-8476-8245B352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336B-2BB9-46EA-B824-69A52C75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1B0D-70B1-484E-9859-CFF4B2AFE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D3BD-A8BF-4C2F-99AE-44193FECF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EFAD-C545-432C-99A4-16B037A9D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5C22-AEFC-4531-8C13-E32188BB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3A15-804F-42E6-A16F-63E8FECA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E520-4E7E-4B1C-A910-E485761F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5943-E603-4ADB-B8BA-EA6C0B19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51B9-2DFA-4F02-90B6-17F51489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DD34-0596-4397-A64F-94915893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06C2-065D-4482-B6ED-88754F9D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F5A6-F5E3-4CF4-87DF-648D880B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CDA3-CCF1-4837-A4BE-2E60ECC7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AB84-2CB9-4C82-9710-5789B0B8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1C2A-2711-425A-9DB0-7C2EE375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5580-B4DF-4296-81AF-11BFD4B6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760EB-7779-405F-90AE-F1F6625D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AA147-AA04-4567-888F-8904AD34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C841F-0D67-490B-97E4-A5D4E6F9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5BF30-8918-47DE-913D-40BCCACD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7DC4A-B7AB-4B70-A288-19F799DE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2BBA-072C-4535-AB72-D6CED3DA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34666-B31A-451A-9726-166A14A4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4F837-17D6-4B3B-B242-17DAF382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5A763-9811-49C4-9CF9-57AA022E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AE9D1-1593-4828-8A5B-451D3EFA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6421B-3E7B-4EED-9D4C-0B99A917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25F66-607B-47E3-9796-167208AEA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01489-3FD5-447C-B6B6-06506E344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BF7F-0A20-474F-B754-95D83C3D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08DE-AC54-423A-833F-3A528EF5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FB23-4639-435B-9C59-8B4A5B57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C737-717D-4B06-9908-13848E21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4CAD-85B5-4948-81CE-197A9A1C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1308-6AEE-4D9A-9360-9DECA0C3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B30B-4B47-4C77-A3D5-48130DBF2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52B1-B01A-4A16-A849-9CA3DDA29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66BB-A33C-4D92-BBE1-4D24F7C42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iconbazaar.com/bars/contributed/pg04.html" TargetMode="External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19.png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895480" y="44136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urce vs. Sink Contributions to Atmospheric Methane Trends: 1990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36640" y="2017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335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14360" y="457200"/>
            <a:ext cx="2862360" cy="3200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743200" y="4038480"/>
            <a:ext cx="64008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rlene M. Fio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Larry Horowitz (NOAA/GFD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Ed Dlugokencky (NOAA/GMD)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Jason West (Princet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formal Seminar at NOAA G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anuary 24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990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ime-Varying Emissions:  Summary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4952880"/>
            <a:ext cx="807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ext: Focus on S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- Examine with BASE model (constant emiss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- Recycle NCEP winds from 2004 “steady-sta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1474" t="3843" r="1474" b="3843"/>
          <a:stretch/>
        </p:blipFill>
        <p:spPr>
          <a:xfrm>
            <a:off x="380880" y="1219320"/>
            <a:ext cx="4419720" cy="32385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665440" y="2819520"/>
            <a:ext cx="135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ANTH+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861080" y="1968480"/>
            <a:ext cx="42066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Annual mean CH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in th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“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ime-varying ANTH+BIO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simulation best captur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observed distrib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2743200" y="2437920"/>
            <a:ext cx="2286000" cy="30492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ane rises again when 1990-1997 wind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e applied to “steady-state” 2004 concentrati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663480" y="1600200"/>
          <a:ext cx="7337520" cy="403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480" y="1600200"/>
                    <a:ext cx="73375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4495680" y="1981080"/>
            <a:ext cx="0" cy="297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18000" y="3886200"/>
            <a:ext cx="37605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cycled NCEP 1990-20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9135800">
            <a:off x="4190760" y="2514240"/>
            <a:ext cx="2276280" cy="636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63080" y="5791320"/>
            <a:ext cx="659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teorological drivers for observed tre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ot just simple approach to steady-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453320" y="1219320"/>
            <a:ext cx="62434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a-weighted global mean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entrations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 simulation (constant emiss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8768000">
            <a:off x="900000" y="3627360"/>
            <a:ext cx="2309760" cy="563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rcRect l="1431" t="2939" r="2855" b="2939"/>
          <a:stretch/>
        </p:blipFill>
        <p:spPr>
          <a:xfrm>
            <a:off x="3429000" y="4343400"/>
            <a:ext cx="3657600" cy="25113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974040" y="589932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= 0.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w does meteorology affect the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fetime?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630760" y="2157480"/>
            <a:ext cx="2751120" cy="1084680"/>
            <a:chOff x="5630760" y="2157480"/>
            <a:chExt cx="2751120" cy="108468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6324480" y="2157480"/>
                  <a:ext cx="205740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[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H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OH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H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5630760" y="2233800"/>
              <a:ext cx="693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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28600" y="838080"/>
            <a:ext cx="4682880" cy="2971800"/>
            <a:chOff x="228600" y="838080"/>
            <a:chExt cx="4682880" cy="2971800"/>
          </a:xfrm>
        </p:grpSpPr>
        <p:pic>
          <p:nvPicPr>
            <p:cNvPr id="302" name="" descr=""/>
            <p:cNvPicPr/>
            <p:nvPr/>
          </p:nvPicPr>
          <p:blipFill>
            <a:blip r:embed="rId2"/>
            <a:srcRect l="2573" t="4152" r="2249" b="3834"/>
            <a:stretch/>
          </p:blipFill>
          <p:spPr>
            <a:xfrm>
              <a:off x="228600" y="1066680"/>
              <a:ext cx="449568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2541240" y="3159000"/>
              <a:ext cx="19501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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Recycled NCE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535120" y="1430280"/>
              <a:ext cx="7920" cy="2075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19200" y="838080"/>
              <a:ext cx="4292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</a:rPr>
                <a:t>4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Lifetime against Tropospheric O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844200" y="6477120"/>
            <a:ext cx="175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molecules 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4726800" y="3138120"/>
            <a:ext cx="1674000" cy="597240"/>
            <a:chOff x="4726800" y="3138120"/>
            <a:chExt cx="1674000" cy="597240"/>
          </a:xfrm>
        </p:grpSpPr>
        <p:sp>
          <p:nvSpPr>
            <p:cNvPr id="308" name=""/>
            <p:cNvSpPr/>
            <p:nvPr/>
          </p:nvSpPr>
          <p:spPr>
            <a:xfrm>
              <a:off x="4726800" y="3367080"/>
              <a:ext cx="156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Tempera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019920" y="3138120"/>
              <a:ext cx="3808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781680" y="3200400"/>
            <a:ext cx="1752480" cy="1333800"/>
            <a:chOff x="6781680" y="3200400"/>
            <a:chExt cx="1752480" cy="1333800"/>
          </a:xfrm>
        </p:grpSpPr>
        <p:sp>
          <p:nvSpPr>
            <p:cNvPr id="311" name=""/>
            <p:cNvSpPr/>
            <p:nvPr/>
          </p:nvSpPr>
          <p:spPr>
            <a:xfrm>
              <a:off x="6781680" y="3579840"/>
              <a:ext cx="175248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Humid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ightning NO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Photo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7162560" y="32004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105520" y="1103400"/>
            <a:ext cx="3574800" cy="1106280"/>
            <a:chOff x="5105520" y="1103400"/>
            <a:chExt cx="3574800" cy="1106280"/>
          </a:xfrm>
        </p:grpSpPr>
        <p:grpSp>
          <p:nvGrpSpPr>
            <p:cNvPr id="314" name=""/>
            <p:cNvGrpSpPr/>
            <p:nvPr/>
          </p:nvGrpSpPr>
          <p:grpSpPr>
            <a:xfrm>
              <a:off x="5105520" y="1600200"/>
              <a:ext cx="3574800" cy="609480"/>
              <a:chOff x="5105520" y="1600200"/>
              <a:chExt cx="3574800" cy="609480"/>
            </a:xfrm>
          </p:grpSpPr>
          <p:sp>
            <p:nvSpPr>
              <p:cNvPr id="315" name=""/>
              <p:cNvSpPr/>
              <p:nvPr/>
            </p:nvSpPr>
            <p:spPr>
              <a:xfrm>
                <a:off x="5105520" y="1600200"/>
                <a:ext cx="357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Rapid transport to sink regi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391160" y="1905120"/>
                <a:ext cx="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5108040" y="1103400"/>
              <a:ext cx="262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Candidate Processes:</a:t>
              </a: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685800" y="2057400"/>
            <a:ext cx="99072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1676520" y="2561760"/>
            <a:ext cx="761760" cy="1908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685880" y="2133720"/>
            <a:ext cx="0" cy="4572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590920" y="1752480"/>
            <a:ext cx="99036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562200" y="2362320"/>
            <a:ext cx="933480" cy="1908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591000" y="1828800"/>
            <a:ext cx="0" cy="4572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rcRect l="1517" t="2451" r="5154" b="4522"/>
          <a:stretch/>
        </p:blipFill>
        <p:spPr>
          <a:xfrm>
            <a:off x="76320" y="4343400"/>
            <a:ext cx="3581280" cy="24098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228240" y="3854520"/>
            <a:ext cx="606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ifetime Correlates Strongly With Lower Troposph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H                  and              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6320" y="58672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= 0.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044120" y="4952880"/>
            <a:ext cx="202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= 0.89 vs. 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f 1998 neg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(0.80 for Tem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construct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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-0.17 years) from 1991-1995 to 2000-2004 into individual contributions by varying OH and temperature separate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rcRect l="2579" t="3843" r="1932" b="3843"/>
          <a:stretch/>
        </p:blipFill>
        <p:spPr>
          <a:xfrm>
            <a:off x="1600200" y="1447920"/>
            <a:ext cx="5638680" cy="3657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423880" y="4876920"/>
            <a:ext cx="1229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(+0.3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037040" y="4890960"/>
            <a:ext cx="1469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H(+1.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968080" y="4879800"/>
            <a:ext cx="814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07120" y="32306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59600" y="32306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62120" y="2666880"/>
            <a:ext cx="838440" cy="2210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8000" y="2666880"/>
            <a:ext cx="838440" cy="2210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07320" y="5257800"/>
            <a:ext cx="7824960" cy="15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H increases in the model by 1.4% due to a 0.3 Tg N yr-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crease in lightning NO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emission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arge uncertainties in magnitude (and trend) of lightning NO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missions in the real atm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rcRect l="1474" t="3843" r="1474" b="3843"/>
          <a:stretch/>
        </p:blipFill>
        <p:spPr>
          <a:xfrm>
            <a:off x="76320" y="1181160"/>
            <a:ext cx="4419360" cy="323856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ane Distribution and Trends:  Conclusi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rcRect l="0" t="0" r="6169" b="0"/>
          <a:stretch/>
        </p:blipFill>
        <p:spPr>
          <a:xfrm>
            <a:off x="2133720" y="2857680"/>
            <a:ext cx="1901880" cy="11826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083240" y="1233360"/>
            <a:ext cx="264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Mean 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pp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066680" y="5867280"/>
            <a:ext cx="6762600" cy="488160"/>
            <a:chOff x="1066680" y="5867280"/>
            <a:chExt cx="6762600" cy="488160"/>
          </a:xfrm>
        </p:grpSpPr>
        <p:sp>
          <p:nvSpPr>
            <p:cNvPr id="343" name=""/>
            <p:cNvSpPr/>
            <p:nvPr/>
          </p:nvSpPr>
          <p:spPr>
            <a:xfrm>
              <a:off x="2038680" y="5895720"/>
              <a:ext cx="579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Potential for strong climate feedback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066680" y="5867280"/>
              <a:ext cx="975960" cy="485640"/>
            </a:xfrm>
            <a:custGeom>
              <a:avLst/>
              <a:gdLst>
                <a:gd name="textAreaLeft" fmla="*/ 152280 w 975960"/>
                <a:gd name="textAreaRight" fmla="*/ 854280 w 975960"/>
                <a:gd name="textAreaTop" fmla="*/ 121320 h 485640"/>
                <a:gd name="textAreaBottom" fmla="*/ 36432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611640" y="351936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30120" y="4419720"/>
            <a:ext cx="8508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CH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creases by ~2% from 1991-1995 to 2000-2004 due to warmer temperatures (35%) and higher OH (65%), resulting from a 10% increase in lightning N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iss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419720" y="1398600"/>
            <a:ext cx="4724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ASE (constant emissions) captures observed rate of increase 1990-1997 and leveling off post-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TH improves modeled CH4 post-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Wetland emissions in ANTH+BIO best match observed seasonality, inter-hemispheric gradient and global tr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: How will future global change influence atmospheric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ential for complex biosphere-atmosphere interactions…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studied with GFDL earth system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447920" y="2452680"/>
            <a:ext cx="6553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ahoma"/>
              </a:rPr>
              <a:t>CH</a:t>
            </a:r>
            <a:r>
              <a:rPr b="1" lang="en-US" sz="4800" spc="-1" strike="noStrike" baseline="-25000">
                <a:solidFill>
                  <a:srgbClr val="0000cc"/>
                </a:solidFill>
                <a:latin typeface="Tahoma"/>
              </a:rPr>
              <a:t>4</a:t>
            </a:r>
            <a:r>
              <a:rPr b="1" lang="en-US" sz="4800" spc="-1" strike="noStrike">
                <a:solidFill>
                  <a:srgbClr val="0000cc"/>
                </a:solidFill>
                <a:latin typeface="Tahoma"/>
              </a:rPr>
              <a:t> + 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OH</a:t>
            </a:r>
            <a:r>
              <a:rPr b="1" lang="en-US" sz="4800" spc="-1" strike="noStrike">
                <a:solidFill>
                  <a:srgbClr val="0000cc"/>
                </a:solidFill>
                <a:latin typeface="Tahoma"/>
              </a:rPr>
              <a:t>      …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roducts</a:t>
            </a:r>
            <a:r>
              <a:rPr b="1" lang="en-US" sz="4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rcRect l="6023" t="12575" r="7228" b="11317"/>
          <a:stretch/>
        </p:blipFill>
        <p:spPr>
          <a:xfrm>
            <a:off x="76320" y="5334120"/>
            <a:ext cx="2514600" cy="14666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5943600" y="6019920"/>
            <a:ext cx="3124080" cy="6858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o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676520" y="449568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5400000">
            <a:off x="4800240" y="252864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>
            <a:hlinkClick r:id="rId2"/>
          </p:cNvPr>
          <p:cNvPicPr/>
          <p:nvPr/>
        </p:nvPicPr>
        <p:blipFill>
          <a:blip r:embed="rId3"/>
          <a:srcRect l="0" t="0" r="72424" b="0"/>
          <a:stretch/>
        </p:blipFill>
        <p:spPr>
          <a:xfrm>
            <a:off x="2057400" y="5823000"/>
            <a:ext cx="4038480" cy="9586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7848720" y="1371600"/>
            <a:ext cx="1100160" cy="11430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447920" y="4038480"/>
            <a:ext cx="838080" cy="1143000"/>
          </a:xfrm>
          <a:prstGeom prst="upArrow">
            <a:avLst>
              <a:gd name="adj1" fmla="val 50000"/>
              <a:gd name="adj2" fmla="val 34096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76720" y="4495680"/>
            <a:ext cx="838080" cy="1143000"/>
          </a:xfrm>
          <a:prstGeom prst="upArrow">
            <a:avLst>
              <a:gd name="adj1" fmla="val 50000"/>
              <a:gd name="adj2" fmla="val 34096"/>
            </a:avLst>
          </a:prstGeom>
          <a:solidFill>
            <a:srgbClr val="00cc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53080" y="4724280"/>
            <a:ext cx="685800" cy="1143000"/>
          </a:xfrm>
          <a:prstGeom prst="up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04360" y="405432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BV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409440" y="419112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191120" y="320040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10800000">
            <a:off x="3733560" y="327636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00cc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772400" y="3809880"/>
            <a:ext cx="685800" cy="6858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229600" y="3581280"/>
            <a:ext cx="685800" cy="6858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16039200">
            <a:off x="7467480" y="3961800"/>
            <a:ext cx="228600" cy="838080"/>
          </a:xfrm>
          <a:prstGeom prst="upArrow">
            <a:avLst>
              <a:gd name="adj1" fmla="val 50000"/>
              <a:gd name="adj2" fmla="val 9165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5"/>
          <a:stretch/>
        </p:blipFill>
        <p:spPr>
          <a:xfrm>
            <a:off x="228600" y="1143000"/>
            <a:ext cx="1374840" cy="1447920"/>
          </a:xfrm>
          <a:prstGeom prst="rect">
            <a:avLst/>
          </a:prstGeom>
          <a:ln w="0">
            <a:noFill/>
          </a:ln>
        </p:spPr>
      </p:pic>
      <p:grpSp>
        <p:nvGrpSpPr>
          <p:cNvPr id="367" name=""/>
          <p:cNvGrpSpPr/>
          <p:nvPr/>
        </p:nvGrpSpPr>
        <p:grpSpPr>
          <a:xfrm>
            <a:off x="5703120" y="3198960"/>
            <a:ext cx="3447000" cy="1898280"/>
            <a:chOff x="5703120" y="3198960"/>
            <a:chExt cx="3447000" cy="1898280"/>
          </a:xfrm>
        </p:grpSpPr>
        <p:sp>
          <p:nvSpPr>
            <p:cNvPr id="368" name=""/>
            <p:cNvSpPr/>
            <p:nvPr/>
          </p:nvSpPr>
          <p:spPr>
            <a:xfrm rot="20989200">
              <a:off x="6122520" y="3544560"/>
              <a:ext cx="2935440" cy="1303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03120" y="3198960"/>
              <a:ext cx="322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Higher in a warmer climate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solidFill>
            <a:srgbClr val="0000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2013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re than half of global methane emis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e influenced by huma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~300 Tg CH4 y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thropogenic [EDGAR 3.2 Fast-Track 2000;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livier et 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, 200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~200 Tg CH4 y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iogenic sources [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ang et 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, 2004]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41320" y="217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62360" y="4800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705720" y="2133720"/>
            <a:ext cx="1224000" cy="8524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772400" y="4572000"/>
            <a:ext cx="95256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2590920" y="3282840"/>
          <a:ext cx="4495680" cy="273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3282840"/>
                    <a:ext cx="4495680" cy="27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5405760" y="3321000"/>
            <a:ext cx="12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AN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18240" y="3809880"/>
            <a:ext cx="184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LANDFILLS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WASTE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62800" y="4648320"/>
            <a:ext cx="132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GAS + 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89880" y="5334120"/>
            <a:ext cx="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C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5500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ICE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09480" y="541008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cc"/>
                </a:solidFill>
                <a:latin typeface="Arial"/>
              </a:rPr>
              <a:t>TERM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cc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63920" y="354960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WET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1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33920" y="28954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99"/>
                </a:solidFill>
                <a:latin typeface="Arial"/>
              </a:rPr>
              <a:t>BIOMASS BURNING + BIOFUEL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99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ff99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4327560"/>
            <a:ext cx="2667240" cy="10504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OBAL METH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UR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Tg CH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yr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5"/>
          <a:srcRect l="0" t="36399" r="20950" b="0"/>
          <a:stretch/>
        </p:blipFill>
        <p:spPr>
          <a:xfrm>
            <a:off x="4352760" y="1905120"/>
            <a:ext cx="1438560" cy="990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00400" y="3352680"/>
            <a:ext cx="45720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172200" y="2895480"/>
            <a:ext cx="53352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5029200"/>
            <a:ext cx="609480" cy="152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7010280" y="5703840"/>
            <a:ext cx="1403640" cy="1001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400800" y="5943600"/>
            <a:ext cx="5335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7"/>
          <a:srcRect l="0" t="13402" r="23699" b="23402"/>
          <a:stretch/>
        </p:blipFill>
        <p:spPr>
          <a:xfrm>
            <a:off x="4419720" y="5791320"/>
            <a:ext cx="1676160" cy="1042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rcRect l="5544" t="10866" r="5544" b="9156"/>
          <a:stretch/>
        </p:blipFill>
        <p:spPr>
          <a:xfrm>
            <a:off x="7848720" y="2971800"/>
            <a:ext cx="1279440" cy="7952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flipH="1">
            <a:off x="7467120" y="3352680"/>
            <a:ext cx="38124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9"/>
          <a:srcRect l="6023" t="12575" r="7228" b="11317"/>
          <a:stretch/>
        </p:blipFill>
        <p:spPr>
          <a:xfrm>
            <a:off x="1523880" y="2209680"/>
            <a:ext cx="1828800" cy="10670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flipV="1">
            <a:off x="4390920" y="4343040"/>
            <a:ext cx="48600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19720" y="4952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3809880"/>
            <a:ext cx="76212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served trend in Surface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ppb) 1990-2004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510372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rom 42 GMD stations with 8-yr minimum record is area-weighted, after averaging in ba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-90N, 30-60N, 0-30N, 0-30S, 30-9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76040" y="1598760"/>
          <a:ext cx="5462640" cy="350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" y="1598760"/>
                    <a:ext cx="546264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3" name="" descr=""/>
          <p:cNvPicPr/>
          <p:nvPr/>
        </p:nvPicPr>
        <p:blipFill>
          <a:blip r:embed="rId3"/>
          <a:srcRect l="0" t="0" r="6169" b="0"/>
          <a:stretch/>
        </p:blipFill>
        <p:spPr>
          <a:xfrm>
            <a:off x="2819520" y="3016080"/>
            <a:ext cx="2743200" cy="17067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661920" y="270180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MD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35520" y="1295280"/>
            <a:ext cx="264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Mean 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pp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38680" y="1484280"/>
            <a:ext cx="3505320" cy="47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ypotheses for leveling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iscussed in the literat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 Approach to steady-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. Source Change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thropoge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et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iomass bu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.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. Sink (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um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H precursor e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verhead 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0640" y="6324480"/>
            <a:ext cx="80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w does a 3-D forward model compare with GMD observ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1828800" y="1828800"/>
            <a:ext cx="7315200" cy="4952880"/>
            <a:chOff x="1828800" y="1828800"/>
            <a:chExt cx="7315200" cy="4952880"/>
          </a:xfrm>
        </p:grpSpPr>
        <p:pic>
          <p:nvPicPr>
            <p:cNvPr id="169" name="" descr=""/>
            <p:cNvPicPr/>
            <p:nvPr/>
          </p:nvPicPr>
          <p:blipFill>
            <a:blip r:embed="rId1"/>
            <a:srcRect l="2256" t="3843" r="3548" b="3843"/>
            <a:stretch/>
          </p:blipFill>
          <p:spPr>
            <a:xfrm>
              <a:off x="2514600" y="2424240"/>
              <a:ext cx="6629400" cy="43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3930840" y="2209680"/>
              <a:ext cx="406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obal Mean Surface Methane (pp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59800" y="5867280"/>
              <a:ext cx="14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BSERV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28800" y="1828800"/>
              <a:ext cx="3124080" cy="1752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371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del with constant emissions largely captur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served trend in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during the 1990s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027040" y="4167360"/>
            <a:ext cx="3943440" cy="1549800"/>
            <a:chOff x="5027040" y="4167360"/>
            <a:chExt cx="3943440" cy="1549800"/>
          </a:xfrm>
        </p:grpSpPr>
        <p:sp>
          <p:nvSpPr>
            <p:cNvPr id="175" name=""/>
            <p:cNvSpPr/>
            <p:nvPr/>
          </p:nvSpPr>
          <p:spPr>
            <a:xfrm>
              <a:off x="6910560" y="4167360"/>
              <a:ext cx="0" cy="617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27040" y="4708440"/>
              <a:ext cx="3943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aptures flattening post-1998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but underestimates abund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Emissions problem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58920" y="1398600"/>
            <a:ext cx="50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OZART-2  [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Horowitz et al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., 200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39760" y="76320"/>
            <a:ext cx="1055520" cy="10666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6320" y="1828800"/>
            <a:ext cx="4114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C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.9°x1.9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8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DGAR v.2.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EDG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mis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 199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478400" y="1598760"/>
            <a:ext cx="4405320" cy="32461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54080" y="1598760"/>
            <a:ext cx="4405320" cy="32461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as and Correlation vs. GMD Surface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1990-2004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2064240" y="5334120"/>
            <a:ext cx="5188320" cy="9169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AS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ulation with constant emiss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estimates interhemispheric gradi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lates poorly at high northern latit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37360" y="18288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4960" y="1386000"/>
            <a:ext cx="1946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n Bias (pp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36680" y="1371600"/>
            <a:ext cx="34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timates for Changing Methane Sources in the 1990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04920" y="2666880"/>
          <a:ext cx="388620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666880"/>
                    <a:ext cx="38862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2362320" y="914400"/>
          <a:ext cx="1676160" cy="914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914400"/>
                    <a:ext cx="1676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885240" y="24526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-544320" y="3980520"/>
            <a:ext cx="1323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 C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y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9840" y="649116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GAR anthropogenic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52280" y="914400"/>
          <a:ext cx="2057400" cy="12193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914400"/>
                    <a:ext cx="20574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 flipV="1">
            <a:off x="2057400" y="23940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03400" y="1828800"/>
            <a:ext cx="31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genic adjusted to main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total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1040" y="60958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600200" y="5867280"/>
            <a:ext cx="2590920" cy="520920"/>
            <a:chOff x="1600200" y="5867280"/>
            <a:chExt cx="2590920" cy="520920"/>
          </a:xfrm>
        </p:grpSpPr>
        <p:sp>
          <p:nvSpPr>
            <p:cNvPr id="201" name=""/>
            <p:cNvSpPr/>
            <p:nvPr/>
          </p:nvSpPr>
          <p:spPr>
            <a:xfrm>
              <a:off x="1600200" y="6172200"/>
              <a:ext cx="25909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63120" y="6019920"/>
              <a:ext cx="814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AN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22520" y="5867280"/>
              <a:ext cx="0" cy="30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68800" y="5889600"/>
              <a:ext cx="0" cy="30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523880" y="1143000"/>
            <a:ext cx="7620120" cy="4114800"/>
            <a:chOff x="1523880" y="1143000"/>
            <a:chExt cx="7620120" cy="4114800"/>
          </a:xfrm>
        </p:grpSpPr>
        <p:grpSp>
          <p:nvGrpSpPr>
            <p:cNvPr id="206" name=""/>
            <p:cNvGrpSpPr/>
            <p:nvPr/>
          </p:nvGrpSpPr>
          <p:grpSpPr>
            <a:xfrm>
              <a:off x="4343400" y="1143000"/>
              <a:ext cx="4800600" cy="4114800"/>
              <a:chOff x="4343400" y="1143000"/>
              <a:chExt cx="4800600" cy="4114800"/>
            </a:xfrm>
          </p:grpSpPr>
          <p:pic>
            <p:nvPicPr>
              <p:cNvPr id="207" name="" descr=""/>
              <p:cNvPicPr/>
              <p:nvPr/>
            </p:nvPicPr>
            <p:blipFill>
              <a:blip r:embed="rId7"/>
              <a:srcRect l="2256" t="3843" r="2256" b="1272"/>
              <a:stretch/>
            </p:blipFill>
            <p:spPr>
              <a:xfrm>
                <a:off x="4343400" y="2057400"/>
                <a:ext cx="4800600" cy="320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4725720" y="1143000"/>
                <a:ext cx="4286520" cy="95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ter-annually varying wetland emissi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990-1998 from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Wang et al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 [2004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Tg CH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yr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); distribution chang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1523880" y="2666880"/>
              <a:ext cx="4876920" cy="1447920"/>
              <a:chOff x="1523880" y="2666880"/>
              <a:chExt cx="4876920" cy="1447920"/>
            </a:xfrm>
          </p:grpSpPr>
          <p:sp>
            <p:nvSpPr>
              <p:cNvPr id="210" name=""/>
              <p:cNvSpPr/>
              <p:nvPr/>
            </p:nvSpPr>
            <p:spPr>
              <a:xfrm>
                <a:off x="1523880" y="2666880"/>
                <a:ext cx="2743200" cy="1447920"/>
              </a:xfrm>
              <a:prstGeom prst="ellipse">
                <a:avLst/>
              </a:prstGeom>
              <a:noFill/>
              <a:ln w="572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4191120" y="3124080"/>
                <a:ext cx="2209680" cy="0"/>
              </a:xfrm>
              <a:prstGeom prst="line">
                <a:avLst/>
              </a:prstGeom>
              <a:ln w="5724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2" name=""/>
          <p:cNvGrpSpPr/>
          <p:nvPr/>
        </p:nvGrpSpPr>
        <p:grpSpPr>
          <a:xfrm>
            <a:off x="5410080" y="3581280"/>
            <a:ext cx="3505320" cy="2363400"/>
            <a:chOff x="5410080" y="3581280"/>
            <a:chExt cx="3505320" cy="2363400"/>
          </a:xfrm>
        </p:grpSpPr>
        <p:sp>
          <p:nvSpPr>
            <p:cNvPr id="213" name=""/>
            <p:cNvSpPr/>
            <p:nvPr/>
          </p:nvSpPr>
          <p:spPr>
            <a:xfrm>
              <a:off x="7010280" y="3581280"/>
              <a:ext cx="1905120" cy="7621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10080" y="5302080"/>
              <a:ext cx="32004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pply climatological mea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224 Tg yr</a:t>
              </a:r>
              <a:r>
                <a:rPr b="1" lang="en-US" sz="1800" spc="-1" strike="noStrike" baseline="30000">
                  <a:solidFill>
                    <a:srgbClr val="ff0000"/>
                  </a:solidFill>
                  <a:latin typeface="Arial"/>
                </a:rPr>
                <a:t>-1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) post-199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7924680" y="4419360"/>
              <a:ext cx="152640" cy="99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600200" y="6226200"/>
            <a:ext cx="7086600" cy="390600"/>
            <a:chOff x="1600200" y="6226200"/>
            <a:chExt cx="7086600" cy="390600"/>
          </a:xfrm>
        </p:grpSpPr>
        <p:grpSp>
          <p:nvGrpSpPr>
            <p:cNvPr id="217" name=""/>
            <p:cNvGrpSpPr/>
            <p:nvPr/>
          </p:nvGrpSpPr>
          <p:grpSpPr>
            <a:xfrm>
              <a:off x="1600200" y="6226200"/>
              <a:ext cx="7086600" cy="326880"/>
              <a:chOff x="1600200" y="6226200"/>
              <a:chExt cx="7086600" cy="326880"/>
            </a:xfrm>
          </p:grpSpPr>
          <p:sp>
            <p:nvSpPr>
              <p:cNvPr id="218" name=""/>
              <p:cNvSpPr/>
              <p:nvPr/>
            </p:nvSpPr>
            <p:spPr>
              <a:xfrm>
                <a:off x="1600200" y="6400800"/>
                <a:ext cx="708660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611360" y="6226200"/>
                <a:ext cx="0" cy="30492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686800" y="6248520"/>
                <a:ext cx="0" cy="30456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4493520" y="6248520"/>
              <a:ext cx="1483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ANTH + B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223040" y="1257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660920" y="684360"/>
            <a:ext cx="4405320" cy="32461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257800" y="3276720"/>
            <a:ext cx="304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14400" y="1447920"/>
            <a:ext cx="304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rcRect l="2256" t="3843" r="4840" b="3843"/>
          <a:stretch/>
        </p:blipFill>
        <p:spPr>
          <a:xfrm>
            <a:off x="304920" y="99072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844000" y="2362320"/>
            <a:ext cx="8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4662360" y="3581280"/>
            <a:ext cx="4405320" cy="32464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 rot="16200000">
            <a:off x="3858840" y="1856880"/>
            <a:ext cx="1946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n Bias (pp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31840" y="4800600"/>
            <a:ext cx="34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as &amp; Correlation vs. GMD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observations: 1990-2004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303120" y="4414680"/>
            <a:ext cx="4421160" cy="14655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TH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ulation with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time-varying EDGAR 3.2 emis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s abundance post-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hemispheric gradient too hi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or correlation at high N latit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rcRect l="0" t="0" r="0" b="6112"/>
          <a:stretch/>
        </p:blipFill>
        <p:spPr>
          <a:xfrm>
            <a:off x="4662360" y="685800"/>
            <a:ext cx="4405320" cy="30481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14400" y="1447920"/>
            <a:ext cx="3049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1600200"/>
            <a:ext cx="3045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3858840" y="1856880"/>
            <a:ext cx="1946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n Bias (pp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4419720"/>
            <a:ext cx="3813120" cy="17398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ANTH+BIO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ulation with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time-varying EDGAR 3.2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+ wetland emiss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mean surface co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hemispheric gradi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lation at high N latit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as &amp; Correlation vs. GMD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observations: 1990-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rcRect l="0" t="4694" r="0" b="0"/>
          <a:stretch/>
        </p:blipFill>
        <p:spPr>
          <a:xfrm>
            <a:off x="4662360" y="3581280"/>
            <a:ext cx="4405320" cy="309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rcRect l="1474" t="3843" r="1474" b="3843"/>
          <a:stretch/>
        </p:blipFill>
        <p:spPr>
          <a:xfrm>
            <a:off x="304920" y="990720"/>
            <a:ext cx="4114800" cy="30160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608560" y="2438280"/>
            <a:ext cx="135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ANTH+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31840" y="4800600"/>
            <a:ext cx="34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36120" y="6491160"/>
            <a:ext cx="3856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Latitu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 rot="16200000">
            <a:off x="-2134800" y="3152520"/>
            <a:ext cx="46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hane Concentration (nmol/mol = pp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00480" y="152280"/>
            <a:ext cx="48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 (GMD)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ASE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TH    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ANTH+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80880" y="595440"/>
            <a:ext cx="6882480" cy="1608120"/>
            <a:chOff x="380880" y="595440"/>
            <a:chExt cx="6882480" cy="160812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rcRect l="3330" t="4339" r="3489" b="79173"/>
            <a:stretch/>
          </p:blipFill>
          <p:spPr>
            <a:xfrm>
              <a:off x="755640" y="595440"/>
              <a:ext cx="648828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5014440" y="1662120"/>
              <a:ext cx="22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ert (82.4N,62.5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0880" y="685800"/>
              <a:ext cx="6098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0880" y="1111320"/>
              <a:ext cx="6098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8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0880" y="1555920"/>
              <a:ext cx="6098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8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380880" y="3567240"/>
            <a:ext cx="6880320" cy="1609560"/>
            <a:chOff x="380880" y="3567240"/>
            <a:chExt cx="6880320" cy="1609560"/>
          </a:xfrm>
        </p:grpSpPr>
        <p:pic>
          <p:nvPicPr>
            <p:cNvPr id="253" name="" descr=""/>
            <p:cNvPicPr/>
            <p:nvPr/>
          </p:nvPicPr>
          <p:blipFill>
            <a:blip r:embed="rId2"/>
            <a:srcRect l="2531" t="61169" r="3799" b="21705"/>
            <a:stretch/>
          </p:blipFill>
          <p:spPr>
            <a:xfrm>
              <a:off x="690480" y="3567240"/>
              <a:ext cx="655344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4425840" y="46195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he Island (4.7S,55.2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0880" y="3657600"/>
              <a:ext cx="6098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8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0880" y="4060800"/>
              <a:ext cx="6098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7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0880" y="4506840"/>
              <a:ext cx="6098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7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80880" y="2119320"/>
            <a:ext cx="6927840" cy="1603440"/>
            <a:chOff x="380880" y="2119320"/>
            <a:chExt cx="6927840" cy="1603440"/>
          </a:xfrm>
        </p:grpSpPr>
        <p:pic>
          <p:nvPicPr>
            <p:cNvPr id="259" name="" descr=""/>
            <p:cNvPicPr/>
            <p:nvPr/>
          </p:nvPicPr>
          <p:blipFill>
            <a:blip r:embed="rId3"/>
            <a:srcRect l="2815" t="80533" r="2815" b="2655"/>
            <a:stretch/>
          </p:blipFill>
          <p:spPr>
            <a:xfrm>
              <a:off x="679320" y="2119320"/>
              <a:ext cx="662940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4576320" y="3110040"/>
              <a:ext cx="268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dway (28.2N,177.4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0880" y="2209680"/>
              <a:ext cx="609840" cy="137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8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8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8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7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7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7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0880" y="4952880"/>
            <a:ext cx="6931440" cy="1739880"/>
            <a:chOff x="380880" y="4952880"/>
            <a:chExt cx="6931440" cy="1739880"/>
          </a:xfrm>
        </p:grpSpPr>
        <p:pic>
          <p:nvPicPr>
            <p:cNvPr id="263" name="" descr=""/>
            <p:cNvPicPr/>
            <p:nvPr/>
          </p:nvPicPr>
          <p:blipFill>
            <a:blip r:embed="rId4"/>
            <a:srcRect l="2498" t="61793" r="3753" b="20851"/>
            <a:stretch/>
          </p:blipFill>
          <p:spPr>
            <a:xfrm>
              <a:off x="690480" y="5035680"/>
              <a:ext cx="6553440" cy="15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4348800" y="5948280"/>
              <a:ext cx="291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uth Pole (89.9S,24.8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10800" y="6324480"/>
              <a:ext cx="686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09440" y="6310440"/>
              <a:ext cx="686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714560" y="6310440"/>
              <a:ext cx="686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25800" y="6310440"/>
              <a:ext cx="686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0880" y="4952880"/>
              <a:ext cx="609840" cy="137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7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7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7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6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6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6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628760" y="4767120"/>
            <a:ext cx="120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ap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istin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ea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ycles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M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6095520" y="609480"/>
            <a:ext cx="3117960" cy="1678680"/>
            <a:chOff x="6095520" y="609480"/>
            <a:chExt cx="3117960" cy="1678680"/>
          </a:xfrm>
        </p:grpSpPr>
        <p:sp>
          <p:nvSpPr>
            <p:cNvPr id="272" name=""/>
            <p:cNvSpPr/>
            <p:nvPr/>
          </p:nvSpPr>
          <p:spPr>
            <a:xfrm>
              <a:off x="7238880" y="609480"/>
              <a:ext cx="197460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Model wi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BIO wetla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mprove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1)high N latitu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seasonal cy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>
              <a:off x="6095520" y="1523520"/>
              <a:ext cx="1219320" cy="22860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190760" y="2514600"/>
            <a:ext cx="4316760" cy="380880"/>
            <a:chOff x="4190760" y="2514600"/>
            <a:chExt cx="4316760" cy="380880"/>
          </a:xfrm>
        </p:grpSpPr>
        <p:sp>
          <p:nvSpPr>
            <p:cNvPr id="275" name=""/>
            <p:cNvSpPr/>
            <p:nvPr/>
          </p:nvSpPr>
          <p:spPr>
            <a:xfrm>
              <a:off x="7424640" y="251460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2)tren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4190760" y="2743200"/>
              <a:ext cx="3276360" cy="15228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934320" y="3381480"/>
            <a:ext cx="1842480" cy="1952640"/>
            <a:chOff x="6934320" y="3381480"/>
            <a:chExt cx="1842480" cy="1952640"/>
          </a:xfrm>
        </p:grpSpPr>
        <p:sp>
          <p:nvSpPr>
            <p:cNvPr id="278" name=""/>
            <p:cNvSpPr/>
            <p:nvPr/>
          </p:nvSpPr>
          <p:spPr>
            <a:xfrm>
              <a:off x="7489800" y="3381480"/>
              <a:ext cx="1287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3)low b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at S Pole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especial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post-199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934320" y="4572000"/>
              <a:ext cx="838080" cy="76212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6:35:35Z</dcterms:created>
  <dc:creator>Arlene Fiore</dc:creator>
  <dc:description/>
  <dc:language>en-US</dc:language>
  <cp:lastModifiedBy>aff</cp:lastModifiedBy>
  <dcterms:modified xsi:type="dcterms:W3CDTF">2006-06-20T13:16:20Z</dcterms:modified>
  <cp:revision>484</cp:revision>
  <dc:subject/>
  <dc:title>Slide 1</dc:title>
</cp:coreProperties>
</file>