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9088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08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P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01240" y="70596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Click to move the slide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21960" y="4470120"/>
            <a:ext cx="5064120" cy="4233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914280" y="-36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94060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oxification and Substance Abuse 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14280" y="894060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650053-9260-4DD0-8BA1-9E3F7CCBD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0" y="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P 4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oxification and Substance Abuse Treat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391464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9FB55B-1581-468C-952F-0C6AB80F82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1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21960" y="4470120"/>
            <a:ext cx="5064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0" y="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P 4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oxification and Substance Abuse Treat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391464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FB12FE-857A-4B0A-8099-320E587496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1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470120"/>
            <a:ext cx="5064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0" y="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P 4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oxification and Substance Abuse Treat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91464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C8E229-5B10-491F-8B47-B1C3D9EED7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1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21960" y="4470120"/>
            <a:ext cx="5064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0" y="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P 4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oxification and Substance Abuse Treat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391464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E8F87F-C830-4090-8228-FBD37A5CA8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1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21960" y="4470120"/>
            <a:ext cx="5064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0" y="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P 4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oxification and Substance Abuse Treat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391464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ADE009-3F21-4333-8B13-8054E477D6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1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1960" y="4470120"/>
            <a:ext cx="5064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0" y="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P 4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oxification and Substance Abuse Treat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91464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09F079-B542-48A0-AB88-ADBCDE77BB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1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21960" y="4470120"/>
            <a:ext cx="5064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0" y="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P 4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oxification and Substance Abuse Treat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3914640" y="8940960"/>
            <a:ext cx="2994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B28A13-95D9-4A04-87C2-D95A5AC79F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1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21960" y="4470120"/>
            <a:ext cx="50641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99200"/>
            <a:ext cx="8305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9920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3480" y="439920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5920" y="220968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4280" y="220968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9920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5920" y="439920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4280" y="439920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2096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4866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9920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2096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3480" y="439920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99200"/>
            <a:ext cx="8305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99200"/>
            <a:ext cx="8305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9920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3480" y="439920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5920" y="220968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4280" y="220968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9920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5920" y="439920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4280" y="4399200"/>
            <a:ext cx="2674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4866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9920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3480" y="439920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2209680"/>
            <a:ext cx="4053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99200"/>
            <a:ext cx="8305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bird gray"/>
          <p:cNvPicPr/>
          <p:nvPr/>
        </p:nvPicPr>
        <p:blipFill>
          <a:blip r:embed="rId2">
            <a:grayscl/>
          </a:blip>
          <a:stretch/>
        </p:blipFill>
        <p:spPr>
          <a:xfrm>
            <a:off x="7391520" y="0"/>
            <a:ext cx="1752480" cy="1401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Click to edit the title text format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2" marL="1143000" indent="-228600">
              <a:spcBef>
                <a:spcPts val="700"/>
              </a:spcBef>
              <a:buClr>
                <a:srgbClr val="cc0099"/>
              </a:buClr>
              <a:buFont typeface="Frutiger 55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3" name="Text Box 24"/>
          <p:cNvSpPr/>
          <p:nvPr/>
        </p:nvSpPr>
        <p:spPr>
          <a:xfrm>
            <a:off x="7238880" y="6477120"/>
            <a:ext cx="17528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utiger 55"/>
              </a:rPr>
              <a:t>Module 1–</a:t>
            </a:r>
            <a:fld id="{FC582FBD-8D58-40C4-9952-EFCE64C4F36F}" type="slidenum">
              <a:rPr b="0" lang="en-US" sz="1000" spc="-1" strike="noStrike">
                <a:solidFill>
                  <a:srgbClr val="ffffff"/>
                </a:solidFill>
                <a:latin typeface="Frutiger 55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26"/>
          <p:cNvSpPr/>
          <p:nvPr/>
        </p:nvSpPr>
        <p:spPr>
          <a:xfrm flipH="1">
            <a:off x="456840" y="1371600"/>
            <a:ext cx="800100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Text Box 28"/>
          <p:cNvSpPr/>
          <p:nvPr/>
        </p:nvSpPr>
        <p:spPr>
          <a:xfrm>
            <a:off x="7696080" y="6477120"/>
            <a:ext cx="1143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9F7B-8333-406E-9883-D8E56C8FFFAA}" type="slidenum">
              <a:rPr b="0" lang="en-US" sz="800" spc="-1" strike="noStrike">
                <a:solidFill>
                  <a:srgbClr val="333399"/>
                </a:solidFill>
                <a:latin typeface="Frutiger 55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30"/>
          <p:cNvSpPr/>
          <p:nvPr/>
        </p:nvSpPr>
        <p:spPr>
          <a:xfrm>
            <a:off x="380880" y="6477120"/>
            <a:ext cx="289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Frutiger 55"/>
              </a:rPr>
              <a:t>TIP45 Training Curriculum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66" descr="bird gra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52"/>
          <p:cNvSpPr/>
          <p:nvPr/>
        </p:nvSpPr>
        <p:spPr>
          <a:xfrm>
            <a:off x="990720" y="5969160"/>
            <a:ext cx="4419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U.S. DEPARTMENT OF HEALTH AND HUMAN SERVICES</a:t>
            </a:r>
            <a:br>
              <a:rPr sz="1000"/>
            </a:b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Substance Abuse and Mental Health Services Administration</a:t>
            </a:r>
            <a:br>
              <a:rPr sz="1000"/>
            </a:b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enter for Substance Abuse Treatment</a:t>
            </a:r>
            <a:br>
              <a:rPr sz="1000"/>
            </a:b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www.samhsa.gov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1065" descr="DHHSlogo 2"/>
          <p:cNvPicPr/>
          <p:nvPr/>
        </p:nvPicPr>
        <p:blipFill>
          <a:blip r:embed="rId3"/>
          <a:stretch/>
        </p:blipFill>
        <p:spPr>
          <a:xfrm>
            <a:off x="304920" y="5943600"/>
            <a:ext cx="676080" cy="682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Click to edit the title text format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2" marL="1143000" indent="-228600">
              <a:spcBef>
                <a:spcPts val="700"/>
              </a:spcBef>
              <a:buClr>
                <a:srgbClr val="cc0099"/>
              </a:buClr>
              <a:buFont typeface="Frutiger 55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518148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Frutiger 55"/>
              </a:rPr>
              <a:t>Module 4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Frutiger 55"/>
              </a:rPr>
              <a:t>Physical Detoxification Services for Withdrawal From Specific Substances</a:t>
            </a:r>
            <a:endParaRPr b="0" lang="en-US" sz="34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Frutiger 55"/>
              </a:rPr>
              <a:t>Common Medications Used to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Frutiger 55"/>
              </a:rPr>
              <a:t>Manage Opioid Withdrawal</a:t>
            </a:r>
            <a:endParaRPr b="0" lang="en-US" sz="36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Methadone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lonidine 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Buprenorphine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Rapid and ultrarapid detoxification (narcotics)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Benzodiazepines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and Other Sedative Hypnotics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Important factors for success in detox: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39480" indent="-3394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tart detox during period of low external stressor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39480" indent="-3394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atient must be committed to taper off substance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39480" indent="-3394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evelop a plan for managing any underlying anxiety disorder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39480" indent="-3394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Frequent patient contact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8664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Frutiger 55"/>
              </a:rPr>
              <a:t>Stimulants: Cocaine, Crack Cocaine, Amphetamines</a:t>
            </a:r>
            <a:br>
              <a:rPr sz="3400"/>
            </a:br>
            <a:br>
              <a:rPr sz="3400"/>
            </a:b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Withdrawal symptoms: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0766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Depression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Hypersomnia or insomnia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Fatigue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Anxiety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Irritability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2514240"/>
            <a:ext cx="40766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Poor concentration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Psychomotor retardation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Increased appetite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Paranoia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Drug craving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Inhalants/Solvents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Types</a:t>
            </a: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	</a:t>
            </a: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	</a:t>
            </a: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	</a:t>
            </a: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 Example</a:t>
            </a: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	</a:t>
            </a: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	</a:t>
            </a: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 Chemicals Present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Adhesives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Airplane Glue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Ethyl Acetate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Aerosols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Spray paint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Butane, propane, 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  fluorocarbon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Cleaning agents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Spot remover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Xylene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Solvents and gases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Paint thinner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Toluene, methylene 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    chlorid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Food products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Whipped cream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 Nitrous oxide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Symptoms of Inhalants and Solvents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utiger 55"/>
              </a:rPr>
              <a:t>Withdrawal symptoms: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elirium and tremor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Weaknes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Tremor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Weight los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nattentive behavior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epression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7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utiger 55"/>
              </a:rPr>
              <a:t>Other medical complications: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mpaired cognitive, motor, and sensory functioning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nternal organ damage, including heart lungs, kidneys, liver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Medical Management of Inhalant Abuse and Dependence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rovide safe environment 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rovide environment free from inhalant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rovide supportive care, including ample sleep and well-balance diet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etermine if patient is abusing other substance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Assess mental statu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rovide appropriate therapy and intervention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Nicotine Withdrawal Symptoms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epressed mood (dysphoria) 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nsomnia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rritability, frustration, anger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Anxiety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ifficulty concentrating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Restlessnes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ecreased heart rate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ncreased appetite or weight gain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Medical Management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of Nicotine Withdrawal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Self-help interventions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Behavioral interventions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Nicotine replacement therapy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Bupropion SR/Sustained Release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ombination therapy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The U.S. Public Health Service’s Nicotine Intervention: The 5 “As”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Frutiger 55"/>
              </a:rPr>
              <a:t>Ask </a:t>
            </a: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about tobacco use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Frutiger 55"/>
              </a:rPr>
              <a:t>Advise</a:t>
            </a: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 to quit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Frutiger 55"/>
              </a:rPr>
              <a:t>Assess</a:t>
            </a: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 willingness to make a quit attempt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Frutiger 55"/>
              </a:rPr>
              <a:t>Assist</a:t>
            </a: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 in the quit attempt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Frutiger 55"/>
              </a:rPr>
              <a:t>Arrange</a:t>
            </a: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 follow-up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When a Patient in Detox or Substance Abuse Treatment is a Smoker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resent a supportive nonjudgmental attitude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evelop a therapeutic alliance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Emphasize relapse (from not smoking) is common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iscuss withdrawal symptoms from nicotine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rovide strategies to avoid weight gain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tress the importance of smoke-free environment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Refer patient to a smoking cessation program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Module 4 Objectives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dentify biochemical markers and their use in patient screening and assessment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Describe key concepts for treatment regimens for detox from specific substance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Explain why the management of polydrug abuse and the use of alternative approaches to detox are important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dentify special considerations for special populations in the detox proces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333399"/>
                </a:solidFill>
                <a:latin typeface="Frutiger 55"/>
              </a:rPr>
              <a:t>Marijuana</a:t>
            </a:r>
            <a:endParaRPr b="0" lang="en-US" sz="40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THC abstinence syndrome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Symptoms include: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Anxiety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Restlessnes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rritability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leep disturbance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Change in appetite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No medical complications of withdrawal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333399"/>
                </a:solidFill>
                <a:latin typeface="Frutiger 55"/>
              </a:rPr>
              <a:t>Anabolic Steroids</a:t>
            </a:r>
            <a:endParaRPr b="0" lang="en-US" sz="40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ubject to abus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Aggressive, manic-like behavior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Withdrawal symptoms include: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Fatigue, depression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Restlessness, insomnia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Anorexia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Reduced sex driv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Headaches, nausea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ide effects can be reversed and may include: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Urinary tract infection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kin blistering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Rednes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welling of hands and feet (edema)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Behavioral disturbance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There is no detox protocol for steroid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333399"/>
                </a:solidFill>
                <a:latin typeface="Frutiger 55"/>
              </a:rPr>
              <a:t>Club Drugs</a:t>
            </a:r>
            <a:endParaRPr b="0" lang="en-US" sz="40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A diverse class including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GHB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Ecstasy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Rohypnol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Used in nightclubs and “raves”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Withdrawal symptoms may include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Intoxication 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evere intoxication with overdose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Have destructive effects on the nervous system and on mental health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Best Practices in the Management of Polydrug Abuse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rioritize substances for each patient according to withdrawal severity 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Alcohol and sedative hypnotics have the most severe withdrawal symptom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Opioid detox is the next priority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ome substances will not require treatment during detox, including: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60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Stimulant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60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Marijuana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60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Hallucinogens 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60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Inhalant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onsiderations for Pregnant Women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76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Detox on demand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Women-centered medical service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Transportation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Childcare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Counseling and case management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Access to drug-free, safe, affordable housing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6480" y="1523520"/>
            <a:ext cx="407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Help with legal, nutritional and other social service need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Ensure health and safety of both mother and fetu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Clarify risks and benefits of any medications (informed consent)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Protocol for withdrawal may vary with each pregnancy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onsiderations for Older Adults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upportive, nonconfrontational age-specific group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creen for depression, grief, and los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Provide linkages to specialized service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Alcohol and drug disorders are more severe with elderly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Older adults are at risk for co-occurring disorder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Ongoing assessments and monitoring for medical problems common to older adult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onsiderations for People with Disabilities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76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Elimination of barriers to treatment: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Attitudinal barriers 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Discriminatory policies, practices, and procedure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Communication barrier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Architectural barrier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Clarify definitions of terms: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Disease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Impairment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Disability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Functional capacitie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Functional limitation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9532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Four main categories of impairments: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Physical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Sensory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Cognitive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Affective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Detox programs must: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Routinely screen for disabilities and co-occurring medical and/or psychiatric condition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Be compliant with all Federal law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Provide access to needed service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Coordinate treatment needs outside of program’s expertise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Know local and national disability resource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onsiderations for Racial/Ethnic Minorities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African Americans: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Are at greater risk for diabetes and high blood pressur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ay display distrust with counselors of a different cultur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ay be at greater risk of toxic side effects with antidepressant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Asians and Pacific Islanders: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Diverse group with many languages, beliefs, practices, and value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ay show concern for counselors’ credibility, trustworthiness, and cultural sensitivity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Asians have greater sensitivity to alcohol than white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moking rates tend to be high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ome detox meds are metabolized more slowly for those of Asian descent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Important to use traditional healing method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Discuss how patients feel about Western medicin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onsiderations for Racial/Ethnic Minorities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Native Americans: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Have great diversity in practices, languages, traditions, beliefs, and values (more than 500 American Indian tribes)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Have the highest rates of alcohol and drug use among all racial/ethnic group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Gain trust by not rushing the process; be nonconfrontational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Use fables, illustrative stories, and “Talking Circles”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Avoiding eye contact is traditional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Fetal Alcohol Syndrome is 33 times higher than national average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Frame 12 Steps in terms of a circle, not a ladder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Tend to seek treatment later and have more medical complication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Hispanic/Latino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The largest racial ethnic minority group in the U.S.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Helpful to assess patient’s level of acculturation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Language competency is helpful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Family is very important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Frutiger 55"/>
              </a:rPr>
              <a:t>Alcohol and drug use is often viewed as a moral weakness</a:t>
            </a:r>
            <a:endParaRPr b="0" lang="en-US" sz="1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onsiderations for Other Populations</a:t>
            </a: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Gay, Lesbian, and Bisexual Individuals: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onitor feeling among staff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Important that staff not impose their beliefs and values on patient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Help patients heal from negative experiences of homophobia and heterosexism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Help patient accept personal power over their own live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Adolescent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Physical dependence not as severe; response to detox is more rapid than for adult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Retention is a problem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Peer relationships play a large role in treatment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75% of those reporting steroid use are adolescent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lvl="1" marL="743040" indent="-285840">
              <a:spcBef>
                <a:spcPts val="499"/>
              </a:spcBef>
              <a:buClr>
                <a:srgbClr val="9a9ade"/>
              </a:buClr>
              <a:buFont typeface="Frutiger 55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Use of club drugs is higher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Biochemical Markers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Frutiger 55"/>
              </a:rPr>
              <a:t>Lab tests that detect the presence of alcohol or other drugs</a:t>
            </a:r>
            <a:endParaRPr b="0" lang="en-US" sz="26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4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Frutiger 55"/>
              </a:rPr>
              <a:t>Used to </a:t>
            </a:r>
            <a:r>
              <a:rPr b="0" i="1" lang="en-US" sz="2600" spc="-1" strike="noStrike">
                <a:solidFill>
                  <a:srgbClr val="333399"/>
                </a:solidFill>
                <a:latin typeface="Frutiger 55"/>
              </a:rPr>
              <a:t>support</a:t>
            </a:r>
            <a:r>
              <a:rPr b="0" lang="en-US" sz="2600" spc="-1" strike="noStrike">
                <a:solidFill>
                  <a:srgbClr val="333399"/>
                </a:solidFill>
                <a:latin typeface="Frutiger 55"/>
              </a:rPr>
              <a:t> a diagnosis</a:t>
            </a:r>
            <a:endParaRPr b="0" lang="en-US" sz="26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4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Frutiger 55"/>
              </a:rPr>
              <a:t>Used for forensic purposes</a:t>
            </a:r>
            <a:endParaRPr b="0" lang="en-US" sz="26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4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Frutiger 55"/>
              </a:rPr>
              <a:t>Used to detect use of alcohol or drugs during treatment</a:t>
            </a:r>
            <a:endParaRPr b="0" lang="en-US" sz="26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4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Frutiger 55"/>
              </a:rPr>
              <a:t>Can serve as a motivational enhancement</a:t>
            </a:r>
            <a:endParaRPr b="0" lang="en-US" sz="26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4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Frutiger 55"/>
              </a:rPr>
              <a:t>Can help in moving patient from contemplation to action</a:t>
            </a:r>
            <a:endParaRPr b="0" lang="en-US" sz="26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48664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Considerations for Incarcerated or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Frutiger 55"/>
              </a:rPr>
              <a:t>Detained Individuals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ubstance use disorders are common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70–80% of inmates have experienced regular drug use or had committed drug offense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Abrupt withdrawal from alcohol can be life-threatening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Abrupt withdrawal from opioids or benzos can cause great stres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Restrictions on methadone are common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Substance abuse continues during incarceration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Access to detox continues to be a problem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Most Common Types of Biochemical Markers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Blood alcohol level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Breath alcohol level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Urine drug screens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Gama-glutamyltransferase (GGT)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Carbohydrate-deficient transferrin (CDT)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utiger 55"/>
              </a:rPr>
              <a:t>Mean corpuscular volume (MCV)</a:t>
            </a:r>
            <a:endParaRPr b="0" lang="en-US" sz="28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Alcohol Intoxication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766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Blood Alcohol Level</a:t>
            </a: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20–100 mg percent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101–200 mg percent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201–300 mg percent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6480" y="15998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Clinical Pictur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ood and behavior change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Reduced coordination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Impaired ability to drive a car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Reduced coordination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peech impairment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Trouble walking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General impairment in thinking and judgment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arked impairment of thinking, memory, and coordination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arked reduction in level of alertnes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emory blackout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Nausea, vomiting, blackout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Alcohol Intoxication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76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Blood Alcohol Level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301–400 mg percent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401–800 mg percent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6480" y="1447560"/>
            <a:ext cx="4076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Clinical Pictur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Reduction of body temp and blood pressur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Excessive sleepines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Amnesia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Nausea and vomiting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Coma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erious decrease in pulse, temp, blood pressure, and breathing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Incontinenc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Death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7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Alcohol Withdrawal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Restlessness, irritability, anxiety, and agitation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Anorexia, nausea, and vomiting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Tremors, elevated heart rate, and increased bp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Insomnia, intense dreaming, and nightmare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35880" indent="-3358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Poor concentration, impaired memory, and judgment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480" y="167616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Increased sensitivity to sound, light, and tactile sensation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Hallucinations—auditory, visual, or tactile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Delusion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Grand mal seizures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Hyperthermia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utiger 55"/>
              </a:rPr>
              <a:t>Delirium</a:t>
            </a:r>
            <a:endParaRPr b="0" lang="en-US" sz="24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Opioid Intoxication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76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Frutiger 55"/>
              </a:rPr>
              <a:t>Opioid Intoxication Signs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Slow pulse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Low blood pressure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Low body temp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Sedation 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Pinpoint pupils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Slowed movement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Slurred speech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Head nodding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19360" y="152388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66"/>
                </a:solidFill>
                <a:latin typeface="Frutiger 55"/>
              </a:rPr>
              <a:t>Opioid Intoxication Symptoms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Euphoria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Imperviousness to pain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spcBef>
                <a:spcPts val="550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Frutiger 55"/>
              </a:rPr>
              <a:t>Calmness</a:t>
            </a:r>
            <a:endParaRPr b="0" lang="en-US" sz="22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6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Frutiger 55"/>
              </a:rPr>
              <a:t>Opioid Withdrawal</a:t>
            </a:r>
            <a:endParaRPr b="0" lang="en-US" sz="38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76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Opioid Withdrawal Sign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Fast puls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High blood pressur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High body temperatur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Insomnia 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Enlarged pupil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Heightened reflexe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Sweating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Increased respiratory rat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Tearing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Runny nose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Muscle spasm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95680" y="1523880"/>
            <a:ext cx="426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Frutiger 55"/>
              </a:rPr>
              <a:t>Opioid Withdrawal Symptoms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Abnormal cramps, nausea, vomiting, diarrhea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Bone and muscle pain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utiger 55"/>
              </a:rPr>
              <a:t>Anxiety</a:t>
            </a:r>
            <a:endParaRPr b="0" lang="en-US" sz="2000" spc="-1" strike="noStrike">
              <a:solidFill>
                <a:srgbClr val="333399"/>
              </a:solidFill>
              <a:latin typeface="Frutiger 55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2:08:47Z</dcterms:created>
  <dc:creator>bill</dc:creator>
  <dc:description/>
  <dc:language>en-US</dc:language>
  <cp:lastModifiedBy>Debbie Rhodes</cp:lastModifiedBy>
  <dcterms:modified xsi:type="dcterms:W3CDTF">2008-08-27T17:41:53Z</dcterms:modified>
  <cp:revision>77</cp:revision>
  <dc:subject/>
  <dc:title>Recommending a Strategy</dc:title>
</cp:coreProperties>
</file>