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936E-C469-4B9F-B78A-6BDBA9723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DDB0-5E96-474D-A3C6-AACD4BC9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EED0-A5FE-4062-9864-A0D66266D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8826-A699-46FB-8CCC-F07F8A95D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E9BD-A7A7-48BF-97F6-773480FD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FA5C-E71E-4EE4-99D8-7E2718A5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6012-E64D-4C80-AB63-58739A68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C1CE-573E-45C3-B279-7E3071FC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CECF-A303-436A-A26A-E55B3604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F5E2-E586-4B8F-8603-E6DF9E08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05FF-0DF0-4BEC-A088-223EA685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1270-28EC-4B06-8C05-B4D8CCC1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1464-8E3C-40C3-B992-AC5BD86E69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vention Tips in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72240" y="2098800"/>
            <a:ext cx="668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mally not aggressive but will bite when disturb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ke out clothing and shoes at end of work d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items that hang in storag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ar Gloves  ( cloth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iminate clutter, long standing piles of wo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868400" y="1066680"/>
            <a:ext cx="5440320" cy="5410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709720" y="0"/>
            <a:ext cx="3595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rown Recluse Spi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rown Reclu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65520" y="2022480"/>
            <a:ext cx="7383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mptoms -2-8 hour  awareness/reaction to b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ing followed by intense p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all white blister at bite site surrounded by swollen ho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cano lesion within 24 hours surrounding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trol of Lyme Disease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14280" y="1946160"/>
            <a:ext cx="5595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a DEET- based repellent as Perman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ar light clothes and cover -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uck in cloth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pect Inspect Inspect your cloth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yme Dise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68280" y="2098800"/>
            <a:ext cx="800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haracteristic bullseye rash at the bite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mptoms include: fatigue, flu-like symptoms, muscle ach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checked:developed symptoms include inflammation of j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rly detection is critic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ld1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4876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ld4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5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rst Aid... First Steps…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07200" y="1565280"/>
            <a:ext cx="6217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Remove tick with sharp tweezers, close to sk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Avoid crushing the t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Save tick for ID/ flu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Wash and disinfect area of b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Medical att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mmary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ison Sumac, Oa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ison Sumac, Oa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63560" y="1946160"/>
            <a:ext cx="6325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st Defense is to avoid expo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ver up legs, a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mac and Ivy Blocks are on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sitive/allergy persons require medical att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 within 1-4 hou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t Heat He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45640" y="2022480"/>
            <a:ext cx="489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t Cramps: associated with exerc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re cramps in legs and abdo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ak and swe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68400" y="1066680"/>
            <a:ext cx="5440320" cy="5410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09720" y="0"/>
            <a:ext cx="3595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rown Recluse Spi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naging Heat Cramp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66200" y="2403360"/>
            <a:ext cx="325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rease salt intak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vention first ( break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e victim to cool ar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t Exhaus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78600" y="1946160"/>
            <a:ext cx="6378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mptoms  include pale skin and profuse swe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usea and/or vomi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lation of Pupi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akness or reduced level of conscious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naging Heat Exhau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1981080"/>
            <a:ext cx="3662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v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e victim to cool ar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sen clot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y Ice packs or cool water to sk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vate legs above he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 cool liqu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t Strok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54320" y="2098800"/>
            <a:ext cx="246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mptoms incl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50000" y="2174760"/>
            <a:ext cx="5302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mptoms include high body temp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dish tinge to sk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pid Pu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usea and vomi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ak and dizzy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naging Heat Strok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88480" y="2174760"/>
            <a:ext cx="6813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 Doctor immediately or get to an emergency ro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uce body temperature as fast as pos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vate h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 with Fluids ( if victim will accep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n in the Su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16840" y="2174760"/>
            <a:ext cx="4827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nscreen even if you are not at r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nglasses and hat (extended bri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mmend screening  for melano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BCD’s of  Melanoma Det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9080" y="2174760"/>
            <a:ext cx="4821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mme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der irregu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lor va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ameter larger than pencil or eras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eld Emergenc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06120" y="2174760"/>
            <a:ext cx="498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gn out proced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ddy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r Ph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st Aid Kit, extinguisher in vehic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rect travel to local Emergency Ro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2209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nt to Phil- may need tailo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52440" y="1374840"/>
            <a:ext cx="6570720" cy="4949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67640" y="455760"/>
            <a:ext cx="4692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rown Recluse - Viol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90760" y="4121280"/>
            <a:ext cx="598680" cy="291960"/>
          </a:xfrm>
          <a:prstGeom prst="rightArrow">
            <a:avLst>
              <a:gd name="adj1" fmla="val 75009"/>
              <a:gd name="adj2" fmla="val 102537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8120" y="1193760"/>
            <a:ext cx="3044880" cy="5435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3840" y="228600"/>
            <a:ext cx="481644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lack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idow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Spid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4757760"/>
            <a:ext cx="79246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ange:  This species occurs in West Virginia from the eastern panhandle, through the Alleghenies south to Mingo and Mercer Counties.  This distribution is likely a result of the mountainous terrain found in these area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timber" descr=""/>
          <p:cNvPicPr/>
          <p:nvPr/>
        </p:nvPicPr>
        <p:blipFill>
          <a:blip r:embed="rId1"/>
          <a:stretch/>
        </p:blipFill>
        <p:spPr>
          <a:xfrm>
            <a:off x="457200" y="1130400"/>
            <a:ext cx="8134200" cy="3422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92720" y="228600"/>
            <a:ext cx="407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imber Rattlesnak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pperhead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4260960" cy="2562120"/>
          </a:xfrm>
          <a:prstGeom prst="rect">
            <a:avLst/>
          </a:prstGeom>
          <a:ln w="0">
            <a:noFill/>
          </a:ln>
        </p:spPr>
      </p:pic>
      <p:pic>
        <p:nvPicPr>
          <p:cNvPr id="54" name="ncopperhead18" descr=""/>
          <p:cNvPicPr/>
          <p:nvPr/>
        </p:nvPicPr>
        <p:blipFill>
          <a:blip r:embed="rId2"/>
          <a:stretch/>
        </p:blipFill>
        <p:spPr>
          <a:xfrm>
            <a:off x="2362320" y="3352680"/>
            <a:ext cx="5181480" cy="2930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874760" y="1600200"/>
            <a:ext cx="406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orthern Copperhe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rst Aid for Brown Reclu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63720" y="2098800"/>
            <a:ext cx="8053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main calm and collect spider if possible for 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y antiseptic and apply ice pac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ort victim to emergency roo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y is fast administration of cortisone-type hormones to comb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hemolysis and systemic com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4757760"/>
            <a:ext cx="79246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ange:  This species occurs in West Virginia from the eastern panhandle, through the Alleghenies south to Mingo and Mercer Counties.  This distribution is likely a result of the mountainous terrain found in these area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timber" descr=""/>
          <p:cNvPicPr/>
          <p:nvPr/>
        </p:nvPicPr>
        <p:blipFill>
          <a:blip r:embed="rId1"/>
          <a:stretch/>
        </p:blipFill>
        <p:spPr>
          <a:xfrm>
            <a:off x="457200" y="1130400"/>
            <a:ext cx="8134200" cy="34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592720" y="228600"/>
            <a:ext cx="407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imber Rattlesnak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pperhead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4260960" cy="2562120"/>
          </a:xfrm>
          <a:prstGeom prst="rect">
            <a:avLst/>
          </a:prstGeom>
          <a:ln w="0">
            <a:noFill/>
          </a:ln>
        </p:spPr>
      </p:pic>
      <p:pic>
        <p:nvPicPr>
          <p:cNvPr id="62" name="ncopperhead18" descr=""/>
          <p:cNvPicPr/>
          <p:nvPr/>
        </p:nvPicPr>
        <p:blipFill>
          <a:blip r:embed="rId2"/>
          <a:stretch/>
        </p:blipFill>
        <p:spPr>
          <a:xfrm>
            <a:off x="2362320" y="3352680"/>
            <a:ext cx="5181480" cy="2930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874760" y="1600200"/>
            <a:ext cx="406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orthern Copperhe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3T20:39:01Z</dcterms:created>
  <dc:creator>Area Administrative Office</dc:creator>
  <dc:description/>
  <dc:language>en-US</dc:language>
  <cp:lastModifiedBy>Area Administrative Office</cp:lastModifiedBy>
  <cp:lastPrinted>2001-05-23T14:52:38Z</cp:lastPrinted>
  <dcterms:modified xsi:type="dcterms:W3CDTF">2001-05-29T17:54:34Z</dcterms:modified>
  <cp:revision>5</cp:revision>
  <dc:subject/>
  <dc:title>No Slide Title</dc:title>
</cp:coreProperties>
</file>