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087-6F06-41CB-A5BD-069B43B4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FEB-C829-4907-A746-A94210C5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BA0-D0FD-482E-A596-5CC1BA9B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E7F-4738-4B7F-B929-53851381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8EAF-B65B-456C-B1E3-01A24A83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1406-D3D6-4157-82D9-DCD9D9F9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80B-6B2F-42A1-BC89-1BE6304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F1A6-2670-443D-882B-AFFE74A2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9A3B-EFD6-428E-9C81-3CD6B66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1971-21A2-402D-95E4-7C876D6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CDB-FF02-4085-8171-B98A8E6C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CDE-C001-41FE-A50A-FE82DBA4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E5AE-A843-492E-94FE-3E4BB841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6A23-9145-4582-8363-A959EAD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5F71-79E0-4136-AF95-213FA38F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A7A-4EEA-4BBC-A5A2-9F858953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0E73-5018-4ABF-BB35-A1C925B0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D29-C3EB-4E5B-BA88-4CD94B0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BCC-BAE2-4D9A-A7E5-6D13A0BB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A1D-CA12-462F-B774-A3910029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301-B57A-4D81-9C61-E9C2B56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4B1-E95C-44CC-B06B-4782A86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54B-6089-4058-8E14-BF2408FC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962-761A-47BD-BF30-5D9E20D4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990720"/>
            <a:ext cx="7769160" cy="0"/>
          </a:xfrm>
          <a:prstGeom prst="line">
            <a:avLst/>
          </a:prstGeom>
          <a:ln w="3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8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1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4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457200" y="60199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22A0-4F34-4CA1-A1C3-353B0F03EFF5}" type="slidenum">
              <a:rPr b="0" lang="en-US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8028000" y="380880"/>
            <a:ext cx="3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Untitled"/>
              </a:rPr>
              <a:t>f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20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200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2003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6FEB-CE97-45A3-B851-C310601737B7}" type="slidenum">
              <a:rPr b="0" lang="en-US" sz="1400" spc="-1" strike="noStrike">
                <a:solidFill>
                  <a:srgbClr val="f8f8f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70400" y="3048120"/>
            <a:ext cx="3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Untitled"/>
              </a:rPr>
              <a:t>f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en-std.org/jtc1/sc22/wg21/docs/papers/2004/n1737.pdf" TargetMode="External"/><Relationship Id="rId2" Type="http://schemas.openxmlformats.org/officeDocument/2006/relationships/hyperlink" Target="http://www.open-std.org/jtc1/sc22/wg21/docs/papers/2005/n1913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Fermilab’s C++0X Work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Walter E. Brow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8f8f8"/>
                </a:solidFill>
                <a:latin typeface="Tahoma"/>
                <a:ea typeface="Tahoma"/>
              </a:rPr>
              <a:t>Computing Division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Fermi National Accelerator Laboratory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2006-08-08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3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Optimization opportuniti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call-site improvement for “pure” functions (no side effects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Potential for huge payoff in improved run tim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 form of the feature is already experimentally implemented by gcc (and others?); no known experiential reports, howev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ffer of assistance from head of UK delegation to co-author a paper by mid-Septemb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s there enough time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B69-79DA-4AE3-9838-86E22EBA4273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4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Template alias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extend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typedef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template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ccepted in princip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Head of French delegation plans to provide wording in the direction we wanted by Octob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ference implementation likely to be in g++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85B-844F-420D-99F2-1594AED1D547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5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Opaque typedef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permits distinctions among otherwise-identical typ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e would have used this a half-dozen times in CMS code if the feature existed today.”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Conceptual details worked out and already writte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eds precise wording for text of C++0X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ill need reference implementatio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asonable likelihood of adoption—badly want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F92-FC8E-4D1B-AEF8-B2A2AD3A4FE1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6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Implicitly-callable function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ummary: let niladic functions stand in for variables; has numerous application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olid theoretical basi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ome recent public discussion on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comp.std.c++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eds considerable work to rise to active proposa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624E-EBC5-462C-935A-F66E49AAE830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Narrow"/>
              </a:rPr>
              <a:t>Fermilab’s C++0X Work</a:t>
            </a:r>
            <a:endParaRPr b="0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Walter E. Brow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8f8f8"/>
                </a:solidFill>
                <a:latin typeface="Tahoma"/>
                <a:ea typeface="Tahoma"/>
              </a:rPr>
              <a:t>Computing Division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Fermi National Accelerator Laboratory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6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ahoma"/>
                <a:ea typeface="Tahoma"/>
              </a:rPr>
              <a:t>2006-08-08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Today’s talk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ecap of our goals in contributing to C++0X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Examples of our impact on HEP cod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enefits of disseminating our library cod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oposals at a critical jun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C73-A6D5-424B-AEE2-CF570E67C1D6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Our goals (recap from 2006-04-18)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o facilitate C++ programming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Fermilab’s HEP problem domain, an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the general scientific user community in which Fermilab plays a significant par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76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o provide programming features that can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e used safely and efficiently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both the C++ core language and the accompanying standard library …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So that we and our colleagues can focus on coding physics application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FF9-784A-4B1B-B7D6-644C77FD890B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Example: impact of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 Narrow"/>
                <a:hlinkClick r:id="rId1"/>
              </a:rPr>
              <a:t>N1737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and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 Narrow"/>
                <a:hlinkClick r:id="rId2"/>
              </a:rPr>
              <a:t>N1913</a:t>
            </a:r>
            <a:endParaRPr b="0" lang="en-US" sz="28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447920"/>
            <a:ext cx="7769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// N1737:  … Multi-declarator 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auto</a:t>
            </a: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 Declaratio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// N1913:  … Improv[ing] 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const_iterator</a:t>
            </a: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 Use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362320"/>
            <a:ext cx="77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// today’s code:  wordy, hard-to-read, repetitious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//</a:t>
            </a: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	</a:t>
            </a:r>
            <a:r>
              <a:rPr b="0" i="1" lang="en-US" sz="2400" spc="-1" strike="noStrike">
                <a:solidFill>
                  <a:srgbClr val="cc0066"/>
                </a:solidFill>
                <a:latin typeface="Arial Rounded MT Bold"/>
              </a:rPr>
              <a:t>involves a type conversion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for( std::vector&lt;sometype&gt;::const_iterato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 Rounded MT Bold"/>
              </a:rPr>
              <a:t>it  =  v.begin(),  end  =  v.end(); 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038480"/>
            <a:ext cx="77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// C++0X code:  compact, straightforward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//</a:t>
            </a: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	</a:t>
            </a:r>
            <a:r>
              <a:rPr b="0" i="1" lang="en-US" sz="2400" spc="-1" strike="noStrike">
                <a:solidFill>
                  <a:srgbClr val="33cc33"/>
                </a:solidFill>
                <a:latin typeface="Arial Rounded MT Bold"/>
              </a:rPr>
              <a:t>repetition-free, conversion-free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for( auto  it  =  v.cbegin(),  end  =  v.cend(); 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F3D-7C5B-4F8B-9141-4E7FFBF2B305}" type="slidenum">
              <a:t>4</a:t>
            </a:fld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Example: generating random numbers in C++0X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523880"/>
            <a:ext cx="77691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8f8f8"/>
                </a:solidFill>
                <a:latin typeface="Arial Rounded MT Bold"/>
              </a:rPr>
              <a:t>// want Poisson-distributed samp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std::ranlux48  e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std::poisson_distribution  d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int  sample[100]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for( int  i = 0 ;  i != 100;  ++i 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sample[i]  =  </a:t>
            </a:r>
            <a:r>
              <a:rPr b="0" lang="en-US" sz="2400" spc="-1" strike="noStrike">
                <a:solidFill>
                  <a:srgbClr val="33cc33"/>
                </a:solidFill>
                <a:latin typeface="Arial Rounded MT Bold"/>
              </a:rPr>
              <a:t>d(e)</a:t>
            </a:r>
            <a:r>
              <a:rPr b="0" lang="en-US" sz="2400" spc="-1" strike="noStrike">
                <a:solidFill>
                  <a:srgbClr val="f8f8f8"/>
                </a:solidFill>
                <a:latin typeface="Arial Rounded MT Bold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DC0-820A-4622-961E-B16AB83D73F6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y contribute our hep_random library?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monstrate our competen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btain benefits of peer review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Generally improve our credibilit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emonstrate willingness to work with other knowledgable software specialists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Obtain increased recognition for FNAL as doing good work for the community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mprove our code for our own us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DD6-D04A-41D6-A5C6-20F0FCE52539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Critical juncture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ommittee deadlines approachi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Likely to need completed proposals this year to give Committee time to polish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roof-of-concept implementations needed this year for library, next year for language co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We’ve been focussing on random numbers to the near-exclusion of our other proposal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BE8-ECD9-4A49-813E-3F8AC2395802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1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Reflec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Of supreme importance to HEP community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Needs attention by someone who can devote significant resources to developing the proposal and a reference implementation, and who will shepherd the proposa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Recent opportunity:  J. Siek, research professor, UC—Bould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How to support him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FD2-6C99-4D0D-9473-0E1CBCE9BA3C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0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What’s left: 2 of 6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Mathematical special functions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Proposal is complete (and code is even being shipped by one vendor) and is part of TR1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Unlikely to be adopted without a publicly-available reference implementation—viewed by vendors as too much work to benefit a small customer bas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E1C-C6C1-4877-9D3A-637A22D667D9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5:48:08Z</dcterms:created>
  <dc:creator>W. E. Brown</dc:creator>
  <dc:description/>
  <dc:language>en-US</dc:language>
  <cp:lastModifiedBy>W. E. Brown</cp:lastModifiedBy>
  <dcterms:modified xsi:type="dcterms:W3CDTF">2006-08-08T15:28:25Z</dcterms:modified>
  <cp:revision>20</cp:revision>
  <dc:subject/>
  <dc:title>Fermilab's Contributions to C++0x</dc:title>
</cp:coreProperties>
</file>