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9FD0-74FA-4550-98EC-AEDAF2BF0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F072-1902-4060-9594-E5A33683D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8A63-325D-40E1-986B-87700961B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DDFA-9A40-45FE-8CD5-3CE36B9F7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23E6-A6D0-4109-BE8A-E0FE867B6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AF6C-FCA6-4174-9627-80880B2A1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04F3-DB93-4094-AE9E-861AE5DB0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EE72-8916-43E7-AD50-CFDF3A8F8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7F82-141A-47CD-ACD7-063D7C949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A91F-9114-4AAF-84AE-30FCA3D80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DC45-A0C1-48BA-AB33-F9C2890E1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6115-9764-4561-A046-2DA8391E6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909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665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0B81E-5358-4C08-BE3B-F8D352EBA4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grants.gov/" TargetMode="External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533520"/>
            <a:ext cx="7238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FICE OF WEAPONS REMOVAL AND ABA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BUREAU OF POLITICAL-MILITARY AFFAI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1295640" cy="1290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rcRect l="0" t="0" r="0" b="22684"/>
          <a:stretch/>
        </p:blipFill>
        <p:spPr>
          <a:xfrm>
            <a:off x="7696080" y="5778360"/>
            <a:ext cx="1295640" cy="1079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Y2008 REQUEST FOR APPLICATIONS (RFA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4792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cus Carp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vember 7,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47920" y="380880"/>
            <a:ext cx="7238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FICE OF WEAPONS REMOVAL AND ABA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BUREAU OF POLITICAL-MILITARY AFFAI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295280" cy="12906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rcRect l="0" t="0" r="0" b="22684"/>
          <a:stretch/>
        </p:blipFill>
        <p:spPr>
          <a:xfrm>
            <a:off x="7543800" y="5626080"/>
            <a:ext cx="1295280" cy="10796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Y08 RFA TOPICS SOLIC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truction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Weapons destruction projec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vate Sector Engagement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Increasing awareness and financial suppor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ching Grants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For WRA target count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rain/Reintegration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Of personnel from HMA activi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novation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Unsolicited applications that further the goals and objectives of PM/W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sing Data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Impact Survey, Impact Surveillance, Land Release and National Plan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F7E9-34EB-4D61-A3C1-C599D84BA15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447920" y="380880"/>
            <a:ext cx="7238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FICE OF WEAPONS REMOVAL AND ABA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BUREAU OF POLITICAL-MILITARY AFFAI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295280" cy="12906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rcRect l="0" t="0" r="0" b="22684"/>
          <a:stretch/>
        </p:blipFill>
        <p:spPr>
          <a:xfrm>
            <a:off x="7543800" y="5626080"/>
            <a:ext cx="1295280" cy="10796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838080" y="1905120"/>
            <a:ext cx="76964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FA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or and Deputy Directors decide on topics of inter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icit Applications through the http://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www.grants.go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rt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 out email notice to our grantee partners and o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 on PM/WRA web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s due within 40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MT receives and acknowledges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for Compliance with Requi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for Applicability to PM/WRA goals and obj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te to Program Managers (PM) for independent review and com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Ms present Applications to Grants Executive Review 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1A1B-865D-44F5-83D7-33A546BC61E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447920" y="380880"/>
            <a:ext cx="7238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FICE OF WEAPONS REMOVAL AND ABA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BUREAU OF POLITICAL-MILITARY AFFAI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295280" cy="12906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rcRect l="0" t="0" r="0" b="22684"/>
          <a:stretch/>
        </p:blipFill>
        <p:spPr>
          <a:xfrm>
            <a:off x="7543800" y="5626080"/>
            <a:ext cx="1295280" cy="10796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523880" y="373392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3880" y="3581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14600" y="3581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3581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800600" y="3581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467480" y="3581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19149000">
            <a:off x="991440" y="4114080"/>
            <a:ext cx="1035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FA Launch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9149000">
            <a:off x="946800" y="2784240"/>
            <a:ext cx="132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v. 5,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19149000">
            <a:off x="1981800" y="4190760"/>
            <a:ext cx="1028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stions D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9149000">
            <a:off x="2620080" y="4075920"/>
            <a:ext cx="1700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stions &amp; Answers Posted on www.grants.g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19149000">
            <a:off x="4291560" y="4136760"/>
            <a:ext cx="1028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posals D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19149000">
            <a:off x="6706440" y="4114080"/>
            <a:ext cx="126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ision Not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19149000">
            <a:off x="2058120" y="2666160"/>
            <a:ext cx="1392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v. 16, 2007 (5PM E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9149000">
            <a:off x="6887160" y="2693160"/>
            <a:ext cx="176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d Feb.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9149000">
            <a:off x="4191480" y="2666160"/>
            <a:ext cx="153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. 14, 2007 (Midnight E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19149000">
            <a:off x="2961360" y="2745720"/>
            <a:ext cx="154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v. 23,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669760" y="1523880"/>
            <a:ext cx="38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FA PROCESS 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48A4-02E7-46B0-917C-CB92DFAF481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447920" y="380880"/>
            <a:ext cx="7238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FICE OF WEAPONS REMOVAL AND ABA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BUREAU OF POLITICAL-MILITARY AFFAI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295280" cy="12906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rcRect l="0" t="0" r="0" b="22684"/>
          <a:stretch/>
        </p:blipFill>
        <p:spPr>
          <a:xfrm>
            <a:off x="7543800" y="5626080"/>
            <a:ext cx="1295280" cy="10796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NTS EXECUTIVE REVIEW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rised of the three Deputy Direct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Application is reviewed on its own merits with consideration o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M 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M knowledge of particular pro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iberations result in a rank order of Applications and, if necessary, adjustment to Statement of Work and p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ten recommendation is made to Director, PM/W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l decision on award is made by Director, PM/W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B85B-B3E2-4CAB-925F-AA12507F0BC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447920" y="380880"/>
            <a:ext cx="7238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FICE OF WEAPONS REMOVAL AND ABA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BUREAU OF POLITICAL-MILITARY AFFAI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295280" cy="12906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rcRect l="0" t="0" r="0" b="22684"/>
          <a:stretch/>
        </p:blipFill>
        <p:spPr>
          <a:xfrm>
            <a:off x="7543800" y="5626080"/>
            <a:ext cx="1295280" cy="10796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838080" y="1905120"/>
            <a:ext cx="76964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ALUATION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ificance: How well does project link with PM/WRA goals and objectiv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ach:  Is the design and methodology sound and adequately develop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novation:  Does the project incorporate novel technologies or approach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nel:  Are key personnel experienced and capable of managing and performing the project activiti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ironment: Is the project viable and the current political and physical environm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577C-CF9C-4E65-AE98-1DEBBF03EA7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447920" y="380880"/>
            <a:ext cx="7238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FICE OF WEAPONS REMOVAL AND ABA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BUREAU OF POLITICAL-MILITARY AFFAI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295280" cy="12906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rcRect l="0" t="0" r="0" b="22684"/>
          <a:stretch/>
        </p:blipFill>
        <p:spPr>
          <a:xfrm>
            <a:off x="7543800" y="5626080"/>
            <a:ext cx="1295280" cy="10796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IFICATION OF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sion letters to all Grantees in mid-Febru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ose selected for award will be contacted by RMT to complete process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set of SF424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s to proposal, i.e. scope, price, period of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er new grantees in Payment Management System (PM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ntees not selected for award are encouraged to request an informal debriefing from the Grants Officer – Marcus Carpenter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rpenter@pmwra.or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A912-6C8B-4EF8-8F37-C9FA22EED58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447920" y="380880"/>
            <a:ext cx="7238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FICE OF WEAPONS REMOVAL AND ABA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BUREAU OF POLITICAL-MILITARY AFFAI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295280" cy="12906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rcRect l="0" t="0" r="0" b="22684"/>
          <a:stretch/>
        </p:blipFill>
        <p:spPr>
          <a:xfrm>
            <a:off x="7543800" y="5626080"/>
            <a:ext cx="1295280" cy="10796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 the entire RF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the proposed outline and checklist (Attachment 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llow the instructions and required forma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applicants should start registration process ear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concise (11 pages tot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 goals and objectives with those of PM/W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cate category # and abbreviated name of corresponding objective (e.g. Category: 4, Retrain/Reintegr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new funding sources or engage new sectors for Category 2 “Private Sector Engagemen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est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E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oney for Category 3 “Matching Grant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project by Sept. 30,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problems on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grants.go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refer to Attachment 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AC77-A6CB-4C1D-A7B5-11674938A8D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447920" y="380880"/>
            <a:ext cx="7238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FICE OF WEAPONS REMOVAL AND ABA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BUREAU OF POLITICAL-MILITARY AFFAI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295280" cy="12906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rcRect l="0" t="0" r="0" b="22684"/>
          <a:stretch/>
        </p:blipFill>
        <p:spPr>
          <a:xfrm>
            <a:off x="7543800" y="5626080"/>
            <a:ext cx="1295280" cy="10796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3714840" y="2571840"/>
            <a:ext cx="1714320" cy="1714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6506-C25B-49F0-BDAF-4618F031A43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447920" y="380880"/>
            <a:ext cx="7238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FICE OF WEAPONS REMOVAL AND ABA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BUREAU OF POLITICAL-MILITARY AFFAI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295280" cy="1290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rcRect l="0" t="0" r="0" b="22684"/>
          <a:stretch/>
        </p:blipFill>
        <p:spPr>
          <a:xfrm>
            <a:off x="7543800" y="5626080"/>
            <a:ext cx="1295280" cy="1079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CUSSION TOP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FA Statistic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for FY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FA Topics Solici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FA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FA Process Time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nts Executive Review 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ion Cri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ification of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89F1-A9EB-4BC6-BE4A-263F296C34C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447920" y="380880"/>
            <a:ext cx="7238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FICE OF WEAPONS REMOVAL AND ABA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BUREAU OF POLITICAL-MILITARY AFFAI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295280" cy="12906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rcRect l="0" t="0" r="0" b="22684"/>
          <a:stretch/>
        </p:blipFill>
        <p:spPr>
          <a:xfrm>
            <a:off x="7543800" y="5626080"/>
            <a:ext cx="1295280" cy="10796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d competitive RFA process four years a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braces use of electronic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www.grants.gov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ch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ral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oit innovative conce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and the base of grantee 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 the transparency of th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the degree of success in reaching PM/WRA goals and obj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94C0-0DBD-4D52-8F94-BA6792F662A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447920" y="380880"/>
            <a:ext cx="7238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FICE OF WEAPONS REMOVAL AND ABA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BUREAU OF POLITICAL-MILITARY AFFAI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295280" cy="1290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rcRect l="0" t="0" r="0" b="22684"/>
          <a:stretch/>
        </p:blipFill>
        <p:spPr>
          <a:xfrm>
            <a:off x="7543800" y="5626080"/>
            <a:ext cx="1295280" cy="1079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1066680" y="1676520"/>
          <a:ext cx="6934320" cy="4078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1676520"/>
                    <a:ext cx="6934320" cy="40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57C3-76CD-4799-8472-8B28C30AC1F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447920" y="380880"/>
            <a:ext cx="7238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FICE OF WEAPONS REMOVAL AND ABA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BUREAU OF POLITICAL-MILITARY AFFAI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295280" cy="12906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rcRect l="0" t="0" r="0" b="22684"/>
          <a:stretch/>
        </p:blipFill>
        <p:spPr>
          <a:xfrm>
            <a:off x="7543800" y="5626080"/>
            <a:ext cx="1295280" cy="1079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1066680" y="1600200"/>
          <a:ext cx="6934320" cy="4191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1600200"/>
                    <a:ext cx="693432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9F4E-5FF8-489C-8C8C-3E23C2C58E4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447920" y="380880"/>
            <a:ext cx="7238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FICE OF WEAPONS REMOVAL AND ABA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BUREAU OF POLITICAL-MILITARY AFFAI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295280" cy="12906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rcRect l="0" t="0" r="0" b="22684"/>
          <a:stretch/>
        </p:blipFill>
        <p:spPr>
          <a:xfrm>
            <a:off x="7543800" y="5626080"/>
            <a:ext cx="1295280" cy="1079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" name=""/>
          <p:cNvGraphicFramePr/>
          <p:nvPr/>
        </p:nvGraphicFramePr>
        <p:xfrm>
          <a:off x="1295280" y="1600200"/>
          <a:ext cx="6400800" cy="4343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1600200"/>
                    <a:ext cx="64008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F992-2518-4B00-9783-FAB5AA9DB24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447920" y="380880"/>
            <a:ext cx="7238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FICE OF WEAPONS REMOVAL AND ABA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BUREAU OF POLITICAL-MILITARY AFFAI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295280" cy="12906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rcRect l="0" t="0" r="0" b="22684"/>
          <a:stretch/>
        </p:blipFill>
        <p:spPr>
          <a:xfrm>
            <a:off x="7543800" y="5626080"/>
            <a:ext cx="1295280" cy="1079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3" name=""/>
          <p:cNvGraphicFramePr/>
          <p:nvPr/>
        </p:nvGraphicFramePr>
        <p:xfrm>
          <a:off x="1066680" y="1447920"/>
          <a:ext cx="7162920" cy="4267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1447920"/>
                    <a:ext cx="716292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70FF-D9A2-4609-92A5-9A491EC6FAD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447920" y="380880"/>
            <a:ext cx="7238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FICE OF WEAPONS REMOVAL AND ABA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BUREAU OF POLITICAL-MILITARY AFFAI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295280" cy="12906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rcRect l="0" t="0" r="0" b="22684"/>
          <a:stretch/>
        </p:blipFill>
        <p:spPr>
          <a:xfrm>
            <a:off x="7543800" y="5626080"/>
            <a:ext cx="1295280" cy="10796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FA 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Y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 applications; 31 organizations’ 35 new grants awarded; Total = $2,455,75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ward amounts ranged from $22,437 to $258,4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FY06 grants increased from 64 to 105 aw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Y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6 applications; 37 organizations; 30 new grants awarded; Total = $2,258,9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ward amounts ranged from $11,657 to $199,8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FY07 grants decreased from 105 (FY06) to 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rease due to budget 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unt available to RFA was smaller in FY07 than in FY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M/WRA anticipates an increase in amount of FY08 aw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Y08 budget is ~ 50% larger than FY06 and FY07 budg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Y08 RFA budget is ~65% larger than in FY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C6FC-FBD9-4A1C-B12F-50440D6EAD9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447920" y="380880"/>
            <a:ext cx="7238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FICE OF WEAPONS REMOVAL AND ABA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BUREAU OF POLITICAL-MILITARY AFFAI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295280" cy="12906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rcRect l="0" t="0" r="0" b="22684"/>
          <a:stretch/>
        </p:blipFill>
        <p:spPr>
          <a:xfrm>
            <a:off x="7543800" y="5626080"/>
            <a:ext cx="1295280" cy="10796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OR FY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in minimum grant amount to $100k in order to improve return on investment.  Applies to all categories except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vate Sector Engagement” ($40k-$50k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ching Grants” ($40k-$100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new category for “Destruction”, which includes SA/L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newed focus on “Innovation” for creative and unique ideas and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 of 18 months for Period of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4539-1E81-46B8-AE49-F31A1B8923F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8T15:26:09Z</dcterms:created>
  <dc:creator>CARPENTER</dc:creator>
  <dc:description/>
  <dc:language>en-US</dc:language>
  <cp:lastModifiedBy>CARPENTER</cp:lastModifiedBy>
  <dcterms:modified xsi:type="dcterms:W3CDTF">2007-11-05T14:23:15Z</dcterms:modified>
  <cp:revision>11</cp:revision>
  <dc:subject/>
  <dc:title>Slide 1</dc:title>
</cp:coreProperties>
</file>