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A59-EF3B-41D1-9208-9A142364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5F2-6BC8-4322-A902-E58CBCC5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04D-4D62-4FB9-9194-E6B9AB88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30C-5515-4101-8890-DE4B1C8D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A5EA-FEF4-41A4-883E-ECC19A9E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AF92-3FF2-41B5-8979-5102C230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41AF-1FBA-48A8-B28A-9EFBB94B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FCBB-7910-4F13-B113-EF55B96B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8D26-D9BE-497A-B0E7-EE424CEF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8F00-EDEE-4A2A-8F85-12EA70C4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FDBF-B8FE-4017-8799-CE4CE3A3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535-0FCD-4F11-9DD8-30D6B620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1834-630E-4D79-867E-106A44AD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7FA1-57FE-4D04-B501-C7456E16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2F41-6C69-4B78-B363-2AC427D6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2EC8-73F7-4CF8-BB32-4C18B7EF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7F7A-539C-421E-B492-EFBA3DA8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051-438C-4CAF-8574-CC0270F1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D89-AC17-480F-A29F-88AF4BCF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AFF-2AD2-4175-BEF1-CF94D53F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D34-B537-4ABD-885A-B9900C26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479-EE7C-442E-A140-241ADA43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4C1-4E4B-40F6-ACDE-5A60218D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C88-A51C-4BDA-AA83-262ABF97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B7A3-1260-48A9-B6B7-F585A7052C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6813-02EE-4356-AD4F-E650D58A87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UTS AND BOLTS OF LIBRARY DISASTERS AND RECOVERY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PANEL DISCUS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Katrina’s Library Crossings:  Which Turns to Take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a M. Seltz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rofessor and Cha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Academic Information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irector, Rowland Medical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University of Mississippi Medical Ce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Jackson, 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signs for Improving Health Sciences Library Disaster Traffic Circ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2514240"/>
            <a:ext cx="8574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ocally self reliant – strong formal connections to a colleague-library network (hospital libra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ior designation of authority and responsibility and centralization for local coordination of relief and respon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re-contract/arrange salvage and debris remo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upport for libraries affected by disaster, but still fun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Fewer staff, increased demand, lack needed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fic Health Sciences Library Disaster De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Disaster buddy program for librari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ut of state storage of online records, OP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hapter or NN/LM level “adopt-a-library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e-disaster communications Web servic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mail lists, bulletin board, debris team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mation, tips for disaster recovery,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irectories of ag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Health Sciences Library Designs (continued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Pre-established, pre-arranged core health e-source collection for quick and temporary access – ren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re-established, pre-arranged core health collection for relief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One Web site for ALL library relief and recovery assistance list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rior arrangements for services to tent cities, trailer areas, communities agencies or public libraries about chronic diseases, mental health services, disease preventio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(include children’s health iss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 for Assist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ississippi Library Com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urricanearchives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mithsonian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ibrary and hospital Web s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erry Hall, UMC Program Administ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stance for Mississippi Libr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928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riends of Mississippi Librar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build Mississippi Libraries F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ttn:  AmSouth 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210 E. Capital Stre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ackson, MS  392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Turns to Tak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urns to Avoid:  Assessing Katrina’s Cross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hat we have learned so f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signs for Improving Disaster Traffic Cir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deas and suggestions for disaster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urns to Avo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2286000"/>
            <a:ext cx="880272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Huge human level of disaster/recovery -takes precedence over all else – will last for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ed Cross - 1-2 wee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EMA policies prevent making changes on what was learn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eplaces – does not rebui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lan for worst case scen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rovide backup emergency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voiding turns (continued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017800"/>
            <a:ext cx="8726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tegrate local disaster planning with neighboring communities, regions within states, multi-state regions, and/or fed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municate persons/agencies authorized and/or responsible for emergency relief prior to st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stablish standards and coordinate private donations of goods for rapid distribution and use: sorted, boxed or packaged, labe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man Turns to Avo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8802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Recommend personal items to take when evacua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repare to survive on your own for 7 days: hand sanitizers, wet wipes, toiletries, plastic b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lan for gasoline shor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Review insurance policies and be informed about legal ri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aintain a list of emergency relief agencies and type of service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alth Turns to Avo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New location for generato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Evacuate patients from first and top floo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Electronic health record a necessity – with offsite cap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Disaster planning for health professionals in private practi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Emergency communications backup – linked with other health units, health professionals and emergency response uni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Improved and coordinated planning and emergency response between communities, local areas, state, regional and federal lev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brary Turns to Avo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Become informed about what libraries needed to know to endure a disas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did not know what we did not kno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Become knowledgeable about scope of insurance and legal righ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Inform library staff about who is in charge of disaster response and what response will b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Have processes and relationships in place prior to the dis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voiding Library Turns (continued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Increase level of emergency supplies available: generators, dehumidifiers, contr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Arrange for temporary storage for donations, staff, building for temporary work space prior to dis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entralize coordination for relie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Acknowledge community’s understanding of library roles resulting from disaster and take leadership role in recovery eff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s for Improving Library Disaster Traffic Circ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Form state alliance to better utilize resourc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Arts Council, Archives &amp; History, MS Lib. Com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Train alliance members and clearly define ro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Offer risk management workshops for libraries - processes and relationships that must be in place prior to dis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MS Lib. Commission – clearinghouse for library/librarian communications &amp; information distrib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Gates Foundation planning for Katrina libraries – where they want to go - how to get there given FEMA poli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Support and relief to libraries providing relief to evacu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3:14:14Z</dcterms:created>
  <dc:creator>thall</dc:creator>
  <dc:description/>
  <dc:language>en-US</dc:language>
  <cp:lastModifiedBy>sjbarnes</cp:lastModifiedBy>
  <dcterms:modified xsi:type="dcterms:W3CDTF">2007-01-25T20:09:51Z</dcterms:modified>
  <cp:revision>23</cp:revision>
  <dc:subject/>
  <dc:title>NUTS AND BOLTS OF LIBRARY DISASTERS AND RECOVERY</dc:title>
</cp:coreProperties>
</file>