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DE9-A681-4423-847A-C2109010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69E-A308-41A3-B53D-E026884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EA2-4E66-4F7B-B69C-FF5A030E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922-FAF1-4F9D-84CD-22CCA485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204-7A24-41AE-9244-8169C693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062-7BCD-438F-B277-8E918434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A1D-7970-40F4-9192-6405751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169-8584-481D-B2B8-53D3AFCC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412-E114-4FD4-AD6E-37410206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66C-1A1D-44C2-944D-DF05781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00E-0DB7-4A01-BB5A-33EBD7BD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0FE-2C2B-407D-B403-56790BB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Transportation in Parks and Public Lands Program Webinar – January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al Transit Administration – U.S. Department of Transpor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3C1-DEF4-477D-9485-62F9B155D0B6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5562720"/>
            <a:ext cx="8229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8960" y="304920"/>
            <a:ext cx="6212160" cy="632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19720" y="533520"/>
            <a:ext cx="2819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ve Transport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arks and Public 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Webina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January 16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deral Transit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ww.fta.dot.gov/atp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Cabeza Prieta National Wildlife Refuge, Arizo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4BD-E8ED-4448-901E-DA7F97109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447920"/>
            <a:ext cx="7391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gislative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, DOI cooperate to conduct program-level activities, such as technical assistance (up to 10% of ATPPL program funding can be used for this purpo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 to Con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-DOI Memorandum of Agreement (MO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PP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gency work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undertake major program tasks: technical assistance, developing documentation and procedures, evaluating project proposals, providing oversight, monitoring project and program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6094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7C1-5569-407C-8291-61CC01C0B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44792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formation about metropolitan and statewide planning, se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planning.dot.gov/state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6094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993-80B2-49ED-9996-1E00433DD6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447920"/>
            <a:ext cx="73911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meetings of the interagency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published in the Feder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web sit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and outreach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ctivities (such as this webin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d agency point of contact (HQ, reg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distribution list for news, updates, annou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036-268F-4CB4-B122-E884D7109E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447920"/>
            <a:ext cx="7391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area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y federally owned or managed park, refuge, or recreational area open to the general public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Park Service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ildlife Refuge System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Reclamation recreational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Land Management recreational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Forest System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1D4-11C0-405E-95DE-8DFC00A8BC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447920"/>
            <a:ext cx="7391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applic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federal land management agency,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Park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Fish and Wildlif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Recla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eau of L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Forest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, local, or tribal governments with jurisdiction over land in the vicinity of an eligible area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ng with the cons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elevant federal land management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637-F378-4A92-8D28-64940827D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447920"/>
            <a:ext cx="7391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project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ning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tended to identify potential solutions to alternative transportation problems, and to justify possible capital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lementation (“capital”) 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lly involve purchasing, designing, or constructing alternative transportation facilities or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le projec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ext slid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in or near an eligible area, be “alternative transportation,” and contribute to the goals of the ATPPL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assistance (e.g., driver salaries)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738-DEA0-4315-8358-2B84796A72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pplicant and project eligibility an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447920"/>
            <a:ext cx="73911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j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transportation planning studies, including evaluation of no-build and other alternatives, traffic studies, visitor utilization studies, transportation analysis, and environmental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to comply with metropolitan and statewide planning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198-9597-4244-B03F-ECE092F51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ree categories of eligible implemen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447920"/>
            <a:ext cx="73911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: General capital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ing, constructing, inspecting, or supervising equipment or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cost of service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/commercialization of alternative transportation veh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0D9-21A3-4690-8291-6BB187686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ree categories of eligible implemen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447920"/>
            <a:ext cx="7391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: Fixed guideway and bus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guid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new fixed guideway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habilitation, modernization, or expansion of existing fixed-guideway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, rehabilitation, replacement of buses and relate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of bus-related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B4D-CFF0-424A-9715-11B2D96791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447920"/>
            <a:ext cx="7391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: “Other”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costs of coordinating with external tran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otorized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-borne acces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alternative transporta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ree categories of eligible implemen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E05-0774-4B9E-B1DA-7D336A169A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echnical introduction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Eric Plosky, U.S. DOT Volpe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447920"/>
            <a:ext cx="7391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ebinar has three compon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(teleconference)—phone number was provided when you reg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—software plug-in was provided when you register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resentation also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questions can be sent to the presenters via the webinar interface (o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inc@volpe.dot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scussion during the web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echnical questions or problems with the webina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it is running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ease call the Verizon help desk, at 1-866-449-07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DAA-140A-4F08-B5AC-235C7243A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1447920"/>
            <a:ext cx="73911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eligible projects for implementation and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otorized projects involving facilities for bicycling, walking, and watercraft need to meet the following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or mitigate the number of automobile trips by providing an alternative to travel by private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high degree of connectivity with a transport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safety for motorized and nonmotorized transportation system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n-motorized transi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AF8-F2B8-421B-ACA3-7D20D9588F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application process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Dwayne Weeks, 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447920"/>
            <a:ext cx="73911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project type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and implementation projects have different forms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correc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posal forms and th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data and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hasis: purpose and need—why is it necessary to consider transportation alternati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hasis: good projects with sound cost-estimate, solid financial plan, strong implementation strategy, local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ADA-BAC8-46F3-8FFE-0D53EAAB26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ning project evalua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5146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 of Need (5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Mobility and Experience (1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5146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Benefits (1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Feasibility (2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752480"/>
            <a:ext cx="3809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2840" y="17524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roposal Overall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6483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51460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Transportation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1240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Traffic 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Visitor 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124080"/>
            <a:ext cx="1905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4197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d Education Recreation health 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of Natur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809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Pol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124080"/>
            <a:ext cx="19047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2004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in Meeting Managemen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038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sibility of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124080"/>
            <a:ext cx="190512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472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5181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hip/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E75-D31F-4815-90FB-A88646D69E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lementation project evalua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5146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 of Need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Mobility and Experience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5146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Benefits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25146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Feasibility (25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1752480"/>
            <a:ext cx="4724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752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Proposal Overall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01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83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51460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5146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or Transportation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1240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Traffic 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098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Visitor 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3124080"/>
            <a:ext cx="1905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4197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d Education Recreation health Bene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32004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of Natural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809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Pol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124080"/>
            <a:ext cx="19047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2004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in Meeting Management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4038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sibility of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3124080"/>
            <a:ext cx="190512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5181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nership/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5DD-4FDC-4133-B8B9-F4C3AC6FA9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evaluation process: helpful 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447920"/>
            <a:ext cx="73911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st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project necessary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benefits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homework: use previous studi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environmental impacts and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definition of the project: length, mode, stations, vehicles, capital cost, operat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of project and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D7C-7BCB-4E2E-8A8E-BFF02E8B22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evaluation process: helpful 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1447920"/>
            <a:ext cx="73911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 – make it real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ual cost estimate – request only the amount of funding necessar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unding needed –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funding needed –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capital and operating funding for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other funding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documentation – commitment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02A-1040-47B8-A5E8-5788928688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evalu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37160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sals submitted to land management agencies (February 1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89540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 management agency internal screening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24638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eened proposals distributed for technical working group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30272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sals rated by the technical working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36068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ngs are compiled; projects are ranked based upon sc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160880"/>
            <a:ext cx="60199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working group prioritizes project selections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ends project funding lev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90212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st-ranked projects are recommended for funding to D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477040"/>
            <a:ext cx="6019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elections by DOI; concurred by FTA (summer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9" idx="2"/>
            <a:endCxn id="220" idx="0"/>
          </p:cNvCxnSpPr>
          <p:nvPr/>
        </p:nvCxnSpPr>
        <p:spPr>
          <a:xfrm>
            <a:off x="4533480" y="168588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0" idx="2"/>
            <a:endCxn id="221" idx="0"/>
          </p:cNvCxnSpPr>
          <p:nvPr/>
        </p:nvCxnSpPr>
        <p:spPr>
          <a:xfrm>
            <a:off x="4533480" y="2209680"/>
            <a:ext cx="108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1" idx="2"/>
            <a:endCxn id="222" idx="0"/>
          </p:cNvCxnSpPr>
          <p:nvPr/>
        </p:nvCxnSpPr>
        <p:spPr>
          <a:xfrm>
            <a:off x="4533480" y="277812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2" idx="2"/>
            <a:endCxn id="223" idx="0"/>
          </p:cNvCxnSpPr>
          <p:nvPr/>
        </p:nvCxnSpPr>
        <p:spPr>
          <a:xfrm>
            <a:off x="4533480" y="3341160"/>
            <a:ext cx="1080" cy="26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3" idx="2"/>
            <a:endCxn id="224" idx="0"/>
          </p:cNvCxnSpPr>
          <p:nvPr/>
        </p:nvCxnSpPr>
        <p:spPr>
          <a:xfrm>
            <a:off x="4533480" y="3921120"/>
            <a:ext cx="108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4" idx="2"/>
            <a:endCxn id="225" idx="0"/>
          </p:cNvCxnSpPr>
          <p:nvPr/>
        </p:nvCxnSpPr>
        <p:spPr>
          <a:xfrm>
            <a:off x="4533480" y="46875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5" idx="2"/>
            <a:endCxn id="226" idx="0"/>
          </p:cNvCxnSpPr>
          <p:nvPr/>
        </p:nvCxnSpPr>
        <p:spPr>
          <a:xfrm>
            <a:off x="4533480" y="5216400"/>
            <a:ext cx="1080" cy="26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726-C807-4750-96BD-2DF4F02E7B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447920"/>
            <a:ext cx="73911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partners to develop the best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ata to support the benefits of your project—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and cit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strong financial plan and leverage fu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ft the best project proposal to meet identified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EC8-99A8-4B05-A891-9B4A9B9757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ject proposal forms (two typ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365" t="25170" r="13278" b="19100"/>
          <a:stretch/>
        </p:blipFill>
        <p:spPr>
          <a:xfrm>
            <a:off x="1447920" y="1371600"/>
            <a:ext cx="6186240" cy="44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2CE-297D-43B4-BAE6-93EC48889F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unds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447920"/>
            <a:ext cx="7391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warded to FLMAs will be made through interagency agreements between FTA and the F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warded to state, local, and tribal entities will be made through grants directly from F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7EA-304D-4C57-AAE8-D931C6D04D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09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ebinar agenda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Scott Faulk, 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447920"/>
            <a:ext cx="73911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and intro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overview: background, legislation, and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program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 and project eligibility and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appl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ject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reference documentation and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FB6-BABC-4C9E-A7E0-1262251F9B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equirements for funding recip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447920"/>
            <a:ext cx="792468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quirements triggered by ATP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PL specific requirements as contained in the legi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that apply to all FTA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referenced in 49 U.S.C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53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ing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ll 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requirements is available on the ATPPL web site at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fta.dot.gov/documents/ATPPL_FY_2006_Requirements_Final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287-671E-486E-9B8A-7B373A4624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gram documentation and referenc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447920"/>
            <a:ext cx="7391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PL program man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entral referenc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PL web 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links to other program documentation and reference material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ing FY 2007 project application forms and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109-C638-4859-ADF0-ED79E7A697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Question-and-answe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447920"/>
            <a:ext cx="7391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&amp;A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use the webinar interface to submit question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you may e-mail questions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inc@volpe.dot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2D3-0891-46C9-82DB-F1E17F1C1B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ebinar close-out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Scott Fau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447920"/>
            <a:ext cx="73911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all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feedback will be solicited, and the webinar will be archived, on the ATPPL web page: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www.fta.dot.gov/atp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questions or would like to follow up, please contact Scott Faulk at scott.faulk@dot.gov or 202-366-16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27F-E4D4-4DC6-85FE-FEF3A7BD41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2120" y="1447920"/>
            <a:ext cx="73911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all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provide feedback on the webinar by visi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vide web site addres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ebinar will be archived on the ATPPL web page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questions or would like to follow up, please contact Scott Faulk at scott.faulk@dot.gov or 202-366-16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1430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WEB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ank you for particip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29200" y="4114800"/>
            <a:ext cx="126180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E49-4DD2-4CAE-9C29-4D6232F29D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ederal Transit Administration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447920"/>
            <a:ext cx="7391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ry Rosap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puty Associate Administrator for Program Management (TP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rika Buchanan-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Fau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ayne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2E6-F3B4-4A41-9CC1-52C8200736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ederal lands management agency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447920"/>
            <a:ext cx="73911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u DeLor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.S. Department of the I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han Caldw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.S. Fish and Wildlif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da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reau of L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Hartso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ational Park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en LaFayet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.S. Forest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358-4D8A-46B3-B5EC-301C1D878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1447920"/>
            <a:ext cx="73911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fe, Accountable, Flexible, Efficient Transportation Equity Act: A Legacy for Users (SAFETEA-LU) (2005) authorize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Transportation in Parks and Public Lands (ATPPL)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ederal Lands Alternative Transportation Systems Stu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97 million authorized during FY 2006 – FY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troduction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(Terry Rosapep, F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4AF-65C8-42E9-9C0F-EC0EAC99C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47920"/>
            <a:ext cx="73911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Y 2006 (first year of the progra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70 project proposals were submitted, totaling more than $40 million in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planning and implementation projects were selected for a total of $19,631,170 in funding (full list of projects is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ww.fta.dot.gov/atp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planning projects ($3.6 million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capital projects ($16 mil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projects were under $250,00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projects were between $250,000 and $500,000; 11 projects were above $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0FB-D342-46D5-B710-8AA4B3D54A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447920"/>
            <a:ext cx="7391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broad objectives specified in legislation, relating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sitor exper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ource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specific program goals identifi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e natural, historical, cul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congestion and 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visitor mobility and acce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visitor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access to all, including persons with dis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119-F252-47F6-B5CC-A075D86A71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TPP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21932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943600"/>
            <a:ext cx="74678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447920"/>
            <a:ext cx="73911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men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nd eval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lect the most meritorious projects for funding, based on a quantitative evalu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monstrated ne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 the best possible solutions to current or anticipated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ancial efficiency and sustainab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federal dollars wisely, and stimulate funding from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nd, integrated, and participatory plann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objective analysis and cooperative planning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ject varie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ographic diversity, urban/rural, project size, new/existing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A93-810B-4A0F-B53D-D497DBB02C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41:13Z</dcterms:created>
  <dc:creator>Eric Plosky</dc:creator>
  <dc:description/>
  <dc:language>en-US</dc:language>
  <cp:lastModifiedBy>scott.faulk</cp:lastModifiedBy>
  <dcterms:modified xsi:type="dcterms:W3CDTF">2007-01-16T16:04:43Z</dcterms:modified>
  <cp:revision>43</cp:revision>
  <dc:subject/>
  <dc:title>PowerPoint Presentation</dc:title>
</cp:coreProperties>
</file>