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158-1EE3-4A56-BF8A-A0517251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EF02-15B9-4E22-AFA6-CE094190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28A6-571C-48A4-A1ED-2AA3AF3C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9BF-2EB7-4F10-9458-BDAD1BBB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5D3-E29E-4B91-9E93-A0E95C14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2D35-2B15-48E7-A827-9763E230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D6E-525A-4E27-ADAC-F3093BFC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484-3B07-4E95-84AD-6A421B1A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151920"/>
            <a:ext cx="57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C19-B05F-4CEF-AAEE-C9B34C8E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54C-C65F-4538-B8EE-D5482792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4C8-55CE-4175-B1CA-5FBD54B2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92E-CA00-47C6-BB0C-27E9B443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51AE-36A7-41D1-9F2D-74CBD28FB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dc.gov/vaccines/programs/vmbip/downloads/nic/05-distrib-order.ppt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ational Immunization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ashington, D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rch 20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MBIP Distribution Team Overview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design of the distribution and ordering processes has required significant collaboration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embership of the distribution working team includes representatives from NIP and 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P team members represent the Program Operations Branch, Program Support Branch, Immunization Services Division, the Office of the Director and the Procurement and Grants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M team members represent Alaska, California, Georgia, Kentucky, Maine, Montana, New York, New York City, Oregon, Texas, Utah and Virgi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eam has held weekly conference calls since early October; attendance and participation has been exceptionally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eam met its goal of drafting business rules recommendations in time to post the Request For Information (RFI) in mid-Dec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business rules to support order management with the doses administered accountability method and were presented to AIM in January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43000" y="1633680"/>
            <a:ext cx="6854760" cy="4386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20387400">
            <a:off x="254160" y="1507680"/>
            <a:ext cx="1803240" cy="246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JANUARY VER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"/>
          <p:cNvSpPr/>
          <p:nvPr/>
        </p:nvSpPr>
        <p:spPr>
          <a:xfrm>
            <a:off x="2382840" y="1371600"/>
            <a:ext cx="424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aft Business Rules Presented to AIM in Janu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52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Feedback from grantees led to further investigation and a better understanding of the wide variety of data collection and accountability prac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39800" y="1663560"/>
            <a:ext cx="7751880" cy="4197600"/>
          </a:xfrm>
          <a:prstGeom prst="rect">
            <a:avLst/>
          </a:prstGeom>
          <a:ln w="0">
            <a:noFill/>
          </a:ln>
        </p:spPr>
      </p:pic>
      <p:sp>
        <p:nvSpPr>
          <p:cNvPr id="51" name="Title"/>
          <p:cNvSpPr/>
          <p:nvPr/>
        </p:nvSpPr>
        <p:spPr>
          <a:xfrm>
            <a:off x="3077640" y="1376280"/>
            <a:ext cx="302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ountability Methods Case Stu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"/>
          <p:cNvSpPr/>
          <p:nvPr/>
        </p:nvSpPr>
        <p:spPr>
          <a:xfrm>
            <a:off x="1970280" y="1523880"/>
            <a:ext cx="538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AFT – Current Thinking Around Business Rules for Ord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828800"/>
          <a:ext cx="7924680" cy="4010040"/>
        </p:xfrm>
        <a:graphic>
          <a:graphicData uri="http://schemas.openxmlformats.org/drawingml/2006/table">
            <a:tbl>
              <a:tblPr/>
              <a:tblGrid>
                <a:gridCol w="1371600"/>
                <a:gridCol w="1752480"/>
                <a:gridCol w="4800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d Data El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y (doses on han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roviders will be required to submit inventory data to support NIP goal of vaccine inventory vi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 Data El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s administered, wastage, transf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ollection of aggregate doses administered (by antigen) and inventory adjustment data will be supported to facilitate grantee accountability revie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d Business R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 provider order will be subject to a size che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 freq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providers will be asked to order no more than a set number of times per year (except in emergenci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 Business R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eports recei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6680" indent="-166680"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s adminis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6680" indent="-166680"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temp or temp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may choose to have the system hold provider orders based on missing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-specific fla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may choose to have the system hold provider orders based on accountability or QA checks that occur outside the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 “Pass-Through”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s administered by age/series/eligibility, temperature lo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may choose to have the call center collect additional detailed data and forward the information to the 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rot="20387400">
            <a:off x="228600" y="1507680"/>
            <a:ext cx="1155600" cy="39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UNDER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52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lthough the business rules are still being finalized, we expect they will require less provider behavior change than the original recomme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current VMBIP implementation plan separates the development effort for centralized distribution, centralized ordering and common accountability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2209680"/>
            <a:ext cx="858960" cy="798480"/>
          </a:xfrm>
          <a:custGeom>
            <a:avLst/>
            <a:gdLst>
              <a:gd name="textAreaLeft" fmla="*/ 0 w 858960"/>
              <a:gd name="textAreaRight" fmla="*/ 859320 w 85896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06600" y="2362320"/>
            <a:ext cx="7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lot centralize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1528560" y="2579040"/>
            <a:ext cx="841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1527120" y="3548880"/>
            <a:ext cx="841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1462320" y="4514760"/>
            <a:ext cx="971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19400" y="2222640"/>
            <a:ext cx="1257480" cy="7984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4" y="0"/>
                </a:lnTo>
                <a:lnTo>
                  <a:pt x="21600" y="10800"/>
                </a:lnTo>
                <a:lnTo>
                  <a:pt x="19284" y="21600"/>
                </a:lnTo>
                <a:lnTo>
                  <a:pt x="0" y="21600"/>
                </a:lnTo>
                <a:lnTo>
                  <a:pt x="2316" y="108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2362320"/>
            <a:ext cx="77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ntralized distribution roll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3166920"/>
            <a:ext cx="885960" cy="798480"/>
          </a:xfrm>
          <a:custGeom>
            <a:avLst/>
            <a:gdLst>
              <a:gd name="textAreaLeft" fmla="*/ 0 w 885960"/>
              <a:gd name="textAreaRight" fmla="*/ 886320 w 88596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40160" y="3343320"/>
            <a:ext cx="7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ordering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30640" y="3166920"/>
            <a:ext cx="884160" cy="798480"/>
          </a:xfrm>
          <a:custGeom>
            <a:avLst/>
            <a:gdLst>
              <a:gd name="textAreaLeft" fmla="*/ 0 w 884160"/>
              <a:gd name="textAreaRight" fmla="*/ 884520 w 88416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94" y="0"/>
                </a:lnTo>
                <a:lnTo>
                  <a:pt x="21600" y="10800"/>
                </a:lnTo>
                <a:lnTo>
                  <a:pt x="17894" y="21600"/>
                </a:lnTo>
                <a:lnTo>
                  <a:pt x="0" y="21600"/>
                </a:lnTo>
                <a:lnTo>
                  <a:pt x="3706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05160" y="3343320"/>
            <a:ext cx="7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ilot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rdering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13280" y="3166920"/>
            <a:ext cx="1412640" cy="798480"/>
          </a:xfrm>
          <a:custGeom>
            <a:avLst/>
            <a:gdLst>
              <a:gd name="textAreaLeft" fmla="*/ 0 w 1412640"/>
              <a:gd name="textAreaRight" fmla="*/ 1413000 w 1412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7" y="0"/>
                </a:lnTo>
                <a:lnTo>
                  <a:pt x="21600" y="10800"/>
                </a:lnTo>
                <a:lnTo>
                  <a:pt x="19247" y="21600"/>
                </a:lnTo>
                <a:lnTo>
                  <a:pt x="0" y="21600"/>
                </a:lnTo>
                <a:lnTo>
                  <a:pt x="2353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9400" y="3343320"/>
            <a:ext cx="7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entralized ordering roll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08320" y="4146480"/>
            <a:ext cx="2248200" cy="798480"/>
          </a:xfrm>
          <a:custGeom>
            <a:avLst/>
            <a:gdLst>
              <a:gd name="textAreaLeft" fmla="*/ 0 w 2248200"/>
              <a:gd name="textAreaRight" fmla="*/ 2248560 w 224820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7" y="0"/>
                </a:lnTo>
                <a:lnTo>
                  <a:pt x="21600" y="10800"/>
                </a:lnTo>
                <a:lnTo>
                  <a:pt x="19247" y="21600"/>
                </a:lnTo>
                <a:lnTo>
                  <a:pt x="0" y="21600"/>
                </a:lnTo>
                <a:lnTo>
                  <a:pt x="2353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75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324320"/>
            <a:ext cx="166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plement common accountability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through VMAP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90880" y="3095640"/>
            <a:ext cx="463680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90880" y="4052880"/>
            <a:ext cx="463680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5160" y="5086440"/>
            <a:ext cx="502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15880" y="51465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93560" y="51465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1600" y="51465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5760" y="51465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33800" y="51465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11480" y="51465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65520" y="513252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le"/>
          <p:cNvSpPr/>
          <p:nvPr/>
        </p:nvSpPr>
        <p:spPr>
          <a:xfrm>
            <a:off x="3009240" y="1692360"/>
            <a:ext cx="330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MBIP Implementation – Key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387400">
            <a:off x="1219320" y="1752120"/>
            <a:ext cx="1155600" cy="39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 R A F T</a:t>
            </a:r>
            <a:br>
              <a:rPr sz="1000"/>
            </a:b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 I M E L I N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distribution team is putting together the distribution RFP and designing the central order management system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eam is working toward an RFP (Request For Proposal) that will kick off the centralization of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eam is working to finalize the business requirements for a centralized ordering management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eam will work together to identify additional functionality (e.g. accountability data collection) that would be beneficial to gran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the centralization of distribution and ordering is underway, the focus will shift to investigating and incorporating accountability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uestions &amp; Contact Info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7000" y="2695680"/>
            <a:ext cx="82458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Mul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MBIP Distribution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dc.gov/vaccines/programs/vmbip/downloads/nic/05-distrib-order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14:38:59Z</dcterms:created>
  <dc:creator>CDC/NIP</dc:creator>
  <dc:description/>
  <cp:keywords>VMBIP distribution overview National Immunization Conference May 20 2005 ordering process NIP AIM RFI request for information draft business rules VMAP centralized ordering accountability </cp:keywords>
  <dc:language>en-US</dc:language>
  <cp:lastModifiedBy>gyj6</cp:lastModifiedBy>
  <dcterms:modified xsi:type="dcterms:W3CDTF">2008-02-19T13:49:28Z</dcterms:modified>
  <cp:revision>15</cp:revision>
  <dc:subject>VMBIP</dc:subject>
  <dc:title>VMBIP Distribution Team Overview</dc:title>
</cp:coreProperties>
</file>