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7FFBC-A5E9-405C-B909-933D3F67D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784E5-7616-4E8F-979F-74386C01C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A2840-8935-4F8C-9F1B-D7312A394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5232F-8A5A-4FDA-B513-4A72A02EE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FA5B3-DE9A-48CA-A33E-FADD1B59A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5337B-8CE1-430D-AB4D-0D4DF3ADF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FAB3D-7EB3-4435-9F1C-96CD51AA1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2C838-31BC-4EF6-9927-40EF7E49E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06FCC-7CC3-404A-93EA-EC13274FA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8B71A-EEBF-4FF7-A8F7-3247DB84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E60CA-81A7-4EDD-8FF6-854108C45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25154-38B9-43EE-A898-9759FF9AF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3660-3C75-4161-A981-294E974C8E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airnow.gov/"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14600" y="533520"/>
            <a:ext cx="5486400" cy="2743200"/>
          </a:xfrm>
          <a:prstGeom prst="rect">
            <a:avLst/>
          </a:prstGeom>
          <a:ln w="0">
            <a:noFill/>
          </a:ln>
        </p:spPr>
      </p:pic>
      <p:sp>
        <p:nvSpPr>
          <p:cNvPr id="42" name=""/>
          <p:cNvSpPr/>
          <p:nvPr/>
        </p:nvSpPr>
        <p:spPr>
          <a:xfrm>
            <a:off x="1143000" y="3886200"/>
            <a:ext cx="716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066680" y="2743200"/>
            <a:ext cx="6934320" cy="26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MS Mincho"/>
              </a:rPr>
              <a:t>Find out what people have been doing on your web sit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il Dickerson, US EPA</a:t>
            </a:r>
            <a:endParaRPr b="0" lang="en-US" sz="2000" spc="-1" strike="noStrike">
              <a:solidFill>
                <a:srgbClr val="000000"/>
              </a:solidFill>
              <a:latin typeface="Arial"/>
            </a:endParaRPr>
          </a:p>
        </p:txBody>
      </p:sp>
      <p:pic>
        <p:nvPicPr>
          <p:cNvPr id="44" name="" descr="Grissom_Shot.JPG (12544 bytes)"/>
          <p:cNvPicPr/>
          <p:nvPr/>
        </p:nvPicPr>
        <p:blipFill>
          <a:blip r:embed="rId2"/>
          <a:stretch/>
        </p:blipFill>
        <p:spPr>
          <a:xfrm>
            <a:off x="5029200" y="4000680"/>
            <a:ext cx="33336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a:t>
            </a:r>
            <a:r>
              <a:rPr b="1" lang="en-US" sz="1800" spc="-1" strike="noStrike">
                <a:solidFill>
                  <a:srgbClr val="ff0000"/>
                </a:solidFill>
                <a:latin typeface="Arial"/>
              </a:rPr>
              <a:t>[12/Jan/2005:09:24:30 -0500]</a:t>
            </a:r>
            <a:r>
              <a:rPr b="1" lang="en-US" sz="1800" spc="-1" strike="noStrike">
                <a:solidFill>
                  <a:srgbClr val="000000"/>
                </a:solidFill>
                <a:latin typeface="Arial"/>
              </a:rPr>
              <a:t> "GET /today/forecast.gif HTTP/1.1" 404 12183 "http://airnow.gov/" "Mozilla/4.0 (compatible; MSIE 6.0; Windows NT 5.0)“</a:t>
            </a:r>
            <a:br>
              <a:rPr sz="1800"/>
            </a:br>
            <a:endParaRPr b="0" lang="en-US" sz="1800" spc="-1" strike="noStrike">
              <a:solidFill>
                <a:srgbClr val="000000"/>
              </a:solidFill>
              <a:latin typeface="Arial"/>
            </a:endParaRPr>
          </a:p>
        </p:txBody>
      </p:sp>
      <p:sp>
        <p:nvSpPr>
          <p:cNvPr id="62"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e and time: </a:t>
            </a:r>
            <a:endParaRPr b="0" lang="en-US" sz="32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2/Jan/2005:09:24:30 -0500]</a:t>
            </a:r>
            <a:endParaRPr b="0" lang="en-US" sz="1600" spc="-1" strike="noStrike">
              <a:solidFill>
                <a:srgbClr val="000000"/>
              </a:solidFill>
              <a:latin typeface="Arial"/>
            </a:endParaRPr>
          </a:p>
        </p:txBody>
      </p:sp>
      <p:sp>
        <p:nvSpPr>
          <p:cNvPr id="63"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90720" y="2743200"/>
            <a:ext cx="73911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 gives us the date and time</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d with other fields, can yield peak days of week, highest activity in a month or a yea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give us an idea of how long people “browse” p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12/Jan/2005:09:24:30 -0500] </a:t>
            </a:r>
            <a:r>
              <a:rPr b="1" lang="en-US" sz="1800" spc="-1" strike="noStrike">
                <a:solidFill>
                  <a:srgbClr val="ff0000"/>
                </a:solidFill>
                <a:latin typeface="Arial"/>
              </a:rPr>
              <a:t>"GET /today/forecast.gif HTTP/1.1"</a:t>
            </a:r>
            <a:r>
              <a:rPr b="1" lang="en-US" sz="1800" spc="-1" strike="noStrike">
                <a:solidFill>
                  <a:srgbClr val="000000"/>
                </a:solidFill>
                <a:latin typeface="Arial"/>
              </a:rPr>
              <a:t> 404 12183 "http://airnow.gov/" "Mozilla/4.0 (compatible; MSIE 6.0; Windows NT 5.0)“</a:t>
            </a:r>
            <a:br>
              <a:rPr sz="1800"/>
            </a:br>
            <a:endParaRPr b="0" lang="en-US" sz="1800" spc="-1" strike="noStrike">
              <a:solidFill>
                <a:srgbClr val="000000"/>
              </a:solidFill>
              <a:latin typeface="Arial"/>
            </a:endParaRPr>
          </a:p>
        </p:txBody>
      </p:sp>
      <p:sp>
        <p:nvSpPr>
          <p:cNvPr id="66"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ques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ET /today/forecast.gif HTTP1.1”</a:t>
            </a:r>
            <a:endParaRPr b="0" lang="en-US" sz="2000" spc="-1" strike="noStrike">
              <a:solidFill>
                <a:srgbClr val="000000"/>
              </a:solidFill>
              <a:latin typeface="Arial"/>
            </a:endParaRPr>
          </a:p>
        </p:txBody>
      </p:sp>
      <p:sp>
        <p:nvSpPr>
          <p:cNvPr id="67"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914400" y="2666880"/>
            <a:ext cx="739152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us exactly what file the browser requested</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ives us the version of the HTTP protocol used</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s the CSI to determine which files, graphics, or documents are most, and least, reque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12/Jan/2005:09:24:30 -0500] "GET /today/forecast.gif HTTP/1.1" </a:t>
            </a:r>
            <a:r>
              <a:rPr b="1" lang="en-US" sz="1800" spc="-1" strike="noStrike">
                <a:solidFill>
                  <a:srgbClr val="ff0000"/>
                </a:solidFill>
                <a:latin typeface="Arial"/>
              </a:rPr>
              <a:t>404 12183</a:t>
            </a:r>
            <a:r>
              <a:rPr b="1" lang="en-US" sz="1800" spc="-1" strike="noStrike">
                <a:solidFill>
                  <a:srgbClr val="000000"/>
                </a:solidFill>
                <a:latin typeface="Arial"/>
              </a:rPr>
              <a:t> "http://airnow.gov/" "Mozilla/4.0 (compatible; MSIE 6.0; Windows NT 5.0)“</a:t>
            </a:r>
            <a:br>
              <a:rPr sz="1800"/>
            </a:br>
            <a:endParaRPr b="0" lang="en-US" sz="1800" spc="-1" strike="noStrike">
              <a:solidFill>
                <a:srgbClr val="000000"/>
              </a:solidFill>
              <a:latin typeface="Arial"/>
            </a:endParaRPr>
          </a:p>
        </p:txBody>
      </p:sp>
      <p:sp>
        <p:nvSpPr>
          <p:cNvPr id="70"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urn Code: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404”</a:t>
            </a:r>
            <a:endParaRPr b="0" lang="en-US" sz="2000" spc="-1" strike="noStrike">
              <a:solidFill>
                <a:srgbClr val="000000"/>
              </a:solidFill>
              <a:latin typeface="Arial"/>
            </a:endParaRPr>
          </a:p>
        </p:txBody>
      </p:sp>
      <p:sp>
        <p:nvSpPr>
          <p:cNvPr id="71"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990720" y="2514600"/>
            <a:ext cx="7391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s the result of the transaction – 404 means Page Not Found! This helps track old links to incorrect pages, or tells us when users attempt to type a URL from memory – incorrectl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404 has become techo-speak for a person who is utterly clueless, i.e. My supervisor is so 404.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codes:  200 = Successful  301 = Access Denied</a:t>
            </a:r>
            <a:endParaRPr b="0" lang="en-US" sz="1800" spc="-1" strike="noStrike">
              <a:solidFill>
                <a:srgbClr val="000000"/>
              </a:solidFill>
              <a:latin typeface="Arial"/>
            </a:endParaRPr>
          </a:p>
        </p:txBody>
      </p:sp>
      <p:sp>
        <p:nvSpPr>
          <p:cNvPr id="73" name=""/>
          <p:cNvSpPr/>
          <p:nvPr/>
        </p:nvSpPr>
        <p:spPr>
          <a:xfrm>
            <a:off x="685800" y="4572000"/>
            <a:ext cx="8229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Bytes: </a:t>
            </a:r>
            <a:endParaRPr b="0" lang="en-US" sz="32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12183”</a:t>
            </a:r>
            <a:endParaRPr b="0" lang="en-US" sz="2000" spc="-1" strike="noStrike">
              <a:solidFill>
                <a:srgbClr val="000000"/>
              </a:solidFill>
              <a:latin typeface="Arial"/>
            </a:endParaRPr>
          </a:p>
        </p:txBody>
      </p:sp>
      <p:sp>
        <p:nvSpPr>
          <p:cNvPr id="74" name=""/>
          <p:cNvSpPr/>
          <p:nvPr/>
        </p:nvSpPr>
        <p:spPr>
          <a:xfrm>
            <a:off x="1143000" y="5486400"/>
            <a:ext cx="7391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number of bytes sent in response to the reque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compute total bytes transferred out of the web s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12/Jan/2005:09:24:30 -0500] </a:t>
            </a:r>
            <a:r>
              <a:rPr b="1" lang="en-US" sz="1800" spc="-1" strike="noStrike">
                <a:solidFill>
                  <a:srgbClr val="000000"/>
                </a:solidFill>
                <a:latin typeface="Arial"/>
              </a:rPr>
              <a:t>"GET /today/forecast.gif HTTP/1.1" 404</a:t>
            </a:r>
            <a:r>
              <a:rPr b="1" lang="en-US" sz="1800" spc="-1" strike="noStrike">
                <a:solidFill>
                  <a:srgbClr val="000000"/>
                </a:solidFill>
                <a:latin typeface="Arial"/>
              </a:rPr>
              <a:t> 12183 </a:t>
            </a:r>
            <a:r>
              <a:rPr b="1" lang="en-US" sz="1800" spc="-1" strike="noStrike">
                <a:solidFill>
                  <a:srgbClr val="ff0000"/>
                </a:solidFill>
                <a:latin typeface="Arial"/>
              </a:rPr>
              <a:t>"http://airnow.gov/"</a:t>
            </a:r>
            <a:r>
              <a:rPr b="1" lang="en-US" sz="1800" spc="-1" strike="noStrike">
                <a:solidFill>
                  <a:srgbClr val="000000"/>
                </a:solidFill>
                <a:latin typeface="Arial"/>
              </a:rPr>
              <a:t> "Mozilla/4.0 (compatible; MSIE 6.0; Windows NT 5.0)“</a:t>
            </a:r>
            <a:br>
              <a:rPr sz="1800"/>
            </a:b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Referring Page: </a:t>
            </a:r>
            <a:endParaRPr b="0" lang="en-US" sz="3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ttp://airnow.gov/"</a:t>
            </a:r>
            <a:endParaRPr b="0" lang="en-US" sz="1800" spc="-1" strike="noStrike">
              <a:solidFill>
                <a:srgbClr val="000000"/>
              </a:solidFill>
              <a:latin typeface="Arial"/>
            </a:endParaRPr>
          </a:p>
        </p:txBody>
      </p:sp>
      <p:sp>
        <p:nvSpPr>
          <p:cNvPr id="77"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914400" y="2514600"/>
            <a:ext cx="73915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page the browser requested, BEFORE the current reques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s the CSI what the “clicker” was doing just before entering our click scen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determine what other sites link to your sit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ells you what “click path” a user follow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epartout.rtp.epa.gov - - [12/Jan/2005:09:24:30 -0500] </a:t>
            </a:r>
            <a:r>
              <a:rPr b="1" lang="en-US" sz="1800" spc="-1" strike="noStrike">
                <a:solidFill>
                  <a:srgbClr val="000000"/>
                </a:solidFill>
                <a:latin typeface="Arial"/>
              </a:rPr>
              <a:t>"GET /today/forecast.gif HTTP/1.1" 404</a:t>
            </a:r>
            <a:r>
              <a:rPr b="1" lang="en-US" sz="1800" spc="-1" strike="noStrike">
                <a:solidFill>
                  <a:srgbClr val="000000"/>
                </a:solidFill>
                <a:latin typeface="Arial"/>
              </a:rPr>
              <a:t> </a:t>
            </a:r>
            <a:r>
              <a:rPr b="1" lang="en-US" sz="1800" spc="-1" strike="noStrike">
                <a:solidFill>
                  <a:srgbClr val="000000"/>
                </a:solidFill>
                <a:latin typeface="Arial"/>
              </a:rPr>
              <a:t>12183 "http://airnow.gov/" </a:t>
            </a:r>
            <a:r>
              <a:rPr b="1" lang="en-US" sz="1800" spc="-1" strike="noStrike">
                <a:solidFill>
                  <a:srgbClr val="ff0000"/>
                </a:solidFill>
                <a:latin typeface="Arial"/>
              </a:rPr>
              <a:t>"Mozilla/4.0 (compatible; MSIE 6.0; Windows NT 5.0)“</a:t>
            </a:r>
            <a:br>
              <a:rPr sz="1800"/>
            </a:br>
            <a:endParaRPr b="0" lang="en-US" sz="1800" spc="-1" strike="noStrike">
              <a:solidFill>
                <a:srgbClr val="000000"/>
              </a:solidFill>
              <a:latin typeface="Arial"/>
            </a:endParaRPr>
          </a:p>
        </p:txBody>
      </p:sp>
      <p:sp>
        <p:nvSpPr>
          <p:cNvPr id="80"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lient Configuration: </a:t>
            </a:r>
            <a:endParaRPr b="0" lang="en-US" sz="3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zilla/4.0 (compatible; MSIE 6.0; Windows NT 5.0)“</a:t>
            </a:r>
            <a:endParaRPr b="0" lang="en-US" sz="1800" spc="-1" strike="noStrike">
              <a:solidFill>
                <a:srgbClr val="000000"/>
              </a:solidFill>
              <a:latin typeface="Arial"/>
            </a:endParaRPr>
          </a:p>
        </p:txBody>
      </p:sp>
      <p:sp>
        <p:nvSpPr>
          <p:cNvPr id="81" name=""/>
          <p:cNvSpPr/>
          <p:nvPr/>
        </p:nvSpPr>
        <p:spPr>
          <a:xfrm>
            <a:off x="990720" y="31240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914400" y="2590920"/>
            <a:ext cx="73915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rowser type and version used by the requesting clie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rating system the client was runni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excellent “forensic” evidence as to the demographics of your users</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to determine which browsers to support</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ven be used to see how many older operating systems are used by your audi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K, but I don’t like these logs as much as YOU do…</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you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if you really don’t want to look at log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T groups do some log analysis using off-the-shelf softw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oftware reads the log files and computes a variety of interesting metr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web usage reports are usually done automatically and are readily availab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s make interesting and useful assumptions about web site visi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Real-Life Sample from italladdsup.gov</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frame:  </a:t>
            </a:r>
            <a:r>
              <a:rPr b="0" lang="en-US" sz="1600" spc="-1" strike="noStrike">
                <a:solidFill>
                  <a:srgbClr val="000000"/>
                </a:solidFill>
                <a:latin typeface="Arial"/>
              </a:rPr>
              <a:t>10/01/2004 00:00:00 - 10/31/2004 23:59:59</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t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ire Site (Successful)  65,910</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er Day  2,126</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Page  20</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View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Views (Impressions)  26,146</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er Day  843</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Views  855</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tor Session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 Sessions  9,452</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Per Day  304</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Visitor Session Length  00:31:47</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Visitor Sessions  3.44%</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 Sessions of Unknown Origin  17.89%</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 Sessions from United States  78.66%</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tor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Visitors  2,834</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s Who Visited Once  2,416</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s Who Visited More Than Once  4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ts</a:t>
            </a:r>
            <a:br>
              <a:rPr sz="1600"/>
            </a:br>
            <a:r>
              <a:rPr b="0" lang="en-US" sz="1600" spc="-1" strike="noStrike">
                <a:solidFill>
                  <a:srgbClr val="000000"/>
                </a:solidFill>
                <a:latin typeface="Arial"/>
              </a:rPr>
              <a:t>Entire Site (Successful)  65,910</a:t>
            </a:r>
            <a:br>
              <a:rPr sz="1600"/>
            </a:br>
            <a:r>
              <a:rPr b="0" lang="en-US" sz="1600" spc="-1" strike="noStrike">
                <a:solidFill>
                  <a:srgbClr val="000000"/>
                </a:solidFill>
                <a:latin typeface="Arial"/>
              </a:rPr>
              <a:t>Average Per Day  2,126</a:t>
            </a:r>
            <a:br>
              <a:rPr sz="1600"/>
            </a:br>
            <a:r>
              <a:rPr b="0" lang="en-US" sz="1600" spc="-1" strike="noStrike">
                <a:solidFill>
                  <a:srgbClr val="000000"/>
                </a:solidFill>
                <a:latin typeface="Arial"/>
              </a:rPr>
              <a:t>Home Page  20</a:t>
            </a:r>
            <a:br>
              <a:rPr sz="1600"/>
            </a:br>
            <a:endParaRPr b="0" lang="en-US" sz="1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ts encompass ANY request – including each and every graph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ts provide a broad, overall measure of web activity; however, simply adding a new logo or picture will increase hits, since each new graphic requires an extra transa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me Page” is generally set within the software and may not refer to what you think is your home page.  Check with your IT department to see how this is 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219320" y="338040"/>
            <a:ext cx="7238880" cy="6519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143000" y="304920"/>
            <a:ext cx="7315200" cy="65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Briefing Roo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nvesti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ene of the click: the evidence and what it tells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apping up the Click Scene:  How you can “crack the case” in your outreach eff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 don’t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Views</a:t>
            </a:r>
            <a:br>
              <a:rPr sz="1600"/>
            </a:br>
            <a:r>
              <a:rPr b="0" lang="en-US" sz="1600" spc="-1" strike="noStrike">
                <a:solidFill>
                  <a:srgbClr val="000000"/>
                </a:solidFill>
                <a:latin typeface="Arial"/>
              </a:rPr>
              <a:t>Page Views (Impressions)  26,146</a:t>
            </a:r>
            <a:br>
              <a:rPr sz="1600"/>
            </a:br>
            <a:r>
              <a:rPr b="0" lang="en-US" sz="1600" spc="-1" strike="noStrike">
                <a:solidFill>
                  <a:srgbClr val="000000"/>
                </a:solidFill>
                <a:latin typeface="Arial"/>
              </a:rPr>
              <a:t>Average Per Day  843</a:t>
            </a:r>
            <a:br>
              <a:rPr sz="1600"/>
            </a:br>
            <a:r>
              <a:rPr b="0" lang="en-US" sz="1600" spc="-1" strike="noStrike">
                <a:solidFill>
                  <a:srgbClr val="000000"/>
                </a:solidFill>
                <a:latin typeface="Arial"/>
              </a:rPr>
              <a:t>Document Views  855</a:t>
            </a:r>
            <a:endParaRPr b="0" lang="en-US" sz="16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ge views are a good measure of your site’s usage.  They are comprised only of requests for web pages, i.e. files that end in HTM or HTML.  Graphics are not coun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views can be tricky. Most software requires that the IT folks tell it what a “document” is, by extension, i.e. .doc, .pdf, .txt, et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home message:  Make sure your IT department has the proper file extensions marked as “documents” in their reporting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tor Sessions</a:t>
            </a:r>
            <a:br>
              <a:rPr sz="1600"/>
            </a:br>
            <a:r>
              <a:rPr b="0" lang="en-US" sz="1600" spc="-1" strike="noStrike">
                <a:solidFill>
                  <a:srgbClr val="000000"/>
                </a:solidFill>
                <a:latin typeface="Arial"/>
              </a:rPr>
              <a:t>Visitor Sessions  9,452</a:t>
            </a:r>
            <a:br>
              <a:rPr sz="1600"/>
            </a:br>
            <a:r>
              <a:rPr b="0" lang="en-US" sz="1600" spc="-1" strike="noStrike">
                <a:solidFill>
                  <a:srgbClr val="000000"/>
                </a:solidFill>
                <a:latin typeface="Arial"/>
              </a:rPr>
              <a:t>Average Per Day  304</a:t>
            </a:r>
            <a:br>
              <a:rPr sz="1600"/>
            </a:br>
            <a:r>
              <a:rPr b="0" lang="en-US" sz="1600" spc="-1" strike="noStrike">
                <a:solidFill>
                  <a:srgbClr val="000000"/>
                </a:solidFill>
                <a:latin typeface="Arial"/>
              </a:rPr>
              <a:t>Average Visitor Session Length  00:31:47</a:t>
            </a:r>
            <a:br>
              <a:rPr sz="1600"/>
            </a:br>
            <a:r>
              <a:rPr b="0" lang="en-US" sz="1600" spc="-1" strike="noStrike">
                <a:solidFill>
                  <a:srgbClr val="000000"/>
                </a:solidFill>
                <a:latin typeface="Arial"/>
              </a:rPr>
              <a:t>International Visitor Sessions  3.44%</a:t>
            </a:r>
            <a:br>
              <a:rPr sz="1600"/>
            </a:br>
            <a:r>
              <a:rPr b="0" lang="en-US" sz="1600" spc="-1" strike="noStrike">
                <a:solidFill>
                  <a:srgbClr val="000000"/>
                </a:solidFill>
                <a:latin typeface="Arial"/>
              </a:rPr>
              <a:t>Visitor Sessions of Unknown Origin  17.89%</a:t>
            </a:r>
            <a:br>
              <a:rPr sz="1600"/>
            </a:br>
            <a:r>
              <a:rPr b="0" lang="en-US" sz="1600" spc="-1" strike="noStrike">
                <a:solidFill>
                  <a:srgbClr val="000000"/>
                </a:solidFill>
                <a:latin typeface="Arial"/>
              </a:rPr>
              <a:t>Visitor Sessions from United States  78.66%</a:t>
            </a:r>
            <a:br>
              <a:rPr sz="1600"/>
            </a:br>
            <a:endParaRPr b="0" lang="en-US" sz="1600" spc="-1" strike="noStrike">
              <a:solidFill>
                <a:srgbClr val="000000"/>
              </a:solidFill>
              <a:latin typeface="Arial"/>
            </a:endParaRPr>
          </a:p>
        </p:txBody>
      </p:sp>
      <p:sp>
        <p:nvSpPr>
          <p:cNvPr id="94"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or sessions are an artificial construct.  The web server sees only single requests, thus it does not know “us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analyzers define a visitor session as a group of requests from the same client, with no more than a set time period between them – my analyzer uses 10 minu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visitor clicks 1 page every 9 minutes, that is one visitor session.  If they click three pages, with 15 minutes between clicks, it would be three sess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length is the elapsed time between their first request and their last request.  It gives you an idea of how long they looked around your si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 of user sessions is gleaned from the client computer’s address, i.e. .gov,.com,.edu = US, .ca = Canada, .jp = Japa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tors</a:t>
            </a:r>
            <a:br>
              <a:rPr sz="1600"/>
            </a:br>
            <a:r>
              <a:rPr b="0" lang="en-US" sz="1600" spc="-1" strike="noStrike">
                <a:solidFill>
                  <a:srgbClr val="000000"/>
                </a:solidFill>
                <a:latin typeface="Arial"/>
              </a:rPr>
              <a:t>Unique Visitors  2,834</a:t>
            </a:r>
            <a:br>
              <a:rPr sz="1600"/>
            </a:br>
            <a:r>
              <a:rPr b="0" lang="en-US" sz="1600" spc="-1" strike="noStrike">
                <a:solidFill>
                  <a:srgbClr val="000000"/>
                </a:solidFill>
                <a:latin typeface="Arial"/>
              </a:rPr>
              <a:t>Visitors Who Visited Once  2,416</a:t>
            </a:r>
            <a:br>
              <a:rPr sz="1600"/>
            </a:br>
            <a:r>
              <a:rPr b="0" lang="en-US" sz="1600" spc="-1" strike="noStrike">
                <a:solidFill>
                  <a:srgbClr val="000000"/>
                </a:solidFill>
                <a:latin typeface="Arial"/>
              </a:rPr>
              <a:t>Visitors Who Visited More Than Once  418</a:t>
            </a:r>
            <a:br>
              <a:rPr sz="1600"/>
            </a:br>
            <a:endParaRPr b="0" lang="en-US" sz="1600" spc="-1" strike="noStrike">
              <a:solidFill>
                <a:srgbClr val="000000"/>
              </a:solidFill>
              <a:latin typeface="Arial"/>
            </a:endParaRPr>
          </a:p>
        </p:txBody>
      </p:sp>
      <p:sp>
        <p:nvSpPr>
          <p:cNvPr id="96" name="PlaceHolder 2"/>
          <p:cNvSpPr>
            <a:spLocks noGrp="1"/>
          </p:cNvSpPr>
          <p:nvPr>
            <p:ph/>
          </p:nvPr>
        </p:nvSpPr>
        <p:spPr>
          <a:xfrm>
            <a:off x="533160" y="1447920"/>
            <a:ext cx="83055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ors are really visiting brows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isitor is unique by their computer’s address, i.e. mybox.epa.gov</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ique” is limited to the scope of the analysis, so unique visitors may cover a month or a week, but is not tracked historic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visitors gives a sense of how many </a:t>
            </a:r>
            <a:r>
              <a:rPr b="0" i="1" lang="en-US" sz="2400" spc="-1" strike="noStrike">
                <a:solidFill>
                  <a:srgbClr val="000000"/>
                </a:solidFill>
                <a:latin typeface="Arial"/>
              </a:rPr>
              <a:t>different </a:t>
            </a:r>
            <a:r>
              <a:rPr b="0" lang="en-US" sz="2400" spc="-1" strike="noStrike">
                <a:solidFill>
                  <a:srgbClr val="000000"/>
                </a:solidFill>
                <a:latin typeface="Arial"/>
              </a:rPr>
              <a:t>people are visiting your site.  This metric can help you determine if high activity periods are the result of a few very industrious users, or an influx of many different us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ors who visited once may indicate a random look, or someone who did not find what they need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single visits with multiple visits can tell you how many people come back on a regular basi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op 5 Pieces of Evidence, IMHO</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HO is geek-speak for “In My Humble Opin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view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views and/or “top download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que visitor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ring sites or pag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y by day (or hour, day of wee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metrics you may see – and what they mea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viewed pag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s, i.e. HTML documents, and how many times they were requested, from most to leas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ring Sit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quest lists the site just prior, so a list of sites that point to your site, and how many requests took that route, can be generat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Repor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grouped by Internet domain.  Can assume “aol.com” is probably private citizen, or that any “.gov” is US government.  Also useful for measuring requests from other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ping up your click scen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tatistics are essentially free market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government organizations are not allowed to survey the public, so web stats are valuable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nderstood and used regularly, web stats can be an important component of your outreach “feedback loop” – telling you what worked and what didn’t and even offering hints as to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e DON’T Know...</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tatistics are “stateless”, i.e. one hit has no connection to another.  Thus, we can only assume “visits” or “p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ntity of a person – we only know their computer’s add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ONE referring page prior to their visit to your si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about timing, other than the time an individual visit occurred – duration of visit is purely an assum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483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Question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nvestigat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tracking web site usage, you’re leaving your excellent work “on the stu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will let you know things li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roducts are in highest dem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orts of customers are visiting your web 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events affect usage, i.e. ozone or PM epis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Scene Terminolog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t</a:t>
            </a:r>
            <a:r>
              <a:rPr b="0" lang="en-US" sz="3200" spc="-1" strike="noStrike">
                <a:solidFill>
                  <a:srgbClr val="000000"/>
                </a:solidFill>
                <a:latin typeface="Arial"/>
              </a:rPr>
              <a:t>:  a SINGLE transaction between a web client, i.e. browser, and a web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eb log</a:t>
            </a:r>
            <a:r>
              <a:rPr b="0" lang="en-US" sz="3200" spc="-1" strike="noStrike">
                <a:solidFill>
                  <a:srgbClr val="000000"/>
                </a:solidFill>
                <a:latin typeface="Arial"/>
              </a:rPr>
              <a:t>:  text file that tracks every transaction between a client and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P Address</a:t>
            </a:r>
            <a:r>
              <a:rPr b="0" lang="en-US" sz="3200" spc="-1" strike="noStrike">
                <a:solidFill>
                  <a:srgbClr val="000000"/>
                </a:solidFill>
                <a:latin typeface="Arial"/>
              </a:rPr>
              <a:t>:  the unique address of a single device on the Internet, similar to a telephone numb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RL</a:t>
            </a:r>
            <a:r>
              <a:rPr b="0" lang="en-US" sz="3200" spc="-1" strike="noStrike">
                <a:solidFill>
                  <a:srgbClr val="000000"/>
                </a:solidFill>
                <a:latin typeface="Arial"/>
              </a:rPr>
              <a:t>:  Uniform Resource Locator, more commonly known as “a web add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 Know:  The Crime Scene</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one clicked into your si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y left behind was a few entries in a web log:</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current/pm25/pm25_super_current_hour_small.gif HTTP/1.1" 200 25416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aqi_logo.gif HTTP/1.1" 200 2046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scripts/date.js HTTP/1.1" 200 1660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woodstove.gif HTTP/1.1" 200 9397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epa_seal_small.gif HTTP/1.1" 200 2130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current/super_current_hour_small.gif HTTP/1.1" 200 21374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current/current-outlook-small.gif HTTP/1.1" 200 37087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airnow_banner2.gif HTTP/1.1" 200 16582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images/exit.gif HTTP/1.1" 200 496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 HTTP/1.1" 200 40340 "-"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today/forecast.gif HTTP/1.1" 404 12183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7 -0500] "GET /styles/epafiles_epastyles.css HTTP/1.1" 200 3303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8 -0500] "GET /images/noaa_logo.gif HTTP/1.1" 200 1960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8 -0500] "GET /images/nasa_logo.gif HTTP/1.1" 200 1614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8 -0500] "GET /images/nps_logo_small.gif HTTP/1.1" 200 1547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28 -0500] "GET /images/environ_canada.gif HTTP/1.1" 200 1030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ssepartout.rtp.epa.gov - - [12/Jan/2005:09:24:30 -0500] "GET /today/forecast.gif HTTP/1.1" 404 12183 "http://airnow.gov/" "Mozilla/4.0 (compatible; MSIE 6.0; Windows NT 5.0)"</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all that m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Log Anatom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line per transaction, or “h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line has the following el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Address of the reques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and time of the reque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ual reque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 cod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bytes delive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ring p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Software inf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Log Anatomy … up clos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ssepartout.rtp.epa.gov - - [12/Jan/2005:09:24:30 -0500] "GET /today/forecast.gif HTTP/1.1" 404 12183 "http://airnow.gov/" "Mozilla/4.0 (compatible; MSIE 6.0; Windows NT 5.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epartout.rtp.epa.gov:  </a:t>
            </a:r>
            <a:r>
              <a:rPr b="0" lang="en-US" sz="1600" spc="-1" strike="noStrike">
                <a:solidFill>
                  <a:srgbClr val="000000"/>
                </a:solidFill>
                <a:latin typeface="Arial"/>
              </a:rPr>
              <a:t>my computer’s “na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Jan/2005:09:24:30 -0500]:  </a:t>
            </a:r>
            <a:r>
              <a:rPr b="0" lang="en-US" sz="1600" spc="-1" strike="noStrike">
                <a:solidFill>
                  <a:srgbClr val="000000"/>
                </a:solidFill>
                <a:latin typeface="Arial"/>
              </a:rPr>
              <a:t>The date and time, with GMT off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T /today/forecast.gif HTTP1.1”:  </a:t>
            </a:r>
            <a:r>
              <a:rPr b="0" lang="en-US" sz="1600" spc="-1" strike="noStrike">
                <a:solidFill>
                  <a:srgbClr val="000000"/>
                </a:solidFill>
                <a:latin typeface="Arial"/>
              </a:rPr>
              <a:t>What the browser or client request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4:  </a:t>
            </a:r>
            <a:r>
              <a:rPr b="0" lang="en-US" sz="1600" spc="-1" strike="noStrike">
                <a:solidFill>
                  <a:srgbClr val="000000"/>
                </a:solidFill>
                <a:latin typeface="Arial"/>
              </a:rPr>
              <a:t>The return code.  404 means Page Not Foun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183:  </a:t>
            </a:r>
            <a:r>
              <a:rPr b="0" lang="en-US" sz="1600" spc="-1" strike="noStrike">
                <a:solidFill>
                  <a:srgbClr val="000000"/>
                </a:solidFill>
                <a:latin typeface="Arial"/>
              </a:rPr>
              <a:t>12,183 bytes were returned.  In this case, they would comprise the EPA Page Not Found page</a:t>
            </a:r>
            <a:endParaRPr b="0" lang="en-US" sz="1600" spc="-1" strike="noStrike">
              <a:solidFill>
                <a:srgbClr val="000000"/>
              </a:solidFill>
              <a:latin typeface="Arial"/>
            </a:endParaRPr>
          </a:p>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airnow.gov/</a:t>
            </a:r>
            <a:r>
              <a:rPr b="0" lang="en-US" sz="1600" spc="-1" strike="noStrike" u="sng">
                <a:solidFill>
                  <a:srgbClr val="000000"/>
                </a:solidFill>
                <a:uFillTx/>
                <a:latin typeface="Arial"/>
              </a:rPr>
              <a:t>:  </a:t>
            </a:r>
            <a:r>
              <a:rPr b="0" lang="en-US" sz="1600" spc="-1" strike="noStrike">
                <a:solidFill>
                  <a:srgbClr val="000000"/>
                </a:solidFill>
                <a:latin typeface="Arial"/>
              </a:rPr>
              <a:t>The referring pag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zilla/4.0 (compatible; MSIE 6.0; Windows NT 5.0)“:  </a:t>
            </a:r>
            <a:r>
              <a:rPr b="0" lang="en-US" sz="1600" spc="-1" strike="noStrike">
                <a:solidFill>
                  <a:srgbClr val="000000"/>
                </a:solidFill>
                <a:latin typeface="Arial"/>
              </a:rPr>
              <a:t>The hardware and software used by the reques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4756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does each piece of evidence tell us about the click?</a:t>
            </a:r>
            <a:endParaRPr b="0" lang="en-US" sz="6000" spc="-1" strike="noStrike">
              <a:solidFill>
                <a:srgbClr val="000000"/>
              </a:solidFill>
              <a:latin typeface="Arial"/>
            </a:endParaRPr>
          </a:p>
        </p:txBody>
      </p:sp>
      <p:pic>
        <p:nvPicPr>
          <p:cNvPr id="58" name="" descr=""/>
          <p:cNvPicPr/>
          <p:nvPr/>
        </p:nvPicPr>
        <p:blipFill>
          <a:blip r:embed="rId1"/>
          <a:stretch/>
        </p:blipFill>
        <p:spPr>
          <a:xfrm>
            <a:off x="7086600" y="5410080"/>
            <a:ext cx="1447920" cy="82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ssepartout.rtp.epa.gov</a:t>
            </a:r>
            <a:r>
              <a:rPr b="1" lang="en-US" sz="1800" spc="-1" strike="noStrike">
                <a:solidFill>
                  <a:srgbClr val="000000"/>
                </a:solidFill>
                <a:latin typeface="Arial"/>
              </a:rPr>
              <a:t> - - [12/Jan/2005:09:24:30 -0500] "GET /today/forecast.gif HTTP/1.1" 404 12183 "http://airnow.gov/" "Mozilla/4.0 (compatible; MSIE 6.0; Windows NT 5.0)“</a:t>
            </a:r>
            <a:br>
              <a:rPr sz="1800"/>
            </a:br>
            <a:endParaRPr b="0" lang="en-US" sz="1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questing IP Address: </a:t>
            </a:r>
            <a:r>
              <a:rPr b="0" lang="en-US" sz="3000" spc="-1" strike="noStrike">
                <a:solidFill>
                  <a:srgbClr val="ff0000"/>
                </a:solidFill>
                <a:latin typeface="Arial"/>
              </a:rPr>
              <a:t>passepartout.epa.gov</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the only evidence left at the scene that can be used to divine demographic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example, we can readily see that the request came from EP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also sort the file on this address and follow what this user actually viewed on the si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8:02:29Z</dcterms:created>
  <dc:creator>Phil Dickerson</dc:creator>
  <dc:description/>
  <dc:language>en-US</dc:language>
  <cp:lastModifiedBy>Phil Dickerson</cp:lastModifiedBy>
  <dcterms:modified xsi:type="dcterms:W3CDTF">2005-02-03T16:59:55Z</dcterms:modified>
  <cp:revision>28</cp:revision>
  <dc:subject/>
  <dc:title>Slide 1</dc:title>
</cp:coreProperties>
</file>