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WHOOSH.WAV" ContentType="audio/x-wav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F60-5367-4289-92FD-2B709B87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1E4-1E53-4F89-84A8-9244472D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84B-5BCF-4E28-8F14-C93328F5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278-AD72-485D-92FF-4814A9C9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CFCC-D0A0-405C-8697-CAE1069E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13F-A9C3-4ECB-BBCE-86CBD7A3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B3F-2F5B-4896-83A7-086A8957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B35-7A0E-43E3-8067-ED44020D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55D-A13E-42F0-B541-99430E66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76E-0879-453F-9D95-F8B1AD3C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1C3-5F1F-477A-9F6A-C330FA0D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223-6CCD-4EAA-9AFE-311658DA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5260-7732-472B-BC5B-F31ECB0122F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dvanced Mobile Communications/Third Generation (3G) Wire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4495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Assistant Secretary Gregory L. Roh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ational Telecommunications &amp; Information Administration (NT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vember 2, 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36360" y="2895480"/>
            <a:ext cx="567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IDENT’S MEMORAND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RETARY’S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2793960"/>
            <a:ext cx="5867280" cy="1600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9E2-BF3A-446F-BBF5-AE54051BA43D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ident’s Memorandum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ederal Agency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9372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Secretary of Commerce 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ct 20, 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ue 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im Repor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n 1755-1850 MHz (NTIA) &amp; 2500-2690 (FCC)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v 15, 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&amp; Implement 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utreach Progra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th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Secy’s of Defense, Treasury, Transportation, State &amp; Other Agency Incumbent Spectrum Users ..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ipate &amp; cooperate in government-industry outreach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Secretary of State ..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e &amp; present views of U.S. intern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FCC 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ipate in outreach program, Initiat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 mak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spectrum selection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uly, 01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uctioning &amp; licen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rocess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p 30, 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76320"/>
            <a:ext cx="4953240" cy="990360"/>
          </a:xfrm>
          <a:prstGeom prst="rect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4D2-4C3F-4816-A551-6B94517F1782}" type="slidenum">
              <a:t>10</a:t>
            </a:fld>
          </a:p>
        </p:txBody>
      </p:sp>
    </p:spTree>
  </p:cSld>
  <p:transition>
    <p:random/>
    <p:sndAc>
      <p:stSnd>
        <p:snd r:embed="rId1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ident’s Memorandum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Goals -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2209680"/>
          <a:ext cx="9272520" cy="421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9272520" cy="42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133720" y="609480"/>
            <a:ext cx="5333760" cy="1219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F65-CF02-4945-B8E0-7BDBBE03D0A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lan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22860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nds to be consid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udy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lection proces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CC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609480"/>
            <a:ext cx="3504960" cy="1219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B34-7106-43B9-9C5F-359D23D19050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lan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ands To Be Consid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C 2000/IMT-2000 … Bands identified for terrestrial … 698-960, 1710-1885, &amp; 2500-2690 MHz … Perform studies (NTIA: 1755-1850 &amp; FCC:  2500-2690 M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other bands (698-960, 1710-1755, 2110-2150, 2160-2165 MHz) … Outreach or FCC rulemaking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152280"/>
            <a:ext cx="518184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D09-7A29-40E6-84D5-CB7F0F0CDCB7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622440"/>
            <a:ext cx="8991720" cy="570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48320" y="3581280"/>
            <a:ext cx="106668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3581280"/>
            <a:ext cx="38088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34520" y="3581280"/>
            <a:ext cx="228600" cy="76212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380880"/>
            <a:ext cx="1219320" cy="3048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380880"/>
            <a:ext cx="3429000" cy="3200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380880"/>
            <a:ext cx="4191120" cy="3048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6320" y="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G Pos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-152280"/>
            <a:ext cx="220968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A1C-4955-4386-941E-39FA014E6AD9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76320"/>
            <a:ext cx="388620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90720" y="-152280"/>
          <a:ext cx="8001000" cy="68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52280"/>
                    <a:ext cx="8001000" cy="68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600920" y="1143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7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8320" y="2286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9000" y="2286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20240" y="2286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1120" y="2286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5600" y="327672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MTS UNPAI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720" y="21337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840" y="2286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720" y="2286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7240" y="3352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7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8120" y="3352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8195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2320" y="4495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7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6040" y="4495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5520" y="4495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236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gust 26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5320" y="4495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80680" y="5334120"/>
            <a:ext cx="15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RRESTRIAL + HA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9528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RREST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6095880"/>
            <a:ext cx="6858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56680" y="6019920"/>
            <a:ext cx="2231280" cy="855360"/>
            <a:chOff x="6556680" y="6019920"/>
            <a:chExt cx="2231280" cy="855360"/>
          </a:xfrm>
        </p:grpSpPr>
        <p:sp>
          <p:nvSpPr>
            <p:cNvPr id="107" name=""/>
            <p:cNvSpPr/>
            <p:nvPr/>
          </p:nvSpPr>
          <p:spPr>
            <a:xfrm>
              <a:off x="7828560" y="6019920"/>
              <a:ext cx="9594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525    - 155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610    -166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483.5 - 2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500    - 25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670    - 26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56680" y="6019920"/>
              <a:ext cx="1002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DDIT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MT-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ATELL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141 MHz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477120" y="6045120"/>
            <a:ext cx="2280960" cy="79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91240" y="6488280"/>
            <a:ext cx="33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6000" y="1143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7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720" y="1143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840" y="11430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2000" y="12193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0400" y="12193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7440" y="12193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20240" y="1066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7600" y="12193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9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11840" y="3733920"/>
            <a:ext cx="50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50080" y="3733920"/>
            <a:ext cx="48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27636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19720" y="5105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71800" y="4191120"/>
            <a:ext cx="966960" cy="398520"/>
            <a:chOff x="2971800" y="4191120"/>
            <a:chExt cx="966960" cy="398520"/>
          </a:xfrm>
        </p:grpSpPr>
        <p:sp>
          <p:nvSpPr>
            <p:cNvPr id="124" name=""/>
            <p:cNvSpPr/>
            <p:nvPr/>
          </p:nvSpPr>
          <p:spPr>
            <a:xfrm>
              <a:off x="2974680" y="4191120"/>
              <a:ext cx="964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SS UP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1980-201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71800" y="4191120"/>
              <a:ext cx="9144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22600" y="4191120"/>
            <a:ext cx="1203480" cy="398520"/>
            <a:chOff x="4422600" y="4191120"/>
            <a:chExt cx="1203480" cy="398520"/>
          </a:xfrm>
        </p:grpSpPr>
        <p:sp>
          <p:nvSpPr>
            <p:cNvPr id="127" name=""/>
            <p:cNvSpPr/>
            <p:nvPr/>
          </p:nvSpPr>
          <p:spPr>
            <a:xfrm>
              <a:off x="4422600" y="4191120"/>
              <a:ext cx="120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SS DOWN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2170-22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4191120"/>
              <a:ext cx="10663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898360" y="2666880"/>
            <a:ext cx="545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9960" y="2666880"/>
            <a:ext cx="545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124440" y="3657600"/>
            <a:ext cx="1119600" cy="398520"/>
            <a:chOff x="3124440" y="3657600"/>
            <a:chExt cx="1119600" cy="398520"/>
          </a:xfrm>
        </p:grpSpPr>
        <p:sp>
          <p:nvSpPr>
            <p:cNvPr id="132" name=""/>
            <p:cNvSpPr/>
            <p:nvPr/>
          </p:nvSpPr>
          <p:spPr>
            <a:xfrm>
              <a:off x="3124440" y="3657600"/>
              <a:ext cx="1119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DD (1890-188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040" y="3657600"/>
              <a:ext cx="9907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V="1">
            <a:off x="3657600" y="304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95480" y="3047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79760" y="2590920"/>
            <a:ext cx="672840" cy="398520"/>
            <a:chOff x="1679760" y="2590920"/>
            <a:chExt cx="672840" cy="398520"/>
          </a:xfrm>
        </p:grpSpPr>
        <p:sp>
          <p:nvSpPr>
            <p:cNvPr id="137" name=""/>
            <p:cNvSpPr/>
            <p:nvPr/>
          </p:nvSpPr>
          <p:spPr>
            <a:xfrm>
              <a:off x="1679760" y="2590920"/>
              <a:ext cx="672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UNP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68320" y="2606400"/>
              <a:ext cx="5331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286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3247560" y="26985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SS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3323880" y="163188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SS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1363680" y="1508400"/>
            <a:ext cx="56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O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4167360" y="1568520"/>
            <a:ext cx="59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O 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519800" y="165492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SS D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4519800" y="272160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SS D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1371600"/>
            <a:ext cx="838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OV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X, MOB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40800" y="1523880"/>
            <a:ext cx="48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1523880"/>
            <a:ext cx="66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2602080" y="166716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CSUN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16765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/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952880" y="2133720"/>
            <a:ext cx="1654200" cy="246240"/>
            <a:chOff x="4952880" y="2133720"/>
            <a:chExt cx="1654200" cy="246240"/>
          </a:xfrm>
        </p:grpSpPr>
        <p:sp>
          <p:nvSpPr>
            <p:cNvPr id="152" name=""/>
            <p:cNvSpPr/>
            <p:nvPr/>
          </p:nvSpPr>
          <p:spPr>
            <a:xfrm>
              <a:off x="4952880" y="2133720"/>
              <a:ext cx="165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MDS(2150-216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06880" y="2141640"/>
              <a:ext cx="10670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H="1" flipV="1">
            <a:off x="4648320" y="20570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876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T -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45720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00600" y="45720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9160" y="495288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RREST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394040" y="4343400"/>
            <a:ext cx="991440" cy="246240"/>
            <a:chOff x="7394040" y="4343400"/>
            <a:chExt cx="991440" cy="246240"/>
          </a:xfrm>
        </p:grpSpPr>
        <p:sp>
          <p:nvSpPr>
            <p:cNvPr id="160" name=""/>
            <p:cNvSpPr/>
            <p:nvPr/>
          </p:nvSpPr>
          <p:spPr>
            <a:xfrm>
              <a:off x="7394040" y="4343400"/>
              <a:ext cx="99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SS (20 MHz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07360" y="4359240"/>
              <a:ext cx="9144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H="1">
            <a:off x="7238880" y="4495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44956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16002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DS, MMDS, IT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" y="2362320"/>
            <a:ext cx="124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280" y="63849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6720" y="16002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30320" y="121932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6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523880"/>
            <a:ext cx="60948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362320"/>
            <a:ext cx="1295280" cy="761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581280"/>
            <a:ext cx="129528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80060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" y="3581280"/>
            <a:ext cx="12445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1E4-9DF9-4CD6-81F4-C676EE08F0CF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76520" y="228600"/>
            <a:ext cx="6172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0"/>
          <a:ext cx="9115560" cy="662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9115560" cy="66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781680" y="29718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9480" y="2971800"/>
            <a:ext cx="50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32080" y="1447920"/>
            <a:ext cx="69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6640" y="1447920"/>
            <a:ext cx="50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7581960" y="3164400"/>
            <a:ext cx="6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2777400" y="1566000"/>
            <a:ext cx="78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3513600" y="15908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428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148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604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956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764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748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696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644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9240" y="2590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30480" y="2590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39960" y="2590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49440" y="2590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4880" y="2590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6378480" y="307188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-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4480" y="41148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535240" y="41148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1680" y="380880"/>
            <a:ext cx="89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14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6483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RREST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4960" y="41148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1371600"/>
            <a:ext cx="78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5238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6002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448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6019920"/>
            <a:ext cx="6858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9280" y="25909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4960" y="9907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4648320"/>
            <a:ext cx="198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LANNED USE BY SOME ADMINIST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52280" y="1295280"/>
            <a:ext cx="1451160" cy="642600"/>
            <a:chOff x="152280" y="1295280"/>
            <a:chExt cx="1451160" cy="642600"/>
          </a:xfrm>
        </p:grpSpPr>
        <p:sp>
          <p:nvSpPr>
            <p:cNvPr id="212" name=""/>
            <p:cNvSpPr/>
            <p:nvPr/>
          </p:nvSpPr>
          <p:spPr>
            <a:xfrm>
              <a:off x="154800" y="1295280"/>
              <a:ext cx="144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.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L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2280" y="1295280"/>
              <a:ext cx="1447920" cy="6098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52280" y="2666880"/>
            <a:ext cx="1240200" cy="990720"/>
            <a:chOff x="152280" y="2666880"/>
            <a:chExt cx="1240200" cy="990720"/>
          </a:xfrm>
        </p:grpSpPr>
        <p:sp>
          <p:nvSpPr>
            <p:cNvPr id="215" name=""/>
            <p:cNvSpPr/>
            <p:nvPr/>
          </p:nvSpPr>
          <p:spPr>
            <a:xfrm>
              <a:off x="289800" y="2705040"/>
              <a:ext cx="110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urop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amp; Oth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l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280" y="2666880"/>
              <a:ext cx="1219320" cy="990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52280" y="4648320"/>
            <a:ext cx="1067040" cy="457200"/>
            <a:chOff x="152280" y="4648320"/>
            <a:chExt cx="1067040" cy="457200"/>
          </a:xfrm>
        </p:grpSpPr>
        <p:sp>
          <p:nvSpPr>
            <p:cNvPr id="218" name=""/>
            <p:cNvSpPr/>
            <p:nvPr/>
          </p:nvSpPr>
          <p:spPr>
            <a:xfrm>
              <a:off x="153360" y="4745160"/>
              <a:ext cx="10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T-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280" y="4648320"/>
              <a:ext cx="1067040" cy="4572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AD2-7E62-433B-B12B-DD65BA881584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lan  -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tudy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304920"/>
            <a:ext cx="670536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terim Repor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… Nov 15, 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on of 3G system … F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on of incumbent spectrum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ion of system sharing &amp; band segmentation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inal Repor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… Mar 1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im repor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on other b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on of alternate bands &amp; re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ion of cost &amp; migration for 3 time periods (2003, 2006, &amp; 2010) for all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1CB-8008-4DC0-85C7-3A3029813F13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07320" y="304920"/>
            <a:ext cx="788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SPECTRUM SELEC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7000" y="1447920"/>
            <a:ext cx="575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USTRY - GOVER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UTR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UBLIC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4840" y="3200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990720"/>
            <a:ext cx="6400800" cy="228600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523880" y="3962520"/>
            <a:ext cx="6172200" cy="2209680"/>
            <a:chOff x="1523880" y="3962520"/>
            <a:chExt cx="6172200" cy="2209680"/>
          </a:xfrm>
        </p:grpSpPr>
        <p:sp>
          <p:nvSpPr>
            <p:cNvPr id="228" name=""/>
            <p:cNvSpPr/>
            <p:nvPr/>
          </p:nvSpPr>
          <p:spPr>
            <a:xfrm>
              <a:off x="2971800" y="4267080"/>
              <a:ext cx="3178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CC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RULEMAKI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PROCEDU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3962520"/>
              <a:ext cx="6172200" cy="22096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5F7-1878-450A-8672-635D833B3E14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lan -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ut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0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es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blic Meeting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 Facilitator ...  NT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ticipa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 Incumbent spectrum users (Govt and non-Govt), FCC, NTIA, &amp; other interested pa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ustry Ideas and Pla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G spectrum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nd 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G/2G/Other G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umbent alternate b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and long range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 ro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0"/>
            <a:ext cx="4952880" cy="609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FFA-4092-44D4-ACEE-97BD26EF2A8E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SIDENT’S MEMORAND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ctober 13,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mport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next generation wireless systems &amp; need for selection of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incip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selection of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ire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Federal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Goals -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685800"/>
            <a:ext cx="5486400" cy="1066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F80-A2DD-404A-A44B-1F03A80DCA2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lan -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CC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78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ublic submits petitions (CTIA &amp; SIA have submitted petitions to FC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sue a Notice-of-Proposed-Rulemaking (NPRM) …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Dec 31, 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btain public comments on NP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dopt Report &amp; Order for changes to Table of Allocations…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Jul 30, 0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sue FNPRM on service &amp; auction rules…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Jul 30, 0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sue service &amp; auction rules…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Dec 15, 0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nduct auction…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Jun 15, 0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sue licences…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ep 30, 0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228600"/>
            <a:ext cx="548640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1D4-AD85-44A4-89A7-C428E8865573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lan -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che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066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t 20-Nov15, 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 shares its ideas, positions, &amp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v 15, 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im band studies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v 15-30, 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 comments on Interim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 31, 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releases NPRM on 3G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 1, 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 reports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 1 - Jun 15, 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exchange meetings with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 1 - Jun 15, 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IA/FCC meet on final R&amp;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 30, 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issues allocation selection order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NPRM on service &amp; auctio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 15, 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issues Service &amp; Auctio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 15, 0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conducts the a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 30, 0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CC issues licen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0"/>
            <a:ext cx="5181840" cy="8380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2E0-3DB3-4458-898D-67CE1E3430E0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14960" y="1066680"/>
            <a:ext cx="449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ff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609480"/>
            <a:ext cx="5867640" cy="221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133720" y="3200400"/>
            <a:ext cx="5410080" cy="3124080"/>
            <a:chOff x="2133720" y="3200400"/>
            <a:chExt cx="5410080" cy="3124080"/>
          </a:xfrm>
        </p:grpSpPr>
        <p:sp>
          <p:nvSpPr>
            <p:cNvPr id="242" name=""/>
            <p:cNvSpPr/>
            <p:nvPr/>
          </p:nvSpPr>
          <p:spPr>
            <a:xfrm>
              <a:off x="2284920" y="3200400"/>
              <a:ext cx="51458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IND IT VIA 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  WWW.NTIA.DOC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  Click“3G Wireless” ic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Select Materials to Read/Downlo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ident’s Me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EA White Pa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ovt Officials’ Stat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3720" y="3200400"/>
              <a:ext cx="5410080" cy="31240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15B-11BE-451B-8271-BC8D593CF92F}" type="slidenum">
              <a:t>2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ident’s Memorandum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mpor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onomic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.S. Internet &amp; wireless leadership is at 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609480"/>
            <a:ext cx="525780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CDF-F15D-4397-953B-BDDDC26D41FA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A Economic Study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G Technology &amp;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G Technology …  wireless communications + the Inter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ays in introducing 3G products &amp; services are costl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echnologies bring benefits to consumers, producers, and the economy as a wh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 benefit from today’s wireless telephone services is estimated at $53–$111 bill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 benefits from 3G services will likely be of this order of magn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0"/>
            <a:ext cx="5257800" cy="1219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919-BBB3-4CD1-9256-EE35D7E53D1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DB2-0D83-4842-8014-C3CB086E5DA3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36440"/>
            <a:ext cx="8534160" cy="611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718-34E4-42DE-99A9-2E046A56297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95120"/>
            <a:ext cx="8382240" cy="605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E60-8650-4398-B717-400C4E2445F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01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D6B-159B-48AB-B6B4-18213056105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ident’s Memorandum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peration between Federal agencies and industry to identify spectrum by July 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y-neutralit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umbent spectrum users must be treated equitably  ... taking national security &amp; public safety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ance a pro-competitive approach and seek regional &amp; international harm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304920"/>
            <a:ext cx="502920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5F4-9847-43F3-8065-953664A53ACB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01:19:29Z</dcterms:created>
  <dc:creator>Fred Wentland</dc:creator>
  <dc:description/>
  <dc:language>en-US</dc:language>
  <cp:lastModifiedBy>bforbes</cp:lastModifiedBy>
  <cp:lastPrinted>2000-11-02T13:31:03Z</cp:lastPrinted>
  <dcterms:modified xsi:type="dcterms:W3CDTF">2008-10-02T15:57:24Z</dcterms:modified>
  <cp:revision>45</cp:revision>
  <dc:subject/>
  <dc:title>FEDERAL GOVERNMENT SPECTRUM </dc:title>
</cp:coreProperties>
</file>