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13FB02-3057-4890-ADA8-720542CD6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focus my presentation on the safety issues in MI-CP111 which is the main study to support this lice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zing history variable were used in three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W was a pre-specified safety endpoint of primary conc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R for the whole study populatio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pecially in 6-23 age group, RR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MSW-related hospit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udy is not powered to differences in hospitalization rate between the two groups, since the hospitalization rate is very low as you se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FD14-3C93-45A8-8D2D-DB81AB8D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A8AA-3FDD-4AF3-B992-A89C9ECA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209C-C71E-4DA0-B091-7D6EBDAA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056-0DCA-4EDF-98A1-6283D6CA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4FD-3429-41C3-91FA-5A691CBC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7FF-ED06-4F79-9CFF-F641B9D1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4F9-459E-4597-8FE2-CF0B3765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7753-A378-4DFD-85FE-6891C201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B37-B2CF-4EE1-B913-1650582F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C0D-0F98-439F-88C5-DC6D777A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7A2-6966-4605-8D97-2664A380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48D-E49E-4594-B5DB-DB21A444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4F34-1D23-43C3-A494-6306BFF64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ll MT"/>
              </a:rPr>
              <a:t>FluMist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Bell MT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ell MT"/>
              </a:rPr>
              <a:t>children &lt; 5 years of age</a:t>
            </a:r>
            <a:br>
              <a:rPr sz="3600"/>
            </a:br>
            <a:br>
              <a:rPr sz="4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Bell MT"/>
              </a:rPr>
              <a:t>STATISTICAL DISCUSSION of SAFETY based on MI-CP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Sang H. Ahn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CBER/F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VRBP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May 16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Gaithersburg, 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ll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Bell MT"/>
              </a:rPr>
              <a:t>Per the preceding two tables, in the FluMist group compared to TIV, rates of medically significant wheezing and MSW-related hospitalizations were not only higher in children 6-11 months of age, but also higher in those 12-23 months of 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8AD-5290-433B-8764-8DC4EA71F0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ell MT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ell MT"/>
              </a:rPr>
              <a:t>In general, since the 6-11 month age group (12-23 month group likewise) is a post-hoc, non-randomized subgroup, statistical results could be misleading and therefore should be interpreted with ca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ell MT"/>
              </a:rPr>
              <a:t>Specifically, in terms of MSW and MSW-related hospitalization, 6-11 months, and 12-23 months subgroups show similar safety pro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ell MT"/>
              </a:rPr>
              <a:t>Thus, statistical rationale for excluding 6-11 months group and not entire 6-23 months group appears uncl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B0E-E676-499E-AC9D-DB11DBBF1A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295280" y="838080"/>
          <a:ext cx="6629400" cy="2806920"/>
        </p:xfrm>
        <a:graphic>
          <a:graphicData uri="http://schemas.openxmlformats.org/drawingml/2006/table">
            <a:tbl>
              <a:tblPr/>
              <a:tblGrid>
                <a:gridCol w="762120"/>
                <a:gridCol w="609480"/>
                <a:gridCol w="1295640"/>
                <a:gridCol w="609480"/>
                <a:gridCol w="1371600"/>
                <a:gridCol w="19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IV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(month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 Ris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FluMist compared to 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% C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~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 (3.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 (3.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4     (0.99, 1.5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 (5.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(3.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5     (1.17, 2.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7 (6.9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 (4.2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62        (1.04, 2.5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 (5.4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 (3.6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50        (1.05, 2.1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(2.4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(2.3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     (0.64, 1.6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1.6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(2.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4     (0.28, 1.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143000" y="3962520"/>
          <a:ext cx="6781680" cy="2744640"/>
        </p:xfrm>
        <a:graphic>
          <a:graphicData uri="http://schemas.openxmlformats.org/drawingml/2006/table">
            <a:tbl>
              <a:tblPr/>
              <a:tblGrid>
                <a:gridCol w="762120"/>
                <a:gridCol w="641160"/>
                <a:gridCol w="1325520"/>
                <a:gridCol w="622440"/>
                <a:gridCol w="1403280"/>
                <a:gridCol w="202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IV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(month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 Ris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FluMist compared to 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% C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~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 (2.7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 (2.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1     (0.96, 1.7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 (4.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 (2.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2   (0.99, 2.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(5.1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4 (3.9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32    (0.79, 2.2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 (3.3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 (2.2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53    (0.92, 2.5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(1.6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1.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0     (0.64, 2.6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0.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1.4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4     (0.22, 1.8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2464560" y="90720"/>
            <a:ext cx="4170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-CP111 Safety Results (Safety popul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lative Risk of FluMist to T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Medically Significant Wheezing* (MSW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1800" y="36565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(excluding subjects w/ hx of wheezing/asth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A343-E41B-4AD2-9524-FD06CCB1BD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066680" y="685800"/>
          <a:ext cx="6629400" cy="2805120"/>
        </p:xfrm>
        <a:graphic>
          <a:graphicData uri="http://schemas.openxmlformats.org/drawingml/2006/table">
            <a:tbl>
              <a:tblPr/>
              <a:tblGrid>
                <a:gridCol w="762120"/>
                <a:gridCol w="609480"/>
                <a:gridCol w="1295640"/>
                <a:gridCol w="609480"/>
                <a:gridCol w="1371600"/>
                <a:gridCol w="19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IV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(month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Hospitaliz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Hospitaliz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 Ris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FluMist Compared to 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% C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~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(0.2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0.1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0     (0.63, 3.5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0.5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0.2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8   (0.82, 7.4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 (0.58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(0.29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00        (0.43, 9.3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 (0.46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(0.15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96        (0.69, 12.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0.07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0.1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0     (0.07, 3.8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0.1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0.24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0     (0.07, 3.8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066680" y="3809880"/>
          <a:ext cx="6629400" cy="2820960"/>
        </p:xfrm>
        <a:graphic>
          <a:graphicData uri="http://schemas.openxmlformats.org/drawingml/2006/table">
            <a:tbl>
              <a:tblPr/>
              <a:tblGrid>
                <a:gridCol w="762120"/>
                <a:gridCol w="609480"/>
                <a:gridCol w="1295640"/>
                <a:gridCol w="609480"/>
                <a:gridCol w="1371600"/>
                <a:gridCol w="19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IV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(month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Hospitaliz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Hospitaliz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 Ris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FluMist Compared to T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% C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~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(0.2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0.1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1     (0.47, 4.2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0.3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0.1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3   (0.57, 11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(0.49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(0.16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06        (0.44, 21.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(0.19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(0.09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01        (0.26, 15.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0.0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0.1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0     (0.07, 3.7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0.1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0.17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3     (0.11, 9.8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749520" y="35053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(excluding subjects w/ hx of wheezing/asth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36640" y="-1440"/>
            <a:ext cx="538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-CP111 Safety Results on Safety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lative Risk of FluMist to T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Medically Significant Wheezing-related Hospitalization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36E-3305-4D8F-9E8F-7B66C5AE38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ll MT"/>
              </a:rPr>
              <a:t>MI-CP11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 multi-center, double-blind, randomized study to compare the efficacy and safety of FluMist vs. TI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8,475 (4,117 in the U.S.) subjects randomized (1:1 ratio) to either FluMist or TIV, stratified 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 age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(6-23 months, 24-35 months, 36-59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~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prior influenza vaccination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(yes/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~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wheezing history status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(≥ 3 wheezing illnesses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requiring medical follow-up or hospitalization: yes/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~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country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A9C-D1A4-4B99-9A59-8D91EF5FC1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ll MT"/>
              </a:rPr>
              <a:t>MI-CP11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ll MT"/>
              </a:rPr>
              <a:t>MI-CP111 was performed in children 6-59 months of age, including those with a history of wheezing or asth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Bel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ell MT"/>
              </a:rPr>
              <a:t>Children with medically-diagnosed or treated wheezing within 42 days before enrollment or with history of severe asthma were ex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ll MT"/>
              </a:rPr>
              <a:t>The applicant is seeking an indication extension of FluMist for children 12-59 months of age, excluding those children with a history of wheezing or asth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5EB-4F07-4FC2-BE9A-2EE5ACDAA5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ell MT"/>
              </a:rPr>
              <a:t>Exclusion criterion: </a:t>
            </a:r>
            <a:r>
              <a:rPr b="0" lang="en-US" sz="2400" spc="-1" strike="noStrike">
                <a:solidFill>
                  <a:srgbClr val="333399"/>
                </a:solidFill>
                <a:latin typeface="Bell MT"/>
              </a:rPr>
              <a:t>Subjects with medically-diagnosed or treated wheezing within 42 days before enrollment or with history of severe asthma </a:t>
            </a:r>
            <a:r>
              <a:rPr b="0" lang="en-US" sz="2400" spc="-1" strike="noStrike">
                <a:solidFill>
                  <a:srgbClr val="cc0000"/>
                </a:solidFill>
                <a:latin typeface="Bell MT"/>
              </a:rPr>
              <a:t>were excluded from th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ell MT"/>
              </a:rPr>
              <a:t>Stratum (for randomization):</a:t>
            </a:r>
            <a:r>
              <a:rPr b="0" lang="en-US" sz="2800" spc="-1" strike="noStrike">
                <a:solidFill>
                  <a:srgbClr val="333399"/>
                </a:solidFill>
                <a:latin typeface="Bell MT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Bell MT"/>
              </a:rPr>
              <a:t>Subjects with ≥ 3 wheezing illnesses requiring medical follow-up or hospitalization is a pre-specified subgroup within which subjects were rando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Bell MT"/>
              </a:rPr>
              <a:t>Post hoc subgroup:</a:t>
            </a:r>
            <a:r>
              <a:rPr b="0" lang="en-US" sz="2800" spc="-1" strike="noStrike">
                <a:solidFill>
                  <a:srgbClr val="333399"/>
                </a:solidFill>
                <a:latin typeface="Bell MT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Bell MT"/>
              </a:rPr>
              <a:t>Subjects with a history of wheezing is a post-hoc, non-randomized sub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5720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ll MT"/>
              </a:rPr>
              <a:t>Three uses of Wheezing Hist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ll MT"/>
              </a:rPr>
              <a:t>in MI-CP11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243-FB2F-45FC-883E-CC179FAE76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80880" y="2301840"/>
          <a:ext cx="8610840" cy="3097080"/>
        </p:xfrm>
        <a:graphic>
          <a:graphicData uri="http://schemas.openxmlformats.org/drawingml/2006/table">
            <a:tbl>
              <a:tblPr/>
              <a:tblGrid>
                <a:gridCol w="893880"/>
                <a:gridCol w="858960"/>
                <a:gridCol w="1752480"/>
                <a:gridCol w="838080"/>
                <a:gridCol w="1752840"/>
                <a:gridCol w="2514600"/>
              </a:tblGrid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M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(month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 Ris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FluMist compared to T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% C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~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 (3.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 (3.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4 (0.99, 1.5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 (5.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(3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5 (1.17, 2.0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(2.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(2.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4 (0.64, 1.6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1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(2.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4 (0.28, 1.0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344240" y="838440"/>
            <a:ext cx="6409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MI-CP111 Safety Results (Safety pop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ell MT"/>
              </a:rPr>
              <a:t>Relative Risk of FluMist to 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Based on Medically Significant Wheezing* (MSW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571392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Occurring through 42 days after vacc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029-9455-450E-AD28-FEA512AE60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2211480"/>
          <a:ext cx="8458200" cy="3213000"/>
        </p:xfrm>
        <a:graphic>
          <a:graphicData uri="http://schemas.openxmlformats.org/drawingml/2006/table">
            <a:tbl>
              <a:tblPr/>
              <a:tblGrid>
                <a:gridCol w="876600"/>
                <a:gridCol w="723600"/>
                <a:gridCol w="1801800"/>
                <a:gridCol w="777960"/>
                <a:gridCol w="1751040"/>
                <a:gridCol w="2527200"/>
              </a:tblGrid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M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(month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Hospitaliz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pitaliz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 Ris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FluMist Compared to T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% C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~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(0.2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0.1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0 (0.63, 3.5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0.5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0.2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8 (0.82, 7.4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0.0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0.1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0 (0.07, 3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0.1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0.2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0 (0.07, 3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550800" y="838440"/>
            <a:ext cx="8023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MI-CP111 Safety Results on Safety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ell MT"/>
              </a:rPr>
              <a:t>Relative Risk of FluMist to 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Based on Medically Significant Wheezing-related Hospitalization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713920"/>
            <a:ext cx="800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Medically significant wheezing (MSW) –related hospitalizations comprise hospitalizations within 7 days after MSW, provided that the MSW event occurred within 42 days after vacc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1369-B95F-487C-996B-F23EF6C279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Bell MT"/>
              </a:rPr>
              <a:t>Exclusion of 6-11 Month-o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ll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ell MT"/>
              </a:rPr>
              <a:t>The applicant stated “In children 6-11 months of age, rates of medically significant wheezing and rates of hospitalizations were higher in FluMist vs. TIV recipients.”  This result is the basis for the applicant excluding the 6-11 month subgroup from the sought indic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DF5-580F-4446-8243-121A73C85B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362320"/>
          <a:ext cx="8153280" cy="2776320"/>
        </p:xfrm>
        <a:graphic>
          <a:graphicData uri="http://schemas.openxmlformats.org/drawingml/2006/table">
            <a:tbl>
              <a:tblPr/>
              <a:tblGrid>
                <a:gridCol w="1066680"/>
                <a:gridCol w="762120"/>
                <a:gridCol w="1752480"/>
                <a:gridCol w="762120"/>
                <a:gridCol w="1752480"/>
                <a:gridCol w="205740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M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(month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 Ris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FluMist compared to T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% C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 (5.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(3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5 (1.17, 2.0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7 (6.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 (4.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62 (1.04, 2.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 (5.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 (3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50 (1.05, 2.1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1104120" y="990720"/>
            <a:ext cx="6802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MI-CP111 Safety Results (Safety pop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ell MT"/>
              </a:rPr>
              <a:t>Relative Risk of FluMist to 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Based on Medically Significant Wheezing* (MSW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485320"/>
            <a:ext cx="53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Occurring through 42 days after vacc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CD6-E78F-4911-A170-6C1AA4CA5F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04920" y="1828800"/>
          <a:ext cx="8610480" cy="299736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600200"/>
                <a:gridCol w="838080"/>
                <a:gridCol w="1752840"/>
                <a:gridCol w="243828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M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(month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Significant Wheezing-related Hospitaliz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Subjects with Medical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nt Wheezing-related Hospitaliz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 Ris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FluMist compared to T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% C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0.5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0.2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8   (0.82, 7.4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 (0.5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(0.2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00    (0.43, 9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 (0.4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(0.1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96    (0.69, 12.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585720" y="457560"/>
            <a:ext cx="8017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MI-CP111 Safety Results (Safety pop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ell MT"/>
              </a:rPr>
              <a:t>Relative Risk of FluMist to 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Based on Medically Significant Wheezing-related Hospitalization*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5256720"/>
            <a:ext cx="815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edically significant wheezing (MSW) –related hospitalizations comprise hospitalizations within 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after MSW, provided that the MSW event occurred within 42 days after vacc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E39-B272-400B-945F-B1922DDDD6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2:01:09Z</dcterms:created>
  <dc:creator>ahnn</dc:creator>
  <dc:description/>
  <dc:language>en-US</dc:language>
  <cp:lastModifiedBy>Brownj</cp:lastModifiedBy>
  <dcterms:modified xsi:type="dcterms:W3CDTF">2007-05-30T15:20:10Z</dcterms:modified>
  <cp:revision>41</cp:revision>
  <dc:subject/>
  <dc:title>Slide 1</dc:title>
</cp:coreProperties>
</file>