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292608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ED4-941A-450A-BE07-1F87FFFB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03480" y="1691352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0C7-A2DD-4CA1-947C-65037969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50100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8BE-1E06-4EB7-A84F-69605DF0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90256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701640" y="682920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0348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90256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701640" y="16913520"/>
            <a:ext cx="121892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CBE-99BE-4E20-A741-AF57F707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26"/>
              </a:spcBef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940-E0AE-4B0D-9420-E82C2344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4FA-BAA5-42AE-9F7F-C5F0CC6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DA5-7A33-4761-9CDF-B8D54308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E03-7C92-4079-B06B-D407F482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03480" y="1171080"/>
            <a:ext cx="37855440" cy="226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26"/>
              </a:spcBef>
              <a:tabLst>
                <a:tab algn="l" pos="0"/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05E-E96A-4D57-85B6-A368D2DA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E1D-7CA3-4909-A61E-327C29E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501000" y="1691352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C37-A255-4C88-80A7-EDD3173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0348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501000" y="6829200"/>
            <a:ext cx="1847340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03480" y="16913520"/>
            <a:ext cx="37855440" cy="9209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/>
          </a:bodyPr>
          <a:p>
            <a:pPr indent="0">
              <a:spcBef>
                <a:spcPts val="3926"/>
              </a:spcBef>
              <a:buNone/>
              <a:tabLst>
                <a:tab algn="l" pos="4492800"/>
                <a:tab algn="l" pos="8985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EDD-05E8-4CD8-B3A2-8546670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3480" y="1171080"/>
            <a:ext cx="37855440" cy="487692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ctr">
            <a:noAutofit/>
          </a:bodyPr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2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03480" y="6829200"/>
            <a:ext cx="37855440" cy="1930716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rmAutofit fontScale="95000"/>
          </a:bodyPr>
          <a:p>
            <a:pPr marL="1600200" indent="-160020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1" marL="3467160" indent="-133308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2" marL="5334120" indent="-1065960">
              <a:spcBef>
                <a:spcPts val="3926"/>
              </a:spcBef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3" marL="7468200" indent="-1066320">
              <a:spcBef>
                <a:spcPts val="3926"/>
              </a:spcBef>
              <a:buClr>
                <a:srgbClr val="000000"/>
              </a:buClr>
              <a:buFont typeface="Arial"/>
              <a:buChar char="–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4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5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  <a:p>
            <a:pPr lvl="6" marL="9602280" indent="-1064880">
              <a:spcBef>
                <a:spcPts val="3926"/>
              </a:spcBef>
              <a:buClr>
                <a:srgbClr val="000000"/>
              </a:buClr>
              <a:buFont typeface="Arial"/>
              <a:buChar char="»"/>
              <a:tabLst>
                <a:tab algn="l" pos="4492800"/>
                <a:tab algn="l" pos="8985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03120" y="26644680"/>
            <a:ext cx="981396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1560" y="26644680"/>
            <a:ext cx="1331928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ctr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0"/>
                <a:tab algn="l" pos="89852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4600" y="26644680"/>
            <a:ext cx="9813960" cy="2031840"/>
          </a:xfrm>
          <a:prstGeom prst="rect">
            <a:avLst/>
          </a:prstGeom>
          <a:noFill/>
          <a:ln w="0">
            <a:noFill/>
          </a:ln>
        </p:spPr>
        <p:txBody>
          <a:bodyPr lIns="449280" rIns="449280" tIns="224640" bIns="224640" anchor="t">
            <a:noAutofit/>
          </a:bodyPr>
          <a:lstStyle>
            <a:lvl1pPr indent="0" algn="r">
              <a:buNone/>
              <a:tabLst>
                <a:tab algn="l" pos="0"/>
                <a:tab algn="l" pos="4492800"/>
                <a:tab algn="l" pos="8985240"/>
              </a:tabLst>
              <a:defRPr b="0" lang="en-US" sz="6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0"/>
                <a:tab algn="l" pos="8985240"/>
              </a:tabLst>
            </a:pPr>
            <a:fld id="{2E5FE3EC-AF68-48E3-B1CA-08A05ACFD49F}" type="slidenum">
              <a:rPr b="0" lang="en-US" sz="6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package" Target="../embeddings/oleObject1.xlsx"/><Relationship Id="rId16" Type="http://schemas.openxmlformats.org/officeDocument/2006/relationships/image" Target="../media/image12.png"/><Relationship Id="rId17" Type="http://schemas.openxmlformats.org/officeDocument/2006/relationships/package" Target="../embeddings/oleObject2.xlsx"/><Relationship Id="rId18" Type="http://schemas.openxmlformats.org/officeDocument/2006/relationships/image" Target="../media/image13.png"/><Relationship Id="rId19" Type="http://schemas.openxmlformats.org/officeDocument/2006/relationships/package" Target="../embeddings/oleObject3.xlsx"/><Relationship Id="rId20" Type="http://schemas.openxmlformats.org/officeDocument/2006/relationships/image" Target="../media/image14.png"/><Relationship Id="rId21" Type="http://schemas.openxmlformats.org/officeDocument/2006/relationships/package" Target="../embeddings/oleObject4.xlsx"/><Relationship Id="rId22" Type="http://schemas.openxmlformats.org/officeDocument/2006/relationships/image" Target="../media/image15.png"/><Relationship Id="rId23" Type="http://schemas.openxmlformats.org/officeDocument/2006/relationships/package" Target="../embeddings/oleObject5.xlsx"/><Relationship Id="rId24" Type="http://schemas.openxmlformats.org/officeDocument/2006/relationships/image" Target="../media/image16.png"/><Relationship Id="rId25" Type="http://schemas.openxmlformats.org/officeDocument/2006/relationships/package" Target="../embeddings/oleObject6.xlsx"/><Relationship Id="rId26" Type="http://schemas.openxmlformats.org/officeDocument/2006/relationships/image" Target="../media/image17.png"/><Relationship Id="rId27" Type="http://schemas.openxmlformats.org/officeDocument/2006/relationships/package" Target="../embeddings/oleObject7.xlsx"/><Relationship Id="rId28" Type="http://schemas.openxmlformats.org/officeDocument/2006/relationships/image" Target="../media/image18.pn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5600" y="2832120"/>
            <a:ext cx="21222000" cy="1108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69280" y="6853320"/>
            <a:ext cx="2208240" cy="21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1840" y="13903200"/>
            <a:ext cx="20975760" cy="1356372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8258040"/>
            <a:ext cx="20418480" cy="1920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7920" y="19931040"/>
            <a:ext cx="19262880" cy="752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548" t="4615" r="2481" b="4152"/>
          <a:stretch/>
        </p:blipFill>
        <p:spPr>
          <a:xfrm>
            <a:off x="21613680" y="15747840"/>
            <a:ext cx="4570560" cy="291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3360" y="2832120"/>
            <a:ext cx="20418480" cy="54259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10560" y="309600"/>
            <a:ext cx="2666196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ahoma"/>
              </a:rPr>
              <a:t>Biogenic Contributions to Methane Trends from 1990 to 20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41520" y="1547640"/>
            <a:ext cx="37179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rlene M. Fiore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arlene.fiore@noaa.gov), Larry W. Horowitz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Ed Dlugokencky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, J. Jason West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AA Geophysical Fluid Dynamics Laboratory, Princeton, NJ 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AA Global Monitoring Division, Earth System Research Laboratory, Boulder, CO  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mospheric and Oceanic Sciences Program and Woodrow Wilson School, Princeton University, Princeton, N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2822400"/>
            <a:ext cx="53751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1. Introduc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1400" y="27466920"/>
            <a:ext cx="100663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ntener, F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Geophys. Res., 1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4442, doi:10.1029/2002JD0029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ugokencky, E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phys. Res. Lett.,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92, doi:10.1029/2003GL01812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ugokencky, E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5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. Geophys. Res., 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18306, doi:10.1029/2005JD00603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tabLst>
                <a:tab algn="l" pos="0"/>
                <a:tab algn="l" pos="4121280"/>
                <a:tab algn="l" pos="824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owitz, L.W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2003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. Geophys. Res., 1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4784, doi:10.1029/2002JD0028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37720" y="5784840"/>
            <a:ext cx="9767880" cy="179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is the contribution from each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existing bottom-up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emission inven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21280"/>
                <a:tab algn="l" pos="8242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the 1990s consistent with observations?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23600" y="2860560"/>
            <a:ext cx="1034064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2. Methane in the MOZART-2 CT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640" y="8358120"/>
            <a:ext cx="194691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3. Influence of Sources on Surface CH</a:t>
            </a:r>
            <a:r>
              <a:rPr b="1" lang="en-US" sz="4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Distribution and Tre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24005" t="24288" r="21652" b="34201"/>
          <a:stretch/>
        </p:blipFill>
        <p:spPr>
          <a:xfrm>
            <a:off x="911160" y="314280"/>
            <a:ext cx="2495520" cy="246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22004" t="29381" r="21888" b="28747"/>
          <a:stretch/>
        </p:blipFill>
        <p:spPr>
          <a:xfrm>
            <a:off x="38649240" y="306360"/>
            <a:ext cx="2568600" cy="248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858040" y="14006520"/>
            <a:ext cx="176799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4. Meteorologically-driven Changes in the CH</a:t>
            </a:r>
            <a:r>
              <a:rPr b="1" lang="en-US" sz="4600" spc="-1" strike="noStrike" baseline="-25000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 Lifeti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2323" t="2898" r="2481" b="4013"/>
          <a:stretch/>
        </p:blipFill>
        <p:spPr>
          <a:xfrm>
            <a:off x="36083880" y="6634080"/>
            <a:ext cx="4817880" cy="326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5640" y="3699000"/>
            <a:ext cx="194770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ane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emission controls are a cost-effective strategy for abating global surface ozone, while simultaneously slowing greenhouse warming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st and Fi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05].  Sources of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hown to the right; the major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k is reaction with the hydroxyl radical (OH) in the troposphere.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centrations rose by 5-6 ppb y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average until 1999 when they leveled off (see Figure below). There is no clear consensus on the driving mech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5440320"/>
            <a:ext cx="102632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sible explanations suggested by previous stud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urce changes of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angenfelds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2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ng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 2004] or other species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Karlsd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tir and Isaks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20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ly-driven changes in the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ink 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.g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rwick et 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2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ntener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3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Wang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proach to steady-state with constant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lugokencky et 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, 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53360" y="4610160"/>
            <a:ext cx="547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stant emissions (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394880" y="3816360"/>
            <a:ext cx="1194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itivity simulations applying different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ission invent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98160" y="10845720"/>
            <a:ext cx="245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itu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1990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each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69160" y="4560840"/>
            <a:ext cx="600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ANTH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me-varying anthrop.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35800" y="4535640"/>
            <a:ext cx="5007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ahoma"/>
              </a:rPr>
              <a:t>ANTH + B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Time-varying anthrop.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wetland e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35071560" y="8147880"/>
            <a:ext cx="153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g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516400" y="10572840"/>
            <a:ext cx="46134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DGAR v3.2 1990 and 1995 an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missions [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Olivier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DGAR “FAST-TRACK” for 2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van Aardenne et al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., 200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near interpolation applied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ntermediate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ogenic source adjusted 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maintain same global to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missions in 1990 as in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0804040" y="10334520"/>
            <a:ext cx="4728240" cy="3570120"/>
            <a:chOff x="20804040" y="10334520"/>
            <a:chExt cx="4728240" cy="3570120"/>
          </a:xfrm>
        </p:grpSpPr>
        <p:pic>
          <p:nvPicPr>
            <p:cNvPr id="69" name="" descr=""/>
            <p:cNvPicPr/>
            <p:nvPr/>
          </p:nvPicPr>
          <p:blipFill>
            <a:blip r:embed="rId5"/>
            <a:srcRect l="10123" t="0" r="0" b="7799"/>
            <a:stretch/>
          </p:blipFill>
          <p:spPr>
            <a:xfrm>
              <a:off x="21556800" y="10334520"/>
              <a:ext cx="39463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1607920" y="10494720"/>
              <a:ext cx="1613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ANTH+B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24760" y="13317120"/>
              <a:ext cx="4007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90          -50                0                50            90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959360" y="13536360"/>
              <a:ext cx="10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183120" y="10353240"/>
              <a:ext cx="378720" cy="323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20345040" y="11785680"/>
              <a:ext cx="1323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6185400" y="11076120"/>
            <a:ext cx="43992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Combine wetland emissions f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i="1" lang="en-US" sz="2200" spc="-1" strike="noStrike">
                <a:solidFill>
                  <a:srgbClr val="008000"/>
                </a:solidFill>
                <a:latin typeface="Arial"/>
              </a:rPr>
              <a:t>Wang et al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. [2004] (above)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nthropogenic emissions fr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NTH, constraining global me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1990-1998 wetland emis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o equal those in A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193400" y="8253360"/>
            <a:ext cx="3505320" cy="2363400"/>
            <a:chOff x="37193400" y="8253360"/>
            <a:chExt cx="3505320" cy="2363400"/>
          </a:xfrm>
        </p:grpSpPr>
        <p:sp>
          <p:nvSpPr>
            <p:cNvPr id="77" name=""/>
            <p:cNvSpPr/>
            <p:nvPr/>
          </p:nvSpPr>
          <p:spPr>
            <a:xfrm>
              <a:off x="38793600" y="8253360"/>
              <a:ext cx="1905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93400" y="9974160"/>
              <a:ext cx="3200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pply climatological m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224 Tg yr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 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9708000" y="9091440"/>
              <a:ext cx="152640" cy="99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036480" y="15865560"/>
            <a:ext cx="0" cy="247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45840" y="17816400"/>
            <a:ext cx="3760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ed NCEP 1990-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430200">
            <a:off x="23694480" y="16212960"/>
            <a:ext cx="1649520" cy="544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8640" y="18930960"/>
            <a:ext cx="66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 drivers for observed tr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 just simple approach to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189960" y="14903280"/>
            <a:ext cx="623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-weighted global mean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BASE simulation (constant e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007200">
            <a:off x="21548160" y="17209080"/>
            <a:ext cx="2066760" cy="563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rcRect l="2162" t="2544" r="1664" b="4842"/>
          <a:stretch/>
        </p:blipFill>
        <p:spPr>
          <a:xfrm>
            <a:off x="1554120" y="10586880"/>
            <a:ext cx="7934400" cy="5510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19360" y="10534680"/>
            <a:ext cx="276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tures observed rate of increas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90-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leveling 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fter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2452400"/>
            <a:ext cx="0" cy="750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00040" y="14325480"/>
            <a:ext cx="2690280" cy="459720"/>
            <a:chOff x="3200040" y="14325480"/>
            <a:chExt cx="2690280" cy="459720"/>
          </a:xfrm>
        </p:grpSpPr>
        <p:sp>
          <p:nvSpPr>
            <p:cNvPr id="90" name=""/>
            <p:cNvSpPr/>
            <p:nvPr/>
          </p:nvSpPr>
          <p:spPr>
            <a:xfrm>
              <a:off x="4002840" y="143254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BSER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200040" y="14554080"/>
              <a:ext cx="834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038560" y="12574080"/>
            <a:ext cx="2314800" cy="1564200"/>
            <a:chOff x="5038560" y="12574080"/>
            <a:chExt cx="2314800" cy="1564200"/>
          </a:xfrm>
        </p:grpSpPr>
        <p:sp>
          <p:nvSpPr>
            <p:cNvPr id="93" name=""/>
            <p:cNvSpPr/>
            <p:nvPr/>
          </p:nvSpPr>
          <p:spPr>
            <a:xfrm>
              <a:off x="5038560" y="13312800"/>
              <a:ext cx="23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ASE too lo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ost-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292800" y="12574080"/>
              <a:ext cx="541440" cy="73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77040" y="11824920"/>
            <a:ext cx="2475000" cy="2916720"/>
            <a:chOff x="7277040" y="11824920"/>
            <a:chExt cx="2475000" cy="2916720"/>
          </a:xfrm>
        </p:grpSpPr>
        <p:sp>
          <p:nvSpPr>
            <p:cNvPr id="96" name=""/>
            <p:cNvSpPr/>
            <p:nvPr/>
          </p:nvSpPr>
          <p:spPr>
            <a:xfrm>
              <a:off x="7277040" y="13500000"/>
              <a:ext cx="24750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improv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vs. OB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ost-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058240" y="11824920"/>
              <a:ext cx="0" cy="17226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57240" y="16200360"/>
            <a:ext cx="9408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ean surface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s as measured (or sampled in the model) at 42 Global Monitoring Division (GMD) station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lugokencky et 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2005] with an 8-year minimum record. Values are area-weighted after averaging in latitudinal bands (60-90N, 30-60N, 0-30N, 0-30S, 30-90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488360" y="16476840"/>
            <a:ext cx="2751120" cy="1084680"/>
            <a:chOff x="34488360" y="16476840"/>
            <a:chExt cx="2751120" cy="108468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5182080" y="16476840"/>
                  <a:ext cx="20574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4488360" y="16553160"/>
              <a:ext cx="69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3571080" y="17457840"/>
            <a:ext cx="1855440" cy="597240"/>
            <a:chOff x="33571080" y="17457840"/>
            <a:chExt cx="1855440" cy="597240"/>
          </a:xfrm>
        </p:grpSpPr>
        <p:sp>
          <p:nvSpPr>
            <p:cNvPr id="103" name=""/>
            <p:cNvSpPr/>
            <p:nvPr/>
          </p:nvSpPr>
          <p:spPr>
            <a:xfrm>
              <a:off x="33571080" y="176562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emper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4877520" y="17457840"/>
              <a:ext cx="3808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883640" y="17519760"/>
            <a:ext cx="6602400" cy="1951560"/>
            <a:chOff x="34883640" y="17519760"/>
            <a:chExt cx="6602400" cy="1951560"/>
          </a:xfrm>
        </p:grpSpPr>
        <p:sp>
          <p:nvSpPr>
            <p:cNvPr id="106" name=""/>
            <p:cNvSpPr/>
            <p:nvPr/>
          </p:nvSpPr>
          <p:spPr>
            <a:xfrm>
              <a:off x="34883640" y="18092880"/>
              <a:ext cx="6602400" cy="13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Humidit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ightning N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hotolysis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changes in stratospheric 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columns neglected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Changes in emissions of other spec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neglecte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6020160" y="17519760"/>
              <a:ext cx="612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058520" y="15887880"/>
            <a:ext cx="3387240" cy="641160"/>
            <a:chOff x="34058520" y="15887880"/>
            <a:chExt cx="3387240" cy="641160"/>
          </a:xfrm>
        </p:grpSpPr>
        <p:sp>
          <p:nvSpPr>
            <p:cNvPr id="109" name=""/>
            <p:cNvSpPr/>
            <p:nvPr/>
          </p:nvSpPr>
          <p:spPr>
            <a:xfrm>
              <a:off x="34058520" y="15887880"/>
              <a:ext cx="338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 to sink reg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48840" y="1622448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559640" y="14955840"/>
            <a:ext cx="53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ight meteorology affec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748880" y="9764640"/>
            <a:ext cx="9578160" cy="9620280"/>
            <a:chOff x="10748880" y="9764640"/>
            <a:chExt cx="9578160" cy="9620280"/>
          </a:xfrm>
        </p:grpSpPr>
        <p:sp>
          <p:nvSpPr>
            <p:cNvPr id="113" name=""/>
            <p:cNvSpPr/>
            <p:nvPr/>
          </p:nvSpPr>
          <p:spPr>
            <a:xfrm>
              <a:off x="10828440" y="9764640"/>
              <a:ext cx="707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n model bias and correlation with 1990-2004 monthly mean surface GMD observa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0748880" y="10682280"/>
              <a:ext cx="6316920" cy="8702640"/>
              <a:chOff x="10748880" y="10682280"/>
              <a:chExt cx="6316920" cy="87026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1437920" y="10788840"/>
                <a:ext cx="5627880" cy="8111880"/>
                <a:chOff x="11437920" y="10788840"/>
                <a:chExt cx="5627880" cy="811188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7"/>
                <a:srcRect l="13670" t="5654" r="0" b="10911"/>
                <a:stretch/>
              </p:blipFill>
              <p:spPr>
                <a:xfrm>
                  <a:off x="11437920" y="10788840"/>
                  <a:ext cx="5624640" cy="400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8"/>
                <a:srcRect l="13620" t="5324" r="0" b="10581"/>
                <a:stretch/>
              </p:blipFill>
              <p:spPr>
                <a:xfrm>
                  <a:off x="11437920" y="14864040"/>
                  <a:ext cx="5627880" cy="403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11492640" y="10807920"/>
                  <a:ext cx="1613160" cy="109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ff0000"/>
                      </a:solidFill>
                      <a:latin typeface="Arial"/>
                    </a:rPr>
                    <a:t>BASE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0000ff"/>
                      </a:solidFill>
                      <a:latin typeface="Arial"/>
                    </a:rPr>
                    <a:t>ANTH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92800"/>
                      <a:tab algn="l" pos="8985240"/>
                    </a:tabLst>
                  </a:pPr>
                  <a:r>
                    <a:rPr b="1" lang="en-US" sz="2200" spc="-1" strike="noStrike">
                      <a:solidFill>
                        <a:srgbClr val="33cc33"/>
                      </a:solidFill>
                      <a:latin typeface="Arial"/>
                    </a:rPr>
                    <a:t>ANTH+BI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11467080" y="18842040"/>
                <a:ext cx="52768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90               -50                   0                     50               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533120" y="19016640"/>
                <a:ext cx="107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atitu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935360" y="10682280"/>
                <a:ext cx="586080" cy="420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10410480" y="12581280"/>
                <a:ext cx="129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as (pp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10761840" y="163411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954800" y="14793840"/>
                <a:ext cx="529560" cy="41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0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7046720" y="10974240"/>
              <a:ext cx="3045960" cy="18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ANTH+BIO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ptures the 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rhemispher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radien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25120" y="15982920"/>
              <a:ext cx="33019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ANTH+BI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mproves 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rrelation wi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ith observation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pecially at hig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rthern latitud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023680" y="13206240"/>
              <a:ext cx="2928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BASE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wetl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missions yiel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closer matc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ith observ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in tropic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14096880" y="13006440"/>
              <a:ext cx="2965680" cy="1022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16094160" y="15982920"/>
              <a:ext cx="968400" cy="301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810080" y="26319240"/>
            <a:ext cx="63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 (GMD)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E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TH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5960" y="26876520"/>
            <a:ext cx="85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del captures the observed seasonal cyc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299320" y="14781240"/>
            <a:ext cx="334260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fetime Again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opospheric OH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56520" y="10034640"/>
            <a:ext cx="737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51840" y="4413240"/>
            <a:ext cx="2095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28960" y="4413240"/>
            <a:ext cx="0" cy="948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018640" y="4413240"/>
            <a:ext cx="0" cy="948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0560" y="18930960"/>
            <a:ext cx="561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n annual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ifetime shor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rcRect l="1750" t="3570" r="2768" b="4933"/>
          <a:stretch/>
        </p:blipFill>
        <p:spPr>
          <a:xfrm>
            <a:off x="28573560" y="15751080"/>
            <a:ext cx="4570200" cy="291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257560" y="16293960"/>
            <a:ext cx="111132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651560" y="17003880"/>
            <a:ext cx="1103400" cy="10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20824920" y="2917800"/>
            <a:ext cx="149364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57240" y="19288080"/>
            <a:ext cx="7855560" cy="7046280"/>
            <a:chOff x="957240" y="19288080"/>
            <a:chExt cx="7855560" cy="7046280"/>
          </a:xfrm>
        </p:grpSpPr>
        <p:grpSp>
          <p:nvGrpSpPr>
            <p:cNvPr id="143" name=""/>
            <p:cNvGrpSpPr/>
            <p:nvPr/>
          </p:nvGrpSpPr>
          <p:grpSpPr>
            <a:xfrm>
              <a:off x="957240" y="19288080"/>
              <a:ext cx="7855560" cy="7046280"/>
              <a:chOff x="957240" y="19288080"/>
              <a:chExt cx="7855560" cy="7046280"/>
            </a:xfrm>
          </p:grpSpPr>
          <p:sp>
            <p:nvSpPr>
              <p:cNvPr id="144" name=""/>
              <p:cNvSpPr/>
              <p:nvPr/>
            </p:nvSpPr>
            <p:spPr>
              <a:xfrm>
                <a:off x="957240" y="19294200"/>
                <a:ext cx="609480" cy="699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9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8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423440" y="19288080"/>
                <a:ext cx="7389360" cy="7046280"/>
                <a:chOff x="1423440" y="19288080"/>
                <a:chExt cx="7389360" cy="704628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11"/>
                <a:srcRect l="6945" t="23217" r="3562" b="61370"/>
                <a:stretch/>
              </p:blipFill>
              <p:spPr>
                <a:xfrm>
                  <a:off x="1488960" y="20964240"/>
                  <a:ext cx="7305480" cy="1693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12"/>
                <a:srcRect l="6945" t="42301" r="3562" b="42360"/>
                <a:stretch/>
              </p:blipFill>
              <p:spPr>
                <a:xfrm>
                  <a:off x="1488960" y="22637520"/>
                  <a:ext cx="7305480" cy="1685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13"/>
                <a:srcRect l="6945" t="4162" r="3562" b="80587"/>
                <a:stretch/>
              </p:blipFill>
              <p:spPr>
                <a:xfrm>
                  <a:off x="1488960" y="19288080"/>
                  <a:ext cx="730548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9" name=""/>
                <p:cNvGrpSpPr/>
                <p:nvPr/>
              </p:nvGrpSpPr>
              <p:grpSpPr>
                <a:xfrm>
                  <a:off x="1423440" y="24318720"/>
                  <a:ext cx="7389360" cy="2015640"/>
                  <a:chOff x="1423440" y="24318720"/>
                  <a:chExt cx="7389360" cy="20156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423440" y="25966080"/>
                    <a:ext cx="73893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990                           1995                           2000                           200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rcRect l="6945" t="61316" r="3562" b="23173"/>
                  <a:stretch/>
                </p:blipFill>
                <p:spPr>
                  <a:xfrm>
                    <a:off x="1488960" y="24318720"/>
                    <a:ext cx="7305480" cy="17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52" name=""/>
            <p:cNvSpPr/>
            <p:nvPr/>
          </p:nvSpPr>
          <p:spPr>
            <a:xfrm>
              <a:off x="6371640" y="2053404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ert (82.4N,62.5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9600" y="25577640"/>
              <a:ext cx="291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th Pole (89.9S,24.8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86280" y="23913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he Island (4.7S,55.2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37120" y="22212000"/>
              <a:ext cx="26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way (28.2N,177.4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5280" y="18724680"/>
            <a:ext cx="74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s at selected GM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445240" y="19580400"/>
            <a:ext cx="2959200" cy="5776920"/>
            <a:chOff x="8445240" y="19580400"/>
            <a:chExt cx="2959200" cy="5776920"/>
          </a:xfrm>
        </p:grpSpPr>
        <p:sp>
          <p:nvSpPr>
            <p:cNvPr id="158" name=""/>
            <p:cNvSpPr/>
            <p:nvPr/>
          </p:nvSpPr>
          <p:spPr>
            <a:xfrm>
              <a:off x="9005760" y="19580400"/>
              <a:ext cx="2398680" cy="57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ANTH+B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improve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99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high 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latitu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2) Tre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3) Low bia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at S Pole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especially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9900"/>
                  </a:solidFill>
                  <a:latin typeface="Arial"/>
                </a:rPr>
                <a:t>post-199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445240" y="20375640"/>
              <a:ext cx="858600" cy="9777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8445240" y="22032720"/>
              <a:ext cx="677880" cy="76500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445240" y="24280920"/>
              <a:ext cx="858600" cy="522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1893680" y="20850120"/>
            <a:ext cx="1880388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ASE simulation (constant emissions) captures observed rate of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increase from 1990-1997, and leveling off post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NTH emissions (EDGAR 3.2 + FT-2000 inventories) improve modeled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post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NTH+BIO spatial and temporal distribution of wetland C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emissions is critical for reproducing the observed seasonality, interhemispheric gradient, and global mean t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3400" spc="-1" strike="noStrike" baseline="-25000">
                <a:solidFill>
                  <a:srgbClr val="ff0000"/>
                </a:solidFill>
                <a:latin typeface="Tahoma"/>
              </a:rPr>
              <a:t>CH4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 decreases by ~2% from 91-95 to 00-04 due to warmer temperatures (35%) and higher OH (65%, resulting from a ~10% increase in lightning NO</a:t>
            </a:r>
            <a:r>
              <a:rPr b="1" lang="en-US" sz="3400" spc="-1" strike="noStrike" baseline="-25000">
                <a:solidFill>
                  <a:srgbClr val="ff0000"/>
                </a:solidFill>
                <a:latin typeface="Tahoma"/>
              </a:rPr>
              <a:t>x 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emission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ture research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climate-driven feedbacks from biogenic emissions and fires (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CO,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NMVOC) on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CH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 more physically-based parameterizations of lightning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missions to determine wheth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r emissions are a robust feature of a warmer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363040" y="162590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764960" y="16521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540440" y="27777960"/>
            <a:ext cx="133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ardenne, J.A., F. Dentener, J.G.J. Olivier and J.A.H.W. Peters (2005), The EDGAR 3.2 Fast Track 2000 dataset (32FT2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g , J.S., et al. (2004), Global Biogeochem. Cycles, 18, GB3011, doi:10.1029/2003GB00218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arwick, N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(2002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hys. Res. Lett., 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20), 1947, doi:10.1029/2002GL0152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st, J.J. and A.M. Fiore (2005)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i. &amp; Technol., 39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685-46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0360" y="25271280"/>
            <a:ext cx="1007568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H increases in the model by +1.4% from 1991-1995 to 2000-200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e to a 0.3 Tg N yr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(~10%) increase in lightning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rge uncertainties in magnitude (and trend) of lightning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missions in the real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907280" y="27777960"/>
            <a:ext cx="17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rlsdóttir, S., and I.S.A. Isaksen (2000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phys. Res. Lett., 2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), 93-9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enfelds, R.L., et al. (2002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 Biogeochem. Cycles, 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048, doi:10.1029/2001GB0014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er, J.G.J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(1999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vironmental Science &amp; Policy,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41-2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livier, J.G.J. (2002) In: "CO2 emissions from fuel combustion 1971-2000", 2002 Edition, pp. III.1-III.31. International Energy Agency (IEA), Paris. ISBN 92-64-09794-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-575640" y="1301040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ol/mol = ppb in dr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147320" y="2267028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mol/mol = ppb in dr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34760" y="19948680"/>
            <a:ext cx="176799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492800"/>
                <a:tab algn="l" pos="898524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Tahoma"/>
              </a:rPr>
              <a:t>5. Conclus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062840" y="2846520"/>
            <a:ext cx="765828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4492800"/>
                <a:tab algn="l" pos="898524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00 gas and aerosol species, ~200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EP meteorology 199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atitude x 1.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e x 64 vertic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description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owitz et 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[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1601080" y="5854680"/>
            <a:ext cx="5878800" cy="3986280"/>
            <a:chOff x="21601080" y="5854680"/>
            <a:chExt cx="5878800" cy="3986280"/>
          </a:xfrm>
        </p:grpSpPr>
        <p:grpSp>
          <p:nvGrpSpPr>
            <p:cNvPr id="173" name=""/>
            <p:cNvGrpSpPr/>
            <p:nvPr/>
          </p:nvGrpSpPr>
          <p:grpSpPr>
            <a:xfrm>
              <a:off x="22039200" y="6237360"/>
              <a:ext cx="1646280" cy="3603600"/>
              <a:chOff x="22039200" y="6237360"/>
              <a:chExt cx="1646280" cy="36036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22039200" y="6245280"/>
              <a:ext cx="1602000" cy="3595680"/>
            </p:xfrm>
            <a:graphic>
              <a:graphicData uri="http://schemas.openxmlformats.org/presentationml/2006/ole">
                <p:oleObj progId="Excel.Sheet.12" r:id="rId15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039200" y="6245280"/>
                        <a:ext cx="1602000" cy="359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6" name=""/>
              <p:cNvGraphicFramePr/>
              <p:nvPr/>
            </p:nvGraphicFramePr>
            <p:xfrm>
              <a:off x="23641200" y="6237360"/>
              <a:ext cx="44280" cy="3531960"/>
            </p:xfrm>
            <a:graphic>
              <a:graphicData uri="http://schemas.openxmlformats.org/presentationml/2006/ole">
                <p:oleObj progId="Excel.Sheet.12" r:id="rId17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3641200" y="6237360"/>
                        <a:ext cx="44280" cy="353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8" name=""/>
            <p:cNvSpPr/>
            <p:nvPr/>
          </p:nvSpPr>
          <p:spPr>
            <a:xfrm>
              <a:off x="22707720" y="5854680"/>
              <a:ext cx="64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4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21072960" y="7598520"/>
              <a:ext cx="153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80400" y="6251400"/>
              <a:ext cx="3399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Biogenic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dbb7ff"/>
                  </a:solidFill>
                  <a:latin typeface="Arial"/>
                </a:rPr>
                <a:t>biomass burn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orowitz et 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[2003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78600" y="7896240"/>
              <a:ext cx="296496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thropoge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400" spc="-1" strike="noStrike">
                  <a:solidFill>
                    <a:srgbClr val="00c7f6"/>
                  </a:solidFill>
                  <a:latin typeface="Arial"/>
                </a:rPr>
                <a:t>ric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ruminan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om EDGAR 2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livier et a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, 1999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2424840" y="200437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onstruc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-0.17 years) from 1991-19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2000-2004 into individual contribu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ying temperature and OH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985000" y="21493080"/>
            <a:ext cx="6080040" cy="3652920"/>
            <a:chOff x="32985000" y="21493080"/>
            <a:chExt cx="6080040" cy="3652920"/>
          </a:xfrm>
        </p:grpSpPr>
        <p:sp>
          <p:nvSpPr>
            <p:cNvPr id="184" name=""/>
            <p:cNvSpPr/>
            <p:nvPr/>
          </p:nvSpPr>
          <p:spPr>
            <a:xfrm>
              <a:off x="32985000" y="21493080"/>
              <a:ext cx="6080040" cy="365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31928760" y="22684680"/>
              <a:ext cx="30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 in mean 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 fro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990-1995 to 2000-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yea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4000" y="2467296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86640" y="24669720"/>
              <a:ext cx="1229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(+0.3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94880" y="24669720"/>
              <a:ext cx="146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(+1.4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33921720" y="21650400"/>
            <a:ext cx="5046480" cy="2960640"/>
          </p:xfrm>
          <a:graphic>
            <a:graphicData uri="http://schemas.openxmlformats.org/presentationml/2006/ole">
              <p:oleObj progId="Excel.Sheet.12" r:id="rId19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3921720" y="21650400"/>
                      <a:ext cx="5046480" cy="29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34753680" y="22299480"/>
              <a:ext cx="787320" cy="231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263160" y="22299480"/>
              <a:ext cx="830520" cy="231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668440" y="227980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251360" y="228124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0"/>
                  <a:tab algn="l" pos="898524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8548000" y="5911920"/>
            <a:ext cx="6176880" cy="4422600"/>
            <a:chOff x="28548000" y="5911920"/>
            <a:chExt cx="6176880" cy="4422600"/>
          </a:xfrm>
        </p:grpSpPr>
        <p:graphicFrame>
          <p:nvGraphicFramePr>
            <p:cNvPr id="196" name=""/>
            <p:cNvGraphicFramePr/>
            <p:nvPr/>
          </p:nvGraphicFramePr>
          <p:xfrm>
            <a:off x="32664240" y="8053560"/>
            <a:ext cx="1676520" cy="914400"/>
          </p:xfrm>
          <a:graphic>
            <a:graphicData uri="http://schemas.openxmlformats.org/presentationml/2006/ole">
              <p:oleObj progId="Excel.Sheet.12" r:id="rId2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2664240" y="8053560"/>
                      <a:ext cx="167652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32667480" y="6853320"/>
            <a:ext cx="2057400" cy="1218960"/>
          </p:xfrm>
          <a:graphic>
            <a:graphicData uri="http://schemas.openxmlformats.org/presentationml/2006/ole">
              <p:oleObj progId="Excel.Sheet.12" r:id="rId23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67480" y="6853320"/>
                      <a:ext cx="20574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0" name=""/>
            <p:cNvGrpSpPr/>
            <p:nvPr/>
          </p:nvGrpSpPr>
          <p:grpSpPr>
            <a:xfrm>
              <a:off x="29676960" y="5911920"/>
              <a:ext cx="2637360" cy="429120"/>
              <a:chOff x="29676960" y="5911920"/>
              <a:chExt cx="2637360" cy="429120"/>
            </a:xfrm>
          </p:grpSpPr>
          <p:sp>
            <p:nvSpPr>
              <p:cNvPr id="201" name=""/>
              <p:cNvSpPr/>
              <p:nvPr/>
            </p:nvSpPr>
            <p:spPr>
              <a:xfrm>
                <a:off x="2967696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4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65796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4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67400" y="5911920"/>
                <a:ext cx="646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55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6200000">
              <a:off x="28019880" y="7803360"/>
              <a:ext cx="1531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92800"/>
                  <a:tab algn="l" pos="898524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g CH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yr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8960920" y="9764640"/>
              <a:ext cx="3543120" cy="569880"/>
              <a:chOff x="28960920" y="9764640"/>
              <a:chExt cx="3543120" cy="569880"/>
            </a:xfrm>
          </p:grpSpPr>
          <p:sp>
            <p:nvSpPr>
              <p:cNvPr id="206" name=""/>
              <p:cNvSpPr/>
              <p:nvPr/>
            </p:nvSpPr>
            <p:spPr>
              <a:xfrm>
                <a:off x="28960920" y="9764640"/>
                <a:ext cx="354312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592720" y="9813960"/>
                <a:ext cx="7761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16560" y="9813960"/>
                <a:ext cx="7761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648320" y="9813960"/>
                <a:ext cx="7765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92800"/>
                    <a:tab algn="l" pos="898524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10" name=""/>
            <p:cNvGraphicFramePr/>
            <p:nvPr/>
          </p:nvGraphicFramePr>
          <p:xfrm>
            <a:off x="28960920" y="6281640"/>
            <a:ext cx="631800" cy="3692520"/>
          </p:xfrm>
          <a:graphic>
            <a:graphicData uri="http://schemas.openxmlformats.org/presentationml/2006/ole">
              <p:oleObj progId="Excel.Sheet.12" r:id="rId2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8960920" y="6281640"/>
                      <a:ext cx="631800" cy="36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532240" y="6281640"/>
            <a:ext cx="2971800" cy="3621240"/>
          </p:xfrm>
          <a:graphic>
            <a:graphicData uri="http://schemas.openxmlformats.org/presentationml/2006/ole">
              <p:oleObj progId="Excel.Sheet.12" r:id="rId27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532240" y="6281640"/>
                      <a:ext cx="2971800" cy="36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4" name=""/>
          <p:cNvGrpSpPr/>
          <p:nvPr/>
        </p:nvGrpSpPr>
        <p:grpSpPr>
          <a:xfrm>
            <a:off x="4514760" y="9564840"/>
            <a:ext cx="7008840" cy="3073320"/>
            <a:chOff x="4514760" y="9564840"/>
            <a:chExt cx="7008840" cy="3073320"/>
          </a:xfrm>
        </p:grpSpPr>
        <p:grpSp>
          <p:nvGrpSpPr>
            <p:cNvPr id="215" name=""/>
            <p:cNvGrpSpPr/>
            <p:nvPr/>
          </p:nvGrpSpPr>
          <p:grpSpPr>
            <a:xfrm>
              <a:off x="4514760" y="9564840"/>
              <a:ext cx="4206960" cy="3073320"/>
              <a:chOff x="4514760" y="9564840"/>
              <a:chExt cx="4206960" cy="3073320"/>
            </a:xfrm>
          </p:grpSpPr>
          <p:sp>
            <p:nvSpPr>
              <p:cNvPr id="216" name=""/>
              <p:cNvSpPr/>
              <p:nvPr/>
            </p:nvSpPr>
            <p:spPr>
              <a:xfrm>
                <a:off x="4514760" y="9564840"/>
                <a:ext cx="4206960" cy="825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ANTH+BIO best captures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8000"/>
                    </a:solidFill>
                    <a:latin typeface="Arial"/>
                  </a:rPr>
                  <a:t>measured abundance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224320" y="10477800"/>
                <a:ext cx="1068480" cy="2160360"/>
              </a:xfrm>
              <a:prstGeom prst="line">
                <a:avLst/>
              </a:prstGeom>
              <a:ln w="7632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92800" y="10434960"/>
                <a:ext cx="1098360" cy="1116000"/>
              </a:xfrm>
              <a:prstGeom prst="line">
                <a:avLst/>
              </a:prstGeom>
              <a:ln w="7632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6292800" y="10434600"/>
              <a:ext cx="5230800" cy="1679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9:27:41Z</dcterms:created>
  <dc:creator>Larry Horowitz</dc:creator>
  <dc:description/>
  <dc:language>en-US</dc:language>
  <cp:lastModifiedBy>Arlene Fiore</cp:lastModifiedBy>
  <dcterms:modified xsi:type="dcterms:W3CDTF">2006-01-18T13:11:57Z</dcterms:modified>
  <cp:revision>473</cp:revision>
  <dc:subject/>
  <dc:title>Slide 1</dc:title>
</cp:coreProperties>
</file>