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E551-795C-4C06-ACE0-0BACA0521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16DB-F40F-433D-9948-3D3E59201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B5DAE-3D23-4C72-BECB-800198BDE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22DA-D17B-4AFC-B384-DC2A0B346C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15D5-ED08-4FF4-A709-D777BB738C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D4AE-5D24-4081-BFAC-EADF1E889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9176-B27F-4D0C-AA91-54DCCE470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68F5-87E1-4DED-BCFA-CB1570BBD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31640" y="611280"/>
            <a:ext cx="7772400" cy="26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AB2D-D65F-4040-91E0-D5728B151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8BA9-E200-464A-B3D0-EDA636753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43C2-F0E6-4645-A957-D16A4CC16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84F9E-E3D2-4ECB-8EFA-D43FC6E1B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kg2" descr=""/>
          <p:cNvPicPr/>
          <p:nvPr/>
        </p:nvPicPr>
        <p:blipFill>
          <a:blip r:embed="rId2"/>
          <a:srcRect l="0" t="1351" r="0" b="0"/>
          <a:stretch/>
        </p:blipFill>
        <p:spPr>
          <a:xfrm>
            <a:off x="0" y="0"/>
            <a:ext cx="9144000" cy="1697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Gill Sans"/>
              </a:rPr>
              <a:t>Click to edit the title text format</a:t>
            </a: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4" marL="20574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5" marL="20574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6" marL="20574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763800" y="6586560"/>
            <a:ext cx="50421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R0299.336-</a:t>
            </a:r>
            <a:fld id="{B5B17964-90D0-4CDB-AD4F-82BDA66E3930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60280" y="981000"/>
            <a:ext cx="68022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Gill Sans"/>
              </a:rPr>
              <a:t>A New Approach to Developing Position Classification Standards</a:t>
            </a:r>
            <a:endParaRPr b="0" lang="en-US" sz="36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41" name=""/>
          <p:cNvSpPr/>
          <p:nvPr/>
        </p:nvSpPr>
        <p:spPr>
          <a:xfrm>
            <a:off x="1160640" y="5999040"/>
            <a:ext cx="68022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Gill Sans"/>
              </a:rPr>
              <a:t>“</a:t>
            </a:r>
            <a:r>
              <a:rPr b="0" i="1" lang="en-US" sz="1400" spc="-1" strike="noStrike">
                <a:solidFill>
                  <a:srgbClr val="000066"/>
                </a:solidFill>
                <a:latin typeface="Gill Sans"/>
              </a:rPr>
              <a:t>Optimizing People, Processes and Technology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473280" y="2673360"/>
          <a:ext cx="2357640" cy="235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3280" y="2673360"/>
                    <a:ext cx="235764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674520" y="508464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ugust 29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3640" y="611280"/>
            <a:ext cx="78800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Reengineering Methodology and Approach</a:t>
            </a:r>
            <a:endParaRPr b="0" lang="en-US" sz="28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Core Reengineering Team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CPD subject matter expert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OPCSD/CPD Program leadership</a:t>
            </a:r>
            <a:r>
              <a:rPr b="1" lang="en-US" sz="2000" spc="-1" strike="noStrike">
                <a:solidFill>
                  <a:srgbClr val="000066"/>
                </a:solidFill>
                <a:latin typeface="Gill Sans"/>
              </a:rPr>
              <a:t> . . .</a:t>
            </a: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 An active sponsor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Booz Allen consultant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Reengineering effort simultaneously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Considers other OPM initiatives 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Builds on current program improvement effort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Considers process, organizational, technological, and informational factor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Allows for continuous process improvement over time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0" r="0" b="32642"/>
          <a:stretch/>
        </p:blipFill>
        <p:spPr>
          <a:xfrm>
            <a:off x="2803680" y="1752480"/>
            <a:ext cx="3671640" cy="1625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rot="5400000">
            <a:off x="4157640" y="379080"/>
            <a:ext cx="984240" cy="345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381" y="1644"/>
                  <a:pt x="9162" y="5080"/>
                  <a:pt x="9162" y="10800"/>
                </a:cubicBezTo>
                <a:cubicBezTo>
                  <a:pt x="9162" y="16520"/>
                  <a:pt x="15381" y="1995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7320" y="406440"/>
            <a:ext cx="6530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How Process, Technology, and Organization Must be Considered</a:t>
            </a:r>
            <a:endParaRPr b="0" lang="en-US" sz="28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1874880"/>
            <a:ext cx="3770280" cy="4302000"/>
          </a:xfrm>
          <a:custGeom>
            <a:avLst/>
            <a:gdLst/>
            <a:ahLst/>
            <a:rect l="l" t="t" r="r" b="b"/>
            <a:pathLst>
              <a:path w="2375" h="2710">
                <a:moveTo>
                  <a:pt x="0" y="0"/>
                </a:moveTo>
                <a:lnTo>
                  <a:pt x="1986" y="724"/>
                </a:lnTo>
                <a:lnTo>
                  <a:pt x="1934" y="487"/>
                </a:lnTo>
                <a:lnTo>
                  <a:pt x="2375" y="925"/>
                </a:lnTo>
                <a:lnTo>
                  <a:pt x="1965" y="1479"/>
                </a:lnTo>
                <a:lnTo>
                  <a:pt x="1996" y="1221"/>
                </a:lnTo>
                <a:lnTo>
                  <a:pt x="10" y="2710"/>
                </a:lnTo>
                <a:lnTo>
                  <a:pt x="10" y="21"/>
                </a:lnTo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ccccff"/>
              </a:gs>
            </a:gsLst>
            <a:lin ang="10800000"/>
          </a:gradFill>
          <a:ln w="9360">
            <a:solidFill>
              <a:srgbClr val="333399"/>
            </a:solidFill>
            <a:round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77800" y="3375000"/>
            <a:ext cx="6158160" cy="3049560"/>
          </a:xfrm>
          <a:custGeom>
            <a:avLst/>
            <a:gdLst/>
            <a:ahLst/>
            <a:rect l="l" t="t" r="r" b="b"/>
            <a:pathLst>
              <a:path w="3879" h="1921">
                <a:moveTo>
                  <a:pt x="3869" y="1921"/>
                </a:moveTo>
                <a:lnTo>
                  <a:pt x="2048" y="432"/>
                </a:lnTo>
                <a:lnTo>
                  <a:pt x="2245" y="494"/>
                </a:lnTo>
                <a:lnTo>
                  <a:pt x="2234" y="463"/>
                </a:lnTo>
                <a:lnTo>
                  <a:pt x="1924" y="0"/>
                </a:lnTo>
                <a:lnTo>
                  <a:pt x="1603" y="504"/>
                </a:lnTo>
                <a:lnTo>
                  <a:pt x="1800" y="432"/>
                </a:lnTo>
                <a:lnTo>
                  <a:pt x="0" y="1900"/>
                </a:lnTo>
                <a:lnTo>
                  <a:pt x="3879" y="1910"/>
                </a:lnTo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333399"/>
            </a:solidFill>
            <a:round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22200">
            <a:off x="-437040" y="3683520"/>
            <a:ext cx="1914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Gill Sans"/>
              </a:rPr>
              <a:t>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2200">
            <a:off x="3533760" y="6410160"/>
            <a:ext cx="1914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Gill Sans"/>
              </a:rPr>
              <a:t>Peo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3160" y="2768760"/>
            <a:ext cx="2633760" cy="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61640" indent="-1616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Analyze “Where We Are”</a:t>
            </a:r>
            <a:endParaRPr b="0" lang="en-US" sz="1400" spc="-1" strike="noStrike">
              <a:solidFill>
                <a:srgbClr val="000066"/>
              </a:solidFill>
              <a:latin typeface="Gill Sans"/>
            </a:endParaRPr>
          </a:p>
          <a:p>
            <a:pPr marL="161640" indent="-1616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Identify Capability Gaps</a:t>
            </a:r>
            <a:endParaRPr b="0" lang="en-US" sz="1400" spc="-1" strike="noStrike">
              <a:solidFill>
                <a:srgbClr val="000066"/>
              </a:solidFill>
              <a:latin typeface="Gill Sans"/>
            </a:endParaRPr>
          </a:p>
          <a:p>
            <a:pPr marL="161640" indent="-1616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Reengineer Processes That:</a:t>
            </a:r>
            <a:endParaRPr b="0" lang="en-US" sz="1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47" name=""/>
          <p:cNvSpPr/>
          <p:nvPr/>
        </p:nvSpPr>
        <p:spPr>
          <a:xfrm>
            <a:off x="630360" y="3606840"/>
            <a:ext cx="239220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60440" indent="-18252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Are Strategy-Dri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8252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Use The Best Ideas From Government and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8252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Produce Quantifiable 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8252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Can Change as Requiremen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66600" y="1874880"/>
            <a:ext cx="3770280" cy="4302000"/>
          </a:xfrm>
          <a:custGeom>
            <a:avLst/>
            <a:gdLst/>
            <a:ahLst/>
            <a:rect l="l" t="t" r="r" b="b"/>
            <a:pathLst>
              <a:path w="2375" h="2710">
                <a:moveTo>
                  <a:pt x="0" y="0"/>
                </a:moveTo>
                <a:lnTo>
                  <a:pt x="1986" y="724"/>
                </a:lnTo>
                <a:lnTo>
                  <a:pt x="1934" y="487"/>
                </a:lnTo>
                <a:lnTo>
                  <a:pt x="2375" y="925"/>
                </a:lnTo>
                <a:lnTo>
                  <a:pt x="1965" y="1479"/>
                </a:lnTo>
                <a:lnTo>
                  <a:pt x="1996" y="1221"/>
                </a:lnTo>
                <a:lnTo>
                  <a:pt x="10" y="2710"/>
                </a:lnTo>
                <a:lnTo>
                  <a:pt x="10" y="21"/>
                </a:lnTo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333399"/>
            </a:solidFill>
            <a:round/>
          </a:ln>
          <a:effectLst>
            <a:outerShdw dist="52300" dir="836435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22200">
            <a:off x="7640640" y="3723480"/>
            <a:ext cx="1914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Gill Sans"/>
              </a:rPr>
              <a:t>Techn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98680" y="4579920"/>
            <a:ext cx="363384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3" marL="1253160" indent="-200880">
              <a:lnSpc>
                <a:spcPct val="90000"/>
              </a:lnSpc>
              <a:spcBef>
                <a:spcPts val="88"/>
              </a:spcBef>
              <a:spcAft>
                <a:spcPts val="176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Think and Pla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Strategic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7480" indent="-200880">
              <a:lnSpc>
                <a:spcPct val="90000"/>
              </a:lnSpc>
              <a:spcBef>
                <a:spcPts val="88"/>
              </a:spcBef>
              <a:spcAft>
                <a:spcPts val="176"/>
              </a:spcAft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Know What Customers W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440" indent="-202320">
              <a:lnSpc>
                <a:spcPct val="90000"/>
              </a:lnSpc>
              <a:spcBef>
                <a:spcPts val="88"/>
              </a:spcBef>
              <a:spcAft>
                <a:spcPts val="1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Develop Knowledge, Skills, and Abilities Required for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-202320">
              <a:lnSpc>
                <a:spcPct val="90000"/>
              </a:lnSpc>
              <a:spcBef>
                <a:spcPts val="88"/>
              </a:spcBef>
              <a:spcAft>
                <a:spcPts val="176"/>
              </a:spcAft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Share the 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-202320">
              <a:lnSpc>
                <a:spcPct val="90000"/>
              </a:lnSpc>
              <a:spcBef>
                <a:spcPts val="88"/>
              </a:spcBef>
              <a:spcAft>
                <a:spcPts val="176"/>
              </a:spcAft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Manage for Continuou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24600" y="2727360"/>
            <a:ext cx="240192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04480" indent="-20448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Use Technology as a Process and Performance Enab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4480" indent="-20448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Use Technology to support Effective Decision Ma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4480" indent="-20448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Invest Intelligent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9219800">
            <a:off x="1581840" y="4954320"/>
            <a:ext cx="1914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Gill Sans"/>
              </a:rPr>
              <a:t>Pl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rot="2380200">
            <a:off x="5542920" y="4954320"/>
            <a:ext cx="1914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Gill Sans"/>
              </a:rPr>
              <a:t>Pl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005280" y="4257720"/>
            <a:ext cx="706320" cy="536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5353200" y="4257720"/>
            <a:ext cx="706320" cy="536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478320" y="1924200"/>
            <a:ext cx="2333520" cy="266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Gill Sans"/>
              </a:rPr>
              <a:t>MISSION FULFILL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Gill Sans"/>
              <a:ea typeface="Gill Sans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548240" y="2419200"/>
            <a:ext cx="0" cy="919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548240" y="2484000"/>
            <a:ext cx="493560" cy="85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071600" y="2512800"/>
            <a:ext cx="47628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2200">
            <a:off x="783720" y="2339640"/>
            <a:ext cx="1190880" cy="34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</a:rPr>
              <a:t>How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2200">
            <a:off x="6965640" y="2339640"/>
            <a:ext cx="1190520" cy="34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</a:rPr>
              <a:t>How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2200">
            <a:off x="3930120" y="4279680"/>
            <a:ext cx="1190880" cy="34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"/>
              </a:rPr>
              <a:t>How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1280" y="604440"/>
            <a:ext cx="75250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Results of “As-Is” Analysis</a:t>
            </a:r>
            <a:r>
              <a:rPr b="0" lang="en-US" sz="2200" spc="-1" strike="noStrike">
                <a:solidFill>
                  <a:srgbClr val="000066"/>
                </a:solidFill>
                <a:latin typeface="Gill Sans"/>
              </a:rPr>
              <a:t>  </a:t>
            </a: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47640" y="1952640"/>
            <a:ext cx="7772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Improve criteria for identifying classification studies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27520" indent="-227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Standardize key documents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27520" indent="-227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Enhance information sharing via web-based technology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27520" indent="-227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Develop new tools and methods to better balance workload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27520" indent="-227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Develop more efficient approaches to conducting site visits and information gathering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27520" indent="-227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Improve customer relationship management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27520" indent="-227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Improve internal documentation management procedures and practices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01400"/>
            <a:ext cx="757584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Emerging Concepts for</a:t>
            </a:r>
            <a:r>
              <a:rPr b="0" lang="en-US" sz="2200" spc="-1" strike="noStrike">
                <a:solidFill>
                  <a:srgbClr val="000066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Proces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Improvement</a:t>
            </a:r>
            <a:endParaRPr b="0" lang="en-US" sz="28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7640" y="192420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2840" indent="-222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Process/Procedural Improvements: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5728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Improve review cycles via standardized templates for regular agency correspondence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5728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Develop and maintain “evergreen” agency contact list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marL="222840" indent="-222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Technology Improvements: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5728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Improve OPM process scheduling and workload planning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5728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Improve use of web-based information technology and other productivity tool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marL="222840" indent="-222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Organizational Improvements: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5728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Develop “Working with OPM Classification Programs Division” Job Aid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5728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Utilize highly coordinated, “super” focus groups for data gathering and more accurate insight into occupation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608040"/>
            <a:ext cx="7575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Benefits to OPM Customers</a:t>
            </a:r>
            <a:endParaRPr b="0" lang="en-US" sz="28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52600" y="184788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Reduced study duration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Improved coordination of various process activities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More useful classification documents 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Less administrative burden to agencies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Improved quality of information exchange and analysis between OPM and agencies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Enhanced opportunity for OPM to provide value-added consulting to stakeholders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1640" y="61128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Introduction</a:t>
            </a:r>
            <a:endParaRPr b="0" lang="en-US" sz="28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6000" indent="-2160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Ms. Judith A. Davis, Chief, Classification Programs Division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4000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OPM Project Manager for the OPM Classification Reengineering Project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4000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Manages the  OPM Classification Programs Division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4000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marL="216000" indent="-2160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Mr. Keith Phillips, Senior Associate and Team Leader for Change Management, Booz Allen &amp; Hamilton Inc.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4000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Project Director for the OPM Classification Reengineering Project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4000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Leads process and performance improvement projects for Government and Commercial clients world-wide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marL="21600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1640" y="610920"/>
            <a:ext cx="7772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Overview</a:t>
            </a:r>
            <a:endParaRPr b="0" lang="en-US" sz="28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Drivers for Change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Need for Reengineering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Reengineering Methodology and Approach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Results of “As-Is” Analysis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Emerging Concepts for Process Improvement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Benefits to Customers and Stakeholders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4840" y="630360"/>
            <a:ext cx="76388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Drivers for Change</a:t>
            </a:r>
            <a:r>
              <a:rPr b="0" lang="en-US" sz="2200" spc="-1" strike="noStrike">
                <a:solidFill>
                  <a:srgbClr val="000066"/>
                </a:solidFill>
                <a:latin typeface="Gill Sans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7200" y="2061720"/>
            <a:ext cx="74390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Pressures for a Government “That Works Better and Costs Less”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Government Transformation into “Results-Based Business Models”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OPM Government-wide Improvement Initiatives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Improve customer service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Improve relationships with stakeholder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Classification Programs Division Challenges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Update and maintain classification document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Optimize data collection effort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74560" indent="-2300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Ensure process integrity and stakeholder flexibility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4840" y="592200"/>
            <a:ext cx="76388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Need for Reengineering</a:t>
            </a:r>
            <a:r>
              <a:rPr b="0" lang="en-US" sz="2200" spc="-1" strike="noStrike">
                <a:solidFill>
                  <a:srgbClr val="000066"/>
                </a:solidFill>
                <a:latin typeface="Gill Sans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1840" y="1890360"/>
            <a:ext cx="8601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0680" indent="-220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Classification Programs Division (CPD)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51520" indent="-220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Transition from single to multiple series studie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51520" indent="-220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Continued interest in consolidating and integrating classification documents. 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marL="220680" indent="-2206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Above factors indicate a need for significant process improvement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  <a:p>
            <a:pPr lvl="1" marL="551520" indent="-220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Eliminate non-value added activitie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51520" indent="-220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Identify opportunities for centralization/decentralization of activitie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51520" indent="-220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Improve up-front planning and coordination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51520" indent="-220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Identify opportunities to automate current manual activities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51520" indent="-220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Identify opportunities to use information technology as a process enabler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  <a:p>
            <a:pPr lvl="1" marL="551520" indent="-2206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"/>
              </a:rPr>
              <a:t>Improve cross-functional and CPD-to-Agency communication</a:t>
            </a:r>
            <a:endParaRPr b="0" lang="en-US" sz="2000" spc="-1" strike="noStrike">
              <a:solidFill>
                <a:srgbClr val="000066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640" y="47736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ill Sans"/>
              </a:rPr>
              <a:t>Our Approach:  Performance-based Business Process Reengineering</a:t>
            </a:r>
            <a:endParaRPr b="0" lang="en-US" sz="2800" spc="-1" strike="noStrike">
              <a:solidFill>
                <a:srgbClr val="000066"/>
              </a:solidFill>
              <a:latin typeface="Gill San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92120" y="1981080"/>
            <a:ext cx="635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200" y="317160"/>
            <a:ext cx="66596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"/>
              </a:rPr>
              <a:t>Reengineering Must Combine the Best Ideas From Government and Industry To Achieve Demonstrable Performance</a:t>
            </a:r>
            <a:endParaRPr b="0" lang="en-US" sz="24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56" name=""/>
          <p:cNvSpPr/>
          <p:nvPr/>
        </p:nvSpPr>
        <p:spPr>
          <a:xfrm>
            <a:off x="209520" y="1770120"/>
            <a:ext cx="76312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Gill Sans"/>
              </a:rPr>
              <a:t>Experience With Performance-Driven Organizations Reveals a Recurring Pattern for Succes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8040" y="3848040"/>
            <a:ext cx="125424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7000"/>
          </a:bodyPr>
          <a:p>
            <a:pPr marL="109440" indent="-1094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Identify Customer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fine Needs in Terms of Performance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velop Broad Goals To Satisfy Performance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51120" y="3241800"/>
            <a:ext cx="136836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marL="132120" indent="-1321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ssess Current Capabilities To Achieve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32120" indent="-1321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Identify Capability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32120" indent="-1321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velop Specific Performance Targ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63840" y="2573280"/>
            <a:ext cx="181152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0000"/>
          </a:bodyPr>
          <a:p>
            <a:pPr marL="114120" indent="-1141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sign Processes That Achieve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120" indent="-1141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Use the Best Ideas From Government and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120" indent="-1141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ut Required Business Infrastructure in Place (I.e., Quality, Communication, Performance Measurement, and Feedback Syste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40240" y="4902120"/>
            <a:ext cx="136836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 marL="124200" indent="-124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Use Technology as a Decision Support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4200" indent="-124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Use Technology To Stay Close to the 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4200" indent="-124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Use Technology To Continuously Impr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15240" y="4538520"/>
            <a:ext cx="1368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marL="132120" indent="-1321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sign the Organization That Optimizes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32120" indent="-1321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Effectively Manage 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32120" indent="-13212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sign Flat, Nimble Organ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240000" y="2516040"/>
            <a:ext cx="3579840" cy="4235760"/>
            <a:chOff x="3240000" y="2516040"/>
            <a:chExt cx="3579840" cy="4235760"/>
          </a:xfrm>
        </p:grpSpPr>
        <p:sp>
          <p:nvSpPr>
            <p:cNvPr id="63" name=""/>
            <p:cNvSpPr/>
            <p:nvPr/>
          </p:nvSpPr>
          <p:spPr>
            <a:xfrm>
              <a:off x="3240000" y="2516040"/>
              <a:ext cx="0" cy="423576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19840" y="2516040"/>
              <a:ext cx="0" cy="423576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92640" y="2516040"/>
              <a:ext cx="0" cy="423576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51000" y="5764320"/>
            <a:ext cx="1263600" cy="89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5920" y="5981760"/>
            <a:ext cx="1164960" cy="57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Know What You Must Achie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87480" y="4943520"/>
            <a:ext cx="1263600" cy="89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22400" y="5160960"/>
            <a:ext cx="116532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Plan To Achie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13320" y="4600440"/>
            <a:ext cx="1263600" cy="8971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48240" y="4707000"/>
            <a:ext cx="1164960" cy="57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Design Processes That Achie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3657600"/>
            <a:ext cx="1263600" cy="896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00720" y="3697200"/>
            <a:ext cx="1165320" cy="76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Use Technology as an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Enab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2852640"/>
            <a:ext cx="1197000" cy="1274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61040" y="3062160"/>
            <a:ext cx="1165320" cy="95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Sustain a Learning Organization Focused on Peo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9800000">
            <a:off x="1617840" y="5633640"/>
            <a:ext cx="352080" cy="376200"/>
          </a:xfrm>
          <a:prstGeom prst="rightArrow">
            <a:avLst>
              <a:gd name="adj1" fmla="val 43204"/>
              <a:gd name="adj2" fmla="val 60968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9800000">
            <a:off x="3200400" y="5086080"/>
            <a:ext cx="352440" cy="376200"/>
          </a:xfrm>
          <a:prstGeom prst="rightArrow">
            <a:avLst>
              <a:gd name="adj1" fmla="val 43204"/>
              <a:gd name="adj2" fmla="val 60968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9800000">
            <a:off x="4952880" y="4381200"/>
            <a:ext cx="352440" cy="376200"/>
          </a:xfrm>
          <a:prstGeom prst="rightArrow">
            <a:avLst>
              <a:gd name="adj1" fmla="val 43204"/>
              <a:gd name="adj2" fmla="val 60968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9800000">
            <a:off x="6629400" y="3504960"/>
            <a:ext cx="352440" cy="376200"/>
          </a:xfrm>
          <a:prstGeom prst="rightArrow">
            <a:avLst>
              <a:gd name="adj1" fmla="val 43204"/>
              <a:gd name="adj2" fmla="val 60968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6484680" y="4147920"/>
            <a:ext cx="4245120" cy="507960"/>
          </a:xfrm>
          <a:prstGeom prst="rightArrow">
            <a:avLst>
              <a:gd name="adj1" fmla="val 53759"/>
              <a:gd name="adj2" fmla="val 70340"/>
            </a:avLst>
          </a:prstGeom>
          <a:gradFill rotWithShape="0">
            <a:gsLst>
              <a:gs pos="0">
                <a:srgbClr val="333399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7764120" y="4430880"/>
            <a:ext cx="1700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ill Sans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59040" y="62150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Gill Sans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62200" y="555624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Gill Sans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03440" y="304488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Gill Sans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22960" y="2441520"/>
            <a:ext cx="10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Gill Sans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29280" y="2924280"/>
            <a:ext cx="1620720" cy="1199880"/>
          </a:xfrm>
          <a:custGeom>
            <a:avLst/>
            <a:gdLst/>
            <a:ahLst/>
            <a:rect l="l" t="t" r="r" b="b"/>
            <a:pathLst>
              <a:path w="1021" h="756">
                <a:moveTo>
                  <a:pt x="1" y="189"/>
                </a:moveTo>
                <a:lnTo>
                  <a:pt x="673" y="189"/>
                </a:lnTo>
                <a:lnTo>
                  <a:pt x="673" y="0"/>
                </a:lnTo>
                <a:lnTo>
                  <a:pt x="1021" y="379"/>
                </a:lnTo>
                <a:lnTo>
                  <a:pt x="678" y="756"/>
                </a:lnTo>
                <a:lnTo>
                  <a:pt x="679" y="574"/>
                </a:lnTo>
                <a:lnTo>
                  <a:pt x="0" y="574"/>
                </a:lnTo>
                <a:lnTo>
                  <a:pt x="1" y="18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29280" y="4562640"/>
            <a:ext cx="1647720" cy="1199880"/>
          </a:xfrm>
          <a:custGeom>
            <a:avLst/>
            <a:gdLst/>
            <a:ahLst/>
            <a:rect l="l" t="t" r="r" b="b"/>
            <a:pathLst>
              <a:path w="1038" h="756">
                <a:moveTo>
                  <a:pt x="1" y="189"/>
                </a:moveTo>
                <a:lnTo>
                  <a:pt x="673" y="189"/>
                </a:lnTo>
                <a:lnTo>
                  <a:pt x="673" y="0"/>
                </a:lnTo>
                <a:lnTo>
                  <a:pt x="1038" y="366"/>
                </a:lnTo>
                <a:lnTo>
                  <a:pt x="678" y="756"/>
                </a:lnTo>
                <a:lnTo>
                  <a:pt x="679" y="574"/>
                </a:lnTo>
                <a:lnTo>
                  <a:pt x="0" y="574"/>
                </a:lnTo>
                <a:lnTo>
                  <a:pt x="1" y="18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061600" y="3114360"/>
            <a:ext cx="2408040" cy="2410200"/>
            <a:chOff x="5061600" y="3114360"/>
            <a:chExt cx="2408040" cy="2410200"/>
          </a:xfrm>
        </p:grpSpPr>
        <p:sp>
          <p:nvSpPr>
            <p:cNvPr id="89" name=""/>
            <p:cNvSpPr/>
            <p:nvPr/>
          </p:nvSpPr>
          <p:spPr>
            <a:xfrm rot="18703800">
              <a:off x="5405040" y="3473280"/>
              <a:ext cx="1720800" cy="1692000"/>
            </a:xfrm>
            <a:prstGeom prst="bevel">
              <a:avLst>
                <a:gd name="adj" fmla="val 4898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8703800">
              <a:off x="5507640" y="3578400"/>
              <a:ext cx="1542600" cy="1485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440320" y="3664080"/>
            <a:ext cx="16048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Gill Sans"/>
              </a:rPr>
              <a:t>Solutions </a:t>
            </a:r>
            <a:br>
              <a:rPr sz="1500"/>
            </a:br>
            <a:r>
              <a:rPr b="1" lang="en-US" sz="1500" spc="-1" strike="noStrike">
                <a:solidFill>
                  <a:srgbClr val="000066"/>
                </a:solidFill>
                <a:latin typeface="Gill Sans"/>
              </a:rPr>
              <a:t>That Make Sense for Federal Organiz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9280" y="3619440"/>
            <a:ext cx="1620720" cy="1181160"/>
          </a:xfrm>
          <a:custGeom>
            <a:avLst/>
            <a:gdLst/>
            <a:ahLst/>
            <a:rect l="l" t="t" r="r" b="b"/>
            <a:pathLst>
              <a:path w="1021" h="684">
                <a:moveTo>
                  <a:pt x="1" y="174"/>
                </a:moveTo>
                <a:lnTo>
                  <a:pt x="673" y="174"/>
                </a:lnTo>
                <a:lnTo>
                  <a:pt x="673" y="0"/>
                </a:lnTo>
                <a:lnTo>
                  <a:pt x="1021" y="348"/>
                </a:lnTo>
                <a:lnTo>
                  <a:pt x="679" y="684"/>
                </a:lnTo>
                <a:lnTo>
                  <a:pt x="679" y="528"/>
                </a:lnTo>
                <a:lnTo>
                  <a:pt x="0" y="528"/>
                </a:lnTo>
                <a:lnTo>
                  <a:pt x="180" y="340"/>
                </a:lnTo>
                <a:lnTo>
                  <a:pt x="1" y="174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57960" y="3911760"/>
            <a:ext cx="1604880" cy="61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ill Sans"/>
              </a:rPr>
              <a:t>Long-Term Performa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74760" y="1890720"/>
            <a:ext cx="3854520" cy="2717640"/>
            <a:chOff x="374760" y="1890720"/>
            <a:chExt cx="3854520" cy="2717640"/>
          </a:xfrm>
        </p:grpSpPr>
        <p:sp>
          <p:nvSpPr>
            <p:cNvPr id="95" name=""/>
            <p:cNvSpPr/>
            <p:nvPr/>
          </p:nvSpPr>
          <p:spPr>
            <a:xfrm>
              <a:off x="374760" y="1890720"/>
              <a:ext cx="3854520" cy="2717640"/>
            </a:xfrm>
            <a:prstGeom prst="bevel">
              <a:avLst>
                <a:gd name="adj" fmla="val 3444"/>
              </a:avLst>
            </a:prstGeom>
            <a:solidFill>
              <a:srgbClr val="9999ff"/>
            </a:soli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9520" y="1998720"/>
              <a:ext cx="3654720" cy="252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4840" y="611280"/>
            <a:ext cx="76388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Use The Best Ideas</a:t>
            </a:r>
            <a:endParaRPr b="0" lang="en-US" sz="2800" spc="-1" strike="noStrike">
              <a:solidFill>
                <a:srgbClr val="000066"/>
              </a:solidFill>
              <a:latin typeface="Gill San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74760" y="1887480"/>
            <a:ext cx="3854160" cy="459000"/>
            <a:chOff x="374760" y="1887480"/>
            <a:chExt cx="3854160" cy="459000"/>
          </a:xfrm>
        </p:grpSpPr>
        <p:sp>
          <p:nvSpPr>
            <p:cNvPr id="99" name=""/>
            <p:cNvSpPr/>
            <p:nvPr/>
          </p:nvSpPr>
          <p:spPr>
            <a:xfrm>
              <a:off x="374760" y="1887480"/>
              <a:ext cx="3854160" cy="459000"/>
            </a:xfrm>
            <a:prstGeom prst="bevel">
              <a:avLst>
                <a:gd name="adj" fmla="val 9903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440" y="1922400"/>
              <a:ext cx="3640680" cy="376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79600" y="2424240"/>
            <a:ext cx="35985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"/>
              </a:rPr>
              <a:t>Fifteen Industry Sectors Includ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800" indent="-22752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Energy and Environm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800" indent="-22752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Aerospace and Automo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800" indent="-22752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Insurance and Ban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800" indent="-22752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Materials and Consumer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800" indent="-22752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Procurement and Log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-22752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"/>
              </a:rPr>
              <a:t>Partnerships With Indu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7520" indent="-22752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"/>
              </a:rPr>
              <a:t>Academia and Professional Socie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9960" y="1952640"/>
            <a:ext cx="3208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Gill Sans"/>
              </a:rPr>
              <a:t>Commercial Best Prac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4760" y="4395960"/>
            <a:ext cx="3854520" cy="2131920"/>
          </a:xfrm>
          <a:prstGeom prst="bevel">
            <a:avLst>
              <a:gd name="adj" fmla="val 3444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9520" y="4503600"/>
            <a:ext cx="365436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74760" y="4392720"/>
            <a:ext cx="3854160" cy="458640"/>
            <a:chOff x="374760" y="4392720"/>
            <a:chExt cx="3854160" cy="458640"/>
          </a:xfrm>
        </p:grpSpPr>
        <p:sp>
          <p:nvSpPr>
            <p:cNvPr id="106" name=""/>
            <p:cNvSpPr/>
            <p:nvPr/>
          </p:nvSpPr>
          <p:spPr>
            <a:xfrm>
              <a:off x="374760" y="4392720"/>
              <a:ext cx="3854160" cy="458640"/>
            </a:xfrm>
            <a:prstGeom prst="bevel">
              <a:avLst>
                <a:gd name="adj" fmla="val 9903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8440" y="4427640"/>
              <a:ext cx="3640680" cy="37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93640" y="4886280"/>
            <a:ext cx="359892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"/>
              </a:rPr>
              <a:t>Hammer Award Win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"/>
              </a:rPr>
              <a:t>Presidential Quality Award Win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"/>
              </a:rPr>
              <a:t>The Best Ideas From Booz·Allen’s Projects in Defense, Civil Markets, Information Technology, Transportation, and National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400" y="4457880"/>
            <a:ext cx="34531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Gill Sans"/>
              </a:rPr>
              <a:t>Government Top Per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952720"/>
            <a:ext cx="1554120" cy="1143000"/>
          </a:xfrm>
          <a:custGeom>
            <a:avLst/>
            <a:gdLst/>
            <a:ahLst/>
            <a:rect l="l" t="t" r="r" b="b"/>
            <a:pathLst>
              <a:path w="1021" h="756">
                <a:moveTo>
                  <a:pt x="1" y="189"/>
                </a:moveTo>
                <a:lnTo>
                  <a:pt x="673" y="189"/>
                </a:lnTo>
                <a:lnTo>
                  <a:pt x="673" y="0"/>
                </a:lnTo>
                <a:lnTo>
                  <a:pt x="1021" y="379"/>
                </a:lnTo>
                <a:lnTo>
                  <a:pt x="678" y="756"/>
                </a:lnTo>
                <a:lnTo>
                  <a:pt x="679" y="574"/>
                </a:lnTo>
                <a:lnTo>
                  <a:pt x="0" y="574"/>
                </a:lnTo>
                <a:lnTo>
                  <a:pt x="1" y="189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4638600"/>
            <a:ext cx="1581120" cy="1095480"/>
          </a:xfrm>
          <a:custGeom>
            <a:avLst/>
            <a:gdLst/>
            <a:ahLst/>
            <a:rect l="l" t="t" r="r" b="b"/>
            <a:pathLst>
              <a:path w="996" h="690">
                <a:moveTo>
                  <a:pt x="1" y="150"/>
                </a:moveTo>
                <a:lnTo>
                  <a:pt x="646" y="150"/>
                </a:lnTo>
                <a:lnTo>
                  <a:pt x="648" y="0"/>
                </a:lnTo>
                <a:lnTo>
                  <a:pt x="996" y="319"/>
                </a:lnTo>
                <a:lnTo>
                  <a:pt x="651" y="690"/>
                </a:lnTo>
                <a:lnTo>
                  <a:pt x="652" y="517"/>
                </a:lnTo>
                <a:lnTo>
                  <a:pt x="0" y="517"/>
                </a:lnTo>
                <a:lnTo>
                  <a:pt x="1" y="15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64840" y="611280"/>
            <a:ext cx="76388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ill Sans"/>
              </a:rPr>
              <a:t>Best Practices in Action</a:t>
            </a:r>
            <a:endParaRPr b="0" lang="en-US" sz="2800" spc="-1" strike="noStrike">
              <a:solidFill>
                <a:srgbClr val="000066"/>
              </a:solidFill>
              <a:latin typeface="Gill Sans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7745040" y="3473280"/>
            <a:ext cx="2067120" cy="507960"/>
          </a:xfrm>
          <a:prstGeom prst="rightArrow">
            <a:avLst>
              <a:gd name="adj1" fmla="val 48759"/>
              <a:gd name="adj2" fmla="val 76679"/>
            </a:avLst>
          </a:prstGeom>
          <a:gradFill rotWithShape="0">
            <a:gsLst>
              <a:gs pos="0">
                <a:srgbClr val="333399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0600" y="4957920"/>
            <a:ext cx="2484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Where Are We and Where Are We Going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90920" y="1824120"/>
            <a:ext cx="2974680" cy="4997160"/>
            <a:chOff x="2590920" y="1824120"/>
            <a:chExt cx="2974680" cy="4997160"/>
          </a:xfrm>
        </p:grpSpPr>
        <p:sp>
          <p:nvSpPr>
            <p:cNvPr id="116" name=""/>
            <p:cNvSpPr/>
            <p:nvPr/>
          </p:nvSpPr>
          <p:spPr>
            <a:xfrm>
              <a:off x="2590920" y="1824120"/>
              <a:ext cx="0" cy="499716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65600" y="1824120"/>
              <a:ext cx="0" cy="499716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12680" y="1717560"/>
            <a:ext cx="237348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PHASE 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Planning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“</a:t>
            </a: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As-Is”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06760" y="1746360"/>
            <a:ext cx="293508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PHASE I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Performance-Based Process Reengineering and Technology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2160" y="1746360"/>
            <a:ext cx="277308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PHASE II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Implementation and Continuou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6240" y="5389560"/>
            <a:ext cx="2428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7000"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"/>
              </a:rPr>
              <a:t>Best Practices 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200" indent="-13104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Strategic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200" indent="-13104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Customer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200" indent="-13104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Performance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200" indent="-13104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Rapid Application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4957920"/>
            <a:ext cx="2484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What Do We Need To D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44800" y="5389560"/>
            <a:ext cx="2428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48000"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"/>
              </a:rPr>
              <a:t>Best Practices 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65240" indent="-11016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Performance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5240" indent="-11016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Quality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5240" indent="-11016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Decision Support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5240" indent="-11016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Process Cap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5240" indent="-11016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Information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80160" y="4957920"/>
            <a:ext cx="3027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How Do We Get There Successfully and Thrive in the Long-Term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59440" y="5389560"/>
            <a:ext cx="2687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7000"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"/>
              </a:rPr>
              <a:t>Best Practices 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200" indent="-13104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Chang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200" indent="-13104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Knowledg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200" indent="-13104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Growth Strate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6200" indent="-131040">
              <a:lnSpc>
                <a:spcPct val="90000"/>
              </a:lnSpc>
              <a:spcBef>
                <a:spcPts val="264"/>
              </a:spcBef>
              <a:buClr>
                <a:srgbClr val="000066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ill Sans"/>
              </a:rPr>
              <a:t>Operations and Mainte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20920" y="2695680"/>
            <a:ext cx="7040520" cy="2036520"/>
          </a:xfrm>
          <a:prstGeom prst="bevel">
            <a:avLst>
              <a:gd name="adj" fmla="val 2574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03360" y="2770200"/>
            <a:ext cx="6896160" cy="190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590920" y="2724120"/>
            <a:ext cx="2974680" cy="2005200"/>
            <a:chOff x="2590920" y="2724120"/>
            <a:chExt cx="2974680" cy="2005200"/>
          </a:xfrm>
        </p:grpSpPr>
        <p:sp>
          <p:nvSpPr>
            <p:cNvPr id="129" name=""/>
            <p:cNvSpPr/>
            <p:nvPr/>
          </p:nvSpPr>
          <p:spPr>
            <a:xfrm>
              <a:off x="2590920" y="2724120"/>
              <a:ext cx="0" cy="2005200"/>
            </a:xfrm>
            <a:prstGeom prst="line">
              <a:avLst/>
            </a:prstGeom>
            <a:ln w="38160">
              <a:solidFill>
                <a:srgbClr val="ffcc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65600" y="2724120"/>
              <a:ext cx="0" cy="2005200"/>
            </a:xfrm>
            <a:prstGeom prst="line">
              <a:avLst/>
            </a:prstGeom>
            <a:ln w="38160">
              <a:solidFill>
                <a:srgbClr val="ffcc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V="1">
            <a:off x="2585880" y="2766960"/>
            <a:ext cx="5810400" cy="190512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20496600">
            <a:off x="3378240" y="3612960"/>
            <a:ext cx="36399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Near-Simultaneous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56320" y="2857680"/>
            <a:ext cx="17762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0000"/>
          </a:bodyPr>
          <a:p>
            <a:pPr algn="ctr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PROCES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1080" y="4334040"/>
            <a:ext cx="28778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TECHNOLOGY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111680" y="3592800"/>
            <a:ext cx="1776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Gill Sans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7920720" y="3740400"/>
            <a:ext cx="1776600" cy="24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LEVEL OF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5:37:16Z</dcterms:created>
  <dc:creator>BA&amp;H User</dc:creator>
  <dc:description/>
  <dc:language>en-US</dc:language>
  <cp:lastModifiedBy>dsmunn</cp:lastModifiedBy>
  <cp:lastPrinted>2000-08-24T18:09:06Z</cp:lastPrinted>
  <dcterms:modified xsi:type="dcterms:W3CDTF">2000-08-24T18:10:13Z</dcterms:modified>
  <cp:revision>229</cp:revision>
  <dc:subject/>
  <dc:title>No Slide Title</dc:title>
</cp:coreProperties>
</file>