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6FB4-E35C-45F3-9842-E40A76298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98200" y="4017960"/>
            <a:ext cx="74674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C0E9-CEED-49E5-9EB2-3EE6B6642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9820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166A-E3A1-4B07-A342-72CFD757F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3240" y="1569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280" y="1569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98200" y="4017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3240" y="4017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280" y="4017960"/>
            <a:ext cx="24044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441B-90BB-443D-95A4-0A41F3569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8DA0-6A90-4F4A-B335-8C39915C1B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B18C-67F3-479E-B2C6-DD4CDF205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E23F-58E1-4532-BD11-FF30F9C38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3C6F-FEFE-4DA1-BDFA-9FCCD50E9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7596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B5BE-4B1D-4E0E-AC79-60FBB9476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9820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BAAC-1028-49BD-B106-27895127A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4017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8C4F-01B1-44DA-9208-94CBC0FF2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569960"/>
            <a:ext cx="3643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98200" y="4017960"/>
            <a:ext cx="74674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66BD-6242-482C-BA77-273E05245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Fullerton Composite Squadron 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155600"/>
            <a:ext cx="838224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6375240"/>
            <a:ext cx="838224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722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D25-4E12-4CB1-B783-A035CE339B7B}" type="slidenum">
              <a:rPr b="0" lang="en-US" sz="10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4040" y="154080"/>
            <a:ext cx="900360" cy="89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ipeoutwestnile.com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46080" y="171000"/>
            <a:ext cx="618804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est Nile Viru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6680" y="5160960"/>
            <a:ext cx="6627960" cy="5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You Can Do To Protect Yoursel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43440" y="5834160"/>
            <a:ext cx="301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81400" y="1398600"/>
            <a:ext cx="5019480" cy="351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9280" y="5029200"/>
            <a:ext cx="79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2120" y="5538960"/>
            <a:ext cx="67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sented by 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t. Chris Storey,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pt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If You Are Bitten By A Mosquito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5600" y="1389240"/>
            <a:ext cx="7684920" cy="493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 the bite with soap and wa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 good idea for any bug bit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scratc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-the-counter itch relief remedies can help relieve itc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 your doctor if you later develop  WMV type sympto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t them know you were bitten, and whe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t them know what you are feeling now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llow their instructio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Likely Is It?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8200" y="141444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mosquitoes carry WN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because a mosquito bites you does not mean you will get WN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itten by one that does carry WNV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ox 80% will show no symptom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ox 20% will develop mild symptom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ox 1person out of every 150 will  develop severe symptoms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How Can You Protect Yourself?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mosquito bi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quito-proof your h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quito-proof your communit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Avoid Mosquito Bite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nsect repell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 to exposed skin when outdoo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thing can help reduce bi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ar long sleeves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ar long pants and sock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ear light colored clothing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ware of peak mosquito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usk to Dawn are peak mosquito hou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arly evening and early morning hours are peak mosquito feeding period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Insect Repellan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sect repellent is best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 containing DE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,N-diethyl-m-toluamid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most effective flying insect repell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an be used on skin and clothi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FF! Insect Repellent”, “Cutter” brand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lso works well against many flying insec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 containing Permathrin also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or use on clothing onl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Long Will DEET Work?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 containing DEET will provide protection for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3.8% - average of 5 hours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20% - almost 4 hours of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6.65% - almost 2 hours of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4.75% - roughly 90 minutes of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 containing 50% or more DEET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n’t offer additional protec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e not proven to be any bet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Insect Repellent Do’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follow instructions on the lab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don’t need to use a l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pply after swimming or heavy swea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 treated skin with soap &amp; water when returning indo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er exposed skin and cl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k a product you are likely to use and use i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Insect Repellent Don’t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apply to cuts, wounds, or irritated sk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apply under cl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se on exposed skin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spray in enclosed pl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athroom, car, trailer, etc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spray directly to your 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 product to your hands first then apply to your fa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Children And Insect Repellent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y to your own hands first then rub product onto your ch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apply repellent to small children's ha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ey may put their hands in their mouth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insect repellent out of the reach of small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ke you would for any household clean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let small children apply insect repellent themsel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Mosquito-proof Your Hom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 scre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stall and maintain tight fitting window and door screen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ep unscreened doors and windows close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minate mosquito breeding ground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squitoes lay their eggs in standing wa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 the number of places for mosquitoes to bree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hat is West Nile Viru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Nile virus (WNV) is a mosquito-borne dise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NV affects mosquitoes, horses, birds, and peo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MV affects the central nervous system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in Africa, west Asia and the Middle Ea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detected in New York in 199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detected in California in 200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Mosquito-proof Your Home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200" y="1698480"/>
            <a:ext cx="7467480" cy="441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ucke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otted plant sauce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eelbarrow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used swimming pool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used “kiddie pools”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rash cans and dumpste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ld tires or tire swing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irdbath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eaking fauce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awn ornaments and fountai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ain gutte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ool or garden shed roof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atio umbrella stands and bas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600" y="1365120"/>
            <a:ext cx="675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standing  wat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Mosquito-proof Your Community</a:t>
            </a: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 dead bi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wipeoutwestnile.com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877) WNV-BIRD (877-968-247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n up your y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squitoes don’t care about fences - keep your yard free of standing wa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ncourage others to keep their yards free of standing wat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e of dead bi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andling Dead Bird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handle dead animals with bare ha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r any animal (raccoons, possums, rabbits, squirrels, rats, mice, cats, dogs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shovel or glo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plastic trash ba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t your hand into a large plastic bag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ick up the bird using the bag as a glo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rap the bag around the bird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uble bag and dispose of in the trash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wipeoutwestnile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westnile.ca.go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westnilevefer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ww.cdc.gov/westn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est Nile Virus In California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06640" y="1141560"/>
            <a:ext cx="39322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West Nile Virus In California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5640" y="1452600"/>
          <a:ext cx="7740360" cy="4582800"/>
        </p:xfrm>
        <a:graphic>
          <a:graphicData uri="http://schemas.openxmlformats.org/drawingml/2006/table">
            <a:tbl>
              <a:tblPr/>
              <a:tblGrid>
                <a:gridCol w="3056040"/>
                <a:gridCol w="1702800"/>
                <a:gridCol w="1539000"/>
                <a:gridCol w="144252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 20, 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 An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Bernard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ers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It Spread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quitoes become infected when they feed on infected bi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73 different species of birds can carry WNV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 Nile Virus lives in the mosquito's salivary glan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ed mosquitoes can then transmit West Nile Virus to humans, birds, and animals while feed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squitoes feed on the blood of warm blooded animal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squitoes use their saliva to keep blood from clotti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How It Spread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31840" y="1287360"/>
            <a:ext cx="674856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The Signs &amp; Symptom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8560" y="1261800"/>
            <a:ext cx="7493040" cy="511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eople will not develop any sympt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pprox 80 %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 20% of people will have mild Sympt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eve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adach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ody ach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ause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Vomiting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etimes swollen lymph gland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etimes a skin rash on the chest or back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toms typically develop 3 to 14 days after being bit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Arial"/>
              </a:rPr>
              <a:t>The Signs &amp; Symptoms</a:t>
            </a: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 1 in 150 people will have severe sympt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igh feve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adach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eck stiffnes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por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isorientat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ma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uscle tremor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nvulsio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toms are worse i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elderly (over 50 years old)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he immunocompromised (chronic poor health)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5960"/>
            <a:ext cx="7086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99"/>
                </a:solidFill>
                <a:latin typeface="Arial"/>
              </a:rPr>
              <a:t>How Is WNV Infection Treated?</a:t>
            </a:r>
            <a:br>
              <a:rPr sz="3400"/>
            </a:b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8200" y="1569960"/>
            <a:ext cx="74674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 specific treatment for WN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MV is a viru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tibiotics do not work on virus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 human WNV vaccin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ild 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ymptoms usually pass on their ow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st people don’t even think they have WNV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severe 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499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upportive treatment in a hospital is necessar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600200" indent="-457200">
              <a:spcBef>
                <a:spcPts val="45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travenous fluids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600200" indent="-457200">
              <a:spcBef>
                <a:spcPts val="45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Help with breathing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600200" indent="-457200">
              <a:spcBef>
                <a:spcPts val="451"/>
              </a:spcBef>
              <a:buClr>
                <a:srgbClr val="003399"/>
              </a:buClr>
              <a:buSzPct val="8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eneral nursing care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3:54:00Z</dcterms:created>
  <dc:creator>1LT CHris Storey</dc:creator>
  <dc:description/>
  <dc:language>en-US</dc:language>
  <cp:lastModifiedBy>Chris R. Storey</cp:lastModifiedBy>
  <dcterms:modified xsi:type="dcterms:W3CDTF">2004-09-29T23:03:45Z</dcterms:modified>
  <cp:revision>119</cp:revision>
  <dc:subject>WNV safety</dc:subject>
  <dc:title>West Nile Vir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45225799</vt:r8>
  </property>
  <property fmtid="{D5CDD505-2E9C-101B-9397-08002B2CF9AE}" pid="3" name="_AuthorEmail">
    <vt:lpwstr>crstorey@earthlink.net</vt:lpwstr>
  </property>
  <property fmtid="{D5CDD505-2E9C-101B-9397-08002B2CF9AE}" pid="4" name="_AuthorEmailDisplayName">
    <vt:lpwstr>Chris Storey</vt:lpwstr>
  </property>
  <property fmtid="{D5CDD505-2E9C-101B-9397-08002B2CF9AE}" pid="5" name="_EmailSubject">
    <vt:lpwstr>Latest version with corrections</vt:lpwstr>
  </property>
</Properties>
</file>