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3A2-DA7A-4D12-A74A-5E3B6D68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590-2FB8-4FBF-9A11-8F452B8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181-A377-476F-B279-6F709491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1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980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1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980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485-3906-4592-B925-2340E0C7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9A33-1BEE-48BE-B31A-4B132E86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405D-B7BC-4BC7-8D3C-E737A24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D95-FB6B-4FBF-AA5B-8BFFFD64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F995-A15D-4C63-B4A9-033A29F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8EE5-140C-4771-89F3-F4BF72E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9976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143-B0DF-4427-AE90-2F71E61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109E-2B7E-4343-9982-DCA70C1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DC1-1158-4882-BCAB-25FCA42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8FBC-FA9D-44AB-AB5A-4046EED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68DC-E417-4AB7-9257-19A72789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884-D0FD-4B34-BA36-BF0E443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38AB-3AC8-4E94-8885-22AE65D1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9808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1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9808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264-95D2-4068-A5CF-5227DBDD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AC9-0E43-4624-9041-DBB7157A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E2B-142B-47C6-AF65-D09D8A1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972-5B0C-488E-AF32-0E3D656B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976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E40-670E-4EB1-906F-E6D7E48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2FE-8929-4A31-B834-FC48DDC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636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C14-0793-46F6-9FB3-B6E0850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636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594-E6DE-47BA-9713-BDA96BF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32840" y="5925960"/>
            <a:ext cx="609480" cy="482760"/>
            <a:chOff x="9132840" y="5925960"/>
            <a:chExt cx="609480" cy="482760"/>
          </a:xfrm>
        </p:grpSpPr>
        <p:sp>
          <p:nvSpPr>
            <p:cNvPr id="1" name=""/>
            <p:cNvSpPr/>
            <p:nvPr/>
          </p:nvSpPr>
          <p:spPr>
            <a:xfrm>
              <a:off x="9132840" y="5925960"/>
              <a:ext cx="60948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" name="HIGHRES" descr=""/>
            <p:cNvPicPr/>
            <p:nvPr/>
          </p:nvPicPr>
          <p:blipFill>
            <a:blip r:embed="rId2"/>
            <a:stretch/>
          </p:blipFill>
          <p:spPr>
            <a:xfrm>
              <a:off x="9151920" y="5951520"/>
              <a:ext cx="585720" cy="42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520-E55F-4E93-8ADF-17C89DF36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3720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DC0-B630-4A24-8A92-8CFB65391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erspectives on HIV Prevention Counseling from the RESPECT-2 Study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8591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Kevin Malotte, Suzanne Padilla, and Carol Metcalf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on behalf of the RESPECT-2 Study Group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31240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905120"/>
            <a:ext cx="9906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rough the 12-month study, 20% fewer participants in the enhanced counseling and brief counseling arms had new STD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Findings were consistent across all study sit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676520"/>
            <a:ext cx="99061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ject RESPECT demonstrated that 2-visit HIV counseling is effective at reducing incident ST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non-research settings, however, many clients do not return for HIV test results and do not receive the second counseling s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counseling intervention was effective at preventing STDs in the first 6 months, but effectiveness lessened over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21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Background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9525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apid HIV testing technologies allow people to be tested and receive their results during a single clinic visi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lnSpc>
                <a:spcPct val="12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apid HIV tests are </a:t>
            </a:r>
            <a:r>
              <a:rPr b="0" lang="en-US" sz="3200" spc="-1" strike="noStrike">
                <a:solidFill>
                  <a:srgbClr val="ffff66"/>
                </a:solidFill>
                <a:latin typeface="ZapfHumnst BT"/>
              </a:rPr>
              <a:t>now available* 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and likely to become widely used in the future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ZapfHumnst BT"/>
              </a:rPr>
              <a:t>* the only licensed test has had limited availability and other tests awaiting FDA licensure</a:t>
            </a:r>
            <a:endParaRPr b="0" lang="en-US" sz="1800" spc="-1" strike="noStrike">
              <a:solidFill>
                <a:srgbClr val="ffffff"/>
              </a:solidFill>
              <a:latin typeface="ZapfHumnst BT"/>
            </a:endParaRPr>
          </a:p>
        </p:txBody>
      </p:sp>
      <p:pic>
        <p:nvPicPr>
          <p:cNvPr id="124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Randomized Clinical Trial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Participants randomized to receive one of two interventions at enrollment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One half of each group randomized to receive a second intervention six months later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Participants followed for 12 months with follow-up visits at 3-month intervals (4 total)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Study Design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27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9829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Research Setting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1" marL="653760" indent="-251280">
              <a:lnSpc>
                <a:spcPct val="125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Three Public STD Clinics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005840" indent="-200880">
              <a:lnSpc>
                <a:spcPct val="125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Long Beach, Denver, and Newark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Enrollment February 1999 to December 2001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Follow-up ongoing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-3016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Investigators still blinded to participant intervention assignmen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2" marL="100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apfHumnst BT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Setting &amp; Stage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30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RESPECT-2 Study Sites 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8094600" cy="448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00360" y="41911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36576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2680" y="32004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7680" y="4052880"/>
            <a:ext cx="1476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ng B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3480" y="3505320"/>
            <a:ext cx="97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2440" y="3124080"/>
            <a:ext cx="1371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HIV-negative patients who came into clinic for STD examinations and provided informed consent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15-39 years of age (Denver/Long Beach);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18-39 years of age (Newark)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Participants must live in the local area, speak English, and have had sex in the past 3 months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Participan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9601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Participants Randomly Assigned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rm 1:  Standard Testing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35480" indent="-282960">
              <a:lnSpc>
                <a:spcPct val="10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Standard HIV test and two risk-reduction counseling sessions 5 to 10 days apart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rm 2:  Rapid Testing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1" marL="735480" indent="-282960">
              <a:lnSpc>
                <a:spcPct val="10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</a:rPr>
              <a:t>Rapid HIV test (SUDS) and two risk-reduction counseling sessions completed in a single visit</a:t>
            </a: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Half of the participants are randomly assigned to receive a booster counseling session during the 6-month follow-up visit (Arms 3 and 4)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Interventions 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45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ZapfHumnst BT"/>
              </a:rPr>
              <a:t>RESPECT-2 Enrollment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295280"/>
          <a:ext cx="62578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95280"/>
                    <a:ext cx="625788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logo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828440"/>
            <a:ext cx="9829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Behavioral 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Audio Computer-Assisted Self Interview (Audio-CASI) behavioral questionnaire at baseline and each follow-up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ZapfHumnst BT"/>
              </a:rPr>
              <a:t>STD </a:t>
            </a:r>
            <a:endParaRPr b="0" lang="en-US" sz="30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Tests for gonorrhea, chlamydia, and trichomonas at enrollment and each follow-up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ZapfHumnst BT"/>
              </a:rPr>
              <a:t>Tests for HIV and syphilis at baseline and 12-month visit</a:t>
            </a: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Outcomes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52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09680"/>
            <a:ext cx="10287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RESPECT 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-2 Study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or Observations on HIV Rapid Test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 Preferences Regarding HIV Testing and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at Achieving Client-Generated Risk-Reducti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Session Outline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89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998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54%  Male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46%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Race/ethnicity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47%  African American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24%  White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19%  Latino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10%  Other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Mean age 26 years (age restricted to 15-39)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Nearly 6% men who have sex with men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Participant Demographic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55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apid Tes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7440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Approximately 1660 participants received SUDS 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Results: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28880" y="3429000"/>
          <a:ext cx="8400960" cy="2611440"/>
        </p:xfrm>
        <a:graphic>
          <a:graphicData uri="http://schemas.openxmlformats.org/drawingml/2006/table">
            <a:tbl>
              <a:tblPr/>
              <a:tblGrid>
                <a:gridCol w="1628640"/>
                <a:gridCol w="1731960"/>
                <a:gridCol w="1679400"/>
                <a:gridCol w="1679760"/>
                <a:gridCol w="1681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Si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reliminary SUDS 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Confirmed SUDS + by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reliminary EI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Confirmed EIA + by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L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Den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Newa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apid Tests (continued)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ZapfHumnst BT"/>
              </a:rPr>
              <a:t>Total HIV discrepant results:</a:t>
            </a:r>
            <a:endParaRPr b="0" lang="en-US" sz="32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ZapfHumnst BT"/>
            </a:endParaRPr>
          </a:p>
          <a:p>
            <a:pPr marL="16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ZapfHumnst BT"/>
              </a:rPr>
              <a:t>*In Long Beach, one SUDS positive/indeterminate WB at baseline; WB negative at 3 and 6 month follow-up</a:t>
            </a:r>
            <a:endParaRPr b="0" lang="en-US" sz="2800" spc="-1" strike="noStrike">
              <a:solidFill>
                <a:srgbClr val="ffffff"/>
              </a:solidFill>
              <a:latin typeface="ZapfHumnst BT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47920" y="3124080"/>
          <a:ext cx="7286400" cy="1311480"/>
        </p:xfrm>
        <a:graphic>
          <a:graphicData uri="http://schemas.openxmlformats.org/drawingml/2006/table">
            <a:tbl>
              <a:tblPr/>
              <a:tblGrid>
                <a:gridCol w="2571480"/>
                <a:gridCol w="2286000"/>
                <a:gridCol w="242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SUDS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EIA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WB 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057400"/>
          <a:ext cx="9172440" cy="4276800"/>
        </p:xfrm>
        <a:graphic>
          <a:graphicData uri="http://schemas.openxmlformats.org/drawingml/2006/table">
            <a:tbl>
              <a:tblPr/>
              <a:tblGrid>
                <a:gridCol w="1671480"/>
                <a:gridCol w="1866960"/>
                <a:gridCol w="1878120"/>
                <a:gridCol w="1877760"/>
                <a:gridCol w="18781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% retur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(number   eligib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3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9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12 Mon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Follow-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Long Bea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6%  (9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2%  (85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1% (7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3% (55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Den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7% (123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5% (11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5% (92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6% (6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New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8%  (105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5%  (9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63% (7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58% (5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(All Sit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4% (32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1% (289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0% (236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ZapfHumnst BT"/>
                        </a:rPr>
                        <a:t>70% (17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ZapfHumnst BT"/>
              </a:rPr>
              <a:t>RESPECT-2 - </a:t>
            </a: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Follow-Up </a:t>
            </a:r>
            <a:br>
              <a:rPr sz="3200"/>
            </a:br>
            <a:r>
              <a:rPr b="1" i="1" lang="en-US" sz="2400" spc="-1" strike="noStrike">
                <a:solidFill>
                  <a:srgbClr val="ffff00"/>
                </a:solidFill>
                <a:latin typeface="ZapfHumnst BT"/>
              </a:rPr>
              <a:t>(for those reaching end of follow-up window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ZapfHumnst BT"/>
              </a:rPr>
              <a:t>and target date of 2/28/2001)</a:t>
            </a:r>
            <a:endParaRPr b="1" lang="en-US" sz="24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166" name="logo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1447920"/>
            <a:ext cx="9982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public STD cli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Beach, San Francisco, Denver, Baltimore, and Newa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1993-September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icip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758 heterosexual, HIV-negative patients aged 14 years or older who came into the clinic for STD exam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Overview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 Study Sites </a:t>
            </a:r>
            <a:endParaRPr b="1" lang="en-US" sz="3600" spc="-1" strike="noStrike">
              <a:solidFill>
                <a:srgbClr val="ffff00"/>
              </a:solidFill>
              <a:latin typeface="ZapfHumns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8094600" cy="448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57280" y="35053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0360" y="4191120"/>
            <a:ext cx="85680" cy="75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6576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72680" y="320040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00960" y="3581280"/>
            <a:ext cx="85680" cy="763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560" y="3276720"/>
            <a:ext cx="187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rancisc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7680" y="4052880"/>
            <a:ext cx="1476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ng Be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3480" y="3505320"/>
            <a:ext cx="97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n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2440" y="3124080"/>
            <a:ext cx="1371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a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3680" y="3470400"/>
            <a:ext cx="138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13960" y="3505320"/>
            <a:ext cx="1269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ltim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57280" y="3581280"/>
            <a:ext cx="8568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600200"/>
            <a:ext cx="9982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icipants Randomly Assign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1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hanced counseling/4-theory-based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2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rief counseling/2 interactive risk-reduction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 3/Arm 4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dactic messages/2 brief sessions typical of current care at the time of the stud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Incentives were provided for attendance at intervention se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Intervention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ZapfHumnst BT"/>
              </a:rPr>
              <a:t>Project RESPECT Enrollment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95480" y="1311120"/>
          <a:ext cx="62928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1311120"/>
                    <a:ext cx="62928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28880" y="1828800"/>
            <a:ext cx="9258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Participants followed for 12 month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lf-reported condom use/sexual risk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New diagnosis of STDs by laboratory tes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onorrhe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yphili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I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Outcome Measure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523880"/>
            <a:ext cx="9906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gnificantly lower incidence of STDs among both men and women participating in interactive counseling sessions (Arms 1 and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est impact among adolescents and individuals diagnosed with an STD at their initial vis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371600"/>
            <a:ext cx="9906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3- and 6-month follow-up visits, self-reported 100% condom use was higher in both the enhanced counseling and brief counseling arms (1 and 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ough the 6-month interval, 30% fewer participants had new STDs in both the enhanced counseling and brief counseling arms (1-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976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ZapfHumnst BT"/>
              </a:rPr>
              <a:t>Project RESPECT</a:t>
            </a:r>
            <a:br>
              <a:rPr sz="3600"/>
            </a:br>
            <a:r>
              <a:rPr b="1" i="1" lang="en-US" sz="3200" spc="-1" strike="noStrike">
                <a:solidFill>
                  <a:srgbClr val="ffff00"/>
                </a:solidFill>
                <a:latin typeface="ZapfHumnst BT"/>
              </a:rPr>
              <a:t>Results</a:t>
            </a:r>
            <a:endParaRPr b="1" lang="en-US" sz="3200" spc="-1" strike="noStrike">
              <a:solidFill>
                <a:srgbClr val="ffff00"/>
              </a:solidFill>
              <a:latin typeface="ZapfHumn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9T12:34:11Z</dcterms:created>
  <dc:creator>DHAP USER</dc:creator>
  <dc:description/>
  <dc:language>en-US</dc:language>
  <cp:lastModifiedBy>vem4</cp:lastModifiedBy>
  <cp:lastPrinted>1998-03-24T21:02:47Z</cp:lastPrinted>
  <dcterms:modified xsi:type="dcterms:W3CDTF">2001-08-23T17:07:30Z</dcterms:modified>
  <cp:revision>86</cp:revision>
  <dc:subject/>
  <dc:title>No Slide Title</dc:title>
</cp:coreProperties>
</file>