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.gif" ContentType="image/gi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E28E-67C0-4CAD-802C-20BF3D2F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standardized way of addressing issues or catered to a country’s specific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make a wish list – priorit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should not cause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w skills and practices will be required to maximize value of LIMS investment? (Resources requi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LIMS alter interdepartmental relationships? (Build consens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LIMS in supporting medium to longer-term strategic objec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et sup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0374-8D94-4CCC-83D5-87DFB6F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A758-9907-4FCF-97F8-CF8F2C7A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810D-3EC5-42D0-B4AF-48FF3A4D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C26E-0775-4910-AB79-95F75D18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4FAF-51F4-413C-ACC9-CF0F1A37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2234-1143-4FA3-BA57-BDB9D3F1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5F1D-C479-4F68-8805-AC9E8878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7237-ECA4-4C26-9108-5CFF20C3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AE43-BF7A-4FC7-931F-F58423B8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EE6-64C6-43ED-BB0B-A6FA9523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1A11-ABE0-4430-B1D5-98E48DB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7FE1-CED0-490C-B176-75BD2F44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6E3E-DA0A-400C-B707-F4417C2B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3B06-2880-45F8-AAED-E9DEB19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FFD-D968-492F-9EFC-A1A1075E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86C-822E-4C64-A0C4-1BB8A974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71F-F5C0-4CB0-9BC7-8234E474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F877-2442-4A65-B22D-BD8E349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1EC5-00F0-4A52-99D1-8295CC0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4AE5-FE38-4915-8F95-6BFCB3E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CAD1-9AC8-40AE-8E10-27E827E8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D224-06E5-4087-9FEC-2EE3850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A1BB-36E8-4030-8DDB-8BEBDB2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32F1-154E-4ABF-A644-CA8CC30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5D61-1B35-4934-8D11-C308025EB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1840-6F08-4B6E-8BE9-196E88535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Laboratory Information Management Systems (LIMS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shma Kakka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olutions detail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S Plus – CDC developed tool for building applications to support lab processes – recommended for public health/reference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 Info – CDC developed tool usable for building applications to for labs – recommended for small clinical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Access – commercially available tool that can be used in conjunction with VB to build ap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6259680"/>
            <a:ext cx="3124080" cy="59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267080" y="622944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715000" y="6248520"/>
            <a:ext cx="838080" cy="59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MS decis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ference/research/public healt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specim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and number of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staff/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termine which areas will be affec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nd expec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void ‘culture shock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Keep in mind 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LIMS requires close collaboration between lab and 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S needs to be a priority for both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thinking of lab operations may be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required to build and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anda: LITS Plus in production; using Epi Info 2002 for accessioning specimens, Visual Basic for some aspects of specimen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mbabwe: LITS Plus in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ya: Considering LITS Pl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4400" cy="1066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oals of GA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ssistance with development of systems that support best lab practices and allow for timely management and retrieval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use of generic, portable systems that can be developed once and deployed in multiple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 At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mprove information manag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vide technical experti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acilitate collabor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ources and commit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son ti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MS is the sum of …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, software, people, proced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952560" cy="81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67280" y="3276720"/>
            <a:ext cx="1198800" cy="14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851040" cy="1336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57480" y="5029200"/>
            <a:ext cx="90504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270160" y="3429000"/>
            <a:ext cx="1235160" cy="107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6819000">
            <a:off x="5790600" y="487620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78800">
            <a:off x="5257440" y="30477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4038480" y="540972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8305400">
            <a:off x="3276360" y="304776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3398600">
            <a:off x="2819160" y="4571640"/>
            <a:ext cx="533160" cy="380880"/>
          </a:xfrm>
          <a:custGeom>
            <a:avLst/>
            <a:gdLst>
              <a:gd name="textAreaLeft" fmla="*/ 0 w 533160"/>
              <a:gd name="textAreaRight" fmla="*/ 533520 w 5331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ole of LIM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n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ork fl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hanging business needs/process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isting systems and improving where requir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QA/Q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have a LIMS?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data management in lab to increase lab potent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centralization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and enhance business processes of the lab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dvantage of new lab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easy access to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terprise LIM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81840" y="2895480"/>
            <a:ext cx="14158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252252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5257800" y="4114800"/>
          <a:ext cx="3414600" cy="19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4114800"/>
                    <a:ext cx="34146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986040" y="529740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men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23840" y="525780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pecimen track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 specimens from receipt, processing, testing, reporting to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ally capture results from lab diagnostic equipment and store with specimen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s and algorithms for testing and final result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533520"/>
            <a:ext cx="156672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tient Tracking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determination of pati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patient and specime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patient management and care/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451640" y="457200"/>
            <a:ext cx="1158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ssible Solution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S P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 Info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 (statistical/analytical softw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8:21:11Z</dcterms:created>
  <dc:creator>DHAP_USER</dc:creator>
  <dc:description/>
  <dc:language>en-US</dc:language>
  <cp:lastModifiedBy>sam5</cp:lastModifiedBy>
  <dcterms:modified xsi:type="dcterms:W3CDTF">2003-05-13T17:09:41Z</dcterms:modified>
  <cp:revision>28</cp:revision>
  <dc:subject/>
  <dc:title>Laboratory Information Management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056421</vt:r8>
  </property>
  <property fmtid="{D5CDD505-2E9C-101B-9397-08002B2CF9AE}" pid="3" name="_AuthorEmail">
    <vt:lpwstr>rmk5@cdc.gov</vt:lpwstr>
  </property>
  <property fmtid="{D5CDD505-2E9C-101B-9397-08002B2CF9AE}" pid="4" name="_AuthorEmailDisplayName">
    <vt:lpwstr>Kakkar, Reshma</vt:lpwstr>
  </property>
  <property fmtid="{D5CDD505-2E9C-101B-9397-08002B2CF9AE}" pid="5" name="_EmailSubject">
    <vt:lpwstr>Presentation</vt:lpwstr>
  </property>
  <property fmtid="{D5CDD505-2E9C-101B-9397-08002B2CF9AE}" pid="6" name="_ReviewingToolsShownOnce">
    <vt:lpwstr/>
  </property>
</Properties>
</file>