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803-258D-49F7-9E9E-282DCED7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DDE-7453-49EB-A3E1-0ACEF8A5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A09-3EA6-4EDC-B675-5845C38C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A89-31E2-426E-96A1-1A83520B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23BC-7FA1-4698-B08E-437BBE2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460-D5D2-4939-B461-98097161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7559-755B-4270-9072-26CA31D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764-11FD-4C79-A714-EFC584AC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D7AA-AC7D-44EE-9CCE-F9FBE54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2B52-2E26-4B28-AABC-FA08623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F5C-CB50-497E-A8C7-2E76E12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8CB-524A-4161-BE98-ED96E499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CE5-65B5-41A1-8DD3-C84D58D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2AF4-CB1C-4526-A54F-64C207E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5F01-B56C-4707-86BB-26DC12F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A0B6-E323-4C77-8E0C-8E981CD1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EBD7-6F7D-4439-ABA1-B9BCA412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799-B92C-4430-803D-0A1F0EFF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8E5-85E3-45CE-8629-4D1B0615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0E7-A816-491F-92C9-E4B8D74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613-EB60-4F05-B9A3-506E1258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315-E8C8-4692-9019-F4FAC3D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4D2-B989-4205-B029-248E955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80C-82A3-487B-97D2-D6D658E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715-EA2E-4C4B-A196-79161E41B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1CD-AB70-4DC8-937C-8498F44F3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STAR reconstruction overview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816680" y="5740560"/>
          <a:ext cx="9367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6680" y="5740560"/>
                    <a:ext cx="9367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276720"/>
            <a:ext cx="70102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os Margetis (Kent State University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Collab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is similar to AL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i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rel TPC as central tra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licon based Vertex Det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R (SSD+SD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CE (+Pixel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reconstruction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ster/Hit/Track finders/fit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obal combinators (tracks, PID, verti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librations, Alignment, Control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R  Year-1 / Year-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1 tracking det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PC + one SVT plane (ladder) + FTP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r integrated tracking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terial, trackers, matching, relative align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2, 2’,2”...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lly + SVT, then +S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er integrated tracking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ion sequence less obvi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ctor&lt;-&gt;Global handsha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ftware design - Bad new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Initial Desi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cy code was put together and effort concentrated in maintenance and algorithm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environment, new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(STAR dedicated) manpower/frequent infra changes (much better n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-existence of Fortran/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rs and p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code, same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box/Don’t touch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ood new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algorithmic approaches to cluster/track f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previous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 tasks are covered even if not in an optimum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uge holes in the syste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looking for common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agation (GEANE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tting (Kalman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hm handshake/streamlining/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PC (similar chart for SV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data are repor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R coor. Sy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tpc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5457960" cy="45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re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detector specific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s D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global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441936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la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tuning / develop existing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t from other’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best we can for upcom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er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rid of leg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y Analysis/Reco framework (StEvent 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 will be ready to reconstruct its day-one data, but sw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-2 is more challenging than year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hope for increased participation in developing/rewriting code as data/analysis needs app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collaboration with outside exp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R/ALICE Joint Software Worksho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April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7:38:22Z</dcterms:created>
  <dc:creator>lbarnby</dc:creator>
  <dc:description/>
  <dc:language>en-US</dc:language>
  <cp:lastModifiedBy>margetis</cp:lastModifiedBy>
  <cp:lastPrinted>2000-04-07T15:35:36Z</cp:lastPrinted>
  <dcterms:modified xsi:type="dcterms:W3CDTF">2000-04-08T18:27:22Z</dcterms:modified>
  <cp:revision>31</cp:revision>
  <dc:subject/>
  <dc:title>STAR Year 1 Global Tra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NT\Profiles\lbarnby\Personal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04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