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218-882C-4978-9C4B-23C9D9A6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F0D-B07E-488C-940A-A8E7C8FE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091-7C27-4448-8EEF-8E597C98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ECE-3F39-4A09-B7CA-E68850ED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8213-575C-4268-B3B5-6185CFB5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EC1C-A443-4A76-94B5-199DDB29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A234-2162-4E66-87FF-0B917E78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F31A-CC80-4859-922B-A2C37AA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C45F-E259-41FF-B38D-E81E85AD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6953-CE4E-4A0F-8AC0-2A22F6C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B4A8-FAE5-46BC-B138-68C041B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A6A-A725-4650-8EF6-41C6BF9F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078B-6226-44A9-ACC9-BF9651FB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6492-8719-4B8B-B26F-D240CEC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A12C-53B1-4DD8-B5B0-05120755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4E32-B245-4224-8FE9-B86B4482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D0E8-F4AE-40C2-BEBA-EF401164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E2A-F67B-4575-A708-BCF763F0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3CA-B88D-4223-A2C0-8FF628A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991-E11C-4071-871C-399E00B7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F1B-F8CD-4643-8DCB-C85A058A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87A-10FA-47AC-8809-8CCB63CA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804-C866-4507-94A4-63195DF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860-7503-4F54-9644-D4DC1E44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56B5-7F33-4CF7-B656-3FB95CEADC2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35B6-AB62-44EF-A9A8-BA36044698B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lc2" descr=""/>
          <p:cNvPicPr/>
          <p:nvPr/>
        </p:nvPicPr>
        <p:blipFill>
          <a:blip r:embed="rId1"/>
          <a:stretch/>
        </p:blipFill>
        <p:spPr>
          <a:xfrm>
            <a:off x="1219320" y="0"/>
            <a:ext cx="2338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w3c_main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581280" cy="1067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43200" y="2133720"/>
            <a:ext cx="4076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1b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ibraries and the W3C: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1b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28800" y="2786040"/>
            <a:ext cx="601992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ibrary of Congres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5120" y="4952880"/>
            <a:ext cx="5743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uven ZIG Meeting, Juluy 200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URIs  (background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RI: “uniform resource identifier”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riginally,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  generalization of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URL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uniform resource locator)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URN   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uniform resource name)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C      (uniform resource citation)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nd potentially others,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ut mainly, URL and UR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difference (in theory)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between URL and URN: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 URL is bound to a loc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09120" indent="-234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hen resource moves, url chang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 URN is a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09120" indent="-234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us location independent, and, in theory, persistent  (whatever “persistent” mean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3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Other View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stinction between URL and URN is artifici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oth terms should be abolished and replaced by “URI”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us all identifier “schemes” would be URI schemes (even “http”) and no prefix would be necessary (URL, URN, or even URI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easoning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4920" y="2044440"/>
            <a:ext cx="769644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riginal URI philosophy: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RLs were a short-term solution and URNs long-term 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RL would be a temporary identification mechanism until a location-independent, persistent  identifier was developed, the URN. 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ow it seem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s won’t be any more persistent than URLs – persistence is a social problem, not a technical proble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wo View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ttp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tp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z39.50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b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C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8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ttp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tp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dl:       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v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b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705720" y="3429000"/>
            <a:ext cx="6872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?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0" y="5334120"/>
            <a:ext cx="68724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????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24080" y="5638680"/>
            <a:ext cx="5105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d of backgrou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Problem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3429000"/>
            <a:ext cx="7162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C  frustrated with the pace of development and lack of progre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o coherent URI infrastructure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o resolution framework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124080" y="2286000"/>
            <a:ext cx="3810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rustra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URI 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266688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solution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gist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life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ersist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14440" y="2044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gree of centraliz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ferral/re-direc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port for human readable -and  legacy- identifier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paration of metadata from identifi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spcAft>
                <a:spcPts val="876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nicode supp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4267080"/>
            <a:ext cx="28861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se are the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imary issues,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ut also........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imary URI 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gist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at URI  is used for ISBN?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solution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ow would it be resolved?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life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URI-scheme evolution must be sufficiently manageable that browsers can implement a core set of schemes so users won't be  constantly downloading plug-ins for different schemes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ersist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5486400"/>
            <a:ext cx="2743200" cy="485640"/>
          </a:xfrm>
          <a:prstGeom prst="leftArrow">
            <a:avLst>
              <a:gd name="adj1" fmla="val 50000"/>
              <a:gd name="adj2" fmla="val 141216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ersistence”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it means different things to different people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ocation-independ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hen the resource moves, the identifier remains the sam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niquene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nly one identifier for a given resour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ermane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nce assigned to a resource, the resource will exist foreve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nambiguous - ne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nce assigned to a resource, that identifier may never be assigned to another resour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2971800"/>
            <a:ext cx="3733560" cy="2666880"/>
          </a:xfrm>
          <a:prstGeom prst="noSmoking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2057400"/>
            <a:ext cx="2590920" cy="485640"/>
          </a:xfrm>
          <a:prstGeom prst="leftArrow">
            <a:avLst>
              <a:gd name="adj1" fmla="val 50000"/>
              <a:gd name="adj2" fmla="val 13337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895480"/>
            <a:ext cx="3657600" cy="1905120"/>
          </a:xfrm>
          <a:prstGeom prst="noSmoking">
            <a:avLst>
              <a:gd name="adj" fmla="val 125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View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ersistence is not a technical problem - it’s a social problem, and a problem that neither the IETF nor the W3C is equipped to solv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sponsibility for ensuring that URIs( continue to) resolve to the appropriate content should lie with the entity managing that conte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601"/>
              </a:spcBef>
              <a:spcAft>
                <a:spcPts val="1049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Different naming schemes will be used with different semantics and administrative policies. Resolvers for a naming scheme will be  responsibility of the body administering  the scheme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 and the W3C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Histor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ttended two W3C Worksho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dexing/Distributed Search - 1996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Query Language  - 1998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88620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Joined W3C April 199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952880"/>
            <a:ext cx="7391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ttended 2 AC Meetings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ovember 1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ay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’s Missing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 framework permitting an evolution of URI schemes sufficiently manageable that browsers can implement a core set of schemes so users won't be  constantly downloading plug-ins for different schemes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ore to the point for the library world: 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library automation vendors need to know what schemes they need to support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’s Missing?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</a:rPr>
              <a:t>(continued)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 deployed mechanism for directing resolution requests to the appropriate resolver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 effective technical infrastructure allowing identifiers to be recognized and handled by browsers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 single  document  -- for example,  </a:t>
            </a: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a W3C technical report or, preferably, a Recommendation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-- that  ties all the information together coherently, and  recommends revision where appropri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200400" y="2933640"/>
            <a:ext cx="464832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Resul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a URI?  Two View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25146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ttp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tp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z39.50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b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C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28840" y="27432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ttp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tp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v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urn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bn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dl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23880" y="1981080"/>
            <a:ext cx="2229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ld View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4120" y="2133720"/>
            <a:ext cx="2228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ew View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URI Interest Group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New W3C Proposal for a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RI Interest Group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in the Architecture Domain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: “Build and maintain shared understanding around URIs technology and specifications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ission:  to be responsive to the needs of the W3C membership and WGs for information about URI technology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interest in WAI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C is a Federal Agenc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C includes NLSBPH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National Library Service for the Blind and Physically Handicappe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igital talking book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b-braill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nformation Retriev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100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XML and Protocol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Z39.50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spcAft>
                <a:spcPts val="2100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Z39.50/RDF  integr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n RDF representation of Z39.50 attribute sets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lign RDF and Z39.50 data models?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XML query language  a Z39.50 query type?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95280" y="472428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 libraries care about the W3C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920" y="25146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es the W3C care about libraries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33526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,  not  really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76520" y="5410080"/>
            <a:ext cx="3047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o,  not  really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y should libraries care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braries have a big stake in several activity are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05560" indent="-2055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braries have significant expertise to offer in several areas  e.g.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45680" indent="-171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ta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445680" indent="-171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dentifier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445680" indent="-171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445680" indent="-1713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nformation retriev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3719520" y="5680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interest in W3C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raphi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haracter Se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dentifi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formation Retrieval/Quer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cessi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gital Signatur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P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interest in W3C -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ategori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spcAft>
                <a:spcPts val="524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As a content provid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524"/>
              </a:spcBef>
              <a:spcAft>
                <a:spcPts val="524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Copyright  Offi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524"/>
              </a:spcBef>
              <a:spcAft>
                <a:spcPts val="524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Nat. Library for Blind and Physically Handicappe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524"/>
              </a:spcBef>
              <a:spcAft>
                <a:spcPts val="524"/>
              </a:spcAft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Library/part of  library communi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C’s interest in W3C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s a content provid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Styleshee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graphic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opyright  Offi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Digital Signatu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P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LSBPH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ibrary-related interes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ta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haracter Se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dentifi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formation Retrieval/Quer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ccessi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124080"/>
            <a:ext cx="2133360" cy="762120"/>
          </a:xfrm>
          <a:prstGeom prst="leftArrow">
            <a:avLst>
              <a:gd name="adj1" fmla="val 50000"/>
              <a:gd name="adj2" fmla="val 69981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962520"/>
            <a:ext cx="914400" cy="409320"/>
          </a:xfrm>
          <a:prstGeom prst="leftArrow">
            <a:avLst>
              <a:gd name="adj1" fmla="val 50000"/>
              <a:gd name="adj2" fmla="val 5584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4495680"/>
            <a:ext cx="1295280" cy="409680"/>
          </a:xfrm>
          <a:prstGeom prst="leftArrow">
            <a:avLst>
              <a:gd name="adj1" fmla="val 50000"/>
              <a:gd name="adj2" fmla="val 79042"/>
            </a:avLst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posal for  URI Activ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posed at November 1999 AC Meet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an LaLiberte, Chai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posal seemed well-received (certainly, by LC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posal withdrawn abruptly, by Tim Berners-Lee, January 20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C was not pleased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7:08:57Z</dcterms:created>
  <dc:creator>Ray Denenberg</dc:creator>
  <dc:description/>
  <dc:language>en-US</dc:language>
  <cp:lastModifiedBy>Ray Denenberg</cp:lastModifiedBy>
  <cp:lastPrinted>2000-03-24T19:38:48Z</cp:lastPrinted>
  <dcterms:modified xsi:type="dcterms:W3CDTF">2000-07-07T14:24:54Z</dcterms:modified>
  <cp:revision>38</cp:revision>
  <dc:subject/>
  <dc:title>URI Issues</dc:title>
</cp:coreProperties>
</file>