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FA2-C516-4430-A42D-D97917E9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021-DFCA-45DF-8D30-B345760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70E-C545-4CF0-8B6E-C27A8283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C68-BD20-4FF2-9E2C-9F7FC177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E42-483C-4FF0-9B7E-4D29A0AC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5E0F-5C09-4962-8831-F642AA5B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4D5A-0C05-4E11-B267-85C0CF30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9042-4E6F-460E-9F5D-ACA82CBD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E9E9-4A9A-4C62-9148-541E0A85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FB3-B6D1-4CC4-98D7-9DF660F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1896-5F7C-4BDA-AD26-49EFF61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5E9-7EDB-47DC-B63B-1B3FFE07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677-268E-4CC5-B266-FBB5300F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91A7-9BA0-4ACC-97D3-4F5654D5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E6E3-F4AE-4BFA-9741-73D914E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209-3990-466A-A5FC-D926CA28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A874-92C1-4B8B-840C-28419484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981-286B-4DC2-8C31-AA003F86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129-06EA-4869-9076-DE131A5F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A49-9FD1-45D7-9ACA-F5C1274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DB6-2CBB-454B-9BFC-6090296F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5BA-CA7B-4026-BCB7-557AECB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1D5-4677-42C4-9124-E094363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E18-A3C5-4B82-ABE4-B4F5DC1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556-EF21-4B2B-B980-4951643DC5B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3E7-EEEF-4FD8-BCFD-1A791C7D07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IST Training Seminar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ugusta Maine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ugust  14-18, 2000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oading Rack Meters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6723-BA14-40EC-AF52-D0DA2C225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etest Determination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81532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 current calibration certific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ls must be in pla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compatible with system (top/bottom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sufficient to hold one minute flow at max rate and not less than  200 L ( 50 gal 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.3.5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tion - no dents, rust, water, or foreign material ,   sight glass clean and not leak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top loading prover inlet lower than meter outle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ometer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 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to 12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, 0.5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increments, 0.2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46E-3999-441D-A4A9-F8F26DBAB3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retest Determinations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Flui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1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characteristics as that measured  commerciall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ble Requirem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T, T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oleran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.2.3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tes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ptance 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2 %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 %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tes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ptance tolerance an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 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E29-CB2B-4AE6-9F0E-015A2E9252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682-425D-435E-A012-5EAAB1A32E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ng and recording elem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indicating element, may have recording el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1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 in liters or gallons or binary-submultiples or decimal subdivi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.2., S.1.2.3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ng and recording elements clear, definite, and easily rea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, S.1.4., S.1.5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d markings distinct, easily readable and perman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6., G-S.7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EBB-ED7E-4212-A9B4-90246DFEE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ng and recording ele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interval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form throughout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3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designed to indicate more than one unit - value must be appropriately identifi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3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ment and return to zer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may only be advanced 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1.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be stopped until zero is reached o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ions are automatically obscured until zero is reach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797-C784-4521-A9C0-C278E32D49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ing and recording ele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for seal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 must be made for sealing electronic adjustable compon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G-S.8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curity seal must be affixed to any adjustment mechanism designed to be sealed       G-UR.4.5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45E-7DE6-4075-9374-960861B7F1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ing eleme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vapor elimination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 lines suitably rigi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provided for determination of product tempera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6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for applying security seals to meter and automatic temperature compensating syst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ecurity seals inta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UR.4.5., S.2.2., S2.7.3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8FB-E28A-4FE1-B6F9-F70241351B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ly accessible for testing    G-UR.2.3., G-UR.4.4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ce provided if requi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 cannot be diverted from measuring chamber or discharge line and directional flow  valve are autom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2.3., S.3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eaks on meter outlet s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UR.4.1., S.3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ks on inlet side noted and called to users atten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E70-BDCE-4467-A902-C81765A00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ssociated equipment installation, and construction do not facilitate frau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-S.2.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ation is proper and does not adversely affect system perform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G-UR2.1., UR.2.1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maximum discharge rate does not exceed manufacturer’s specific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.2.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820-DBEE-46DB-B527-3EA7A71B2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and u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suitable for applic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G-UR.1.1., G-UR.1.2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r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 capabil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ng and recording elem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of smallest unit and unit pri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F42-BD35-4FD8-B73B-173A723CD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Loading Rack Meters</a:t>
            </a:r>
            <a:endParaRPr b="0" lang="en-US" sz="5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O No. 2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test Determination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 Not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554-3619-40BE-B941-D286FB0C2A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and u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and associated equipment operated in manner intended by manufactur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UR.3.1., G-UR.4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quipped with mechanical 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UR.3.6.1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ed and operabl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e at all tim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EF3-D4BA-461B-B32B-E103FA3E51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, model, and serial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S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es, lights, displays, pushbuttons, controls, and features clearly identified       G-S.6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use clearly and permanently mar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4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and maximum discharge rate clearly mar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4.3.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cannot exceed 20 % of maximum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CBE-DC7D-456D-85C4-E03F1B07C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Inspection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ces equipped with AT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to deactiv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7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 well provided for determination of product temperature  S.2.7.4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indicating and recording elements marked to show delivered volume has been adjusted to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4.3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422-D6F5-4FFB-9EAD-FC3EA0D01F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25142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F96-751C-427B-B216-3BCF1D2C69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Prov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indicators working properl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 safety interlock, ground cable and vapor recovery hose if applicabl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 all valves closed and pumping mechanism function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 totalizer read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and after each draf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38A-04D7-4ABB-B4B1-7E114785CD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temperature differences between meter and pr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splashing in top loading provers and maintain fill spout in consistent posi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printed tickets and invoi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 after every draf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.S.5.6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typ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comp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.1.7.2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volume and unit price must accompany total price  either printed or handscrip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.3.4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0F3-90A4-407D-8F7F-162B578410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printed tickets and invo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indicated and recorded values for compara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S.5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TCS check invoices for         UR.3.6.1.2. a &amp; b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volume has been adjusted to 6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lectronic systems, listing of API gravity, specific gravity, or coefficient of expansion, product temperature, and gross meter reading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AT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.3.6.2.1., UR.3.6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djusted, notice that volume has been adjusted to 60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 of product used to make adjustmen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48A-D25D-45A4-97B0-6A626764BB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meniscu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for transparent liqui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for opaque liqui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ining prov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sight gla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drain valve before liquid reaches zero, wait 30 seconds, open small zero drain valve till zer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readjus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wer sight gla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rips start wait 30 seconds, close drain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EF3-F93E-4384-AAFB-36C370C71D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mperature reading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o nearest 0.5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atching thermometer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prover temperature immediately after each accuracy test ru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readings if prover has multiple well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meter temperature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meter well in measuring chamber or immediately adjac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t 1/3 and 2/3 of prover capacit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F87-517A-4E0A-9D51-42A992C168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Notes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atic stop mechanism (preset) must stop within one-half the minimum indicated interval             G-UR.4.1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FAC-7696-4FD4-8339-8123A954B6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276360"/>
            <a:ext cx="7315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Safety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F45-3E60-473C-AF06-3468A8189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251460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9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61C-D0FB-486C-96C5-FD430410B2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0448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t prov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ty prover using 30 second drai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ticket &amp; set preset to prover  volu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met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pump then open delivery valv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nd of each run read prover &amp; determine meter err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run if test result is near or out of toler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9DC-9272-4449-A8D2-DEA012E778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 for Repair Personn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two runs at same flow rate to determine repeatabilit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runs within applicable toler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not to exceed 40 % of applied toleranc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meter if out of toleranc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ctivate ATCS if necessar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performance of temperature senso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A3F-3651-437C-B156-92D480344F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 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5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test - full 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1., N.4.1.1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rate within meter rating G-UR.3.1., G-UR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est - slow f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2., N.4.2.4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prover at minimum flow rate marked on 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emperature at meter and prover make corrections for meter and prover reading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483-EA56-46F7-9269-19ED4FDDB0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 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5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test - full 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1., N.4.1.1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rate within meter rating G-UR.3.1., G-UR.2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626-A8BC-47F8-9119-E981F93D3F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 ATC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est - slow f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.4.2., N.4.2.4., T.2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prover at minimum flow rate marked on 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1DC-2222-4970-A1A3-D5EB37034D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tests of temperature compensated meter - indication in “net” gallon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full flow test -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ith 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tivat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to note large variat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 reading &amp; product in prover for temperature difference from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425-0F7B-4CF6-989B-3C33583D77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of temperature compensated meter -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activat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full flow tes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    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EBF-D199-4A29-9FB8-F3F521604E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of temperature compensated mete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est slow flow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activat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product temperature at meter - read at  1/3 &amp; 2/3 of prover capacit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temperature in prov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 prover, product in prover, &amp; meter readings for temperature difference from      60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7FA-9295-4945-BF60-EFF499C602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tests - For meters that display both “net” and “gross” deliver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gross” delivery indication use correction procedure for meter without temperature compensation for normal &amp; special tes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net” delivery indication use procedure for meter with ATCS for normal &amp; special test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7AD-4CDD-4D8F-9C52-E0B1FFC7FA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Syntheti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Hazard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ed wir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s of Ignition (heat or spark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Procedur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ne Numbers for Emergency Servic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First Aid Train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 Protec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ggles or Safety Glass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ye Wash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C36-D3F5-4C15-A4DC-EE52FA1B1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system with AT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meter error with ATCS activated and ATCS deactivated shall not exce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2 % for mechanical ATCS an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for electronic AT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.2.3.3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E61-4535-4713-9F7C-12CB9F28366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se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 for security seal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.2.2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ls in place &amp; int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G-UR.4.5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t-hose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3.9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effectiveness of anti-drain valv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-hose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3.6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for complete drainage of hos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2C9-1791-4C9A-8B25-64B83B80E48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Test Procedure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FI/EMI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with associated equipment onl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only if a problem is suspecte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-N.2., G-UR.1.2., G-UR.3.2., G.UR.4.2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BB6-47B0-4114-8328-9354301662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77724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Extinguisher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table (20 lb or larger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y Chemic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id Ki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Suppli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nding Cable and lug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lly System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F1E-3601-477F-85C8-9FC7BB0C06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gnition Sourc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 wiring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sed Light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per Extension Cord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able Heater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ting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er Lifting Technique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ight Limitation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 (wet/slick 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tructions, Overhead Hazards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roleum Products,  Hazardous Materials of Chemicals  (MSDS’s)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BB5-F31E-4A2B-B58A-2C1C969AA9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Data Shee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e of Prod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Protection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Sho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ctive Clothing, Gloves, Eye Wear, Respirator, Barrier Cream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 Ha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Cones/Warning Sign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89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Discharg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n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1BE-9B56-4F94-AC04-70FB2D7F1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Safety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Prov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 Leveling Jack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el Chock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itch Loading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esel Fuel Firs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tion of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112-96F2-46D4-9A52-2D9E9F0B5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0574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ff"/>
                </a:solidFill>
                <a:latin typeface="Arial"/>
              </a:rPr>
              <a:t>Pretest Determinations</a:t>
            </a:r>
            <a:endParaRPr b="0" lang="en-US" sz="8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6FA-0070-497E-B599-490445124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10:33Z</dcterms:created>
  <dc:creator>Richard</dc:creator>
  <dc:description/>
  <dc:language>en-US</dc:language>
  <cp:lastModifiedBy>RSuiter</cp:lastModifiedBy>
  <cp:lastPrinted>2000-08-09T22:40:41Z</cp:lastPrinted>
  <dcterms:modified xsi:type="dcterms:W3CDTF">2001-06-25T20:23:31Z</dcterms:modified>
  <cp:revision>29</cp:revision>
  <dc:subject/>
  <dc:title>NIST Training Seminar Augusta Maine August  14-18, 2000</dc:title>
</cp:coreProperties>
</file>