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C52D-88AF-457B-A040-3EF135A80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7495-68F3-4F92-97F6-0874DEA3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BC71-B67B-4FF5-84E7-7335D8A5D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AE56-ED02-4A1B-ADE4-01E339CFB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6A36-DED8-478C-89DA-A9890BBDD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28AD-9E4E-40B1-BB77-BD947E62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42B6-BA21-4B58-B021-3FC24118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9BF1-7702-4973-8939-EE5048F9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73CE-B9F5-4EC8-9FB0-2FA5805E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9996-42BB-4745-9B51-E1DDD558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129A-EE11-484D-901E-B99968C7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2652-0605-4914-B6C1-8CBDCA2A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3BC4-BF79-4313-B3A6-8F2D95D9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43FA-8FEF-4528-814A-F4168124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EC35-D993-4883-B7B0-9AF3C9BB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1CA3-C91C-4CFA-9C91-F35D11D46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044A-64D7-49A4-BDAE-8FE865828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5B7B-57C1-4E31-B915-5E7A2225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7212-A07F-4B21-8C0F-022C161B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AB15-F939-4659-9CEB-F27B9FDC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BDA2-DBA8-4E1A-AF48-E18F5E66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DA34-70F8-44B6-ACDD-04D213E5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AA83-B2A3-4AD9-BD50-EA9366C3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0DAD-140D-4BB1-9798-8C4ED1F8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DBD2-D67E-4C6F-9638-0E62A034C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D9CF-39CB-47D1-A165-F976AC9CE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F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Distribu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rvic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8240" cy="695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7734240" y="6296040"/>
            <a:ext cx="140976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9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51665" t="29352" r="20860" b="22130"/>
          <a:stretch/>
        </p:blipFill>
        <p:spPr>
          <a:xfrm>
            <a:off x="2971800" y="838080"/>
            <a:ext cx="3648240" cy="48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9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51665" t="28257" r="21661" b="23228"/>
          <a:stretch/>
        </p:blipFill>
        <p:spPr>
          <a:xfrm>
            <a:off x="2971800" y="762120"/>
            <a:ext cx="353700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rcRect l="51665" t="28714" r="21661" b="23869"/>
          <a:stretch/>
        </p:blipFill>
        <p:spPr>
          <a:xfrm>
            <a:off x="2971800" y="838080"/>
            <a:ext cx="353700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Servic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a web brows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NAIP Viewer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ttp://gdw.apfo.usda.gov/naip/vie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a Arc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Add ArcIMS site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Y06 data and p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ttp://gdw.apfo.usda.gov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Add ArcGIS Server site –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State 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Y07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ttp://gis.apfo.usda.gov/arcgis/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8240" cy="695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7734240" y="6296040"/>
            <a:ext cx="140976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SA and APFO Joint Ventur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 Centr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ly redeveloped the replication mechanism this year to eliminate issues caused by null geometry features, residual to the shapefile data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FO has received complete county datasets from all 3,066 counties with CLU (36,500,000 polyg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nt 2 weeks “cleansing” the data, in preparation for loading into UTM based 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ing for cyclic delivery of monthly trans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plug Gateway into SDE databases for CLU delivery once other processes are in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8240" cy="695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7734240" y="6296040"/>
            <a:ext cx="140976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SA and APFO Joint Ventur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 Client Application Centr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SA is in process on centralizing the Desktop environments currently deployed to COF/S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trix will be utilized to provide thin client access to existing Desktop GIS tool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lot of 17 counties planned for Febru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FO and GIS Office working with OCIO to capture benchmarks for capacity planning and evaluation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IP web services accessed by the Citrix applications farm in Kansas 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8240" cy="695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734240" y="6296040"/>
            <a:ext cx="140976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SA and APFO Joint Ventur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Globe ArcGIS Explorer De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SA will be deploying ArcGIS Explorer to COF and SOF in FY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FO is currently working to re-deploy the NAIP hosting and technical architecture implemented in 2003 in the GD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GIS Server hosted 3-D Globe cache of best available NAIP, updated each year, for use in ArcGIS Explorer in COF/S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e Server hosted suite of state based NAIP  services for each year of NAIP acquired to date, for use in FSA Desktop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GIS Server hosted 2-D Map cache of best available NAIP, updated each year, for use as base map in  web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8240" cy="695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7734240" y="6296040"/>
            <a:ext cx="140976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lk Data Distribu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V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TO4 Tape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New this y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 Dr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or has the option of using drives provided by APFO or providing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New, unopen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rd driv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based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8240" cy="695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734240" y="6296040"/>
            <a:ext cx="140976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Data Gate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effort between NRCS and AP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ned” CC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CM’s uploaded upon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ccess – no account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U requires Level 2 E-A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um download per session is 4G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8240" cy="695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734240" y="6296040"/>
            <a:ext cx="140976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stomer Order Entry System (COES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 required, no PII data is retain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er Quads – “Canned Produc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upon completion of con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or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I determines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http://199.158.165.58/oe/search.j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8240" cy="6951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734240" y="6296040"/>
            <a:ext cx="140976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Provisioning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ount required, user must make 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 request to lori.uhlhorn@slc.usda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ount valid for 90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ailable at no cost for Emergency respo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ows user to “customize”  QQ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aic &amp; Combiner Mosaic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ion &amp; Datum Options Collapse 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ion  Albers Conical Equal Area Geographic Lambert Conformal Conic State Plane Transverse Mercator UT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um  NAD27 CONUS NAD27 CONUS (ERDAS Imagine) NAD27 NADCON NAD83 CONUS NAD83 NADCON WGS 1972 WGS 1984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ic Projection Op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Plane Projection Op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TM Projection Op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ampling Op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hod  Bilinear Interpolation Cubic Convolution Nearest Neighb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SD (X)  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SD (Y)  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My Defaults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xel Type Point  Area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or Options Collap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yscale    3-Band Color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or Ba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yscale Band:  1 2 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gram-based Color Enhanc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gram Mode  NONE Match Linear Contrast Stretc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ttp://199.158.166.107/earthwhere/index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8240" cy="695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7734240" y="6296040"/>
            <a:ext cx="140976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9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9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3200" cy="691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53724" t="21698" r="9144" b="22900"/>
          <a:stretch/>
        </p:blipFill>
        <p:spPr>
          <a:xfrm>
            <a:off x="2133720" y="380880"/>
            <a:ext cx="49719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20:13:41Z</dcterms:created>
  <dc:creator>lori.uhlhorn</dc:creator>
  <dc:description/>
  <dc:language>en-US</dc:language>
  <cp:lastModifiedBy>lori.uhlhorn</cp:lastModifiedBy>
  <dcterms:modified xsi:type="dcterms:W3CDTF">2008-12-04T14:15:45Z</dcterms:modified>
  <cp:revision>11</cp:revision>
  <dc:subject/>
  <dc:title>Data Distribution  and  Services </dc:title>
</cp:coreProperties>
</file>