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lick to move the slide</a:t>
            </a:r>
            <a:endParaRPr b="1" lang="en-US" sz="4800" spc="-1" strike="noStrike">
              <a:solidFill>
                <a:srgbClr val="ffff00"/>
              </a:solidFill>
              <a:latin typeface="Arial"/>
            </a:endParaRPr>
          </a:p>
        </p:txBody>
      </p:sp>
      <p:sp>
        <p:nvSpPr>
          <p:cNvPr id="88"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F5E36E-2CE6-405C-BA72-8E7737AA3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5160"/>
            <a:ext cx="4635720" cy="3476880"/>
          </a:xfrm>
          <a:prstGeom prst="rect">
            <a:avLst/>
          </a:prstGeom>
          <a:ln w="0">
            <a:noFill/>
          </a:ln>
        </p:spPr>
      </p:sp>
      <p:sp>
        <p:nvSpPr>
          <p:cNvPr id="21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nt to give credit to Manon Boudreault for sharing some of her difficult objectives and Richard Klein for helping me cut down my copious detailed slides for this present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 half the measurable objectives have had methodological or definitional changes since HP2010 was published in November 2000.</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4680" y="695160"/>
            <a:ext cx="4635720" cy="3476880"/>
          </a:xfrm>
          <a:prstGeom prst="rect">
            <a:avLst/>
          </a:prstGeom>
          <a:ln w="0">
            <a:noFill/>
          </a:ln>
        </p:spPr>
      </p:sp>
      <p:sp>
        <p:nvSpPr>
          <p:cNvPr id="22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teria for moderate:  30+ minutes each time; 5+ times a wee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iteria for vigorous:  20+ minutes each time; 3+ times a wee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5160"/>
            <a:ext cx="4635720" cy="3476880"/>
          </a:xfrm>
          <a:prstGeom prst="rect">
            <a:avLst/>
          </a:prstGeom>
          <a:ln w="0">
            <a:noFill/>
          </a:ln>
        </p:spPr>
      </p:sp>
      <p:sp>
        <p:nvSpPr>
          <p:cNvPr id="22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gorous questions are parallel to the moderate questions.  Vigorous questions were asked first in the questionnai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695160"/>
            <a:ext cx="4635720" cy="3476880"/>
          </a:xfrm>
          <a:prstGeom prst="rect">
            <a:avLst/>
          </a:prstGeom>
          <a:ln w="0">
            <a:noFill/>
          </a:ln>
        </p:spPr>
      </p:sp>
      <p:sp>
        <p:nvSpPr>
          <p:cNvPr id="22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4680" y="695160"/>
            <a:ext cx="4635720" cy="3476880"/>
          </a:xfrm>
          <a:prstGeom prst="rect">
            <a:avLst/>
          </a:prstGeom>
          <a:ln w="0">
            <a:noFill/>
          </a:ln>
        </p:spPr>
      </p:sp>
      <p:sp>
        <p:nvSpPr>
          <p:cNvPr id="22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jective 3-9a is for adolescents.</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5160"/>
            <a:ext cx="4635720" cy="3476880"/>
          </a:xfrm>
          <a:prstGeom prst="rect">
            <a:avLst/>
          </a:prstGeom>
          <a:ln w="0">
            <a:noFill/>
          </a:ln>
        </p:spPr>
      </p:sp>
      <p:sp>
        <p:nvSpPr>
          <p:cNvPr id="230"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ve behavior:  An always or most of the time answer to any one of the question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695160"/>
            <a:ext cx="4635720" cy="3476880"/>
          </a:xfrm>
          <a:prstGeom prst="rect">
            <a:avLst/>
          </a:prstGeom>
          <a:ln w="0">
            <a:noFill/>
          </a:ln>
        </p:spPr>
      </p:sp>
      <p:sp>
        <p:nvSpPr>
          <p:cNvPr id="23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likely” response was counted as the sun protective behavior.  The operative word in the approach of this question is IF.  The question is hypothet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4680" y="695160"/>
            <a:ext cx="4635720" cy="3476880"/>
          </a:xfrm>
          <a:prstGeom prst="rect">
            <a:avLst/>
          </a:prstGeom>
          <a:ln w="0">
            <a:noFill/>
          </a:ln>
        </p:spPr>
      </p:sp>
      <p:sp>
        <p:nvSpPr>
          <p:cNvPr id="23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respondent said “always” or “most of the time,” he was considered to be practicing sun-protective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5160"/>
            <a:ext cx="4635720" cy="3476880"/>
          </a:xfrm>
          <a:prstGeom prst="rect">
            <a:avLst/>
          </a:prstGeom>
          <a:ln w="0">
            <a:noFill/>
          </a:ln>
        </p:spPr>
      </p:sp>
      <p:sp>
        <p:nvSpPr>
          <p:cNvPr id="23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evolving field of questionnaire design and question wording.  Cognitive considerations and experience from other surveys.  Further analysis such as Factor Analysis is underway at NCI on the protective behavior scores.  Also further cognitive test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695160"/>
            <a:ext cx="4635720" cy="3476880"/>
          </a:xfrm>
          <a:prstGeom prst="rect">
            <a:avLst/>
          </a:prstGeom>
          <a:ln w="0">
            <a:noFill/>
          </a:ln>
        </p:spPr>
      </p:sp>
      <p:sp>
        <p:nvSpPr>
          <p:cNvPr id="23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GOITS not a choice for 1998 baseline estima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about 2000 DGOITS of about 30,000 = about 6.5% of respond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4680" y="695160"/>
            <a:ext cx="4635720" cy="3476880"/>
          </a:xfrm>
          <a:prstGeom prst="rect">
            <a:avLst/>
          </a:prstGeom>
          <a:ln w="0">
            <a:noFill/>
          </a:ln>
        </p:spPr>
      </p:sp>
      <p:sp>
        <p:nvSpPr>
          <p:cNvPr id="240"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rt illustrates a few of the many iterations that the workgroup went through to arrive at the new estimate of people who report sun-protective behavio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Keeping DGOITS in the numer and the denom assumes this is a sun-protective behavi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DGOITS out of numer/still in denom:  Assumes DGOITS is NOT a sun-protective behavi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DGOITS out of numer/still in denom:  Using SPF question – probably not applicable to DGOI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Take DGOITS out of analysis completely – declare missing; use SPF question</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4680" y="695160"/>
            <a:ext cx="4635720" cy="3476880"/>
          </a:xfrm>
          <a:prstGeom prst="rect">
            <a:avLst/>
          </a:prstGeom>
          <a:ln w="0">
            <a:noFill/>
          </a:ln>
        </p:spPr>
      </p:sp>
      <p:sp>
        <p:nvSpPr>
          <p:cNvPr id="24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ery substantial increase in the percent of people with diabetes receiving A1C tests:  Recommended guidelines have changed from testing only those with type 1 diabetes to testing everyone with diabetes.  With a change in the questions, though, we can’t know the extent of the increa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5160"/>
            <a:ext cx="4635720" cy="3476880"/>
          </a:xfrm>
          <a:prstGeom prst="rect">
            <a:avLst/>
          </a:prstGeom>
          <a:ln w="0">
            <a:noFill/>
          </a:ln>
        </p:spPr>
      </p:sp>
      <p:sp>
        <p:nvSpPr>
          <p:cNvPr id="21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HI: One of 22 measures chosen as a set to be tracked annually as the Nation’s health report car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4680" y="695160"/>
            <a:ext cx="4635720" cy="3476880"/>
          </a:xfrm>
          <a:prstGeom prst="rect">
            <a:avLst/>
          </a:prstGeom>
          <a:ln w="0">
            <a:noFill/>
          </a:ln>
        </p:spPr>
      </p:sp>
      <p:sp>
        <p:nvSpPr>
          <p:cNvPr id="244"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ypes of blood tests are done to measure how well glucose is under contr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 many terms:  Glycosylated hemoglobin; glycated hemoglobin; hemoglobin A1c (a subfraction of glycated hemoglob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ording of the original question from the lab point of view was fine, but not from a lay person’s point of view.</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4680" y="695160"/>
            <a:ext cx="4635720" cy="3476880"/>
          </a:xfrm>
          <a:prstGeom prst="rect">
            <a:avLst/>
          </a:prstGeom>
          <a:ln w="0">
            <a:noFill/>
          </a:ln>
        </p:spPr>
      </p:sp>
      <p:sp>
        <p:nvSpPr>
          <p:cNvPr id="246"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ndard of care changed between 1998 and 2000 from testing glucose control in only people with Type I diabetes to testing all people with diabetes to prevent diabetes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bjective originally measured 1+ tests; but the new guidelines are for all people with diabetes to have 2 or more A1C tests annu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8, respondents who had never heard of A1C were automatically included in the denomin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4680" y="695160"/>
            <a:ext cx="4635720" cy="3476880"/>
          </a:xfrm>
          <a:prstGeom prst="rect">
            <a:avLst/>
          </a:prstGeom>
          <a:ln w="0">
            <a:noFill/>
          </a:ln>
        </p:spPr>
      </p:sp>
      <p:sp>
        <p:nvSpPr>
          <p:cNvPr id="24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1C in objective wor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5160"/>
            <a:ext cx="4635720" cy="347688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5160"/>
            <a:ext cx="4635720" cy="3476880"/>
          </a:xfrm>
          <a:prstGeom prst="rect">
            <a:avLst/>
          </a:prstGeom>
          <a:ln w="0">
            <a:noFill/>
          </a:ln>
        </p:spPr>
      </p:sp>
      <p:sp>
        <p:nvSpPr>
          <p:cNvPr id="220"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equency then du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C27A6-B945-43B2-BAA9-45EDC3E23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E5B18-6880-40BA-BFA1-079AA9547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E93B0-D150-48FA-8D4E-9205B9506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AB15E-EBF0-42F4-B91A-6C3BCE8A3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5703A-FE87-42B9-BE11-1A8E605DB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411AB-4DDB-4A65-862F-BB6EE6FA3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A52E7-ACA5-43DC-BC3A-BF25A6A15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F30BE-8DBF-4CD4-8D01-0FC7C02B2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ACC86-0FCF-4E24-84B2-66D94E8DA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23880" y="456840"/>
            <a:ext cx="609624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D318C-8791-4FC8-AFCC-A3CE9B291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24542-6AAC-478B-839E-6A90AD0FC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55BB-4142-41C7-861C-C0D0932CF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48B94-E6BD-48D6-82F6-22301C95A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1D388-AF3C-4C89-9C44-EFD380B0B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3494D-B2D4-4474-B317-C14568576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A8BAD-07D9-49DD-BAA4-69FA52DC3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5DAC9-F8C5-4CC1-BFDF-2473BDB6B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0152C-CF37-4797-AF1D-99D891C1D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7A36D-E11F-4DFE-AE83-1F7323E31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6F304-A985-4870-A867-0A21AE8A8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3880" y="456840"/>
            <a:ext cx="609624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9EF6A-B71E-419B-8CA8-A38E5524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55C1-5B42-4547-BA72-DF475A25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F87D-B688-4C32-BFFA-382019B0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B6E8-F656-46CD-9DF3-01CD70589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1523880" y="456840"/>
            <a:ext cx="60962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4677-A897-4B55-9C42-ACFFAB0C68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Click to edit the title text format</a:t>
            </a:r>
            <a:endParaRPr b="1" lang="en-US" sz="4800" spc="-1" strike="noStrike">
              <a:solidFill>
                <a:srgbClr val="ffff00"/>
              </a:solidFill>
              <a:latin typeface="Arial"/>
            </a:endParaRPr>
          </a:p>
        </p:txBody>
      </p:sp>
      <p:sp>
        <p:nvSpPr>
          <p:cNvPr id="44"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C463-DBDB-461F-80AD-4270A9CA0A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00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cdc.gov/nchs/hphome.htm" TargetMode="External"/><Relationship Id="rId2" Type="http://schemas.openxmlformats.org/officeDocument/2006/relationships/hyperlink" Target="http://www.health.gov/healthypeopl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577800"/>
            <a:ext cx="8875800" cy="277488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cking</a:t>
            </a:r>
            <a:br>
              <a:rPr sz="4000"/>
            </a:br>
            <a:r>
              <a:rPr b="1" lang="en-US" sz="4000" spc="-1" strike="noStrike">
                <a:solidFill>
                  <a:srgbClr val="ffff00"/>
                </a:solidFill>
                <a:latin typeface="Arial"/>
              </a:rPr>
              <a:t>Healthy People 2010 Objectives:</a:t>
            </a:r>
            <a:br>
              <a:rPr sz="4000"/>
            </a:br>
            <a:br>
              <a:rPr sz="4000"/>
            </a:br>
            <a:r>
              <a:rPr b="1" lang="en-US" sz="4000" spc="-1" strike="noStrike">
                <a:solidFill>
                  <a:srgbClr val="ffff00"/>
                </a:solidFill>
                <a:latin typeface="Arial"/>
              </a:rPr>
              <a:t> Methodological and</a:t>
            </a:r>
            <a:br>
              <a:rPr sz="4000"/>
            </a:br>
            <a:r>
              <a:rPr b="1" lang="en-US" sz="4000" spc="-1" strike="noStrike">
                <a:solidFill>
                  <a:srgbClr val="ffff00"/>
                </a:solidFill>
                <a:latin typeface="Arial"/>
              </a:rPr>
              <a:t>Definitional Changes</a:t>
            </a:r>
            <a:endParaRPr b="1" lang="en-US" sz="4000" spc="-1" strike="noStrike">
              <a:solidFill>
                <a:srgbClr val="ffff00"/>
              </a:solidFill>
              <a:latin typeface="Arial"/>
            </a:endParaRPr>
          </a:p>
        </p:txBody>
      </p:sp>
      <p:sp>
        <p:nvSpPr>
          <p:cNvPr id="92" name="PlaceHolder 2"/>
          <p:cNvSpPr>
            <a:spLocks noGrp="1"/>
          </p:cNvSpPr>
          <p:nvPr>
            <p:ph type="subTitle"/>
          </p:nvPr>
        </p:nvSpPr>
        <p:spPr>
          <a:xfrm>
            <a:off x="2057040" y="4190760"/>
            <a:ext cx="6894360" cy="1066680"/>
          </a:xfrm>
          <a:prstGeom prst="rect">
            <a:avLst/>
          </a:prstGeom>
          <a:noFill/>
          <a:ln w="0">
            <a:noFill/>
          </a:ln>
        </p:spPr>
        <p:txBody>
          <a:bodyPr lIns="92160" rIns="92160" tIns="46080" bIns="4608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athleen M. Turczyn, MPH</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Center for Health Statistics</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3" name="new_cdc_logo" descr=""/>
          <p:cNvPicPr/>
          <p:nvPr/>
        </p:nvPicPr>
        <p:blipFill>
          <a:blip r:embed="rId1"/>
          <a:srcRect l="2065" t="1992" r="2101" b="11989"/>
          <a:stretch/>
        </p:blipFill>
        <p:spPr>
          <a:xfrm>
            <a:off x="7391520" y="5410080"/>
            <a:ext cx="1473120" cy="909720"/>
          </a:xfrm>
          <a:prstGeom prst="rect">
            <a:avLst/>
          </a:prstGeom>
          <a:ln w="0">
            <a:noFill/>
          </a:ln>
        </p:spPr>
      </p:pic>
      <p:grpSp>
        <p:nvGrpSpPr>
          <p:cNvPr id="94" name=""/>
          <p:cNvGrpSpPr/>
          <p:nvPr/>
        </p:nvGrpSpPr>
        <p:grpSpPr>
          <a:xfrm>
            <a:off x="5715000" y="6553080"/>
            <a:ext cx="3161880" cy="138240"/>
            <a:chOff x="5715000" y="6553080"/>
            <a:chExt cx="3161880" cy="138240"/>
          </a:xfrm>
        </p:grpSpPr>
        <p:sp>
          <p:nvSpPr>
            <p:cNvPr id="95" name=""/>
            <p:cNvSpPr/>
            <p:nvPr/>
          </p:nvSpPr>
          <p:spPr>
            <a:xfrm>
              <a:off x="5715000" y="6568560"/>
              <a:ext cx="694800" cy="122760"/>
            </a:xfrm>
            <a:custGeom>
              <a:avLst/>
              <a:gdLst/>
              <a:ahLst/>
              <a:rect l="l" t="t" r="r" b="b"/>
              <a:pathLst>
                <a:path w="3948" h="691">
                  <a:moveTo>
                    <a:pt x="579" y="226"/>
                  </a:moveTo>
                  <a:lnTo>
                    <a:pt x="581" y="221"/>
                  </a:lnTo>
                  <a:lnTo>
                    <a:pt x="582" y="217"/>
                  </a:lnTo>
                  <a:lnTo>
                    <a:pt x="583" y="213"/>
                  </a:lnTo>
                  <a:lnTo>
                    <a:pt x="583" y="210"/>
                  </a:lnTo>
                  <a:lnTo>
                    <a:pt x="582" y="204"/>
                  </a:lnTo>
                  <a:lnTo>
                    <a:pt x="578" y="198"/>
                  </a:lnTo>
                  <a:lnTo>
                    <a:pt x="573" y="191"/>
                  </a:lnTo>
                  <a:lnTo>
                    <a:pt x="565" y="185"/>
                  </a:lnTo>
                  <a:lnTo>
                    <a:pt x="556" y="180"/>
                  </a:lnTo>
                  <a:lnTo>
                    <a:pt x="544" y="174"/>
                  </a:lnTo>
                  <a:lnTo>
                    <a:pt x="529" y="169"/>
                  </a:lnTo>
                  <a:lnTo>
                    <a:pt x="512" y="163"/>
                  </a:lnTo>
                  <a:lnTo>
                    <a:pt x="494" y="157"/>
                  </a:lnTo>
                  <a:lnTo>
                    <a:pt x="476" y="153"/>
                  </a:lnTo>
                  <a:lnTo>
                    <a:pt x="457" y="149"/>
                  </a:lnTo>
                  <a:lnTo>
                    <a:pt x="438" y="146"/>
                  </a:lnTo>
                  <a:lnTo>
                    <a:pt x="419" y="144"/>
                  </a:lnTo>
                  <a:lnTo>
                    <a:pt x="398" y="142"/>
                  </a:lnTo>
                  <a:lnTo>
                    <a:pt x="377" y="140"/>
                  </a:lnTo>
                  <a:lnTo>
                    <a:pt x="356" y="140"/>
                  </a:lnTo>
                  <a:lnTo>
                    <a:pt x="339" y="140"/>
                  </a:lnTo>
                  <a:lnTo>
                    <a:pt x="322" y="142"/>
                  </a:lnTo>
                  <a:lnTo>
                    <a:pt x="307" y="143"/>
                  </a:lnTo>
                  <a:lnTo>
                    <a:pt x="292" y="145"/>
                  </a:lnTo>
                  <a:lnTo>
                    <a:pt x="278" y="148"/>
                  </a:lnTo>
                  <a:lnTo>
                    <a:pt x="265" y="151"/>
                  </a:lnTo>
                  <a:lnTo>
                    <a:pt x="254" y="155"/>
                  </a:lnTo>
                  <a:lnTo>
                    <a:pt x="243" y="160"/>
                  </a:lnTo>
                  <a:lnTo>
                    <a:pt x="232" y="164"/>
                  </a:lnTo>
                  <a:lnTo>
                    <a:pt x="223" y="170"/>
                  </a:lnTo>
                  <a:lnTo>
                    <a:pt x="216" y="175"/>
                  </a:lnTo>
                  <a:lnTo>
                    <a:pt x="210" y="181"/>
                  </a:lnTo>
                  <a:lnTo>
                    <a:pt x="205" y="186"/>
                  </a:lnTo>
                  <a:lnTo>
                    <a:pt x="202" y="193"/>
                  </a:lnTo>
                  <a:lnTo>
                    <a:pt x="200" y="201"/>
                  </a:lnTo>
                  <a:lnTo>
                    <a:pt x="200" y="208"/>
                  </a:lnTo>
                  <a:lnTo>
                    <a:pt x="200" y="213"/>
                  </a:lnTo>
                  <a:lnTo>
                    <a:pt x="202" y="218"/>
                  </a:lnTo>
                  <a:lnTo>
                    <a:pt x="205" y="223"/>
                  </a:lnTo>
                  <a:lnTo>
                    <a:pt x="210" y="228"/>
                  </a:lnTo>
                  <a:lnTo>
                    <a:pt x="216" y="231"/>
                  </a:lnTo>
                  <a:lnTo>
                    <a:pt x="222" y="236"/>
                  </a:lnTo>
                  <a:lnTo>
                    <a:pt x="231" y="239"/>
                  </a:lnTo>
                  <a:lnTo>
                    <a:pt x="240" y="243"/>
                  </a:lnTo>
                  <a:lnTo>
                    <a:pt x="264" y="249"/>
                  </a:lnTo>
                  <a:lnTo>
                    <a:pt x="292" y="254"/>
                  </a:lnTo>
                  <a:lnTo>
                    <a:pt x="326" y="257"/>
                  </a:lnTo>
                  <a:lnTo>
                    <a:pt x="364" y="259"/>
                  </a:lnTo>
                  <a:lnTo>
                    <a:pt x="376" y="260"/>
                  </a:lnTo>
                  <a:lnTo>
                    <a:pt x="387" y="260"/>
                  </a:lnTo>
                  <a:lnTo>
                    <a:pt x="396" y="262"/>
                  </a:lnTo>
                  <a:lnTo>
                    <a:pt x="404" y="262"/>
                  </a:lnTo>
                  <a:lnTo>
                    <a:pt x="440" y="264"/>
                  </a:lnTo>
                  <a:lnTo>
                    <a:pt x="475" y="268"/>
                  </a:lnTo>
                  <a:lnTo>
                    <a:pt x="506" y="273"/>
                  </a:lnTo>
                  <a:lnTo>
                    <a:pt x="536" y="280"/>
                  </a:lnTo>
                  <a:lnTo>
                    <a:pt x="561" y="286"/>
                  </a:lnTo>
                  <a:lnTo>
                    <a:pt x="585" y="295"/>
                  </a:lnTo>
                  <a:lnTo>
                    <a:pt x="596" y="300"/>
                  </a:lnTo>
                  <a:lnTo>
                    <a:pt x="606" y="304"/>
                  </a:lnTo>
                  <a:lnTo>
                    <a:pt x="615" y="310"/>
                  </a:lnTo>
                  <a:lnTo>
                    <a:pt x="624" y="315"/>
                  </a:lnTo>
                  <a:lnTo>
                    <a:pt x="632" y="321"/>
                  </a:lnTo>
                  <a:lnTo>
                    <a:pt x="640" y="327"/>
                  </a:lnTo>
                  <a:lnTo>
                    <a:pt x="647" y="333"/>
                  </a:lnTo>
                  <a:lnTo>
                    <a:pt x="654" y="340"/>
                  </a:lnTo>
                  <a:lnTo>
                    <a:pt x="660" y="348"/>
                  </a:lnTo>
                  <a:lnTo>
                    <a:pt x="666" y="356"/>
                  </a:lnTo>
                  <a:lnTo>
                    <a:pt x="670" y="364"/>
                  </a:lnTo>
                  <a:lnTo>
                    <a:pt x="675" y="371"/>
                  </a:lnTo>
                  <a:lnTo>
                    <a:pt x="679" y="380"/>
                  </a:lnTo>
                  <a:lnTo>
                    <a:pt x="683" y="389"/>
                  </a:lnTo>
                  <a:lnTo>
                    <a:pt x="685" y="398"/>
                  </a:lnTo>
                  <a:lnTo>
                    <a:pt x="687" y="408"/>
                  </a:lnTo>
                  <a:lnTo>
                    <a:pt x="689" y="419"/>
                  </a:lnTo>
                  <a:lnTo>
                    <a:pt x="691" y="430"/>
                  </a:lnTo>
                  <a:lnTo>
                    <a:pt x="692" y="440"/>
                  </a:lnTo>
                  <a:lnTo>
                    <a:pt x="692" y="451"/>
                  </a:lnTo>
                  <a:lnTo>
                    <a:pt x="692" y="463"/>
                  </a:lnTo>
                  <a:lnTo>
                    <a:pt x="691" y="475"/>
                  </a:lnTo>
                  <a:lnTo>
                    <a:pt x="688" y="486"/>
                  </a:lnTo>
                  <a:lnTo>
                    <a:pt x="686" y="497"/>
                  </a:lnTo>
                  <a:lnTo>
                    <a:pt x="683" y="508"/>
                  </a:lnTo>
                  <a:lnTo>
                    <a:pt x="679" y="518"/>
                  </a:lnTo>
                  <a:lnTo>
                    <a:pt x="675" y="528"/>
                  </a:lnTo>
                  <a:lnTo>
                    <a:pt x="669" y="539"/>
                  </a:lnTo>
                  <a:lnTo>
                    <a:pt x="664" y="547"/>
                  </a:lnTo>
                  <a:lnTo>
                    <a:pt x="657" y="558"/>
                  </a:lnTo>
                  <a:lnTo>
                    <a:pt x="649" y="567"/>
                  </a:lnTo>
                  <a:lnTo>
                    <a:pt x="641" y="576"/>
                  </a:lnTo>
                  <a:lnTo>
                    <a:pt x="633" y="583"/>
                  </a:lnTo>
                  <a:lnTo>
                    <a:pt x="623" y="592"/>
                  </a:lnTo>
                  <a:lnTo>
                    <a:pt x="613" y="600"/>
                  </a:lnTo>
                  <a:lnTo>
                    <a:pt x="602" y="608"/>
                  </a:lnTo>
                  <a:lnTo>
                    <a:pt x="591" y="615"/>
                  </a:lnTo>
                  <a:lnTo>
                    <a:pt x="579" y="621"/>
                  </a:lnTo>
                  <a:lnTo>
                    <a:pt x="567" y="628"/>
                  </a:lnTo>
                  <a:lnTo>
                    <a:pt x="554" y="634"/>
                  </a:lnTo>
                  <a:lnTo>
                    <a:pt x="540" y="639"/>
                  </a:lnTo>
                  <a:lnTo>
                    <a:pt x="527" y="645"/>
                  </a:lnTo>
                  <a:lnTo>
                    <a:pt x="513" y="650"/>
                  </a:lnTo>
                  <a:lnTo>
                    <a:pt x="499" y="653"/>
                  </a:lnTo>
                  <a:lnTo>
                    <a:pt x="468" y="660"/>
                  </a:lnTo>
                  <a:lnTo>
                    <a:pt x="436" y="664"/>
                  </a:lnTo>
                  <a:lnTo>
                    <a:pt x="402" y="667"/>
                  </a:lnTo>
                  <a:lnTo>
                    <a:pt x="366" y="669"/>
                  </a:lnTo>
                  <a:lnTo>
                    <a:pt x="325" y="667"/>
                  </a:lnTo>
                  <a:lnTo>
                    <a:pt x="284" y="665"/>
                  </a:lnTo>
                  <a:lnTo>
                    <a:pt x="244" y="661"/>
                  </a:lnTo>
                  <a:lnTo>
                    <a:pt x="205" y="655"/>
                  </a:lnTo>
                  <a:lnTo>
                    <a:pt x="167" y="648"/>
                  </a:lnTo>
                  <a:lnTo>
                    <a:pt x="130" y="639"/>
                  </a:lnTo>
                  <a:lnTo>
                    <a:pt x="94" y="629"/>
                  </a:lnTo>
                  <a:lnTo>
                    <a:pt x="58" y="618"/>
                  </a:lnTo>
                  <a:lnTo>
                    <a:pt x="46" y="614"/>
                  </a:lnTo>
                  <a:lnTo>
                    <a:pt x="39" y="613"/>
                  </a:lnTo>
                  <a:lnTo>
                    <a:pt x="35" y="613"/>
                  </a:lnTo>
                  <a:lnTo>
                    <a:pt x="30" y="616"/>
                  </a:lnTo>
                  <a:lnTo>
                    <a:pt x="25" y="621"/>
                  </a:lnTo>
                  <a:lnTo>
                    <a:pt x="16" y="632"/>
                  </a:lnTo>
                  <a:lnTo>
                    <a:pt x="0" y="624"/>
                  </a:lnTo>
                  <a:lnTo>
                    <a:pt x="88" y="432"/>
                  </a:lnTo>
                  <a:lnTo>
                    <a:pt x="103" y="440"/>
                  </a:lnTo>
                  <a:lnTo>
                    <a:pt x="102" y="442"/>
                  </a:lnTo>
                  <a:lnTo>
                    <a:pt x="101" y="444"/>
                  </a:lnTo>
                  <a:lnTo>
                    <a:pt x="100" y="447"/>
                  </a:lnTo>
                  <a:lnTo>
                    <a:pt x="100" y="450"/>
                  </a:lnTo>
                  <a:lnTo>
                    <a:pt x="100" y="454"/>
                  </a:lnTo>
                  <a:lnTo>
                    <a:pt x="101" y="459"/>
                  </a:lnTo>
                  <a:lnTo>
                    <a:pt x="102" y="463"/>
                  </a:lnTo>
                  <a:lnTo>
                    <a:pt x="104" y="468"/>
                  </a:lnTo>
                  <a:lnTo>
                    <a:pt x="111" y="477"/>
                  </a:lnTo>
                  <a:lnTo>
                    <a:pt x="120" y="485"/>
                  </a:lnTo>
                  <a:lnTo>
                    <a:pt x="131" y="493"/>
                  </a:lnTo>
                  <a:lnTo>
                    <a:pt x="146" y="502"/>
                  </a:lnTo>
                  <a:lnTo>
                    <a:pt x="162" y="509"/>
                  </a:lnTo>
                  <a:lnTo>
                    <a:pt x="181" y="517"/>
                  </a:lnTo>
                  <a:lnTo>
                    <a:pt x="202" y="524"/>
                  </a:lnTo>
                  <a:lnTo>
                    <a:pt x="223" y="531"/>
                  </a:lnTo>
                  <a:lnTo>
                    <a:pt x="246" y="536"/>
                  </a:lnTo>
                  <a:lnTo>
                    <a:pt x="268" y="541"/>
                  </a:lnTo>
                  <a:lnTo>
                    <a:pt x="292" y="544"/>
                  </a:lnTo>
                  <a:lnTo>
                    <a:pt x="316" y="546"/>
                  </a:lnTo>
                  <a:lnTo>
                    <a:pt x="341" y="547"/>
                  </a:lnTo>
                  <a:lnTo>
                    <a:pt x="366" y="547"/>
                  </a:lnTo>
                  <a:lnTo>
                    <a:pt x="384" y="547"/>
                  </a:lnTo>
                  <a:lnTo>
                    <a:pt x="401" y="546"/>
                  </a:lnTo>
                  <a:lnTo>
                    <a:pt x="417" y="545"/>
                  </a:lnTo>
                  <a:lnTo>
                    <a:pt x="431" y="543"/>
                  </a:lnTo>
                  <a:lnTo>
                    <a:pt x="445" y="540"/>
                  </a:lnTo>
                  <a:lnTo>
                    <a:pt x="458" y="536"/>
                  </a:lnTo>
                  <a:lnTo>
                    <a:pt x="469" y="532"/>
                  </a:lnTo>
                  <a:lnTo>
                    <a:pt x="481" y="527"/>
                  </a:lnTo>
                  <a:lnTo>
                    <a:pt x="491" y="522"/>
                  </a:lnTo>
                  <a:lnTo>
                    <a:pt x="499" y="515"/>
                  </a:lnTo>
                  <a:lnTo>
                    <a:pt x="506" y="509"/>
                  </a:lnTo>
                  <a:lnTo>
                    <a:pt x="512" y="503"/>
                  </a:lnTo>
                  <a:lnTo>
                    <a:pt x="517" y="495"/>
                  </a:lnTo>
                  <a:lnTo>
                    <a:pt x="520" y="487"/>
                  </a:lnTo>
                  <a:lnTo>
                    <a:pt x="522" y="479"/>
                  </a:lnTo>
                  <a:lnTo>
                    <a:pt x="522" y="470"/>
                  </a:lnTo>
                  <a:lnTo>
                    <a:pt x="522" y="462"/>
                  </a:lnTo>
                  <a:lnTo>
                    <a:pt x="520" y="454"/>
                  </a:lnTo>
                  <a:lnTo>
                    <a:pt x="517" y="448"/>
                  </a:lnTo>
                  <a:lnTo>
                    <a:pt x="512" y="441"/>
                  </a:lnTo>
                  <a:lnTo>
                    <a:pt x="505" y="435"/>
                  </a:lnTo>
                  <a:lnTo>
                    <a:pt x="497" y="430"/>
                  </a:lnTo>
                  <a:lnTo>
                    <a:pt x="488" y="424"/>
                  </a:lnTo>
                  <a:lnTo>
                    <a:pt x="478" y="420"/>
                  </a:lnTo>
                  <a:lnTo>
                    <a:pt x="467" y="415"/>
                  </a:lnTo>
                  <a:lnTo>
                    <a:pt x="454" y="412"/>
                  </a:lnTo>
                  <a:lnTo>
                    <a:pt x="440" y="408"/>
                  </a:lnTo>
                  <a:lnTo>
                    <a:pt x="424" y="405"/>
                  </a:lnTo>
                  <a:lnTo>
                    <a:pt x="408" y="403"/>
                  </a:lnTo>
                  <a:lnTo>
                    <a:pt x="389" y="401"/>
                  </a:lnTo>
                  <a:lnTo>
                    <a:pt x="368" y="399"/>
                  </a:lnTo>
                  <a:lnTo>
                    <a:pt x="348" y="398"/>
                  </a:lnTo>
                  <a:lnTo>
                    <a:pt x="336" y="397"/>
                  </a:lnTo>
                  <a:lnTo>
                    <a:pt x="328" y="397"/>
                  </a:lnTo>
                  <a:lnTo>
                    <a:pt x="292" y="395"/>
                  </a:lnTo>
                  <a:lnTo>
                    <a:pt x="259" y="392"/>
                  </a:lnTo>
                  <a:lnTo>
                    <a:pt x="228" y="387"/>
                  </a:lnTo>
                  <a:lnTo>
                    <a:pt x="200" y="382"/>
                  </a:lnTo>
                  <a:lnTo>
                    <a:pt x="174" y="375"/>
                  </a:lnTo>
                  <a:lnTo>
                    <a:pt x="149" y="367"/>
                  </a:lnTo>
                  <a:lnTo>
                    <a:pt x="128" y="358"/>
                  </a:lnTo>
                  <a:lnTo>
                    <a:pt x="109" y="348"/>
                  </a:lnTo>
                  <a:lnTo>
                    <a:pt x="100" y="342"/>
                  </a:lnTo>
                  <a:lnTo>
                    <a:pt x="92" y="336"/>
                  </a:lnTo>
                  <a:lnTo>
                    <a:pt x="84" y="330"/>
                  </a:lnTo>
                  <a:lnTo>
                    <a:pt x="77" y="323"/>
                  </a:lnTo>
                  <a:lnTo>
                    <a:pt x="71" y="315"/>
                  </a:lnTo>
                  <a:lnTo>
                    <a:pt x="65" y="309"/>
                  </a:lnTo>
                  <a:lnTo>
                    <a:pt x="60" y="301"/>
                  </a:lnTo>
                  <a:lnTo>
                    <a:pt x="55" y="293"/>
                  </a:lnTo>
                  <a:lnTo>
                    <a:pt x="51" y="285"/>
                  </a:lnTo>
                  <a:lnTo>
                    <a:pt x="47" y="276"/>
                  </a:lnTo>
                  <a:lnTo>
                    <a:pt x="44" y="267"/>
                  </a:lnTo>
                  <a:lnTo>
                    <a:pt x="40" y="258"/>
                  </a:lnTo>
                  <a:lnTo>
                    <a:pt x="39" y="249"/>
                  </a:lnTo>
                  <a:lnTo>
                    <a:pt x="37" y="239"/>
                  </a:lnTo>
                  <a:lnTo>
                    <a:pt x="37" y="229"/>
                  </a:lnTo>
                  <a:lnTo>
                    <a:pt x="36" y="218"/>
                  </a:lnTo>
                  <a:lnTo>
                    <a:pt x="37" y="208"/>
                  </a:lnTo>
                  <a:lnTo>
                    <a:pt x="38" y="197"/>
                  </a:lnTo>
                  <a:lnTo>
                    <a:pt x="39" y="186"/>
                  </a:lnTo>
                  <a:lnTo>
                    <a:pt x="42" y="176"/>
                  </a:lnTo>
                  <a:lnTo>
                    <a:pt x="45" y="166"/>
                  </a:lnTo>
                  <a:lnTo>
                    <a:pt x="48" y="157"/>
                  </a:lnTo>
                  <a:lnTo>
                    <a:pt x="53" y="147"/>
                  </a:lnTo>
                  <a:lnTo>
                    <a:pt x="57" y="138"/>
                  </a:lnTo>
                  <a:lnTo>
                    <a:pt x="63" y="130"/>
                  </a:lnTo>
                  <a:lnTo>
                    <a:pt x="70" y="121"/>
                  </a:lnTo>
                  <a:lnTo>
                    <a:pt x="76" y="112"/>
                  </a:lnTo>
                  <a:lnTo>
                    <a:pt x="84" y="105"/>
                  </a:lnTo>
                  <a:lnTo>
                    <a:pt x="92" y="97"/>
                  </a:lnTo>
                  <a:lnTo>
                    <a:pt x="101" y="90"/>
                  </a:lnTo>
                  <a:lnTo>
                    <a:pt x="111" y="82"/>
                  </a:lnTo>
                  <a:lnTo>
                    <a:pt x="121" y="75"/>
                  </a:lnTo>
                  <a:lnTo>
                    <a:pt x="131" y="69"/>
                  </a:lnTo>
                  <a:lnTo>
                    <a:pt x="143" y="62"/>
                  </a:lnTo>
                  <a:lnTo>
                    <a:pt x="155" y="56"/>
                  </a:lnTo>
                  <a:lnTo>
                    <a:pt x="167" y="51"/>
                  </a:lnTo>
                  <a:lnTo>
                    <a:pt x="192" y="42"/>
                  </a:lnTo>
                  <a:lnTo>
                    <a:pt x="219" y="34"/>
                  </a:lnTo>
                  <a:lnTo>
                    <a:pt x="248" y="28"/>
                  </a:lnTo>
                  <a:lnTo>
                    <a:pt x="278" y="24"/>
                  </a:lnTo>
                  <a:lnTo>
                    <a:pt x="311" y="22"/>
                  </a:lnTo>
                  <a:lnTo>
                    <a:pt x="345" y="21"/>
                  </a:lnTo>
                  <a:lnTo>
                    <a:pt x="366" y="21"/>
                  </a:lnTo>
                  <a:lnTo>
                    <a:pt x="389" y="22"/>
                  </a:lnTo>
                  <a:lnTo>
                    <a:pt x="411" y="24"/>
                  </a:lnTo>
                  <a:lnTo>
                    <a:pt x="433" y="27"/>
                  </a:lnTo>
                  <a:lnTo>
                    <a:pt x="456" y="31"/>
                  </a:lnTo>
                  <a:lnTo>
                    <a:pt x="479" y="35"/>
                  </a:lnTo>
                  <a:lnTo>
                    <a:pt x="503" y="41"/>
                  </a:lnTo>
                  <a:lnTo>
                    <a:pt x="527" y="46"/>
                  </a:lnTo>
                  <a:lnTo>
                    <a:pt x="568" y="59"/>
                  </a:lnTo>
                  <a:lnTo>
                    <a:pt x="600" y="66"/>
                  </a:lnTo>
                  <a:lnTo>
                    <a:pt x="619" y="71"/>
                  </a:lnTo>
                  <a:lnTo>
                    <a:pt x="628" y="73"/>
                  </a:lnTo>
                  <a:lnTo>
                    <a:pt x="638" y="72"/>
                  </a:lnTo>
                  <a:lnTo>
                    <a:pt x="646" y="70"/>
                  </a:lnTo>
                  <a:lnTo>
                    <a:pt x="651" y="65"/>
                  </a:lnTo>
                  <a:lnTo>
                    <a:pt x="656" y="58"/>
                  </a:lnTo>
                  <a:lnTo>
                    <a:pt x="672" y="65"/>
                  </a:lnTo>
                  <a:lnTo>
                    <a:pt x="594" y="234"/>
                  </a:lnTo>
                  <a:lnTo>
                    <a:pt x="579" y="226"/>
                  </a:lnTo>
                  <a:close/>
                  <a:moveTo>
                    <a:pt x="1025" y="422"/>
                  </a:moveTo>
                  <a:lnTo>
                    <a:pt x="1236" y="422"/>
                  </a:lnTo>
                  <a:lnTo>
                    <a:pt x="1127" y="145"/>
                  </a:lnTo>
                  <a:lnTo>
                    <a:pt x="1025" y="422"/>
                  </a:lnTo>
                  <a:close/>
                  <a:moveTo>
                    <a:pt x="1290" y="661"/>
                  </a:moveTo>
                  <a:lnTo>
                    <a:pt x="1290" y="644"/>
                  </a:lnTo>
                  <a:lnTo>
                    <a:pt x="1300" y="641"/>
                  </a:lnTo>
                  <a:lnTo>
                    <a:pt x="1307" y="636"/>
                  </a:lnTo>
                  <a:lnTo>
                    <a:pt x="1310" y="634"/>
                  </a:lnTo>
                  <a:lnTo>
                    <a:pt x="1312" y="630"/>
                  </a:lnTo>
                  <a:lnTo>
                    <a:pt x="1313" y="627"/>
                  </a:lnTo>
                  <a:lnTo>
                    <a:pt x="1313" y="623"/>
                  </a:lnTo>
                  <a:lnTo>
                    <a:pt x="1313" y="618"/>
                  </a:lnTo>
                  <a:lnTo>
                    <a:pt x="1312" y="613"/>
                  </a:lnTo>
                  <a:lnTo>
                    <a:pt x="1309" y="605"/>
                  </a:lnTo>
                  <a:lnTo>
                    <a:pt x="1306" y="595"/>
                  </a:lnTo>
                  <a:lnTo>
                    <a:pt x="1280" y="527"/>
                  </a:lnTo>
                  <a:lnTo>
                    <a:pt x="988" y="527"/>
                  </a:lnTo>
                  <a:lnTo>
                    <a:pt x="962" y="595"/>
                  </a:lnTo>
                  <a:lnTo>
                    <a:pt x="960" y="600"/>
                  </a:lnTo>
                  <a:lnTo>
                    <a:pt x="958" y="606"/>
                  </a:lnTo>
                  <a:lnTo>
                    <a:pt x="957" y="610"/>
                  </a:lnTo>
                  <a:lnTo>
                    <a:pt x="957" y="616"/>
                  </a:lnTo>
                  <a:lnTo>
                    <a:pt x="958" y="620"/>
                  </a:lnTo>
                  <a:lnTo>
                    <a:pt x="959" y="626"/>
                  </a:lnTo>
                  <a:lnTo>
                    <a:pt x="960" y="630"/>
                  </a:lnTo>
                  <a:lnTo>
                    <a:pt x="963" y="634"/>
                  </a:lnTo>
                  <a:lnTo>
                    <a:pt x="967" y="637"/>
                  </a:lnTo>
                  <a:lnTo>
                    <a:pt x="971" y="639"/>
                  </a:lnTo>
                  <a:lnTo>
                    <a:pt x="976" y="642"/>
                  </a:lnTo>
                  <a:lnTo>
                    <a:pt x="983" y="644"/>
                  </a:lnTo>
                  <a:lnTo>
                    <a:pt x="983" y="661"/>
                  </a:lnTo>
                  <a:lnTo>
                    <a:pt x="768" y="661"/>
                  </a:lnTo>
                  <a:lnTo>
                    <a:pt x="768" y="644"/>
                  </a:lnTo>
                  <a:lnTo>
                    <a:pt x="775" y="639"/>
                  </a:lnTo>
                  <a:lnTo>
                    <a:pt x="783" y="633"/>
                  </a:lnTo>
                  <a:lnTo>
                    <a:pt x="789" y="626"/>
                  </a:lnTo>
                  <a:lnTo>
                    <a:pt x="796" y="617"/>
                  </a:lnTo>
                  <a:lnTo>
                    <a:pt x="803" y="607"/>
                  </a:lnTo>
                  <a:lnTo>
                    <a:pt x="810" y="595"/>
                  </a:lnTo>
                  <a:lnTo>
                    <a:pt x="815" y="582"/>
                  </a:lnTo>
                  <a:lnTo>
                    <a:pt x="821" y="568"/>
                  </a:lnTo>
                  <a:lnTo>
                    <a:pt x="822" y="562"/>
                  </a:lnTo>
                  <a:lnTo>
                    <a:pt x="824" y="558"/>
                  </a:lnTo>
                  <a:lnTo>
                    <a:pt x="989" y="105"/>
                  </a:lnTo>
                  <a:lnTo>
                    <a:pt x="994" y="92"/>
                  </a:lnTo>
                  <a:lnTo>
                    <a:pt x="997" y="81"/>
                  </a:lnTo>
                  <a:lnTo>
                    <a:pt x="999" y="73"/>
                  </a:lnTo>
                  <a:lnTo>
                    <a:pt x="1001" y="68"/>
                  </a:lnTo>
                  <a:lnTo>
                    <a:pt x="1001" y="63"/>
                  </a:lnTo>
                  <a:lnTo>
                    <a:pt x="999" y="59"/>
                  </a:lnTo>
                  <a:lnTo>
                    <a:pt x="998" y="56"/>
                  </a:lnTo>
                  <a:lnTo>
                    <a:pt x="996" y="53"/>
                  </a:lnTo>
                  <a:lnTo>
                    <a:pt x="994" y="52"/>
                  </a:lnTo>
                  <a:lnTo>
                    <a:pt x="990" y="50"/>
                  </a:lnTo>
                  <a:lnTo>
                    <a:pt x="987" y="49"/>
                  </a:lnTo>
                  <a:lnTo>
                    <a:pt x="983" y="47"/>
                  </a:lnTo>
                  <a:lnTo>
                    <a:pt x="983" y="32"/>
                  </a:lnTo>
                  <a:lnTo>
                    <a:pt x="1296" y="32"/>
                  </a:lnTo>
                  <a:lnTo>
                    <a:pt x="1296" y="47"/>
                  </a:lnTo>
                  <a:lnTo>
                    <a:pt x="1291" y="49"/>
                  </a:lnTo>
                  <a:lnTo>
                    <a:pt x="1288" y="50"/>
                  </a:lnTo>
                  <a:lnTo>
                    <a:pt x="1285" y="52"/>
                  </a:lnTo>
                  <a:lnTo>
                    <a:pt x="1282" y="53"/>
                  </a:lnTo>
                  <a:lnTo>
                    <a:pt x="1280" y="56"/>
                  </a:lnTo>
                  <a:lnTo>
                    <a:pt x="1279" y="59"/>
                  </a:lnTo>
                  <a:lnTo>
                    <a:pt x="1278" y="63"/>
                  </a:lnTo>
                  <a:lnTo>
                    <a:pt x="1278" y="68"/>
                  </a:lnTo>
                  <a:lnTo>
                    <a:pt x="1279" y="72"/>
                  </a:lnTo>
                  <a:lnTo>
                    <a:pt x="1281" y="81"/>
                  </a:lnTo>
                  <a:lnTo>
                    <a:pt x="1285" y="92"/>
                  </a:lnTo>
                  <a:lnTo>
                    <a:pt x="1289" y="105"/>
                  </a:lnTo>
                  <a:lnTo>
                    <a:pt x="1490" y="609"/>
                  </a:lnTo>
                  <a:lnTo>
                    <a:pt x="1490" y="610"/>
                  </a:lnTo>
                  <a:lnTo>
                    <a:pt x="1490" y="611"/>
                  </a:lnTo>
                  <a:lnTo>
                    <a:pt x="1492" y="617"/>
                  </a:lnTo>
                  <a:lnTo>
                    <a:pt x="1496" y="623"/>
                  </a:lnTo>
                  <a:lnTo>
                    <a:pt x="1499" y="628"/>
                  </a:lnTo>
                  <a:lnTo>
                    <a:pt x="1502" y="633"/>
                  </a:lnTo>
                  <a:lnTo>
                    <a:pt x="1507" y="636"/>
                  </a:lnTo>
                  <a:lnTo>
                    <a:pt x="1511" y="639"/>
                  </a:lnTo>
                  <a:lnTo>
                    <a:pt x="1516" y="642"/>
                  </a:lnTo>
                  <a:lnTo>
                    <a:pt x="1520" y="644"/>
                  </a:lnTo>
                  <a:lnTo>
                    <a:pt x="1520" y="661"/>
                  </a:lnTo>
                  <a:lnTo>
                    <a:pt x="1290" y="661"/>
                  </a:lnTo>
                  <a:close/>
                  <a:moveTo>
                    <a:pt x="1635" y="661"/>
                  </a:moveTo>
                  <a:lnTo>
                    <a:pt x="1635" y="644"/>
                  </a:lnTo>
                  <a:lnTo>
                    <a:pt x="1644" y="642"/>
                  </a:lnTo>
                  <a:lnTo>
                    <a:pt x="1651" y="639"/>
                  </a:lnTo>
                  <a:lnTo>
                    <a:pt x="1655" y="637"/>
                  </a:lnTo>
                  <a:lnTo>
                    <a:pt x="1660" y="634"/>
                  </a:lnTo>
                  <a:lnTo>
                    <a:pt x="1662" y="629"/>
                  </a:lnTo>
                  <a:lnTo>
                    <a:pt x="1663" y="625"/>
                  </a:lnTo>
                  <a:lnTo>
                    <a:pt x="1664" y="618"/>
                  </a:lnTo>
                  <a:lnTo>
                    <a:pt x="1665" y="609"/>
                  </a:lnTo>
                  <a:lnTo>
                    <a:pt x="1665" y="83"/>
                  </a:lnTo>
                  <a:lnTo>
                    <a:pt x="1664" y="75"/>
                  </a:lnTo>
                  <a:lnTo>
                    <a:pt x="1663" y="69"/>
                  </a:lnTo>
                  <a:lnTo>
                    <a:pt x="1662" y="63"/>
                  </a:lnTo>
                  <a:lnTo>
                    <a:pt x="1660" y="59"/>
                  </a:lnTo>
                  <a:lnTo>
                    <a:pt x="1655" y="56"/>
                  </a:lnTo>
                  <a:lnTo>
                    <a:pt x="1651" y="53"/>
                  </a:lnTo>
                  <a:lnTo>
                    <a:pt x="1644" y="51"/>
                  </a:lnTo>
                  <a:lnTo>
                    <a:pt x="1635" y="47"/>
                  </a:lnTo>
                  <a:lnTo>
                    <a:pt x="1635" y="32"/>
                  </a:lnTo>
                  <a:lnTo>
                    <a:pt x="2218" y="32"/>
                  </a:lnTo>
                  <a:lnTo>
                    <a:pt x="2226" y="31"/>
                  </a:lnTo>
                  <a:lnTo>
                    <a:pt x="2232" y="31"/>
                  </a:lnTo>
                  <a:lnTo>
                    <a:pt x="2238" y="28"/>
                  </a:lnTo>
                  <a:lnTo>
                    <a:pt x="2243" y="26"/>
                  </a:lnTo>
                  <a:lnTo>
                    <a:pt x="2245" y="22"/>
                  </a:lnTo>
                  <a:lnTo>
                    <a:pt x="2248" y="16"/>
                  </a:lnTo>
                  <a:lnTo>
                    <a:pt x="2251" y="9"/>
                  </a:lnTo>
                  <a:lnTo>
                    <a:pt x="2254" y="0"/>
                  </a:lnTo>
                  <a:lnTo>
                    <a:pt x="2269" y="0"/>
                  </a:lnTo>
                  <a:lnTo>
                    <a:pt x="2269" y="210"/>
                  </a:lnTo>
                  <a:lnTo>
                    <a:pt x="2254" y="210"/>
                  </a:lnTo>
                  <a:lnTo>
                    <a:pt x="2250" y="201"/>
                  </a:lnTo>
                  <a:lnTo>
                    <a:pt x="2248" y="194"/>
                  </a:lnTo>
                  <a:lnTo>
                    <a:pt x="2245" y="189"/>
                  </a:lnTo>
                  <a:lnTo>
                    <a:pt x="2241" y="185"/>
                  </a:lnTo>
                  <a:lnTo>
                    <a:pt x="2238" y="183"/>
                  </a:lnTo>
                  <a:lnTo>
                    <a:pt x="2232" y="182"/>
                  </a:lnTo>
                  <a:lnTo>
                    <a:pt x="2226" y="181"/>
                  </a:lnTo>
                  <a:lnTo>
                    <a:pt x="2218" y="181"/>
                  </a:lnTo>
                  <a:lnTo>
                    <a:pt x="1843" y="181"/>
                  </a:lnTo>
                  <a:lnTo>
                    <a:pt x="1843" y="287"/>
                  </a:lnTo>
                  <a:lnTo>
                    <a:pt x="2089" y="287"/>
                  </a:lnTo>
                  <a:lnTo>
                    <a:pt x="2097" y="286"/>
                  </a:lnTo>
                  <a:lnTo>
                    <a:pt x="2103" y="285"/>
                  </a:lnTo>
                  <a:lnTo>
                    <a:pt x="2109" y="283"/>
                  </a:lnTo>
                  <a:lnTo>
                    <a:pt x="2113" y="281"/>
                  </a:lnTo>
                  <a:lnTo>
                    <a:pt x="2117" y="277"/>
                  </a:lnTo>
                  <a:lnTo>
                    <a:pt x="2120" y="272"/>
                  </a:lnTo>
                  <a:lnTo>
                    <a:pt x="2122" y="265"/>
                  </a:lnTo>
                  <a:lnTo>
                    <a:pt x="2125" y="257"/>
                  </a:lnTo>
                  <a:lnTo>
                    <a:pt x="2141" y="257"/>
                  </a:lnTo>
                  <a:lnTo>
                    <a:pt x="2141" y="452"/>
                  </a:lnTo>
                  <a:lnTo>
                    <a:pt x="2125" y="452"/>
                  </a:lnTo>
                  <a:lnTo>
                    <a:pt x="2122" y="444"/>
                  </a:lnTo>
                  <a:lnTo>
                    <a:pt x="2119" y="438"/>
                  </a:lnTo>
                  <a:lnTo>
                    <a:pt x="2117" y="432"/>
                  </a:lnTo>
                  <a:lnTo>
                    <a:pt x="2113" y="429"/>
                  </a:lnTo>
                  <a:lnTo>
                    <a:pt x="2109" y="425"/>
                  </a:lnTo>
                  <a:lnTo>
                    <a:pt x="2103" y="424"/>
                  </a:lnTo>
                  <a:lnTo>
                    <a:pt x="2097" y="423"/>
                  </a:lnTo>
                  <a:lnTo>
                    <a:pt x="2089" y="422"/>
                  </a:lnTo>
                  <a:lnTo>
                    <a:pt x="1843" y="422"/>
                  </a:lnTo>
                  <a:lnTo>
                    <a:pt x="1843" y="609"/>
                  </a:lnTo>
                  <a:lnTo>
                    <a:pt x="1843" y="617"/>
                  </a:lnTo>
                  <a:lnTo>
                    <a:pt x="1844" y="624"/>
                  </a:lnTo>
                  <a:lnTo>
                    <a:pt x="1846" y="629"/>
                  </a:lnTo>
                  <a:lnTo>
                    <a:pt x="1848" y="633"/>
                  </a:lnTo>
                  <a:lnTo>
                    <a:pt x="1852" y="636"/>
                  </a:lnTo>
                  <a:lnTo>
                    <a:pt x="1857" y="639"/>
                  </a:lnTo>
                  <a:lnTo>
                    <a:pt x="1865" y="642"/>
                  </a:lnTo>
                  <a:lnTo>
                    <a:pt x="1873" y="644"/>
                  </a:lnTo>
                  <a:lnTo>
                    <a:pt x="1873" y="661"/>
                  </a:lnTo>
                  <a:lnTo>
                    <a:pt x="1635" y="661"/>
                  </a:lnTo>
                  <a:close/>
                  <a:moveTo>
                    <a:pt x="3000" y="513"/>
                  </a:moveTo>
                  <a:lnTo>
                    <a:pt x="3008" y="512"/>
                  </a:lnTo>
                  <a:lnTo>
                    <a:pt x="3015" y="512"/>
                  </a:lnTo>
                  <a:lnTo>
                    <a:pt x="3020" y="509"/>
                  </a:lnTo>
                  <a:lnTo>
                    <a:pt x="3024" y="507"/>
                  </a:lnTo>
                  <a:lnTo>
                    <a:pt x="3027" y="504"/>
                  </a:lnTo>
                  <a:lnTo>
                    <a:pt x="3030" y="498"/>
                  </a:lnTo>
                  <a:lnTo>
                    <a:pt x="3033" y="491"/>
                  </a:lnTo>
                  <a:lnTo>
                    <a:pt x="3035" y="482"/>
                  </a:lnTo>
                  <a:lnTo>
                    <a:pt x="3052" y="482"/>
                  </a:lnTo>
                  <a:lnTo>
                    <a:pt x="3052" y="691"/>
                  </a:lnTo>
                  <a:lnTo>
                    <a:pt x="3035" y="691"/>
                  </a:lnTo>
                  <a:lnTo>
                    <a:pt x="3033" y="682"/>
                  </a:lnTo>
                  <a:lnTo>
                    <a:pt x="3030" y="675"/>
                  </a:lnTo>
                  <a:lnTo>
                    <a:pt x="3027" y="671"/>
                  </a:lnTo>
                  <a:lnTo>
                    <a:pt x="3024" y="666"/>
                  </a:lnTo>
                  <a:lnTo>
                    <a:pt x="3021" y="664"/>
                  </a:lnTo>
                  <a:lnTo>
                    <a:pt x="3015" y="663"/>
                  </a:lnTo>
                  <a:lnTo>
                    <a:pt x="3008" y="662"/>
                  </a:lnTo>
                  <a:lnTo>
                    <a:pt x="3000" y="661"/>
                  </a:lnTo>
                  <a:lnTo>
                    <a:pt x="2431" y="661"/>
                  </a:lnTo>
                  <a:lnTo>
                    <a:pt x="2431" y="644"/>
                  </a:lnTo>
                  <a:lnTo>
                    <a:pt x="2440" y="642"/>
                  </a:lnTo>
                  <a:lnTo>
                    <a:pt x="2447" y="639"/>
                  </a:lnTo>
                  <a:lnTo>
                    <a:pt x="2452" y="637"/>
                  </a:lnTo>
                  <a:lnTo>
                    <a:pt x="2456" y="634"/>
                  </a:lnTo>
                  <a:lnTo>
                    <a:pt x="2458" y="629"/>
                  </a:lnTo>
                  <a:lnTo>
                    <a:pt x="2460" y="625"/>
                  </a:lnTo>
                  <a:lnTo>
                    <a:pt x="2461" y="618"/>
                  </a:lnTo>
                  <a:lnTo>
                    <a:pt x="2461" y="609"/>
                  </a:lnTo>
                  <a:lnTo>
                    <a:pt x="2461" y="83"/>
                  </a:lnTo>
                  <a:lnTo>
                    <a:pt x="2461" y="75"/>
                  </a:lnTo>
                  <a:lnTo>
                    <a:pt x="2460" y="69"/>
                  </a:lnTo>
                  <a:lnTo>
                    <a:pt x="2458" y="63"/>
                  </a:lnTo>
                  <a:lnTo>
                    <a:pt x="2456" y="59"/>
                  </a:lnTo>
                  <a:lnTo>
                    <a:pt x="2452" y="56"/>
                  </a:lnTo>
                  <a:lnTo>
                    <a:pt x="2447" y="53"/>
                  </a:lnTo>
                  <a:lnTo>
                    <a:pt x="2440" y="51"/>
                  </a:lnTo>
                  <a:lnTo>
                    <a:pt x="2431" y="47"/>
                  </a:lnTo>
                  <a:lnTo>
                    <a:pt x="2431" y="32"/>
                  </a:lnTo>
                  <a:lnTo>
                    <a:pt x="3002" y="32"/>
                  </a:lnTo>
                  <a:lnTo>
                    <a:pt x="3009" y="31"/>
                  </a:lnTo>
                  <a:lnTo>
                    <a:pt x="3016" y="29"/>
                  </a:lnTo>
                  <a:lnTo>
                    <a:pt x="3021" y="28"/>
                  </a:lnTo>
                  <a:lnTo>
                    <a:pt x="3025" y="25"/>
                  </a:lnTo>
                  <a:lnTo>
                    <a:pt x="3029" y="22"/>
                  </a:lnTo>
                  <a:lnTo>
                    <a:pt x="3031" y="16"/>
                  </a:lnTo>
                  <a:lnTo>
                    <a:pt x="3033" y="9"/>
                  </a:lnTo>
                  <a:lnTo>
                    <a:pt x="3035" y="0"/>
                  </a:lnTo>
                  <a:lnTo>
                    <a:pt x="3052" y="0"/>
                  </a:lnTo>
                  <a:lnTo>
                    <a:pt x="3052" y="210"/>
                  </a:lnTo>
                  <a:lnTo>
                    <a:pt x="3035" y="210"/>
                  </a:lnTo>
                  <a:lnTo>
                    <a:pt x="3033" y="201"/>
                  </a:lnTo>
                  <a:lnTo>
                    <a:pt x="3031" y="194"/>
                  </a:lnTo>
                  <a:lnTo>
                    <a:pt x="3027" y="190"/>
                  </a:lnTo>
                  <a:lnTo>
                    <a:pt x="3024" y="185"/>
                  </a:lnTo>
                  <a:lnTo>
                    <a:pt x="3021" y="183"/>
                  </a:lnTo>
                  <a:lnTo>
                    <a:pt x="3015" y="182"/>
                  </a:lnTo>
                  <a:lnTo>
                    <a:pt x="3009" y="181"/>
                  </a:lnTo>
                  <a:lnTo>
                    <a:pt x="3002" y="181"/>
                  </a:lnTo>
                  <a:lnTo>
                    <a:pt x="2639" y="181"/>
                  </a:lnTo>
                  <a:lnTo>
                    <a:pt x="2639" y="268"/>
                  </a:lnTo>
                  <a:lnTo>
                    <a:pt x="2857" y="268"/>
                  </a:lnTo>
                  <a:lnTo>
                    <a:pt x="2865" y="268"/>
                  </a:lnTo>
                  <a:lnTo>
                    <a:pt x="2871" y="267"/>
                  </a:lnTo>
                  <a:lnTo>
                    <a:pt x="2876" y="266"/>
                  </a:lnTo>
                  <a:lnTo>
                    <a:pt x="2880" y="263"/>
                  </a:lnTo>
                  <a:lnTo>
                    <a:pt x="2884" y="259"/>
                  </a:lnTo>
                  <a:lnTo>
                    <a:pt x="2887" y="254"/>
                  </a:lnTo>
                  <a:lnTo>
                    <a:pt x="2889" y="247"/>
                  </a:lnTo>
                  <a:lnTo>
                    <a:pt x="2893" y="239"/>
                  </a:lnTo>
                  <a:lnTo>
                    <a:pt x="2910" y="239"/>
                  </a:lnTo>
                  <a:lnTo>
                    <a:pt x="2910" y="434"/>
                  </a:lnTo>
                  <a:lnTo>
                    <a:pt x="2893" y="434"/>
                  </a:lnTo>
                  <a:lnTo>
                    <a:pt x="2889" y="426"/>
                  </a:lnTo>
                  <a:lnTo>
                    <a:pt x="2886" y="419"/>
                  </a:lnTo>
                  <a:lnTo>
                    <a:pt x="2884" y="414"/>
                  </a:lnTo>
                  <a:lnTo>
                    <a:pt x="2880" y="411"/>
                  </a:lnTo>
                  <a:lnTo>
                    <a:pt x="2876" y="407"/>
                  </a:lnTo>
                  <a:lnTo>
                    <a:pt x="2870" y="406"/>
                  </a:lnTo>
                  <a:lnTo>
                    <a:pt x="2865" y="405"/>
                  </a:lnTo>
                  <a:lnTo>
                    <a:pt x="2857" y="405"/>
                  </a:lnTo>
                  <a:lnTo>
                    <a:pt x="2639" y="405"/>
                  </a:lnTo>
                  <a:lnTo>
                    <a:pt x="2639" y="513"/>
                  </a:lnTo>
                  <a:lnTo>
                    <a:pt x="3000" y="513"/>
                  </a:lnTo>
                  <a:close/>
                  <a:moveTo>
                    <a:pt x="3257" y="661"/>
                  </a:moveTo>
                  <a:lnTo>
                    <a:pt x="3257" y="644"/>
                  </a:lnTo>
                  <a:lnTo>
                    <a:pt x="3266" y="642"/>
                  </a:lnTo>
                  <a:lnTo>
                    <a:pt x="3272" y="639"/>
                  </a:lnTo>
                  <a:lnTo>
                    <a:pt x="3277" y="637"/>
                  </a:lnTo>
                  <a:lnTo>
                    <a:pt x="3281" y="634"/>
                  </a:lnTo>
                  <a:lnTo>
                    <a:pt x="3283" y="629"/>
                  </a:lnTo>
                  <a:lnTo>
                    <a:pt x="3285" y="625"/>
                  </a:lnTo>
                  <a:lnTo>
                    <a:pt x="3286" y="618"/>
                  </a:lnTo>
                  <a:lnTo>
                    <a:pt x="3287" y="609"/>
                  </a:lnTo>
                  <a:lnTo>
                    <a:pt x="3287" y="83"/>
                  </a:lnTo>
                  <a:lnTo>
                    <a:pt x="3286" y="75"/>
                  </a:lnTo>
                  <a:lnTo>
                    <a:pt x="3285" y="69"/>
                  </a:lnTo>
                  <a:lnTo>
                    <a:pt x="3283" y="63"/>
                  </a:lnTo>
                  <a:lnTo>
                    <a:pt x="3281" y="59"/>
                  </a:lnTo>
                  <a:lnTo>
                    <a:pt x="3277" y="56"/>
                  </a:lnTo>
                  <a:lnTo>
                    <a:pt x="3272" y="53"/>
                  </a:lnTo>
                  <a:lnTo>
                    <a:pt x="3266" y="51"/>
                  </a:lnTo>
                  <a:lnTo>
                    <a:pt x="3257" y="47"/>
                  </a:lnTo>
                  <a:lnTo>
                    <a:pt x="3257" y="32"/>
                  </a:lnTo>
                  <a:lnTo>
                    <a:pt x="3694" y="32"/>
                  </a:lnTo>
                  <a:lnTo>
                    <a:pt x="3724" y="33"/>
                  </a:lnTo>
                  <a:lnTo>
                    <a:pt x="3751" y="35"/>
                  </a:lnTo>
                  <a:lnTo>
                    <a:pt x="3775" y="38"/>
                  </a:lnTo>
                  <a:lnTo>
                    <a:pt x="3799" y="44"/>
                  </a:lnTo>
                  <a:lnTo>
                    <a:pt x="3821" y="52"/>
                  </a:lnTo>
                  <a:lnTo>
                    <a:pt x="3842" y="61"/>
                  </a:lnTo>
                  <a:lnTo>
                    <a:pt x="3852" y="66"/>
                  </a:lnTo>
                  <a:lnTo>
                    <a:pt x="3861" y="72"/>
                  </a:lnTo>
                  <a:lnTo>
                    <a:pt x="3870" y="78"/>
                  </a:lnTo>
                  <a:lnTo>
                    <a:pt x="3878" y="84"/>
                  </a:lnTo>
                  <a:lnTo>
                    <a:pt x="3885" y="91"/>
                  </a:lnTo>
                  <a:lnTo>
                    <a:pt x="3893" y="98"/>
                  </a:lnTo>
                  <a:lnTo>
                    <a:pt x="3900" y="105"/>
                  </a:lnTo>
                  <a:lnTo>
                    <a:pt x="3907" y="112"/>
                  </a:lnTo>
                  <a:lnTo>
                    <a:pt x="3912" y="120"/>
                  </a:lnTo>
                  <a:lnTo>
                    <a:pt x="3918" y="129"/>
                  </a:lnTo>
                  <a:lnTo>
                    <a:pt x="3922" y="138"/>
                  </a:lnTo>
                  <a:lnTo>
                    <a:pt x="3927" y="147"/>
                  </a:lnTo>
                  <a:lnTo>
                    <a:pt x="3930" y="156"/>
                  </a:lnTo>
                  <a:lnTo>
                    <a:pt x="3934" y="166"/>
                  </a:lnTo>
                  <a:lnTo>
                    <a:pt x="3937" y="176"/>
                  </a:lnTo>
                  <a:lnTo>
                    <a:pt x="3939" y="186"/>
                  </a:lnTo>
                  <a:lnTo>
                    <a:pt x="3943" y="208"/>
                  </a:lnTo>
                  <a:lnTo>
                    <a:pt x="3943" y="230"/>
                  </a:lnTo>
                  <a:lnTo>
                    <a:pt x="3943" y="248"/>
                  </a:lnTo>
                  <a:lnTo>
                    <a:pt x="3940" y="266"/>
                  </a:lnTo>
                  <a:lnTo>
                    <a:pt x="3937" y="282"/>
                  </a:lnTo>
                  <a:lnTo>
                    <a:pt x="3933" y="297"/>
                  </a:lnTo>
                  <a:lnTo>
                    <a:pt x="3927" y="313"/>
                  </a:lnTo>
                  <a:lnTo>
                    <a:pt x="3920" y="328"/>
                  </a:lnTo>
                  <a:lnTo>
                    <a:pt x="3912" y="341"/>
                  </a:lnTo>
                  <a:lnTo>
                    <a:pt x="3902" y="354"/>
                  </a:lnTo>
                  <a:lnTo>
                    <a:pt x="3892" y="366"/>
                  </a:lnTo>
                  <a:lnTo>
                    <a:pt x="3880" y="377"/>
                  </a:lnTo>
                  <a:lnTo>
                    <a:pt x="3866" y="387"/>
                  </a:lnTo>
                  <a:lnTo>
                    <a:pt x="3852" y="396"/>
                  </a:lnTo>
                  <a:lnTo>
                    <a:pt x="3836" y="405"/>
                  </a:lnTo>
                  <a:lnTo>
                    <a:pt x="3819" y="413"/>
                  </a:lnTo>
                  <a:lnTo>
                    <a:pt x="3801" y="420"/>
                  </a:lnTo>
                  <a:lnTo>
                    <a:pt x="3781" y="426"/>
                  </a:lnTo>
                  <a:lnTo>
                    <a:pt x="3875" y="573"/>
                  </a:lnTo>
                  <a:lnTo>
                    <a:pt x="3886" y="592"/>
                  </a:lnTo>
                  <a:lnTo>
                    <a:pt x="3898" y="607"/>
                  </a:lnTo>
                  <a:lnTo>
                    <a:pt x="3907" y="619"/>
                  </a:lnTo>
                  <a:lnTo>
                    <a:pt x="3915" y="627"/>
                  </a:lnTo>
                  <a:lnTo>
                    <a:pt x="3922" y="633"/>
                  </a:lnTo>
                  <a:lnTo>
                    <a:pt x="3930" y="638"/>
                  </a:lnTo>
                  <a:lnTo>
                    <a:pt x="3939" y="642"/>
                  </a:lnTo>
                  <a:lnTo>
                    <a:pt x="3948" y="644"/>
                  </a:lnTo>
                  <a:lnTo>
                    <a:pt x="3948" y="661"/>
                  </a:lnTo>
                  <a:lnTo>
                    <a:pt x="3694" y="661"/>
                  </a:lnTo>
                  <a:lnTo>
                    <a:pt x="3696" y="644"/>
                  </a:lnTo>
                  <a:lnTo>
                    <a:pt x="3703" y="641"/>
                  </a:lnTo>
                  <a:lnTo>
                    <a:pt x="3710" y="636"/>
                  </a:lnTo>
                  <a:lnTo>
                    <a:pt x="3712" y="634"/>
                  </a:lnTo>
                  <a:lnTo>
                    <a:pt x="3714" y="630"/>
                  </a:lnTo>
                  <a:lnTo>
                    <a:pt x="3715" y="628"/>
                  </a:lnTo>
                  <a:lnTo>
                    <a:pt x="3715" y="624"/>
                  </a:lnTo>
                  <a:lnTo>
                    <a:pt x="3715" y="619"/>
                  </a:lnTo>
                  <a:lnTo>
                    <a:pt x="3712" y="614"/>
                  </a:lnTo>
                  <a:lnTo>
                    <a:pt x="3709" y="608"/>
                  </a:lnTo>
                  <a:lnTo>
                    <a:pt x="3703" y="600"/>
                  </a:lnTo>
                  <a:lnTo>
                    <a:pt x="3700" y="595"/>
                  </a:lnTo>
                  <a:lnTo>
                    <a:pt x="3697" y="590"/>
                  </a:lnTo>
                  <a:lnTo>
                    <a:pt x="3593" y="429"/>
                  </a:lnTo>
                  <a:lnTo>
                    <a:pt x="3464" y="429"/>
                  </a:lnTo>
                  <a:lnTo>
                    <a:pt x="3464" y="609"/>
                  </a:lnTo>
                  <a:lnTo>
                    <a:pt x="3464" y="617"/>
                  </a:lnTo>
                  <a:lnTo>
                    <a:pt x="3465" y="624"/>
                  </a:lnTo>
                  <a:lnTo>
                    <a:pt x="3468" y="629"/>
                  </a:lnTo>
                  <a:lnTo>
                    <a:pt x="3470" y="633"/>
                  </a:lnTo>
                  <a:lnTo>
                    <a:pt x="3473" y="636"/>
                  </a:lnTo>
                  <a:lnTo>
                    <a:pt x="3479" y="639"/>
                  </a:lnTo>
                  <a:lnTo>
                    <a:pt x="3487" y="642"/>
                  </a:lnTo>
                  <a:lnTo>
                    <a:pt x="3496" y="644"/>
                  </a:lnTo>
                  <a:lnTo>
                    <a:pt x="3496" y="661"/>
                  </a:lnTo>
                  <a:lnTo>
                    <a:pt x="3257" y="661"/>
                  </a:lnTo>
                  <a:close/>
                  <a:moveTo>
                    <a:pt x="3464" y="158"/>
                  </a:moveTo>
                  <a:lnTo>
                    <a:pt x="3464" y="302"/>
                  </a:lnTo>
                  <a:lnTo>
                    <a:pt x="3619" y="302"/>
                  </a:lnTo>
                  <a:lnTo>
                    <a:pt x="3637" y="301"/>
                  </a:lnTo>
                  <a:lnTo>
                    <a:pt x="3653" y="301"/>
                  </a:lnTo>
                  <a:lnTo>
                    <a:pt x="3669" y="299"/>
                  </a:lnTo>
                  <a:lnTo>
                    <a:pt x="3682" y="297"/>
                  </a:lnTo>
                  <a:lnTo>
                    <a:pt x="3696" y="295"/>
                  </a:lnTo>
                  <a:lnTo>
                    <a:pt x="3707" y="292"/>
                  </a:lnTo>
                  <a:lnTo>
                    <a:pt x="3717" y="288"/>
                  </a:lnTo>
                  <a:lnTo>
                    <a:pt x="3726" y="284"/>
                  </a:lnTo>
                  <a:lnTo>
                    <a:pt x="3734" y="280"/>
                  </a:lnTo>
                  <a:lnTo>
                    <a:pt x="3739" y="274"/>
                  </a:lnTo>
                  <a:lnTo>
                    <a:pt x="3745" y="268"/>
                  </a:lnTo>
                  <a:lnTo>
                    <a:pt x="3751" y="262"/>
                  </a:lnTo>
                  <a:lnTo>
                    <a:pt x="3754" y="255"/>
                  </a:lnTo>
                  <a:lnTo>
                    <a:pt x="3756" y="247"/>
                  </a:lnTo>
                  <a:lnTo>
                    <a:pt x="3757" y="238"/>
                  </a:lnTo>
                  <a:lnTo>
                    <a:pt x="3758" y="229"/>
                  </a:lnTo>
                  <a:lnTo>
                    <a:pt x="3757" y="220"/>
                  </a:lnTo>
                  <a:lnTo>
                    <a:pt x="3756" y="211"/>
                  </a:lnTo>
                  <a:lnTo>
                    <a:pt x="3754" y="203"/>
                  </a:lnTo>
                  <a:lnTo>
                    <a:pt x="3751" y="197"/>
                  </a:lnTo>
                  <a:lnTo>
                    <a:pt x="3746" y="190"/>
                  </a:lnTo>
                  <a:lnTo>
                    <a:pt x="3741" y="184"/>
                  </a:lnTo>
                  <a:lnTo>
                    <a:pt x="3735" y="179"/>
                  </a:lnTo>
                  <a:lnTo>
                    <a:pt x="3727" y="174"/>
                  </a:lnTo>
                  <a:lnTo>
                    <a:pt x="3719" y="171"/>
                  </a:lnTo>
                  <a:lnTo>
                    <a:pt x="3709" y="167"/>
                  </a:lnTo>
                  <a:lnTo>
                    <a:pt x="3697" y="165"/>
                  </a:lnTo>
                  <a:lnTo>
                    <a:pt x="3684" y="163"/>
                  </a:lnTo>
                  <a:lnTo>
                    <a:pt x="3669" y="161"/>
                  </a:lnTo>
                  <a:lnTo>
                    <a:pt x="3652" y="160"/>
                  </a:lnTo>
                  <a:lnTo>
                    <a:pt x="3634" y="158"/>
                  </a:lnTo>
                  <a:lnTo>
                    <a:pt x="3615" y="158"/>
                  </a:lnTo>
                  <a:lnTo>
                    <a:pt x="346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6586200" y="6567840"/>
              <a:ext cx="1210680" cy="122760"/>
            </a:xfrm>
            <a:custGeom>
              <a:avLst/>
              <a:gdLst/>
              <a:ahLst/>
              <a:rect l="l" t="t" r="r" b="b"/>
              <a:pathLst>
                <a:path w="6877" h="691">
                  <a:moveTo>
                    <a:pt x="0" y="660"/>
                  </a:moveTo>
                  <a:lnTo>
                    <a:pt x="0" y="644"/>
                  </a:lnTo>
                  <a:lnTo>
                    <a:pt x="9" y="641"/>
                  </a:lnTo>
                  <a:lnTo>
                    <a:pt x="16" y="639"/>
                  </a:lnTo>
                  <a:lnTo>
                    <a:pt x="21" y="636"/>
                  </a:lnTo>
                  <a:lnTo>
                    <a:pt x="25" y="633"/>
                  </a:lnTo>
                  <a:lnTo>
                    <a:pt x="27" y="629"/>
                  </a:lnTo>
                  <a:lnTo>
                    <a:pt x="28" y="623"/>
                  </a:lnTo>
                  <a:lnTo>
                    <a:pt x="29" y="617"/>
                  </a:lnTo>
                  <a:lnTo>
                    <a:pt x="30" y="609"/>
                  </a:lnTo>
                  <a:lnTo>
                    <a:pt x="30" y="83"/>
                  </a:lnTo>
                  <a:lnTo>
                    <a:pt x="29" y="74"/>
                  </a:lnTo>
                  <a:lnTo>
                    <a:pt x="28" y="67"/>
                  </a:lnTo>
                  <a:lnTo>
                    <a:pt x="27" y="63"/>
                  </a:lnTo>
                  <a:lnTo>
                    <a:pt x="25" y="58"/>
                  </a:lnTo>
                  <a:lnTo>
                    <a:pt x="21" y="55"/>
                  </a:lnTo>
                  <a:lnTo>
                    <a:pt x="16" y="53"/>
                  </a:lnTo>
                  <a:lnTo>
                    <a:pt x="9" y="49"/>
                  </a:lnTo>
                  <a:lnTo>
                    <a:pt x="0" y="47"/>
                  </a:lnTo>
                  <a:lnTo>
                    <a:pt x="0" y="31"/>
                  </a:lnTo>
                  <a:lnTo>
                    <a:pt x="239" y="31"/>
                  </a:lnTo>
                  <a:lnTo>
                    <a:pt x="239" y="47"/>
                  </a:lnTo>
                  <a:lnTo>
                    <a:pt x="230" y="49"/>
                  </a:lnTo>
                  <a:lnTo>
                    <a:pt x="222" y="53"/>
                  </a:lnTo>
                  <a:lnTo>
                    <a:pt x="218" y="56"/>
                  </a:lnTo>
                  <a:lnTo>
                    <a:pt x="213" y="58"/>
                  </a:lnTo>
                  <a:lnTo>
                    <a:pt x="211" y="63"/>
                  </a:lnTo>
                  <a:lnTo>
                    <a:pt x="209" y="68"/>
                  </a:lnTo>
                  <a:lnTo>
                    <a:pt x="208" y="75"/>
                  </a:lnTo>
                  <a:lnTo>
                    <a:pt x="208" y="83"/>
                  </a:lnTo>
                  <a:lnTo>
                    <a:pt x="208" y="258"/>
                  </a:lnTo>
                  <a:lnTo>
                    <a:pt x="520" y="258"/>
                  </a:lnTo>
                  <a:lnTo>
                    <a:pt x="520" y="83"/>
                  </a:lnTo>
                  <a:lnTo>
                    <a:pt x="520" y="75"/>
                  </a:lnTo>
                  <a:lnTo>
                    <a:pt x="519" y="68"/>
                  </a:lnTo>
                  <a:lnTo>
                    <a:pt x="517" y="63"/>
                  </a:lnTo>
                  <a:lnTo>
                    <a:pt x="514" y="58"/>
                  </a:lnTo>
                  <a:lnTo>
                    <a:pt x="510" y="56"/>
                  </a:lnTo>
                  <a:lnTo>
                    <a:pt x="504" y="53"/>
                  </a:lnTo>
                  <a:lnTo>
                    <a:pt x="497" y="49"/>
                  </a:lnTo>
                  <a:lnTo>
                    <a:pt x="489" y="47"/>
                  </a:lnTo>
                  <a:lnTo>
                    <a:pt x="489" y="31"/>
                  </a:lnTo>
                  <a:lnTo>
                    <a:pt x="728" y="31"/>
                  </a:lnTo>
                  <a:lnTo>
                    <a:pt x="728" y="47"/>
                  </a:lnTo>
                  <a:lnTo>
                    <a:pt x="719" y="49"/>
                  </a:lnTo>
                  <a:lnTo>
                    <a:pt x="712" y="53"/>
                  </a:lnTo>
                  <a:lnTo>
                    <a:pt x="707" y="55"/>
                  </a:lnTo>
                  <a:lnTo>
                    <a:pt x="704" y="58"/>
                  </a:lnTo>
                  <a:lnTo>
                    <a:pt x="701" y="63"/>
                  </a:lnTo>
                  <a:lnTo>
                    <a:pt x="700" y="67"/>
                  </a:lnTo>
                  <a:lnTo>
                    <a:pt x="698" y="74"/>
                  </a:lnTo>
                  <a:lnTo>
                    <a:pt x="698" y="83"/>
                  </a:lnTo>
                  <a:lnTo>
                    <a:pt x="698" y="609"/>
                  </a:lnTo>
                  <a:lnTo>
                    <a:pt x="698" y="617"/>
                  </a:lnTo>
                  <a:lnTo>
                    <a:pt x="700" y="623"/>
                  </a:lnTo>
                  <a:lnTo>
                    <a:pt x="701" y="629"/>
                  </a:lnTo>
                  <a:lnTo>
                    <a:pt x="704" y="633"/>
                  </a:lnTo>
                  <a:lnTo>
                    <a:pt x="707" y="636"/>
                  </a:lnTo>
                  <a:lnTo>
                    <a:pt x="712" y="639"/>
                  </a:lnTo>
                  <a:lnTo>
                    <a:pt x="719" y="641"/>
                  </a:lnTo>
                  <a:lnTo>
                    <a:pt x="728" y="644"/>
                  </a:lnTo>
                  <a:lnTo>
                    <a:pt x="728" y="660"/>
                  </a:lnTo>
                  <a:lnTo>
                    <a:pt x="489" y="660"/>
                  </a:lnTo>
                  <a:lnTo>
                    <a:pt x="489" y="644"/>
                  </a:lnTo>
                  <a:lnTo>
                    <a:pt x="497" y="641"/>
                  </a:lnTo>
                  <a:lnTo>
                    <a:pt x="504" y="638"/>
                  </a:lnTo>
                  <a:lnTo>
                    <a:pt x="510" y="636"/>
                  </a:lnTo>
                  <a:lnTo>
                    <a:pt x="514" y="632"/>
                  </a:lnTo>
                  <a:lnTo>
                    <a:pt x="517" y="628"/>
                  </a:lnTo>
                  <a:lnTo>
                    <a:pt x="519" y="623"/>
                  </a:lnTo>
                  <a:lnTo>
                    <a:pt x="520" y="617"/>
                  </a:lnTo>
                  <a:lnTo>
                    <a:pt x="520" y="609"/>
                  </a:lnTo>
                  <a:lnTo>
                    <a:pt x="520" y="402"/>
                  </a:lnTo>
                  <a:lnTo>
                    <a:pt x="208" y="402"/>
                  </a:lnTo>
                  <a:lnTo>
                    <a:pt x="208" y="609"/>
                  </a:lnTo>
                  <a:lnTo>
                    <a:pt x="208" y="617"/>
                  </a:lnTo>
                  <a:lnTo>
                    <a:pt x="209" y="623"/>
                  </a:lnTo>
                  <a:lnTo>
                    <a:pt x="211" y="628"/>
                  </a:lnTo>
                  <a:lnTo>
                    <a:pt x="213" y="632"/>
                  </a:lnTo>
                  <a:lnTo>
                    <a:pt x="218" y="636"/>
                  </a:lnTo>
                  <a:lnTo>
                    <a:pt x="222" y="638"/>
                  </a:lnTo>
                  <a:lnTo>
                    <a:pt x="230" y="641"/>
                  </a:lnTo>
                  <a:lnTo>
                    <a:pt x="239" y="644"/>
                  </a:lnTo>
                  <a:lnTo>
                    <a:pt x="239" y="660"/>
                  </a:lnTo>
                  <a:lnTo>
                    <a:pt x="0" y="660"/>
                  </a:lnTo>
                  <a:close/>
                  <a:moveTo>
                    <a:pt x="1487" y="511"/>
                  </a:moveTo>
                  <a:lnTo>
                    <a:pt x="1495" y="511"/>
                  </a:lnTo>
                  <a:lnTo>
                    <a:pt x="1501" y="510"/>
                  </a:lnTo>
                  <a:lnTo>
                    <a:pt x="1506" y="509"/>
                  </a:lnTo>
                  <a:lnTo>
                    <a:pt x="1510" y="506"/>
                  </a:lnTo>
                  <a:lnTo>
                    <a:pt x="1514" y="502"/>
                  </a:lnTo>
                  <a:lnTo>
                    <a:pt x="1517" y="498"/>
                  </a:lnTo>
                  <a:lnTo>
                    <a:pt x="1519" y="491"/>
                  </a:lnTo>
                  <a:lnTo>
                    <a:pt x="1522" y="482"/>
                  </a:lnTo>
                  <a:lnTo>
                    <a:pt x="1538" y="482"/>
                  </a:lnTo>
                  <a:lnTo>
                    <a:pt x="1538" y="691"/>
                  </a:lnTo>
                  <a:lnTo>
                    <a:pt x="1522" y="691"/>
                  </a:lnTo>
                  <a:lnTo>
                    <a:pt x="1519" y="682"/>
                  </a:lnTo>
                  <a:lnTo>
                    <a:pt x="1517" y="675"/>
                  </a:lnTo>
                  <a:lnTo>
                    <a:pt x="1514" y="669"/>
                  </a:lnTo>
                  <a:lnTo>
                    <a:pt x="1510" y="666"/>
                  </a:lnTo>
                  <a:lnTo>
                    <a:pt x="1507" y="664"/>
                  </a:lnTo>
                  <a:lnTo>
                    <a:pt x="1501" y="661"/>
                  </a:lnTo>
                  <a:lnTo>
                    <a:pt x="1495" y="660"/>
                  </a:lnTo>
                  <a:lnTo>
                    <a:pt x="1487" y="660"/>
                  </a:lnTo>
                  <a:lnTo>
                    <a:pt x="917" y="660"/>
                  </a:lnTo>
                  <a:lnTo>
                    <a:pt x="917" y="644"/>
                  </a:lnTo>
                  <a:lnTo>
                    <a:pt x="926" y="641"/>
                  </a:lnTo>
                  <a:lnTo>
                    <a:pt x="933" y="639"/>
                  </a:lnTo>
                  <a:lnTo>
                    <a:pt x="939" y="636"/>
                  </a:lnTo>
                  <a:lnTo>
                    <a:pt x="942" y="633"/>
                  </a:lnTo>
                  <a:lnTo>
                    <a:pt x="944" y="629"/>
                  </a:lnTo>
                  <a:lnTo>
                    <a:pt x="947" y="623"/>
                  </a:lnTo>
                  <a:lnTo>
                    <a:pt x="948" y="617"/>
                  </a:lnTo>
                  <a:lnTo>
                    <a:pt x="948" y="609"/>
                  </a:lnTo>
                  <a:lnTo>
                    <a:pt x="948" y="83"/>
                  </a:lnTo>
                  <a:lnTo>
                    <a:pt x="948" y="74"/>
                  </a:lnTo>
                  <a:lnTo>
                    <a:pt x="947" y="67"/>
                  </a:lnTo>
                  <a:lnTo>
                    <a:pt x="944" y="63"/>
                  </a:lnTo>
                  <a:lnTo>
                    <a:pt x="942" y="58"/>
                  </a:lnTo>
                  <a:lnTo>
                    <a:pt x="939" y="55"/>
                  </a:lnTo>
                  <a:lnTo>
                    <a:pt x="933" y="53"/>
                  </a:lnTo>
                  <a:lnTo>
                    <a:pt x="926" y="49"/>
                  </a:lnTo>
                  <a:lnTo>
                    <a:pt x="917" y="47"/>
                  </a:lnTo>
                  <a:lnTo>
                    <a:pt x="917" y="31"/>
                  </a:lnTo>
                  <a:lnTo>
                    <a:pt x="1488" y="31"/>
                  </a:lnTo>
                  <a:lnTo>
                    <a:pt x="1496" y="30"/>
                  </a:lnTo>
                  <a:lnTo>
                    <a:pt x="1503" y="29"/>
                  </a:lnTo>
                  <a:lnTo>
                    <a:pt x="1508" y="27"/>
                  </a:lnTo>
                  <a:lnTo>
                    <a:pt x="1512" y="25"/>
                  </a:lnTo>
                  <a:lnTo>
                    <a:pt x="1515" y="21"/>
                  </a:lnTo>
                  <a:lnTo>
                    <a:pt x="1517" y="16"/>
                  </a:lnTo>
                  <a:lnTo>
                    <a:pt x="1519" y="9"/>
                  </a:lnTo>
                  <a:lnTo>
                    <a:pt x="1522" y="0"/>
                  </a:lnTo>
                  <a:lnTo>
                    <a:pt x="1538" y="0"/>
                  </a:lnTo>
                  <a:lnTo>
                    <a:pt x="1538" y="210"/>
                  </a:lnTo>
                  <a:lnTo>
                    <a:pt x="1522" y="210"/>
                  </a:lnTo>
                  <a:lnTo>
                    <a:pt x="1519" y="201"/>
                  </a:lnTo>
                  <a:lnTo>
                    <a:pt x="1517" y="194"/>
                  </a:lnTo>
                  <a:lnTo>
                    <a:pt x="1514" y="188"/>
                  </a:lnTo>
                  <a:lnTo>
                    <a:pt x="1512" y="185"/>
                  </a:lnTo>
                  <a:lnTo>
                    <a:pt x="1507" y="183"/>
                  </a:lnTo>
                  <a:lnTo>
                    <a:pt x="1503" y="180"/>
                  </a:lnTo>
                  <a:lnTo>
                    <a:pt x="1496" y="180"/>
                  </a:lnTo>
                  <a:lnTo>
                    <a:pt x="1488" y="179"/>
                  </a:lnTo>
                  <a:lnTo>
                    <a:pt x="1125" y="179"/>
                  </a:lnTo>
                  <a:lnTo>
                    <a:pt x="1125" y="268"/>
                  </a:lnTo>
                  <a:lnTo>
                    <a:pt x="1343" y="268"/>
                  </a:lnTo>
                  <a:lnTo>
                    <a:pt x="1351" y="268"/>
                  </a:lnTo>
                  <a:lnTo>
                    <a:pt x="1358" y="267"/>
                  </a:lnTo>
                  <a:lnTo>
                    <a:pt x="1363" y="265"/>
                  </a:lnTo>
                  <a:lnTo>
                    <a:pt x="1367" y="262"/>
                  </a:lnTo>
                  <a:lnTo>
                    <a:pt x="1370" y="259"/>
                  </a:lnTo>
                  <a:lnTo>
                    <a:pt x="1373" y="253"/>
                  </a:lnTo>
                  <a:lnTo>
                    <a:pt x="1377" y="247"/>
                  </a:lnTo>
                  <a:lnTo>
                    <a:pt x="1379" y="239"/>
                  </a:lnTo>
                  <a:lnTo>
                    <a:pt x="1396" y="239"/>
                  </a:lnTo>
                  <a:lnTo>
                    <a:pt x="1396" y="434"/>
                  </a:lnTo>
                  <a:lnTo>
                    <a:pt x="1379" y="434"/>
                  </a:lnTo>
                  <a:lnTo>
                    <a:pt x="1376" y="425"/>
                  </a:lnTo>
                  <a:lnTo>
                    <a:pt x="1373" y="418"/>
                  </a:lnTo>
                  <a:lnTo>
                    <a:pt x="1370" y="414"/>
                  </a:lnTo>
                  <a:lnTo>
                    <a:pt x="1367" y="409"/>
                  </a:lnTo>
                  <a:lnTo>
                    <a:pt x="1362" y="407"/>
                  </a:lnTo>
                  <a:lnTo>
                    <a:pt x="1357" y="406"/>
                  </a:lnTo>
                  <a:lnTo>
                    <a:pt x="1351" y="405"/>
                  </a:lnTo>
                  <a:lnTo>
                    <a:pt x="1343" y="404"/>
                  </a:lnTo>
                  <a:lnTo>
                    <a:pt x="1125" y="404"/>
                  </a:lnTo>
                  <a:lnTo>
                    <a:pt x="1125" y="511"/>
                  </a:lnTo>
                  <a:lnTo>
                    <a:pt x="1487" y="511"/>
                  </a:lnTo>
                  <a:close/>
                  <a:moveTo>
                    <a:pt x="1924" y="422"/>
                  </a:moveTo>
                  <a:lnTo>
                    <a:pt x="2136" y="422"/>
                  </a:lnTo>
                  <a:lnTo>
                    <a:pt x="2026" y="145"/>
                  </a:lnTo>
                  <a:lnTo>
                    <a:pt x="1924" y="422"/>
                  </a:lnTo>
                  <a:close/>
                  <a:moveTo>
                    <a:pt x="2189" y="660"/>
                  </a:moveTo>
                  <a:lnTo>
                    <a:pt x="2189" y="644"/>
                  </a:lnTo>
                  <a:lnTo>
                    <a:pt x="2199" y="640"/>
                  </a:lnTo>
                  <a:lnTo>
                    <a:pt x="2205" y="636"/>
                  </a:lnTo>
                  <a:lnTo>
                    <a:pt x="2209" y="633"/>
                  </a:lnTo>
                  <a:lnTo>
                    <a:pt x="2210" y="630"/>
                  </a:lnTo>
                  <a:lnTo>
                    <a:pt x="2211" y="626"/>
                  </a:lnTo>
                  <a:lnTo>
                    <a:pt x="2211" y="622"/>
                  </a:lnTo>
                  <a:lnTo>
                    <a:pt x="2211" y="618"/>
                  </a:lnTo>
                  <a:lnTo>
                    <a:pt x="2210" y="611"/>
                  </a:lnTo>
                  <a:lnTo>
                    <a:pt x="2208" y="604"/>
                  </a:lnTo>
                  <a:lnTo>
                    <a:pt x="2204" y="594"/>
                  </a:lnTo>
                  <a:lnTo>
                    <a:pt x="2179" y="527"/>
                  </a:lnTo>
                  <a:lnTo>
                    <a:pt x="1887" y="527"/>
                  </a:lnTo>
                  <a:lnTo>
                    <a:pt x="1861" y="594"/>
                  </a:lnTo>
                  <a:lnTo>
                    <a:pt x="1858" y="600"/>
                  </a:lnTo>
                  <a:lnTo>
                    <a:pt x="1856" y="605"/>
                  </a:lnTo>
                  <a:lnTo>
                    <a:pt x="1856" y="610"/>
                  </a:lnTo>
                  <a:lnTo>
                    <a:pt x="1855" y="614"/>
                  </a:lnTo>
                  <a:lnTo>
                    <a:pt x="1856" y="620"/>
                  </a:lnTo>
                  <a:lnTo>
                    <a:pt x="1857" y="624"/>
                  </a:lnTo>
                  <a:lnTo>
                    <a:pt x="1860" y="629"/>
                  </a:lnTo>
                  <a:lnTo>
                    <a:pt x="1862" y="633"/>
                  </a:lnTo>
                  <a:lnTo>
                    <a:pt x="1865" y="637"/>
                  </a:lnTo>
                  <a:lnTo>
                    <a:pt x="1870" y="639"/>
                  </a:lnTo>
                  <a:lnTo>
                    <a:pt x="1874" y="641"/>
                  </a:lnTo>
                  <a:lnTo>
                    <a:pt x="1881" y="644"/>
                  </a:lnTo>
                  <a:lnTo>
                    <a:pt x="1881" y="660"/>
                  </a:lnTo>
                  <a:lnTo>
                    <a:pt x="1666" y="660"/>
                  </a:lnTo>
                  <a:lnTo>
                    <a:pt x="1666" y="644"/>
                  </a:lnTo>
                  <a:lnTo>
                    <a:pt x="1674" y="639"/>
                  </a:lnTo>
                  <a:lnTo>
                    <a:pt x="1681" y="632"/>
                  </a:lnTo>
                  <a:lnTo>
                    <a:pt x="1688" y="626"/>
                  </a:lnTo>
                  <a:lnTo>
                    <a:pt x="1696" y="617"/>
                  </a:lnTo>
                  <a:lnTo>
                    <a:pt x="1701" y="605"/>
                  </a:lnTo>
                  <a:lnTo>
                    <a:pt x="1708" y="594"/>
                  </a:lnTo>
                  <a:lnTo>
                    <a:pt x="1714" y="581"/>
                  </a:lnTo>
                  <a:lnTo>
                    <a:pt x="1719" y="567"/>
                  </a:lnTo>
                  <a:lnTo>
                    <a:pt x="1721" y="562"/>
                  </a:lnTo>
                  <a:lnTo>
                    <a:pt x="1723" y="557"/>
                  </a:lnTo>
                  <a:lnTo>
                    <a:pt x="1889" y="104"/>
                  </a:lnTo>
                  <a:lnTo>
                    <a:pt x="1892" y="92"/>
                  </a:lnTo>
                  <a:lnTo>
                    <a:pt x="1897" y="81"/>
                  </a:lnTo>
                  <a:lnTo>
                    <a:pt x="1898" y="72"/>
                  </a:lnTo>
                  <a:lnTo>
                    <a:pt x="1899" y="66"/>
                  </a:lnTo>
                  <a:lnTo>
                    <a:pt x="1899" y="63"/>
                  </a:lnTo>
                  <a:lnTo>
                    <a:pt x="1898" y="58"/>
                  </a:lnTo>
                  <a:lnTo>
                    <a:pt x="1897" y="55"/>
                  </a:lnTo>
                  <a:lnTo>
                    <a:pt x="1894" y="53"/>
                  </a:lnTo>
                  <a:lnTo>
                    <a:pt x="1892" y="50"/>
                  </a:lnTo>
                  <a:lnTo>
                    <a:pt x="1889" y="49"/>
                  </a:lnTo>
                  <a:lnTo>
                    <a:pt x="1885" y="48"/>
                  </a:lnTo>
                  <a:lnTo>
                    <a:pt x="1881" y="47"/>
                  </a:lnTo>
                  <a:lnTo>
                    <a:pt x="1881" y="31"/>
                  </a:lnTo>
                  <a:lnTo>
                    <a:pt x="2194" y="31"/>
                  </a:lnTo>
                  <a:lnTo>
                    <a:pt x="2194" y="47"/>
                  </a:lnTo>
                  <a:lnTo>
                    <a:pt x="2190" y="48"/>
                  </a:lnTo>
                  <a:lnTo>
                    <a:pt x="2186" y="49"/>
                  </a:lnTo>
                  <a:lnTo>
                    <a:pt x="2183" y="50"/>
                  </a:lnTo>
                  <a:lnTo>
                    <a:pt x="2181" y="53"/>
                  </a:lnTo>
                  <a:lnTo>
                    <a:pt x="2179" y="55"/>
                  </a:lnTo>
                  <a:lnTo>
                    <a:pt x="2177" y="58"/>
                  </a:lnTo>
                  <a:lnTo>
                    <a:pt x="2176" y="63"/>
                  </a:lnTo>
                  <a:lnTo>
                    <a:pt x="2176" y="66"/>
                  </a:lnTo>
                  <a:lnTo>
                    <a:pt x="2177" y="72"/>
                  </a:lnTo>
                  <a:lnTo>
                    <a:pt x="2180" y="81"/>
                  </a:lnTo>
                  <a:lnTo>
                    <a:pt x="2183" y="92"/>
                  </a:lnTo>
                  <a:lnTo>
                    <a:pt x="2188" y="104"/>
                  </a:lnTo>
                  <a:lnTo>
                    <a:pt x="2389" y="609"/>
                  </a:lnTo>
                  <a:lnTo>
                    <a:pt x="2389" y="610"/>
                  </a:lnTo>
                  <a:lnTo>
                    <a:pt x="2389" y="611"/>
                  </a:lnTo>
                  <a:lnTo>
                    <a:pt x="2392" y="617"/>
                  </a:lnTo>
                  <a:lnTo>
                    <a:pt x="2394" y="622"/>
                  </a:lnTo>
                  <a:lnTo>
                    <a:pt x="2398" y="627"/>
                  </a:lnTo>
                  <a:lnTo>
                    <a:pt x="2401" y="631"/>
                  </a:lnTo>
                  <a:lnTo>
                    <a:pt x="2405" y="636"/>
                  </a:lnTo>
                  <a:lnTo>
                    <a:pt x="2410" y="639"/>
                  </a:lnTo>
                  <a:lnTo>
                    <a:pt x="2414" y="641"/>
                  </a:lnTo>
                  <a:lnTo>
                    <a:pt x="2419" y="644"/>
                  </a:lnTo>
                  <a:lnTo>
                    <a:pt x="2419" y="660"/>
                  </a:lnTo>
                  <a:lnTo>
                    <a:pt x="2189" y="660"/>
                  </a:lnTo>
                  <a:close/>
                  <a:moveTo>
                    <a:pt x="3130" y="511"/>
                  </a:moveTo>
                  <a:lnTo>
                    <a:pt x="3136" y="511"/>
                  </a:lnTo>
                  <a:lnTo>
                    <a:pt x="3143" y="510"/>
                  </a:lnTo>
                  <a:lnTo>
                    <a:pt x="3149" y="509"/>
                  </a:lnTo>
                  <a:lnTo>
                    <a:pt x="3152" y="506"/>
                  </a:lnTo>
                  <a:lnTo>
                    <a:pt x="3155" y="502"/>
                  </a:lnTo>
                  <a:lnTo>
                    <a:pt x="3159" y="498"/>
                  </a:lnTo>
                  <a:lnTo>
                    <a:pt x="3161" y="491"/>
                  </a:lnTo>
                  <a:lnTo>
                    <a:pt x="3163" y="482"/>
                  </a:lnTo>
                  <a:lnTo>
                    <a:pt x="3181" y="482"/>
                  </a:lnTo>
                  <a:lnTo>
                    <a:pt x="3181" y="691"/>
                  </a:lnTo>
                  <a:lnTo>
                    <a:pt x="3163" y="691"/>
                  </a:lnTo>
                  <a:lnTo>
                    <a:pt x="3161" y="682"/>
                  </a:lnTo>
                  <a:lnTo>
                    <a:pt x="3159" y="675"/>
                  </a:lnTo>
                  <a:lnTo>
                    <a:pt x="3155" y="669"/>
                  </a:lnTo>
                  <a:lnTo>
                    <a:pt x="3152" y="666"/>
                  </a:lnTo>
                  <a:lnTo>
                    <a:pt x="3149" y="664"/>
                  </a:lnTo>
                  <a:lnTo>
                    <a:pt x="3143" y="661"/>
                  </a:lnTo>
                  <a:lnTo>
                    <a:pt x="3138" y="660"/>
                  </a:lnTo>
                  <a:lnTo>
                    <a:pt x="3130" y="660"/>
                  </a:lnTo>
                  <a:lnTo>
                    <a:pt x="2533" y="660"/>
                  </a:lnTo>
                  <a:lnTo>
                    <a:pt x="2533" y="644"/>
                  </a:lnTo>
                  <a:lnTo>
                    <a:pt x="2542" y="641"/>
                  </a:lnTo>
                  <a:lnTo>
                    <a:pt x="2549" y="639"/>
                  </a:lnTo>
                  <a:lnTo>
                    <a:pt x="2554" y="636"/>
                  </a:lnTo>
                  <a:lnTo>
                    <a:pt x="2558" y="633"/>
                  </a:lnTo>
                  <a:lnTo>
                    <a:pt x="2560" y="629"/>
                  </a:lnTo>
                  <a:lnTo>
                    <a:pt x="2561" y="623"/>
                  </a:lnTo>
                  <a:lnTo>
                    <a:pt x="2563" y="617"/>
                  </a:lnTo>
                  <a:lnTo>
                    <a:pt x="2564" y="609"/>
                  </a:lnTo>
                  <a:lnTo>
                    <a:pt x="2564" y="83"/>
                  </a:lnTo>
                  <a:lnTo>
                    <a:pt x="2563" y="74"/>
                  </a:lnTo>
                  <a:lnTo>
                    <a:pt x="2561" y="67"/>
                  </a:lnTo>
                  <a:lnTo>
                    <a:pt x="2560" y="63"/>
                  </a:lnTo>
                  <a:lnTo>
                    <a:pt x="2558" y="58"/>
                  </a:lnTo>
                  <a:lnTo>
                    <a:pt x="2554" y="55"/>
                  </a:lnTo>
                  <a:lnTo>
                    <a:pt x="2549" y="53"/>
                  </a:lnTo>
                  <a:lnTo>
                    <a:pt x="2542" y="49"/>
                  </a:lnTo>
                  <a:lnTo>
                    <a:pt x="2533" y="47"/>
                  </a:lnTo>
                  <a:lnTo>
                    <a:pt x="2533" y="31"/>
                  </a:lnTo>
                  <a:lnTo>
                    <a:pt x="2773" y="31"/>
                  </a:lnTo>
                  <a:lnTo>
                    <a:pt x="2773" y="47"/>
                  </a:lnTo>
                  <a:lnTo>
                    <a:pt x="2764" y="49"/>
                  </a:lnTo>
                  <a:lnTo>
                    <a:pt x="2756" y="53"/>
                  </a:lnTo>
                  <a:lnTo>
                    <a:pt x="2751" y="56"/>
                  </a:lnTo>
                  <a:lnTo>
                    <a:pt x="2747" y="58"/>
                  </a:lnTo>
                  <a:lnTo>
                    <a:pt x="2744" y="63"/>
                  </a:lnTo>
                  <a:lnTo>
                    <a:pt x="2742" y="68"/>
                  </a:lnTo>
                  <a:lnTo>
                    <a:pt x="2741" y="75"/>
                  </a:lnTo>
                  <a:lnTo>
                    <a:pt x="2741" y="83"/>
                  </a:lnTo>
                  <a:lnTo>
                    <a:pt x="2741" y="511"/>
                  </a:lnTo>
                  <a:lnTo>
                    <a:pt x="3130" y="511"/>
                  </a:lnTo>
                  <a:close/>
                  <a:moveTo>
                    <a:pt x="3614" y="185"/>
                  </a:moveTo>
                  <a:lnTo>
                    <a:pt x="3614" y="609"/>
                  </a:lnTo>
                  <a:lnTo>
                    <a:pt x="3614" y="617"/>
                  </a:lnTo>
                  <a:lnTo>
                    <a:pt x="3615" y="623"/>
                  </a:lnTo>
                  <a:lnTo>
                    <a:pt x="3617" y="629"/>
                  </a:lnTo>
                  <a:lnTo>
                    <a:pt x="3619" y="633"/>
                  </a:lnTo>
                  <a:lnTo>
                    <a:pt x="3623" y="636"/>
                  </a:lnTo>
                  <a:lnTo>
                    <a:pt x="3628" y="639"/>
                  </a:lnTo>
                  <a:lnTo>
                    <a:pt x="3635" y="641"/>
                  </a:lnTo>
                  <a:lnTo>
                    <a:pt x="3643" y="644"/>
                  </a:lnTo>
                  <a:lnTo>
                    <a:pt x="3643" y="660"/>
                  </a:lnTo>
                  <a:lnTo>
                    <a:pt x="3405" y="660"/>
                  </a:lnTo>
                  <a:lnTo>
                    <a:pt x="3405" y="644"/>
                  </a:lnTo>
                  <a:lnTo>
                    <a:pt x="3413" y="641"/>
                  </a:lnTo>
                  <a:lnTo>
                    <a:pt x="3420" y="638"/>
                  </a:lnTo>
                  <a:lnTo>
                    <a:pt x="3425" y="636"/>
                  </a:lnTo>
                  <a:lnTo>
                    <a:pt x="3428" y="631"/>
                  </a:lnTo>
                  <a:lnTo>
                    <a:pt x="3431" y="628"/>
                  </a:lnTo>
                  <a:lnTo>
                    <a:pt x="3433" y="622"/>
                  </a:lnTo>
                  <a:lnTo>
                    <a:pt x="3434" y="617"/>
                  </a:lnTo>
                  <a:lnTo>
                    <a:pt x="3434" y="609"/>
                  </a:lnTo>
                  <a:lnTo>
                    <a:pt x="3434" y="185"/>
                  </a:lnTo>
                  <a:lnTo>
                    <a:pt x="3246" y="185"/>
                  </a:lnTo>
                  <a:lnTo>
                    <a:pt x="3239" y="186"/>
                  </a:lnTo>
                  <a:lnTo>
                    <a:pt x="3232" y="187"/>
                  </a:lnTo>
                  <a:lnTo>
                    <a:pt x="3226" y="188"/>
                  </a:lnTo>
                  <a:lnTo>
                    <a:pt x="3223" y="192"/>
                  </a:lnTo>
                  <a:lnTo>
                    <a:pt x="3219" y="195"/>
                  </a:lnTo>
                  <a:lnTo>
                    <a:pt x="3216" y="201"/>
                  </a:lnTo>
                  <a:lnTo>
                    <a:pt x="3213" y="207"/>
                  </a:lnTo>
                  <a:lnTo>
                    <a:pt x="3211" y="215"/>
                  </a:lnTo>
                  <a:lnTo>
                    <a:pt x="3195" y="215"/>
                  </a:lnTo>
                  <a:lnTo>
                    <a:pt x="3195" y="0"/>
                  </a:lnTo>
                  <a:lnTo>
                    <a:pt x="3211" y="0"/>
                  </a:lnTo>
                  <a:lnTo>
                    <a:pt x="3213" y="9"/>
                  </a:lnTo>
                  <a:lnTo>
                    <a:pt x="3216" y="16"/>
                  </a:lnTo>
                  <a:lnTo>
                    <a:pt x="3218" y="21"/>
                  </a:lnTo>
                  <a:lnTo>
                    <a:pt x="3222" y="25"/>
                  </a:lnTo>
                  <a:lnTo>
                    <a:pt x="3226" y="28"/>
                  </a:lnTo>
                  <a:lnTo>
                    <a:pt x="3232" y="29"/>
                  </a:lnTo>
                  <a:lnTo>
                    <a:pt x="3237" y="30"/>
                  </a:lnTo>
                  <a:lnTo>
                    <a:pt x="3246" y="31"/>
                  </a:lnTo>
                  <a:lnTo>
                    <a:pt x="3801" y="31"/>
                  </a:lnTo>
                  <a:lnTo>
                    <a:pt x="3809" y="30"/>
                  </a:lnTo>
                  <a:lnTo>
                    <a:pt x="3816" y="29"/>
                  </a:lnTo>
                  <a:lnTo>
                    <a:pt x="3821" y="28"/>
                  </a:lnTo>
                  <a:lnTo>
                    <a:pt x="3826" y="25"/>
                  </a:lnTo>
                  <a:lnTo>
                    <a:pt x="3828" y="21"/>
                  </a:lnTo>
                  <a:lnTo>
                    <a:pt x="3831" y="16"/>
                  </a:lnTo>
                  <a:lnTo>
                    <a:pt x="3834" y="9"/>
                  </a:lnTo>
                  <a:lnTo>
                    <a:pt x="3836" y="0"/>
                  </a:lnTo>
                  <a:lnTo>
                    <a:pt x="3853" y="0"/>
                  </a:lnTo>
                  <a:lnTo>
                    <a:pt x="3853" y="215"/>
                  </a:lnTo>
                  <a:lnTo>
                    <a:pt x="3836" y="215"/>
                  </a:lnTo>
                  <a:lnTo>
                    <a:pt x="3834" y="207"/>
                  </a:lnTo>
                  <a:lnTo>
                    <a:pt x="3831" y="201"/>
                  </a:lnTo>
                  <a:lnTo>
                    <a:pt x="3828" y="195"/>
                  </a:lnTo>
                  <a:lnTo>
                    <a:pt x="3825" y="192"/>
                  </a:lnTo>
                  <a:lnTo>
                    <a:pt x="3821" y="188"/>
                  </a:lnTo>
                  <a:lnTo>
                    <a:pt x="3816" y="187"/>
                  </a:lnTo>
                  <a:lnTo>
                    <a:pt x="3809" y="186"/>
                  </a:lnTo>
                  <a:lnTo>
                    <a:pt x="3801" y="185"/>
                  </a:lnTo>
                  <a:lnTo>
                    <a:pt x="3614" y="185"/>
                  </a:lnTo>
                  <a:close/>
                  <a:moveTo>
                    <a:pt x="4019" y="660"/>
                  </a:moveTo>
                  <a:lnTo>
                    <a:pt x="4019" y="644"/>
                  </a:lnTo>
                  <a:lnTo>
                    <a:pt x="4028" y="641"/>
                  </a:lnTo>
                  <a:lnTo>
                    <a:pt x="4035" y="639"/>
                  </a:lnTo>
                  <a:lnTo>
                    <a:pt x="4040" y="636"/>
                  </a:lnTo>
                  <a:lnTo>
                    <a:pt x="4044" y="633"/>
                  </a:lnTo>
                  <a:lnTo>
                    <a:pt x="4046" y="629"/>
                  </a:lnTo>
                  <a:lnTo>
                    <a:pt x="4048" y="623"/>
                  </a:lnTo>
                  <a:lnTo>
                    <a:pt x="4049" y="617"/>
                  </a:lnTo>
                  <a:lnTo>
                    <a:pt x="4049" y="609"/>
                  </a:lnTo>
                  <a:lnTo>
                    <a:pt x="4049" y="83"/>
                  </a:lnTo>
                  <a:lnTo>
                    <a:pt x="4049" y="74"/>
                  </a:lnTo>
                  <a:lnTo>
                    <a:pt x="4048" y="67"/>
                  </a:lnTo>
                  <a:lnTo>
                    <a:pt x="4046" y="63"/>
                  </a:lnTo>
                  <a:lnTo>
                    <a:pt x="4044" y="58"/>
                  </a:lnTo>
                  <a:lnTo>
                    <a:pt x="4040" y="55"/>
                  </a:lnTo>
                  <a:lnTo>
                    <a:pt x="4035" y="53"/>
                  </a:lnTo>
                  <a:lnTo>
                    <a:pt x="4028" y="49"/>
                  </a:lnTo>
                  <a:lnTo>
                    <a:pt x="4019" y="47"/>
                  </a:lnTo>
                  <a:lnTo>
                    <a:pt x="4019" y="31"/>
                  </a:lnTo>
                  <a:lnTo>
                    <a:pt x="4258" y="31"/>
                  </a:lnTo>
                  <a:lnTo>
                    <a:pt x="4258" y="47"/>
                  </a:lnTo>
                  <a:lnTo>
                    <a:pt x="4249" y="49"/>
                  </a:lnTo>
                  <a:lnTo>
                    <a:pt x="4242" y="53"/>
                  </a:lnTo>
                  <a:lnTo>
                    <a:pt x="4237" y="56"/>
                  </a:lnTo>
                  <a:lnTo>
                    <a:pt x="4232" y="58"/>
                  </a:lnTo>
                  <a:lnTo>
                    <a:pt x="4230" y="63"/>
                  </a:lnTo>
                  <a:lnTo>
                    <a:pt x="4228" y="68"/>
                  </a:lnTo>
                  <a:lnTo>
                    <a:pt x="4227" y="75"/>
                  </a:lnTo>
                  <a:lnTo>
                    <a:pt x="4227" y="83"/>
                  </a:lnTo>
                  <a:lnTo>
                    <a:pt x="4227" y="258"/>
                  </a:lnTo>
                  <a:lnTo>
                    <a:pt x="4539" y="258"/>
                  </a:lnTo>
                  <a:lnTo>
                    <a:pt x="4539" y="83"/>
                  </a:lnTo>
                  <a:lnTo>
                    <a:pt x="4539" y="75"/>
                  </a:lnTo>
                  <a:lnTo>
                    <a:pt x="4538" y="68"/>
                  </a:lnTo>
                  <a:lnTo>
                    <a:pt x="4536" y="63"/>
                  </a:lnTo>
                  <a:lnTo>
                    <a:pt x="4533" y="58"/>
                  </a:lnTo>
                  <a:lnTo>
                    <a:pt x="4529" y="56"/>
                  </a:lnTo>
                  <a:lnTo>
                    <a:pt x="4523" y="53"/>
                  </a:lnTo>
                  <a:lnTo>
                    <a:pt x="4516" y="49"/>
                  </a:lnTo>
                  <a:lnTo>
                    <a:pt x="4508" y="47"/>
                  </a:lnTo>
                  <a:lnTo>
                    <a:pt x="4508" y="31"/>
                  </a:lnTo>
                  <a:lnTo>
                    <a:pt x="4747" y="31"/>
                  </a:lnTo>
                  <a:lnTo>
                    <a:pt x="4747" y="47"/>
                  </a:lnTo>
                  <a:lnTo>
                    <a:pt x="4739" y="49"/>
                  </a:lnTo>
                  <a:lnTo>
                    <a:pt x="4732" y="53"/>
                  </a:lnTo>
                  <a:lnTo>
                    <a:pt x="4726" y="55"/>
                  </a:lnTo>
                  <a:lnTo>
                    <a:pt x="4723" y="58"/>
                  </a:lnTo>
                  <a:lnTo>
                    <a:pt x="4720" y="63"/>
                  </a:lnTo>
                  <a:lnTo>
                    <a:pt x="4719" y="67"/>
                  </a:lnTo>
                  <a:lnTo>
                    <a:pt x="4717" y="74"/>
                  </a:lnTo>
                  <a:lnTo>
                    <a:pt x="4717" y="83"/>
                  </a:lnTo>
                  <a:lnTo>
                    <a:pt x="4717" y="609"/>
                  </a:lnTo>
                  <a:lnTo>
                    <a:pt x="4717" y="617"/>
                  </a:lnTo>
                  <a:lnTo>
                    <a:pt x="4719" y="623"/>
                  </a:lnTo>
                  <a:lnTo>
                    <a:pt x="4720" y="629"/>
                  </a:lnTo>
                  <a:lnTo>
                    <a:pt x="4723" y="633"/>
                  </a:lnTo>
                  <a:lnTo>
                    <a:pt x="4726" y="636"/>
                  </a:lnTo>
                  <a:lnTo>
                    <a:pt x="4732" y="639"/>
                  </a:lnTo>
                  <a:lnTo>
                    <a:pt x="4739" y="641"/>
                  </a:lnTo>
                  <a:lnTo>
                    <a:pt x="4747" y="644"/>
                  </a:lnTo>
                  <a:lnTo>
                    <a:pt x="4747" y="660"/>
                  </a:lnTo>
                  <a:lnTo>
                    <a:pt x="4508" y="660"/>
                  </a:lnTo>
                  <a:lnTo>
                    <a:pt x="4508" y="644"/>
                  </a:lnTo>
                  <a:lnTo>
                    <a:pt x="4516" y="641"/>
                  </a:lnTo>
                  <a:lnTo>
                    <a:pt x="4523" y="638"/>
                  </a:lnTo>
                  <a:lnTo>
                    <a:pt x="4529" y="636"/>
                  </a:lnTo>
                  <a:lnTo>
                    <a:pt x="4533" y="632"/>
                  </a:lnTo>
                  <a:lnTo>
                    <a:pt x="4536" y="628"/>
                  </a:lnTo>
                  <a:lnTo>
                    <a:pt x="4538" y="623"/>
                  </a:lnTo>
                  <a:lnTo>
                    <a:pt x="4539" y="617"/>
                  </a:lnTo>
                  <a:lnTo>
                    <a:pt x="4539" y="609"/>
                  </a:lnTo>
                  <a:lnTo>
                    <a:pt x="4539" y="402"/>
                  </a:lnTo>
                  <a:lnTo>
                    <a:pt x="4227" y="402"/>
                  </a:lnTo>
                  <a:lnTo>
                    <a:pt x="4227" y="609"/>
                  </a:lnTo>
                  <a:lnTo>
                    <a:pt x="4227" y="617"/>
                  </a:lnTo>
                  <a:lnTo>
                    <a:pt x="4228" y="623"/>
                  </a:lnTo>
                  <a:lnTo>
                    <a:pt x="4230" y="628"/>
                  </a:lnTo>
                  <a:lnTo>
                    <a:pt x="4232" y="632"/>
                  </a:lnTo>
                  <a:lnTo>
                    <a:pt x="4237" y="636"/>
                  </a:lnTo>
                  <a:lnTo>
                    <a:pt x="4242" y="638"/>
                  </a:lnTo>
                  <a:lnTo>
                    <a:pt x="4249" y="641"/>
                  </a:lnTo>
                  <a:lnTo>
                    <a:pt x="4258" y="644"/>
                  </a:lnTo>
                  <a:lnTo>
                    <a:pt x="4258" y="660"/>
                  </a:lnTo>
                  <a:lnTo>
                    <a:pt x="4019" y="660"/>
                  </a:lnTo>
                  <a:close/>
                  <a:moveTo>
                    <a:pt x="4934" y="660"/>
                  </a:moveTo>
                  <a:lnTo>
                    <a:pt x="4934" y="644"/>
                  </a:lnTo>
                  <a:lnTo>
                    <a:pt x="4943" y="641"/>
                  </a:lnTo>
                  <a:lnTo>
                    <a:pt x="4950" y="639"/>
                  </a:lnTo>
                  <a:lnTo>
                    <a:pt x="4956" y="636"/>
                  </a:lnTo>
                  <a:lnTo>
                    <a:pt x="4959" y="633"/>
                  </a:lnTo>
                  <a:lnTo>
                    <a:pt x="4961" y="629"/>
                  </a:lnTo>
                  <a:lnTo>
                    <a:pt x="4963" y="623"/>
                  </a:lnTo>
                  <a:lnTo>
                    <a:pt x="4965" y="617"/>
                  </a:lnTo>
                  <a:lnTo>
                    <a:pt x="4965" y="609"/>
                  </a:lnTo>
                  <a:lnTo>
                    <a:pt x="4965" y="83"/>
                  </a:lnTo>
                  <a:lnTo>
                    <a:pt x="4965" y="74"/>
                  </a:lnTo>
                  <a:lnTo>
                    <a:pt x="4963" y="67"/>
                  </a:lnTo>
                  <a:lnTo>
                    <a:pt x="4961" y="63"/>
                  </a:lnTo>
                  <a:lnTo>
                    <a:pt x="4959" y="58"/>
                  </a:lnTo>
                  <a:lnTo>
                    <a:pt x="4956" y="55"/>
                  </a:lnTo>
                  <a:lnTo>
                    <a:pt x="4950" y="53"/>
                  </a:lnTo>
                  <a:lnTo>
                    <a:pt x="4943" y="49"/>
                  </a:lnTo>
                  <a:lnTo>
                    <a:pt x="4934" y="47"/>
                  </a:lnTo>
                  <a:lnTo>
                    <a:pt x="4934" y="31"/>
                  </a:lnTo>
                  <a:lnTo>
                    <a:pt x="5173" y="31"/>
                  </a:lnTo>
                  <a:lnTo>
                    <a:pt x="5173" y="47"/>
                  </a:lnTo>
                  <a:lnTo>
                    <a:pt x="5164" y="49"/>
                  </a:lnTo>
                  <a:lnTo>
                    <a:pt x="5158" y="53"/>
                  </a:lnTo>
                  <a:lnTo>
                    <a:pt x="5152" y="56"/>
                  </a:lnTo>
                  <a:lnTo>
                    <a:pt x="5148" y="58"/>
                  </a:lnTo>
                  <a:lnTo>
                    <a:pt x="5145" y="63"/>
                  </a:lnTo>
                  <a:lnTo>
                    <a:pt x="5144" y="68"/>
                  </a:lnTo>
                  <a:lnTo>
                    <a:pt x="5143" y="75"/>
                  </a:lnTo>
                  <a:lnTo>
                    <a:pt x="5142" y="83"/>
                  </a:lnTo>
                  <a:lnTo>
                    <a:pt x="5142" y="609"/>
                  </a:lnTo>
                  <a:lnTo>
                    <a:pt x="5143" y="617"/>
                  </a:lnTo>
                  <a:lnTo>
                    <a:pt x="5144" y="623"/>
                  </a:lnTo>
                  <a:lnTo>
                    <a:pt x="5145" y="628"/>
                  </a:lnTo>
                  <a:lnTo>
                    <a:pt x="5148" y="632"/>
                  </a:lnTo>
                  <a:lnTo>
                    <a:pt x="5152" y="636"/>
                  </a:lnTo>
                  <a:lnTo>
                    <a:pt x="5158" y="638"/>
                  </a:lnTo>
                  <a:lnTo>
                    <a:pt x="5164" y="641"/>
                  </a:lnTo>
                  <a:lnTo>
                    <a:pt x="5173" y="644"/>
                  </a:lnTo>
                  <a:lnTo>
                    <a:pt x="5173" y="660"/>
                  </a:lnTo>
                  <a:lnTo>
                    <a:pt x="4934" y="660"/>
                  </a:lnTo>
                  <a:close/>
                  <a:moveTo>
                    <a:pt x="5930" y="511"/>
                  </a:moveTo>
                  <a:lnTo>
                    <a:pt x="5938" y="511"/>
                  </a:lnTo>
                  <a:lnTo>
                    <a:pt x="5945" y="510"/>
                  </a:lnTo>
                  <a:lnTo>
                    <a:pt x="5949" y="509"/>
                  </a:lnTo>
                  <a:lnTo>
                    <a:pt x="5954" y="506"/>
                  </a:lnTo>
                  <a:lnTo>
                    <a:pt x="5957" y="502"/>
                  </a:lnTo>
                  <a:lnTo>
                    <a:pt x="5959" y="498"/>
                  </a:lnTo>
                  <a:lnTo>
                    <a:pt x="5963" y="491"/>
                  </a:lnTo>
                  <a:lnTo>
                    <a:pt x="5965" y="482"/>
                  </a:lnTo>
                  <a:lnTo>
                    <a:pt x="5982" y="482"/>
                  </a:lnTo>
                  <a:lnTo>
                    <a:pt x="5982" y="691"/>
                  </a:lnTo>
                  <a:lnTo>
                    <a:pt x="5965" y="691"/>
                  </a:lnTo>
                  <a:lnTo>
                    <a:pt x="5963" y="682"/>
                  </a:lnTo>
                  <a:lnTo>
                    <a:pt x="5959" y="675"/>
                  </a:lnTo>
                  <a:lnTo>
                    <a:pt x="5957" y="669"/>
                  </a:lnTo>
                  <a:lnTo>
                    <a:pt x="5954" y="666"/>
                  </a:lnTo>
                  <a:lnTo>
                    <a:pt x="5950" y="664"/>
                  </a:lnTo>
                  <a:lnTo>
                    <a:pt x="5945" y="661"/>
                  </a:lnTo>
                  <a:lnTo>
                    <a:pt x="5938" y="660"/>
                  </a:lnTo>
                  <a:lnTo>
                    <a:pt x="5930" y="660"/>
                  </a:lnTo>
                  <a:lnTo>
                    <a:pt x="5361" y="660"/>
                  </a:lnTo>
                  <a:lnTo>
                    <a:pt x="5361" y="644"/>
                  </a:lnTo>
                  <a:lnTo>
                    <a:pt x="5370" y="641"/>
                  </a:lnTo>
                  <a:lnTo>
                    <a:pt x="5377" y="639"/>
                  </a:lnTo>
                  <a:lnTo>
                    <a:pt x="5382" y="636"/>
                  </a:lnTo>
                  <a:lnTo>
                    <a:pt x="5386" y="633"/>
                  </a:lnTo>
                  <a:lnTo>
                    <a:pt x="5388" y="629"/>
                  </a:lnTo>
                  <a:lnTo>
                    <a:pt x="5389" y="623"/>
                  </a:lnTo>
                  <a:lnTo>
                    <a:pt x="5390" y="617"/>
                  </a:lnTo>
                  <a:lnTo>
                    <a:pt x="5391" y="609"/>
                  </a:lnTo>
                  <a:lnTo>
                    <a:pt x="5391" y="83"/>
                  </a:lnTo>
                  <a:lnTo>
                    <a:pt x="5390" y="74"/>
                  </a:lnTo>
                  <a:lnTo>
                    <a:pt x="5389" y="67"/>
                  </a:lnTo>
                  <a:lnTo>
                    <a:pt x="5388" y="63"/>
                  </a:lnTo>
                  <a:lnTo>
                    <a:pt x="5386" y="58"/>
                  </a:lnTo>
                  <a:lnTo>
                    <a:pt x="5382" y="55"/>
                  </a:lnTo>
                  <a:lnTo>
                    <a:pt x="5377" y="53"/>
                  </a:lnTo>
                  <a:lnTo>
                    <a:pt x="5370" y="49"/>
                  </a:lnTo>
                  <a:lnTo>
                    <a:pt x="5361" y="47"/>
                  </a:lnTo>
                  <a:lnTo>
                    <a:pt x="5361" y="31"/>
                  </a:lnTo>
                  <a:lnTo>
                    <a:pt x="5931" y="31"/>
                  </a:lnTo>
                  <a:lnTo>
                    <a:pt x="5939" y="30"/>
                  </a:lnTo>
                  <a:lnTo>
                    <a:pt x="5946" y="29"/>
                  </a:lnTo>
                  <a:lnTo>
                    <a:pt x="5950" y="27"/>
                  </a:lnTo>
                  <a:lnTo>
                    <a:pt x="5955" y="25"/>
                  </a:lnTo>
                  <a:lnTo>
                    <a:pt x="5958" y="21"/>
                  </a:lnTo>
                  <a:lnTo>
                    <a:pt x="5961" y="16"/>
                  </a:lnTo>
                  <a:lnTo>
                    <a:pt x="5963" y="9"/>
                  </a:lnTo>
                  <a:lnTo>
                    <a:pt x="5965" y="0"/>
                  </a:lnTo>
                  <a:lnTo>
                    <a:pt x="5982" y="0"/>
                  </a:lnTo>
                  <a:lnTo>
                    <a:pt x="5982" y="210"/>
                  </a:lnTo>
                  <a:lnTo>
                    <a:pt x="5965" y="210"/>
                  </a:lnTo>
                  <a:lnTo>
                    <a:pt x="5963" y="201"/>
                  </a:lnTo>
                  <a:lnTo>
                    <a:pt x="5961" y="194"/>
                  </a:lnTo>
                  <a:lnTo>
                    <a:pt x="5957" y="188"/>
                  </a:lnTo>
                  <a:lnTo>
                    <a:pt x="5954" y="185"/>
                  </a:lnTo>
                  <a:lnTo>
                    <a:pt x="5950" y="183"/>
                  </a:lnTo>
                  <a:lnTo>
                    <a:pt x="5945" y="180"/>
                  </a:lnTo>
                  <a:lnTo>
                    <a:pt x="5939" y="180"/>
                  </a:lnTo>
                  <a:lnTo>
                    <a:pt x="5931" y="179"/>
                  </a:lnTo>
                  <a:lnTo>
                    <a:pt x="5569" y="179"/>
                  </a:lnTo>
                  <a:lnTo>
                    <a:pt x="5569" y="268"/>
                  </a:lnTo>
                  <a:lnTo>
                    <a:pt x="5787" y="268"/>
                  </a:lnTo>
                  <a:lnTo>
                    <a:pt x="5794" y="268"/>
                  </a:lnTo>
                  <a:lnTo>
                    <a:pt x="5800" y="267"/>
                  </a:lnTo>
                  <a:lnTo>
                    <a:pt x="5806" y="265"/>
                  </a:lnTo>
                  <a:lnTo>
                    <a:pt x="5810" y="262"/>
                  </a:lnTo>
                  <a:lnTo>
                    <a:pt x="5813" y="259"/>
                  </a:lnTo>
                  <a:lnTo>
                    <a:pt x="5817" y="253"/>
                  </a:lnTo>
                  <a:lnTo>
                    <a:pt x="5819" y="247"/>
                  </a:lnTo>
                  <a:lnTo>
                    <a:pt x="5822" y="239"/>
                  </a:lnTo>
                  <a:lnTo>
                    <a:pt x="5839" y="239"/>
                  </a:lnTo>
                  <a:lnTo>
                    <a:pt x="5839" y="434"/>
                  </a:lnTo>
                  <a:lnTo>
                    <a:pt x="5821" y="434"/>
                  </a:lnTo>
                  <a:lnTo>
                    <a:pt x="5819" y="425"/>
                  </a:lnTo>
                  <a:lnTo>
                    <a:pt x="5816" y="418"/>
                  </a:lnTo>
                  <a:lnTo>
                    <a:pt x="5813" y="414"/>
                  </a:lnTo>
                  <a:lnTo>
                    <a:pt x="5810" y="409"/>
                  </a:lnTo>
                  <a:lnTo>
                    <a:pt x="5806" y="407"/>
                  </a:lnTo>
                  <a:lnTo>
                    <a:pt x="5800" y="406"/>
                  </a:lnTo>
                  <a:lnTo>
                    <a:pt x="5793" y="405"/>
                  </a:lnTo>
                  <a:lnTo>
                    <a:pt x="5787" y="404"/>
                  </a:lnTo>
                  <a:lnTo>
                    <a:pt x="5569" y="404"/>
                  </a:lnTo>
                  <a:lnTo>
                    <a:pt x="5569" y="511"/>
                  </a:lnTo>
                  <a:lnTo>
                    <a:pt x="5930" y="511"/>
                  </a:lnTo>
                  <a:close/>
                  <a:moveTo>
                    <a:pt x="6186" y="660"/>
                  </a:moveTo>
                  <a:lnTo>
                    <a:pt x="6186" y="644"/>
                  </a:lnTo>
                  <a:lnTo>
                    <a:pt x="6194" y="641"/>
                  </a:lnTo>
                  <a:lnTo>
                    <a:pt x="6202" y="639"/>
                  </a:lnTo>
                  <a:lnTo>
                    <a:pt x="6207" y="636"/>
                  </a:lnTo>
                  <a:lnTo>
                    <a:pt x="6210" y="633"/>
                  </a:lnTo>
                  <a:lnTo>
                    <a:pt x="6213" y="629"/>
                  </a:lnTo>
                  <a:lnTo>
                    <a:pt x="6214" y="623"/>
                  </a:lnTo>
                  <a:lnTo>
                    <a:pt x="6215" y="617"/>
                  </a:lnTo>
                  <a:lnTo>
                    <a:pt x="6215" y="609"/>
                  </a:lnTo>
                  <a:lnTo>
                    <a:pt x="6215" y="83"/>
                  </a:lnTo>
                  <a:lnTo>
                    <a:pt x="6215" y="74"/>
                  </a:lnTo>
                  <a:lnTo>
                    <a:pt x="6214" y="67"/>
                  </a:lnTo>
                  <a:lnTo>
                    <a:pt x="6213" y="63"/>
                  </a:lnTo>
                  <a:lnTo>
                    <a:pt x="6210" y="58"/>
                  </a:lnTo>
                  <a:lnTo>
                    <a:pt x="6207" y="55"/>
                  </a:lnTo>
                  <a:lnTo>
                    <a:pt x="6202" y="53"/>
                  </a:lnTo>
                  <a:lnTo>
                    <a:pt x="6194" y="49"/>
                  </a:lnTo>
                  <a:lnTo>
                    <a:pt x="6186" y="47"/>
                  </a:lnTo>
                  <a:lnTo>
                    <a:pt x="6186" y="31"/>
                  </a:lnTo>
                  <a:lnTo>
                    <a:pt x="6624" y="31"/>
                  </a:lnTo>
                  <a:lnTo>
                    <a:pt x="6652" y="31"/>
                  </a:lnTo>
                  <a:lnTo>
                    <a:pt x="6679" y="34"/>
                  </a:lnTo>
                  <a:lnTo>
                    <a:pt x="6705" y="38"/>
                  </a:lnTo>
                  <a:lnTo>
                    <a:pt x="6729" y="44"/>
                  </a:lnTo>
                  <a:lnTo>
                    <a:pt x="6751" y="52"/>
                  </a:lnTo>
                  <a:lnTo>
                    <a:pt x="6771" y="61"/>
                  </a:lnTo>
                  <a:lnTo>
                    <a:pt x="6781" y="65"/>
                  </a:lnTo>
                  <a:lnTo>
                    <a:pt x="6790" y="71"/>
                  </a:lnTo>
                  <a:lnTo>
                    <a:pt x="6799" y="77"/>
                  </a:lnTo>
                  <a:lnTo>
                    <a:pt x="6807" y="83"/>
                  </a:lnTo>
                  <a:lnTo>
                    <a:pt x="6815" y="90"/>
                  </a:lnTo>
                  <a:lnTo>
                    <a:pt x="6823" y="98"/>
                  </a:lnTo>
                  <a:lnTo>
                    <a:pt x="6830" y="104"/>
                  </a:lnTo>
                  <a:lnTo>
                    <a:pt x="6836" y="112"/>
                  </a:lnTo>
                  <a:lnTo>
                    <a:pt x="6842" y="120"/>
                  </a:lnTo>
                  <a:lnTo>
                    <a:pt x="6848" y="129"/>
                  </a:lnTo>
                  <a:lnTo>
                    <a:pt x="6852" y="137"/>
                  </a:lnTo>
                  <a:lnTo>
                    <a:pt x="6857" y="146"/>
                  </a:lnTo>
                  <a:lnTo>
                    <a:pt x="6860" y="156"/>
                  </a:lnTo>
                  <a:lnTo>
                    <a:pt x="6863" y="165"/>
                  </a:lnTo>
                  <a:lnTo>
                    <a:pt x="6867" y="175"/>
                  </a:lnTo>
                  <a:lnTo>
                    <a:pt x="6869" y="186"/>
                  </a:lnTo>
                  <a:lnTo>
                    <a:pt x="6871" y="207"/>
                  </a:lnTo>
                  <a:lnTo>
                    <a:pt x="6872" y="230"/>
                  </a:lnTo>
                  <a:lnTo>
                    <a:pt x="6872" y="248"/>
                  </a:lnTo>
                  <a:lnTo>
                    <a:pt x="6870" y="266"/>
                  </a:lnTo>
                  <a:lnTo>
                    <a:pt x="6867" y="281"/>
                  </a:lnTo>
                  <a:lnTo>
                    <a:pt x="6862" y="297"/>
                  </a:lnTo>
                  <a:lnTo>
                    <a:pt x="6857" y="313"/>
                  </a:lnTo>
                  <a:lnTo>
                    <a:pt x="6850" y="326"/>
                  </a:lnTo>
                  <a:lnTo>
                    <a:pt x="6842" y="340"/>
                  </a:lnTo>
                  <a:lnTo>
                    <a:pt x="6832" y="353"/>
                  </a:lnTo>
                  <a:lnTo>
                    <a:pt x="6821" y="364"/>
                  </a:lnTo>
                  <a:lnTo>
                    <a:pt x="6810" y="376"/>
                  </a:lnTo>
                  <a:lnTo>
                    <a:pt x="6796" y="387"/>
                  </a:lnTo>
                  <a:lnTo>
                    <a:pt x="6781" y="396"/>
                  </a:lnTo>
                  <a:lnTo>
                    <a:pt x="6766" y="405"/>
                  </a:lnTo>
                  <a:lnTo>
                    <a:pt x="6749" y="413"/>
                  </a:lnTo>
                  <a:lnTo>
                    <a:pt x="6731" y="419"/>
                  </a:lnTo>
                  <a:lnTo>
                    <a:pt x="6711" y="426"/>
                  </a:lnTo>
                  <a:lnTo>
                    <a:pt x="6805" y="573"/>
                  </a:lnTo>
                  <a:lnTo>
                    <a:pt x="6816" y="591"/>
                  </a:lnTo>
                  <a:lnTo>
                    <a:pt x="6826" y="607"/>
                  </a:lnTo>
                  <a:lnTo>
                    <a:pt x="6836" y="618"/>
                  </a:lnTo>
                  <a:lnTo>
                    <a:pt x="6844" y="627"/>
                  </a:lnTo>
                  <a:lnTo>
                    <a:pt x="6852" y="632"/>
                  </a:lnTo>
                  <a:lnTo>
                    <a:pt x="6860" y="637"/>
                  </a:lnTo>
                  <a:lnTo>
                    <a:pt x="6869" y="641"/>
                  </a:lnTo>
                  <a:lnTo>
                    <a:pt x="6877" y="644"/>
                  </a:lnTo>
                  <a:lnTo>
                    <a:pt x="6877" y="660"/>
                  </a:lnTo>
                  <a:lnTo>
                    <a:pt x="6624" y="660"/>
                  </a:lnTo>
                  <a:lnTo>
                    <a:pt x="6624" y="644"/>
                  </a:lnTo>
                  <a:lnTo>
                    <a:pt x="6633" y="640"/>
                  </a:lnTo>
                  <a:lnTo>
                    <a:pt x="6640" y="636"/>
                  </a:lnTo>
                  <a:lnTo>
                    <a:pt x="6642" y="633"/>
                  </a:lnTo>
                  <a:lnTo>
                    <a:pt x="6643" y="630"/>
                  </a:lnTo>
                  <a:lnTo>
                    <a:pt x="6644" y="627"/>
                  </a:lnTo>
                  <a:lnTo>
                    <a:pt x="6644" y="623"/>
                  </a:lnTo>
                  <a:lnTo>
                    <a:pt x="6643" y="619"/>
                  </a:lnTo>
                  <a:lnTo>
                    <a:pt x="6642" y="613"/>
                  </a:lnTo>
                  <a:lnTo>
                    <a:pt x="6639" y="607"/>
                  </a:lnTo>
                  <a:lnTo>
                    <a:pt x="6633" y="600"/>
                  </a:lnTo>
                  <a:lnTo>
                    <a:pt x="6630" y="594"/>
                  </a:lnTo>
                  <a:lnTo>
                    <a:pt x="6626" y="590"/>
                  </a:lnTo>
                  <a:lnTo>
                    <a:pt x="6523" y="428"/>
                  </a:lnTo>
                  <a:lnTo>
                    <a:pt x="6394" y="428"/>
                  </a:lnTo>
                  <a:lnTo>
                    <a:pt x="6394" y="609"/>
                  </a:lnTo>
                  <a:lnTo>
                    <a:pt x="6394" y="617"/>
                  </a:lnTo>
                  <a:lnTo>
                    <a:pt x="6395" y="623"/>
                  </a:lnTo>
                  <a:lnTo>
                    <a:pt x="6397" y="628"/>
                  </a:lnTo>
                  <a:lnTo>
                    <a:pt x="6400" y="632"/>
                  </a:lnTo>
                  <a:lnTo>
                    <a:pt x="6403" y="636"/>
                  </a:lnTo>
                  <a:lnTo>
                    <a:pt x="6409" y="638"/>
                  </a:lnTo>
                  <a:lnTo>
                    <a:pt x="6416" y="641"/>
                  </a:lnTo>
                  <a:lnTo>
                    <a:pt x="6424" y="644"/>
                  </a:lnTo>
                  <a:lnTo>
                    <a:pt x="6424" y="660"/>
                  </a:lnTo>
                  <a:lnTo>
                    <a:pt x="6186" y="660"/>
                  </a:lnTo>
                  <a:close/>
                  <a:moveTo>
                    <a:pt x="6394" y="158"/>
                  </a:moveTo>
                  <a:lnTo>
                    <a:pt x="6394" y="300"/>
                  </a:lnTo>
                  <a:lnTo>
                    <a:pt x="6549" y="300"/>
                  </a:lnTo>
                  <a:lnTo>
                    <a:pt x="6566" y="300"/>
                  </a:lnTo>
                  <a:lnTo>
                    <a:pt x="6583" y="299"/>
                  </a:lnTo>
                  <a:lnTo>
                    <a:pt x="6598" y="298"/>
                  </a:lnTo>
                  <a:lnTo>
                    <a:pt x="6612" y="296"/>
                  </a:lnTo>
                  <a:lnTo>
                    <a:pt x="6624" y="294"/>
                  </a:lnTo>
                  <a:lnTo>
                    <a:pt x="6637" y="291"/>
                  </a:lnTo>
                  <a:lnTo>
                    <a:pt x="6647" y="288"/>
                  </a:lnTo>
                  <a:lnTo>
                    <a:pt x="6656" y="284"/>
                  </a:lnTo>
                  <a:lnTo>
                    <a:pt x="6662" y="279"/>
                  </a:lnTo>
                  <a:lnTo>
                    <a:pt x="6669" y="274"/>
                  </a:lnTo>
                  <a:lnTo>
                    <a:pt x="6675" y="268"/>
                  </a:lnTo>
                  <a:lnTo>
                    <a:pt x="6679" y="261"/>
                  </a:lnTo>
                  <a:lnTo>
                    <a:pt x="6684" y="254"/>
                  </a:lnTo>
                  <a:lnTo>
                    <a:pt x="6686" y="247"/>
                  </a:lnTo>
                  <a:lnTo>
                    <a:pt x="6687" y="238"/>
                  </a:lnTo>
                  <a:lnTo>
                    <a:pt x="6688" y="229"/>
                  </a:lnTo>
                  <a:lnTo>
                    <a:pt x="6687" y="220"/>
                  </a:lnTo>
                  <a:lnTo>
                    <a:pt x="6686" y="211"/>
                  </a:lnTo>
                  <a:lnTo>
                    <a:pt x="6684" y="203"/>
                  </a:lnTo>
                  <a:lnTo>
                    <a:pt x="6680" y="195"/>
                  </a:lnTo>
                  <a:lnTo>
                    <a:pt x="6676" y="189"/>
                  </a:lnTo>
                  <a:lnTo>
                    <a:pt x="6670" y="183"/>
                  </a:lnTo>
                  <a:lnTo>
                    <a:pt x="6665" y="178"/>
                  </a:lnTo>
                  <a:lnTo>
                    <a:pt x="6657" y="174"/>
                  </a:lnTo>
                  <a:lnTo>
                    <a:pt x="6649" y="170"/>
                  </a:lnTo>
                  <a:lnTo>
                    <a:pt x="6639" y="167"/>
                  </a:lnTo>
                  <a:lnTo>
                    <a:pt x="6626" y="164"/>
                  </a:lnTo>
                  <a:lnTo>
                    <a:pt x="6613" y="161"/>
                  </a:lnTo>
                  <a:lnTo>
                    <a:pt x="6598" y="160"/>
                  </a:lnTo>
                  <a:lnTo>
                    <a:pt x="6582" y="159"/>
                  </a:lnTo>
                  <a:lnTo>
                    <a:pt x="6564" y="158"/>
                  </a:lnTo>
                  <a:lnTo>
                    <a:pt x="6543" y="158"/>
                  </a:lnTo>
                  <a:lnTo>
                    <a:pt x="6394"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956360" y="6567840"/>
              <a:ext cx="826560" cy="122760"/>
            </a:xfrm>
            <a:custGeom>
              <a:avLst/>
              <a:gdLst/>
              <a:ahLst/>
              <a:rect l="l" t="t" r="r" b="b"/>
              <a:pathLst>
                <a:path w="4697" h="691">
                  <a:moveTo>
                    <a:pt x="0" y="660"/>
                  </a:moveTo>
                  <a:lnTo>
                    <a:pt x="0" y="644"/>
                  </a:lnTo>
                  <a:lnTo>
                    <a:pt x="8" y="641"/>
                  </a:lnTo>
                  <a:lnTo>
                    <a:pt x="15" y="639"/>
                  </a:lnTo>
                  <a:lnTo>
                    <a:pt x="20" y="636"/>
                  </a:lnTo>
                  <a:lnTo>
                    <a:pt x="24" y="633"/>
                  </a:lnTo>
                  <a:lnTo>
                    <a:pt x="27" y="629"/>
                  </a:lnTo>
                  <a:lnTo>
                    <a:pt x="28" y="623"/>
                  </a:lnTo>
                  <a:lnTo>
                    <a:pt x="29" y="617"/>
                  </a:lnTo>
                  <a:lnTo>
                    <a:pt x="29" y="609"/>
                  </a:lnTo>
                  <a:lnTo>
                    <a:pt x="29" y="83"/>
                  </a:lnTo>
                  <a:lnTo>
                    <a:pt x="29" y="74"/>
                  </a:lnTo>
                  <a:lnTo>
                    <a:pt x="28" y="67"/>
                  </a:lnTo>
                  <a:lnTo>
                    <a:pt x="27" y="63"/>
                  </a:lnTo>
                  <a:lnTo>
                    <a:pt x="24" y="58"/>
                  </a:lnTo>
                  <a:lnTo>
                    <a:pt x="20" y="55"/>
                  </a:lnTo>
                  <a:lnTo>
                    <a:pt x="15" y="53"/>
                  </a:lnTo>
                  <a:lnTo>
                    <a:pt x="8" y="49"/>
                  </a:lnTo>
                  <a:lnTo>
                    <a:pt x="0" y="47"/>
                  </a:lnTo>
                  <a:lnTo>
                    <a:pt x="0" y="31"/>
                  </a:lnTo>
                  <a:lnTo>
                    <a:pt x="400" y="31"/>
                  </a:lnTo>
                  <a:lnTo>
                    <a:pt x="428" y="31"/>
                  </a:lnTo>
                  <a:lnTo>
                    <a:pt x="455" y="34"/>
                  </a:lnTo>
                  <a:lnTo>
                    <a:pt x="481" y="38"/>
                  </a:lnTo>
                  <a:lnTo>
                    <a:pt x="504" y="44"/>
                  </a:lnTo>
                  <a:lnTo>
                    <a:pt x="526" y="52"/>
                  </a:lnTo>
                  <a:lnTo>
                    <a:pt x="546" y="61"/>
                  </a:lnTo>
                  <a:lnTo>
                    <a:pt x="556" y="65"/>
                  </a:lnTo>
                  <a:lnTo>
                    <a:pt x="565" y="71"/>
                  </a:lnTo>
                  <a:lnTo>
                    <a:pt x="574" y="77"/>
                  </a:lnTo>
                  <a:lnTo>
                    <a:pt x="582" y="83"/>
                  </a:lnTo>
                  <a:lnTo>
                    <a:pt x="590" y="90"/>
                  </a:lnTo>
                  <a:lnTo>
                    <a:pt x="598" y="98"/>
                  </a:lnTo>
                  <a:lnTo>
                    <a:pt x="604" y="104"/>
                  </a:lnTo>
                  <a:lnTo>
                    <a:pt x="611" y="112"/>
                  </a:lnTo>
                  <a:lnTo>
                    <a:pt x="617" y="120"/>
                  </a:lnTo>
                  <a:lnTo>
                    <a:pt x="622" y="129"/>
                  </a:lnTo>
                  <a:lnTo>
                    <a:pt x="627" y="137"/>
                  </a:lnTo>
                  <a:lnTo>
                    <a:pt x="631" y="146"/>
                  </a:lnTo>
                  <a:lnTo>
                    <a:pt x="635" y="156"/>
                  </a:lnTo>
                  <a:lnTo>
                    <a:pt x="638" y="165"/>
                  </a:lnTo>
                  <a:lnTo>
                    <a:pt x="641" y="175"/>
                  </a:lnTo>
                  <a:lnTo>
                    <a:pt x="644" y="186"/>
                  </a:lnTo>
                  <a:lnTo>
                    <a:pt x="646" y="207"/>
                  </a:lnTo>
                  <a:lnTo>
                    <a:pt x="647" y="230"/>
                  </a:lnTo>
                  <a:lnTo>
                    <a:pt x="647" y="242"/>
                  </a:lnTo>
                  <a:lnTo>
                    <a:pt x="646" y="254"/>
                  </a:lnTo>
                  <a:lnTo>
                    <a:pt x="644" y="267"/>
                  </a:lnTo>
                  <a:lnTo>
                    <a:pt x="641" y="279"/>
                  </a:lnTo>
                  <a:lnTo>
                    <a:pt x="639" y="290"/>
                  </a:lnTo>
                  <a:lnTo>
                    <a:pt x="635" y="302"/>
                  </a:lnTo>
                  <a:lnTo>
                    <a:pt x="630" y="313"/>
                  </a:lnTo>
                  <a:lnTo>
                    <a:pt x="626" y="323"/>
                  </a:lnTo>
                  <a:lnTo>
                    <a:pt x="620" y="334"/>
                  </a:lnTo>
                  <a:lnTo>
                    <a:pt x="613" y="343"/>
                  </a:lnTo>
                  <a:lnTo>
                    <a:pt x="607" y="353"/>
                  </a:lnTo>
                  <a:lnTo>
                    <a:pt x="600" y="361"/>
                  </a:lnTo>
                  <a:lnTo>
                    <a:pt x="592" y="370"/>
                  </a:lnTo>
                  <a:lnTo>
                    <a:pt x="583" y="377"/>
                  </a:lnTo>
                  <a:lnTo>
                    <a:pt x="574" y="385"/>
                  </a:lnTo>
                  <a:lnTo>
                    <a:pt x="565" y="390"/>
                  </a:lnTo>
                  <a:lnTo>
                    <a:pt x="548" y="400"/>
                  </a:lnTo>
                  <a:lnTo>
                    <a:pt x="530" y="408"/>
                  </a:lnTo>
                  <a:lnTo>
                    <a:pt x="510" y="415"/>
                  </a:lnTo>
                  <a:lnTo>
                    <a:pt x="488" y="419"/>
                  </a:lnTo>
                  <a:lnTo>
                    <a:pt x="463" y="424"/>
                  </a:lnTo>
                  <a:lnTo>
                    <a:pt x="433" y="426"/>
                  </a:lnTo>
                  <a:lnTo>
                    <a:pt x="397" y="427"/>
                  </a:lnTo>
                  <a:lnTo>
                    <a:pt x="355" y="428"/>
                  </a:lnTo>
                  <a:lnTo>
                    <a:pt x="208" y="428"/>
                  </a:lnTo>
                  <a:lnTo>
                    <a:pt x="208" y="609"/>
                  </a:lnTo>
                  <a:lnTo>
                    <a:pt x="208" y="617"/>
                  </a:lnTo>
                  <a:lnTo>
                    <a:pt x="209" y="623"/>
                  </a:lnTo>
                  <a:lnTo>
                    <a:pt x="211" y="628"/>
                  </a:lnTo>
                  <a:lnTo>
                    <a:pt x="214" y="632"/>
                  </a:lnTo>
                  <a:lnTo>
                    <a:pt x="217" y="636"/>
                  </a:lnTo>
                  <a:lnTo>
                    <a:pt x="223" y="638"/>
                  </a:lnTo>
                  <a:lnTo>
                    <a:pt x="229" y="641"/>
                  </a:lnTo>
                  <a:lnTo>
                    <a:pt x="238" y="644"/>
                  </a:lnTo>
                  <a:lnTo>
                    <a:pt x="238" y="660"/>
                  </a:lnTo>
                  <a:lnTo>
                    <a:pt x="0" y="660"/>
                  </a:lnTo>
                  <a:close/>
                  <a:moveTo>
                    <a:pt x="208" y="158"/>
                  </a:moveTo>
                  <a:lnTo>
                    <a:pt x="208" y="300"/>
                  </a:lnTo>
                  <a:lnTo>
                    <a:pt x="344" y="300"/>
                  </a:lnTo>
                  <a:lnTo>
                    <a:pt x="362" y="300"/>
                  </a:lnTo>
                  <a:lnTo>
                    <a:pt x="378" y="299"/>
                  </a:lnTo>
                  <a:lnTo>
                    <a:pt x="393" y="298"/>
                  </a:lnTo>
                  <a:lnTo>
                    <a:pt x="407" y="296"/>
                  </a:lnTo>
                  <a:lnTo>
                    <a:pt x="419" y="294"/>
                  </a:lnTo>
                  <a:lnTo>
                    <a:pt x="430" y="291"/>
                  </a:lnTo>
                  <a:lnTo>
                    <a:pt x="440" y="288"/>
                  </a:lnTo>
                  <a:lnTo>
                    <a:pt x="449" y="284"/>
                  </a:lnTo>
                  <a:lnTo>
                    <a:pt x="457" y="279"/>
                  </a:lnTo>
                  <a:lnTo>
                    <a:pt x="464" y="274"/>
                  </a:lnTo>
                  <a:lnTo>
                    <a:pt x="470" y="268"/>
                  </a:lnTo>
                  <a:lnTo>
                    <a:pt x="474" y="261"/>
                  </a:lnTo>
                  <a:lnTo>
                    <a:pt x="477" y="254"/>
                  </a:lnTo>
                  <a:lnTo>
                    <a:pt x="481" y="247"/>
                  </a:lnTo>
                  <a:lnTo>
                    <a:pt x="482" y="238"/>
                  </a:lnTo>
                  <a:lnTo>
                    <a:pt x="483" y="229"/>
                  </a:lnTo>
                  <a:lnTo>
                    <a:pt x="482" y="220"/>
                  </a:lnTo>
                  <a:lnTo>
                    <a:pt x="481" y="211"/>
                  </a:lnTo>
                  <a:lnTo>
                    <a:pt x="479" y="203"/>
                  </a:lnTo>
                  <a:lnTo>
                    <a:pt x="475" y="195"/>
                  </a:lnTo>
                  <a:lnTo>
                    <a:pt x="471" y="189"/>
                  </a:lnTo>
                  <a:lnTo>
                    <a:pt x="465" y="183"/>
                  </a:lnTo>
                  <a:lnTo>
                    <a:pt x="458" y="178"/>
                  </a:lnTo>
                  <a:lnTo>
                    <a:pt x="452" y="174"/>
                  </a:lnTo>
                  <a:lnTo>
                    <a:pt x="443" y="170"/>
                  </a:lnTo>
                  <a:lnTo>
                    <a:pt x="433" y="167"/>
                  </a:lnTo>
                  <a:lnTo>
                    <a:pt x="421" y="164"/>
                  </a:lnTo>
                  <a:lnTo>
                    <a:pt x="408" y="161"/>
                  </a:lnTo>
                  <a:lnTo>
                    <a:pt x="393" y="160"/>
                  </a:lnTo>
                  <a:lnTo>
                    <a:pt x="376" y="159"/>
                  </a:lnTo>
                  <a:lnTo>
                    <a:pt x="358" y="158"/>
                  </a:lnTo>
                  <a:lnTo>
                    <a:pt x="338" y="158"/>
                  </a:lnTo>
                  <a:lnTo>
                    <a:pt x="208" y="158"/>
                  </a:lnTo>
                  <a:close/>
                  <a:moveTo>
                    <a:pt x="1365" y="511"/>
                  </a:moveTo>
                  <a:lnTo>
                    <a:pt x="1372" y="511"/>
                  </a:lnTo>
                  <a:lnTo>
                    <a:pt x="1378" y="510"/>
                  </a:lnTo>
                  <a:lnTo>
                    <a:pt x="1384" y="509"/>
                  </a:lnTo>
                  <a:lnTo>
                    <a:pt x="1388" y="506"/>
                  </a:lnTo>
                  <a:lnTo>
                    <a:pt x="1390" y="502"/>
                  </a:lnTo>
                  <a:lnTo>
                    <a:pt x="1394" y="498"/>
                  </a:lnTo>
                  <a:lnTo>
                    <a:pt x="1396" y="491"/>
                  </a:lnTo>
                  <a:lnTo>
                    <a:pt x="1399" y="482"/>
                  </a:lnTo>
                  <a:lnTo>
                    <a:pt x="1416" y="482"/>
                  </a:lnTo>
                  <a:lnTo>
                    <a:pt x="1416" y="691"/>
                  </a:lnTo>
                  <a:lnTo>
                    <a:pt x="1399" y="691"/>
                  </a:lnTo>
                  <a:lnTo>
                    <a:pt x="1397" y="682"/>
                  </a:lnTo>
                  <a:lnTo>
                    <a:pt x="1394" y="675"/>
                  </a:lnTo>
                  <a:lnTo>
                    <a:pt x="1392" y="669"/>
                  </a:lnTo>
                  <a:lnTo>
                    <a:pt x="1388" y="666"/>
                  </a:lnTo>
                  <a:lnTo>
                    <a:pt x="1384" y="664"/>
                  </a:lnTo>
                  <a:lnTo>
                    <a:pt x="1379" y="661"/>
                  </a:lnTo>
                  <a:lnTo>
                    <a:pt x="1372" y="660"/>
                  </a:lnTo>
                  <a:lnTo>
                    <a:pt x="1365" y="660"/>
                  </a:lnTo>
                  <a:lnTo>
                    <a:pt x="795" y="660"/>
                  </a:lnTo>
                  <a:lnTo>
                    <a:pt x="795" y="644"/>
                  </a:lnTo>
                  <a:lnTo>
                    <a:pt x="804" y="641"/>
                  </a:lnTo>
                  <a:lnTo>
                    <a:pt x="811" y="639"/>
                  </a:lnTo>
                  <a:lnTo>
                    <a:pt x="815" y="636"/>
                  </a:lnTo>
                  <a:lnTo>
                    <a:pt x="820" y="633"/>
                  </a:lnTo>
                  <a:lnTo>
                    <a:pt x="822" y="629"/>
                  </a:lnTo>
                  <a:lnTo>
                    <a:pt x="823" y="623"/>
                  </a:lnTo>
                  <a:lnTo>
                    <a:pt x="824" y="617"/>
                  </a:lnTo>
                  <a:lnTo>
                    <a:pt x="824" y="609"/>
                  </a:lnTo>
                  <a:lnTo>
                    <a:pt x="824" y="83"/>
                  </a:lnTo>
                  <a:lnTo>
                    <a:pt x="824" y="74"/>
                  </a:lnTo>
                  <a:lnTo>
                    <a:pt x="823" y="67"/>
                  </a:lnTo>
                  <a:lnTo>
                    <a:pt x="822" y="63"/>
                  </a:lnTo>
                  <a:lnTo>
                    <a:pt x="820" y="58"/>
                  </a:lnTo>
                  <a:lnTo>
                    <a:pt x="815" y="55"/>
                  </a:lnTo>
                  <a:lnTo>
                    <a:pt x="811" y="53"/>
                  </a:lnTo>
                  <a:lnTo>
                    <a:pt x="804" y="49"/>
                  </a:lnTo>
                  <a:lnTo>
                    <a:pt x="795" y="47"/>
                  </a:lnTo>
                  <a:lnTo>
                    <a:pt x="795" y="31"/>
                  </a:lnTo>
                  <a:lnTo>
                    <a:pt x="1366" y="31"/>
                  </a:lnTo>
                  <a:lnTo>
                    <a:pt x="1374" y="30"/>
                  </a:lnTo>
                  <a:lnTo>
                    <a:pt x="1379" y="29"/>
                  </a:lnTo>
                  <a:lnTo>
                    <a:pt x="1385" y="27"/>
                  </a:lnTo>
                  <a:lnTo>
                    <a:pt x="1389" y="25"/>
                  </a:lnTo>
                  <a:lnTo>
                    <a:pt x="1392" y="21"/>
                  </a:lnTo>
                  <a:lnTo>
                    <a:pt x="1395" y="16"/>
                  </a:lnTo>
                  <a:lnTo>
                    <a:pt x="1397" y="9"/>
                  </a:lnTo>
                  <a:lnTo>
                    <a:pt x="1399" y="0"/>
                  </a:lnTo>
                  <a:lnTo>
                    <a:pt x="1416" y="0"/>
                  </a:lnTo>
                  <a:lnTo>
                    <a:pt x="1416" y="210"/>
                  </a:lnTo>
                  <a:lnTo>
                    <a:pt x="1399" y="210"/>
                  </a:lnTo>
                  <a:lnTo>
                    <a:pt x="1397" y="201"/>
                  </a:lnTo>
                  <a:lnTo>
                    <a:pt x="1394" y="194"/>
                  </a:lnTo>
                  <a:lnTo>
                    <a:pt x="1392" y="188"/>
                  </a:lnTo>
                  <a:lnTo>
                    <a:pt x="1388" y="185"/>
                  </a:lnTo>
                  <a:lnTo>
                    <a:pt x="1385" y="183"/>
                  </a:lnTo>
                  <a:lnTo>
                    <a:pt x="1379" y="180"/>
                  </a:lnTo>
                  <a:lnTo>
                    <a:pt x="1374" y="180"/>
                  </a:lnTo>
                  <a:lnTo>
                    <a:pt x="1366" y="179"/>
                  </a:lnTo>
                  <a:lnTo>
                    <a:pt x="1003" y="179"/>
                  </a:lnTo>
                  <a:lnTo>
                    <a:pt x="1003" y="268"/>
                  </a:lnTo>
                  <a:lnTo>
                    <a:pt x="1220" y="268"/>
                  </a:lnTo>
                  <a:lnTo>
                    <a:pt x="1228" y="268"/>
                  </a:lnTo>
                  <a:lnTo>
                    <a:pt x="1234" y="267"/>
                  </a:lnTo>
                  <a:lnTo>
                    <a:pt x="1240" y="265"/>
                  </a:lnTo>
                  <a:lnTo>
                    <a:pt x="1244" y="262"/>
                  </a:lnTo>
                  <a:lnTo>
                    <a:pt x="1247" y="259"/>
                  </a:lnTo>
                  <a:lnTo>
                    <a:pt x="1250" y="253"/>
                  </a:lnTo>
                  <a:lnTo>
                    <a:pt x="1253" y="247"/>
                  </a:lnTo>
                  <a:lnTo>
                    <a:pt x="1257" y="239"/>
                  </a:lnTo>
                  <a:lnTo>
                    <a:pt x="1273" y="239"/>
                  </a:lnTo>
                  <a:lnTo>
                    <a:pt x="1273" y="434"/>
                  </a:lnTo>
                  <a:lnTo>
                    <a:pt x="1256" y="434"/>
                  </a:lnTo>
                  <a:lnTo>
                    <a:pt x="1253" y="425"/>
                  </a:lnTo>
                  <a:lnTo>
                    <a:pt x="1250" y="418"/>
                  </a:lnTo>
                  <a:lnTo>
                    <a:pt x="1247" y="414"/>
                  </a:lnTo>
                  <a:lnTo>
                    <a:pt x="1243" y="409"/>
                  </a:lnTo>
                  <a:lnTo>
                    <a:pt x="1240" y="407"/>
                  </a:lnTo>
                  <a:lnTo>
                    <a:pt x="1234" y="406"/>
                  </a:lnTo>
                  <a:lnTo>
                    <a:pt x="1228" y="405"/>
                  </a:lnTo>
                  <a:lnTo>
                    <a:pt x="1220" y="404"/>
                  </a:lnTo>
                  <a:lnTo>
                    <a:pt x="1003" y="404"/>
                  </a:lnTo>
                  <a:lnTo>
                    <a:pt x="1003" y="511"/>
                  </a:lnTo>
                  <a:lnTo>
                    <a:pt x="1365" y="511"/>
                  </a:lnTo>
                  <a:close/>
                  <a:moveTo>
                    <a:pt x="1952" y="672"/>
                  </a:moveTo>
                  <a:lnTo>
                    <a:pt x="1932" y="670"/>
                  </a:lnTo>
                  <a:lnTo>
                    <a:pt x="1913" y="669"/>
                  </a:lnTo>
                  <a:lnTo>
                    <a:pt x="1894" y="668"/>
                  </a:lnTo>
                  <a:lnTo>
                    <a:pt x="1874" y="665"/>
                  </a:lnTo>
                  <a:lnTo>
                    <a:pt x="1856" y="663"/>
                  </a:lnTo>
                  <a:lnTo>
                    <a:pt x="1838" y="658"/>
                  </a:lnTo>
                  <a:lnTo>
                    <a:pt x="1822" y="654"/>
                  </a:lnTo>
                  <a:lnTo>
                    <a:pt x="1805" y="648"/>
                  </a:lnTo>
                  <a:lnTo>
                    <a:pt x="1788" y="641"/>
                  </a:lnTo>
                  <a:lnTo>
                    <a:pt x="1772" y="635"/>
                  </a:lnTo>
                  <a:lnTo>
                    <a:pt x="1757" y="627"/>
                  </a:lnTo>
                  <a:lnTo>
                    <a:pt x="1741" y="619"/>
                  </a:lnTo>
                  <a:lnTo>
                    <a:pt x="1726" y="610"/>
                  </a:lnTo>
                  <a:lnTo>
                    <a:pt x="1713" y="600"/>
                  </a:lnTo>
                  <a:lnTo>
                    <a:pt x="1698" y="590"/>
                  </a:lnTo>
                  <a:lnTo>
                    <a:pt x="1685" y="579"/>
                  </a:lnTo>
                  <a:lnTo>
                    <a:pt x="1672" y="566"/>
                  </a:lnTo>
                  <a:lnTo>
                    <a:pt x="1661" y="554"/>
                  </a:lnTo>
                  <a:lnTo>
                    <a:pt x="1650" y="542"/>
                  </a:lnTo>
                  <a:lnTo>
                    <a:pt x="1640" y="528"/>
                  </a:lnTo>
                  <a:lnTo>
                    <a:pt x="1630" y="516"/>
                  </a:lnTo>
                  <a:lnTo>
                    <a:pt x="1622" y="501"/>
                  </a:lnTo>
                  <a:lnTo>
                    <a:pt x="1614" y="488"/>
                  </a:lnTo>
                  <a:lnTo>
                    <a:pt x="1606" y="473"/>
                  </a:lnTo>
                  <a:lnTo>
                    <a:pt x="1600" y="459"/>
                  </a:lnTo>
                  <a:lnTo>
                    <a:pt x="1595" y="443"/>
                  </a:lnTo>
                  <a:lnTo>
                    <a:pt x="1590" y="428"/>
                  </a:lnTo>
                  <a:lnTo>
                    <a:pt x="1587" y="411"/>
                  </a:lnTo>
                  <a:lnTo>
                    <a:pt x="1584" y="396"/>
                  </a:lnTo>
                  <a:lnTo>
                    <a:pt x="1582" y="379"/>
                  </a:lnTo>
                  <a:lnTo>
                    <a:pt x="1580" y="362"/>
                  </a:lnTo>
                  <a:lnTo>
                    <a:pt x="1580" y="345"/>
                  </a:lnTo>
                  <a:lnTo>
                    <a:pt x="1580" y="327"/>
                  </a:lnTo>
                  <a:lnTo>
                    <a:pt x="1581" y="311"/>
                  </a:lnTo>
                  <a:lnTo>
                    <a:pt x="1584" y="294"/>
                  </a:lnTo>
                  <a:lnTo>
                    <a:pt x="1587" y="278"/>
                  </a:lnTo>
                  <a:lnTo>
                    <a:pt x="1590" y="261"/>
                  </a:lnTo>
                  <a:lnTo>
                    <a:pt x="1595" y="247"/>
                  </a:lnTo>
                  <a:lnTo>
                    <a:pt x="1600" y="231"/>
                  </a:lnTo>
                  <a:lnTo>
                    <a:pt x="1606" y="216"/>
                  </a:lnTo>
                  <a:lnTo>
                    <a:pt x="1613" y="202"/>
                  </a:lnTo>
                  <a:lnTo>
                    <a:pt x="1621" y="188"/>
                  </a:lnTo>
                  <a:lnTo>
                    <a:pt x="1630" y="174"/>
                  </a:lnTo>
                  <a:lnTo>
                    <a:pt x="1639" y="161"/>
                  </a:lnTo>
                  <a:lnTo>
                    <a:pt x="1649" y="148"/>
                  </a:lnTo>
                  <a:lnTo>
                    <a:pt x="1660" y="136"/>
                  </a:lnTo>
                  <a:lnTo>
                    <a:pt x="1672" y="123"/>
                  </a:lnTo>
                  <a:lnTo>
                    <a:pt x="1685" y="112"/>
                  </a:lnTo>
                  <a:lnTo>
                    <a:pt x="1698" y="101"/>
                  </a:lnTo>
                  <a:lnTo>
                    <a:pt x="1712" y="91"/>
                  </a:lnTo>
                  <a:lnTo>
                    <a:pt x="1726" y="81"/>
                  </a:lnTo>
                  <a:lnTo>
                    <a:pt x="1741" y="72"/>
                  </a:lnTo>
                  <a:lnTo>
                    <a:pt x="1755" y="63"/>
                  </a:lnTo>
                  <a:lnTo>
                    <a:pt x="1771" y="56"/>
                  </a:lnTo>
                  <a:lnTo>
                    <a:pt x="1787" y="49"/>
                  </a:lnTo>
                  <a:lnTo>
                    <a:pt x="1804" y="43"/>
                  </a:lnTo>
                  <a:lnTo>
                    <a:pt x="1821" y="37"/>
                  </a:lnTo>
                  <a:lnTo>
                    <a:pt x="1837" y="32"/>
                  </a:lnTo>
                  <a:lnTo>
                    <a:pt x="1855" y="29"/>
                  </a:lnTo>
                  <a:lnTo>
                    <a:pt x="1874" y="26"/>
                  </a:lnTo>
                  <a:lnTo>
                    <a:pt x="1892" y="22"/>
                  </a:lnTo>
                  <a:lnTo>
                    <a:pt x="1911" y="21"/>
                  </a:lnTo>
                  <a:lnTo>
                    <a:pt x="1932" y="20"/>
                  </a:lnTo>
                  <a:lnTo>
                    <a:pt x="1952" y="20"/>
                  </a:lnTo>
                  <a:lnTo>
                    <a:pt x="1972" y="20"/>
                  </a:lnTo>
                  <a:lnTo>
                    <a:pt x="1991" y="21"/>
                  </a:lnTo>
                  <a:lnTo>
                    <a:pt x="2010" y="22"/>
                  </a:lnTo>
                  <a:lnTo>
                    <a:pt x="2029" y="26"/>
                  </a:lnTo>
                  <a:lnTo>
                    <a:pt x="2047" y="29"/>
                  </a:lnTo>
                  <a:lnTo>
                    <a:pt x="2065" y="32"/>
                  </a:lnTo>
                  <a:lnTo>
                    <a:pt x="2082" y="37"/>
                  </a:lnTo>
                  <a:lnTo>
                    <a:pt x="2099" y="43"/>
                  </a:lnTo>
                  <a:lnTo>
                    <a:pt x="2116" y="49"/>
                  </a:lnTo>
                  <a:lnTo>
                    <a:pt x="2132" y="56"/>
                  </a:lnTo>
                  <a:lnTo>
                    <a:pt x="2147" y="63"/>
                  </a:lnTo>
                  <a:lnTo>
                    <a:pt x="2163" y="72"/>
                  </a:lnTo>
                  <a:lnTo>
                    <a:pt x="2178" y="81"/>
                  </a:lnTo>
                  <a:lnTo>
                    <a:pt x="2191" y="91"/>
                  </a:lnTo>
                  <a:lnTo>
                    <a:pt x="2205" y="101"/>
                  </a:lnTo>
                  <a:lnTo>
                    <a:pt x="2218" y="112"/>
                  </a:lnTo>
                  <a:lnTo>
                    <a:pt x="2232" y="123"/>
                  </a:lnTo>
                  <a:lnTo>
                    <a:pt x="2243" y="136"/>
                  </a:lnTo>
                  <a:lnTo>
                    <a:pt x="2254" y="148"/>
                  </a:lnTo>
                  <a:lnTo>
                    <a:pt x="2264" y="161"/>
                  </a:lnTo>
                  <a:lnTo>
                    <a:pt x="2273" y="174"/>
                  </a:lnTo>
                  <a:lnTo>
                    <a:pt x="2282" y="188"/>
                  </a:lnTo>
                  <a:lnTo>
                    <a:pt x="2290" y="202"/>
                  </a:lnTo>
                  <a:lnTo>
                    <a:pt x="2297" y="216"/>
                  </a:lnTo>
                  <a:lnTo>
                    <a:pt x="2302" y="231"/>
                  </a:lnTo>
                  <a:lnTo>
                    <a:pt x="2308" y="247"/>
                  </a:lnTo>
                  <a:lnTo>
                    <a:pt x="2312" y="261"/>
                  </a:lnTo>
                  <a:lnTo>
                    <a:pt x="2316" y="278"/>
                  </a:lnTo>
                  <a:lnTo>
                    <a:pt x="2319" y="294"/>
                  </a:lnTo>
                  <a:lnTo>
                    <a:pt x="2321" y="311"/>
                  </a:lnTo>
                  <a:lnTo>
                    <a:pt x="2322" y="327"/>
                  </a:lnTo>
                  <a:lnTo>
                    <a:pt x="2322" y="345"/>
                  </a:lnTo>
                  <a:lnTo>
                    <a:pt x="2322" y="362"/>
                  </a:lnTo>
                  <a:lnTo>
                    <a:pt x="2321" y="379"/>
                  </a:lnTo>
                  <a:lnTo>
                    <a:pt x="2319" y="396"/>
                  </a:lnTo>
                  <a:lnTo>
                    <a:pt x="2316" y="411"/>
                  </a:lnTo>
                  <a:lnTo>
                    <a:pt x="2312" y="428"/>
                  </a:lnTo>
                  <a:lnTo>
                    <a:pt x="2308" y="443"/>
                  </a:lnTo>
                  <a:lnTo>
                    <a:pt x="2302" y="459"/>
                  </a:lnTo>
                  <a:lnTo>
                    <a:pt x="2297" y="473"/>
                  </a:lnTo>
                  <a:lnTo>
                    <a:pt x="2290" y="488"/>
                  </a:lnTo>
                  <a:lnTo>
                    <a:pt x="2282" y="501"/>
                  </a:lnTo>
                  <a:lnTo>
                    <a:pt x="2273" y="516"/>
                  </a:lnTo>
                  <a:lnTo>
                    <a:pt x="2264" y="528"/>
                  </a:lnTo>
                  <a:lnTo>
                    <a:pt x="2253" y="542"/>
                  </a:lnTo>
                  <a:lnTo>
                    <a:pt x="2243" y="554"/>
                  </a:lnTo>
                  <a:lnTo>
                    <a:pt x="2230" y="566"/>
                  </a:lnTo>
                  <a:lnTo>
                    <a:pt x="2218" y="579"/>
                  </a:lnTo>
                  <a:lnTo>
                    <a:pt x="2205" y="590"/>
                  </a:lnTo>
                  <a:lnTo>
                    <a:pt x="2191" y="600"/>
                  </a:lnTo>
                  <a:lnTo>
                    <a:pt x="2176" y="610"/>
                  </a:lnTo>
                  <a:lnTo>
                    <a:pt x="2162" y="619"/>
                  </a:lnTo>
                  <a:lnTo>
                    <a:pt x="2146" y="627"/>
                  </a:lnTo>
                  <a:lnTo>
                    <a:pt x="2132" y="635"/>
                  </a:lnTo>
                  <a:lnTo>
                    <a:pt x="2115" y="641"/>
                  </a:lnTo>
                  <a:lnTo>
                    <a:pt x="2099" y="648"/>
                  </a:lnTo>
                  <a:lnTo>
                    <a:pt x="2082" y="654"/>
                  </a:lnTo>
                  <a:lnTo>
                    <a:pt x="2064" y="658"/>
                  </a:lnTo>
                  <a:lnTo>
                    <a:pt x="2047" y="663"/>
                  </a:lnTo>
                  <a:lnTo>
                    <a:pt x="2028" y="665"/>
                  </a:lnTo>
                  <a:lnTo>
                    <a:pt x="2010" y="668"/>
                  </a:lnTo>
                  <a:lnTo>
                    <a:pt x="1991" y="669"/>
                  </a:lnTo>
                  <a:lnTo>
                    <a:pt x="1971" y="670"/>
                  </a:lnTo>
                  <a:lnTo>
                    <a:pt x="1952" y="672"/>
                  </a:lnTo>
                  <a:close/>
                  <a:moveTo>
                    <a:pt x="1764" y="345"/>
                  </a:moveTo>
                  <a:lnTo>
                    <a:pt x="1765" y="365"/>
                  </a:lnTo>
                  <a:lnTo>
                    <a:pt x="1768" y="385"/>
                  </a:lnTo>
                  <a:lnTo>
                    <a:pt x="1771" y="402"/>
                  </a:lnTo>
                  <a:lnTo>
                    <a:pt x="1777" y="419"/>
                  </a:lnTo>
                  <a:lnTo>
                    <a:pt x="1785" y="435"/>
                  </a:lnTo>
                  <a:lnTo>
                    <a:pt x="1794" y="450"/>
                  </a:lnTo>
                  <a:lnTo>
                    <a:pt x="1804" y="463"/>
                  </a:lnTo>
                  <a:lnTo>
                    <a:pt x="1815" y="476"/>
                  </a:lnTo>
                  <a:lnTo>
                    <a:pt x="1828" y="488"/>
                  </a:lnTo>
                  <a:lnTo>
                    <a:pt x="1843" y="498"/>
                  </a:lnTo>
                  <a:lnTo>
                    <a:pt x="1859" y="506"/>
                  </a:lnTo>
                  <a:lnTo>
                    <a:pt x="1876" y="512"/>
                  </a:lnTo>
                  <a:lnTo>
                    <a:pt x="1892" y="518"/>
                  </a:lnTo>
                  <a:lnTo>
                    <a:pt x="1911" y="522"/>
                  </a:lnTo>
                  <a:lnTo>
                    <a:pt x="1932" y="525"/>
                  </a:lnTo>
                  <a:lnTo>
                    <a:pt x="1953" y="525"/>
                  </a:lnTo>
                  <a:lnTo>
                    <a:pt x="1973" y="525"/>
                  </a:lnTo>
                  <a:lnTo>
                    <a:pt x="1992" y="522"/>
                  </a:lnTo>
                  <a:lnTo>
                    <a:pt x="2011" y="518"/>
                  </a:lnTo>
                  <a:lnTo>
                    <a:pt x="2028" y="512"/>
                  </a:lnTo>
                  <a:lnTo>
                    <a:pt x="2045" y="506"/>
                  </a:lnTo>
                  <a:lnTo>
                    <a:pt x="2061" y="498"/>
                  </a:lnTo>
                  <a:lnTo>
                    <a:pt x="2074" y="488"/>
                  </a:lnTo>
                  <a:lnTo>
                    <a:pt x="2088" y="476"/>
                  </a:lnTo>
                  <a:lnTo>
                    <a:pt x="2100" y="463"/>
                  </a:lnTo>
                  <a:lnTo>
                    <a:pt x="2110" y="450"/>
                  </a:lnTo>
                  <a:lnTo>
                    <a:pt x="2119" y="435"/>
                  </a:lnTo>
                  <a:lnTo>
                    <a:pt x="2126" y="419"/>
                  </a:lnTo>
                  <a:lnTo>
                    <a:pt x="2132" y="402"/>
                  </a:lnTo>
                  <a:lnTo>
                    <a:pt x="2136" y="385"/>
                  </a:lnTo>
                  <a:lnTo>
                    <a:pt x="2138" y="365"/>
                  </a:lnTo>
                  <a:lnTo>
                    <a:pt x="2139" y="345"/>
                  </a:lnTo>
                  <a:lnTo>
                    <a:pt x="2138" y="326"/>
                  </a:lnTo>
                  <a:lnTo>
                    <a:pt x="2136" y="307"/>
                  </a:lnTo>
                  <a:lnTo>
                    <a:pt x="2132" y="290"/>
                  </a:lnTo>
                  <a:lnTo>
                    <a:pt x="2126" y="274"/>
                  </a:lnTo>
                  <a:lnTo>
                    <a:pt x="2119" y="258"/>
                  </a:lnTo>
                  <a:lnTo>
                    <a:pt x="2110" y="242"/>
                  </a:lnTo>
                  <a:lnTo>
                    <a:pt x="2100" y="229"/>
                  </a:lnTo>
                  <a:lnTo>
                    <a:pt x="2088" y="216"/>
                  </a:lnTo>
                  <a:lnTo>
                    <a:pt x="2074" y="204"/>
                  </a:lnTo>
                  <a:lnTo>
                    <a:pt x="2060" y="194"/>
                  </a:lnTo>
                  <a:lnTo>
                    <a:pt x="2044" y="185"/>
                  </a:lnTo>
                  <a:lnTo>
                    <a:pt x="2028" y="178"/>
                  </a:lnTo>
                  <a:lnTo>
                    <a:pt x="2010" y="173"/>
                  </a:lnTo>
                  <a:lnTo>
                    <a:pt x="1991" y="169"/>
                  </a:lnTo>
                  <a:lnTo>
                    <a:pt x="1972" y="167"/>
                  </a:lnTo>
                  <a:lnTo>
                    <a:pt x="1952" y="166"/>
                  </a:lnTo>
                  <a:lnTo>
                    <a:pt x="1931" y="167"/>
                  </a:lnTo>
                  <a:lnTo>
                    <a:pt x="1911" y="169"/>
                  </a:lnTo>
                  <a:lnTo>
                    <a:pt x="1894" y="173"/>
                  </a:lnTo>
                  <a:lnTo>
                    <a:pt x="1876" y="178"/>
                  </a:lnTo>
                  <a:lnTo>
                    <a:pt x="1860" y="185"/>
                  </a:lnTo>
                  <a:lnTo>
                    <a:pt x="1844" y="194"/>
                  </a:lnTo>
                  <a:lnTo>
                    <a:pt x="1829" y="204"/>
                  </a:lnTo>
                  <a:lnTo>
                    <a:pt x="1816" y="216"/>
                  </a:lnTo>
                  <a:lnTo>
                    <a:pt x="1804" y="229"/>
                  </a:lnTo>
                  <a:lnTo>
                    <a:pt x="1794" y="242"/>
                  </a:lnTo>
                  <a:lnTo>
                    <a:pt x="1785" y="258"/>
                  </a:lnTo>
                  <a:lnTo>
                    <a:pt x="1778" y="274"/>
                  </a:lnTo>
                  <a:lnTo>
                    <a:pt x="1772" y="290"/>
                  </a:lnTo>
                  <a:lnTo>
                    <a:pt x="1768" y="307"/>
                  </a:lnTo>
                  <a:lnTo>
                    <a:pt x="1765" y="326"/>
                  </a:lnTo>
                  <a:lnTo>
                    <a:pt x="1764" y="345"/>
                  </a:lnTo>
                  <a:close/>
                  <a:moveTo>
                    <a:pt x="2474" y="660"/>
                  </a:moveTo>
                  <a:lnTo>
                    <a:pt x="2474" y="644"/>
                  </a:lnTo>
                  <a:lnTo>
                    <a:pt x="2483" y="641"/>
                  </a:lnTo>
                  <a:lnTo>
                    <a:pt x="2490" y="639"/>
                  </a:lnTo>
                  <a:lnTo>
                    <a:pt x="2495" y="636"/>
                  </a:lnTo>
                  <a:lnTo>
                    <a:pt x="2499" y="633"/>
                  </a:lnTo>
                  <a:lnTo>
                    <a:pt x="2501" y="629"/>
                  </a:lnTo>
                  <a:lnTo>
                    <a:pt x="2502" y="623"/>
                  </a:lnTo>
                  <a:lnTo>
                    <a:pt x="2503" y="617"/>
                  </a:lnTo>
                  <a:lnTo>
                    <a:pt x="2504" y="609"/>
                  </a:lnTo>
                  <a:lnTo>
                    <a:pt x="2504" y="83"/>
                  </a:lnTo>
                  <a:lnTo>
                    <a:pt x="2503" y="74"/>
                  </a:lnTo>
                  <a:lnTo>
                    <a:pt x="2502" y="67"/>
                  </a:lnTo>
                  <a:lnTo>
                    <a:pt x="2501" y="63"/>
                  </a:lnTo>
                  <a:lnTo>
                    <a:pt x="2499" y="58"/>
                  </a:lnTo>
                  <a:lnTo>
                    <a:pt x="2495" y="55"/>
                  </a:lnTo>
                  <a:lnTo>
                    <a:pt x="2490" y="53"/>
                  </a:lnTo>
                  <a:lnTo>
                    <a:pt x="2483" y="49"/>
                  </a:lnTo>
                  <a:lnTo>
                    <a:pt x="2474" y="47"/>
                  </a:lnTo>
                  <a:lnTo>
                    <a:pt x="2474" y="31"/>
                  </a:lnTo>
                  <a:lnTo>
                    <a:pt x="2874" y="31"/>
                  </a:lnTo>
                  <a:lnTo>
                    <a:pt x="2903" y="31"/>
                  </a:lnTo>
                  <a:lnTo>
                    <a:pt x="2930" y="34"/>
                  </a:lnTo>
                  <a:lnTo>
                    <a:pt x="2955" y="38"/>
                  </a:lnTo>
                  <a:lnTo>
                    <a:pt x="2978" y="44"/>
                  </a:lnTo>
                  <a:lnTo>
                    <a:pt x="3001" y="52"/>
                  </a:lnTo>
                  <a:lnTo>
                    <a:pt x="3021" y="61"/>
                  </a:lnTo>
                  <a:lnTo>
                    <a:pt x="3030" y="65"/>
                  </a:lnTo>
                  <a:lnTo>
                    <a:pt x="3039" y="71"/>
                  </a:lnTo>
                  <a:lnTo>
                    <a:pt x="3048" y="77"/>
                  </a:lnTo>
                  <a:lnTo>
                    <a:pt x="3057" y="83"/>
                  </a:lnTo>
                  <a:lnTo>
                    <a:pt x="3065" y="90"/>
                  </a:lnTo>
                  <a:lnTo>
                    <a:pt x="3071" y="98"/>
                  </a:lnTo>
                  <a:lnTo>
                    <a:pt x="3078" y="104"/>
                  </a:lnTo>
                  <a:lnTo>
                    <a:pt x="3085" y="112"/>
                  </a:lnTo>
                  <a:lnTo>
                    <a:pt x="3091" y="120"/>
                  </a:lnTo>
                  <a:lnTo>
                    <a:pt x="3096" y="129"/>
                  </a:lnTo>
                  <a:lnTo>
                    <a:pt x="3101" y="137"/>
                  </a:lnTo>
                  <a:lnTo>
                    <a:pt x="3105" y="146"/>
                  </a:lnTo>
                  <a:lnTo>
                    <a:pt x="3110" y="156"/>
                  </a:lnTo>
                  <a:lnTo>
                    <a:pt x="3112" y="165"/>
                  </a:lnTo>
                  <a:lnTo>
                    <a:pt x="3115" y="175"/>
                  </a:lnTo>
                  <a:lnTo>
                    <a:pt x="3118" y="186"/>
                  </a:lnTo>
                  <a:lnTo>
                    <a:pt x="3121" y="207"/>
                  </a:lnTo>
                  <a:lnTo>
                    <a:pt x="3122" y="230"/>
                  </a:lnTo>
                  <a:lnTo>
                    <a:pt x="3121" y="242"/>
                  </a:lnTo>
                  <a:lnTo>
                    <a:pt x="3120" y="254"/>
                  </a:lnTo>
                  <a:lnTo>
                    <a:pt x="3119" y="267"/>
                  </a:lnTo>
                  <a:lnTo>
                    <a:pt x="3116" y="279"/>
                  </a:lnTo>
                  <a:lnTo>
                    <a:pt x="3113" y="290"/>
                  </a:lnTo>
                  <a:lnTo>
                    <a:pt x="3110" y="302"/>
                  </a:lnTo>
                  <a:lnTo>
                    <a:pt x="3105" y="313"/>
                  </a:lnTo>
                  <a:lnTo>
                    <a:pt x="3100" y="323"/>
                  </a:lnTo>
                  <a:lnTo>
                    <a:pt x="3094" y="334"/>
                  </a:lnTo>
                  <a:lnTo>
                    <a:pt x="3088" y="343"/>
                  </a:lnTo>
                  <a:lnTo>
                    <a:pt x="3082" y="353"/>
                  </a:lnTo>
                  <a:lnTo>
                    <a:pt x="3074" y="361"/>
                  </a:lnTo>
                  <a:lnTo>
                    <a:pt x="3066" y="370"/>
                  </a:lnTo>
                  <a:lnTo>
                    <a:pt x="3058" y="377"/>
                  </a:lnTo>
                  <a:lnTo>
                    <a:pt x="3049" y="385"/>
                  </a:lnTo>
                  <a:lnTo>
                    <a:pt x="3040" y="390"/>
                  </a:lnTo>
                  <a:lnTo>
                    <a:pt x="3023" y="400"/>
                  </a:lnTo>
                  <a:lnTo>
                    <a:pt x="3004" y="408"/>
                  </a:lnTo>
                  <a:lnTo>
                    <a:pt x="2984" y="415"/>
                  </a:lnTo>
                  <a:lnTo>
                    <a:pt x="2963" y="419"/>
                  </a:lnTo>
                  <a:lnTo>
                    <a:pt x="2937" y="424"/>
                  </a:lnTo>
                  <a:lnTo>
                    <a:pt x="2906" y="426"/>
                  </a:lnTo>
                  <a:lnTo>
                    <a:pt x="2870" y="427"/>
                  </a:lnTo>
                  <a:lnTo>
                    <a:pt x="2830" y="428"/>
                  </a:lnTo>
                  <a:lnTo>
                    <a:pt x="2682" y="428"/>
                  </a:lnTo>
                  <a:lnTo>
                    <a:pt x="2682" y="609"/>
                  </a:lnTo>
                  <a:lnTo>
                    <a:pt x="2682" y="617"/>
                  </a:lnTo>
                  <a:lnTo>
                    <a:pt x="2683" y="623"/>
                  </a:lnTo>
                  <a:lnTo>
                    <a:pt x="2685" y="628"/>
                  </a:lnTo>
                  <a:lnTo>
                    <a:pt x="2687" y="632"/>
                  </a:lnTo>
                  <a:lnTo>
                    <a:pt x="2692" y="636"/>
                  </a:lnTo>
                  <a:lnTo>
                    <a:pt x="2696" y="638"/>
                  </a:lnTo>
                  <a:lnTo>
                    <a:pt x="2704" y="641"/>
                  </a:lnTo>
                  <a:lnTo>
                    <a:pt x="2713" y="644"/>
                  </a:lnTo>
                  <a:lnTo>
                    <a:pt x="2713" y="660"/>
                  </a:lnTo>
                  <a:lnTo>
                    <a:pt x="2474" y="660"/>
                  </a:lnTo>
                  <a:close/>
                  <a:moveTo>
                    <a:pt x="2682" y="158"/>
                  </a:moveTo>
                  <a:lnTo>
                    <a:pt x="2682" y="300"/>
                  </a:lnTo>
                  <a:lnTo>
                    <a:pt x="2818" y="300"/>
                  </a:lnTo>
                  <a:lnTo>
                    <a:pt x="2836" y="300"/>
                  </a:lnTo>
                  <a:lnTo>
                    <a:pt x="2852" y="299"/>
                  </a:lnTo>
                  <a:lnTo>
                    <a:pt x="2867" y="298"/>
                  </a:lnTo>
                  <a:lnTo>
                    <a:pt x="2881" y="296"/>
                  </a:lnTo>
                  <a:lnTo>
                    <a:pt x="2894" y="294"/>
                  </a:lnTo>
                  <a:lnTo>
                    <a:pt x="2905" y="291"/>
                  </a:lnTo>
                  <a:lnTo>
                    <a:pt x="2915" y="288"/>
                  </a:lnTo>
                  <a:lnTo>
                    <a:pt x="2924" y="284"/>
                  </a:lnTo>
                  <a:lnTo>
                    <a:pt x="2932" y="279"/>
                  </a:lnTo>
                  <a:lnTo>
                    <a:pt x="2938" y="274"/>
                  </a:lnTo>
                  <a:lnTo>
                    <a:pt x="2943" y="268"/>
                  </a:lnTo>
                  <a:lnTo>
                    <a:pt x="2949" y="261"/>
                  </a:lnTo>
                  <a:lnTo>
                    <a:pt x="2952" y="254"/>
                  </a:lnTo>
                  <a:lnTo>
                    <a:pt x="2955" y="247"/>
                  </a:lnTo>
                  <a:lnTo>
                    <a:pt x="2956" y="238"/>
                  </a:lnTo>
                  <a:lnTo>
                    <a:pt x="2957" y="229"/>
                  </a:lnTo>
                  <a:lnTo>
                    <a:pt x="2956" y="220"/>
                  </a:lnTo>
                  <a:lnTo>
                    <a:pt x="2955" y="211"/>
                  </a:lnTo>
                  <a:lnTo>
                    <a:pt x="2952" y="203"/>
                  </a:lnTo>
                  <a:lnTo>
                    <a:pt x="2949" y="195"/>
                  </a:lnTo>
                  <a:lnTo>
                    <a:pt x="2945" y="189"/>
                  </a:lnTo>
                  <a:lnTo>
                    <a:pt x="2939" y="183"/>
                  </a:lnTo>
                  <a:lnTo>
                    <a:pt x="2933" y="178"/>
                  </a:lnTo>
                  <a:lnTo>
                    <a:pt x="2925" y="174"/>
                  </a:lnTo>
                  <a:lnTo>
                    <a:pt x="2918" y="170"/>
                  </a:lnTo>
                  <a:lnTo>
                    <a:pt x="2908" y="167"/>
                  </a:lnTo>
                  <a:lnTo>
                    <a:pt x="2895" y="164"/>
                  </a:lnTo>
                  <a:lnTo>
                    <a:pt x="2883" y="161"/>
                  </a:lnTo>
                  <a:lnTo>
                    <a:pt x="2867" y="160"/>
                  </a:lnTo>
                  <a:lnTo>
                    <a:pt x="2850" y="159"/>
                  </a:lnTo>
                  <a:lnTo>
                    <a:pt x="2832" y="158"/>
                  </a:lnTo>
                  <a:lnTo>
                    <a:pt x="2812" y="158"/>
                  </a:lnTo>
                  <a:lnTo>
                    <a:pt x="2682" y="158"/>
                  </a:lnTo>
                  <a:close/>
                  <a:moveTo>
                    <a:pt x="3865" y="511"/>
                  </a:moveTo>
                  <a:lnTo>
                    <a:pt x="3873" y="511"/>
                  </a:lnTo>
                  <a:lnTo>
                    <a:pt x="3879" y="510"/>
                  </a:lnTo>
                  <a:lnTo>
                    <a:pt x="3884" y="509"/>
                  </a:lnTo>
                  <a:lnTo>
                    <a:pt x="3889" y="506"/>
                  </a:lnTo>
                  <a:lnTo>
                    <a:pt x="3891" y="502"/>
                  </a:lnTo>
                  <a:lnTo>
                    <a:pt x="3895" y="498"/>
                  </a:lnTo>
                  <a:lnTo>
                    <a:pt x="3897" y="491"/>
                  </a:lnTo>
                  <a:lnTo>
                    <a:pt x="3900" y="482"/>
                  </a:lnTo>
                  <a:lnTo>
                    <a:pt x="3917" y="482"/>
                  </a:lnTo>
                  <a:lnTo>
                    <a:pt x="3917" y="691"/>
                  </a:lnTo>
                  <a:lnTo>
                    <a:pt x="3900" y="691"/>
                  </a:lnTo>
                  <a:lnTo>
                    <a:pt x="3897" y="682"/>
                  </a:lnTo>
                  <a:lnTo>
                    <a:pt x="3895" y="675"/>
                  </a:lnTo>
                  <a:lnTo>
                    <a:pt x="3891" y="669"/>
                  </a:lnTo>
                  <a:lnTo>
                    <a:pt x="3889" y="666"/>
                  </a:lnTo>
                  <a:lnTo>
                    <a:pt x="3884" y="664"/>
                  </a:lnTo>
                  <a:lnTo>
                    <a:pt x="3880" y="661"/>
                  </a:lnTo>
                  <a:lnTo>
                    <a:pt x="3873" y="660"/>
                  </a:lnTo>
                  <a:lnTo>
                    <a:pt x="3865" y="660"/>
                  </a:lnTo>
                  <a:lnTo>
                    <a:pt x="3269" y="660"/>
                  </a:lnTo>
                  <a:lnTo>
                    <a:pt x="3269" y="644"/>
                  </a:lnTo>
                  <a:lnTo>
                    <a:pt x="3278" y="641"/>
                  </a:lnTo>
                  <a:lnTo>
                    <a:pt x="3285" y="639"/>
                  </a:lnTo>
                  <a:lnTo>
                    <a:pt x="3290" y="636"/>
                  </a:lnTo>
                  <a:lnTo>
                    <a:pt x="3294" y="633"/>
                  </a:lnTo>
                  <a:lnTo>
                    <a:pt x="3296" y="629"/>
                  </a:lnTo>
                  <a:lnTo>
                    <a:pt x="3298" y="623"/>
                  </a:lnTo>
                  <a:lnTo>
                    <a:pt x="3299" y="617"/>
                  </a:lnTo>
                  <a:lnTo>
                    <a:pt x="3299" y="609"/>
                  </a:lnTo>
                  <a:lnTo>
                    <a:pt x="3299" y="83"/>
                  </a:lnTo>
                  <a:lnTo>
                    <a:pt x="3299" y="74"/>
                  </a:lnTo>
                  <a:lnTo>
                    <a:pt x="3298" y="67"/>
                  </a:lnTo>
                  <a:lnTo>
                    <a:pt x="3296" y="63"/>
                  </a:lnTo>
                  <a:lnTo>
                    <a:pt x="3294" y="58"/>
                  </a:lnTo>
                  <a:lnTo>
                    <a:pt x="3290" y="55"/>
                  </a:lnTo>
                  <a:lnTo>
                    <a:pt x="3285" y="53"/>
                  </a:lnTo>
                  <a:lnTo>
                    <a:pt x="3278" y="49"/>
                  </a:lnTo>
                  <a:lnTo>
                    <a:pt x="3269" y="47"/>
                  </a:lnTo>
                  <a:lnTo>
                    <a:pt x="3269" y="31"/>
                  </a:lnTo>
                  <a:lnTo>
                    <a:pt x="3508" y="31"/>
                  </a:lnTo>
                  <a:lnTo>
                    <a:pt x="3508" y="47"/>
                  </a:lnTo>
                  <a:lnTo>
                    <a:pt x="3499" y="49"/>
                  </a:lnTo>
                  <a:lnTo>
                    <a:pt x="3493" y="53"/>
                  </a:lnTo>
                  <a:lnTo>
                    <a:pt x="3487" y="56"/>
                  </a:lnTo>
                  <a:lnTo>
                    <a:pt x="3482" y="58"/>
                  </a:lnTo>
                  <a:lnTo>
                    <a:pt x="3480" y="63"/>
                  </a:lnTo>
                  <a:lnTo>
                    <a:pt x="3478" y="68"/>
                  </a:lnTo>
                  <a:lnTo>
                    <a:pt x="3478" y="75"/>
                  </a:lnTo>
                  <a:lnTo>
                    <a:pt x="3477" y="83"/>
                  </a:lnTo>
                  <a:lnTo>
                    <a:pt x="3477" y="511"/>
                  </a:lnTo>
                  <a:lnTo>
                    <a:pt x="3865" y="511"/>
                  </a:lnTo>
                  <a:close/>
                  <a:moveTo>
                    <a:pt x="4646" y="511"/>
                  </a:moveTo>
                  <a:lnTo>
                    <a:pt x="4654" y="511"/>
                  </a:lnTo>
                  <a:lnTo>
                    <a:pt x="4659" y="510"/>
                  </a:lnTo>
                  <a:lnTo>
                    <a:pt x="4665" y="509"/>
                  </a:lnTo>
                  <a:lnTo>
                    <a:pt x="4669" y="506"/>
                  </a:lnTo>
                  <a:lnTo>
                    <a:pt x="4672" y="502"/>
                  </a:lnTo>
                  <a:lnTo>
                    <a:pt x="4675" y="498"/>
                  </a:lnTo>
                  <a:lnTo>
                    <a:pt x="4677" y="491"/>
                  </a:lnTo>
                  <a:lnTo>
                    <a:pt x="4681" y="482"/>
                  </a:lnTo>
                  <a:lnTo>
                    <a:pt x="4697" y="482"/>
                  </a:lnTo>
                  <a:lnTo>
                    <a:pt x="4697" y="691"/>
                  </a:lnTo>
                  <a:lnTo>
                    <a:pt x="4681" y="691"/>
                  </a:lnTo>
                  <a:lnTo>
                    <a:pt x="4677" y="682"/>
                  </a:lnTo>
                  <a:lnTo>
                    <a:pt x="4675" y="675"/>
                  </a:lnTo>
                  <a:lnTo>
                    <a:pt x="4672" y="669"/>
                  </a:lnTo>
                  <a:lnTo>
                    <a:pt x="4669" y="666"/>
                  </a:lnTo>
                  <a:lnTo>
                    <a:pt x="4665" y="664"/>
                  </a:lnTo>
                  <a:lnTo>
                    <a:pt x="4660" y="661"/>
                  </a:lnTo>
                  <a:lnTo>
                    <a:pt x="4654" y="660"/>
                  </a:lnTo>
                  <a:lnTo>
                    <a:pt x="4646" y="660"/>
                  </a:lnTo>
                  <a:lnTo>
                    <a:pt x="4076" y="660"/>
                  </a:lnTo>
                  <a:lnTo>
                    <a:pt x="4076" y="644"/>
                  </a:lnTo>
                  <a:lnTo>
                    <a:pt x="4084" y="641"/>
                  </a:lnTo>
                  <a:lnTo>
                    <a:pt x="4092" y="639"/>
                  </a:lnTo>
                  <a:lnTo>
                    <a:pt x="4097" y="636"/>
                  </a:lnTo>
                  <a:lnTo>
                    <a:pt x="4100" y="633"/>
                  </a:lnTo>
                  <a:lnTo>
                    <a:pt x="4103" y="629"/>
                  </a:lnTo>
                  <a:lnTo>
                    <a:pt x="4105" y="623"/>
                  </a:lnTo>
                  <a:lnTo>
                    <a:pt x="4106" y="617"/>
                  </a:lnTo>
                  <a:lnTo>
                    <a:pt x="4106" y="609"/>
                  </a:lnTo>
                  <a:lnTo>
                    <a:pt x="4106" y="83"/>
                  </a:lnTo>
                  <a:lnTo>
                    <a:pt x="4106" y="74"/>
                  </a:lnTo>
                  <a:lnTo>
                    <a:pt x="4105" y="67"/>
                  </a:lnTo>
                  <a:lnTo>
                    <a:pt x="4103" y="63"/>
                  </a:lnTo>
                  <a:lnTo>
                    <a:pt x="4100" y="58"/>
                  </a:lnTo>
                  <a:lnTo>
                    <a:pt x="4097" y="55"/>
                  </a:lnTo>
                  <a:lnTo>
                    <a:pt x="4092" y="53"/>
                  </a:lnTo>
                  <a:lnTo>
                    <a:pt x="4084" y="49"/>
                  </a:lnTo>
                  <a:lnTo>
                    <a:pt x="4076" y="47"/>
                  </a:lnTo>
                  <a:lnTo>
                    <a:pt x="4076" y="31"/>
                  </a:lnTo>
                  <a:lnTo>
                    <a:pt x="4647" y="31"/>
                  </a:lnTo>
                  <a:lnTo>
                    <a:pt x="4655" y="30"/>
                  </a:lnTo>
                  <a:lnTo>
                    <a:pt x="4660" y="29"/>
                  </a:lnTo>
                  <a:lnTo>
                    <a:pt x="4666" y="27"/>
                  </a:lnTo>
                  <a:lnTo>
                    <a:pt x="4671" y="25"/>
                  </a:lnTo>
                  <a:lnTo>
                    <a:pt x="4673" y="21"/>
                  </a:lnTo>
                  <a:lnTo>
                    <a:pt x="4676" y="16"/>
                  </a:lnTo>
                  <a:lnTo>
                    <a:pt x="4678" y="9"/>
                  </a:lnTo>
                  <a:lnTo>
                    <a:pt x="4681" y="0"/>
                  </a:lnTo>
                  <a:lnTo>
                    <a:pt x="4697" y="0"/>
                  </a:lnTo>
                  <a:lnTo>
                    <a:pt x="4697" y="210"/>
                  </a:lnTo>
                  <a:lnTo>
                    <a:pt x="4681" y="210"/>
                  </a:lnTo>
                  <a:lnTo>
                    <a:pt x="4678" y="201"/>
                  </a:lnTo>
                  <a:lnTo>
                    <a:pt x="4675" y="194"/>
                  </a:lnTo>
                  <a:lnTo>
                    <a:pt x="4673" y="188"/>
                  </a:lnTo>
                  <a:lnTo>
                    <a:pt x="4669" y="185"/>
                  </a:lnTo>
                  <a:lnTo>
                    <a:pt x="4665" y="183"/>
                  </a:lnTo>
                  <a:lnTo>
                    <a:pt x="4660" y="180"/>
                  </a:lnTo>
                  <a:lnTo>
                    <a:pt x="4654" y="180"/>
                  </a:lnTo>
                  <a:lnTo>
                    <a:pt x="4647" y="179"/>
                  </a:lnTo>
                  <a:lnTo>
                    <a:pt x="4284" y="179"/>
                  </a:lnTo>
                  <a:lnTo>
                    <a:pt x="4284" y="268"/>
                  </a:lnTo>
                  <a:lnTo>
                    <a:pt x="4501" y="268"/>
                  </a:lnTo>
                  <a:lnTo>
                    <a:pt x="4509" y="268"/>
                  </a:lnTo>
                  <a:lnTo>
                    <a:pt x="4516" y="267"/>
                  </a:lnTo>
                  <a:lnTo>
                    <a:pt x="4521" y="265"/>
                  </a:lnTo>
                  <a:lnTo>
                    <a:pt x="4526" y="262"/>
                  </a:lnTo>
                  <a:lnTo>
                    <a:pt x="4528" y="259"/>
                  </a:lnTo>
                  <a:lnTo>
                    <a:pt x="4531" y="253"/>
                  </a:lnTo>
                  <a:lnTo>
                    <a:pt x="4535" y="247"/>
                  </a:lnTo>
                  <a:lnTo>
                    <a:pt x="4538" y="239"/>
                  </a:lnTo>
                  <a:lnTo>
                    <a:pt x="4554" y="239"/>
                  </a:lnTo>
                  <a:lnTo>
                    <a:pt x="4554" y="434"/>
                  </a:lnTo>
                  <a:lnTo>
                    <a:pt x="4537" y="434"/>
                  </a:lnTo>
                  <a:lnTo>
                    <a:pt x="4535" y="425"/>
                  </a:lnTo>
                  <a:lnTo>
                    <a:pt x="4531" y="418"/>
                  </a:lnTo>
                  <a:lnTo>
                    <a:pt x="4528" y="414"/>
                  </a:lnTo>
                  <a:lnTo>
                    <a:pt x="4525" y="409"/>
                  </a:lnTo>
                  <a:lnTo>
                    <a:pt x="4521" y="407"/>
                  </a:lnTo>
                  <a:lnTo>
                    <a:pt x="4516" y="406"/>
                  </a:lnTo>
                  <a:lnTo>
                    <a:pt x="4509" y="405"/>
                  </a:lnTo>
                  <a:lnTo>
                    <a:pt x="4501" y="404"/>
                  </a:lnTo>
                  <a:lnTo>
                    <a:pt x="4284" y="404"/>
                  </a:lnTo>
                  <a:lnTo>
                    <a:pt x="4284" y="511"/>
                  </a:lnTo>
                  <a:lnTo>
                    <a:pt x="4646" y="5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468840" y="6602040"/>
              <a:ext cx="48960" cy="496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39"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39"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0" y="240"/>
                  </a:lnTo>
                  <a:lnTo>
                    <a:pt x="31" y="230"/>
                  </a:lnTo>
                  <a:lnTo>
                    <a:pt x="23" y="218"/>
                  </a:lnTo>
                  <a:lnTo>
                    <a:pt x="17" y="207"/>
                  </a:lnTo>
                  <a:lnTo>
                    <a:pt x="11" y="195"/>
                  </a:lnTo>
                  <a:lnTo>
                    <a:pt x="5" y="181"/>
                  </a:lnTo>
                  <a:lnTo>
                    <a:pt x="2" y="168"/>
                  </a:lnTo>
                  <a:lnTo>
                    <a:pt x="0" y="154"/>
                  </a:lnTo>
                  <a:lnTo>
                    <a:pt x="0" y="140"/>
                  </a:lnTo>
                  <a:lnTo>
                    <a:pt x="0" y="125"/>
                  </a:lnTo>
                  <a:lnTo>
                    <a:pt x="2" y="112"/>
                  </a:lnTo>
                  <a:lnTo>
                    <a:pt x="5" y="98"/>
                  </a:lnTo>
                  <a:lnTo>
                    <a:pt x="11" y="86"/>
                  </a:lnTo>
                  <a:lnTo>
                    <a:pt x="17" y="74"/>
                  </a:lnTo>
                  <a:lnTo>
                    <a:pt x="23" y="61"/>
                  </a:lnTo>
                  <a:lnTo>
                    <a:pt x="31" y="51"/>
                  </a:lnTo>
                  <a:lnTo>
                    <a:pt x="40"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9" name=""/>
            <p:cNvSpPr/>
            <p:nvPr/>
          </p:nvSpPr>
          <p:spPr>
            <a:xfrm>
              <a:off x="7840440" y="6602040"/>
              <a:ext cx="49320" cy="49680"/>
            </a:xfrm>
            <a:custGeom>
              <a:avLst/>
              <a:gdLst/>
              <a:ahLst/>
              <a:rect l="l" t="t" r="r" b="b"/>
              <a:pathLst>
                <a:path w="281" h="280">
                  <a:moveTo>
                    <a:pt x="140" y="0"/>
                  </a:moveTo>
                  <a:lnTo>
                    <a:pt x="155" y="1"/>
                  </a:lnTo>
                  <a:lnTo>
                    <a:pt x="168" y="2"/>
                  </a:lnTo>
                  <a:lnTo>
                    <a:pt x="182" y="6"/>
                  </a:lnTo>
                  <a:lnTo>
                    <a:pt x="195" y="11"/>
                  </a:lnTo>
                  <a:lnTo>
                    <a:pt x="208" y="17"/>
                  </a:lnTo>
                  <a:lnTo>
                    <a:pt x="219" y="23"/>
                  </a:lnTo>
                  <a:lnTo>
                    <a:pt x="230" y="32"/>
                  </a:lnTo>
                  <a:lnTo>
                    <a:pt x="240" y="41"/>
                  </a:lnTo>
                  <a:lnTo>
                    <a:pt x="249" y="51"/>
                  </a:lnTo>
                  <a:lnTo>
                    <a:pt x="257" y="61"/>
                  </a:lnTo>
                  <a:lnTo>
                    <a:pt x="264" y="74"/>
                  </a:lnTo>
                  <a:lnTo>
                    <a:pt x="269" y="86"/>
                  </a:lnTo>
                  <a:lnTo>
                    <a:pt x="275" y="98"/>
                  </a:lnTo>
                  <a:lnTo>
                    <a:pt x="278" y="112"/>
                  </a:lnTo>
                  <a:lnTo>
                    <a:pt x="281" y="125"/>
                  </a:lnTo>
                  <a:lnTo>
                    <a:pt x="281" y="140"/>
                  </a:lnTo>
                  <a:lnTo>
                    <a:pt x="281" y="154"/>
                  </a:lnTo>
                  <a:lnTo>
                    <a:pt x="278" y="168"/>
                  </a:lnTo>
                  <a:lnTo>
                    <a:pt x="275" y="181"/>
                  </a:lnTo>
                  <a:lnTo>
                    <a:pt x="269" y="195"/>
                  </a:lnTo>
                  <a:lnTo>
                    <a:pt x="264" y="207"/>
                  </a:lnTo>
                  <a:lnTo>
                    <a:pt x="257" y="218"/>
                  </a:lnTo>
                  <a:lnTo>
                    <a:pt x="249" y="230"/>
                  </a:lnTo>
                  <a:lnTo>
                    <a:pt x="240" y="240"/>
                  </a:lnTo>
                  <a:lnTo>
                    <a:pt x="230" y="249"/>
                  </a:lnTo>
                  <a:lnTo>
                    <a:pt x="219" y="256"/>
                  </a:lnTo>
                  <a:lnTo>
                    <a:pt x="208" y="263"/>
                  </a:lnTo>
                  <a:lnTo>
                    <a:pt x="195" y="270"/>
                  </a:lnTo>
                  <a:lnTo>
                    <a:pt x="182" y="274"/>
                  </a:lnTo>
                  <a:lnTo>
                    <a:pt x="168" y="278"/>
                  </a:lnTo>
                  <a:lnTo>
                    <a:pt x="155" y="280"/>
                  </a:lnTo>
                  <a:lnTo>
                    <a:pt x="140" y="280"/>
                  </a:lnTo>
                  <a:lnTo>
                    <a:pt x="126" y="280"/>
                  </a:lnTo>
                  <a:lnTo>
                    <a:pt x="112" y="278"/>
                  </a:lnTo>
                  <a:lnTo>
                    <a:pt x="99" y="274"/>
                  </a:lnTo>
                  <a:lnTo>
                    <a:pt x="85" y="270"/>
                  </a:lnTo>
                  <a:lnTo>
                    <a:pt x="73" y="263"/>
                  </a:lnTo>
                  <a:lnTo>
                    <a:pt x="62" y="256"/>
                  </a:lnTo>
                  <a:lnTo>
                    <a:pt x="50" y="249"/>
                  </a:lnTo>
                  <a:lnTo>
                    <a:pt x="41" y="240"/>
                  </a:lnTo>
                  <a:lnTo>
                    <a:pt x="31" y="230"/>
                  </a:lnTo>
                  <a:lnTo>
                    <a:pt x="24" y="218"/>
                  </a:lnTo>
                  <a:lnTo>
                    <a:pt x="17" y="207"/>
                  </a:lnTo>
                  <a:lnTo>
                    <a:pt x="11" y="195"/>
                  </a:lnTo>
                  <a:lnTo>
                    <a:pt x="6" y="181"/>
                  </a:lnTo>
                  <a:lnTo>
                    <a:pt x="2" y="168"/>
                  </a:lnTo>
                  <a:lnTo>
                    <a:pt x="0" y="154"/>
                  </a:lnTo>
                  <a:lnTo>
                    <a:pt x="0" y="140"/>
                  </a:lnTo>
                  <a:lnTo>
                    <a:pt x="0" y="125"/>
                  </a:lnTo>
                  <a:lnTo>
                    <a:pt x="2" y="112"/>
                  </a:lnTo>
                  <a:lnTo>
                    <a:pt x="6" y="98"/>
                  </a:lnTo>
                  <a:lnTo>
                    <a:pt x="11" y="86"/>
                  </a:lnTo>
                  <a:lnTo>
                    <a:pt x="17" y="74"/>
                  </a:lnTo>
                  <a:lnTo>
                    <a:pt x="24" y="61"/>
                  </a:lnTo>
                  <a:lnTo>
                    <a:pt x="31" y="51"/>
                  </a:lnTo>
                  <a:lnTo>
                    <a:pt x="41" y="41"/>
                  </a:lnTo>
                  <a:lnTo>
                    <a:pt x="50" y="32"/>
                  </a:lnTo>
                  <a:lnTo>
                    <a:pt x="62" y="23"/>
                  </a:lnTo>
                  <a:lnTo>
                    <a:pt x="73" y="17"/>
                  </a:lnTo>
                  <a:lnTo>
                    <a:pt x="85" y="11"/>
                  </a:lnTo>
                  <a:lnTo>
                    <a:pt x="99" y="6"/>
                  </a:lnTo>
                  <a:lnTo>
                    <a:pt x="112" y="2"/>
                  </a:lnTo>
                  <a:lnTo>
                    <a:pt x="126" y="1"/>
                  </a:lnTo>
                  <a:lnTo>
                    <a:pt x="140"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00" name=""/>
            <p:cNvSpPr/>
            <p:nvPr/>
          </p:nvSpPr>
          <p:spPr>
            <a:xfrm>
              <a:off x="8791200" y="6553080"/>
              <a:ext cx="85680" cy="46440"/>
            </a:xfrm>
            <a:custGeom>
              <a:avLst/>
              <a:gdLst/>
              <a:ahLst/>
              <a:rect l="l" t="t" r="r" b="b"/>
              <a:pathLst>
                <a:path w="490" h="260">
                  <a:moveTo>
                    <a:pt x="87" y="260"/>
                  </a:moveTo>
                  <a:lnTo>
                    <a:pt x="87" y="30"/>
                  </a:lnTo>
                  <a:lnTo>
                    <a:pt x="0" y="30"/>
                  </a:lnTo>
                  <a:lnTo>
                    <a:pt x="0" y="0"/>
                  </a:lnTo>
                  <a:lnTo>
                    <a:pt x="207" y="0"/>
                  </a:lnTo>
                  <a:lnTo>
                    <a:pt x="207" y="30"/>
                  </a:lnTo>
                  <a:lnTo>
                    <a:pt x="122" y="30"/>
                  </a:lnTo>
                  <a:lnTo>
                    <a:pt x="122" y="260"/>
                  </a:lnTo>
                  <a:lnTo>
                    <a:pt x="87" y="260"/>
                  </a:lnTo>
                  <a:close/>
                  <a:moveTo>
                    <a:pt x="242" y="260"/>
                  </a:moveTo>
                  <a:lnTo>
                    <a:pt x="242" y="0"/>
                  </a:lnTo>
                  <a:lnTo>
                    <a:pt x="293" y="0"/>
                  </a:lnTo>
                  <a:lnTo>
                    <a:pt x="355" y="184"/>
                  </a:lnTo>
                  <a:lnTo>
                    <a:pt x="359" y="196"/>
                  </a:lnTo>
                  <a:lnTo>
                    <a:pt x="362" y="206"/>
                  </a:lnTo>
                  <a:lnTo>
                    <a:pt x="365" y="215"/>
                  </a:lnTo>
                  <a:lnTo>
                    <a:pt x="368" y="223"/>
                  </a:lnTo>
                  <a:lnTo>
                    <a:pt x="370" y="215"/>
                  </a:lnTo>
                  <a:lnTo>
                    <a:pt x="373" y="205"/>
                  </a:lnTo>
                  <a:lnTo>
                    <a:pt x="377" y="194"/>
                  </a:lnTo>
                  <a:lnTo>
                    <a:pt x="381" y="181"/>
                  </a:lnTo>
                  <a:lnTo>
                    <a:pt x="444" y="0"/>
                  </a:lnTo>
                  <a:lnTo>
                    <a:pt x="490" y="0"/>
                  </a:lnTo>
                  <a:lnTo>
                    <a:pt x="490" y="260"/>
                  </a:lnTo>
                  <a:lnTo>
                    <a:pt x="456" y="260"/>
                  </a:lnTo>
                  <a:lnTo>
                    <a:pt x="456" y="43"/>
                  </a:lnTo>
                  <a:lnTo>
                    <a:pt x="381" y="260"/>
                  </a:lnTo>
                  <a:lnTo>
                    <a:pt x="350" y="260"/>
                  </a:lnTo>
                  <a:lnTo>
                    <a:pt x="274" y="39"/>
                  </a:lnTo>
                  <a:lnTo>
                    <a:pt x="274" y="260"/>
                  </a:lnTo>
                  <a:lnTo>
                    <a:pt x="242" y="26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56840"/>
            <a:ext cx="792504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fferences in estimates of moderate physical activity</a:t>
            </a:r>
            <a:endParaRPr b="1" lang="en-US" sz="4400" spc="-1" strike="noStrike">
              <a:solidFill>
                <a:srgbClr val="ffff00"/>
              </a:solidFill>
              <a:latin typeface="Arial"/>
            </a:endParaRPr>
          </a:p>
        </p:txBody>
      </p:sp>
      <p:graphicFrame>
        <p:nvGraphicFramePr>
          <p:cNvPr id="129" name=""/>
          <p:cNvGraphicFramePr/>
          <p:nvPr/>
        </p:nvGraphicFramePr>
        <p:xfrm>
          <a:off x="1600200" y="2400480"/>
          <a:ext cx="6095880" cy="2970000"/>
        </p:xfrm>
        <a:graphic>
          <a:graphicData uri="http://schemas.openxmlformats.org/drawingml/2006/table">
            <a:tbl>
              <a:tblPr/>
              <a:tblGrid>
                <a:gridCol w="2438280"/>
                <a:gridCol w="1828800"/>
                <a:gridCol w="1828800"/>
              </a:tblGrid>
              <a:tr h="605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8</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102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0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lis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1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mod q’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895480" y="2133360"/>
            <a:ext cx="6096240" cy="43434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both moderate and vigorous responses that meet criteria (closer to intent of objective – i.e., regular activity)</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4 questions:</a:t>
            </a:r>
            <a:endParaRPr b="0" lang="en-US" sz="2800" spc="-1" strike="noStrike">
              <a:solidFill>
                <a:srgbClr val="ffffff"/>
              </a:solidFill>
              <a:latin typeface="Arial"/>
            </a:endParaRPr>
          </a:p>
          <a:p>
            <a:pPr lvl="1" marL="743040" indent="-285840">
              <a:lnSpc>
                <a:spcPct val="9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and duration of vigorous activity</a:t>
            </a:r>
            <a:endParaRPr b="0" lang="en-US" sz="2600" spc="-1" strike="noStrike">
              <a:solidFill>
                <a:srgbClr val="ffffff"/>
              </a:solidFill>
              <a:latin typeface="Arial"/>
            </a:endParaRPr>
          </a:p>
          <a:p>
            <a:pPr lvl="1" marL="743040" indent="-285840">
              <a:lnSpc>
                <a:spcPct val="9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and duration of moderate activity</a:t>
            </a:r>
            <a:endParaRPr b="0" lang="en-US" sz="2600" spc="-1" strike="noStrike">
              <a:solidFill>
                <a:srgbClr val="ffffff"/>
              </a:solidFill>
              <a:latin typeface="Arial"/>
            </a:endParaRPr>
          </a:p>
        </p:txBody>
      </p:sp>
      <p:sp>
        <p:nvSpPr>
          <p:cNvPr id="131" name=""/>
          <p:cNvSpPr/>
          <p:nvPr/>
        </p:nvSpPr>
        <p:spPr>
          <a:xfrm>
            <a:off x="609480" y="457200"/>
            <a:ext cx="7925040" cy="17524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w recommendation for HP2010 definition of moderate physical activity</a:t>
            </a:r>
            <a:endParaRPr b="0" lang="en-US" sz="4000" spc="-1" strike="noStrike">
              <a:solidFill>
                <a:srgbClr val="ffffff"/>
              </a:solidFill>
              <a:latin typeface="Times New Roman"/>
            </a:endParaRPr>
          </a:p>
        </p:txBody>
      </p:sp>
      <p:graphicFrame>
        <p:nvGraphicFramePr>
          <p:cNvPr id="132" name=""/>
          <p:cNvGraphicFramePr/>
          <p:nvPr/>
        </p:nvGraphicFramePr>
        <p:xfrm>
          <a:off x="380880" y="4718160"/>
          <a:ext cx="2343240" cy="1606320"/>
        </p:xfrm>
        <a:graphic>
          <a:graphicData uri="http://schemas.openxmlformats.org/presentationml/2006/ole">
            <p:oleObj r:id="rId1" spid="">
              <p:embed/>
              <p:pic>
                <p:nvPicPr>
                  <p:cNvPr id="133" name="" descr=""/>
                  <p:cNvPicPr/>
                  <p:nvPr/>
                </p:nvPicPr>
                <p:blipFill>
                  <a:blip r:embed="rId2"/>
                  <a:stretch/>
                </p:blipFill>
                <p:spPr>
                  <a:xfrm>
                    <a:off x="380880" y="4718160"/>
                    <a:ext cx="2343240" cy="16063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14400" y="1676160"/>
            <a:ext cx="78487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ften do you do vigorous activities for at least 10 minutes that cause heavy sweating or large increases in breathing or heart rate? </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ble to do</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times per day/week/month/yea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90000"/>
              </a:lnSpc>
              <a:spcBef>
                <a:spcPts val="700"/>
              </a:spcBef>
              <a:buClr>
                <a:srgbClr val="ff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how long do you do these vigorous activities each time?</a:t>
            </a:r>
            <a:endParaRPr b="0" lang="en-US" sz="2800" spc="-1" strike="noStrike">
              <a:solidFill>
                <a:srgbClr val="ffffff"/>
              </a:solidFill>
              <a:latin typeface="Arial"/>
            </a:endParaRPr>
          </a:p>
          <a:p>
            <a:pPr lvl="3" marL="1600200" indent="-228600">
              <a:lnSpc>
                <a:spcPct val="9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 minutes/hours</a:t>
            </a:r>
            <a:endParaRPr b="0" lang="en-US" sz="2800" spc="-1" strike="noStrike">
              <a:solidFill>
                <a:srgbClr val="ffffff"/>
              </a:solidFill>
              <a:latin typeface="Arial"/>
            </a:endParaRPr>
          </a:p>
        </p:txBody>
      </p:sp>
      <p:sp>
        <p:nvSpPr>
          <p:cNvPr id="135" name=""/>
          <p:cNvSpPr/>
          <p:nvPr/>
        </p:nvSpPr>
        <p:spPr>
          <a:xfrm>
            <a:off x="609480" y="304920"/>
            <a:ext cx="792504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igorous physical activity questions</a:t>
            </a:r>
            <a:endParaRPr b="0" lang="en-US" sz="4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olving estimates of HP2010 moderate physical activity</a:t>
            </a:r>
            <a:endParaRPr b="1" lang="en-US" sz="4400" spc="-1" strike="noStrike">
              <a:solidFill>
                <a:srgbClr val="ffff00"/>
              </a:solidFill>
              <a:latin typeface="Arial"/>
            </a:endParaRPr>
          </a:p>
        </p:txBody>
      </p:sp>
      <p:graphicFrame>
        <p:nvGraphicFramePr>
          <p:cNvPr id="137" name=""/>
          <p:cNvGraphicFramePr/>
          <p:nvPr/>
        </p:nvGraphicFramePr>
        <p:xfrm>
          <a:off x="1600200" y="2400480"/>
          <a:ext cx="6095880" cy="3544560"/>
        </p:xfrm>
        <a:graphic>
          <a:graphicData uri="http://schemas.openxmlformats.org/drawingml/2006/table">
            <a:tbl>
              <a:tblPr/>
              <a:tblGrid>
                <a:gridCol w="3429000"/>
                <a:gridCol w="1371600"/>
                <a:gridCol w="1295280"/>
              </a:tblGrid>
              <a:tr h="607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8</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645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00 (activities lis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4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HP2010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oderate questio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HP201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vigorous + moderate questio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819160" y="2895120"/>
            <a:ext cx="6095880" cy="25146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or moderate physical activity for at least 30 minutes 5 or more times a week, </a:t>
            </a:r>
            <a:r>
              <a:rPr b="0" lang="en-US" sz="2800" spc="-1" strike="noStrike">
                <a:solidFill>
                  <a:srgbClr val="ffff00"/>
                </a:solidFill>
                <a:latin typeface="Arial"/>
              </a:rPr>
              <a:t>OR</a:t>
            </a:r>
            <a:r>
              <a:rPr b="0" lang="en-US" sz="2800" spc="-1" strike="noStrike">
                <a:solidFill>
                  <a:srgbClr val="ffffff"/>
                </a:solidFill>
                <a:latin typeface="Arial"/>
              </a:rPr>
              <a:t> vigorous physical activity for at least 20 minutes 3 or more times a week</a:t>
            </a:r>
            <a:endParaRPr b="0" lang="en-US" sz="2800" spc="-1" strike="noStrike">
              <a:solidFill>
                <a:srgbClr val="ffffff"/>
              </a:solidFill>
              <a:latin typeface="Arial"/>
            </a:endParaRPr>
          </a:p>
        </p:txBody>
      </p:sp>
      <p:sp>
        <p:nvSpPr>
          <p:cNvPr id="139" name="PlaceHolder 2"/>
          <p:cNvSpPr>
            <a:spLocks noGrp="1"/>
          </p:cNvSpPr>
          <p:nvPr>
            <p:ph type="title"/>
          </p:nvPr>
        </p:nvSpPr>
        <p:spPr>
          <a:xfrm>
            <a:off x="533160" y="228600"/>
            <a:ext cx="8381880" cy="18288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ed HP2010 operational definition of moderate physical activity</a:t>
            </a:r>
            <a:endParaRPr b="1" lang="en-US" sz="4400" spc="-1" strike="noStrike">
              <a:solidFill>
                <a:srgbClr val="ffff00"/>
              </a:solidFill>
              <a:latin typeface="Arial"/>
            </a:endParaRPr>
          </a:p>
        </p:txBody>
      </p:sp>
      <p:pic>
        <p:nvPicPr>
          <p:cNvPr id="140" name="j0121031" descr=""/>
          <p:cNvPicPr/>
          <p:nvPr/>
        </p:nvPicPr>
        <p:blipFill>
          <a:blip r:embed="rId1">
            <a:lum contrast="12000"/>
          </a:blip>
          <a:stretch/>
        </p:blipFill>
        <p:spPr>
          <a:xfrm>
            <a:off x="380880" y="4191120"/>
            <a:ext cx="2362320" cy="2166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848720" cy="1676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l resolution for adult moderate physical activity objective</a:t>
            </a:r>
            <a:endParaRPr b="1" lang="en-US" sz="4400" spc="-1" strike="noStrike">
              <a:solidFill>
                <a:srgbClr val="ffff00"/>
              </a:solidFill>
              <a:latin typeface="Arial"/>
            </a:endParaRPr>
          </a:p>
        </p:txBody>
      </p:sp>
      <p:graphicFrame>
        <p:nvGraphicFramePr>
          <p:cNvPr id="142" name=""/>
          <p:cNvGraphicFramePr/>
          <p:nvPr/>
        </p:nvGraphicFramePr>
        <p:xfrm>
          <a:off x="380880" y="4572000"/>
          <a:ext cx="2343240" cy="1606680"/>
        </p:xfrm>
        <a:graphic>
          <a:graphicData uri="http://schemas.openxmlformats.org/presentationml/2006/ole">
            <p:oleObj r:id="rId1" spid="">
              <p:embed/>
              <p:pic>
                <p:nvPicPr>
                  <p:cNvPr id="143" name="" descr=""/>
                  <p:cNvPicPr/>
                  <p:nvPr/>
                </p:nvPicPr>
                <p:blipFill>
                  <a:blip r:embed="rId2"/>
                  <a:stretch/>
                </p:blipFill>
                <p:spPr>
                  <a:xfrm>
                    <a:off x="380880" y="4572000"/>
                    <a:ext cx="2343240" cy="1606680"/>
                  </a:xfrm>
                  <a:prstGeom prst="rect">
                    <a:avLst/>
                  </a:prstGeom>
                  <a:ln w="0">
                    <a:noFill/>
                  </a:ln>
                </p:spPr>
              </p:pic>
            </p:oleObj>
          </a:graphicData>
        </a:graphic>
      </p:graphicFrame>
      <p:sp>
        <p:nvSpPr>
          <p:cNvPr id="144" name="PlaceHolder 2"/>
          <p:cNvSpPr>
            <a:spLocks noGrp="1"/>
          </p:cNvSpPr>
          <p:nvPr>
            <p:ph/>
          </p:nvPr>
        </p:nvSpPr>
        <p:spPr>
          <a:xfrm>
            <a:off x="3124080" y="2819520"/>
            <a:ext cx="5181840" cy="274320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ange in the wording of the objective</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baseline:  32% in 1997</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target:  50%</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80520"/>
            <a:ext cx="861048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3-9</a:t>
            </a:r>
            <a:br>
              <a:rPr sz="4400"/>
            </a:br>
            <a:r>
              <a:rPr b="1" lang="en-US" sz="4400" spc="-1" strike="noStrike">
                <a:solidFill>
                  <a:srgbClr val="ffff00"/>
                </a:solidFill>
                <a:latin typeface="Arial"/>
              </a:rPr>
              <a:t>Sun exposure and skin cancer</a:t>
            </a:r>
            <a:endParaRPr b="1" lang="en-US" sz="4400" spc="-1" strike="noStrike">
              <a:solidFill>
                <a:srgbClr val="ffff00"/>
              </a:solidFill>
              <a:latin typeface="Arial"/>
            </a:endParaRPr>
          </a:p>
        </p:txBody>
      </p:sp>
      <p:sp>
        <p:nvSpPr>
          <p:cNvPr id="146" name="PlaceHolder 2"/>
          <p:cNvSpPr>
            <a:spLocks noGrp="1"/>
          </p:cNvSpPr>
          <p:nvPr>
            <p:ph/>
          </p:nvPr>
        </p:nvSpPr>
        <p:spPr>
          <a:xfrm>
            <a:off x="2666520" y="1980720"/>
            <a:ext cx="617220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the proportion of persons who use at least one of the following protective measures that may reduce the risk of skin cancer:</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the sun between 10 am and 4 pm</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sun-protective clothing when exposed to sunlight</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unscreen with a sun protective factor (SPF) of 15 or higher</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artificial sources of ultraviolet light</a:t>
            </a:r>
            <a:endParaRPr b="0" lang="en-US" sz="2400" spc="-1" strike="noStrike">
              <a:solidFill>
                <a:srgbClr val="ffffff"/>
              </a:solidFill>
              <a:latin typeface="Arial"/>
            </a:endParaRPr>
          </a:p>
        </p:txBody>
      </p:sp>
      <p:pic>
        <p:nvPicPr>
          <p:cNvPr id="147" name="j0117351" descr=""/>
          <p:cNvPicPr/>
          <p:nvPr/>
        </p:nvPicPr>
        <p:blipFill>
          <a:blip r:embed="rId1"/>
          <a:stretch/>
        </p:blipFill>
        <p:spPr>
          <a:xfrm>
            <a:off x="76320" y="4365720"/>
            <a:ext cx="2514600" cy="222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3-9b</a:t>
            </a:r>
            <a:br>
              <a:rPr sz="4400"/>
            </a:br>
            <a:r>
              <a:rPr b="1" lang="en-US" sz="4400" spc="-1" strike="noStrike">
                <a:solidFill>
                  <a:srgbClr val="ffff00"/>
                </a:solidFill>
                <a:latin typeface="Arial"/>
              </a:rPr>
              <a:t>Sun exposure and skin cancer among adults</a:t>
            </a:r>
            <a:endParaRPr b="1" lang="en-US" sz="4400" spc="-1" strike="noStrike">
              <a:solidFill>
                <a:srgbClr val="ffff00"/>
              </a:solidFill>
              <a:latin typeface="Arial"/>
            </a:endParaRPr>
          </a:p>
        </p:txBody>
      </p:sp>
      <p:sp>
        <p:nvSpPr>
          <p:cNvPr id="149" name="PlaceHolder 2"/>
          <p:cNvSpPr>
            <a:spLocks noGrp="1"/>
          </p:cNvSpPr>
          <p:nvPr>
            <p:ph/>
          </p:nvPr>
        </p:nvSpPr>
        <p:spPr>
          <a:xfrm>
            <a:off x="3047760" y="2742840"/>
            <a:ext cx="5562360" cy="25146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proportion of adults aged 18 years and older who follow protective measures that may reduce the risk of skin cancer.</a:t>
            </a:r>
            <a:endParaRPr b="0" lang="en-US" sz="2800" spc="-1" strike="noStrike">
              <a:solidFill>
                <a:srgbClr val="ffffff"/>
              </a:solidFill>
              <a:latin typeface="Arial"/>
            </a:endParaRPr>
          </a:p>
        </p:txBody>
      </p:sp>
      <p:pic>
        <p:nvPicPr>
          <p:cNvPr id="150" name="j0117351" descr=""/>
          <p:cNvPicPr/>
          <p:nvPr/>
        </p:nvPicPr>
        <p:blipFill>
          <a:blip r:embed="rId1"/>
          <a:stretch/>
        </p:blipFill>
        <p:spPr>
          <a:xfrm>
            <a:off x="76320" y="4365720"/>
            <a:ext cx="2514600" cy="2225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3-9b</a:t>
            </a:r>
            <a:br>
              <a:rPr sz="4400"/>
            </a:br>
            <a:r>
              <a:rPr b="1" lang="en-US" sz="4400" spc="-1" strike="noStrike">
                <a:solidFill>
                  <a:srgbClr val="ffff00"/>
                </a:solidFill>
                <a:latin typeface="Arial"/>
              </a:rPr>
              <a:t>Measurement issues</a:t>
            </a:r>
            <a:endParaRPr b="1" lang="en-US" sz="4400" spc="-1" strike="noStrike">
              <a:solidFill>
                <a:srgbClr val="ffff00"/>
              </a:solidFill>
              <a:latin typeface="Arial"/>
            </a:endParaRPr>
          </a:p>
        </p:txBody>
      </p:sp>
      <p:sp>
        <p:nvSpPr>
          <p:cNvPr id="152" name="PlaceHolder 2"/>
          <p:cNvSpPr>
            <a:spLocks noGrp="1"/>
          </p:cNvSpPr>
          <p:nvPr>
            <p:ph/>
          </p:nvPr>
        </p:nvSpPr>
        <p:spPr>
          <a:xfrm>
            <a:off x="3047760" y="2133360"/>
            <a:ext cx="5562360" cy="11430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 baseline questions differ from 2000 and 2003 questions</a:t>
            </a:r>
            <a:endParaRPr b="0" lang="en-US" sz="2800" spc="-1" strike="noStrike">
              <a:solidFill>
                <a:srgbClr val="ffffff"/>
              </a:solidFill>
              <a:latin typeface="Arial"/>
            </a:endParaRPr>
          </a:p>
        </p:txBody>
      </p:sp>
      <p:pic>
        <p:nvPicPr>
          <p:cNvPr id="153" name="j0117351" descr=""/>
          <p:cNvPicPr/>
          <p:nvPr/>
        </p:nvPicPr>
        <p:blipFill>
          <a:blip r:embed="rId1"/>
          <a:stretch/>
        </p:blipFill>
        <p:spPr>
          <a:xfrm>
            <a:off x="76320" y="4365720"/>
            <a:ext cx="2514600" cy="2225520"/>
          </a:xfrm>
          <a:prstGeom prst="rect">
            <a:avLst/>
          </a:prstGeom>
          <a:ln w="0">
            <a:noFill/>
          </a:ln>
        </p:spPr>
      </p:pic>
      <p:sp>
        <p:nvSpPr>
          <p:cNvPr id="154" name=""/>
          <p:cNvSpPr/>
          <p:nvPr/>
        </p:nvSpPr>
        <p:spPr>
          <a:xfrm>
            <a:off x="3048120" y="3048120"/>
            <a:ext cx="556236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or not to use new 2000 data on respondents who offer that they “do not go out in the sun” in the analysis</a:t>
            </a:r>
            <a:endParaRPr b="0" lang="en-US" sz="2800" spc="-1" strike="noStrike">
              <a:solidFill>
                <a:srgbClr val="ffffff"/>
              </a:solidFill>
              <a:latin typeface="Times New Roman"/>
            </a:endParaRPr>
          </a:p>
        </p:txBody>
      </p:sp>
      <p:sp>
        <p:nvSpPr>
          <p:cNvPr id="155" name=""/>
          <p:cNvSpPr/>
          <p:nvPr/>
        </p:nvSpPr>
        <p:spPr>
          <a:xfrm>
            <a:off x="3048120" y="4800600"/>
            <a:ext cx="556236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or not to use the SPF question added to the 2000 and 2003 questionnaires</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666880" y="1904760"/>
            <a:ext cx="609624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a:t>
            </a:r>
            <a:r>
              <a:rPr b="0" lang="en-US" sz="2800" spc="-1" strike="noStrike">
                <a:solidFill>
                  <a:srgbClr val="ffffff"/>
                </a:solidFill>
                <a:latin typeface="Arial"/>
              </a:rPr>
              <a:t> you were to go outside on a very sunny day for MORE than one hour, are you </a:t>
            </a:r>
            <a:r>
              <a:rPr b="0" lang="en-US" sz="2800" spc="-1" strike="noStrike">
                <a:solidFill>
                  <a:srgbClr val="ffff00"/>
                </a:solidFill>
                <a:latin typeface="Arial"/>
              </a:rPr>
              <a:t>very likely</a:t>
            </a:r>
            <a:r>
              <a:rPr b="0" lang="en-US" sz="2800" spc="-1" strike="noStrike">
                <a:solidFill>
                  <a:srgbClr val="ffffff"/>
                </a:solidFill>
                <a:latin typeface="Arial"/>
              </a:rPr>
              <a:t>, </a:t>
            </a:r>
            <a:r>
              <a:rPr b="0" lang="en-US" sz="2800" spc="-1" strike="noStrike">
                <a:solidFill>
                  <a:srgbClr val="ffff00"/>
                </a:solidFill>
                <a:latin typeface="Arial"/>
              </a:rPr>
              <a:t>somewhat likely</a:t>
            </a:r>
            <a:r>
              <a:rPr b="0" lang="en-US" sz="2800" spc="-1" strike="noStrike">
                <a:solidFill>
                  <a:srgbClr val="ffffff"/>
                </a:solidFill>
                <a:latin typeface="Arial"/>
              </a:rPr>
              <a:t>, or </a:t>
            </a:r>
            <a:r>
              <a:rPr b="0" lang="en-US" sz="2800" spc="-1" strike="noStrike">
                <a:solidFill>
                  <a:srgbClr val="ffff00"/>
                </a:solidFill>
                <a:latin typeface="Arial"/>
              </a:rPr>
              <a:t>unlikely</a:t>
            </a:r>
            <a:r>
              <a:rPr b="0" lang="en-US" sz="2800" spc="-1" strike="noStrike">
                <a:solidFill>
                  <a:srgbClr val="ffffff"/>
                </a:solidFill>
                <a:latin typeface="Arial"/>
              </a:rPr>
              <a:t> to…</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r protective clothing such as wide brimmed hats or long sleeved shirts?</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the sun by staying in the shade?</a:t>
            </a:r>
            <a:endParaRPr b="0" lang="en-US" sz="2800" spc="-1" strike="noStrike">
              <a:solidFill>
                <a:srgbClr val="ffffff"/>
              </a:solidFill>
              <a:latin typeface="Arial"/>
            </a:endParaRPr>
          </a:p>
          <a:p>
            <a:pPr lvl="1" marL="743040" indent="-28584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unscreen or sun block lotion?</a:t>
            </a:r>
            <a:endParaRPr b="0" lang="en-US" sz="2800" spc="-1" strike="noStrike">
              <a:solidFill>
                <a:srgbClr val="ffffff"/>
              </a:solidFill>
              <a:latin typeface="Arial"/>
            </a:endParaRPr>
          </a:p>
        </p:txBody>
      </p:sp>
      <p:sp>
        <p:nvSpPr>
          <p:cNvPr id="157" name=""/>
          <p:cNvSpPr/>
          <p:nvPr/>
        </p:nvSpPr>
        <p:spPr>
          <a:xfrm>
            <a:off x="1371600" y="304920"/>
            <a:ext cx="647712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s used for</a:t>
            </a:r>
            <a:endParaRPr b="0" lang="en-US" sz="4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1998 baseline</a:t>
            </a:r>
            <a:endParaRPr b="0" lang="en-US" sz="4400" spc="-1" strike="noStrike">
              <a:solidFill>
                <a:srgbClr val="ffffff"/>
              </a:solidFill>
              <a:latin typeface="Times New Roman"/>
            </a:endParaRPr>
          </a:p>
        </p:txBody>
      </p:sp>
      <p:pic>
        <p:nvPicPr>
          <p:cNvPr id="158" name="NA00544_" descr=""/>
          <p:cNvPicPr/>
          <p:nvPr/>
        </p:nvPicPr>
        <p:blipFill>
          <a:blip r:embed="rId1"/>
          <a:stretch/>
        </p:blipFill>
        <p:spPr>
          <a:xfrm>
            <a:off x="152280" y="4267080"/>
            <a:ext cx="2359080" cy="2351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69343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hanges in tracking data can be due to:</a:t>
            </a:r>
            <a:endParaRPr b="1" lang="en-US" sz="4400" spc="-1" strike="noStrike">
              <a:solidFill>
                <a:srgbClr val="ffff00"/>
              </a:solidFill>
              <a:latin typeface="Arial"/>
            </a:endParaRPr>
          </a:p>
        </p:txBody>
      </p:sp>
      <p:sp>
        <p:nvSpPr>
          <p:cNvPr id="102" name="PlaceHolder 2"/>
          <p:cNvSpPr>
            <a:spLocks noGrp="1"/>
          </p:cNvSpPr>
          <p:nvPr>
            <p:ph/>
          </p:nvPr>
        </p:nvSpPr>
        <p:spPr>
          <a:xfrm>
            <a:off x="533520" y="2133360"/>
            <a:ext cx="3657600" cy="464796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ing classifications (ICD-9 to ICD-10)</a:t>
            </a:r>
            <a:endParaRPr b="0" lang="en-US" sz="2800" spc="-1" strike="noStrike">
              <a:solidFill>
                <a:srgbClr val="ffffff"/>
              </a:solidFill>
              <a:latin typeface="Arial"/>
            </a:endParaRPr>
          </a:p>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d OMB standards (1997) for race and ethnicity categories </a:t>
            </a:r>
            <a:endParaRPr b="0" lang="en-US" sz="2800" spc="-1" strike="noStrike">
              <a:solidFill>
                <a:srgbClr val="ffffff"/>
              </a:solidFill>
              <a:latin typeface="Arial"/>
            </a:endParaRPr>
          </a:p>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djustment group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
          <p:cNvSpPr/>
          <p:nvPr/>
        </p:nvSpPr>
        <p:spPr>
          <a:xfrm>
            <a:off x="4952880" y="2133720"/>
            <a:ext cx="36576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ource changes including question wording</a:t>
            </a:r>
            <a:endParaRPr b="0" lang="en-US" sz="2800" spc="-1" strike="noStrike">
              <a:solidFill>
                <a:srgbClr val="ffffff"/>
              </a:solidFill>
              <a:latin typeface="Times New Roman"/>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 in original measure</a:t>
            </a:r>
            <a:endParaRPr b="0" lang="en-US" sz="2800" spc="-1" strike="noStrike">
              <a:solidFill>
                <a:srgbClr val="ffffff"/>
              </a:solidFill>
              <a:latin typeface="Times New Roman"/>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liminary analysis made final</a:t>
            </a:r>
            <a:endParaRPr b="0" lang="en-US" sz="2800" spc="-1" strike="noStrike">
              <a:solidFill>
                <a:srgbClr val="ffffff"/>
              </a:solidFill>
              <a:latin typeface="Times New Roman"/>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ci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666880" y="1523880"/>
            <a:ext cx="6096240" cy="5105520"/>
          </a:xfrm>
          <a:prstGeom prst="rect">
            <a:avLst/>
          </a:prstGeom>
          <a:noFill/>
          <a:ln w="0">
            <a:noFill/>
          </a:ln>
        </p:spPr>
        <p:txBody>
          <a:bodyPr lIns="92160" rIns="92160" tIns="46080" bIns="46080" anchor="t">
            <a:normAutofit/>
          </a:bodyPr>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a:t>
            </a:r>
            <a:r>
              <a:rPr b="0" lang="en-US" sz="2400" spc="-1" strike="noStrike">
                <a:solidFill>
                  <a:srgbClr val="ffffff"/>
                </a:solidFill>
                <a:latin typeface="Arial"/>
              </a:rPr>
              <a:t> you go outside on a very sunny day for more than one hour, </a:t>
            </a:r>
            <a:r>
              <a:rPr b="0" lang="en-US" sz="2400" spc="-1" strike="noStrike">
                <a:solidFill>
                  <a:srgbClr val="ffff00"/>
                </a:solidFill>
                <a:latin typeface="Arial"/>
              </a:rPr>
              <a:t>how often</a:t>
            </a:r>
            <a:r>
              <a:rPr b="0" lang="en-US" sz="2400" spc="-1" strike="noStrike">
                <a:solidFill>
                  <a:srgbClr val="ffffff"/>
                </a:solidFill>
                <a:latin typeface="Arial"/>
              </a:rPr>
              <a:t> do you…</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the shade?</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a hat that shades your ears, face, and neck?</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a long sleeved shirt?</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r sunscreen?</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choices read after each question: </a:t>
            </a:r>
            <a:r>
              <a:rPr b="0" lang="en-US" sz="2400" spc="-1" strike="noStrike">
                <a:solidFill>
                  <a:srgbClr val="ffff00"/>
                </a:solidFill>
                <a:latin typeface="Arial"/>
              </a:rPr>
              <a:t>always</a:t>
            </a:r>
            <a:r>
              <a:rPr b="0" lang="en-US" sz="2400" spc="-1" strike="noStrike">
                <a:solidFill>
                  <a:srgbClr val="ffffff"/>
                </a:solidFill>
                <a:latin typeface="Arial"/>
              </a:rPr>
              <a:t>; </a:t>
            </a:r>
            <a:r>
              <a:rPr b="0" lang="en-US" sz="2400" spc="-1" strike="noStrike">
                <a:solidFill>
                  <a:srgbClr val="ffff00"/>
                </a:solidFill>
                <a:latin typeface="Arial"/>
              </a:rPr>
              <a:t>most of the time</a:t>
            </a:r>
            <a:r>
              <a:rPr b="0" lang="en-US" sz="2400" spc="-1" strike="noStrike">
                <a:solidFill>
                  <a:srgbClr val="ffffff"/>
                </a:solidFill>
                <a:latin typeface="Arial"/>
              </a:rPr>
              <a:t>; </a:t>
            </a:r>
            <a:r>
              <a:rPr b="0" lang="en-US" sz="2400" spc="-1" strike="noStrike">
                <a:solidFill>
                  <a:srgbClr val="ffff00"/>
                </a:solidFill>
                <a:latin typeface="Arial"/>
              </a:rPr>
              <a:t>sometimes</a:t>
            </a:r>
            <a:r>
              <a:rPr b="0" lang="en-US" sz="2400" spc="-1" strike="noStrike">
                <a:solidFill>
                  <a:srgbClr val="ffffff"/>
                </a:solidFill>
                <a:latin typeface="Arial"/>
              </a:rPr>
              <a:t>; </a:t>
            </a:r>
            <a:r>
              <a:rPr b="0" lang="en-US" sz="2400" spc="-1" strike="noStrike">
                <a:solidFill>
                  <a:srgbClr val="ffff00"/>
                </a:solidFill>
                <a:latin typeface="Arial"/>
              </a:rPr>
              <a:t>rarely</a:t>
            </a:r>
            <a:r>
              <a:rPr b="0" lang="en-US" sz="2400" spc="-1" strike="noStrike">
                <a:solidFill>
                  <a:srgbClr val="ffffff"/>
                </a:solidFill>
                <a:latin typeface="Arial"/>
              </a:rPr>
              <a:t>; </a:t>
            </a:r>
            <a:r>
              <a:rPr b="0" lang="en-US" sz="2400" spc="-1" strike="noStrike">
                <a:solidFill>
                  <a:srgbClr val="ffff00"/>
                </a:solidFill>
                <a:latin typeface="Arial"/>
              </a:rPr>
              <a:t>never</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Don’t go out in the sun” was also coded as a response, but not asked.]</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
          <p:cNvSpPr/>
          <p:nvPr/>
        </p:nvSpPr>
        <p:spPr>
          <a:xfrm>
            <a:off x="1371600" y="304920"/>
            <a:ext cx="647712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s used for</a:t>
            </a:r>
            <a:endParaRPr b="0" lang="en-US" sz="4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2000 and 2003 updates</a:t>
            </a:r>
            <a:endParaRPr b="0" lang="en-US" sz="4400" spc="-1" strike="noStrike">
              <a:solidFill>
                <a:srgbClr val="ffffff"/>
              </a:solidFill>
              <a:latin typeface="Times New Roman"/>
            </a:endParaRPr>
          </a:p>
        </p:txBody>
      </p:sp>
      <p:pic>
        <p:nvPicPr>
          <p:cNvPr id="161" name="NA00544_" descr=""/>
          <p:cNvPicPr/>
          <p:nvPr/>
        </p:nvPicPr>
        <p:blipFill>
          <a:blip r:embed="rId1"/>
          <a:stretch/>
        </p:blipFill>
        <p:spPr>
          <a:xfrm>
            <a:off x="152280" y="4267080"/>
            <a:ext cx="2359080" cy="2351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y changes in question wording?</a:t>
            </a:r>
            <a:endParaRPr b="1" lang="en-US" sz="4400" spc="-1" strike="noStrike">
              <a:solidFill>
                <a:srgbClr val="ffff00"/>
              </a:solidFill>
              <a:latin typeface="Arial"/>
            </a:endParaRPr>
          </a:p>
        </p:txBody>
      </p:sp>
      <p:sp>
        <p:nvSpPr>
          <p:cNvPr id="163" name="PlaceHolder 2"/>
          <p:cNvSpPr>
            <a:spLocks noGrp="1"/>
          </p:cNvSpPr>
          <p:nvPr>
            <p:ph/>
          </p:nvPr>
        </p:nvSpPr>
        <p:spPr>
          <a:xfrm>
            <a:off x="3047760" y="2209680"/>
            <a:ext cx="5562360" cy="36576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nd response choices should relate to the frequency of real behavior and not to a hypothetical likelihood of behavior</a:t>
            </a:r>
            <a:endParaRPr b="0" lang="en-US" sz="2800" spc="-1" strike="noStrike">
              <a:solidFill>
                <a:srgbClr val="ffffff"/>
              </a:solidFill>
              <a:latin typeface="Arial"/>
            </a:endParaRPr>
          </a:p>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5-point scale is generally considered to be better than a 3-point scale</a:t>
            </a:r>
            <a:endParaRPr b="0" lang="en-US" sz="2800" spc="-1" strike="noStrike">
              <a:solidFill>
                <a:srgbClr val="ffffff"/>
              </a:solidFill>
              <a:latin typeface="Arial"/>
            </a:endParaRPr>
          </a:p>
        </p:txBody>
      </p:sp>
      <p:pic>
        <p:nvPicPr>
          <p:cNvPr id="164" name="BD20233_" descr=""/>
          <p:cNvPicPr/>
          <p:nvPr/>
        </p:nvPicPr>
        <p:blipFill>
          <a:blip r:embed="rId1"/>
          <a:stretch/>
        </p:blipFill>
        <p:spPr>
          <a:xfrm>
            <a:off x="152280" y="4114800"/>
            <a:ext cx="2416320" cy="2276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152280"/>
            <a:ext cx="7696080" cy="15242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eople who don’t go out in the sun (DGOITS)</a:t>
            </a:r>
            <a:endParaRPr b="1" lang="en-US" sz="4400" spc="-1" strike="noStrike">
              <a:solidFill>
                <a:srgbClr val="ffff00"/>
              </a:solidFill>
              <a:latin typeface="Arial"/>
            </a:endParaRPr>
          </a:p>
        </p:txBody>
      </p:sp>
      <p:sp>
        <p:nvSpPr>
          <p:cNvPr id="166" name="PlaceHolder 2"/>
          <p:cNvSpPr>
            <a:spLocks noGrp="1"/>
          </p:cNvSpPr>
          <p:nvPr>
            <p:ph/>
          </p:nvPr>
        </p:nvSpPr>
        <p:spPr>
          <a:xfrm>
            <a:off x="2666520" y="1752480"/>
            <a:ext cx="617220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ponse “I don’t go out in the sun” to the sun protective behavior questions was recorded and coded but not specifically asked for in 2000</a:t>
            </a:r>
            <a:endParaRPr b="0" lang="en-US" sz="2400" spc="-1" strike="noStrike">
              <a:solidFill>
                <a:srgbClr val="ffffff"/>
              </a:solidFill>
              <a:latin typeface="Arial"/>
            </a:endParaRPr>
          </a:p>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use this information?</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DGOITS at risk but engaging in a protective behavior? (radical sun protectionists)</a:t>
            </a:r>
            <a:endParaRPr b="0" lang="en-US" sz="2400" spc="-1" strike="noStrike">
              <a:solidFill>
                <a:srgbClr val="ffffff"/>
              </a:solidFill>
              <a:latin typeface="Arial"/>
            </a:endParaRPr>
          </a:p>
          <a:p>
            <a:pPr lvl="1" marL="743040" indent="-285840">
              <a:lnSpc>
                <a:spcPct val="90000"/>
              </a:lnSpc>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are they not at risk because they spend their lives indoors? (not applicable subgroup)</a:t>
            </a:r>
            <a:endParaRPr b="0" lang="en-US" sz="2400" spc="-1" strike="noStrike">
              <a:solidFill>
                <a:srgbClr val="ffffff"/>
              </a:solidFill>
              <a:latin typeface="Arial"/>
            </a:endParaRPr>
          </a:p>
          <a:p>
            <a:pPr marL="343080" indent="-343080">
              <a:lnSpc>
                <a:spcPct val="90000"/>
              </a:lnSpc>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Exclude DGOITS from analysis (don’t know reason for behavior)</a:t>
            </a:r>
            <a:endParaRPr b="0" lang="en-US" sz="2400" spc="-1" strike="noStrike">
              <a:solidFill>
                <a:srgbClr val="ffffff"/>
              </a:solidFill>
              <a:latin typeface="Arial"/>
            </a:endParaRPr>
          </a:p>
        </p:txBody>
      </p:sp>
      <p:pic>
        <p:nvPicPr>
          <p:cNvPr id="167" name="NA00544_" descr=""/>
          <p:cNvPicPr/>
          <p:nvPr/>
        </p:nvPicPr>
        <p:blipFill>
          <a:blip r:embed="rId1"/>
          <a:stretch/>
        </p:blipFill>
        <p:spPr>
          <a:xfrm>
            <a:off x="152280" y="4267080"/>
            <a:ext cx="2359080" cy="2351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60"/>
            <a:ext cx="76960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se SPF question?</a:t>
            </a:r>
            <a:endParaRPr b="1" lang="en-US" sz="4400" spc="-1" strike="noStrike">
              <a:solidFill>
                <a:srgbClr val="ffff00"/>
              </a:solidFill>
              <a:latin typeface="Arial"/>
            </a:endParaRPr>
          </a:p>
        </p:txBody>
      </p:sp>
      <p:sp>
        <p:nvSpPr>
          <p:cNvPr id="169" name="PlaceHolder 2"/>
          <p:cNvSpPr>
            <a:spLocks noGrp="1"/>
          </p:cNvSpPr>
          <p:nvPr>
            <p:ph/>
          </p:nvPr>
        </p:nvSpPr>
        <p:spPr>
          <a:xfrm>
            <a:off x="2895120" y="1447920"/>
            <a:ext cx="5867640" cy="4876560"/>
          </a:xfrm>
          <a:prstGeom prst="rect">
            <a:avLst/>
          </a:prstGeom>
          <a:noFill/>
          <a:ln w="0">
            <a:noFill/>
          </a:ln>
        </p:spPr>
        <p:txBody>
          <a:bodyPr lIns="92160" rIns="92160" tIns="46080" bIns="46080" anchor="t">
            <a:normAutofit/>
          </a:bodyPr>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2010 objective wording includes the words “use sunscreen with a sun protective factor (SPF) of 15 or higher”</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baseline did not include SPF numbers in the analysis (question was not asked)</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2000, if respondents said they used sunscreen “all” or “most of the time,” they got a follow-up question:</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PF number of the sunscreen you use MOST often?</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ution:  Use the SPF question</a:t>
            </a:r>
            <a:endParaRPr b="0" lang="en-US" sz="2400" spc="-1" strike="noStrike">
              <a:solidFill>
                <a:srgbClr val="ffffff"/>
              </a:solidFill>
              <a:latin typeface="Arial"/>
            </a:endParaRPr>
          </a:p>
        </p:txBody>
      </p:sp>
      <p:pic>
        <p:nvPicPr>
          <p:cNvPr id="170" name="j0117351" descr=""/>
          <p:cNvPicPr/>
          <p:nvPr/>
        </p:nvPicPr>
        <p:blipFill>
          <a:blip r:embed="rId1"/>
          <a:stretch/>
        </p:blipFill>
        <p:spPr>
          <a:xfrm>
            <a:off x="76320" y="4365720"/>
            <a:ext cx="2514600" cy="2225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1295280" y="2362320"/>
          <a:ext cx="6553440" cy="3657600"/>
        </p:xfrm>
        <a:graphic>
          <a:graphicData uri="http://schemas.openxmlformats.org/drawingml/2006/table">
            <a:tbl>
              <a:tblPr/>
              <a:tblGrid>
                <a:gridCol w="914400"/>
                <a:gridCol w="1524240"/>
                <a:gridCol w="1600200"/>
                <a:gridCol w="990360"/>
                <a:gridCol w="1524240"/>
              </a:tblGrid>
              <a:tr h="1191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GOITS in numer-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GOITS in deno-minator?</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F used?</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532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8 </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6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2"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olving estimates of people reporting sun protective behaviors</a:t>
            </a:r>
            <a:endParaRPr b="1" lang="en-US" sz="4400" spc="-1" strike="noStrike">
              <a:solidFill>
                <a:srgbClr val="ffff00"/>
              </a:solidFill>
              <a:latin typeface="Arial"/>
            </a:endParaRPr>
          </a:p>
        </p:txBody>
      </p:sp>
      <p:sp>
        <p:nvSpPr>
          <p:cNvPr id="173" name=""/>
          <p:cNvSpPr/>
          <p:nvPr/>
        </p:nvSpPr>
        <p:spPr>
          <a:xfrm>
            <a:off x="6728760" y="558324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6840"/>
            <a:ext cx="8534160" cy="1676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l resolution for objective</a:t>
            </a:r>
            <a:br>
              <a:rPr sz="4400"/>
            </a:br>
            <a:r>
              <a:rPr b="1" lang="en-US" sz="4400" spc="-1" strike="noStrike">
                <a:solidFill>
                  <a:srgbClr val="ffff00"/>
                </a:solidFill>
                <a:latin typeface="Arial"/>
              </a:rPr>
              <a:t>3-9b: Sun protection behaviors</a:t>
            </a:r>
            <a:endParaRPr b="1" lang="en-US" sz="4400" spc="-1" strike="noStrike">
              <a:solidFill>
                <a:srgbClr val="ffff00"/>
              </a:solidFill>
              <a:latin typeface="Arial"/>
            </a:endParaRPr>
          </a:p>
        </p:txBody>
      </p:sp>
      <p:sp>
        <p:nvSpPr>
          <p:cNvPr id="175" name="PlaceHolder 2"/>
          <p:cNvSpPr>
            <a:spLocks noGrp="1"/>
          </p:cNvSpPr>
          <p:nvPr>
            <p:ph/>
          </p:nvPr>
        </p:nvSpPr>
        <p:spPr>
          <a:xfrm>
            <a:off x="3428640" y="2819520"/>
            <a:ext cx="5181480" cy="304776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baseline data from 1998 to 2000</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baseline is 58%</a:t>
            </a:r>
            <a:endParaRPr b="0" lang="en-US" sz="3200" spc="-1" strike="noStrike">
              <a:solidFill>
                <a:srgbClr val="ffffff"/>
              </a:solidFill>
              <a:latin typeface="Arial"/>
            </a:endParaRPr>
          </a:p>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 remains the same at 75%</a:t>
            </a:r>
            <a:endParaRPr b="0" lang="en-US" sz="3200" spc="-1" strike="noStrike">
              <a:solidFill>
                <a:srgbClr val="ffffff"/>
              </a:solidFill>
              <a:latin typeface="Arial"/>
            </a:endParaRPr>
          </a:p>
        </p:txBody>
      </p:sp>
      <p:pic>
        <p:nvPicPr>
          <p:cNvPr id="176" name="BD20233_" descr=""/>
          <p:cNvPicPr/>
          <p:nvPr/>
        </p:nvPicPr>
        <p:blipFill>
          <a:blip r:embed="rId1"/>
          <a:stretch/>
        </p:blipFill>
        <p:spPr>
          <a:xfrm>
            <a:off x="152280" y="4114800"/>
            <a:ext cx="2416320" cy="227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10480" cy="17524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 5-12</a:t>
            </a:r>
            <a:br>
              <a:rPr sz="3600"/>
            </a:br>
            <a:r>
              <a:rPr b="1" lang="en-US" sz="3600" spc="-1" strike="noStrike">
                <a:solidFill>
                  <a:srgbClr val="ffff00"/>
                </a:solidFill>
                <a:latin typeface="Arial"/>
              </a:rPr>
              <a:t>Glycosylated hemoglobin measurement among adults with diabetes</a:t>
            </a:r>
            <a:endParaRPr b="1" lang="en-US" sz="3600" spc="-1" strike="noStrike">
              <a:solidFill>
                <a:srgbClr val="ffff00"/>
              </a:solidFill>
              <a:latin typeface="Arial"/>
            </a:endParaRPr>
          </a:p>
        </p:txBody>
      </p:sp>
      <p:sp>
        <p:nvSpPr>
          <p:cNvPr id="178" name="PlaceHolder 2"/>
          <p:cNvSpPr>
            <a:spLocks noGrp="1"/>
          </p:cNvSpPr>
          <p:nvPr>
            <p:ph/>
          </p:nvPr>
        </p:nvSpPr>
        <p:spPr>
          <a:xfrm>
            <a:off x="3124080" y="2971440"/>
            <a:ext cx="5562720" cy="289548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the proportion of adults with diabetes who have a glycosylated hemoglobin measurement at least once a year.</a:t>
            </a:r>
            <a:endParaRPr b="0" lang="en-US" sz="3200" spc="-1" strike="noStrike">
              <a:solidFill>
                <a:srgbClr val="ffffff"/>
              </a:solidFill>
              <a:latin typeface="Arial"/>
            </a:endParaRPr>
          </a:p>
        </p:txBody>
      </p:sp>
      <p:pic>
        <p:nvPicPr>
          <p:cNvPr id="179" name="j0186164" descr=""/>
          <p:cNvPicPr/>
          <p:nvPr/>
        </p:nvPicPr>
        <p:blipFill>
          <a:blip r:embed="rId1"/>
          <a:stretch/>
        </p:blipFill>
        <p:spPr>
          <a:xfrm>
            <a:off x="380880" y="4191120"/>
            <a:ext cx="1657440" cy="2376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5-12</a:t>
            </a:r>
            <a:br>
              <a:rPr sz="4400"/>
            </a:br>
            <a:r>
              <a:rPr b="1" lang="en-US" sz="4400" spc="-1" strike="noStrike">
                <a:solidFill>
                  <a:srgbClr val="ffff00"/>
                </a:solidFill>
                <a:latin typeface="Arial"/>
              </a:rPr>
              <a:t>Measurement issues</a:t>
            </a:r>
            <a:endParaRPr b="1" lang="en-US" sz="4400" spc="-1" strike="noStrike">
              <a:solidFill>
                <a:srgbClr val="ffff00"/>
              </a:solidFill>
              <a:latin typeface="Arial"/>
            </a:endParaRPr>
          </a:p>
        </p:txBody>
      </p:sp>
      <p:sp>
        <p:nvSpPr>
          <p:cNvPr id="181" name="PlaceHolder 2"/>
          <p:cNvSpPr>
            <a:spLocks noGrp="1"/>
          </p:cNvSpPr>
          <p:nvPr>
            <p:ph/>
          </p:nvPr>
        </p:nvSpPr>
        <p:spPr>
          <a:xfrm>
            <a:off x="3047760" y="1904760"/>
            <a:ext cx="5562360" cy="114300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8 baseline; BRFSS questions changed in 2000</a:t>
            </a:r>
            <a:endParaRPr b="0" lang="en-US" sz="3200" spc="-1" strike="noStrike">
              <a:solidFill>
                <a:srgbClr val="ffffff"/>
              </a:solidFill>
              <a:latin typeface="Arial"/>
            </a:endParaRPr>
          </a:p>
        </p:txBody>
      </p:sp>
      <p:pic>
        <p:nvPicPr>
          <p:cNvPr id="182" name="HM00372_" descr=""/>
          <p:cNvPicPr/>
          <p:nvPr/>
        </p:nvPicPr>
        <p:blipFill>
          <a:blip r:embed="rId1"/>
          <a:stretch/>
        </p:blipFill>
        <p:spPr>
          <a:xfrm>
            <a:off x="304920" y="4419720"/>
            <a:ext cx="2198520" cy="2286000"/>
          </a:xfrm>
          <a:prstGeom prst="rect">
            <a:avLst/>
          </a:prstGeom>
          <a:ln w="0">
            <a:noFill/>
          </a:ln>
        </p:spPr>
      </p:pic>
      <p:sp>
        <p:nvSpPr>
          <p:cNvPr id="183" name=""/>
          <p:cNvSpPr/>
          <p:nvPr/>
        </p:nvSpPr>
        <p:spPr>
          <a:xfrm>
            <a:off x="3048120" y="297180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real increase in people with diabetes getting A1C tests</a:t>
            </a:r>
            <a:endParaRPr b="0" lang="en-US" sz="3200" spc="-1" strike="noStrike">
              <a:solidFill>
                <a:srgbClr val="ffffff"/>
              </a:solidFill>
              <a:latin typeface="Times New Roman"/>
            </a:endParaRPr>
          </a:p>
        </p:txBody>
      </p:sp>
      <p:sp>
        <p:nvSpPr>
          <p:cNvPr id="184" name=""/>
          <p:cNvSpPr/>
          <p:nvPr/>
        </p:nvSpPr>
        <p:spPr>
          <a:xfrm>
            <a:off x="3084480" y="4495680"/>
            <a:ext cx="556272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nclude or exclude “Never heard of A1C test” in the denominator in 2000</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1600200"/>
            <a:ext cx="8153280" cy="4952880"/>
          </a:xfrm>
          <a:prstGeom prst="rect">
            <a:avLst/>
          </a:prstGeom>
          <a:noFill/>
          <a:ln w="0">
            <a:noFill/>
          </a:ln>
        </p:spPr>
        <p:txBody>
          <a:bodyPr lIns="92160" rIns="92160" tIns="46080" bIns="46080" anchor="t">
            <a:normAutofit/>
          </a:bodyPr>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umerator:</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 to “ever heard of glycosylated hemoglobin or hemoglobin A1C”</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seen a health professional about diabetes one or more times in the last year</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been checked by health professional for glycosylated hemoglobin A1C one or more times in the last year</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nominator:</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been told by a doctor that you have diabetes (for females, exclude if told only when pregnant)</a:t>
            </a:r>
            <a:endParaRPr b="0" lang="en-US" sz="2400" spc="-1" strike="noStrike">
              <a:solidFill>
                <a:srgbClr val="ffffff"/>
              </a:solidFill>
              <a:latin typeface="Arial"/>
            </a:endParaRPr>
          </a:p>
        </p:txBody>
      </p:sp>
      <p:sp>
        <p:nvSpPr>
          <p:cNvPr id="186" name=""/>
          <p:cNvSpPr/>
          <p:nvPr/>
        </p:nvSpPr>
        <p:spPr>
          <a:xfrm>
            <a:off x="990720" y="304920"/>
            <a:ext cx="731520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1998 baseline questions</a:t>
            </a:r>
            <a:endParaRPr b="0" lang="en-US" sz="4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3160" y="1523520"/>
            <a:ext cx="8305560" cy="4800600"/>
          </a:xfrm>
          <a:prstGeom prst="rect">
            <a:avLst/>
          </a:prstGeom>
          <a:noFill/>
          <a:ln w="0">
            <a:noFill/>
          </a:ln>
        </p:spPr>
        <p:txBody>
          <a:bodyPr lIns="92160" rIns="92160" tIns="46080" bIns="46080" anchor="t">
            <a:normAutofit/>
          </a:bodyPr>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umerator:</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seen a health professional about diabetes one or more times in the last year</a:t>
            </a:r>
            <a:endParaRPr b="0" lang="en-US" sz="2400" spc="-1" strike="noStrike">
              <a:solidFill>
                <a:srgbClr val="ffffff"/>
              </a:solidFill>
              <a:latin typeface="Arial"/>
            </a:endParaRPr>
          </a:p>
          <a:p>
            <a:pPr lvl="1" marL="743040" indent="-285840">
              <a:spcBef>
                <a:spcPts val="6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test for hemoglobin A1C measures the average level of blood sugar over the past three months.  About how many times in the past 12 months has a doctor, nurse, or other health professional checked you for hemoglobin A1C?”  </a:t>
            </a:r>
            <a:endParaRPr b="0" lang="en-US" sz="2400" spc="-1" strike="noStrike">
              <a:solidFill>
                <a:srgbClr val="ffffff"/>
              </a:solidFill>
              <a:latin typeface="Arial"/>
            </a:endParaRPr>
          </a:p>
          <a:p>
            <a:pPr lvl="2" marL="1143000" indent="-228600">
              <a:spcBef>
                <a:spcPts val="601"/>
              </a:spcBef>
              <a:buClr>
                <a:srgbClr val="ff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categories include “Never heard of A1C.”</a:t>
            </a:r>
            <a:endParaRPr b="0" lang="en-US" sz="2400" spc="-1" strike="noStrike">
              <a:solidFill>
                <a:srgbClr val="ffffff"/>
              </a:solidFill>
              <a:latin typeface="Arial"/>
            </a:endParaRPr>
          </a:p>
          <a:p>
            <a:pPr marL="343080" indent="-343080">
              <a:spcBef>
                <a:spcPts val="601"/>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nominator:</a:t>
            </a:r>
            <a:r>
              <a:rPr b="0" lang="en-US" sz="2400" spc="-1" strike="noStrike">
                <a:solidFill>
                  <a:srgbClr val="ffffff"/>
                </a:solidFill>
                <a:latin typeface="Arial"/>
              </a:rPr>
              <a:t>  Ever been told by a doctor that you have diabetes (for females, exclude if told only when pregnant)</a:t>
            </a:r>
            <a:endParaRPr b="0" lang="en-US" sz="2400" spc="-1" strike="noStrike">
              <a:solidFill>
                <a:srgbClr val="ffffff"/>
              </a:solidFill>
              <a:latin typeface="Arial"/>
            </a:endParaRPr>
          </a:p>
        </p:txBody>
      </p:sp>
      <p:sp>
        <p:nvSpPr>
          <p:cNvPr id="188" name=""/>
          <p:cNvSpPr/>
          <p:nvPr/>
        </p:nvSpPr>
        <p:spPr>
          <a:xfrm>
            <a:off x="1371600" y="304920"/>
            <a:ext cx="6477120" cy="99036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2000 questions</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04560"/>
            <a:ext cx="8458200" cy="1447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ree examples of changes in methodology and definitions</a:t>
            </a:r>
            <a:endParaRPr b="1" lang="en-US" sz="4000" spc="-1" strike="noStrike">
              <a:solidFill>
                <a:srgbClr val="ffff00"/>
              </a:solidFill>
              <a:latin typeface="Arial"/>
            </a:endParaRPr>
          </a:p>
        </p:txBody>
      </p:sp>
      <p:sp>
        <p:nvSpPr>
          <p:cNvPr id="105" name="PlaceHolder 2"/>
          <p:cNvSpPr>
            <a:spLocks noGrp="1"/>
          </p:cNvSpPr>
          <p:nvPr>
            <p:ph/>
          </p:nvPr>
        </p:nvSpPr>
        <p:spPr>
          <a:xfrm>
            <a:off x="609480" y="1904760"/>
            <a:ext cx="6477120" cy="46479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22-2 and LHI:  Moderate physical activity among adults (NHIS)</a:t>
            </a:r>
            <a:endParaRPr b="0" lang="en-US" sz="3200" spc="-1" strike="noStrike">
              <a:solidFill>
                <a:srgbClr val="ffffff"/>
              </a:solidFill>
              <a:latin typeface="Arial"/>
            </a:endParaRPr>
          </a:p>
          <a:p>
            <a:pPr marL="339480" indent="-3394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3-9:  Use of sun-protective behaviors among adults (NHIS)</a:t>
            </a:r>
            <a:endParaRPr b="0" lang="en-US" sz="3200" spc="-1" strike="noStrike">
              <a:solidFill>
                <a:srgbClr val="ffffff"/>
              </a:solidFill>
              <a:latin typeface="Arial"/>
            </a:endParaRPr>
          </a:p>
          <a:p>
            <a:pPr marL="339480" indent="-3394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5-12:  Glycosylated hemoglobin measurement among adults with diabetes (BRFSS)</a:t>
            </a:r>
            <a:endParaRPr b="0" lang="en-US" sz="3200" spc="-1" strike="noStrike">
              <a:solidFill>
                <a:srgbClr val="ffffff"/>
              </a:solidFill>
              <a:latin typeface="Arial"/>
            </a:endParaRPr>
          </a:p>
        </p:txBody>
      </p:sp>
      <p:pic>
        <p:nvPicPr>
          <p:cNvPr id="106" name="j0121059" descr=""/>
          <p:cNvPicPr/>
          <p:nvPr/>
        </p:nvPicPr>
        <p:blipFill>
          <a:blip r:embed="rId1"/>
          <a:stretch/>
        </p:blipFill>
        <p:spPr>
          <a:xfrm>
            <a:off x="6781680" y="1981080"/>
            <a:ext cx="1600200" cy="1136880"/>
          </a:xfrm>
          <a:prstGeom prst="rect">
            <a:avLst/>
          </a:prstGeom>
          <a:ln w="0">
            <a:noFill/>
          </a:ln>
        </p:spPr>
      </p:pic>
      <p:pic>
        <p:nvPicPr>
          <p:cNvPr id="107" name="j0117351" descr=""/>
          <p:cNvPicPr/>
          <p:nvPr/>
        </p:nvPicPr>
        <p:blipFill>
          <a:blip r:embed="rId2"/>
          <a:stretch/>
        </p:blipFill>
        <p:spPr>
          <a:xfrm>
            <a:off x="6858000" y="3443400"/>
            <a:ext cx="1447920" cy="1280880"/>
          </a:xfrm>
          <a:prstGeom prst="rect">
            <a:avLst/>
          </a:prstGeom>
          <a:ln w="0">
            <a:noFill/>
          </a:ln>
        </p:spPr>
      </p:pic>
      <p:pic>
        <p:nvPicPr>
          <p:cNvPr id="108" name="j0186164" descr=""/>
          <p:cNvPicPr/>
          <p:nvPr/>
        </p:nvPicPr>
        <p:blipFill>
          <a:blip r:embed="rId3"/>
          <a:stretch/>
        </p:blipFill>
        <p:spPr>
          <a:xfrm>
            <a:off x="7086600" y="5014800"/>
            <a:ext cx="1073160" cy="1538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304560"/>
            <a:ext cx="8610480" cy="1523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y changes in question wording?</a:t>
            </a:r>
            <a:endParaRPr b="1" lang="en-US" sz="4400" spc="-1" strike="noStrike">
              <a:solidFill>
                <a:srgbClr val="ffff00"/>
              </a:solidFill>
              <a:latin typeface="Arial"/>
            </a:endParaRPr>
          </a:p>
        </p:txBody>
      </p:sp>
      <p:sp>
        <p:nvSpPr>
          <p:cNvPr id="190" name="PlaceHolder 2"/>
          <p:cNvSpPr>
            <a:spLocks noGrp="1"/>
          </p:cNvSpPr>
          <p:nvPr>
            <p:ph/>
          </p:nvPr>
        </p:nvSpPr>
        <p:spPr>
          <a:xfrm>
            <a:off x="3124080" y="1981080"/>
            <a:ext cx="5562720" cy="152424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 questions were confusing to respondents -- too many terms</a:t>
            </a:r>
            <a:endParaRPr b="0" lang="en-US" sz="2800" spc="-1" strike="noStrike">
              <a:solidFill>
                <a:srgbClr val="ffffff"/>
              </a:solidFill>
              <a:latin typeface="Arial"/>
            </a:endParaRPr>
          </a:p>
        </p:txBody>
      </p:sp>
      <p:pic>
        <p:nvPicPr>
          <p:cNvPr id="191" name="j0186164" descr=""/>
          <p:cNvPicPr/>
          <p:nvPr/>
        </p:nvPicPr>
        <p:blipFill>
          <a:blip r:embed="rId1"/>
          <a:stretch/>
        </p:blipFill>
        <p:spPr>
          <a:xfrm>
            <a:off x="457200" y="4267080"/>
            <a:ext cx="1657440" cy="2376720"/>
          </a:xfrm>
          <a:prstGeom prst="rect">
            <a:avLst/>
          </a:prstGeom>
          <a:ln w="0">
            <a:noFill/>
          </a:ln>
        </p:spPr>
      </p:pic>
      <p:sp>
        <p:nvSpPr>
          <p:cNvPr id="192" name=""/>
          <p:cNvSpPr/>
          <p:nvPr/>
        </p:nvSpPr>
        <p:spPr>
          <a:xfrm>
            <a:off x="3124080" y="2819520"/>
            <a:ext cx="5562720" cy="2438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educators wanted people with diabetes to know specifically about the A1C lab test</a:t>
            </a:r>
            <a:endParaRPr b="0" lang="en-US" sz="2800" spc="-1" strike="noStrike">
              <a:solidFill>
                <a:srgbClr val="ffffff"/>
              </a:solidFill>
              <a:latin typeface="Times New Roman"/>
            </a:endParaRPr>
          </a:p>
        </p:txBody>
      </p:sp>
      <p:sp>
        <p:nvSpPr>
          <p:cNvPr id="193" name=""/>
          <p:cNvSpPr/>
          <p:nvPr/>
        </p:nvSpPr>
        <p:spPr>
          <a:xfrm>
            <a:off x="3124080" y="5105520"/>
            <a:ext cx="55627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issue:  The change shortens the questionnaire from 3 to 2 questions </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304920"/>
            <a:ext cx="8610480" cy="12189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 short evolution of the estimates</a:t>
            </a:r>
            <a:endParaRPr b="1" lang="en-US" sz="4400" spc="-1" strike="noStrike">
              <a:solidFill>
                <a:srgbClr val="ffff00"/>
              </a:solidFill>
              <a:latin typeface="Arial"/>
            </a:endParaRPr>
          </a:p>
        </p:txBody>
      </p:sp>
      <p:graphicFrame>
        <p:nvGraphicFramePr>
          <p:cNvPr id="195" name=""/>
          <p:cNvGraphicFramePr/>
          <p:nvPr/>
        </p:nvGraphicFramePr>
        <p:xfrm>
          <a:off x="1066680" y="1873080"/>
          <a:ext cx="7162920" cy="3942000"/>
        </p:xfrm>
        <a:graphic>
          <a:graphicData uri="http://schemas.openxmlformats.org/drawingml/2006/table">
            <a:tbl>
              <a:tblPr/>
              <a:tblGrid>
                <a:gridCol w="838440"/>
                <a:gridCol w="1371600"/>
                <a:gridCol w="1676160"/>
                <a:gridCol w="1828800"/>
                <a:gridCol w="1447920"/>
              </a:tblGrid>
              <a:tr h="1377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of care for testing</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nnual Hemoglobin A1C test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 “Never heard of A1C” in denominator</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70380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8 </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 only</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57564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yp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12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yp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5%</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Times New Roman"/>
                      </a:endParaRPr>
                    </a:p>
                  </a:txBody>
                  <a:tcPr anchor="b"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yp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new guidelines)</a:t>
                      </a:r>
                      <a:endParaRPr b="0" lang="en-US" sz="20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a:t>
                      </a:r>
                      <a:endParaRPr b="0" lang="en-US" sz="20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6" name=""/>
          <p:cNvSpPr/>
          <p:nvPr/>
        </p:nvSpPr>
        <p:spPr>
          <a:xfrm>
            <a:off x="685800" y="6186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ents who had “Never heard of A1C” were not asked about tests. </a:t>
            </a:r>
            <a:endParaRPr b="0" lang="en-US" sz="1800" spc="-1" strike="noStrike">
              <a:solidFill>
                <a:srgbClr val="ffffff"/>
              </a:solidFill>
              <a:latin typeface="Times New Roman"/>
            </a:endParaRPr>
          </a:p>
        </p:txBody>
      </p:sp>
      <p:grpSp>
        <p:nvGrpSpPr>
          <p:cNvPr id="197" name=""/>
          <p:cNvGrpSpPr/>
          <p:nvPr/>
        </p:nvGrpSpPr>
        <p:grpSpPr>
          <a:xfrm>
            <a:off x="5761080" y="5442120"/>
            <a:ext cx="291600" cy="228600"/>
            <a:chOff x="5761080" y="5442120"/>
            <a:chExt cx="291600" cy="228600"/>
          </a:xfrm>
        </p:grpSpPr>
        <p:sp>
          <p:nvSpPr>
            <p:cNvPr id="198" name=""/>
            <p:cNvSpPr/>
            <p:nvPr/>
          </p:nvSpPr>
          <p:spPr>
            <a:xfrm>
              <a:off x="5761080" y="5581800"/>
              <a:ext cx="76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9" name=""/>
            <p:cNvSpPr/>
            <p:nvPr/>
          </p:nvSpPr>
          <p:spPr>
            <a:xfrm flipH="1">
              <a:off x="5824080" y="5442120"/>
              <a:ext cx="2286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 name=""/>
          <p:cNvGrpSpPr/>
          <p:nvPr/>
        </p:nvGrpSpPr>
        <p:grpSpPr>
          <a:xfrm>
            <a:off x="5761080" y="4756320"/>
            <a:ext cx="291600" cy="228600"/>
            <a:chOff x="5761080" y="4756320"/>
            <a:chExt cx="291600" cy="228600"/>
          </a:xfrm>
        </p:grpSpPr>
        <p:sp>
          <p:nvSpPr>
            <p:cNvPr id="201" name=""/>
            <p:cNvSpPr/>
            <p:nvPr/>
          </p:nvSpPr>
          <p:spPr>
            <a:xfrm>
              <a:off x="5761080" y="4896000"/>
              <a:ext cx="76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2" name=""/>
            <p:cNvSpPr/>
            <p:nvPr/>
          </p:nvSpPr>
          <p:spPr>
            <a:xfrm flipH="1">
              <a:off x="5824080" y="4756320"/>
              <a:ext cx="2286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 name=""/>
          <p:cNvGrpSpPr/>
          <p:nvPr/>
        </p:nvGrpSpPr>
        <p:grpSpPr>
          <a:xfrm>
            <a:off x="5638680" y="3429000"/>
            <a:ext cx="590400" cy="459720"/>
            <a:chOff x="5638680" y="3429000"/>
            <a:chExt cx="590400" cy="459720"/>
          </a:xfrm>
        </p:grpSpPr>
        <p:grpSp>
          <p:nvGrpSpPr>
            <p:cNvPr id="204" name=""/>
            <p:cNvGrpSpPr/>
            <p:nvPr/>
          </p:nvGrpSpPr>
          <p:grpSpPr>
            <a:xfrm>
              <a:off x="5638680" y="3581280"/>
              <a:ext cx="291600" cy="228600"/>
              <a:chOff x="5638680" y="3581280"/>
              <a:chExt cx="291600" cy="228600"/>
            </a:xfrm>
          </p:grpSpPr>
          <p:sp>
            <p:nvSpPr>
              <p:cNvPr id="205" name=""/>
              <p:cNvSpPr/>
              <p:nvPr/>
            </p:nvSpPr>
            <p:spPr>
              <a:xfrm>
                <a:off x="5638680" y="3720960"/>
                <a:ext cx="76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6" name=""/>
              <p:cNvSpPr/>
              <p:nvPr/>
            </p:nvSpPr>
            <p:spPr>
              <a:xfrm flipH="1">
                <a:off x="5701680" y="3581280"/>
                <a:ext cx="2286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
            <p:cNvSpPr/>
            <p:nvPr/>
          </p:nvSpPr>
          <p:spPr>
            <a:xfrm>
              <a:off x="5929560" y="342900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80520"/>
            <a:ext cx="8077320" cy="1676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l resolution for </a:t>
            </a:r>
            <a:br>
              <a:rPr sz="4000"/>
            </a:br>
            <a:r>
              <a:rPr b="1" lang="en-US" sz="4000" spc="-1" strike="noStrike">
                <a:solidFill>
                  <a:srgbClr val="ffff00"/>
                </a:solidFill>
                <a:latin typeface="Arial"/>
              </a:rPr>
              <a:t>objective 5-12: Glycosylated hemoglobin measurement</a:t>
            </a:r>
            <a:endParaRPr b="1" lang="en-US" sz="4000" spc="-1" strike="noStrike">
              <a:solidFill>
                <a:srgbClr val="ffff00"/>
              </a:solidFill>
              <a:latin typeface="Arial"/>
            </a:endParaRPr>
          </a:p>
        </p:txBody>
      </p:sp>
      <p:sp>
        <p:nvSpPr>
          <p:cNvPr id="209" name="PlaceHolder 2"/>
          <p:cNvSpPr>
            <a:spLocks noGrp="1"/>
          </p:cNvSpPr>
          <p:nvPr>
            <p:ph/>
          </p:nvPr>
        </p:nvSpPr>
        <p:spPr>
          <a:xfrm>
            <a:off x="2666880" y="2361960"/>
            <a:ext cx="6096240" cy="426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the wording of the objective from “one or more” to “two or more…”</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other wording changes</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the baseline year from 1998 to 2000</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baseline is 63%</a:t>
            </a:r>
            <a:endParaRPr b="0" lang="en-US" sz="2800" spc="-1" strike="noStrike">
              <a:solidFill>
                <a:srgbClr val="ffffff"/>
              </a:solidFill>
              <a:latin typeface="Arial"/>
            </a:endParaRPr>
          </a:p>
          <a:p>
            <a:pPr marL="343080" indent="-3430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arget has yet to be determined (original target is 50%)</a:t>
            </a:r>
            <a:endParaRPr b="0" lang="en-US" sz="2800" spc="-1" strike="noStrike">
              <a:solidFill>
                <a:srgbClr val="ffffff"/>
              </a:solidFill>
              <a:latin typeface="Arial"/>
            </a:endParaRPr>
          </a:p>
        </p:txBody>
      </p:sp>
      <p:pic>
        <p:nvPicPr>
          <p:cNvPr id="210" name="PE06252_" descr=""/>
          <p:cNvPicPr/>
          <p:nvPr/>
        </p:nvPicPr>
        <p:blipFill>
          <a:blip r:embed="rId1"/>
          <a:stretch/>
        </p:blipFill>
        <p:spPr>
          <a:xfrm>
            <a:off x="304920" y="4724280"/>
            <a:ext cx="1833480" cy="1770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666520" y="304560"/>
            <a:ext cx="35053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ebsites</a:t>
            </a:r>
            <a:endParaRPr b="1" lang="en-US" sz="4400" spc="-1" strike="noStrike">
              <a:solidFill>
                <a:srgbClr val="ffff00"/>
              </a:solidFill>
              <a:latin typeface="Arial"/>
            </a:endParaRPr>
          </a:p>
        </p:txBody>
      </p:sp>
      <p:sp>
        <p:nvSpPr>
          <p:cNvPr id="212" name="PlaceHolder 2"/>
          <p:cNvSpPr>
            <a:spLocks noGrp="1"/>
          </p:cNvSpPr>
          <p:nvPr>
            <p:ph/>
          </p:nvPr>
        </p:nvSpPr>
        <p:spPr>
          <a:xfrm>
            <a:off x="151920" y="1905120"/>
            <a:ext cx="84582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CHS Healthy People Homep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800" spc="-1" strike="noStrike" u="sng">
                <a:solidFill>
                  <a:srgbClr val="ff0066"/>
                </a:solidFill>
                <a:uFillTx/>
                <a:latin typeface="Arial"/>
                <a:hlinkClick r:id="rId1"/>
              </a:rPr>
              <a:t>www.cdc.gov/nchs/hphome.ht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DHHS Healthy People Homepa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800" spc="-1" strike="noStrike" u="sng">
                <a:solidFill>
                  <a:srgbClr val="ff0066"/>
                </a:solidFill>
                <a:uFillTx/>
                <a:latin typeface="Arial"/>
                <a:hlinkClick r:id="rId2"/>
              </a:rPr>
              <a:t>www.health.gov/healthypeop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DATA201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u="sng">
                <a:solidFill>
                  <a:srgbClr val="ff0066"/>
                </a:solidFill>
                <a:uFillTx/>
                <a:latin typeface="Arial"/>
              </a:rPr>
              <a:t>wonder.cdc.gov/data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22-2</a:t>
            </a:r>
            <a:br>
              <a:rPr sz="4400"/>
            </a:br>
            <a:r>
              <a:rPr b="1" lang="en-US" sz="4400" spc="-1" strike="noStrike">
                <a:solidFill>
                  <a:srgbClr val="ffff00"/>
                </a:solidFill>
                <a:latin typeface="Arial"/>
              </a:rPr>
              <a:t>Moderate physical activity</a:t>
            </a:r>
            <a:endParaRPr b="1" lang="en-US" sz="4400" spc="-1" strike="noStrike">
              <a:solidFill>
                <a:srgbClr val="ffff00"/>
              </a:solidFill>
              <a:latin typeface="Arial"/>
            </a:endParaRPr>
          </a:p>
        </p:txBody>
      </p:sp>
      <p:pic>
        <p:nvPicPr>
          <p:cNvPr id="110" name="j0120927" descr=""/>
          <p:cNvPicPr/>
          <p:nvPr/>
        </p:nvPicPr>
        <p:blipFill>
          <a:blip r:embed="rId1"/>
          <a:stretch/>
        </p:blipFill>
        <p:spPr>
          <a:xfrm>
            <a:off x="228600" y="3505320"/>
            <a:ext cx="2895480" cy="2687400"/>
          </a:xfrm>
          <a:prstGeom prst="rect">
            <a:avLst/>
          </a:prstGeom>
          <a:ln w="0">
            <a:noFill/>
          </a:ln>
        </p:spPr>
      </p:pic>
      <p:sp>
        <p:nvSpPr>
          <p:cNvPr id="111" name="PlaceHolder 2"/>
          <p:cNvSpPr>
            <a:spLocks noGrp="1"/>
          </p:cNvSpPr>
          <p:nvPr>
            <p:ph/>
          </p:nvPr>
        </p:nvSpPr>
        <p:spPr>
          <a:xfrm>
            <a:off x="3047760" y="2361960"/>
            <a:ext cx="5562360" cy="3429000"/>
          </a:xfrm>
          <a:prstGeom prst="rect">
            <a:avLst/>
          </a:prstGeom>
          <a:noFill/>
          <a:ln w="0">
            <a:noFill/>
          </a:ln>
        </p:spPr>
        <p:txBody>
          <a:bodyPr lIns="92160" rIns="92160" tIns="46080" bIns="46080" anchor="t">
            <a:normAutofit/>
          </a:bodyPr>
          <a:p>
            <a:pPr marL="343080" indent="-343080">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the proportion of adults who engage regularly, preferably daily, in moderate physical activity for at least 30 minutes per day. </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jective 22-2</a:t>
            </a:r>
            <a:br>
              <a:rPr sz="4400"/>
            </a:br>
            <a:r>
              <a:rPr b="1" lang="en-US" sz="4400" spc="-1" strike="noStrike">
                <a:solidFill>
                  <a:srgbClr val="ffff00"/>
                </a:solidFill>
                <a:latin typeface="Arial"/>
              </a:rPr>
              <a:t>Measurement issues</a:t>
            </a:r>
            <a:endParaRPr b="1" lang="en-US" sz="4400" spc="-1" strike="noStrike">
              <a:solidFill>
                <a:srgbClr val="ffff00"/>
              </a:solidFill>
              <a:latin typeface="Arial"/>
            </a:endParaRPr>
          </a:p>
        </p:txBody>
      </p:sp>
      <p:pic>
        <p:nvPicPr>
          <p:cNvPr id="113" name="j0120927" descr=""/>
          <p:cNvPicPr/>
          <p:nvPr/>
        </p:nvPicPr>
        <p:blipFill>
          <a:blip r:embed="rId1"/>
          <a:stretch/>
        </p:blipFill>
        <p:spPr>
          <a:xfrm>
            <a:off x="228600" y="3505320"/>
            <a:ext cx="2895480" cy="2687400"/>
          </a:xfrm>
          <a:prstGeom prst="rect">
            <a:avLst/>
          </a:prstGeom>
          <a:ln w="0">
            <a:noFill/>
          </a:ln>
        </p:spPr>
      </p:pic>
      <p:sp>
        <p:nvSpPr>
          <p:cNvPr id="114" name="PlaceHolder 2"/>
          <p:cNvSpPr>
            <a:spLocks noGrp="1"/>
          </p:cNvSpPr>
          <p:nvPr>
            <p:ph/>
          </p:nvPr>
        </p:nvSpPr>
        <p:spPr>
          <a:xfrm>
            <a:off x="3047760" y="2209320"/>
            <a:ext cx="5562360" cy="1600200"/>
          </a:xfrm>
          <a:prstGeom prst="rect">
            <a:avLst/>
          </a:prstGeom>
          <a:noFill/>
          <a:ln w="0">
            <a:noFill/>
          </a:ln>
        </p:spPr>
        <p:txBody>
          <a:bodyPr lIns="92160" rIns="92160" tIns="46080" bIns="46080" anchor="t">
            <a:normAutofit/>
          </a:bodyPr>
          <a:p>
            <a:pPr marL="343080" indent="-343080">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in NHIS questions asked between HP2000 and HP2010</a:t>
            </a:r>
            <a:endParaRPr b="0" lang="en-US" sz="2800" spc="-1" strike="noStrike">
              <a:solidFill>
                <a:srgbClr val="ffffff"/>
              </a:solidFill>
              <a:latin typeface="Arial"/>
            </a:endParaRPr>
          </a:p>
        </p:txBody>
      </p:sp>
      <p:sp>
        <p:nvSpPr>
          <p:cNvPr id="115" name=""/>
          <p:cNvSpPr/>
          <p:nvPr/>
        </p:nvSpPr>
        <p:spPr>
          <a:xfrm>
            <a:off x="3048120" y="3581280"/>
            <a:ext cx="5562360" cy="1524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P2010 definition needed to be re-conceptualized (regular activity)</a:t>
            </a:r>
            <a:endParaRPr b="0" lang="en-US" sz="2800" spc="-1" strike="noStrike">
              <a:solidFill>
                <a:srgbClr val="ffffff"/>
              </a:solidFill>
              <a:latin typeface="Times New Roman"/>
            </a:endParaRPr>
          </a:p>
        </p:txBody>
      </p:sp>
      <p:sp>
        <p:nvSpPr>
          <p:cNvPr id="116" name=""/>
          <p:cNvSpPr/>
          <p:nvPr/>
        </p:nvSpPr>
        <p:spPr>
          <a:xfrm>
            <a:off x="3048120" y="4952880"/>
            <a:ext cx="5562360" cy="1524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equent change in questions used for tracking HP2010 objective</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819160" y="2437920"/>
            <a:ext cx="6095880" cy="350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P2000 and HP2010 definitions are similar:</a:t>
            </a:r>
            <a:endParaRPr b="0" lang="en-US" sz="3200" spc="-1" strike="noStrike">
              <a:solidFill>
                <a:srgbClr val="ffffff"/>
              </a:solidFill>
              <a:latin typeface="Arial"/>
            </a:endParaRPr>
          </a:p>
          <a:p>
            <a:pPr lvl="1" marL="743040" indent="-285840">
              <a:lnSpc>
                <a:spcPct val="90000"/>
              </a:lnSpc>
              <a:spcBef>
                <a:spcPts val="79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of moderate activity is 5 or more times a week</a:t>
            </a:r>
            <a:endParaRPr b="0" lang="en-US" sz="3200" spc="-1" strike="noStrike">
              <a:solidFill>
                <a:srgbClr val="ffffff"/>
              </a:solidFill>
              <a:latin typeface="Arial"/>
            </a:endParaRPr>
          </a:p>
          <a:p>
            <a:pPr lvl="1" marL="743040" indent="-285840">
              <a:lnSpc>
                <a:spcPct val="90000"/>
              </a:lnSpc>
              <a:spcBef>
                <a:spcPts val="79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is 30 or more minutes each time</a:t>
            </a:r>
            <a:endParaRPr b="0" lang="en-US" sz="3200" spc="-1" strike="noStrike">
              <a:solidFill>
                <a:srgbClr val="ffffff"/>
              </a:solidFill>
              <a:latin typeface="Arial"/>
            </a:endParaRPr>
          </a:p>
        </p:txBody>
      </p:sp>
      <p:sp>
        <p:nvSpPr>
          <p:cNvPr id="118" name="PlaceHolder 2"/>
          <p:cNvSpPr>
            <a:spLocks noGrp="1"/>
          </p:cNvSpPr>
          <p:nvPr>
            <p:ph type="title"/>
          </p:nvPr>
        </p:nvSpPr>
        <p:spPr>
          <a:xfrm>
            <a:off x="533160" y="228600"/>
            <a:ext cx="8381880" cy="18288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ealthy People definitions of moderate physical activity</a:t>
            </a:r>
            <a:endParaRPr b="1" lang="en-US" sz="4400" spc="-1" strike="noStrike">
              <a:solidFill>
                <a:srgbClr val="ffff00"/>
              </a:solidFill>
              <a:latin typeface="Arial"/>
            </a:endParaRPr>
          </a:p>
        </p:txBody>
      </p:sp>
      <p:pic>
        <p:nvPicPr>
          <p:cNvPr id="119" name="j0121031" descr=""/>
          <p:cNvPicPr/>
          <p:nvPr/>
        </p:nvPicPr>
        <p:blipFill>
          <a:blip r:embed="rId1">
            <a:lum contrast="12000"/>
          </a:blip>
          <a:stretch/>
        </p:blipFill>
        <p:spPr>
          <a:xfrm>
            <a:off x="380880" y="4191120"/>
            <a:ext cx="2362320" cy="216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0" name="j0121031" descr=""/>
          <p:cNvPicPr/>
          <p:nvPr/>
        </p:nvPicPr>
        <p:blipFill>
          <a:blip r:embed="rId1">
            <a:lum contrast="12000"/>
          </a:blip>
          <a:stretch/>
        </p:blipFill>
        <p:spPr>
          <a:xfrm>
            <a:off x="380880" y="4191120"/>
            <a:ext cx="2362320" cy="2166840"/>
          </a:xfrm>
          <a:prstGeom prst="rect">
            <a:avLst/>
          </a:prstGeom>
          <a:ln w="0">
            <a:noFill/>
          </a:ln>
        </p:spPr>
      </p:pic>
      <p:sp>
        <p:nvSpPr>
          <p:cNvPr id="121" name=""/>
          <p:cNvSpPr/>
          <p:nvPr/>
        </p:nvSpPr>
        <p:spPr>
          <a:xfrm>
            <a:off x="990720" y="152280"/>
            <a:ext cx="7238880" cy="17528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P2000 physical activity</a:t>
            </a:r>
            <a:endParaRPr b="0" lang="en-US" sz="4400" spc="-1" strike="noStrike">
              <a:solidFill>
                <a:srgbClr val="ffffff"/>
              </a:solidFill>
              <a:latin typeface="Times New Roman"/>
            </a:endParaRPr>
          </a:p>
        </p:txBody>
      </p:sp>
      <p:sp>
        <p:nvSpPr>
          <p:cNvPr id="122" name=""/>
          <p:cNvSpPr/>
          <p:nvPr/>
        </p:nvSpPr>
        <p:spPr>
          <a:xfrm>
            <a:off x="3124080" y="1676520"/>
            <a:ext cx="556272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ic NHIS supplements (1985-98)</a:t>
            </a:r>
            <a:endParaRPr b="0" lang="en-US" sz="3200" spc="-1" strike="noStrike">
              <a:solidFill>
                <a:srgbClr val="ffffff"/>
              </a:solidFill>
              <a:latin typeface="Times New Roman"/>
            </a:endParaRPr>
          </a:p>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of leisure-time physical activities</a:t>
            </a:r>
            <a:endParaRPr b="0" lang="en-US" sz="3200" spc="-1" strike="noStrike">
              <a:solidFill>
                <a:srgbClr val="ffffff"/>
              </a:solidFill>
              <a:latin typeface="Times New Roman"/>
            </a:endParaRPr>
          </a:p>
          <a:p>
            <a:pPr marL="343080" indent="-34308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um of activities</a:t>
            </a:r>
            <a:endParaRPr b="0" lang="en-US" sz="3200" spc="-1" strike="noStrike">
              <a:solidFill>
                <a:srgbClr val="ffffff"/>
              </a:solidFill>
              <a:latin typeface="Times New Roman"/>
            </a:endParaRPr>
          </a:p>
          <a:p>
            <a:pPr lvl="1" marL="743040" indent="-28584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ctivity</a:t>
            </a:r>
            <a:endParaRPr b="0" lang="en-US" sz="3200" spc="-1" strike="noStrike">
              <a:solidFill>
                <a:srgbClr val="ffffff"/>
              </a:solidFill>
              <a:latin typeface="Times New Roman"/>
            </a:endParaRPr>
          </a:p>
          <a:p>
            <a:pPr lvl="1" marL="743040" indent="-28584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ate activity</a:t>
            </a:r>
            <a:endParaRPr b="0" lang="en-US" sz="3200" spc="-1" strike="noStrike">
              <a:solidFill>
                <a:srgbClr val="ffffff"/>
              </a:solidFill>
              <a:latin typeface="Times New Roman"/>
            </a:endParaRPr>
          </a:p>
          <a:p>
            <a:pPr lvl="1" marL="743040" indent="-285840">
              <a:lnSpc>
                <a:spcPct val="100000"/>
              </a:lnSpc>
              <a:spcBef>
                <a:spcPts val="799"/>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gorous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23" name="j0121031" descr=""/>
          <p:cNvPicPr/>
          <p:nvPr/>
        </p:nvPicPr>
        <p:blipFill>
          <a:blip r:embed="rId1">
            <a:lum contrast="12000"/>
          </a:blip>
          <a:stretch/>
        </p:blipFill>
        <p:spPr>
          <a:xfrm>
            <a:off x="380880" y="4191120"/>
            <a:ext cx="2362320" cy="2166840"/>
          </a:xfrm>
          <a:prstGeom prst="rect">
            <a:avLst/>
          </a:prstGeom>
          <a:ln w="0">
            <a:noFill/>
          </a:ln>
        </p:spPr>
      </p:pic>
      <p:sp>
        <p:nvSpPr>
          <p:cNvPr id="124" name=""/>
          <p:cNvSpPr/>
          <p:nvPr/>
        </p:nvSpPr>
        <p:spPr>
          <a:xfrm>
            <a:off x="990720" y="152280"/>
            <a:ext cx="7238880" cy="17528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P2010 physical activity</a:t>
            </a:r>
            <a:endParaRPr b="0" lang="en-US" sz="4400" spc="-1" strike="noStrike">
              <a:solidFill>
                <a:srgbClr val="ffffff"/>
              </a:solidFill>
              <a:latin typeface="Times New Roman"/>
            </a:endParaRPr>
          </a:p>
        </p:txBody>
      </p:sp>
      <p:sp>
        <p:nvSpPr>
          <p:cNvPr id="125" name=""/>
          <p:cNvSpPr/>
          <p:nvPr/>
        </p:nvSpPr>
        <p:spPr>
          <a:xfrm>
            <a:off x="3048120" y="1752480"/>
            <a:ext cx="5562360" cy="47246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NHIS redesigned questionnaire core (1997+)</a:t>
            </a:r>
            <a:endParaRPr b="0" lang="en-US" sz="2800" spc="-1" strike="noStrike">
              <a:solidFill>
                <a:srgbClr val="ffffff"/>
              </a:solidFill>
              <a:latin typeface="Times New Roman"/>
            </a:endParaRPr>
          </a:p>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e questions for moderate and vigorous activity</a:t>
            </a:r>
            <a:endParaRPr b="0" lang="en-US" sz="2800" spc="-1" strike="noStrike">
              <a:solidFill>
                <a:srgbClr val="ffffff"/>
              </a:solidFill>
              <a:latin typeface="Times New Roman"/>
            </a:endParaRPr>
          </a:p>
          <a:p>
            <a:pPr marL="343080" indent="-343080">
              <a:lnSpc>
                <a:spcPct val="10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baseline used 2 core ques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of moderate activity</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 of moderate activ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761760" y="1523520"/>
            <a:ext cx="8001000" cy="4800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often do you do light or moderate activities for at least 10 minutes that cause only light sweating or a slight to moderate increase in breathing or heart rate? </a:t>
            </a:r>
            <a:endParaRPr b="0" lang="en-US" sz="2800" spc="-1" strike="noStrike">
              <a:solidFill>
                <a:srgbClr val="ffffff"/>
              </a:solidFill>
              <a:latin typeface="Arial"/>
            </a:endParaRPr>
          </a:p>
          <a:p>
            <a:pPr lvl="1" marL="735480" indent="-28296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a:t>
            </a:r>
            <a:endParaRPr b="0" lang="en-US" sz="2800" spc="-1" strike="noStrike">
              <a:solidFill>
                <a:srgbClr val="ffffff"/>
              </a:solidFill>
              <a:latin typeface="Arial"/>
            </a:endParaRPr>
          </a:p>
          <a:p>
            <a:pPr lvl="1" marL="735480" indent="-28296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ble to do</a:t>
            </a:r>
            <a:endParaRPr b="0" lang="en-US" sz="2800" spc="-1" strike="noStrike">
              <a:solidFill>
                <a:srgbClr val="ffffff"/>
              </a:solidFill>
              <a:latin typeface="Arial"/>
            </a:endParaRPr>
          </a:p>
          <a:p>
            <a:pPr lvl="1" marL="735480" indent="-28296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 times per day/week/month/year</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31480" indent="-226080">
              <a:lnSpc>
                <a:spcPct val="90000"/>
              </a:lnSpc>
              <a:spcBef>
                <a:spcPts val="700"/>
              </a:spcBef>
              <a:buClr>
                <a:srgbClr val="ff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how long do you do these light or moderate activities each time?</a:t>
            </a:r>
            <a:endParaRPr b="0" lang="en-US" sz="2800" spc="-1" strike="noStrike">
              <a:solidFill>
                <a:srgbClr val="ffffff"/>
              </a:solidFill>
              <a:latin typeface="Arial"/>
            </a:endParaRPr>
          </a:p>
          <a:p>
            <a:pPr lvl="3" marL="1584000" indent="-226080">
              <a:lnSpc>
                <a:spcPct val="9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 minutes/hours</a:t>
            </a:r>
            <a:endParaRPr b="0" lang="en-US" sz="2800" spc="-1" strike="noStrike">
              <a:solidFill>
                <a:srgbClr val="ffffff"/>
              </a:solidFill>
              <a:latin typeface="Arial"/>
            </a:endParaRPr>
          </a:p>
        </p:txBody>
      </p:sp>
      <p:sp>
        <p:nvSpPr>
          <p:cNvPr id="127" name=""/>
          <p:cNvSpPr/>
          <p:nvPr/>
        </p:nvSpPr>
        <p:spPr>
          <a:xfrm>
            <a:off x="76320" y="228600"/>
            <a:ext cx="8915400" cy="99072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riginal HP2010 questions used</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thleen M. Turczyn</cp:lastModifiedBy>
  <dcterms:modified xsi:type="dcterms:W3CDTF">2002-07-18T21:04:42Z</dcterms:modified>
  <cp:revision>89</cp:revision>
  <dc:subject/>
  <dc:title>Definition changes</dc:title>
</cp:coreProperties>
</file>