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054-0955-4D4C-830C-40F93E67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EB4-BA36-4533-9159-C8D7B83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840-BE72-4047-A26C-241408CC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B9-C1F0-435C-A589-E440BB58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0A9-154E-4884-AC71-EE396C89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EEE-C070-4AB1-8AA5-6126695C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448-0EEC-45C6-8089-E973D62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76D-A5A0-4F6A-B1C5-0F431AB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E7C-3106-4A7D-856F-970AC801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B8C-7625-4597-A225-EB0129DB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FDD-645B-47F3-ABD7-0BD0BF0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283-BB6B-4E92-AF72-6936822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FD5-CD90-4CE6-A335-883F037A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Thresholds and Criteria:  </a:t>
            </a:r>
            <a:br>
              <a:rPr sz="4400"/>
            </a:b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and Reasonable Suspicion Decision-mak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16680" y="53341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: Leila Procopio-Maku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D79-B704-49C5-9BF4-AE3733CF0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OUTSIDE OF FTA CRITER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employer’s own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Non safety-sensitiv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Damage within a certain dolla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ny-owned veh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More extensive drug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309-0386-494B-AEC4-F9BFF8A55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ESTING OUTSIDE OF FTA CRITERIA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se non-Federal or non-DOT testing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use a separate urine v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included in annual DAMIS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145-3E2D-4196-B923-D75955A69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CCEPTANCE OF OTHER TEST RESUL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unable to test within the required time period, the employer may accept the result of a test performed by Federal, State, or local officials having independent authority for the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ployer may use the test result(s) only if it is able to obtain the result from the testing authorit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F9B-9BCB-417E-B103-04E5E6623B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OMMON PROBLEMS IN POST-ACCIDENT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does not clearly define circumstances when testing i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often omitted or significantly delayed without proper document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ly trained supervisors making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upervisor empower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67F-AA2A-478D-B601-F4846393B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TESTING SCENARI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est or Not To Test – YOU DE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xp40394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1855800" cy="26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380-DA54-4EE7-8A00-84528450D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REASONABLE SUSPICION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98A-5B35-48FD-97A9-0283B6BEBE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able suspicion testing is NOT a diagnostic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used only to rule out the possibility that the unusual behavior or appearance being observed may be caused by drug abuse or alcohol mi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21E-8302-4D7E-81A3-AE476D7EC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MAKES A REASONABLE SUSPICION REFERRAL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pervisor or company official trained in detecting the signs and symptoms of drug use and alcohol mis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ervisor or company official is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oon as possible, document each reasonable suspicion testing referral. (See Sample Reasonable Suspicion Testing Referral For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F48-4934-43D6-9FF3-5A2E2CE2EB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IS A REASONABLE SUSPICION INTERVIEW NECESSARY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trained supervisor or company official (not a third party) observes an employee exhibiting signs and symptoms consistent with drug use or alcohol mis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to test or not to test must be based on specific, contemporaneous, and articulable observations concerning the employee’s appearance, behavior, speech, or body od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BAB-FC95-490B-8AE3-FDE5A72D1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UPERVISOR TRAIN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nimum Requir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the training required of all safety-sensitive employees, supervisors and company officials must rece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t least 60 minutes of training on the physical, behavioral, and performance indicators of probable drug use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t least 60 minutes on the physical, behavioral, speech and performance indicators of probable alcohol mis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E0F-5463-4F86-8561-12090F9A1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OST-ACCIDENT TEST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bus%20crash" descr=""/>
          <p:cNvPicPr/>
          <p:nvPr/>
        </p:nvPicPr>
        <p:blipFill>
          <a:blip r:embed="rId1"/>
          <a:stretch/>
        </p:blipFill>
        <p:spPr>
          <a:xfrm>
            <a:off x="3971880" y="2982960"/>
            <a:ext cx="1200240" cy="892080"/>
          </a:xfrm>
          <a:prstGeom prst="rect">
            <a:avLst/>
          </a:prstGeom>
          <a:ln w="0">
            <a:noFill/>
          </a:ln>
        </p:spPr>
      </p:pic>
      <p:pic>
        <p:nvPicPr>
          <p:cNvPr id="45" name="12-1-041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5651280" cy="378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E6D-C720-43DD-9AE5-5CCE404D3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UPERVISOR TRAINING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recommend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60 more minute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how to conduct the 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how to “make the c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employer’s addi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other circumstances that require drug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ohol t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990-1457-4803-9228-0CBF00289A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NDICATORS OF PROBABLE DRUG USE OR ALCOHOL MIS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3648240" cy="35812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O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A040015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429000" cy="315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82E-E086-45AA-85AB-D0E4B2A9AD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YSICAL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7760" cy="4114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ed or very pale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ssive sweating or skin clamm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shot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ated or constricte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cused, blank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heveled 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empt gr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0006-0409-0716-1951_S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19051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982-2117-410B-9CE3-1F8AD576A9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HYSICAL INDICATORS – cont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639900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y or bleeding 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punctur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y mouth, wetting lips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stagmus (involuntary jerky eye m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ation of bugs crawling on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A7E-78E8-484E-9A3F-23296B000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EHAVIORAL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724640" cy="4343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mbling, unsteady gait, poor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activity, fidgety, agitated, disor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ing, tremors, twi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ing irregularly or with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 or vom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fatigue, sleeping on the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is131044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84804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182-9442-45C1-AD56-DAB6451F2D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EHAVIORAL INDICATOR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2362320"/>
            <a:ext cx="5484600" cy="36576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ble, moody, bellig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icious, para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ed, with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adaisical at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CC6-C641-41E3-8CFC-079CD32CB2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PEECH INDICAT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2057040"/>
            <a:ext cx="5484960" cy="43434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rred, thick, s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herent, nonsensical, s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titious, ramb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, boist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A1E-BF3B-4F55-BF50-E8E4ED2A75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SPEECH INDICATOR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552132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, press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talka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ggerated enun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sing, inappropriate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212-2CED-41A1-A836-C71637C522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ERFORMANCE INDICATOR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594400" cy="38862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bility to concen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ive, unusual risk-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inished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902-58B0-40D5-8CD6-FFCEBDBA28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PERFORMANCE INDICATORS – cont’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03848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ed mental functioning and aler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t and extended absences from meetings or work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quality/quantity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increase in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042-67BC-437D-8E82-3FEAD28F87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TA Definition of “Accident”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ccurrence associated with the operation of a vehicle (including operation of its lift) result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an individual’s death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bodily injury requiring immediate medical treatment away from the scen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D76-92D9-47B5-B33E-5C6770B43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BODY ODO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13000" cy="4114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r of alcohol on br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pungent aroma on clothing o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s0179029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324320" cy="235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1E5-20A9-4F61-8D86-A546CC78BE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TO CONDUCT REASONABLE SUSPICION TES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924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nytime the employee is on duty, regardless of current assig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uthorized only if the observations are made during, just before, or just after the employee’s performance of safety-sensitive du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852-948D-4ACF-BE6F-00E7524C4D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LINESS OF REASONABLE SUSPICION TES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reasonable suspicion determination, employee must proceed immediately to the test site. (For safety reasons, employee should be escorte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cohol test is not conducted within 2 hours, document reason for de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8 hours, cease all attempts and document reason for inability to t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8CA-CECF-494B-99D0-2E4E1E37CD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OMMON PROBLEMS IN  REASONABLE SUSPICION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utilized in the transit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superviso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visors unwilling to “make the ca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X63-28_www-harrycutting-com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687760" cy="21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2E2-57D8-47DA-88F0-221FEC29A7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REASONABLE SUSPICION TESTING CASE STUDI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4" name="s0179049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067280" cy="4037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5A8-8932-497C-AF08-551008994A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mployers with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Tole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(termination afte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f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mmediately remove employee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fer to a qualified Substance Abu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(S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nitiate termination procee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48B-B091-4DD9-BA65-10A5321153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S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mployers with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Ch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mmediately remove employee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fer employee to a qualified S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nitiate disciplinary proceedings (e.g.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4CE-3550-402E-A3CF-352FBA64E3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EMPLOYER ACTIONS CONCERNING POLICY VIOLATION – cont’d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ch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policy – cont’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Ensure that employee successfu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s the SAP referral, evaluation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reatment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Ensure that employee has a nega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to-Duty drug and / or alcohol te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allowing him / her to return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-sensitiv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57F-3B9C-4883-99E2-C5B91B48D9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RAP-UP QUESTIONS and ANSW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s1027030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079960" cy="3797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CF5-10BA-4162-83AC-1458E839A5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an employee be terminated based on a positive test result or test refusal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6A9-1C5B-4341-9B23-FA61B29D40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FTA DEFINITION OF “ACCIDENT” - cont’d.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disabling damage to one or more of the vehicles (if bus, electric bus, van, or automobile) and requires the vehicle to be transported from the scen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removal from operation of the vehicle (if rail car, trolley car, trolley bus, or vessel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E49-FA78-4084-A379-3FBEFA11B7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would a supervisor require an employee to undergo a Reasonable Suspicion drug / alcohol test?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3123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91B-3EE1-4DBB-90C4-4D0F7FDB17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f a bus is taken out of service after an accident, but there is no bodily injury or disabling damage, is the operator required to be test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9CA-FE69-4137-9FE2-9BBA8D64FC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supervisors make reasonable suspicion testing referrals of other supervisor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C29-D513-4FE9-8474-B4707C9F84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a supervisor be held liable for defamation of character if the reasonable suspicion test results are negativ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61F-A9C1-4039-A60D-613AD03A90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n operator stayed in the hospital for 24 hours after an accident for medical treatment and observation. Can you still send him for testing after he’s releas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141-5A25-4128-9AA5-21365EE048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is in charge of making post-accident testing decision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64E-D19B-4066-8EF5-E3A4A951245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If testing does not occur within the required time frame, what must the employer do?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B11-2B89-47C0-89F6-05BE6E7322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you send an employee for Reasonable Suspicion testing based on a “tip” you received from a passenger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31237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A58-1468-47EC-9125-3AC3F8ADF0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an you send an employee for Post-Accident testing based solely on the amount of the damage on the vehicl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3F1-1407-44CF-81C1-208A3A6A413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Are supervisors, if they have the proper training, allowed to collect urine specimens  or conduct alcohol tests on their employee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____________________________________________________________________________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5A7-435C-4AF3-8692-A662BE48A4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EN TO TES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ever there is a human fat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on-fatal accident meets the FTA definition of “accident,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employee can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letely discou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contributing factor to the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DFF-E6C8-4EB0-A733-26F9FE8CF4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TO TES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erator of the mass transit vehicle. Employee must remain readily available for testing and must provide con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other covered employee whose performance could have contributed to the accid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A99-172E-4A3B-B1B9-9F79D34D9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WHO MAKES THE DECISION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mployer – based on the best information available at the time of the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must document decision to test or not to test for every accident. (See sample Post-Accident Testing Decision-Maker For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548-9017-42A2-89A6-B8EE88A04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 REQUIREMENTS FOR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 soon as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2 hours following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dent, document reason for delay,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ttempt to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8 hours, cease 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and document reason for fail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292-8C30-4226-B1B1-476EF0F9E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TIME REQUIREMENTS FOR TEST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s soon as possible, but within 32 hours of the acci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If not tested within 32 hours, cease all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213-1095-44F6-AFF2-CB3A931E0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21:03:31Z</dcterms:created>
  <dc:creator> Emachines</dc:creator>
  <dc:description/>
  <dc:language>en-US</dc:language>
  <cp:lastModifiedBy>Felicity Dickenson</cp:lastModifiedBy>
  <dcterms:modified xsi:type="dcterms:W3CDTF">2006-03-07T22:34:13Z</dcterms:modified>
  <cp:revision>50</cp:revision>
  <dc:subject/>
  <dc:title>POST-ACCIDENT and REASONABLE SUSPICION  DECISION-MAKING</dc:title>
</cp:coreProperties>
</file>