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2362-E35D-4AFD-8C1B-F90DCC26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5591-F840-4A90-9221-FF2414D4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93F4-F44F-423A-B69C-A9DDB46B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1D7B-97C4-4227-B551-7DCB944B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C46A-E71A-4087-9B5A-F79DB0BF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77DD-D43B-4F59-A3EA-0717A947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F882-7412-4FA6-AB1F-70CC170C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FEAC-2DA5-4F78-ADF6-801F8561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23720" y="304560"/>
            <a:ext cx="5334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8714-FB29-471D-A542-F077FA5E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21D7-242C-47EF-A1BB-18C48AEF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BE39-F4CB-4784-8C2E-D3FBFE2C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D5DC-D4B2-425E-B094-CE58916A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2952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E533-8232-43F0-B779-780769D95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85680" y="76320"/>
          <a:ext cx="3419640" cy="153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" y="76320"/>
                    <a:ext cx="3419640" cy="15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2940120"/>
            <a:ext cx="81532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Customer Briefing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ovember 18,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597384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Jerry Lohfink, Dir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Areas for Improvement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ome members of help desk perceived as “gate-keepers” or “go-betweens”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ome question adequacy of staffing level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mplex Agency issues require better coordination across organizational line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FC’s pricing structure needs further  transparency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ystems’ evolution should be WEB-based  and focus on availability of data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0912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reate Customer Service Improvement Project Team with Customer involvement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Reengineer pricing methodology to become more transparent and responsive 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ncrease communication channels to obtain your feedback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We Hear You !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lign the organization and staffing levels to best serve customer expectations 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ine staffing levels and service delivery mix in light of “best practice review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priority on filling payroll service-related vacanc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taff with additional training and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dicat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represent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We Hear You !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mplete Web deployment 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Expand the deployment of sensitive data in the Reporting Center for interested customers 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mprove post-Bear reporting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Re-engineer disaster recovery business continuity program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We Hear You !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828800" y="289548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Payroll/Personnel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44197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enny Forb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ayroll/Personnel  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ustomer Support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Responded 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2,000 Customer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ocessed 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9,000 Separation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,500 Retirement pack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ssued 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5,000 Personnel 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24,000 DPRS’ premium pay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ayroll/Personnel  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ustomer Support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ponsored Visits to NFC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eld Training Sessions 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ordinated HR Briefings 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ndividualized Support Through Customer Representative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ublished NFC Newsletter, Informer, and Updated NFC Home Page 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mplemented Electronic Bulletin Delivery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ayroll/Personnel  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ustomer Support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upported the Community via the  Payroll/Personnel System Policy Staff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ed with O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ed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advice and guidance to client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d as the Chairperson for CAP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 community work groups including EPIC, T&amp;A, Awards, and Leave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ustomer Support Office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as training fac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ayroll/Personnel  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ustomer Support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gencies Implemented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.S. Government Printing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jor Reorganization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cohol and Tobacco Tax and Trade Bur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cohol, Tobacco, Firearms, and Explos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artment of Homeland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ayroll/Personnel  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ystems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ndated/User Requested – 48 Staff Year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2 W-2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3 Pay R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deral Flexible Spending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itary Days to Hours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S Tax Upd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al of SSN from E&amp;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intenance/Operations - 44 Staff Year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Retired PACT/PRES/FINQ/SINQ/HCUP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24080" y="60912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NFC Customer Briefing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20968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cussion with Senior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5013360"/>
            <a:ext cx="5181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cheduled Demonst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0" y="2209680"/>
            <a:ext cx="3124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:00 – N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:00 – 3: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4983120"/>
            <a:ext cx="2819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:30 – 4: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ayroll/Personnel  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ystems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PPS 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manual payment and adjustment transactions for separated 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yment by agency of certain types of federally insured student loans as a recruitment or retention bo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payroll transaction types including Overtime, Overtime with Night Differential, Life Cycle Amount, and Standby/Administratively Uncontrollable Overtime (AU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ayroll/Personnel  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ystems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TAR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 600 users processing over 13,000 T&amp;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ed Web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EPP/ES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ings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dd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Delete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H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ccommodate Open Season and Life Changing Event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ayroll/Personnel  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ystems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Reporting Center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o Pay Raise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 Outstanding Advance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vilian Employment SF-113A and SF-113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le Spending Accounts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ve Balance and Leave Liability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requirements and designed new Reduction in Workforce (RIF)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452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ersonnel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307,000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,108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2907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F-50s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 49,000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,108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40528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ay Adjustments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154,000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6,2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4795920"/>
            <a:ext cx="800100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ayroll Ac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ecords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2,000,000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   10,0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etail Transactions     11,000,000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 129,000,000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1828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verage P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1828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tro Pay R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30456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ayroll/Personnel   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he Gift That Keeps on Giving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172200" y="2057400"/>
            <a:ext cx="1752120" cy="1295280"/>
            <a:chOff x="6172200" y="2057400"/>
            <a:chExt cx="1752120" cy="1295280"/>
          </a:xfrm>
        </p:grpSpPr>
        <p:sp>
          <p:nvSpPr>
            <p:cNvPr id="100" name=""/>
            <p:cNvSpPr/>
            <p:nvPr/>
          </p:nvSpPr>
          <p:spPr>
            <a:xfrm>
              <a:off x="6172200" y="2057400"/>
              <a:ext cx="1752120" cy="1295280"/>
            </a:xfrm>
            <a:prstGeom prst="irregularSeal2">
              <a:avLst/>
            </a:prstGeom>
            <a:solidFill>
              <a:srgbClr val="ff33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51400" y="2422440"/>
              <a:ext cx="1433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97% Without Customer Interven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248520" y="3733920"/>
            <a:ext cx="1676160" cy="1295280"/>
            <a:chOff x="6248520" y="3733920"/>
            <a:chExt cx="1676160" cy="1295280"/>
          </a:xfrm>
        </p:grpSpPr>
        <p:sp>
          <p:nvSpPr>
            <p:cNvPr id="103" name=""/>
            <p:cNvSpPr/>
            <p:nvPr/>
          </p:nvSpPr>
          <p:spPr>
            <a:xfrm>
              <a:off x="6248520" y="3733920"/>
              <a:ext cx="1676160" cy="1295280"/>
            </a:xfrm>
            <a:prstGeom prst="irregularSeal2">
              <a:avLst/>
            </a:prstGeom>
            <a:solidFill>
              <a:srgbClr val="ff33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24480" y="409896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9+% Accura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ayroll/Personnel</a:t>
            </a:r>
            <a:br>
              <a:rPr sz="4400"/>
            </a:b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ecurity Advance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mpliance with NIST 800-18 Requirement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Security Plans and Risk Assessment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roll/Perso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ve Billings and Col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 Premium Remit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roll/Personnel Accou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Privacy Impact Statement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ayroll/Personnel        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 FY 2004 Initiatives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-Payroll Implementation Window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 Period 0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rmed Forces Retirement Home (AFRH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 Period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Office of Thrift Supervision (OTS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 Period 1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Federal Regulatory Commission (FERC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Department of Labor (DoL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Environmental Protection Agency (EPA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ayroll/Personnel        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 FY 2004 Initiatives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-2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3 Tax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Completed user acceptance testing in PP20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Production process January 2004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4 Tax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System test in April 2004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004 Pay Raise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ayroll/Personnel        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 FY 2004 Initiatives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004 Personal Statement of Benefit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 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on E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ntinue Support of PKI Enablement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Removal of SSNs from Child Support and   Alimony Check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FESI Windows - February and June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PP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bruary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Web version available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Quick Service Request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ayroll/Personnel        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 FY 2004 Initiatives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ayroll/Personnel        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 FY 2004 Initiatives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TAR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ember 200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Continue to deploy current Web version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ly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New version with enhanced Web feature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d 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defined p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Today’s Presentation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133720"/>
            <a:ext cx="9144000" cy="49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y                                                                                  Jerry Lohf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 Service Improvement Project                              Jerry Lohf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/Personnel Update                                                     Penny Forb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Update                                                              Robert Varn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ster Recovery/Business Continuity Re-Engineering     Jerry Lohf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Key Infrastruc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Randy Sp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ing Model Changes                                                         Pat H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Payroll                                                       Janet Dubbert, Chuck Lewis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&amp;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Jerry Lohf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ayroll/Personnel        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 FY 2004 Initiatives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Reporting Center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ember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User Acceptance Phase for RIF Register Report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uary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Production for RIF Register Report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Convert EARN and W–2s 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133720" y="28954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Technology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44197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ob Varn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Technology Update</a:t>
            </a:r>
            <a:br>
              <a:rPr sz="4400"/>
            </a:b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Our Direction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Responding to your requirements to  move to web-based business architecture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ntinue to deliver reliable, predictable, and valued service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Despite increasing market costs, continue to provide value at reduced cost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Technology Update</a:t>
            </a:r>
            <a:br>
              <a:rPr sz="4400"/>
            </a:b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echnical Infrastructure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Enterprise Server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IBM Processors (1786 MI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/OS – the latest opera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D - 31 Teraby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pe media (1,050 Teraby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200,000 Standard Tapes (320 Terabytes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5,500 High Density Tapes (330 Terabytes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500,000 “Virtual” Standard Tapes  (400 Terabytes)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Technology Update</a:t>
            </a:r>
            <a:br>
              <a:rPr sz="4400"/>
            </a:b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echnical Infrastructure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idrange Server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 Un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 Window/NT and Windows/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and other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availability clustering for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age Area Network backup with robo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Technology Update</a:t>
            </a:r>
            <a:br>
              <a:rPr sz="4400"/>
            </a:b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echnical Infrastructure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Database Support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MS: Core Payroll Systems, Tra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2: StarWeb, EARN, EPIC, SPPS, FF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cle: EPP, Reporting Center, PC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base: P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elecommunication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and customer dedicated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ewall protection &amp; intrusion 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kia Firewall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encryption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Technology Update</a:t>
            </a:r>
            <a:br>
              <a:rPr sz="4400"/>
            </a:b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echnical Infrastructure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ystem Software Product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100 Tools and Utilities supporting applications and application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FOCU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Control-D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SDSF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Technology Update</a:t>
            </a:r>
            <a:br>
              <a:rPr sz="4400"/>
            </a:b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echnical Infrastructure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z/OS operating system software maintained at latest version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ration to z/OS version 1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targeted for 2nd Quarter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Technology Update</a:t>
            </a:r>
            <a:br>
              <a:rPr sz="4400"/>
            </a:b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Business Continuity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Drills twice a year (ROC and AWS)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dditional local testing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ustomer testing participation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Evaluating alternative methodology and technology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Technology Update</a:t>
            </a:r>
            <a:br>
              <a:rPr sz="4400"/>
            </a:b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Business Continuity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FC assures connectivity for: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DA’s IP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ustomers using other networks must: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 ROC conne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ipate in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Survey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974960"/>
            <a:ext cx="830592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  As a customer, what I value about NFC service is: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.  If you could change three things at the NFC to add value to the customer, these changes would be: 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.  Related to the services provided to you by NFC, what keeps you awake at nigh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133720" y="2514600"/>
            <a:ext cx="5486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Disaster Recovery Business Continuity Re-Engine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49831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Jerry Lohf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Reengineering Disaster Recovery and Business Continuity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usiness Impact Analysi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echnology Alternative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Risk Assessment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Zone Study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Feasibility Report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Outcomes of Analysi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Validation of Business Requirement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wo Changes to 48-Hour Requirement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ift Savings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roll/Personnel Reporting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ize and Complexity Threaten Success of       48-Hour Window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ew Consideration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(physical &amp; cy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threat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Next Step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igh-level Plan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Funding Alternative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Detailed Action Plan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600200" y="289548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Public Key Infrastructure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45259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Randy 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ublic Key Infrastructure (PKI)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hy PKI?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2971800"/>
            <a:ext cx="64771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he use of digital certificates ensures that your electronic transactions can be conducted with confidentiality, data integrity, proper user authentication, and non-repudi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Benefits of PKI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ecure auditable manner to access sensitive data over the internet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ahoma"/>
              </a:rPr>
              <a:t>Digital signature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ingle/reduced sign-on for many government application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ahoma"/>
              </a:rPr>
              <a:t>ingle point of control for authentication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ahoma"/>
              </a:rPr>
              <a:t>Authorization handled by business process owner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ahoma"/>
              </a:rPr>
              <a:t>Assists agencies in compliance with Government mandates (i.e., GPEA, FICC,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  <a:ea typeface="Tahoma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ahoma"/>
              </a:rPr>
              <a:t>-Gov)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NFC is a CSP and Application Owner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NFC established a Certification Authority in 1996 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ross-certified with Federal Bridge and Interoperable with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-Authentication Gateway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&amp;A completed by independent third party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ustomers benefit from PKI without the cost of establishing and maintaining their own CA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Government-wide Initiative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-Authentication Initiative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Gate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redentials can be reused across governme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Federal Bridge Certification Authority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deral agencies, governments, and industry to agree to a common certificate poli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Federal Identity Credentialing Committee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credentials for Federal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service provider con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rojected Milestones for FY04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mplement enabled applications into production (STARWeb, Reporting Center, and CLER)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mplete Annual External Audit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mplement an automated training tool for Local Registration Authorities at the agency site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828800" y="289548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ustomer Service Improvement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47545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Jerry Lohf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71600" y="2711520"/>
            <a:ext cx="6095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PKI Web s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http://sig.nfc.usda.gov/pki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133720" y="289548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Pricing Model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66880" y="44197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at H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ricing Model Change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Goal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ckground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urrent Model 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eedback from the Customer Service Improvement Project 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uture Direction 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hallenge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Goal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 perceived as our customers’ “best value” service prov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457200"/>
            <a:ext cx="533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ricing Model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ricing Model Change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ckground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0’s: influence customer behavior in a few key cost ce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costs based on historical volumes/budgeted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costs allocated proporti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through annual information booklet to managers (“Blue Book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ricing Model Change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urrent Model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to use different activity-based costing approa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tion of some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costs moved from core processing to agency-specific agree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 Book replaced by a description of services attached to the reimbursement agre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ricing Model Change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eedback from the Customer Service Improvement Project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FC’s pricing structure is difficult to understand and not transparent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any customers do not know exactly what they are paying for.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ome customers are not able to fully ascertain the “value for money” they receive for their investment in NFC’s service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 1999, they changed the algorithm, and nothing’s made sense since then.”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ricing Model Change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New Direction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pricing strategy on transparencies and strategic initiatives that impact customer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dentify additional high-effort activities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Encourage automated self-service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hasize customer service costs/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more pricing options that recognize the differences in customers’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more detail on the components of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cost price/workload communication linked to the 2-year budget planning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31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hallenge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communication to increase under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information to right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ough detail to inform, not conf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ingful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between stable price structure and dynamic cost incen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re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on strategy that enables organizations to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ricing Model Change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133720" y="28954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-Payr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66880" y="46944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Janet Dubb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523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Improving Customer Service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Engaged contractor assistance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 customer ins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measures to improve customer’s p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676520" y="27432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AG00171_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3379680" cy="27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90720" y="247032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Please join us in wishing Margaret the best in her upcoming retirement after 28 years of Federal servic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Afternoon Session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2209680"/>
            <a:ext cx="9219960" cy="37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2:50 p.m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sh Margaret well on her reti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:00 p.m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ormation Exchange with NFC Senior Mgm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 Personnel System Prior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 Service Initi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/Privacy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Tomorrow</a:t>
            </a:r>
            <a:br>
              <a:rPr sz="4400"/>
            </a:b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8:30 a.m. – 4:00 p.m.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1828800"/>
            <a:ext cx="9219960" cy="44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FC System Demonst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yste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o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Center (RC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 Personal Page (EP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ee Self-Service (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owledge Base System (KB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 for Time and Attendance Repor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STAR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ckb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ial Payroll Processing System (SPP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col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 Display and Search Facility (SDSF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col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Key Infrastructure (PKI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coln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3080" y="44956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49528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54100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57913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6248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30481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133720" y="2895480"/>
            <a:ext cx="548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99"/>
                </a:solidFill>
                <a:latin typeface="Times New Roman"/>
              </a:rPr>
              <a:t>THANK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Obtained Your Input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nterviews conducted by Accenture in person/by telephone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gencies selected for interviews based on: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 of serv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ngth of service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gree of centralization/decentr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ceived proficien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Obtained Your Input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nterviews focused on two categories of interviewee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R &amp; Financial Executi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R Line Staff &amp; Technical Represent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nterviewed 50 individuals from              16 different agencie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Positive Feedback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Universally expressed that payroll done well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ost feel they are getting “best value” for their investment in NFC’s service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here is a recognition that NFC performs a difficult and often thankless job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aise for NFC Team 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igh praise for many individual NFC team members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4:15:17Z</dcterms:created>
  <dc:creator>NFC</dc:creator>
  <dc:description/>
  <dc:language>en-US</dc:language>
  <cp:lastModifiedBy>NFC</cp:lastModifiedBy>
  <dcterms:modified xsi:type="dcterms:W3CDTF">2003-11-20T12:58:36Z</dcterms:modified>
  <cp:revision>152</cp:revision>
  <dc:subject/>
  <dc:title>PowerPoint Presentation</dc:title>
</cp:coreProperties>
</file>