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62E-562E-4495-A015-71BE53C3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926-E2F5-4F47-81E1-45D29326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3EF-223A-4BD1-91B3-C35DE6F1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376-8071-4E4E-B1CB-1DBE469E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70D-D6B1-4266-88EE-019A4F7C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D8E4-1768-4C9A-B326-8139C8C0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0BF-99B2-46F6-A78B-AE6F0407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F0F-26E5-426A-A33F-4CD9653C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C27A-25BE-4018-9FA6-92BBE62F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37C-65AA-4B8B-B7EE-3B031FBB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F69-103E-4BB9-8B9D-9876F684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9BDB-5D12-4103-AB10-5B0AFC73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24FE-7804-40EC-83C0-11FB13721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ithographLight"/>
              </a:rPr>
              <a:t>Comparative Genomics and Microarr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5562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ithographLight"/>
              </a:rPr>
              <a:t>D-ENCODE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ithographLight"/>
              </a:rPr>
              <a:t>Bethesda, MD  December 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76520"/>
            <a:ext cx="8229600" cy="38098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905120"/>
            <a:ext cx="7467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Justen Andre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Peter Cherba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GR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teve Russ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D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el Kroni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cott Harrison/Julia Zeitlinge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gi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John Mana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Victor Semetchenk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ffyme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evin Wh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imbl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ric Pleshk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llu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eri Mark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hom Kaufma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pecies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ithographLight"/>
              </a:rPr>
              <a:t>What do we want to fi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Genes (transcripts and ncRN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Gene structures, incl. alternative spl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oteins, incl. mod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unctional variants (SNPs, haplotyp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romatin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plication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Other ECEs (evolutionary conserved eleme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ithographLight"/>
              </a:rPr>
              <a:t>Polymorphism and Diversity ma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The 12 new genome sequences are an essential resour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 will inform us how to use comparative mammalian sequences to annotate the human gen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ne third of all fly genes are in the other species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f 10% of the genes in each of 5 “clades” are “orphan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 Drosophila Phenome Diversity Project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blish 50 lines of each species for genetic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major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model species-ENCODE advant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flies it that we have an active community of population and quantitative genetic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 annotation includes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nnotation of natural genetic varia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t just Mendelian mu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microarrays,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olymorphism affects hybridiz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ffects inference of transcript abundance or protein bi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ithographLight"/>
              </a:rPr>
              <a:t>Annotation needs to be dyna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ing orthology is just a first step toward 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e function of most genes is context 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oth among tissues and among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we need genomic methods not just for performing multiple sequence alignments, but also for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ring the patterns and covariance of gene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ell a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teomic and metabolomic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ithographLight"/>
              </a:rPr>
              <a:t>What resources do we ha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2 genomes for phylogenetic footprinting and comparative transcriptom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mmercial and community micro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opulation and quantitative genetic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Genotyping, MS/MS, tilling, etc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paralleled tools for genetic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mplexity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heterochromatin, gene structure, tiss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ithographLight"/>
              </a:rPr>
              <a:t>Some Issues for 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alance between commercial and community microarray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ow much to include the other species: which species, and how much divers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entralization vs investigator-initiate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tegration of high-throughput with genetic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7:21:43Z</dcterms:created>
  <dc:creator>Greg Gibson</dc:creator>
  <dc:description/>
  <dc:language>en-US</dc:language>
  <cp:lastModifiedBy>Greg Gibson</cp:lastModifiedBy>
  <dcterms:modified xsi:type="dcterms:W3CDTF">2004-12-08T14:08:55Z</dcterms:modified>
  <cp:revision>2</cp:revision>
  <dc:subject/>
  <dc:title>Comparative Genomics and Microarrays</dc:title>
</cp:coreProperties>
</file>