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45E1-FBC7-4A62-BC99-66EB9F62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B43C-0B58-4B1C-8A32-689F564F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822A-AE90-441E-9912-BC84898C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B281-B29E-45C0-A636-9B308967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20F0-B7C2-49CF-B412-F8625825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7D20-D2DC-47C8-8A27-114F2B71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23E5-6CFF-4441-96FB-8F7E148E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028A-6AA7-491C-B3BA-20AE65D0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A1C-F589-4066-B732-781706D6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0E6E-0280-4981-A4B1-3CD527B8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DE6F-7EFA-43A0-8D4F-9830AF9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48C0-2C54-4733-821C-84E8C888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E0A7-3C14-4F3B-A153-B47C3B8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C781-030C-41E5-90B2-6E44113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66DA-A30D-4C7A-B768-0E5E994A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A717-DF17-4663-83C6-0F81B14A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7C55-58A2-4BE0-8721-F0B1F12C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CE33-807E-4A64-A599-C3600430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2395-9E05-469A-AA73-8521D739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BDA5-46B3-4C2A-AE9E-699959A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C43A-6E76-43A9-813A-96B9EB5D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491E-6C8F-4434-B531-181D8116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5109-13EB-4EB1-A241-15DFD047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15A2-43A9-425F-A953-013EAF3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031F-85CC-4A4D-9A2C-DAD7D0C12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856D-F041-4902-97ED-359141A148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ny Werf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Management and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 2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1600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FO Act – Where Do We Go From 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hanging the “Footprint” of Financial Oper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FOs need additional capacity to move beyon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FOs should evaluate financial operations for opportunities to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ze and standardize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shared service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C041-0F77-4C8F-876B-09A26A31A418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500" spc="-1" strike="noStrike">
                <a:solidFill>
                  <a:srgbClr val="dfdef6"/>
                </a:solidFill>
                <a:latin typeface="Arial"/>
              </a:rPr>
              <a:t>Zeroing in on the Connection to Mission Objectives</a:t>
            </a:r>
            <a:br>
              <a:rPr sz="4000"/>
            </a:br>
            <a:endParaRPr b="0" lang="en-US" sz="35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FOs should be working to identify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 or work products that add value to the organization’s mission effectiveness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tacles that exist in realigning or expanding  current activities to ensure greater impact on organizational 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BCCE-1B82-4C47-8866-F7A18A5405C6}" type="slidenum">
              <a:t>11</a:t>
            </a:fld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consideration of What’s Require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porting – how can financial reports be more useful to the public, Congress, and other government leader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Controls – how can requirements better align controls with ris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Support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uld financial reports serve dual purpose of stewardship and information for decision-mak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we facilitate cost accounting and other business intelligence tools to help agencies manage risks and achieve business goal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FA0E-A825-4A72-8667-D5D877676287}" type="slidenum">
              <a:t>12</a:t>
            </a:fld>
          </a:p>
        </p:txBody>
      </p:sp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ef Financial Offi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F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of a compan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r public agency is the corporate officer primarily responsible for managing the financial risks of the business or agency. This officer is also responsible for financial planning and record-keeping, as well as financial reporting to higher management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Wikipedia entry for “CF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3DD6-3CA9-4C71-9739-0E01CAA127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CFO Act Objectiv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rovide transparency into government finances, including the fiscal sustainability of government operations over time and the effectiveness of government progra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nal Contro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Facilitate process, technology, and human capital improvements that ensure strong internal controls and sound accounting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cision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Provide Federal leaders financial information to help improve management decisions and drive better stewardship outcomes (reduced fraud, error, wast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4826-6583-488E-9BB7-1E3CD789632D}" type="slidenum">
              <a:t>3</a:t>
            </a:fld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905120" y="1724040"/>
            <a:ext cx="5333760" cy="47815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63960" y="1752480"/>
            <a:ext cx="3016080" cy="2667240"/>
          </a:xfrm>
          <a:prstGeom prst="flowChartExtract">
            <a:avLst/>
          </a:prstGeom>
          <a:solidFill>
            <a:srgbClr val="008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4600" y="5410080"/>
            <a:ext cx="41148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5410080"/>
            <a:ext cx="0" cy="10969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5410080"/>
            <a:ext cx="0" cy="10969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81240" y="5710320"/>
            <a:ext cx="140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more than one repeat weakness under FMFIA Sec. 2 or Sec. 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4788000"/>
            <a:ext cx="140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Meets reporting deadl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5710320"/>
            <a:ext cx="14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more than one repeat auditor weakn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484812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Clean audit opin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56080" y="572292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material non-complian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21240" y="5722920"/>
            <a:ext cx="99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chronic or significant ADA violation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62520" y="2819520"/>
            <a:ext cx="12189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76640" y="21589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Expands routine data u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3505320"/>
            <a:ext cx="19814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114800" y="3505320"/>
            <a:ext cx="0" cy="9144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3505320"/>
            <a:ext cx="0" cy="9144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86200" y="28954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Uses financial information to drive results in key area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3581280"/>
            <a:ext cx="990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repeat weaknesses under FMFIA Sec. 2 or Sec. 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38560" y="37465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FFMIA complia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76920" y="37339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 repeat auditor weakne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Improving Financial Perform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2806-51D8-49D5-9AEC-20E1676DF450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905120" y="1724040"/>
            <a:ext cx="5333760" cy="47815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63960" y="1752480"/>
            <a:ext cx="3016080" cy="2667240"/>
          </a:xfrm>
          <a:prstGeom prst="flowChartExtract">
            <a:avLst/>
          </a:prstGeom>
          <a:solidFill>
            <a:srgbClr val="008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0988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3124080"/>
            <a:ext cx="15242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3733920"/>
            <a:ext cx="22096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Roles of Federal C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14600" y="5181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Financial Report Prepa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5257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Compliance Offi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5257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ransaction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29000" y="3733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Provider of Key Managemen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8620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R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625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Strategic Pl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5723-3ECF-4C20-B062-069A3A4FDE26}" type="slidenum">
              <a:t>5</a:t>
            </a:fld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905120" y="1724040"/>
            <a:ext cx="5333760" cy="47815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63960" y="1752480"/>
            <a:ext cx="3016080" cy="2667240"/>
          </a:xfrm>
          <a:prstGeom prst="flowChartExtract">
            <a:avLst/>
          </a:prstGeom>
          <a:solidFill>
            <a:srgbClr val="008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09880" y="3124080"/>
            <a:ext cx="15242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29000" y="3733920"/>
            <a:ext cx="22096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PMA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57800" y="4419720"/>
            <a:ext cx="0" cy="20746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514600" y="4952880"/>
            <a:ext cx="13874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0808"/>
                </a:solidFill>
                <a:latin typeface="Arial"/>
              </a:rPr>
              <a:t>19 of 24 agencies w/ clean opin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4572000"/>
            <a:ext cx="152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Four consecutive years of declines in material weak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380988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$7+ Billion in Real Property Disposal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327672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$7+ Billion in Improper Payment Elimina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8620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4724280"/>
            <a:ext cx="1371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l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agencies meeting 45 day reporting deadl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652D-C16D-4C0F-87F5-5C01E785D709}" type="slidenum">
              <a:t>6</a:t>
            </a:fld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hallenges of Meeting CFO Role in Federal Environ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0280" indent="-51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whelmed by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bilities without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(and sometimes decentralized) financial operatio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capital need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511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74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to maintain steady state  operations and initiate improvements  (e.g., program integrity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9C59-0AD0-4507-909E-389E44B73D4E}" type="slidenum">
              <a:t>7</a:t>
            </a:fld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Path Forw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the Agenci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approach to financial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the “Footprint” of financia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ing in on the connection between CFO activities and agency mission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OMB, FASAB, Congress, and GA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114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ideration of what’s required for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B1C9-F2D4-491C-888D-CFFE45575E3D}" type="slidenum">
              <a:t>8</a:t>
            </a:fld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ntegrated Approach to Financial Manage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FOs in Integrated Organiz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more informed on organizational risk, business goals, and data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tandardize and/or centralization business processes more seamless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ore readily leverage other parts of the organization to help reduce workload in non-core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88F0-0B29-4B4D-8023-E66BB09B80F7}" type="slidenum">
              <a:t>9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14:43:12Z</dcterms:created>
  <dc:creator>clark_s</dc:creator>
  <dc:description/>
  <dc:language>en-US</dc:language>
  <cp:lastModifiedBy>jchamberlin</cp:lastModifiedBy>
  <dcterms:modified xsi:type="dcterms:W3CDTF">2008-04-09T21:19:04Z</dcterms:modified>
  <cp:revision>136</cp:revision>
  <dc:subject/>
  <dc:title>Improper Pay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64390128</vt:r8>
  </property>
  <property fmtid="{D5CDD505-2E9C-101B-9397-08002B2CF9AE}" pid="3" name="_AuthorEmail">
    <vt:lpwstr>Daniel_I._Werfel@omb.eop.gov</vt:lpwstr>
  </property>
  <property fmtid="{D5CDD505-2E9C-101B-9397-08002B2CF9AE}" pid="4" name="_AuthorEmailDisplayName">
    <vt:lpwstr>Werfel, Daniel I.</vt:lpwstr>
  </property>
  <property fmtid="{D5CDD505-2E9C-101B-9397-08002B2CF9AE}" pid="5" name="_EmailSubject">
    <vt:lpwstr>Slides for DOI Conference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