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115-BB36-4F36-884D-FC19A425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: optimizing detector: granularity and the other is OD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haring gets us good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ation: pick width well matched with multiple-scattering limitations, light yield limitations (photostatis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tion in z set by need for efficiency with short tra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detector: need to contain most particles in events, or else lose high multiplicity events (DIS) with energy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OD width is a cost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romises: step granularity (5cm-&gt;10cm); and step in z since most US part is not populated (backwards particles so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EDE2-02C1-4E46-88DC-64B5618C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EAF2-D025-4018-9B54-5809C1A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D22A-E526-46FD-BB17-8DB5603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80D3-E13D-49EA-A1D5-C004DC78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8625-3ED6-495C-8DA8-B2B9BBD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F5C6D-B802-46AD-AE27-5628139B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D8475-8617-4730-B01C-BBDE708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E1D66-5DE5-452A-AAAB-0A83FDA4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62A76-C7BE-49F4-A9CD-6B73456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5633E-70EB-43E6-9F96-8AF0CA11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26C7-898A-4650-A31D-A7A98E87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2BC8D-196C-4EC6-95B3-BBDDA845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3D13E-D411-430A-B112-1756E69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AB98D-C42C-4679-B927-34C1B93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C0EA2-00AD-422F-B391-381D4F0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355CD-438A-4BD8-8C53-ED2E899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DAD3D-2D90-4FA7-84F9-BC66570F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F8BB9-8E9B-44CE-A107-F8F5E95E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9D7D-E376-4C93-BA9F-8C3F8786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F94C-AD42-407F-9327-27C709A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781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B58B-9E1D-440B-AFBC-D1F22510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CA4E-307B-45BA-9A8C-7CCB7B1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63B5-F582-485F-92E9-0A800046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55FA-3B0E-426D-BA85-88BC46A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D345-0A65-4E24-BAC5-34719DBE1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rcRect l="0" t="0" r="0" b="17589"/>
          <a:stretch/>
        </p:blipFill>
        <p:spPr>
          <a:xfrm>
            <a:off x="7315200" y="399960"/>
            <a:ext cx="1446120" cy="142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6705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4286160"/>
            <a:ext cx="1955520" cy="2343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22860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7"/>
          </p:nvPr>
        </p:nvSpPr>
        <p:spPr>
          <a:xfrm>
            <a:off x="7848720" y="6399360"/>
            <a:ext cx="838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8AF-ACDF-4340-B91B-EC1E661A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838440" cy="76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632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9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1" lang="en-US" sz="10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106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Nu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152280"/>
            <a:ext cx="13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0" lang="en-US" sz="12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Director’s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10 Januar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Kevin McFa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Univ. of Roch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69560" y="428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6840" y="5965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NERvA Detector “Optimization”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vin McFarlan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ity of Rochest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6 February 200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ERvA Collaboration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3344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OD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hos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ronic energy resolution of approximately 20-30%/sqrt(E) fo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average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 fluctuations are five times larger than average leakage due to tail (could not dig up this plot; sor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goal was to keep leakage contribution to this to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e was that this resolution effect would be hard to under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o… 5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hinned upstream part to 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5035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Containment in Nuclear Target Region vs. Outer Detector Thic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114800" y="175212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2590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est part of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mpiled a list of ID granularity and OD size optimization studies to pur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Steve B. and Dav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“de-scoping”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n OD like ours but with 30cm extra material everyw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hypothetical OD with 10cm, 20cm, 30cm extra and 10cm, 20cm less, pl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ons escaping for QE Q2&gt;3 GeV^2 in ID and in nuclear targets.  Do this only for "trackable" muons (6 or 9 planes of sc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of DIS energy contained (high x and low x?, ID and nuclear targets separat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fractional DIS energy leaked (high x and low x?  ID and nuclear targets separate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we more or less have first one in hand.  We've done things similar to the others; it's not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segmentation of 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C. showed this well at the Aug '03 JLab meeting, but we could repeat the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ked at efficiency for QE (low Q^2) reconstruction vs. z spa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1.7cm, 2.2 cm, 2.7cm, 1.2cm, 0.7c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how both efficiency and z vertex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p width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ne is much more trick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hink something like 2.8, 3.3, 3.8, 4.3, 4.8 is a good range of cells to try.  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 z_vertex for two track Q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for two track QE events (are tracks separated with such big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herent CC events, Hugh's t variable which plays a big role in his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IS events, how close to the vertex can the track be tracked?  I'm not sure we have a way to translate that into an effective z vertex resolution?  maybe look at events with multiple trac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d like to figure out how it affects photon ID (since I think track width is likely to be a key parameter) but we don't really have th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so should cat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different numbers of modules (or module width) on fiducial events for different flag ship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Es, single pi0 resonant, coherent CC/NC, 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ere beaten up at our Temple review for not being able to show sufficient evidence of physics vs. $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opinion: probably more than we d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is still a vali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such information to understand what happens if we get on 80% of our proposed funds, for example, or to see if we can build more slowly than we propose and do physics during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ich dire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C. pointed out that “optimization” also means we should think of add-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have project funds left, what could we do at the end to improve the experiment?  DS HCAL magnetization,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ense in which the committee wanted us to study was clearly de-scoping, not up-scop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some more Monte Carlo simulation studies with different geome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better tools for evaluating the impact of changes 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what was presented to the Templ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What Does it Take to Reduce Costs in Channels and Modules?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ghly, I guestimate the marginal channel cost to be 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items: ~$20 for electronics, ~$35 for PMT and testing, $30 for PMT box, ~$15 for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saving $1M takes approximately 9K channels (of 31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… there are granularity issues that make this tough to re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ins by reducing number o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on channels, module and plan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9 modules in current design, 30 fully active, 9 nuclear targets, 10 downstream calorimeters, each with roughly 2% of th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uestimate marginal cost of a module to be 0.11M$, about $0.7M of which is in the channel count; so that means 9 modules away to save $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take this with very large grains of salt; it is based on quick fudges to a costing model we had when optim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nstraints on Extrusion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S experience: 1x4cm extrusions are near limit of surface are to volume ratio for successful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largest granularity we might consider is 5x2.5cm triangles, just on technical grounds?  we certainly never considered anything beyond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arison, 3cm^2 MINERvA cross-section is same as SciBar at 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we looked at our key desig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resolution: width and thickness both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 for quasi-elastics: primarily thickness of extr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nd, we took a hit on the latter in exchange for preserving the 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fiducial volume: want roughly a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cceptance studies, particles go at wid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on fiducial volume targ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Optimization of </a:t>
            </a:r>
            <a:br>
              <a:rPr sz="2800"/>
            </a:b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acking in Active Targe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0680" y="557964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 pioneered by D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re-show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47640"/>
            <a:ext cx="4267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tracking resolution w/ triangular ex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mm in transverse direction from light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than rectangles (resolution/segment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resolution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se segmentation and light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itudinal segmentation for z vertex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78400" y="5256360"/>
            <a:ext cx="3308400" cy="1524960"/>
            <a:chOff x="5378400" y="5256360"/>
            <a:chExt cx="3308400" cy="1524960"/>
          </a:xfrm>
        </p:grpSpPr>
        <p:grpSp>
          <p:nvGrpSpPr>
            <p:cNvPr id="179" name=""/>
            <p:cNvGrpSpPr/>
            <p:nvPr/>
          </p:nvGrpSpPr>
          <p:grpSpPr>
            <a:xfrm>
              <a:off x="5378400" y="5715000"/>
              <a:ext cx="2133720" cy="532800"/>
              <a:chOff x="5378400" y="5715000"/>
              <a:chExt cx="2133720" cy="532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37840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369120" y="594324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521040" y="5715000"/>
              <a:ext cx="2133720" cy="532800"/>
              <a:chOff x="6521040" y="5715000"/>
              <a:chExt cx="2133720" cy="532800"/>
            </a:xfrm>
          </p:grpSpPr>
          <p:sp>
            <p:nvSpPr>
              <p:cNvPr id="183" name=""/>
              <p:cNvSpPr/>
              <p:nvPr/>
            </p:nvSpPr>
            <p:spPr>
              <a:xfrm rot="10800000">
                <a:off x="652104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162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0800000">
                <a:off x="7511760" y="586692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H="1">
              <a:off x="6521400" y="5257800"/>
              <a:ext cx="380880" cy="15235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59480" y="558468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42200" y="525636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7200" y="1728720"/>
            <a:ext cx="4038480" cy="3753000"/>
            <a:chOff x="457200" y="1728720"/>
            <a:chExt cx="4038480" cy="3753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720"/>
              <a:ext cx="4038480" cy="375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0" name=""/>
            <p:cNvSpPr/>
            <p:nvPr/>
          </p:nvSpPr>
          <p:spPr>
            <a:xfrm>
              <a:off x="914400" y="190512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 residual for different strip wid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2480" y="41148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cm 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480" y="2743200"/>
              <a:ext cx="1447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 width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lue and green are different thickness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742840" y="25909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182880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CQE Vertex Efficiency vs. Absorber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729320" cy="46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136240" y="2895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what is being studied is the resolution (and efficiency) of reconstructing CCQE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is 1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.5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is 2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 opted for 1.7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viously, this one hur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effect is inability to pick up short proton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uclear targets, require resolution &lt; 1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the Outer Detector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Detector (OD) steel is a cost-driver (and mass-driver) for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: containment of hadronic energy in D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cking of sideways going muons (B-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” in detector is result of shaving upstream end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2280" y="3878280"/>
            <a:ext cx="3637080" cy="2979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572000" cy="238896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609480" y="4495680"/>
            <a:ext cx="2971800" cy="1752840"/>
            <a:chOff x="609480" y="4495680"/>
            <a:chExt cx="2971800" cy="1752840"/>
          </a:xfrm>
        </p:grpSpPr>
        <p:sp>
          <p:nvSpPr>
            <p:cNvPr id="205" name=""/>
            <p:cNvSpPr/>
            <p:nvPr/>
          </p:nvSpPr>
          <p:spPr>
            <a:xfrm>
              <a:off x="609480" y="44956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9480" y="60958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vin McFarland</cp:lastModifiedBy>
  <dcterms:modified xsi:type="dcterms:W3CDTF">2005-02-26T20:32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