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A0461D-5A58-4F43-AF58-FE597C0FE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June 30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r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NCD Desig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83808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  <a:ea typeface="Tahoma"/>
              </a:rPr>
              <a:t>Network Control Center (NCC) Central Delogger (NCD) </a:t>
            </a:r>
            <a:br>
              <a:rPr sz="4200"/>
            </a:br>
            <a:r>
              <a:rPr b="0" lang="en-US" sz="4200" spc="-1" strike="noStrike">
                <a:solidFill>
                  <a:srgbClr val="ffff00"/>
                </a:solidFill>
                <a:latin typeface="Tahoma"/>
                <a:ea typeface="Tahoma"/>
              </a:rPr>
              <a:t>Design Re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350532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Operational Scenario,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Multiple delog processes may run at a time, and if necessary, continue running after the user logs off the works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Output is sent to a delog report file which the user can view and pri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User may check the status of or cancel executing delog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eptual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3800" y="405144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2960" y="405144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702480" y="405144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2160" y="3657600"/>
            <a:ext cx="761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702480" y="163188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W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2960" y="163188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3800" y="1631880"/>
            <a:ext cx="1835280" cy="157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20040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20040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3200400"/>
            <a:ext cx="0" cy="853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tex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87480" y="322092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87480" y="477036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87480" y="164628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931080" y="322092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957480" y="2965320"/>
            <a:ext cx="2219400" cy="1535040"/>
            <a:chOff x="3957480" y="2965320"/>
            <a:chExt cx="2219400" cy="1535040"/>
          </a:xfrm>
        </p:grpSpPr>
        <p:sp>
          <p:nvSpPr>
            <p:cNvPr id="155" name=""/>
            <p:cNvSpPr/>
            <p:nvPr/>
          </p:nvSpPr>
          <p:spPr>
            <a:xfrm>
              <a:off x="3957480" y="2965320"/>
              <a:ext cx="2219400" cy="1535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4152960" y="3503520"/>
              <a:ext cx="182880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NC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V="1">
            <a:off x="2819520" y="4272120"/>
            <a:ext cx="1466640" cy="101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158920"/>
            <a:ext cx="1466640" cy="1035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7339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373392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oftware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007400" y="291456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2560" y="2914560"/>
            <a:ext cx="1835280" cy="10238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314880" y="1442880"/>
            <a:ext cx="2633760" cy="1839960"/>
            <a:chOff x="3314880" y="1442880"/>
            <a:chExt cx="2633760" cy="1839960"/>
          </a:xfrm>
        </p:grpSpPr>
        <p:sp>
          <p:nvSpPr>
            <p:cNvPr id="168" name=""/>
            <p:cNvSpPr/>
            <p:nvPr/>
          </p:nvSpPr>
          <p:spPr>
            <a:xfrm>
              <a:off x="3314880" y="1442880"/>
              <a:ext cx="2633760" cy="1839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3718080" y="1860480"/>
              <a:ext cx="1827360" cy="10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GU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314880" y="4032360"/>
            <a:ext cx="2938320" cy="2144520"/>
            <a:chOff x="3314880" y="4032360"/>
            <a:chExt cx="2938320" cy="2144520"/>
          </a:xfrm>
        </p:grpSpPr>
        <p:grpSp>
          <p:nvGrpSpPr>
            <p:cNvPr id="171" name=""/>
            <p:cNvGrpSpPr/>
            <p:nvPr/>
          </p:nvGrpSpPr>
          <p:grpSpPr>
            <a:xfrm>
              <a:off x="3619440" y="4336920"/>
              <a:ext cx="2633760" cy="1839960"/>
              <a:chOff x="3619440" y="4336920"/>
              <a:chExt cx="2633760" cy="1839960"/>
            </a:xfrm>
          </p:grpSpPr>
          <p:sp>
            <p:nvSpPr>
              <p:cNvPr id="172" name=""/>
              <p:cNvSpPr/>
              <p:nvPr/>
            </p:nvSpPr>
            <p:spPr>
              <a:xfrm>
                <a:off x="3619440" y="4336920"/>
                <a:ext cx="2633760" cy="18399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4022640" y="4754520"/>
                <a:ext cx="1827360" cy="1004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Delo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Pro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467160" y="4184640"/>
              <a:ext cx="2633760" cy="1839960"/>
              <a:chOff x="3467160" y="4184640"/>
              <a:chExt cx="2633760" cy="1839960"/>
            </a:xfrm>
          </p:grpSpPr>
          <p:sp>
            <p:nvSpPr>
              <p:cNvPr id="175" name=""/>
              <p:cNvSpPr/>
              <p:nvPr/>
            </p:nvSpPr>
            <p:spPr>
              <a:xfrm>
                <a:off x="3467160" y="4184640"/>
                <a:ext cx="2633760" cy="18399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3870360" y="4602240"/>
                <a:ext cx="1827360" cy="1004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Delo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Pro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3314880" y="4032360"/>
              <a:ext cx="2633760" cy="1839960"/>
              <a:chOff x="3314880" y="4032360"/>
              <a:chExt cx="2633760" cy="1839960"/>
            </a:xfrm>
          </p:grpSpPr>
          <p:sp>
            <p:nvSpPr>
              <p:cNvPr id="178" name=""/>
              <p:cNvSpPr/>
              <p:nvPr/>
            </p:nvSpPr>
            <p:spPr>
              <a:xfrm>
                <a:off x="3314880" y="4032360"/>
                <a:ext cx="2633760" cy="18399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3718080" y="4449600"/>
                <a:ext cx="1827360" cy="1004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Delo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Pro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1600200" y="2363760"/>
            <a:ext cx="1719720" cy="554400"/>
          </a:xfrm>
          <a:custGeom>
            <a:avLst/>
            <a:gdLst/>
            <a:ahLst/>
            <a:rect l="0" t="0" r="r" b="b"/>
            <a:pathLst>
              <a:path fill="none" w="4777" h="1540">
                <a:moveTo>
                  <a:pt x="0" y="1540"/>
                </a:moveTo>
                <a:lnTo>
                  <a:pt x="0" y="0"/>
                </a:lnTo>
                <a:lnTo>
                  <a:pt x="4777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363760"/>
            <a:ext cx="1981440" cy="554400"/>
          </a:xfrm>
          <a:custGeom>
            <a:avLst/>
            <a:gdLst/>
            <a:ahLst/>
            <a:rect l="0" t="0" r="r" b="b"/>
            <a:pathLst>
              <a:path fill="none" w="5504" h="1540">
                <a:moveTo>
                  <a:pt x="5504" y="1540"/>
                </a:moveTo>
                <a:lnTo>
                  <a:pt x="5504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3935520"/>
            <a:ext cx="1981440" cy="1018080"/>
          </a:xfrm>
          <a:custGeom>
            <a:avLst/>
            <a:gdLst/>
            <a:ahLst/>
            <a:rect l="0" t="0" r="r" b="b"/>
            <a:pathLst>
              <a:path fill="none" w="5504" h="2828">
                <a:moveTo>
                  <a:pt x="5504" y="0"/>
                </a:moveTo>
                <a:lnTo>
                  <a:pt x="5504" y="2828"/>
                </a:lnTo>
                <a:lnTo>
                  <a:pt x="0" y="282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935520"/>
            <a:ext cx="1719720" cy="1018080"/>
          </a:xfrm>
          <a:custGeom>
            <a:avLst/>
            <a:gdLst/>
            <a:ahLst/>
            <a:rect l="0" t="0" r="r" b="b"/>
            <a:pathLst>
              <a:path fill="none" w="4777" h="2828">
                <a:moveTo>
                  <a:pt x="4777" y="2828"/>
                </a:moveTo>
                <a:lnTo>
                  <a:pt x="0" y="282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32480" y="3278160"/>
            <a:ext cx="0" cy="758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862280" y="1995480"/>
            <a:ext cx="1719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etup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6200" y="3429000"/>
            <a:ext cx="1719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etup 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19920" y="1995480"/>
            <a:ext cx="220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tart/Stop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81040" y="4967280"/>
            <a:ext cx="202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Delog Report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510240" y="4967280"/>
            <a:ext cx="1719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Log E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oftware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processes are executed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GUI process located on each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log process located on ser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FS mounted directories to workstation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gment log files directo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log fil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user hom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GUI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nages windows dis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cepts user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hecks filter criteria for syntax, not data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trieves/modifies/saves NCD setup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pens the log files for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GUI Proces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14400" y="1295280"/>
            <a:ext cx="754380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ends necessary information to delo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ppropriate log files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isplay log file start/stop ti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isplay executing delo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llow termination of executing delo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log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ads NCD setup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ads NCD support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ads log file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arses log file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hecks log file entries against filter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ats and writes log entries that pass filter criteria to output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log Proces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loses the log files after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r may execute multiple delog processes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logs will be executed as background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 will be notified when each delog process is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Log File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mmon log file format for all 3 se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og entries stored in ascending chronological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ach log entry consists of 2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xed length log file h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Variable length log ent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14400" y="1676520"/>
            <a:ext cx="47624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unctional Capabilit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evelopment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UI and Output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76840" y="16765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Jason Gar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Jason Gar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indy Cac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indy Cac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indy Cac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Jason Gar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400" y="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Log File Hea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14400" y="990720"/>
            <a:ext cx="7543800" cy="5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og time (YYYYDDDHHMMSSMM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cess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ngth of log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og source (seg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/O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IP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tocol 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CS Log Entry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C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ata ex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rror messages and al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PG Log Entry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C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C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rror messages and al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PSR Log Entry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C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perator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rror messages and al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ote: database entries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log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Setup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ntains filter criteria, user preferences, and other information used to create delog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etup file can be saved and retrieved for subsequent de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Support 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295280"/>
            <a:ext cx="7543800" cy="50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ite configuratio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tains information for each site (i.e., octal code, mnemonic, IP address, user 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ervice offset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tains information required to parse ODM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Valid messag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tains information for each NCC message (i.e., type/class, SIC/SUPIDEN location, TDRS name/ID lo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Functional Capabilitie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indy Cac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Functional Capabilities, Releas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543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asic graphical user interface (GU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Main Wind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Filter Criteria Window containing text  boxes for user input of filter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llow creation, modification, and execution of NCD setup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s log file start/stop ti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s executing delo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llows termination of executing delo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apability to open and read log files in ascending chronological order from the following 4 lo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CS log fil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PG log fil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PSR log fil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log file directory (contains log files restored via N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2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676520"/>
            <a:ext cx="7772400" cy="45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ad and process NCD support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atted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C 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C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CS data ex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duce and print output repo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ummary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ne line profile of each log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tailed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atted output of each log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Introduc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Jason Gar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 entries may be included or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mount and level of data input as filter criteria affects the granularity of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 log entry must meet the criteria in each field to pass the filter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yntax checking, not data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14400" y="22860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niversal filter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 time (U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gment (log sour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 entry type (process 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 for NCC block/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Message type/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Block type (byte 9 - NCC blo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ource/destination (octal c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IC/SUPI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DRS ID/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tring pattern at byte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676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pecial case filter criteria for NCC block/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N element  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source/destination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ny data field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block pattern by byte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perator conso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not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perator posit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not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1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 for CCS data ex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unction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mmand code/sub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ource/destination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tring pattern at byte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Functional Capabilities, Releas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nhanced filter criteria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llow range input for select filter criteria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 input entered via option menus or text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apability to both include and exclude filter criteria data within a particular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2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nhanced filter criteria for source/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nter octal code or mnem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ditional filter criteria for NCC block/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DRS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rvice start &amp; stop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vent start &amp; stop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2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 for NPG operator alerts/errors and process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verit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Message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ask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2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14400" y="1523880"/>
            <a:ext cx="8229600" cy="48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 for SPSR operator alerts/errors, operator events, and 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 message 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cal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rocess ID (UNI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ource fil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verity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support files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/modify NCD support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2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99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elog report viewer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 completed delog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plit-window display containing summary and detailed output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tools G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 log file start/stop ti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splay executing delo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llow termination of executing delo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Purpose of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esent the high-level design for N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view functiona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utline development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esent GUI layout and output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view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apabilities, Release 2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676520"/>
            <a:ext cx="7772400" cy="50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Formatted output for other log entry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PG operator alerts/errors and process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PSR operator alerts/errors, operator events, and process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Record error messages and alerts in an NCD log       file that will be monitored by NSM for anoma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nline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Potential Enhanc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C block ex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lock 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lphanumeric field-by-field output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velopment Approach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indy Cac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velopment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 object oriented design for all new GUI components [C++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de reuse of existing NTS DART software for delog process [C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 Builder Xcessory GUI design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sistency with the CCS and SPSR development t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40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velopment Approach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1143000"/>
            <a:ext cx="754380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intain effective communication with the CCS, NPG, NSM, and SPSR development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ntrol changes through configuratio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vide demos for test and operational perso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monstrate GUI and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llect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nalyze and incorporate feedback according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velopment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Hardware platform: HP 9000 series work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perating system: HP-UX, version 10.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gramming languages: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GUI development: Builder Xcessory,   version 4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GUI and Output Report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indy Cac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GUI Navig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3960" y="3349800"/>
            <a:ext cx="1987560" cy="476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778800" y="522756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CD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778800" y="221148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C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778800" y="586584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CD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581280" y="5181480"/>
            <a:ext cx="1987560" cy="476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778800" y="457200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Log Fi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778800" y="373536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Det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581280" y="3352680"/>
            <a:ext cx="1987560" cy="476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778800" y="309240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778800" y="161604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CD 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778800" y="993600"/>
            <a:ext cx="1987560" cy="385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81280" y="1584360"/>
            <a:ext cx="1987560" cy="476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1822320"/>
            <a:ext cx="2136960" cy="1530720"/>
          </a:xfrm>
          <a:custGeom>
            <a:avLst/>
            <a:gdLst/>
            <a:ahLst/>
            <a:rect l="0" t="0" r="r" b="b"/>
            <a:pathLst>
              <a:path fill="none" w="5936" h="4252">
                <a:moveTo>
                  <a:pt x="0" y="4252"/>
                </a:moveTo>
                <a:lnTo>
                  <a:pt x="0" y="0"/>
                </a:lnTo>
                <a:lnTo>
                  <a:pt x="5936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3822840"/>
            <a:ext cx="2136960" cy="1597320"/>
          </a:xfrm>
          <a:custGeom>
            <a:avLst/>
            <a:gdLst/>
            <a:ahLst/>
            <a:rect l="0" t="0" r="r" b="b"/>
            <a:pathLst>
              <a:path fill="none" w="5936" h="4437">
                <a:moveTo>
                  <a:pt x="0" y="0"/>
                </a:moveTo>
                <a:lnTo>
                  <a:pt x="0" y="4437"/>
                </a:lnTo>
                <a:lnTo>
                  <a:pt x="5936" y="4437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38280" y="3587760"/>
            <a:ext cx="1146240" cy="3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565600" y="1809720"/>
            <a:ext cx="1216080" cy="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65600" y="5419800"/>
            <a:ext cx="1216080" cy="1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65600" y="1187280"/>
            <a:ext cx="1216440" cy="635400"/>
          </a:xfrm>
          <a:custGeom>
            <a:avLst/>
            <a:gdLst/>
            <a:ahLst/>
            <a:rect l="0" t="0" r="r" b="b"/>
            <a:pathLst>
              <a:path fill="none" w="3379" h="1765">
                <a:moveTo>
                  <a:pt x="0" y="1765"/>
                </a:moveTo>
                <a:lnTo>
                  <a:pt x="1689" y="1765"/>
                </a:lnTo>
                <a:lnTo>
                  <a:pt x="1689" y="0"/>
                </a:lnTo>
                <a:lnTo>
                  <a:pt x="3379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65600" y="1822320"/>
            <a:ext cx="1216440" cy="582840"/>
          </a:xfrm>
          <a:custGeom>
            <a:avLst/>
            <a:gdLst/>
            <a:ahLst/>
            <a:rect l="0" t="0" r="r" b="b"/>
            <a:pathLst>
              <a:path fill="none" w="3379" h="1619">
                <a:moveTo>
                  <a:pt x="0" y="0"/>
                </a:moveTo>
                <a:lnTo>
                  <a:pt x="1689" y="0"/>
                </a:lnTo>
                <a:lnTo>
                  <a:pt x="1689" y="1619"/>
                </a:lnTo>
                <a:lnTo>
                  <a:pt x="3379" y="1619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5600" y="4765680"/>
            <a:ext cx="1216440" cy="654480"/>
          </a:xfrm>
          <a:custGeom>
            <a:avLst/>
            <a:gdLst/>
            <a:ahLst/>
            <a:rect l="0" t="0" r="r" b="b"/>
            <a:pathLst>
              <a:path fill="none" w="3379" h="1818">
                <a:moveTo>
                  <a:pt x="0" y="1818"/>
                </a:moveTo>
                <a:lnTo>
                  <a:pt x="1689" y="1818"/>
                </a:lnTo>
                <a:lnTo>
                  <a:pt x="1689" y="0"/>
                </a:lnTo>
                <a:lnTo>
                  <a:pt x="3379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65600" y="5419800"/>
            <a:ext cx="1216440" cy="640080"/>
          </a:xfrm>
          <a:custGeom>
            <a:avLst/>
            <a:gdLst/>
            <a:ahLst/>
            <a:rect l="0" t="0" r="r" b="b"/>
            <a:pathLst>
              <a:path fill="none" w="3379" h="1778">
                <a:moveTo>
                  <a:pt x="0" y="0"/>
                </a:moveTo>
                <a:lnTo>
                  <a:pt x="1689" y="0"/>
                </a:lnTo>
                <a:lnTo>
                  <a:pt x="1689" y="1778"/>
                </a:lnTo>
                <a:lnTo>
                  <a:pt x="3379" y="1778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65600" y="3286080"/>
            <a:ext cx="1216440" cy="305280"/>
          </a:xfrm>
          <a:custGeom>
            <a:avLst/>
            <a:gdLst/>
            <a:ahLst/>
            <a:rect l="0" t="0" r="r" b="b"/>
            <a:pathLst>
              <a:path fill="none" w="3379" h="848">
                <a:moveTo>
                  <a:pt x="0" y="848"/>
                </a:moveTo>
                <a:lnTo>
                  <a:pt x="1689" y="848"/>
                </a:lnTo>
                <a:lnTo>
                  <a:pt x="1689" y="0"/>
                </a:lnTo>
                <a:lnTo>
                  <a:pt x="3379" y="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65600" y="3591000"/>
            <a:ext cx="1216440" cy="338400"/>
          </a:xfrm>
          <a:custGeom>
            <a:avLst/>
            <a:gdLst/>
            <a:ahLst/>
            <a:rect l="0" t="0" r="r" b="b"/>
            <a:pathLst>
              <a:path fill="none" w="3379" h="940">
                <a:moveTo>
                  <a:pt x="0" y="0"/>
                </a:moveTo>
                <a:lnTo>
                  <a:pt x="1689" y="0"/>
                </a:lnTo>
                <a:lnTo>
                  <a:pt x="1689" y="940"/>
                </a:lnTo>
                <a:lnTo>
                  <a:pt x="3379" y="940"/>
                </a:ln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ser can access the NCD via the tool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ptions from the tool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Main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Viewer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CD Tools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4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Main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676520"/>
            <a:ext cx="7543800" cy="45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trieve/modify/save NCD setup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xecute delo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nter filter criteria via the Filter Criteria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View and print delog reports via NCD Viewer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cess associated tools via the NCD Tools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m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o formal “RID”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ubmit email comment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961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Jason.Garris@gsfc.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lease submit comments by COB 7/11/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Viewer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905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crollable window to view delog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ummary delog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tailed delog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Both delog reports in a split-window with dynamic linking between log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int delog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Tools W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isplay log file start/stop tim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isplay executing delo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llow termination of executing delo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Output Report F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ntain input summary page detailing the information used to produce the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ontain begin and end processing timest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Read only and user-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y be viewed using a text editor (release 1) or report viewer (release 2) and pri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isp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219320"/>
            <a:ext cx="8915400" cy="62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NIVERSAL                             NCC BLOCKS                    CCS DATA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INDEX  YYYY:DDD:HH:MM:SS:MMM L PROC F LENTH  TT/CC SIT:OCT SUPIDEN TDR  MSGID   FT/CC/SCD SRCA/DES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  1997:238:15:23:48:555 N EXMG I   128  03/14 SGT:266             0012746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2  1997:238:15:23:49:555 C FELC I   128  99/01 SGT:266 M2008MS 041 0012748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3  1997:238:15:23:50:555 S OPEV O    64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4  1997:238:15:23:51:555 S EXMG O  1024  03/10 BRM:020  2008       0012750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5  1997:238:15:23:54:555 C FELC I  1660  05/   SGT:266 M2008MS  B  0012752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6  1997:238:15:23:54:755 S ALRT O   256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7  1997:238:15:23:55:555 S EXMG I   128  99/01 SGT:266 M2008MS 041 0012754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8  1997:238:15:23:56:555 N ALRT O    80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9  1997:238:15:23:57:555 C FELC I   128  99/01 WSC:371 M2008MS 041 0012758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0  1997:238:15:23:58:555 C ISLC O   112                                     05/01/123 ASSV/UTA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1  1997:238:15:23:59:555 C FELC I   128  99/01 WSC:371 M2008MS 041 0012760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  1997:238:15:24:00:555 S PINF O   144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3  1997:238:15:24:01:555 N EXBK I  1024  03/15 BRM:020  1294       0012762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4  1997:238:15:24:02:555 C ERRP O    64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5  1997:238:15:24:03:555 N PINF O   128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1828800"/>
            <a:ext cx="3579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21160" y="1828800"/>
            <a:ext cx="2741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392960" y="1828800"/>
            <a:ext cx="1522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Log Entry Outpu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676520"/>
            <a:ext cx="7543800" cy="45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nivers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ndex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og entry type (Process 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/O f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minen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ntire log entr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NCC Block (CCS, NP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76520"/>
            <a:ext cx="883908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344:13:49:15:105    00005   NPG     EXBK    OU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MSG     SRC  DES    BLK   BLK   DATA    MSG   A|R|A|L  PEP   SUP/SIC  TDR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TY/CL    COD  COD    TYP  NUMBR  LNGTH   ID    R|B|E|B  COD    CODE     I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03/14    217  371    360  01        23  1896   1 0 0 1   0      N/A     N/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BYTES  1 - 14:  142166 047217 371313 027150 360162 004027 043311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BYTES 15 - 26:  051021 010000 377377 377377 060063 060060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030000001014Z9999ZZ...............................................................................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............................................................................................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............................................................................................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............................................................................................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.............................................................................................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......................................................................#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NCC Message (NPG, SPS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686800" cy="49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344:13:49:15:105    00005   SPSR    EXBK    IN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MSG   SRC  DES   DATA   NUM   TDR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TY/CL  COD  COD  LNGTH  SERV    I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06/00  237  217    174    2      C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SERV     SUPT     SIC      SUPIDEN    VIC      SUP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NUM      TYPE     CODE      CODE      CODE     SUB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        0      1120     A1120MS     01       N/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2        1      1120     A1120MS     01       N/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060009384 C00003600000091350164500020       0A1120MS01002-000-900-100021064062501251A1120MS01111025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99999991E11111031888888880E0008066067+011+0220500100-600021000441177100100#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CCS Data Excha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76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241:12:23:40:000    00116    CCS     ISLC    OU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FUNC  COM     COM     SRC   DEST  SUBHDR    DAT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  CODE  SUBCODE   APPL  APPL  LENGTH   LENGTH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5    22       0     ASSV  UTAS     0       1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....ASSV....UTAS........................5...   .....971521211041       B1294MS             9718112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#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NPG Operator Alert/Err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3520" y="16765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 1997:238:14:23:38:000    00001    NPG     ALRT    OU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SEVERITY          MSG   TAS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EVEL            ID   NAM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EVENT_UNEXPECTED____   0505   UDPSiteProx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EVENT_UNEXPECTED____0505&lt;UDPSiteProxy&gt;Configuration error: unknown destination: 111.  Message dropp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5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NPG Process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765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 1997:238:14:23:40:000    00002    NPG      PINF   OU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SEVERITY          MSG   TAS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EVEL            ID   NAM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EVENT_APP_ENTRY_____   0001   TCPServiceManag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EVENT_APP_ENTRY_____0001&lt;TCPServiceManager&gt;NPG Application launch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Overview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Jason Gar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SPSR Operator Alert/Err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6765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147:20:27:29:120    00001    SPSR    ALRT    IN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    PROT  MSG  LOCAL   PID   MSG  SOURCE  SOURC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NGTH   PORT  ID   HOST          SEV   LINE   NAM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236   12345 1200  iste0   4563   I     483   IirvReceiptServer.cc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00-Host:iste0:PID:4563:IirvReception::VectorMovedDueToEpoch-IirvReceiptServer.cc-483-20:27:29-I-E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och time for newly stored transmission for SIC:1294 less than previously stored vectors in primary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Previous vectors moved to secondar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SPSR Operator E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765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147:20:00:31:165    00002    SPSR    OPEV    IN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    PROT   MSG  LOCAL  PID   MSG  SOURCE  SOURC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NGTH   PORT   ID   HOST         SEV   LINE   NAM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35   12345  1805  iste2  1524   I      16   Save-EditWindow.cc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805-Host:iste2:PID:1524:Save-EditWindow.cc-268-20:00:16-I-Changes saved for ‘SGLT Resource Availabi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ity’ by ‘op6’ at 05/27/97 20:00:1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Detailed SPSR Process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765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UTC: 1997:147:18:38:29:526    00003    SPSR    OPEV    IN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    PROT   MSG  LOCAL  PID    MSG  SOURCE  SOURC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LNGTH   PORT   ID   HOST          SEV   LINE   NAM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2   12345   100  iste0  2748    I     173   BatchBoundary.cc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23456789012345678901234567890123456789012345678901234567890123456789012345678901234567890123456789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100-Host:iste0:PID:2748:BatchBoundary-s::BatchBoundary.cc-173-18:38:29-I-Process BatchBoundary star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1100" spc="-1" strike="noStrike">
                <a:solidFill>
                  <a:srgbClr val="ffffff"/>
                </a:solidFill>
                <a:latin typeface="Courier New"/>
                <a:ea typeface="Courier New"/>
              </a:rPr>
              <a:t>ing u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14400" y="19051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Jason Gar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Release 1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16765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nternal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’s m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raining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livery to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762440" y="16765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5/12/97 - 06/27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6/30/97 - 09/19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9/22/97 - 10/03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0/06/97 - 10/17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0/13/97 - 10/17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0/17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Release 2 Sche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14400" y="16765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nternal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ser’s m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elivery to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As-built doc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762440" y="1676520"/>
            <a:ext cx="3695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0/20/97 - 11/28/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12/01/97 - 02/19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2/20/98 - 03/12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3/13/98 - 03/31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4/01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04/02/98 - 04/30/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NCD Related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ystem Requirements Document (SRD) for NCCDS 1998, sections 8.2.3 and 8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Operations 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User's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CD As-Built System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14400" y="1371600"/>
            <a:ext cx="754380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SM archive tapes containing log files - procedures to address security issues regarding movement of tapes containing  log files from operations (AIS level 3) to   the DT&amp;T (AIS level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int window - capability to be provided    by workstation toolbar or by N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Close CCS, NPG, and SPSR log files - capability of NCD user to close the       active CCS, NPG, and SPSR log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6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m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ubmit email comment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961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Jason.Garris@gsfc.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lease submit comments by COB 7/11/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Purpose of the NC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vide a central, uniform, and efficient means to review log data from CCS, NPG, and SP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llow user to apply various filter criteria to extract the most relevan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ecrease time examining log files during test and problem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Purpose of the NCD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mote common logging between seg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Provide, at a minimum, the capabilities of current CCS delog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400800" y="62485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June 30, 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733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NCD Design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30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Operational Scen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676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User identifies log files to be delogged, and if necessary contacts the NSM operator to restore archived log fi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User invokes NCD from the toolbar and enters filter criter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ahoma"/>
              </a:rPr>
              <a:t>Filter criteria, NCD support files, and log files are made available to the delog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ndy J Cacace</dc:creator>
  <dc:description/>
  <dc:language>en-US</dc:language>
  <cp:lastModifiedBy>Jason Garris</cp:lastModifiedBy>
  <cp:revision>0</cp:revision>
  <dc:subject/>
  <dc:title>No Slide Title</dc:title>
</cp:coreProperties>
</file>