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4377E-A5F7-4170-8679-9968ED6D1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3EA7B-49B0-49CD-B84D-81B0A16FB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FC3CF-3129-4CB7-BDDE-7F392ABB9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90025-1FAE-4CF5-9BD7-05B0B358C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EBFEC-AEB0-4E9B-A741-461385331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17259-8F54-40AD-9EE0-86CFA8F51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B8954-6CB6-448C-B175-28427B69F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B330E-1DB5-4541-8DD3-708D673DC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C44EB-E931-4448-97E0-D47255E5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BC18A-41D1-4B6C-89C1-E15D5BF48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B0E6-8A2D-49F1-911E-6B2B88CA3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5E3D-E477-41BC-BBAE-87FEFA812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0BAA-824D-40B8-81B3-3B8B73480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government Perspective:</a:t>
            </a:r>
            <a:br>
              <a:rPr sz="2800"/>
            </a:br>
            <a:r>
              <a:rPr b="0" lang="en-US" sz="2800" spc="-1" strike="noStrike">
                <a:solidFill>
                  <a:srgbClr val="000000"/>
                </a:solidFill>
                <a:latin typeface="Times New Roman"/>
              </a:rPr>
              <a:t>XML Web Services and the XML Collaborator for Building Federal, State, and Local Content Networks</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d Niemann, US EPA</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vin Williams, Blue Oxide Technologies</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CO/AIC Universal Access Collaboration Workshop</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7, 2002</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A139E20-AEB7-4847-8F15-D5C9C3C628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Schematic: Multi-government XML Data Exchange Network Pilots</a:t>
            </a:r>
            <a:endParaRPr b="0" lang="en-US" sz="2200" spc="-1" strike="noStrike">
              <a:solidFill>
                <a:srgbClr val="000000"/>
              </a:solidFill>
              <a:latin typeface="Arial"/>
            </a:endParaRPr>
          </a:p>
        </p:txBody>
      </p:sp>
      <p:sp>
        <p:nvSpPr>
          <p:cNvPr id="60" name=""/>
          <p:cNvSpPr/>
          <p:nvPr/>
        </p:nvSpPr>
        <p:spPr>
          <a:xfrm>
            <a:off x="6095880" y="48769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19920" y="2514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371600" y="4800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371600" y="2514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447920" y="2666880"/>
            <a:ext cx="90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65" name=""/>
          <p:cNvSpPr/>
          <p:nvPr/>
        </p:nvSpPr>
        <p:spPr>
          <a:xfrm>
            <a:off x="6095880" y="2666880"/>
            <a:ext cx="90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1</a:t>
            </a:r>
            <a:endParaRPr b="0" lang="en-US" sz="1800" spc="-1" strike="noStrike">
              <a:solidFill>
                <a:srgbClr val="000000"/>
              </a:solidFill>
              <a:latin typeface="Arial"/>
            </a:endParaRPr>
          </a:p>
        </p:txBody>
      </p:sp>
      <p:sp>
        <p:nvSpPr>
          <p:cNvPr id="66" name=""/>
          <p:cNvSpPr/>
          <p:nvPr/>
        </p:nvSpPr>
        <p:spPr>
          <a:xfrm>
            <a:off x="1374120" y="4952880"/>
            <a:ext cx="95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67" name=""/>
          <p:cNvSpPr/>
          <p:nvPr/>
        </p:nvSpPr>
        <p:spPr>
          <a:xfrm>
            <a:off x="6966000" y="5029200"/>
            <a:ext cx="217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Central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y/Repository/Collaborator</a:t>
            </a:r>
            <a:endParaRPr b="0" lang="en-US" sz="1800" spc="-1" strike="noStrike">
              <a:solidFill>
                <a:srgbClr val="000000"/>
              </a:solidFill>
              <a:latin typeface="Arial"/>
            </a:endParaRPr>
          </a:p>
        </p:txBody>
      </p:sp>
      <p:sp>
        <p:nvSpPr>
          <p:cNvPr id="68" name=""/>
          <p:cNvSpPr/>
          <p:nvPr/>
        </p:nvSpPr>
        <p:spPr>
          <a:xfrm>
            <a:off x="2286000" y="5257800"/>
            <a:ext cx="3809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477120" y="34290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657600" y="1371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787280" y="1560600"/>
            <a:ext cx="4268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Web Services No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tent, 2. Directory, &amp; 3. Description</a:t>
            </a:r>
            <a:endParaRPr b="0" lang="en-US" sz="1800" spc="-1" strike="noStrike">
              <a:solidFill>
                <a:srgbClr val="000000"/>
              </a:solidFill>
              <a:latin typeface="Arial"/>
            </a:endParaRPr>
          </a:p>
        </p:txBody>
      </p:sp>
      <p:sp>
        <p:nvSpPr>
          <p:cNvPr id="72" name=""/>
          <p:cNvSpPr/>
          <p:nvPr/>
        </p:nvSpPr>
        <p:spPr>
          <a:xfrm>
            <a:off x="2666880" y="617220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032800" y="5943600"/>
            <a:ext cx="340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Messages and Data Flows</a:t>
            </a:r>
            <a:endParaRPr b="0" lang="en-US" sz="1800" spc="-1" strike="noStrike">
              <a:solidFill>
                <a:srgbClr val="000000"/>
              </a:solidFill>
              <a:latin typeface="Arial"/>
            </a:endParaRPr>
          </a:p>
        </p:txBody>
      </p:sp>
      <p:sp>
        <p:nvSpPr>
          <p:cNvPr id="74" name=""/>
          <p:cNvSpPr/>
          <p:nvPr/>
        </p:nvSpPr>
        <p:spPr>
          <a:xfrm>
            <a:off x="6174000" y="51055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75" name=""/>
          <p:cNvSpPr/>
          <p:nvPr/>
        </p:nvSpPr>
        <p:spPr>
          <a:xfrm>
            <a:off x="2286000" y="2971800"/>
            <a:ext cx="3733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82880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09680" y="3200400"/>
            <a:ext cx="40388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081625-2DF9-427B-871C-F065CB07AD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Schematic: Multi-government XML Data Exchange Network Pilots</a:t>
            </a:r>
            <a:endParaRPr b="0" lang="en-US" sz="2200" spc="-1" strike="noStrike">
              <a:solidFill>
                <a:srgbClr val="000000"/>
              </a:solidFill>
              <a:latin typeface="Arial"/>
            </a:endParaRPr>
          </a:p>
        </p:txBody>
      </p:sp>
      <p:sp>
        <p:nvSpPr>
          <p:cNvPr id="7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n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 1 and Federal Nodes are full XML Web Services (content, directory, and descrip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 2 Node is just a content XML Web Service and relies on a centralized XML Registry/Repository/Collaborator for directory and description functions and Collaboration Tools (It could also be a Sub-State entity - city, county, business,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row heads indicate the principal direction of XML messages and data flow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XML Registry/Repository/Collaborator Node provides the XML Schema and other XML documents needed to validate and document the XML data flows as well as the tools to support Collabo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des need to be on separate Web Servers to simulate the actual operation of the Net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des will be free to use relational, native XML, and/or hybrid database technology to store and retrieve the XML data flow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7FD7007-0537-428D-A071-F01ABD1071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Relational and Native XML Database Technology</a:t>
            </a:r>
            <a:endParaRPr b="0" lang="en-US" sz="2800" spc="-1" strike="noStrike">
              <a:solidFill>
                <a:srgbClr val="000000"/>
              </a:solidFill>
              <a:latin typeface="Arial"/>
            </a:endParaRPr>
          </a:p>
        </p:txBody>
      </p:sp>
      <p:pic>
        <p:nvPicPr>
          <p:cNvPr id="81" name="" descr=""/>
          <p:cNvPicPr/>
          <p:nvPr/>
        </p:nvPicPr>
        <p:blipFill>
          <a:blip r:embed="rId1"/>
          <a:stretch/>
        </p:blipFill>
        <p:spPr>
          <a:xfrm>
            <a:off x="1511280" y="1600200"/>
            <a:ext cx="6121440" cy="4525920"/>
          </a:xfrm>
          <a:prstGeom prst="rect">
            <a:avLst/>
          </a:prstGeom>
          <a:ln w="0">
            <a:noFill/>
          </a:ln>
        </p:spPr>
      </p:pic>
      <p:sp>
        <p:nvSpPr>
          <p:cNvPr id="3" name="PlaceHolder 2"/>
          <p:cNvSpPr>
            <a:spLocks noGrp="1"/>
          </p:cNvSpPr>
          <p:nvPr>
            <p:ph type="sldNum" idx="3"/>
          </p:nvPr>
        </p:nvSpPr>
        <p:spPr/>
        <p:txBody>
          <a:bodyPr/>
          <a:p>
            <a:fld id="{4C2E4A85-D025-4BEE-A10E-D014A77C48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Relational and Native XML Database Technology</a:t>
            </a:r>
            <a:endParaRPr b="0" lang="en-US" sz="2800" spc="-1" strike="noStrike">
              <a:solidFill>
                <a:srgbClr val="000000"/>
              </a:solidFill>
              <a:latin typeface="Arial"/>
            </a:endParaRPr>
          </a:p>
        </p:txBody>
      </p:sp>
      <p:pic>
        <p:nvPicPr>
          <p:cNvPr id="83" name="" descr=""/>
          <p:cNvPicPr/>
          <p:nvPr/>
        </p:nvPicPr>
        <p:blipFill>
          <a:blip r:embed="rId1"/>
          <a:stretch/>
        </p:blipFill>
        <p:spPr>
          <a:xfrm>
            <a:off x="1143000" y="1219320"/>
            <a:ext cx="6326280" cy="4906800"/>
          </a:xfrm>
          <a:prstGeom prst="rect">
            <a:avLst/>
          </a:prstGeom>
          <a:ln w="0">
            <a:noFill/>
          </a:ln>
        </p:spPr>
      </p:pic>
      <p:sp>
        <p:nvSpPr>
          <p:cNvPr id="3" name="PlaceHolder 2"/>
          <p:cNvSpPr>
            <a:spLocks noGrp="1"/>
          </p:cNvSpPr>
          <p:nvPr>
            <p:ph type="sldNum" idx="3"/>
          </p:nvPr>
        </p:nvSpPr>
        <p:spPr/>
        <p:txBody>
          <a:bodyPr/>
          <a:p>
            <a:fld id="{64D71A26-2653-4169-8461-D53B58936E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Relational and Native XML Database Technology</a:t>
            </a:r>
            <a:endParaRPr b="0" lang="en-US" sz="2800" spc="-1" strike="noStrike">
              <a:solidFill>
                <a:srgbClr val="000000"/>
              </a:solidFill>
              <a:latin typeface="Arial"/>
            </a:endParaRPr>
          </a:p>
        </p:txBody>
      </p:sp>
      <p:sp>
        <p:nvSpPr>
          <p:cNvPr id="85"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everal vendors have announced or released XML-enabled versions of their relational or object-oriented DBMS products. All of these products feature a kernel architecture that is not optimized for XML queries and information retrieval. The fragmented way in which RDBMS and ODBMS store complex data structures can lead to performance problems. While these database systems will offer some capabilities for XML storage and retrieval, they also have to carry forward a compatibility mode for all the existing customer applications. This will slow the pace of XML innovation in these systems. For optimal performance, native implementation is the only acceptable approach in the XML database arena.”</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The XML Shockwave, pp. 15-16, SoftwareAG 2002.</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Native XML servers provide the high speed search mechanisms that make it ideally suited to act as a UDDI registry and reposi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Tamino-XML Server, page 16, White Paper, SoftwareAG, 2002.</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3BEA84F-5395-45F4-A8AF-AD7FA4720A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4 EPA and CDC Grants</a:t>
            </a:r>
            <a:endParaRPr b="0" lang="en-US" sz="3600" spc="-1" strike="noStrike">
              <a:solidFill>
                <a:srgbClr val="000000"/>
              </a:solidFill>
              <a:latin typeface="Arial"/>
            </a:endParaRPr>
          </a:p>
        </p:txBody>
      </p:sp>
      <p:sp>
        <p:nvSpPr>
          <p:cNvPr id="8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funding is being made available to states and tribes that will contribute and exchange of environment and public health data as follow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 Department of Health and Human Services (HHS) are providing $1.1 billion in funding to prepare for bioterrorist attac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A is providing $25 million in grants funds to participate in building the National Environmental Information Exchange Network (The Exchange Net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Disease Control and Prevention (CDC) and the Agency for Toxic Substances and Disease Registry (ATSDR) plan to provide about $12.5 million for state pilots to develop an Environmental Health Tracking Network.</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ttp://www.epa.gov/neengprg/2002pressrelease.htm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http://www.sso.org/ecos/Asthma2/health_tracking_grants.ht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F58421-AC87-4E48-A464-84E2F5749F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XML Collaborator</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ollaboration and the XML Design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 A Comprehensive Registry for Work Produc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 Combining Collaboration and Regist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4 Some Next Ste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E56C210-E230-4809-8BAC-16B790BC8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ollaboration and the XML Design Process</a:t>
            </a:r>
            <a:endParaRPr b="0" lang="en-US" sz="3200" spc="-1" strike="noStrike">
              <a:solidFill>
                <a:srgbClr val="000000"/>
              </a:solidFill>
              <a:latin typeface="Arial"/>
            </a:endParaRPr>
          </a:p>
        </p:txBody>
      </p:sp>
      <p:sp>
        <p:nvSpPr>
          <p:cNvPr id="91"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bination of XML and Web Services allows systems to easily interact with each other, working in concert to perform enterprise-class functions. But there are two hurdle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boration:</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re the XML documents and Web Services interfaces created?</a:t>
            </a:r>
            <a:endParaRPr b="0" lang="en-US" sz="24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y:</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re the XML documents and Web Services interfaces exposed so the collaborators can take advantage of those interfa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27FC3B-81AB-4E7B-9AEF-260CAC6CC6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ollaboration and the XML Design Process</a:t>
            </a:r>
            <a:endParaRPr b="0" lang="en-US" sz="3200" spc="-1" strike="noStrike">
              <a:solidFill>
                <a:srgbClr val="000000"/>
              </a:solidFill>
              <a:latin typeface="Arial"/>
            </a:endParaRPr>
          </a:p>
        </p:txBody>
      </p:sp>
      <p:pic>
        <p:nvPicPr>
          <p:cNvPr id="93" name="" descr=""/>
          <p:cNvPicPr/>
          <p:nvPr/>
        </p:nvPicPr>
        <p:blipFill>
          <a:blip r:embed="rId1"/>
          <a:stretch/>
        </p:blipFill>
        <p:spPr>
          <a:xfrm>
            <a:off x="1295280" y="1676520"/>
            <a:ext cx="6553440" cy="4114800"/>
          </a:xfrm>
          <a:prstGeom prst="rect">
            <a:avLst/>
          </a:prstGeom>
          <a:ln w="0">
            <a:noFill/>
          </a:ln>
        </p:spPr>
      </p:pic>
      <p:sp>
        <p:nvSpPr>
          <p:cNvPr id="3" name="PlaceHolder 2"/>
          <p:cNvSpPr>
            <a:spLocks noGrp="1"/>
          </p:cNvSpPr>
          <p:nvPr>
            <p:ph type="sldNum" idx="3"/>
          </p:nvPr>
        </p:nvSpPr>
        <p:spPr/>
        <p:txBody>
          <a:bodyPr/>
          <a:p>
            <a:fld id="{50E54D04-67C8-4D4A-97A9-2C09692F82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Collaboration and the XML Design Process</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boration is not an insignificant task!</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to-face meetings are an incredibly costly and time-consuming way to build collaborative network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king decisions and changes and documenting the process is a crucial task.</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aboration tool should focus on the reuse of individual data structures, rather than the specific design of XML Schema structures or Web Services interfaces as seen in the previous diagram. By abstracting the design of the elements and structures away from any particular view of those structures, the design can be easily reus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B43252-971D-4833-8446-D6BFBB2E9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XML Web Servic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Multi-government Content Network Pilo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XML Collaborator</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Questions and Answ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ppendix</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5C75D3E-6D84-400E-9A6A-FEFBD31CB1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gistry is a common location where metadata about specific data elements, structures, and/or service interfaces can be registered by those that want to share those items with others (see next slide for an XML Regis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gistry should both track the development of items and be programmatically accessible so items can be easily re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y standards already exist (ISO 11179, ebXML, and UDDI) but do not provide enough information, granularity, etc. for a robust XML Regist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62109F-858D-4DCE-867F-95E1FEC5DB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pic>
        <p:nvPicPr>
          <p:cNvPr id="99" name="" descr=""/>
          <p:cNvPicPr/>
          <p:nvPr/>
        </p:nvPicPr>
        <p:blipFill>
          <a:blip r:embed="rId1"/>
          <a:stretch/>
        </p:blipFill>
        <p:spPr>
          <a:xfrm>
            <a:off x="1219320" y="1676520"/>
            <a:ext cx="6629400" cy="4038480"/>
          </a:xfrm>
          <a:prstGeom prst="rect">
            <a:avLst/>
          </a:prstGeom>
          <a:ln w="0">
            <a:noFill/>
          </a:ln>
        </p:spPr>
      </p:pic>
      <p:sp>
        <p:nvSpPr>
          <p:cNvPr id="3" name="PlaceHolder 2"/>
          <p:cNvSpPr>
            <a:spLocks noGrp="1"/>
          </p:cNvSpPr>
          <p:nvPr>
            <p:ph type="sldNum" idx="3"/>
          </p:nvPr>
        </p:nvSpPr>
        <p:spPr/>
        <p:txBody>
          <a:bodyPr/>
          <a:p>
            <a:fld id="{1E973E6C-6FF2-4E9F-97FA-E01BA787B0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sp>
        <p:nvSpPr>
          <p:cNvPr id="101"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rehensive approach would inclu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metadata for data elements (ISO 11179), XML Schema (ebXML), and Web Services (UDDI) would draw from the same integrated and synchronized regist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 reuse of information design elemen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ly tracked and versioned and usable in other structure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er-to-Peer distributed server environmen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next three figures of centralized (single point of failure), separate (sharing difficult), and peer-to-peer (distributes responsibilities and costs) XML registr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532041-FC49-4F2D-ACE2-66871FA539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pic>
        <p:nvPicPr>
          <p:cNvPr id="103" name="" descr=""/>
          <p:cNvPicPr/>
          <p:nvPr/>
        </p:nvPicPr>
        <p:blipFill>
          <a:blip r:embed="rId1"/>
          <a:stretch/>
        </p:blipFill>
        <p:spPr>
          <a:xfrm>
            <a:off x="1219320" y="1676520"/>
            <a:ext cx="6781680" cy="4114800"/>
          </a:xfrm>
          <a:prstGeom prst="rect">
            <a:avLst/>
          </a:prstGeom>
          <a:ln w="0">
            <a:noFill/>
          </a:ln>
        </p:spPr>
      </p:pic>
      <p:sp>
        <p:nvSpPr>
          <p:cNvPr id="3" name="PlaceHolder 2"/>
          <p:cNvSpPr>
            <a:spLocks noGrp="1"/>
          </p:cNvSpPr>
          <p:nvPr>
            <p:ph type="sldNum" idx="3"/>
          </p:nvPr>
        </p:nvSpPr>
        <p:spPr/>
        <p:txBody>
          <a:bodyPr/>
          <a:p>
            <a:fld id="{EC2C0F1E-DFF4-4E63-A020-8B14B01F25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pic>
        <p:nvPicPr>
          <p:cNvPr id="105" name="" descr=""/>
          <p:cNvPicPr/>
          <p:nvPr/>
        </p:nvPicPr>
        <p:blipFill>
          <a:blip r:embed="rId1"/>
          <a:stretch/>
        </p:blipFill>
        <p:spPr>
          <a:xfrm>
            <a:off x="1143000" y="1676520"/>
            <a:ext cx="6858000" cy="4038480"/>
          </a:xfrm>
          <a:prstGeom prst="rect">
            <a:avLst/>
          </a:prstGeom>
          <a:ln w="0">
            <a:noFill/>
          </a:ln>
        </p:spPr>
      </p:pic>
      <p:sp>
        <p:nvSpPr>
          <p:cNvPr id="3" name="PlaceHolder 2"/>
          <p:cNvSpPr>
            <a:spLocks noGrp="1"/>
          </p:cNvSpPr>
          <p:nvPr>
            <p:ph type="sldNum" idx="3"/>
          </p:nvPr>
        </p:nvSpPr>
        <p:spPr/>
        <p:txBody>
          <a:bodyPr/>
          <a:p>
            <a:fld id="{4B52D20C-EB43-4269-BEE6-A7A6BD9BFE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2 A Comprehensive Registry for Work Products</a:t>
            </a:r>
            <a:endParaRPr b="0" lang="en-US" sz="3000" spc="-1" strike="noStrike">
              <a:solidFill>
                <a:srgbClr val="000000"/>
              </a:solidFill>
              <a:latin typeface="Arial"/>
            </a:endParaRPr>
          </a:p>
        </p:txBody>
      </p:sp>
      <p:pic>
        <p:nvPicPr>
          <p:cNvPr id="107" name="" descr=""/>
          <p:cNvPicPr/>
          <p:nvPr/>
        </p:nvPicPr>
        <p:blipFill>
          <a:blip r:embed="rId1"/>
          <a:stretch/>
        </p:blipFill>
        <p:spPr>
          <a:xfrm>
            <a:off x="380880" y="1523880"/>
            <a:ext cx="8229600" cy="4525920"/>
          </a:xfrm>
          <a:prstGeom prst="rect">
            <a:avLst/>
          </a:prstGeom>
          <a:ln w="0">
            <a:noFill/>
          </a:ln>
        </p:spPr>
      </p:pic>
      <p:sp>
        <p:nvSpPr>
          <p:cNvPr id="3" name="PlaceHolder 2"/>
          <p:cNvSpPr>
            <a:spLocks noGrp="1"/>
          </p:cNvSpPr>
          <p:nvPr>
            <p:ph type="sldNum" idx="3"/>
          </p:nvPr>
        </p:nvSpPr>
        <p:spPr/>
        <p:txBody>
          <a:bodyPr/>
          <a:p>
            <a:fld id="{A07615D1-4C25-41D6-9576-C3C9040513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 Combining Collaboration and Registry</a:t>
            </a:r>
            <a:endParaRPr b="0" lang="en-US" sz="3600" spc="-1" strike="noStrike">
              <a:solidFill>
                <a:srgbClr val="000000"/>
              </a:solidFill>
              <a:latin typeface="Arial"/>
            </a:endParaRPr>
          </a:p>
        </p:txBody>
      </p:sp>
      <p:sp>
        <p:nvSpPr>
          <p:cNvPr id="10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of the collaboration process (finalized structures and/or interfaces) are themselves published as work products in a registry.</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chitecture provides a core metadata tracking database and a series of XML Web Service interfaces to that information (see next slide).</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eatures provide fo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abo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ibility and ease of u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of the design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ed enhancements in future relea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XML Collaborator: XML Design Collaboration and Registry Software, White Paper, September 2002, 11 p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6A36210-3B0A-4CCC-92A9-49AC4FDBDC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 Combining Collaboration and Registry</a:t>
            </a:r>
            <a:endParaRPr b="0" lang="en-US" sz="3600" spc="-1" strike="noStrike">
              <a:solidFill>
                <a:srgbClr val="000000"/>
              </a:solidFill>
              <a:latin typeface="Arial"/>
            </a:endParaRPr>
          </a:p>
        </p:txBody>
      </p:sp>
      <p:pic>
        <p:nvPicPr>
          <p:cNvPr id="111" name="" descr=""/>
          <p:cNvPicPr/>
          <p:nvPr/>
        </p:nvPicPr>
        <p:blipFill>
          <a:blip r:embed="rId1"/>
          <a:stretch/>
        </p:blipFill>
        <p:spPr>
          <a:xfrm>
            <a:off x="1143000" y="1523880"/>
            <a:ext cx="6781680" cy="4496040"/>
          </a:xfrm>
          <a:prstGeom prst="rect">
            <a:avLst/>
          </a:prstGeom>
          <a:ln w="0">
            <a:noFill/>
          </a:ln>
        </p:spPr>
      </p:pic>
      <p:sp>
        <p:nvSpPr>
          <p:cNvPr id="3" name="PlaceHolder 2"/>
          <p:cNvSpPr>
            <a:spLocks noGrp="1"/>
          </p:cNvSpPr>
          <p:nvPr>
            <p:ph type="sldNum" idx="3"/>
          </p:nvPr>
        </p:nvSpPr>
        <p:spPr/>
        <p:txBody>
          <a:bodyPr/>
          <a:p>
            <a:fld id="{02E17B9F-6648-45A4-A439-816FF4FE60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4 Some Next Steps</a:t>
            </a:r>
            <a:endParaRPr b="0" lang="en-US" sz="36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the White Paper for review.</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 to the XML.Gov Registry and Repository Team and oth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Beta Version in XML Web Services pilots for the e-Gov initiativ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A5463F-D001-4DE8-B132-A2DCC7B4F9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Questions and Answers</a:t>
            </a:r>
            <a:endParaRPr b="0" lang="en-US" sz="4000" spc="-1" strike="noStrike">
              <a:solidFill>
                <a:srgbClr val="000000"/>
              </a:solidFill>
              <a:latin typeface="Arial"/>
            </a:endParaRPr>
          </a:p>
        </p:txBody>
      </p:sp>
      <p:sp>
        <p:nvSpPr>
          <p:cNvPr id="11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UA-EXP and/or eGovCentral?</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offers of help from Web Services Discussion Group (IAC, FirstGov, Census, Microsoft, SoftwareAG,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regular meetings be useful or should we just produce the pilot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cies, NGOs, and vendors designate XML Web Services - e-Gov specialists for work on pilot proje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XML Web Services ready for e-Gov and other robust, long running applic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5668AE1-123B-4157-AC05-0433097437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XML Web Servic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Results to Da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 CIOC/AIC Re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 World Wide Web Consortium (W3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 FedWeb 2002 Fal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DD0F88C-98A8-4732-B2E4-628CA7E5E4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Questions and Answers</a:t>
            </a:r>
            <a:endParaRPr b="0" lang="en-US" sz="4000" spc="-1" strike="noStrike">
              <a:solidFill>
                <a:srgbClr val="000000"/>
              </a:solidFill>
              <a:latin typeface="Arial"/>
            </a:endParaRPr>
          </a:p>
        </p:txBody>
      </p:sp>
      <p:sp>
        <p:nvSpPr>
          <p:cNvPr id="11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d L. Niemann, Ph.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ice of Environmental Information (MC 2822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Environmental Protection Agency (E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2-566-1657</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emann.brand@epa.gov</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sdi.gov</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vin William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blueoxide.co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3 Box 227 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les Town, WV 25414</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4-724-6767</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vin@blueoxide.co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A7927CF-4FF7-479E-94FD-C28C81EE82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 good reasons for XM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XML is a meta langua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XML is text-based and easy to rea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ML is ideal for structured docu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XML is presentation neutr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XML is multilingu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XML helps integration of busines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XML is ope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ttp://www.softwareag.com/tamino/xml_reasons.ht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77F5613-AC53-45D4-8691-8632C6365D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Wide Web …in 7 Poi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Universal Acces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emantic Web</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us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teroperabil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volvabil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ecentraliz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Cooler Multimedia!</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ttp://www.w3.org/Constortium/Poi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862E974-F033-4C63-AC7D-77FA869A63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23"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3C Web Services Meeting, September 9-13</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ened discussion in both Description and Architecture groups to compound Web Services (choreography, orchestration, and/or coordination of multiple Web Services in long-running process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r scope than OASIS and other standards bodi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schematic diagram for Web Services Architectur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 reliance on Roy T. Fielding’s (Chief Scientist, Day Software, and Co-founder and director, The Apache Software Foundation) Ph.D. Dissertation, “Architectural Styles and the Design of Network-based Software Architectures”, focused on the rationale behind the design of the modern Web architecture and how it differs from other architectural styles (http://www.ics.uci.edu/~fielding/pubs/dissertation/top.htm).</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 is a distributed object system. However, communication among humans is a distributed hypermedia system, where the mind's intellect, voice+gestures, eyes+ears, and imagination are all components. Roy T. Fielding, 1998.</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BBB34EF-A0EE-45F3-998E-D0B9F6185B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2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OC Web Services Initiative Brainstorming Session, July 25</a:t>
            </a:r>
            <a:r>
              <a:rPr b="0" lang="en-US" sz="2400" spc="-1" strike="noStrike" baseline="30000">
                <a:solidFill>
                  <a:srgbClr val="000000"/>
                </a:solidFill>
                <a:latin typeface="Times New Roman"/>
              </a:rPr>
              <a:t>th </a:t>
            </a:r>
            <a:r>
              <a:rPr b="0" lang="en-US" sz="2400" spc="-1" strike="noStrike">
                <a:solidFill>
                  <a:srgbClr val="000000"/>
                </a:solidFill>
                <a:latin typeface="Times New Roman"/>
              </a:rPr>
              <a:t>Priorities (top ten):</a:t>
            </a:r>
            <a:endParaRPr b="0" lang="en-US" sz="24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rovide direct support on implementing Web Services to 24 e-Gov initiativ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Maintain registry of WS-related projects or efforts, to avoid duplication and promote information shar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Implement a registry of available Web Services (a “loose” registry of human-researchable information at first, but later supporting automated services loc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Survey existing or planned Federal Web Services, via on-line survey or via letter from CIOC to CIO’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Promote dissemination to Federal agencies of Web Services best practices (from private sector or within Govern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Develop a model of how Web Services should be integrated into the emerging “component-based” TRM.</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 Develop an interoperability matrix for Web Services, helping agencies spot interoperability issues between various W-S implementa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Develop on-line Web Services “want ads”, where businesses, agencies or state and local governments could post requests for specific Web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 Provide on-line collaboration facility for exchange of sample business cases, templates, and other info related to Web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Promote the rapid evolution of security functionality in Web Services standards and implementation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E0F8D4F-A049-43E0-B940-1D27B52C25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Web Services Working Group Meeting Agenda:</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hairs and Participants – Introduction, Announcements, Approval of Minutes, and Subgroup/Task Report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 e.g. XML and XML Web Services Unleashed (Ron Schmelzer, lead author of recently released book from Sams Publish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Presentation – e.g. Vultus (The Face of Web Services), Qsent (XML Directory Services), Ionic Enterprise (GML and Web Mapping Services), etc.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 Presentation – Mitre Web Services (Dr. Joe Molitori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5F09E48-D4CC-4F4B-B173-FBE3EFFAA8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br>
              <a:rPr sz="3600"/>
            </a:br>
            <a:r>
              <a:rPr b="0" lang="en-US" sz="1800" spc="-1" strike="noStrike">
                <a:solidFill>
                  <a:srgbClr val="000000"/>
                </a:solidFill>
                <a:latin typeface="Times New Roman"/>
              </a:rPr>
              <a:t>Proposed Action Plan for FY 2003</a:t>
            </a:r>
            <a:br>
              <a:rPr sz="1800"/>
            </a:br>
            <a:r>
              <a:rPr b="0" lang="en-US" sz="1800" spc="-1" strike="noStrike">
                <a:solidFill>
                  <a:srgbClr val="000000"/>
                </a:solidFill>
                <a:latin typeface="Times New Roman"/>
              </a:rPr>
              <a:t>(Set limited, manageable goals with complete products deliverable within a year.)</a:t>
            </a:r>
            <a:endParaRPr b="0" lang="en-US" sz="1800" spc="-1" strike="noStrike">
              <a:solidFill>
                <a:srgbClr val="000000"/>
              </a:solidFill>
              <a:latin typeface="Arial"/>
            </a:endParaRPr>
          </a:p>
        </p:txBody>
      </p:sp>
      <p:graphicFrame>
        <p:nvGraphicFramePr>
          <p:cNvPr id="129" name=""/>
          <p:cNvGraphicFramePr/>
          <p:nvPr/>
        </p:nvGraphicFramePr>
        <p:xfrm>
          <a:off x="457200" y="1600200"/>
          <a:ext cx="8229600" cy="4527720"/>
        </p:xfrm>
        <a:graphic>
          <a:graphicData uri="http://schemas.openxmlformats.org/drawingml/2006/table">
            <a:tbl>
              <a:tblPr/>
              <a:tblGrid>
                <a:gridCol w="1646280"/>
                <a:gridCol w="1646280"/>
                <a:gridCol w="1644480"/>
                <a:gridCol w="1646280"/>
                <a:gridCol w="16462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fic Examp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F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3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niversal Access to Government Cont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ist agencies with multi-channel dissemination of essential content using XML standards for Digital Talking Books, VoiceXML, e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DA Farm Service Agen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an Turnbull, Sharon Berry, Jeff Kirby, Charles Shade,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DA FS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n Foundation for the Bli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P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Government-wide XML Design Collaboration and Registry Softwa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 to assist with development of XML Schema, Web Services, etc. and population of a Registry and Reposi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the pilots in this Action Plan and others to be invited to be beta-test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nd Niemann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SA procuremen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vin Williams, Blue Oxide Technologies, and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vendors expressing intere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1023D8-73AA-42CC-8809-3F2B59EDAE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br>
              <a:rPr sz="3600"/>
            </a:br>
            <a:r>
              <a:rPr b="0" lang="en-US" sz="1800" spc="-1" strike="noStrike">
                <a:solidFill>
                  <a:srgbClr val="000000"/>
                </a:solidFill>
                <a:latin typeface="Times New Roman"/>
              </a:rPr>
              <a:t>Proposed Action Plan for FY 2003</a:t>
            </a:r>
            <a:br>
              <a:rPr sz="1800"/>
            </a:br>
            <a:r>
              <a:rPr b="0" lang="en-US" sz="1800" spc="-1" strike="noStrike">
                <a:solidFill>
                  <a:srgbClr val="000000"/>
                </a:solidFill>
                <a:latin typeface="Times New Roman"/>
              </a:rPr>
              <a:t>(Set limited, manageable goals with complete products deliverable within a year.)</a:t>
            </a:r>
            <a:endParaRPr b="0" lang="en-US" sz="1800" spc="-1" strike="noStrike">
              <a:solidFill>
                <a:srgbClr val="000000"/>
              </a:solidFill>
              <a:latin typeface="Arial"/>
            </a:endParaRPr>
          </a:p>
        </p:txBody>
      </p:sp>
      <p:graphicFrame>
        <p:nvGraphicFramePr>
          <p:cNvPr id="132" name=""/>
          <p:cNvGraphicFramePr/>
          <p:nvPr/>
        </p:nvGraphicFramePr>
        <p:xfrm>
          <a:off x="457200" y="1371600"/>
          <a:ext cx="8229600" cy="4851360"/>
        </p:xfrm>
        <a:graphic>
          <a:graphicData uri="http://schemas.openxmlformats.org/drawingml/2006/table">
            <a:tbl>
              <a:tblPr/>
              <a:tblGrid>
                <a:gridCol w="1646280"/>
                <a:gridCol w="1646280"/>
                <a:gridCol w="1644480"/>
                <a:gridCol w="1646280"/>
                <a:gridCol w="16462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F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95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Geo-spatial Information One-Sto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ospatial XML Web Services-See presentation to FGDC GAI Work Group (August 2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p interface to FirstGov.</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ML and SVG for Indicator Dashboards and Situation Roo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tially Enabling the EPA with the OGC XML Standards and the OGC Spatial Web Registry Service (WR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View 6 – OGC Conformant Web Client Application and Distributed GeoData Servi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nd Niemann, Thomas Gunther, Jon Sperling, Interagency LandView Team,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GDC and agency contributio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Small Business Compliance One-Sto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tual centralization of distributed content across SBA offices and other agencies like EP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XML Web Services Training and Pilot Project for SBA CIO and IT Staff during June 18-20, 20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BA CIO and IT Staff trained during June 18-20, 2002,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mes Van Wert (SBA) manag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B477E1-22EE-428B-85D7-E299907591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ppendix</a:t>
            </a:r>
            <a:br>
              <a:rPr sz="3200"/>
            </a:br>
            <a:r>
              <a:rPr b="0" lang="en-US" sz="1800" spc="-1" strike="noStrike">
                <a:solidFill>
                  <a:srgbClr val="000000"/>
                </a:solidFill>
                <a:latin typeface="Times New Roman"/>
              </a:rPr>
              <a:t>Proposed Action Plan for FY 2003</a:t>
            </a:r>
            <a:br>
              <a:rPr sz="1800"/>
            </a:br>
            <a:r>
              <a:rPr b="0" lang="en-US" sz="1800" spc="-1" strike="noStrike">
                <a:solidFill>
                  <a:srgbClr val="000000"/>
                </a:solidFill>
                <a:latin typeface="Times New Roman"/>
              </a:rPr>
              <a:t>(Set limited, manageable goals with complete products deliverable within a year.)</a:t>
            </a:r>
            <a:endParaRPr b="0" lang="en-US" sz="1800" spc="-1" strike="noStrike">
              <a:solidFill>
                <a:srgbClr val="000000"/>
              </a:solidFill>
              <a:latin typeface="Arial"/>
            </a:endParaRPr>
          </a:p>
        </p:txBody>
      </p:sp>
      <p:graphicFrame>
        <p:nvGraphicFramePr>
          <p:cNvPr id="135" name=""/>
          <p:cNvGraphicFramePr/>
          <p:nvPr/>
        </p:nvGraphicFramePr>
        <p:xfrm>
          <a:off x="457200" y="1371600"/>
          <a:ext cx="8229600" cy="4886280"/>
        </p:xfrm>
        <a:graphic>
          <a:graphicData uri="http://schemas.openxmlformats.org/drawingml/2006/table">
            <a:tbl>
              <a:tblPr/>
              <a:tblGrid>
                <a:gridCol w="1646280"/>
                <a:gridCol w="1646280"/>
                <a:gridCol w="1644480"/>
                <a:gridCol w="1646280"/>
                <a:gridCol w="16462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F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Distributed Content Networks-Stage 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invention of the government’s directory listings and integration with commercial XML Web Servi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Blue Pages Pilo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House of Representativ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s in proc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tin Smith, Brand Niemann, Owen Ambur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vendors contribut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Distributed Content Networks-Stage 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 records and docume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deral statistics, EPA, and USGS public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nd Niemann, Federal Web Content Managers Group, NARA partners,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Gov Content Management Procurement (pending) and individual agency initiativ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1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 Distributed Content Networks-Stage 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tual centralization of e-Gov portals and state and local port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dGov Content Network “Uber” Portal (portal over porta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 9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an Turnbull, Universal Access Collaboration Workshop participants, and others 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vendors contributing or expressing interes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 911.</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C and EPA Grante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5362EF-F2FD-43D0-B752-EEF8BA16B1B4}"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 Results to Date</a:t>
            </a:r>
            <a:endParaRPr b="0" lang="en-US" sz="3600" spc="-1" strike="noStrike">
              <a:solidFill>
                <a:srgbClr val="000000"/>
              </a:solidFill>
              <a:latin typeface="Arial"/>
            </a:endParaRPr>
          </a:p>
        </p:txBody>
      </p:sp>
      <p:sp>
        <p:nvSpPr>
          <p:cNvPr id="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Web Service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e.g., EPA’s LEPC Databas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r more (choreograph): e.g., VoiceXML (Tellme Infrastructure) with EPA’s LEPC Databas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orchestration): e.g., FedGov, Earth 911 and EPA, and Multi-government. (see Section 2).</a:t>
            </a:r>
            <a:endParaRPr b="0" lang="en-US" sz="24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and pilots for several e-Gov initiatives and others (see http://130.11.44.140).</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Talking Books and VoiceXML Applications (e.g. USDA Farm Services Agency).</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VoiceXML applications for XML World 2002 and VoiceXML Planet (September 23-27</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8CBAD5-0158-4AAD-AC12-B965B7153E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 CIOC/AIC Reorganization</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OC Guidance (March, 200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take an initiative on Web Servic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2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Brainstorming Session. Continuing discussions and planning.</a:t>
            </a:r>
            <a:endParaRPr b="0" lang="en-US" sz="20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OC Guidance (August 15, 200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organize and reorient the AIC to include Web Servic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Evolve Architecture &amp; Infrastructure Committee (AIC) to meet needs of Agencies as they implement e-Gov and Enterprise Architecture mandates; (2) Integrate OMB and CIOC architecture efforts; and (3) Increase emphasis on producing usable products for Federal agencie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going discussions, proposals, and budgeting. Expect additional guidance on September 23</a:t>
            </a:r>
            <a:r>
              <a:rPr b="0" lang="en-US" sz="1800" spc="-1" strike="noStrike" baseline="30000">
                <a:solidFill>
                  <a:srgbClr val="000000"/>
                </a:solidFill>
                <a:latin typeface="Times New Roman"/>
              </a:rPr>
              <a:t>rd</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D92903-8D41-4FB7-945A-D1FFAD0F59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 World Wide Web Consortium (W3C)</a:t>
            </a:r>
            <a:br>
              <a:rPr sz="3600"/>
            </a:br>
            <a:endParaRPr b="0" lang="en-US" sz="3600" spc="-1" strike="noStrike">
              <a:solidFill>
                <a:srgbClr val="000000"/>
              </a:solidFill>
              <a:latin typeface="Arial"/>
            </a:endParaRPr>
          </a:p>
        </p:txBody>
      </p:sp>
      <p:sp>
        <p:nvSpPr>
          <p:cNvPr id="52"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ices are Internet-based components that perform independent computing functions (e.g. including messaging, directories, and service descriptions, and several others), but because they are based on standards, can be interconnected to provide more comprehensive business services.</a:t>
            </a:r>
            <a:endParaRPr b="0" lang="en-US" sz="24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Services Activity started earlier this year to design a set of technologies fitting into the overall Web architecture* and bring Web Services to their full potential:</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ices Architecture (WSA): overall structure, individual building blocks, and relationships among componen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Services Description (WSD): language to specify interfaces to and interactions with Web Services based on previous WSDL specific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ML Protocol (XMLP): an envelope for encapsulating XML data to be transferred in an interoperable manner.</a:t>
            </a:r>
            <a:endParaRPr b="0" lang="en-US" sz="2000" spc="-1" strike="noStrike">
              <a:solidFill>
                <a:srgbClr val="000000"/>
              </a:solidFill>
              <a:latin typeface="Arial"/>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3C Technical Architecture (chaired by Tim Berners-Lee) is documenting and interpreting the Web Architecture including Web Services and is talking with the industry-led Web Services Interoperability Initiative (WS-I).</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Appendix for details including September 9-13</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meeting highligh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D5FD71-8F76-4E73-83B0-2A0655B68F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4 FedWeb 2002 Fall</a:t>
            </a:r>
            <a:br>
              <a:rPr sz="3200"/>
            </a:br>
            <a:r>
              <a:rPr b="0" lang="en-US" sz="3200" spc="-1" strike="noStrike">
                <a:solidFill>
                  <a:srgbClr val="000000"/>
                </a:solidFill>
                <a:latin typeface="Times New Roman"/>
              </a:rPr>
              <a:t> </a:t>
            </a:r>
            <a:r>
              <a:rPr b="0" lang="en-US" sz="2400" spc="-1" strike="noStrike">
                <a:solidFill>
                  <a:srgbClr val="000000"/>
                </a:solidFill>
                <a:latin typeface="Times New Roman"/>
              </a:rPr>
              <a:t>October 28-29, 2002, George Mason University, 3401 North Fairfax Drive, Arlington, VA (Virginia Square Metro)</a:t>
            </a:r>
            <a:endParaRPr b="0" lang="en-US" sz="2400" spc="-1" strike="noStrike">
              <a:solidFill>
                <a:srgbClr val="000000"/>
              </a:solidFill>
              <a:latin typeface="Arial"/>
            </a:endParaRPr>
          </a:p>
        </p:txBody>
      </p:sp>
      <p:sp>
        <p:nvSpPr>
          <p:cNvPr id="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urning Web Sites into Web Services: Solutions for Governm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28</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Tutoria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s On Training – XML Part I and II (Westlak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2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ogram: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Business Management (W3C Web Services Activity, et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cal Foundatio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Technologies and Trends (XML, XML Web Services, E-Forms and PKI, et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 Management (X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ttp://www.fedweb.or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CCF27EF-9AD2-4B10-818F-FF6A093C51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2. Multi-government Content Network Pilot</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 Guiding Principl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 Schemati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 Relational and Native XML Database Technolog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 EPA and CDC Gra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B80DDF7-7263-49F7-A185-9C1E73A53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1 Guiding Principle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pen Standards: W3C, OASI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COTS: Standards-based Commercial Off-the-Shelf Softwar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pen Standards Process: W3C, OASIS, et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vocabulary and XML docu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or more successful pilot implement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ation for standardization and operationaliza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virtual centralization of distributed content with “publish”, “find”, and “bind” or content, directory, and description, respectivel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D3D7F7E-C8B6-4BA3-B17B-CD50B6B97C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14:37Z</dcterms:created>
  <dc:creator>Niemann</dc:creator>
  <dc:description/>
  <dc:language>en-US</dc:language>
  <cp:lastModifiedBy>Kevin Williams</cp:lastModifiedBy>
  <dcterms:modified xsi:type="dcterms:W3CDTF">2002-09-16T17:07:26Z</dcterms:modified>
  <cp:revision>150</cp:revision>
  <dc:subject/>
  <dc:title>Federal-State XML Data Exchange Network Schematic</dc:title>
</cp:coreProperties>
</file>