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8FC-2A94-45C4-886B-2E65D2DD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EBD-E945-425E-BC6A-33840329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90F-0159-425A-92D9-207E7BF5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093-8A9F-4597-B3E0-DCF46F78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E1B-CB73-4EA3-99D0-DC03F6FD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6C9-FB6D-475F-A291-9C4A1C72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A5A-F4D4-4C2D-A160-B975F8B2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4B9-DE95-4426-9B20-A1C9090A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E39-D131-46E6-9416-2119161E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D6C-5478-4128-B469-C5C1A02A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60C-AFD1-418D-B6CC-6C8C2103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2E5-0456-473C-B0F5-2A5A1093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54E6-6F9C-448C-8532-162E3A02A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-Scale Educational Research in Multiple Sit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se of Scaling-UP P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g Fuc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derbilt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Collection and Other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across si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testers (Tex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teachers in treatment implementation requires specification and cent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 fidelity of treatm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ing accuracy in scoring protocols, creating data fi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. Loulee Yen in Yea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ct Recruitment across Sites and across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perceptions of K-PALS in Nashville vs. Mpls. Vs. South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uiting in South Texas across years and implications for 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yond Scal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it in IES’s so-called scaling-up studies is treatment is f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fixed trea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of fixed trea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ing boundaries of “customiz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6:27:04Z</dcterms:created>
  <dc:creator>Doug Fuchs</dc:creator>
  <dc:description/>
  <dc:language>en-US</dc:language>
  <cp:lastModifiedBy>sheryl.lazarus</cp:lastModifiedBy>
  <dcterms:modified xsi:type="dcterms:W3CDTF">2006-07-05T15:53:48Z</dcterms:modified>
  <cp:revision>7</cp:revision>
  <dc:subject/>
  <dc:title>Implementing Large-Scale Educational Research in Multiple Sites: </dc:title>
</cp:coreProperties>
</file>