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3753-A513-493D-B471-EE03EF3BE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40F9-5F3C-4C23-934E-EB3A4E45E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D608-45C3-4E3A-968D-273DF6318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DFF3-2267-48C1-B5DA-8A21B866D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3E13-FE8C-4E16-B8EC-029E5C36B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C509-3ACE-4B0C-9189-6DB0EF00D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A932-E515-49D7-AE8D-E434E2892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B351-10A3-4AFF-9E78-1BE0998DF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A136-2E47-46F7-9437-E4B3437AC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F3DB-2C98-4DBC-B2E0-E805D3956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7D14-C1C0-4B0B-9F7A-DA5823192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BE48-224A-4E63-98E0-F4E7AB8D8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49384-C7C2-4ED2-874F-99F1291573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Λ(1405) in a hybrid quark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42920" y="4076280"/>
            <a:ext cx="2890800" cy="16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19640" y="1988640"/>
            <a:ext cx="541008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C. Nakamoto (Suzuka College of Technolog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H. Nemura (Advanced Meson Science Laboratory, DRI, RIK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NIC05    24OCT2005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B417-3AB1-4F29-8C8F-90B33CDF3A83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Many-body calculation</a:t>
            </a: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⇒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tochastic Variational Method </a:t>
            </a: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　　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 K.Varga and Y. Suzuki,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PRC52 (1995) 288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81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solve the five-body problem dynamicall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26920" y="1557360"/>
            <a:ext cx="43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NIC05    24OCT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5981-3FD1-4992-8C00-3C34C3515B4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000" y="1483920"/>
            <a:ext cx="388764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Baryon ground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Ｎ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(939)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 :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949 MeV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Δ(1232) : 1245 M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Λ(1116) : 1116 MeV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(1193)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1235 M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Ξ(1318) : 1320 M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NIC05    24OCT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A915-1CD4-443A-91F7-310F210A1C6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4000" y="1483920"/>
            <a:ext cx="388764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Baryon ground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Ｎ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(939)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 :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949 MeV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Δ(1232) : 1245 M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Λ(1116) : 1116 MeV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(1193)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1235 M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Ξ(1318) : 1320 M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55640" y="4437000"/>
            <a:ext cx="295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Meson spectr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π(140) : 250 M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K(496) : 526 M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K*(892) : 905 M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NIC05    24OCT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EF98-BF94-4297-B4B3-587A681D13F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4000" y="1483920"/>
            <a:ext cx="388764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Baryon ground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Ｎ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(939)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 :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949 MeV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Δ(1232) : 1245 M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Λ(1116) : 1116 MeV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(1193)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1235 M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Ξ(1318) : 1320 M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716360" y="1484280"/>
            <a:ext cx="360072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Baryon excited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N(1440) : 1399 M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Δ(1600) : 1609 M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Λ(1600) : 1568 M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Σ(1660) : 1648 M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Ξ(unknown) : 1750 M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55640" y="4437000"/>
            <a:ext cx="295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Meson spectr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π(140) : 250 M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K(496) : 526 M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K*(892) : 905 M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NIC05    24OCT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4056-570A-47AE-AF64-D3BABD1B71A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50752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ontribution from each te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N(949)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K:1745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ja-JP" sz="2800" spc="-1" strike="noStrike" baseline="30000">
                <a:solidFill>
                  <a:srgbClr val="000000"/>
                </a:solidFill>
                <a:latin typeface="Arial"/>
              </a:rPr>
              <a:t>conf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:291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ja-JP" sz="2800" spc="-1" strike="noStrike" baseline="30000">
                <a:solidFill>
                  <a:srgbClr val="000000"/>
                </a:solidFill>
                <a:latin typeface="Arial"/>
              </a:rPr>
              <a:t>cc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:-911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ja-JP" sz="2800" spc="-1" strike="noStrike" baseline="30000">
                <a:solidFill>
                  <a:srgbClr val="000000"/>
                </a:solidFill>
                <a:latin typeface="Arial"/>
              </a:rPr>
              <a:t>cm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:-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ja-JP" sz="2800" spc="-1" strike="noStrike" baseline="30000">
                <a:solidFill>
                  <a:srgbClr val="000000"/>
                </a:solidFill>
                <a:latin typeface="Arial"/>
              </a:rPr>
              <a:t>π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:(36 –148)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ja-JP" sz="2800" spc="-1" strike="noStrike" baseline="30000">
                <a:solidFill>
                  <a:srgbClr val="000000"/>
                </a:solidFill>
                <a:latin typeface="Arial"/>
              </a:rPr>
              <a:t>σ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:(–148 +9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Ｎ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(1398) K:1711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ja-JP" sz="2800" spc="-1" strike="noStrike" baseline="30000">
                <a:solidFill>
                  <a:srgbClr val="000000"/>
                </a:solidFill>
                <a:latin typeface="Arial"/>
              </a:rPr>
              <a:t>conf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:489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ja-JP" sz="2800" spc="-1" strike="noStrike" baseline="30000">
                <a:solidFill>
                  <a:srgbClr val="000000"/>
                </a:solidFill>
                <a:latin typeface="Arial"/>
              </a:rPr>
              <a:t>cc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:-659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ja-JP" sz="2800" spc="-1" strike="noStrike" baseline="30000">
                <a:solidFill>
                  <a:srgbClr val="000000"/>
                </a:solidFill>
                <a:latin typeface="Arial"/>
              </a:rPr>
              <a:t>cm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:-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ja-JP" sz="2800" spc="-1" strike="noStrike" baseline="30000">
                <a:solidFill>
                  <a:srgbClr val="000000"/>
                </a:solidFill>
                <a:latin typeface="Arial"/>
              </a:rPr>
              <a:t>π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:(25 </a:t>
            </a:r>
            <a:r>
              <a:rPr b="0" lang="ja-JP" sz="2800" spc="-1" strike="noStrike">
                <a:solidFill>
                  <a:srgbClr val="ff0000"/>
                </a:solidFill>
                <a:latin typeface="Arial"/>
              </a:rPr>
              <a:t>–105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ja-JP" sz="2800" spc="-1" strike="noStrike" baseline="30000">
                <a:solidFill>
                  <a:srgbClr val="000000"/>
                </a:solidFill>
                <a:latin typeface="Arial"/>
              </a:rPr>
              <a:t>σ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:(</a:t>
            </a:r>
            <a:r>
              <a:rPr b="0" lang="ja-JP" sz="2800" spc="-1" strike="noStrike">
                <a:solidFill>
                  <a:srgbClr val="ff0000"/>
                </a:solidFill>
                <a:latin typeface="Arial"/>
              </a:rPr>
              <a:t>–99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 +6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4292640"/>
            <a:ext cx="813744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ja-JP" sz="28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ja-JP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/(4π)μ</a:t>
            </a:r>
            <a:r>
              <a:rPr b="0" lang="ja-JP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/(12m</a:t>
            </a:r>
            <a:r>
              <a:rPr b="0" lang="ja-JP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ja-JP" sz="2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×[ exp(-μr)/r </a:t>
            </a:r>
            <a:r>
              <a:rPr b="0" lang="ja-JP" sz="2800" spc="-1" strike="noStrike">
                <a:solidFill>
                  <a:srgbClr val="ff0000"/>
                </a:solidFill>
                <a:latin typeface="Arial"/>
              </a:rPr>
              <a:t>– (Λ/μ)</a:t>
            </a:r>
            <a:r>
              <a:rPr b="0" lang="ja-JP" sz="28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0" lang="ja-JP" sz="2800" spc="-1" strike="noStrike">
                <a:solidFill>
                  <a:srgbClr val="ff0000"/>
                </a:solidFill>
                <a:latin typeface="Arial"/>
              </a:rPr>
              <a:t> exp(-Λr)/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 ](τ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τ)(σ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σ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95280" y="5373720"/>
            <a:ext cx="7848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- g</a:t>
            </a:r>
            <a:r>
              <a:rPr b="0" lang="ja-JP" sz="2800" spc="-1" strike="noStrike" baseline="-25000">
                <a:solidFill>
                  <a:srgbClr val="000000"/>
                </a:solidFill>
                <a:latin typeface="Arial"/>
              </a:rPr>
              <a:t>σ</a:t>
            </a:r>
            <a:r>
              <a:rPr b="0" lang="ja-JP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/(4π) [ </a:t>
            </a:r>
            <a:r>
              <a:rPr b="0" lang="ja-JP" sz="2800" spc="-1" strike="noStrike">
                <a:solidFill>
                  <a:srgbClr val="ff0000"/>
                </a:solidFill>
                <a:latin typeface="Arial"/>
              </a:rPr>
              <a:t>exp(-μr)/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 –  exp(-Λr)/r 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NIC05    24OCT200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0A10-CB7A-4732-81C5-1B8E0F24E73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000" y="1483920"/>
            <a:ext cx="388764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Baryon ground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Ｎ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(939)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 :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949 MeV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Δ(1232) : 1245 M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Λ(1116) : 1116 MeV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(1193)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1235 M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Ξ(1318) : 1320 M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716360" y="1484280"/>
            <a:ext cx="360072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Baryon excited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N(1440) : 1399 M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Δ(1600) : 1609 M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Λ(1600) : 1568 M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Σ(1660) : 1648 M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Ξ(unknown) : 1750 M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5640" y="4437000"/>
            <a:ext cx="295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Meson spectr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π(140) : 250 M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K(496) : 526 M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K*(892) : 905 M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356000" y="4508640"/>
            <a:ext cx="417672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Arial"/>
              </a:rPr>
              <a:t>Λ(14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2400" spc="-1" strike="noStrike">
                <a:solidFill>
                  <a:srgbClr val="ff0000"/>
                </a:solidFill>
                <a:latin typeface="ＭＳ Ｐゴシック"/>
              </a:rPr>
              <a:t>q</a:t>
            </a:r>
            <a:r>
              <a:rPr b="0" lang="ja-JP" sz="24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r>
              <a:rPr b="0" lang="ja-JP" sz="2400" spc="-1" strike="noStrike">
                <a:solidFill>
                  <a:srgbClr val="ff0000"/>
                </a:solidFill>
                <a:latin typeface="Arial"/>
              </a:rPr>
              <a:t>  : 1421 M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2400" spc="-1" strike="noStrike">
                <a:solidFill>
                  <a:srgbClr val="ff0000"/>
                </a:solidFill>
                <a:latin typeface="ＭＳ Ｐゴシック"/>
              </a:rPr>
              <a:t>q</a:t>
            </a:r>
            <a:r>
              <a:rPr b="0" lang="ja-JP" sz="2400" spc="-1" strike="noStrike" baseline="30000">
                <a:solidFill>
                  <a:srgbClr val="ff0000"/>
                </a:solidFill>
                <a:latin typeface="Arial"/>
              </a:rPr>
              <a:t>4</a:t>
            </a:r>
            <a:r>
              <a:rPr b="0" i="1" lang="ja-JP" sz="2400" spc="-1" strike="noStrike">
                <a:solidFill>
                  <a:srgbClr val="ff0000"/>
                </a:solidFill>
                <a:latin typeface="ＭＳ Ｐゴシック"/>
              </a:rPr>
              <a:t>q</a:t>
            </a:r>
            <a:r>
              <a:rPr b="0" lang="ja-JP" sz="2400" spc="-1" strike="noStrike">
                <a:solidFill>
                  <a:srgbClr val="ff0000"/>
                </a:solidFill>
                <a:latin typeface="Arial"/>
              </a:rPr>
              <a:t> : 1388 M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572000" y="5373720"/>
            <a:ext cx="43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ff0000"/>
                </a:solidFill>
                <a:latin typeface="Times New Roman"/>
              </a:rPr>
              <a:t>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NIC05    24OCT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73A1-4F51-4AE8-B96A-13026C6A3C0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investigated the baryon spectrum and the Λ(1405) in the minimum realistic quark model, involving a confinement potential, a one-gluon exchange potential and π, K and σ-exchange potential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Free parameters were determined to reproduce the baryon ground states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Light mesons and some positive parity excited baryons including Roper resonance were reproduced reasonably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ff"/>
                </a:solidFill>
                <a:latin typeface="Arial"/>
              </a:rPr>
              <a:t>Reproduction of Roper resonance may be due to the large contribution from short-range π-exchange potential because owing to the small cut-off parameter, and the introduction of σ-exchange potential between quarks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　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energy of </a:t>
            </a:r>
            <a:r>
              <a:rPr b="0" i="1" lang="en-US" sz="2000" spc="-1" strike="noStrike">
                <a:solidFill>
                  <a:srgbClr val="ff0000"/>
                </a:solidFill>
                <a:latin typeface="ＭＳ Ｐゴシック"/>
              </a:rPr>
              <a:t>q</a:t>
            </a:r>
            <a:r>
              <a:rPr b="0" lang="en-US" sz="2000" spc="-1" strike="noStrike" baseline="30000">
                <a:solidFill>
                  <a:srgbClr val="ff0000"/>
                </a:solidFill>
                <a:latin typeface="Arial"/>
              </a:rPr>
              <a:t>4</a:t>
            </a:r>
            <a:r>
              <a:rPr b="0" i="1" lang="en-US" sz="2000" spc="-1" strike="noStrike">
                <a:solidFill>
                  <a:srgbClr val="ff0000"/>
                </a:solidFill>
                <a:latin typeface="ＭＳ Ｐゴシック"/>
              </a:rPr>
              <a:t>q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– state as Λ(1405) become lower than that of </a:t>
            </a:r>
            <a:r>
              <a:rPr b="0" i="1" lang="en-US" sz="2000" spc="-1" strike="noStrike">
                <a:solidFill>
                  <a:srgbClr val="ff0000"/>
                </a:solidFill>
                <a:latin typeface="ＭＳ Ｐゴシック"/>
              </a:rPr>
              <a:t>q</a:t>
            </a:r>
            <a:r>
              <a:rPr b="0" lang="en-US" sz="20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-state in the present mod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We will investigate further ; other set of parameters, contribution from the non-central force, channel-coupling effect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00360" y="4221000"/>
            <a:ext cx="43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ff0000"/>
                </a:solidFill>
                <a:latin typeface="Times New Roman"/>
              </a:rPr>
              <a:t>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NIC05    24OCT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5836-24F6-4A81-BB12-52EC487313A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924360" y="-1108080"/>
            <a:ext cx="6200640" cy="85597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-252360" y="-963720"/>
            <a:ext cx="5192640" cy="8507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NIC05    24OCT200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12D4-2D30-46C3-9FD5-670103F7DC9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476360" y="-963720"/>
            <a:ext cx="6197760" cy="8556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NIC05    24OCT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D6B5-B0F7-4E60-B09E-3E4D62D6A91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395280" y="5373360"/>
            <a:ext cx="82296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539640" y="476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762120" indent="-76212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589720"/>
            <a:ext cx="8229600" cy="9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5280" y="765000"/>
            <a:ext cx="837396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1268280"/>
            <a:ext cx="626436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762120" indent="-762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(1405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⇒　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q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4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042920" y="3500280"/>
            <a:ext cx="698508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762120" indent="-762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If we introduce </a:t>
            </a:r>
            <a:r>
              <a:rPr b="0" lang="ja-JP" sz="3200" spc="-1" strike="noStrike">
                <a:solidFill>
                  <a:srgbClr val="0033cc"/>
                </a:solidFill>
                <a:latin typeface="Arial"/>
              </a:rPr>
              <a:t>the minimum realistic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ja-JP" sz="3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ja-JP" sz="3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 interaction in a quark model, </a:t>
            </a:r>
            <a:br>
              <a:rPr sz="3200"/>
            </a:b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how is Λ(1405) represented?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88000" y="2421000"/>
            <a:ext cx="43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ff0000"/>
                </a:solidFill>
                <a:latin typeface="Times New Roman"/>
              </a:rPr>
              <a:t>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24360" y="177336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NIC05    24OCT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4B43-936D-4FA1-9733-51C4DDEFDCA1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39640" y="692280"/>
            <a:ext cx="820908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762120" indent="-762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‘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e minimum realisti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’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26920" y="1413000"/>
            <a:ext cx="756144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838080" indent="-838080">
              <a:buClr>
                <a:srgbClr val="ff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onfinement mechanism between quarks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16000" y="4005360"/>
            <a:ext cx="698508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762120" indent="-762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quark-Hamiltonian includes  these effects and reproduces the baryon ground states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is Λ(1405) represent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971640" y="2349360"/>
            <a:ext cx="734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（２）　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Gluon-exchange effect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71640" y="2997360"/>
            <a:ext cx="770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（３）　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eson-exchange effect to describ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he nuclear fo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NIC05    24OCT20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5DD3-B306-4C47-95AF-21FC83B8CA7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84978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(1) Confinement mechanism between qua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ja-JP" sz="3200" spc="-1" strike="noStrike">
                <a:solidFill>
                  <a:srgbClr val="000000"/>
                </a:solidFill>
                <a:latin typeface="Times New Roman"/>
              </a:rPr>
              <a:t>⇒</a:t>
            </a:r>
            <a:r>
              <a:rPr b="1" lang="ja-JP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ja-JP" sz="3200" spc="-1" strike="noStrike">
                <a:solidFill>
                  <a:srgbClr val="000000"/>
                </a:solidFill>
                <a:latin typeface="Times New Roman"/>
              </a:rPr>
              <a:t>confinement potential : - (λ</a:t>
            </a:r>
            <a:r>
              <a:rPr b="1" lang="ja-JP" sz="3200" spc="-1" strike="noStrike">
                <a:solidFill>
                  <a:srgbClr val="000000"/>
                </a:solidFill>
                <a:latin typeface="Times New Roman"/>
              </a:rPr>
              <a:t>・</a:t>
            </a:r>
            <a:r>
              <a:rPr b="1" lang="ja-JP" sz="3200" spc="-1" strike="noStrike">
                <a:solidFill>
                  <a:srgbClr val="000000"/>
                </a:solidFill>
                <a:latin typeface="Times New Roman"/>
              </a:rPr>
              <a:t>λ) </a:t>
            </a:r>
            <a:r>
              <a:rPr b="1" i="1" lang="ja-JP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ja-JP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ja-JP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 free parameter </a:t>
            </a:r>
            <a:r>
              <a:rPr b="1" i="1" lang="ja-JP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 mainly determines the energy shift of the baryon ground stat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It is determined to reproduce the overall baryon ground sta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ja-JP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= 43.5 MeV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fm</a:t>
            </a:r>
            <a:r>
              <a:rPr b="0" lang="ja-JP" sz="3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762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２．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NIC05    24OCT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5238-BC53-479F-BC43-4C55BEFBB45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68360" y="404280"/>
            <a:ext cx="8424720" cy="568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(2) Gluon-exchange eff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⇒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one-gluon exchange potent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1/4 </a:t>
            </a:r>
            <a:r>
              <a:rPr b="1" lang="ja-JP" sz="2800" spc="-1" strike="noStrike">
                <a:solidFill>
                  <a:srgbClr val="000000"/>
                </a:solidFill>
                <a:latin typeface="Times New Roman"/>
              </a:rPr>
              <a:t>(λ</a:t>
            </a:r>
            <a:r>
              <a:rPr b="1" lang="ja-JP" sz="2800" spc="-1" strike="noStrike">
                <a:solidFill>
                  <a:srgbClr val="000000"/>
                </a:solidFill>
                <a:latin typeface="Times New Roman"/>
              </a:rPr>
              <a:t>・</a:t>
            </a:r>
            <a:r>
              <a:rPr b="1" lang="ja-JP" sz="2800" spc="-1" strike="noStrike">
                <a:solidFill>
                  <a:srgbClr val="000000"/>
                </a:solidFill>
                <a:latin typeface="Times New Roman"/>
              </a:rPr>
              <a:t>λ)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ja-JP" sz="2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×[1/r-π/2{1/m</a:t>
            </a:r>
            <a:r>
              <a:rPr b="0" lang="ja-JP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ja-JP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+1/m</a:t>
            </a:r>
            <a:r>
              <a:rPr b="0" lang="ja-JP" sz="2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ja-JP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+4/(3m</a:t>
            </a:r>
            <a:r>
              <a:rPr b="0" lang="ja-JP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ja-JP" sz="2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)(σ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σ)}δ(r)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・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he finite spatial extent of the constituent qua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δ(r) ⇒ Λ</a:t>
            </a:r>
            <a:r>
              <a:rPr b="0" lang="ja-JP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/(8π</a:t>
            </a:r>
            <a:r>
              <a:rPr b="0" lang="ja-JP" sz="2800" spc="-1" strike="noStrike" baseline="30000">
                <a:solidFill>
                  <a:srgbClr val="000000"/>
                </a:solidFill>
                <a:latin typeface="Arial"/>
              </a:rPr>
              <a:t>3/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)exp[-1/2(Λr)</a:t>
            </a:r>
            <a:r>
              <a:rPr b="0" lang="ja-JP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ja-JP" sz="2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 = 1.38 (free paramet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ja-JP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ja-JP" sz="2800" spc="-1" strike="noStrike" baseline="-25000">
                <a:solidFill>
                  <a:srgbClr val="000000"/>
                </a:solidFill>
                <a:latin typeface="Times New Roman"/>
              </a:rPr>
              <a:t>ud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 = 340 MeV, </a:t>
            </a:r>
            <a:r>
              <a:rPr b="0" i="1" lang="ja-JP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ja-JP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 = 580 MeV (free paramet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Λ= 5 fm</a:t>
            </a:r>
            <a:r>
              <a:rPr b="0" lang="ja-JP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NIC05    24OCT200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71AC-1AC2-4766-A802-3CF808A949A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394920" y="404640"/>
            <a:ext cx="849780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(3) Meson-exchange eff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⇒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NG-boson exchange potent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・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πand </a:t>
            </a:r>
            <a:r>
              <a:rPr b="0" i="1" lang="ja-JP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-exchange potential with each form fa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ja-JP" sz="28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ja-JP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/(4π)μ</a:t>
            </a:r>
            <a:r>
              <a:rPr b="0" lang="ja-JP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/(12m</a:t>
            </a:r>
            <a:r>
              <a:rPr b="0" lang="ja-JP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ja-JP" sz="2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×[ exp(-μr)/r – (Λ/μ)</a:t>
            </a:r>
            <a:r>
              <a:rPr b="0" lang="ja-JP" sz="2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exp(-Λr)/r 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×(τ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τ or 2</a:t>
            </a:r>
            <a:r>
              <a:rPr b="0" i="1" lang="ja-JP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ja-JP" sz="2800" spc="-1" strike="noStrike" baseline="30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)(σ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σ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ja-JP" sz="28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ja-JP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/(4π) = (3/5)</a:t>
            </a:r>
            <a:r>
              <a:rPr b="0" lang="ja-JP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ja-JP" sz="2800" spc="-1" strike="noStrike" baseline="-25000">
                <a:solidFill>
                  <a:srgbClr val="000000"/>
                </a:solidFill>
                <a:latin typeface="Arial"/>
              </a:rPr>
              <a:t>πN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/(4π)</a:t>
            </a:r>
            <a:r>
              <a:rPr b="0" i="1" lang="ja-JP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ja-JP" sz="2800" spc="-1" strike="noStrike" baseline="-25000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ja-JP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ja-JP" sz="2800" spc="-1" strike="noStrike">
                <a:solidFill>
                  <a:srgbClr val="000000"/>
                </a:solidFill>
                <a:latin typeface="Times New Roman"/>
              </a:rPr>
              <a:t>/m</a:t>
            </a:r>
            <a:r>
              <a:rPr b="0" i="1" lang="ja-JP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ja-JP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ja-JP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= 0.6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Λ</a:t>
            </a:r>
            <a:r>
              <a:rPr b="0" lang="ja-JP" sz="2800" spc="-1" strike="noStrike" baseline="-25000">
                <a:solidFill>
                  <a:srgbClr val="000000"/>
                </a:solidFill>
                <a:latin typeface="Arial"/>
              </a:rPr>
              <a:t>π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= 1.8 fm</a:t>
            </a:r>
            <a:r>
              <a:rPr b="0" lang="ja-JP" sz="2800" spc="-1" strike="noStrike" baseline="30000">
                <a:solidFill>
                  <a:srgbClr val="000000"/>
                </a:solidFill>
                <a:latin typeface="Arial"/>
              </a:rPr>
              <a:t>-1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( free paramet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Λ</a:t>
            </a:r>
            <a:r>
              <a:rPr b="0" i="1" lang="ja-JP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 = 2.3 fm</a:t>
            </a:r>
            <a:r>
              <a:rPr b="0" lang="ja-JP" sz="2800" spc="-1" strike="noStrike" baseline="30000">
                <a:solidFill>
                  <a:srgbClr val="000000"/>
                </a:solidFill>
                <a:latin typeface="Arial"/>
              </a:rPr>
              <a:t>-1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( free paramet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NIC05    24OCT200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37A6-93C0-4662-BD83-9C67D8BF6F6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・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σ- exchange potential as the chiral partner of 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- g</a:t>
            </a:r>
            <a:r>
              <a:rPr b="0" lang="ja-JP" sz="3200" spc="-1" strike="noStrike" baseline="-25000">
                <a:solidFill>
                  <a:srgbClr val="000000"/>
                </a:solidFill>
                <a:latin typeface="Arial"/>
              </a:rPr>
              <a:t>σ</a:t>
            </a:r>
            <a:r>
              <a:rPr b="0" lang="ja-JP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/(4π) [ exp(-μr)/r – </a:t>
            </a:r>
            <a:r>
              <a:rPr b="0" lang="ja-JP" sz="32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exp(-Λr)/r 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ja-JP" sz="3200" spc="-1" strike="noStrike" baseline="-25000">
                <a:solidFill>
                  <a:srgbClr val="000000"/>
                </a:solidFill>
                <a:latin typeface="Arial"/>
              </a:rPr>
              <a:t>σ</a:t>
            </a:r>
            <a:r>
              <a:rPr b="0" lang="ja-JP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/(4π) = g</a:t>
            </a:r>
            <a:r>
              <a:rPr b="0" lang="ja-JP" sz="32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ja-JP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/(4π) = 0.6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ja-JP" sz="3200" spc="-1" strike="noStrike" baseline="-25000">
                <a:solidFill>
                  <a:srgbClr val="000000"/>
                </a:solidFill>
                <a:latin typeface="Arial"/>
              </a:rPr>
              <a:t>σ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= √{(2</a:t>
            </a:r>
            <a:r>
              <a:rPr b="0" i="1" lang="ja-JP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ja-JP" sz="3200" spc="-1" strike="noStrike" baseline="-25000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ja-JP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i="1" lang="ja-JP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ja-JP" sz="3200" spc="-1" strike="noStrike" baseline="-25000">
                <a:solidFill>
                  <a:srgbClr val="000000"/>
                </a:solidFill>
                <a:latin typeface="Times New Roman"/>
              </a:rPr>
              <a:t>π</a:t>
            </a:r>
            <a:r>
              <a:rPr b="0" lang="ja-JP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} = 694 Me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Λ</a:t>
            </a:r>
            <a:r>
              <a:rPr b="0" lang="ja-JP" sz="3200" spc="-1" strike="noStrike" baseline="-25000">
                <a:solidFill>
                  <a:srgbClr val="000000"/>
                </a:solidFill>
                <a:latin typeface="Arial"/>
              </a:rPr>
              <a:t>σ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= 5 fm</a:t>
            </a:r>
            <a:r>
              <a:rPr b="0" lang="ja-JP" sz="3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NIC05    24OCT200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6091-9FC4-4C50-B3B2-16D359D4ADA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68360" y="620280"/>
            <a:ext cx="8229600" cy="23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rk-Hamiltoni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26920" y="1341360"/>
            <a:ext cx="7704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3200" spc="-1" strike="noStrike">
                <a:solidFill>
                  <a:srgbClr val="000000"/>
                </a:solidFill>
                <a:latin typeface="Times New Roman"/>
              </a:rPr>
              <a:t>H = </a:t>
            </a:r>
            <a:r>
              <a:rPr b="0" i="1" lang="ja-JP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i="1" lang="ja-JP" sz="3200" spc="-1" strike="noStrike">
                <a:solidFill>
                  <a:srgbClr val="000000"/>
                </a:solidFill>
                <a:latin typeface="Times New Roman"/>
              </a:rPr>
              <a:t>　  </a:t>
            </a:r>
            <a:r>
              <a:rPr b="1" lang="ja-JP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ja-JP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ja-JP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ja-JP" sz="3200" spc="-1" strike="noStrike">
                <a:solidFill>
                  <a:srgbClr val="000000"/>
                </a:solidFill>
                <a:latin typeface="Times New Roman"/>
              </a:rPr>
              <a:t>+p</a:t>
            </a:r>
            <a:r>
              <a:rPr b="1" i="1" lang="ja-JP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ja-JP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ja-JP" sz="3200" spc="-1" strike="noStrike">
                <a:solidFill>
                  <a:srgbClr val="000000"/>
                </a:solidFill>
                <a:latin typeface="Times New Roman"/>
              </a:rPr>
              <a:t>/2m</a:t>
            </a:r>
            <a:r>
              <a:rPr b="1" i="1" lang="ja-JP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ja-JP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ja-JP" sz="32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i="1" lang="ja-JP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ja-JP" sz="3200" spc="-1" strike="noStrike" baseline="-25000">
                <a:solidFill>
                  <a:srgbClr val="000000"/>
                </a:solidFill>
                <a:latin typeface="Times New Roman"/>
              </a:rPr>
              <a:t>cm</a:t>
            </a:r>
            <a:r>
              <a:rPr b="1" i="1" lang="ja-JP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258920" y="2060640"/>
            <a:ext cx="7488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3200" spc="-1" strike="noStrike">
                <a:solidFill>
                  <a:srgbClr val="000000"/>
                </a:solidFill>
                <a:latin typeface="Times New Roman"/>
              </a:rPr>
              <a:t>+        </a:t>
            </a:r>
            <a:r>
              <a:rPr b="1" lang="ja-JP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ja-JP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ja-JP" sz="32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1" lang="ja-JP" sz="3200" spc="-1" strike="noStrike" baseline="30000">
                <a:solidFill>
                  <a:srgbClr val="000000"/>
                </a:solidFill>
                <a:latin typeface="Times New Roman"/>
              </a:rPr>
              <a:t>Conf</a:t>
            </a:r>
            <a:r>
              <a:rPr b="1" i="1" lang="ja-JP" sz="3200" spc="-1" strike="noStrike">
                <a:solidFill>
                  <a:srgbClr val="000000"/>
                </a:solidFill>
                <a:latin typeface="Times New Roman"/>
              </a:rPr>
              <a:t>+U</a:t>
            </a:r>
            <a:r>
              <a:rPr b="1" i="1" lang="ja-JP" sz="32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1" lang="ja-JP" sz="3200" spc="-1" strike="noStrike" baseline="30000">
                <a:solidFill>
                  <a:srgbClr val="000000"/>
                </a:solidFill>
                <a:latin typeface="Times New Roman"/>
              </a:rPr>
              <a:t>OGEP</a:t>
            </a:r>
            <a:r>
              <a:rPr b="1" i="1" lang="ja-JP" sz="3200" spc="-1" strike="noStrike">
                <a:solidFill>
                  <a:srgbClr val="000000"/>
                </a:solidFill>
                <a:latin typeface="Times New Roman"/>
              </a:rPr>
              <a:t>+U</a:t>
            </a:r>
            <a:r>
              <a:rPr b="1" i="1" lang="ja-JP" sz="32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1" lang="ja-JP" sz="3200" spc="-1" strike="noStrike" baseline="30000">
                <a:solidFill>
                  <a:srgbClr val="000000"/>
                </a:solidFill>
                <a:latin typeface="Times New Roman"/>
              </a:rPr>
              <a:t>π</a:t>
            </a:r>
            <a:r>
              <a:rPr b="1" i="1" lang="ja-JP" sz="3200" spc="-1" strike="noStrike">
                <a:solidFill>
                  <a:srgbClr val="000000"/>
                </a:solidFill>
                <a:latin typeface="Times New Roman"/>
              </a:rPr>
              <a:t>+U</a:t>
            </a:r>
            <a:r>
              <a:rPr b="1" i="1" lang="ja-JP" sz="32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1" i="1" lang="ja-JP" sz="3200" spc="-1" strike="noStrike" baseline="30000">
                <a:solidFill>
                  <a:srgbClr val="000000"/>
                </a:solidFill>
                <a:latin typeface="Times New Roman"/>
              </a:rPr>
              <a:t>K </a:t>
            </a:r>
            <a:r>
              <a:rPr b="1" i="1" lang="ja-JP" sz="3200" spc="-1" strike="noStrike">
                <a:solidFill>
                  <a:srgbClr val="000000"/>
                </a:solidFill>
                <a:latin typeface="Times New Roman"/>
              </a:rPr>
              <a:t>+U</a:t>
            </a:r>
            <a:r>
              <a:rPr b="1" i="1" lang="ja-JP" sz="32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1" lang="ja-JP" sz="3200" spc="-1" strike="noStrike" baseline="30000">
                <a:solidFill>
                  <a:srgbClr val="000000"/>
                </a:solidFill>
                <a:latin typeface="Times New Roman"/>
              </a:rPr>
              <a:t>σ</a:t>
            </a:r>
            <a:r>
              <a:rPr b="1" lang="ja-JP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1547640" y="2060640"/>
            <a:ext cx="896400" cy="703800"/>
            <a:chOff x="1547640" y="2060640"/>
            <a:chExt cx="896400" cy="703800"/>
          </a:xfrm>
        </p:grpSpPr>
        <p:sp>
          <p:nvSpPr>
            <p:cNvPr id="66" name=""/>
            <p:cNvSpPr/>
            <p:nvPr/>
          </p:nvSpPr>
          <p:spPr>
            <a:xfrm>
              <a:off x="1973520" y="2060640"/>
              <a:ext cx="470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&lt;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547640" y="2060640"/>
              <a:ext cx="754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∑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1607760" y="1341360"/>
            <a:ext cx="863640" cy="703800"/>
            <a:chOff x="1607760" y="1341360"/>
            <a:chExt cx="863640" cy="703800"/>
          </a:xfrm>
        </p:grpSpPr>
        <p:sp>
          <p:nvSpPr>
            <p:cNvPr id="69" name=""/>
            <p:cNvSpPr/>
            <p:nvPr/>
          </p:nvSpPr>
          <p:spPr>
            <a:xfrm>
              <a:off x="1929240" y="1341360"/>
              <a:ext cx="5421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07760" y="1371240"/>
              <a:ext cx="470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∑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755640" y="2924280"/>
            <a:ext cx="7848720" cy="30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1" i="1" lang="ja-JP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ja-JP" sz="32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1" lang="ja-JP" sz="3200" spc="-1" strike="noStrike" baseline="30000">
                <a:solidFill>
                  <a:srgbClr val="000000"/>
                </a:solidFill>
                <a:latin typeface="Times New Roman"/>
              </a:rPr>
              <a:t>Conf </a:t>
            </a:r>
            <a:r>
              <a:rPr b="1" lang="ja-JP" sz="3200" spc="-1" strike="noStrike">
                <a:solidFill>
                  <a:srgbClr val="000000"/>
                </a:solidFill>
                <a:latin typeface="Times New Roman"/>
              </a:rPr>
              <a:t>： </a:t>
            </a:r>
            <a:r>
              <a:rPr b="1" lang="ja-JP" sz="3200" spc="-1" strike="noStrike">
                <a:solidFill>
                  <a:srgbClr val="000000"/>
                </a:solidFill>
                <a:latin typeface="Times New Roman"/>
              </a:rPr>
              <a:t>confinement potent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1" i="1" lang="ja-JP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ja-JP" sz="32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1" lang="ja-JP" sz="3200" spc="-1" strike="noStrike" baseline="30000">
                <a:solidFill>
                  <a:srgbClr val="000000"/>
                </a:solidFill>
                <a:latin typeface="Times New Roman"/>
              </a:rPr>
              <a:t>OGEP </a:t>
            </a:r>
            <a:r>
              <a:rPr b="1" lang="ja-JP" sz="3200" spc="-1" strike="noStrike">
                <a:solidFill>
                  <a:srgbClr val="000000"/>
                </a:solidFill>
                <a:latin typeface="Times New Roman"/>
              </a:rPr>
              <a:t>: one-gluon exchange potenti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1" i="1" lang="ja-JP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ja-JP" sz="32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1" lang="ja-JP" sz="3200" spc="-1" strike="noStrike" baseline="30000">
                <a:solidFill>
                  <a:srgbClr val="000000"/>
                </a:solidFill>
                <a:latin typeface="Times New Roman"/>
              </a:rPr>
              <a:t>π </a:t>
            </a:r>
            <a:r>
              <a:rPr b="1" lang="ja-JP" sz="3200" spc="-1" strike="noStrike">
                <a:solidFill>
                  <a:srgbClr val="000000"/>
                </a:solidFill>
                <a:latin typeface="Times New Roman"/>
              </a:rPr>
              <a:t>: π exchan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Times New Roman"/>
              </a:rPr>
              <a:t>・</a:t>
            </a:r>
            <a:r>
              <a:rPr b="1" i="1" lang="ja-JP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ja-JP" sz="32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1" i="1" lang="ja-JP" sz="32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ja-JP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ja-JP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ja-JP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ja-JP" sz="3200" spc="-1" strike="noStrike">
                <a:solidFill>
                  <a:srgbClr val="000000"/>
                </a:solidFill>
                <a:latin typeface="Times New Roman"/>
              </a:rPr>
              <a:t>-meson exchan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Times New Roman"/>
              </a:rPr>
              <a:t>・</a:t>
            </a:r>
            <a:r>
              <a:rPr b="1" i="1" lang="ja-JP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ja-JP" sz="32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1" lang="ja-JP" sz="3200" spc="-1" strike="noStrike" baseline="30000">
                <a:solidFill>
                  <a:srgbClr val="000000"/>
                </a:solidFill>
                <a:latin typeface="Times New Roman"/>
              </a:rPr>
              <a:t>σ </a:t>
            </a:r>
            <a:r>
              <a:rPr b="1" lang="ja-JP" sz="3200" spc="-1" strike="noStrike">
                <a:solidFill>
                  <a:srgbClr val="000000"/>
                </a:solidFill>
                <a:latin typeface="Times New Roman"/>
              </a:rPr>
              <a:t>: σ-meson ex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NIC05    24OCT200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3C88-2988-45EC-A849-5F2D06CBB45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08000" y="-316080"/>
            <a:ext cx="8856720" cy="13178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NIC05    24OCT20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CFCC-ED47-4CB1-8B64-8B22DA7FB0C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2T15:14:23Z</dcterms:created>
  <dc:creator>NAKAMOTO, Choki </dc:creator>
  <dc:description/>
  <dc:language>en-US</dc:language>
  <cp:lastModifiedBy>NAKAMOTO, Choki </cp:lastModifiedBy>
  <dcterms:modified xsi:type="dcterms:W3CDTF">2005-10-24T22:18:38Z</dcterms:modified>
  <cp:revision>135</cp:revision>
  <dc:subject/>
  <dc:title>Quark-model potentials  in the B8B8 systems</dc:title>
</cp:coreProperties>
</file>