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084-22AC-4991-8E0F-10F33CBF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6A2-985C-43A5-9A14-19C76996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889-E528-4EC1-AD41-BA735440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DB0-5B23-40A1-A718-0043E451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D77-77B1-434B-89C5-FD76D6DA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407-6F7B-46B8-8C5C-23F6809E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771-3C37-4E09-9078-04BC4D35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2DF-0228-4FF5-A544-38E07F5F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CBC-00BA-49E1-B435-099A7B62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13E-190E-430A-86FD-33A4A069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4BA-3ABB-4924-9CDE-203DBCC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7C6-6140-4DCF-BEF5-A1D6C559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F914-4EED-4769-89DA-438CAEE97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09680" y="65214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ra Validation Working Group Report / Oct. 3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243828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a Validation Working Group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ucien Froidev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 Future Validation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bias in nadir ozone, improvement in nadir temperature pro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urrent set of sonde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 V004 da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validation of limb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O, 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ir ozone in the stratosphere, limb ozone using MLS, HIRD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280"/>
            <a:ext cx="9144000" cy="70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/New campaigns (Overviews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Balloons: Kiruna, Ft. Sumner 2007                                            J. Margitan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able Mountain NO</a:t>
            </a:r>
            <a:r>
              <a:rPr b="1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ercomparis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Kiruna, Sweden balloon campaig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2007 Jan 24:  FIRS2/SLS/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Feb. 22: MkIV (ascent data only – balloon burst at floa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s deep in very cold, perturbed vo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cent comparisons have been produced [also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chnik 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enta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2007 Sep. 22 Ft. Sumner, NM  balloon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IV/SLS/FIRS2/BOH/O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hour flight (but no FIRS2 data due to malfun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VES                                                                                                 D. White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oordinated measurements from Beltsville area; clean and pollute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S 2006 (June 27 – August 12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S 2007 (July 14 – August 8, 2007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s (includes PTU, ozonesondes, CFH); Microwave Radiometer, 7 lid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, aerosols, Temperature data; coordinated with A-train overp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me Vaisala sonde calibration issues vs C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ecipitable water: AIRS and TES biased high vs MWR (and G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me airborne lidar data also mentioned for TES/CALIPSO validation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, aerosol vari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ura results included as part of several validation papers (JGR special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152280"/>
            <a:ext cx="8991720" cy="64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/New campaigns (Overvie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MOHAVE                                                                                                  T.  Lebla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HAVE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mpaign (October 200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to assess the measuring capabilities of Water Vapor Raman lidars (part of NDA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lidars, 50+ PTU sondes, 10 CFH sondes, 2 GPS, 1 microwave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t bias of Raman lidars versus CFH above ~12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jor Finding: Fluorescence in lidar receiver optic fiber, can be removed by blo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o, Miloshevic’s empirical correction to Vaisala RS92 seems to work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HAVE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mpaign (October 2007) planned to now refine comparisons, check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limits (lidars probably need more power, etc… to measure higher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Short-term variability in H2O observed by lidars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icates Aura validation (some good results anyway, on-go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/LS H2O validation issues                                                  K. Rosenlof / D. Fa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main topics of current inter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Establishing the frequency and temperature dependence of supersat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datasets indicate persistent S &gt; 1.2 inside and S &gt; 1.6 outside clo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under investigation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Establishing instrumental accuracy at low water vapor values and low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mparison campaign of water vapour measurement techniques to be held i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IDA  Chamber in Karlsuhe, Germany October 8th - November 2nd, 2007;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wide range of T, P, H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will be tested (with/without aerosols, ice partic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174600"/>
            <a:ext cx="899172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/New campaigns (Overvie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4  (Costa Rica; mid-July to early August 2007)                               M. Schoeber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ircraft + so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ER2 - mostly full participation - but landed before Aura over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DC8 - mostly full participation - bulk of Aura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WB57 - Only 3 CR flights near the end of the mission - landed before overp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validation data despite mission problems - S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s much TTL data as we would have li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early next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AUNA                                                                                                   R. McP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otal column 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atellite measurements agree within 2-3%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at low sun, high column amounts, high reflectiviti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verify the accuracy of GB measurements for satellite validation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UNA: March-April 2006 ;          SAUNA 2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ebruary-Apri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 network instruments: Dobsons, Brewers, DOAS, sondes and LI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Conclude that data from double Brewers should be used for Aura O3 val at high 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The state of the network calibration (Brewer and Dobson) is uncert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With improved GB calibration, differences between OMI and GB most probably due to ozone X-sections uncertainties; high spectral resolution X-sections required which can be used by both satellites and ground-based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457200"/>
            <a:ext cx="8534520" cy="72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SAR                                                                                                     P. L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1800" spc="-1" strike="noStrike" baseline="-18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mpaign in May 2008, Cabauw, The Netherlands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ong with the EUCAARI IOP campaign – clouds and aerosols)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Also intend to play a part in the AMFIC project (SO2 and NO2 in China) with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ni-MAX D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measurements at De Bilt (KNMI) and / or Cabauw of NO2 and 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wish to get involved, please contact Piet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RCTAS                                                                                                   D. Jac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lanning two 3-week deployments: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ril 2008 (Fairbanks/Thule), July 2008   (Edmon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NASA aircraft: DC-8 (in situ chemistry and aerosols), P-3B (radi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 situ aerosols), B-200 (aerosol remote sensing &amp; CALIPSO valid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ience Theme 1: Transport of mid-latitudes pollution to the 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ience Theme 2: Boreal forest fi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ience Theme 3: Aerosol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-8: in situ chemistry and aeros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ly Payload: O3, H2O, CO, CO2, CH4,  NOx and HOx chemistry, BrO, mercury, NMVOCs, halocarbons,  SO2. HCN/CH3CN, actinic fluxes, aerosol composition/concentrations/properties, remote ozone and aero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relevant (high lat. April / July) Aura Validation needs/wishes,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ase contact Daniel with requests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[see also Aura needs lists above (some still to come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533520"/>
            <a:ext cx="8381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DC 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Retscher / B. Bojk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pport continu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Aura teams like this!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HDF5 read/write in final testing for correlativ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Focus shifting to long-term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and update ground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mplet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ESA/NDACC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datasets and coordinate 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on AVDC side but need support from cal/val and instrumen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ase provide inputs to AVWG chairs + Aura instr. val. r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future campaign wishes/needs, and AVWG activities &amp; structure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fu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06360" y="242280"/>
            <a:ext cx="9450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DA: Aura Validation Working Group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. Froidevaux, A. Doug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NDAY, OCTOBER 1, 2007, 1:30 – 5:30 p.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ation Status, Issues, Plans                                                              100 m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HIRDLS                                                           J. Gille/B. Nardi                   [25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LS                                                                   L. Froidevaux                            [25 mins.]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MI                                                                  M. Kroon                             [25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ES                                                                     G. Osterman                      [25 mins.]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nt/New campaigns                                                                               90 m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arge Balloons: Kiruna, Ft. Sumner 2007         J. Margitan                         [10 mins.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able Mountain NO2 Intercomparis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AVES                                                           D. Whiteman                        [10 mins.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OHAVE                                                           T. Leblanc                          [10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T/LS H2O validation issues                   K. Rosenlof / D. Fahey                [10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C4                                                                    M. Schoeberl                      [10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AUNA                                                              R. McPeters                       [10 mins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SAR                                                                 P. Levelt                            [10 mins.]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RCTAS                                                              D. Jacob                           [15 mins.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DC Statu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C. Retscher / B. Bojkov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10 mins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ussion (data access, longer-term plans,…)                                           5 m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ture goals / suggestions for the working grou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Discussion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m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2680"/>
            <a:ext cx="8458200" cy="65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RDLS: Summary of quality of validat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emperat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-Range: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-30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cision: 0.5K at 10-100 hPa;  1K @ 1 hPa (v2.02.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ccuracy: ±2K at 1-10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z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ange: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-100+ hPa (mid-high Lat), 1-50 hPa (tro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cision: 5-1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ccuracy: 2-10% at 1-10 hPa; biased generall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5% high bias ~10-3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0-20% low bias, ~30-100+ hPa (mid &amp; high latitu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itric Aci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ange: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0-100 hPa, 10-50 hPa (tro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ecision: 10-35% at 100-10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ccuracy: ~10% (at 10hPa) to 30% (at 100hPa); biased low [ACE-FTS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ouds/Aeros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ange: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400 hPa- 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rrelation with other instru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AGE &amp; HALOE (cloud-top pressure): 0.85 - .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ALIPSO horizontal cloud scale: 0.99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xtinction retrieval successful at rate 70%: need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tical Resolution: 1-2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1920" y="800280"/>
            <a:ext cx="77320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tus of HIRDLS data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. Temperature, Ozone, HNO3, clouds – Released [v2.04.0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. H2O, CFC-11, CFC-12 – Not ready to release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now most promising for future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 CH4, NO2, N2O, ClONO2, N2O5 – Not ready to re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80880" y="469800"/>
          <a:ext cx="8534520" cy="6102360"/>
        </p:xfrm>
        <a:graphic>
          <a:graphicData uri="http://schemas.openxmlformats.org/drawingml/2006/table">
            <a:tbl>
              <a:tblPr/>
              <a:tblGrid>
                <a:gridCol w="2286000"/>
                <a:gridCol w="320040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                                 Issue / Inves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ource                          Needs / 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Temperature                  and G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retrieval biases,            2-3K vertical structure iss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 baseline="-25000">
                          <a:solidFill>
                            <a:srgbClr val="0066b3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O (and            relative humidit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k” in MLS profiles near                 30 hPa.  Low bias near 200 hPa vs CFH and Vaisala; high bias for VMR &gt; 500 ppm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 aircraft in situ vs CFH profile diffs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mprove validation robustne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66b3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y extension of  vertical range (to 150 hP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000" spc="-1" strike="noStrike" baseline="-25000">
                          <a:solidFill>
                            <a:srgbClr val="0066b3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on of vertical range (UT); more MOZAIC and UT studi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sonde matches under enhanced O</a:t>
                      </a:r>
                      <a:r>
                        <a:rPr b="0" lang="en-US" sz="1800" spc="-1" strike="noStrike" baseline="-18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    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 U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for better statistic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 UT biases              (P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 hPa); extend data to higher 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UT CO data; mainly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a MOZAIC (+ sat cross-val.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ARCTA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H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 understand diffs. in 2007 Kiruna campaign; also, some small notches in MLS profi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 on Kiruna data investigation (Kiruna 2?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457200" y="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MLS Validation Issues / Nee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0880" y="487440"/>
          <a:ext cx="8534520" cy="6043680"/>
        </p:xfrm>
        <a:graphic>
          <a:graphicData uri="http://schemas.openxmlformats.org/drawingml/2006/table">
            <a:tbl>
              <a:tblPr/>
              <a:tblGrid>
                <a:gridCol w="2210040"/>
                <a:gridCol w="3124080"/>
                <a:gridCol w="3200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                              Issue / Inves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ource                            Needs / R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HNO</a:t>
                      </a:r>
                      <a:r>
                        <a:rPr b="1" lang="en-US" sz="2000" spc="-1" strike="noStrike" baseline="-25000">
                          <a:solidFill>
                            <a:srgbClr val="0066b3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S low bias                                           (~1 ppbv or 10 – 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C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retrievals for negative biases at                     P &gt;  ~ 30 hP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y more validation in polar vort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 vertical range; reduce biases and latitudinal oscill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OH, HO</a:t>
                      </a:r>
                      <a:r>
                        <a:rPr b="0" lang="en-US" sz="2000" spc="-1" strike="noStrike" baseline="-18000">
                          <a:solidFill>
                            <a:srgbClr val="0066b3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 understand residual diffs. in comparis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oon flight in Ft. Sumner, Fall 2008 (for reason at lef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HO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ing validation; extension of vertical range (into L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balloon flight data to resolve differences between model &amp; data (balloon, M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Cloud 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er multi-sensor comparisons (IWC, IWP, cloud fraction) + enhanced MLS retrieval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“climatology” of cloud particle characteristic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457200" y="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MLS Validation Issues / Nee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457200"/>
          <a:ext cx="8839080" cy="6095880"/>
        </p:xfrm>
        <a:graphic>
          <a:graphicData uri="http://schemas.openxmlformats.org/drawingml/2006/table">
            <a:tbl>
              <a:tblPr/>
              <a:tblGrid>
                <a:gridCol w="2057400"/>
                <a:gridCol w="3276720"/>
                <a:gridCol w="3504960"/>
              </a:tblGrid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al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itrogen di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tal and trop. NO2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in-situ and Vertical Profiles in polluted re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Cloud Fraction and Effective Cloud H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nd Truth Standard in-situ detection net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NO2 column network of remote sensing standard (e.g. direct su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ospheric Columns in polluted reg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zo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tal and trop. O3 column, O3 profi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O3 columns and profiles at high SZA (SAUNA-II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ation Brewer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Double Brewers at high lat. and in 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DOZ balloons, trop. ozone lidar, MaxDO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eros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OD and S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physics (type, size, chem, phys, distribu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osols type stat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ation Aeronet netwo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borne campaigns gathering aerosol microphysics statistics (in particular, polluted reg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457200" y="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OMI Retrieval / Validation Nee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280" y="457200"/>
          <a:ext cx="8839440" cy="6178320"/>
        </p:xfrm>
        <a:graphic>
          <a:graphicData uri="http://schemas.openxmlformats.org/drawingml/2006/table">
            <a:tbl>
              <a:tblPr/>
              <a:tblGrid>
                <a:gridCol w="2425680"/>
                <a:gridCol w="3208320"/>
                <a:gridCol w="32054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eval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lphur Di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tal SO2 column [PBL, 5 km, 15 km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les in polluted regions and regions of out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hasis on PB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canic plume tom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observation of aerosols and SO2 pro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 Brewer instru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Double Brewer SO2 algorit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DOAS instruments for total column and prof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observations of plumes (volcanic and industr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effective fraction and he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ud model (LER, MLER, plane parall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omparisons of cloud fraction by sat-sat compar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Cloud Height by ground radar / li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nor trace g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total BrO, HCHO, CHO-CHO colum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slant OClO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lbedo data at OMI spatial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DOAS instr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457200" y="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OMI Retrieval / Validation Nee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533520"/>
          <a:ext cx="8534160" cy="6003720"/>
        </p:xfrm>
        <a:graphic>
          <a:graphicData uri="http://schemas.openxmlformats.org/drawingml/2006/table">
            <a:tbl>
              <a:tblPr/>
              <a:tblGrid>
                <a:gridCol w="2361960"/>
                <a:gridCol w="3048120"/>
                <a:gridCol w="3124080"/>
              </a:tblGrid>
              <a:tr h="68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Iss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L1B Radi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metric stability, Emissivity issues over cold surf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Scanning-HIS flights (ARCTAS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Temperature, Water Vap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ng nadir retriev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FH sondes, particularly in clear-sky ocean conditions timed with Aura overpass (Closure experimen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Nadir Oz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bias in trop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high latitude sondes  (ARCTAS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H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validation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b3"/>
                          </a:solidFill>
                          <a:latin typeface="Arial"/>
                        </a:rPr>
                        <a:t>Meth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b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le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0 to 500 hP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COM (ARCT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80880" y="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TES Validation Issues / Nee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8:12:46Z</dcterms:created>
  <dc:creator>Lucien Froidevaux</dc:creator>
  <dc:description/>
  <dc:language>en-US</dc:language>
  <cp:lastModifiedBy>lucien</cp:lastModifiedBy>
  <dcterms:modified xsi:type="dcterms:W3CDTF">2007-10-03T21:11:34Z</dcterms:modified>
  <cp:revision>71</cp:revision>
  <dc:subject/>
  <dc:title>Slide 1</dc:title>
</cp:coreProperties>
</file>