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3B8-0770-408E-AF53-A9DDD1D2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8B9-7A38-4F40-9DB8-5A59A9F1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93E-90A8-41A9-87AA-813D8E06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C69-9ABF-4E85-8914-72F174DE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CBE-71CA-47CE-A6C2-5AF9570E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5C7-7D69-441D-B1E0-A555A29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26D8-F383-4A88-8F06-97146DC3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E38D-40B6-42AD-9E6A-2129EE39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CF2B-A3B3-479F-ABEF-9A77AAAD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E9F-68C4-4F57-8849-C8633D7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CD0-18ED-4683-8FC9-B3DFA53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568-69A9-4C20-ACAD-50FDF767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04B-401B-4F67-8530-389F5A6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3E66-586E-4B1E-BA62-E0207DB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EC79-F0E9-4AAB-AA5A-AADD149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3CC4-B9AD-42B9-B02E-210B657E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AD5-1F50-4622-8AAD-0C154B80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343-E79D-4D5C-A83E-2CD26F2A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5BB-DBAB-40EF-933C-D02D12E3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7FD-48A3-404E-9898-E6492E1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42C-1A80-4645-B6DD-BAF55B2E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11A-540E-4C6C-8097-61F3575A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6EB-E96A-46BC-9182-29975FC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542-38B9-4D80-B95F-E621B7D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7AA-00C7-469F-890D-3054A6D37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72F-4C4C-4CCC-ADFD-402277476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ing Pervasive Data in a Ubiquitous Computing Wor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and using data withou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nowledge about data sources on the network is a fundamental activity for ubiquitous comput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ed Query Processing Systems can be used to address this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are typically peer-to-peer overlay networks built on top of existing IP-networ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in nature with some centralization under the co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address a wide variety of problems: wide-area service discovery, event notification, directory enabled networks, distributed sensor-based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ch is bes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impossible to perform a comparative stu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detailed knowledge about assumed operating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ed for different applications, performance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” system is one that provides “best” support for applications at the best performanc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1: What are the applic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? GnutellaNe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2: What are the performance metric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work/processor us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sue 3: How to we validate/evaluate our desig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dressing Issue #1 – Factored Workload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395960"/>
            <a:ext cx="4087800" cy="657000"/>
          </a:xfrm>
          <a:prstGeom prst="parallelogram">
            <a:avLst>
              <a:gd name="adj" fmla="val 15554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25480" y="4676760"/>
            <a:ext cx="1890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49560" y="4489560"/>
            <a:ext cx="187200" cy="1872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1640" y="4630680"/>
            <a:ext cx="189000" cy="1875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8240" y="4630680"/>
            <a:ext cx="188640" cy="18756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76640" y="4537080"/>
            <a:ext cx="187560" cy="1872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9320" y="4348080"/>
            <a:ext cx="188640" cy="1890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65360" y="4772160"/>
            <a:ext cx="187560" cy="1872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95560" y="4348080"/>
            <a:ext cx="1872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8480" y="5288040"/>
            <a:ext cx="187200" cy="18900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46320" y="5330880"/>
            <a:ext cx="90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Data Agent (M, 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90680" y="5288040"/>
            <a:ext cx="187560" cy="189000"/>
          </a:xfrm>
          <a:prstGeom prst="cube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3960" y="5335560"/>
            <a:ext cx="90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Query Agent (M,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85880" y="4395960"/>
            <a:ext cx="3666960" cy="752400"/>
            <a:chOff x="785880" y="4395960"/>
            <a:chExt cx="3666960" cy="752400"/>
          </a:xfrm>
        </p:grpSpPr>
        <p:sp>
          <p:nvSpPr>
            <p:cNvPr id="106" name=""/>
            <p:cNvSpPr/>
            <p:nvPr/>
          </p:nvSpPr>
          <p:spPr>
            <a:xfrm flipV="1">
              <a:off x="785880" y="4395960"/>
              <a:ext cx="1175400" cy="75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5880" y="5148360"/>
              <a:ext cx="3666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248000" y="51944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3280" y="430056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5680" y="3454560"/>
            <a:ext cx="4089600" cy="658800"/>
          </a:xfrm>
          <a:prstGeom prst="parallelogram">
            <a:avLst>
              <a:gd name="adj" fmla="val 155191"/>
            </a:avLst>
          </a:prstGeom>
          <a:solidFill>
            <a:srgbClr val="3366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4480" y="37846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35956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3160" y="38782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1640" y="35956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878280"/>
            <a:ext cx="1396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65360" y="35020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30640" y="3878280"/>
            <a:ext cx="1411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960" y="3736800"/>
            <a:ext cx="1396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22720" y="3878280"/>
            <a:ext cx="1414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1720" y="3549600"/>
            <a:ext cx="14112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5960" y="3878280"/>
            <a:ext cx="1872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36760" y="3736440"/>
            <a:ext cx="14148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1840" y="3643200"/>
            <a:ext cx="46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06560" y="3688920"/>
            <a:ext cx="235080" cy="23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37040" y="3736800"/>
            <a:ext cx="13968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82760" y="3595680"/>
            <a:ext cx="2826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71760" y="3830760"/>
            <a:ext cx="37620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25760" y="3736800"/>
            <a:ext cx="1872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18120" y="3688920"/>
            <a:ext cx="139680" cy="18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6840" y="3595680"/>
            <a:ext cx="18720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7640" y="3830760"/>
            <a:ext cx="235080" cy="95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7160" y="2562120"/>
            <a:ext cx="4089240" cy="657360"/>
          </a:xfrm>
          <a:prstGeom prst="parallelogram">
            <a:avLst>
              <a:gd name="adj" fmla="val 155518"/>
            </a:avLst>
          </a:prstGeom>
          <a:solidFill>
            <a:srgbClr val="3366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2890800"/>
            <a:ext cx="18720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9160" y="2984400"/>
            <a:ext cx="18756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2960" y="2514600"/>
            <a:ext cx="189000" cy="14112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35520" y="2890800"/>
            <a:ext cx="187200" cy="141480"/>
          </a:xfrm>
          <a:prstGeom prst="can">
            <a:avLst>
              <a:gd name="adj" fmla="val 25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65360" y="2514600"/>
            <a:ext cx="282600" cy="1411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0240" y="2701800"/>
            <a:ext cx="282600" cy="141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36760" y="2701800"/>
            <a:ext cx="282600" cy="1414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5370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Physical Sp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595680"/>
            <a:ext cx="853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Communications 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720" y="2514600"/>
            <a:ext cx="8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"/>
              </a:rPr>
              <a:t>System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19360" y="2843280"/>
            <a:ext cx="469800" cy="18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6560" y="2749680"/>
            <a:ext cx="20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Application-level protoc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342576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ekton"/>
              </a:rPr>
              <a:t>Network protoc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05740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uld like to contro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location of data, origin of 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ment of data/query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distributions of query an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and data generation r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ity of queries for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regions in physical sp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of the above can be varied along some time axi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9:58:17Z</dcterms:created>
  <dc:creator>Paul Castro</dc:creator>
  <dc:description/>
  <dc:language>en-US</dc:language>
  <cp:lastModifiedBy>Paul Castro</cp:lastModifiedBy>
  <dcterms:modified xsi:type="dcterms:W3CDTF">2001-09-25T22:45:38Z</dcterms:modified>
  <cp:revision>4</cp:revision>
  <dc:subject/>
  <dc:title>Managing Pervasive Data in a Ubiquitous Computing World</dc:title>
</cp:coreProperties>
</file>