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CEA7-BB58-4A09-9587-752824D2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1B72-5010-4C40-8454-EF6D0263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17E-434B-4E0D-A03F-0E80F6D7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00E-FB58-468B-9AFB-8C80493E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AEA-1963-4749-93F7-9F901C2A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7EDC-32F8-47E4-9FD0-48488854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256-0D61-4E5F-B7F0-4C12625E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996C-6B61-4DF6-8CCD-34444261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7DFE-D14B-4F18-BB49-3330C5D8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2C6-A474-4570-A2EB-2A2142AD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5D5-EE02-4148-A2BA-E944A816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281-D3E9-4887-A3F0-4F35B259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EEF9-8EC4-4E49-91BF-71CD2DB7D3F9}" type="datetime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160" y="64004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Peter Lilienth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A42C-F998-4E5C-9B45-AD73625191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685800" y="6172200"/>
          <a:ext cx="406440" cy="4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17220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rel.gov/international/homer/" TargetMode="External"/><Relationship Id="rId2" Type="http://schemas.openxmlformats.org/officeDocument/2006/relationships/hyperlink" Target="http://analysis.nrel.gov/homer" TargetMode="External"/><Relationship Id="rId3" Type="http://schemas.openxmlformats.org/officeDocument/2006/relationships/hyperlink" Target="mailto:peter_lilienthal@nrel.gov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Power Analysis with NREL’s HOMER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ter Lilienth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anuary 10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posed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by/backup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-of-use and seasonal pr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t me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urly pr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tchet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lock pricing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acilitate comparing stand-alone and grid-conn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reate beta 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se studies; verify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5E8-EC2B-4E8E-85AB-658ECB2E4E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in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Main%20-%20cat" descr=""/>
          <p:cNvPicPr/>
          <p:nvPr/>
        </p:nvPicPr>
        <p:blipFill>
          <a:blip r:embed="rId1"/>
          <a:stretch/>
        </p:blipFill>
        <p:spPr>
          <a:xfrm>
            <a:off x="1406520" y="1333440"/>
            <a:ext cx="674676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F937-46A6-4AE8-B4B7-156DE6A424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in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Main%20-%20cat%20highlit%20inputs" descr=""/>
          <p:cNvPicPr/>
          <p:nvPr/>
        </p:nvPicPr>
        <p:blipFill>
          <a:blip r:embed="rId1"/>
          <a:stretch/>
        </p:blipFill>
        <p:spPr>
          <a:xfrm>
            <a:off x="1406520" y="1333440"/>
            <a:ext cx="6746760" cy="4152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47920" y="5791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re are 4 types of in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311-57F5-47FB-8D8A-5E2C1E962B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3a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gradFill rotWithShape="0">
            <a:gsLst>
              <a:gs pos="0">
                <a:srgbClr val="054d03"/>
              </a:gs>
              <a:gs pos="100000">
                <a:srgbClr val="011b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Inputs%20-%20primary%20load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691320" cy="4267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puts – electric 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579132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57150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ypes of loads, can vary month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25D-F725-4A9F-8390-D104778405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3a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gradFill rotWithShape="0">
            <a:gsLst>
              <a:gs pos="0">
                <a:srgbClr val="054d03"/>
              </a:gs>
              <a:gs pos="100000">
                <a:srgbClr val="011b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puts%20-%20wind" descr=""/>
          <p:cNvPicPr/>
          <p:nvPr/>
        </p:nvPicPr>
        <p:blipFill>
          <a:blip r:embed="rId1"/>
          <a:stretch/>
        </p:blipFill>
        <p:spPr>
          <a:xfrm>
            <a:off x="1614600" y="1338120"/>
            <a:ext cx="5538600" cy="3915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puts – wind resou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5638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ata can be entered from a file or gener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5D7-7041-4648-907D-6B1BBB75FE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3a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gradFill rotWithShape="0">
            <a:gsLst>
              <a:gs pos="0">
                <a:srgbClr val="054d03"/>
              </a:gs>
              <a:gs pos="100000">
                <a:srgbClr val="011b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Inputs%20-%20wind%20turbine" descr=""/>
          <p:cNvPicPr/>
          <p:nvPr/>
        </p:nvPicPr>
        <p:blipFill>
          <a:blip r:embed="rId1"/>
          <a:stretch/>
        </p:blipFill>
        <p:spPr>
          <a:xfrm>
            <a:off x="1614600" y="1338120"/>
            <a:ext cx="5538600" cy="3915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puts – wind turb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533412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ach component requires simple cost and performanc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025-A44F-41D3-8F3B-8C7E0751AA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3a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gradFill rotWithShape="0">
            <a:gsLst>
              <a:gs pos="0">
                <a:srgbClr val="054d03"/>
              </a:gs>
              <a:gs pos="100000">
                <a:srgbClr val="011b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Inputs%20-%20optimization" descr=""/>
          <p:cNvPicPr/>
          <p:nvPr/>
        </p:nvPicPr>
        <p:blipFill>
          <a:blip r:embed="rId1"/>
          <a:stretch/>
        </p:blipFill>
        <p:spPr>
          <a:xfrm>
            <a:off x="1785960" y="1833480"/>
            <a:ext cx="5229360" cy="2994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puts –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51814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user has to tell HOMER what types of systems to consi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C68-514B-45DB-A81F-C63174471F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Main%20-%20ovr%20highlit%20outputs" descr=""/>
          <p:cNvPicPr/>
          <p:nvPr/>
        </p:nvPicPr>
        <p:blipFill>
          <a:blip r:embed="rId1"/>
          <a:stretch/>
        </p:blipFill>
        <p:spPr>
          <a:xfrm>
            <a:off x="1406520" y="1333440"/>
            <a:ext cx="6746760" cy="4076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95280" y="56386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MER rank orders the solutions by Net Prese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B7E8-3FDC-4C05-BB96-CBCF9D81B2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ain%20-%20cat%20highlit%20outputs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46760" cy="4267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66680" y="56386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MER also categorizes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75A-E1C6-48FF-BD7B-79E94F7F08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3a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gradFill rotWithShape="0">
            <a:gsLst>
              <a:gs pos="0">
                <a:srgbClr val="054d03"/>
              </a:gs>
              <a:gs pos="100000">
                <a:srgbClr val="011b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ain%20-%20cat%20highlit%20sv" descr=""/>
          <p:cNvPicPr/>
          <p:nvPr/>
        </p:nvPicPr>
        <p:blipFill>
          <a:blip r:embed="rId1"/>
          <a:stretch/>
        </p:blipFill>
        <p:spPr>
          <a:xfrm>
            <a:off x="1406520" y="1333440"/>
            <a:ext cx="6746760" cy="3772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95280" y="54864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seful for uncertain parameters; technology, market and policy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BCFC-BAB9-41A8-8A57-EECB55C706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at is HO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ff-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id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hort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ampl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4AE-F1B1-44EF-AF7A-8A4A2326BA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Main%20-%20grph" descr=""/>
          <p:cNvPicPr/>
          <p:nvPr/>
        </p:nvPicPr>
        <p:blipFill>
          <a:blip r:embed="rId1"/>
          <a:stretch/>
        </p:blipFill>
        <p:spPr>
          <a:xfrm>
            <a:off x="1406520" y="1333440"/>
            <a:ext cx="6746760" cy="4076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95280" y="5562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ch technology is best at different wind speeds or fuel pr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E01-C5D4-424B-BDB7-A94DD06A0C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llage power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Results%20-%20village%20surf%20coe" descr=""/>
          <p:cNvPicPr/>
          <p:nvPr/>
        </p:nvPicPr>
        <p:blipFill>
          <a:blip r:embed="rId1"/>
          <a:stretch/>
        </p:blipFill>
        <p:spPr>
          <a:xfrm>
            <a:off x="1103400" y="1378080"/>
            <a:ext cx="7202520" cy="4032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90720" y="57150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w does the cost of energy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8FE8-ECF7-49A9-99F4-E6DC000166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llage power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Results%20-%20village%20surface%20plot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202520" cy="4191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5867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w does the fuel use v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003D-4021-4860-A06C-3B358FF3B3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ket Impact of Carbon 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3533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95B-C48B-4E1C-BEFF-6063030A48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ket Impact of Tax Cr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162920" cy="435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216-9DE3-42D7-BB0E-BC7AFD4E5D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brid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3533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C930-4DDC-4743-8358-B3FDBB68AA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gine Compe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8153640" cy="419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34EF-626F-454C-B854-93947A37B4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planation of Counter-intuitive Resu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4114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14400" y="54100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less efficient technology is chosen at higher fuel prices because it is only used for peak sh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5341-F66C-4E35-99E1-3B33BC378C1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34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284C-77F2-48AD-A0A0-D1E7645B97B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R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eHOMER%20components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078240" cy="4191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95280" y="5715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ery simplified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DC2-A032-4D4E-85DF-8F92A9083A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HOM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lectrification of remote vill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ff-grid 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dicate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elecom sites, water pump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ributed generation (grid-connec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reen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generation (combined heat and pow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492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3ce00"/>
                </a:solidFill>
                <a:latin typeface="Verdana"/>
              </a:rPr>
              <a:t>HOMER is a computer model for designing small electric power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246-162B-48A5-BFC9-84710371A9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R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eHOMER%20results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365800" cy="4190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43000" y="5638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l of the outputs are still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619-6C1B-4268-BE1F-8EC3B1C821B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3a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in web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nrel.gov/international/homer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MER Onl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nalysis.nrel.gov/ho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ter_lilienthal@nrel.gov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gradFill rotWithShape="0">
            <a:gsLst>
              <a:gs pos="0">
                <a:srgbClr val="054d03"/>
              </a:gs>
              <a:gs pos="100000">
                <a:srgbClr val="011b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9B0-463E-4F3E-A5AE-245A41E8A2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conomic optimization for least-cost desig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mpete technologies - consistent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760 hour sim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newable resource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tensive sensitivit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aphical out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C67B-32B3-4E50-8C1C-D65D028957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3a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R’s capabiliti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7391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ind turb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mall hydro (run-of-ri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enerator (fossil fuel or biom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attery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id extension or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gradFill rotWithShape="0">
            <a:gsLst>
              <a:gs pos="0">
                <a:srgbClr val="054d03"/>
              </a:gs>
              <a:gs pos="100000">
                <a:srgbClr val="011b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5238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3ce00"/>
                </a:solidFill>
                <a:latin typeface="Verdana"/>
              </a:rPr>
              <a:t>HOMER can model any combination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CBD-1423-4461-A094-04DD9E3668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brid Optimization Model for Electric Renew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eveloped by NREL’s Village Power Program in 199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jor redesign in 1997 to make it accessible to general publ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as become an international standard for off-grid power design and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300 users in 110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F9E-13D8-4A2C-A3B7-DA038DA92B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0% funds-in CRADA with ESKOM (South Africa) to incorporate into their G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aining in Argentina, Philippines &amp;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DRD for grid-connected DG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mplified web interface in beta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llaborate with 7 NREL center/off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1164-BE58-4F40-A672-5722357AB9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nhancements for Grid-connected D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ariff mo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dditional Technolog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dular and decentraliz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T’s compe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cro-turb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uel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F2F-BB3B-46F7-90C7-B886558F99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urrent Accomplish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w technologies have been ad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iomass, micro-hy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fuel 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re flexible generator module that can handle micro-turbines and fuel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re kinds of hybr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rmal loads for co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mplified Rat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tail, buyback &amp;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rbon 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F9F-FB60-4D7F-88CC-2F4AD0AD89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21:53:09Z</dcterms:created>
  <dc:creator>NREL</dc:creator>
  <dc:description/>
  <dc:language>en-US</dc:language>
  <cp:lastModifiedBy>Wanda Addison</cp:lastModifiedBy>
  <dcterms:modified xsi:type="dcterms:W3CDTF">2002-01-28T18:11:06Z</dcterms:modified>
  <cp:revision>14</cp:revision>
  <dc:subject/>
  <dc:title>Interim Report  Enhancing HOMER for Grid Applications</dc:title>
</cp:coreProperties>
</file>