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6208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551e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5CA9A6D-F89E-44E7-8EF5-C26A707E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as Sales Volume data were provided by MMS by geographical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gas production which is ACTUALLY Gas Sales Volumes for each of the Western states with Other representing all the other states including CA, AK and Eastern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oming was the highest producer of gas during the last 3 years shown with New Mexico the next largest produc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gas production in Wyoming was due to increased gas production in the Pinedale area with increases from 2000-2001 of 14 TCF (67% of total WY increase), 2001-2002 of 167 TCF (72% of total WY increase, and 2002-2003 of 176 TCF (99+% of WY increase).  There was a 30 TCF decrease in WY total in from 2003 to 2004 with decreases in all FOs except Pinedale and Lander FOs which posted increases.  Pinedale FO had 82% of this increase from both FOs.  This increase in Pinedale FO is related to the increased development of the Jonah Field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ana gas production volumes are very low compared to the other Western states due to CB natural gas development only in the initial stage of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DF2E-77F1-473B-B6E1-B82E320BF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3ABF-B8C6-4A64-A5EA-6E39D3547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AEAA-B877-4CC6-9405-CE1E3B9C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41E2-A95F-4CF2-A224-C3F6253E0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6959-BB12-481F-9C3C-E53023C4A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49B3-BF63-49E3-A57D-75EB53E02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E02F-1B6D-41D7-BEA0-1F6E4CBC9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6D6B-D826-465F-8C85-4FA9478D9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9AAB-D1BD-4576-B33D-3E08C011F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3D1C-1D4F-4370-B1F8-A80DC795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73E7-E830-4E1F-AE7A-4E0F08335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D4F4-6734-4FCE-83EE-17B752123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4824"/>
            </a:gs>
            <a:gs pos="100000">
              <a:srgbClr val="899d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34360" cy="146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9343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21B6-F5F6-4695-AAA4-35F5EAE4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551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8551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551e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551e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68551e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4824"/>
            </a:gs>
            <a:gs pos="100000">
              <a:srgbClr val="899d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1812960"/>
          <a:ext cx="601992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2960"/>
                    <a:ext cx="6019920" cy="4297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629400" y="2209680"/>
            <a:ext cx="229248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Gas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Fede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6e7c2"/>
                </a:solidFill>
                <a:latin typeface="Arial"/>
              </a:rPr>
              <a:t>Indian 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551e"/>
                </a:solidFill>
                <a:latin typeface="Tahoma"/>
              </a:rPr>
              <a:t>Production &amp;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BF61-7B8F-4104-8469-4BD0981016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58:54Z</dcterms:created>
  <dc:creator>ashaffer</dc:creator>
  <dc:description/>
  <dc:language>en-US</dc:language>
  <cp:lastModifiedBy>tferguso</cp:lastModifiedBy>
  <dcterms:modified xsi:type="dcterms:W3CDTF">2005-09-13T16:09:49Z</dcterms:modified>
  <cp:revision>112</cp:revision>
  <dc:subject/>
  <dc:title>Slide 1</dc:title>
</cp:coreProperties>
</file>