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12.wmf" ContentType="image/x-wmf"/>
  <Override PartName="/ppt/media/image36.wmf" ContentType="image/x-wmf"/>
  <Override PartName="/ppt/media/image37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png" ContentType="image/png"/>
  <Override PartName="/ppt/media/image13.wmf" ContentType="image/x-wmf"/>
  <Override PartName="/ppt/media/image5.png" ContentType="image/png"/>
  <Override PartName="/ppt/media/image11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4BE0FB-8A81-41DE-B3A1-34020A710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0C949B-7762-4B4C-A94F-59AC4870F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324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7000" y="4381200"/>
            <a:ext cx="5081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1747B-7BF9-4A62-AD1B-B325582ED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27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386F-F22B-4320-A2CC-958F5E44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27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27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C162-209B-4B77-A5AE-EF51BBBE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27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27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27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914D-25AE-4461-A311-155886E8C4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036F-641E-470F-BBF6-A6468B83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9106A-A080-4309-9D1B-5134E8CF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F328-D70A-49C5-9408-B9A160FC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306C-A1E6-4CCC-B9FB-1F7431BD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63248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F40A-F10F-4731-853C-09E75DAC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27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619C-2A6F-4F28-820E-2EB2D2D7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27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9A1D-8D42-4220-B6A5-C9773D46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27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DAFB-FD5A-40E7-958A-56D33D62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46704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B Italy - </a:t>
            </a:r>
            <a:fld id="{3BF0ACB1-ACCD-4162-B71F-C5935F8A0A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85960"/>
            <a:ext cx="9144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0"/>
            <a:ext cx="876240" cy="860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467400"/>
            <a:ext cx="9144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756560" y="237960"/>
            <a:ext cx="1387440" cy="46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image" Target="../media/image22.wmf"/><Relationship Id="rId14" Type="http://schemas.openxmlformats.org/officeDocument/2006/relationships/image" Target="../media/image23.wmf"/><Relationship Id="rId15" Type="http://schemas.openxmlformats.org/officeDocument/2006/relationships/image" Target="../media/image24.wmf"/><Relationship Id="rId16" Type="http://schemas.openxmlformats.org/officeDocument/2006/relationships/image" Target="../media/image25.wmf"/><Relationship Id="rId17" Type="http://schemas.openxmlformats.org/officeDocument/2006/relationships/image" Target="../media/image26.wmf"/><Relationship Id="rId18" Type="http://schemas.openxmlformats.org/officeDocument/2006/relationships/image" Target="../media/image27.wmf"/><Relationship Id="rId19" Type="http://schemas.openxmlformats.org/officeDocument/2006/relationships/image" Target="../media/image28.wmf"/><Relationship Id="rId20" Type="http://schemas.openxmlformats.org/officeDocument/2006/relationships/image" Target="../media/image29.wmf"/><Relationship Id="rId21" Type="http://schemas.openxmlformats.org/officeDocument/2006/relationships/image" Target="../media/image30.wmf"/><Relationship Id="rId22" Type="http://schemas.openxmlformats.org/officeDocument/2006/relationships/image" Target="../media/image31.wmf"/><Relationship Id="rId23" Type="http://schemas.openxmlformats.org/officeDocument/2006/relationships/image" Target="../media/image32.wmf"/><Relationship Id="rId24" Type="http://schemas.openxmlformats.org/officeDocument/2006/relationships/image" Target="../media/image33.wmf"/><Relationship Id="rId25" Type="http://schemas.openxmlformats.org/officeDocument/2006/relationships/image" Target="../media/image34.wmf"/><Relationship Id="rId26" Type="http://schemas.openxmlformats.org/officeDocument/2006/relationships/image" Target="../media/image35.wmf"/><Relationship Id="rId27" Type="http://schemas.openxmlformats.org/officeDocument/2006/relationships/image" Target="../media/image36.wmf"/><Relationship Id="rId28" Type="http://schemas.openxmlformats.org/officeDocument/2006/relationships/image" Target="../media/image37.wmf"/><Relationship Id="rId29" Type="http://schemas.openxmlformats.org/officeDocument/2006/relationships/image" Target="../media/image38.wmf"/><Relationship Id="rId30" Type="http://schemas.openxmlformats.org/officeDocument/2006/relationships/image" Target="../media/image39.wmf"/><Relationship Id="rId31" Type="http://schemas.openxmlformats.org/officeDocument/2006/relationships/image" Target="../media/image40.wmf"/><Relationship Id="rId32" Type="http://schemas.openxmlformats.org/officeDocument/2006/relationships/image" Target="../media/image41.wmf"/><Relationship Id="rId33" Type="http://schemas.openxmlformats.org/officeDocument/2006/relationships/image" Target="../media/image42.wmf"/><Relationship Id="rId34" Type="http://schemas.openxmlformats.org/officeDocument/2006/relationships/image" Target="../media/image43.wmf"/><Relationship Id="rId35" Type="http://schemas.openxmlformats.org/officeDocument/2006/relationships/image" Target="../media/image44.png"/><Relationship Id="rId3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38280" y="1447920"/>
            <a:ext cx="4438800" cy="4346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POESS Preparatory Project  Science 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e Kea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BC at NASA/GSF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ire NPP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,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467480" y="2133720"/>
            <a:ext cx="83844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125280" y="2192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P Continues Data Time Se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09680" y="1515960"/>
          <a:ext cx="8648640" cy="48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515960"/>
                    <a:ext cx="864864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35600" y="971640"/>
            <a:ext cx="6998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-988560" y="3438360"/>
            <a:ext cx="24037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2240" y="6396120"/>
            <a:ext cx="7018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Conventional Operations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 u="sng">
                <a:solidFill>
                  <a:srgbClr val="006600"/>
                </a:solidFill>
                <a:uFillTx/>
                <a:latin typeface="Arial"/>
              </a:rPr>
              <a:t>EOS Technology Jump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search Quality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F7C6-D36D-4710-8382-9E462AB4F2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8920" y="3240"/>
          <a:ext cx="8967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3240"/>
                    <a:ext cx="8967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797080" y="6086520"/>
            <a:ext cx="343368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nLw embedded in ocean color 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Surface reflectances available as intermediate 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C143-4CAB-4AAB-96FB-0C878D6779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38280" y="1447920"/>
            <a:ext cx="4438800" cy="4346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2800" y="163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ience Data Segment (SDS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P Mission Seg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800600" y="2171880"/>
            <a:ext cx="131760" cy="411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1562040"/>
            <a:ext cx="2590920" cy="30492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240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816200" y="3110760"/>
            <a:ext cx="1904760" cy="30492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240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89640" y="2529000"/>
            <a:ext cx="266400" cy="385200"/>
            <a:chOff x="4589640" y="2529000"/>
            <a:chExt cx="266400" cy="385200"/>
          </a:xfrm>
        </p:grpSpPr>
        <p:grpSp>
          <p:nvGrpSpPr>
            <p:cNvPr id="131" name=""/>
            <p:cNvGrpSpPr/>
            <p:nvPr/>
          </p:nvGrpSpPr>
          <p:grpSpPr>
            <a:xfrm>
              <a:off x="4589640" y="2579760"/>
              <a:ext cx="266400" cy="334440"/>
              <a:chOff x="4589640" y="2579760"/>
              <a:chExt cx="266400" cy="33444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672080" y="2760480"/>
                <a:ext cx="40680" cy="75600"/>
                <a:chOff x="4672080" y="2760480"/>
                <a:chExt cx="40680" cy="75600"/>
              </a:xfrm>
            </p:grpSpPr>
            <p:pic>
              <p:nvPicPr>
                <p:cNvPr id="133" name="" descr=""/>
                <p:cNvPicPr/>
                <p:nvPr/>
              </p:nvPicPr>
              <p:blipFill>
                <a:blip r:embed="rId1"/>
                <a:srcRect l="-24752" t="0" r="0" b="0"/>
                <a:stretch/>
              </p:blipFill>
              <p:spPr>
                <a:xfrm>
                  <a:off x="4674600" y="2766240"/>
                  <a:ext cx="36360" cy="6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"/>
                <a:srcRect l="-10526" t="0" r="0" b="0"/>
                <a:stretch/>
              </p:blipFill>
              <p:spPr>
                <a:xfrm>
                  <a:off x="4672080" y="2760480"/>
                  <a:ext cx="40680" cy="7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40040" y="2739600"/>
                <a:ext cx="53640" cy="9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30760" y="2747880"/>
                <a:ext cx="5688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5"/>
              <a:srcRect l="-14545" t="-14545" r="0" b="0"/>
              <a:stretch/>
            </p:blipFill>
            <p:spPr>
              <a:xfrm>
                <a:off x="4700520" y="2728800"/>
                <a:ext cx="39240" cy="3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6"/>
              <a:srcRect l="0" t="-43182" r="0" b="0"/>
              <a:stretch/>
            </p:blipFill>
            <p:spPr>
              <a:xfrm>
                <a:off x="4680000" y="2811240"/>
                <a:ext cx="82080" cy="3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0040" y="2649240"/>
                <a:ext cx="48960" cy="5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33920" y="2579760"/>
                <a:ext cx="61560" cy="25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32120" y="2804760"/>
                <a:ext cx="223560" cy="7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10"/>
              <a:srcRect l="0" t="-2439" r="0" b="0"/>
              <a:stretch/>
            </p:blipFill>
            <p:spPr>
              <a:xfrm>
                <a:off x="4632120" y="2838240"/>
                <a:ext cx="172800" cy="4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11"/>
              <a:srcRect l="-10526" t="0" r="0" b="0"/>
              <a:stretch/>
            </p:blipFill>
            <p:spPr>
              <a:xfrm>
                <a:off x="4619520" y="2730240"/>
                <a:ext cx="41040" cy="6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12"/>
              <a:srcRect l="-10526" t="-5882" r="0" b="0"/>
              <a:stretch/>
            </p:blipFill>
            <p:spPr>
              <a:xfrm>
                <a:off x="4621320" y="2765160"/>
                <a:ext cx="40680" cy="4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91160" y="2755800"/>
                <a:ext cx="72360" cy="8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97200" y="2788920"/>
                <a:ext cx="61560" cy="9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15"/>
              <a:srcRect l="0" t="-5882" r="0" b="0"/>
              <a:stretch/>
            </p:blipFill>
            <p:spPr>
              <a:xfrm>
                <a:off x="4589640" y="2871360"/>
                <a:ext cx="266400" cy="4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16"/>
              <a:srcRect l="0" t="-2439" r="0" b="0"/>
              <a:stretch/>
            </p:blipFill>
            <p:spPr>
              <a:xfrm>
                <a:off x="4589640" y="2854080"/>
                <a:ext cx="266400" cy="4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17"/>
              <a:srcRect l="0" t="-24752" r="0" b="0"/>
              <a:stretch/>
            </p:blipFill>
            <p:spPr>
              <a:xfrm>
                <a:off x="4795920" y="2842920"/>
                <a:ext cx="53640" cy="3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8"/>
              <a:srcRect l="-24752" t="-20000" r="0" b="0"/>
              <a:stretch/>
            </p:blipFill>
            <p:spPr>
              <a:xfrm>
                <a:off x="4619520" y="2784240"/>
                <a:ext cx="36360" cy="3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19"/>
              <a:srcRect l="-2439" t="-2439" r="0" b="0"/>
              <a:stretch/>
            </p:blipFill>
            <p:spPr>
              <a:xfrm>
                <a:off x="4674960" y="2747880"/>
                <a:ext cx="44280" cy="4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65600" y="2739600"/>
                <a:ext cx="96480" cy="93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3" name=""/>
              <p:cNvGrpSpPr/>
              <p:nvPr/>
            </p:nvGrpSpPr>
            <p:grpSpPr>
              <a:xfrm>
                <a:off x="4614840" y="2682720"/>
                <a:ext cx="94320" cy="86760"/>
                <a:chOff x="4614840" y="2682720"/>
                <a:chExt cx="94320" cy="86760"/>
              </a:xfrm>
            </p:grpSpPr>
            <p:pic>
              <p:nvPicPr>
                <p:cNvPr id="15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4620960" y="2682720"/>
                  <a:ext cx="88200" cy="8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4614840" y="2682720"/>
                  <a:ext cx="88560" cy="86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56" name="" descr=""/>
              <p:cNvPicPr/>
              <p:nvPr/>
            </p:nvPicPr>
            <p:blipFill>
              <a:blip r:embed="rId23"/>
              <a:srcRect l="-24752" t="-2439" r="0" b="0"/>
              <a:stretch/>
            </p:blipFill>
            <p:spPr>
              <a:xfrm>
                <a:off x="4802040" y="2822400"/>
                <a:ext cx="36360" cy="43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"/>
            <p:cNvGrpSpPr/>
            <p:nvPr/>
          </p:nvGrpSpPr>
          <p:grpSpPr>
            <a:xfrm>
              <a:off x="4732200" y="2639880"/>
              <a:ext cx="70560" cy="74520"/>
              <a:chOff x="4732200" y="2639880"/>
              <a:chExt cx="70560" cy="74520"/>
            </a:xfrm>
          </p:grpSpPr>
          <p:pic>
            <p:nvPicPr>
              <p:cNvPr id="15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755600" y="2653920"/>
                <a:ext cx="47160" cy="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25"/>
              <a:srcRect l="0" t="-24752" r="0" b="0"/>
              <a:stretch/>
            </p:blipFill>
            <p:spPr>
              <a:xfrm>
                <a:off x="4732200" y="2639880"/>
                <a:ext cx="64440" cy="3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0" name=""/>
            <p:cNvGrpSpPr/>
            <p:nvPr/>
          </p:nvGrpSpPr>
          <p:grpSpPr>
            <a:xfrm>
              <a:off x="4647960" y="2529000"/>
              <a:ext cx="166320" cy="239040"/>
              <a:chOff x="4647960" y="2529000"/>
              <a:chExt cx="166320" cy="239040"/>
            </a:xfrm>
          </p:grpSpPr>
          <p:pic>
            <p:nvPicPr>
              <p:cNvPr id="16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647960" y="2530080"/>
                <a:ext cx="1663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55880" y="2529000"/>
                <a:ext cx="158040" cy="236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" name=""/>
            <p:cNvGrpSpPr/>
            <p:nvPr/>
          </p:nvGrpSpPr>
          <p:grpSpPr>
            <a:xfrm>
              <a:off x="4660920" y="2620800"/>
              <a:ext cx="160920" cy="164880"/>
              <a:chOff x="4660920" y="2620800"/>
              <a:chExt cx="160920" cy="164880"/>
            </a:xfrm>
          </p:grpSpPr>
          <p:pic>
            <p:nvPicPr>
              <p:cNvPr id="164" name="" descr=""/>
              <p:cNvPicPr/>
              <p:nvPr/>
            </p:nvPicPr>
            <p:blipFill>
              <a:blip r:embed="rId28"/>
              <a:srcRect l="0" t="-24752" r="0" b="0"/>
              <a:stretch/>
            </p:blipFill>
            <p:spPr>
              <a:xfrm>
                <a:off x="4660920" y="2620800"/>
                <a:ext cx="156240" cy="3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4749120" y="2647800"/>
                <a:ext cx="72720" cy="13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"/>
            <p:cNvGrpSpPr/>
            <p:nvPr/>
          </p:nvGrpSpPr>
          <p:grpSpPr>
            <a:xfrm>
              <a:off x="4765680" y="2624040"/>
              <a:ext cx="80280" cy="63360"/>
              <a:chOff x="4765680" y="2624040"/>
              <a:chExt cx="80280" cy="633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765680" y="2626920"/>
                <a:ext cx="64800" cy="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787640" y="2624040"/>
                <a:ext cx="47160" cy="5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792320" y="2625480"/>
                <a:ext cx="53640" cy="4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766760" y="2628720"/>
                <a:ext cx="52200" cy="5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4773240" y="2625480"/>
                <a:ext cx="51840" cy="60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2" name=""/>
          <p:cNvSpPr/>
          <p:nvPr/>
        </p:nvSpPr>
        <p:spPr>
          <a:xfrm>
            <a:off x="4343400" y="1996920"/>
            <a:ext cx="1523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pace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28600" y="992160"/>
            <a:ext cx="852480" cy="819360"/>
            <a:chOff x="228600" y="992160"/>
            <a:chExt cx="852480" cy="819360"/>
          </a:xfrm>
        </p:grpSpPr>
        <p:sp>
          <p:nvSpPr>
            <p:cNvPr id="174" name=""/>
            <p:cNvSpPr/>
            <p:nvPr/>
          </p:nvSpPr>
          <p:spPr>
            <a:xfrm>
              <a:off x="228600" y="992160"/>
              <a:ext cx="207720" cy="198360"/>
            </a:xfrm>
            <a:prstGeom prst="rect">
              <a:avLst/>
            </a:prstGeom>
            <a:solidFill>
              <a:srgbClr val="ffff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0040" y="1274760"/>
              <a:ext cx="208080" cy="200160"/>
            </a:xfrm>
            <a:prstGeom prst="rect">
              <a:avLst/>
            </a:prstGeom>
            <a:solidFill>
              <a:srgbClr val="9efe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280" y="1577880"/>
              <a:ext cx="208080" cy="200160"/>
            </a:xfrm>
            <a:prstGeom prst="rect">
              <a:avLst/>
            </a:prstGeom>
            <a:solidFill>
              <a:srgbClr val="a7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4760" y="993600"/>
              <a:ext cx="61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AS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0440" y="1271520"/>
              <a:ext cx="44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6760" y="156528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NOA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733920" y="2876400"/>
            <a:ext cx="2028600" cy="1517760"/>
            <a:chOff x="3733920" y="2876400"/>
            <a:chExt cx="2028600" cy="1517760"/>
          </a:xfrm>
        </p:grpSpPr>
        <p:sp>
          <p:nvSpPr>
            <p:cNvPr id="181" name=""/>
            <p:cNvSpPr/>
            <p:nvPr/>
          </p:nvSpPr>
          <p:spPr>
            <a:xfrm>
              <a:off x="3733920" y="2876400"/>
              <a:ext cx="2028600" cy="762120"/>
            </a:xfrm>
            <a:prstGeom prst="rect">
              <a:avLst/>
            </a:prstGeom>
            <a:gradFill rotWithShape="0">
              <a:gsLst>
                <a:gs pos="0">
                  <a:srgbClr val="9efeac"/>
                </a:gs>
                <a:gs pos="100000">
                  <a:srgbClr val="87da93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ommand, Control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ommunication 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(C3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33920" y="3632040"/>
              <a:ext cx="2028600" cy="762120"/>
            </a:xfrm>
            <a:prstGeom prst="rect">
              <a:avLst/>
            </a:prstGeom>
            <a:gradFill rotWithShape="0">
              <a:gsLst>
                <a:gs pos="0">
                  <a:srgbClr val="9efeac"/>
                </a:gs>
                <a:gs pos="100000">
                  <a:srgbClr val="87da93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age Miss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age Satellite Oper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ace/Ground Commun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 Routing &amp; Retriev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800280" y="1873080"/>
            <a:ext cx="2057400" cy="1212840"/>
            <a:chOff x="800280" y="1873080"/>
            <a:chExt cx="2057400" cy="1212840"/>
          </a:xfrm>
        </p:grpSpPr>
        <p:sp>
          <p:nvSpPr>
            <p:cNvPr id="184" name=""/>
            <p:cNvSpPr/>
            <p:nvPr/>
          </p:nvSpPr>
          <p:spPr>
            <a:xfrm>
              <a:off x="800280" y="1873080"/>
              <a:ext cx="2057400" cy="762120"/>
            </a:xfrm>
            <a:prstGeom prst="rect">
              <a:avLst/>
            </a:prstGeom>
            <a:gradFill rotWithShape="0">
              <a:gsLst>
                <a:gs pos="0">
                  <a:srgbClr val="ffff9d"/>
                </a:gs>
                <a:gs pos="100000">
                  <a:srgbClr val="dada8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Launch Suppor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gment (LS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0280" y="2628720"/>
              <a:ext cx="2057400" cy="457200"/>
            </a:xfrm>
            <a:prstGeom prst="rect">
              <a:avLst/>
            </a:prstGeom>
            <a:gradFill rotWithShape="0">
              <a:gsLst>
                <a:gs pos="0">
                  <a:srgbClr val="ffff9d"/>
                </a:gs>
                <a:gs pos="100000">
                  <a:srgbClr val="c1c17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unch vehi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unch Sup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yload Processing sup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35"/>
          <a:srcRect l="0" t="17041" r="0" b="25561"/>
          <a:stretch/>
        </p:blipFill>
        <p:spPr>
          <a:xfrm>
            <a:off x="4038480" y="700200"/>
            <a:ext cx="3144960" cy="1674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371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716880" y="1654200"/>
            <a:ext cx="1982520" cy="1291680"/>
            <a:chOff x="6716880" y="1654200"/>
            <a:chExt cx="1982520" cy="1291680"/>
          </a:xfrm>
        </p:grpSpPr>
        <p:sp>
          <p:nvSpPr>
            <p:cNvPr id="189" name=""/>
            <p:cNvSpPr/>
            <p:nvPr/>
          </p:nvSpPr>
          <p:spPr>
            <a:xfrm>
              <a:off x="6718320" y="1958760"/>
              <a:ext cx="1981080" cy="555120"/>
            </a:xfrm>
            <a:prstGeom prst="rect">
              <a:avLst/>
            </a:prstGeom>
            <a:gradFill rotWithShape="0">
              <a:gsLst>
                <a:gs pos="0">
                  <a:srgbClr val="ffff9d"/>
                </a:gs>
                <a:gs pos="100000">
                  <a:srgbClr val="dada8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18320" y="1654200"/>
              <a:ext cx="1981080" cy="304560"/>
            </a:xfrm>
            <a:prstGeom prst="rect">
              <a:avLst/>
            </a:prstGeom>
            <a:gradFill rotWithShape="0">
              <a:gsLst>
                <a:gs pos="0">
                  <a:srgbClr val="ffff9d"/>
                </a:gs>
                <a:gs pos="100000">
                  <a:srgbClr val="dada8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pace 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16880" y="1933200"/>
              <a:ext cx="190476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acecraf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18320" y="2489040"/>
              <a:ext cx="1981080" cy="456840"/>
            </a:xfrm>
            <a:prstGeom prst="rect">
              <a:avLst/>
            </a:prstGeom>
            <a:gradFill rotWithShape="0">
              <a:gsLst>
                <a:gs pos="0">
                  <a:srgbClr val="9efeac"/>
                </a:gs>
                <a:gs pos="100000">
                  <a:srgbClr val="77c08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I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M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H="1" flipV="1">
            <a:off x="5791320" y="5423760"/>
            <a:ext cx="1676160" cy="34308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240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841400" y="4763520"/>
            <a:ext cx="1879560" cy="100332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240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12880" y="4054320"/>
            <a:ext cx="2004840" cy="1365120"/>
            <a:chOff x="812880" y="4054320"/>
            <a:chExt cx="2004840" cy="1365120"/>
          </a:xfrm>
        </p:grpSpPr>
        <p:sp>
          <p:nvSpPr>
            <p:cNvPr id="196" name=""/>
            <p:cNvSpPr/>
            <p:nvPr/>
          </p:nvSpPr>
          <p:spPr>
            <a:xfrm>
              <a:off x="812880" y="4054320"/>
              <a:ext cx="2004840" cy="774720"/>
            </a:xfrm>
            <a:prstGeom prst="rect">
              <a:avLst/>
            </a:prstGeom>
            <a:gradFill rotWithShape="0">
              <a:gsLst>
                <a:gs pos="0">
                  <a:srgbClr val="9efeac"/>
                </a:gs>
                <a:gs pos="100000">
                  <a:srgbClr val="77c08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Interface Data Proce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gment (ID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2880" y="4803480"/>
              <a:ext cx="2004840" cy="615960"/>
            </a:xfrm>
            <a:prstGeom prst="rect">
              <a:avLst/>
            </a:prstGeom>
            <a:gradFill rotWithShape="0">
              <a:gsLst>
                <a:gs pos="0">
                  <a:srgbClr val="9efeac"/>
                </a:gs>
                <a:gs pos="100000">
                  <a:srgbClr val="77c082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est and validate raw SM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cess RDRs, SDRs, ED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form operations cal pro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tribute data recor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733920" y="4925880"/>
            <a:ext cx="2028600" cy="1228680"/>
            <a:chOff x="3733920" y="4925880"/>
            <a:chExt cx="2028600" cy="1228680"/>
          </a:xfrm>
        </p:grpSpPr>
        <p:sp>
          <p:nvSpPr>
            <p:cNvPr id="199" name=""/>
            <p:cNvSpPr/>
            <p:nvPr/>
          </p:nvSpPr>
          <p:spPr>
            <a:xfrm>
              <a:off x="3733920" y="4925880"/>
              <a:ext cx="2028600" cy="761760"/>
            </a:xfrm>
            <a:prstGeom prst="rect">
              <a:avLst/>
            </a:prstGeom>
            <a:gradFill rotWithShape="0">
              <a:gsLst>
                <a:gs pos="0">
                  <a:srgbClr val="a7e8ff"/>
                </a:gs>
                <a:gs pos="100000">
                  <a:srgbClr val="8fc7d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rchive &amp; Distrib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gment (AD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33920" y="5697360"/>
              <a:ext cx="2028600" cy="457200"/>
            </a:xfrm>
            <a:prstGeom prst="rect">
              <a:avLst/>
            </a:prstGeom>
            <a:gradFill rotWithShape="0">
              <a:gsLst>
                <a:gs pos="0">
                  <a:srgbClr val="a7e8ff"/>
                </a:gs>
                <a:gs pos="100000">
                  <a:srgbClr val="8fc7d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est &amp; validate data recor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age arch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face with 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480000" y="4051440"/>
            <a:ext cx="2028600" cy="1371600"/>
            <a:chOff x="6480000" y="4051440"/>
            <a:chExt cx="2028600" cy="1371600"/>
          </a:xfrm>
        </p:grpSpPr>
        <p:sp>
          <p:nvSpPr>
            <p:cNvPr id="202" name=""/>
            <p:cNvSpPr/>
            <p:nvPr/>
          </p:nvSpPr>
          <p:spPr>
            <a:xfrm>
              <a:off x="6480000" y="4051440"/>
              <a:ext cx="2028600" cy="761760"/>
            </a:xfrm>
            <a:prstGeom prst="rect">
              <a:avLst/>
            </a:prstGeom>
            <a:gradFill rotWithShape="0">
              <a:gsLst>
                <a:gs pos="0">
                  <a:srgbClr val="ffff9d"/>
                </a:gs>
                <a:gs pos="100000">
                  <a:srgbClr val="dada8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cien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gment (SD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0000" y="4813200"/>
              <a:ext cx="2028600" cy="609840"/>
            </a:xfrm>
            <a:prstGeom prst="rect">
              <a:avLst/>
            </a:prstGeom>
            <a:gradFill rotWithShape="0">
              <a:gsLst>
                <a:gs pos="0">
                  <a:srgbClr val="ffff9d"/>
                </a:gs>
                <a:gs pos="100000">
                  <a:srgbClr val="dada8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9396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est and validate RD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port Climate Re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523880" y="5423040"/>
            <a:ext cx="6324480" cy="838080"/>
            <a:chOff x="1523880" y="5423040"/>
            <a:chExt cx="6324480" cy="838080"/>
          </a:xfrm>
        </p:grpSpPr>
        <p:sp>
          <p:nvSpPr>
            <p:cNvPr id="205" name=""/>
            <p:cNvSpPr/>
            <p:nvPr/>
          </p:nvSpPr>
          <p:spPr>
            <a:xfrm flipV="1">
              <a:off x="1523880" y="5422680"/>
              <a:ext cx="6324480" cy="838080"/>
            </a:xfrm>
            <a:custGeom>
              <a:avLst/>
              <a:gdLst/>
              <a:ahLst/>
              <a:rect l="l" t="t" r="r" b="b"/>
              <a:pathLst>
                <a:path w="1632" h="240">
                  <a:moveTo>
                    <a:pt x="0" y="240"/>
                  </a:moveTo>
                  <a:lnTo>
                    <a:pt x="0" y="0"/>
                  </a:lnTo>
                  <a:lnTo>
                    <a:pt x="163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7829280" y="542304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969160" y="3378240"/>
            <a:ext cx="3124080" cy="2997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2320" y="3695760"/>
            <a:ext cx="1849680" cy="34776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240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040" y="3479760"/>
            <a:ext cx="126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PP CCS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lication Pack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7ECF-6C57-464B-83F6-8048E96C70A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S Mission 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PP SDS is intended to be a research tool for the purposes of facilitating prototype elements for the future Earth Science Enterprise distributed sciences data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PP SDS assess EDRs for climate qualit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PP SDS can provide Algorithm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DS is a distributed architecture with 5 functionally independent elements called Product Evaluation &amp; Algorithm Tool Elements (PEATEs) centered around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ean, Land, Atmosphere, Ozone, and Soun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DS PEATEs support the Cal/Val activities in processing selected data subs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21BAE-0852-40B1-8AC0-3C332225B2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78280" y="39099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62120" y="774720"/>
            <a:ext cx="1498680" cy="4030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2120" y="22320"/>
            <a:ext cx="7470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SA’s Science Data Segment (SDS) Provid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Bed for xDR Analy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400" y="3639960"/>
            <a:ext cx="1485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O / ID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9400" y="2852640"/>
            <a:ext cx="1485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 /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4320" y="3909960"/>
            <a:ext cx="5461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16000" y="3267000"/>
            <a:ext cx="51300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99840" y="3639960"/>
            <a:ext cx="64044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D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66440" y="2793960"/>
            <a:ext cx="64044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D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90720" y="2409840"/>
            <a:ext cx="1059120" cy="709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D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62520" y="752400"/>
            <a:ext cx="1574640" cy="947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56040" y="1789200"/>
            <a:ext cx="1575000" cy="9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86040" y="3525840"/>
            <a:ext cx="1057320" cy="73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/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63960" y="1212120"/>
            <a:ext cx="1568520" cy="285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PP P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38760" y="782640"/>
            <a:ext cx="16635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: GSFC Oc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26160" y="1793880"/>
            <a:ext cx="166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: Land MOD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63960" y="2337840"/>
            <a:ext cx="1568520" cy="285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PP P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65760" y="2789280"/>
            <a:ext cx="1574640" cy="9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43440" y="2798640"/>
            <a:ext cx="166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: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 Wiscon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3680" y="3342600"/>
            <a:ext cx="1568520" cy="285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PP P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83040" y="3809880"/>
            <a:ext cx="1575000" cy="947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61080" y="3807000"/>
            <a:ext cx="166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: 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S/OMI S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90960" y="4350600"/>
            <a:ext cx="1568520" cy="285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PP P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83040" y="4840200"/>
            <a:ext cx="1575000" cy="947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61080" y="4836960"/>
            <a:ext cx="16635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: Sounder. J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90960" y="5393880"/>
            <a:ext cx="1568520" cy="285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PP P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1328760"/>
            <a:ext cx="804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38480" y="2479680"/>
            <a:ext cx="804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87840" y="5519880"/>
            <a:ext cx="35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68680" y="6332400"/>
            <a:ext cx="441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4554360" y="4216320"/>
            <a:ext cx="14400" cy="131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478400" y="4538160"/>
            <a:ext cx="1440" cy="179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059000" y="4224240"/>
            <a:ext cx="4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038480" y="4537080"/>
            <a:ext cx="441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20000" y="406440"/>
            <a:ext cx="1968480" cy="6197400"/>
          </a:xfrm>
          <a:prstGeom prst="rect">
            <a:avLst/>
          </a:prstGeom>
          <a:solidFill>
            <a:srgbClr val="5f9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02360" y="436680"/>
            <a:ext cx="2286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NPP Science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438600" y="1181160"/>
            <a:ext cx="431640" cy="127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6400800" y="2425320"/>
            <a:ext cx="520560" cy="120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6400440" y="4495680"/>
            <a:ext cx="72396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426000" y="5498640"/>
            <a:ext cx="4698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08600" y="5932440"/>
            <a:ext cx="1574640" cy="77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86280" y="5904000"/>
            <a:ext cx="166392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 Science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10040" y="6288120"/>
            <a:ext cx="1571760" cy="328680"/>
          </a:xfrm>
          <a:prstGeom prst="rect">
            <a:avLst/>
          </a:prstGeom>
          <a:solidFill>
            <a:srgbClr val="5f8b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3440" y="6559560"/>
            <a:ext cx="4194000" cy="2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23760" bIns="-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12800" y="4317480"/>
            <a:ext cx="0" cy="224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463800" y="6515280"/>
            <a:ext cx="559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98640" y="1295280"/>
            <a:ext cx="1059120" cy="709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56120" y="34909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9400" y="927000"/>
            <a:ext cx="333360" cy="36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6160" y="1011240"/>
            <a:ext cx="12942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DS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14920" y="4516560"/>
            <a:ext cx="23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707000" y="3924000"/>
            <a:ext cx="0" cy="61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02440" y="819000"/>
            <a:ext cx="178596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McClain, Char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ang, Mengh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Minnett, Pe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Justice, Christop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Loveland, Thom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Lyapustin, Alexe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Maslanik, Jam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Privette, Jeffr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Ranson, J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chaaf, Crys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Vermote, Er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Wolfe, Robe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Baum, Bry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Han, Qingyu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Menzel, Pau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tamnes, Kn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Torres, Om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McPeters, Rich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Pagano, Thomas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ishbein, E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Revercomb, Hen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Lambrigtsen, Bjor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taelin, Dav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trow, Larrab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21360" y="1650960"/>
            <a:ext cx="241560" cy="1854360"/>
          </a:xfrm>
          <a:custGeom>
            <a:avLst/>
            <a:gdLst>
              <a:gd name="textAreaLeft" fmla="*/ 154440 w 241560"/>
              <a:gd name="textAreaRight" fmla="*/ 241920 w 241560"/>
              <a:gd name="textAreaTop" fmla="*/ 48240 h 1854360"/>
              <a:gd name="textAreaBottom" fmla="*/ 1806120 h 18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83560" y="3657600"/>
            <a:ext cx="241200" cy="990720"/>
          </a:xfrm>
          <a:custGeom>
            <a:avLst/>
            <a:gdLst>
              <a:gd name="textAreaLeft" fmla="*/ 154080 w 241200"/>
              <a:gd name="textAreaRight" fmla="*/ 241560 w 241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27"/>
                </a:lnTo>
                <a:cubicBezTo>
                  <a:pt x="10800" y="8827"/>
                  <a:pt x="5400" y="9727"/>
                  <a:pt x="0" y="9727"/>
                </a:cubicBezTo>
                <a:cubicBezTo>
                  <a:pt x="5400" y="9727"/>
                  <a:pt x="10800" y="10627"/>
                  <a:pt x="10800" y="1152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5080" y="3473280"/>
            <a:ext cx="400320" cy="6098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83560" y="838080"/>
            <a:ext cx="285480" cy="603360"/>
          </a:xfrm>
          <a:custGeom>
            <a:avLst/>
            <a:gdLst>
              <a:gd name="textAreaLeft" fmla="*/ 182520 w 285480"/>
              <a:gd name="textAreaRight" fmla="*/ 285840 w 285480"/>
              <a:gd name="textAreaTop" fmla="*/ 15480 h 603360"/>
              <a:gd name="textAreaBottom" fmla="*/ 587880 h 60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55"/>
                </a:lnTo>
                <a:cubicBezTo>
                  <a:pt x="10800" y="10355"/>
                  <a:pt x="5400" y="11255"/>
                  <a:pt x="0" y="11255"/>
                </a:cubicBezTo>
                <a:cubicBezTo>
                  <a:pt x="5400" y="11255"/>
                  <a:pt x="10800" y="12155"/>
                  <a:pt x="10800" y="1305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5760" y="5160960"/>
            <a:ext cx="241200" cy="1354320"/>
          </a:xfrm>
          <a:custGeom>
            <a:avLst/>
            <a:gdLst>
              <a:gd name="textAreaLeft" fmla="*/ 154080 w 241200"/>
              <a:gd name="textAreaRight" fmla="*/ 241560 w 241200"/>
              <a:gd name="textAreaTop" fmla="*/ 35280 h 1354320"/>
              <a:gd name="textAreaBottom" fmla="*/ 1319040 h 135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27"/>
                </a:lnTo>
                <a:cubicBezTo>
                  <a:pt x="10800" y="8827"/>
                  <a:pt x="5400" y="9727"/>
                  <a:pt x="0" y="9727"/>
                </a:cubicBezTo>
                <a:cubicBezTo>
                  <a:pt x="5400" y="9727"/>
                  <a:pt x="10800" y="10627"/>
                  <a:pt x="10800" y="1152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3360" y="4944960"/>
            <a:ext cx="36565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mate Analysis Research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A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 Evaluation &amp;Test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0F14-061A-4A28-A05B-4CA464BBE6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S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94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3E – SDS Data Delivery &amp; Depository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s acquisition and temporary storage of data from NOAA/CLASS and ID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ble of storing up to ~32 days of NPP xDR data in a “rolling storage” for pick-up by PEATEs and the NIC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 Network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&amp;TSE – Integration and Test System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ini-Version of the IDPS for purpose of demonstrating algorithm enhancements and / or calibration improv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Product Gene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OE - Project Science Office Elem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management direction and science guidance to the SDS Elemen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s algorithm and calibration recommendations for submission to the NPP/NPOESS Algorithm CCB (TBR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A9E0A-63F3-44CA-A3A6-7182A37DDE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S Elements (Cont’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5520" y="1146240"/>
            <a:ext cx="80946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ATE – Product Evaluation and Algorithm Test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s EDR Evaluation / Characterization and algorithm improvements coordinated with  External Science Investigators, and Science Team, and NICSE (for Land, Ocean, &amp; Atmosphere PEATES)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ve PEATE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cean Colo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zon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n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SE - NPP Instrument Calibration Support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s assessing and validating pre-launch and post-launch radiometric and geometric characterization and calibration assessment of VIIRS instrument dat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CC40-72A4-4BE7-AAC1-E5D005B03C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06080" y="97920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 Lau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, adapt and integrate operational SDR and EDR processing software into processing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functional testing of operational co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 and manage various preflight instrument characterization data sets provide to 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Interface Confidence Tests, Functional Thread Tests and NPP Compatibility T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(as needed) generation of test data sets for software and algorithm tes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0240" y="99180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t Lau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 all RDRS, selected SDRs, EDRs and ancillar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RDRs to SDRs and ED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operational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alternative calibration LU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DRs to EDRs using revised or alternative algorithms, as directed by 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browse and distribution of locally generated xDRs to 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matchups and evaluation of EDRs with other Mission Data, e.g., MODIS, SeaB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R Evaluation for Long-term st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C4BF-A303-4109-AABD-EB4D5D1BD8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84160" y="38160"/>
            <a:ext cx="78073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44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SA’s NPP Scienc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7600" y="990720"/>
            <a:ext cx="810720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ience Team (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3 PIs (SDRs and EDRs)  chosen by peer-review NRA selec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r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212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e operational xDRs for use in climat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212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 improvements to operational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212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termine path forward for climate-quality products from NPP/NPOESS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ject Science Group (PSG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~11 member contractor/university staff – NPP Project supp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rect Broadcast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212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. Coron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 NASA instrument scient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PP Instrument Characterization Support Team (NIC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 persons, growing role as instruments m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212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360" y="5799240"/>
            <a:ext cx="83818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http://nppwww.gsfc.nasa.gov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2CDE-A5C4-452E-B1CB-628BC3BB7A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’s Measurement Based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ean Col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OS to NPP Transition Sensors and Data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P Contribution to the NASA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P Science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Differences between EOS and NPP Operational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C3C9-F85E-4287-A575-BCE5C87F6B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280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OS to NPP Principal Differen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60" y="1069560"/>
            <a:ext cx="883908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 Dif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IRS has no TIR bands beyond 13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ternate cloud top algorithms develop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IRS thermal band range limita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ent detection of small/medium fires in some cases, and characterization (area, temperature) of large/hot fi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lo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 algorithms require precise geolocation infor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PP and NPOESS will be approximately 2X and 3X worse than MODIS, respective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 Implementation Dif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ncy (the need for speed) may influence processing implementations not considered for E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gorithm versions in the operational system may not be in sync with the latest EOS ver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data and quality information may be differ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ral key EOS biophysical products such as LAI, FPAR, burn scar, detection are beyond NPOESS sco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higher than level 2 is beyond NPOESS sco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ocessing is beyond NPOESS sco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88F1-18F6-4AF5-B37A-FEE0D2BF75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760" y="75960"/>
            <a:ext cx="84837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P Science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44080" y="1033200"/>
            <a:ext cx="8688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P has no traditional NASA “Science” Cha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 and Science processing performed by C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P facilitates the use of NPOESS data by funding PEATES within the S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S is a research tool used to assess climate data quality of ED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P Science Team will assess EDR algorithms and sensor developments for climate study suitability and advise Project &amp; Program Scient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P Science Team will work through the Operational Algorithm Teams (OATs) to provide potential algorithm updates for NPO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8F61-B5A2-4372-8566-91F4C7D877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P Orig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2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P is a joint partnership between NASA’s Science Mission Directorate (formerly the Office of Earth Sciences (OES)) and the NPOESS Integrated Program Office (IPO) initiated in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sibility study began in November 199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ion began in November 199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A Confirmation Review completed in November 20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rtnership provides both organizations with considerable cost savings while achieving their key program objective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provide NASA with continuation of a group of global change observations initiated by the Earth Observing System (EOS) TERRA, AQUA, and Aura mis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provide the NPOESS operational community with pre-operational risk reduction demonstration and validation for selected NPOESS instruments, and algorithms, as well as the ground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45FB-2286-4D2B-B30A-E1899AE180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480" y="47520"/>
            <a:ext cx="84834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P in NASA’s Future Data Proc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114200"/>
            <a:ext cx="87962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PP Science Charter is to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inue the scientific data record started in the EOS er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 is moving toward “Measurement-based”, not “Mission-based,” science and data processing tea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ng done by a Climate Analysis Research System (CA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P is the first post-EOS mission to have this new science data processing strategy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P data products will be produced by NPOESS data processing system (ID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P data products will be archived by NOAA (CLASS/LTA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P data products will be assessed for science data quality at the NASA Science Data Segment (SD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P EDR assessment will be done by the NPP Science Tea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S is part of science-discipline-based, community algorithm science data processing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9E7A-EE83-4125-8035-3719A8F074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06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/requires existing expertise and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expense &amp; start-up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handling of multiple data sets simultaneous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limited to mission-specific requirements and object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flexibility to support discipline scienc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s, algorithms, formats, gridding, reprocessing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es strong link between flight projects &amp; science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discipline teams responsive/accountable to the flight project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41400" y="5549760"/>
            <a:ext cx="701820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kia"/>
              </a:rPr>
              <a:t>Best approach for CDR generation/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ipline Processing Ration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295280"/>
            <a:ext cx="838188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kia"/>
              </a:rPr>
              <a:t>Distributed Science-led Geophysical Product Generation/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454B-5163-4BC3-B564-92F8D4F2CC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7320" y="152280"/>
            <a:ext cx="836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FC Ocean Color Program Background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ng History of Achie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840" y="121752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mbus-7 Coastal Zone Color Scanner (1978-198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borne Oceanographic Lidar (mid-1970’s-pres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 Processing &amp; Analysis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PAK (1982-1991); SeaDAS (1991- pres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mbus-7/Coastal Zone Color Scanner Global Reprocessing      (1985-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S &amp; MODIS Ocean Team (1989-presen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WiFS Project (1991-pres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or Intercomparison &amp; Merger for Biological &amp;    Interdisciplinary Ocean Studies Project (SIMBIOS; 1996-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Color Climate Data Record (CDR) Development      (REASoN-CAN; recent se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 NPP Science Team (VIIRS ocean color, recent se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ated as NASA’s Ocean Color Discipline Group and      assumed responsibility for MODIS Ocean Color Processing                    (Feb. 1,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C82D1-856A-44B5-B76E-364E4DC41F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1480" y="2490840"/>
            <a:ext cx="6637680" cy="2251080"/>
          </a:xfrm>
          <a:prstGeom prst="roundRect">
            <a:avLst>
              <a:gd name="adj" fmla="val 5995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595600"/>
            <a:ext cx="3957840" cy="2036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78240" y="302112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MAIN PROCESS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ata from multiple satellite and instrument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-situ, ancillary, and oth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2286000"/>
            <a:ext cx="876240" cy="1332000"/>
          </a:xfrm>
          <a:custGeom>
            <a:avLst/>
            <a:gdLst>
              <a:gd name="textAreaLeft" fmla="*/ 42480 w 876240"/>
              <a:gd name="textAreaRight" fmla="*/ 833760 w 876240"/>
              <a:gd name="textAreaTop" fmla="*/ 42480 h 1332000"/>
              <a:gd name="textAreaBottom" fmla="*/ 1289520 h 1332000"/>
            </a:gdLst>
            <a:ahLst/>
            <a:rect l="textAreaLeft" t="textAreaTop" r="textAreaRight" b="textAreaBottom"/>
            <a:pathLst>
              <a:path w="21600" h="32830">
                <a:moveTo>
                  <a:pt x="3600" y="0"/>
                </a:moveTo>
                <a:arcTo wR="3600" hR="3600" stAng="16200000" swAng="-5400000"/>
                <a:lnTo>
                  <a:pt x="0" y="29230"/>
                </a:lnTo>
                <a:arcTo wR="3600" hR="3600" stAng="10800000" swAng="-5400000"/>
                <a:lnTo>
                  <a:pt x="18000" y="3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2895480"/>
            <a:ext cx="1033200" cy="590760"/>
          </a:xfrm>
          <a:prstGeom prst="leftRightArrow">
            <a:avLst>
              <a:gd name="adj1" fmla="val 50000"/>
              <a:gd name="adj2" fmla="val 34816"/>
            </a:avLst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2800" y="2673360"/>
            <a:ext cx="1525680" cy="1984320"/>
          </a:xfrm>
          <a:custGeom>
            <a:avLst/>
            <a:gdLst>
              <a:gd name="textAreaLeft" fmla="*/ 74160 w 1525680"/>
              <a:gd name="textAreaRight" fmla="*/ 1451520 w 1525680"/>
              <a:gd name="textAreaTop" fmla="*/ 74160 h 1984320"/>
              <a:gd name="textAreaBottom" fmla="*/ 1910160 h 198432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Multiple Miss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pid Reproces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arallel Proces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Streams (operational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algorithm &amp; cali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ration testing, eval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uation product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8760" y="2617920"/>
            <a:ext cx="1434960" cy="2027160"/>
          </a:xfrm>
          <a:custGeom>
            <a:avLst/>
            <a:gdLst>
              <a:gd name="textAreaLeft" fmla="*/ 69840 w 1434960"/>
              <a:gd name="textAreaRight" fmla="*/ 1365120 w 1434960"/>
              <a:gd name="textAreaTop" fmla="*/ 69840 h 2027160"/>
              <a:gd name="textAreaBottom" fmla="*/ 1957320 h 2027160"/>
            </a:gdLst>
            <a:ahLst/>
            <a:rect l="textAreaLeft" t="textAreaTop" r="textAreaRight" b="textAreaBottom"/>
            <a:pathLst>
              <a:path w="21600" h="30512">
                <a:moveTo>
                  <a:pt x="3600" y="0"/>
                </a:moveTo>
                <a:arcTo wR="3600" hR="3600" stAng="16200000" swAng="-5400000"/>
                <a:lnTo>
                  <a:pt x="0" y="26912"/>
                </a:lnTo>
                <a:arcTo wR="3600" hR="3600" stAng="10800000" swAng="-5400000"/>
                <a:lnTo>
                  <a:pt x="18000" y="30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Knowledgeable Staf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Enabling Activi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(SeaBASS, SeaDA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Calibration RR, etc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9320" y="4452840"/>
            <a:ext cx="4273560" cy="297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OBPG  Management &amp;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62240" y="487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6120" y="2408400"/>
            <a:ext cx="6535800" cy="29664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Reconfigurable &amp; Sca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0560" y="2357280"/>
            <a:ext cx="838080" cy="667080"/>
          </a:xfrm>
          <a:prstGeom prst="downArrowCallout">
            <a:avLst>
              <a:gd name="adj1" fmla="val 31411"/>
              <a:gd name="adj2" fmla="val 31409"/>
              <a:gd name="adj3" fmla="val 16667"/>
              <a:gd name="adj4" fmla="val 6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ZCS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2209680"/>
            <a:ext cx="876600" cy="666720"/>
          </a:xfrm>
          <a:prstGeom prst="downArrowCallout">
            <a:avLst>
              <a:gd name="adj1" fmla="val 32873"/>
              <a:gd name="adj2" fmla="val 32870"/>
              <a:gd name="adj3" fmla="val 16667"/>
              <a:gd name="adj4" fmla="val 66667"/>
            </a:avLst>
          </a:prstGeom>
          <a:gradFill rotWithShape="0">
            <a:gsLst>
              <a:gs pos="0">
                <a:srgbClr val="33cccc"/>
              </a:gs>
              <a:gs pos="100000">
                <a:srgbClr val="ffcc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W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2057400"/>
            <a:ext cx="762120" cy="744480"/>
          </a:xfrm>
          <a:prstGeom prst="downArrowCallout">
            <a:avLst>
              <a:gd name="adj1" fmla="val 25595"/>
              <a:gd name="adj2" fmla="val 25592"/>
              <a:gd name="adj3" fmla="val 16667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1905120"/>
            <a:ext cx="655560" cy="666720"/>
          </a:xfrm>
          <a:prstGeom prst="downArrowCallout">
            <a:avLst>
              <a:gd name="adj1" fmla="val 25002"/>
              <a:gd name="adj2" fmla="val 25000"/>
              <a:gd name="adj3" fmla="val 16950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q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1752480"/>
            <a:ext cx="771480" cy="666720"/>
          </a:xfrm>
          <a:prstGeom prst="downArrowCallout">
            <a:avLst>
              <a:gd name="adj1" fmla="val 28931"/>
              <a:gd name="adj2" fmla="val 28928"/>
              <a:gd name="adj3" fmla="val 16667"/>
              <a:gd name="adj4" fmla="val 6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4800600"/>
            <a:ext cx="1219320" cy="1208160"/>
          </a:xfrm>
          <a:prstGeom prst="upArrowCallout">
            <a:avLst>
              <a:gd name="adj1" fmla="val 25233"/>
              <a:gd name="adj2" fmla="val 25231"/>
              <a:gd name="adj3" fmla="val 16667"/>
              <a:gd name="adj4" fmla="val 11950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4800600"/>
            <a:ext cx="1094040" cy="1211400"/>
          </a:xfrm>
          <a:prstGeom prst="upArrowCallout">
            <a:avLst>
              <a:gd name="adj1" fmla="val 25002"/>
              <a:gd name="adj2" fmla="val 25000"/>
              <a:gd name="adj3" fmla="val 18455"/>
              <a:gd name="adj4" fmla="val 11950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S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ight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4800600"/>
            <a:ext cx="1067040" cy="1270080"/>
          </a:xfrm>
          <a:prstGeom prst="upArrowCallout">
            <a:avLst>
              <a:gd name="adj1" fmla="val 24947"/>
              <a:gd name="adj2" fmla="val 21014"/>
              <a:gd name="adj3" fmla="val 18190"/>
              <a:gd name="adj4" fmla="val 1080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SA H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76" idx="0"/>
            <a:endCxn id="77" idx="0"/>
          </p:cNvCxnSpPr>
          <p:nvPr/>
        </p:nvCxnSpPr>
        <p:spPr>
          <a:xfrm flipH="1" flipV="1" rot="5400000">
            <a:off x="3938760" y="1819440"/>
            <a:ext cx="148320" cy="927720"/>
          </a:xfrm>
          <a:prstGeom prst="curvedConnector5">
            <a:avLst>
              <a:gd name="adj1" fmla="val 254744"/>
              <a:gd name="adj2" fmla="val 50000"/>
              <a:gd name="adj3" fmla="val 2547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9" idx="0"/>
            <a:endCxn id="80" idx="0"/>
          </p:cNvCxnSpPr>
          <p:nvPr/>
        </p:nvCxnSpPr>
        <p:spPr>
          <a:xfrm flipH="1" flipV="1" rot="5400000">
            <a:off x="6414480" y="1456920"/>
            <a:ext cx="153360" cy="743760"/>
          </a:xfrm>
          <a:prstGeom prst="curvedConnector5">
            <a:avLst>
              <a:gd name="adj1" fmla="val 249882"/>
              <a:gd name="adj2" fmla="val 49975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138320" y="274680"/>
            <a:ext cx="617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ean Biology Process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3280" y="4468680"/>
            <a:ext cx="1817640" cy="67644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Community Agr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Standards and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5181480"/>
            <a:ext cx="1614240" cy="914400"/>
          </a:xfrm>
          <a:prstGeom prst="upArrowCallout">
            <a:avLst>
              <a:gd name="adj1" fmla="val 44138"/>
              <a:gd name="adj2" fmla="val 44134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Situ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3962520"/>
            <a:ext cx="876240" cy="1331640"/>
          </a:xfrm>
          <a:custGeom>
            <a:avLst/>
            <a:gdLst>
              <a:gd name="textAreaLeft" fmla="*/ 42480 w 876240"/>
              <a:gd name="textAreaRight" fmla="*/ 833760 w 876240"/>
              <a:gd name="textAreaTop" fmla="*/ 42480 h 1331640"/>
              <a:gd name="textAreaBottom" fmla="*/ 1289160 h 1331640"/>
            </a:gdLst>
            <a:ahLst/>
            <a:rect l="textAreaLeft" t="textAreaTop" r="textAreaRight" b="textAreaBottom"/>
            <a:pathLst>
              <a:path w="21600" h="32821">
                <a:moveTo>
                  <a:pt x="3600" y="0"/>
                </a:moveTo>
                <a:arcTo wR="3600" hR="3600" stAng="16200000" swAng="-5400000"/>
                <a:lnTo>
                  <a:pt x="0" y="29221"/>
                </a:lnTo>
                <a:arcTo wR="3600" hR="3600" stAng="10800000" swAng="-5400000"/>
                <a:lnTo>
                  <a:pt x="18000" y="328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809880"/>
            <a:ext cx="1033200" cy="590760"/>
          </a:xfrm>
          <a:prstGeom prst="leftRightArrow">
            <a:avLst>
              <a:gd name="adj1" fmla="val 50000"/>
              <a:gd name="adj2" fmla="val 34816"/>
            </a:avLst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2440" y="30225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1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9440" y="396252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1-L3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800600"/>
            <a:ext cx="838440" cy="1208160"/>
          </a:xfrm>
          <a:prstGeom prst="upArrowCallout">
            <a:avLst>
              <a:gd name="adj1" fmla="val 25002"/>
              <a:gd name="adj2" fmla="val 25000"/>
              <a:gd name="adj3" fmla="val 24016"/>
              <a:gd name="adj4" fmla="val 11950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CST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6880" y="6248520"/>
            <a:ext cx="518724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MODIS Characterization Support Team (NASA/GSF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# Terra MODIS OC processing suspended in Jan.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77" idx="1"/>
            <a:endCxn id="79" idx="1"/>
          </p:cNvCxnSpPr>
          <p:nvPr/>
        </p:nvCxnSpPr>
        <p:spPr>
          <a:xfrm flipH="1" flipV="1" rot="5400000">
            <a:off x="5145480" y="1235520"/>
            <a:ext cx="305280" cy="1643760"/>
          </a:xfrm>
          <a:prstGeom prst="curvedConnector5">
            <a:avLst>
              <a:gd name="adj1" fmla="val 174970"/>
              <a:gd name="adj2" fmla="val 49989"/>
              <a:gd name="adj3" fmla="val 174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2979360" y="1585080"/>
            <a:ext cx="122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st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ASoN-C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9440" y="1218600"/>
            <a:ext cx="95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OS, ot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10920" y="1294560"/>
            <a:ext cx="6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P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1400" y="144720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et Catego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ing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10021" t="9140" r="7292" b="10060"/>
          <a:stretch/>
        </p:blipFill>
        <p:spPr>
          <a:xfrm>
            <a:off x="504720" y="928800"/>
            <a:ext cx="7939080" cy="5851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84960" y="196920"/>
            <a:ext cx="682164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ellite vs Ground-based Total Oz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094E-11D7-4E34-B8C6-08F02DAFFB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57800" y="3808440"/>
            <a:ext cx="3733920" cy="2590920"/>
          </a:xfrm>
          <a:prstGeom prst="rect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065240"/>
            <a:ext cx="3733920" cy="2590920"/>
          </a:xfrm>
          <a:prstGeom prst="rect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3480" y="162000"/>
            <a:ext cx="63180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zone: A True NASA/NOAA CD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38400"/>
            <a:ext cx="4496040" cy="224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zone is adjusted to NOAA-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ated against  Dobson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cessed when new algorithms are develop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d with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18200" y="1114560"/>
            <a:ext cx="3244680" cy="2465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4120" y="3827520"/>
            <a:ext cx="3593880" cy="25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09520" y="3643200"/>
          <a:ext cx="4133880" cy="275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520" y="3643200"/>
                    <a:ext cx="4133880" cy="2756160"/>
                  </a:xfrm>
                  <a:prstGeom prst="rect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343400" y="1446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1954080"/>
            <a:ext cx="1371600" cy="299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3198960"/>
            <a:ext cx="152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D1DB-67D5-45BC-BD91-E3B19EEA17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20:39:14Z</dcterms:created>
  <dc:creator>Peter Kealy</dc:creator>
  <dc:description/>
  <dc:language>en-US</dc:language>
  <cp:lastModifiedBy>Pete Kealy</cp:lastModifiedBy>
  <dcterms:modified xsi:type="dcterms:W3CDTF">2005-08-31T20:44:51Z</dcterms:modified>
  <cp:revision>319</cp:revision>
  <dc:subject/>
  <dc:title>NPP Science Objectives</dc:title>
</cp:coreProperties>
</file>