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4BA8-D659-4EE5-A163-12B71D680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4FE4-88A6-42F7-8F4A-B9C864A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F57E-14AE-4B74-A790-BEBCE4A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C370-C589-4EA9-8EE4-F20A1EA17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4FD8-803C-4EE8-BFB0-FBD4FE8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9DE4-3470-460A-BC5E-7A4A366E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D4ED-6CF9-4B56-B834-C9A8203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714E-6D92-4500-A2CC-B902E073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50F2-7FFB-40A5-91E0-2462033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5C65-9602-401D-8206-0AFB2E5A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0B28-5F84-4640-B6E8-3B5F6BE4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2BAB-D9E9-47C3-A1FB-FFFE8EA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67120" y="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A805-FA02-4234-BEAA-86DB19C6FFF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33BE6C0-404F-4332-ADCE-84E9FB1B7D9F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07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2B4-191B-4016-8D4B-F1B5B822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649c64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RESOURCES PRE-STAGED/DEPLOY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GION IV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 of August 31, 2008 at 1700 E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0" y="558720"/>
          <a:ext cx="91440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8720"/>
                    <a:ext cx="9144000" cy="6299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4114800"/>
            <a:ext cx="1218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AMPA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762120"/>
            <a:ext cx="114300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IRMINGHAM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19520" y="15238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523880" y="38095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70520" y="609480"/>
            <a:ext cx="126360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CLANTON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 F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ERT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76360" y="1600200"/>
            <a:ext cx="772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" y="644400"/>
            <a:ext cx="158904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CKSON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ident Support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I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038480"/>
            <a:ext cx="121896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BILE, 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790720"/>
            <a:ext cx="114300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VANNAH, 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4188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3429000"/>
            <a:ext cx="167616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TALLAHASSEE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343040" y="3657600"/>
            <a:ext cx="7621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07340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EARWATER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47516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410080" y="472428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3581280"/>
            <a:ext cx="114300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IAMI, F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476760" y="4419720"/>
            <a:ext cx="99036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019920"/>
            <a:ext cx="1828800" cy="68580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ing Insp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ake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952880"/>
            <a:ext cx="2819520" cy="167652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AL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D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 Technical Assistance Coordinator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bile/Special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nning, Power, Roofing, Housing, and Debris Removal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 (Maxwell AFB, 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5105520"/>
            <a:ext cx="1981080" cy="1218960"/>
          </a:xfrm>
          <a:prstGeom prst="rect">
            <a:avLst/>
          </a:prstGeom>
          <a:gradFill rotWithShape="0">
            <a:gsLst>
              <a:gs pos="0">
                <a:srgbClr val="e4d6d7"/>
              </a:gs>
              <a:gs pos="100000">
                <a:srgbClr val="f4f0f0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ce and Water Tea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DMATs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rike Teams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O/DCE support (Region IV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20 Personnel (Gulfport, M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33520"/>
            <a:ext cx="213372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TLANTA, GA -  REGION IV RR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30 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USAR Red Incident Support Te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tigation Staff-PDA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66720" y="16002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8120"/>
            <a:ext cx="99072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INTON, MS –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LINTON A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33160" y="281916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209680"/>
            <a:ext cx="12193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PEARL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IV ERT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2971800"/>
            <a:ext cx="5335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286000"/>
            <a:ext cx="121932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HOMASVILLE, 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25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2880" y="276552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685800"/>
            <a:ext cx="106668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ERIDIAN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attalion 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99840" y="178596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895480"/>
            <a:ext cx="121932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AXWELL, 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attalion Power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odities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657240" y="26665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6020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22636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0797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3600" y="28195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581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81320" y="37450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12880" y="18939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0080" y="17953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16520" y="198108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83000" y="24494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80160" y="28623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78280" y="32004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8006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0292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10360" y="59436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649c64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RESOURCES PRE-STAGED/DEPLOY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GION V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As of August 31, 2008 at 1700 E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50800"/>
          <a:ext cx="9144000" cy="63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0800"/>
                    <a:ext cx="9144000" cy="630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1080" y="2057400"/>
            <a:ext cx="16765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ALLAS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D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Medical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Medical Shel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Advanced Logistics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7600" y="312408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80988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L PASO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35053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876920"/>
            <a:ext cx="12952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ANTONIO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38480" y="44197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92920" y="3971880"/>
            <a:ext cx="106668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ORT ALLEN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,000 Person Base Ca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326360" y="3798360"/>
            <a:ext cx="272880" cy="16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191120"/>
            <a:ext cx="1752480" cy="2040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Rotary W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5 Officer and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Initiate Staging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5 Force Protection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USAR Blue Incident     Support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2 F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1320" y="396216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8686440" y="419076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4405320"/>
            <a:ext cx="1371600" cy="179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EW ORLEANS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 F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6 T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ive Security 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aramedic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3520" y="5746680"/>
            <a:ext cx="144792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RPUS CHRISTI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Air St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Fixed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Rotary W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68840" y="5029200"/>
            <a:ext cx="28404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33520"/>
            <a:ext cx="175248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, BATON ROUGE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 Veterinary 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Medical Shel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S: Protective Secur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MAT-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anced IR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-Shelter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88432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33520"/>
            <a:ext cx="1828800" cy="60948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ing Inspe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ake Ag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1752480" cy="1828800"/>
          </a:xfrm>
          <a:prstGeom prst="rect">
            <a:avLst/>
          </a:prstGeom>
          <a:gradFill rotWithShape="0">
            <a:gsLst>
              <a:gs pos="0">
                <a:srgbClr val="e4d6d7">
                  <a:alpha val="80392"/>
                </a:srgbClr>
              </a:gs>
              <a:gs pos="100000">
                <a:srgbClr val="ffffff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ON AL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nning, Power, Roofing, Housing, and Debris Removal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Response Veh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P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ce Protec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bile/Special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T-N Red and B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 Technical Assistance Coordinator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609480"/>
            <a:ext cx="1676160" cy="914400"/>
          </a:xfrm>
          <a:prstGeom prst="rect">
            <a:avLst/>
          </a:prstGeom>
          <a:gradFill rotWithShape="0">
            <a:gsLst>
              <a:gs pos="0">
                <a:srgbClr val="e4d6d7"/>
              </a:gs>
              <a:gs pos="100000">
                <a:srgbClr val="f4f0f0"/>
              </a:gs>
            </a:gsLst>
            <a:lin ang="5400000"/>
          </a:gradFill>
          <a:ln w="3168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Ice and Water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SA:  200 Personn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Houston, T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4 DMATs (T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343400"/>
            <a:ext cx="129528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OC/IOF, AUSTIN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D: DCO/D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: Veterina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VI I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State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3962160"/>
            <a:ext cx="1828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96880"/>
            <a:ext cx="1676160" cy="167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NTON, TX –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GION VI RR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 Lia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HIS: Veterina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 Care-Shelter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tigation Staff-PDA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581280"/>
            <a:ext cx="11430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MP MABRY, 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CG Liai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365760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2133720"/>
            <a:ext cx="152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267000"/>
            <a:ext cx="1295640" cy="45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EAUMONT, TX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2 Strike Te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3160" y="2819520"/>
            <a:ext cx="110484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OSSIER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S Staff/Equ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2004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2057400"/>
            <a:ext cx="6094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09480"/>
            <a:ext cx="1523880" cy="143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AMP BEAUREGARD, 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AC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odity 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49th Battalio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Advanced Logistic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MA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LSA Red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USAR Task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7339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96880" y="337500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81176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42242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41720" y="38638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7040" y="35258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6800" y="3005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1480" y="26449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73920" y="380988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1080" y="39830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3680" y="368928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9960" y="34718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0" y="364644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26280" y="3852720"/>
            <a:ext cx="26676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18680" y="3994200"/>
            <a:ext cx="2664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4:31:42Z</dcterms:created>
  <dc:creator>techsup</dc:creator>
  <dc:description/>
  <dc:language>en-US</dc:language>
  <cp:lastModifiedBy>ghoster</cp:lastModifiedBy>
  <dcterms:modified xsi:type="dcterms:W3CDTF">2008-09-01T11:28:22Z</dcterms:modified>
  <cp:revision>971</cp:revision>
  <dc:subject/>
  <dc:title>Slide 1</dc:title>
</cp:coreProperties>
</file>