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291-DCCB-4EE6-9746-598CD7A9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549-B3AE-45BF-B81C-84D5032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A8D-CE41-48BE-A953-4868C5BD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874-DB2B-4F70-B0B0-1DEECEDB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F97-45A2-4B63-AA99-BCCC8C7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099-72DF-4357-BEB0-2C432D7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D26-D539-4F84-9215-EF5F637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B8A-7E46-4BB6-8B73-C41E5D8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7FE-2942-4887-871B-32DFA352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565-779B-4BED-B009-D3FBCFA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0DD-5665-40E1-8BEF-C7242AF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B90-DCE3-464D-AF2D-658B27D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3759-6CFC-4807-B620-B0102AB1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SIGCOL" descr=""/>
          <p:cNvPicPr/>
          <p:nvPr/>
        </p:nvPicPr>
        <p:blipFill>
          <a:blip r:embed="rId1"/>
          <a:stretch/>
        </p:blipFill>
        <p:spPr>
          <a:xfrm>
            <a:off x="8116920" y="68400"/>
            <a:ext cx="977760" cy="86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7360" y="2387520"/>
            <a:ext cx="468324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ACCOMPLISH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s by the California Air Resources Board proved the coa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 meets ultra-low emissions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urance tests show that the time between overhaul ca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ceed 8,000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otapower (Moller’s trademark) engine has demonstra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s ability to operate on a variety of fuels – a truly multi-fue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COMMERC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 have provided letters of intent for larg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ies (over 500,000) of these engines. They are n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 tests of the engines installed in their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$25 million in private funding has be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to Rotapower engin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uge markets for Rotapower engines have been identifi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ia and Mexico where air pollution is a major problem. 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bsidiary firm, Freedom Motors, Inc.,  has been created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and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ve patents are pending on various features of th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m has 21 employees with six new position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76240" y="65160"/>
            <a:ext cx="7391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8520" y="650880"/>
            <a:ext cx="600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ller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vis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0" y="108000"/>
            <a:ext cx="12582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1920" bIns="619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nov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515960"/>
                <a:tab algn="l" pos="3032280"/>
                <a:tab algn="l" pos="4548240"/>
                <a:tab algn="l" pos="6064200"/>
                <a:tab algn="l" pos="7580160"/>
                <a:tab algn="l" pos="9096480"/>
                <a:tab algn="l" pos="10612440"/>
              </a:tabLst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ea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9360" y="3495600"/>
            <a:ext cx="435312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GOVERNMENT/SCIENCE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ability of the Rotapower engine w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ly enhanced under a contract with the USA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cramento Air Logistics Center.  A detai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ing plan was developed and successfu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sequent SBIR contract with the U.S. Army pro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the Rotapower engines operate very effectively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esel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790015"/>
              </a:buClr>
              <a:buFont typeface="Wingdings" charset="2"/>
              <a:buChar char=""/>
              <a:tabLst>
                <a:tab algn="l" pos="228600"/>
                <a:tab algn="l" pos="571680"/>
                <a:tab algn="l" pos="166356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government applications of Rotapower engin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powerplants for the Moller Skycar, a high-spe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TOL aircraft that has been the subject of numero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udies by the Army Battle Labs military applica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MEDEVAC, search and rescue and fast logist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7360" y="6767640"/>
            <a:ext cx="2133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Glenn Research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Turbomachinery/Propulsion 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3-0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6240" y="177840"/>
            <a:ext cx="73915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0015"/>
                </a:solidFill>
                <a:latin typeface="Arial"/>
              </a:rPr>
              <a:t>Special Coatings in a Rotary Eng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3800" y="3124080"/>
            <a:ext cx="1524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tapower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760" y="1293840"/>
            <a:ext cx="4330800" cy="104940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8280" y="1368360"/>
            <a:ext cx="1299960" cy="5187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6767640"/>
            <a:ext cx="2133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1989 Phase II, NAS3-26309, 8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NASA Contact – Chi-Ming L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</a:rPr>
              <a:t>Company Contact – Dr. Paul M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560" y="1611360"/>
            <a:ext cx="4038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 coatings, applied to rotary engines that will substantially improve specific fuel consumption, reduce wear and emissions, and have  multi-fuel capabilit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904000" y="1138320"/>
          <a:ext cx="1923840" cy="19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0" y="1138320"/>
                    <a:ext cx="192384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8:12:58Z</dcterms:created>
  <dc:creator>IDE Client</dc:creator>
  <dc:description/>
  <dc:language>en-US</dc:language>
  <cp:lastModifiedBy>AVILAR</cp:lastModifiedBy>
  <cp:lastPrinted>2000-02-10T19:18:19Z</cp:lastPrinted>
  <dcterms:modified xsi:type="dcterms:W3CDTF">2000-10-06T18:14:52Z</dcterms:modified>
  <cp:revision>7</cp:revision>
  <dc:subject/>
  <dc:title>PowerPoint Presentation</dc:title>
</cp:coreProperties>
</file>