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029-EB34-49DE-8FA1-2DC5460C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4C7-989C-41CF-9188-9EF65B8F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653-033B-4ACD-8473-65427D58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2F3-1695-44DF-9325-E93B18C7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CCC-CFF0-47C2-AB06-EB325036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386-44A5-4946-B757-07C35976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C11-5340-457A-A163-7CB95416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20F-B760-45CF-8800-9F372D1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ACC-B84B-4ED3-A01C-5FD2FD45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18B-9E13-43EF-8511-CA30B2F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AB5-FF85-4529-A3C0-63A2691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FDD-7228-4908-9124-96E7B750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6C1-A8F2-41E9-84DE-CAF1A6D6E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libws66.lib.niu.edu/maingov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04920"/>
            <a:ext cx="876312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2001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Federal Depository Conference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all Depository Library Council Me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876920"/>
            <a:ext cx="495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lexandria, Virgini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ctober 14-17, 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8600"/>
            <a:ext cx="8686800" cy="67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8) Deputy Registrar, DeKalb Coun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el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9) Newsletters of depart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b. Facul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1) New faculty for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2) Teaching Effectiveness Institu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3) Faculty Development Off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5238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4200" y="368280"/>
            <a:ext cx="892980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) Subject Specialists (re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) Letters to new faculty, be aware of new h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6) Letters to Ch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)  Go through college catalog for GovP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lated cour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)  Undergraduate council; Graduate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ew cour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206640" y="430200"/>
            <a:ext cx="9721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.  Commu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) 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) Business (DeKalb, Sycamore Chamber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) Government (DeKalb, Sycamor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lanners, Freedom of 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) Companies (Monsanto, Farm Burea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82880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81952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73392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648320"/>
            <a:ext cx="457200" cy="4572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incolnpale" descr=""/>
          <p:cNvPicPr/>
          <p:nvPr/>
        </p:nvPicPr>
        <p:blipFill>
          <a:blip r:embed="rId1"/>
          <a:stretch/>
        </p:blipFill>
        <p:spPr>
          <a:xfrm>
            <a:off x="1523880" y="173160"/>
            <a:ext cx="6253200" cy="6408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1676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53680" y="2209680"/>
            <a:ext cx="6327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6) Organizations (DeKa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rug Council, AAR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)  Phone book (Deposi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lection cited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&amp; Illinois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)  Computer literacy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r eld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58160" y="1219320"/>
            <a:ext cx="60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) Clubs (Womens Leagu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oters, Rot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33920" y="4952880"/>
            <a:ext cx="5105160" cy="21661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See updates to the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Publications Dept. home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ibws66.lib.niu.edu/maingov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9144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Depository  Promo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You Can Do 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12408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arl Shumaker,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Government Publications De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Northern Illinois University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October 16, 200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758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A.  The Building Blocks of 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1.  Defining  (your audi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2. 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3.  Staff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4.  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5.  Communic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4880" y="905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4080" y="174600"/>
            <a:ext cx="10496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B. The NIU Libraries Depository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A Cas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1.   Audie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The Library itself,  University camp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DeKalb, Sycamore Communiti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Northern Illinois region, St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2.  Plann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Government Publications Dep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romotional Plan,  2001-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609480"/>
            <a:ext cx="855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3.  Staff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osition descriptions, Training staff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ublic Service att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4.  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Personnel and promotional materials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5.  Communicat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Within the department,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ampus, off-camp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6280" y="609480"/>
            <a:ext cx="8725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.  Promotional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1. Within the Libr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a. Notify faculty of new refer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tools, websites, etc. via email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b. Route specific public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(e.g.: Disability materials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40120" y="523800"/>
            <a:ext cx="104846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c. Exhibits (e.g. U.S. Constitution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The Black Experience as reflec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in  U.S. Government publication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d. Home p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e. Department Heads meet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f. Committees within the library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(Collection Development, Bibliographi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Acces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92680" y="406440"/>
            <a:ext cx="9663120" cy="62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g.  Cross-training in various depart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h.  Gui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2. On Campu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a. Student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1) English 103/10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2) Information literacy clas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09480"/>
            <a:ext cx="8305920" cy="84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3) Graduate/undergraduate subject-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oriented clas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4) Dorms (e.g. subject-oriented floor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5) Clubs (e.g. History)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6)  Special events (International week,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Majors Day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7) Northern Star (newspaper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19:33:48Z</dcterms:created>
  <dc:creator>c60eaf1</dc:creator>
  <dc:description/>
  <dc:language>en-US</dc:language>
  <cp:lastModifiedBy>Lpspc18</cp:lastModifiedBy>
  <cp:lastPrinted>2001-10-08T12:54:19Z</cp:lastPrinted>
  <dcterms:modified xsi:type="dcterms:W3CDTF">2001-10-12T13:11:16Z</dcterms:modified>
  <cp:revision>63</cp:revision>
  <dc:subject/>
  <dc:title>No Slide Title</dc:title>
</cp:coreProperties>
</file>