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cal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al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525600" y="6321600"/>
            <a:ext cx="573120" cy="155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00200" y="62164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3333cc"/>
                </a:solidFill>
                <a:latin typeface="Arial"/>
              </a:rPr>
              <a:t>AURA Science Meeting, Nov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525600" y="662040"/>
            <a:ext cx="573120" cy="1555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525600" y="6321600"/>
            <a:ext cx="573120" cy="15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62164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3333cc"/>
                </a:solidFill>
                <a:latin typeface="Arial"/>
              </a:rPr>
              <a:t>Henk Eskes, </a:t>
            </a:r>
            <a:fld id="{06FDFF1F-6CE2-4284-95C9-FCE8DB1DC91F}" type="datetime">
              <a:rPr b="1" lang="nl-NL" sz="1200" spc="-1" strike="noStrike">
                <a:solidFill>
                  <a:srgbClr val="3333cc"/>
                </a:solidFill>
                <a:latin typeface="Arial"/>
              </a:rPr>
              <a:t>29-07-26</a:t>
            </a:fld>
            <a:r>
              <a:rPr b="1" lang="nl-NL" sz="1200" spc="-1" strike="noStrike">
                <a:solidFill>
                  <a:srgbClr val="3333cc"/>
                </a:solidFill>
                <a:latin typeface="Arial"/>
              </a:rPr>
              <a:t>, slide </a:t>
            </a:r>
            <a:fld id="{68A93F59-BA30-4477-8297-C601D7F03D53}" type="slidenum">
              <a:rPr b="1" lang="nl-NL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8640" y="1311120"/>
            <a:ext cx="55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IAMACHY ozone column retriev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d the 2005 ozon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120" y="2498760"/>
            <a:ext cx="707364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nk Eskes,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rjo Seg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Ronald van der A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pijn Veefkind, Johan de Haan and Ellen Brinks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Topic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AMACHY ozone column retrieval at KNM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SOMI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hol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9000" y="20574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zone hole 200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040" y="3305160"/>
            <a:ext cx="675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rational ozone data assimilation since 2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vailable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www.temis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www.gse-promote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gust 2005: very early start of ozon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00200"/>
            <a:ext cx="2362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AMAC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rey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nalysis erro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24320" y="1447920"/>
            <a:ext cx="4286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gust 2005: very early start of ozon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1337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een by OMI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8480" y="1305000"/>
            <a:ext cx="47246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 November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o3col2005110812_sp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67208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zone hole area, 10 Nov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sc-o3area220" descr=""/>
          <p:cNvPicPr/>
          <p:nvPr/>
        </p:nvPicPr>
        <p:blipFill>
          <a:blip r:embed="rId1"/>
          <a:stretch/>
        </p:blipFill>
        <p:spPr>
          <a:xfrm>
            <a:off x="1295280" y="1192320"/>
            <a:ext cx="74311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zone min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sc-o3min-s" descr=""/>
          <p:cNvPicPr/>
          <p:nvPr/>
        </p:nvPicPr>
        <p:blipFill>
          <a:blip r:embed="rId1"/>
          <a:stretch/>
        </p:blipFill>
        <p:spPr>
          <a:xfrm>
            <a:off x="1219320" y="1117440"/>
            <a:ext cx="7391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mperature (ECMW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556320" cy="3757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56386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WMO ozone bulletin #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560" y="20574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 summary 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3051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al ozone columns from SCIAMACHY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le and accurate produc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seful extension of the GOME period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 prequel for O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vailable on www.temis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0574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CIAMACHY retrieval, validation, assimi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1800" y="3352680"/>
            <a:ext cx="72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skes et al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mos. Chem. Phys. Discuss, 5, 4429-4475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1520" y="685800"/>
            <a:ext cx="358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3333cc"/>
                </a:solidFill>
                <a:latin typeface="Arial"/>
              </a:rPr>
              <a:t>TOSOMI DOAS algorith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2960" y="1447920"/>
            <a:ext cx="769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OMI-DOAS operational algorithm (P. Veefki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for GOM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GOMI - P. Val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for SCIAMACHY + FRES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SOMI - H. Eskes and R. van der 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Innovations compared to e.g. GOME Fast Delivery, vs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reatment of Raman scattering (J. de Haa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irical air-mass factor approa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S v8 ozone profile data b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ive transfer improv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MWF temperature profi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457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Brewer, Dobs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716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wide validation for 2 years of SCIA-Tosomi ozone colum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len Brinks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1360" y="2003400"/>
            <a:ext cx="625176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41148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ain conclus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somi 1.5% lower than ground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about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lear geographical location or seasonal dependence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4480" y="19908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9440" y="1143000"/>
            <a:ext cx="7442280" cy="5011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Brewer, Dobs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86200"/>
            <a:ext cx="2971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ow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GOME GDP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59160" y="1309680"/>
            <a:ext cx="6456240" cy="4413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00000">
            <a:off x="1648080" y="314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ala Sans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3600" y="54864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ala Sans"/>
              </a:rPr>
              <a:t>Day since 1 Ja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5867280"/>
            <a:ext cx="5715000" cy="40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2057400"/>
            <a:ext cx="243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-4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s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ZA sh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lgo'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day 140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 due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ME GDP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GOME Tog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648080" y="3130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ala Sans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76440" y="1333440"/>
            <a:ext cx="6438960" cy="483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85960" y="550080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ala Sans"/>
              </a:rPr>
              <a:t>Day since 1 Jan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00200"/>
            <a:ext cx="1676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0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 -1.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SOMI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omi vs assim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0" y="20667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86000" y="1066680"/>
            <a:ext cx="74530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891540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80880"/>
            <a:ext cx="84582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457200" cy="40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533520"/>
            <a:ext cx="845820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CMWF:Assimilation of SCIAMACHY-TOSO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5575320"/>
            <a:ext cx="1143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6640" y="1901880"/>
            <a:ext cx="16002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o S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6640" y="3746520"/>
            <a:ext cx="16002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ith S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523880"/>
            <a:ext cx="18288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3 May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640080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je Deth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68680" y="1170000"/>
            <a:ext cx="4113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8:01:24Z</dcterms:created>
  <dc:creator>Henk Eskes</dc:creator>
  <dc:description/>
  <dc:language>en-US</dc:language>
  <cp:lastModifiedBy>Segers</cp:lastModifiedBy>
  <dcterms:modified xsi:type="dcterms:W3CDTF">2005-11-10T12:58:49Z</dcterms:modified>
  <cp:revision>154</cp:revision>
  <dc:subject/>
  <dc:title>No Slide Title</dc:title>
</cp:coreProperties>
</file>