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ECEC-F5E6-48EF-8B2A-B990452C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F5EF-06C1-4396-97FC-3091205A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5F92-2F94-4707-8D3A-D340E9B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7752-E363-4D12-8776-9A1E83A6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CFC3-4346-427B-ABAF-035F6F40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CC78-B9D9-436C-AC66-B29F2A3D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F01D-E6E5-450A-A83B-65F7F47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174B1-F816-4A0E-880E-E35C631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5AB5-301F-4E96-ACBB-6DD1D54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9965-4642-4F83-9EB7-89F91164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96DC-EB1A-41E6-9D21-F36CF6A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F51C-47C4-434A-A6C3-F089A52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20EF-4E1D-4CC4-91D9-E8570C49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A60E-EE44-4074-94A2-DC896F3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B8E5-8D30-4B52-A1DF-CD53E0F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3E59-2A07-44A9-90FD-856733B7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02407-5DE6-4F60-8ECB-86777D57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E3C5-1F01-4F08-81C0-04DF8E5F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636E-3025-4B52-8F5C-BF074AF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0627-1FEE-48EA-ACBC-5AE057C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31D5-1811-4A95-8DBA-9B2B910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1B89-4C76-4774-8C9C-817FC19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4043-FE7E-4FAB-A6E6-D5E1762F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90D5-59D3-4716-92ED-DBAFC3D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DBB-D0FE-4418-8DB0-1230913422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63084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Tony.Cass@</a:t>
            </a:r>
            <a:r>
              <a:rPr b="1" lang="en-US" sz="1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96CA-A9E9-4D31-889B-3DCF7BEAB5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63084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Tony.Cass@</a:t>
            </a:r>
            <a:r>
              <a:rPr b="1" lang="en-US" sz="1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0" lang="en-US" sz="1200" spc="-1" strike="noStrike">
                <a:solidFill>
                  <a:srgbClr val="919191"/>
                </a:solidFill>
                <a:latin typeface="Comic Sans MS"/>
              </a:rPr>
              <a:t>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c0128"/>
                </a:solidFill>
                <a:latin typeface="Comic Sans MS"/>
              </a:rPr>
              <a:t>Building A</a:t>
            </a:r>
            <a:br>
              <a:rPr sz="6000"/>
            </a:br>
            <a:r>
              <a:rPr b="1" lang="en-GB" sz="6000" spc="-1" strike="noStrike">
                <a:solidFill>
                  <a:srgbClr val="fc0128"/>
                </a:solidFill>
                <a:latin typeface="Comic Sans MS"/>
              </a:rPr>
              <a:t>Computer Centre </a:t>
            </a: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52fb5"/>
                </a:solidFill>
                <a:latin typeface="Comic Sans MS"/>
              </a:rPr>
              <a:t>HEPiX</a:t>
            </a:r>
            <a:br>
              <a:rPr sz="6000"/>
            </a:br>
            <a:r>
              <a:rPr b="1" lang="en-GB" sz="6000" spc="-1" strike="noStrike">
                <a:solidFill>
                  <a:srgbClr val="052fb5"/>
                </a:solidFill>
                <a:latin typeface="Comic Sans MS"/>
              </a:rPr>
              <a:t>Large Cluster SIG</a:t>
            </a: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919191"/>
                </a:solidFill>
                <a:latin typeface="Comic Sans MS"/>
              </a:rPr>
              <a:t>October 21</a:t>
            </a:r>
            <a:r>
              <a:rPr b="1" lang="en-GB" sz="4000" spc="-1" strike="noStrike" baseline="30000">
                <a:solidFill>
                  <a:srgbClr val="919191"/>
                </a:solidFill>
                <a:latin typeface="Comic Sans MS"/>
              </a:rPr>
              <a:t>st</a:t>
            </a:r>
            <a:r>
              <a:rPr b="1" lang="en-GB" sz="4000" spc="-1" strike="noStrike">
                <a:solidFill>
                  <a:srgbClr val="919191"/>
                </a:solidFill>
                <a:latin typeface="Comic Sans MS"/>
              </a:rPr>
              <a:t> 2002</a:t>
            </a:r>
            <a:br>
              <a:rPr sz="4000"/>
            </a:br>
            <a:br>
              <a:rPr sz="40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ony.Cass@</a:t>
            </a:r>
            <a:r>
              <a:rPr b="1" lang="en-GB" sz="2000" spc="-1" strike="noStrike" u="sng">
                <a:solidFill>
                  <a:srgbClr val="052fb5"/>
                </a:solidFill>
                <a:uFillTx/>
                <a:latin typeface="Comic Sans MS"/>
              </a:rPr>
              <a:t>CER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.ch</a:t>
            </a:r>
            <a:endParaRPr b="0" lang="en-US" sz="2800" spc="-1" strike="noStrike">
              <a:solidFill>
                <a:srgbClr val="fcfeb9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Air Cooling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t capacity of air is limited. Extracting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ts of h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ans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ts of air chang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 hou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able level depends on room usage and occupanc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bove 60-70 AC/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environment becomes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uncomfort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general 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fb5"/>
                </a:solidFill>
                <a:latin typeface="Comic Sans MS"/>
              </a:rPr>
              <a:t>Good! Make SysAdmins work from their offic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120AC/h acceptable for technica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possible,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avoid closed syste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njection of external fresh air allows “free cooling” in win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 air injection usually under false fl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ensure air flow through equipment 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f level injection possible, but requires high cei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DC97-0490-46E2-A859-DE4F060868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Air Cooling Limits at CERN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981000"/>
          <a:ext cx="7885080" cy="4064040"/>
        </p:xfrm>
        <a:graphic>
          <a:graphicData uri="http://schemas.openxmlformats.org/drawingml/2006/table">
            <a:tbl>
              <a:tblPr/>
              <a:tblGrid>
                <a:gridCol w="2881440"/>
                <a:gridCol w="2519280"/>
                <a:gridCol w="2484360"/>
              </a:tblGrid>
              <a:tr h="9583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leara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3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ir Fl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.5-3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gt;6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Comfortab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Hig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00W/m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50680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For guidance only: your mileage may var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Don’t forget to account for overheads (e.g. solar heating)! These depend on location, but we have 3-400W/m</a:t>
            </a:r>
            <a:r>
              <a:rPr b="0" lang="en-US" sz="2000" spc="-1" strike="noStrike" baseline="30000">
                <a:solidFill>
                  <a:srgbClr val="081d5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1d58"/>
                </a:solidFill>
                <a:latin typeface="Comic Sans MS"/>
              </a:rPr>
              <a:t> for the main machine room in s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639E-4C6D-4813-BC40-9EF59B4E8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CERN Planning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2680" y="1405080"/>
          <a:ext cx="891720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405080"/>
                    <a:ext cx="89172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2D29-604F-48EF-97FB-4B189813E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Spa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CFD7-564F-4038-B30F-A9EDAFFDDE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pace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Box size may not be the determining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1U boxes in 19” rack: 4kW in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ncluding clearanc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good if you can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ix CPU and disk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ter still if you have tape robot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wise, space is relatively easy. Just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add enough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clear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DF39-33B0-4B51-9C65-91705AD22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Fire Precau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C12A-AE34-4070-8FF0-A5E4F06E6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moke Detection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Laser bas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moke detection systems are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extremely sensi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se to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raise early ale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eed less sensitive detectors as “second kn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to trigger any fire suppression or preven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ocalisation is a probl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bination of sensitive detectors and rapid air flow means all detectors will trigger in time—usually sooner, not la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Locality of smoke detection competes against efficient coo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divide a big room into smaller ones, but it will be harder to c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ame is true for closed racks. And, anyway, smoke will escape into the room eventua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68F2-58A6-4A1C-911C-A32F3BE31F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Fire Suppression or Fire Prevention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Fire Suppression if you want to keep services run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all costs (e.g. banks, phone companies, ISP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 system is to </a:t>
            </a: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flood machine room with an inert g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Nitrogen/Argon mixture now that Halons are banned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s is expensive and bottles are bulk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hine room needs to be hermetic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modern water based systems can be used on running equipment and are good for scrubbing smoke particles from the 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Fire Preven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alternative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if you want to avoid fire at all co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Cut electrical power as soon as smoke is detec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k of progression to fire cut by 20x-100x for smouldering PC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Fire Prevention chosen at C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our new machine room in the former tape vault. Ask our opinions next yea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re still not sure what to do for our main machine room because of the localisation probl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1C84-75BF-45E7-8861-955113480D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Why do you need a Computer Centre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you have some combination of CPU servers, Disk Storage and Tape Stor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is equi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umes electrical 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may need to be protected against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ns electrical power to heat at 100% efficienc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put somewhere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protected against f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Computer Centre or Computer Room mu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an adequate power supp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adequate cooling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large enough,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smoke detection and, possibly, fire suppre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E2C7-237E-4FA1-8BD0-28988C7CF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Electrical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8794-6EA4-4C05-B1C8-4122A18DEC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How much power do you need?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ape drives and robotics are low po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O(100W) per device and you don’t have many of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Disks are also low po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O(10W) per dev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concern is inrush current as drive spins up. Don’t start them all at o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CPUs are the probl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Lots of 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power efficiency is not improv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raw performance impro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udy of processor specifications suggests constant power consumption of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1W/SpecInt9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Power fa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ower supply is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Off the shelf supplies have power factor of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~0.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supplies with power factors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better than 0.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available, but these are generally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more expens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1613-C903-4F92-9FC5-2D9FAE62B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 power supplies only draw current when the voltage exceeds a certain threshol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? Lots of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harmonic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specially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3</a:t>
            </a:r>
            <a:r>
              <a:rPr b="1" lang="en-US" sz="2800" spc="-1" strike="noStrike" baseline="30000">
                <a:solidFill>
                  <a:srgbClr val="063de8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lead to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high currents in the neutr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al distribution can need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neutral condu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twice the cross s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phase conducto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fb5"/>
                </a:solidFill>
                <a:latin typeface="Comic Sans MS"/>
              </a:rPr>
              <a:t>All the w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room distribution, through PDUs to the transform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f. no neutral needed for ideal 3-phase. </a:t>
            </a:r>
            <a:r>
              <a:rPr b="0" lang="en-US" sz="2000" spc="-1" strike="noStrike">
                <a:solidFill>
                  <a:srgbClr val="777777"/>
                </a:solidFill>
                <a:latin typeface="Comic Sans MS"/>
              </a:rPr>
              <a:t>US building code used to allow half cross section neutral conductors. No long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mic Sans MS"/>
              </a:rPr>
              <a:t>Potential fire ris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Switched Mode Power Supplies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54356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C14A-8E24-41BD-8A6C-846AD2432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Power Protection—High Level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l question: “What happens if your primary supply fails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question: “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How long does it take you to perform a controlled shutdown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 guess?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Over half an h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Probably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2 hou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High power, long autonom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attery backed (static)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UPS systems are expens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Need dies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acked (rotary) systems </a:t>
            </a:r>
            <a:r>
              <a:rPr b="1" lang="en-US" sz="2800" spc="-1" strike="noStrike">
                <a:solidFill>
                  <a:srgbClr val="063de8"/>
                </a:solidFill>
                <a:latin typeface="Comic Sans MS"/>
              </a:rPr>
              <a:t>for decent autonom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are also expens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an,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stall a 5 minute static UPS to smooth power and cover microcu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expect to lose physics computing due to power cu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consider a 2 hour static UPS for critical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etworks, databases, …) if you have no die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472E-318E-4E5B-AB0B-BEAC58AE9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Power Protection—Local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“multi sockets” come with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ifferent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r earth leakage)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ircuit break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rip on small difference (usually 30mA) between the phase and neutral curr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fine for general home use, but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bad for connecting many PC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supply design gives natural difference of 3-5mA. If you have lots of PCs behind one differential breaker this may trip if there are small disturb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our theo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We will try omitting these breakers for new installa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eed to provide dedicated sockets for, e.g. conso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fb5"/>
                </a:solidFill>
                <a:latin typeface="Comic Sans MS"/>
              </a:rPr>
              <a:t>Ask me for an update next ye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1FBF-EB13-4A4C-B9A9-BDDC34711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58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1d58"/>
                </a:solidFill>
                <a:latin typeface="Comic Sans MS"/>
              </a:rPr>
              <a:t>HVA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950B-7F6E-4257-9F97-C68A235A8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eb9"/>
                </a:solidFill>
                <a:latin typeface="Comic Sans MS"/>
              </a:rPr>
              <a:t>HVAC Options</a:t>
            </a:r>
            <a:endParaRPr b="0" lang="en-US" sz="4000" spc="-1" strike="noStrike">
              <a:solidFill>
                <a:srgbClr val="fcfeb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Water coo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no pipes in equipment toda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Does any vendor want to be the first to add the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Ice Cube would have internal water cooling, but even here, closed system is mentioned as o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P talk of using “ink jet” heads to spray water on cpu. This cools the chip faster, but the heat still ends up in the machine roo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ut water cooled pipes in racks (common practice in online areas for experiments) but rack layout has to be fix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2fb5"/>
                </a:solidFill>
                <a:latin typeface="Comic Sans MS"/>
              </a:rPr>
              <a:t>Air coo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conditioning units are connected to the chilled water supply and circulate chilled air in the machine ro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Flexi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5E7F-8252-4913-8881-9E19A7D85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9:17:02Z</dcterms:created>
  <dc:creator>Tony Cass</dc:creator>
  <dc:description/>
  <dc:language>en-US</dc:language>
  <cp:lastModifiedBy>Tony Cass</cp:lastModifiedBy>
  <cp:lastPrinted>1998-06-29T13:05:58Z</cp:lastPrinted>
  <dcterms:modified xsi:type="dcterms:W3CDTF">2002-10-21T20:30:22Z</dcterms:modified>
  <cp:revision>25</cp:revision>
  <dc:subject>Mail Server</dc:subject>
  <dc:title>B513 Upgrade for IT Post C5, 11th October 2002</dc:title>
</cp:coreProperties>
</file>