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B6B-A425-48B0-9A5B-9F1B3C1D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5CA-942F-4208-B869-4A72271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06C-BE3D-4C2F-A6A1-24B612EA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939-FF2C-4603-874A-EEBEBF1A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2CC-CEFC-4D5D-A3AC-194DB2F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79B-2445-4EA9-871B-5C68C145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DCF-7EEC-4707-AC29-4A5BAF87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BAD-1FD2-42C6-8559-D55E3D2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1F4-6E7B-4B58-8EC9-3F6606C3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E37-6B12-4EBD-A38D-C7287580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BC5-5DD3-498B-ACBD-4EF98B0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083-CFB6-44F3-AF28-20AC24E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F0E5-EAD2-4FB0-812D-1A71B1794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pdating DAPS Data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y Metca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AA GOES DCS Program Mana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ember 11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PDT fl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Y REQUIRED FIELDS ARE LEFT BLANK, THE PDT_COMPLETE FLAG IS SET BY THE SYSTEM TO “N”, AND AN ERROR MESSAGE IS GENERA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LL REQUIRED FIELDS ARE COMPLETE, SYSTEM AUTOMATICALLY RESETS PDT_COMPLETE FLAG TO “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T OF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Y IS IN DATA GENERAL COMMAND LINE STRUCTU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DT CE12E34A PRIME_PREAMBLE S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DT CE12E34A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ME_PREAMBLE S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ND_PREAMBLE S &amp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_CODE C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ENTER AS MANY FIELDS AS NECESSARY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L-IN MODEM TO TELEPHONE NUMB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57-824-0105 (ROTARY WITH 10 LIN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TO WEB PAGE “http://dcs.noaa.gov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on TELNET to D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NET direc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 address 128.154.62.17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 ORDER TO TELNET TO DAPS, YOU MUST HAVE YOUR NAME AND IP ADDRESS ADDED TO A HOST TABLE, AND/OR OBTAIN A USERID/PASSWORD FOR OUR FIREWALL.  PLEASE EMAIL USERID, EMAIL ADDRESS AND IP ADDRESS, AND WHETHER YOU WILL NEED A PASSWORD FOR MULTIPLE OR REMOTE SITES BEFORE BEGINNING A TELNET SESSION.  SEND MESSAGES TO “GOES.DCS@NOAA.GOV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Database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DCS Users are Responsible for Maintaining and Updating Database Entries in D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Description Table (UD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tional and Contact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form Description Table (PD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enance Contact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NY ENTRIES WITH EMBEDDED BLANKS SHOULD BE SURROUNDED BY QUOTATION MARKS (“ “ OR ‘ ‘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MGR Updated UDT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_TYPE * (Type of user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: Fed.Government, S: State, D: Domestic, C: Canada, O: Oth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_NAME * User organization name PARENT_NAME Parent organization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_NAME Major organization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A_ID * Name of organization for MO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MEDIUM * Primary me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: DOMSAT, T: Telephone, N: NMC, G: Direct Readout G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OWNER Updated UDT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NAME_LAST * Operating official's last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NAME_FIRST * Operating official's first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ADDR_LINE1 Operating official's address, first l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ox #, Building, Suite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ADDR_LINE2 Operating official's address, 2nd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treet, Avenue, etc.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R_CITY Operating official's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STATE_PROV Operating official's state or provi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lso used for country if USER_TYPE = 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ZIP_CODE Operating official's zip code OPR_PHONE # Operating official's phon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R_FAX # Operating official's FAX 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MGR Updated PDT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WNER_ID * Owner user ID (must be in UD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TYPE * Primary ty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: Self‑timed, I: Interrogate, R: Random, D: Du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CHAN * Primary channel: 1 ‑ 266 PRIME_SCID * Primary GOES spacecraft assigne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: East, W: W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ND_TYPE Secondary ty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: Random, I: Interrogate, or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ND_CHAN Secondary channel: 1 ‑ 2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ND_SCID Secondary GOES spacecraft assigne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: East, W: West, or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MGR Updated PDT Fields (Co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_XMT HHMMSS form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of first transmission for S/D type plat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of first interrogation for I type plat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T_PERIOD in HHMM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period between transmissions (S/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period between interrogations (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T_WIND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transmission window size in MMSS (S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T_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transmission rate in bps (100/300/12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MEDIUM * Primary mediu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: DOMSAT, T: Telephone, N: NMC, G: Direct Readout G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Owner Updated PDT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_FORMAT A: ASCII, B: Bi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E_PREAMBLE L: Long, S: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ND_PREAMBLE (If SECND_TYPE NE “ 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_CODE Three character location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_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: United States, B: Canada, C: South America, O: Oth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_NAME Location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ITUDE Latitude in DDMM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ITUDE Longitude in DDMM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Owner Updated PDT Fields (Co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Platform catego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: Fixed‑buoy, D: Drifting‑buoy, A: Aircraft, S: Ship                B: Balloon, L: Land‑based O: Oth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F_CODE1 Shef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UFACTR_ID DCPRS manuf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_NO DCPRS model numb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SON_ID Seasonal indic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_DEPLOY Date deployed (YYYYMMD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Owner Updated PDT Fields (Co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MAINT_NAME Maintenance official name PMAINT_PHONE Maintenance official ph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MAINT_FAX Maintenance official FAX ph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SE 3 FIELDS ARE CRITICAL SO THAT WE MAY HAVE A CONTACT NUMBER IN CASE OF AN IMPROPERLY OPERATING PLAT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18:17:20Z</dcterms:created>
  <dc:creator>Kay Metcalf</dc:creator>
  <dc:description/>
  <dc:language>en-US</dc:language>
  <cp:lastModifiedBy>Direct Services Division</cp:lastModifiedBy>
  <cp:lastPrinted>2001-12-08T19:41:59Z</cp:lastPrinted>
  <dcterms:modified xsi:type="dcterms:W3CDTF">2001-12-13T12:28:25Z</dcterms:modified>
  <cp:revision>11</cp:revision>
  <dc:subject/>
  <dc:title>Updating DAPS Databases</dc:title>
</cp:coreProperties>
</file>