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6518-7F64-41F1-84D6-4C5EDA493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8364-1FB8-448E-A2D4-2AE481363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1367-95F0-46E0-8CF2-D6F4A0881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8BE9-52E3-418C-8F33-25B6F468B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56897-BB3A-47B9-A7A1-A5951B6A2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56E0E-B646-434C-BE33-AF772B302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8BCA7-080C-4B65-A692-C82FDE4BC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75EFA-9EB7-481A-B9FB-7BABCFB18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52B74-B462-408F-A9B0-512DF9EBF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2A6D0-9732-43A5-A171-0D59CB01B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29B14-C6CD-40F8-956D-C16AFA51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25EE-3182-41E8-90E9-12E9D7397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C113C-F4F7-44A2-A63D-6AF0C2E57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A17E1-5CF6-4CA3-B905-EDF19BE6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74436-13B1-4322-92A5-D7262F638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77DA5-7157-48F4-A537-C224ED603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2E95D-F435-43A4-A28B-84897B026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2882-1A06-4510-B7FD-CC1262F0F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4296-0F20-48FD-9D52-F08268E99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3AF6-CE57-4EBA-8484-D5BECEE42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22FB-67E0-441C-A630-D4AAE9A80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EEA7-F49D-4943-BE36-9E8A26A7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8EC3-5458-49B7-8BB2-744EA6D12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7EFE-66ED-48E6-B1FC-90E384B17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80106-0334-45AC-AF08-098F126346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FFC25-5989-4425-9512-58D3CDAD12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igital Data Communications in Air Quality Monitor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3505320"/>
            <a:ext cx="586728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tter, cheaper, fast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4008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rik Aaboe, New Mexico Environment Depart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NMED" descr=""/>
          <p:cNvPicPr/>
          <p:nvPr/>
        </p:nvPicPr>
        <p:blipFill>
          <a:blip r:embed="rId1"/>
          <a:stretch/>
        </p:blipFill>
        <p:spPr>
          <a:xfrm>
            <a:off x="8275680" y="5978520"/>
            <a:ext cx="868320" cy="8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west" descr=""/>
          <p:cNvPicPr/>
          <p:nvPr/>
        </p:nvPicPr>
        <p:blipFill>
          <a:blip r:embed="rId1"/>
          <a:stretch/>
        </p:blipFill>
        <p:spPr>
          <a:xfrm>
            <a:off x="1295280" y="88920"/>
            <a:ext cx="7086600" cy="67690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0" y="3809880"/>
            <a:ext cx="190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erizon “Enhanced” Coverage Ma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ossible Digital Cellular Issu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my polling system connect to an IP addres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es device work with my datalogging system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es the remote system stay connect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e line batch file to reconnect for PCs with Redwin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yalive ping feature for Rave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ll my IT department allow this technology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es it save money or improve performanc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the remote equipment secur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NMED" descr=""/>
          <p:cNvPicPr/>
          <p:nvPr/>
        </p:nvPicPr>
        <p:blipFill>
          <a:blip r:embed="rId1"/>
          <a:stretch/>
        </p:blipFill>
        <p:spPr>
          <a:xfrm>
            <a:off x="8275680" y="5978520"/>
            <a:ext cx="868320" cy="8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ecurit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uring Remote De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PSec for PC based systems (on W2000, XP PC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iendly IP” list for Rav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ly acknowledge approved IP addresses or subn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visible to the rest of the Inter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tting Through Agency Firewal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rt usage for polling (use 443 or 8088 or a commonly open por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set rules on remote system – are agency IP addresses NATted? Go to http://whatismyip.com or http://dnsstuff.com from polling PC to determ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NMED" descr=""/>
          <p:cNvPicPr/>
          <p:nvPr/>
        </p:nvPicPr>
        <p:blipFill>
          <a:blip r:embed="rId1"/>
          <a:stretch/>
        </p:blipFill>
        <p:spPr>
          <a:xfrm>
            <a:off x="8275680" y="5978520"/>
            <a:ext cx="868320" cy="8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ossible Benefi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bandwidth available than current system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nect to remote system using remote access tools without interrupting poll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ow connections from others (support contractors, troubleshooters, site operators from home, etc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ll data from multiple location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NMED" descr=""/>
          <p:cNvPicPr/>
          <p:nvPr/>
        </p:nvPicPr>
        <p:blipFill>
          <a:blip r:embed="rId1"/>
          <a:stretch/>
        </p:blipFill>
        <p:spPr>
          <a:xfrm>
            <a:off x="8275680" y="5978520"/>
            <a:ext cx="868320" cy="8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Clouds" descr=""/>
          <p:cNvPicPr/>
          <p:nvPr/>
        </p:nvPicPr>
        <p:blipFill>
          <a:blip r:embed="rId1"/>
          <a:stretch/>
        </p:blipFill>
        <p:spPr>
          <a:xfrm>
            <a:off x="85680" y="61920"/>
            <a:ext cx="8972640" cy="67341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33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38080" y="4876920"/>
            <a:ext cx="7772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For information contact erik.aaboe@state.nm.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38080" y="266688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33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NMED" descr=""/>
          <p:cNvPicPr/>
          <p:nvPr/>
        </p:nvPicPr>
        <p:blipFill>
          <a:blip r:embed="rId2"/>
          <a:stretch/>
        </p:blipFill>
        <p:spPr>
          <a:xfrm>
            <a:off x="8153280" y="5867280"/>
            <a:ext cx="868320" cy="8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many are familiar with their monitoring system communications method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o knows what they cos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eryone satisfied with that cos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o uses Leased Li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t of a Local Area Network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in Old Telephone Servic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alog Cellular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gital Cellular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gital Subscriber Lines / Cable Interne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NMED" descr=""/>
          <p:cNvPicPr/>
          <p:nvPr/>
        </p:nvPicPr>
        <p:blipFill>
          <a:blip r:embed="rId1"/>
          <a:stretch/>
        </p:blipFill>
        <p:spPr>
          <a:xfrm>
            <a:off x="8275680" y="5978520"/>
            <a:ext cx="86832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NMED Situ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3 continuous monitoring si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on Plain Old Telephone Services (POTS) li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rked fine for daily pol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urly calls costl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for real-time web &amp; AIRNow posting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rt-term solu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duce call frequency (every other hour, etc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lit polling assignments to LAN locations with local cal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analog cellular to local phone num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NMED" descr=""/>
          <p:cNvPicPr/>
          <p:nvPr/>
        </p:nvPicPr>
        <p:blipFill>
          <a:blip r:embed="rId1"/>
          <a:stretch/>
        </p:blipFill>
        <p:spPr>
          <a:xfrm>
            <a:off x="8275680" y="5978520"/>
            <a:ext cx="868320" cy="8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NMED Phone Costs &amp; Issu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~$42.00 / month for phone service at each si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ng distance charges for hourly calls at 8760 hours / ye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call at approximately one minute = $876 for total cost of ~$1350 / site / ye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one lines not at all desired lo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NMED" descr=""/>
          <p:cNvPicPr/>
          <p:nvPr/>
        </p:nvPicPr>
        <p:blipFill>
          <a:blip r:embed="rId1"/>
          <a:stretch/>
        </p:blipFill>
        <p:spPr>
          <a:xfrm>
            <a:off x="8275680" y="5978520"/>
            <a:ext cx="868320" cy="8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igital Cellula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vice $350-$550 to connect each site to Intern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ll from polling machine over Intern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ta Plan for service – depends upon us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 MB / month = $10 / mon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per-call connection cos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desired, can download shorter interval data (5 minute &amp; 15 minute averages, e.g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NMED" descr=""/>
          <p:cNvPicPr/>
          <p:nvPr/>
        </p:nvPicPr>
        <p:blipFill>
          <a:blip r:embed="rId1"/>
          <a:stretch/>
        </p:blipFill>
        <p:spPr>
          <a:xfrm>
            <a:off x="8275680" y="5978520"/>
            <a:ext cx="868320" cy="8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igital Modem Technologies Availabl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irlink Redw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ntelligent” device acts as modem for PC-based sys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tablishes DUN (dial-up networking) connection to Intern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tup with a static IP add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irlink Rav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me capabilities but has embedded Operating System for traditional datalogger sys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NMED" descr=""/>
          <p:cNvPicPr/>
          <p:nvPr/>
        </p:nvPicPr>
        <p:blipFill>
          <a:blip r:embed="rId1"/>
          <a:stretch/>
        </p:blipFill>
        <p:spPr>
          <a:xfrm>
            <a:off x="8275680" y="5978520"/>
            <a:ext cx="868320" cy="8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Redwin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27160" y="938160"/>
            <a:ext cx="170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Rav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5000" y="1905120"/>
            <a:ext cx="4741560" cy="46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Fea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igh speed data transfer rat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ull duplex transcei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ow power consump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DEN - Next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DMA 1XRTT – VZW, SPCS, Allt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PRS, EDGE – Cingular, Dobs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nvironmental operating range –30 to +75 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Ds show status of modem oper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ial port for mobile data applic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ver the air programmable firmware upgrad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-board ARM processor - ALE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I Division II certified (Gas &amp; Oil Industry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90600" y="3581280"/>
            <a:ext cx="2405160" cy="23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tilit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elemetry/SCA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ire/EMS/Pol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orkforce Autom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TM/P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outer Back-u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410080" y="762120"/>
            <a:ext cx="2819520" cy="237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676520" y="1066680"/>
            <a:ext cx="67053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9b03"/>
                </a:solidFill>
                <a:latin typeface="Tahoma"/>
              </a:rPr>
              <a:t>SCADA, Telemetry, and Data Acquisi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3886200" cy="29149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952880" y="2286000"/>
            <a:ext cx="3276720" cy="13003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5486400" y="3657600"/>
            <a:ext cx="3124080" cy="24224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3200400" y="3733920"/>
            <a:ext cx="2214720" cy="2471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ik Aaboe</cp:lastModifiedBy>
  <dcterms:modified xsi:type="dcterms:W3CDTF">2006-02-01T21:27:38Z</dcterms:modified>
  <cp:revision>37</cp:revision>
  <dc:subject/>
  <dc:title>PowerPoint Presentation</dc:title>
</cp:coreProperties>
</file>