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BB6A-C29A-4D6C-9DBB-D46A14C8E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9E17-A6D2-435B-9C7E-36147D77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EBB1-0C5A-492C-9DC2-DF38FB6F3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8208-52D8-4C1D-89AA-1A39F5BF1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96EB-DEB4-4B58-9A23-CA508858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A7A0-7D1A-41D5-9FE1-7C29B5D0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9640-4815-489F-A670-B9275413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DE52-4F69-42DF-B70C-A5549A6C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B317-61F6-43BD-AC2B-59CEB6C7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850A-9256-4EFF-99AD-66A6788A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793F-64E7-4253-B112-06160D54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52A1-C732-495E-AA8E-A0B1D1A2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DDB2-F2B0-4D72-804D-BF93C81E7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eplib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609480"/>
            <a:ext cx="6172200" cy="5718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Value of Participating in the FDLP: How Depository Coordinators Can Effectively Convey This Mess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ary Prophet - Deputy Dir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enison University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deplib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609480"/>
            <a:ext cx="6172200" cy="57182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ailable Electronic Subscri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vironmental Health Persp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deplib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609480"/>
            <a:ext cx="6172200" cy="57182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 Value of Depository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ical Coll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ibli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and future distributions in physical format and electronic subscri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deplib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609480"/>
            <a:ext cx="6172200" cy="57182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ing beyond monetary value and cost effectiveness stu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deplib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609480"/>
            <a:ext cx="6172200" cy="57182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ou must be convinced yourself - Know what you are selling and w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e able to look at the big picture and establish a reputation for looking at the big pi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hoose your batt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ive when it is reasonable to g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fend what is absolutely neces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ying the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deplib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609480"/>
            <a:ext cx="6172200" cy="57182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n you provide help to either your primary users or community user go the extra d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en possible give presentations at local civic organ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othing works quite as well as having the University President’s Rotary buddy wax lyrical the service given by the documents de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w the usefulness of the collection: both old and n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deplib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609480"/>
            <a:ext cx="6172200" cy="57182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se your display spaces to good eff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n possible display documents in the director’s, provost’s or president’s area of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clude Documents in as many library displays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m as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se multiple formats if possible including web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w the usefulness of the collection: both old and new 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deplib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609480"/>
            <a:ext cx="6172200" cy="5718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ository requirement = benefits for librar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inimum technical standards can insure that libraries have equipment not only adequate for depository operations but also for the changing demands of bibliographic and full text, graphic datab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inimum e-competencies for depository staff can help insure all library staff have minimum skills to function in the current and future information environ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deplib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609480"/>
            <a:ext cx="6172200" cy="57182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till designing a new government information paradig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ftermath of 9/11 has provided shocks yet to be fully addressed to the access to federal information both now and in the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terior web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urrent review of Government information releases in both physical and electronic forma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ve New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deplib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609480"/>
            <a:ext cx="6172200" cy="5718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RL Lawy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P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Questions the agencies on real necessity of withdrawing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vides instructions, guidelines and procedures for handling withdrawing and sequestering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LP as advoc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deplib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609480"/>
            <a:ext cx="6172200" cy="57182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PO Partner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lectronic Initi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uture developments yet 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roles of GPO &amp; the FD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eplib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00200" y="762120"/>
            <a:ext cx="6172200" cy="5717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Ques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all the government information now available via the internet,  is it still beneficial for this library to remain part of the Federal Depository Library Syst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deplib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609480"/>
            <a:ext cx="6172200" cy="5718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e FDLP has created a core of librarians nation wide with similar pressures, issues and concer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ese librarians have created a helpful &amp; cooperative fellowship that provides intellectual, moral, and technical support to both depository and non-depository library commun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ty of Depository Librari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deplib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609480"/>
            <a:ext cx="6172200" cy="57182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an no longer fulfill your obligations under the depository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ck of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ck of expert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ne among many depository libraries in th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latively new depository without significant historical coll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 longer an asset to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ving the FD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deplib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609480"/>
            <a:ext cx="6172200" cy="57182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eplib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609480"/>
            <a:ext cx="6172200" cy="5718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mparative fig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ne 1990-March 19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s Receiv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per - 5,63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fiche - 2,1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s - 1,3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s and Floppy discs - 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ne 2001-March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s Recei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per - 1,6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fiche - 1,94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s - 1,05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Disks - 15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deplib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609480"/>
            <a:ext cx="6172200" cy="5718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nt Chang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0" y="2590920"/>
            <a:ext cx="5029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own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7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fic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own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own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P     120%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deplib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609480"/>
            <a:ext cx="6172200" cy="5718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sts to Consider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ity che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uare Footage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ly running for new construction approximately $140.00 per Sq. 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wth Rate for the physical collection has slowed reducing need for new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lving &amp; storage Cos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deplib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609480"/>
            <a:ext cx="6172200" cy="5718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sts to Consider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ity che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ffing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/3 FTE Professional Staff, 1FTE Support Staff, 1 FTE Student St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fewer physical items mean this staffing level can be reduc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eplib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609480"/>
            <a:ext cx="6172200" cy="57182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sts to Consider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ity che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ice Supply Cost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ing Cos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aloging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 Equipment Cos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eplib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609480"/>
            <a:ext cx="6172200" cy="5718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ssential Titles for Public Use in Paper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aterials not available on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aterials that are incomplete on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aterials that are unreliable on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aterials that serve special needs pop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we still getting in tangible form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deplib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609480"/>
            <a:ext cx="6172200" cy="57182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we still getting in tangible form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aterials whose electronic dissemination costs are larger than tangible distribution co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aterials with legal requirements to distribute in tangible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5T15:18:50Z</dcterms:created>
  <dc:creator>Anna Pilston</dc:creator>
  <dc:description/>
  <dc:language>en-US</dc:language>
  <cp:lastModifiedBy>Mary Prophet</cp:lastModifiedBy>
  <cp:lastPrinted>2002-04-17T22:22:18Z</cp:lastPrinted>
  <dcterms:modified xsi:type="dcterms:W3CDTF">2002-04-18T13:18:54Z</dcterms:modified>
  <cp:revision>14</cp:revision>
  <dc:subject/>
  <dc:title>Historical Government Documents Cataloging Project:  The Five Colleges of Ohio</dc:title>
</cp:coreProperties>
</file>