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38A-C4A8-4704-8D1F-9D3E1293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6F9-6BF3-4B87-8BD5-CB8D90CE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1B9-D69E-4537-A7F1-B5173E1E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578-2DD3-4244-AEDE-18C4FDF9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EF5C-8109-4A9E-95CF-FD7DD443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CDB5-07E7-485F-88A5-5A9A2117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56E8-28BB-4585-845E-6C6F06F8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C1D2-DAE4-409B-91D1-3087C03D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5931-C6F2-4FD4-9862-D6643A35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0CB4-D098-4A53-936C-AB3D1A8B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BDF2-953D-4E2C-B757-03BA1F7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78E-4755-4227-A1BC-A2F2BE73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68E1-D2A8-4DC5-A3EE-B29DA178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80D5-1B9D-4B65-9DA1-5BCD93C1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BDC7-A9C9-4C71-8723-E4DB19E7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E5A3-D2CD-4D22-BCBF-A8569F1F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F922-A8DD-404A-9F39-68661AAE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1B4-AEE5-41D5-B103-60355746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278-91B0-4F0A-87F8-9D011845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388-FE09-4DE7-8C21-E32BD382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0D1-6DCE-40B2-90ED-B9CFB276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0FA-AB06-40AD-9517-BA81F72F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AC8-46F0-4803-98C4-99B002A9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108-766A-4865-8617-9DC3AED8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9103-AF87-4C00-8054-160C5C36CE5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511E-2776-4A6A-9475-E448C8E78B8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78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NJURY SURVEILLANCE IN TRINIDAD - The San Fernando General Hospital Experience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nna Byno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7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chanism of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s accounted for 32.5% of the Level IV injuries whilst Other Blunt Force accounted for 26.8% of the Level IV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dominant mode of transportation is the private car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eading mode of transport is the pedest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ading type of road user is the passenger, next predominant road user is the d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nical Outco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826920" y="2060640"/>
          <a:ext cx="759168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60640"/>
                    <a:ext cx="75916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nical Outco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1% of persons sustaining an unintentional injury died in the A&amp;E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2.1% of persons discharged sustained an intentional interpersonal inj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20% of persons sustaining a fall were admitted to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.9% of traffic injuries admitted to hos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stem Limi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jury surveillance system exists only in South West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 of injuries may differ substantially across different Health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does not capture injuries presenting at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Ce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-representation of fatal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d implement intervention strategies with key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and sensitisation of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 of the system to other A&amp;E Departments within the SWR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expansion of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ibbean Epidemiology Cent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uth West Regional Health Authority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(data collection and entry, nursing staff, medical staff, hospital administr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inistry of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tary Club, San Fernando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AHO (biennial fu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ealth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Surveillance System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illance System initiated in December 2001 with grant from IDR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 initiative of the CAREC, SWRHA and the Rotary Club, San Fernando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commenced in February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 with Mc Laughlin Centre, Ottawa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2002- Dec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chment population: 500, 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3.5% of all A&amp;E Department Vis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tal Injuries by year 2002-200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92280" y="1484280"/>
          <a:ext cx="7669080" cy="52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484280"/>
                    <a:ext cx="7669080" cy="52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 Grou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16000" y="1830240"/>
          <a:ext cx="6769080" cy="45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30240"/>
                    <a:ext cx="67690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1197000"/>
          <a:ext cx="8424720" cy="50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42472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ntional Interpersonal Inju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rel - predominant context of injury Leading context in the 25 – 44 age category with men twice likely to be at risk than female counterpa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dominant object used during a Quarrel was Bodily force and predominant location is home,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ading location is street/high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ntional Interpersonal Inju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dominant Victim/Perpetrator Relationship was a friend/ acquaintance and leading age group is 25 – 44 years,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ading age group is 15 – 2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ominant Object Used is bodily force especially with 25 – 44 and 15 – 24 age grou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chanism of Injury 2002-200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85920" y="1847880"/>
          <a:ext cx="803412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1847880"/>
                    <a:ext cx="80341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4:41:37Z</dcterms:created>
  <dc:creator>Bynoe</dc:creator>
  <dc:description/>
  <dc:language>en-US</dc:language>
  <cp:lastModifiedBy>lois</cp:lastModifiedBy>
  <dcterms:modified xsi:type="dcterms:W3CDTF">2006-09-01T19:34:03Z</dcterms:modified>
  <cp:revision>27</cp:revision>
  <dc:subject/>
  <dc:title>INJURY SURVEILLANCE IN TRINIDAD AND TOBAGO</dc:title>
</cp:coreProperties>
</file>