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045-D615-4308-9B7A-82284668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8DC-5EC0-4524-9D42-F32BB6A2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FDF-6027-4B3D-AE8C-BE88E3E2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7C6-A441-4FFA-9439-B2A2CE6E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3C4-A593-4883-8552-2085B374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5EE-9759-4C86-A8C3-AC4101C8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330-BE07-4812-8064-399A70F8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6CC7-4A62-4301-A756-DC0D426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EFBA-4EDE-44EF-86A7-2160DD4E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5F86-983C-4701-A9E2-D19BB2D3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60DD-D564-4CBE-B981-14A6F6F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EDF-B75F-486F-8C05-B33C0306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9E9F-25D0-4642-86CC-0288C13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AED1-985F-4975-98BB-42AF5B47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836-32ED-46A9-9033-791D993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A1E-A83D-4206-9713-C30BE39A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615-5710-4B5A-A451-278E5411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D60F-1A5E-4397-AFCE-61C3064F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9045-1C49-4ED4-ADB5-8ECA3CF0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10EC-7A96-43AC-B4B9-F3AE77D9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3C1B-311F-4398-AB37-6EFD2A12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61A1-91B9-4CA8-805D-A424C53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9E3-946C-4A52-A287-0E5D80AA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01B3-748C-454D-B295-F2F165D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F7D2-4068-4E9B-8325-754338C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3DC5-5320-4EFF-A5F7-92EC6C9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75AD-87D9-4BCD-8B0E-74AD0681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2871-376F-4B04-AD78-F7D5A0E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7504-B04F-4DD1-B9DC-2391CA07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CC96E-52A1-4651-BDB4-69563B81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F2D-8519-41C6-AD21-8CF845FB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D35-B3B4-41D6-A94D-B8AB29B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BBC-3048-4332-ACA9-6D0053A8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872-418E-4472-9E55-C5E0BB6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A32-1DD6-4BAA-B3F0-395C741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B13-2CE5-4BD2-A541-0F0B251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C86-7A2E-4385-B08B-FDA8706F0F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527-9875-49F7-8A9F-B454084265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B71-2369-4A5B-8037-68444892C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UNA</a:t>
            </a:r>
            <a:br>
              <a:rPr sz="5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odankyla validation campaig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hard McPeters and Bojan Boj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SA/GSF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Maryl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77320" y="228600"/>
          <a:ext cx="8427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28600"/>
                    <a:ext cx="842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029600" y="6172200"/>
            <a:ext cx="70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ra Science Team, Pasadena CA                                          October 1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52280"/>
          <a:ext cx="121788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52280"/>
                    <a:ext cx="12178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column ozone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l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tellite measurements agree within 2-3% glob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ces at low sun, high column amounts, high reflectivities, et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verify the accuracy of ground-based measurements for satellite validation purpo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al column ozone issues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n attempt to better understand the column issues, NASA, ESA and FMI conducted two field campa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during high column, low sun periods in Northern Finl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rch-April 200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ebruary-April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bined network instruments: Dobsons, Brewers, DOAS, sondes and LID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d World and European standard instru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olved more than 30 Scientists from 12 institutes in 10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355760" y="5518080"/>
            <a:ext cx="70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zone measurements made by double Brewer throughout the day on April 5, 2006. The double Brewer i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ssum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be accurate for SZA &lt; 8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08040" y="551808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bson measurements made with AD pair to ~65° SZA, the switch to CD p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80880" y="0"/>
          <a:ext cx="8305920" cy="64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64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812960" y="5442120"/>
            <a:ext cx="64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MI agreed well with ground based measurements during two overpasses. Single Brewer shows some error at high SZA (high slant column ozon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28880" y="746280"/>
          <a:ext cx="7086600" cy="53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746280"/>
                    <a:ext cx="7086600" cy="53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25640" y="701640"/>
          <a:ext cx="709272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701640"/>
                    <a:ext cx="709272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UNA (column) 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UNA behavior seen at other high and mid-latitude s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 from double Brewers should be used for Aura ozone validation at high solar zenith ang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te of the network calibration (Brewer and Dobson) are uncertain and may require improv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 improved GB calibration, differences most probably due to ozone X-sections uncertain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 spectral resolved X-section required which can be used by both satellites and ground-based instru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9:32:15Z</dcterms:created>
  <dc:creator>Rich McPeters</dc:creator>
  <dc:description/>
  <dc:language>en-US</dc:language>
  <cp:lastModifiedBy>Richard McPeters</cp:lastModifiedBy>
  <dcterms:modified xsi:type="dcterms:W3CDTF">2007-10-01T15:12:55Z</dcterms:modified>
  <cp:revision>13</cp:revision>
  <dc:subject/>
  <dc:title>SAUNA</dc:title>
</cp:coreProperties>
</file>