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59D-E18D-4D10-9704-6751407D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8A7-386B-4B0E-BEC8-31FB08E9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1DD-D369-49C1-A4F0-01FBE3DA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C4A-E08A-4B6F-A759-0797B7FD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9CD8-2F46-4911-A6BC-0069202B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376E-5804-4017-9C52-A6D3CE45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9BE7-AA12-4471-BAC5-DDF60EB4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F440-5E09-4AC9-89E7-4BE3A20D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A98D-97FD-4633-9AD5-E19EF4A8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E561-2420-4918-921F-B45E0C75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66C9-DC85-4922-9383-AD704E91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72D-4C3A-43D9-A5CF-0A85A17F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F0FF-99EE-4F6A-83D1-3FFDC59A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A3B6-F34B-4EA6-BFBE-D6B0EC8E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872C-89B7-4FB2-A96B-2F3448E3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2A87-DD83-492F-A8C8-55F3F677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3963-750F-4C58-B67C-10E65557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789-DD1B-4FD7-9F49-73FB1161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891-A0C5-4BD8-9EB1-A060E636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CB5F-2BF9-4DE3-BECF-65AE0CF3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12F-0E27-4021-BD4A-FA863B57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6CB-8C71-445B-8097-11514B25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2FA-CE83-4EB4-82FF-E9508F73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1B4-21F4-43C8-A220-5F454DF9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5362-CDC6-4345-A6A2-3FDEC2DA3A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33CA-F9D4-4432-82EC-03567A30FD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fm.ars.usda.gov/ppweb/" TargetMode="External"/><Relationship Id="rId2" Type="http://schemas.openxmlformats.org/officeDocument/2006/relationships/hyperlink" Target="http://www.mwa.ars.usda.gov/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REASONABLE ACCOMMODA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Observance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bility Awareness Mon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ober,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ffec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of Impairment on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hat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vidual’s Life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ation as to whether an individual is substantially limited must always be based on the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effe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an impairment or condition of life of a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particular pers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Tahoma"/>
              </a:rPr>
              <a:t>Are “Temporary Disabilities” Covered?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long an impairment lasts is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actor to be considered,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 by it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look at the extent, duration, and impact of the impair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rd of a Substantially Limiting Cond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a record of such an impairme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ects people having a history of a disability, whether or not they currently are substantially limited in a major lif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garded as Having Substantially Limiting Condi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regarded as having such impairme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60240" indent="-660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ects people who are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tantially limited in a major life activity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perceived to have such a limi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Is a “Qualified Individual with a Disability”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Protects </a:t>
            </a:r>
            <a:r>
              <a:rPr b="0" lang="en-US" sz="2800" spc="-1" strike="noStrike">
                <a:solidFill>
                  <a:srgbClr val="a202a2"/>
                </a:solidFill>
                <a:latin typeface="Tahoma"/>
              </a:rPr>
              <a:t>Qualifie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s with Disabilities from Employment Discriminatio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 with a disability who “. . . satisfies the </a:t>
            </a:r>
            <a:r>
              <a:rPr b="0" lang="en-US" sz="2800" spc="-1" strike="noStrike">
                <a:solidFill>
                  <a:srgbClr val="a202a2"/>
                </a:solidFill>
                <a:latin typeface="Tahoma"/>
              </a:rPr>
              <a:t>requisite ski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experience, education and other job-related requirements of the employment position such individual holds or desires, and who, </a:t>
            </a:r>
            <a:r>
              <a:rPr b="0" lang="en-US" sz="2800" spc="-1" strike="noStrike">
                <a:solidFill>
                  <a:srgbClr val="a202a2"/>
                </a:solidFill>
                <a:latin typeface="Tahoma"/>
              </a:rPr>
              <a:t>with or without reasonable accommod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can perform the </a:t>
            </a:r>
            <a:r>
              <a:rPr b="0" lang="en-US" sz="2800" spc="-1" strike="noStrike">
                <a:solidFill>
                  <a:srgbClr val="a202a2"/>
                </a:solidFill>
                <a:latin typeface="Tahoma"/>
              </a:rPr>
              <a:t>essential func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such position.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1 -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 Prerequisites for Job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e4a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202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c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a47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Job-Related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2 –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form Essential Function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if individual can perform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essential func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the job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 with or without reasonable accommod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ing “essential functions of the job”;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ing whether the person with a disability can perform these functions, unaided or with a “</a:t>
            </a:r>
            <a:r>
              <a:rPr b="0" lang="en-US" sz="2800" spc="-1" strike="noStrike">
                <a:solidFill>
                  <a:srgbClr val="a202a2"/>
                </a:solidFill>
                <a:latin typeface="Tahoma"/>
              </a:rPr>
              <a:t>reasonable accommod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Is Reasonable Accommodation Appli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ree aspects of employmen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pplication process; e.g. wheelchair accessibility to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erform essential functions of job; e.g., restructuring a job by redistributing marginal job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e4a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njoy equal benefits and privileges of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202a2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al access to lunchrooms, rest rooms, meeting room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a47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al opportunities for advancement, training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due Hard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hange or modification is required if accommodation would impose an “undue hardship” on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specific accommodation requiring significant difficulty or expe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statutory limi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4a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ation is made on case-by-case ba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Is Reasonable Accommodation Not Requir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erson has not been determined to be a “qualified individual with a disability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commodation would impose an undue hardship on th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do so would lower quality or production 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ccommodation would provide personal-use items; e.g., glasses, hearing aid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ere Did the Term Come From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1992 Amendment to the Rehabilitation Act of 197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came from the Americans with Disabilities 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o Request Reasonable Accommoda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responsibility of the applicant or employee with a disability to request a reasonable accommod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icant Not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loyers are responsible for notifying job applicants of their obligation to provide accommod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S vacancy announcements include such a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iew applicants should be asked if an accommodation is needed for the intervie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e4a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eed is indicated, then applicant should be asked what type of accommod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view Questions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-Employment Inqui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sk questions about an applicant’s ability to perform specific job functions as long as not phrased in terms of a di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sk </a:t>
            </a:r>
            <a:r>
              <a:rPr b="0" lang="en-US" sz="2800" spc="-1" strike="noStrike">
                <a:solidFill>
                  <a:srgbClr val="a202a2"/>
                </a:solidFill>
                <a:latin typeface="Tahom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pplicants to describe how they will perform a job, with or without accommo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 make an inquiry about a di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e4a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 make medical inquiries or conduct medical exam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loyee Requests and Responsi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made orally or in writing to first- or second-level supervisor or ARS Disability Program Manager, Mary W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ggest accommod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e to medical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 REE-172 may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es in interactive process to clarify nee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e4a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eed to provide medical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ervisor Responsi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s reasonable accommodation requ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gages in interactive process to clarify what employee nee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s ARS Disability Program Manager, Mary Ward with Civil Rights Sta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4a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s confidenti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202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expeditious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47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s Form REE-17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olicy and Procedure 122.2, Reasonable Accommodation Proced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guidance for employees and supervis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time frames for processing requ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a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e4a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afm.ars.usda.gov/ppweb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e4a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al Opportunity/Civil Rights portion of the MWA’s web site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mwa.ars.usda.gov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S’ Disability Program Manag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y W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with Civil Rights Staf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:  202-690-037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fundamental statutory requir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ves workplace barriers for qualified individuals with dis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determined by facts of each particular 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4a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provided on a case-by-case ba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oes the Term Me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orkplace modification so the individual with a disability c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y for a job; e.g., provide application form in large pr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 the essential functions of the job; e.g., install screen magnification software on a 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joy the job benefits; e.g., rearrange work station to accommodate a wheel ch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Does the Act Cov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protects </a:t>
            </a:r>
            <a:r>
              <a:rPr b="0" lang="en-US" sz="2800" spc="-1" strike="noStrike">
                <a:solidFill>
                  <a:srgbClr val="a202a2"/>
                </a:solidFill>
                <a:latin typeface="Tahoma"/>
              </a:rPr>
              <a:t>Qualified Individuals with Disabilit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om Employment Discri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a “disability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is a “qualified individual with a disability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o Is an “Individual with a Disability”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a physical or mental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impair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at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substantially limi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e or more of the person’s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major life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a record of such an impairment; 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regarded as having such an impair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What Is an “Impairment”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a physical or mental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impair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at substantially limits one or more of the person’s major lif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hysical or mental dis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determined by use of medication or assistive de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“…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ne or more of the person’s </a:t>
            </a:r>
            <a:r>
              <a:rPr b="0" lang="en-US" sz="3600" spc="-1" strike="noStrike">
                <a:solidFill>
                  <a:srgbClr val="a202a2"/>
                </a:solidFill>
                <a:latin typeface="Tahoma"/>
              </a:rPr>
              <a:t>major life activiti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” –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at is a “Major Life Activity”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function that the average person can perform with little or no difficulty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2017440"/>
            <a:ext cx="43066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l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ea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ing manual ta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ing for one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“Substantially Limits”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a physical or mental impairment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0" lang="en-US" sz="3200" spc="-1" strike="noStrike">
                <a:solidFill>
                  <a:srgbClr val="a202a2"/>
                </a:solidFill>
                <a:latin typeface="Tahoma"/>
              </a:rPr>
              <a:t>substantially limi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e or more of the person’s major lif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 is unable to perform, or is  significantly limited in his/her ability to perform, an activity compared to an average per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 Determine if Impairment Substantially Limits Major Life Activity, Consider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severity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long it will last or is expected to las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permanent or long-term impact, or expected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9:14:19Z</dcterms:created>
  <dc:creator>mwa</dc:creator>
  <dc:description/>
  <dc:language>en-US</dc:language>
  <cp:lastModifiedBy>mernickb</cp:lastModifiedBy>
  <dcterms:modified xsi:type="dcterms:W3CDTF">2005-10-20T13:47:31Z</dcterms:modified>
  <cp:revision>177</cp:revision>
  <dc:subject/>
  <dc:title>REASONABLE ACCOMMO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