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32600" cy="9396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5E27-5D5E-47E0-8E6D-7D701E64C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4A29-75B0-40B4-9BC8-84C08999E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A5F3-5B3D-414F-A018-9F292E20D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41E7-F6CA-412F-A3FF-DD4486045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7122F-AD32-4F29-A034-4F35798B2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67862-10E3-4C70-8E24-D9A3D7B20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B6036-FBA5-401C-8372-69CCE3F66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F5BD8-7836-4CFA-A861-67164F7CE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AED3D-FE2D-4D87-85A5-E0261DF3C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C5F93-0342-4165-8210-EFDF6D09B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8EB90-D09C-409A-9C21-B2ACEAA8E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83F7-CE43-41BE-ACEB-F54EB01EC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9C26C-140D-459C-B9C4-F8EDE49E5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7E5EC-3ADA-4E20-9284-B83B183EB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49262-F9FF-40B0-9267-10F47617E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3675D-9424-4077-AF04-A4C3C309C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AFD5F-7B86-4B0F-9A98-0F15410C7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B0E0-DEF3-44ED-BA60-0C737B572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0904-381D-4ACC-9698-8282D4A96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0B81-7F78-466B-B33E-B61E8CB6D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35BD-A447-438A-AE16-5236A1292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E80A-479F-41A0-AEF4-ADCF0AE0E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7C9C-4EEC-46EF-B8A7-6A675C706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323A-535E-4540-8BB4-D324D5949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0EBC4-9165-495D-9EDA-3B4F4769FC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AD178-8951-48D9-A277-2035F486B7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SCIENCE COMMUNICATIONS RESEARCH ROADMAP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80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ATIONAL SCIENCE BOARD MEET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EBRUARY 2-3, 20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RVINE, CALIFORN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ICK E. BORCHEL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ENIOR RESEARCH ASSOCIATE, MANAGEMENT OF TECHNOLOG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VANDERBILT UNIVERSI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rborchelt@nasw.or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Science Communication:</a:t>
            </a:r>
            <a:br>
              <a:rPr sz="4400"/>
            </a:b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est Practic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nding 2 (more corollari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llaboration is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essential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o the process of science and to effective science communication, but collaboration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dilute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nstitutional advancement go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Science Communication:</a:t>
            </a:r>
            <a:br>
              <a:rPr sz="4400"/>
            </a:b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est Practic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nding 2 (exampl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munication of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failur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s essential to public understanding of science, but generally regarded as anathema to institutional advanc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Science Communication:</a:t>
            </a:r>
            <a:br>
              <a:rPr sz="4400"/>
            </a:b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est Practic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nding 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myriad of audience needs and interests should drive public communication of S&amp;T.   Communication should not be driven by the research enterprise’s desires about what it believes publics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houl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know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Science Communication:</a:t>
            </a:r>
            <a:br>
              <a:rPr sz="4400"/>
            </a:b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est Practic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nding 3 (corollari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cientists have an obligation to understand publics and their needs if communication is to be effec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tual respect between communicators and scientists (with joint veto over communication products and messages) is essenti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Science Communication:</a:t>
            </a:r>
            <a:br>
              <a:rPr sz="4400"/>
            </a:b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est Practic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nding 3 (exampl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se study: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ttp://science.nasa.go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2f5e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30400" y="137160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99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30400" y="205740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99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30400" y="287820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99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30400" y="342756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99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30400" y="399420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99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30400" y="496728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99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86760" y="1371600"/>
            <a:ext cx="2006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hief Scientist’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cience Communication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kg. Grou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986760" y="2089080"/>
            <a:ext cx="2006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cience Communication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kg. Group Strategy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Docu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87840" y="3489480"/>
            <a:ext cx="2053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ommunicate Knowledg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rocess Tea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88200" y="4146480"/>
            <a:ext cx="1695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neral Armstrong’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K Repor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992520" y="5029200"/>
            <a:ext cx="14853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New NASA Chief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cientis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NSSTC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stablish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54200" y="2133720"/>
            <a:ext cx="1883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NASA/MSFC Summer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Faculty Fellow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54200" y="2743200"/>
            <a:ext cx="1883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NASA/MSFC Summer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Faculty Fellow, Initi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cicomm Discussion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423240" y="3521160"/>
            <a:ext cx="2072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oundtable Establish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nitial Scicomm Activiti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432240" y="4010040"/>
            <a:ext cx="55022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.A. in Science Communications established, 1.5 Graduate Students, Research, First Research Publications in Scicomm, External Working Group Begins, NASA/MSFC Cited as “Best NASA Practice,” beginning of work for entire Center not just science area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432240" y="5029200"/>
            <a:ext cx="55022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ebby Award, C.A. in Science Communications, 3 Graduate Students, Sponsored Research, External Working Group Continues, Nation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est Practice” conference call for papers, National Scicomm Research Conference planning, Work for other NASA centers, exploration into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ommercial/industry partnerships.  Evaluation of the role of science communications in the NSSTC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205640" y="128520"/>
            <a:ext cx="702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A Brief History of Science Communications at NASA/Marshal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04920" y="2133720"/>
            <a:ext cx="79246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04920" y="2743200"/>
            <a:ext cx="79246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04920" y="3473280"/>
            <a:ext cx="79246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920" y="4022640"/>
            <a:ext cx="79246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04920" y="4952880"/>
            <a:ext cx="79246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920" y="990720"/>
            <a:ext cx="2895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111320" y="571680"/>
            <a:ext cx="178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Policy/Guida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711600" y="1600200"/>
            <a:ext cx="406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NASA/Marshall Activities and Progre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90720" y="533520"/>
            <a:ext cx="0" cy="5943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124080" y="1371600"/>
            <a:ext cx="0" cy="5105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200400" y="1371600"/>
            <a:ext cx="0" cy="5105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04920" y="1371600"/>
            <a:ext cx="2895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30400" y="99072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99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987480" y="990720"/>
            <a:ext cx="22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ffffff"/>
                </a:solidFill>
                <a:uFillTx/>
                <a:latin typeface="Times New Roman"/>
              </a:rPr>
              <a:t>Science in the Natl. Interes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900600" y="685800"/>
            <a:ext cx="4614120" cy="824040"/>
          </a:xfrm>
          <a:prstGeom prst="rect">
            <a:avLst/>
          </a:prstGeom>
          <a:solidFill>
            <a:srgbClr val="ffffcc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Times New Roman"/>
              </a:rPr>
              <a:t>“</a:t>
            </a:r>
            <a:r>
              <a:rPr b="1" i="1" lang="en-US" sz="1600" spc="-1" strike="noStrike">
                <a:solidFill>
                  <a:srgbClr val="000099"/>
                </a:solidFill>
                <a:latin typeface="Times New Roman"/>
              </a:rPr>
              <a:t>Federal Agencies will encourage research scientis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Times New Roman"/>
              </a:rPr>
              <a:t>to use their research experiences in support of publi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Times New Roman"/>
              </a:rPr>
              <a:t>understanding of science.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276720" y="1143000"/>
            <a:ext cx="3808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811160" y="762120"/>
            <a:ext cx="5567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“Webby” Awards: Class of 1999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209520" y="1523880"/>
            <a:ext cx="1230480" cy="98136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1507320" y="1584360"/>
            <a:ext cx="1117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B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n-l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209520" y="2658960"/>
            <a:ext cx="1238400" cy="98928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07680" y="2955960"/>
            <a:ext cx="1099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ahoo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209520" y="3809880"/>
            <a:ext cx="1230480" cy="98136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1506960" y="4022640"/>
            <a:ext cx="1820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maz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4"/>
          <a:stretch/>
        </p:blipFill>
        <p:spPr>
          <a:xfrm>
            <a:off x="209520" y="5029200"/>
            <a:ext cx="1230480" cy="9810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</p:pic>
      <p:sp>
        <p:nvSpPr>
          <p:cNvPr id="192" name=""/>
          <p:cNvSpPr/>
          <p:nvPr/>
        </p:nvSpPr>
        <p:spPr>
          <a:xfrm>
            <a:off x="1508760" y="5562720"/>
            <a:ext cx="2262240" cy="458280"/>
          </a:xfrm>
          <a:prstGeom prst="rect">
            <a:avLst/>
          </a:prstGeom>
          <a:solidFill>
            <a:srgbClr val="0066cc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Science@NA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2800440" y="1523880"/>
            <a:ext cx="1230120" cy="98136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4097160" y="1584360"/>
            <a:ext cx="1712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mithsoni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gaz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6"/>
          <a:stretch/>
        </p:blipFill>
        <p:spPr>
          <a:xfrm>
            <a:off x="2800440" y="2895480"/>
            <a:ext cx="1230120" cy="98136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4175280" y="3184560"/>
            <a:ext cx="826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N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7"/>
          <a:stretch/>
        </p:blipFill>
        <p:spPr>
          <a:xfrm>
            <a:off x="2800440" y="4495680"/>
            <a:ext cx="1230120" cy="98136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4174200" y="4708440"/>
            <a:ext cx="1413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bay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863680" y="2344680"/>
            <a:ext cx="2775960" cy="24087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Nominated, Non-Winner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cientific Americ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all Street Journ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SNB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w York Tim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BC New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ederal Expre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ta-Vista Translat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Science Communication:</a:t>
            </a:r>
            <a:br>
              <a:rPr sz="4400"/>
            </a:b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est Practic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nding 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ctive involvement of scientists and engineers is critical to the success of science communic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Science Communication:</a:t>
            </a:r>
            <a:br>
              <a:rPr sz="4400"/>
            </a:b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est Practic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nding 4 (corollari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scientists are integrated into communication will vary with the institution and the interests of the power elite --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there is no cookbook mod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Science Communication:</a:t>
            </a:r>
            <a:br>
              <a:rPr sz="4400"/>
            </a:b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est Practic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nding 4 (more corollari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ile science communicators may excel at communicating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products,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scientists are best communicators of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proces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(and best practice demands both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munication techniques must be integrated across training in scientific and technical disciplines (i.e., writing across the curriculum initiativ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bcbcb"/>
                </a:solidFill>
                <a:latin typeface="Times New Roman"/>
              </a:rPr>
              <a:t>Research Roadmap for the Communication of Science and Technology in the 21st Century (R2)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itially chartered by NASA/George C. Marshall Space Flight Cen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-year charter beginning in 199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ocus 1:  Set a research agenda for S&amp;T commun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ocus 2:  Identify and articulate “best practices” in public communication of S&amp;T from (mostly U.S.) research institu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ASA funding stream intermittent to nonexist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Science Communication:</a:t>
            </a:r>
            <a:br>
              <a:rPr sz="4400"/>
            </a:b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est Practic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nding 4 (more corollari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wards and incentives for public communication by scientists are virtually nonexistent at the institution leve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dia training for scientists is uneven and often poorly conceptualized.  The best kind of media training emphasizes respect for the culture of journalism rather than “quick-fix” abilities to speak to reporter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Science Communication:</a:t>
            </a:r>
            <a:br>
              <a:rPr sz="4400"/>
            </a:b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est Practic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nding 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cience communicators who can foster mutual respect between science and the media also are essential to effective public communication of scien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Science Communication:</a:t>
            </a:r>
            <a:br>
              <a:rPr sz="4400"/>
            </a:b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est Practic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nding 5 (corollari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mix of science-to-media skills for a science communicator varies with the institution and its objectiv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cess to the institution’s power elite is absolutely critical to succ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Science Communication:</a:t>
            </a:r>
            <a:br>
              <a:rPr sz="4400"/>
            </a:b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est Practic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nding 5 (more corollari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ccessful skills as a science communicator/PIO are best learned through strong mentoring programs and often are institution-specif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Science Communication:</a:t>
            </a:r>
            <a:br>
              <a:rPr sz="4400"/>
            </a:b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est Practic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nding 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mpact of new media and the fragmentation of existing media will have profound impacts on how and with whom we communicate about science and technolog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Science Communication:</a:t>
            </a:r>
            <a:br>
              <a:rPr sz="4400"/>
            </a:b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est Practic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nding 6 (corollari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cience communication/public info programs that define success as entrée to the evening news already are dinosaurs -- based on a 1940’s model of information flow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onvergence period for transition to new media will occur over the next 5-10 year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Science Communication:</a:t>
            </a:r>
            <a:br>
              <a:rPr sz="4400"/>
            </a:b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est Practic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If you remember nothing else from this presentati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tter public understanding of S&amp;T is a defensible goal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in and of itself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n a democratic society, whether or not such familiarity leads to better public advocacy for funding of resear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Science Communication Research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viewed the existing litera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ted considerable disconnect between science communication literature, diffusion of innovation literature, and health communication litera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dentified FIVE priority areas for research fund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Science Communication Research -- Funding Prioriti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1) Relationship (if any) between science communication, science literacy, and science advoca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2) Understand the interests/behaviors of the consuming publics (audience analysi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3)Understand the PIO-researcher-reporter nexus (game theory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Science Communication Research -- Funding Prioriti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4) Determine common ground between health/behavior communication and science communication per 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5) Determine common ground with diffusion of innovation/ag extension research effor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Science Communication:</a:t>
            </a:r>
            <a:br>
              <a:rPr sz="4400"/>
            </a:b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est Practic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nding 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re is no such thing as a “general audience” for S&amp;T communication -- there are many people with many different uses for S&amp;T information, and many levels of understanding with which to dea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Science Communcation:</a:t>
            </a:r>
            <a:br>
              <a:rPr sz="4400"/>
            </a:b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est Practic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nding 1 (corollari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ltiplicity of new media channels makes mass communication very difficul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aditional public relations models stress an outmoded, one-way “mediated” approa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ttle focus on building new audiences rather than serving presumed existing audi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Science Communication:</a:t>
            </a:r>
            <a:br>
              <a:rPr sz="4400"/>
            </a:b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est Practic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nding 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scientific community and managers of the science enterprise routinely fail to distinguish between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understanding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f science and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appreciatio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for science and its benefi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Science Communication:</a:t>
            </a:r>
            <a:br>
              <a:rPr sz="4400"/>
            </a:b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est Practic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nding 2 (corollari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munication programs that emphasize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institutional advancement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ften are touted as programs that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communicate science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- the goals of these two kinds of programs are not necessarily complementa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trics -- where they exist -- are usually reflections of the former, not the lat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6T17:59:41Z</dcterms:created>
  <dc:creator>maplets</dc:creator>
  <dc:description/>
  <dc:language>en-US</dc:language>
  <cp:lastModifiedBy>rdupree</cp:lastModifiedBy>
  <cp:lastPrinted>2000-01-31T21:44:28Z</cp:lastPrinted>
  <dcterms:modified xsi:type="dcterms:W3CDTF">2000-03-13T13:06:08Z</dcterms:modified>
  <cp:revision>8</cp:revision>
  <dc:subject/>
  <dc:title>SCIENCE COMMUNICATIONS RESEARCH ROADMAP</dc:title>
</cp:coreProperties>
</file>