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A1B826-2523-4F56-B62C-F60DFE86DAD0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PSI policy aims at unique protein structur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epresentatives of sequence families for which there are no known structur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Independent selection by each center, incorporating center mission as well as PSI requiremen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uplication minimized by public listing of all target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054-0444-4B6A-9028-F46C8E53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7EF-E9A0-480B-8CBF-22210D0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DD6-CCE4-42DF-B632-2B238160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4CC-18EB-4AF8-B099-C8F98A38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F547-BB76-48B3-B853-D8C9E49F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A4BF-032C-4BA7-83C9-748BE417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58C4-CEB3-4BB2-8CFA-4A30A935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66EE-2C18-4AB4-9F1E-4D29884C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00A6-8422-4114-8134-A87E776D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AF5F-98F6-4059-8B52-C47CA274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29BF-2BEE-4179-B95A-EF38D6D3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AE9-4C9A-4CB7-8D62-7A73549D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E1BB-AC99-4C5E-8E36-8D092F33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B9A5-BCB2-4C35-B4DD-F4671CD2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EA19-5720-46A9-B40D-6557E814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F762-CA09-40B0-9934-5784E341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8E1A-09E6-45A9-A06C-1A0E6B38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5D5-F77E-47D0-AC49-6D60389F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FAF-C580-4E86-9D90-0B4A4D81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2CA-37A5-4AAD-B305-2E1A81AA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74F-D958-4369-8AB0-875897FA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2C3-85F2-4713-8891-19A1764D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37F-CF57-46CB-B281-B2541A94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23A-6C41-474D-8D26-1FD716E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C5E1-FA2B-4FE4-BE60-419D8A0FE0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"/>
          <p:cNvSpPr/>
          <p:nvPr/>
        </p:nvSpPr>
        <p:spPr>
          <a:xfrm>
            <a:off x="4479840" y="31575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"/>
          <p:cNvSpPr/>
          <p:nvPr/>
        </p:nvSpPr>
        <p:spPr>
          <a:xfrm>
            <a:off x="4479840" y="31575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1CAB-F817-4809-867C-66FCF99448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"/>
          <p:cNvSpPr/>
          <p:nvPr/>
        </p:nvSpPr>
        <p:spPr>
          <a:xfrm>
            <a:off x="4479840" y="31575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4479840" y="31575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ning for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tein Structure Initi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tional Adviso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neral Medical Sciences Coun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ptember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SI Advisory Committe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Brian Matthews (Chair), University of Orego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avid Davies, NIDDK, NIH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Chris Dobson, Cambridge Universit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ny Kossiakoff, University of Chicago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d Lattman, Johns Hopkins Universit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Rowena Matthews, University of Michiga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Frank Prendergast, Mayo Clinic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Chris Sander, Sloan-Kettering Cancer Cen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Gerhard Wagner, Harvard Universit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Cathy Wu, Georgetown University Medical School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380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 Advisory Committe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Progress Review (March 2003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Comments from the Chair’s lette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ry impressed and highly encouraged by the progress”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 some cases, well-planned, highly efficient pipelines have been developed…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00 or more structure determinations per year, very substantial progress by some of the groups .....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novel technologies and approaches that could have a large impact…”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embrane proteins…difficult and challenging…complexes…some of the centers are beginning to address these…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 Pilot Phase -- Lessons Learne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tructural genomics pipelines can be constructed and scaled-up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24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High throughput operation works for many protein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nomic approach works for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ttlenecks remain for some prote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coordinated, 5-year target selection policy must be develo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mology modeling methods need impr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Production Phase (2005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Interacting network for high throughput protein structure determination with three component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Large-scale centers for protein structure production of selected target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pecialized centers for technology development leading to high throughput structure determination of difficult protein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Specialized centers for protein structures relevant to disease (other NIH Institutes and Centers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Included in NIH Structural Biology Roadmap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plan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-2 Production Phas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Program changes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following May 2003 Council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finement of the PSI goals statemen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o ensure completion of the production phase within the 5-year period, staff and members of the PSI Advisory Committee are developing target selection policy, milestones, and project end-poi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-2 Production Phas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gram changes (continued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pecialized centers for technology and methodology development: greater specificity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tructural genomics projects focused on completion of protein structures in an organism:  dele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pecialized centers for protein structures relevant to disease: supported by other NIH institutes and cente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Large-scale Cen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gh throughput structure output (200 or more unique structures per year for each cent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arget selection based on protein family representa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antitative 5-year goals with milest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gh throughput  oper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asks of the structural genomics pipe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sions for sharing facilities with the scientific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-2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rge-scale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nter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(continued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vities to promote research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vities to promote the participation of underrepresented minority researchers and/or students in structural biology resea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to 5 awards exp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ximum requested budgets $8M d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ported by NIG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Large-scale Centers Target se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presentatives of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arg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rotein fami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antitative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-year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ject end-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Large-scale Centers Target se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ramatically increase the number of families with known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ase unique structures to ~8,00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 structural coverage of sequenced ge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entrate on large sequence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ase structural information on sequenced genes to 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ider biological imp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quires 8,000 to 10,000 unique experimental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ructural Genom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gins with genetic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overy-driven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ique, non-redundant protein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rge-scale, organized, multidisciplinary projec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jor investments in infra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ngthy scaling-up peri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rnational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28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Large-scale Centers Target selection plann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rget Selection Workshop, Nov.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earch center staff, experts, PSI Advisory Committee (publ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eting of PSI Advisory Committee and PIs (public), Dec.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eting of PSI Advisory Committee (closed), Dec.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Large-scale Centers Homology Mode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 Accuracy Comparative Modeling Workshop, Oct.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dentify roadblocks to significantly improve the accuracy of comparative mode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-chairs, Rich Friesner and John Moul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-2 Specialized Centers</a:t>
            </a:r>
            <a:br>
              <a:rPr sz="40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Methodology and Technology Developme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ading toward high throughput operation for difficult proteins &amp;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embrane protei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Higher eukaryote proteins, especially hum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Other major bottlenecks to high throughpu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uld focus on a subset of structural genomics ta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ximum requested budgets $3M d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 to 6 aw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ported by NIGMS and other NIH institutes and cen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SI-2 Specialized Centers</a:t>
            </a:r>
            <a:br>
              <a:rPr sz="40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tructures for Function and Diseas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otein structures from pathogens and from tissues and organ systems related to diseas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ember of the PSI net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ximum requested budgets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$3M d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ay be supported by other NIH institutes and centers (not NIGM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-2 Plann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velopment of PSI-2 RFAs, Jan 20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I-2 applications reviewed by Council, May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I Pilots (FY 2003-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$65 million total cost annual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I-2 Production (FY20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$75 million total cost annual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earch Centers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ructures determin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1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77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1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3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2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4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* 31 started prior to a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SI Structure Statistics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2002-200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ique structures (30% seq. ID)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DB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w fol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S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DB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3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verage total cost per stru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SI Pilot ph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1        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$650 K     (7 centers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2    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$400 K    (9 centers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3      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$240 K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4       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   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5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$100 K  (goal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SI-2 Production ph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06-10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  $50 K  (goal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Comparison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~$250-300 K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ttp://www.nigms.nih.gov/psi/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ructural Genomics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rget strategy:  systematic sampling of protein sequence families to search for unique protein struct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rimental determination of unique protein structures in high throughput op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utational modeling of structures of sequence family homolo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572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15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28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tein Structure Initiative (PSI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-Range Go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make the three-dimensional atomic level structures of most proteins easily available from knowledge of their corresponding DNA sequ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649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1978560" y="30492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ucture provides information on function and will aid in the design of experi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velopment of better therapeutic targets fro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arison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of protein structures fro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thogens vs. ho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eased vs. normal t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33520"/>
            <a:ext cx="71024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cted PSI Benefit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llection of structures will address key biochemical and biophysical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tein folding, prediction, folds, evolution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nefits to biolog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chnology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uctural biology 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vailability of reagents and mate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perimental outcome data on protein production and crystall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33520"/>
            <a:ext cx="7102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 Benefit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Continued)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 Pilot Ph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-year pilot phase, September,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ilot phase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velopment of high throughput structure genomics pipe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ilots for testing all facets and strateg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SI target selection poli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presentatives of protein sequence famil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tional search for unique, non-redundant protein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blic listing of all targets and progress toward structure determi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28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I Pilot Research Cen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 research centers funded in FY2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wo additional research centers funded in FY20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-funding by NIAID for two of the nine research cen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ny sub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NIGMS Protein Structure Initiativ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762120"/>
          <a:ext cx="91440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212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267080" y="166860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886200"/>
            <a:ext cx="609480" cy="533520"/>
          </a:xfrm>
          <a:prstGeom prst="star5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3962520"/>
            <a:ext cx="609480" cy="533160"/>
          </a:xfrm>
          <a:prstGeom prst="star5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581280"/>
            <a:ext cx="533520" cy="457200"/>
          </a:xfrm>
          <a:prstGeom prst="star5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809880"/>
            <a:ext cx="609840" cy="533520"/>
          </a:xfrm>
          <a:prstGeom prst="star5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838080"/>
            <a:ext cx="609480" cy="533520"/>
          </a:xfrm>
          <a:prstGeom prst="star5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2590920"/>
            <a:ext cx="609480" cy="533160"/>
          </a:xfrm>
          <a:prstGeom prst="star5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2514600"/>
            <a:ext cx="609480" cy="533520"/>
          </a:xfrm>
          <a:prstGeom prst="star5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133720"/>
            <a:ext cx="609840" cy="53316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819520"/>
            <a:ext cx="609840" cy="53316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SI Pilot Research Center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, Japan,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281952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06668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2900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76212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464832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320040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66688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190512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4572000"/>
            <a:ext cx="22860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18148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50292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6576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312408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35268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12408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198108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8001000" y="2438280"/>
            <a:ext cx="228600" cy="2286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2514600"/>
            <a:ext cx="228600" cy="2286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1828800"/>
            <a:ext cx="22860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057400"/>
            <a:ext cx="22860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1828800"/>
            <a:ext cx="22860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2362320"/>
            <a:ext cx="22860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2438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219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76720"/>
            <a:ext cx="228600" cy="2286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191120"/>
            <a:ext cx="228600" cy="228600"/>
          </a:xfrm>
          <a:prstGeom prst="ellipse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3434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41148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37339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358128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213372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819520"/>
            <a:ext cx="228600" cy="2286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13:26:44Z</dcterms:created>
  <dc:creator>Pillsbup</dc:creator>
  <dc:description/>
  <dc:language>en-US</dc:language>
  <cp:lastModifiedBy>Dan Hogan</cp:lastModifiedBy>
  <cp:lastPrinted>2001-09-09T14:01:41Z</cp:lastPrinted>
  <dcterms:modified xsi:type="dcterms:W3CDTF">2003-10-01T21:19:23Z</dcterms:modified>
  <cp:revision>407</cp:revision>
  <dc:subject/>
  <dc:title>Planning for the Protein Structure Initiative -- NIGMS Advisory Council, September 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0230633</vt:r8>
  </property>
  <property fmtid="{D5CDD505-2E9C-101B-9397-08002B2CF9AE}" pid="3" name="_AuthorEmail">
    <vt:lpwstr>NORVELLJ@nigms.nih.gov</vt:lpwstr>
  </property>
  <property fmtid="{D5CDD505-2E9C-101B-9397-08002B2CF9AE}" pid="4" name="_AuthorEmailDisplayName">
    <vt:lpwstr>Norvell, John (NIH/NIGMS)</vt:lpwstr>
  </property>
  <property fmtid="{D5CDD505-2E9C-101B-9397-08002B2CF9AE}" pid="5" name="_EmailSubject">
    <vt:lpwstr>PSI.Council.03.09.summary.b1</vt:lpwstr>
  </property>
  <property fmtid="{D5CDD505-2E9C-101B-9397-08002B2CF9AE}" pid="6" name="_ReviewingToolsShownOnce">
    <vt:lpwstr/>
  </property>
</Properties>
</file>