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EBB-70C2-40AC-8D23-45C960EE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E21-4F7C-407B-8F0D-E7D6947A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398-C681-4860-9139-566B0A2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525-B032-4C7B-AB20-70520F71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FE1-8631-4E1E-ABB1-6AEC9FA7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30FD-C515-4175-9CD8-8409BD0D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0C7E-30EA-4042-8B65-1EA5EAF7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296E-1B92-484D-A0E7-22164E3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179-4417-4E53-913C-F0D798BB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28CA-CA61-46CB-9FF7-52E9292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BC81-8C30-40ED-8303-C493024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861-3949-4836-81BE-0343E77F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C6FD-B518-4DB9-925E-9B3351F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8791-C60D-4060-A131-FC617EC8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288C-C361-4EEC-8C94-FEC12AE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1ED1-4C96-4199-A21F-C3B059A0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EE90-3C95-4FBC-A368-2663FF4A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67F-7BAA-41E5-99ED-721D83C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1B9-85EF-4252-BB2E-F0B980C8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F6D-3CF9-4A57-86CF-5E404AED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D8F-96BA-4F70-BE35-347C0699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BF5-129E-46F6-A52C-A2119BD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74D-19EA-4DFC-B11A-3111046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43B-96E3-45CE-A192-E15FACE9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E17-2512-4F5D-98DC-C1E4EE59B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753-7409-4CB1-8C6F-E165CBD9C7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Cancer Outcomes for African-Americ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Hanover Regional Medical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astal Area Health Education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North Carolina at Chapel Hi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North Carolina at Wilming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ort given at the Program Steering Committee Meet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 June 2006, Toro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nership Rel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-Chapel H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ts to Chapel Hill by 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con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 consul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site for Head &amp; Neck t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LESYNERGY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®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al con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ment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apers at ATA, May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naker, Maguire, Rosen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Year &amp; a half of TELESYNER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southeastern N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u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ESYNER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®: Bridging academic and community radiology oncology treatment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ient Navigator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recruitment of pat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vy schedule of outreach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ed with Prostate Cancer Screening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f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volunt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ch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sychological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ed 260 inter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d 228  inter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tions based on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curriculum modules for M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rgy Day on Can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ng propo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the Utilization and Impact of the NCI’s Cancer Information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arly Patient Accruals and Total Enroll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Trial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hrough Apr 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2895480"/>
          <a:ext cx="6781680" cy="320040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040"/>
                <a:gridCol w="1130400"/>
                <a:gridCol w="11304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(2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(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(2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arly Patient Accruals and Total Enroll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igated Pati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rough Apr 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71600" y="2895480"/>
          <a:ext cx="6781680" cy="320040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040"/>
                <a:gridCol w="1130400"/>
                <a:gridCol w="11304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(8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(7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(5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(7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arly Patient Accruals and Total Enroll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ychological Study (closed 200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895480"/>
          <a:ext cx="6781680" cy="3200400"/>
        </p:xfrm>
        <a:graphic>
          <a:graphicData uri="http://schemas.openxmlformats.org/drawingml/2006/table">
            <a:tbl>
              <a:tblPr/>
              <a:tblGrid>
                <a:gridCol w="1130040"/>
                <a:gridCol w="1130400"/>
                <a:gridCol w="1130400"/>
                <a:gridCol w="1130040"/>
                <a:gridCol w="1130400"/>
                <a:gridCol w="11304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 (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 (5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 (4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 of Clinical T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 &amp; Neck t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erfractionated IMR with weekly concurrent Cisplat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investigator-initiated clinical trial at NHR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 patients enrolled (3 bl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early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effic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ly less tox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Clinical T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cell lung ca – Chemo plus chest radi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 of anal canal – Chemo + radi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tate Ca (RTOG 0232) – External beam plus brachytherapy versus brachytherapy alone (enrolled one black male in Ju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Clinical T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mall cell lung ca – Cranial irradiation vs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mall cell lung ca – Selenium sup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creatic ca (NSABP)– Chemo + radiotherapy vs ch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CIS (NSABP) – Anastrozole vs Tamoxi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er-reviewed Pub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scripts in pr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uire, Hamann, Men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ate cancer risk groups and treatment choices (ASTRO po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u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ment planning using TELESYNERG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® (ATA presen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ann, Mathews, Joh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s of cancer on cultural and social beliefs and attitudes (ASTRO po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er-reviewed Pub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scripts in preparation, cont’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twall, Maguire, Dobson, Ha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al differences in rectal cancer out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twall, C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al differences in frequency of breast conservation surgery and breast reconstruction in women with Stages 0,1,&amp; 2 breast can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6:40Z</dcterms:created>
  <dc:creator>shamann</dc:creator>
  <dc:description/>
  <dc:language>en-US</dc:language>
  <cp:lastModifiedBy>shamann</cp:lastModifiedBy>
  <dcterms:modified xsi:type="dcterms:W3CDTF">2006-06-21T21:56:04Z</dcterms:modified>
  <cp:revision>7</cp:revision>
  <dc:subject/>
  <dc:title>Improving Cancer Outcomes for African-Americans</dc:title>
</cp:coreProperties>
</file>