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D3DE-C04D-4315-ACDB-B5BB17983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6040" y="3707640"/>
            <a:ext cx="77724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6D27-45C1-4284-AED6-09F9FD232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6040" y="37076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8720" y="37076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D48F-3B9A-4962-9E86-74171F61E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44040" y="11552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1680" y="11552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16040" y="37076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44040" y="37076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1680" y="37076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C4D2-37DA-4BA0-8BE8-9702F6291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660760" y="369720"/>
            <a:ext cx="5906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16040" y="37076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6F3C-9C85-4EF7-A816-9967FF35B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8720" y="37076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6040" y="3707640"/>
            <a:ext cx="77724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6040" y="3707640"/>
            <a:ext cx="77724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6040" y="37076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8720" y="37076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4040" y="11552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1680" y="11552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16040" y="37076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4040" y="37076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1680" y="3707640"/>
            <a:ext cx="250236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BA3A-8A27-452F-9601-43702468E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1177-1C4B-4331-8638-2AE2AC320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AD00-A507-4900-ACF4-38B9AA1A4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660760" y="369720"/>
            <a:ext cx="5906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2D52-0559-4977-BC45-17B96EAAE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6040" y="37076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B72D-E226-4CAE-B46B-B77119B79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8720" y="37076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CAF9-309E-4303-AD3C-75278289B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8720" y="1155240"/>
            <a:ext cx="37926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6040" y="3707640"/>
            <a:ext cx="7772400" cy="2330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ADD1-A196-4B50-AA7B-812B569EC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278240" y="166680"/>
            <a:ext cx="20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1640" y="6213600"/>
            <a:ext cx="190512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zf: </a:t>
            </a:r>
            <a:fld id="{A15D82F3-25D0-4C7F-9B9D-A23274BF424E}" type="slidenum">
              <a:rPr b="1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236520" y="230040"/>
            <a:ext cx="855720" cy="7448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266760" y="5835600"/>
            <a:ext cx="700200" cy="781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35720" y="193680"/>
            <a:ext cx="14450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tional Aeronautics and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ace Administ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Jet Propulsion Laborato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lifornia Institute of Technolog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sadena, Californ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metblue" descr=""/>
          <p:cNvPicPr/>
          <p:nvPr/>
        </p:nvPicPr>
        <p:blipFill>
          <a:blip r:embed="rId5"/>
          <a:stretch/>
        </p:blipFill>
        <p:spPr>
          <a:xfrm>
            <a:off x="0" y="1023840"/>
            <a:ext cx="9144000" cy="42840"/>
          </a:xfrm>
          <a:prstGeom prst="rect">
            <a:avLst/>
          </a:prstGeom>
          <a:ln w="0">
            <a:noFill/>
          </a:ln>
        </p:spPr>
      </p:pic>
      <p:pic>
        <p:nvPicPr>
          <p:cNvPr id="8" name="lmetblue" descr=""/>
          <p:cNvPicPr/>
          <p:nvPr/>
        </p:nvPicPr>
        <p:blipFill>
          <a:blip r:embed="rId6"/>
          <a:stretch/>
        </p:blipFill>
        <p:spPr>
          <a:xfrm>
            <a:off x="874800" y="6154560"/>
            <a:ext cx="7583400" cy="432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84240" y="6248520"/>
            <a:ext cx="35877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AIRS Science Team – March 30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278240" y="166680"/>
            <a:ext cx="20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36520" y="230040"/>
            <a:ext cx="855720" cy="744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66760" y="5835600"/>
            <a:ext cx="700200" cy="781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35720" y="193680"/>
            <a:ext cx="14450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tional Aeronautics and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pace Administ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Jet Propulsion Laborato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lifornia Institute of Technolog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sadena, Californ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e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6e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66"/>
              </a:buClr>
              <a:buSzPct val="80000"/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8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GE Delivery and Data Processing Plans</a:t>
            </a:r>
            <a:br>
              <a:rPr sz="28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the</a:t>
            </a:r>
            <a:br>
              <a:rPr sz="20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ersion 4.0 Software Releas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Steven Friedman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AIRS Science Processing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90052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March 30, 2004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ta Ingest at the AIRS TLSCF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th V4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Beginning with V4.0 the JPL TLSCF will: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Stop ingesting Level 0 from the GSFC DAAC on a daily basis 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Continue ingesting Level 0 from the GSFC DAAC for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l Focus Day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ecial campaign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Continue ingesting products from the GSFC DAAC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l Level 2 standard retrieval produc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l Daily Browse Products – Level 1B and Level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adiosonde Match-Up Produc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ccasionally ingest 20 granules of all Levels 0,1 and 2 products(support spot checking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Begin ingesting Level 3 and fixed-site Match-Up Products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Continue ingesting selected granules from NOAA NRT process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</p:txBody>
      </p:sp>
      <p:pic>
        <p:nvPicPr>
          <p:cNvPr id="116" name="new" descr=""/>
          <p:cNvPicPr/>
          <p:nvPr/>
        </p:nvPicPr>
        <p:blipFill>
          <a:blip r:embed="rId2"/>
          <a:stretch/>
        </p:blipFill>
        <p:spPr>
          <a:xfrm>
            <a:off x="7853400" y="4959360"/>
            <a:ext cx="49536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FAEA-0B71-4DDC-A45E-D79952DFD3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ing and Reprocessing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t the GSFC DAAC with V4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960" y="1185480"/>
            <a:ext cx="807264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GSFC DAAC will begin processing with V4.0 when the release becomes operational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All forward processing will be performed with V4.0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Reprocessing will commence providing coverage back to</a:t>
            </a:r>
            <a:br>
              <a:rPr sz="1800"/>
            </a:b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August 31, 2002 and can be accomplished by: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c1881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881"/>
                </a:solidFill>
                <a:latin typeface="Arial"/>
              </a:rPr>
              <a:t>Marching backwards towards August 31, 2002? </a:t>
            </a:r>
            <a:r>
              <a:rPr b="0" lang="en-US" sz="1800" spc="-1" strike="noStrike">
                <a:solidFill>
                  <a:srgbClr val="0c188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1881"/>
                </a:solidFill>
                <a:latin typeface="Arial"/>
              </a:rPr>
              <a:t>– or – 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881"/>
                </a:solidFill>
                <a:latin typeface="Arial"/>
              </a:rPr>
              <a:t>Marching forwards from August 31, 2002?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Reprocessing includes rerunning all data from Level 0</a:t>
            </a:r>
            <a:br>
              <a:rPr sz="1800"/>
            </a:b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– Performs Level 1A &amp;1B, Level 2, Match-Up and Browse PGEs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For AIRS, allocated processing resources are 3x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881"/>
                </a:solidFill>
                <a:latin typeface="Arial"/>
              </a:rPr>
              <a:t>1x dedicated to forward processing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1881"/>
                </a:solidFill>
                <a:latin typeface="Arial"/>
              </a:rPr>
              <a:t>2x dedicated to reprocessing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1881"/>
                </a:solidFill>
                <a:latin typeface="Arial"/>
              </a:rPr>
              <a:t>It will take approximately 1¼ years to complete reprocessing</a:t>
            </a:r>
            <a:br>
              <a:rPr sz="1800"/>
            </a:br>
            <a:r>
              <a:rPr b="0" i="1" lang="en-US" sz="1800" spc="-1" strike="noStrike">
                <a:solidFill>
                  <a:srgbClr val="0c1881"/>
                </a:solidFill>
                <a:latin typeface="Arial"/>
              </a:rPr>
              <a:t>(may be less time, given Level 2 performance improvements)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89D9-DC91-46E7-B478-F9BB0368F5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ocessing Considerations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fter V4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After V4.0, reprocessing will not keep up with annual upgrades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Continuous improvement of PGEs, delivered to DAAC on an incremental basis – deliveries scheduled annually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Our desire to produce the best possible product versus the DAAC’s desire to produce complete collections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Something has to give… and processor resources are fixed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Either we hold back deliveries to pace reprocessing</a:t>
            </a:r>
            <a:br>
              <a:rPr sz="1800"/>
            </a:b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– or –</a:t>
            </a:r>
            <a:br>
              <a:rPr sz="1800"/>
            </a:b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we consider a hybrid approach after V4.0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Could we consider stabilizing Level 1A(?) and Level 1B(?) with V4.0 until the last reprocessing cycle at end of mission?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Allow table upgrades, but delay science algorithm changes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e"/>
                </a:solidFill>
                <a:latin typeface="Arial"/>
              </a:rPr>
              <a:t>Would dedicate processor resources to Level 2 reprocessing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DBE4-717B-4FA6-958F-3398F2C1B9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3.0 Reprocessing Status at the GSFC DAA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Processing status as of March 22, 2004*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23960" y="1521000"/>
            <a:ext cx="7696080" cy="4356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66960" y="5867280"/>
            <a:ext cx="760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*Solid bars indicate unprocessed d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37320" y="549288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endar Day of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91560" y="545472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25720" y="544824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C4D8-B593-4D40-9097-3DEDBD7A39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Manzana_03-27-04_029" descr=""/>
          <p:cNvPicPr/>
          <p:nvPr/>
        </p:nvPicPr>
        <p:blipFill>
          <a:blip r:embed="rId2"/>
          <a:stretch/>
        </p:blipFill>
        <p:spPr>
          <a:xfrm>
            <a:off x="401760" y="1171440"/>
            <a:ext cx="3908160" cy="3537000"/>
          </a:xfrm>
          <a:prstGeom prst="rect">
            <a:avLst/>
          </a:prstGeom>
          <a:ln w="0">
            <a:noFill/>
          </a:ln>
        </p:spPr>
      </p:pic>
      <p:pic>
        <p:nvPicPr>
          <p:cNvPr id="129" name="Manzana_03-27-04_119" descr=""/>
          <p:cNvPicPr/>
          <p:nvPr/>
        </p:nvPicPr>
        <p:blipFill>
          <a:blip r:embed="rId3"/>
          <a:stretch/>
        </p:blipFill>
        <p:spPr>
          <a:xfrm>
            <a:off x="4572000" y="3075120"/>
            <a:ext cx="3851280" cy="288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D095-7B57-4150-89ED-ED9B6926A8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6480" y="1928880"/>
            <a:ext cx="6791040" cy="2657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0052"/>
                </a:solidFill>
                <a:latin typeface="Arial"/>
              </a:rPr>
              <a:t>Version 4.0 Schedule</a:t>
            </a:r>
            <a:endParaRPr b="1" lang="en-US" sz="2400" spc="-1" strike="noStrike">
              <a:solidFill>
                <a:srgbClr val="190052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0052"/>
                </a:solidFill>
                <a:latin typeface="Arial"/>
              </a:rPr>
              <a:t>Version 4.0 Data Processing Plans</a:t>
            </a:r>
            <a:endParaRPr b="1" lang="en-US" sz="2400" spc="-1" strike="noStrike">
              <a:solidFill>
                <a:srgbClr val="190052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e"/>
                </a:solidFill>
                <a:latin typeface="Arial"/>
              </a:rPr>
              <a:t>Routine Data Processing at GSFC DAAC </a:t>
            </a:r>
            <a:endParaRPr b="1" lang="en-US" sz="2400" spc="-1" strike="noStrike">
              <a:solidFill>
                <a:srgbClr val="00006e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e"/>
                </a:solidFill>
                <a:latin typeface="Arial"/>
              </a:rPr>
              <a:t>Data Processing at AIRS TLSCF</a:t>
            </a:r>
            <a:endParaRPr b="1" lang="en-US" sz="2400" spc="-1" strike="noStrike">
              <a:solidFill>
                <a:srgbClr val="00006e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0052"/>
                </a:solidFill>
                <a:latin typeface="Arial"/>
              </a:rPr>
              <a:t>Version 4.0 Reprocessing Considerations</a:t>
            </a:r>
            <a:endParaRPr b="1" lang="en-US" sz="24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EE0C-E6DA-4374-BF1E-1AD45B75AF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nge Archeological Sites in the LA Are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3" name="Cave_Painting_2" descr=""/>
          <p:cNvPicPr/>
          <p:nvPr/>
        </p:nvPicPr>
        <p:blipFill>
          <a:blip r:embed="rId2"/>
          <a:stretch/>
        </p:blipFill>
        <p:spPr>
          <a:xfrm>
            <a:off x="4572000" y="1104840"/>
            <a:ext cx="2049480" cy="2611440"/>
          </a:xfrm>
          <a:prstGeom prst="rect">
            <a:avLst/>
          </a:prstGeom>
          <a:ln w="0">
            <a:noFill/>
          </a:ln>
        </p:spPr>
      </p:pic>
      <p:pic>
        <p:nvPicPr>
          <p:cNvPr id="94" name="Eagle_Rock" descr=""/>
          <p:cNvPicPr/>
          <p:nvPr/>
        </p:nvPicPr>
        <p:blipFill>
          <a:blip r:embed="rId3"/>
          <a:stretch/>
        </p:blipFill>
        <p:spPr>
          <a:xfrm>
            <a:off x="385920" y="1136520"/>
            <a:ext cx="3313080" cy="2484720"/>
          </a:xfrm>
          <a:prstGeom prst="rect">
            <a:avLst/>
          </a:prstGeom>
          <a:ln w="0">
            <a:noFill/>
          </a:ln>
        </p:spPr>
      </p:pic>
      <p:pic>
        <p:nvPicPr>
          <p:cNvPr id="95" name="Spirit_Cave" descr=""/>
          <p:cNvPicPr/>
          <p:nvPr/>
        </p:nvPicPr>
        <p:blipFill>
          <a:blip r:embed="rId4"/>
          <a:stretch/>
        </p:blipFill>
        <p:spPr>
          <a:xfrm>
            <a:off x="1065240" y="3749760"/>
            <a:ext cx="3214800" cy="2173320"/>
          </a:xfrm>
          <a:prstGeom prst="rect">
            <a:avLst/>
          </a:prstGeom>
          <a:ln w="0">
            <a:noFill/>
          </a:ln>
        </p:spPr>
      </p:pic>
      <p:pic>
        <p:nvPicPr>
          <p:cNvPr id="96" name="Cave_Painting_1" descr=""/>
          <p:cNvPicPr/>
          <p:nvPr/>
        </p:nvPicPr>
        <p:blipFill>
          <a:blip r:embed="rId5"/>
          <a:stretch/>
        </p:blipFill>
        <p:spPr>
          <a:xfrm>
            <a:off x="5425920" y="3897360"/>
            <a:ext cx="2941920" cy="22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93B9-1B41-44FB-A39B-94F587FA92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sion 4.0 Schedule – Key Objectiv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502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Version 4.0 to include enhanced validation coverage area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Extends coverage to land areas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Expands latitude range beyond </a:t>
            </a:r>
            <a:r>
              <a:rPr b="1" lang="en-US" sz="1800" spc="-1" strike="noStrike">
                <a:solidFill>
                  <a:srgbClr val="00006e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40°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Feature Set Enhancements to include: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Level 1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AIRS IR</a:t>
            </a:r>
            <a:br>
              <a:rPr sz="1800"/>
            </a:b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– Calibration enhancements - New gains, limits, etc.</a:t>
            </a:r>
            <a:br>
              <a:rPr sz="1800"/>
            </a:b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– Geolocation,    Potential algorithmic upgrades (?)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Microwave</a:t>
            </a:r>
            <a:br>
              <a:rPr sz="1800"/>
            </a:b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– Calibration enhancements,    Algorithmic upgrades (?)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Level 2 – </a:t>
            </a:r>
            <a:r>
              <a:rPr b="1" i="1" lang="en-US" sz="1800" spc="-1" strike="noStrike">
                <a:solidFill>
                  <a:srgbClr val="00006e"/>
                </a:solidFill>
                <a:latin typeface="Arial"/>
              </a:rPr>
              <a:t>the key ingredient to V4.0</a:t>
            </a: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Further improvement beyond V3.0 and V3.5 baselines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Incorporates many performance enhancements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Includes better retrieval algorithm, handling of outliers, QA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Final feature set must be solidified by early summer!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C07E-B9D6-4E5F-9266-E609321DB3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4.0 Tim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33240" y="1308240"/>
          <a:ext cx="7877520" cy="469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240" y="1308240"/>
                    <a:ext cx="787752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34A1-2D5F-4C89-9D70-36A415CDC7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sion 4.0 Milesto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305920" cy="4914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7000"/>
          </a:bodyPr>
          <a:p>
            <a:pPr marL="221400" indent="-221400">
              <a:spcBef>
                <a:spcPts val="499"/>
              </a:spcBef>
              <a:buClr>
                <a:srgbClr val="190052"/>
              </a:buClr>
              <a:buFont typeface="Arial"/>
              <a:buChar char="•"/>
              <a:tabLst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V4.0 – Next Release to DAAC &amp; NOAA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4" marL="1995480" indent="0">
              <a:spcBef>
                <a:spcPts val="300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4" marL="1995480" indent="0">
              <a:spcBef>
                <a:spcPts val="20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Prototyping Ends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6/01/04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marL="2214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Final Inputs to CCB</a:t>
            </a: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6/01/04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190052"/>
                </a:solidFill>
                <a:latin typeface="Arial"/>
              </a:rPr>
              <a:t>Last day to propose updates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marL="2214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Development Period Ends</a:t>
            </a: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7/05/04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marL="2214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Initial Build – V4.0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7/06/04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190052"/>
                </a:solidFill>
                <a:latin typeface="Arial"/>
              </a:rPr>
              <a:t>Anomalies / small changes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marL="2214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V4.0 Operational – Begin Validation DP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7/21/04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190052"/>
                </a:solidFill>
                <a:latin typeface="Arial"/>
              </a:rPr>
              <a:t>Critical anomalies ONLY!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marL="2214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Delivery to DAAC &amp; NOAA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8/31/04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marL="2214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V4.0 Operational – Begin Processing</a:t>
            </a: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9/30/04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marL="2214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90052"/>
              </a:solidFill>
              <a:latin typeface="Arial"/>
            </a:endParaRPr>
          </a:p>
          <a:p>
            <a:pPr marL="221400" indent="0">
              <a:spcBef>
                <a:spcPts val="45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V3.5 – Interim Release to NOAA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4/16/04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Improved L2, QA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marL="221400" indent="0">
              <a:spcBef>
                <a:spcPts val="451"/>
              </a:spcBef>
              <a:buNone/>
              <a:tabLst>
                <a:tab algn="l" pos="0"/>
                <a:tab algn="l" pos="42861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V3.7 – Internal JPL Benchmark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5/03/04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90052"/>
                </a:solidFill>
                <a:latin typeface="Arial"/>
              </a:rPr>
              <a:t>L3 Test, L2 In-process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5160" y="5210280"/>
            <a:ext cx="7801200" cy="42840"/>
          </a:xfrm>
          <a:custGeom>
            <a:avLst/>
            <a:gdLst/>
            <a:ahLst/>
            <a:rect l="l" t="t" r="r" b="b"/>
            <a:pathLst>
              <a:path w="4884" h="1">
                <a:moveTo>
                  <a:pt x="0" y="0"/>
                </a:moveTo>
                <a:lnTo>
                  <a:pt x="4884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880" bIns="-2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7920" y="1627200"/>
            <a:ext cx="4988160" cy="360216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165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1652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881"/>
                </a:solidFill>
                <a:latin typeface="Arial"/>
              </a:rPr>
              <a:t>Please keep in mi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165240">
              <a:lnSpc>
                <a:spcPct val="100000"/>
              </a:lnSpc>
              <a:spcBef>
                <a:spcPts val="1250"/>
              </a:spcBef>
              <a:buClr>
                <a:srgbClr val="0c188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88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1881"/>
                </a:solidFill>
                <a:latin typeface="Arial"/>
              </a:rPr>
              <a:t>All scheduled milestones are established to ensure that we deliver a quality V4.0 product on schedu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165240">
              <a:lnSpc>
                <a:spcPct val="100000"/>
              </a:lnSpc>
              <a:spcBef>
                <a:spcPts val="1250"/>
              </a:spcBef>
              <a:buClr>
                <a:srgbClr val="0c188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881"/>
                </a:solidFill>
                <a:latin typeface="Arial"/>
              </a:rPr>
              <a:t>There will always be new and better improvements, and there are other releases planned for the fu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5F5A-0731-49A9-BEC9-818EBCBF2E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tine Data Processing at the GSFC DAAC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th V4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With V4.0 the GSFC DAAC will process: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e"/>
                </a:solidFill>
                <a:latin typeface="Arial"/>
              </a:rPr>
              <a:t>Level 0 through Level 2 PGEs + Browse PGEs</a:t>
            </a:r>
            <a:endParaRPr b="1" lang="en-US" sz="20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Level 1B:  calibrated radiances, QA subsets, daily browse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Level 2:  retrieval standard,, retrieval support,</a:t>
            </a:r>
            <a:br>
              <a:rPr sz="1800"/>
            </a:b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CC radiances &amp; daily browse (retrieval and CC)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e"/>
                </a:solidFill>
                <a:latin typeface="Arial"/>
              </a:rPr>
              <a:t>Level 3 PGE – 3 </a:t>
            </a:r>
            <a:r>
              <a:rPr b="1" i="1" lang="en-US" sz="2000" spc="-1" strike="noStrike">
                <a:solidFill>
                  <a:srgbClr val="00006e"/>
                </a:solidFill>
                <a:latin typeface="Arial"/>
              </a:rPr>
              <a:t>new</a:t>
            </a:r>
            <a:r>
              <a:rPr b="1" lang="en-US" sz="2000" spc="-1" strike="noStrike">
                <a:solidFill>
                  <a:srgbClr val="00006e"/>
                </a:solidFill>
                <a:latin typeface="Arial"/>
              </a:rPr>
              <a:t> standard products for V4.0</a:t>
            </a:r>
            <a:endParaRPr b="1" lang="en-US" sz="20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Daily, 8-day, and monthly</a:t>
            </a:r>
            <a:br>
              <a:rPr sz="1800"/>
            </a:b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– additional products planned for later releases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e"/>
                </a:solidFill>
                <a:latin typeface="Arial"/>
              </a:rPr>
              <a:t>Subsetted data sets</a:t>
            </a:r>
            <a:endParaRPr b="1" lang="en-US" sz="20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Considering developing new subsetted radiance data sets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new" descr=""/>
          <p:cNvPicPr/>
          <p:nvPr/>
        </p:nvPicPr>
        <p:blipFill>
          <a:blip r:embed="rId2"/>
          <a:stretch/>
        </p:blipFill>
        <p:spPr>
          <a:xfrm>
            <a:off x="7308720" y="3348000"/>
            <a:ext cx="49536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A3F5-1418-4E50-AD71-22C56870CD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tine Data Processing at the GSFC DAAC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th V4.0 (cont’d.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052"/>
                </a:solidFill>
                <a:latin typeface="Arial"/>
              </a:rPr>
              <a:t>With V4.0 the GSFC DAAC will also process:</a:t>
            </a:r>
            <a:endParaRPr b="1" lang="en-US" sz="2000" spc="-1" strike="noStrike">
              <a:solidFill>
                <a:srgbClr val="190052"/>
              </a:solidFill>
              <a:latin typeface="Arial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e"/>
                </a:solidFill>
                <a:latin typeface="Arial"/>
              </a:rPr>
              <a:t>Match-Up PGE </a:t>
            </a:r>
            <a:r>
              <a:rPr b="1" i="1" lang="en-US" sz="2000" spc="-1" strike="noStrike">
                <a:solidFill>
                  <a:srgbClr val="00006e"/>
                </a:solidFill>
                <a:latin typeface="Arial"/>
              </a:rPr>
              <a:t>(products delivered to JPL ONLY!) </a:t>
            </a:r>
            <a:endParaRPr b="1" lang="en-US" sz="2000" spc="-1" strike="noStrike">
              <a:solidFill>
                <a:srgbClr val="00006e"/>
              </a:solidFill>
              <a:latin typeface="Arial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Radiosonde Match-Up – supports trending analysis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c1881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881"/>
                </a:solidFill>
                <a:latin typeface="Arial"/>
              </a:rPr>
              <a:t>Fixed-location* Match-Ups</a:t>
            </a:r>
            <a:endParaRPr b="1" lang="en-US" sz="1800" spc="-1" strike="noStrike">
              <a:solidFill>
                <a:srgbClr val="0c1881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dicated Validation Sit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 special validation sets – ACAR, ACFT, Dobson, Dobson_P, Yo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*No Dynamic Match-Ups will be performed at the GSFC DAAC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– a new fixed-location Match-Up is being developed: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fixed buoy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1" name="new" descr=""/>
          <p:cNvPicPr/>
          <p:nvPr/>
        </p:nvPicPr>
        <p:blipFill>
          <a:blip r:embed="rId2"/>
          <a:stretch/>
        </p:blipFill>
        <p:spPr>
          <a:xfrm>
            <a:off x="4871880" y="2771640"/>
            <a:ext cx="495360" cy="3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4865-0783-443C-B3F8-C565D5553E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0760" y="369720"/>
            <a:ext cx="5906880" cy="457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ta Processing at the AIRS TLSCF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th V4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6040" y="1155240"/>
            <a:ext cx="7772400" cy="5000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190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0052"/>
                </a:solidFill>
                <a:latin typeface="Arial"/>
              </a:rPr>
              <a:t>Beginning with V4.0 the JPL TLSCF will:</a:t>
            </a:r>
            <a:endParaRPr b="1" lang="en-US" sz="1800" spc="-1" strike="noStrike">
              <a:solidFill>
                <a:srgbClr val="190052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Stop baseline processing:</a:t>
            </a:r>
            <a:br>
              <a:rPr sz="1800"/>
            </a:b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 – Level 0 through Level 1B + Match-Up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Continue to process Focus Days (nominally, 48-day intervals)</a:t>
            </a:r>
            <a:br>
              <a:rPr sz="1800"/>
            </a:b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– starts with Level 0 producing the following products: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vel 1A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l AIRS, AIRS VIS, and AMSU produc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vel 1B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librated radiances, QA subsets, daily brow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vel 2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trieval standard, CC radiances, retrieva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upport, &amp; daily browse (retrieval and CC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vel 3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ily produ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6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e"/>
                </a:solidFill>
                <a:latin typeface="Arial"/>
              </a:rPr>
              <a:t>Continue to process other data as necessary</a:t>
            </a:r>
            <a:endParaRPr b="1" lang="en-US" sz="1800" spc="-1" strike="noStrike">
              <a:solidFill>
                <a:srgbClr val="00006e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upport continued software development &amp; te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upport validation campaign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will order additional Level 0 and/or Level 1B as need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6188-2925-48FB-8A9B-76A7038790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7:42:56Z</dcterms:created>
  <dc:creator>Thomas S. Pagano</dc:creator>
  <dc:description/>
  <dc:language>en-US</dc:language>
  <cp:lastModifiedBy>Steven Friedman</cp:lastModifiedBy>
  <cp:lastPrinted>2001-02-05T21:28:31Z</cp:lastPrinted>
  <dcterms:modified xsi:type="dcterms:W3CDTF">2004-03-30T12:07:00Z</dcterms:modified>
  <cp:revision>49</cp:revision>
  <dc:subject>AIRS</dc:subject>
  <dc:title>AIRS Project Staff Meeting </dc:title>
</cp:coreProperties>
</file>