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974760" y="0"/>
            <a:ext cx="304308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2240" y="698040"/>
            <a:ext cx="4653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3440" y="4420800"/>
            <a:ext cx="5613120" cy="4186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840520"/>
            <a:ext cx="304308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74760" y="8840520"/>
            <a:ext cx="304308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95DB7C-1815-4602-98CC-F7A82ABE3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at I’ve discussed how the PEP tool fits into our tool strategy,  I want to take you through a brief overview of the PEP 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P tool is a tool that takes a plant-wide approach to energy savings and looks at both equipment efficiency and operation practices to identify savings opportuniti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 input plant data that includ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ment information that describes the plant’s operation and produc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costs and usage from monthly fuel and electric bills as well as energy generation and exportation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 practices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P Tool uses this data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plant-wide energy maps for electricity, fuel, &amp; steam to describe the plant’s energy flow and us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where energy efficiency opportunities ex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the user an idea of the magnitude of the savings associated with these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plant’s practices to industry recognized best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8240"/>
            <a:ext cx="82296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38000"/>
            <a:ext cx="82296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8240"/>
            <a:ext cx="40158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8240"/>
            <a:ext cx="40158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38000"/>
            <a:ext cx="40158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38000"/>
            <a:ext cx="40158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8240"/>
            <a:ext cx="26496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8240"/>
            <a:ext cx="26496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8240"/>
            <a:ext cx="26496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38000"/>
            <a:ext cx="26496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38000"/>
            <a:ext cx="26496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38000"/>
            <a:ext cx="26496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824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824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8240"/>
            <a:ext cx="40158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8240"/>
            <a:ext cx="40158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85248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8240"/>
            <a:ext cx="40158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8240"/>
            <a:ext cx="40158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38000"/>
            <a:ext cx="40158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8240"/>
            <a:ext cx="40158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8240"/>
            <a:ext cx="40158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38000"/>
            <a:ext cx="40158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8240"/>
            <a:ext cx="40158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8240"/>
            <a:ext cx="40158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38000"/>
            <a:ext cx="822960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824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8680" cy="96372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07320" y="645336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774E-0892-4E9F-AD9B-99BAB2C13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9280" y="263016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36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OE Data Center Tools Suite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ssessment Tool Development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Electrical Exampl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86000" y="4808520"/>
            <a:ext cx="6400800" cy="16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rence Berkeley National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YP Mission 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msey Engin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ylor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1401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715080" y="1622520"/>
            <a:ext cx="1908360" cy="1469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ctions - Categori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938240"/>
          <a:ext cx="8229240" cy="4593960"/>
        </p:xfrm>
        <a:graphic>
          <a:graphicData uri="http://schemas.openxmlformats.org/drawingml/2006/table">
            <a:tbl>
              <a:tblPr/>
              <a:tblGrid>
                <a:gridCol w="7245000"/>
                <a:gridCol w="768600"/>
                <a:gridCol w="216000"/>
              </a:tblGrid>
              <a:tr h="77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 Center Assessment Efficiency Action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7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 Overall Energy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1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 Environmental Condi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 Air Management and Air Handl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7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. Economiz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 Central Cooling Pl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9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 IT Equipment Power Ch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 Ligh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 Maintenance &amp; Testing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Actions – Electrical Exampl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14360" y="1590840"/>
          <a:ext cx="8229600" cy="5267160"/>
        </p:xfrm>
        <a:graphic>
          <a:graphicData uri="http://schemas.openxmlformats.org/drawingml/2006/table">
            <a:tbl>
              <a:tblPr/>
              <a:tblGrid>
                <a:gridCol w="2616120"/>
                <a:gridCol w="3319560"/>
                <a:gridCol w="2293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 Centers Assessment: Efficiency 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iteria to Determine Applicability of Actions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using metrics and featur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gorithm to Determine Potential Savings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using metrics and featur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 IT Equipment Power Ch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6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imize UPS load capacity: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UPS types / topologies (DB Con/DLT Con/Rotary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Redundant configuration not to exceed (N+1) or 2 N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Use modular UPS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Shutting down modules when the redundancy level is high eno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icability Criteria: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&lt; 30% for N+x configuration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&lt; 40% for N configuration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luate / Retrofit UPS topologies for more efficient ones. Y / N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utting down UPS modules. Y / N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ular type UPS system. Y /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                                                                                                                                                                                                  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ed on typical UPS types - Rotary, Delta Conversion, Double Conversion, and Flywheel types. (see UPS efficiency Tab)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verall Energy Effectiveness is high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ider high efficient UPS types / topologi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 high efficient UPS types / topologies. Y/N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: Will increase UPS efficiency by 5-15%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: 0%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 UPS topologies offer high efficiency  at load capacity below 40%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verall Energy Effectiveness is high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ider UPS without input filter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e input filters installed. Y/N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: Removal will increase UPS efficiency by 1 to 2%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: 0%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 UPS topologies offer high efficiency  at load capacity below 40%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verall Energy Effectiveness is low / mediu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e need your input!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824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urpose of today’s workshop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ment too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spcBef>
                <a:spcPts val="8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ine the list of metrics and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spcBef>
                <a:spcPts val="8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ine the list of 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spcBef>
                <a:spcPts val="8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data collection challenges and opportu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3824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e you at the Electrical Breakout Workshop Sess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Objectiv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3824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Overview of Worksheet with Electrical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e of Worksheet in development of Assessment too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s of Worksh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spcBef>
                <a:spcPts val="8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spcBef>
                <a:spcPts val="8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rics and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spcBef>
                <a:spcPts val="8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of 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here Does Worksheet Fit In?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1841040"/>
            <a:ext cx="2975040" cy="337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ergy Profi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2541240"/>
            <a:ext cx="2975040" cy="337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system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242880"/>
            <a:ext cx="2975040" cy="3373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tailed Engineering Au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3943080"/>
            <a:ext cx="2975040" cy="3373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gineering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5344920"/>
            <a:ext cx="2975040" cy="3373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vings Validation (M&amp;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4644720"/>
            <a:ext cx="2975040" cy="3373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rofit/RCx Implemen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6046560"/>
            <a:ext cx="2975040" cy="3373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5" idx="2"/>
            <a:endCxn id="56" idx="0"/>
          </p:cNvCxnSpPr>
          <p:nvPr/>
        </p:nvCxnSpPr>
        <p:spPr>
          <a:xfrm>
            <a:off x="2387160" y="2178000"/>
            <a:ext cx="1080" cy="36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6" idx="2"/>
            <a:endCxn id="57" idx="0"/>
          </p:cNvCxnSpPr>
          <p:nvPr/>
        </p:nvCxnSpPr>
        <p:spPr>
          <a:xfrm>
            <a:off x="2387160" y="2878200"/>
            <a:ext cx="10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7" idx="2"/>
            <a:endCxn id="58" idx="0"/>
          </p:cNvCxnSpPr>
          <p:nvPr/>
        </p:nvCxnSpPr>
        <p:spPr>
          <a:xfrm>
            <a:off x="2387160" y="3579840"/>
            <a:ext cx="1080" cy="36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8" idx="2"/>
            <a:endCxn id="60" idx="0"/>
          </p:cNvCxnSpPr>
          <p:nvPr/>
        </p:nvCxnSpPr>
        <p:spPr>
          <a:xfrm>
            <a:off x="2387160" y="4280040"/>
            <a:ext cx="10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0" idx="2"/>
            <a:endCxn id="59" idx="0"/>
          </p:cNvCxnSpPr>
          <p:nvPr/>
        </p:nvCxnSpPr>
        <p:spPr>
          <a:xfrm>
            <a:off x="2387160" y="4981680"/>
            <a:ext cx="1080" cy="36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9" idx="2"/>
            <a:endCxn id="61" idx="0"/>
          </p:cNvCxnSpPr>
          <p:nvPr/>
        </p:nvCxnSpPr>
        <p:spPr>
          <a:xfrm>
            <a:off x="2387160" y="5681160"/>
            <a:ext cx="1080" cy="36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410000" y="1814400"/>
            <a:ext cx="341280" cy="1044720"/>
          </a:xfrm>
          <a:custGeom>
            <a:avLst/>
            <a:gdLst>
              <a:gd name="textAreaLeft" fmla="*/ 0 w 341280"/>
              <a:gd name="textAreaRight" fmla="*/ 123120 w 341280"/>
              <a:gd name="textAreaTop" fmla="*/ 27000 h 1044720"/>
              <a:gd name="textAreaBottom" fmla="*/ 101772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83"/>
                </a:lnTo>
                <a:cubicBezTo>
                  <a:pt x="10800" y="9883"/>
                  <a:pt x="16200" y="10783"/>
                  <a:pt x="21600" y="10783"/>
                </a:cubicBezTo>
                <a:cubicBezTo>
                  <a:pt x="16200" y="10783"/>
                  <a:pt x="10800" y="11683"/>
                  <a:pt x="10800" y="1258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760720" y="2335320"/>
            <a:ext cx="17859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able of Content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76120" y="1938240"/>
          <a:ext cx="8410680" cy="3759120"/>
        </p:xfrm>
        <a:graphic>
          <a:graphicData uri="http://schemas.openxmlformats.org/drawingml/2006/table">
            <a:tbl>
              <a:tblPr/>
              <a:tblGrid>
                <a:gridCol w="2494080"/>
                <a:gridCol w="5916600"/>
              </a:tblGrid>
              <a:tr h="320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 Center Assessment Protocol Workshe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she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pu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ts the features and metrics that are needed for each assessment a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 Coll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 this sheet to plan the data collection procedure for each data 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ts the potential efficiency actions in each assessment area and the method to determine their applicability based on the inpu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This is a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aft in developmen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Some fields are incomple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All sheets set to print in landscape form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puts - Categori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3906720"/>
            <a:ext cx="566640" cy="682920"/>
          </a:xfrm>
          <a:prstGeom prst="upArrow">
            <a:avLst>
              <a:gd name="adj1" fmla="val 0"/>
              <a:gd name="adj2" fmla="val 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938240"/>
          <a:ext cx="8104320" cy="3570480"/>
        </p:xfrm>
        <a:graphic>
          <a:graphicData uri="http://schemas.openxmlformats.org/drawingml/2006/table">
            <a:tbl>
              <a:tblPr/>
              <a:tblGrid>
                <a:gridCol w="7132320"/>
                <a:gridCol w="756360"/>
                <a:gridCol w="21600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 Center Assessment Input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 Overall Energy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 Environmental Condi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 Air Management and Air Handl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. Economiz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 Central Cooling Pl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 IT Equipment Power Ch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 Ligh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 Other Electric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puts – Electrical Exampl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3906720"/>
            <a:ext cx="566640" cy="682920"/>
          </a:xfrm>
          <a:prstGeom prst="upArrow">
            <a:avLst>
              <a:gd name="adj1" fmla="val 0"/>
              <a:gd name="adj2" fmla="val 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69720" y="1590840"/>
          <a:ext cx="8229600" cy="4281480"/>
        </p:xfrm>
        <a:graphic>
          <a:graphicData uri="http://schemas.openxmlformats.org/drawingml/2006/table">
            <a:tbl>
              <a:tblPr/>
              <a:tblGrid>
                <a:gridCol w="6243840"/>
                <a:gridCol w="662040"/>
                <a:gridCol w="1323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 Center Assessment Inputs: Features and Metr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 IT Equipment Power Ch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Utility input voltage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UPS redundancy configuration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power distribution configuration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UPS load capacity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type of the UPS is being used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UPS input current total harmonic distortion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UPS input power factor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transformers downstream the UPS system?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transformers / PDUs upstream the UPS system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STSs downstream the UPS system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anticipated future IT load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the standby-by power configuration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co-generation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 the servers have an efficiency rat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virtualization used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nputs - Metrics – Electrical Exampl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3906720"/>
            <a:ext cx="566640" cy="682920"/>
          </a:xfrm>
          <a:prstGeom prst="upArrow">
            <a:avLst>
              <a:gd name="adj1" fmla="val 0"/>
              <a:gd name="adj2" fmla="val 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938240"/>
          <a:ext cx="8229600" cy="4765680"/>
        </p:xfrm>
        <a:graphic>
          <a:graphicData uri="http://schemas.openxmlformats.org/drawingml/2006/table">
            <a:tbl>
              <a:tblPr/>
              <a:tblGrid>
                <a:gridCol w="2759040"/>
                <a:gridCol w="1301760"/>
                <a:gridCol w="2217600"/>
                <a:gridCol w="649440"/>
                <a:gridCol w="130176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 Center Assessment Inputs: Features and Metr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 IT Equipment Power Ch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r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 Requ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or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A: UPS load capa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VA/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S rating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B: UPS System Effici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S Output kW/UPS Input 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C: UPS input current TH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S THD measure at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D: UPS input power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S Power Factor measure at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E: Transformer (upstream UPS system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ffici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FMR Output kW/XFMR Transformer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F: PDU (with built-in transformer) System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ffici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DU Output kW/ PDU Input 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G: STS effici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S Output kW /STS Input 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H: IT Peak Power Density (actu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/s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Peak Power (actual) /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C Floor A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I: IT Peak Power Density (desig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/s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Peak Power (design) /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C Floor A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J: IT Rack Power Density (actu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W/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Peak Power (actual) / rack quant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K: IT Rack Power Density (desig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W/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Peak Power (design) / rack quant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ata Collection - Categories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79520" y="1938240"/>
          <a:ext cx="8207280" cy="2340000"/>
        </p:xfrm>
        <a:graphic>
          <a:graphicData uri="http://schemas.openxmlformats.org/drawingml/2006/table">
            <a:tbl>
              <a:tblPr/>
              <a:tblGrid>
                <a:gridCol w="334800"/>
                <a:gridCol w="2078280"/>
                <a:gridCol w="579240"/>
                <a:gridCol w="577800"/>
                <a:gridCol w="687600"/>
                <a:gridCol w="915840"/>
                <a:gridCol w="906480"/>
                <a:gridCol w="2127240"/>
              </a:tblGrid>
              <a:tr h="398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 Centers: Data Collection Workshe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or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Meth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sur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sur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p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id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 Energy Use </a:t>
                      </a: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OTE: Include central plant energy used by DC, but exclude energy used for any offices, etc. that may be served by central pla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AC and AH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conomizer and Central Cool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 Equipment Power 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ghting 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8524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ata Collection – Electrical Exampl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12920" y="1692360"/>
          <a:ext cx="8229600" cy="4830840"/>
        </p:xfrm>
        <a:graphic>
          <a:graphicData uri="http://schemas.openxmlformats.org/drawingml/2006/table">
            <a:tbl>
              <a:tblPr/>
              <a:tblGrid>
                <a:gridCol w="539640"/>
                <a:gridCol w="1895400"/>
                <a:gridCol w="579600"/>
                <a:gridCol w="422280"/>
                <a:gridCol w="842760"/>
                <a:gridCol w="916200"/>
                <a:gridCol w="906480"/>
                <a:gridCol w="2127240"/>
              </a:tblGrid>
              <a:tr h="398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 Centers: Data Collection Workshe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o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Meth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sur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sur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p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id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 Equipment Power 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Equipment Energy U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W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Peak Power: Actu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 P4 or P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Peak Power: Des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S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S Out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S Ra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VA /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S Input current TH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D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S Input Power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former (upstream UPS)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former (upstream UPS) out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former ra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DU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DU Out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DU Ra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3:02:16Z</dcterms:created>
  <dc:creator>Paul Mathew</dc:creator>
  <dc:description/>
  <dc:language>en-US</dc:language>
  <cp:lastModifiedBy>gyoung</cp:lastModifiedBy>
  <dcterms:modified xsi:type="dcterms:W3CDTF">2007-12-13T15:14:21Z</dcterms:modified>
  <cp:revision>9</cp:revision>
  <dc:subject/>
  <dc:title>DOE Data Center  Energy Efficiency Program  and Tool Strategy</dc:title>
</cp:coreProperties>
</file>