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46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7560" y="692280"/>
            <a:ext cx="462924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1160" y="4395960"/>
            <a:ext cx="515952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6788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46320" y="886788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571A858-7A24-4CB6-B260-46F44596D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1160" y="4395960"/>
            <a:ext cx="5159520" cy="42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rom CDC WWW and Pulwarty and Redmond (1997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casts not "accurate" enough, i.e., need at least 75% event accu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Fluctuation of successive forecasts ("waffling"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The nature of what a forecast is, and what is being forecast (e.g., types of El Niño and La Niña impacts, non-ENSO events, what are "normal" conditions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Non weather/climate factors are deemed to be more important (e.g., uncertainty in other arenas, such as freshwater and ocean ecolog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Low importance is given to climate forecast information because its role is unclear, or impacts are not perceived as important enough to community resour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.Other constraints deny a flexible response to the information (e.g., meeting flood control or Endangered Species Act requireme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.Procedures for acquiring knowledge and making and implementing decisions, which incorporate climate information, have not been clearly def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Events forecast may be too far in the future for a discrete action to be enga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Availability and use of locally specific information may be more relevant to a particular deci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"Value" may not have been demonstrated by a credible reliable organization or competi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.Desired information not provided (e.g., number of warm days, regional deta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There may be competing forecasts, or other conflicting inform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Lack of "tracking" information; does the forecast appear to be verify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History of previous forecasts not available. Validation statistics of previous forecasts not avail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1160" y="4395960"/>
            <a:ext cx="515952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rom CDC WWW and Pulwarty and Redmond (1997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casts not "accurate" enough, i.e., need at least 75% event accu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Fluctuation of successive forecasts ("waffling"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The nature of what a forecast is, and what is being forecast (e.g., types of El Niño and La Niña impacts, non-ENSO events, what are "normal" conditions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Non weather/climate factors are deemed to be more important (e.g., uncertainty in other arenas, such as freshwater and ocean ecolog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Low importance is given to climate forecast information because its role is unclear, or impacts are not perceived as important enough to community resour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.Other constraints deny a flexible response to the information (e.g., meeting flood control or Endangered Species Act requireme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.Procedures for acquiring knowledge and making and implementing decisions, which incorporate climate information, have not been clearly def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Events forecast may be too far in the future for a discrete action to be enga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Availability and use of locally specific information may be more relevant to a particular deci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"Value" may not have been demonstrated by a credible reliable organization or competi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.Desired information not provided (e.g., number of warm days, regional deta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There may be competing forecasts, or other conflicting inform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Lack of "tracking" information; does the forecast appear to be verify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History of previous forecasts not available. Validation statistics of previous forecasts not avail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3FD-DC72-403E-B11B-8668E31C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622-D81A-40CD-9883-8B4C26B9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1E7-D06F-418D-901C-D017D041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820-6348-41D9-9FB3-E11EC996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D9C-49D9-4B86-AF20-C3D955F3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871-8D04-4E52-A849-9A727DDB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210-2D1E-4AB1-87B7-829CE472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EF2-730E-4777-B14B-D4695CB3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0268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D06-D4DA-45F7-8518-096BA811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3139-52B2-45D7-851C-834B91F8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533-56A5-497B-AAA7-8A5BFFDB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483-0291-4DB3-A15A-2EEF73E4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1C12-9F02-42E5-BEE8-D6385EA04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OAA" descr=""/>
          <p:cNvPicPr/>
          <p:nvPr/>
        </p:nvPicPr>
        <p:blipFill>
          <a:blip r:embed="rId2"/>
          <a:stretch/>
        </p:blipFill>
        <p:spPr>
          <a:xfrm>
            <a:off x="8248680" y="9360"/>
            <a:ext cx="895320" cy="917640"/>
          </a:xfrm>
          <a:prstGeom prst="rect">
            <a:avLst/>
          </a:prstGeom>
          <a:ln w="0">
            <a:noFill/>
          </a:ln>
        </p:spPr>
      </p:pic>
      <p:pic>
        <p:nvPicPr>
          <p:cNvPr id="6" name="doc_logo" descr=""/>
          <p:cNvPicPr/>
          <p:nvPr/>
        </p:nvPicPr>
        <p:blipFill>
          <a:blip r:embed="rId3"/>
          <a:stretch/>
        </p:blipFill>
        <p:spPr>
          <a:xfrm>
            <a:off x="33480" y="20520"/>
            <a:ext cx="86832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38080" y="990720"/>
            <a:ext cx="7467840" cy="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9014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OAA Response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port on Climate Monitoring Strategies 2002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320" y="259092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gory W. With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ant Administrat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Environmental Satellite Data and Information Service</a:t>
            </a:r>
            <a:br>
              <a:rPr sz="18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AA Science Advisory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20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NOAA" descr=""/>
          <p:cNvPicPr/>
          <p:nvPr/>
        </p:nvPicPr>
        <p:blipFill>
          <a:blip r:embed="rId1"/>
          <a:stretch/>
        </p:blipFill>
        <p:spPr>
          <a:xfrm>
            <a:off x="7953480" y="0"/>
            <a:ext cx="1114200" cy="1141560"/>
          </a:xfrm>
          <a:prstGeom prst="rect">
            <a:avLst/>
          </a:prstGeom>
          <a:ln w="0">
            <a:noFill/>
          </a:ln>
        </p:spPr>
      </p:pic>
      <p:pic>
        <p:nvPicPr>
          <p:cNvPr id="54" name="doc_logo" descr=""/>
          <p:cNvPicPr/>
          <p:nvPr/>
        </p:nvPicPr>
        <p:blipFill>
          <a:blip r:embed="rId2"/>
          <a:stretch/>
        </p:blipFill>
        <p:spPr>
          <a:xfrm>
            <a:off x="46080" y="46080"/>
            <a:ext cx="1096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oody Panel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4416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ed Work on Reconciling Temperature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ecember 2001, NOAA responded to 28 specific recommendations made by an NRC panel on reconciling  air temperature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AA stated that 20 of the recommendations were either being done or were planned to be done, and 5 would be done if appropriate funding we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3 recommendations were not considered possible either because they were too expensive or required major policy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1648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0 NRC Recommendations Done or Under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1000" y="774360"/>
            <a:ext cx="8140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Orbital Dr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pre-launch calibration of future NPOESS sen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d overlap of NPP and EOS/NPOESS mission lau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free fliers for NPOESS (contractor cho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continuity from SSU to AM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igate the use of sensors from decommissioned spacec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sit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iosonde ob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ompare old and new radiosonde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e changes for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situ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ing methods and promote continuity world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dense U.S. network of twice daily radioson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adaptive procedures’ compromising of basic radiosonde netwo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other nations to follow U.S. lead on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 radiosonde ascent to 5 hectopascal level (international GCOS requireme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 accuracy by including radiation and lag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metadata in concert with the World Meteorological 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nd update radiosonde climate data rec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re options for next-generation atmospheric sound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nvigorate efforts to ensure long-term climate re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space-based and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sit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twork perform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dialogue and information exchange by using ad hoc sensor science t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 NRC Recommendations Done if Fund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4416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eb Site for Instrum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radiosonde coverage in the tr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ompare radiosonde performance at more regionally representativ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required on network design for better spatial density of radiosonde sites for climat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critical climate data records; maintain and document their produ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RC Recommendations Conside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4416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 Which Have Major Funding and/or Policy Implications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 satellites one year; (however now an NPOESS requir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nch on schedule, not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pre-launch calibration of AMSU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4416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Goody Panel Report provided an excellent review of NOAA’s climate monitoring program.  However, this formed but one piece of a larger rubric of other studies and reports related to the U.S.’ overall climate observing system.  As the new Administration formulates a new climate structure, it will build upon all these reports to enhance the nation’s climate observing capabilities.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t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82400" y="990720"/>
            <a:ext cx="820404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520560" indent="-406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Climate Studies and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3938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quacy of Climate Observing Systems, NR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3938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ing the Climate Record from NPP to NPOESS Meteorological Satellites, Abbott, NRC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3938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mendations of Panel on Reconciling Temperature Observations, NRC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3938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B Panel on Strategies for Climate Monitoring, Goody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3938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mate Services Vision, Barron, NRC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3938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 to SAB on Assessing Observing System Priorities for NOAA, Karl, NOAA Council on Long-Term Climate Monitoring, March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39384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ed for a Climate Observing System, Trenberth/Karl/Spence, Bulletin of the AMS, In Print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oody Panel 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9800" y="838080"/>
            <a:ext cx="820440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520560"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406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y Panel Report delivered and accepted by the Science Advisory Board – March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406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nel Report delivered to the NOAA Administrator – April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406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by Climate Observations and Services Program Board – May 20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406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d SAB on progress – June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oody Panel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823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nchmark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AA supports enhanced benchmark effort and formation of a team to examine science issues and possibilities for new instruments, missions and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AA has initiated observational series that meet benchmark standards, e.g., the Climate Reference Network and the Dobso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s in progress to modernize existing in situ networks, e.g., Coop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ing critical; benchmark series most critical for climate prediction should be implemented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oody Panel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31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POESS Climat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effort already underway to accommodate climate observing requirements for NPO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rns regarding cost and schedule impacts of NPOESS climate upgr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y of free fliers; altimeter being conside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oody Panel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697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es Between Monitoring and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” program for climate change prediction desirable and fea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on of projections from a product development persp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assessment by skill in reproducing historical/paleo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assimilation through the Joint Center for Satellite Data 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d need for new activities testing models against observed forcing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oody Panel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8102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imate Informatio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y should . . . . provide adequate support for data access and long-term stewardship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ccess/archive issue being addressed the Comprehens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Array-data Stewardship System (CLASS)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oody Panel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82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y Panel recommended broad restructuring for climate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mate Observations and Services Program in place since 2001; joint management and review of climate activities across NESDIS, NWS and O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ministration is currently assessing the proper structure for managing the climate mission within DOC/NOAA as well as Government-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oody Panel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4416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her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for more coordination of process research with monitoring and mo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consider marine ecosystems in development of a climate monitoring 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implications of implementing recommendations not yet 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20:27:15Z</dcterms:created>
  <dc:creator>Dave Goodrich Climate Diagnostic Center</dc:creator>
  <dc:description>June 28, 2001 Presentation to the Climate Advisory Board on the Goody Panel Report</dc:description>
  <cp:keywords>SAB Science Advisory Board Goody Panel Report</cp:keywords>
  <dc:language>en-US</dc:language>
  <cp:lastModifiedBy>seanc</cp:lastModifiedBy>
  <cp:lastPrinted>2001-06-22T12:20:45Z</cp:lastPrinted>
  <dcterms:modified xsi:type="dcterms:W3CDTF">2002-03-27T14:23:14Z</dcterms:modified>
  <cp:revision>103</cp:revision>
  <dc:subject>Goody Panel</dc:subject>
  <dc:title>Workshops</dc:title>
</cp:coreProperties>
</file>