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3F7-1BA8-48FF-A3A7-6A50DB1C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C8F-EB51-4B1B-BD90-F0A2273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644-8001-4E6B-BD1B-731B023C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0CE-C156-47DD-98E4-6353758C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0CB-1491-406B-B21F-F3BDA83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089-67B4-4BEC-A5B0-0E4541BC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02C-E101-49C1-9621-5DBBC2D8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A72-A1C2-4B0C-A430-B335A6B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05E-C8C8-4D73-ADBE-FAAB32A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D05-AD6E-4ADB-A154-7D9E669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AD6-3070-4063-9A79-B0B43DD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CCC-5416-4502-94B4-B59D649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7733-EF97-4994-B700-594C9656C0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-Harvest Physical Properties of Corn Stov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.D. Montross, S.G. McNeill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A. Shearer, T.S. Stombaug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systems and Agricultural Engineering Depar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iversity of Kentuc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ec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 row combine, 16 row plan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ler is a 5 x 6 variable chamb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 collection meth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ke and bale behind com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tary mower, rake, and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bine and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le behind com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ry Mower/Bale/Ra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B010019" descr=""/>
          <p:cNvPicPr/>
          <p:nvPr/>
        </p:nvPicPr>
        <p:blipFill>
          <a:blip r:embed="rId1"/>
          <a:stretch/>
        </p:blipFill>
        <p:spPr>
          <a:xfrm>
            <a:off x="1047600" y="1295280"/>
            <a:ext cx="7048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ection Lo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~36 acre fiel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ick 5 locations that are suitable (150 ft x 150 f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locations for bale collection and stor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location mowed and baled over ti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ield M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yield" descr=""/>
          <p:cNvPicPr/>
          <p:nvPr/>
        </p:nvPicPr>
        <p:blipFill>
          <a:blip r:embed="rId1"/>
          <a:srcRect l="0" t="0" r="11882" b="19534"/>
          <a:stretch/>
        </p:blipFill>
        <p:spPr>
          <a:xfrm>
            <a:off x="1257480" y="1676520"/>
            <a:ext cx="66294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id Data of Biomass Distrib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gridbiomass" descr=""/>
          <p:cNvPicPr/>
          <p:nvPr/>
        </p:nvPicPr>
        <p:blipFill>
          <a:blip r:embed="rId1"/>
          <a:srcRect l="0" t="0" r="0" b="29591"/>
          <a:stretch/>
        </p:blipFill>
        <p:spPr>
          <a:xfrm>
            <a:off x="522360" y="1981080"/>
            <a:ext cx="80992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le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ke 12 bales from each of 4 locations for 3 primary collection meth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inside on concrete flo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outside on di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are characterized (dirt; type, moisture content, and amount of material; particle size analysi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ke 1 bale for characterization of baling behind comb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Collected During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each b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ea of field requir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bor to b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igh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isture con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eld no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tern of traff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e and amount of material remain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Collected During Sto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itial moisture content using coring device, and monthly thereaf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 center bale temperature daily until stable during storage, weekly thereaf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thly weigh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lant population recorded, but expected to heavily influence biomass yie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rection of combine relative to mower or discb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cle/weight/density distrib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uld it be desirable to cut pieces up finer (rotary mower vs discbin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mount of dir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er moisture content for baling and stor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ord path of equipment (combine, grain carts) using GPS during harv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plant population at harv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cision collection of bioma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e yield map to select areas for stover colle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void removal of stover from environmentally sensitive are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lect highest value compon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 baseline data on the quantity and physical characteristic's of corn sto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ntify amount of stover harvested using existing equi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ck changes in dry matter loss, temperature, and moisture content during storage of round b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Mass in Plant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1562" r="0" b="0"/>
          <a:stretch/>
        </p:blipFill>
        <p:spPr>
          <a:xfrm>
            <a:off x="457200" y="1801800"/>
            <a:ext cx="8236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mass of Individual Stalks Versus Dry Basis Corn M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1434" r="0" b="0"/>
          <a:stretch/>
        </p:blipFill>
        <p:spPr>
          <a:xfrm>
            <a:off x="533520" y="1982880"/>
            <a:ext cx="80341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erous researchers have investigated collection of stover (Loewer et al., 1984 and Ritchey et al., 198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% of stover round bal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y matter losses of 10% of stover baled at 13.9% and 22.6% for stover at 33.4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ndiff and Marsh (1996) found that harvest and storage costs for large round bales was 23% less than square b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rm Cooper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th &amp; Dee Ellis Farms in Shelby County, Kentuck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east of Louisvil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ils are a well drained silt lo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acticed no-till farming for 21 ye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op rotation of corn followed by soft red wheat and double crop soybe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-Harvest Data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ple field on 1 acre gr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each grid loc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ight of 5 stalks in 2 row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ept the lightest, middle, and heaviest stalk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lant population in 2 rows 3 m lo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k 20 individual stalks from one sp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i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sample_sites" descr=""/>
          <p:cNvPicPr/>
          <p:nvPr/>
        </p:nvPicPr>
        <p:blipFill>
          <a:blip r:embed="rId1"/>
          <a:srcRect l="1809" t="17125" r="0" b="16081"/>
          <a:stretch/>
        </p:blipFill>
        <p:spPr>
          <a:xfrm>
            <a:off x="792000" y="2120760"/>
            <a:ext cx="7560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elled corn from each grid location (or individual pla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asured weight of corn and bioma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termined moisture content in 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C oven for 3 day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mass Versus Dry Basis Grain Mass at Each Grid Lo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0172" r="0" b="0"/>
          <a:stretch/>
        </p:blipFill>
        <p:spPr>
          <a:xfrm>
            <a:off x="457200" y="1752480"/>
            <a:ext cx="80708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onships Between Plant Components and Grain M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1434" r="0" b="0"/>
          <a:stretch/>
        </p:blipFill>
        <p:spPr>
          <a:xfrm>
            <a:off x="533520" y="1927080"/>
            <a:ext cx="81262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Mass in Plant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1562" r="0" b="0"/>
          <a:stretch/>
        </p:blipFill>
        <p:spPr>
          <a:xfrm>
            <a:off x="609480" y="1825560"/>
            <a:ext cx="80708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6:37:33Z</dcterms:created>
  <dc:creator>Michael D. Montross</dc:creator>
  <dc:description/>
  <dc:language>en-US</dc:language>
  <cp:lastModifiedBy>Anne Ehrenshaft</cp:lastModifiedBy>
  <dcterms:modified xsi:type="dcterms:W3CDTF">2001-11-14T12:23:32Z</dcterms:modified>
  <cp:revision>65</cp:revision>
  <dc:subject/>
  <dc:title>Corn stover handling characterization </dc:title>
</cp:coreProperties>
</file>