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998CA-5A9A-4D24-BFD4-346703A3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50C84-D512-40E7-9ED1-A1CE26D9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A17D7-5CC7-4F31-BA17-620A4BB2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DD9E5-EF48-4581-9E23-6C5E8EBA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4D98E-3AA3-41C0-BAAF-79DF929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7B9F5-7A41-48D6-8E4F-B7990B8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D1F9B-2792-4B02-AF63-BC0512D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99BF9-59F7-4FD0-A1D2-4264B93F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DB25A-1AE3-4D4C-86D1-D1C496EB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DA938-9448-4565-831D-E1EED2FE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B82E4-EBCD-4754-9DD7-E1E83F9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D987B-2B2F-4EBE-BD33-950BED3C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C2626-59E5-4188-8AD4-A940F07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5FE92-9477-4E39-8621-908A4528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A8636-23AD-4FF4-9E92-A5319D7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81DF2-5517-4E2B-B73E-234FF88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8CA68-1F44-4D77-A9D7-198AEB9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68FD3-274B-41FC-A45E-633CB2D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3D532-3A79-4A85-B073-94384B76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01DF1-7E25-4AAA-9184-CD05937B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E506F-C6FA-4F2A-8F2B-7E1D0E2F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7C2FE-B690-4EDF-ADBC-B3165BB0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1BECF-E0A8-4539-944E-24CB6C6F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15E54-FA4A-43AF-BC3E-62B8995F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3D118-EB1A-4D7B-ABBC-CAE7A1D7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A0EFF8-C74D-4DD3-81C9-A955688A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588E53-A51C-4420-BFFF-35E84F0A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3D303-49DF-4B7C-9C66-03B1731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40D7A-6FA5-483C-ABD8-881AC4E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BFB0F-4532-46A5-9D62-563517E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FCDB5-0F64-42C0-BDF7-F479FF4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A6EBE-7DD7-470C-9F51-3C104AF1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5AE979-7AC7-4AE0-908D-BEFD7F2E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5538A-B9A2-4EBB-90F1-E04031D2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A0B4E4-163F-4942-A261-5092719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223F7-DA15-41B9-B513-3203D44B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3CE31-AC5F-4337-9B1C-7087D592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AA48EC-1C0F-43D6-A168-DAAE14C9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A24D5-E31C-462F-999F-9DD78F82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F3572B-F57D-415F-935E-4A230A5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7318A-D3DA-4E0E-9BA0-E223E04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6D0743-B787-43C4-833F-4EC03C1B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46D56-08E6-4EE4-A7BE-B0E82B7F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F9B941-061C-490D-BF84-14E2F101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124D7-E95C-47DF-8527-C5072CB8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69ADC7-2924-4E2F-A845-B3504B5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32D809-B956-4AE0-AF03-4433C09D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9A6699-EB04-4170-A52B-6B3D6BB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4AE980-C9CF-4DF7-BC32-A7656DA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506892-FDF1-481A-90EC-25F4EFAD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AD9D66-75B3-48F7-AC89-3AA03FEA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A3259-5AB6-4CF4-AB35-27BDA22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A4DD3F-6EB0-4B2E-BDCC-9708F118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656656-6D63-4654-8076-19F6695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002516-5A4D-4EF6-BCB8-BCDCE42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93033B-5C11-4606-8428-B95E8C89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8DEC09-4F4A-4413-9484-2CEBBC23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003A7-F34C-4FF7-99D8-D92CEB92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1AB5B-9CAC-48C3-B059-1B0108F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A7D19-8801-4DB3-96DB-98ECCFF5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325E-97D7-465F-9534-E7FA847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62EFF-0827-48F6-A656-1BF2F1A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ADFE0-B9C3-4ADC-8923-51FCFE0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4FFF-4ABC-49DC-B74B-1EE3235C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4C6BF-03D5-4E90-9BF0-F8F9FF4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89253-7286-4536-90E1-8C40A73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A7464-D10E-4BD5-A75F-4234FA0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45932-D858-481E-B43A-C3BD99CF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2421B-78FB-421D-831E-B0EAB4FB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DD6D0-4A0D-4E36-83EA-EE12E84E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6CFE2-83BB-4174-9019-31CA5DA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BB644-76AA-40B6-9C9B-9F844812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D6DFA-67E0-4465-A460-E91BF3C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E18D9-F3A5-4B25-9085-3DFBFA79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C9B5F-A5CD-493E-80F4-983EDFE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AD84A-ECEA-44E8-B57C-20710B1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F06D7-973F-4908-8529-36C8B543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52B09-6E8D-4D2E-A638-C1BF423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0F031-9AE4-4F71-B93E-192A3D0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8C5EA-9D59-41CC-A0B8-0168075E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D43E8-2ED0-4B86-94D8-2CCC0107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1B0CF-FD37-4599-84CF-59F4B061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28DBE-0E32-450F-A4BC-293D0F46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41F63-B0B1-4301-B6A9-FFED44E2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9DC5E-09F3-43E0-9A25-CB23A9A3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22194-8169-4D5A-84A9-211CC67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738E2-D316-4A65-BF6E-C8880474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91A4B-CCDC-4559-A92A-B58CA13F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72611-BB5E-4CA0-A8C5-4E0AC23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6C1B2-43C3-4BFB-BF07-6A38327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7D5FB-251D-4EFA-9F20-EA94F4B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D44E6-F6EB-4157-9E0D-541A45CE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562C5-C6DE-4FD6-9558-AEB23C66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B23387-85A1-4392-A3A8-39674CCA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5D743C-89CF-40EA-BEE7-32468C7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A7B2C7-7AFC-42E7-ADE2-C75B19A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2239D9-13F5-476B-A4A8-7DCB49C9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27D6E6-53F1-4864-BFB5-597C1A4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AF399F-9DC4-4BC7-96D2-2BDA634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690E82-F0F5-4E12-AD07-141B19E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DDBC8C-0B3D-4CA5-BD43-BE1027AA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CA666A-4B96-4C50-80FF-C975F72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F72E2-1C63-4947-B101-BB8EC431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C443AC-7F31-4917-B73E-06BC7BFF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3BE01F-2923-4AAE-9884-637CAB98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FC3507-8FEE-4365-A299-197BD908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826C9F-125B-44F7-9C29-92D8C92A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75EB0F-D39D-48C0-84DE-1779DC5F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F84691-3EB8-4F20-9549-60905FA3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299BF8-C84E-401D-940F-DC0F26D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7C4B10-ED3F-4322-B4BF-2C794A6C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FC8B2B-D09A-4C4B-B405-61F5C9E1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2EE561-005B-4841-B257-D4ACFFC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D9D79-252B-443B-8A7D-014C5CEB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CDF1B9-FC08-4FB2-B271-27FDFC4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6CD0E9-3C58-4C42-840C-F1861D4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228859-962A-44EC-9DDA-5EEC4EB8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13C840-9342-4ADB-BA18-DB0C3AA5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8904CD-3249-448F-8C65-3885A68A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5D66F1-F5DD-4B30-924A-45960F69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D3AFBB-169B-4557-9C97-B9F58AB3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6B5ABF-CC6B-479E-982B-E3FA06E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6466C7-8F12-4809-B17D-9E231286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2B137E-ED7D-4AE4-AEA2-A7278D9C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54D03-1D31-47A1-82EA-560E09A5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7C01C7-E079-4B26-A417-9EA0BE2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976CFF-6DEC-4C4F-86D8-5E9020E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E765B8-2F28-475C-BC04-4B921C22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7A377B-73FB-4FE5-8EB1-6C6B5BB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C76434-1628-4FEC-A588-B03694B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640EC3-61D1-496C-B059-5E98E2A2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A778AB-D7AA-458A-AB0A-BA9C6D93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FFB5DC-0A8D-4A2A-BF19-C8A2F136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E25293-63FD-4E88-91A1-EEFCCE8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2797AA-4745-4E4A-92E2-9596EB3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616C5-E182-4973-A936-E02F927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2733A6-2C94-499E-BD41-72E4EB1B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E32696-1140-4E3C-93FD-29D826A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54843D-7E5E-4FC9-B127-593000A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2834E9-8277-4A47-876B-C62C6247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03C6F6-02CA-46FF-A30F-5543BA2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CB9BFB-7745-4FC4-BDEF-667DD597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161E28-DF07-4369-886A-C5A8A79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2D2A35-03E9-45B3-8B96-124DC087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A3A6EE-60AC-4114-8299-71C7F923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64833F-4941-437F-8DC6-7BF9F5F6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8C96-AB08-44F0-97D6-CC793F8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A8BC82-9BCF-4EBD-ADA6-FD73BF6B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EAD6F1-731A-475A-A462-DBDB995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DA983B-271B-4529-808D-C7968F3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E240BA-4670-4AEF-A914-8CC7A156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1814E1-E1B7-4368-9AB1-CC9E051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47C978-19CA-43DC-86D3-7797A10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D59D8A-7A64-426E-883A-A80825E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18E3C1-6A63-4333-B05A-42681F9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0A99E3-767B-4901-BC46-9C55770D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31C9BB-B097-4BF2-B85D-9BF026FA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46A69-08E2-4A3A-80A4-F42C52D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A43512-72F0-4C8A-899E-18F5D925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8F063F-1F20-4F0E-8A91-2BA7284C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6BA6AD-5B0F-486A-8142-08C2860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BF72DA-D926-446D-9F9E-AD12EBB3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A1FCC7-8B98-4A81-A970-A14105A7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D41381-C740-4D50-85C3-06C8271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D067F2-62AE-42B9-AA27-F84E9DAF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434B55-D786-4398-967B-F36B67E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910CBE-D665-485E-A75D-3B275FE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2DF433-DF51-4BC9-BB78-4C51C58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22060-962E-42DA-AAAB-D7A494A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0440B0-B122-47A6-92C9-2C70CA1B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F192E9-90AF-451C-860E-B62576EC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AC07F4-8147-4096-8ADF-8B432236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1FD84-B6A0-4B42-BBE3-DBBE8D4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EAA5-38B0-4CF0-83FA-CA29372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1EC4D3-5EFC-4259-A42D-7CF2CD8C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B4D49A-0C6A-4ED0-8994-AFF9B145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A91D86-0A6D-4692-906D-D2796CDF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083E9-8204-4AAE-8494-7BCFA26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E8EA03-2AC7-468A-8C05-248FCC52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973E2F-4DC9-47F9-8053-12466440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EF90B9-C30E-45F3-81FD-366A17E1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7AD468-33F5-4A6C-B724-169D25C6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DBA07C-EEBF-4EC2-9BA7-36512B2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9C821C-B1C7-4D2D-8DB0-498A6B1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9076A1-BCDD-4047-8305-E4EB35F2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B3791D-C942-45A6-9CE8-81C38367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32A9D0-74A7-4721-977E-38ED502C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5E79B5-AE4C-42FF-9CD0-794AEDCE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41659-AF7B-4A3E-A601-4B04761C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F195AC-F683-40F0-9329-1F4841C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9FEED5-B349-42F4-A7AC-3A108E8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68D381-57F3-4ED0-A0E4-D7161593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51789A2-64EE-4192-899E-79C6DFAD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7DD29E-AA26-4BBD-AABB-404EEA2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5081E9-504E-437C-94D7-91EBAF1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06A839C-9637-46B6-BD6D-9CD52CED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5D6B53-11C0-4A51-9824-D41E0E69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47E5FD-16B8-4E4F-8E35-755CF2E8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2FCAC1B-1E80-4A8C-822D-911339C6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B2751-1A49-4A20-A49C-A7F77363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9BAE3A-FD40-4788-A33C-2931479F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AA8625-2F16-427D-8C70-1B13EDFE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2093F0-1EBA-453E-A529-6CA21A2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CD275E0-6141-4203-A8A5-3FD5A05A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0AAA41-5A2C-4748-AE20-729FFBEF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ED57FA0-29DD-43E3-A938-FE20288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994320-0899-4BFB-A5B1-EBA7A0F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93AEC7-F8B8-4E6B-B335-CA257E7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0F02E4D-DC84-49C4-8B28-95E1345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E832B5-F737-4190-B674-518C03E4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6C2B2-2A41-4843-9629-CFB8353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0C3D61-927A-4C39-9F10-1C9810C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6F6396-1318-4FCE-8D48-A3F3307E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2D659E-2C5E-434B-8185-FF3A09EF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02101-E8CB-47FA-934E-7BF2AAD2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6FCD5-3F98-41F8-B1F9-4F7CD4A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6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7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89065B-73D3-4851-BF85-8074CFAB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66A56-FDC2-4984-AFBD-8947810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427C03-FD4F-43B0-95D0-26252C6B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A0ED1-B0B3-493B-9584-35D7626A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251C7-9313-4518-9E0B-F90AEB83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D1FE93-DF1E-45ED-ACA7-0DBA40C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A607D-08F3-4672-923A-16B1D28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80C347-7376-4094-989E-627DD70F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933C0-F3F6-43D1-8072-72DF435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3EBB7D-A755-4A05-8FFA-B1B9853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88C456-4027-4696-8B93-B91B465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DD80CF-5E42-4980-A32B-3A5A8950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EF3B5A-526C-4BDB-8AB5-696FBAB9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2112E9-318A-4060-8E0F-9C569DD6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EFEB0-8D06-485A-9DF8-EE51B2B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FD5B54-BFB6-4A45-8239-854F018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12EC05-28D1-4552-9699-CDB6A62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B835EC-5606-412C-8F6D-0D76C4A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44FA5B-7CAA-4DCF-8B53-10A830E9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6F697F-9DF1-465D-8666-46D45C89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B24E31-E45F-459D-BA5C-31840148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8738B0-2CC8-4CAE-8290-F262830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A169E7-6ADE-402C-9C4B-36B8123E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F1F49D-A8C9-4B22-B88D-41F1275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23C7E2-C0AE-4FF4-8807-55A4582D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82A92-A113-4D82-B587-B0F7E56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81F490-6BC4-4273-A0B4-54A5B380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76822-A7CA-436A-BB86-4170E03C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CAFF2D-B3AE-41B1-B0EE-A394042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146F6D-4E64-41FF-8686-32657A5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C479B4-CEAC-4015-BCF7-837893FB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73D469-B45A-4388-911E-9F6D872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415F34-CB11-477D-BE3F-64F445E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42611F-F665-43FA-B4C3-DFC0A07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55A8D6-E089-417A-83F0-B97AE04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C4C8BC-B0C1-4D91-A3CF-0C1D0FDF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C2B80-CFE0-496F-982F-2EB61A7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F8B582-02E7-4F40-BC7B-543236E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A30E89-0093-48A8-81A6-D02A18E7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89A1CF-0AC7-46F2-A84E-FC79824C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E39FC1-9FC5-46E6-883E-B4EFD240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E0C3B8-8FE5-49E0-A2B9-43A5854E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2EFB1E-639A-4C5A-9E6C-6544615B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EFC464-EDE3-4AB1-B071-6C29C8FC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6ADC18-AF40-4AF8-BCFA-5E0EC6B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9314D1-E208-45AE-A388-3CF1076E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261299-AFBF-4279-B581-F975059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60BF6-13A8-4D00-96EE-F10EC13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A04E1C-09FB-4961-B7D2-7648305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C8F753-4D2D-4C7F-A1BE-96C3F1D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5CD275-9462-4F47-9EB9-303497CD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5B09B1-E380-4B9F-A6F2-C55DC663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953428-F67B-4AEE-88A3-E6CE61FA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486F0B-BEDD-4C09-9D8E-E420CFB3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93E41-FD4B-4418-9E7C-797C363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82F2C2-FA15-4802-A826-719818D9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46029C-1FE1-41C1-A3EF-9FAA7EE2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F0F0D7-3732-400C-9FC5-EE7E4A3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5A8A9-F8D8-496A-8CE3-52B3326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23E948-E104-4AA1-BF88-A39D6C95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C004C7-131F-42D1-8083-7C5ACE1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0842AF-48FD-43F7-8C94-D05B446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473052-1770-4DEE-A74E-677D11B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35B891-E8A9-42B7-A538-EAC8E58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3690B-FEC2-435F-9B0C-A89D5102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E5503F-F36B-42AF-BC29-3BDEE3B6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F33CF1-897F-4B67-8869-7F5D8FE4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01F5AC-9D36-48C0-A0FE-206BF348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62C799-4160-4F4A-9D8D-3D83347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29449-32F3-4480-8492-BC382A0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38C50E-322B-40C9-99D2-2BADBEE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57EFD6-883F-49A0-8C8F-9B3252D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6174E-CC6C-4185-B0A4-F53532E8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AA1F7B-2A9D-4E68-ACCD-BADCAF0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65C6B9-5509-41FF-9A57-0A743B80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51D9BD-7899-4E32-926B-C19D2BF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D559A8-EF30-4BF0-9C11-BAF4E746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E49F71-5A6A-4488-96B9-9EC18719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638C80-E99F-4326-B5B5-69CDADD2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979CC-88AA-482F-A68E-5B8680DB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42A92-9481-4847-899F-77E1BA94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6AA61-9166-45FB-BD6A-0EDBD593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E9477-3281-476D-8BC4-3C700224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909F4-ED44-4ED1-AD5F-D93CF8FA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E7442-43C3-479B-BEDC-84D6349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946B1-21AE-4261-A2C9-7B00626A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A1408-67F6-41F5-B9B5-7419B35C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55776-BD56-4EA2-B6AD-C970D5DE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7DCB0-5C4E-4DB2-895F-C6346367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2006A-E110-42F1-86DD-7891150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3B1DE-5534-45B4-97F3-4BB7A327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46F20-D82A-4C0E-8F2A-A095B8FE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419D8-A133-4CE5-A9FF-3285545D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8E4B6-7016-4D51-9FF1-EC468311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D0174-256F-44A9-940D-22B337E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C9338-876E-4024-B0AF-CE842F1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CBC41-078A-4B75-80DE-50ED0956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2D682-BBB4-4D34-9FDC-3EAA4986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77560" y="145800"/>
            <a:ext cx="755028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AA346-40AC-4EE6-8AC1-AABF86BD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9EFA9-C141-4778-AC1D-75997B9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5E518-660E-40EB-9927-CE21A2B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10776-EB30-421B-A827-DA6AFE0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15800" y="3878280"/>
            <a:ext cx="831240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B3925-81AD-4D0A-B0C4-5534648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960" y="120924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580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960" y="3878280"/>
            <a:ext cx="405612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3EBE0-07FB-4B57-A8ED-73A90D98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2632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6840" y="120924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1580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2632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6840" y="3878280"/>
            <a:ext cx="2676240" cy="2437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AA7DB-5437-49BB-8623-EEAC69B0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393C8-3813-4FD6-8B82-788A7CA9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A1B37-CFE5-4E2F-B902-64666EF2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009F4-3790-4EB7-9F63-F3FD5E7E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9CDFC396-E14D-477D-A78C-65E90F47F475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903640" y="6489720"/>
            <a:ext cx="2268360" cy="16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28760" y="6593040"/>
            <a:ext cx="57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A66675-FE41-4410-AB23-19F9318F0DB3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043-88F7-419F-A5E7-575588739D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6039-72F5-4F58-9E40-22D729F2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295-F8FA-4A0E-98FD-A201A7DC81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3DFC-D0C3-4A24-92F9-A39A8356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820D-C093-4C6E-8784-235AF1CB5C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BB2-8BAB-418B-9E1B-BA96BAB5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52FA-59C8-4B3B-87BE-35B7022B11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C84B-30F3-4F0C-A01E-696CBBA3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445592B0-0C62-41F2-8878-D78C8AC32E26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30"/>
          </p:nvPr>
        </p:nvSpPr>
        <p:spPr>
          <a:xfrm>
            <a:off x="3117600" y="6553080"/>
            <a:ext cx="501804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8760" y="6593040"/>
            <a:ext cx="57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5B845C-C269-4BA4-8D40-80504B5EB32A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75BB-D276-4A7B-827B-DC856030B4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58D4-5E23-4A63-8F8C-113A3187C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3A4-8515-4FFB-B192-A705DF385B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E57-DF02-493F-A06E-BC74E0D7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26D-8DC2-4DB8-9A9C-3EF3E20444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D65-BD3A-4735-BAD3-B06D465C8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9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39FE5737-405E-491E-8910-04A054A2339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40"/>
          </p:nvPr>
        </p:nvSpPr>
        <p:spPr>
          <a:xfrm>
            <a:off x="3117600" y="6319800"/>
            <a:ext cx="574812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1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587D-16AF-41A3-A71E-7B3BF1D46A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47AB-81DB-412A-B520-502A0EF87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74D7-19A0-408A-920D-D11F01714E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4816-32AD-40C2-9247-5CB8BAD12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69C4-5D65-4041-A69E-6FF4732B36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A583-5089-4AF5-8BD4-BB2C81389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7A3-2674-4014-B99E-DE61418E4F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3867-8B61-4270-B2F4-C50E23508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06EB-A1FE-4FCE-AE48-9D95C2EC81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CB08-8BBF-4D74-9B0D-C54A1591A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723-AAE8-42E5-BA39-E1D512D1DB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1255-0647-4FC7-AB3B-120E79E0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2147400" y="188640"/>
            <a:ext cx="6704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5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75CB169D-20C9-489A-9626-E54E7546D36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97308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59"/>
          </p:nvPr>
        </p:nvSpPr>
        <p:spPr>
          <a:xfrm>
            <a:off x="3117600" y="6552720"/>
            <a:ext cx="5748120" cy="304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7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BC4-461D-4D0C-A8C1-CC879261A1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64D1-0EF2-47E8-A78A-AD085BE5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017A-9F78-4FDB-92D2-A22DC15F84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A8A-0B83-45F7-BF75-2E3FC4284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C310-C973-49EF-B250-BD8D3C2B03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F1D4-837B-41EF-8A55-0D21506F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A84-94C8-4911-BAEE-0E66BC8BDE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D3DA-44A7-413B-9B56-DED058C8A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B53AB090-1373-4F12-A6F8-A305D91DDC46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69"/>
          </p:nvPr>
        </p:nvSpPr>
        <p:spPr>
          <a:xfrm>
            <a:off x="3117600" y="6319800"/>
            <a:ext cx="574812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1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BF4-3CB1-425D-968F-A671868BBB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092-D8D9-4259-9622-B775A12C4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AC9-1A45-4438-A417-6CCE64F927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80F9-429C-41F5-BD61-10D047CE7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AA1-DAD0-4790-9E97-3CA174F189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9A6D-D306-4410-8847-B3030FBB4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B0D-4939-46DB-96F9-E14D1D3973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4680-9DAC-4522-988A-7459F8DD7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76D3-237F-44CC-A1B0-064C0859F5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383-7D69-4993-B1CC-1B23A3122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6A6-7009-4A14-94C9-EF204DE31C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463-AC25-4CE6-85A7-6E846D12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9F8-EABB-47D5-9432-33D72945DE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66D-8F12-4155-BAFA-594C1F6C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body"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70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434960" indent="-199800">
              <a:spcBef>
                <a:spcPts val="451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795320" indent="-15372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795320" indent="-153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795320" indent="-153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1041480"/>
            <a:ext cx="9144000" cy="101520"/>
          </a:xfrm>
          <a:prstGeom prst="rect">
            <a:avLst/>
          </a:prstGeom>
          <a:gradFill rotWithShape="0">
            <a:gsLst>
              <a:gs pos="0">
                <a:srgbClr val="015385">
                  <a:alpha val="60392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897680" y="6589800"/>
            <a:ext cx="11080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40" rIns="41040" tIns="41040" bIns="4104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9795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45390D49-39E4-4E74-B0B1-9D2792A87E33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3"/>
          <a:stretch/>
        </p:blipFill>
        <p:spPr>
          <a:xfrm>
            <a:off x="415800" y="268200"/>
            <a:ext cx="6238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15800" y="1008000"/>
            <a:ext cx="8312400" cy="18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4143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820800" algn="ctr">
              <a:spcBef>
                <a:spcPts val="349"/>
              </a:spcBef>
              <a:buClr>
                <a:srgbClr val="015385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235160" algn="ctr">
              <a:spcBef>
                <a:spcPts val="349"/>
              </a:spcBef>
              <a:buClr>
                <a:srgbClr val="015385"/>
              </a:buClr>
              <a:buFont typeface="Arial"/>
              <a:buChar char="─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1641600" algn="ctr">
              <a:spcBef>
                <a:spcPts val="349"/>
              </a:spcBef>
              <a:buClr>
                <a:srgbClr val="01538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1641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1641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DDC-6FDC-4D56-9D85-D6215BAB14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89"/>
          </p:nvPr>
        </p:nvSpPr>
        <p:spPr>
          <a:xfrm>
            <a:off x="3124080" y="6552720"/>
            <a:ext cx="5748480" cy="174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all Aerospace and Technologies Corp., Proprietary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C80C-126E-4992-B4FA-4B0812B212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E26-0941-4493-B61C-16B251F2B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0200" y="380880"/>
            <a:ext cx="1598760" cy="536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345600" y="1479240"/>
            <a:ext cx="8520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251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147400" y="201240"/>
            <a:ext cx="67042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55308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ge_</a:t>
            </a:r>
            <a:fld id="{C3418264-468B-4EF8-AFE9-873717A94BD2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19320"/>
            <a:ext cx="9144000" cy="152280"/>
          </a:xfrm>
          <a:prstGeom prst="rect">
            <a:avLst/>
          </a:prstGeom>
          <a:gradFill rotWithShape="0">
            <a:gsLst>
              <a:gs pos="0">
                <a:srgbClr val="0251a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6553080"/>
            <a:ext cx="62751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55840" y="6249960"/>
            <a:ext cx="5610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17600" y="6319800"/>
            <a:ext cx="5748120" cy="40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1" lang="en-US" sz="2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07720" y="2146320"/>
            <a:ext cx="6512040" cy="27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41200" y="6553080"/>
            <a:ext cx="86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Ball Aerospace &amp; Technologies Corp., Proprietary Inform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948-E7CB-4A7B-9A6B-A8819573BD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C5CF-229B-4DDC-BEF3-23F5547B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553B-EF1D-4959-BD91-CF40ECAE43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E8F9-F4E4-4067-AE7C-0643B2497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4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15800" y="1008000"/>
            <a:ext cx="8312400" cy="18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Narrow"/>
              </a:rPr>
              <a:t>Supply Chain -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Arial Narrow"/>
              </a:rPr>
              <a:t>A Strategic Perspective</a:t>
            </a:r>
            <a:endParaRPr b="1" lang="en-US" sz="35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19080" y="2487600"/>
            <a:ext cx="1533600" cy="1882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593720" y="2487600"/>
            <a:ext cx="1552680" cy="228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182760" y="2554200"/>
            <a:ext cx="5889960" cy="160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927840" y="2622600"/>
            <a:ext cx="117648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xample of Integrated Supply Chain: Depicts tactical flow with continuous feedback from strategic activities 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6" name=""/>
          <p:cNvSpPr/>
          <p:nvPr/>
        </p:nvSpPr>
        <p:spPr>
          <a:xfrm>
            <a:off x="1940040" y="1479600"/>
            <a:ext cx="1038240" cy="7563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ject future part, technology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1731960" y="2622600"/>
            <a:ext cx="1386000" cy="12585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duct Structur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stered parts, BOM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quirements ready to be planned and bought – initiate, drive product structure into MR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325680" y="2622600"/>
            <a:ext cx="1384560" cy="12585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nagement -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Time-phased Material Planning: Quantities, need dates, requisi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4849920" y="2755800"/>
            <a:ext cx="1315800" cy="9237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pply Mgmt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Tactical buying, Strategic Supply 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6314040" y="3025800"/>
            <a:ext cx="626040" cy="2541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ce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6996240" y="2755800"/>
            <a:ext cx="1039680" cy="588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8dc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nspection: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ioritized, expedi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8104320" y="2827440"/>
            <a:ext cx="901440" cy="5889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nventory: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ptimized stock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0480" y="2554200"/>
            <a:ext cx="1455480" cy="9237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ign in optimized solution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Identify, use preferred parts (symbols in CAD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762120" y="1479600"/>
            <a:ext cx="1039680" cy="5889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pdate Preferred Parts list over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255840" y="5041800"/>
            <a:ext cx="1386000" cy="9237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solidate forecasted material requirements into RFQs for Purchase Agreements (P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126040" y="5110200"/>
            <a:ext cx="1454040" cy="8391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stablish PAs, negotiating reduced costs and leadtimes, based on forecasted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363920" y="1479600"/>
            <a:ext cx="1594080" cy="7563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cus business into Preferred Suppliers through use of PA pro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H="1" flipV="1">
            <a:off x="4710240" y="3966840"/>
            <a:ext cx="103968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412040" y="4033800"/>
            <a:ext cx="1316160" cy="756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eferred Parts from Preferred Suppliers routed Dock-Sto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186000" y="1612800"/>
            <a:ext cx="1040040" cy="5889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8dc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ck supplier trends, reduce obsolesc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641840" y="55800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095880" y="1479600"/>
            <a:ext cx="1594080" cy="756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rive improved supplier performance through supplier report cards, performance re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15800" y="1949400"/>
            <a:ext cx="27648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6719760" y="4840200"/>
            <a:ext cx="90036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948120" y="38988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104160" y="3765600"/>
            <a:ext cx="672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523880" y="3294000"/>
            <a:ext cx="2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117960" y="3294000"/>
            <a:ext cx="20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710240" y="329400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65720" y="31608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rot="16200000">
            <a:off x="8028720" y="3214800"/>
            <a:ext cx="152280" cy="13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6000 h 1386000"/>
              <a:gd name="textAreaBottom" fmla="*/ 1350000 h 13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264280" y="242100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45960" y="5648400"/>
            <a:ext cx="1316160" cy="254160"/>
          </a:xfrm>
          <a:prstGeom prst="rect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50640" y="5983200"/>
            <a:ext cx="1321200" cy="254160"/>
          </a:xfrm>
          <a:prstGeom prst="rect">
            <a:avLst/>
          </a:prstGeom>
          <a:solidFill>
            <a:srgbClr val="8dc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upply Chain 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45960" y="6319800"/>
            <a:ext cx="1316160" cy="2541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ission Assur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7757640" y="1949400"/>
            <a:ext cx="9018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5957640" y="194940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225680" y="194940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2977920" y="1949400"/>
            <a:ext cx="20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1801800" y="19494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7094520" y="3463920"/>
            <a:ext cx="77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086200" y="4456080"/>
            <a:ext cx="672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24440" y="3765600"/>
            <a:ext cx="646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731960" y="3967200"/>
            <a:ext cx="1386000" cy="421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66ff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ndardized quality lev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Examples of Integrated Supply Chain Metrics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26" name=""/>
          <p:cNvGraphicFramePr/>
          <p:nvPr/>
        </p:nvGraphicFramePr>
        <p:xfrm>
          <a:off x="52560" y="1184400"/>
          <a:ext cx="909144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60" y="1184400"/>
                    <a:ext cx="90914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In Conclusion…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M is an increasingly important discipline and provides a broad array of op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standing and articulating the various aspects is essential to optimum use of SC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formance begins with a holistic view of the flow of the technologies required, their development and sources, and an analytical approach to defining, developing and improving the supply bas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gnificant advantage to those who can pull this off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ether ‘Supply Chain’ can save the world is yet to be determined…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t properly employed SCM systems, processes, tools and personnel can dramatically improve an organization’s performance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/>
          <p:nvPr/>
        </p:nvSpPr>
        <p:spPr>
          <a:xfrm>
            <a:off x="1967040" y="358920"/>
            <a:ext cx="1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685800" y="4343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577800"/>
                <a:tab algn="l" pos="62856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7720" y="201240"/>
            <a:ext cx="7203960" cy="7398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Can Supply Chain Save the World?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345600" y="1277640"/>
            <a:ext cx="8589960" cy="54450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 Narrow"/>
              </a:rPr>
              <a:t>Save it from what?  What’s happening in our World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chnology focused industries moving to large, emerging markets, not focused on retaining business in high-margin, lower volume, aerospace sect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95280" indent="-47448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ults in limited number of qualified, developed suppliers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dustry consolidation continu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ong-term viability of domestic supplier capability questione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295280" indent="-47448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re technology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invention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– product and process – taking place off-shor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TAR restrictions hamper use of foreign supplier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1714680" indent="-479520">
              <a:spcBef>
                <a:spcPts val="349"/>
              </a:spcBef>
              <a:spcAft>
                <a:spcPts val="349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reign requirements, product and environmental, different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295280" indent="-47448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erospace electronics requirements continue to veer from commercia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ck of supply chain insight hinders ability to manage risk and ensure performanc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50004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o pays for, ensures, effective supply chain management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50004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o’s making the make/buy and sourcing decisions, and do they represent “best value” to government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177920" y="145800"/>
            <a:ext cx="775800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Not enough to understand evolving landscape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15440" y="1209240"/>
            <a:ext cx="852012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524"/>
              </a:spcBef>
              <a:spcAft>
                <a:spcPts val="524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ust organize to respond quickly, adapt in this environment</a:t>
            </a: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99"/>
              </a:spcBef>
              <a:spcAft>
                <a:spcPts val="499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ssues feel staggering, options seem limited (or limitless) and confus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requires an immediate reaction? What are appropriate actions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99"/>
              </a:spcBef>
              <a:spcAft>
                <a:spcPts val="499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G and aerospace supply chain ar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cognizing need and market advantage by ensuring access to critical supplied technolog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cognizing SCM as key process/system (are we investing as such?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ducing supply base, focusing business into fewer, better, more strategically aligned suppli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re focused than ever on sub-tier supply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ractual management giving way (begrudgingly) to relationship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99"/>
              </a:spcBef>
              <a:spcAft>
                <a:spcPts val="499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uggle for everyone, opportunity for those who can successfully integrate and manage their supply chai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Can any - all - SCM save us?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discipline of Supply Chain Management is like a giant Chinese menu, filled with options regarding tools, systems, processes, structure, focus, personnel, reporting, contracting, relationship models…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key is to discern which possible elements, working in concert, are best applied for a given agency, business, endeavor, program, and situ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Knowing what the options are and how they fit together is essenti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critical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superfluous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most efficient and cost-effectiv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spcAft>
                <a:spcPts val="400"/>
              </a:spcAft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produces the lowest total cost and lowest total risk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does not shift risk, it reduces/eliminates risk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does not move cost, it removes cos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allows for the best entities to produce the best outcom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spcAft>
                <a:spcPts val="451"/>
              </a:spcAft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ective SCM is objectively measured and manag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"/>
          <p:cNvSpPr/>
          <p:nvPr/>
        </p:nvSpPr>
        <p:spPr>
          <a:xfrm>
            <a:off x="1977120" y="6184800"/>
            <a:ext cx="4424400" cy="3567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what is Supply Chain Manag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0" y="1411200"/>
            <a:ext cx="9144000" cy="5311800"/>
            <a:chOff x="0" y="1411200"/>
            <a:chExt cx="9144000" cy="5311800"/>
          </a:xfrm>
        </p:grpSpPr>
        <p:sp>
          <p:nvSpPr>
            <p:cNvPr id="1722" name=""/>
            <p:cNvSpPr/>
            <p:nvPr/>
          </p:nvSpPr>
          <p:spPr>
            <a:xfrm>
              <a:off x="0" y="1411200"/>
              <a:ext cx="9144000" cy="531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0" y="1411200"/>
              <a:ext cx="9099000" cy="53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8160" y="145440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6480" y="1454400"/>
              <a:ext cx="23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lier Relationship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28520" y="16462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7920" y="1659240"/>
              <a:ext cx="1247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Sourc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8520" y="18370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81160" y="1837080"/>
              <a:ext cx="160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current Enginee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8520" y="20289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99160" y="2028960"/>
              <a:ext cx="161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chnology Foreca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28520" y="22219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86200" y="2221920"/>
              <a:ext cx="205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lier Performance / Qua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28160" y="24127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99160" y="240264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Mak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291320" y="2412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324800" y="24026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28160" y="26031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05640" y="2603160"/>
              <a:ext cx="171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bcontrac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28160" y="27964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20400" y="2796480"/>
              <a:ext cx="76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28520" y="29883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08520" y="2988360"/>
              <a:ext cx="166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overnment Compli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28520" y="31798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0400" y="3179880"/>
              <a:ext cx="1386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mand Foreca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8520" y="33721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7080" y="3372120"/>
              <a:ext cx="1566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quirements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8520" y="356400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0040" y="3551400"/>
              <a:ext cx="1163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erial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8520" y="37558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7440" y="375588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ceiv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28160" y="39466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09240" y="3946680"/>
              <a:ext cx="140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ceiving Insp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28160" y="41385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3560" y="4138560"/>
              <a:ext cx="116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ventory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28160" y="433044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40200" y="4330440"/>
              <a:ext cx="88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arehous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28520" y="45223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24000" y="4522320"/>
              <a:ext cx="1171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erial Hand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8520" y="471384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17880" y="471384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8520" y="490572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7160" y="4905720"/>
              <a:ext cx="141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stribution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8520" y="509760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5080" y="5097600"/>
              <a:ext cx="98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8160" y="528984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47040" y="528012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28160" y="54802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6800" y="5480280"/>
              <a:ext cx="155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gram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8160" y="56721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5800" y="567216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28520" y="58654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6080" y="586548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28520" y="605628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02760" y="6056280"/>
              <a:ext cx="186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 Business Develop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901880" y="1899720"/>
              <a:ext cx="124092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18000" y="1735920"/>
              <a:ext cx="24822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142800" y="1899720"/>
              <a:ext cx="164520" cy="1638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300560" y="1735920"/>
              <a:ext cx="330480" cy="3276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901880" y="2063880"/>
              <a:ext cx="45486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63200" y="1492200"/>
              <a:ext cx="2067840" cy="25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232360" y="2307600"/>
              <a:ext cx="579960" cy="25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71400" y="2469960"/>
              <a:ext cx="15714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983960" y="2634120"/>
              <a:ext cx="173592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812680" y="2063880"/>
              <a:ext cx="246600" cy="2433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3142800" y="2063880"/>
              <a:ext cx="330480" cy="406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3720240" y="2063520"/>
              <a:ext cx="414000" cy="5698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208480" y="1654560"/>
              <a:ext cx="123948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282280" y="1715040"/>
              <a:ext cx="1146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rategic Suppl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426280" y="1878840"/>
              <a:ext cx="85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31040" y="1492200"/>
              <a:ext cx="497520" cy="5713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74960" y="2877480"/>
              <a:ext cx="29757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4050720" y="2063880"/>
              <a:ext cx="579960" cy="8136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87520" y="4180320"/>
              <a:ext cx="364104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01880" y="3040200"/>
              <a:ext cx="17373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39600" y="3040200"/>
              <a:ext cx="577080" cy="11397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653840" y="3285360"/>
              <a:ext cx="16534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07680" y="3285360"/>
              <a:ext cx="412560" cy="8949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18000" y="3449160"/>
              <a:ext cx="12412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059640" y="3449160"/>
              <a:ext cx="330120" cy="7311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571400" y="3610080"/>
              <a:ext cx="12412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812680" y="3610080"/>
              <a:ext cx="246600" cy="5698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991080" y="3855240"/>
              <a:ext cx="15717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563200" y="3855240"/>
              <a:ext cx="165600" cy="3247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53840" y="4017600"/>
              <a:ext cx="57852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232360" y="4017600"/>
              <a:ext cx="82080" cy="1623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405440" y="4589640"/>
              <a:ext cx="74304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240920" y="4425480"/>
              <a:ext cx="57708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059120" y="4792320"/>
              <a:ext cx="6606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18000" y="4425480"/>
              <a:ext cx="330480" cy="16380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715760" y="4589280"/>
              <a:ext cx="432720" cy="208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53840" y="4995360"/>
              <a:ext cx="1901880" cy="144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48840" y="4589640"/>
              <a:ext cx="414000" cy="4057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2148840" y="4180320"/>
              <a:ext cx="744480" cy="4089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240920" y="5158080"/>
              <a:ext cx="115740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2398320" y="4995000"/>
              <a:ext cx="164520" cy="1623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134600" y="3935160"/>
              <a:ext cx="118152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222080" y="3996720"/>
              <a:ext cx="106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erials Mgm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28920" y="4180320"/>
              <a:ext cx="414000" cy="40896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3556080" y="4589280"/>
              <a:ext cx="1987200" cy="4057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543280" y="4589640"/>
              <a:ext cx="132156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46360" y="4589640"/>
              <a:ext cx="890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815560" y="464652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24120" y="4810680"/>
              <a:ext cx="78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873760" y="4344120"/>
              <a:ext cx="7329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59440" y="440316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450840" y="2063880"/>
              <a:ext cx="910800" cy="13024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6865200" y="3366000"/>
              <a:ext cx="496440" cy="122292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61640" y="3366360"/>
              <a:ext cx="1653840" cy="1080"/>
            </a:xfrm>
            <a:prstGeom prst="line">
              <a:avLst/>
            </a:prstGeom>
            <a:ln w="144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7760" y="3120120"/>
              <a:ext cx="185436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337520" y="3181680"/>
              <a:ext cx="179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ly Chain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2144520" y="6130080"/>
              <a:ext cx="5386680" cy="11160"/>
              <a:chOff x="2144520" y="6130080"/>
              <a:chExt cx="5386680" cy="11160"/>
            </a:xfrm>
          </p:grpSpPr>
          <p:sp>
            <p:nvSpPr>
              <p:cNvPr id="1833" name=""/>
              <p:cNvSpPr/>
              <p:nvPr/>
            </p:nvSpPr>
            <p:spPr>
              <a:xfrm>
                <a:off x="21445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2586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3713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4858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59884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7133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82744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4048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0546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16728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2817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9480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50928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237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73644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8505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96324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07772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1922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3052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197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53240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6465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5956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8740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98816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10120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21568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32836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4428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5552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6700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78448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9716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0116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1243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23880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3529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46596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58044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6931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8076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920640" y="6130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03512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148880" y="6130080"/>
                <a:ext cx="9252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61920" y="6130080"/>
                <a:ext cx="93960" cy="111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76400" y="613008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89080" y="6130080"/>
                <a:ext cx="42120" cy="111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7521480" y="3362400"/>
              <a:ext cx="1249200" cy="2778480"/>
              <a:chOff x="7521480" y="3362400"/>
              <a:chExt cx="1249200" cy="2778480"/>
            </a:xfrm>
          </p:grpSpPr>
          <p:sp>
            <p:nvSpPr>
              <p:cNvPr id="1882" name=""/>
              <p:cNvSpPr/>
              <p:nvPr/>
            </p:nvSpPr>
            <p:spPr>
              <a:xfrm>
                <a:off x="7521480" y="605592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68280" y="5954400"/>
                <a:ext cx="42120" cy="8496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0"/>
                    </a:moveTo>
                    <a:lnTo>
                      <a:pt x="0" y="5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611840" y="5851080"/>
                <a:ext cx="45360" cy="84600"/>
              </a:xfrm>
              <a:custGeom>
                <a:avLst/>
                <a:gdLst/>
                <a:ahLst/>
                <a:rect l="l" t="t" r="r" b="b"/>
                <a:pathLst>
                  <a:path w="29" h="55">
                    <a:moveTo>
                      <a:pt x="0" y="51"/>
                    </a:moveTo>
                    <a:lnTo>
                      <a:pt x="0" y="53"/>
                    </a:lnTo>
                    <a:lnTo>
                      <a:pt x="1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7" y="54"/>
                    </a:lnTo>
                    <a:lnTo>
                      <a:pt x="7" y="53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59000" y="574920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6" y="53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706160" y="5647320"/>
                <a:ext cx="42120" cy="8316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0"/>
                    </a:moveTo>
                    <a:lnTo>
                      <a:pt x="0" y="51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6" y="51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749720" y="5543640"/>
                <a:ext cx="45360" cy="84960"/>
              </a:xfrm>
              <a:custGeom>
                <a:avLst/>
                <a:gdLst/>
                <a:ahLst/>
                <a:rect l="l" t="t" r="r" b="b"/>
                <a:pathLst>
                  <a:path w="29" h="55">
                    <a:moveTo>
                      <a:pt x="0" y="51"/>
                    </a:moveTo>
                    <a:lnTo>
                      <a:pt x="0" y="53"/>
                    </a:lnTo>
                    <a:lnTo>
                      <a:pt x="1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7" y="54"/>
                    </a:lnTo>
                    <a:lnTo>
                      <a:pt x="7" y="53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796880" y="544212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6" y="53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842240" y="533880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887600" y="5236920"/>
                <a:ext cx="4392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34760" y="513504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2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80120" y="503172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025480" y="4929840"/>
                <a:ext cx="4392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72640" y="4826520"/>
                <a:ext cx="42120" cy="8460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1"/>
                    </a:moveTo>
                    <a:lnTo>
                      <a:pt x="0" y="52"/>
                    </a:lnTo>
                    <a:lnTo>
                      <a:pt x="0" y="53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3"/>
                    </a:lnTo>
                    <a:lnTo>
                      <a:pt x="7" y="52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118000" y="472464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63360" y="462276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210520" y="4519440"/>
                <a:ext cx="42120" cy="8316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1"/>
                    </a:moveTo>
                    <a:lnTo>
                      <a:pt x="0" y="5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7" y="52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55880" y="441756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0"/>
                    </a:moveTo>
                    <a:lnTo>
                      <a:pt x="0" y="51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6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301240" y="4315680"/>
                <a:ext cx="43560" cy="8172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0" y="50"/>
                    </a:move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348040" y="4210560"/>
                <a:ext cx="42120" cy="8496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7" y="53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393760" y="410904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439120" y="400572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484480" y="390384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531640" y="3801960"/>
                <a:ext cx="42120" cy="84600"/>
              </a:xfrm>
              <a:custGeom>
                <a:avLst/>
                <a:gdLst/>
                <a:ahLst/>
                <a:rect l="l" t="t" r="r" b="b"/>
                <a:pathLst>
                  <a:path w="27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577000" y="369864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622360" y="3596760"/>
                <a:ext cx="43560" cy="8496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4"/>
                    </a:lnTo>
                    <a:lnTo>
                      <a:pt x="6" y="53"/>
                    </a:lnTo>
                    <a:lnTo>
                      <a:pt x="6" y="52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67360" y="3493440"/>
                <a:ext cx="4392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2" y="54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7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714880" y="3391560"/>
                <a:ext cx="43560" cy="846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2"/>
                    </a:moveTo>
                    <a:lnTo>
                      <a:pt x="0" y="53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3" y="55"/>
                    </a:lnTo>
                    <a:lnTo>
                      <a:pt x="5" y="55"/>
                    </a:lnTo>
                    <a:lnTo>
                      <a:pt x="6" y="54"/>
                    </a:lnTo>
                    <a:lnTo>
                      <a:pt x="7" y="53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760240" y="336240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490320" y="5315040"/>
              <a:ext cx="7371360" cy="12240"/>
              <a:chOff x="490320" y="5315040"/>
              <a:chExt cx="7371360" cy="12240"/>
            </a:xfrm>
          </p:grpSpPr>
          <p:sp>
            <p:nvSpPr>
              <p:cNvPr id="1911" name=""/>
              <p:cNvSpPr/>
              <p:nvPr/>
            </p:nvSpPr>
            <p:spPr>
              <a:xfrm>
                <a:off x="4903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044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89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316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94608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05912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1732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2859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4004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5148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62792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74168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8547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9692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0836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1963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3108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42352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380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65068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651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8796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923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0644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21948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3339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44664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5611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6752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78828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90240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01544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299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2440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3567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4712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58424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6987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114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9255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04000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15268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26716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38020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946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070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7214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359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4900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06312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758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2902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40476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5174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6319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74496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85908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97176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0862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20072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1340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427520" y="531504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540560" y="5315040"/>
                <a:ext cx="9360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55040" y="531504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767720" y="5315040"/>
                <a:ext cx="93960" cy="1224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1648080" y="5560200"/>
              <a:ext cx="5303160" cy="10440"/>
              <a:chOff x="1648080" y="5560200"/>
              <a:chExt cx="5303160" cy="10440"/>
            </a:xfrm>
          </p:grpSpPr>
          <p:sp>
            <p:nvSpPr>
              <p:cNvPr id="1977" name=""/>
              <p:cNvSpPr/>
              <p:nvPr/>
            </p:nvSpPr>
            <p:spPr>
              <a:xfrm>
                <a:off x="164808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7622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8766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98936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1038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21688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3310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44368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5581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726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78532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8994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01248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1269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964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3541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686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8092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5400" y="5560200"/>
                <a:ext cx="9252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80844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9229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0374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15008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2642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37724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4917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60440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188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83300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4568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0601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7320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2876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0036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144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6289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4164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56120" y="5560200"/>
                <a:ext cx="9252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6916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08328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9776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31044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42492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537960" y="5560200"/>
                <a:ext cx="9360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652440" y="5560200"/>
                <a:ext cx="92160" cy="104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764760" y="5560200"/>
                <a:ext cx="93960" cy="1044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879240" y="5560200"/>
                <a:ext cx="72000" cy="10440"/>
              </a:xfrm>
              <a:custGeom>
                <a:avLst/>
                <a:gdLst/>
                <a:ahLst/>
                <a:rect l="l" t="t" r="r" b="b"/>
                <a:pathLst>
                  <a:path w="46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904680" y="5724000"/>
              <a:ext cx="6296040" cy="9360"/>
              <a:chOff x="904680" y="5724000"/>
              <a:chExt cx="6296040" cy="9360"/>
            </a:xfrm>
          </p:grpSpPr>
          <p:sp>
            <p:nvSpPr>
              <p:cNvPr id="2025" name=""/>
              <p:cNvSpPr/>
              <p:nvPr/>
            </p:nvSpPr>
            <p:spPr>
              <a:xfrm>
                <a:off x="90468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0188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13184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2463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3608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47312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876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0028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8147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92924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04192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1564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26908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3835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49660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61036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72484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3788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9523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650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791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29220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40668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211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6338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7479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606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97512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0896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20228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3167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42944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5439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65696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77072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88520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99824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1127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2254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3395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5256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56704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815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7942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083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210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13548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24996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36300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47712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589800" y="5724000"/>
                <a:ext cx="9396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704280" y="572400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817320" y="5724000"/>
                <a:ext cx="93600" cy="9360"/>
              </a:xfrm>
              <a:custGeom>
                <a:avLst/>
                <a:gdLst/>
                <a:ahLst/>
                <a:rect l="l" t="t" r="r" b="b"/>
                <a:pathLst>
                  <a:path w="60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93108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45560" y="5724000"/>
                <a:ext cx="92520" cy="9360"/>
              </a:xfrm>
              <a:custGeom>
                <a:avLst/>
                <a:gdLst/>
                <a:ahLst/>
                <a:rect l="l" t="t" r="r" b="b"/>
                <a:pathLst>
                  <a:path w="59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158600" y="5724000"/>
                <a:ext cx="42120" cy="93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4" y="6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1483200" y="5969160"/>
              <a:ext cx="5964480" cy="8280"/>
              <a:chOff x="1483200" y="5969160"/>
              <a:chExt cx="5964480" cy="8280"/>
            </a:xfrm>
          </p:grpSpPr>
          <p:sp>
            <p:nvSpPr>
              <p:cNvPr id="2082" name=""/>
              <p:cNvSpPr/>
              <p:nvPr/>
            </p:nvSpPr>
            <p:spPr>
              <a:xfrm>
                <a:off x="14832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59552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00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8244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3752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0520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16432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2788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39184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0596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62044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3348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8476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96028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0747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1892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3022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41640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52908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6435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5624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87072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98520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09788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2123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32504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43952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55256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66668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78080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89384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00832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12100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2354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3499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626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57676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8980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042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1696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314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14556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25860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37308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48576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6002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71292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7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2704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941520" y="5969160"/>
                <a:ext cx="9252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054560" y="5969160"/>
                <a:ext cx="9360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169040" y="5969160"/>
                <a:ext cx="92160" cy="82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58" y="5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281720" y="5969160"/>
                <a:ext cx="93960" cy="82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9" y="5"/>
                    </a:lnTo>
                    <a:lnTo>
                      <a:pt x="60" y="4"/>
                    </a:lnTo>
                    <a:lnTo>
                      <a:pt x="60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395840" y="5969160"/>
                <a:ext cx="51840" cy="828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7437960" y="5315040"/>
              <a:ext cx="341640" cy="662040"/>
              <a:chOff x="7437960" y="5315040"/>
              <a:chExt cx="341640" cy="662040"/>
            </a:xfrm>
          </p:grpSpPr>
          <p:sp>
            <p:nvSpPr>
              <p:cNvPr id="2136" name=""/>
              <p:cNvSpPr/>
              <p:nvPr/>
            </p:nvSpPr>
            <p:spPr>
              <a:xfrm>
                <a:off x="7437960" y="5893560"/>
                <a:ext cx="46800" cy="8352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1" y="50"/>
                    </a:move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3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3"/>
                    </a:lnTo>
                    <a:lnTo>
                      <a:pt x="1" y="5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489440" y="5793480"/>
                <a:ext cx="47160" cy="8316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9"/>
                    </a:moveTo>
                    <a:lnTo>
                      <a:pt x="0" y="50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539480" y="5694840"/>
                <a:ext cx="47160" cy="8136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1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3" y="53"/>
                    </a:lnTo>
                    <a:lnTo>
                      <a:pt x="5" y="53"/>
                    </a:lnTo>
                    <a:lnTo>
                      <a:pt x="6" y="52"/>
                    </a:lnTo>
                    <a:lnTo>
                      <a:pt x="7" y="51"/>
                    </a:lnTo>
                    <a:lnTo>
                      <a:pt x="30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1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591680" y="5594400"/>
                <a:ext cx="46800" cy="8316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41720" y="5493600"/>
                <a:ext cx="48600" cy="831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6" y="53"/>
                    </a:lnTo>
                    <a:lnTo>
                      <a:pt x="7" y="52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1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693560" y="5393520"/>
                <a:ext cx="46800" cy="8316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8"/>
                    </a:move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3"/>
                    </a:lnTo>
                    <a:lnTo>
                      <a:pt x="6" y="52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743960" y="5315040"/>
                <a:ext cx="35640" cy="6156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1" y="34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5" y="39"/>
                    </a:lnTo>
                    <a:lnTo>
                      <a:pt x="7" y="3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7191360" y="5315040"/>
              <a:ext cx="256320" cy="417960"/>
              <a:chOff x="7191360" y="5315040"/>
              <a:chExt cx="256320" cy="417960"/>
            </a:xfrm>
          </p:grpSpPr>
          <p:sp>
            <p:nvSpPr>
              <p:cNvPr id="2144" name=""/>
              <p:cNvSpPr/>
              <p:nvPr/>
            </p:nvSpPr>
            <p:spPr>
              <a:xfrm>
                <a:off x="7191360" y="5652720"/>
                <a:ext cx="52560" cy="802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1" y="47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2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7" y="51"/>
                    </a:lnTo>
                    <a:lnTo>
                      <a:pt x="33" y="5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248600" y="5556960"/>
                <a:ext cx="52560" cy="7848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47"/>
                    </a:move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33" y="5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308000" y="5461560"/>
                <a:ext cx="52560" cy="7992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0" y="46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5" y="49"/>
                    </a:lnTo>
                    <a:lnTo>
                      <a:pt x="33" y="4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365240" y="5364360"/>
                <a:ext cx="52560" cy="7992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0" y="48"/>
                    </a:moveTo>
                    <a:lnTo>
                      <a:pt x="0" y="49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5" y="52"/>
                    </a:lnTo>
                    <a:lnTo>
                      <a:pt x="6" y="51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424640" y="5315040"/>
                <a:ext cx="23040" cy="338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17"/>
                    </a:move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9" name=""/>
            <p:cNvGrpSpPr/>
            <p:nvPr/>
          </p:nvGrpSpPr>
          <p:grpSpPr>
            <a:xfrm>
              <a:off x="6942960" y="5315040"/>
              <a:ext cx="174240" cy="255960"/>
              <a:chOff x="6942960" y="5315040"/>
              <a:chExt cx="174240" cy="255960"/>
            </a:xfrm>
          </p:grpSpPr>
          <p:sp>
            <p:nvSpPr>
              <p:cNvPr id="2150" name=""/>
              <p:cNvSpPr/>
              <p:nvPr/>
            </p:nvSpPr>
            <p:spPr>
              <a:xfrm>
                <a:off x="6942960" y="5493600"/>
                <a:ext cx="56160" cy="7740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1" y="46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35" y="5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005240" y="5398920"/>
                <a:ext cx="54360" cy="7920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0" y="46"/>
                    </a:move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35" y="6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067520" y="5315040"/>
                <a:ext cx="49680" cy="684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" y="40"/>
                    </a:moveTo>
                    <a:lnTo>
                      <a:pt x="0" y="41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6" y="43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6" y="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7938720" y="2307600"/>
              <a:ext cx="744480" cy="260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143200" y="2366280"/>
              <a:ext cx="39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00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73760" y="3204000"/>
              <a:ext cx="826560" cy="26064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121080" y="326304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90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720240" y="3366360"/>
              <a:ext cx="572760" cy="260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841200" y="34254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80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571400" y="2715120"/>
              <a:ext cx="571320" cy="2617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692000" y="277416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960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749240" y="3831480"/>
              <a:ext cx="1572840" cy="3247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98720" y="3911400"/>
              <a:ext cx="101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g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547160" y="2877480"/>
              <a:ext cx="1002960" cy="3261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735080" y="2935080"/>
              <a:ext cx="74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ol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774200" y="1654560"/>
              <a:ext cx="1128600" cy="3247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974720" y="171216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gr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 flipV="1">
              <a:off x="3555720" y="2877120"/>
              <a:ext cx="83160" cy="162360"/>
            </a:xfrm>
            <a:prstGeom prst="line">
              <a:avLst/>
            </a:prstGeom>
            <a:ln w="111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639600" y="2877120"/>
              <a:ext cx="164520" cy="162360"/>
            </a:xfrm>
            <a:prstGeom prst="line">
              <a:avLst/>
            </a:prstGeom>
            <a:ln w="111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257600" y="3926880"/>
              <a:ext cx="144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177560" y="13464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marL="533520"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Evolutionary depiction of Supply Chain Management 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Know Thyself’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15440" y="1209240"/>
            <a:ext cx="8589960" cy="511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ood Supply Chain Management begins with organizational self-awarenes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re about what you do than what’s done to you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f you don’t know who you are and what you do, it’s very difficult to know who you need and what you nee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our supply chain and supply base are an extension of who you are, in a sense they are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our supply chain extends to the supply base, but its success begins and ends with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your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decision making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t’s the beginning of successful risk managem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You can outsource capacity. You can outsource capability. You can out source expertise. Ultimately, you cannot outsource risk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ain, that is you (your success) out ther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eater level of risk, greater level of contro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fficult to be a visionar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asier to be an “Exceptional Thief”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scipline before tool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now when to invest in collaborative design and mfg tool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66720" indent="-252360"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earn to saw before you buy a chain saw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o who are we?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CM links customer needs with supplier offerings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4" name="" descr=""/>
          <p:cNvPicPr/>
          <p:nvPr/>
        </p:nvPicPr>
        <p:blipFill>
          <a:blip r:embed="rId2"/>
          <a:stretch/>
        </p:blipFill>
        <p:spPr>
          <a:xfrm>
            <a:off x="358920" y="1147680"/>
            <a:ext cx="820872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Strategic Supply Management drives tactical ‘drumbeat’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6" name="" descr=""/>
          <p:cNvPicPr/>
          <p:nvPr/>
        </p:nvPicPr>
        <p:blipFill>
          <a:blip r:embed="rId2"/>
          <a:stretch/>
        </p:blipFill>
        <p:spPr>
          <a:xfrm>
            <a:off x="484200" y="1184400"/>
            <a:ext cx="81756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177560" y="145800"/>
            <a:ext cx="7550280" cy="76356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The Integrated Supply Chain</a:t>
            </a:r>
            <a:endParaRPr b="1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15800" y="1209240"/>
            <a:ext cx="8312400" cy="5380200"/>
          </a:xfrm>
          <a:prstGeom prst="rect">
            <a:avLst/>
          </a:prstGeom>
          <a:noFill/>
          <a:ln w="0">
            <a:noFill/>
          </a:ln>
        </p:spPr>
        <p:txBody>
          <a:bodyPr lIns="41040" rIns="41040" tIns="41040" bIns="4104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ly Chain Mapping – extended network design, multi-tier sourcing/functiona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y supplier, technology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9320" indent="-398520">
              <a:lnSpc>
                <a:spcPct val="90000"/>
              </a:lnSpc>
              <a:spcBef>
                <a:spcPts val="349"/>
              </a:spcBef>
              <a:buClr>
                <a:srgbClr val="015385"/>
              </a:buClr>
              <a:buFont typeface="Wingdings" charset="2"/>
              <a:buChar char="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ow involved do you want to be? Do you really want to manage Tier 2 and Tier 3 suppliers? Do you need to? When, where, why?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scriminating Technologie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19320" indent="-398520">
              <a:lnSpc>
                <a:spcPct val="90000"/>
              </a:lnSpc>
              <a:spcBef>
                <a:spcPts val="349"/>
              </a:spcBef>
              <a:buClr>
                <a:srgbClr val="015385"/>
              </a:buClr>
              <a:buFont typeface="Wingdings" charset="2"/>
              <a:buChar char="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pply Chain map of a particular critical supplied technolog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y data flow and/or funct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-343080">
              <a:lnSpc>
                <a:spcPct val="90000"/>
              </a:lnSpc>
              <a:spcBef>
                <a:spcPts val="400"/>
              </a:spcBef>
              <a:buClr>
                <a:srgbClr val="015385"/>
              </a:buClr>
              <a:buFont typeface="Arial"/>
              <a:buChar char="─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y cash and/or product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0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15385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ives of Optimizing the Internal Supply Chai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9" name=""/>
          <p:cNvSpPr/>
          <p:nvPr/>
        </p:nvSpPr>
        <p:spPr>
          <a:xfrm>
            <a:off x="692280" y="4033800"/>
            <a:ext cx="3448080" cy="25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Building a competitive advan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cycle t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selection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lier lead t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er co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ece parts, assembl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b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mastering, parts exped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material was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rategic vs. Tactical focu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imized supply base support and flexi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ual costs easily used in proposal se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92720" y="4033800"/>
            <a:ext cx="3671640" cy="25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Reducing the risk in executing pr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program schedule sl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d on-time delivery perform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d % of parts received by need da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ured part availa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roved quality of parts, assembl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duced level of part obsolesc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roved supplier perform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imized prioritization of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roved materiel, supply chain visibilit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 to availability within the supply ch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3:43:56Z</dcterms:created>
  <dc:creator>Ball Aerospace &amp; Technologies Corp.</dc:creator>
  <dc:description/>
  <dc:language>en-US</dc:language>
  <cp:lastModifiedBy>J Root</cp:lastModifiedBy>
  <dcterms:modified xsi:type="dcterms:W3CDTF">2008-09-23T19:41:56Z</dcterms:modified>
  <cp:revision>537</cp:revision>
  <dc:subject/>
  <dc:title>Program Operations/ Mission Assurance Segment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Operation">
    <vt:lpwstr>SavedAs</vt:lpwstr>
  </property>
</Properties>
</file>