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C769-0279-4536-8F80-49F75C1F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48DD-E63F-45B4-B430-8CF8B7E8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B175-70DB-46BE-ADCD-3BC5212D2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3234-DF79-47E8-A348-4F115B2B4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6BBB-BB3E-4589-BDF0-93A285AA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7473-3A6B-4A32-BCAC-24D239BA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7F57-A8E6-47DA-95AF-48B1637C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C53D-1D2C-4496-A2E6-91764B80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4435-7817-4A28-A902-A7E2251D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2312-F32D-4FA8-96CB-87E0302C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6F74-0B2F-4A8D-BE94-5747794F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40CA-BCF2-4D29-91DA-E547FEB3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D718-0601-4E6F-A11D-5E1E03270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05920" y="0"/>
            <a:ext cx="838080" cy="7351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38080" cy="7351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 txBox="1"/>
          <p:nvPr/>
        </p:nvSpPr>
        <p:spPr>
          <a:xfrm>
            <a:off x="1143000" y="2057400"/>
            <a:ext cx="670572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eaeaea"/>
                </a:solidFill>
                <a:latin typeface="Arial Black"/>
              </a:rPr>
              <a:t>PRELIMINARY</a:t>
            </a:r>
            <a:endParaRPr b="0" lang="en-US" sz="2400" spc="1" strike="noStrike">
              <a:ln w="0">
                <a:noFill/>
              </a:ln>
              <a:solidFill>
                <a:srgbClr val="eaeaea"/>
              </a:solidFill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1219320"/>
            <a:ext cx="84582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AA Observing Systems Architecture (NOSA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stment Analysis Update</a:t>
            </a: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94920" y="4038120"/>
            <a:ext cx="6629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ic Mil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ng NOAA Observing Systems Archit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ly 28, 20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56A7-58B0-4F74-8FB4-6AB77D24B9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 of Goal-specific Analys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of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distribution of selected systems across Go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bble Chart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y Go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TB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7850-62B2-4FF3-ABFA-8B6B369E70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mber of Goal Requirements and Systems Evaluated by Go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85800" y="1981080"/>
          <a:ext cx="7924680" cy="3962520"/>
        </p:xfrm>
        <a:graphic>
          <a:graphicData uri="http://schemas.openxmlformats.org/drawingml/2006/table">
            <a:tbl>
              <a:tblPr/>
              <a:tblGrid>
                <a:gridCol w="1676520"/>
                <a:gridCol w="1752480"/>
                <a:gridCol w="1523880"/>
                <a:gridCol w="1374840"/>
                <a:gridCol w="1596960"/>
              </a:tblGrid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sys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ther and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e &amp; Transpor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815D-3688-4D68-A8D0-73C110DADE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liminary Top 20 Most “Valued” Current Observing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3240" y="6324480"/>
            <a:ext cx="41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low-average score for dep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91320" y="2133360"/>
            <a:ext cx="2743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SDIS-POES/DMS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SDIS-GOES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4560" y="2133720"/>
            <a:ext cx="2971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WS-BUO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WS-C-M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WS-ASOS*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S-NWL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WS-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S-SWMP*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TS*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MFS-Protected Resource Survey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WS-COOP*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AR-TAO/PIR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WS-RAWINSONDE*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0" y="2133720"/>
            <a:ext cx="3048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AR-ETL-RAWINSO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WS-MDC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3 Aircraft Surv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MSS- Living Marine Resources &amp; Ecosystems Surveys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XR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73664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Satelli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1992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telli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9553-FD42-4941-AD89-ED691C16B8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 Current Observ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ons by Go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649520"/>
          <a:ext cx="8077320" cy="4708440"/>
        </p:xfrm>
        <a:graphic>
          <a:graphicData uri="http://schemas.openxmlformats.org/drawingml/2006/table">
            <a:tbl>
              <a:tblPr/>
              <a:tblGrid>
                <a:gridCol w="2019240"/>
                <a:gridCol w="2021040"/>
                <a:gridCol w="2019240"/>
                <a:gridCol w="2017800"/>
              </a:tblGrid>
              <a:tr h="76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ther and Wa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e and Transpor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MFS-CREW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SDIS-Satellites (GOES, POE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SDIS-Satellites (GOES, POE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BUO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S-SWM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AR-TAO/PIRA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RAWINSON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SDIS-Satellites (GOES, POE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MFS-Protected Resource Surv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cean reference stations (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AR-ETL-Rawinsonde-MW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C-M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AA/CMDL Baseline Atmospheric Observatori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MDCA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TS (Coastal Observation Technology Syste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AS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AS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RAWINSON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BUO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BUO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AS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MFS-Living Marine Resource and Ecosystem Surv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OP (3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Keys Networ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COO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S-NW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DART Buo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B2E5-EF23-4A9A-B168-15D2192D58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36600" y="1841400"/>
            <a:ext cx="6500880" cy="33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36600" y="1841400"/>
            <a:ext cx="6500880" cy="3386160"/>
          </a:xfrm>
          <a:prstGeom prst="rect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33440" y="4583160"/>
            <a:ext cx="130320" cy="644400"/>
          </a:xfrm>
          <a:prstGeom prst="rect">
            <a:avLst/>
          </a:prstGeom>
          <a:solidFill>
            <a:srgbClr val="9933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58880" y="5078520"/>
            <a:ext cx="130320" cy="149040"/>
          </a:xfrm>
          <a:prstGeom prst="rect">
            <a:avLst/>
          </a:prstGeom>
          <a:solidFill>
            <a:srgbClr val="9933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4320" y="4727520"/>
            <a:ext cx="130320" cy="500040"/>
          </a:xfrm>
          <a:prstGeom prst="rect">
            <a:avLst/>
          </a:prstGeom>
          <a:solidFill>
            <a:srgbClr val="9933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09760" y="5184720"/>
            <a:ext cx="130320" cy="42840"/>
          </a:xfrm>
          <a:prstGeom prst="rect">
            <a:avLst/>
          </a:prstGeom>
          <a:solidFill>
            <a:srgbClr val="9933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33760" y="5187960"/>
            <a:ext cx="129960" cy="39600"/>
          </a:xfrm>
          <a:prstGeom prst="rect">
            <a:avLst/>
          </a:prstGeom>
          <a:solidFill>
            <a:srgbClr val="9933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59200" y="5035680"/>
            <a:ext cx="129960" cy="191880"/>
          </a:xfrm>
          <a:prstGeom prst="rect">
            <a:avLst/>
          </a:prstGeom>
          <a:solidFill>
            <a:srgbClr val="9933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84640" y="4989600"/>
            <a:ext cx="129960" cy="237960"/>
          </a:xfrm>
          <a:prstGeom prst="rect">
            <a:avLst/>
          </a:prstGeom>
          <a:solidFill>
            <a:srgbClr val="9933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08280" y="5129280"/>
            <a:ext cx="131760" cy="98280"/>
          </a:xfrm>
          <a:prstGeom prst="rect">
            <a:avLst/>
          </a:prstGeom>
          <a:solidFill>
            <a:srgbClr val="9933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33720" y="5192640"/>
            <a:ext cx="130320" cy="34920"/>
          </a:xfrm>
          <a:prstGeom prst="rect">
            <a:avLst/>
          </a:prstGeom>
          <a:solidFill>
            <a:srgbClr val="9933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59160" y="5143680"/>
            <a:ext cx="130320" cy="83880"/>
          </a:xfrm>
          <a:prstGeom prst="rect">
            <a:avLst/>
          </a:prstGeom>
          <a:solidFill>
            <a:srgbClr val="9933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84600" y="4821120"/>
            <a:ext cx="130320" cy="406440"/>
          </a:xfrm>
          <a:prstGeom prst="rect">
            <a:avLst/>
          </a:prstGeom>
          <a:solidFill>
            <a:srgbClr val="9933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84920" y="5060880"/>
            <a:ext cx="129960" cy="166680"/>
          </a:xfrm>
          <a:prstGeom prst="rect">
            <a:avLst/>
          </a:prstGeom>
          <a:solidFill>
            <a:srgbClr val="9933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08880" y="5213520"/>
            <a:ext cx="130320" cy="14040"/>
          </a:xfrm>
          <a:prstGeom prst="rect">
            <a:avLst/>
          </a:prstGeom>
          <a:solidFill>
            <a:srgbClr val="9933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33440" y="3944880"/>
            <a:ext cx="130320" cy="638280"/>
          </a:xfrm>
          <a:prstGeom prst="rect">
            <a:avLst/>
          </a:prstGeom>
          <a:solidFill>
            <a:srgbClr val="ffffcc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58880" y="4896000"/>
            <a:ext cx="130320" cy="182520"/>
          </a:xfrm>
          <a:prstGeom prst="rect">
            <a:avLst/>
          </a:prstGeom>
          <a:solidFill>
            <a:srgbClr val="ffffcc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4320" y="4394160"/>
            <a:ext cx="130320" cy="333360"/>
          </a:xfrm>
          <a:prstGeom prst="rect">
            <a:avLst/>
          </a:prstGeom>
          <a:solidFill>
            <a:srgbClr val="ffffcc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09760" y="5040360"/>
            <a:ext cx="130320" cy="144360"/>
          </a:xfrm>
          <a:prstGeom prst="rect">
            <a:avLst/>
          </a:prstGeom>
          <a:solidFill>
            <a:srgbClr val="ffffcc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9200" y="4964040"/>
            <a:ext cx="129960" cy="71640"/>
          </a:xfrm>
          <a:prstGeom prst="rect">
            <a:avLst/>
          </a:prstGeom>
          <a:solidFill>
            <a:srgbClr val="ffffcc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84640" y="4756320"/>
            <a:ext cx="129960" cy="233280"/>
          </a:xfrm>
          <a:prstGeom prst="rect">
            <a:avLst/>
          </a:prstGeom>
          <a:solidFill>
            <a:srgbClr val="ffffcc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08280" y="4799160"/>
            <a:ext cx="131760" cy="330120"/>
          </a:xfrm>
          <a:prstGeom prst="rect">
            <a:avLst/>
          </a:prstGeom>
          <a:solidFill>
            <a:srgbClr val="ffffcc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33720" y="5180040"/>
            <a:ext cx="130320" cy="12600"/>
          </a:xfrm>
          <a:prstGeom prst="rect">
            <a:avLst/>
          </a:prstGeom>
          <a:solidFill>
            <a:srgbClr val="ffffcc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59160" y="5075280"/>
            <a:ext cx="130320" cy="68400"/>
          </a:xfrm>
          <a:prstGeom prst="rect">
            <a:avLst/>
          </a:prstGeom>
          <a:solidFill>
            <a:srgbClr val="ffffcc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08600" y="4930920"/>
            <a:ext cx="129960" cy="296640"/>
          </a:xfrm>
          <a:prstGeom prst="rect">
            <a:avLst/>
          </a:prstGeom>
          <a:solidFill>
            <a:srgbClr val="ffffcc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84920" y="4925880"/>
            <a:ext cx="129960" cy="135000"/>
          </a:xfrm>
          <a:prstGeom prst="rect">
            <a:avLst/>
          </a:prstGeom>
          <a:solidFill>
            <a:srgbClr val="ffffcc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84880" y="5180040"/>
            <a:ext cx="130320" cy="47520"/>
          </a:xfrm>
          <a:prstGeom prst="rect">
            <a:avLst/>
          </a:prstGeom>
          <a:solidFill>
            <a:srgbClr val="ffffcc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08880" y="4968720"/>
            <a:ext cx="130320" cy="244800"/>
          </a:xfrm>
          <a:prstGeom prst="rect">
            <a:avLst/>
          </a:prstGeom>
          <a:solidFill>
            <a:srgbClr val="ffffcc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33440" y="3610080"/>
            <a:ext cx="130320" cy="33480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58880" y="4214880"/>
            <a:ext cx="130320" cy="68112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84320" y="4262400"/>
            <a:ext cx="130320" cy="13176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09760" y="4748040"/>
            <a:ext cx="130320" cy="29232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33760" y="4024440"/>
            <a:ext cx="129960" cy="116352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59200" y="4770360"/>
            <a:ext cx="129960" cy="19368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84640" y="4694400"/>
            <a:ext cx="129960" cy="6192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3720" y="4308480"/>
            <a:ext cx="130320" cy="87156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59160" y="4862520"/>
            <a:ext cx="130320" cy="21276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84600" y="4600440"/>
            <a:ext cx="130320" cy="22068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34040" y="4506840"/>
            <a:ext cx="129960" cy="72072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59480" y="4511520"/>
            <a:ext cx="129960" cy="71604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84920" y="4896000"/>
            <a:ext cx="129960" cy="2988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08560" y="4524480"/>
            <a:ext cx="130320" cy="70308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34000" y="4587840"/>
            <a:ext cx="130320" cy="63972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4600440"/>
            <a:ext cx="131760" cy="62712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84880" y="4998960"/>
            <a:ext cx="130320" cy="18108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33440" y="2327400"/>
            <a:ext cx="130320" cy="1282680"/>
          </a:xfrm>
          <a:prstGeom prst="rect">
            <a:avLst/>
          </a:prstGeom>
          <a:solidFill>
            <a:srgbClr val="6600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8880" y="2728800"/>
            <a:ext cx="130320" cy="1486080"/>
          </a:xfrm>
          <a:prstGeom prst="rect">
            <a:avLst/>
          </a:prstGeom>
          <a:solidFill>
            <a:srgbClr val="6600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4320" y="2924280"/>
            <a:ext cx="130320" cy="1338120"/>
          </a:xfrm>
          <a:prstGeom prst="rect">
            <a:avLst/>
          </a:prstGeom>
          <a:solidFill>
            <a:srgbClr val="6600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09760" y="3736800"/>
            <a:ext cx="130320" cy="1011240"/>
          </a:xfrm>
          <a:prstGeom prst="rect">
            <a:avLst/>
          </a:prstGeom>
          <a:solidFill>
            <a:srgbClr val="6600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33760" y="3909960"/>
            <a:ext cx="129960" cy="114480"/>
          </a:xfrm>
          <a:prstGeom prst="rect">
            <a:avLst/>
          </a:prstGeom>
          <a:solidFill>
            <a:srgbClr val="6600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59200" y="3970440"/>
            <a:ext cx="129960" cy="799920"/>
          </a:xfrm>
          <a:prstGeom prst="rect">
            <a:avLst/>
          </a:prstGeom>
          <a:solidFill>
            <a:srgbClr val="6600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84640" y="4138560"/>
            <a:ext cx="129960" cy="555840"/>
          </a:xfrm>
          <a:prstGeom prst="rect">
            <a:avLst/>
          </a:prstGeom>
          <a:solidFill>
            <a:srgbClr val="6600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08280" y="4143240"/>
            <a:ext cx="131760" cy="655920"/>
          </a:xfrm>
          <a:prstGeom prst="rect">
            <a:avLst/>
          </a:prstGeom>
          <a:solidFill>
            <a:srgbClr val="6600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33720" y="4156200"/>
            <a:ext cx="130320" cy="152280"/>
          </a:xfrm>
          <a:prstGeom prst="rect">
            <a:avLst/>
          </a:prstGeom>
          <a:solidFill>
            <a:srgbClr val="6600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59160" y="4338720"/>
            <a:ext cx="130320" cy="523800"/>
          </a:xfrm>
          <a:prstGeom prst="rect">
            <a:avLst/>
          </a:prstGeom>
          <a:solidFill>
            <a:srgbClr val="6600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4600" y="4430880"/>
            <a:ext cx="130320" cy="169560"/>
          </a:xfrm>
          <a:prstGeom prst="rect">
            <a:avLst/>
          </a:prstGeom>
          <a:solidFill>
            <a:srgbClr val="6600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08600" y="4498920"/>
            <a:ext cx="129960" cy="432000"/>
          </a:xfrm>
          <a:prstGeom prst="rect">
            <a:avLst/>
          </a:prstGeom>
          <a:solidFill>
            <a:srgbClr val="6600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84920" y="4516560"/>
            <a:ext cx="129960" cy="379440"/>
          </a:xfrm>
          <a:prstGeom prst="rect">
            <a:avLst/>
          </a:prstGeom>
          <a:solidFill>
            <a:srgbClr val="6600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84880" y="4618080"/>
            <a:ext cx="130320" cy="380880"/>
          </a:xfrm>
          <a:prstGeom prst="rect">
            <a:avLst/>
          </a:prstGeom>
          <a:solidFill>
            <a:srgbClr val="6600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08880" y="4618080"/>
            <a:ext cx="130320" cy="350640"/>
          </a:xfrm>
          <a:prstGeom prst="rect">
            <a:avLst/>
          </a:prstGeom>
          <a:solidFill>
            <a:srgbClr val="6600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36600" y="1841400"/>
            <a:ext cx="1800" cy="338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01680" y="522756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01680" y="480384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01680" y="437976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01680" y="395748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01680" y="353376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01680" y="311004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01680" y="268776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01680" y="226368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01680" y="184140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36600" y="5227560"/>
            <a:ext cx="6500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236600" y="522756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560600" y="522756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887480" y="522756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211480" y="522756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536920" y="522756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860560" y="522756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187800" y="522756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511440" y="522756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836880" y="522756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160880" y="522756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487760" y="522756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811760" y="522756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137200" y="522756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460840" y="522756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788080" y="522756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111720" y="522756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437160" y="522756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761160" y="522756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086600" y="522756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412040" y="522756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737480" y="522756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93960" y="685800"/>
            <a:ext cx="5081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ue Distribution by Go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16720" y="5159520"/>
            <a:ext cx="5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5400" y="4735440"/>
            <a:ext cx="174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5400" y="4311720"/>
            <a:ext cx="174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5400" y="3889440"/>
            <a:ext cx="174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95400" y="3465360"/>
            <a:ext cx="174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5400" y="3041640"/>
            <a:ext cx="174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5400" y="2619360"/>
            <a:ext cx="174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5400" y="2195640"/>
            <a:ext cx="174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7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5400" y="1773360"/>
            <a:ext cx="174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8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8900000">
            <a:off x="674640" y="5570280"/>
            <a:ext cx="779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ESDIS-NPO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8900000">
            <a:off x="1213200" y="5475240"/>
            <a:ext cx="54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WS-BUO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8900000">
            <a:off x="1429560" y="5527800"/>
            <a:ext cx="657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ESDIS-G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8900000">
            <a:off x="1816200" y="5495760"/>
            <a:ext cx="596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WS-C-M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8900000">
            <a:off x="2090160" y="5517720"/>
            <a:ext cx="649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MFS-CREW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8900000">
            <a:off x="2577600" y="5453280"/>
            <a:ext cx="459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WS-V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8900000">
            <a:off x="2851200" y="5475240"/>
            <a:ext cx="520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WS-AS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8900000">
            <a:off x="2815920" y="5621040"/>
            <a:ext cx="943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WS-RAWINSON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8900000">
            <a:off x="3479760" y="5476680"/>
            <a:ext cx="554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OS-SW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8900000">
            <a:off x="3742200" y="5502240"/>
            <a:ext cx="630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OS-NWL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8900000">
            <a:off x="3889440" y="5581440"/>
            <a:ext cx="831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OAR-TAO/PIR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8900000">
            <a:off x="3744360" y="5783040"/>
            <a:ext cx="1364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OAR-ETL-Rawinsonde-MW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8900000">
            <a:off x="3842280" y="5864400"/>
            <a:ext cx="1651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MFS-Protected Resource Survey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8900000">
            <a:off x="5402880" y="535680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RO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8900000">
            <a:off x="5434560" y="5476680"/>
            <a:ext cx="547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WS-CO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8900000">
            <a:off x="6006600" y="5376600"/>
            <a:ext cx="25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O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8900000">
            <a:off x="4925880" y="5957280"/>
            <a:ext cx="1899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MFS-Resource and Ecosystem Survey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8900000">
            <a:off x="6147000" y="5597640"/>
            <a:ext cx="832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eaKeys Net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8900000">
            <a:off x="6716520" y="5486400"/>
            <a:ext cx="566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OS-PO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8900000">
            <a:off x="6942240" y="5527800"/>
            <a:ext cx="680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WS-MDCA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808760" y="3213000"/>
            <a:ext cx="1124280" cy="6397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45480" y="3263760"/>
            <a:ext cx="68040" cy="68400"/>
          </a:xfrm>
          <a:prstGeom prst="rect">
            <a:avLst/>
          </a:prstGeom>
          <a:solidFill>
            <a:srgbClr val="6600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038800" y="3230640"/>
            <a:ext cx="775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Weather&amp;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5480" y="3424320"/>
            <a:ext cx="68040" cy="6804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30520" y="3390840"/>
            <a:ext cx="55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Ecosyste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45480" y="3583080"/>
            <a:ext cx="68040" cy="69840"/>
          </a:xfrm>
          <a:prstGeom prst="rect">
            <a:avLst/>
          </a:prstGeom>
          <a:solidFill>
            <a:srgbClr val="ffffcc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47080" y="3549600"/>
            <a:ext cx="869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ommerce&amp;Tra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845480" y="3743280"/>
            <a:ext cx="68040" cy="69840"/>
          </a:xfrm>
          <a:prstGeom prst="rect">
            <a:avLst/>
          </a:prstGeom>
          <a:solidFill>
            <a:srgbClr val="9933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007480" y="3710160"/>
            <a:ext cx="365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lim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A092-C028-4209-BC2A-80F4111E3C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ss-cutting Systems: 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823080" cy="4572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911240" y="1295280"/>
            <a:ext cx="53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WS-Buoy Valuable to Multiple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858B-6EB1-4B05-B5B8-806E22C15D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liminary Top New/Novel Systems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WS-UAV 10,000 flights/y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SDIS-Active Radar Satell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AR-FSL GPS water vapor sen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air UA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449568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Systems w/ new capabilities—not upgrades of current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8A4A-8ED7-401F-BD0D-AFA5208D1B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p Analysis by Goal—Top Expansion O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85800" y="1600200"/>
          <a:ext cx="7772400" cy="4357800"/>
        </p:xfrm>
        <a:graphic>
          <a:graphicData uri="http://schemas.openxmlformats.org/drawingml/2006/table">
            <a:tbl>
              <a:tblPr/>
              <a:tblGrid>
                <a:gridCol w="1828800"/>
                <a:gridCol w="2362320"/>
                <a:gridCol w="1752480"/>
                <a:gridCol w="1828800"/>
              </a:tblGrid>
              <a:tr h="86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ther and Wa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e and Transpor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AR-TAO/PIRA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AR-TAO/PIRA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AR-TAO/PIRA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S-POR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MFS-CREW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cean reference stations (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AS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BUO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erosol Monitoring Network (CMDL Baseline Observatorie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C-M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RAWINSON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MFS-National Observer Progr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MDL Column Spectral Aerosol Optical Depth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S-NW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A-Marine Optical Buoy (MOBY)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OAA/CMDL Baseline Observatori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S-NW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S-HYD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OAA/CMDL Ozone Profile Networ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BUO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MFS-Protected Resource Surv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OAA/CMDL Water Vapor Soundin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S-POR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AA ocean mapp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S-NS&amp;T Mussel Wa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AR-ETL-LIDAR-MOP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OS-NCO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beam/backscatter sonar - shipbo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WS-MDCA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WS-AS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7E0A-1FF5-49D7-B43C-8C470B56E6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p Analysis by Goal—Top Upgrade O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85800" y="1981080"/>
          <a:ext cx="7772400" cy="4571640"/>
        </p:xfrm>
        <a:graphic>
          <a:graphicData uri="http://schemas.openxmlformats.org/drawingml/2006/table">
            <a:tbl>
              <a:tblPr/>
              <a:tblGrid>
                <a:gridCol w="1943280"/>
                <a:gridCol w="1944360"/>
                <a:gridCol w="1943280"/>
                <a:gridCol w="1941480"/>
              </a:tblGrid>
              <a:tr h="73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ther and Wa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e and Transpor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SDIS-NPO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SDIS-Satellites (GOES-R, NPOES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SDIS-Satellites (GOES-R, NPOES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SDIS-Satellites (GOES-R, NPOES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OS-HYD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Volunteer Observing Ship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COO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BUO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WS-AS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WS-MDCA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n Brow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OS-POR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ESDIS-GO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win Ot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WS-C-M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IRM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WS-AS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9346-D2F2-4EBE-91E1-301578BB53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p Analysis—Top Combined Expansion and Upgrade O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33520" y="1752480"/>
          <a:ext cx="8305560" cy="4044960"/>
        </p:xfrm>
        <a:graphic>
          <a:graphicData uri="http://schemas.openxmlformats.org/drawingml/2006/table">
            <a:tbl>
              <a:tblPr/>
              <a:tblGrid>
                <a:gridCol w="2076480"/>
                <a:gridCol w="2077920"/>
                <a:gridCol w="2076480"/>
                <a:gridCol w="2074680"/>
              </a:tblGrid>
              <a:tr h="89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ther and Wa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e and Transpor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S-Sanctuary Monitor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ll Towers Carbon Cycle Atmospheric Observing System (North America) (3 towers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COO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S-POR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BUO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ght Aircraft Rental-Climate Air Che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BUO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BUO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S-POR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MDL Carbon Cycle Global Cooperative Air Sampling Networ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AS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C-M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oustic Doppler profiler - fixed install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OAA/CMDL Surface Ozone Monitoring Networ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S-C-M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WS-AS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S-Sanctuary Surv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S-POR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WS-COO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Water column sampling st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NWS-C-M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A034-91A4-404D-8AF7-3068ADD9D7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1522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SA Investment Analys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851120"/>
            <a:ext cx="213372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alue of Observing System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137120"/>
            <a:ext cx="2133720" cy="11912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Cost of Observing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2460600"/>
            <a:ext cx="2133720" cy="942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3832200"/>
            <a:ext cx="2133720" cy="825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Cost Deter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3146400"/>
            <a:ext cx="3124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serving System Investmen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47" idx="3"/>
            <a:endCxn id="49" idx="1"/>
          </p:cNvCxnSpPr>
          <p:nvPr/>
        </p:nvCxnSpPr>
        <p:spPr>
          <a:xfrm>
            <a:off x="2743200" y="2449080"/>
            <a:ext cx="381600" cy="4834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8" idx="3"/>
            <a:endCxn id="50" idx="1"/>
          </p:cNvCxnSpPr>
          <p:nvPr/>
        </p:nvCxnSpPr>
        <p:spPr>
          <a:xfrm flipV="1">
            <a:off x="2743200" y="4247640"/>
            <a:ext cx="381600" cy="488160"/>
          </a:xfrm>
          <a:prstGeom prst="straightConnector1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3"/>
          </p:cNvCxnSpPr>
          <p:nvPr/>
        </p:nvCxnSpPr>
        <p:spPr>
          <a:xfrm>
            <a:off x="5257440" y="2932200"/>
            <a:ext cx="30564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/>
          <p:nvPr/>
        </p:nvCxnSpPr>
        <p:spPr>
          <a:xfrm flipV="1">
            <a:off x="5257440" y="3862080"/>
            <a:ext cx="30564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2209680" y="5638680"/>
            <a:ext cx="640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Value is considered to be the contribution an observing system makes toward satisfying a requi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2A95-1C40-481B-B059-22C25E058E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liminary Ranking of All Current and Future Satellite O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data (from non-NOAA satellit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SDIS-POES, GO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SDIS-GOES-R, NPO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SDIS-Active Satellite Rad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4 or similar orb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1 or similar orb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ce-based wind LIDAR (pola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PS occul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e-sitter platfo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ellite altimetry derived geo vectors (current speed &amp; direc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6385-0CED-473F-9E45-1AF7EF3E5F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liminary Ranking of All Current Non-Satellite Observing System Options (1 of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quire Data Externall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BUO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C-MA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MFS-CREW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VO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ASO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RAWINSOND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SWMP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NWLO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TAO/PIRATA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ETL-Rawinsonde-MW11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MFS-Protected Resource Sur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V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COOP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T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MFS-Living Marine Resource and Ecosystem Sur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aKeys Network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PORT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MDCAR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DART Buo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ltibeam and backscatter sonar - shipboar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ver sur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MFS-National Observer Program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ter column sampling sta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ideo - in-wa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mera sl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NS&amp;T Mussel Watch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SDIS-USCR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NEXRA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ETL Marine Atmospheric Boundary Layer Obs System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lobal drifting buo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erial color photography - film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erial color photography - digita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n Brow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xed-station surve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ltibeam and backscatter sonar - launch mount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cean reference stations (3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erial hyperspectral imagery, digital - CASI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ill photography - in-wa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ect surve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ircraft w/LIDA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vers, tow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ARL-SURFRA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A-Marine Optical Buoy (MOBY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win Ot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MFS-Marine Recreational Fisheries Statistics Surve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AA/CMDL Baseline Atmospheric Observatori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UV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erial multispectral imager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ve/tide recorders - fixed installatio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oustic Doppler profiler - fixed installatio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ETL-LIDAR-MOPA-os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ductivity, temperature, depth (CTD) cast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IRMo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OP (33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Sanctuary Monitor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CREW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HYDRO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urrent meters - in-wa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Periodic Visual Sru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STRATU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AOML-Global Ocean Observing System (GOOS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FSL GPS water vapor senso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5B5D-CECF-4743-A383-B8A33F901C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liminary Ranking of All Current Non-Satellite Observing System Options (2 of 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irborne Ozone UV-Differential absorption lidar (DIAL) Leased Aircraf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OI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ARL-ISI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oustic Doppler profiler - shipboar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ther Living Marine Resource Sur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wed side scan sona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AA/CMDL Stratospheric Aerosol Lidar Network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 Visual Reef Census Work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ide-scan sona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tion surveys - in-wa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Sanctuary Sur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Hydrographic sur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ETL-449 Rada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ETL-Fish LIDA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zone Profiling Atmospheric Lidar (OPAL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erosol Monitoring Network (at 5 CMDL Baseline Observatories + 4 additional sites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DAR ocean sensors - SeaSonde rada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eld biological sur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nned submersibl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Profiler Demonstration Network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mera bait stations - in-waterDrop camera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Profiling Radar-Tethered Aerostat Radar System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ployed temperature recorder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NOHRSC Airborne Snow Surve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MFS-Commercial Statistic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LT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Precipitation Profiling Rada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CRAI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ssive acoustic monitors - in-wa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ef development histor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GSLN-UHSLC (170 gauges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Profiling Radar (ETL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diometer casts from ship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DL Column Spectral Aerosol Optical Depth (AOD) (sub-set of CMDL Aerosol Pgm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phelometry/beam attenuatio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AL-Tropical Pacific Wind Profiler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con Flights w/ Dropsond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board PAR sensor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board spectroradiome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AA/CMDL Column Ozone (Dobson) Monitoring Network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rward and downward pointing video cameras - shipboar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PMEL-FOCI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ETL 5mm Scanning Radiome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ydrophone data loggers - in-wa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MFS - Protected Resource Sur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 CREW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cchi disk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ect surveys - in-wa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BAEL (355 nm aerosol lidar) 1 Instrumen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alocarbon and other Atmospheric Trace Species Network (5 components)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CMDL-STA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AS/XBT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Profiling Radar-Cooperative Agency Profiler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Profiling Radar-NOAA Profiler Network (NPN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hotography from towed diver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wl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AA/CMDL Surface Ozone Monitoring Network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urface-tracked drifiting buo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Wind Profiling Radar VHF (AL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xed-station surveys - in-wa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F radar national network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AA research vessel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E8BE-E2CC-4DC4-841D-0B15C00669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liminary Ranking of All Current Non-Satellite Observing System Options (3 of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FNP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Profiling Radar-Alaska Network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Periodic Fixed Sation Sampl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rt sampl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all Towers Carbon Cycle Atmospheric Observing System (North America) (3 towers)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AA/CMDL Ozone Profile (Ozonesonde) Monitoring Network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ws-net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p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 Estuarine Living Marine Resources (ELMR) Program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 Biogeography Program Surve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National Coral Reef Ecosystem Monitoring Program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ETL-LIDAR-HRDL-os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WPA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P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NCOP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ETL ground-based atmospheric IR emission interferome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Surface Record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P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dar Wind Profilers During Intensiv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ght Aircraft Rental-Climate Air Chem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DL Carbon Cycle Global Cooperative Air Sampling Network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erial hyperspectral imagery-digita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rward and downward pointing video cameras - camera sl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ETL ground-based dual-channel microwave (22 &amp; 31 GHz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ircraft track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DP National Atmospheric Deposition Program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tional Coastal Assessment Partnership Program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Bottom sediment trap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water column sample sta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hotography - digita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peat WOCE carbon inventor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mpling Sta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urface LIDA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ETL-Windprofiler-RB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oustic tagg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D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taminant monitoring sur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Land-based sur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 ARC and LARC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 Stream Gaug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Wind Profiling Radar UHF (AL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hotography - film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nic Anemometer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AA/CMDL Balloon-borne Water Vapor Sounding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tional Profiler Network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COR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Fish net pen visual sur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lunteer Observing Ship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onic tag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Shipboard Sur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ETL-SODA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ETL-SODA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ircraft Observa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Aerial surveysNWS-LARC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 Report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agging studi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oustical sur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ver transect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AA ocean mapp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p sur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F radar R&amp;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lunteer fish count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ETL-LIDAR (Ground-based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F1DC-56F3-47F1-93EE-B6A1C82992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liminary Ranking of Al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ut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on-Satellite Observing System Options (1 of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BUO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C-MA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MFS-CREW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TAO/PIRATA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COOP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VO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ASO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RAWINSOND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SWMP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NWLO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PORT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V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MFS-Protected Resource Sur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MDCAR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MFS-Living Marine Resource and Ecosystem Sur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aKeys Network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MFS-National Observer Program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UAV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DART Buo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ltibeam and backscatter sonar - shipboar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ter column sampling sta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NS&amp;T Mussel Watch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n Brow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ver sur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mera sl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ideo - in-wa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SDIS-USCR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NEXRA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lobal drifting buo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UV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A-Marine Optical Buoy (MOBY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win Ot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ltibeam and backscatter sonar - launch mount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erial color photography - film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cean reference stations (3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Sanctuary Monitor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erial color photography - digita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Argo (3000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xed-station surve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ill photography - in-wa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AA/CMDL Baseline Atmospheric Observatori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vers, tow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ircraft w/LIDA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ARL-SURFRA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oustic Doppler profiler - fixed installatio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IRMo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MFS-Marine Recreational Fisheries Statistics Surve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ect surve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ve/tide recorders - fixed installatio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ETL-LIDAR-MOPA-os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ductivity, temperature, depth (CTD) cast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HYDRO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STRATU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OP (33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Sanctuary Sur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urrent meters - in-wa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ARL-ISI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ther Living Marine Resource Sur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erosol Monitoring Network (at 5 CMDL Baseline Observatories + 4 additional sites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irborne Ozone UV-Differential absorption lidar (DIAL) Leased Aircraf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711D-5E29-41D7-A258-A585B64D6E6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liminary Ranking of Al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utu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-Satellite Observing System Options (2 of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DAR ocean sensors - SeaSonde rada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AA/CMDL Stratospheric Aerosol Lidar Network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wed side scan sona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ETL-Fish LIDA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tion surveys - in-wa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DL Column Spectral Aerosol Optical Depth (AOD) (sub-set of CMDL Aerosol Pgm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AOML-Global Ocean Observing System (GOOS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zone Profiling Atmospheric Lidar (OPAL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ETL-449 Rada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FSL GPS water vapor senso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eld biological sur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tair UAV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mera bait stations - in-wa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rop camera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NOHRSC Airborne Snow Surve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diometer casts from ship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ployed temperature recorder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Profiling Radar (ETL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ssive acoustic monitors - in-wa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board PAR sensor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all Towers Carbon Cycle Atmospheric Observing System (North America) (3 towers)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PMEL-FOCI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con Flights w/ Dropsond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ef development histor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board spectroradiome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phelometry/beam attenuatio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MFS-Commercial Statistic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LT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Precipitation Profiling Rada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rward and downward pointing video cameras - shipboar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ydrophone data loggers - in-wa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BAEL (355 nm aerosol lidar) 1 Instrumen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DL Carbon Cycle Global Cooperative Air Sampling Network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ght Aircraft Rental-Climate Air Chem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AA/CMDL Ozone Profile (Ozonesonde) Monitoring Network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AA/CMDL Surface Ozone Monitoring Network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 CREW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cchi disk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AA/CMDL Column Ozone (Dobson) Monitoring Network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rt sampl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ect surveys - in-wa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lunteer Observing Ship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hotography from towed diver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AS/XBT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AA/CMDL Balloon-borne Water Vapor Sounding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onic tag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mote sensing technologi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xed-station surveys - in-wa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AA ocean mapp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WS-FNP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Profiling Radar-NOAA Profiler Network (NPN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 carbon capability to mooring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rhenious Interferometer  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round-based magnetic observator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round-based Neutron Monito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COR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S-NCOP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ETL Marine Atmospheric Boundary Layer Obs System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peat WOCE carbon inventor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Bottom sediment trap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AR-Fish net pen visual survey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5386-C1C4-4A96-A238-6A889E50ACC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liminary Ranking of Al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ut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on-Satellite Observing System Options (3 of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AR-Bottom sediment trap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AR-Fish net pen visual survey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AR-water column sample sta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S-Shipboard Survey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WS ARC and LAR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rface LIDA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gging stud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locarbon and other Atmospheric Trace Species Network (5 components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zone Sond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ky Arr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coustical survey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ver transec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542F-356A-4CED-B825-1E740C031FC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tential Capability Improvements (Study Required)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n Alphabetical Orde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SDIS-GOES R (from GOES I-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SDIS-GOES R P3I (from GOES 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SDIS-NPOESS (from POES/DMS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WS-COOP Moderniz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WS-UAV 1000 flights/year w/Dropsondes (New Capabilit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480060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of 29 capability improvements prop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erage increase of nearly 7% in number of observation measured (bread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erage increase of nearly 16% in value of contribution to measurement (dep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99D3-2DAF-4264-81F3-17C61719419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tential Combined Capacity and Capability Improvements (Study Required)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n Alphabetical Orde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S-PORTS upgraded and expa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S-Sanctuary Monitoring upgraded and expand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WS-BUOY upgraded and expa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WS-C-MAN upgraded and expa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25200" y="5029200"/>
            <a:ext cx="6367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 combined upgrades and expansions prop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arly 16% average increase in value in measuring obser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arly 36% increase in number of types of observ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B9B3-59C7-48F7-A3F6-F1CBD787200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04920" y="1562040"/>
            <a:ext cx="8596080" cy="49244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rent NOAA Syste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7554960" y="2927520"/>
            <a:ext cx="1360440" cy="2409120"/>
            <a:chOff x="7554960" y="2927520"/>
            <a:chExt cx="1360440" cy="2409120"/>
          </a:xfrm>
        </p:grpSpPr>
        <p:sp>
          <p:nvSpPr>
            <p:cNvPr id="258" name=""/>
            <p:cNvSpPr/>
            <p:nvPr/>
          </p:nvSpPr>
          <p:spPr>
            <a:xfrm>
              <a:off x="7967520" y="3390840"/>
              <a:ext cx="490680" cy="479520"/>
            </a:xfrm>
            <a:prstGeom prst="ellipse">
              <a:avLst/>
            </a:prstGeom>
            <a:solidFill>
              <a:srgbClr val="b2b2b2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53280" y="4708440"/>
              <a:ext cx="128880" cy="146160"/>
            </a:xfrm>
            <a:prstGeom prst="ellipse">
              <a:avLst/>
            </a:prstGeom>
            <a:solidFill>
              <a:srgbClr val="b2b2b2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54960" y="292752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2 Observing Syste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20120" y="481644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 Observing 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217000" y="3935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3733920" y="3943080"/>
            <a:ext cx="914400" cy="417960"/>
            <a:chOff x="3733920" y="3943080"/>
            <a:chExt cx="914400" cy="417960"/>
          </a:xfrm>
        </p:grpSpPr>
        <p:sp>
          <p:nvSpPr>
            <p:cNvPr id="264" name=""/>
            <p:cNvSpPr/>
            <p:nvPr/>
          </p:nvSpPr>
          <p:spPr>
            <a:xfrm>
              <a:off x="4114800" y="4114800"/>
              <a:ext cx="53352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S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3733920" y="394308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809440" y="2517840"/>
            <a:ext cx="838440" cy="786960"/>
            <a:chOff x="2809440" y="2517840"/>
            <a:chExt cx="838440" cy="786960"/>
          </a:xfrm>
        </p:grpSpPr>
        <p:sp>
          <p:nvSpPr>
            <p:cNvPr id="267" name=""/>
            <p:cNvSpPr/>
            <p:nvPr/>
          </p:nvSpPr>
          <p:spPr>
            <a:xfrm>
              <a:off x="2809800" y="2517840"/>
              <a:ext cx="83808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AO/Pir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2809440" y="277164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048120" y="2867040"/>
            <a:ext cx="2371680" cy="790560"/>
            <a:chOff x="3048120" y="2867040"/>
            <a:chExt cx="2371680" cy="790560"/>
          </a:xfrm>
        </p:grpSpPr>
        <p:sp>
          <p:nvSpPr>
            <p:cNvPr id="270" name=""/>
            <p:cNvSpPr/>
            <p:nvPr/>
          </p:nvSpPr>
          <p:spPr>
            <a:xfrm>
              <a:off x="3743280" y="2867040"/>
              <a:ext cx="167652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otected Resource Surve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3048120" y="3124080"/>
              <a:ext cx="9144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247560" y="3733920"/>
            <a:ext cx="790920" cy="1160640"/>
            <a:chOff x="3247560" y="3733920"/>
            <a:chExt cx="790920" cy="1160640"/>
          </a:xfrm>
        </p:grpSpPr>
        <p:sp>
          <p:nvSpPr>
            <p:cNvPr id="273" name=""/>
            <p:cNvSpPr/>
            <p:nvPr/>
          </p:nvSpPr>
          <p:spPr>
            <a:xfrm>
              <a:off x="3352680" y="4648320"/>
              <a:ext cx="68580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WL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3247560" y="3733920"/>
              <a:ext cx="228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447920" y="1600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47920" y="1917720"/>
            <a:ext cx="457200" cy="304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23880" y="5397480"/>
            <a:ext cx="457200" cy="16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3880" y="5232240"/>
            <a:ext cx="457200" cy="152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17FE-5D95-4B99-807B-062FCC368D7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essing Value of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ing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veyed NOAA programs’ Priority-1 (Mission Critical) observing 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exibility to add/subtract/modify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system Goal:  "important"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ied current/planned/proposed observing systems that could contribute value toward satisfying each Priority-1 requir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s assessed value of all relevant investment options in terms of satisfying its Priority-1 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exibility to add/subtract/modify investment op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ECB6-5530-4E49-B1C2-32F7B042FF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301680" y="1562040"/>
            <a:ext cx="8583480" cy="49071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rent NOAA Systems plus External Systems Used by NOA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554960" y="2927520"/>
            <a:ext cx="1360440" cy="2409120"/>
            <a:chOff x="7554960" y="2927520"/>
            <a:chExt cx="1360440" cy="2409120"/>
          </a:xfrm>
        </p:grpSpPr>
        <p:sp>
          <p:nvSpPr>
            <p:cNvPr id="282" name=""/>
            <p:cNvSpPr/>
            <p:nvPr/>
          </p:nvSpPr>
          <p:spPr>
            <a:xfrm>
              <a:off x="7967520" y="3390840"/>
              <a:ext cx="490680" cy="479520"/>
            </a:xfrm>
            <a:prstGeom prst="ellipse">
              <a:avLst/>
            </a:prstGeom>
            <a:solidFill>
              <a:srgbClr val="b2b2b2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153280" y="4708440"/>
              <a:ext cx="128880" cy="146160"/>
            </a:xfrm>
            <a:prstGeom prst="ellipse">
              <a:avLst/>
            </a:prstGeom>
            <a:solidFill>
              <a:srgbClr val="b2b2b2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54960" y="292752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2 Observing Syste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20120" y="481644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 Observing 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217000" y="3935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133720" y="2523960"/>
            <a:ext cx="2286000" cy="1028880"/>
            <a:chOff x="2133720" y="2523960"/>
            <a:chExt cx="2286000" cy="1028880"/>
          </a:xfrm>
        </p:grpSpPr>
        <p:sp>
          <p:nvSpPr>
            <p:cNvPr id="288" name=""/>
            <p:cNvSpPr/>
            <p:nvPr/>
          </p:nvSpPr>
          <p:spPr>
            <a:xfrm>
              <a:off x="2819520" y="2523960"/>
              <a:ext cx="1600200" cy="47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USGS Stream Gaug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PA Air Quality 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133720" y="3019320"/>
              <a:ext cx="9144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1447920" y="1600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47920" y="1917720"/>
            <a:ext cx="457200" cy="304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23880" y="5397480"/>
            <a:ext cx="457200" cy="16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23880" y="5232240"/>
            <a:ext cx="457200" cy="152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DD65-D3AD-4125-A9DA-CDC5A984614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583480" cy="486432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rent plus Possible Future Systems: NOAA-w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7554960" y="2927520"/>
            <a:ext cx="1360440" cy="2409120"/>
            <a:chOff x="7554960" y="2927520"/>
            <a:chExt cx="1360440" cy="2409120"/>
          </a:xfrm>
        </p:grpSpPr>
        <p:sp>
          <p:nvSpPr>
            <p:cNvPr id="297" name=""/>
            <p:cNvSpPr/>
            <p:nvPr/>
          </p:nvSpPr>
          <p:spPr>
            <a:xfrm>
              <a:off x="7967520" y="3390840"/>
              <a:ext cx="490680" cy="479520"/>
            </a:xfrm>
            <a:prstGeom prst="ellipse">
              <a:avLst/>
            </a:prstGeom>
            <a:solidFill>
              <a:srgbClr val="b2b2b2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153280" y="4708440"/>
              <a:ext cx="128880" cy="146160"/>
            </a:xfrm>
            <a:prstGeom prst="ellipse">
              <a:avLst/>
            </a:prstGeom>
            <a:solidFill>
              <a:srgbClr val="b2b2b2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54960" y="292752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2 Observing Syste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20120" y="481644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 Observing 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217000" y="3935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867280" y="3581280"/>
            <a:ext cx="1143000" cy="1257840"/>
            <a:chOff x="5867280" y="3581280"/>
            <a:chExt cx="1143000" cy="1257840"/>
          </a:xfrm>
        </p:grpSpPr>
        <p:sp>
          <p:nvSpPr>
            <p:cNvPr id="303" name=""/>
            <p:cNvSpPr/>
            <p:nvPr/>
          </p:nvSpPr>
          <p:spPr>
            <a:xfrm>
              <a:off x="5867280" y="4191120"/>
              <a:ext cx="990720" cy="6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OES/DMS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POES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POESS + P3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5943600" y="37339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6400800" y="3581280"/>
              <a:ext cx="3808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400800" y="3581280"/>
              <a:ext cx="6094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257800" y="2324160"/>
            <a:ext cx="990720" cy="1485720"/>
            <a:chOff x="5257800" y="2324160"/>
            <a:chExt cx="990720" cy="1485720"/>
          </a:xfrm>
        </p:grpSpPr>
        <p:sp>
          <p:nvSpPr>
            <p:cNvPr id="308" name=""/>
            <p:cNvSpPr/>
            <p:nvPr/>
          </p:nvSpPr>
          <p:spPr>
            <a:xfrm>
              <a:off x="5257800" y="2324160"/>
              <a:ext cx="914400" cy="6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GO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GOES 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GOES R + P3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5257800" y="2971800"/>
              <a:ext cx="4572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715000" y="297180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15000" y="29718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3276720" y="3962160"/>
            <a:ext cx="838080" cy="1140480"/>
            <a:chOff x="3276720" y="3962160"/>
            <a:chExt cx="838080" cy="1140480"/>
          </a:xfrm>
        </p:grpSpPr>
        <p:sp>
          <p:nvSpPr>
            <p:cNvPr id="313" name=""/>
            <p:cNvSpPr/>
            <p:nvPr/>
          </p:nvSpPr>
          <p:spPr>
            <a:xfrm>
              <a:off x="3276720" y="4525920"/>
              <a:ext cx="761760" cy="57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OO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Modernized  COO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 flipV="1">
              <a:off x="3504960" y="4266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657600" y="3962160"/>
              <a:ext cx="457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3962520" y="2179800"/>
            <a:ext cx="838080" cy="1172880"/>
            <a:chOff x="3962520" y="2179800"/>
            <a:chExt cx="838080" cy="1172880"/>
          </a:xfrm>
        </p:grpSpPr>
        <p:sp>
          <p:nvSpPr>
            <p:cNvPr id="317" name=""/>
            <p:cNvSpPr/>
            <p:nvPr/>
          </p:nvSpPr>
          <p:spPr>
            <a:xfrm>
              <a:off x="3962520" y="2179800"/>
              <a:ext cx="838080" cy="71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WS-BUO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WS-BUOY upgraded and expand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43400" y="289548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43400" y="28954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2971800" y="2408400"/>
            <a:ext cx="838080" cy="1401480"/>
            <a:chOff x="2971800" y="2408400"/>
            <a:chExt cx="838080" cy="1401480"/>
          </a:xfrm>
        </p:grpSpPr>
        <p:sp>
          <p:nvSpPr>
            <p:cNvPr id="321" name=""/>
            <p:cNvSpPr/>
            <p:nvPr/>
          </p:nvSpPr>
          <p:spPr>
            <a:xfrm>
              <a:off x="2971800" y="2408400"/>
              <a:ext cx="838080" cy="71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S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SOS upgraded and expand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429000" y="312408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29000" y="312408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962160" y="3429000"/>
            <a:ext cx="1143360" cy="1247400"/>
            <a:chOff x="3962160" y="3429000"/>
            <a:chExt cx="1143360" cy="1247400"/>
          </a:xfrm>
        </p:grpSpPr>
        <p:sp>
          <p:nvSpPr>
            <p:cNvPr id="325" name=""/>
            <p:cNvSpPr/>
            <p:nvPr/>
          </p:nvSpPr>
          <p:spPr>
            <a:xfrm>
              <a:off x="4267080" y="3962520"/>
              <a:ext cx="838440" cy="71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-MA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-MAN upgraded and expand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3962160" y="3580920"/>
              <a:ext cx="6858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4114800" y="3429000"/>
              <a:ext cx="5335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1447920" y="156060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1871640"/>
            <a:ext cx="457200" cy="304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23880" y="5326200"/>
            <a:ext cx="457200" cy="16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23880" y="5160960"/>
            <a:ext cx="457200" cy="152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1407-CB46-41DF-9435-435CD86C153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583480" cy="48643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rent plus Possible Future Systems: NOAA-w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7554960" y="2927520"/>
            <a:ext cx="1360440" cy="2409120"/>
            <a:chOff x="7554960" y="2927520"/>
            <a:chExt cx="1360440" cy="2409120"/>
          </a:xfrm>
        </p:grpSpPr>
        <p:sp>
          <p:nvSpPr>
            <p:cNvPr id="335" name=""/>
            <p:cNvSpPr/>
            <p:nvPr/>
          </p:nvSpPr>
          <p:spPr>
            <a:xfrm>
              <a:off x="7967520" y="3390840"/>
              <a:ext cx="490680" cy="479520"/>
            </a:xfrm>
            <a:prstGeom prst="ellipse">
              <a:avLst/>
            </a:prstGeom>
            <a:solidFill>
              <a:srgbClr val="b2b2b2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53280" y="4708440"/>
              <a:ext cx="128880" cy="146160"/>
            </a:xfrm>
            <a:prstGeom prst="ellipse">
              <a:avLst/>
            </a:prstGeom>
            <a:solidFill>
              <a:srgbClr val="b2b2b2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54960" y="292752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2 Observing Syste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20120" y="481644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 Observing 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217000" y="3935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380880" y="60958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s to have future systems move Up and to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04920" y="3657600"/>
            <a:ext cx="152640" cy="152280"/>
          </a:xfrm>
          <a:prstGeom prst="donut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295280" y="3809880"/>
            <a:ext cx="990720" cy="398880"/>
            <a:chOff x="1295280" y="3809880"/>
            <a:chExt cx="990720" cy="398880"/>
          </a:xfrm>
        </p:grpSpPr>
        <p:sp>
          <p:nvSpPr>
            <p:cNvPr id="343" name=""/>
            <p:cNvSpPr/>
            <p:nvPr/>
          </p:nvSpPr>
          <p:spPr>
            <a:xfrm>
              <a:off x="1295280" y="3962520"/>
              <a:ext cx="99072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urrent Ce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1981080" y="3809880"/>
              <a:ext cx="1526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2225520" y="3308400"/>
            <a:ext cx="152640" cy="152280"/>
          </a:xfrm>
          <a:prstGeom prst="donut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2361960" y="2514600"/>
            <a:ext cx="1019520" cy="790560"/>
            <a:chOff x="2361960" y="2514600"/>
            <a:chExt cx="1019520" cy="790560"/>
          </a:xfrm>
        </p:grpSpPr>
        <p:sp>
          <p:nvSpPr>
            <p:cNvPr id="347" name=""/>
            <p:cNvSpPr/>
            <p:nvPr/>
          </p:nvSpPr>
          <p:spPr>
            <a:xfrm>
              <a:off x="2391120" y="2514600"/>
              <a:ext cx="99036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uture Ce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2361960" y="277164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447920" y="156060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47920" y="1871640"/>
            <a:ext cx="457200" cy="304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3880" y="5326200"/>
            <a:ext cx="457200" cy="16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523880" y="5160960"/>
            <a:ext cx="457200" cy="152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0683-54BC-4110-B5CE-44FEFE95383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-766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stment Analysis:  Next Ste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validation of survey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l 2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sure data accurately capture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Gap analy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l 3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y gaps between requirements a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 capabil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SC Input to AGM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 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 preliminary focus areas for Goal Team programming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rove observation requirements coordination across Go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liminat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unnecessa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redundan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cide on path: increase current system capacity versus improving current system capabilit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cide on path: increase breadth versus depth of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urrent/planned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 preliminary cost inf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 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tain investment and life-cycle sustain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s from pr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focus areas based on initial cost inf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 2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date investment recommend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t 1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246B-8B0E-4403-B513-66BF18F46A8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1066680" y="2438280"/>
            <a:ext cx="6934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6E3D-2609-4FAE-9C10-B8AE4B18310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1066680" y="2438280"/>
            <a:ext cx="6934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73BE-8B69-462E-B292-FEE96D09E8B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liminary Results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ptive Statist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line systems/options were evaluated in 2 way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dth - The number of  different Priority-1 observing requirements a system contributes toward measu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average each baseline system contributes toward measuring 7.75 different Priority-1 requirements (environmental parameter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number of Priority-1 requirements observed by each system ranges from 1 to 1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th - How valuable a contribution a system makes towards measuring each observation (on a scale of 1-1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average each baseline system contributes a value of 5.6 towards measuring each Priority-1 requir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dian value 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ndard deviation 1.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system was then “valued” by taking the product of its Breadth and Dep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31FA-F5B1-4201-9044-AE52024B523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rnal Observing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5 different external systems/options were evaluated in 2 way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dth - The number of  different observations a system contributes toward measu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average each baseline system contributes toward measuring 3 different observations (vice NOAA’s 7.75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s ranged from 1 to 16 observ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th - How valuable a contribution a system makes towards measuring each observation (on a scale of 1-1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average each baseline system contributes a value of 6.2 (out of 10) towards measuring each observation (vice NOAA’s 5.6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dian 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ndard deviation 2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FB73-03A2-4952-A73C-426253A1D57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acity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 Priority-1 observing requirement each participant was invited to offer one or more “expanded” options (e.g. increase the number of platforms) for each baseline system that measures that requir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city gaps were then identified by taking the difference between the baseline value score and the expanded system value sco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cipants indicated capacity gaps by scoring the baseline system at the lower end of the scale and their proposed expanded system at the higher end of the sca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A101-64AD-49B1-A6B9-1E636477326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ability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055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 Priority-1 observing requirement each participant was invited to offer one or more enhanced (e.g., add new instruments) and/or upgraded options for each baseline system that measures that requir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bility gaps were then identified by taking the difference between the baseline value score and the enhanced/upgraded system value sco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cipants indicated capability gaps by scoring the baseline system at the lower end of the scale and their proposed enhanced/upgraded system at the higher end of the sca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1BEE-DCFC-4A43-B007-881F01546F9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Priority-1 (Mission Critical) Observing Requirement equally valuable to NOA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Program within each Goal equally valuable to that Go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Goal equally valuable to NOA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8751-A2D8-4577-B148-8794EF0288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liminary Top 10 Future System Improv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SDIS-NPO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SDIS-GOES 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SDIS-GOES R P3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WS-UAV 1000 flights/year w/Dropsondes (New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WS-COOP Moderniz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WS-RAWINSONDE expa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S-PORTS upgraded and expa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WS-BUOY upgraded and expa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WS-C-MAN upgraded and expa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S-Sanctuary Monitoring upgraded and expand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D799-D8F0-4E12-B33E-9AD9FD316D0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tential Capacity Improvements (Study Required)</a:t>
            </a:r>
            <a:br>
              <a:rPr sz="28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n Alphabetical Orde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MFS-CREWS expa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MFS-Protected Resource Surveys expa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S-AUV expa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S-NWLON expa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S-ROV expa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S-SWMP expa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WS-ASOS expand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WS-BUOY expand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WS-C-MAN expa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WS-RAWINSONDE expa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382040" y="5738760"/>
            <a:ext cx="512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out 100 capacity expansions prop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erage increase in value of nearly 30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erage increase in number of observations of 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7488-A0E8-4967-859C-813FB95B3EC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ed only on Priority-1 (Mission Critical) Observing 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rnal solutions not studied in det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al weighting of all Requirements, Programs, and Go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ive but quantitative evaluations by Goal- designated representatives (internal to NOAA onl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6914-7E0C-4275-8E93-3DBAD7668C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AA-Wide Gap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13520" y="2971800"/>
            <a:ext cx="33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dated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649F-4550-4C3C-9824-D7A0399BB9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vey Stat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3840" y="17715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90720" y="457200"/>
          <a:ext cx="7867440" cy="71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57200"/>
                    <a:ext cx="7867440" cy="71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CF95-E63B-4C04-B7FC-11368D0ED3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dated Survey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 60 Participants representing every Goal and the 26 programs/areas with observing 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 400 different investment options (current and future) were proposed and evaluated against over 400 specific Priority-1 observing 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 400 survey forms were administered encompassing about 5000 individual value assess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0994-40CB-45A8-8F17-DD62BE238B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 of Goal-specific Analys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of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Requirements by Go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Observing System Options by Go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 Current Observing Options by Go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p Analysis by Go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ansion op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grade op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d Upgrade and Expand Op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431B-83E0-417F-9DF0-B2D4B3F77A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3:50:47Z</dcterms:created>
  <dc:creator>wtilesto</dc:creator>
  <dc:description/>
  <dc:language>en-US</dc:language>
  <cp:lastModifiedBy>wtilesto</cp:lastModifiedBy>
  <dcterms:modified xsi:type="dcterms:W3CDTF">2004-07-27T14:22:49Z</dcterms:modified>
  <cp:revision>202</cp:revision>
  <dc:subject/>
  <dc:title>PowerPoint Presentation</dc:title>
</cp:coreProperties>
</file>