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48C-9E1D-4AFE-AB3D-53E9BB57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0FE-F433-4A32-8E83-A1C598F2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F1F-C1B5-4BF1-B666-8857E20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05A-BCF1-417A-8009-D6A281F5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130-1371-41EB-A353-108EA0FF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629-2A07-4015-AE6F-0BAD93C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9EB-12B3-4FA4-A548-09A4ED6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27D-8EC4-4096-84F3-CC0D50C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370-522D-447D-B142-11F8A381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0AA-E97B-43D0-9798-E7A92248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7EF-B2F4-4505-B1BA-0242C1F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514-9038-4FF9-A931-4067FF6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596-2056-43EE-8E52-04F443116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fessionalization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ergenc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ckground, training, and the fundamental role of emergency managers, within the practice of emergency management, has continued to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6F9-47EA-4E39-8B9D-E022E84F93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reasing strength, size, and number of natural disast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te change is occurring; points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ncreases in disaster size, severity, and nu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catastrophic potent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 the nature of the nation’s hazard prof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need for regional coope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B05-7447-44BE-9BA1-5DA5451565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spect of disaster-driven global instabil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 change has become a national security 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a link between emergency management an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 change will create conditions in the affected countries that contribute to a loss of stability affecting the United States both directly and indirec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that follows major disasters must allow for a viabl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EF2-18E9-4D17-B8DD-E10A10D10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estic emergency managers must work with the international emergency management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ed States maintains two distinct emergency management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connect exists between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crises have international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58B-82AA-4599-83AB-A3D36E5600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 Academic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grown from fewer than 10 (1990s) to hundreds of programs (late 200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offered at the certificate, bachelor, master, and doctorate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ggering and growing range of course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other disciplines, emergency management is still in its inf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06F-8368-4242-BAD1-7017E679A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mestic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zards and hazard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ng influences and philosop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al and government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EF2-748A-4477-B1B5-2A0472DEE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 Emergenc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most advanced and best funded systems in the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tioners do not yet possess all of the answers to problems with hazards and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’ experience is but one of hundreds that exist in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C94-101B-4C63-BB03-45F1D789D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ssons from Abr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 and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i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C2C-C192-4A95-931B-CAE73485E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ergency Management Prof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d with creating the framework within which communities reduce vulnerability to hazards and cope with disaster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lanchard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B5D-FA84-468F-AC16-F54725CD0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ign Systems Discou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age of courses, resources, and instru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ical evolution of emergency management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841-6809-4DB8-9CFF-71BF0B54E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wth in Interest in Comparative Emergency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involvement by the nongovernmental and private sectors in domestic emergency managem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strength, size, and number of natural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spect of disaster-driven global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ing likelihood of scenarios where domestic emergency managers must work with the international emergency management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BCF-D26B-41D1-94A5-0AA1253C11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er involvement by the nongovernmental and private sectors in domestic emergency manageme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, nongovernmental, nonprofit, and private organizations augment deficient national capac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organizations have attained proficiency in their areas of expertise, and are regarded as being appropriately equipped, adequately staffed and trained, and often very well f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has been done to formalize such a system in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ative Emergency Management: Session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5D8-5696-4176-B023-BA84FB91FB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4:56:47Z</dcterms:created>
  <dc:creator>DPC</dc:creator>
  <dc:description/>
  <dc:language>en-US</dc:language>
  <cp:lastModifiedBy>bjohnso4</cp:lastModifiedBy>
  <dcterms:modified xsi:type="dcterms:W3CDTF">2008-05-02T14:23:16Z</dcterms:modified>
  <cp:revision>11</cp:revision>
  <dc:subject/>
  <dc:title>Professionalization of  Emergency Management</dc:title>
</cp:coreProperties>
</file>