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D6CD2-F218-4620-AE7A-E181CE93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458D2-6B1C-4AB8-B9FC-2ADAD8EB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B047A-DA93-4401-B33C-E88A7DEA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DD08C-D922-4AAD-994A-0A9A89C4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2C260-E3AB-414E-AA75-B88B35C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80102-AB15-4DA8-988A-36F7F673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222D5-504B-4147-A1DF-0BE20CB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A0B59-BF72-4930-98D6-A3F7D31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618C2-41AB-4689-A1CC-CA762C7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D96BF-A920-4CF6-80B1-8C9701D8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590E7-8EE8-4035-9C75-174B93EB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1C97F-5744-45E4-9474-07274681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0" y="6324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fld id="{1630E001-A408-4989-A35E-444251A153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F19C-2ACE-45F8-BBD9-439DDC8DF7D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efine Disast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defini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fine how we look at an event or a hazar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hat to do about 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if anyth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nterpretive Vo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dinary people will tell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ologists what disasters are i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e listen to them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Kroll-Smith and Gunt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Quarantelli, 1998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FEMA Definition of Disa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 occurrence that has resulted i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property damage, deaths, and/or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njuries to a community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FEMA, 199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the Stafford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jor Disaster:  Any natural catastrophe. . . or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gardless of cause, any fire, flood, or explosion, i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y part of the United States, which, in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termination of the President, causes damage o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fficient severity and magnitude to warrant maj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aster assistance. . . to supplement the efforts an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vailable resources of States, local governments,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aster relief organizations in alleviating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mage, loss, hardship, or suffering caused thereby.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U.N. Definition of Disa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serious disruption of th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nctioning of society, caus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despread human, material, 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vironmental losses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which exce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the ability of affected society to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cope using only its own resource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U.N., 199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dified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disaster is. . .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an eve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ssociated with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pact of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natural hazar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which leads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ncreased mortality, illness and/or inju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destroys or disrupts livelihood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ffecting th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ople or an area such that they (and/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utsiders)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perceive it as being exceptional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requiring external assistance for recov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annon, 1994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ability and Consequ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asters are, by their natu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low probability--high consequenc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ents. . 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“Comprehensive”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disaster is a nonroutine event tha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ceeds the capacity of the affected ar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respond to it in such a way as to sav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ves; to preserve property; and 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intain the social, ecological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onomic, and political stability of th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region.”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Pearce, 200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rantelli (1995) on Need for Minimum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. . To be concerned about what is mean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y the term ‘disaster’ is not to engage i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 useless or pointless academic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instead to focus in a fundamental 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what should be considered important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gnificant . . .”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ed Consensus on Key Te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 Emergency Management continu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evolve, part of its transform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rom an avocation to a profession 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formation of a consensus on ke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terms and definition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ng Disaster Quantitative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sters include all events that caus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least 100 human deaths, 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least 100 human injuries, 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least US $1 million economic damag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heehan and Hewitt in Smith, 199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dford Disaster Sca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tality scale, starting at 10 deaths, the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2 deaths = magnitude 1.5 disa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95 deaths = magnitude 1.9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66 deaths = magnitude 2.2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00 deaths = magnitude 3.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5,000 deaths = magnitude 4.3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ruction of the planet = magnitude 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Horlick-Jones and Peters, 199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talities Only One Fa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clear. . . tha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disasters are characterized by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range of factors of which fatalities is only o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radford Disaster Scale should, perhaps, be m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curately termed the ‘Bradford Fatality scale’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ple fatalities will almost certainly be regard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 ‘disasters’. However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they are not a necessar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condition for an event to be perceived as a disast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Horlick-Jones and Peters, 199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 Social Systems Ma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hile this has the appeal of s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ndardization,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such thresholds are of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little value for comparative studies in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different social system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nd economic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resholds quickly become eroded b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lation.”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Dynes, 199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 to Resources Mat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. . A train derailment that injures 1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ople may be overwhelming for 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maller city or county but easily handl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y a larger city or county with grea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cess to resources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arroll 2001, citing Crichlow, 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 Impact Mat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e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f the threshold criteria are chang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lickman et al. did in their 1992 study whe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fatality threshold was 25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significan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events can be dropp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  In the case o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Hurricane Inik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the impact upon the island of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uai on September 11, 1992 amounted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$1.8 billion in estimated losses and 100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injuries, but “only” 7 dea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NOAA, 199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ng by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.  Length of forew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.  Magnitude of imp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.  Geographical scope of imp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.  Duration of impa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5.  Speed of ons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004e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ial Crisis Occa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t us define disasters in terms of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al characteristics of response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risis occasions that are part of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al change.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Quarantelli, 1987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15:02:18Z</dcterms:created>
  <dc:creator>Wayne Blanchard</dc:creator>
  <dc:description/>
  <dc:language>en-US</dc:language>
  <cp:lastModifiedBy>B Blanchard</cp:lastModifiedBy>
  <cp:lastPrinted>2002-11-06T15:50:27Z</cp:lastPrinted>
  <dcterms:modified xsi:type="dcterms:W3CDTF">2002-11-07T18:01:05Z</dcterms:modified>
  <cp:revision>115</cp:revision>
  <dc:subject/>
  <dc:title>EMUSA Introduction Overheads</dc:title>
</cp:coreProperties>
</file>