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4BF-9566-4048-92D8-BB9C2CCE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D3F-9C5E-46F9-B232-4271B90C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68A-10C9-41E8-ADE0-78BD2D7C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724-AC69-44E7-B829-E90B93B5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DFF-F1A9-4608-9D2B-3765E5D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5DD-8F31-40E7-838D-60462A4F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FCE-6DC6-4756-8448-B05871B4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86D-A11A-4F7E-8968-32E02DFB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0E3-AD00-4B10-804E-A2C13A80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E1A-1D8A-4F3C-8322-1403E30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FE2-E53C-423A-8B5E-3A2AEAF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C14-9E63-42B8-9A0C-3E7C43D6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1AED-9FED-40D1-ABAF-3098E99C0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isd.mel.nist.gov/us&amp;r_robot_standards" TargetMode="External"/><Relationship Id="rId5" Type="http://schemas.openxmlformats.org/officeDocument/2006/relationships/package" Target="../embeddings/oleObject1.docx"/><Relationship Id="rId6" Type="http://schemas.openxmlformats.org/officeDocument/2006/relationships/image" Target="../media/image2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38120" y="228564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0240" y="228564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86400" y="228564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9680" y="4013280"/>
            <a:ext cx="656604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obotName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Name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Name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Name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or spa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in (xxx 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in (xxx c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lbs (xxx 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ft (xxx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fps (xxx m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ls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or fueltype, xxx cc, xxx hp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ft (xxx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s-on, remote teleop, waypoins, other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lb (xxx 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sensors, chemical sensors,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, law enforcement, hobby,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 ------------- ------------- ------------- ------------- ------------- ------------- ------------- 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Tx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Hz (xxx mW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Hz (xxx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Rx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Hz (xxx mW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 MHz (xxx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6440" y="627120"/>
            <a:ext cx="65692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Response Robot Evaluation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D-TF1 Training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ockville, 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ugust 19-21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isd.mel.nist.gov/us&amp;r_robot_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Black"/>
              </a:rPr>
              <a:t>ROBOT DATA SHEET </a:t>
            </a:r>
            <a:r>
              <a:rPr b="1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 Black"/>
              </a:rPr>
              <a:t>AERIAL/ROTARY 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8120" y="181080"/>
          <a:ext cx="1203480" cy="352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120" y="181080"/>
                    <a:ext cx="1203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562720" y="201600"/>
          <a:ext cx="1090440" cy="3319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201600"/>
                    <a:ext cx="10904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23:16:03Z</dcterms:created>
  <dc:creator>Adam Jacoff</dc:creator>
  <dc:description/>
  <dc:language>en-US</dc:language>
  <cp:lastModifiedBy>drussell</cp:lastModifiedBy>
  <dcterms:modified xsi:type="dcterms:W3CDTF">2006-07-12T16:47:59Z</dcterms:modified>
  <cp:revision>8</cp:revision>
  <dc:subject/>
  <dc:title>PowerPoint Presentation</dc:title>
</cp:coreProperties>
</file>