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360"/>
            <a:ext cx="3032280" cy="460440"/>
          </a:xfrm>
          <a:prstGeom prst="rect">
            <a:avLst/>
          </a:prstGeom>
          <a:noFill/>
          <a:ln w="0">
            <a:noFill/>
          </a:ln>
        </p:spPr>
        <p:txBody>
          <a:bodyPr lIns="92880" rIns="92880" tIns="46440" bIns="4644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65040" y="-360"/>
            <a:ext cx="3032280" cy="460440"/>
          </a:xfrm>
          <a:prstGeom prst="rect">
            <a:avLst/>
          </a:prstGeom>
          <a:noFill/>
          <a:ln w="0">
            <a:noFill/>
          </a:ln>
        </p:spPr>
        <p:txBody>
          <a:bodyPr lIns="92880" rIns="92880" tIns="46440" bIns="4644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0520" y="693720"/>
            <a:ext cx="4616640" cy="3462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6" name="PlaceHolder 4"/>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7" name="PlaceHolder 5"/>
          <p:cNvSpPr>
            <a:spLocks noGrp="1"/>
          </p:cNvSpPr>
          <p:nvPr>
            <p:ph type="ftr" idx="7"/>
          </p:nvPr>
        </p:nvSpPr>
        <p:spPr>
          <a:xfrm>
            <a:off x="-360" y="8851680"/>
            <a:ext cx="3032280" cy="461880"/>
          </a:xfrm>
          <a:prstGeom prst="rect">
            <a:avLst/>
          </a:prstGeom>
          <a:noFill/>
          <a:ln w="0">
            <a:noFill/>
          </a:ln>
        </p:spPr>
        <p:txBody>
          <a:bodyPr lIns="92880" rIns="92880" tIns="46440" bIns="4644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65040" y="8851680"/>
            <a:ext cx="3032280" cy="461880"/>
          </a:xfrm>
          <a:prstGeom prst="rect">
            <a:avLst/>
          </a:prstGeom>
          <a:noFill/>
          <a:ln w="0">
            <a:noFill/>
          </a:ln>
        </p:spPr>
        <p:txBody>
          <a:bodyPr lIns="92880" rIns="92880" tIns="46440" bIns="4644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ED6CE17-EFF8-400A-B0A0-E33A4FD71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74680" y="695160"/>
            <a:ext cx="4646520" cy="3484800"/>
          </a:xfrm>
          <a:prstGeom prst="rect">
            <a:avLst/>
          </a:prstGeom>
          <a:ln w="0">
            <a:noFill/>
          </a:ln>
        </p:spPr>
      </p:sp>
      <p:sp>
        <p:nvSpPr>
          <p:cNvPr id="112" name="PlaceHolder 2"/>
          <p:cNvSpPr>
            <a:spLocks noGrp="1"/>
          </p:cNvSpPr>
          <p:nvPr>
            <p:ph type="body"/>
          </p:nvPr>
        </p:nvSpPr>
        <p:spPr>
          <a:xfrm>
            <a:off x="933480" y="4409640"/>
            <a:ext cx="5130720" cy="41785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MMARY</a:t>
            </a: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troleum industry’s profits plummeted to a level not seen since 1986 as crude oil prices fell in 1998 to 25 year lows.  Prices have swung back to levels seen in 1996, but company responses tend to lag these price swings.  </a:t>
            </a: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operating change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mp;D expenditures fell considerably in 1999, with U.S. E&amp;D taking more of the fall than foreign E&amp;D.  Majors E&amp;D expenditures fell less on a percentage basis than did the independent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mp;D expenditures are projected to begin increasing in 2000, but only the majors’ foreign E&amp;D will return to the high levels seen in 1998.  U.S. oil E&amp;D activities are not picking up as rapidly.</a:t>
            </a: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lling Respons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g counts are more price sensitive in the short run than production and showed a huge decline since early 1998.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twice in over 100 years have fewer oil wells been drilled than in 1998.</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ent with slow recovery of U.S. E&amp;D expenditures, oil rig counts are just beginning to increas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with today’s high prices, production is not expected to recover to levels seen in 1996/97, but the rate of decline should slow next year as drilling activity gradually increases.</a:t>
            </a: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ent decline in crude oil prices is fresh enough in companies’ minds to keep them from rushing back into the high-cost U.S. regions, unlike the U.S. natural gas sector where the long-term outlook remains promising.</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90520" y="693720"/>
            <a:ext cx="4616640" cy="3462480"/>
          </a:xfrm>
          <a:prstGeom prst="rect">
            <a:avLst/>
          </a:prstGeom>
          <a:ln w="0">
            <a:noFill/>
          </a:ln>
        </p:spPr>
      </p:sp>
      <p:sp>
        <p:nvSpPr>
          <p:cNvPr id="114" name="PlaceHolder 2"/>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1998 drop in oil prices, the corporate profitability of U.S. majors in 1998 plunged to a level not seen since the oil price crash of 1986.  (The dip in 1992 was due to an accounting change.)</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lower natural gas prices, declining U.S. oil production, and reduced sales of natural gas contributed to the majors’ bottom-line problems, the primary cause was low oil prices, which hit a 25-year low in 1998.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bright spot was the majors’ U.S. downstream operations.  The majors were able to offset a narrowing of the margin between refined product prices and crude oil input costs in 1998 through strategies such as trimming operating costs and expanding the scope of petroleum marketing activiti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ly generated cash flow was at the lowest level since 1986.</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90520" y="693720"/>
            <a:ext cx="4616640" cy="3462480"/>
          </a:xfrm>
          <a:prstGeom prst="rect">
            <a:avLst/>
          </a:prstGeom>
          <a:ln w="0">
            <a:noFill/>
          </a:ln>
        </p:spPr>
      </p:sp>
      <p:sp>
        <p:nvSpPr>
          <p:cNvPr id="116" name="PlaceHolder 2"/>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oil prices hit a 25-year low, the majors’ capital expenditures in 1998, at $75 billion, were at their second highest level.</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gers and acquisitions, mainly of oil and gas assets in early 1998, accounted for 57 percent of the growth in spending.</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il and gas exploration and development projects were the primary investment targets.  The majors tended to push ahead with ongoing projects that have relatively long lead times.  Also, the search for new oil and gas fields continued as the majors increased their expenditures for exploration in all regions except Europ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s’ continued upswing in E&amp;D spending yielded 8 billion barrels of oil equivalent in added worldwide reserves in 1998 -- a 25-year record (probably the most since Prudhoe Bay).</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he majors’ capital spending in 1998 exceeded their cash flow by 56 percen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isparity was highly unusual for this group, as their capital expenditures have generally been less than cash flow, averaging 14 percent les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closed the financing gap by increasing their debt loads, selling a record amount of assets, cutting dividends and stock repurchases, and drawing down cash balances by over $4 billion. These adjustments ran counter to the majors’ programs of debt reduction and increased payouts to shareholders evident in the 1990’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90520" y="693720"/>
            <a:ext cx="4616640" cy="3462480"/>
          </a:xfrm>
          <a:prstGeom prst="rect">
            <a:avLst/>
          </a:prstGeom>
          <a:ln w="0">
            <a:noFill/>
          </a:ln>
        </p:spPr>
      </p:sp>
      <p:sp>
        <p:nvSpPr>
          <p:cNvPr id="118" name="PlaceHolder 2"/>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9, the majors cut their upstream expenditures despite the sharp turnaround in oil prices.  Based on the Salomon Smith Barney survey, the majors cut U.S. exploration and development expenditures (E&amp;D) by 28 percent in 1999 and foreign E&amp;D by 7 percen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ts were primarily a response to balance sheet damag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reflected cutbacks in planned projects made in the context of 1998’s oil price erosion.</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2000, the majors indicate in the survey that they will increase U.S. spending by 7 percent and foreign spending by 9 percent, putting foreign E&amp;D spending back on trend, but keeping U.S. spending well below prior high level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ed foreign E&amp;D for 2000 is back on trend, a tad above 1998 spending, suggesting that the 1999 cutbacks were mainly deferrals rather than project cancellation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ed U.S. E&amp;D for 2000 is well below spending levels of 1997 and 1998, and may reflect longer term cutbacks in U.S. upstream commitments by the majors.</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ummary, foreign development expenditures are less adversely affected than U.S. expenditur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90520" y="693720"/>
            <a:ext cx="4616640" cy="3462480"/>
          </a:xfrm>
          <a:prstGeom prst="rect">
            <a:avLst/>
          </a:prstGeom>
          <a:ln w="0">
            <a:noFill/>
          </a:ln>
        </p:spPr>
      </p:sp>
      <p:sp>
        <p:nvSpPr>
          <p:cNvPr id="120" name="PlaceHolder 2"/>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based independents showed a similar, but more extreme, response to swings in oil prices and cash flow shortfall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dependents tend to have projects with shorter lead times than the majors, and their corporate organizations tend to be lean and nimble compared to the major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9, the independents cut U.S. E&amp;D by 41 percent and foreign E&amp;D, which is far less important than U.S. E&amp;D for most independents, by 38 percen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s for 2000 indicate a turnaround: U.S. E&amp;D up 20 percent and foreign E&amp;D up 35 percent</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the majors, the survey indicates that the independents’ U.S. E&amp;D in 2000 will not come close to the spending levels of 1997 and 1998.</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tter development may not bode well for U.S. oil production.</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d drilling and asset writeoffs in 1998 had devastating effects on U.S. producers’ reserve replacement performanc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685800"/>
            <a:ext cx="4616280" cy="3462480"/>
          </a:xfrm>
          <a:prstGeom prst="rect">
            <a:avLst/>
          </a:prstGeom>
          <a:ln w="0">
            <a:noFill/>
          </a:ln>
        </p:spPr>
      </p:sp>
      <p:sp>
        <p:nvSpPr>
          <p:cNvPr id="122" name="PlaceHolder 2"/>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rp decline in crude oil reserve additions in 1998 reflected the effects of the oil price collaps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sions and discoveries were only half of the prior-year level.</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 and adjustments accounted for 71 percent of the fall off in U.S. crude oil reserve additions between 1997 and 1998.</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24 percent of crude oil production was replaced by proved reserve additions.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s’ replacement rate was 61 percen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placement rate for other U.S. producers was less than 10 percent overal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90520" y="693720"/>
            <a:ext cx="4616640" cy="3462480"/>
          </a:xfrm>
          <a:prstGeom prst="rect">
            <a:avLst/>
          </a:prstGeom>
          <a:ln w="0">
            <a:noFill/>
          </a:ln>
        </p:spPr>
      </p:sp>
      <p:sp>
        <p:nvSpPr>
          <p:cNvPr id="124" name="PlaceHolder 2"/>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lling is more price sensitive in the short run than are exploration and development expenditures. Rotary rig counts lagged the oil price decline, but began to fall sharply in 1998, bottoming out in mid-1999.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lling programs are relatively easy to cancel or delay.</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lling contracts, particularly onshore, are flexibl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vel of U.S. drilling activity is dominated by many small independents.  For example in the 1990’s, the majors accounted for less than 25 percent of U.S. well completions.</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twice in over 100 years have fewer oil wells been drilled than in 1998.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ural gas rotary rigs also declined in 1998 and 1999.</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natural gas price did not see the same relative decline as crude oil, it too fell.</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nancial pressures on the petroleum companies affected their entire drilling programs -- including natural gas. </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resurgence in natural gas prices, natural gas rigs counts have recovered rapidly, unlike oil rigs.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90520" y="693720"/>
            <a:ext cx="4616640" cy="3462480"/>
          </a:xfrm>
          <a:prstGeom prst="rect">
            <a:avLst/>
          </a:prstGeom>
          <a:ln w="0">
            <a:noFill/>
          </a:ln>
        </p:spPr>
      </p:sp>
      <p:sp>
        <p:nvSpPr>
          <p:cNvPr id="126" name="PlaceHolder 2"/>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ent price decline resulted in a quick loss of U.S. production.  Even with the return to higher oil prices, production is not expected to increase back to levels seen in 1996 and 1997, but will continue to decline, albeit more slowly.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il production does not respond rapidly to price changes. Price changes to impact exploration and development plans more than ongoing production initially.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igh oil prices in 1996 helped to level out the earlier production declines in the U.S., along with technology-driven cost reductions and developments in the Gulf of Mexico.  But the 1997/1998 price drop put production back onto a steep decline trend.</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December 1997 to December 1998, U.S. production fell almost 500 thousand barrels per day (7.5%).</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December 1998 through the most recent October data, production has fallen an additional 165 thousand barrels per day.</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current data do not yet show a change in trend, if prices remain high as forecast in the EIA base case, the decline should slow considerably during the year 2000 as shown in the graph.</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90520" y="693720"/>
            <a:ext cx="4616640" cy="3462480"/>
          </a:xfrm>
          <a:prstGeom prst="rect">
            <a:avLst/>
          </a:prstGeom>
          <a:ln w="0">
            <a:noFill/>
          </a:ln>
        </p:spPr>
      </p:sp>
      <p:sp>
        <p:nvSpPr>
          <p:cNvPr id="128" name="PlaceHolder 2"/>
          <p:cNvSpPr>
            <a:spLocks noGrp="1"/>
          </p:cNvSpPr>
          <p:nvPr>
            <p:ph type="body"/>
          </p:nvPr>
        </p:nvSpPr>
        <p:spPr>
          <a:xfrm>
            <a:off x="933480" y="4387320"/>
            <a:ext cx="5130720" cy="4232520"/>
          </a:xfrm>
          <a:prstGeom prst="rect">
            <a:avLst/>
          </a:prstGeom>
          <a:noFill/>
          <a:ln w="0">
            <a:noFill/>
          </a:ln>
        </p:spPr>
        <p:txBody>
          <a:bodyPr lIns="92880" rIns="92880" tIns="46440" bIns="46440" anchor="t">
            <a:noAutofit/>
          </a:bodyPr>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main feature of U.S. resource development in 1998 was the poor performance in replacement oil production there was at least one upstream bright spot.</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on of natural gas from coalbed methane deposits more than tripled from 1991 to 1998 as coalbed methane proved reserves increased by 50 percent.</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8, production from coalbed methane deposits was up 10 percent from the prior year, while coalbed methane reserve additions replaced 160 percent of produc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owth in production and reserves indicates that coalbed methane development is continuing even though only production from coalbed methane wells spudded before 1993 is eligible for Section 29 Federal tax credi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A9AC3D-8777-498C-B67E-1D6FEA516D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A8F0C3-5630-422A-8DB1-4CB197A07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98C529-F36F-44D7-815F-F86EE9E0F9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E52D7-B4B8-40F8-A23C-4F9F1CFC5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E781AB-7F27-46D4-AC13-438040709B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06440" y="228240"/>
            <a:ext cx="8191440" cy="529956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E1F220-55D7-43B3-8853-7277076E1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C4CA1-16C6-4CF9-8A41-D8EDB525D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D26799-E452-4D58-AFFE-BACF9BC690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ABD8B9-4173-4523-91DF-A6D93B7FDF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FFC6C1-18E5-4694-A6E0-ACAE17F2B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77D9AA-5DA7-4E38-A636-46D86114F1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A82CD0-BA5C-4AE3-8F61-36347139B0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440" y="228240"/>
            <a:ext cx="8191440" cy="529956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38440" y="6219720"/>
            <a:ext cx="369576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5e574e"/>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e574e"/>
                </a:solidFill>
                <a:latin typeface="Arial"/>
              </a:rPr>
              <a:t> </a:t>
            </a:r>
            <a:endParaRPr b="0" lang="en-US" sz="1200" spc="-1" strike="noStrike">
              <a:solidFill>
                <a:srgbClr val="000000"/>
              </a:solidFill>
              <a:latin typeface="Times New Roman"/>
            </a:endParaRPr>
          </a:p>
        </p:txBody>
      </p:sp>
      <p:pic>
        <p:nvPicPr>
          <p:cNvPr id="4" name="eialogo" descr=""/>
          <p:cNvPicPr/>
          <p:nvPr/>
        </p:nvPicPr>
        <p:blipFill>
          <a:blip r:embed="rId2"/>
          <a:stretch/>
        </p:blipFill>
        <p:spPr>
          <a:xfrm>
            <a:off x="8461440" y="6388200"/>
            <a:ext cx="530280" cy="29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2"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A214-F7EA-4C02-95AA-17A96DE9883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outline text format</a:t>
            </a:r>
            <a:endParaRPr b="0" lang="en-US" sz="28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7880" y="3567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w Data Show Impact of Low Oil Prices in 1998</a:t>
            </a:r>
            <a:endParaRPr b="0" lang="en-US" sz="3200" spc="-1" strike="noStrike">
              <a:solidFill>
                <a:srgbClr val="000000"/>
              </a:solidFill>
              <a:latin typeface="Arial Black"/>
            </a:endParaRPr>
          </a:p>
        </p:txBody>
      </p:sp>
      <p:sp>
        <p:nvSpPr>
          <p:cNvPr id="90" name="PlaceHolder 2"/>
          <p:cNvSpPr>
            <a:spLocks noGrp="1"/>
          </p:cNvSpPr>
          <p:nvPr>
            <p:ph type="subTitle"/>
          </p:nvPr>
        </p:nvSpPr>
        <p:spPr>
          <a:xfrm>
            <a:off x="574560" y="5477040"/>
            <a:ext cx="7367760" cy="537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anuary 10, 2000</a:t>
            </a:r>
            <a:endParaRPr b="0" lang="en-US" sz="2800" spc="-1" strike="noStrike">
              <a:solidFill>
                <a:srgbClr val="0000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nergy Information Administration</a:t>
            </a:r>
            <a:endParaRPr b="0" lang="en-US" sz="2800" spc="-1" strike="noStrike">
              <a:solidFill>
                <a:srgbClr val="000000"/>
              </a:solidFill>
              <a:latin typeface="Arial Black"/>
            </a:endParaRPr>
          </a:p>
        </p:txBody>
      </p:sp>
      <p:pic>
        <p:nvPicPr>
          <p:cNvPr id="91" name="" descr=""/>
          <p:cNvPicPr/>
          <p:nvPr/>
        </p:nvPicPr>
        <p:blipFill>
          <a:blip r:embed="rId1"/>
          <a:stretch/>
        </p:blipFill>
        <p:spPr>
          <a:xfrm>
            <a:off x="7481880" y="587520"/>
            <a:ext cx="1459080" cy="442800"/>
          </a:xfrm>
          <a:prstGeom prst="rect">
            <a:avLst/>
          </a:prstGeom>
          <a:ln w="0">
            <a:noFill/>
          </a:ln>
        </p:spPr>
      </p:pic>
      <p:pic>
        <p:nvPicPr>
          <p:cNvPr id="92" name="" descr=""/>
          <p:cNvPicPr/>
          <p:nvPr/>
        </p:nvPicPr>
        <p:blipFill>
          <a:blip r:embed="rId2"/>
          <a:stretch/>
        </p:blipFill>
        <p:spPr>
          <a:xfrm>
            <a:off x="1833480" y="2409840"/>
            <a:ext cx="5369040" cy="2362320"/>
          </a:xfrm>
          <a:prstGeom prst="rect">
            <a:avLst/>
          </a:prstGeom>
          <a:ln w="0">
            <a:noFill/>
          </a:ln>
        </p:spPr>
      </p:pic>
      <p:pic>
        <p:nvPicPr>
          <p:cNvPr id="93" name="" descr=""/>
          <p:cNvPicPr/>
          <p:nvPr/>
        </p:nvPicPr>
        <p:blipFill>
          <a:blip r:embed="rId3"/>
          <a:stretch/>
        </p:blipFill>
        <p:spPr>
          <a:xfrm>
            <a:off x="-187200" y="1430280"/>
            <a:ext cx="9144000" cy="409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00160"/>
            <a:ext cx="8191440" cy="117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turn on Equity U.S. Energy Companies (1973-1998)</a:t>
            </a:r>
            <a:endParaRPr b="0" lang="en-US" sz="3200" spc="-1" strike="noStrike">
              <a:solidFill>
                <a:srgbClr val="000000"/>
              </a:solidFill>
              <a:latin typeface="Arial Black"/>
            </a:endParaRPr>
          </a:p>
        </p:txBody>
      </p:sp>
      <p:pic>
        <p:nvPicPr>
          <p:cNvPr id="95" name="" descr=""/>
          <p:cNvPicPr/>
          <p:nvPr/>
        </p:nvPicPr>
        <p:blipFill>
          <a:blip r:embed="rId1"/>
          <a:stretch/>
        </p:blipFill>
        <p:spPr>
          <a:xfrm>
            <a:off x="0" y="1189080"/>
            <a:ext cx="9715680" cy="53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pital Expenditures and Value of M&amp;A for U.S. Majors (1974-1998)</a:t>
            </a:r>
            <a:endParaRPr b="0" lang="en-US" sz="3200" spc="-1" strike="noStrike">
              <a:solidFill>
                <a:srgbClr val="000000"/>
              </a:solidFill>
              <a:latin typeface="Arial Black"/>
            </a:endParaRPr>
          </a:p>
        </p:txBody>
      </p:sp>
      <p:pic>
        <p:nvPicPr>
          <p:cNvPr id="97" name="" descr=""/>
          <p:cNvPicPr/>
          <p:nvPr/>
        </p:nvPicPr>
        <p:blipFill>
          <a:blip r:embed="rId1"/>
          <a:stretch/>
        </p:blipFill>
        <p:spPr>
          <a:xfrm>
            <a:off x="0" y="1432080"/>
            <a:ext cx="8934480" cy="49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 Majors’ Exploration &amp; Development Expenditures</a:t>
            </a:r>
            <a:endParaRPr b="0" lang="en-US" sz="3200" spc="-1" strike="noStrike">
              <a:solidFill>
                <a:srgbClr val="000000"/>
              </a:solidFill>
              <a:latin typeface="Arial Black"/>
            </a:endParaRPr>
          </a:p>
        </p:txBody>
      </p:sp>
      <p:pic>
        <p:nvPicPr>
          <p:cNvPr id="99" name="" descr=""/>
          <p:cNvPicPr/>
          <p:nvPr/>
        </p:nvPicPr>
        <p:blipFill>
          <a:blip r:embed="rId1"/>
          <a:stretch/>
        </p:blipFill>
        <p:spPr>
          <a:xfrm>
            <a:off x="0" y="1436760"/>
            <a:ext cx="8429760" cy="542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 Independents’ Exploration &amp; Development Expenditures</a:t>
            </a:r>
            <a:endParaRPr b="0" lang="en-US" sz="3200" spc="-1" strike="noStrike">
              <a:solidFill>
                <a:srgbClr val="000000"/>
              </a:solidFill>
              <a:latin typeface="Arial Black"/>
            </a:endParaRPr>
          </a:p>
        </p:txBody>
      </p:sp>
      <p:pic>
        <p:nvPicPr>
          <p:cNvPr id="101" name="" descr=""/>
          <p:cNvPicPr/>
          <p:nvPr/>
        </p:nvPicPr>
        <p:blipFill>
          <a:blip r:embed="rId1"/>
          <a:stretch/>
        </p:blipFill>
        <p:spPr>
          <a:xfrm>
            <a:off x="0" y="1257480"/>
            <a:ext cx="8380440" cy="538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 Crude Oil Reserve Additions and Production Replacement Rate </a:t>
            </a:r>
            <a:endParaRPr b="0" lang="en-US" sz="3200" spc="-1" strike="noStrike">
              <a:solidFill>
                <a:srgbClr val="000000"/>
              </a:solidFill>
              <a:latin typeface="Arial Black"/>
            </a:endParaRPr>
          </a:p>
        </p:txBody>
      </p:sp>
      <p:pic>
        <p:nvPicPr>
          <p:cNvPr id="103" name="" descr=""/>
          <p:cNvPicPr/>
          <p:nvPr/>
        </p:nvPicPr>
        <p:blipFill>
          <a:blip r:embed="rId1"/>
          <a:stretch/>
        </p:blipFill>
        <p:spPr>
          <a:xfrm>
            <a:off x="0" y="1407960"/>
            <a:ext cx="9144000" cy="488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4880" y="198000"/>
            <a:ext cx="8191440" cy="75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eekly Oil Rig Count and Prices</a:t>
            </a:r>
            <a:endParaRPr b="0" lang="en-US" sz="3200" spc="-1" strike="noStrike">
              <a:solidFill>
                <a:srgbClr val="000000"/>
              </a:solidFill>
              <a:latin typeface="Arial Black"/>
            </a:endParaRPr>
          </a:p>
        </p:txBody>
      </p:sp>
      <p:sp>
        <p:nvSpPr>
          <p:cNvPr id="105" name=""/>
          <p:cNvSpPr/>
          <p:nvPr/>
        </p:nvSpPr>
        <p:spPr>
          <a:xfrm>
            <a:off x="447840" y="6364440"/>
            <a:ext cx="546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aker Hughes Rotary Rig Counts Web Site</a:t>
            </a:r>
            <a:endParaRPr b="0" lang="en-US" sz="1000" spc="-1" strike="noStrike">
              <a:solidFill>
                <a:srgbClr val="000000"/>
              </a:solidFill>
              <a:latin typeface="Times New Roman"/>
            </a:endParaRPr>
          </a:p>
        </p:txBody>
      </p:sp>
      <p:pic>
        <p:nvPicPr>
          <p:cNvPr id="106" name="" descr=""/>
          <p:cNvPicPr/>
          <p:nvPr/>
        </p:nvPicPr>
        <p:blipFill>
          <a:blip r:embed="rId1"/>
          <a:stretch/>
        </p:blipFill>
        <p:spPr>
          <a:xfrm>
            <a:off x="277920" y="735120"/>
            <a:ext cx="8424720" cy="576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20840" y="401400"/>
            <a:ext cx="8191440" cy="82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 Crude Oil Production</a:t>
            </a:r>
            <a:endParaRPr b="0" lang="en-US" sz="3200" spc="-1" strike="noStrike">
              <a:solidFill>
                <a:srgbClr val="000000"/>
              </a:solidFill>
              <a:latin typeface="Arial Black"/>
            </a:endParaRPr>
          </a:p>
        </p:txBody>
      </p:sp>
      <p:pic>
        <p:nvPicPr>
          <p:cNvPr id="108" name="" descr=""/>
          <p:cNvPicPr/>
          <p:nvPr/>
        </p:nvPicPr>
        <p:blipFill>
          <a:blip r:embed="rId1"/>
          <a:stretch/>
        </p:blipFill>
        <p:spPr>
          <a:xfrm>
            <a:off x="495360" y="1225440"/>
            <a:ext cx="7665840" cy="524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0760" y="401760"/>
            <a:ext cx="8191440" cy="52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albed Methane Gas Growing</a:t>
            </a:r>
            <a:endParaRPr b="0" lang="en-US" sz="3200" spc="-1" strike="noStrike">
              <a:solidFill>
                <a:srgbClr val="000000"/>
              </a:solidFill>
              <a:latin typeface="Arial Black"/>
            </a:endParaRPr>
          </a:p>
        </p:txBody>
      </p:sp>
      <p:pic>
        <p:nvPicPr>
          <p:cNvPr id="110" name="" descr=""/>
          <p:cNvPicPr/>
          <p:nvPr/>
        </p:nvPicPr>
        <p:blipFill>
          <a:blip r:embed="rId1"/>
          <a:stretch/>
        </p:blipFill>
        <p:spPr>
          <a:xfrm>
            <a:off x="1060560" y="1049400"/>
            <a:ext cx="6769080" cy="517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9T19:27:14Z</dcterms:created>
  <dc:creator>Dave Costello</dc:creator>
  <dc:description/>
  <dc:language>en-US</dc:language>
  <cp:lastModifiedBy>Joanne Shore</cp:lastModifiedBy>
  <cp:lastPrinted>2000-01-07T19:34:57Z</cp:lastPrinted>
  <dcterms:modified xsi:type="dcterms:W3CDTF">2000-01-07T21:11:17Z</dcterms:modified>
  <cp:revision>223</cp:revision>
  <dc:subject/>
  <dc:title>No Slide Title</dc:title>
</cp:coreProperties>
</file>