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12.wmf" ContentType="image/x-wmf"/>
  <Override PartName="/ppt/media/image4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3.png" ContentType="image/png"/>
  <Override PartName="/ppt/media/image11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132-03F3-4F86-BC8E-3D013F18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5646-5F24-40A6-BB3B-DAAE6F26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89F6-60AE-4ABE-9CF6-B9D2A138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8E51-2DEB-4BD6-9B9B-4EEE4014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E62D-4766-49F9-A35A-43971058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AD4F-0A5B-4ED2-A7D7-35D84A5C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403E-5334-4567-889C-ECBA083A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F5B2-5627-4506-9474-A249A98A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CF1E-C2CB-4DEE-BB5B-E9966685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F187-10B8-4C04-BDB1-14A948DF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19C0-C1ED-42BF-A448-64FD37B7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B46-201B-4F80-89B4-9ED5457A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92AC-F504-4801-80A5-AAF2C362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9F6C-80BE-4A07-A64B-85C6175E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60C6-B2A3-411A-94FA-54C6881E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7C4E-44B9-4DA0-A92D-E31AE9B9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BDDF-1A5D-43C4-A303-A8579AD7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F6BB-86E3-4F5E-B919-469CB627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D9B-FE74-4654-9A69-C8227C03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4C1-AA9B-4ED6-B511-C31394C8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E62-E316-494C-B12C-62208A7C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BD5-906B-4C1C-8193-4E7E74EE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A1E-A1A3-4A5A-94BA-83BE9775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890-350C-4FDC-A694-89AF0F04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678E-B388-4B91-A8A2-F53E18E24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8B43-5CD9-47BA-8C0B-3398DD65D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missions from the Incineration of Electronics Industry Was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 S. Stewart, P. M. Lemieu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.S. E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 Triangle Park, N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Ultimate Analyses of Fe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371600" y="1676520"/>
          <a:ext cx="6858000" cy="4657680"/>
        </p:xfrm>
        <a:graphic>
          <a:graphicData uri="http://schemas.openxmlformats.org/drawingml/2006/table">
            <a:tbl>
              <a:tblPr/>
              <a:tblGrid>
                <a:gridCol w="1523880"/>
                <a:gridCol w="2209680"/>
                <a:gridCol w="1752840"/>
                <a:gridCol w="137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therboa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eyboar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,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.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.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.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,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,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,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,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, pp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h,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.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.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.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J/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9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,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,0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Kiln O</a:t>
            </a:r>
            <a:r>
              <a:rPr b="0" lang="en-US" sz="4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, CO</a:t>
            </a:r>
            <a:r>
              <a:rPr b="0" lang="en-US" sz="4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Conc. – 11/20/02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09480" y="1828800"/>
          <a:ext cx="8305920" cy="42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30592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 Concentrations – 11/20/02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80880" y="1676520"/>
          <a:ext cx="8763120" cy="439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7631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O Concentration – 11/20/02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57200" y="1676520"/>
          <a:ext cx="8458200" cy="457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5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VOC Conc. vs. Kiln Temperatu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609480" y="1371600"/>
          <a:ext cx="8534520" cy="545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53452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Halogen Concentrations in Flue G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143000" y="2133720"/>
          <a:ext cx="7467480" cy="372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74674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Semi-volatile Organic Compounds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066680" y="2438280"/>
          <a:ext cx="7772400" cy="39625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38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VO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ntration,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/dscm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phthalen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-3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etophenone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-2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lorobenzen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-1.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benzofura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-0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ethod 23 Results-PCDDs/F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 PCDDs were detected using LR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CDF detected during low-temperature runs on 1/28 and 1/30/03 at 4ng/dsc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CDF detected during high-temperature run on 11/4/02 at 2 ng/dsc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ethod 23 Results-PBDF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1523880" y="1419120"/>
          <a:ext cx="6096240" cy="4019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419120"/>
                    <a:ext cx="60962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57200" y="1600200"/>
          <a:ext cx="8420040" cy="4413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600200"/>
                    <a:ext cx="842004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olybrominated chloro-DF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80880" y="1828800"/>
          <a:ext cx="8458200" cy="44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458200" cy="44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he Electronics Waste Problem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rding to OSW, at least 2.1 million tons of electronics waste (e-waste) was generated in 2000 (MSW in U.S. 2000 final repor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is amount, at least 1.9 million tons (91%) entered U.S. landfills or incinerat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-waste may contain leachable toxic metals and brominated flame retard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of the remaining waste ends up in recovery operations in developing n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olybrominated dichloro-DF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19040" y="1676520"/>
          <a:ext cx="8724960" cy="457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676520"/>
                    <a:ext cx="8724960" cy="45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BDF Summa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e to lack of standards, results for brominated and mixed bromochloro-DFs are semi-quantitative, at b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brominated furans appear to be present in higher concentrations than those of MCD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BDF appears to be present at 5-10 X conc. of MCD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general, PBDF &gt; PB-MCDF &gt; PB-DCD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etal Concentrations in Flue G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170000" y="1828800"/>
          <a:ext cx="7772400" cy="4743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tal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entration,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/dscm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pper (Cu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00-795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ad (Pb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90-48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timony (Sb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90-154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dmium (Cd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-81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nganese (Mn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-52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ickel (Ni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-17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rium (Ba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-28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senic (As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-6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romium (Cr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-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balt (Co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7-2.3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yllium (Be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1-0.3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CLP Results for Bottom As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219320" y="1905120"/>
          <a:ext cx="6858000" cy="4140000"/>
        </p:xfrm>
        <a:graphic>
          <a:graphicData uri="http://schemas.openxmlformats.org/drawingml/2006/table">
            <a:tbl>
              <a:tblPr/>
              <a:tblGrid>
                <a:gridCol w="1447560"/>
                <a:gridCol w="1600200"/>
                <a:gridCol w="1828800"/>
                <a:gridCol w="1981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/4/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/7/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PA Ma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, pp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, pp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d, pp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, pp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b, pp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g, pp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D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, pp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C emissions independent of kiln temperature over the range t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arily bromobenzene, other brominated organ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ssions of PCDFs near detection limits of L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BDFs and mixed bromochloro-DFs were det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l emissions were significant, consisting primarily of Cu, Pb, Sb, Cd, M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uture Work:  Open Burning of E-was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ing with Baptist University in Hong Kong to determine size, type, and composition of e-was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ing tests in open burn facility to quantify emissions of metals, VOCs, SVOCs, PXDDs/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048120" y="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Scr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Wire Recycling in Ch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838080" y="-55440"/>
            <a:ext cx="9982080" cy="69134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3200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very of valuable me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of PB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XDDs/Fs 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ominated Flame Retard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114800" y="1371240"/>
            <a:ext cx="4648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n burning of plastic encased metal printer and motor parts to reduce the waste to metals. Guiyu,China. December 2001. Copyright Basel Action Network.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228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-waste Recycling in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ontrolled E-waste Combustio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s conducted over a kiln temperature range of 570-83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ed kiln preheat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t generated from waste accounted for 17% of kiln firing r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495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lue Gas Measurem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ous emissions of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CO, 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atile Organic Compounds (VO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-line gas chromatogra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mpling Tra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ified Method 5 (semi-volatil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od 26 (haloge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od 23 (PCDD/Fs, PBDD/F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od 29 (met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otary Kiln Incinerator Simulato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70200" y="2495520"/>
            <a:ext cx="785520" cy="714240"/>
          </a:xfrm>
          <a:custGeom>
            <a:avLst/>
            <a:gdLst/>
            <a:ahLst/>
            <a:rect l="l" t="t" r="r" b="b"/>
            <a:pathLst>
              <a:path w="495" h="450">
                <a:moveTo>
                  <a:pt x="152" y="0"/>
                </a:moveTo>
                <a:cubicBezTo>
                  <a:pt x="123" y="9"/>
                  <a:pt x="92" y="19"/>
                  <a:pt x="68" y="36"/>
                </a:cubicBezTo>
                <a:cubicBezTo>
                  <a:pt x="65" y="40"/>
                  <a:pt x="63" y="44"/>
                  <a:pt x="60" y="48"/>
                </a:cubicBezTo>
                <a:cubicBezTo>
                  <a:pt x="56" y="51"/>
                  <a:pt x="51" y="52"/>
                  <a:pt x="48" y="56"/>
                </a:cubicBezTo>
                <a:cubicBezTo>
                  <a:pt x="47" y="56"/>
                  <a:pt x="28" y="85"/>
                  <a:pt x="24" y="92"/>
                </a:cubicBezTo>
                <a:cubicBezTo>
                  <a:pt x="16" y="102"/>
                  <a:pt x="8" y="128"/>
                  <a:pt x="8" y="128"/>
                </a:cubicBezTo>
                <a:cubicBezTo>
                  <a:pt x="0" y="188"/>
                  <a:pt x="7" y="269"/>
                  <a:pt x="76" y="292"/>
                </a:cubicBezTo>
                <a:cubicBezTo>
                  <a:pt x="155" y="371"/>
                  <a:pt x="288" y="331"/>
                  <a:pt x="380" y="392"/>
                </a:cubicBezTo>
                <a:cubicBezTo>
                  <a:pt x="389" y="420"/>
                  <a:pt x="383" y="408"/>
                  <a:pt x="396" y="428"/>
                </a:cubicBezTo>
                <a:cubicBezTo>
                  <a:pt x="424" y="426"/>
                  <a:pt x="451" y="450"/>
                  <a:pt x="476" y="436"/>
                </a:cubicBezTo>
                <a:cubicBezTo>
                  <a:pt x="495" y="424"/>
                  <a:pt x="456" y="357"/>
                  <a:pt x="448" y="352"/>
                </a:cubicBezTo>
                <a:cubicBezTo>
                  <a:pt x="442" y="335"/>
                  <a:pt x="434" y="329"/>
                  <a:pt x="420" y="320"/>
                </a:cubicBezTo>
                <a:cubicBezTo>
                  <a:pt x="409" y="303"/>
                  <a:pt x="393" y="300"/>
                  <a:pt x="376" y="292"/>
                </a:cubicBezTo>
                <a:cubicBezTo>
                  <a:pt x="314" y="261"/>
                  <a:pt x="257" y="249"/>
                  <a:pt x="188" y="244"/>
                </a:cubicBezTo>
                <a:cubicBezTo>
                  <a:pt x="161" y="237"/>
                  <a:pt x="142" y="230"/>
                  <a:pt x="120" y="216"/>
                </a:cubicBezTo>
                <a:cubicBezTo>
                  <a:pt x="117" y="212"/>
                  <a:pt x="115" y="207"/>
                  <a:pt x="112" y="204"/>
                </a:cubicBezTo>
                <a:cubicBezTo>
                  <a:pt x="108" y="201"/>
                  <a:pt x="102" y="202"/>
                  <a:pt x="100" y="200"/>
                </a:cubicBezTo>
                <a:cubicBezTo>
                  <a:pt x="93" y="193"/>
                  <a:pt x="86" y="172"/>
                  <a:pt x="84" y="164"/>
                </a:cubicBezTo>
                <a:cubicBezTo>
                  <a:pt x="85" y="154"/>
                  <a:pt x="85" y="145"/>
                  <a:pt x="88" y="136"/>
                </a:cubicBezTo>
                <a:cubicBezTo>
                  <a:pt x="92" y="120"/>
                  <a:pt x="107" y="102"/>
                  <a:pt x="120" y="96"/>
                </a:cubicBezTo>
                <a:cubicBezTo>
                  <a:pt x="156" y="77"/>
                  <a:pt x="153" y="72"/>
                  <a:pt x="204" y="7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3200400"/>
            <a:ext cx="27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483760" y="5740560"/>
            <a:ext cx="63360" cy="5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1880" y="2552760"/>
            <a:ext cx="11448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51360" y="3975120"/>
            <a:ext cx="330120" cy="177840"/>
          </a:xfrm>
          <a:prstGeom prst="rect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22760" y="4152960"/>
            <a:ext cx="774720" cy="419040"/>
          </a:xfrm>
          <a:custGeom>
            <a:avLst/>
            <a:gdLst/>
            <a:ahLst/>
            <a:rect l="l" t="t" r="r" b="b"/>
            <a:pathLst>
              <a:path w="488" h="264">
                <a:moveTo>
                  <a:pt x="0" y="264"/>
                </a:moveTo>
                <a:lnTo>
                  <a:pt x="0" y="264"/>
                </a:lnTo>
                <a:lnTo>
                  <a:pt x="0" y="264"/>
                </a:lnTo>
                <a:lnTo>
                  <a:pt x="144" y="0"/>
                </a:lnTo>
                <a:lnTo>
                  <a:pt x="144" y="0"/>
                </a:lnTo>
                <a:lnTo>
                  <a:pt x="144" y="0"/>
                </a:lnTo>
                <a:lnTo>
                  <a:pt x="144" y="0"/>
                </a:lnTo>
                <a:lnTo>
                  <a:pt x="352" y="0"/>
                </a:lnTo>
                <a:lnTo>
                  <a:pt x="352" y="0"/>
                </a:lnTo>
                <a:lnTo>
                  <a:pt x="352" y="0"/>
                </a:lnTo>
                <a:lnTo>
                  <a:pt x="352" y="0"/>
                </a:lnTo>
                <a:lnTo>
                  <a:pt x="488" y="264"/>
                </a:lnTo>
                <a:lnTo>
                  <a:pt x="488" y="264"/>
                </a:lnTo>
                <a:lnTo>
                  <a:pt x="488" y="264"/>
                </a:lnTo>
                <a:lnTo>
                  <a:pt x="488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22760" y="4152960"/>
            <a:ext cx="774720" cy="419040"/>
          </a:xfrm>
          <a:custGeom>
            <a:avLst/>
            <a:gdLst/>
            <a:ahLst/>
            <a:rect l="l" t="t" r="r" b="b"/>
            <a:pathLst>
              <a:path w="488" h="264">
                <a:moveTo>
                  <a:pt x="0" y="264"/>
                </a:moveTo>
                <a:lnTo>
                  <a:pt x="0" y="264"/>
                </a:lnTo>
                <a:lnTo>
                  <a:pt x="144" y="0"/>
                </a:lnTo>
                <a:lnTo>
                  <a:pt x="144" y="0"/>
                </a:lnTo>
                <a:lnTo>
                  <a:pt x="352" y="0"/>
                </a:lnTo>
                <a:lnTo>
                  <a:pt x="352" y="0"/>
                </a:lnTo>
                <a:lnTo>
                  <a:pt x="488" y="264"/>
                </a:lnTo>
                <a:lnTo>
                  <a:pt x="488" y="264"/>
                </a:lnTo>
                <a:lnTo>
                  <a:pt x="0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cccc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403440" y="5765760"/>
            <a:ext cx="177840" cy="152280"/>
            <a:chOff x="3403440" y="5765760"/>
            <a:chExt cx="177840" cy="152280"/>
          </a:xfrm>
        </p:grpSpPr>
        <p:sp>
          <p:nvSpPr>
            <p:cNvPr id="171" name=""/>
            <p:cNvSpPr/>
            <p:nvPr/>
          </p:nvSpPr>
          <p:spPr>
            <a:xfrm>
              <a:off x="3441600" y="5765760"/>
              <a:ext cx="88920" cy="5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68680" y="5841720"/>
              <a:ext cx="1260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03440" y="5841720"/>
              <a:ext cx="1260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03440" y="5816520"/>
              <a:ext cx="165240" cy="50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16040" y="5790960"/>
              <a:ext cx="139680" cy="1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911760" y="5765760"/>
            <a:ext cx="190440" cy="152280"/>
            <a:chOff x="3911760" y="5765760"/>
            <a:chExt cx="190440" cy="152280"/>
          </a:xfrm>
        </p:grpSpPr>
        <p:sp>
          <p:nvSpPr>
            <p:cNvPr id="177" name=""/>
            <p:cNvSpPr/>
            <p:nvPr/>
          </p:nvSpPr>
          <p:spPr>
            <a:xfrm>
              <a:off x="3924360" y="5765760"/>
              <a:ext cx="63720" cy="88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38840" y="5879880"/>
              <a:ext cx="25200" cy="3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77000" y="5879880"/>
              <a:ext cx="12600" cy="3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11760" y="5854680"/>
              <a:ext cx="12600" cy="63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26240" y="5829120"/>
              <a:ext cx="75960" cy="3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38840" y="5803920"/>
              <a:ext cx="50760" cy="7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11760" y="5829120"/>
              <a:ext cx="127080" cy="3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24360" y="5803920"/>
              <a:ext cx="88920" cy="75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165560" y="5765760"/>
            <a:ext cx="190440" cy="164880"/>
            <a:chOff x="4165560" y="5765760"/>
            <a:chExt cx="190440" cy="164880"/>
          </a:xfrm>
        </p:grpSpPr>
        <p:sp>
          <p:nvSpPr>
            <p:cNvPr id="186" name=""/>
            <p:cNvSpPr/>
            <p:nvPr/>
          </p:nvSpPr>
          <p:spPr>
            <a:xfrm>
              <a:off x="4203360" y="5765760"/>
              <a:ext cx="101880" cy="5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65560" y="5841720"/>
              <a:ext cx="25200" cy="8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30440" y="5841720"/>
              <a:ext cx="25560" cy="8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78160" y="5816520"/>
              <a:ext cx="152280" cy="50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90760" y="5790960"/>
              <a:ext cx="139680" cy="1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168880" y="5765760"/>
            <a:ext cx="76320" cy="16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73520" y="5765760"/>
            <a:ext cx="76320" cy="16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57880" y="4572000"/>
            <a:ext cx="952200" cy="1193760"/>
          </a:xfrm>
          <a:custGeom>
            <a:avLst/>
            <a:gdLst/>
            <a:ahLst/>
            <a:rect l="l" t="t" r="r" b="b"/>
            <a:pathLst>
              <a:path w="600" h="752">
                <a:moveTo>
                  <a:pt x="0" y="256"/>
                </a:moveTo>
                <a:lnTo>
                  <a:pt x="0" y="256"/>
                </a:lnTo>
                <a:lnTo>
                  <a:pt x="0" y="256"/>
                </a:lnTo>
                <a:lnTo>
                  <a:pt x="112" y="256"/>
                </a:lnTo>
                <a:lnTo>
                  <a:pt x="112" y="256"/>
                </a:lnTo>
                <a:lnTo>
                  <a:pt x="112" y="256"/>
                </a:lnTo>
                <a:lnTo>
                  <a:pt x="112" y="256"/>
                </a:lnTo>
                <a:lnTo>
                  <a:pt x="112" y="0"/>
                </a:lnTo>
                <a:lnTo>
                  <a:pt x="112" y="0"/>
                </a:lnTo>
                <a:lnTo>
                  <a:pt x="112" y="0"/>
                </a:lnTo>
                <a:lnTo>
                  <a:pt x="112" y="0"/>
                </a:lnTo>
                <a:lnTo>
                  <a:pt x="600" y="0"/>
                </a:lnTo>
                <a:lnTo>
                  <a:pt x="600" y="0"/>
                </a:lnTo>
                <a:lnTo>
                  <a:pt x="600" y="0"/>
                </a:lnTo>
                <a:lnTo>
                  <a:pt x="600" y="0"/>
                </a:lnTo>
                <a:lnTo>
                  <a:pt x="600" y="752"/>
                </a:lnTo>
                <a:lnTo>
                  <a:pt x="600" y="752"/>
                </a:lnTo>
                <a:lnTo>
                  <a:pt x="600" y="752"/>
                </a:lnTo>
                <a:lnTo>
                  <a:pt x="600" y="752"/>
                </a:lnTo>
                <a:lnTo>
                  <a:pt x="0" y="752"/>
                </a:lnTo>
                <a:lnTo>
                  <a:pt x="0" y="752"/>
                </a:lnTo>
                <a:lnTo>
                  <a:pt x="0" y="752"/>
                </a:lnTo>
                <a:lnTo>
                  <a:pt x="0" y="752"/>
                </a:lnTo>
                <a:lnTo>
                  <a:pt x="0" y="256"/>
                </a:lnTo>
                <a:lnTo>
                  <a:pt x="0" y="256"/>
                </a:lnTo>
                <a:lnTo>
                  <a:pt x="0" y="256"/>
                </a:lnTo>
                <a:lnTo>
                  <a:pt x="0" y="25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57880" y="4572000"/>
            <a:ext cx="952200" cy="1193760"/>
          </a:xfrm>
          <a:custGeom>
            <a:avLst/>
            <a:gdLst/>
            <a:ahLst/>
            <a:rect l="l" t="t" r="r" b="b"/>
            <a:pathLst>
              <a:path w="600" h="752">
                <a:moveTo>
                  <a:pt x="0" y="256"/>
                </a:moveTo>
                <a:lnTo>
                  <a:pt x="0" y="256"/>
                </a:lnTo>
                <a:lnTo>
                  <a:pt x="112" y="256"/>
                </a:lnTo>
                <a:lnTo>
                  <a:pt x="112" y="256"/>
                </a:lnTo>
                <a:lnTo>
                  <a:pt x="112" y="0"/>
                </a:lnTo>
                <a:lnTo>
                  <a:pt x="112" y="0"/>
                </a:lnTo>
                <a:lnTo>
                  <a:pt x="600" y="0"/>
                </a:lnTo>
                <a:lnTo>
                  <a:pt x="600" y="0"/>
                </a:lnTo>
                <a:lnTo>
                  <a:pt x="600" y="752"/>
                </a:lnTo>
                <a:lnTo>
                  <a:pt x="600" y="752"/>
                </a:lnTo>
                <a:lnTo>
                  <a:pt x="0" y="752"/>
                </a:lnTo>
                <a:lnTo>
                  <a:pt x="0" y="752"/>
                </a:lnTo>
                <a:lnTo>
                  <a:pt x="0" y="256"/>
                </a:lnTo>
                <a:lnTo>
                  <a:pt x="0" y="256"/>
                </a:lnTo>
                <a:close/>
              </a:path>
            </a:pathLst>
          </a:custGeom>
          <a:solidFill>
            <a:srgbClr val="cccc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78240" y="4978440"/>
            <a:ext cx="1092240" cy="787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73400" y="3174840"/>
            <a:ext cx="3162240" cy="825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22640" y="3441600"/>
            <a:ext cx="50760" cy="26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01920" y="5918040"/>
            <a:ext cx="2108160" cy="11448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78240" y="4572000"/>
            <a:ext cx="2019240" cy="1041480"/>
          </a:xfrm>
          <a:custGeom>
            <a:avLst/>
            <a:gdLst/>
            <a:ahLst/>
            <a:rect l="l" t="t" r="r" b="b"/>
            <a:pathLst>
              <a:path w="1272" h="656">
                <a:moveTo>
                  <a:pt x="936" y="0"/>
                </a:moveTo>
                <a:lnTo>
                  <a:pt x="936" y="0"/>
                </a:lnTo>
                <a:lnTo>
                  <a:pt x="936" y="0"/>
                </a:lnTo>
                <a:lnTo>
                  <a:pt x="936" y="424"/>
                </a:lnTo>
                <a:lnTo>
                  <a:pt x="936" y="424"/>
                </a:lnTo>
                <a:lnTo>
                  <a:pt x="936" y="424"/>
                </a:lnTo>
                <a:lnTo>
                  <a:pt x="936" y="424"/>
                </a:lnTo>
                <a:lnTo>
                  <a:pt x="592" y="424"/>
                </a:lnTo>
                <a:lnTo>
                  <a:pt x="592" y="424"/>
                </a:lnTo>
                <a:lnTo>
                  <a:pt x="592" y="424"/>
                </a:lnTo>
                <a:lnTo>
                  <a:pt x="592" y="424"/>
                </a:lnTo>
                <a:lnTo>
                  <a:pt x="592" y="360"/>
                </a:lnTo>
                <a:lnTo>
                  <a:pt x="592" y="360"/>
                </a:lnTo>
                <a:lnTo>
                  <a:pt x="592" y="360"/>
                </a:lnTo>
                <a:lnTo>
                  <a:pt x="592" y="360"/>
                </a:lnTo>
                <a:lnTo>
                  <a:pt x="336" y="360"/>
                </a:lnTo>
                <a:lnTo>
                  <a:pt x="336" y="360"/>
                </a:lnTo>
                <a:lnTo>
                  <a:pt x="336" y="360"/>
                </a:lnTo>
                <a:lnTo>
                  <a:pt x="336" y="360"/>
                </a:lnTo>
                <a:lnTo>
                  <a:pt x="336" y="440"/>
                </a:lnTo>
                <a:lnTo>
                  <a:pt x="336" y="440"/>
                </a:lnTo>
                <a:lnTo>
                  <a:pt x="336" y="440"/>
                </a:lnTo>
                <a:lnTo>
                  <a:pt x="336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568"/>
                </a:lnTo>
                <a:lnTo>
                  <a:pt x="0" y="568"/>
                </a:lnTo>
                <a:lnTo>
                  <a:pt x="0" y="568"/>
                </a:lnTo>
                <a:lnTo>
                  <a:pt x="0" y="568"/>
                </a:lnTo>
                <a:lnTo>
                  <a:pt x="336" y="568"/>
                </a:lnTo>
                <a:lnTo>
                  <a:pt x="336" y="568"/>
                </a:lnTo>
                <a:lnTo>
                  <a:pt x="336" y="568"/>
                </a:lnTo>
                <a:lnTo>
                  <a:pt x="336" y="568"/>
                </a:lnTo>
                <a:lnTo>
                  <a:pt x="336" y="656"/>
                </a:lnTo>
                <a:lnTo>
                  <a:pt x="336" y="656"/>
                </a:lnTo>
                <a:lnTo>
                  <a:pt x="336" y="656"/>
                </a:lnTo>
                <a:lnTo>
                  <a:pt x="336" y="656"/>
                </a:lnTo>
                <a:lnTo>
                  <a:pt x="592" y="656"/>
                </a:lnTo>
                <a:lnTo>
                  <a:pt x="592" y="656"/>
                </a:lnTo>
                <a:lnTo>
                  <a:pt x="592" y="656"/>
                </a:lnTo>
                <a:lnTo>
                  <a:pt x="592" y="656"/>
                </a:lnTo>
                <a:lnTo>
                  <a:pt x="592" y="600"/>
                </a:lnTo>
                <a:lnTo>
                  <a:pt x="592" y="600"/>
                </a:lnTo>
                <a:lnTo>
                  <a:pt x="592" y="600"/>
                </a:lnTo>
                <a:lnTo>
                  <a:pt x="592" y="600"/>
                </a:lnTo>
                <a:lnTo>
                  <a:pt x="1272" y="600"/>
                </a:lnTo>
                <a:lnTo>
                  <a:pt x="1272" y="600"/>
                </a:lnTo>
                <a:lnTo>
                  <a:pt x="1272" y="600"/>
                </a:lnTo>
                <a:lnTo>
                  <a:pt x="1272" y="600"/>
                </a:lnTo>
                <a:lnTo>
                  <a:pt x="1272" y="424"/>
                </a:lnTo>
                <a:lnTo>
                  <a:pt x="1272" y="424"/>
                </a:lnTo>
                <a:lnTo>
                  <a:pt x="1272" y="424"/>
                </a:lnTo>
                <a:lnTo>
                  <a:pt x="1272" y="424"/>
                </a:lnTo>
                <a:lnTo>
                  <a:pt x="1128" y="424"/>
                </a:lnTo>
                <a:lnTo>
                  <a:pt x="1128" y="424"/>
                </a:lnTo>
                <a:lnTo>
                  <a:pt x="1128" y="424"/>
                </a:lnTo>
                <a:lnTo>
                  <a:pt x="1128" y="424"/>
                </a:lnTo>
                <a:lnTo>
                  <a:pt x="1128" y="0"/>
                </a:lnTo>
                <a:lnTo>
                  <a:pt x="1128" y="0"/>
                </a:lnTo>
                <a:lnTo>
                  <a:pt x="1128" y="0"/>
                </a:lnTo>
                <a:lnTo>
                  <a:pt x="1128" y="0"/>
                </a:lnTo>
                <a:lnTo>
                  <a:pt x="936" y="0"/>
                </a:lnTo>
                <a:lnTo>
                  <a:pt x="936" y="0"/>
                </a:lnTo>
                <a:lnTo>
                  <a:pt x="936" y="0"/>
                </a:lnTo>
                <a:lnTo>
                  <a:pt x="936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78240" y="4572000"/>
            <a:ext cx="2019240" cy="1041480"/>
          </a:xfrm>
          <a:custGeom>
            <a:avLst/>
            <a:gdLst/>
            <a:ahLst/>
            <a:rect l="l" t="t" r="r" b="b"/>
            <a:pathLst>
              <a:path w="1272" h="656">
                <a:moveTo>
                  <a:pt x="936" y="0"/>
                </a:moveTo>
                <a:lnTo>
                  <a:pt x="936" y="0"/>
                </a:lnTo>
                <a:lnTo>
                  <a:pt x="936" y="424"/>
                </a:lnTo>
                <a:lnTo>
                  <a:pt x="936" y="424"/>
                </a:lnTo>
                <a:lnTo>
                  <a:pt x="592" y="424"/>
                </a:lnTo>
                <a:lnTo>
                  <a:pt x="592" y="424"/>
                </a:lnTo>
                <a:lnTo>
                  <a:pt x="592" y="360"/>
                </a:lnTo>
                <a:lnTo>
                  <a:pt x="592" y="360"/>
                </a:lnTo>
                <a:lnTo>
                  <a:pt x="336" y="360"/>
                </a:lnTo>
                <a:lnTo>
                  <a:pt x="336" y="360"/>
                </a:lnTo>
                <a:lnTo>
                  <a:pt x="336" y="440"/>
                </a:lnTo>
                <a:lnTo>
                  <a:pt x="336" y="440"/>
                </a:lnTo>
                <a:lnTo>
                  <a:pt x="0" y="440"/>
                </a:lnTo>
                <a:lnTo>
                  <a:pt x="0" y="440"/>
                </a:lnTo>
                <a:lnTo>
                  <a:pt x="0" y="568"/>
                </a:lnTo>
                <a:lnTo>
                  <a:pt x="0" y="568"/>
                </a:lnTo>
                <a:lnTo>
                  <a:pt x="336" y="568"/>
                </a:lnTo>
                <a:lnTo>
                  <a:pt x="336" y="568"/>
                </a:lnTo>
                <a:lnTo>
                  <a:pt x="336" y="656"/>
                </a:lnTo>
                <a:lnTo>
                  <a:pt x="336" y="656"/>
                </a:lnTo>
                <a:lnTo>
                  <a:pt x="592" y="656"/>
                </a:lnTo>
                <a:lnTo>
                  <a:pt x="592" y="656"/>
                </a:lnTo>
                <a:lnTo>
                  <a:pt x="592" y="600"/>
                </a:lnTo>
                <a:lnTo>
                  <a:pt x="592" y="600"/>
                </a:lnTo>
                <a:lnTo>
                  <a:pt x="1272" y="600"/>
                </a:lnTo>
                <a:lnTo>
                  <a:pt x="1272" y="600"/>
                </a:lnTo>
                <a:lnTo>
                  <a:pt x="1272" y="424"/>
                </a:lnTo>
                <a:lnTo>
                  <a:pt x="1272" y="424"/>
                </a:lnTo>
                <a:lnTo>
                  <a:pt x="1128" y="424"/>
                </a:lnTo>
                <a:lnTo>
                  <a:pt x="1128" y="424"/>
                </a:lnTo>
                <a:lnTo>
                  <a:pt x="1128" y="0"/>
                </a:lnTo>
                <a:lnTo>
                  <a:pt x="1128" y="0"/>
                </a:lnTo>
                <a:lnTo>
                  <a:pt x="936" y="0"/>
                </a:lnTo>
                <a:lnTo>
                  <a:pt x="936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3174840"/>
            <a:ext cx="3098880" cy="990720"/>
          </a:xfrm>
          <a:custGeom>
            <a:avLst/>
            <a:gdLst/>
            <a:ahLst/>
            <a:rect l="l" t="t" r="r" b="b"/>
            <a:pathLst>
              <a:path w="1952" h="624">
                <a:moveTo>
                  <a:pt x="256" y="0"/>
                </a:moveTo>
                <a:lnTo>
                  <a:pt x="256" y="0"/>
                </a:lnTo>
                <a:lnTo>
                  <a:pt x="256" y="0"/>
                </a:lnTo>
                <a:lnTo>
                  <a:pt x="168" y="0"/>
                </a:lnTo>
                <a:lnTo>
                  <a:pt x="168" y="0"/>
                </a:lnTo>
                <a:lnTo>
                  <a:pt x="168" y="0"/>
                </a:lnTo>
                <a:lnTo>
                  <a:pt x="168" y="0"/>
                </a:lnTo>
                <a:lnTo>
                  <a:pt x="168" y="200"/>
                </a:lnTo>
                <a:lnTo>
                  <a:pt x="168" y="200"/>
                </a:lnTo>
                <a:lnTo>
                  <a:pt x="168" y="200"/>
                </a:lnTo>
                <a:lnTo>
                  <a:pt x="168" y="200"/>
                </a:lnTo>
                <a:lnTo>
                  <a:pt x="32" y="232"/>
                </a:lnTo>
                <a:lnTo>
                  <a:pt x="32" y="232"/>
                </a:lnTo>
                <a:lnTo>
                  <a:pt x="32" y="232"/>
                </a:lnTo>
                <a:lnTo>
                  <a:pt x="32" y="232"/>
                </a:lnTo>
                <a:lnTo>
                  <a:pt x="0" y="232"/>
                </a:lnTo>
                <a:lnTo>
                  <a:pt x="0" y="232"/>
                </a:lnTo>
                <a:lnTo>
                  <a:pt x="0" y="232"/>
                </a:lnTo>
                <a:lnTo>
                  <a:pt x="0" y="232"/>
                </a:lnTo>
                <a:lnTo>
                  <a:pt x="0" y="280"/>
                </a:lnTo>
                <a:lnTo>
                  <a:pt x="0" y="280"/>
                </a:lnTo>
                <a:lnTo>
                  <a:pt x="0" y="280"/>
                </a:lnTo>
                <a:lnTo>
                  <a:pt x="0" y="280"/>
                </a:lnTo>
                <a:lnTo>
                  <a:pt x="32" y="280"/>
                </a:lnTo>
                <a:lnTo>
                  <a:pt x="32" y="280"/>
                </a:lnTo>
                <a:lnTo>
                  <a:pt x="32" y="280"/>
                </a:lnTo>
                <a:lnTo>
                  <a:pt x="32" y="280"/>
                </a:lnTo>
                <a:lnTo>
                  <a:pt x="400" y="384"/>
                </a:lnTo>
                <a:lnTo>
                  <a:pt x="400" y="384"/>
                </a:lnTo>
                <a:lnTo>
                  <a:pt x="400" y="384"/>
                </a:lnTo>
                <a:lnTo>
                  <a:pt x="400" y="384"/>
                </a:lnTo>
                <a:lnTo>
                  <a:pt x="1736" y="384"/>
                </a:lnTo>
                <a:lnTo>
                  <a:pt x="1736" y="384"/>
                </a:lnTo>
                <a:lnTo>
                  <a:pt x="1736" y="384"/>
                </a:lnTo>
                <a:lnTo>
                  <a:pt x="1736" y="384"/>
                </a:lnTo>
                <a:lnTo>
                  <a:pt x="1736" y="624"/>
                </a:lnTo>
                <a:lnTo>
                  <a:pt x="1736" y="624"/>
                </a:lnTo>
                <a:lnTo>
                  <a:pt x="1736" y="624"/>
                </a:lnTo>
                <a:lnTo>
                  <a:pt x="1736" y="624"/>
                </a:lnTo>
                <a:lnTo>
                  <a:pt x="1792" y="624"/>
                </a:lnTo>
                <a:lnTo>
                  <a:pt x="1792" y="624"/>
                </a:lnTo>
                <a:lnTo>
                  <a:pt x="1792" y="624"/>
                </a:lnTo>
                <a:lnTo>
                  <a:pt x="1792" y="624"/>
                </a:lnTo>
                <a:lnTo>
                  <a:pt x="1792" y="384"/>
                </a:lnTo>
                <a:lnTo>
                  <a:pt x="1792" y="384"/>
                </a:lnTo>
                <a:lnTo>
                  <a:pt x="1792" y="384"/>
                </a:lnTo>
                <a:lnTo>
                  <a:pt x="1792" y="384"/>
                </a:lnTo>
                <a:lnTo>
                  <a:pt x="1952" y="384"/>
                </a:lnTo>
                <a:lnTo>
                  <a:pt x="1952" y="384"/>
                </a:lnTo>
                <a:lnTo>
                  <a:pt x="1952" y="384"/>
                </a:lnTo>
                <a:lnTo>
                  <a:pt x="1952" y="384"/>
                </a:lnTo>
                <a:lnTo>
                  <a:pt x="1952" y="136"/>
                </a:lnTo>
                <a:lnTo>
                  <a:pt x="1952" y="136"/>
                </a:lnTo>
                <a:lnTo>
                  <a:pt x="1952" y="136"/>
                </a:lnTo>
                <a:lnTo>
                  <a:pt x="1952" y="136"/>
                </a:lnTo>
                <a:lnTo>
                  <a:pt x="400" y="136"/>
                </a:lnTo>
                <a:lnTo>
                  <a:pt x="400" y="136"/>
                </a:lnTo>
                <a:lnTo>
                  <a:pt x="400" y="136"/>
                </a:lnTo>
                <a:lnTo>
                  <a:pt x="400" y="136"/>
                </a:lnTo>
                <a:lnTo>
                  <a:pt x="256" y="176"/>
                </a:lnTo>
                <a:lnTo>
                  <a:pt x="256" y="176"/>
                </a:lnTo>
                <a:lnTo>
                  <a:pt x="256" y="176"/>
                </a:lnTo>
                <a:lnTo>
                  <a:pt x="256" y="176"/>
                </a:lnTo>
                <a:lnTo>
                  <a:pt x="256" y="0"/>
                </a:lnTo>
                <a:lnTo>
                  <a:pt x="256" y="0"/>
                </a:lnTo>
                <a:lnTo>
                  <a:pt x="256" y="0"/>
                </a:lnTo>
                <a:lnTo>
                  <a:pt x="256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3174840"/>
            <a:ext cx="3098880" cy="990720"/>
          </a:xfrm>
          <a:custGeom>
            <a:avLst/>
            <a:gdLst/>
            <a:ahLst/>
            <a:rect l="l" t="t" r="r" b="b"/>
            <a:pathLst>
              <a:path w="1952" h="624">
                <a:moveTo>
                  <a:pt x="256" y="0"/>
                </a:moveTo>
                <a:lnTo>
                  <a:pt x="256" y="0"/>
                </a:lnTo>
                <a:lnTo>
                  <a:pt x="168" y="0"/>
                </a:lnTo>
                <a:lnTo>
                  <a:pt x="168" y="0"/>
                </a:lnTo>
                <a:lnTo>
                  <a:pt x="168" y="200"/>
                </a:lnTo>
                <a:lnTo>
                  <a:pt x="168" y="200"/>
                </a:lnTo>
                <a:lnTo>
                  <a:pt x="32" y="232"/>
                </a:lnTo>
                <a:lnTo>
                  <a:pt x="32" y="232"/>
                </a:lnTo>
                <a:lnTo>
                  <a:pt x="0" y="232"/>
                </a:lnTo>
                <a:lnTo>
                  <a:pt x="0" y="232"/>
                </a:lnTo>
                <a:lnTo>
                  <a:pt x="0" y="280"/>
                </a:lnTo>
                <a:lnTo>
                  <a:pt x="0" y="280"/>
                </a:lnTo>
                <a:lnTo>
                  <a:pt x="32" y="280"/>
                </a:lnTo>
                <a:lnTo>
                  <a:pt x="32" y="280"/>
                </a:lnTo>
                <a:lnTo>
                  <a:pt x="400" y="384"/>
                </a:lnTo>
                <a:lnTo>
                  <a:pt x="400" y="384"/>
                </a:lnTo>
                <a:lnTo>
                  <a:pt x="1736" y="384"/>
                </a:lnTo>
                <a:lnTo>
                  <a:pt x="1736" y="384"/>
                </a:lnTo>
                <a:lnTo>
                  <a:pt x="1736" y="624"/>
                </a:lnTo>
                <a:lnTo>
                  <a:pt x="1736" y="624"/>
                </a:lnTo>
                <a:lnTo>
                  <a:pt x="1792" y="624"/>
                </a:lnTo>
                <a:lnTo>
                  <a:pt x="1792" y="624"/>
                </a:lnTo>
                <a:lnTo>
                  <a:pt x="1792" y="384"/>
                </a:lnTo>
                <a:lnTo>
                  <a:pt x="1792" y="384"/>
                </a:lnTo>
                <a:lnTo>
                  <a:pt x="1952" y="384"/>
                </a:lnTo>
                <a:lnTo>
                  <a:pt x="1952" y="384"/>
                </a:lnTo>
                <a:lnTo>
                  <a:pt x="1952" y="136"/>
                </a:lnTo>
                <a:lnTo>
                  <a:pt x="1952" y="136"/>
                </a:lnTo>
                <a:lnTo>
                  <a:pt x="400" y="136"/>
                </a:lnTo>
                <a:lnTo>
                  <a:pt x="400" y="136"/>
                </a:lnTo>
                <a:lnTo>
                  <a:pt x="256" y="176"/>
                </a:lnTo>
                <a:lnTo>
                  <a:pt x="256" y="176"/>
                </a:lnTo>
                <a:lnTo>
                  <a:pt x="256" y="0"/>
                </a:lnTo>
                <a:lnTo>
                  <a:pt x="256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5308560"/>
            <a:ext cx="749160" cy="11448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94240" y="5283360"/>
            <a:ext cx="215640" cy="17748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32"/>
                </a:moveTo>
                <a:lnTo>
                  <a:pt x="0" y="32"/>
                </a:lnTo>
                <a:lnTo>
                  <a:pt x="0" y="3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36" y="0"/>
                </a:lnTo>
                <a:lnTo>
                  <a:pt x="136" y="0"/>
                </a:lnTo>
                <a:lnTo>
                  <a:pt x="136" y="0"/>
                </a:lnTo>
                <a:lnTo>
                  <a:pt x="136" y="0"/>
                </a:lnTo>
                <a:lnTo>
                  <a:pt x="80" y="32"/>
                </a:lnTo>
                <a:lnTo>
                  <a:pt x="80" y="32"/>
                </a:lnTo>
                <a:lnTo>
                  <a:pt x="80" y="32"/>
                </a:lnTo>
                <a:lnTo>
                  <a:pt x="80" y="32"/>
                </a:lnTo>
                <a:lnTo>
                  <a:pt x="80" y="88"/>
                </a:lnTo>
                <a:lnTo>
                  <a:pt x="80" y="88"/>
                </a:lnTo>
                <a:lnTo>
                  <a:pt x="80" y="88"/>
                </a:lnTo>
                <a:lnTo>
                  <a:pt x="80" y="88"/>
                </a:lnTo>
                <a:lnTo>
                  <a:pt x="136" y="112"/>
                </a:lnTo>
                <a:lnTo>
                  <a:pt x="136" y="112"/>
                </a:lnTo>
                <a:lnTo>
                  <a:pt x="136" y="112"/>
                </a:lnTo>
                <a:lnTo>
                  <a:pt x="136" y="112"/>
                </a:ln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94240" y="5283360"/>
            <a:ext cx="215640" cy="17748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32"/>
                </a:moveTo>
                <a:lnTo>
                  <a:pt x="0" y="32"/>
                </a:lnTo>
                <a:lnTo>
                  <a:pt x="0" y="0"/>
                </a:lnTo>
                <a:lnTo>
                  <a:pt x="0" y="0"/>
                </a:lnTo>
                <a:lnTo>
                  <a:pt x="136" y="0"/>
                </a:lnTo>
                <a:lnTo>
                  <a:pt x="136" y="0"/>
                </a:lnTo>
                <a:lnTo>
                  <a:pt x="80" y="32"/>
                </a:lnTo>
                <a:lnTo>
                  <a:pt x="80" y="32"/>
                </a:lnTo>
                <a:lnTo>
                  <a:pt x="80" y="88"/>
                </a:lnTo>
                <a:lnTo>
                  <a:pt x="80" y="88"/>
                </a:lnTo>
                <a:lnTo>
                  <a:pt x="136" y="112"/>
                </a:lnTo>
                <a:lnTo>
                  <a:pt x="136" y="112"/>
                </a:lnTo>
                <a:lnTo>
                  <a:pt x="0" y="112"/>
                </a:lnTo>
                <a:lnTo>
                  <a:pt x="0" y="112"/>
                </a:lnTo>
                <a:lnTo>
                  <a:pt x="0" y="32"/>
                </a:lnTo>
                <a:lnTo>
                  <a:pt x="0" y="32"/>
                </a:lnTo>
                <a:close/>
              </a:path>
            </a:pathLst>
          </a:custGeom>
          <a:solidFill>
            <a:srgbClr val="00cc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70400" y="3441600"/>
            <a:ext cx="330480" cy="27936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70400" y="3479760"/>
            <a:ext cx="76320" cy="19044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680" y="5486400"/>
            <a:ext cx="721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rn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53080" y="3048120"/>
            <a:ext cx="144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fterbur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5240" y="2895480"/>
            <a:ext cx="376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ary Combustion Chamber(SC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63960" y="4165560"/>
            <a:ext cx="304920" cy="419040"/>
          </a:xfrm>
          <a:custGeom>
            <a:avLst/>
            <a:gdLst/>
            <a:ahLst/>
            <a:rect l="l" t="t" r="r" b="b"/>
            <a:pathLst>
              <a:path w="192" h="264">
                <a:moveTo>
                  <a:pt x="0" y="264"/>
                </a:moveTo>
                <a:lnTo>
                  <a:pt x="0" y="264"/>
                </a:lnTo>
                <a:lnTo>
                  <a:pt x="72" y="0"/>
                </a:lnTo>
                <a:lnTo>
                  <a:pt x="72" y="0"/>
                </a:lnTo>
                <a:lnTo>
                  <a:pt x="128" y="0"/>
                </a:lnTo>
                <a:lnTo>
                  <a:pt x="128" y="0"/>
                </a:lnTo>
                <a:lnTo>
                  <a:pt x="192" y="264"/>
                </a:lnTo>
                <a:lnTo>
                  <a:pt x="192" y="264"/>
                </a:lnTo>
                <a:lnTo>
                  <a:pt x="0" y="264"/>
                </a:lnTo>
                <a:lnTo>
                  <a:pt x="0" y="26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63960" y="4165560"/>
            <a:ext cx="304920" cy="419040"/>
          </a:xfrm>
          <a:custGeom>
            <a:avLst/>
            <a:gdLst/>
            <a:ahLst/>
            <a:rect l="l" t="t" r="r" b="b"/>
            <a:pathLst>
              <a:path w="192" h="264">
                <a:moveTo>
                  <a:pt x="0" y="264"/>
                </a:moveTo>
                <a:lnTo>
                  <a:pt x="0" y="264"/>
                </a:lnTo>
                <a:lnTo>
                  <a:pt x="0" y="264"/>
                </a:lnTo>
                <a:lnTo>
                  <a:pt x="72" y="0"/>
                </a:lnTo>
                <a:lnTo>
                  <a:pt x="72" y="0"/>
                </a:lnTo>
                <a:lnTo>
                  <a:pt x="72" y="0"/>
                </a:lnTo>
                <a:lnTo>
                  <a:pt x="72" y="0"/>
                </a:lnTo>
                <a:lnTo>
                  <a:pt x="128" y="0"/>
                </a:lnTo>
                <a:lnTo>
                  <a:pt x="128" y="0"/>
                </a:lnTo>
                <a:lnTo>
                  <a:pt x="128" y="0"/>
                </a:lnTo>
                <a:lnTo>
                  <a:pt x="128" y="0"/>
                </a:lnTo>
                <a:lnTo>
                  <a:pt x="192" y="264"/>
                </a:lnTo>
                <a:lnTo>
                  <a:pt x="192" y="264"/>
                </a:lnTo>
                <a:lnTo>
                  <a:pt x="192" y="264"/>
                </a:lnTo>
                <a:lnTo>
                  <a:pt x="192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08160" y="2502000"/>
            <a:ext cx="6388200" cy="11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1880" y="250200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407440" y="3670200"/>
            <a:ext cx="63360" cy="507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20040" y="5664240"/>
            <a:ext cx="50760" cy="6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1880" y="570240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91040" y="4762440"/>
            <a:ext cx="50760" cy="5076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30520" y="4327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EM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254480" y="4495680"/>
            <a:ext cx="698400" cy="241200"/>
            <a:chOff x="4254480" y="4495680"/>
            <a:chExt cx="698400" cy="241200"/>
          </a:xfrm>
        </p:grpSpPr>
        <p:sp>
          <p:nvSpPr>
            <p:cNvPr id="221" name=""/>
            <p:cNvSpPr/>
            <p:nvPr/>
          </p:nvSpPr>
          <p:spPr>
            <a:xfrm>
              <a:off x="4813200" y="4647960"/>
              <a:ext cx="139680" cy="88920"/>
            </a:xfrm>
            <a:custGeom>
              <a:avLst/>
              <a:gdLst/>
              <a:ahLst/>
              <a:rect l="l" t="t" r="r" b="b"/>
              <a:pathLst>
                <a:path w="88" h="56">
                  <a:moveTo>
                    <a:pt x="88" y="56"/>
                  </a:moveTo>
                  <a:lnTo>
                    <a:pt x="0" y="56"/>
                  </a:lnTo>
                  <a:lnTo>
                    <a:pt x="16" y="0"/>
                  </a:lnTo>
                  <a:lnTo>
                    <a:pt x="88" y="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54480" y="4495680"/>
              <a:ext cx="6728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111120" y="5410080"/>
            <a:ext cx="241560" cy="343080"/>
            <a:chOff x="3111120" y="5410080"/>
            <a:chExt cx="241560" cy="343080"/>
          </a:xfrm>
        </p:grpSpPr>
        <p:sp>
          <p:nvSpPr>
            <p:cNvPr id="224" name=""/>
            <p:cNvSpPr/>
            <p:nvPr/>
          </p:nvSpPr>
          <p:spPr>
            <a:xfrm>
              <a:off x="3238200" y="5410080"/>
              <a:ext cx="114480" cy="13968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72" y="0"/>
                  </a:moveTo>
                  <a:lnTo>
                    <a:pt x="56" y="88"/>
                  </a:lnTo>
                  <a:lnTo>
                    <a:pt x="0" y="48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111120" y="5422680"/>
              <a:ext cx="21564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2857680" y="2527200"/>
            <a:ext cx="63360" cy="6372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28720" y="2057400"/>
            <a:ext cx="58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LG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44720" y="2286000"/>
            <a:ext cx="101520" cy="266760"/>
            <a:chOff x="2844720" y="2286000"/>
            <a:chExt cx="101520" cy="266760"/>
          </a:xfrm>
        </p:grpSpPr>
        <p:sp>
          <p:nvSpPr>
            <p:cNvPr id="229" name=""/>
            <p:cNvSpPr/>
            <p:nvPr/>
          </p:nvSpPr>
          <p:spPr>
            <a:xfrm>
              <a:off x="2844720" y="2286000"/>
              <a:ext cx="101520" cy="139680"/>
            </a:xfrm>
            <a:custGeom>
              <a:avLst/>
              <a:gdLst/>
              <a:ahLst/>
              <a:rect l="l" t="t" r="r" b="b"/>
              <a:pathLst>
                <a:path w="64" h="88">
                  <a:moveTo>
                    <a:pt x="32" y="0"/>
                  </a:moveTo>
                  <a:lnTo>
                    <a:pt x="64" y="88"/>
                  </a:lnTo>
                  <a:lnTo>
                    <a:pt x="0" y="8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95480" y="2311200"/>
              <a:ext cx="1440" cy="24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092560" y="2527200"/>
            <a:ext cx="51120" cy="6372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33800" y="20574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67360" y="2273400"/>
            <a:ext cx="101520" cy="266760"/>
            <a:chOff x="5067360" y="2273400"/>
            <a:chExt cx="101520" cy="266760"/>
          </a:xfrm>
        </p:grpSpPr>
        <p:sp>
          <p:nvSpPr>
            <p:cNvPr id="234" name=""/>
            <p:cNvSpPr/>
            <p:nvPr/>
          </p:nvSpPr>
          <p:spPr>
            <a:xfrm>
              <a:off x="5067360" y="2273400"/>
              <a:ext cx="101520" cy="139680"/>
            </a:xfrm>
            <a:custGeom>
              <a:avLst/>
              <a:gdLst/>
              <a:ahLst/>
              <a:rect l="l" t="t" r="r" b="b"/>
              <a:pathLst>
                <a:path w="64" h="88">
                  <a:moveTo>
                    <a:pt x="32" y="0"/>
                  </a:moveTo>
                  <a:lnTo>
                    <a:pt x="64" y="88"/>
                  </a:lnTo>
                  <a:lnTo>
                    <a:pt x="0" y="8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17760" y="2298960"/>
              <a:ext cx="1440" cy="24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7770960" y="35877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2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420040" y="4838760"/>
            <a:ext cx="50760" cy="6336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20600" y="34894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C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79840" y="3556080"/>
            <a:ext cx="63360" cy="6336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36960" y="3556080"/>
            <a:ext cx="63720" cy="6336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79960" y="3556080"/>
            <a:ext cx="63720" cy="6336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17640" y="3489480"/>
            <a:ext cx="27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T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84760" y="3489480"/>
            <a:ext cx="27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T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08440" y="5257800"/>
            <a:ext cx="27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T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8140680" y="3645000"/>
            <a:ext cx="228240" cy="101520"/>
            <a:chOff x="8140680" y="3645000"/>
            <a:chExt cx="228240" cy="101520"/>
          </a:xfrm>
        </p:grpSpPr>
        <p:sp>
          <p:nvSpPr>
            <p:cNvPr id="246" name=""/>
            <p:cNvSpPr/>
            <p:nvPr/>
          </p:nvSpPr>
          <p:spPr>
            <a:xfrm>
              <a:off x="8140680" y="3645000"/>
              <a:ext cx="139680" cy="101520"/>
            </a:xfrm>
            <a:custGeom>
              <a:avLst/>
              <a:gdLst/>
              <a:ahLst/>
              <a:rect l="l" t="t" r="r" b="b"/>
              <a:pathLst>
                <a:path w="88" h="64">
                  <a:moveTo>
                    <a:pt x="0" y="32"/>
                  </a:moveTo>
                  <a:lnTo>
                    <a:pt x="88" y="0"/>
                  </a:lnTo>
                  <a:lnTo>
                    <a:pt x="88" y="6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8165520" y="369576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8064360" y="4838760"/>
            <a:ext cx="342720" cy="101520"/>
            <a:chOff x="8064360" y="4838760"/>
            <a:chExt cx="342720" cy="101520"/>
          </a:xfrm>
        </p:grpSpPr>
        <p:sp>
          <p:nvSpPr>
            <p:cNvPr id="249" name=""/>
            <p:cNvSpPr/>
            <p:nvPr/>
          </p:nvSpPr>
          <p:spPr>
            <a:xfrm>
              <a:off x="8064360" y="4838760"/>
              <a:ext cx="139680" cy="101520"/>
            </a:xfrm>
            <a:custGeom>
              <a:avLst/>
              <a:gdLst/>
              <a:ahLst/>
              <a:rect l="l" t="t" r="r" b="b"/>
              <a:pathLst>
                <a:path w="88" h="64">
                  <a:moveTo>
                    <a:pt x="0" y="32"/>
                  </a:moveTo>
                  <a:lnTo>
                    <a:pt x="88" y="0"/>
                  </a:lnTo>
                  <a:lnTo>
                    <a:pt x="88" y="6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8089560" y="4889520"/>
              <a:ext cx="317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7651800" y="4648320"/>
            <a:ext cx="27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92760" y="2527200"/>
            <a:ext cx="51120" cy="6372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58040" y="20574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2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667560" y="2273400"/>
            <a:ext cx="101520" cy="266760"/>
            <a:chOff x="6667560" y="2273400"/>
            <a:chExt cx="101520" cy="266760"/>
          </a:xfrm>
        </p:grpSpPr>
        <p:sp>
          <p:nvSpPr>
            <p:cNvPr id="255" name=""/>
            <p:cNvSpPr/>
            <p:nvPr/>
          </p:nvSpPr>
          <p:spPr>
            <a:xfrm>
              <a:off x="6667560" y="2273400"/>
              <a:ext cx="101520" cy="139680"/>
            </a:xfrm>
            <a:custGeom>
              <a:avLst/>
              <a:gdLst/>
              <a:ahLst/>
              <a:rect l="l" t="t" r="r" b="b"/>
              <a:pathLst>
                <a:path w="64" h="88">
                  <a:moveTo>
                    <a:pt x="32" y="0"/>
                  </a:moveTo>
                  <a:lnTo>
                    <a:pt x="64" y="88"/>
                  </a:lnTo>
                  <a:lnTo>
                    <a:pt x="0" y="8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17960" y="2298960"/>
              <a:ext cx="1440" cy="24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133720" y="2933640"/>
            <a:ext cx="50760" cy="5076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040" y="2984400"/>
            <a:ext cx="114840" cy="177840"/>
            <a:chOff x="2057040" y="2984400"/>
            <a:chExt cx="114840" cy="177840"/>
          </a:xfrm>
        </p:grpSpPr>
        <p:sp>
          <p:nvSpPr>
            <p:cNvPr id="259" name=""/>
            <p:cNvSpPr/>
            <p:nvPr/>
          </p:nvSpPr>
          <p:spPr>
            <a:xfrm>
              <a:off x="2057400" y="3022560"/>
              <a:ext cx="114480" cy="13968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88"/>
                  </a:moveTo>
                  <a:lnTo>
                    <a:pt x="8" y="0"/>
                  </a:lnTo>
                  <a:lnTo>
                    <a:pt x="72" y="3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057040" y="2984400"/>
              <a:ext cx="88920" cy="152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8064360" y="5676840"/>
            <a:ext cx="342720" cy="101520"/>
            <a:chOff x="8064360" y="5676840"/>
            <a:chExt cx="342720" cy="101520"/>
          </a:xfrm>
        </p:grpSpPr>
        <p:sp>
          <p:nvSpPr>
            <p:cNvPr id="262" name=""/>
            <p:cNvSpPr/>
            <p:nvPr/>
          </p:nvSpPr>
          <p:spPr>
            <a:xfrm>
              <a:off x="8064360" y="5676840"/>
              <a:ext cx="139680" cy="101520"/>
            </a:xfrm>
            <a:custGeom>
              <a:avLst/>
              <a:gdLst/>
              <a:ahLst/>
              <a:rect l="l" t="t" r="r" b="b"/>
              <a:pathLst>
                <a:path w="88" h="64">
                  <a:moveTo>
                    <a:pt x="0" y="32"/>
                  </a:moveTo>
                  <a:lnTo>
                    <a:pt x="88" y="0"/>
                  </a:lnTo>
                  <a:lnTo>
                    <a:pt x="88" y="6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8089560" y="5727600"/>
              <a:ext cx="317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662600" y="5454720"/>
            <a:ext cx="27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5664240" y="32004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66720" y="4724280"/>
            <a:ext cx="1992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mary Combus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mb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368960" y="5265720"/>
            <a:ext cx="1447200" cy="228600"/>
            <a:chOff x="4368960" y="5265720"/>
            <a:chExt cx="1447200" cy="228600"/>
          </a:xfrm>
        </p:grpSpPr>
        <p:sp>
          <p:nvSpPr>
            <p:cNvPr id="268" name=""/>
            <p:cNvSpPr/>
            <p:nvPr/>
          </p:nvSpPr>
          <p:spPr>
            <a:xfrm>
              <a:off x="4368960" y="5302080"/>
              <a:ext cx="304560" cy="15264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73520" y="5342040"/>
              <a:ext cx="1066320" cy="7596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40200" y="5265720"/>
              <a:ext cx="75960" cy="22860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6102720" y="4572000"/>
            <a:ext cx="721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ed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511960" y="510552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2692080" y="358092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E-waste Fe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te was an equal parts (by weight) mixture of computer keyboards, motherboards, and ca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4057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eeding E-waste into Kil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371600" y="165744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15:23:38Z</dcterms:created>
  <dc:creator>estewart</dc:creator>
  <dc:description/>
  <dc:language>en-US</dc:language>
  <cp:lastModifiedBy>Tim Benner</cp:lastModifiedBy>
  <dcterms:modified xsi:type="dcterms:W3CDTF">2008-01-09T20:21:37Z</dcterms:modified>
  <cp:revision>42</cp:revision>
  <dc:subject/>
  <dc:title>Emissions from the Incineration of Electronics Industry Waste</dc:title>
</cp:coreProperties>
</file>