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1A54-B891-4A65-B386-4A9C3048B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DA96-7EF4-4C03-A42E-4F88E208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854E-529B-4237-9CC5-9D02D93D5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123F-BD8B-4A66-ADA1-9EF4B84D5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5E70-9BCE-4D21-A3E8-7EC00439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C747-D635-46AE-902C-DF4E857E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DDA4-6C33-485C-B9F5-7DC453A5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1351-0835-4917-9001-BFBD14C2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BC8A-3B9A-41C0-8B8E-3E880E98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B9C7-5CB1-4144-B195-F4AE5376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8358-FA14-46A8-B7E9-6674904E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2397-1B89-4604-BCB0-AAA5697A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126D-7CE6-4AF4-B222-4E40F5446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6172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ol Fiberglass Manufacturing – MACT/NSPS Applicability Flow Char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533520"/>
            <a:ext cx="1981440" cy="4572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 you own or operate a woo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berglass facility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1371600"/>
            <a:ext cx="20574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10666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1480" y="299736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1371600"/>
            <a:ext cx="2133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your facility a major MACT source or located at a facility that is a major sourc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14800" y="1447920"/>
            <a:ext cx="2057400" cy="3808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14800" y="1447920"/>
            <a:ext cx="205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are not subject to MACT  Subpart N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762120"/>
            <a:ext cx="21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533520"/>
            <a:ext cx="4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81480" y="76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6002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1371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66880" y="6045120"/>
            <a:ext cx="131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209680"/>
            <a:ext cx="4038480" cy="15242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e any of the following new or existing sources (proces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ted at your facility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ass melting furn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tary spin wool fiberglass lin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lame attenuation wool fiberglass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1828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6440" y="2362320"/>
            <a:ext cx="34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1927080"/>
            <a:ext cx="1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19320" y="19638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16040" y="41911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5791320"/>
            <a:ext cx="12193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are subjec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CT Subpart N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67240" y="554508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6553080"/>
            <a:ext cx="213336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 the glass melting furn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tructed after June 15, 1979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6477120"/>
            <a:ext cx="213372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 the rotary spin w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berglass line constructed af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ebruary 7, 1984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76520" y="7391520"/>
            <a:ext cx="1447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 is subjec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NS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bpart 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91120" y="7467480"/>
            <a:ext cx="12952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 is sub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NS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bpart 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72388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8763120"/>
            <a:ext cx="594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Arsenic, Chromium, lead, formaldehyde, phenol and methano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285640" y="6019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6019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6858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7162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71600" y="714528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952880" y="7238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14800" y="72216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38680" y="7543800"/>
            <a:ext cx="10670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 is no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bject to NS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bpart 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9920" y="6858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24480" y="6858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08640" y="7086600"/>
            <a:ext cx="35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7391520"/>
            <a:ext cx="1143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7080" y="7467480"/>
            <a:ext cx="111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 is no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bject to NS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bpart 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837720" y="6858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6858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5320" y="7086600"/>
            <a:ext cx="34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457200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e applicable HAPs* emitted fr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y of these source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715000" y="18288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3733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50292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7T14:22:44Z</dcterms:created>
  <dc:creator>Sue Leung</dc:creator>
  <dc:description/>
  <dc:language>en-US</dc:language>
  <cp:lastModifiedBy>Win98 User</cp:lastModifiedBy>
  <dcterms:modified xsi:type="dcterms:W3CDTF">2003-10-07T18:06:26Z</dcterms:modified>
  <cp:revision>13</cp:revision>
  <dc:subject/>
  <dc:title>Wool Fiberglass Manufacturing Applicability </dc:title>
</cp:coreProperties>
</file>