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078913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1D4-1275-44BC-A660-C1185FE0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1ED-6565-4427-B88A-9971FF4B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D6B-8FAB-434D-BEDB-0DB8F4F0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A8E-753E-4D5E-AF27-50B6AC4C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DB05-5BC7-4841-B031-33B17F58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89B1-FCC1-42DC-A16F-3850631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77B1-A27E-4512-842E-036A6599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5C62-BA5F-445F-AFD2-D74ADA4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C5A5-83C1-4448-9542-D13C19F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9E09-9320-407E-846B-59A44479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3E85-6001-47C2-A09A-404E6F8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237-AD2B-4EEF-8CCA-FF54B007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8122-33DC-4143-BB6A-A5FFAD5E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C44A-EEA3-410F-AE5D-B4FA823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E49C-0992-4A42-81CC-8A53B17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0BB4-F974-4C41-8907-B2A02FF9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97F3-89C9-4386-9BCD-D7348B7A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F18-6F7F-425E-8914-05368D6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D8E-F163-4A6F-87C3-4425BBB1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BFF-7B5A-468B-85FE-AFFE4BCC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960-B272-4DB8-A92F-90E8BE3F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394-2949-4CED-8218-80217865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82D-5F41-4B77-A6F5-5630C8AA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3E6-A7BF-450B-B9DA-E94CE51E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67480" y="667188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0360" y="647676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647676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812-1344-4633-895B-E71D0BC325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sdlogo-1inch" descr=""/>
          <p:cNvPicPr/>
          <p:nvPr/>
        </p:nvPicPr>
        <p:blipFill>
          <a:blip r:embed="rId2"/>
          <a:stretch/>
        </p:blipFill>
        <p:spPr>
          <a:xfrm>
            <a:off x="76320" y="6434280"/>
            <a:ext cx="630000" cy="390240"/>
          </a:xfrm>
          <a:prstGeom prst="rect">
            <a:avLst/>
          </a:prstGeom>
          <a:ln w="0">
            <a:noFill/>
          </a:ln>
        </p:spPr>
      </p:pic>
      <p:pic>
        <p:nvPicPr>
          <p:cNvPr id="6" name="TEXTURE" descr=""/>
          <p:cNvPicPr/>
          <p:nvPr/>
        </p:nvPicPr>
        <p:blipFill>
          <a:blip r:embed="rId3"/>
          <a:stretch/>
        </p:blipFill>
        <p:spPr>
          <a:xfrm>
            <a:off x="1370160" y="0"/>
            <a:ext cx="7773840" cy="228600"/>
          </a:xfrm>
          <a:prstGeom prst="rect">
            <a:avLst/>
          </a:prstGeom>
          <a:ln w="0">
            <a:noFill/>
          </a:ln>
        </p:spPr>
      </p:pic>
      <p:pic>
        <p:nvPicPr>
          <p:cNvPr id="7" name="TEXTUREbot" descr=""/>
          <p:cNvPicPr/>
          <p:nvPr/>
        </p:nvPicPr>
        <p:blipFill>
          <a:blip r:embed="rId4"/>
          <a:stretch/>
        </p:blipFill>
        <p:spPr>
          <a:xfrm>
            <a:off x="760320" y="6716880"/>
            <a:ext cx="6402600" cy="114120"/>
          </a:xfrm>
          <a:prstGeom prst="rect">
            <a:avLst/>
          </a:prstGeom>
          <a:ln w="0">
            <a:noFill/>
          </a:ln>
        </p:spPr>
      </p:pic>
      <p:pic>
        <p:nvPicPr>
          <p:cNvPr id="8" name="Logo-B96" descr=""/>
          <p:cNvPicPr/>
          <p:nvPr/>
        </p:nvPicPr>
        <p:blipFill>
          <a:blip r:embed="rId5"/>
          <a:stretch/>
        </p:blipFill>
        <p:spPr>
          <a:xfrm>
            <a:off x="76320" y="30240"/>
            <a:ext cx="1066680" cy="6555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40440" y="6477120"/>
            <a:ext cx="33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a r t h   S c i e n c e s   D i v i s i o 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D870-5276-4AAA-910A-84C5547D33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2120" y="609480"/>
            <a:ext cx="7794360" cy="1371600"/>
            <a:chOff x="762120" y="609480"/>
            <a:chExt cx="7794360" cy="1371600"/>
          </a:xfrm>
        </p:grpSpPr>
        <p:pic>
          <p:nvPicPr>
            <p:cNvPr id="51" name="esdlogo-1inch" descr=""/>
            <p:cNvPicPr/>
            <p:nvPr/>
          </p:nvPicPr>
          <p:blipFill>
            <a:blip r:embed="rId2"/>
            <a:stretch/>
          </p:blipFill>
          <p:spPr>
            <a:xfrm>
              <a:off x="8077320" y="1584000"/>
              <a:ext cx="4572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URE" descr=""/>
            <p:cNvPicPr/>
            <p:nvPr/>
          </p:nvPicPr>
          <p:blipFill>
            <a:blip r:embed="rId3"/>
            <a:stretch/>
          </p:blipFill>
          <p:spPr>
            <a:xfrm>
              <a:off x="762120" y="609480"/>
              <a:ext cx="77738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UREbot" descr=""/>
            <p:cNvPicPr/>
            <p:nvPr/>
          </p:nvPicPr>
          <p:blipFill>
            <a:blip r:embed="rId4"/>
            <a:stretch/>
          </p:blipFill>
          <p:spPr>
            <a:xfrm>
              <a:off x="2154240" y="1866600"/>
              <a:ext cx="640224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Logo-B96" descr=""/>
            <p:cNvPicPr/>
            <p:nvPr/>
          </p:nvPicPr>
          <p:blipFill>
            <a:blip r:embed="rId5"/>
            <a:stretch/>
          </p:blipFill>
          <p:spPr>
            <a:xfrm>
              <a:off x="762120" y="1150560"/>
              <a:ext cx="13525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045160" y="1626840"/>
              <a:ext cx="335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a r t h   S c i e n c e s   D i v i s i o 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TEXTURE" descr=""/>
            <p:cNvPicPr/>
            <p:nvPr/>
          </p:nvPicPr>
          <p:blipFill>
            <a:blip r:embed="rId6"/>
            <a:stretch/>
          </p:blipFill>
          <p:spPr>
            <a:xfrm>
              <a:off x="762120" y="838080"/>
              <a:ext cx="777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059920" y="1142640"/>
              <a:ext cx="59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wrence Berkeley National Labora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SEPP:  How it can be your friend in the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rick Dob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SEPP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by LBNL ESD for all field-relate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haz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resources and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, PPE, and risk-reducing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environmental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clearances and per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ard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-specific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, physical, chemical, and bi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-specific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(e.g., off-road, boat, aircra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environment (e.g., confined space, du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(e.g., electrical, laser, high 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(e.g., radiation source, NO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s (e.g., chemic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cy Resour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location of emergency responders near field area (addresses, phone numbers, and ma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/clinic/ambulanc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e/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emergency respons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contacts (lab and fami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means of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phone or satellite phone (LBNL Telephone Services can provide you with satellite telephone for use worldw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and Hazard M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training required for all field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id, CPR, Fire Extingu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first aid kits can be checked out from LBNL Medica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dditional training based on identified hazards (make sure training is upd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PE required for saf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safe work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on-site safety briefings prior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Protection and Permi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otential hazards posed to environment by work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damage and mitigation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all needed permits and clearances prior to conduc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owner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per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SEPP is What You Make of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 OSSEPP as needed to reflect changes in work activities an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SEPP belongs to all project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EH&amp;S staff to obtain guidance on hazard identification and mi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your work with safety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0:29:40Z</dcterms:created>
  <dc:creator>Preferred Customer</dc:creator>
  <dc:description/>
  <dc:language>en-US</dc:language>
  <cp:lastModifiedBy>PFDobson</cp:lastModifiedBy>
  <cp:lastPrinted>2004-02-02T17:20:36Z</cp:lastPrinted>
  <dcterms:modified xsi:type="dcterms:W3CDTF">2006-02-03T21:09:41Z</dcterms:modified>
  <cp:revision>49</cp:revision>
  <dc:subject/>
  <dc:title>Yellowstone as a Natural Analog for Yucca Mountain</dc:title>
</cp:coreProperties>
</file>