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A75-A18D-4C6D-BD0A-84A6951E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A62-B2C1-45CD-B652-7B27A57C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59A4-D903-45A5-80E6-F2C05DC4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612-86F3-4C63-8E13-C35798F5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C832-571A-4C10-9A8D-A05A83AE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03BB-A7A4-481E-A795-775E09FA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D62F-C21E-43A8-87FA-48AC2AEE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5423-4937-45BD-8A9D-8AC592FB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D4C0-E321-41A7-8357-F6EE7A55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221F-A6D7-4F65-B6A9-67F152D5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9F06-2CBB-4AC4-99C7-95103742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8032-52FE-49CD-8444-2BBB80D0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73C5-ED43-416A-BFA0-81EC2D09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6F1D-61C7-452B-B0E7-69DDE4EF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8004-868F-469D-A68A-8A2A7750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32EF-A6D7-4BC4-838C-27EAE1C6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C303-2000-4A86-9203-16231720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BAB-0479-4145-BC49-F6B2C991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F5B-4833-4738-BD6B-E0EBB9A2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377-B83C-47F4-B7A2-EC46EFED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4934-E52A-41EE-8763-8A7FECDB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F5A-555C-462F-9601-53F45190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21F-CE78-4946-A645-06861CC8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B2F-47FC-443C-AA53-49B87402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FA57-6736-4FAD-BD7E-4B443C5C03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5E52-5343-4185-A3B8-5B4AF573D7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munity Capability Building for Post 9/11 Terrorism Preparednes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04760" y="41907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ances Edwards, Ph.D., C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rector, City of San Jose OES/MMT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ce Chair, Collaborative for Disaster Mitigation, San Jose State Universi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81E5-873B-4421-A1BF-8AEE6387B0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pability After 9/11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kil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ood writ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earch ability including Intern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ritical thin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llectual curios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lexible personal sty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lexible leadership sty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nsitivity to oth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BD06990_" descr=""/>
          <p:cNvPicPr/>
          <p:nvPr/>
        </p:nvPicPr>
        <p:blipFill>
          <a:blip r:embed="rId1"/>
          <a:stretch/>
        </p:blipFill>
        <p:spPr>
          <a:xfrm>
            <a:off x="5181480" y="3543480"/>
            <a:ext cx="3332160" cy="28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E31-7226-493D-BD18-CA8D97B5C5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pability After 9/11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ltiple relationshi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d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overnment lead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munity lead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munity memb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spi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for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tiv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BD05545_" descr=""/>
          <p:cNvPicPr/>
          <p:nvPr/>
        </p:nvPicPr>
        <p:blipFill>
          <a:blip r:embed="rId1"/>
          <a:stretch/>
        </p:blipFill>
        <p:spPr>
          <a:xfrm>
            <a:off x="4724280" y="2895480"/>
            <a:ext cx="333864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DB8-E02B-4581-A5F2-A68D360B18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o do we hire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thusias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am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ur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road liberal arts background: political science, public administration, journalism, social scie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etency will develop over time through experience and mentor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479-F777-4511-91D8-435A6E470C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rowing the emergency manager of the 21</a:t>
            </a:r>
            <a:r>
              <a:rPr b="0" i="1" lang="en-US" sz="4400" spc="-1" strike="noStrike" baseline="30000">
                <a:solidFill>
                  <a:srgbClr val="ffcc66"/>
                </a:solidFill>
                <a:latin typeface="Times New Roman"/>
              </a:rPr>
              <a:t>st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centu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ademics, practitioners, professional organiz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ntor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rnshi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dent member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PA SECM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A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BD06517_" descr=""/>
          <p:cNvPicPr/>
          <p:nvPr/>
        </p:nvPicPr>
        <p:blipFill>
          <a:blip r:embed="rId1"/>
          <a:stretch/>
        </p:blipFill>
        <p:spPr>
          <a:xfrm>
            <a:off x="5257800" y="4114800"/>
            <a:ext cx="3098880" cy="20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E02-A482-41DE-9144-C495FD1FCF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ey to community safet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mergency managers will never be the heroes, but they are the lynchpins that hold the community together through every disas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E01561_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4583160" cy="304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1934-4EB7-4740-A704-FAFC5DA37F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peaker Contact Inform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ances Edwards-Winslow, Ph.D., C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rector, City of San Jose Office of Emergency Services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ww.ci.san-jose.ca.us/oes/oes.ht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rector, San Jose Metropolitan Medical Task For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55 N. San Pedro Street, San Jose, 951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08-277-4595;frances.winslow@ci.sj.ca.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30B-067C-454C-839B-1E23EE639B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onoring the Mem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ay Downe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Jack Fan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ief officers of FDNY who gave their lives at the World Trade Center Command Post, September 11, 2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bd07292_" descr="Fire truck."/>
          <p:cNvPicPr/>
          <p:nvPr/>
        </p:nvPicPr>
        <p:blipFill>
          <a:blip r:embed="rId1"/>
          <a:stretch/>
        </p:blipFill>
        <p:spPr>
          <a:xfrm>
            <a:off x="4419720" y="2666880"/>
            <a:ext cx="4038480" cy="248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BCF-6256-4847-8545-FBE39782C8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mergency Management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efore 9/11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50’s Civil Defen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60’s Natural disas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70’s Three Mile Isl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eat analysis and risk assess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munity education for emergency prepared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inuity planning for the government organ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nerally male, former milita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D09-D355-4CF0-A820-4776EBF08D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mergency Management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efore 9/11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80’s All Haza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mergency Management Institu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MA Independent Study cour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MA Professional Development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fessional certification - C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ademic cen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 Delawa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 Southern Californ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 Colorado, Boul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SF Quick Response Gra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ertificate programs in UC syste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F18-DF72-472B-BDEE-8BDA27A22B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mergency Management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efore 9/11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90’s multiple natural hazard catastrophic ev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akland Hills Firestorm: SE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urricane Andrew: insurance surcharge, professional EM for every coun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dwest flooding: FEMA FRP &amp; ESF’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rthridge Earthquake: 800 numb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estern floo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rough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CF8-4021-4211-8FEE-DEC9E26F8E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erroris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93 World Trade Cen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95 Tokyo Sarin atta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995 Murrah Building bomb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mestic Preparedness Progr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OD, DHHS, DOJ, FEMA, EPA, DO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22 largest cities – no sustainment fun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ew level of knowledge: NBC weapons, medical issu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2K millenial, militia, Seattle/LA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D1A-39E3-4A5E-905E-95CECB211F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orld Trade Center, 9/11/01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tivated MMTF, DMATs, USARs, Search Do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ployed National Pharmaceutical Stockpi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dia intensive- interviews in TV, radio, pr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ected officials’ brief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lic presentations on preparedness:Rotary, Kiwanis, TV/Radio talk shows, educational administrators (k-12 and universit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oss over from pure law enforcement to emergency management: MCI &amp; crime sce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EBE-EEBE-40F8-B949-D3A29F31B0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fter 9/11: New Mis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cilitator for cross departmental terrorism response plan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re, Police, EMS – original MMTF partn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lic Works, General Services, 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mmend security changes for public organizations: badges, CAN, new entrances, security gua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68E-90EE-45F1-AD9D-7E1F0EB252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pability After 9/11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derstand the work of government departments, relationshi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 with elected offici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ppreciate the difficulty of raising reven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gal iss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munity: languages, ethnicities, age, wealth, educational levels, economic b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9C7D-7845-42DC-A9CC-2364EA6902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9T22:23:15Z</dcterms:created>
  <dc:creator>fwinslow</dc:creator>
  <dc:description/>
  <dc:language>en-US</dc:language>
  <cp:lastModifiedBy>ryuan</cp:lastModifiedBy>
  <dcterms:modified xsi:type="dcterms:W3CDTF">2003-10-23T18:51:52Z</dcterms:modified>
  <cp:revision>6</cp:revision>
  <dc:subject/>
  <dc:title>Community Capability Building for Post 9/11 Terrorism Preparedness</dc:title>
</cp:coreProperties>
</file>