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998C-94BF-4E71-98D5-B6B18837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23A9-6389-4583-988E-40A265DC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B277-1F3D-4CFE-9716-AAA4DC33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330E-6C9D-4967-8611-90AFE891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6602-1F6C-4315-8E71-55031442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34E0-7192-4B26-BA80-F95BE66B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D330-234E-4EE0-BBCE-FA41E298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A1DF-A0EF-4EAD-A9FA-BA51DEB4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92A5-197E-47C0-9615-5368CBF2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36EC-7B0B-4ABF-8A08-C34893F2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03B5-DB8C-4BE5-BF24-47B2A691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2D97-2266-4E85-856A-335D2815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1552-79B1-49D8-84BD-912EDF960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883800"/>
            <a:ext cx="8229600" cy="3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131d"/>
                </a:solidFill>
                <a:latin typeface="Arial"/>
              </a:rPr>
              <a:t>Larry Dalton        </a:t>
            </a: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(University of Washington)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MR-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009238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1520" y="1420560"/>
            <a:ext cx="44751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uantum mechanics [J. Am. Chem. Soc., 127, 2758 (2005)] and new statistical mechanical methods (Fig. 1) have been used to achieve record electro-optic (EO) activity (12 times the commercial standard lithium niobate).  Pseudo-atomistic Monte Carlo calculations have been used to achieve a quantitative understanding of the effect of intermolecular electrostatic interactions on acentric chromophore order under the influence of an electric poling field.  Theoretically-inspired crosslinked dendrimer materials have been prepared that not only display record electro-optic activity but also exhibit high thermal and photochemical stability and low waveguide loss.  A variety of prototype devices have been fabricated including hybrid organic EO/silicon photonic split ring microresonators relevant to wavelength division and reconfigurable optical add/drop multiplexing.  High bandwidth optical rectification has been ob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5854680"/>
            <a:ext cx="427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.  The theoretically-predicted variation of the product of chromophore number density and acentric order parameter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O activity) vs. number density is shown as a function of chromophore sh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825480"/>
            <a:ext cx="902988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483080" y="1362240"/>
            <a:ext cx="4660920" cy="452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68800" y="165240"/>
            <a:ext cx="47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rganic Electroactive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99080" y="1227240"/>
            <a:ext cx="424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ading Parameter = EO Coefficien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÷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lecular hyper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arizability)(consta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09680" y="295200"/>
            <a:ext cx="804852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rganic Electroactive Materials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b131d"/>
                </a:solidFill>
                <a:latin typeface="Arial"/>
              </a:rPr>
              <a:t>Larry Dalton     </a:t>
            </a: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(University of Washington)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DMR-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00923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56320" y="1189080"/>
            <a:ext cx="4105080" cy="55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Outr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hairman, Advisory Board, Center for Research and Education in Advanced Materials, Norfolk State University; worked with NSU to develop its first Ph.D. program in science and engineering.  Participated in course and curriculum developed and lectured in a prototype core course for the new Ph.D. program (Spring 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orked with Alabama A&amp;M and other HBCUs on development of research and educational activities including activities sponsored by NSF and NA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entored six Seattle area high school students two of which are pursuing science majors at Stanford Univ. this F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ectured at the Seattle Technology Alliance, the Seattle Community Development Roundtable, and Washington and California Rotary Club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160" y="1152360"/>
            <a:ext cx="902952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8120" y="1227240"/>
            <a:ext cx="457200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Edu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ucational activities related to this program include lectures at the NSF-sponsored workshop on sensor science &amp; technology at Alabama A&amp;M, the NASA Space Grant REU program at UW, the Frontiers in Nanotechology course (a core course in the Nanotechnology Ph.D. program) at UW, a tutorial at the AAAS 2004 annual meeting, NSF REU lectures at UW, and lectures in a prototype course for the proposed Ph.D. program in Advanced Materials Science &amp; Engineering at Norfolk State Univers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3845" t="0" r="15380" b="-1162"/>
          <a:stretch/>
        </p:blipFill>
        <p:spPr>
          <a:xfrm>
            <a:off x="2525760" y="4282920"/>
            <a:ext cx="1752480" cy="1168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379600" y="5410080"/>
            <a:ext cx="2073240" cy="1447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rcRect l="0" t="0" r="0" b="17423"/>
          <a:stretch/>
        </p:blipFill>
        <p:spPr>
          <a:xfrm>
            <a:off x="285840" y="4257720"/>
            <a:ext cx="1888920" cy="1314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519200" y="5654520"/>
            <a:ext cx="814320" cy="1089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1400" y="5581800"/>
            <a:ext cx="1421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. Dalton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folk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ceives QE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E 2005 Gi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cience Awa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7T03:10:56Z</dcterms:created>
  <dc:creator>Chris Li</dc:creator>
  <dc:description/>
  <dc:language>en-US</dc:language>
  <cp:lastModifiedBy>NSF USER</cp:lastModifiedBy>
  <dcterms:modified xsi:type="dcterms:W3CDTF">2006-06-27T14:03:36Z</dcterms:modified>
  <cp:revision>12</cp:revision>
  <dc:subject/>
  <dc:title>Slide 1</dc:title>
</cp:coreProperties>
</file>