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75757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5e9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4d5e9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B9717-81E0-4320-B629-406106A14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XML S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mmer = PERL/JSP/XML|XS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ep the user in m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make the mistakes we d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ts of Access Skills at L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i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B was designed by production sta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y Tennet XML4LIB XML/XSLT as a ha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 look at XML/XSLT as a hammer -- once you have it, 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gt; and know how to use it, you find all kinds of uses for it that would 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gt; not necessarily have occurred to you without that tool in your hand. I 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gt; liken this to Perl (insert your favorite web scripting language here), 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gt; which once you know it, you find all kinds of uses to which to put it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coon in later dissemintation 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E75D2-BF6A-49DF-B14E-D318C3FA6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8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e9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36280"/>
            <a:ext cx="77724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80520"/>
            <a:ext cx="77724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BB3B0-8AA5-4868-BB72-A232B50F2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8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e9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36280"/>
            <a:ext cx="37926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36280"/>
            <a:ext cx="37926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80520"/>
            <a:ext cx="37926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80520"/>
            <a:ext cx="37926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89EEA-4898-4F65-B8C2-3A9A3FBAC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8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e9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736280"/>
            <a:ext cx="250236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736280"/>
            <a:ext cx="250236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736280"/>
            <a:ext cx="250236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80520"/>
            <a:ext cx="250236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80520"/>
            <a:ext cx="250236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80520"/>
            <a:ext cx="250236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DE2A2-1DA5-49FF-A594-D4D699D7D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92FD8-2BE2-4FF4-88D5-D69D213CD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8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e9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85800" y="1736280"/>
            <a:ext cx="7772400" cy="42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1EA6A-086F-4A80-B3F8-0010798F1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8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e9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736280"/>
            <a:ext cx="7772400" cy="42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9CB17-B45E-45F1-BA18-FF3EE5741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8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e9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36280"/>
            <a:ext cx="3792600" cy="42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36280"/>
            <a:ext cx="3792600" cy="42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BEACA-A766-4142-A437-3C5316880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8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e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919FE-87DD-48D9-8ACD-3141E45F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182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6A0A6-9941-4E94-8A4A-C2FD16B8A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8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e9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736280"/>
            <a:ext cx="37926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736280"/>
            <a:ext cx="3792600" cy="42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980520"/>
            <a:ext cx="37926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0264B-85EA-44E0-8D33-05C1F050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8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e9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736280"/>
            <a:ext cx="7772400" cy="42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EBF7F-1A37-4DC7-8CE5-FBC67F8FA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8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e9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736280"/>
            <a:ext cx="3792600" cy="42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736280"/>
            <a:ext cx="37926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480" y="3980520"/>
            <a:ext cx="37926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9E095-27CA-4DBB-B8AD-28A46240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8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e9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36280"/>
            <a:ext cx="37926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36280"/>
            <a:ext cx="37926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3980520"/>
            <a:ext cx="77724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DB493-390C-4DBB-9A40-C037A5C9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8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e9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736280"/>
            <a:ext cx="77724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85800" y="3980520"/>
            <a:ext cx="77724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D2FC1-9D24-4E2F-AA1B-10F8925C6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8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e9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736280"/>
            <a:ext cx="37926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736280"/>
            <a:ext cx="37926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3980520"/>
            <a:ext cx="37926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480" y="3980520"/>
            <a:ext cx="37926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63748-394B-4926-83D7-B830FAEEC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8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e9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36280"/>
            <a:ext cx="250236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13800" y="1736280"/>
            <a:ext cx="250236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41440" y="1736280"/>
            <a:ext cx="250236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85800" y="3980520"/>
            <a:ext cx="250236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13800" y="3980520"/>
            <a:ext cx="250236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41440" y="3980520"/>
            <a:ext cx="250236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DAC77-6CE7-4005-9A2B-5D99A2314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8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e9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736280"/>
            <a:ext cx="7772400" cy="42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D12AF-1214-4274-B31A-E21F90095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8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e9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736280"/>
            <a:ext cx="3792600" cy="42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736280"/>
            <a:ext cx="3792600" cy="42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78B8A-102F-41D8-B231-F5DA7F37D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8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e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0D991-6E96-45DD-9BC6-4BAF68430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82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1D99C-6387-4EF9-B1D1-7660B7451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8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e9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36280"/>
            <a:ext cx="37926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36280"/>
            <a:ext cx="3792600" cy="42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80520"/>
            <a:ext cx="37926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E580D-19C5-44F1-A756-A3BFBA2F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8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e9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36280"/>
            <a:ext cx="3792600" cy="42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36280"/>
            <a:ext cx="37926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80520"/>
            <a:ext cx="37926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F1550-B710-4461-8327-07600FF7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e9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36280"/>
            <a:ext cx="37926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736280"/>
            <a:ext cx="37926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80520"/>
            <a:ext cx="7772400" cy="20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0234D-8705-43EA-87A2-2952AC7A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3.xml"/><Relationship Id="rId13" Type="http://schemas.openxmlformats.org/officeDocument/2006/relationships/slideLayout" Target="../slideLayouts/slideLayout14.xml"/><Relationship Id="rId14" Type="http://schemas.openxmlformats.org/officeDocument/2006/relationships/slideLayout" Target="../slideLayouts/slideLayout15.xml"/><Relationship Id="rId15" Type="http://schemas.openxmlformats.org/officeDocument/2006/relationships/slideLayout" Target="../slideLayouts/slideLayout16.xml"/><Relationship Id="rId16" Type="http://schemas.openxmlformats.org/officeDocument/2006/relationships/slideLayout" Target="../slideLayouts/slideLayout17.xml"/><Relationship Id="rId17" Type="http://schemas.openxmlformats.org/officeDocument/2006/relationships/slideLayout" Target="../slideLayouts/slideLayout18.xml"/><Relationship Id="rId18" Type="http://schemas.openxmlformats.org/officeDocument/2006/relationships/slideLayout" Target="../slideLayouts/slideLayout19.xml"/><Relationship Id="rId19" Type="http://schemas.openxmlformats.org/officeDocument/2006/relationships/slideLayout" Target="../slideLayouts/slideLayout20.xml"/><Relationship Id="rId20" Type="http://schemas.openxmlformats.org/officeDocument/2006/relationships/slideLayout" Target="../slideLayouts/slideLayout21.xml"/><Relationship Id="rId21" Type="http://schemas.openxmlformats.org/officeDocument/2006/relationships/slideLayout" Target="../slideLayouts/slideLayout22.xml"/><Relationship Id="rId22" Type="http://schemas.openxmlformats.org/officeDocument/2006/relationships/slideLayout" Target="../slideLayouts/slideLayout23.xml"/><Relationship Id="rId2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583320"/>
            <a:ext cx="6800760" cy="2746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2612880" y="0"/>
            <a:ext cx="6553440" cy="357012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0" y="6583320"/>
            <a:ext cx="6800760" cy="274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685800" y="6579720"/>
            <a:ext cx="19051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575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75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2"/>
          </p:nvPr>
        </p:nvSpPr>
        <p:spPr>
          <a:xfrm>
            <a:off x="6553080" y="6579720"/>
            <a:ext cx="19051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575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0BCB9-BED8-4B87-B0BC-A8886C9F431A}" type="slidenum">
              <a:rPr b="0" lang="en-US" sz="1400" spc="-1" strike="noStrike">
                <a:solidFill>
                  <a:srgbClr val="57575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3"/>
          </p:nvPr>
        </p:nvSpPr>
        <p:spPr>
          <a:xfrm>
            <a:off x="3124080" y="657972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575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75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094360" y="282600"/>
            <a:ext cx="4038480" cy="2917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75757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685800" y="18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5e9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d5e9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685800" y="1736280"/>
            <a:ext cx="7772400" cy="42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09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5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0090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5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009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5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0090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5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0090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5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7575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5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7575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5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6583320"/>
            <a:ext cx="6800760" cy="2746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14360" y="0"/>
            <a:ext cx="8729640" cy="4756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414360" y="0"/>
            <a:ext cx="8729640" cy="4756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0" y="1440"/>
            <a:ext cx="4251240" cy="536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0" y="6583320"/>
            <a:ext cx="6800760" cy="274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152280" y="458640"/>
            <a:ext cx="4251600" cy="1936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5e9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d5e96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5452920" y="438120"/>
            <a:ext cx="2021040" cy="2271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0" y="1440"/>
            <a:ext cx="4251240" cy="5367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0"/>
          <a:stretch/>
        </p:blipFill>
        <p:spPr>
          <a:xfrm>
            <a:off x="152280" y="458640"/>
            <a:ext cx="4251600" cy="193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1"/>
          <a:stretch/>
        </p:blipFill>
        <p:spPr>
          <a:xfrm>
            <a:off x="5452920" y="438120"/>
            <a:ext cx="2021040" cy="2271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85800" y="6579720"/>
            <a:ext cx="19051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575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75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3124080" y="657972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575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75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6553080" y="6579720"/>
            <a:ext cx="19051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575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DA04B-4D1D-4866-979E-9A52205D06CA}" type="slidenum">
              <a:rPr b="0" lang="en-US" sz="1400" spc="-1" strike="noStrike">
                <a:solidFill>
                  <a:srgbClr val="57575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5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75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7575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0090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75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7575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700904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575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7575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700904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575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7575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57575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575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7575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57575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575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7575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2"/>
    <p:sldLayoutId id="2147483663" r:id="rId13"/>
    <p:sldLayoutId id="2147483664" r:id="rId14"/>
    <p:sldLayoutId id="2147483665" r:id="rId15"/>
    <p:sldLayoutId id="2147483666" r:id="rId16"/>
    <p:sldLayoutId id="2147483667" r:id="rId17"/>
    <p:sldLayoutId id="2147483668" r:id="rId18"/>
    <p:sldLayoutId id="2147483669" r:id="rId19"/>
    <p:sldLayoutId id="2147483670" r:id="rId20"/>
    <p:sldLayoutId id="2147483671" r:id="rId21"/>
    <p:sldLayoutId id="2147483672" r:id="rId22"/>
    <p:sldLayoutId id="2147483673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oreykeith.com/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5e96"/>
                </a:solidFill>
                <a:latin typeface="Arial"/>
              </a:rPr>
              <a:t>METS Creation</a:t>
            </a:r>
            <a:br>
              <a:rPr sz="4400"/>
            </a:br>
            <a:r>
              <a:rPr b="0" lang="en-US" sz="2000" spc="-1" strike="noStrike">
                <a:solidFill>
                  <a:srgbClr val="4d5e96"/>
                </a:solidFill>
                <a:latin typeface="Arial"/>
              </a:rPr>
              <a:t>in a production environment</a:t>
            </a:r>
            <a:endParaRPr b="0" lang="en-US" sz="2000" spc="-1" strike="noStrike">
              <a:solidFill>
                <a:srgbClr val="4d5e9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730080" y="4343040"/>
            <a:ext cx="7678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757"/>
                </a:solidFill>
                <a:latin typeface="Arial"/>
              </a:rPr>
              <a:t>METS Opening Day</a:t>
            </a:r>
            <a:endParaRPr b="0" lang="en-US" sz="2400" spc="-1" strike="noStrike">
              <a:solidFill>
                <a:srgbClr val="575757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Corey Keith</a:t>
            </a:r>
            <a:endParaRPr b="0" lang="en-US" sz="2400" spc="-1" strike="noStrike">
              <a:solidFill>
                <a:srgbClr val="575757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757"/>
                </a:solidFill>
                <a:latin typeface="Arial"/>
              </a:rPr>
              <a:t>ckeith@loc.gov</a:t>
            </a:r>
            <a:endParaRPr b="0" lang="en-US" sz="2400" spc="-1" strike="noStrike">
              <a:solidFill>
                <a:srgbClr val="575757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8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5e96"/>
                </a:solidFill>
                <a:latin typeface="Arial"/>
              </a:rPr>
              <a:t>Pros</a:t>
            </a:r>
            <a:endParaRPr b="0" lang="en-US" sz="4400" spc="-1" strike="noStrike">
              <a:solidFill>
                <a:srgbClr val="4d5e9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736280"/>
            <a:ext cx="7772400" cy="42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09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57"/>
                </a:solidFill>
                <a:latin typeface="Arial"/>
              </a:rPr>
              <a:t>Multiple interfaces to back end DB</a:t>
            </a: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09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57"/>
                </a:solidFill>
                <a:latin typeface="Arial"/>
              </a:rPr>
              <a:t>Centralized DB &amp; Application Code</a:t>
            </a: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09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57"/>
                </a:solidFill>
                <a:latin typeface="Arial"/>
              </a:rPr>
              <a:t>Better support for MODS</a:t>
            </a: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09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57"/>
                </a:solidFill>
                <a:latin typeface="Arial"/>
              </a:rPr>
              <a:t>Controlled</a:t>
            </a: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09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57"/>
                </a:solidFill>
                <a:latin typeface="Arial"/>
              </a:rPr>
              <a:t>Instant feedback XML generation on the fly</a:t>
            </a: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09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57"/>
                </a:solidFill>
                <a:latin typeface="Arial"/>
              </a:rPr>
              <a:t>Profile Validation</a:t>
            </a: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8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5e96"/>
                </a:solidFill>
                <a:latin typeface="Arial"/>
              </a:rPr>
              <a:t>Cons</a:t>
            </a:r>
            <a:endParaRPr b="0" lang="en-US" sz="4400" spc="-1" strike="noStrike">
              <a:solidFill>
                <a:srgbClr val="4d5e9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736280"/>
            <a:ext cx="7772400" cy="42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09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57"/>
                </a:solidFill>
                <a:latin typeface="Arial"/>
              </a:rPr>
              <a:t>Still using Access for front end</a:t>
            </a: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090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757"/>
                </a:solidFill>
                <a:latin typeface="Arial"/>
              </a:rPr>
              <a:t>Efficient data entry from web based forms?</a:t>
            </a:r>
            <a:endParaRPr b="0" lang="en-US" sz="2800" spc="-1" strike="noStrike">
              <a:solidFill>
                <a:srgbClr val="5757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8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5e96"/>
                </a:solidFill>
                <a:latin typeface="Arial"/>
              </a:rPr>
              <a:t>What you need to take away from this presentation</a:t>
            </a:r>
            <a:endParaRPr b="0" lang="en-US" sz="4400" spc="-1" strike="noStrike">
              <a:solidFill>
                <a:srgbClr val="4d5e9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736280"/>
            <a:ext cx="7772400" cy="42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09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57"/>
                </a:solidFill>
                <a:latin typeface="Arial"/>
              </a:rPr>
              <a:t>Avoid developing your own METS editor</a:t>
            </a: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09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57"/>
                </a:solidFill>
                <a:latin typeface="Arial"/>
              </a:rPr>
              <a:t>Use your best hammer for the job</a:t>
            </a: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090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757"/>
                </a:solidFill>
                <a:latin typeface="Arial"/>
              </a:rPr>
              <a:t>Perl, Java, XSLT</a:t>
            </a:r>
            <a:endParaRPr b="0" lang="en-US" sz="2800" spc="-1" strike="noStrike">
              <a:solidFill>
                <a:srgbClr val="57575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09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57"/>
                </a:solidFill>
                <a:latin typeface="Arial"/>
              </a:rPr>
              <a:t>Tradeoffs between expressing features of METS and usability</a:t>
            </a: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09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57"/>
                </a:solidFill>
                <a:latin typeface="Arial"/>
              </a:rPr>
              <a:t>Specialized tools appropriate for the complexity of the profile</a:t>
            </a: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5e96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4d5e9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736280"/>
            <a:ext cx="7772400" cy="42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09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57"/>
                </a:solidFill>
                <a:latin typeface="Arial"/>
              </a:rPr>
              <a:t>Evolution of Tools</a:t>
            </a: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09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57"/>
                </a:solidFill>
                <a:latin typeface="Arial"/>
              </a:rPr>
              <a:t>Demo</a:t>
            </a: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8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5e96"/>
                </a:solidFill>
                <a:latin typeface="Arial"/>
              </a:rPr>
              <a:t>Carl’s Talk</a:t>
            </a:r>
            <a:endParaRPr b="0" lang="en-US" sz="4400" spc="-1" strike="noStrike">
              <a:solidFill>
                <a:srgbClr val="4d5e9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736280"/>
            <a:ext cx="7772400" cy="42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09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57"/>
                </a:solidFill>
                <a:latin typeface="Arial"/>
              </a:rPr>
              <a:t>METS Editor</a:t>
            </a: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090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757"/>
                </a:solidFill>
                <a:latin typeface="Arial"/>
              </a:rPr>
              <a:t>Pros</a:t>
            </a:r>
            <a:endParaRPr b="0" lang="en-US" sz="2800" spc="-1" strike="noStrike">
              <a:solidFill>
                <a:srgbClr val="575757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0090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757"/>
                </a:solidFill>
                <a:latin typeface="Arial"/>
              </a:rPr>
              <a:t>Create and edit all METS</a:t>
            </a:r>
            <a:endParaRPr b="0" lang="en-US" sz="2400" spc="-1" strike="noStrike">
              <a:solidFill>
                <a:srgbClr val="57575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090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757"/>
                </a:solidFill>
                <a:latin typeface="Arial"/>
              </a:rPr>
              <a:t>Cons</a:t>
            </a:r>
            <a:endParaRPr b="0" lang="en-US" sz="2800" spc="-1" strike="noStrike">
              <a:solidFill>
                <a:srgbClr val="575757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0090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757"/>
                </a:solidFill>
                <a:latin typeface="Arial"/>
              </a:rPr>
              <a:t>Too much METS knowledge needed for production staff</a:t>
            </a:r>
            <a:endParaRPr b="0" lang="en-US" sz="2400" spc="-1" strike="noStrike">
              <a:solidFill>
                <a:srgbClr val="575757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0090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757"/>
                </a:solidFill>
                <a:latin typeface="Arial"/>
              </a:rPr>
              <a:t>Too slow for volume production</a:t>
            </a:r>
            <a:endParaRPr b="0" lang="en-US" sz="2400" spc="-1" strike="noStrike">
              <a:solidFill>
                <a:srgbClr val="5757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8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5e96"/>
                </a:solidFill>
                <a:latin typeface="Arial"/>
              </a:rPr>
              <a:t>Just Enough Approach</a:t>
            </a:r>
            <a:endParaRPr b="0" lang="en-US" sz="4400" spc="-1" strike="noStrike">
              <a:solidFill>
                <a:srgbClr val="4d5e9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736280"/>
            <a:ext cx="7772400" cy="42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09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57"/>
                </a:solidFill>
                <a:latin typeface="Arial"/>
              </a:rPr>
              <a:t>Appropriate tools product appropriate metadata</a:t>
            </a: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090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757"/>
                </a:solidFill>
                <a:latin typeface="Arial"/>
              </a:rPr>
              <a:t>Extract Technical</a:t>
            </a:r>
            <a:endParaRPr b="0" lang="en-US" sz="2800" spc="-1" strike="noStrike">
              <a:solidFill>
                <a:srgbClr val="5757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8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5e96"/>
                </a:solidFill>
                <a:latin typeface="Arial"/>
              </a:rPr>
              <a:t>Version 1.0</a:t>
            </a:r>
            <a:endParaRPr b="0" lang="en-US" sz="4400" spc="-1" strike="noStrike">
              <a:solidFill>
                <a:srgbClr val="4d5e9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36280"/>
            <a:ext cx="7772400" cy="42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09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57"/>
                </a:solidFill>
                <a:latin typeface="Arial"/>
              </a:rPr>
              <a:t>Access DB -&gt; XML via XML Spy</a:t>
            </a: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09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57"/>
                </a:solidFill>
                <a:latin typeface="Arial"/>
              </a:rPr>
              <a:t>Filesystem directory structure -&gt; XML via Perl Script</a:t>
            </a: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09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57"/>
                </a:solidFill>
                <a:latin typeface="Arial"/>
              </a:rPr>
              <a:t>XSLT builds METS object</a:t>
            </a: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70090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757"/>
                </a:solidFill>
                <a:latin typeface="Arial"/>
              </a:rPr>
              <a:t>PROFILE + Filenaming Conventions = Structmap</a:t>
            </a:r>
            <a:endParaRPr b="0" lang="en-US" sz="2800" spc="-1" strike="noStrike">
              <a:solidFill>
                <a:srgbClr val="57575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09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57"/>
                </a:solidFill>
                <a:latin typeface="Arial"/>
              </a:rPr>
              <a:t>Extract technical metadata from files</a:t>
            </a: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09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57"/>
                </a:solidFill>
                <a:latin typeface="Arial"/>
              </a:rPr>
              <a:t>Descriptive from DB</a:t>
            </a: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8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5e96"/>
                </a:solidFill>
                <a:latin typeface="Arial"/>
              </a:rPr>
              <a:t>Pros</a:t>
            </a:r>
            <a:endParaRPr b="0" lang="en-US" sz="4400" spc="-1" strike="noStrike">
              <a:solidFill>
                <a:srgbClr val="4d5e9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736280"/>
            <a:ext cx="7772400" cy="42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09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57"/>
                </a:solidFill>
                <a:latin typeface="Arial"/>
              </a:rPr>
              <a:t>Production staff understood the database</a:t>
            </a: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09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57"/>
                </a:solidFill>
                <a:latin typeface="Arial"/>
              </a:rPr>
              <a:t>Higher Throughput </a:t>
            </a: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09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57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575757"/>
                </a:solidFill>
                <a:latin typeface="Arial"/>
              </a:rPr>
              <a:t>METS Creation” and profiles controlled by generation</a:t>
            </a: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8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5e96"/>
                </a:solidFill>
                <a:latin typeface="Arial"/>
              </a:rPr>
              <a:t>Cons</a:t>
            </a:r>
            <a:endParaRPr b="0" lang="en-US" sz="4400" spc="-1" strike="noStrike">
              <a:solidFill>
                <a:srgbClr val="4d5e9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736280"/>
            <a:ext cx="7772400" cy="42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09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57"/>
                </a:solidFill>
                <a:latin typeface="Arial"/>
              </a:rPr>
              <a:t>DB wasn’t normalized</a:t>
            </a: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09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57"/>
                </a:solidFill>
                <a:latin typeface="Arial"/>
              </a:rPr>
              <a:t>Multiple copies of DB </a:t>
            </a: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09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57"/>
                </a:solidFill>
                <a:latin typeface="Arial"/>
              </a:rPr>
              <a:t>Little constraints on DB data</a:t>
            </a: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09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57"/>
                </a:solidFill>
                <a:latin typeface="Arial"/>
              </a:rPr>
              <a:t>Scalability</a:t>
            </a: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09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57"/>
                </a:solidFill>
                <a:latin typeface="Arial"/>
              </a:rPr>
              <a:t>Weak descriptive metadata</a:t>
            </a: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8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5e96"/>
                </a:solidFill>
                <a:latin typeface="Arial"/>
              </a:rPr>
              <a:t>Version 2.0</a:t>
            </a:r>
            <a:endParaRPr b="0" lang="en-US" sz="4400" spc="-1" strike="noStrike">
              <a:solidFill>
                <a:srgbClr val="4d5e9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36280"/>
            <a:ext cx="7772400" cy="42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09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57"/>
                </a:solidFill>
                <a:latin typeface="Arial"/>
              </a:rPr>
              <a:t>MYSQL DB</a:t>
            </a: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09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57"/>
                </a:solidFill>
                <a:latin typeface="Arial"/>
              </a:rPr>
              <a:t>MS Access Frontend</a:t>
            </a: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09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57"/>
                </a:solidFill>
                <a:latin typeface="Arial"/>
              </a:rPr>
              <a:t>Apache/Tomcat</a:t>
            </a: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09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57"/>
                </a:solidFill>
                <a:latin typeface="Arial"/>
              </a:rPr>
              <a:t>Cocoon</a:t>
            </a: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09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57"/>
                </a:solidFill>
                <a:latin typeface="Arial"/>
              </a:rPr>
              <a:t>XML/XSLT</a:t>
            </a: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57680" y="3149640"/>
            <a:ext cx="9144000" cy="360"/>
          </a:xfrm>
          <a:prstGeom prst="rect">
            <a:avLst/>
          </a:prstGeom>
          <a:solidFill>
            <a:srgbClr val="f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575757"/>
              </a:solidFill>
              <a:latin typeface="Times New Roman"/>
            </a:endParaRPr>
          </a:p>
        </p:txBody>
      </p:sp>
      <p:pic>
        <p:nvPicPr>
          <p:cNvPr id="120" name="" descr="Cocoon"/>
          <p:cNvPicPr/>
          <p:nvPr/>
        </p:nvPicPr>
        <p:blipFill>
          <a:blip r:embed="rId1"/>
          <a:stretch/>
        </p:blipFill>
        <p:spPr>
          <a:xfrm>
            <a:off x="4419720" y="3200400"/>
            <a:ext cx="3429000" cy="5605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400800" y="1447920"/>
            <a:ext cx="2536920" cy="21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8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5e96"/>
                </a:solidFill>
                <a:latin typeface="Arial"/>
              </a:rPr>
              <a:t>Demo</a:t>
            </a:r>
            <a:endParaRPr b="0" lang="en-US" sz="4400" spc="-1" strike="noStrike">
              <a:solidFill>
                <a:srgbClr val="4d5e9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736280"/>
            <a:ext cx="7772400" cy="42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4:06:19Z</dcterms:created>
  <dc:creator>ckeith</dc:creator>
  <dc:description/>
  <dc:language>en-US</dc:language>
  <cp:lastModifiedBy>Corey Keith</cp:lastModifiedBy>
  <dcterms:modified xsi:type="dcterms:W3CDTF">2005-12-12T17:29:05Z</dcterms:modified>
  <cp:revision>42</cp:revision>
  <dc:subject/>
  <dc:title>METS</dc:title>
</cp:coreProperties>
</file>