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EFCD-5A15-4D3A-A374-7D4BABD8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07F-CA9C-456A-B026-917E19AB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7EF-4C5E-460D-A248-3D00DC5D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7BB-C167-4AC4-9912-95E9553A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DEFD-9570-4629-B336-D8DAF187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B9AE-F719-4E93-99CF-3B771E89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8E0E-296A-4729-8DF5-35B89B41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2CD8-D382-42E2-ABC9-75092462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F6D7-0C15-4ED3-9FDA-797604FF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EAF7-5E8C-4CB7-936E-970D8A99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BB17-CC09-46C8-9F48-543BC4EE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1ED-261F-4D89-992B-B8208BDA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075C-6E98-4F74-BA4F-9EBD2F4B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B7B4-4EB1-461F-97B7-3861688F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DD27-FB72-4706-9B8E-0278EA98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D73D-C60C-42F7-9886-808AF9BA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3D3A-2EF5-4DC4-8184-990CED4E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53D-942B-4BE9-8667-B7A00092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A96-263D-4E54-85A1-7E277ACB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A8C-8D72-4A5A-980E-C191E85E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9D1-8AB8-4E10-952D-7B6A5E68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4AD-841D-40CC-9594-4A01F4C0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F92-188F-47C1-9E9F-E7F3C3B1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C1F-49F9-4A20-9448-0B060D1D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186D-F77E-4DD4-BBD0-D922BB7C7C04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3124-FEC3-4B7E-972A-6B091AB5454F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hyperlink" Target="http://images.google.com/imgres?imgurl=siri.uvm.edu/graphics/Emergencies/Emergency_shower_2.gif&amp;imgrefurl=http://siri.uvm.edu/graphics/Emergencies/&amp;h=826&amp;w=744&amp;prev=/images%3Fq%3Demergency%2Bshower%26svnum%3D10%26hl%3Den%26lr%3D%26ie%3DUTF-8" TargetMode="External"/><Relationship Id="rId7" Type="http://schemas.openxmlformats.org/officeDocument/2006/relationships/image" Target="../media/image20.png"/><Relationship Id="rId8" Type="http://schemas.openxmlformats.org/officeDocument/2006/relationships/hyperlink" Target="http://images.google.com/imgres?imgurl=www.njredcross.org/index3.gif&amp;imgrefurl=http://www.njredcross.org/&amp;h=157&amp;w=158&amp;prev=/images%3Fq%3Dred%2Bcross%26start%3D20%26svnum%3D10%26hl%3Den%26lr%3D%26ie%3DUTF-8%26sa%3DN" TargetMode="External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Annual Refresher Training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8120" y="1752480"/>
            <a:ext cx="354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Emergency Respons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45291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hemical Spil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 colleague has just spilled acid on his clothe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lood exposed area with running water from faucet or safety shower for at least 5 minut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emove contaminated clothing at onc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Make sure chemical has not accumulated in sho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Obtain medical attention, and report the incident to superviso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05520" y="1752480"/>
            <a:ext cx="3027240" cy="3353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315200" y="4952880"/>
            <a:ext cx="103968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hemical Spil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You dropped 250 mL bottle of ammonium hydroxide on the floor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lert others of the spil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Locate the spill kit in the hallway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Put on the Personal Protective Equipment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Neutralize it with bicarbonat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ollect residue into plastic bag, secure it, and label it a hazardous waste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4952880" y="2438280"/>
            <a:ext cx="3581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Radiation Spil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You’ve just spilled radioactive material on your lab coat and ar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emove contaminated clothing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inse exposed area thoroughly with soap and wate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Obtain medical attention if necessary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eport the incident to your superviso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4800600" y="1770120"/>
            <a:ext cx="2133720" cy="1658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5791320" y="3657600"/>
            <a:ext cx="2735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lectrical Outag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f working with chemicals under the fume hood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ap the containe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lose the hood sash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ontact person directing work in the laboratory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Exit building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Meet at designated evacuation spot – parking lot behind the facility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3627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curity Threa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62520" y="1905120"/>
            <a:ext cx="4495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dentification cards must be worn at all times and visible to all personnel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f you observe someone committing a crime, DO NOT attempt to apprehend or detain the suspect. Try to memorize the physical appearance of the suspect and call 5-111 (Cornell police) or 911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295280" y="2133720"/>
            <a:ext cx="228600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curity threats, cont.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6248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Non-emergency situations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all Cornell campus police at 5-1111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all Bill Shaben at 5-1065 or his cell phone at (607) 280-1506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Emergency situation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all 911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all Bill Shaben at 5-1065 or his cell phone at (607) 280-1506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Our records are good, let’s keep it that way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981080" y="1676520"/>
            <a:ext cx="502920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All Done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ake sure you fill out the quiz, sign it, and drop it off in my mailbox for record keeping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Remember:  This is an annual requirement.            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SEE YOU NEXT YEA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352680" y="1600200"/>
          <a:ext cx="2654280" cy="28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1600200"/>
                    <a:ext cx="26542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133720" y="480060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ontact:  Kathie Moh                   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255-8849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kcm25@cornell.edu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ir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ire is the most potentially devastating emergency in the modern laborator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6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Use the smallest quantities of flammable solvents practicab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6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tore stock quantities in flammable storage cabinet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6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eparate flammable solvents from sources of ignition/ bunsen burn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Alcohol lab bench fire."/>
          <p:cNvPicPr/>
          <p:nvPr/>
        </p:nvPicPr>
        <p:blipFill>
          <a:blip r:embed="rId3"/>
          <a:stretch/>
        </p:blipFill>
        <p:spPr>
          <a:xfrm>
            <a:off x="4572000" y="1676520"/>
            <a:ext cx="2114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othing Fir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A co-worker in your lab has just spilled ethanol.  The spill has burst into flame and his clothing has caught fir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Put out the fire: Drop and roll; roll around on the floor to smother the flam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hill burn with cold wate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ek medical attention, and report the incident to your superviso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257800" y="1905120"/>
          <a:ext cx="3657600" cy="35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1905120"/>
                    <a:ext cx="365760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b Bench Fir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 flammable liquid has just spilled onto the bench and has caught fir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lert people in the laboratory and activate alar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4" name="photo1" descr="bench fire photo"/>
          <p:cNvPicPr/>
          <p:nvPr/>
        </p:nvPicPr>
        <p:blipFill>
          <a:blip r:embed="rId3"/>
          <a:stretch/>
        </p:blipFill>
        <p:spPr>
          <a:xfrm>
            <a:off x="4648320" y="2490840"/>
            <a:ext cx="38098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b Bench Fire, continu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mother fire or use correct fire extinguisher (only those who have been trained can use the extinguisher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r wood, paper, cloth, &amp; trash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r gasoline, grease, oil, paint, and flam. liquids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r live electrical equipment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7" name="" descr="bench fire photo"/>
          <p:cNvPicPr/>
          <p:nvPr/>
        </p:nvPicPr>
        <p:blipFill>
          <a:blip r:embed="rId6"/>
          <a:stretch/>
        </p:blipFill>
        <p:spPr>
          <a:xfrm>
            <a:off x="5195880" y="1905120"/>
            <a:ext cx="2714760" cy="2019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0" y="189072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81480" y="48006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5181480" y="39625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5181480" y="5638680"/>
            <a:ext cx="8384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b Bench Fire, continu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3" name="" descr="bench fire photo"/>
          <p:cNvPicPr/>
          <p:nvPr/>
        </p:nvPicPr>
        <p:blipFill>
          <a:blip r:embed="rId2"/>
          <a:stretch/>
        </p:blipFill>
        <p:spPr>
          <a:xfrm>
            <a:off x="2057400" y="2133720"/>
            <a:ext cx="480060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b Bench Fire, continu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tay on exit side of the fir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eport the incident to your superviso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6" name="photo4" descr="bench fire photo"/>
          <p:cNvPicPr/>
          <p:nvPr/>
        </p:nvPicPr>
        <p:blipFill>
          <a:blip r:embed="rId4"/>
          <a:stretch/>
        </p:blipFill>
        <p:spPr>
          <a:xfrm>
            <a:off x="4648320" y="2490840"/>
            <a:ext cx="38098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ajor Lab Fir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Follow these immediate procedures in case of major lab fire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lert people to evacuate the are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ctivate nearest fire alarm or call for emergency respons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lose lab doors to confine fir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Have person who is knowledgeable about the lab and incident ready to assist emergency personn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9" name="" descr="Burning solvent bottle"/>
          <p:cNvPicPr/>
          <p:nvPr/>
        </p:nvPicPr>
        <p:blipFill>
          <a:blip r:embed="rId6"/>
          <a:stretch/>
        </p:blipFill>
        <p:spPr>
          <a:xfrm>
            <a:off x="5261040" y="1905120"/>
            <a:ext cx="2584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ye Splash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Working quickly, you flicked open an Eppendorf tube and several droplets of phenol hit your ey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mmediately rinse eyeball and inner surface for 15 minut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rcibly hold eye open to insure effective wash behind eyelid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Obtain medical attentio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eport the incident to your superviso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867280" y="3809880"/>
            <a:ext cx="2286000" cy="2514600"/>
            <a:chOff x="5867280" y="3809880"/>
            <a:chExt cx="2286000" cy="2514600"/>
          </a:xfrm>
        </p:grpSpPr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5867280" y="3809880"/>
              <a:ext cx="22860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 txBox="1"/>
            <p:nvPr/>
          </p:nvSpPr>
          <p:spPr>
            <a:xfrm>
              <a:off x="5867280" y="3809880"/>
              <a:ext cx="228600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5410080" y="1676520"/>
            <a:ext cx="3048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20:17:05Z</dcterms:created>
  <dc:creator>STEPHEN SCHAEFER</dc:creator>
  <dc:description/>
  <dc:language>en-US</dc:language>
  <cp:lastModifiedBy>KMOH</cp:lastModifiedBy>
  <dcterms:modified xsi:type="dcterms:W3CDTF">2004-10-05T22:33:38Z</dcterms:modified>
  <cp:revision>29</cp:revision>
  <dc:subject/>
  <dc:title>Emergency Procdures</dc:title>
</cp:coreProperties>
</file>