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63104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1600" spc="-1" strike="noStrike">
                <a:solidFill>
                  <a:srgbClr val="ffff00"/>
                </a:solidFill>
                <a:latin typeface="Agfa Rotis Sans Serif ExBd"/>
              </a:rPr>
              <a:t>Click to move the slide</a:t>
            </a:r>
            <a:endParaRPr b="1" lang="en-US" sz="16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jazz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s are happe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IRB meeting tomorrow for 30 minutes exclusively 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and I will be meeting with DS ideally this week as w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y slip to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ly positive feedback from OMB based on 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– only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efforts to date.  Time to roll up sleeves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FEF1-4A67-4868-9BBE-3DE1703F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BA87-2373-47CE-B2A0-568FBAFDD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5FCB-6AE2-45D4-B9FF-A5EE805D3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4C22-D604-4DC3-B0BD-14C92732A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9360" y="630000"/>
            <a:ext cx="7604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BBF9-7760-4D3C-BBF0-BD211FA20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632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3400" y="138600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924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632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3400" y="3997080"/>
            <a:ext cx="277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38FD-9BDB-471E-8DE8-4CAB9BA7E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83B7-28CD-479F-A4E0-608A475B0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8AB2-6530-4AF3-8904-79E9C5C51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9360" y="630000"/>
            <a:ext cx="7604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2ECF-4B71-481B-B61E-E3A9C2C5D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425F-86CA-4227-8D05-A5C3F1700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400" y="399708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36BE-A71A-48C4-91D1-9DBE2FC04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400" y="1386000"/>
            <a:ext cx="421020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9240" y="3997080"/>
            <a:ext cx="8627760" cy="23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52CC-B579-497A-8649-A25D6F30D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18" t="7926" r="0" b="28463"/>
          <a:stretch/>
        </p:blipFill>
        <p:spPr>
          <a:xfrm>
            <a:off x="0" y="0"/>
            <a:ext cx="1474920" cy="120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9240" y="1386000"/>
            <a:ext cx="862776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840" indent="-17784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840" indent="-177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597120" y="6589440"/>
            <a:ext cx="1694160" cy="26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8D5-B095-4A61-9514-C734BA00E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92000" y="0"/>
            <a:ext cx="3859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Agriculture eGovern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760" y="651528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78920" y="6230880"/>
            <a:ext cx="86508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416400"/>
          </a:xfrm>
          <a:prstGeom prst="rect">
            <a:avLst/>
          </a:prstGeom>
          <a:solidFill>
            <a:srgbClr val="005231"/>
          </a:solidFill>
          <a:ln w="9360">
            <a:solidFill>
              <a:srgbClr val="00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4769" r="0" b="26851"/>
          <a:stretch/>
        </p:blipFill>
        <p:spPr>
          <a:xfrm>
            <a:off x="0" y="0"/>
            <a:ext cx="3908520" cy="341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2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gfa Rotis Sans Serif ExBd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Agfa Rotis Sans Serif ExB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3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0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8280" y="3970080"/>
            <a:ext cx="8283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overnment Working Grou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38920" y="600120"/>
            <a:ext cx="1361880" cy="98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2760" y="1878120"/>
            <a:ext cx="3899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.S. Department of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overnm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4240" y="26510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3960" y="32958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F3E1-878F-4E9A-BD91-18A050FCC0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1680" y="1552680"/>
            <a:ext cx="8754840" cy="42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awarded to Unisys and FileNet on May 2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39204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Software, installation and support services, and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environments being installed in St. Louis and KC (30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suite of environments being installed in KC (90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5576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CM template and tool development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7818-4B0A-4FAB-B4F0-8BBB1F87E7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44240" y="26510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3960" y="32958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7480" y="400356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541B-6ADB-486B-8442-B4A472E14C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09880" y="2295360"/>
            <a:ext cx="3335400" cy="268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19240" y="1386000"/>
          <a:ext cx="8626320" cy="49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386000"/>
                    <a:ext cx="8626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2E5F-6708-4F5A-B3DF-3F2BE5A35B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25520"/>
            <a:ext cx="885672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96880" indent="-304920">
              <a:lnSpc>
                <a:spcPct val="90000"/>
              </a:lnSpc>
              <a:spcBef>
                <a:spcPts val="1400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6880" indent="-304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WG Schedule: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ednesday of every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6880" indent="-304920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EGWG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y 26, 200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:00 AM – 12:00PM 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8680" indent="-266400">
              <a:lnSpc>
                <a:spcPct val="55000"/>
              </a:lnSpc>
              <a:spcBef>
                <a:spcPts val="123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2029-A8F2-49F8-A7B7-B218457883B9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906E-16E4-4B26-BD7D-982DA69A15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overnment Tactical Plan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00" y="1512720"/>
            <a:ext cx="85150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lanning, generally, does your Agency 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re your eGovernment Tactical plans connected to or integrated with the aforementioned pl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gency process for updating the tactical and related pl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rocess did your agency use to prioritize eGovernment projects in the tactical p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13E7-9256-40FA-AC5C-19722F85DD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overnment Tactical Plan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44480"/>
            <a:ext cx="83818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think the tactical plan or the creation process can be im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your Agency’s tactical plan align with USDA’s Enterprise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4501"/>
              </a:spcBef>
              <a:buClr>
                <a:srgbClr val="669900"/>
              </a:buClr>
              <a:buFont typeface="Arial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ill your Agency implement the eGovernment Tactical P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1040" indent="-457200">
              <a:lnSpc>
                <a:spcPct val="105000"/>
              </a:lnSpc>
              <a:spcBef>
                <a:spcPts val="255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65CF-1A8D-4485-8B94-DB881C151A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0F83-E93F-42F9-8CF5-EE3D412ED3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eGovernment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8880" y="1671120"/>
            <a:ext cx="4236840" cy="499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2040" indent="-39204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ort consists of three major components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ion of spreadsheets that contain key GPEA, eAuthentication and Information Value Chain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GPEA Compliance Project Plans that describe key milestones of current/planned initiatives to offer electronic option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3760">
              <a:lnSpc>
                <a:spcPct val="80000"/>
              </a:lnSpc>
              <a:spcBef>
                <a:spcPts val="901"/>
              </a:spcBef>
              <a:buClr>
                <a:srgbClr val="6699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/revision of Agency eGovernment Tactical Plans based on spreadsheets, GPEA Compliance Project Plans and other OCIO feedba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2209680"/>
            <a:ext cx="4140000" cy="3641760"/>
            <a:chOff x="4572000" y="2209680"/>
            <a:chExt cx="4140000" cy="3641760"/>
          </a:xfrm>
        </p:grpSpPr>
        <p:sp>
          <p:nvSpPr>
            <p:cNvPr id="109" name=""/>
            <p:cNvSpPr/>
            <p:nvPr/>
          </p:nvSpPr>
          <p:spPr>
            <a:xfrm>
              <a:off x="4572000" y="2230200"/>
              <a:ext cx="181440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. Spreadshe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97600" y="2209680"/>
              <a:ext cx="181440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I. Project Plan Outl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8280" y="4251240"/>
              <a:ext cx="1814760" cy="1600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II. Revised Agency eGovernment Tactical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9640" y="30240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14640" y="3819600"/>
              <a:ext cx="112716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0080" y="3846600"/>
              <a:ext cx="109872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441680" y="1714680"/>
            <a:ext cx="4395960" cy="361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cy Integrated eGovernment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2FB8-3627-40E8-B270-0F821C7AD5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19120" y="1447920"/>
            <a:ext cx="6823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Plan Creation &amp;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Reporting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Conten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&amp;A and 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6840" y="120348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038480"/>
            <a:ext cx="4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6560" y="191124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3960" y="2622600"/>
            <a:ext cx="102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96C8-CD68-4F63-A4E7-0B941D6F53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124000"/>
            <a:ext cx="87552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s will be able to self-register to obtain an eAuthentication credent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data required to validate a user account includes, but is not limit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ecurity Numb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Birt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Grade and St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cessary information can be found on Earnings and Leave Statements and Personnel Action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311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USDA eAuthentication service is expanding its capabilities to include all USDA employees in July 200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9468-742A-4CA9-A077-B43A2F1042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9360" y="630000"/>
            <a:ext cx="7604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uthentication Employee Reg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87720"/>
            <a:ext cx="8755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6480" indent="-407880">
              <a:lnSpc>
                <a:spcPct val="105000"/>
              </a:lnSpc>
              <a:spcBef>
                <a:spcPts val="2126"/>
              </a:spcBef>
              <a:buClr>
                <a:srgbClr val="6699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DA employee credential rollout will be completed along the following sched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5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04  – Roll out Employee Registration process to pilot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277920">
              <a:lnSpc>
                <a:spcPct val="105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004  – Roll out Employee Registration process to all USDA employ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359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obtaining an eAuthentication credential, employees will be able to access numerous Internet-based resources across US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56B-654C-4AFB-AA2D-CE2CF391A6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7:30:30Z</dcterms:created>
  <dc:creator>Martin_W_Rodgers</dc:creator>
  <dc:description>Accenture Sample Presentation v9.1</dc:description>
  <dc:language>en-US</dc:language>
  <cp:lastModifiedBy>Elfije_Salihu</cp:lastModifiedBy>
  <cp:lastPrinted>2000-08-10T20:43:38Z</cp:lastPrinted>
  <dcterms:modified xsi:type="dcterms:W3CDTF">2004-05-12T14:05:20Z</dcterms:modified>
  <cp:revision>9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