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139A-1C4A-4982-80A0-A41A324CC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6148-F536-4CF8-AA62-43F0167A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7220-230D-4709-B75F-E905E8801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E09E-7634-405C-BAE5-52C2F035F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4ED4-55FD-4761-9E1D-821EA95E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BC7F-E621-4526-9CAB-117B2FDF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51A5-6F82-4489-BDCE-E7868AB0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EABF-02D7-461E-9A76-0B26D9D9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699C-87EC-41D7-891F-645E53BE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D70D-68B8-4522-90DF-FC95542B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7AAF-C9ED-40DF-9009-2E39B716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8002-6FEA-414E-8DAA-1CDA66AD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7B28-D472-431F-AC34-B08421013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rgonomic Injuries/illness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Nature of Inju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se Creation Date October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 September 3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79200" y="1143000"/>
          <a:ext cx="866628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" y="1143000"/>
                    <a:ext cx="866628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rgonomic Injuries/illness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Nature of Inju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umulating Cases By Chanrgeback Ye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28600" y="1349280"/>
          <a:ext cx="866628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49280"/>
                    <a:ext cx="866628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rgonomic Injuries/illness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Nature of Injury M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se Creation Date October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 September 3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5800" y="2057400"/>
          <a:ext cx="777240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77724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4191120" y="617220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rgonomic Injuries/illness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Nature of Injury M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hargeback year - Accumulating Pay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rgonomic Injuries/illness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nature of injury M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se Creation Date October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 September 3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2560" y="1476360"/>
          <a:ext cx="8143920" cy="49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476360"/>
                    <a:ext cx="814392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429000" y="6248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4572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rgonomic Injuries/illness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nature of injury M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umulating Cases By Chanrgeback Ye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2560" y="1476360"/>
          <a:ext cx="8143920" cy="49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476360"/>
                    <a:ext cx="814392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429000" y="6248520"/>
            <a:ext cx="1371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rgonomic Injuries/illness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nature of injury MC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ase Creation Date October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 September 3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2560" y="1746360"/>
          <a:ext cx="7778880" cy="46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746360"/>
                    <a:ext cx="777888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886200" y="6172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rgonomic Injuries/illness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nature of injury M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y Chargeback year - Accumulating Pay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2560" y="1793880"/>
          <a:ext cx="7778880" cy="46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793880"/>
                    <a:ext cx="777888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2T19:56:55Z</dcterms:created>
  <dc:creator>vacodennyf</dc:creator>
  <dc:description/>
  <dc:language>en-US</dc:language>
  <cp:lastModifiedBy>Frank Denny</cp:lastModifiedBy>
  <dcterms:modified xsi:type="dcterms:W3CDTF">2003-11-10T13:43:15Z</dcterms:modified>
  <cp:revision>21</cp:revision>
  <dc:subject/>
  <dc:title>FY2001 OWCP for ergo</dc:title>
</cp:coreProperties>
</file>