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7C8-69C3-41F9-84D5-F32C3354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24E-CCCD-48FB-845F-F5448E56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323-7050-4A1E-945D-6017FEC9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D27-531E-4B54-9BEB-DB5B7F41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66C0-1DA9-4A05-B537-E3419C71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320D-A1CA-412C-B405-C407A1E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7311-7BC2-4EE5-B566-A6599BFF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B974-E761-4E63-940D-92A1C6E3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2D2C-EF54-491E-BADA-A58405BA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202A-89EC-4273-A396-C3758E50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66E7-0999-4113-840D-E71E2C0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462-A066-4DF9-98D3-564BD21D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EA3F-91D4-415F-B14A-0C5BE8C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ED8C-7089-4D2C-8F5C-C0096574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09CC-EA09-4F5F-AC05-14BA4C38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D9C0-61A4-4B39-9332-B94691B9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E035-ADBA-4249-9275-657FD60F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9FC-A27E-42A3-86CB-FE31A1C1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651-33D0-44D0-942C-63DABC5C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F9B-0305-4BF1-A000-64C24653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7A5-F03E-4998-8B96-C7C9B44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DB1-C15E-4EE7-BD4E-990138F8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EC0-770F-49ED-A206-69253546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C7C-B40C-4813-BAEE-E3F84617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BC18-91ED-4232-BCA1-BBAB7E8A4F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689D-6429-45FC-A186-EB9D02F4DC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w Temperature Heat Capacity of the Frustrated Pyrochlore Magnets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and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200"/>
            <a:ext cx="72392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ice Dur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fessor L.R. Corrucci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ter Klavi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ty of California, Dav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harp peak at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≈ 0.77 K is consistent with long-range magnetic or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peak is superimposed on the broad maximum centered at about 1 K, the latter indicating short-range or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eak maximum is about 17 J/mol-K, which is within 18% of the mean field prediction for a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der magnetic phase transition for S = 7/2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gnitude of the heat capacity maximum for this material resembles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ore closely than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here the transition is largely first-order with a peak amplitude that is roughly an order of magnitude higher, at ~100 J/mol-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~ 10 (similar to the stannate and titanate pyrochlor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trop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tropy of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pproaches Rln(8)/mol at high temperatu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447920"/>
          <a:ext cx="87631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7631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harp peak is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≈ 0.77 K, which is nearly identical to the hafnate and again consistent with long-range magnetic ord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r results disagree with earlier measurements of the same material by S. Lutique et al., which showed no long-range order pea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fference is probably due to a longer annealing schedule for our sampl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eak amplitude is larger than that of the hafnate, and is superimposed on a broad maximum whose amplitude is lower than in the hafnat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eak maximum is about 24 J/mol-K, which is again close to the mean field prediction for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der magnetic phase transi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heat capacity is qualitatively distinct from both the titanate and the stanna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trop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tropy of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pproaches Rln(8)/mol at high temperatu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surprising result for our heat capacity measurements is that the long-range order peak maximum for the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much larger than that of the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, even though other investigators have associated greater crystalline disorder with the zirconate lat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etveld refinements of both zirconium and hafnium pyrochlores give results consistent with some degree of cation disorder – at least 8% in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ifferences between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likely due to the 1% smaller radius of the H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4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on – G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Z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4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closer in size than G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3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H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4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se materials resemble the titanate and the stannate in the degree of frustration present, but their heat capacities are distin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nature of the ordered ground state for the hafnate and the zirconate remains to be determi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oretically, pyrochlore lattices with isotropic anti-ferromagnetic exchange exhibit no magnetic order as temperature nears 0 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use the isotropic Heisenberg Hamiltonian to model the nearest neighbor interactions for such pyrochl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qu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 far, the closest model systems have been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both pyrochlores order magnetically at about 1/10 of the Curie-Weiss temperature. Even though these materials have identical crystal structures, they have different ground states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systems have been studied extensively by previous grou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yrochlore Lattice Diagr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5867280" cy="481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62920" y="22096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ack dots    = Gadolinium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of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2300" spc="-1" strike="noStrike" baseline="-25000">
                <a:solidFill>
                  <a:srgbClr val="0066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P. Bonville et 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51181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of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Gd</a:t>
            </a:r>
            <a:r>
              <a:rPr b="0" lang="en-US" sz="35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Sn</a:t>
            </a:r>
            <a:r>
              <a:rPr b="0" lang="en-US" sz="35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5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. Bonville et al., J. Phys.: Condens. Matter 15 (2003) 777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1642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 Continu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ong range order peaks in all of these materials implies that we need to take into account further-neighbor and dipole-dipole (potentially important for frustrated systems) interactions for the Hamiltoni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a potentially useful third model system to stud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measuring the heat capacity for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G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e discovered evidence of long-range ordering near 0.75 K in both the hafnium and zirconium pyrochl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gnetic Susceptibility for Gd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and Gd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Zr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678348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Χ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) yields a magnetic moment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7.86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hich is close to the free-ion value of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7.94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31080" y="1827360"/>
          <a:ext cx="17236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1080" y="1827360"/>
                    <a:ext cx="17236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38080" y="914400"/>
          <a:ext cx="7772400" cy="3581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14400"/>
                    <a:ext cx="7772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838080" y="4038480"/>
          <a:ext cx="7543800" cy="2638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038480"/>
                    <a:ext cx="754380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ttice Const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compar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 a = 10.515 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= 10.522 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Curie-Weiss constant: </a:t>
            </a:r>
            <a:r>
              <a:rPr b="0" lang="el-GR" sz="2000" spc="-1" strike="noStrike">
                <a:solidFill>
                  <a:srgbClr val="0066cc"/>
                </a:solidFill>
                <a:latin typeface="Verdana"/>
              </a:rPr>
              <a:t>θ</a:t>
            </a:r>
            <a:r>
              <a:rPr b="0" lang="en-US" sz="2000" spc="-1" strike="noStrike" baseline="-25000">
                <a:solidFill>
                  <a:srgbClr val="0066cc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 ≈ -7 K (for both material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 a = 10.184 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 a = 10.460 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Curie-Weiss constant: </a:t>
            </a:r>
            <a:r>
              <a:rPr b="0" lang="el-GR" sz="2000" spc="-1" strike="noStrike">
                <a:solidFill>
                  <a:srgbClr val="0066cc"/>
                </a:solidFill>
                <a:latin typeface="Verdana"/>
              </a:rPr>
              <a:t>θ</a:t>
            </a:r>
            <a:r>
              <a:rPr b="0" lang="en-US" sz="2000" spc="-1" strike="noStrike" baseline="-25000">
                <a:solidFill>
                  <a:srgbClr val="0066cc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 ≈ -9 K (for both materia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Zr(+4) ion is ~1% bigger than the Hf(+4) ion, which accounts for the slightly larger lattice constant in the zircon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eat Capacity for Gd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f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523880"/>
          <a:ext cx="90439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9043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2:13:27Z</dcterms:created>
  <dc:creator>Durand</dc:creator>
  <dc:description/>
  <dc:language>en-US</dc:language>
  <cp:lastModifiedBy>Durand</cp:lastModifiedBy>
  <dcterms:modified xsi:type="dcterms:W3CDTF">2007-10-25T23:20:31Z</dcterms:modified>
  <cp:revision>27</cp:revision>
  <dc:subject/>
  <dc:title>Low Temperature Heat Capacity of the Frustrated Pyrochlore Magnets Gd2Hf2O7 and Gd2Zr2O7 </dc:title>
</cp:coreProperties>
</file>