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E9F-6FAA-452F-BAFC-8544AA83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507-1CDB-4E70-B56A-B17C0543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8FF-A4D1-4DD6-83B8-043C023C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3AE-9E88-4979-BA4B-932EB41E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368-C91A-4065-9C21-E8E84170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ADE-9822-4C46-9E48-9A450411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545-8BB6-4317-8E09-73867322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136-BE17-4673-B76E-63AAA03F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802-D93D-4FAC-BE56-131F901E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8BC-ADAA-4D6D-9357-3B194D91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AC4-5FA4-44FF-B37B-63D1C87B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CBE-FA97-4E76-A996-B8C1E240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2448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. Sheridan  </a:t>
            </a:r>
            <a:fld id="{4A0C37AD-8FE5-4ED2-8615-A980D7157AFF}" type="datetime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40A6-9DD1-47AC-89EF-CDB6A2B05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37520" y="5943600"/>
            <a:ext cx="90648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OS Objectives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ze new and existing instruments for measuring the components of aerosol light extinction, with an emphasis on absor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the uncertainty in the (filter-based) measurements of aerosol light absorption coefficient used by NOAA and A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e methods for determining spectral aerosol absorption from multi-wavelength measurements of absorption and (extinction - scattering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 All experiments done at low RH, primarily external mixtures of black/white aerosols.  Less complicated than atmospheric aerosols, perhaps not representative of th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4FC56-114E-4200-B8BC-C1BE974F2D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reement of Absorption Standards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14400" y="944640"/>
          <a:ext cx="7377120" cy="46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44640"/>
                    <a:ext cx="73771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914400" y="57913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7150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  Data points represent kerosene soot runs with varying amounts of ammonium sulfate.  Extinction data were adjusted to agree with scattering measurements on white aerosols (~5% adjustment to Eadj dat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DFCFC-4B26-47B3-BFD5-54FC87A789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no2002 Light Absorption Comparison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25320" y="932040"/>
          <a:ext cx="8274240" cy="463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932040"/>
                    <a:ext cx="82742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57200" y="571500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s:  Data points represent all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w-exti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erosene soot runs with varying amounts of ammonium sulfate.  Bond et al. (1999) corrections applied to PSAP data.  PSAP wavelength adjusted to 532 nm assuming a l-1 depend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5E798-C5A3-4835-8114-2C2101A2AA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 of Results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eement of standard methods for absorption is ±5% at b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AP agrees with standard methods within about ±5% for typical atmospheric absorption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ter transmission methods (PSAP, aethalometer) require improved corrections for multiple scattering eff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vity ringdown extinction cells appear to be biased low by 10-15% (relative to classic extinction and scat+ab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results are appropriate for low RH conditions (&lt;20%), externally mixed black/white aeros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BB52D-0861-41B6-B7F9-8B09D9ACD7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inuing analyses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results from kerosene soot with results from diesel soot and carbon vane pump exhau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run-averaged results to time-series data (1-minute averag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e wavelength-dependence of absorption, to allow application of extinction-minus-scattering calibrations to other wavel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e correction schemes for filter-based methods (PSAP and aethalometer) at all measured wavel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igate reasons for the lower CRD exti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results from ambient aerosol s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DAD5D-078B-4BC5-8AF9-F1EC7A986D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3T21:24:08Z</dcterms:created>
  <dc:creator>John A. Ogren</dc:creator>
  <dc:description/>
  <dc:language>en-US</dc:language>
  <cp:lastModifiedBy>sheridan</cp:lastModifiedBy>
  <cp:lastPrinted>2002-06-23T00:07:21Z</cp:lastPrinted>
  <dcterms:modified xsi:type="dcterms:W3CDTF">2002-12-12T17:05:29Z</dcterms:modified>
  <cp:revision>114</cp:revision>
  <dc:subject/>
  <dc:title>No Slide Title</dc:title>
</cp:coreProperties>
</file>