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1B2-101F-49FD-B0F9-258AD7E2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7D8-7667-4D80-8D18-5507394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521-A385-444F-BAA8-08FCD7C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CE3-6D55-4969-8824-0D17F781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974-7D1B-4354-B605-5E171DA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160-1F01-4F9F-B958-6081E16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4ED-FB1D-47C8-9597-31903002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5F4-933E-43C0-858B-2D3427CF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DFA-FD92-4C7E-AB5D-DD51454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5BA-9D4A-4547-BFD2-11336D4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D21-53A6-4618-A45D-A9FC8FB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C6E-80B2-4B8C-95DC-1043A9D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2448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. Sheridan  </a:t>
            </a:r>
            <a:fld id="{C99EA683-4BEE-4065-B793-908D362DE341}" type="datetime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F323-2440-4172-B336-3CDAD33D0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37520" y="5943600"/>
            <a:ext cx="9064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OS Objective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ze new and existing instruments for measuring aerosol light absorption and exti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fy the uncertainty in the measurements of aerosol light absorption coefficient used by NOAA and 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methods for determining spectral aerosol absorption from multi-wavelength measurements of absorption and (extinction - scattering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 All experiments done at low R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DBF1C-1117-4037-B509-E1E733D24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reement of Absorption Standard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944640"/>
          <a:ext cx="737712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44640"/>
                    <a:ext cx="73771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5791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  Data points represent kerosene soot runs with varying amounts of ammonium sulfate.  Extinction data were adjusted to agree with scattering measurements on white aerosols (~5% adjustment to Eadj da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5F172-57A2-415B-8017-F061ED4DA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no2002 Light Absorption Comparison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7913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 Data points represent al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w-exti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osene soot runs with varying amounts of ammonium sulfate.  Bond et al. (1999) corrections applied to PSAP data.  PSAP wavelength adjusted to 532 nm assuming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pend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984240"/>
            <a:ext cx="75200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16088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36708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573280"/>
            <a:ext cx="752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77804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984240"/>
            <a:ext cx="752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2080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416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27520" y="984240"/>
            <a:ext cx="180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32680" y="984240"/>
            <a:ext cx="144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040" y="984240"/>
            <a:ext cx="1440" cy="3970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984240"/>
            <a:ext cx="7520040" cy="3970440"/>
          </a:xfrm>
          <a:custGeom>
            <a:avLst/>
            <a:gdLst/>
            <a:ahLst/>
            <a:rect l="l" t="t" r="r" b="b"/>
            <a:pathLst>
              <a:path w="880" h="465">
                <a:moveTo>
                  <a:pt x="0" y="0"/>
                </a:moveTo>
                <a:lnTo>
                  <a:pt x="880" y="0"/>
                </a:lnTo>
                <a:lnTo>
                  <a:pt x="880" y="465"/>
                </a:lnTo>
                <a:lnTo>
                  <a:pt x="0" y="465"/>
                </a:lnTo>
                <a:lnTo>
                  <a:pt x="0" y="0"/>
                </a:lnTo>
                <a:lnTo>
                  <a:pt x="0" y="46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7600" y="49546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1608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7600" y="336708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7600" y="257328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7600" y="177804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7600" y="98424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954680"/>
            <a:ext cx="7520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11600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080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2416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627520" y="4954320"/>
            <a:ext cx="180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13268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636040" y="4954320"/>
            <a:ext cx="1440" cy="68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1718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37000" y="36306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1800" y="1914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2040" y="3238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6920" y="150480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6600" y="465624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45529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76400" y="433080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7320" y="39132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79440" y="1565280"/>
            <a:ext cx="5980320" cy="3252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81080" y="2209680"/>
            <a:ext cx="1524240" cy="692280"/>
            <a:chOff x="1981080" y="2209680"/>
            <a:chExt cx="1524240" cy="692280"/>
          </a:xfrm>
        </p:grpSpPr>
        <p:sp>
          <p:nvSpPr>
            <p:cNvPr id="87" name=""/>
            <p:cNvSpPr/>
            <p:nvPr/>
          </p:nvSpPr>
          <p:spPr>
            <a:xfrm>
              <a:off x="1981080" y="2209680"/>
              <a:ext cx="1524240" cy="692280"/>
            </a:xfrm>
            <a:prstGeom prst="rect">
              <a:avLst/>
            </a:prstGeom>
            <a:solidFill>
              <a:srgbClr val="ff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9200" y="2286000"/>
              <a:ext cx="136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1.03x + 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361960" y="2514600"/>
              <a:ext cx="781920" cy="276840"/>
              <a:chOff x="2361960" y="2514600"/>
              <a:chExt cx="781920" cy="276840"/>
            </a:xfrm>
          </p:grpSpPr>
          <p:sp>
            <p:nvSpPr>
              <p:cNvPr id="90" name=""/>
              <p:cNvSpPr/>
              <p:nvPr/>
            </p:nvSpPr>
            <p:spPr>
              <a:xfrm>
                <a:off x="2361960" y="254772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439720" y="2514600"/>
                <a:ext cx="704160" cy="276840"/>
                <a:chOff x="2439720" y="2514600"/>
                <a:chExt cx="704160" cy="2768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439720" y="251460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16760" y="2547720"/>
                  <a:ext cx="627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0.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4" name=""/>
          <p:cNvSpPr/>
          <p:nvPr/>
        </p:nvSpPr>
        <p:spPr>
          <a:xfrm>
            <a:off x="834840" y="4835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4840" y="40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600" y="3246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600" y="2452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600" y="1658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600" y="865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4880" y="5151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8240" y="5151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1292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628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2108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24440" y="5151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23160" y="5475240"/>
            <a:ext cx="14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toacoust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240" y="547524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25400" y="5442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48880" y="5475240"/>
            <a:ext cx="107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532 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48400" y="366624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43440" y="31467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16160" y="29048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5120" y="2267640"/>
            <a:ext cx="107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 532 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DC65-D5DA-4150-BA9E-B51C41ED9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100000">
              <a:srgbClr val="57b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of Result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 of standard methods for absorption is ±5-1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AP agrees with standard methods within about ±5% for typical atmospheric absorption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ter transmission methods (PSAP, aethalometer) require improved corrections for multiple scattering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vity ringdown extinction cells appear to be biased low by 10-2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8AB58-C147-4365-B614-5835EA66F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1:24:08Z</dcterms:created>
  <dc:creator>John A. Ogren</dc:creator>
  <dc:description/>
  <dc:language>en-US</dc:language>
  <cp:lastModifiedBy>sheridan</cp:lastModifiedBy>
  <cp:lastPrinted>2002-06-23T00:07:21Z</cp:lastPrinted>
  <dcterms:modified xsi:type="dcterms:W3CDTF">2002-12-03T20:13:04Z</dcterms:modified>
  <cp:revision>112</cp:revision>
  <dc:subject/>
  <dc:title>No Slide Title</dc:title>
</cp:coreProperties>
</file>