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CBD-FF56-41D8-83B4-EED01CA1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DB2-4802-4E4C-8DB5-5B9E20A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7EF-5589-4695-9AD9-85E92FCC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1DE-EC94-4F02-B711-FD269B38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AA6-044E-44BC-B3E7-A8533D3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559-7A62-4B18-A9C2-DC23BAE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4FD-A46D-4A50-8ACB-571A8ADD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E47-7980-4D60-A77C-C2A30BBC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58B-DF0E-4D07-BF1E-2F119D7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6B9-5838-427F-BB88-1AE9786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5DC-42A4-42FA-9C2E-6F043BC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892-FA13-4ABC-A21F-FBC1C7A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0D6B-4F70-45FD-B88A-C4D8BF01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ather.gov/mdl/synop/gmos/landwater.html" TargetMode="External"/><Relationship Id="rId3" Type="http://schemas.openxmlformats.org/officeDocument/2006/relationships/hyperlink" Target="http://www.weather.gov/geodata" TargetMode="External"/><Relationship Id="rId4" Type="http://schemas.openxmlformats.org/officeDocument/2006/relationships/hyperlink" Target="mailto:Kari.sheets@noaa.go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eation of Gridded MOS Land Water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Modeling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eorological Development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 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Water Mask Shape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1629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Water Mask Shape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gon Shapefile converted to Rast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ster cell given value of polygon directly under the CENTER of the grid cel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was made by assigning polygon value to NDF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id values were extracted to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Land Water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1325520"/>
            <a:ext cx="71629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 Land Water Mask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Forecaster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62720" y="4091040"/>
            <a:ext cx="3581280" cy="27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350532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3657600" cy="28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486400" y="1365120"/>
            <a:ext cx="3657600" cy="282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3124080"/>
            <a:ext cx="2514600" cy="194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666880" y="1523880"/>
            <a:ext cx="857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ML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14600" y="64008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077320" y="36576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OK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77320" y="6400800"/>
            <a:ext cx="857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00600" y="4648320"/>
            <a:ext cx="8571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GY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fference in Current GMOS and New Land Water - KGY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erature F24 November 4, 2007 12Z Cycl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osed Land Wa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19320" y="1306440"/>
            <a:ext cx="7086600" cy="547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629400" cy="37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2720" y="624852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ps are available on web site as *.pdf files with zoom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086600" cy="5475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erature F24 November 4, 2007 12Z Cycl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rational Land Wa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629400" cy="37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22720" y="624852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ps are available on web site as *.pdf files with zoom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676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Resources and Contact Inform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 Based Land Water Mask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WIPS Map Databas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shapefi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RI’s ArcInfo 9.2 was used to create the land water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Fur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ari Sheets, SMB GIS team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1-713-0023 ext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ari.sheets@noa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GMOS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arse U.S. shapefile  from ESRI media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ual editing tailored to analys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astline was adjusted to match statio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id point location not considered 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Regenerating Land Water Ma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land water mask for GMOS and verif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or Gridded MOS verifications in coastal areas when compared to ND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MOS users expressed concern along the east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rrier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rbor and Bay sizes not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GMOS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147680"/>
            <a:ext cx="73911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WIPS High Resolution Shape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ine Zones only consider US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xico &amp; Cuba no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ludes all US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ps between US and Canada where water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WIPS High Resolution Shape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dified AWIPS High Resolution Shapefiles for G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IPS States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moved Lake Okeechobee due to lack of MOS station guidance in the 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Mexico AWIPS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ed ESRI Media States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ew polygon to “fill in” holes left due to differing resolution with AWIPS stat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l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WIPS Lak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elected Great Lakes, Great Salt Lake, &amp; Lake St. C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WIPS Canadian Province Shape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oarse than AWIPS states shap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ew polygon to “fill in” holes left due to differing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c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Ocean Shapefiles ex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ed a rectangular polygon bigger than the coverage area and erased all of the aforementioned shapefiles, so the remaining area becam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oving Lake Okeechob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001000" cy="45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ake care to delete entire sketch, so no residual evidence of the lake is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apefile Edits for Land Water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gons were dissolved to eliminate holes and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land water, Ocean, and Land shapefiles were merged to form a single shape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ibute field indicates land 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cea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land Water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nd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18:11Z</dcterms:created>
  <dc:creator>SheetsKL</dc:creator>
  <dc:description/>
  <dc:language>en-US</dc:language>
  <cp:lastModifiedBy>Rebecca Cosgrove</cp:lastModifiedBy>
  <dcterms:modified xsi:type="dcterms:W3CDTF">2007-11-13T21:59:51Z</dcterms:modified>
  <cp:revision>22</cp:revision>
  <dc:subject/>
  <dc:title>Creation of Gridded MOS Land Water Mask</dc:title>
</cp:coreProperties>
</file>