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2045-924D-4F68-B74C-D9A25BF9A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5920-C54F-429C-8DE1-50827DFE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0C74-38F6-48F0-A340-41B40259C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03A6-0ADF-4058-9AF6-04CDED46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6C28-9E37-48D3-AF85-37454212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0A9B-2274-4C7B-9020-00ECC83F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D354-65BE-47E1-93A8-D2DDA36C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40E6-8001-4B4B-A043-78EB96CB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241F-1212-4B20-AB11-6A8786D7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9BAD-368A-4814-90E9-1F191C09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01F1-23D4-409C-ABF1-84243C53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A9CF-6883-4399-9D47-BC90343D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8E6C-03BD-4E58-8384-99CB2BAF3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reation of a Composite Solar Ultraviolet Irradiance Data Set</a:t>
            </a:r>
            <a:br>
              <a:rPr sz="40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tthew T. DeLand and Richard P. Cebula</a:t>
            </a:r>
            <a:br>
              <a:rPr sz="4000"/>
            </a:br>
            <a:r>
              <a:rPr b="0" i="1" lang="en-US" sz="2800" spc="-1" strike="noStrike">
                <a:solidFill>
                  <a:srgbClr val="00cc00"/>
                </a:solidFill>
                <a:latin typeface="Arial"/>
              </a:rPr>
              <a:t>Science Systems and Applications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213372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ar UV irradiance measurements from satellite instruments extend from 1978 to the present using overlapping data s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data sets have wavelength-dependent and time-dependent differences that prevent easy merg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487692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520" y="7621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 absolute differences between instruments using recently created reference spectrum [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uillier et al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004]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spectral and temporal differences during overlap periods based on knowledge of instrument perform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composite irradiance data set of daily spectra for general us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.g. atmospheric model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8717" t="6732" r="8490" b="9084"/>
          <a:stretch/>
        </p:blipFill>
        <p:spPr>
          <a:xfrm>
            <a:off x="4419720" y="457200"/>
            <a:ext cx="44593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14:24:29Z</dcterms:created>
  <dc:creator>Matthew DeLand</dc:creator>
  <dc:description/>
  <dc:language>en-US</dc:language>
  <cp:lastModifiedBy>Jennifer Rumburg</cp:lastModifiedBy>
  <dcterms:modified xsi:type="dcterms:W3CDTF">2006-01-25T00:17:27Z</dcterms:modified>
  <cp:revision>5</cp:revision>
  <dc:subject/>
  <dc:title>Creation of a Composite Solar Ultraviolet Irradiance Data Set Matthew T. DeLand and Richard P. Cebula Science Systems and Applications, Inc.</dc:title>
</cp:coreProperties>
</file>