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512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84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624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512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74720" y="6629400"/>
            <a:ext cx="7975440" cy="246600"/>
            <a:chOff x="774720" y="6629400"/>
            <a:chExt cx="7975440" cy="246600"/>
          </a:xfrm>
        </p:grpSpPr>
        <p:sp>
          <p:nvSpPr>
            <p:cNvPr id="3" name=""/>
            <p:cNvSpPr/>
            <p:nvPr/>
          </p:nvSpPr>
          <p:spPr>
            <a:xfrm>
              <a:off x="774720" y="6629400"/>
              <a:ext cx="797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90920" y="6647040"/>
              <a:ext cx="4432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neva"/>
                </a:rPr>
                <a:t>	</a:t>
              </a:r>
              <a:fld id="{BF5D9CDA-E32E-48F4-8671-F785415E4F4D}" type="slidenum">
                <a:rPr b="1" lang="en-US" sz="800" spc="-1" strike="noStrike">
                  <a:solidFill>
                    <a:srgbClr val="000000"/>
                  </a:solidFill>
                  <a:latin typeface="Geneva"/>
                </a:rPr>
                <a:t>&lt;number&gt;</a:t>
              </a:fld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114480"/>
            <a:ext cx="1557360" cy="571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838080"/>
            <a:ext cx="797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6440" y="6583320"/>
            <a:ext cx="16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BL Analysis 4 Jan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on Stub Re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olo Calafiura, L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on Reco Strategy (CDF 40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Bank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by D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Bank contains hit digitized times wrto to beam-crossing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s (E-Bank)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by CMU_DtoE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bs (S-Bank)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by MuonStub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Muon (O-Bank)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by MuonLinkModule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uonHit" descr=""/>
          <p:cNvPicPr/>
          <p:nvPr/>
        </p:nvPicPr>
        <p:blipFill>
          <a:blip r:embed="rId1"/>
          <a:stretch/>
        </p:blipFill>
        <p:spPr>
          <a:xfrm>
            <a:off x="4745160" y="438120"/>
            <a:ext cx="4856040" cy="641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onHit common AB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code(which wire and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info (associated parti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drift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onXZHi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Z-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charge-splitting (CMU, BMU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onSigned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StubF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= side of the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itself in global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(stack) co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pointer to Muon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tub" descr=""/>
          <p:cNvPicPr/>
          <p:nvPr/>
        </p:nvPicPr>
        <p:blipFill>
          <a:blip r:embed="rId1"/>
          <a:stretch/>
        </p:blipFill>
        <p:spPr>
          <a:xfrm>
            <a:off x="-2044800" y="990720"/>
            <a:ext cx="11188800" cy="5298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onStub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point of vi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b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associated h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 qualit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b Finder point of vi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aspec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candidate h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lper class for the stub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934320" y="3581280"/>
            <a:ext cx="1752120" cy="1447920"/>
            <a:chOff x="6934320" y="3581280"/>
            <a:chExt cx="1752120" cy="1447920"/>
          </a:xfrm>
        </p:grpSpPr>
        <p:sp>
          <p:nvSpPr>
            <p:cNvPr id="56" name=""/>
            <p:cNvSpPr/>
            <p:nvPr/>
          </p:nvSpPr>
          <p:spPr>
            <a:xfrm>
              <a:off x="7162560" y="3809880"/>
              <a:ext cx="1523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114800"/>
              <a:ext cx="1523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4724280"/>
              <a:ext cx="1523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62560" y="4419360"/>
              <a:ext cx="1523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15200" y="4952880"/>
              <a:ext cx="75600" cy="76320"/>
            </a:xfrm>
            <a:prstGeom prst="octagon">
              <a:avLst>
                <a:gd name="adj" fmla="val 2928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315200" y="3581280"/>
              <a:ext cx="83772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7480" y="4800600"/>
              <a:ext cx="151920" cy="15228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62640 h 152280"/>
                <a:gd name="textAreaBottom" fmla="*/ 89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3800" y="4419360"/>
              <a:ext cx="151920" cy="15264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63000 h 152640"/>
                <a:gd name="textAreaBottom" fmla="*/ 8964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19760" y="4190760"/>
              <a:ext cx="152280" cy="15264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63000 h 152640"/>
                <a:gd name="textAreaBottom" fmla="*/ 8964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3886200"/>
              <a:ext cx="151920" cy="15228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62640 h 152280"/>
                <a:gd name="textAreaBottom" fmla="*/ 89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229600" y="556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22960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44480" y="497520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33080" y="55306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 F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 wedges with at least 3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over the 4 stacks in a wedge and the 4 layer in a stack looking for a "seed" 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a matching hit two layers up in any stack of the w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segment out of the two hits  and a road around it. If can find one more hit in the road define a candidate st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candidate stubs and sort them by chiSquare. Take the best and all the remaining ones which have at least one unique h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tubFit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332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 F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229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nterfa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h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ie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/fix fi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 with the MuonStu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rivate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ie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ZapfDingba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fitter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only one work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05:16:50Z</dcterms:created>
  <dc:creator>Paolo Calafiura</dc:creator>
  <dc:description/>
  <dc:language>en-US</dc:language>
  <cp:lastModifiedBy>Craig E. Tull</cp:lastModifiedBy>
  <cp:lastPrinted>2001-01-04T21:34:54Z</cp:lastPrinted>
  <dcterms:modified xsi:type="dcterms:W3CDTF">2001-01-04T21:53:30Z</dcterms:modified>
  <cp:revision>59</cp:revision>
  <dc:subject/>
  <dc:title>Control States</dc:title>
</cp:coreProperties>
</file>