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2751E-C6C8-46AD-9CF5-226786227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682D1-50DF-4449-9515-2B353C814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202B8-E5B8-41A4-B069-EB70E712D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9E363-2C57-476D-9A34-7E65B1465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8F0CD-5F23-448A-8EB3-72A9E6D9E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5CC54-7489-40C2-8E13-9D4CD5498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25D82-3127-48D3-9A2D-E265A1FF5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A8606-E7BD-4D57-A862-27BD2600C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23B96-83FF-4734-A8AC-A64E0C4D4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D3E3B-48C9-47B5-8E8A-C42AB4D65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69A11-65DD-4062-B5FB-E00291E1B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DFD47-1A90-4C4C-9844-F4AF982C6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7119A-224E-41EA-B645-502CB0C03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EB972-3961-46E5-93D8-0CA3EC1DC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A493E-9142-480A-A230-73D7F451A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14A1F-6757-4961-AF0D-ED35C54CC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42585-9A58-48BA-932E-1310114B4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52D77-267F-4F99-B9AF-847A55D4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17E9B-B318-46B7-B358-E52C74C3E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4E59C-A84F-4174-B56F-04909533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465B5-1337-4CA2-86A7-BA97DDBE8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9C20-4E3A-4508-A5F0-163FB1B3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D4A7-98CD-42AB-8AB6-280E89EA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E64E1-7351-4E28-B3DB-FD4DE3F64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A722-1776-4A0D-84A4-E667077DB6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D68B-F0A5-436A-9FAD-C2BEB4D034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MNM Fatal 2005-19</a:t>
            </a: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ed Haula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30, 2005 (Nev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ld Ope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ipment Operat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years ol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years mining experi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verview</a:t>
            </a: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victim was operating a water truck that left a haul road and drove onto the berm.  The truck climbed the berm, causing it to overturn and land back on the haul road.  The victim, who was not wearing a seat belt, was ejected from the cab of the truck.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Photo of Accident Scene"/>
          <p:cNvPicPr/>
          <p:nvPr/>
        </p:nvPicPr>
        <p:blipFill>
          <a:blip r:embed="rId2"/>
          <a:stretch/>
        </p:blipFill>
        <p:spPr>
          <a:xfrm>
            <a:off x="914400" y="762120"/>
            <a:ext cx="71294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usal Factors</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river failed to maintain control of the water truck while it was in motion.  Although the levels of the methamphetamine could not be established as impairing the victim, it is a medical fact that fatigue occurs as the user withdraws from the substanc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river of the water truck failed to fasten his seat beat while operating his truc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est Practices</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p, Look, Analyze, and Manage (SLAM) each task.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ways wear a seat belt when operating a truck or moving machine.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duct pre-operational checks to identify any defects that may affect the safe operation of equipment before it is placed into servic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agement should continue to focus attention toward substance abuse and educate miners regarding the symptoms and behavior exhibited by persons who may be abusing controlled substanc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8:12:34Z</dcterms:created>
  <dc:creator>hancher-michael</dc:creator>
  <dc:description/>
  <dc:language>en-US</dc:language>
  <cp:lastModifiedBy>west-william</cp:lastModifiedBy>
  <dcterms:modified xsi:type="dcterms:W3CDTF">2005-10-26T14:24:22Z</dcterms:modified>
  <cp:revision>1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94427165</vt:r8>
  </property>
  <property fmtid="{D5CDD505-2E9C-101B-9397-08002B2CF9AE}" pid="3" name="_AuthorEmail">
    <vt:lpwstr>Hancher.Michael@DOL.GOV</vt:lpwstr>
  </property>
  <property fmtid="{D5CDD505-2E9C-101B-9397-08002B2CF9AE}" pid="4" name="_AuthorEmailDisplayName">
    <vt:lpwstr>Hancher, Michael - MSHA</vt:lpwstr>
  </property>
  <property fmtid="{D5CDD505-2E9C-101B-9397-08002B2CF9AE}" pid="5" name="_EmailSubject">
    <vt:lpwstr>MNM Fatal #19 PPT</vt:lpwstr>
  </property>
  <property fmtid="{D5CDD505-2E9C-101B-9397-08002B2CF9AE}" pid="6" name="_ReviewingToolsShownOnce">
    <vt:lpwstr/>
  </property>
</Properties>
</file>