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wmf" ContentType="image/x-wmf"/>
  <Override PartName="/ppt/media/image23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4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211-4265-4FE9-86F8-C8F33D92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2D3-590B-4439-A81F-F967D7B5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CA5-40B2-4728-B9D4-3B940DF5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2DB-1325-4D96-83E7-03B04059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39C-C3C4-49FB-8F15-E0FEAC5B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904-8FDA-4AEE-B60C-6DFADE7A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105-79B4-44E3-B00B-8860EC0A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24B-CE79-4379-A7A5-F93EFEEE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27E-7AFF-4A66-9C6D-0744E73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BF5-95AC-42F3-9FDF-C6FD9392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3A1-042E-4A4C-BAB9-71D03120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3FE-F38E-448A-B20A-384ADEA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99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8BEF-493F-420F-A7DE-EED03A0F4FE4}" type="slidenum">
              <a:rPr b="0" lang="en-US" sz="1800" spc="-1" strike="noStrike">
                <a:solidFill>
                  <a:srgbClr val="339966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800440"/>
            <a:ext cx="4953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dreas Albrecht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C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iladelphia, April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440" y="0"/>
            <a:ext cx="5829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12920"/>
            <a:ext cx="708660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smic acceleration and fundamental phys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193-3724-495D-A939-442445C1898D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2860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Why 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the source of acceleration is some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dynamical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matter (“quintessence”), then it has to acquire the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93720" y="1981080"/>
          <a:ext cx="437364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981080"/>
                    <a:ext cx="4373640" cy="768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32767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2004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toda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t=14.5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Gyr). (not some other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7466" r="0" b="49281"/>
          <a:stretch/>
        </p:blipFill>
        <p:spPr>
          <a:xfrm>
            <a:off x="1143000" y="3657600"/>
            <a:ext cx="624852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038480" y="3657600"/>
          <a:ext cx="74772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3657600"/>
                    <a:ext cx="7477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3819240" y="4038480"/>
            <a:ext cx="212760" cy="6098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10080" y="3581280"/>
          <a:ext cx="824040" cy="51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3581280"/>
                    <a:ext cx="8240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 flipH="1">
            <a:off x="5300280" y="4038480"/>
            <a:ext cx="212760" cy="60984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238880" y="3733920"/>
          <a:ext cx="747720" cy="58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3733920"/>
                    <a:ext cx="7477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H="1">
            <a:off x="6393960" y="4038480"/>
            <a:ext cx="830520" cy="53352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022640"/>
            <a:ext cx="76320" cy="23018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943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Time </a:t>
            </a:r>
            <a:r>
              <a:rPr b="0" i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2T he “why this/why now”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CE1-50B1-4ECE-B7CE-1E3008FF4750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1600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131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16F-BBEB-4015-BFFA-2A178D5B42D5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213372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140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154-FD11-420D-A1AD-FF959D3E20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3 Quantum corrections/long range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28600"/>
            <a:ext cx="784872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the acceleration is produce by a scalar field (quintessenc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The quintessence field must have a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ow can this value stay safe from quantum corre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124080" y="2514600"/>
          <a:ext cx="198144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514600"/>
                    <a:ext cx="1981440" cy="5824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04A-A22C-499B-AB04-09B9649C7730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28600"/>
            <a:ext cx="784872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the acceleration is produce by a scalar field (quintessenc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i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If such a small mass is preserved, there is a new long range force mediated by the quintessence 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ow can 5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force bounds be eva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Carro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3 Quantum corrections/long range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A3A-1407-44FE-A001-CABE0A04F7B4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95280" y="213372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157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0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33E-5481-4BFB-834F-DB17E382002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5280" y="34290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2895480"/>
            <a:ext cx="8001000" cy="1989000"/>
            <a:chOff x="838080" y="2895480"/>
            <a:chExt cx="8001000" cy="1989000"/>
          </a:xfrm>
        </p:grpSpPr>
        <p:sp>
          <p:nvSpPr>
            <p:cNvPr id="166" name=""/>
            <p:cNvSpPr/>
            <p:nvPr/>
          </p:nvSpPr>
          <p:spPr>
            <a:xfrm>
              <a:off x="838080" y="289548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5059440" y="341460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41460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D89-BFDA-4A90-82C0-CD1220CDEF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304920"/>
            <a:ext cx="464832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a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e entropy b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19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f there really is 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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the late-time asymptotic state of the universe will have a horizon with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3139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implies a Hawking-Beckenstein type upper bound on the entro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740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re we then compelled to only consider only models of physics with a finite dimensional Hilbert space?  (Excludes field theory, M-theory, SH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676680" y="2390760"/>
          <a:ext cx="342720" cy="3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6680" y="2390760"/>
                    <a:ext cx="342720" cy="37008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48200" y="3657600"/>
          <a:ext cx="404640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8200" y="3657600"/>
                    <a:ext cx="4046400" cy="8841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7315200" y="58514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Comic Sans MS"/>
                <a:ea typeface="Times New Roman"/>
              </a:rPr>
              <a:t>T. Banks &amp; W. Fisch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F8B-9A5A-49D7-BA17-2FC780A1B78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09680" y="304920"/>
            <a:ext cx="51818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b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Holography &amp; the Causal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wo basic facts about de Sitter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1250640" y="2286000"/>
            <a:ext cx="1983240" cy="3048120"/>
            <a:chOff x="1250640" y="2286000"/>
            <a:chExt cx="1983240" cy="3048120"/>
          </a:xfrm>
        </p:grpSpPr>
        <p:grpSp>
          <p:nvGrpSpPr>
            <p:cNvPr id="191" name=""/>
            <p:cNvGrpSpPr/>
            <p:nvPr/>
          </p:nvGrpSpPr>
          <p:grpSpPr>
            <a:xfrm>
              <a:off x="1327320" y="2286000"/>
              <a:ext cx="506160" cy="3031920"/>
              <a:chOff x="1327320" y="2286000"/>
              <a:chExt cx="506160" cy="3031920"/>
            </a:xfrm>
          </p:grpSpPr>
          <p:sp>
            <p:nvSpPr>
              <p:cNvPr id="192" name=""/>
              <p:cNvSpPr/>
              <p:nvPr/>
            </p:nvSpPr>
            <p:spPr>
              <a:xfrm>
                <a:off x="1327320" y="22860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7320" y="37332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327320" y="2286000"/>
              <a:ext cx="837720" cy="3031920"/>
              <a:chOff x="1327320" y="2286000"/>
              <a:chExt cx="837720" cy="3031920"/>
            </a:xfrm>
          </p:grpSpPr>
          <p:sp>
            <p:nvSpPr>
              <p:cNvPr id="195" name=""/>
              <p:cNvSpPr/>
              <p:nvPr/>
            </p:nvSpPr>
            <p:spPr>
              <a:xfrm>
                <a:off x="1327320" y="22860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327320" y="37332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327320" y="2286000"/>
              <a:ext cx="1142280" cy="3031920"/>
              <a:chOff x="1327320" y="2286000"/>
              <a:chExt cx="1142280" cy="3031920"/>
            </a:xfrm>
          </p:grpSpPr>
          <p:sp>
            <p:nvSpPr>
              <p:cNvPr id="198" name=""/>
              <p:cNvSpPr/>
              <p:nvPr/>
            </p:nvSpPr>
            <p:spPr>
              <a:xfrm>
                <a:off x="1327320" y="22860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327320" y="37332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327320" y="2286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327320" y="3886200"/>
              <a:ext cx="1904760" cy="144792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27320" y="2286000"/>
              <a:ext cx="1904760" cy="16002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0640" y="3886200"/>
              <a:ext cx="1981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11120" y="342900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27320" y="297180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327320" y="387036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343160" y="384012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rot="16200000">
            <a:off x="16560" y="3488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r’s Worldli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752480"/>
            <a:ext cx="26668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bjects never appear to leave the hori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80920" y="1752480"/>
            <a:ext cx="251460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008840" y="2057400"/>
            <a:ext cx="506520" cy="3031920"/>
            <a:chOff x="7008840" y="2057400"/>
            <a:chExt cx="506520" cy="3031920"/>
          </a:xfrm>
        </p:grpSpPr>
        <p:sp>
          <p:nvSpPr>
            <p:cNvPr id="212" name=""/>
            <p:cNvSpPr/>
            <p:nvPr/>
          </p:nvSpPr>
          <p:spPr>
            <a:xfrm>
              <a:off x="7008840" y="20574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008840" y="35046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008840" y="2057400"/>
            <a:ext cx="837720" cy="3031920"/>
            <a:chOff x="7008840" y="2057400"/>
            <a:chExt cx="837720" cy="3031920"/>
          </a:xfrm>
        </p:grpSpPr>
        <p:sp>
          <p:nvSpPr>
            <p:cNvPr id="215" name=""/>
            <p:cNvSpPr/>
            <p:nvPr/>
          </p:nvSpPr>
          <p:spPr>
            <a:xfrm>
              <a:off x="7008840" y="20574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008840" y="35046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008840" y="2057400"/>
            <a:ext cx="1142280" cy="3031920"/>
            <a:chOff x="7008840" y="2057400"/>
            <a:chExt cx="1142280" cy="3031920"/>
          </a:xfrm>
        </p:grpSpPr>
        <p:sp>
          <p:nvSpPr>
            <p:cNvPr id="218" name=""/>
            <p:cNvSpPr/>
            <p:nvPr/>
          </p:nvSpPr>
          <p:spPr>
            <a:xfrm>
              <a:off x="7008840" y="20574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7008840" y="35046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00884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008840" y="3657600"/>
            <a:ext cx="1905120" cy="144792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2057400"/>
            <a:ext cx="1905120" cy="160020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932520" y="3657600"/>
            <a:ext cx="19814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3000" y="320040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08840" y="274320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08840" y="364176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24680" y="361152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027920" y="2057400"/>
            <a:ext cx="560160" cy="3035160"/>
            <a:chOff x="7027920" y="2057400"/>
            <a:chExt cx="560160" cy="3035160"/>
          </a:xfrm>
        </p:grpSpPr>
        <p:sp>
          <p:nvSpPr>
            <p:cNvPr id="229" name=""/>
            <p:cNvSpPr/>
            <p:nvPr/>
          </p:nvSpPr>
          <p:spPr>
            <a:xfrm>
              <a:off x="7066080" y="2057400"/>
              <a:ext cx="5220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27920" y="3639960"/>
              <a:ext cx="4968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010280" y="2057400"/>
            <a:ext cx="152280" cy="3035160"/>
            <a:chOff x="7010280" y="2057400"/>
            <a:chExt cx="152280" cy="3035160"/>
          </a:xfrm>
        </p:grpSpPr>
        <p:sp>
          <p:nvSpPr>
            <p:cNvPr id="232" name=""/>
            <p:cNvSpPr/>
            <p:nvPr/>
          </p:nvSpPr>
          <p:spPr>
            <a:xfrm>
              <a:off x="7020360" y="2057400"/>
              <a:ext cx="1422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3639960"/>
              <a:ext cx="13536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10280" y="2057400"/>
            <a:ext cx="913680" cy="3035160"/>
            <a:chOff x="7010280" y="2057400"/>
            <a:chExt cx="913680" cy="3035160"/>
          </a:xfrm>
        </p:grpSpPr>
        <p:sp>
          <p:nvSpPr>
            <p:cNvPr id="235" name=""/>
            <p:cNvSpPr/>
            <p:nvPr/>
          </p:nvSpPr>
          <p:spPr>
            <a:xfrm>
              <a:off x="7072200" y="2057400"/>
              <a:ext cx="85176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0280" y="3639960"/>
              <a:ext cx="81072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010280" y="2057400"/>
            <a:ext cx="1294920" cy="3035160"/>
            <a:chOff x="7010280" y="2057400"/>
            <a:chExt cx="1294920" cy="3035160"/>
          </a:xfrm>
        </p:grpSpPr>
        <p:sp>
          <p:nvSpPr>
            <p:cNvPr id="238" name=""/>
            <p:cNvSpPr/>
            <p:nvPr/>
          </p:nvSpPr>
          <p:spPr>
            <a:xfrm>
              <a:off x="7098480" y="2057400"/>
              <a:ext cx="120672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3639960"/>
              <a:ext cx="11484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514600" y="2590920"/>
            <a:ext cx="99072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438280" y="3352680"/>
            <a:ext cx="99072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02ca"/>
                </a:solidFill>
                <a:latin typeface="Arial"/>
              </a:rPr>
              <a:t>Const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590560" y="4114800"/>
            <a:ext cx="6094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.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49528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952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9f01"/>
                </a:solidFill>
                <a:latin typeface="Arial"/>
              </a:rPr>
              <a:t>(Gibbons &amp; Haw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3276720"/>
            <a:ext cx="1676160" cy="147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free field appears at Tem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867280" y="4116240"/>
          <a:ext cx="9018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116240"/>
                    <a:ext cx="901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2057400" y="53341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 Hole Analog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71B-5292-4C65-A972-8B8D3F069503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09680" y="304920"/>
            <a:ext cx="51818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b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Holography &amp; the Causal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wo basic facts about de Sitter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1250640" y="2286000"/>
            <a:ext cx="1983240" cy="3048120"/>
            <a:chOff x="1250640" y="2286000"/>
            <a:chExt cx="1983240" cy="3048120"/>
          </a:xfrm>
        </p:grpSpPr>
        <p:grpSp>
          <p:nvGrpSpPr>
            <p:cNvPr id="258" name=""/>
            <p:cNvGrpSpPr/>
            <p:nvPr/>
          </p:nvGrpSpPr>
          <p:grpSpPr>
            <a:xfrm>
              <a:off x="1327320" y="2286000"/>
              <a:ext cx="506160" cy="3031920"/>
              <a:chOff x="1327320" y="2286000"/>
              <a:chExt cx="506160" cy="3031920"/>
            </a:xfrm>
          </p:grpSpPr>
          <p:sp>
            <p:nvSpPr>
              <p:cNvPr id="259" name=""/>
              <p:cNvSpPr/>
              <p:nvPr/>
            </p:nvSpPr>
            <p:spPr>
              <a:xfrm>
                <a:off x="1327320" y="22860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327320" y="3733200"/>
                <a:ext cx="50616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327320" y="2286000"/>
              <a:ext cx="837720" cy="3031920"/>
              <a:chOff x="1327320" y="2286000"/>
              <a:chExt cx="837720" cy="3031920"/>
            </a:xfrm>
          </p:grpSpPr>
          <p:sp>
            <p:nvSpPr>
              <p:cNvPr id="262" name=""/>
              <p:cNvSpPr/>
              <p:nvPr/>
            </p:nvSpPr>
            <p:spPr>
              <a:xfrm>
                <a:off x="1327320" y="22860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1327320" y="3733200"/>
                <a:ext cx="83772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327320" y="2286000"/>
              <a:ext cx="1142280" cy="3031920"/>
              <a:chOff x="1327320" y="2286000"/>
              <a:chExt cx="1142280" cy="3031920"/>
            </a:xfrm>
          </p:grpSpPr>
          <p:sp>
            <p:nvSpPr>
              <p:cNvPr id="265" name=""/>
              <p:cNvSpPr/>
              <p:nvPr/>
            </p:nvSpPr>
            <p:spPr>
              <a:xfrm>
                <a:off x="1327320" y="22860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327320" y="3733200"/>
                <a:ext cx="1142280" cy="1584360"/>
              </a:xfrm>
              <a:custGeom>
                <a:avLst/>
                <a:gdLst/>
                <a:ahLst/>
                <a:rect l="l" t="t" r="r" b="b"/>
                <a:pathLst>
                  <a:path w="319" h="998">
                    <a:moveTo>
                      <a:pt x="0" y="0"/>
                    </a:moveTo>
                    <a:cubicBezTo>
                      <a:pt x="72" y="128"/>
                      <a:pt x="142" y="267"/>
                      <a:pt x="192" y="384"/>
                    </a:cubicBezTo>
                    <a:cubicBezTo>
                      <a:pt x="242" y="501"/>
                      <a:pt x="277" y="599"/>
                      <a:pt x="298" y="701"/>
                    </a:cubicBezTo>
                    <a:cubicBezTo>
                      <a:pt x="319" y="803"/>
                      <a:pt x="313" y="936"/>
                      <a:pt x="317" y="998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327320" y="2286000"/>
              <a:ext cx="0" cy="3048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327320" y="3886200"/>
              <a:ext cx="1904760" cy="144792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27320" y="2286000"/>
              <a:ext cx="1904760" cy="16002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250640" y="3886200"/>
              <a:ext cx="1981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11120" y="342900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27320" y="297180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327320" y="3870360"/>
              <a:ext cx="1890720" cy="47304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343160" y="3840120"/>
              <a:ext cx="1890720" cy="960480"/>
            </a:xfrm>
            <a:custGeom>
              <a:avLst/>
              <a:gdLst/>
              <a:ahLst/>
              <a:rect l="l" t="t" r="r" b="b"/>
              <a:pathLst>
                <a:path w="1191" h="365">
                  <a:moveTo>
                    <a:pt x="1191" y="365"/>
                  </a:moveTo>
                  <a:cubicBezTo>
                    <a:pt x="1140" y="341"/>
                    <a:pt x="999" y="261"/>
                    <a:pt x="874" y="211"/>
                  </a:cubicBezTo>
                  <a:cubicBezTo>
                    <a:pt x="749" y="161"/>
                    <a:pt x="554" y="99"/>
                    <a:pt x="442" y="67"/>
                  </a:cubicBezTo>
                  <a:cubicBezTo>
                    <a:pt x="330" y="35"/>
                    <a:pt x="276" y="30"/>
                    <a:pt x="202" y="19"/>
                  </a:cubicBezTo>
                  <a:cubicBezTo>
                    <a:pt x="128" y="8"/>
                    <a:pt x="4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6200000">
            <a:off x="16560" y="3488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r’s Worldli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1752480"/>
            <a:ext cx="26668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bjects never appear to leave the hori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008840" y="2057400"/>
            <a:ext cx="506520" cy="3031920"/>
            <a:chOff x="7008840" y="2057400"/>
            <a:chExt cx="506520" cy="3031920"/>
          </a:xfrm>
        </p:grpSpPr>
        <p:sp>
          <p:nvSpPr>
            <p:cNvPr id="278" name=""/>
            <p:cNvSpPr/>
            <p:nvPr/>
          </p:nvSpPr>
          <p:spPr>
            <a:xfrm>
              <a:off x="7008840" y="20574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008840" y="35046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008840" y="2057400"/>
            <a:ext cx="837720" cy="3031920"/>
            <a:chOff x="7008840" y="2057400"/>
            <a:chExt cx="837720" cy="3031920"/>
          </a:xfrm>
        </p:grpSpPr>
        <p:sp>
          <p:nvSpPr>
            <p:cNvPr id="281" name=""/>
            <p:cNvSpPr/>
            <p:nvPr/>
          </p:nvSpPr>
          <p:spPr>
            <a:xfrm>
              <a:off x="7008840" y="20574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008840" y="35046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08840" y="2057400"/>
            <a:ext cx="1142280" cy="3031920"/>
            <a:chOff x="7008840" y="2057400"/>
            <a:chExt cx="1142280" cy="3031920"/>
          </a:xfrm>
        </p:grpSpPr>
        <p:sp>
          <p:nvSpPr>
            <p:cNvPr id="284" name=""/>
            <p:cNvSpPr/>
            <p:nvPr/>
          </p:nvSpPr>
          <p:spPr>
            <a:xfrm>
              <a:off x="7008840" y="20574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08840" y="35046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00884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008840" y="3657600"/>
            <a:ext cx="1905120" cy="144792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08840" y="2057400"/>
            <a:ext cx="1905120" cy="160020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932520" y="3657600"/>
            <a:ext cx="19814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93000" y="320040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08840" y="274320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008840" y="364176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024680" y="361152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027920" y="2057400"/>
            <a:ext cx="560160" cy="3035160"/>
            <a:chOff x="7027920" y="2057400"/>
            <a:chExt cx="560160" cy="3035160"/>
          </a:xfrm>
        </p:grpSpPr>
        <p:sp>
          <p:nvSpPr>
            <p:cNvPr id="295" name=""/>
            <p:cNvSpPr/>
            <p:nvPr/>
          </p:nvSpPr>
          <p:spPr>
            <a:xfrm>
              <a:off x="7066080" y="2057400"/>
              <a:ext cx="5220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27920" y="3639960"/>
              <a:ext cx="4968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010280" y="2057400"/>
            <a:ext cx="152280" cy="3035160"/>
            <a:chOff x="7010280" y="2057400"/>
            <a:chExt cx="152280" cy="3035160"/>
          </a:xfrm>
        </p:grpSpPr>
        <p:sp>
          <p:nvSpPr>
            <p:cNvPr id="298" name=""/>
            <p:cNvSpPr/>
            <p:nvPr/>
          </p:nvSpPr>
          <p:spPr>
            <a:xfrm>
              <a:off x="7020360" y="2057400"/>
              <a:ext cx="1422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10280" y="3639960"/>
              <a:ext cx="13536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010280" y="2057400"/>
            <a:ext cx="913680" cy="3035160"/>
            <a:chOff x="7010280" y="2057400"/>
            <a:chExt cx="913680" cy="3035160"/>
          </a:xfrm>
        </p:grpSpPr>
        <p:sp>
          <p:nvSpPr>
            <p:cNvPr id="301" name=""/>
            <p:cNvSpPr/>
            <p:nvPr/>
          </p:nvSpPr>
          <p:spPr>
            <a:xfrm>
              <a:off x="7072200" y="2057400"/>
              <a:ext cx="85176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10280" y="3639960"/>
              <a:ext cx="81072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10280" y="2057400"/>
            <a:ext cx="1294920" cy="3035160"/>
            <a:chOff x="7010280" y="2057400"/>
            <a:chExt cx="1294920" cy="3035160"/>
          </a:xfrm>
        </p:grpSpPr>
        <p:sp>
          <p:nvSpPr>
            <p:cNvPr id="304" name=""/>
            <p:cNvSpPr/>
            <p:nvPr/>
          </p:nvSpPr>
          <p:spPr>
            <a:xfrm>
              <a:off x="7098480" y="2057400"/>
              <a:ext cx="120672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10280" y="3639960"/>
              <a:ext cx="11484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2514600" y="2590920"/>
            <a:ext cx="99072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438280" y="3352680"/>
            <a:ext cx="99072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02ca"/>
                </a:solidFill>
                <a:latin typeface="Arial"/>
              </a:rPr>
              <a:t>Const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590560" y="4114800"/>
            <a:ext cx="6094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.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5562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9f01"/>
                </a:solidFill>
                <a:latin typeface="Arial"/>
              </a:rPr>
              <a:t>See Kaloper (Davis Inflation Meeting ’03) (t’ Hooft: BH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191120" y="3504960"/>
            <a:ext cx="5181480" cy="2685240"/>
            <a:chOff x="4191120" y="3504960"/>
            <a:chExt cx="5181480" cy="2685240"/>
          </a:xfrm>
        </p:grpSpPr>
        <p:sp>
          <p:nvSpPr>
            <p:cNvPr id="313" name=""/>
            <p:cNvSpPr/>
            <p:nvPr/>
          </p:nvSpPr>
          <p:spPr>
            <a:xfrm>
              <a:off x="4191120" y="472428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B: Tollman taught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4" name=""/>
            <p:cNvGraphicFramePr/>
            <p:nvPr/>
          </p:nvGraphicFramePr>
          <p:xfrm>
            <a:off x="5181480" y="5257800"/>
            <a:ext cx="1524240" cy="70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1480" y="5257800"/>
                      <a:ext cx="1524240" cy="70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6" name=""/>
            <p:cNvSpPr/>
            <p:nvPr/>
          </p:nvSpPr>
          <p:spPr>
            <a:xfrm>
              <a:off x="6705720" y="5486400"/>
              <a:ext cx="266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asing (divergent)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(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7162560" y="396216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7543440" y="3504960"/>
              <a:ext cx="2286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772400" y="3504960"/>
              <a:ext cx="152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772400" y="3504960"/>
              <a:ext cx="5335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105520" y="3276720"/>
            <a:ext cx="1676160" cy="147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free field appears at Tem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867280" y="4116240"/>
          <a:ext cx="9018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116240"/>
                    <a:ext cx="901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2971800" y="617220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580920" y="1752480"/>
            <a:ext cx="2514600" cy="335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98B-AD6C-459D-833B-2FBC521C831C}" type="slidenum">
              <a:t>19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7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916-0DAE-429B-B4E4-661812334739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09680" y="304920"/>
            <a:ext cx="518184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b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Holography &amp; the Causal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usal Patch “unification”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380880" y="1371600"/>
            <a:ext cx="266724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bjects never appear to leave the hori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008840" y="2057400"/>
            <a:ext cx="506520" cy="3031920"/>
            <a:chOff x="7008840" y="2057400"/>
            <a:chExt cx="506520" cy="3031920"/>
          </a:xfrm>
        </p:grpSpPr>
        <p:sp>
          <p:nvSpPr>
            <p:cNvPr id="334" name=""/>
            <p:cNvSpPr/>
            <p:nvPr/>
          </p:nvSpPr>
          <p:spPr>
            <a:xfrm>
              <a:off x="7008840" y="20574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008840" y="3504600"/>
              <a:ext cx="5065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7008840" y="2057400"/>
            <a:ext cx="837720" cy="3031920"/>
            <a:chOff x="7008840" y="2057400"/>
            <a:chExt cx="837720" cy="3031920"/>
          </a:xfrm>
        </p:grpSpPr>
        <p:sp>
          <p:nvSpPr>
            <p:cNvPr id="337" name=""/>
            <p:cNvSpPr/>
            <p:nvPr/>
          </p:nvSpPr>
          <p:spPr>
            <a:xfrm>
              <a:off x="7008840" y="20574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08840" y="3504600"/>
              <a:ext cx="83772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08840" y="2057400"/>
            <a:ext cx="1142280" cy="3031920"/>
            <a:chOff x="7008840" y="2057400"/>
            <a:chExt cx="1142280" cy="3031920"/>
          </a:xfrm>
        </p:grpSpPr>
        <p:sp>
          <p:nvSpPr>
            <p:cNvPr id="340" name=""/>
            <p:cNvSpPr/>
            <p:nvPr/>
          </p:nvSpPr>
          <p:spPr>
            <a:xfrm>
              <a:off x="7008840" y="20574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008840" y="3504600"/>
              <a:ext cx="1142280" cy="1584360"/>
            </a:xfrm>
            <a:custGeom>
              <a:avLst/>
              <a:gdLst/>
              <a:ahLst/>
              <a:rect l="l" t="t" r="r" b="b"/>
              <a:pathLst>
                <a:path w="319" h="998">
                  <a:moveTo>
                    <a:pt x="0" y="0"/>
                  </a:moveTo>
                  <a:cubicBezTo>
                    <a:pt x="72" y="128"/>
                    <a:pt x="142" y="267"/>
                    <a:pt x="192" y="384"/>
                  </a:cubicBezTo>
                  <a:cubicBezTo>
                    <a:pt x="242" y="501"/>
                    <a:pt x="277" y="599"/>
                    <a:pt x="298" y="701"/>
                  </a:cubicBezTo>
                  <a:cubicBezTo>
                    <a:pt x="319" y="803"/>
                    <a:pt x="313" y="936"/>
                    <a:pt x="317" y="998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7008840" y="2057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008840" y="3657600"/>
            <a:ext cx="1905120" cy="144792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08840" y="2057400"/>
            <a:ext cx="1905120" cy="160020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932520" y="3657600"/>
            <a:ext cx="19814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93000" y="320040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08840" y="274320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008840" y="3641760"/>
            <a:ext cx="1890720" cy="47304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024680" y="3611520"/>
            <a:ext cx="1890720" cy="960480"/>
          </a:xfrm>
          <a:custGeom>
            <a:avLst/>
            <a:gdLst/>
            <a:ahLst/>
            <a:rect l="l" t="t" r="r" b="b"/>
            <a:pathLst>
              <a:path w="1191" h="365">
                <a:moveTo>
                  <a:pt x="1191" y="365"/>
                </a:moveTo>
                <a:cubicBezTo>
                  <a:pt x="1140" y="341"/>
                  <a:pt x="999" y="261"/>
                  <a:pt x="874" y="211"/>
                </a:cubicBezTo>
                <a:cubicBezTo>
                  <a:pt x="749" y="161"/>
                  <a:pt x="554" y="99"/>
                  <a:pt x="442" y="67"/>
                </a:cubicBezTo>
                <a:cubicBezTo>
                  <a:pt x="330" y="35"/>
                  <a:pt x="276" y="30"/>
                  <a:pt x="202" y="19"/>
                </a:cubicBezTo>
                <a:cubicBezTo>
                  <a:pt x="128" y="8"/>
                  <a:pt x="42" y="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027920" y="2057400"/>
            <a:ext cx="560160" cy="3035160"/>
            <a:chOff x="7027920" y="2057400"/>
            <a:chExt cx="560160" cy="3035160"/>
          </a:xfrm>
        </p:grpSpPr>
        <p:sp>
          <p:nvSpPr>
            <p:cNvPr id="351" name=""/>
            <p:cNvSpPr/>
            <p:nvPr/>
          </p:nvSpPr>
          <p:spPr>
            <a:xfrm>
              <a:off x="7066080" y="2057400"/>
              <a:ext cx="5220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27920" y="3639960"/>
              <a:ext cx="4968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d8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010280" y="2057400"/>
            <a:ext cx="152280" cy="3035160"/>
            <a:chOff x="7010280" y="2057400"/>
            <a:chExt cx="152280" cy="3035160"/>
          </a:xfrm>
        </p:grpSpPr>
        <p:sp>
          <p:nvSpPr>
            <p:cNvPr id="354" name=""/>
            <p:cNvSpPr/>
            <p:nvPr/>
          </p:nvSpPr>
          <p:spPr>
            <a:xfrm>
              <a:off x="7020360" y="2057400"/>
              <a:ext cx="14220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0280" y="3639960"/>
              <a:ext cx="13536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10280" y="2057400"/>
            <a:ext cx="913680" cy="3035160"/>
            <a:chOff x="7010280" y="2057400"/>
            <a:chExt cx="913680" cy="3035160"/>
          </a:xfrm>
        </p:grpSpPr>
        <p:sp>
          <p:nvSpPr>
            <p:cNvPr id="357" name=""/>
            <p:cNvSpPr/>
            <p:nvPr/>
          </p:nvSpPr>
          <p:spPr>
            <a:xfrm>
              <a:off x="7072200" y="2057400"/>
              <a:ext cx="85176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10280" y="3639960"/>
              <a:ext cx="81072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059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10280" y="2057400"/>
            <a:ext cx="1294920" cy="3035160"/>
            <a:chOff x="7010280" y="2057400"/>
            <a:chExt cx="1294920" cy="3035160"/>
          </a:xfrm>
        </p:grpSpPr>
        <p:sp>
          <p:nvSpPr>
            <p:cNvPr id="360" name=""/>
            <p:cNvSpPr/>
            <p:nvPr/>
          </p:nvSpPr>
          <p:spPr>
            <a:xfrm>
              <a:off x="7098480" y="2057400"/>
              <a:ext cx="1206720" cy="1585800"/>
            </a:xfrm>
            <a:custGeom>
              <a:avLst/>
              <a:gdLst/>
              <a:ahLst/>
              <a:rect l="l" t="t" r="r" b="b"/>
              <a:pathLst>
                <a:path w="329" h="999">
                  <a:moveTo>
                    <a:pt x="11" y="0"/>
                  </a:moveTo>
                  <a:cubicBezTo>
                    <a:pt x="13" y="26"/>
                    <a:pt x="0" y="111"/>
                    <a:pt x="22" y="159"/>
                  </a:cubicBezTo>
                  <a:cubicBezTo>
                    <a:pt x="44" y="207"/>
                    <a:pt x="121" y="237"/>
                    <a:pt x="143" y="290"/>
                  </a:cubicBezTo>
                  <a:cubicBezTo>
                    <a:pt x="165" y="343"/>
                    <a:pt x="132" y="427"/>
                    <a:pt x="152" y="475"/>
                  </a:cubicBezTo>
                  <a:cubicBezTo>
                    <a:pt x="172" y="523"/>
                    <a:pt x="248" y="525"/>
                    <a:pt x="263" y="578"/>
                  </a:cubicBezTo>
                  <a:cubicBezTo>
                    <a:pt x="278" y="631"/>
                    <a:pt x="231" y="738"/>
                    <a:pt x="241" y="794"/>
                  </a:cubicBezTo>
                  <a:cubicBezTo>
                    <a:pt x="251" y="850"/>
                    <a:pt x="319" y="881"/>
                    <a:pt x="324" y="915"/>
                  </a:cubicBezTo>
                  <a:cubicBezTo>
                    <a:pt x="329" y="949"/>
                    <a:pt x="280" y="982"/>
                    <a:pt x="268" y="999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3639960"/>
              <a:ext cx="1148400" cy="1452600"/>
            </a:xfrm>
            <a:custGeom>
              <a:avLst/>
              <a:gdLst/>
              <a:ahLst/>
              <a:rect l="l" t="t" r="r" b="b"/>
              <a:pathLst>
                <a:path w="313" h="915">
                  <a:moveTo>
                    <a:pt x="0" y="915"/>
                  </a:moveTo>
                  <a:cubicBezTo>
                    <a:pt x="5" y="888"/>
                    <a:pt x="10" y="802"/>
                    <a:pt x="32" y="754"/>
                  </a:cubicBezTo>
                  <a:cubicBezTo>
                    <a:pt x="54" y="706"/>
                    <a:pt x="109" y="673"/>
                    <a:pt x="132" y="625"/>
                  </a:cubicBezTo>
                  <a:cubicBezTo>
                    <a:pt x="155" y="577"/>
                    <a:pt x="147" y="513"/>
                    <a:pt x="172" y="466"/>
                  </a:cubicBezTo>
                  <a:cubicBezTo>
                    <a:pt x="197" y="419"/>
                    <a:pt x="268" y="404"/>
                    <a:pt x="283" y="345"/>
                  </a:cubicBezTo>
                  <a:cubicBezTo>
                    <a:pt x="298" y="286"/>
                    <a:pt x="260" y="170"/>
                    <a:pt x="265" y="113"/>
                  </a:cubicBezTo>
                  <a:cubicBezTo>
                    <a:pt x="270" y="56"/>
                    <a:pt x="303" y="24"/>
                    <a:pt x="313" y="0"/>
                  </a:cubicBezTo>
                </a:path>
              </a:pathLst>
            </a:custGeom>
            <a:noFill/>
            <a:ln w="38160">
              <a:solidFill>
                <a:srgbClr val="3301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200400" y="1371600"/>
            <a:ext cx="32767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free field appears at Temp.                    (divergent a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2895480" y="-152280"/>
            <a:ext cx="380880" cy="5715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2819520"/>
            <a:ext cx="518148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lographic (quantum gravity) “magic” g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utoff for “divergent” entropy at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rea entropy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l Physics” inside causal pat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  Objects thermalize as they approach the horizon (no “outside” = no “inside” of Black H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istency of the above across different obser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end of inflation? (Dyson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’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534520" y="3429000"/>
            <a:ext cx="533160" cy="457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5334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observer sees divergent entropy here, cut off by quantum gra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781680" y="3733920"/>
            <a:ext cx="15264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305920" y="388620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30492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9f01"/>
                </a:solidFill>
                <a:latin typeface="Arial"/>
              </a:rPr>
              <a:t>Banks Bousso Fischler t’Hooft Suss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24680" y="1981080"/>
            <a:ext cx="121932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114800" y="1704960"/>
          <a:ext cx="12142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1704960"/>
                    <a:ext cx="1214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7EA-A967-4E31-B4D0-04EE309C9539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304920"/>
            <a:ext cx="838188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i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ther constraints on fundamental theories with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1219320"/>
            <a:ext cx="777240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o scattering states exist?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Banks, Fisch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oes string theory exist in de Sitter space?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see Kachru 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et al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oes quantum de Sitter space exist?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(Goheer et al 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BD8-2293-44F0-A0B2-CB995FA1FFAC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304920"/>
            <a:ext cx="838188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ii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Causal set theo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f gravity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124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prediction of causal set theory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819520" y="1378080"/>
          <a:ext cx="259056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8080"/>
                    <a:ext cx="25905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4876920" y="4724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Ahmed et al. Sep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1 The quantum physic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267080" y="6477120"/>
          <a:ext cx="351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6477120"/>
                    <a:ext cx="35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E19-888F-4ED1-B6AF-E9CD97BD21CD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95280" y="34290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394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5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7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689-B327-4F52-94C6-FB28656A78CE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295280" y="3886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03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6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CFE-93DD-41D5-87EB-B3E025E5255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962520" cy="3166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762120" y="244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flation has taught us how to accelerate the universe with a scalar field… why not try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85800" y="1600200"/>
          <a:ext cx="33526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3352680" cy="55260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838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ith    f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eV,    M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-3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1447920"/>
            <a:ext cx="685800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16765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09480" y="3505320"/>
          <a:ext cx="206244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505320"/>
                    <a:ext cx="2062440" cy="55224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57200" y="4191120"/>
          <a:ext cx="3819600" cy="59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191120"/>
                    <a:ext cx="3819600" cy="59832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304920" y="3276720"/>
            <a:ext cx="8381880" cy="28954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4952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=1 meV - 1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4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Zlatev, Wang &amp; Steinhardt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5029200"/>
            <a:ext cx="228600" cy="83808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41911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calar field domination/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800-27EF-4605-B992-96D4C4B06FE2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800600" y="3081240"/>
            <a:ext cx="3962520" cy="3167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762120" y="244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flation has taught us how to accelerate the universe with a scalar field… why not try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85800" y="1600200"/>
          <a:ext cx="33526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3352680" cy="55260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838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With    f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GeV,    M </a:t>
            </a:r>
            <a:r>
              <a:rPr b="0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10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Times New Roman"/>
              </a:rPr>
              <a:t>-3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1447920"/>
            <a:ext cx="685800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16765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09480" y="3505320"/>
          <a:ext cx="206244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505320"/>
                    <a:ext cx="2062440" cy="55224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457200" y="4191120"/>
          <a:ext cx="3819600" cy="59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191120"/>
                    <a:ext cx="3819600" cy="598320"/>
                  </a:xfrm>
                  <a:prstGeom prst="rect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304920" y="3276720"/>
            <a:ext cx="8381880" cy="28954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4952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=1 meV - 1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34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Zlatev, Wang &amp; Steinhardt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381880" y="5029200"/>
            <a:ext cx="228600" cy="83808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67480" y="41911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calar field domination/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219320"/>
            <a:ext cx="2057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.B Resurrect the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0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4F1-CEA6-49F3-8D2C-101E117BDA81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2444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ome more scalar field models of dark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5029200" y="1450800"/>
            <a:ext cx="3860640" cy="3502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638680" y="5257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odelson Kaplinghat &amp; Stewart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0360" y="1295280"/>
            <a:ext cx="4862160" cy="2489760"/>
            <a:chOff x="90360" y="1295280"/>
            <a:chExt cx="4862160" cy="248976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rcRect l="0" t="7466" r="0" b="49281"/>
            <a:stretch/>
          </p:blipFill>
          <p:spPr>
            <a:xfrm>
              <a:off x="90360" y="1295280"/>
              <a:ext cx="4439520" cy="2369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50" name=""/>
            <p:cNvGraphicFramePr/>
            <p:nvPr/>
          </p:nvGraphicFramePr>
          <p:xfrm>
            <a:off x="2147760" y="1295280"/>
            <a:ext cx="531000" cy="47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7760" y="1295280"/>
                      <a:ext cx="53100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2" name=""/>
            <p:cNvSpPr/>
            <p:nvPr/>
          </p:nvSpPr>
          <p:spPr>
            <a:xfrm flipH="1">
              <a:off x="1991520" y="1643760"/>
              <a:ext cx="150840" cy="5572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043800" y="1643760"/>
              <a:ext cx="150840" cy="5572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4421520" y="1364760"/>
            <a:ext cx="531000" cy="53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1520" y="1364760"/>
                      <a:ext cx="531000" cy="53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 flipH="1">
              <a:off x="3821400" y="1643760"/>
              <a:ext cx="589680" cy="4874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22280" y="1629360"/>
              <a:ext cx="53640" cy="210528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73240" y="3386160"/>
              <a:ext cx="13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Comic Sans MS"/>
                </a:rPr>
                <a:t>Time 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9" name=""/>
          <p:cNvGraphicFramePr/>
          <p:nvPr/>
        </p:nvGraphicFramePr>
        <p:xfrm>
          <a:off x="2909880" y="1066680"/>
          <a:ext cx="82404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09880" y="1066680"/>
                    <a:ext cx="8240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685800" y="3962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brecht &amp; Skordis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8985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Oscill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90720" y="838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Shad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ere are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ther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514-0923-443B-B145-E75F963B15D8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 note about the “why this/now”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1371600"/>
            <a:ext cx="6858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ssentially all existing quintessence models “solve” it by relating        to parameters in the quintessenc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ttractor behavior gets rid of initial conditions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ow compelling this “solution” is depends on how convinced you are that nature has chosen those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4191120" y="1836720"/>
          <a:ext cx="60948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836720"/>
                    <a:ext cx="609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91B-B2BB-428E-88E7-DEC382FE38CF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304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 note about Quantum corrections/long rang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1371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most all models of dynamical dark energy/quintessence completely ignore these issues.  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“adventu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828800" y="2584440"/>
            <a:ext cx="5562720" cy="3587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2 Dark energy/quintessence, Stage I (adven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E8A-733D-4A73-B561-1D36ABFD296E}" type="slidenum">
              <a:t>29</a:t>
            </a:fld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7621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56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CA2-F1DF-4B92-8056-3A40FE46E8D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295280" y="3886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82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5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64A-9E71-4399-815F-FACE869CA21F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295280" y="44197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491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1B6-919A-4153-9597-C75273B77CF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I.3 Dark energy/quintessence, Stage II (getting ser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533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tage II:  Take quantum corrections/long range forces ser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1523880"/>
            <a:ext cx="144792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1600200"/>
            <a:ext cx="1447920" cy="1882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Extra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A.A, Burgess, Ravndal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990720"/>
            <a:ext cx="167652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Supergravity Kalosh et al.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3581280"/>
            <a:ext cx="3962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hallenging particle physics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782880" cy="4267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37B-6358-45D1-A18D-02F37F07FE5E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762120" y="533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tage II:  Take quantum corrections/long range forces ser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1523880"/>
            <a:ext cx="144792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PNGB: Frieman, Hill, Stebbins, &amp; Waga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358128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hallenging particle physics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so: Risky because more radical developments could invalidate these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6477120"/>
            <a:ext cx="9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II.3 Dark energy/quintessence, Stage II (getting se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76920" y="1981080"/>
            <a:ext cx="3782880" cy="4267440"/>
            <a:chOff x="4876920" y="1981080"/>
            <a:chExt cx="3782880" cy="4267440"/>
          </a:xfrm>
        </p:grpSpPr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4876920" y="1981080"/>
              <a:ext cx="3782880" cy="426744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  <p:sp>
          <p:nvSpPr>
            <p:cNvPr id="511" name=""/>
            <p:cNvSpPr/>
            <p:nvPr/>
          </p:nvSpPr>
          <p:spPr>
            <a:xfrm>
              <a:off x="5645160" y="3962520"/>
              <a:ext cx="146160" cy="55440"/>
            </a:xfrm>
            <a:custGeom>
              <a:avLst/>
              <a:gdLst/>
              <a:ahLst/>
              <a:rect l="l" t="t" r="r" b="b"/>
              <a:pathLst>
                <a:path w="829" h="342">
                  <a:moveTo>
                    <a:pt x="0" y="342"/>
                  </a:moveTo>
                  <a:cubicBezTo>
                    <a:pt x="38" y="293"/>
                    <a:pt x="128" y="98"/>
                    <a:pt x="226" y="49"/>
                  </a:cubicBezTo>
                  <a:cubicBezTo>
                    <a:pt x="324" y="0"/>
                    <a:pt x="488" y="0"/>
                    <a:pt x="588" y="49"/>
                  </a:cubicBezTo>
                  <a:cubicBezTo>
                    <a:pt x="688" y="98"/>
                    <a:pt x="779" y="281"/>
                    <a:pt x="829" y="34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16760" y="2992320"/>
              <a:ext cx="146160" cy="55800"/>
            </a:xfrm>
            <a:custGeom>
              <a:avLst/>
              <a:gdLst/>
              <a:ahLst/>
              <a:rect l="l" t="t" r="r" b="b"/>
              <a:pathLst>
                <a:path w="829" h="342">
                  <a:moveTo>
                    <a:pt x="0" y="342"/>
                  </a:moveTo>
                  <a:cubicBezTo>
                    <a:pt x="38" y="293"/>
                    <a:pt x="128" y="98"/>
                    <a:pt x="226" y="49"/>
                  </a:cubicBezTo>
                  <a:cubicBezTo>
                    <a:pt x="324" y="0"/>
                    <a:pt x="488" y="0"/>
                    <a:pt x="588" y="49"/>
                  </a:cubicBezTo>
                  <a:cubicBezTo>
                    <a:pt x="688" y="98"/>
                    <a:pt x="779" y="281"/>
                    <a:pt x="829" y="34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48720" y="3048120"/>
              <a:ext cx="145800" cy="55440"/>
            </a:xfrm>
            <a:custGeom>
              <a:avLst/>
              <a:gdLst/>
              <a:ahLst/>
              <a:rect l="l" t="t" r="r" b="b"/>
              <a:pathLst>
                <a:path w="829" h="342">
                  <a:moveTo>
                    <a:pt x="0" y="342"/>
                  </a:moveTo>
                  <a:cubicBezTo>
                    <a:pt x="38" y="293"/>
                    <a:pt x="128" y="98"/>
                    <a:pt x="226" y="49"/>
                  </a:cubicBezTo>
                  <a:cubicBezTo>
                    <a:pt x="324" y="0"/>
                    <a:pt x="488" y="0"/>
                    <a:pt x="588" y="49"/>
                  </a:cubicBezTo>
                  <a:cubicBezTo>
                    <a:pt x="688" y="98"/>
                    <a:pt x="779" y="281"/>
                    <a:pt x="829" y="342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200400" y="1600200"/>
            <a:ext cx="1447920" cy="1882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Extra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A.A, Burgess, Ravndal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638680" y="990720"/>
            <a:ext cx="167652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* Supergravity Kalosh et al.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rcRect l="0" t="16666" r="0" b="9376"/>
          <a:stretch/>
        </p:blipFill>
        <p:spPr>
          <a:xfrm>
            <a:off x="5562720" y="43434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498-8B08-4A64-A895-B0DF99B35320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295280" y="44197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521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2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CFB-808A-4DC5-8F0F-E68E80A0922B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838080" y="5486400"/>
            <a:ext cx="7162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530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1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9D3-6BF7-4769-9496-B8253E26B20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261960" y="33192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114300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deling cosmic acceleration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xciting challenges and new directions, many of which are connected with very fundamental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al opportunity for dramatic observational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114800" cy="3337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962520" y="6338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eller &amp;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0907600">
            <a:off x="7162920" y="4952520"/>
            <a:ext cx="5331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ACC-6876-4CCA-94A3-55C16523B8E9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4191120" y="1523880"/>
            <a:ext cx="4952880" cy="4571640"/>
            <a:chOff x="4191120" y="1523880"/>
            <a:chExt cx="4952880" cy="4571640"/>
          </a:xfrm>
        </p:grpSpPr>
        <p:sp>
          <p:nvSpPr>
            <p:cNvPr id="541" name=""/>
            <p:cNvSpPr/>
            <p:nvPr/>
          </p:nvSpPr>
          <p:spPr>
            <a:xfrm>
              <a:off x="4191120" y="1626480"/>
              <a:ext cx="14130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1"/>
            <a:srcRect l="9070" t="0" r="0" b="0"/>
            <a:stretch/>
          </p:blipFill>
          <p:spPr>
            <a:xfrm>
              <a:off x="6419520" y="1523880"/>
              <a:ext cx="272448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60720" y="5835960"/>
              <a:ext cx="706680" cy="25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5984640" y="2199240"/>
            <a:ext cx="353160" cy="33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84640" y="2199240"/>
                      <a:ext cx="353160" cy="33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6" name=""/>
            <p:cNvSpPr/>
            <p:nvPr/>
          </p:nvSpPr>
          <p:spPr>
            <a:xfrm>
              <a:off x="4571640" y="3394080"/>
              <a:ext cx="17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% dev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7" name=""/>
            <p:cNvGraphicFramePr/>
            <p:nvPr/>
          </p:nvGraphicFramePr>
          <p:xfrm>
            <a:off x="5821560" y="4589280"/>
            <a:ext cx="509400" cy="29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21560" y="4589280"/>
                      <a:ext cx="509400" cy="29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152280" y="1143000"/>
            <a:ext cx="4876920" cy="3952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952880" y="388620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52880" y="3962520"/>
            <a:ext cx="16002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 rot="1302000">
            <a:off x="5105160" y="3962520"/>
            <a:ext cx="1600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egeneracy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 rot="20907600">
            <a:off x="3200400" y="327672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64008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Parameters and Cosmic Confusion                       IV-</a:t>
            </a:r>
            <a:fld id="{55015D37-64F5-4DE4-B50E-049C2C7878F5}" type="slidenum">
              <a:rPr b="0" i="1" lang="en-US" sz="24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6400800"/>
            <a:ext cx="5715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152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B: Don’t be afraid of degeneracies!!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 can still distinguish among many interes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8640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aor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138-6747-4B35-A163-F2DBC3F584B2}" type="slidenum">
              <a:t>37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s far as we can tell so far, the cosmic acceleration might be the result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0000" y="2984400"/>
          <a:ext cx="405432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2984400"/>
                    <a:ext cx="4054320" cy="768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1 The cosmological constant problem / fundamental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6A1-089B-4490-96F5-C2FE00442E5D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2590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= 1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Comic Sans MS"/>
                <a:ea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038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3480" y="1371600"/>
            <a:ext cx="1130400" cy="1295280"/>
          </a:xfrm>
          <a:custGeom>
            <a:avLst/>
            <a:gdLst/>
            <a:ahLst/>
            <a:rect l="l" t="t" r="r" b="b"/>
            <a:pathLst>
              <a:path w="960" h="984">
                <a:moveTo>
                  <a:pt x="0" y="0"/>
                </a:moveTo>
                <a:cubicBezTo>
                  <a:pt x="25" y="94"/>
                  <a:pt x="89" y="410"/>
                  <a:pt x="150" y="564"/>
                </a:cubicBezTo>
                <a:cubicBezTo>
                  <a:pt x="211" y="718"/>
                  <a:pt x="294" y="864"/>
                  <a:pt x="366" y="924"/>
                </a:cubicBezTo>
                <a:cubicBezTo>
                  <a:pt x="438" y="984"/>
                  <a:pt x="516" y="978"/>
                  <a:pt x="582" y="924"/>
                </a:cubicBezTo>
                <a:cubicBezTo>
                  <a:pt x="648" y="870"/>
                  <a:pt x="699" y="754"/>
                  <a:pt x="762" y="600"/>
                </a:cubicBezTo>
                <a:cubicBezTo>
                  <a:pt x="825" y="446"/>
                  <a:pt x="919" y="125"/>
                  <a:pt x="960" y="0"/>
                </a:cubicBezTo>
              </a:path>
            </a:pathLst>
          </a:custGeom>
          <a:noFill/>
          <a:ln w="572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2066760"/>
            <a:ext cx="1752480" cy="60012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0" y="408"/>
                </a:moveTo>
                <a:cubicBezTo>
                  <a:pt x="48" y="406"/>
                  <a:pt x="201" y="413"/>
                  <a:pt x="288" y="396"/>
                </a:cubicBezTo>
                <a:cubicBezTo>
                  <a:pt x="375" y="379"/>
                  <a:pt x="466" y="344"/>
                  <a:pt x="522" y="306"/>
                </a:cubicBezTo>
                <a:cubicBezTo>
                  <a:pt x="578" y="268"/>
                  <a:pt x="591" y="207"/>
                  <a:pt x="624" y="168"/>
                </a:cubicBezTo>
                <a:cubicBezTo>
                  <a:pt x="657" y="129"/>
                  <a:pt x="677" y="100"/>
                  <a:pt x="720" y="72"/>
                </a:cubicBezTo>
                <a:cubicBezTo>
                  <a:pt x="763" y="44"/>
                  <a:pt x="828" y="0"/>
                  <a:pt x="882" y="0"/>
                </a:cubicBezTo>
                <a:cubicBezTo>
                  <a:pt x="936" y="0"/>
                  <a:pt x="996" y="42"/>
                  <a:pt x="1044" y="72"/>
                </a:cubicBezTo>
                <a:cubicBezTo>
                  <a:pt x="1092" y="102"/>
                  <a:pt x="1131" y="138"/>
                  <a:pt x="1170" y="180"/>
                </a:cubicBezTo>
                <a:cubicBezTo>
                  <a:pt x="1209" y="222"/>
                  <a:pt x="1225" y="278"/>
                  <a:pt x="1278" y="324"/>
                </a:cubicBezTo>
                <a:cubicBezTo>
                  <a:pt x="1331" y="370"/>
                  <a:pt x="1444" y="428"/>
                  <a:pt x="1488" y="456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3124080"/>
            <a:ext cx="198108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acuum Fluc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458800">
            <a:off x="2286000" y="3429000"/>
            <a:ext cx="1066680" cy="380880"/>
          </a:xfrm>
          <a:prstGeom prst="leftRightArrow">
            <a:avLst>
              <a:gd name="adj1" fmla="val 50000"/>
              <a:gd name="adj2" fmla="val 5575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073800">
            <a:off x="3733920" y="2285640"/>
            <a:ext cx="1066680" cy="380880"/>
          </a:xfrm>
          <a:prstGeom prst="leftRightArrow">
            <a:avLst>
              <a:gd name="adj1" fmla="val 50000"/>
              <a:gd name="adj2" fmla="val 5575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224200">
            <a:off x="4723920" y="3885840"/>
            <a:ext cx="1067040" cy="380880"/>
          </a:xfrm>
          <a:prstGeom prst="leftRightArrow">
            <a:avLst>
              <a:gd name="adj1" fmla="val 50000"/>
              <a:gd name="adj2" fmla="val 5577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304920"/>
            <a:ext cx="7086600" cy="1096920"/>
            <a:chOff x="380880" y="304920"/>
            <a:chExt cx="7086600" cy="1096920"/>
          </a:xfrm>
        </p:grpSpPr>
        <p:sp>
          <p:nvSpPr>
            <p:cNvPr id="75" name=""/>
            <p:cNvSpPr/>
            <p:nvPr/>
          </p:nvSpPr>
          <p:spPr>
            <a:xfrm>
              <a:off x="380880" y="304920"/>
              <a:ext cx="7086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Greatest unsolved problem in physics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Why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1600200" y="762120"/>
            <a:ext cx="2362320" cy="63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762120"/>
                      <a:ext cx="23623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1 The cosmological constant problem / fundamental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A8C-216A-49DC-B18C-9F45DDB2B62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51912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0 dream may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 more mature fundamental theory of gravity could overturn ideas about the origins of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uge potential for observations to impact fundamental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1 The cosmological constant problem / fundamental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DDA-1BB5-40EA-9D53-4C17AD036120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762120"/>
            <a:ext cx="7162920" cy="761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87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0F9-1E2E-4C74-9973-A3CF03491556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600200"/>
            <a:ext cx="7162920" cy="45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"/>
            <a:ext cx="7772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hallenges for models of cosmic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1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The cosmological constant problem / links to fundamental gra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2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The “why this/why now”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.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 Quantum corrections/long rang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53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II)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38080" y="2879640"/>
            <a:ext cx="8001000" cy="1989000"/>
            <a:chOff x="838080" y="2879640"/>
            <a:chExt cx="8001000" cy="1989000"/>
          </a:xfrm>
        </p:grpSpPr>
        <p:sp>
          <p:nvSpPr>
            <p:cNvPr id="96" name=""/>
            <p:cNvSpPr/>
            <p:nvPr/>
          </p:nvSpPr>
          <p:spPr>
            <a:xfrm>
              <a:off x="838080" y="2879640"/>
              <a:ext cx="800100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II) 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xciting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1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The quantum physics of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2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 (adventure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II.3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  <a:ea typeface="Arial"/>
                </a:rPr>
                <a:t> Dark energy/quintessence, Stage II (getting seriou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5059440" y="3398760"/>
            <a:ext cx="3506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9440" y="3398760"/>
                      <a:ext cx="350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"/>
          <p:cNvSpPr/>
          <p:nvPr/>
        </p:nvSpPr>
        <p:spPr>
          <a:xfrm>
            <a:off x="0" y="646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Cosmic acceleration and fundamental physics,      APS Apri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91E-A635-43F3-87C0-90F1FDAF33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647712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  <a:ea typeface="Arial"/>
              </a:rPr>
              <a:t>I.2 The “why this/why now”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400800"/>
            <a:ext cx="411480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Why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here does this strange parameter come fro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0000" y="2984400"/>
          <a:ext cx="405432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2984400"/>
                    <a:ext cx="4054320" cy="768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971800" y="4952880"/>
            <a:ext cx="556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not really a separate “why now problem”, with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754-D7A0-42CE-B910-3AE55E1C5AB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7:03:27Z</dcterms:created>
  <dc:creator>Andreas Albrecht</dc:creator>
  <dc:description/>
  <dc:language>en-US</dc:language>
  <cp:lastModifiedBy>Andreas Albrecht</cp:lastModifiedBy>
  <dcterms:modified xsi:type="dcterms:W3CDTF">2003-04-08T17:25:45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57454116</vt:r8>
  </property>
  <property fmtid="{D5CDD505-2E9C-101B-9397-08002B2CF9AE}" pid="3" name="_AuthorEmail">
    <vt:lpwstr>albrecht@physics.ucdavis.edu</vt:lpwstr>
  </property>
  <property fmtid="{D5CDD505-2E9C-101B-9397-08002B2CF9AE}" pid="4" name="_AuthorEmailDisplayName">
    <vt:lpwstr>Andreas Albrecht</vt:lpwstr>
  </property>
  <property fmtid="{D5CDD505-2E9C-101B-9397-08002B2CF9AE}" pid="5" name="_EmailSubject">
    <vt:lpwstr>collected talks</vt:lpwstr>
  </property>
</Properties>
</file>