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34A-7599-4008-9001-88292A39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FAF-3A2D-4CE0-B85E-A2144724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E1B-E876-4103-B586-ACE59F07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B3A-C0F8-4D87-B777-8FBC6DA2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2F1-4D6C-4F52-83A1-2036DD81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A04-9445-4D55-98C2-83EE4676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124-E17F-4CB6-9602-15E8EF78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5E7-1349-4F61-8819-555DA77A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F7A-04D7-466C-A8D6-365FB15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B2B-7567-4BED-9484-C85E48B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3A8-1EAF-46C7-8941-5AEA5FC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28F-D5DC-4886-85D8-747680C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560-ECA4-4E42-8FF8-E7F211ADB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North Atlantic Oscillation: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the non-linear aspect and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its long-range predi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Wilbur Y.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Climate Prediction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CEP/NWS/NO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640" y="1650960"/>
            <a:ext cx="10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JF 9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040" y="137160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JF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00920" y="3962520"/>
            <a:ext cx="12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JF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10200" y="30481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 = 0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6104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" y="3886200"/>
            <a:ext cx="148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J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51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191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51960" y="3821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18120" y="0"/>
            <a:ext cx="62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JF 91              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DJF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-304920"/>
            <a:ext cx="72421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98516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295280"/>
            <a:ext cx="80773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Precursors?  W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Non-linear nature of precursors &amp; NA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Circulation Regime match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(a framework for long-range prediction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Varying predictability within N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(while invariant for N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* Prediction skill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15720" y="969840"/>
            <a:ext cx="131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3352680"/>
            <a:ext cx="2568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O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57200" y="152280"/>
            <a:ext cx="582948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-380880"/>
            <a:ext cx="582948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9960" y="-73080"/>
            <a:ext cx="9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94520" y="174456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1501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040" y="1219320"/>
            <a:ext cx="212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S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04920" y="-112680"/>
            <a:ext cx="9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6324480" y="1676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733920" y="1828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5840" y="990720"/>
            <a:ext cx="19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year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cu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160" y="182880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2400" y="57150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-&gt; D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5400" y="5715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A -&gt; D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8760" y="57150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 -&gt; D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57440" y="-343080"/>
            <a:ext cx="582912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-304920"/>
            <a:ext cx="5564160" cy="449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82912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533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57440" y="-343080"/>
            <a:ext cx="582912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57440" y="-343080"/>
            <a:ext cx="5829120" cy="754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360" y="2895480"/>
            <a:ext cx="115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609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8160" y="2286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520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4480" y="5410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3280" y="2743200"/>
            <a:ext cx="163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07:26:33Z</dcterms:created>
  <dc:creator>Chen</dc:creator>
  <dc:description/>
  <dc:language>en-US</dc:language>
  <cp:lastModifiedBy>CPC</cp:lastModifiedBy>
  <dcterms:modified xsi:type="dcterms:W3CDTF">2005-01-07T18:43:44Z</dcterms:modified>
  <cp:revision>5</cp:revision>
  <dc:subject/>
  <dc:title>North Atlantic Oscillation: the non-linear aspect and its long-range prediction </dc:title>
</cp:coreProperties>
</file>