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ct" ContentType="image/x-pict"/>
  <Override PartName="/ppt/media/image5.pct" ContentType="image/x-pict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1FA1-A95A-456C-B4E0-AE511624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77316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20E2-4C97-405D-A24D-5210FB29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731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37731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5B6D-CE87-419D-A47F-E0520075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7731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37731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37731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64C-2E92-47A9-939A-68BA7075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0E43-221C-4BE5-B17A-2002B094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25A0-57E4-4AA5-8EC2-5083BB80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B9E2-F214-416F-AEB3-5328578C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F2C6-4B2A-47ED-BA6A-DFC41020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85341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E22B-0006-49F8-BD27-390DEC4C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7731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36D8-35C8-4E53-8D48-7DD650B2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37731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9619-32C3-4353-8181-2EF0D3A7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77316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1C4A-35DD-416E-821A-006A2F2D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82520" y="270000"/>
            <a:ext cx="8778960" cy="5216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657a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0666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a3475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4751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  <a:p>
            <a:pPr lvl="1" marL="568440" indent="-228600">
              <a:spcBef>
                <a:spcPts val="700"/>
              </a:spcBef>
              <a:buClr>
                <a:srgbClr val="4d696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4751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  <a:p>
            <a:pPr lvl="2" marL="792000" indent="-1094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4751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  <a:p>
            <a:pPr lvl="3" marL="1019160" indent="-112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4751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  <a:p>
            <a:pPr lvl="4" marL="1301760" indent="-16812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4751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  <a:p>
            <a:pPr lvl="5" marL="1301760" indent="-16812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4751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  <a:p>
            <a:pPr lvl="6" marL="1301760" indent="-16812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4751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743200" y="6305040"/>
            <a:ext cx="365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3657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3657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12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AB06-815B-41CF-A372-F5B9FA930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53440" y="6000840"/>
            <a:ext cx="714240" cy="78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ct"/><Relationship Id="rId4" Type="http://schemas.openxmlformats.org/officeDocument/2006/relationships/image" Target="../media/image7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657a"/>
                </a:solidFill>
                <a:latin typeface="Verdana"/>
              </a:rPr>
              <a:t>TeraGrid AAA (Today)</a:t>
            </a: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4751"/>
                </a:solidFill>
                <a:latin typeface="Tahoma"/>
              </a:rPr>
              <a:t>Jim Marsteller</a:t>
            </a: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4751"/>
                </a:solidFill>
                <a:latin typeface="Tahoma"/>
              </a:rPr>
              <a:t>PSC</a:t>
            </a: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4751"/>
                </a:solidFill>
                <a:latin typeface="Tahoma"/>
              </a:rPr>
              <a:t>Jam@psc.edu</a:t>
            </a: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657a"/>
                </a:solidFill>
                <a:latin typeface="Verdana"/>
              </a:rPr>
              <a:t>TeraGrid Account Creation</a:t>
            </a: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1617480" cy="2438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61240" y="47858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archer/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260160" y="2209680"/>
            <a:ext cx="2775960" cy="3261960"/>
            <a:chOff x="3260160" y="2209680"/>
            <a:chExt cx="2775960" cy="326196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3581280" y="2209680"/>
              <a:ext cx="2117880" cy="21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260160" y="4890960"/>
              <a:ext cx="2775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nership Online Propos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ystem (POP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2438280" y="3429000"/>
            <a:ext cx="838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6960" y="1065600"/>
            <a:ext cx="30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roject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858000" y="2971800"/>
            <a:ext cx="1905120" cy="42876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5792760" y="2666520"/>
            <a:ext cx="982440" cy="533880"/>
            <a:chOff x="5792760" y="2666520"/>
            <a:chExt cx="982440" cy="533880"/>
          </a:xfrm>
        </p:grpSpPr>
        <p:sp>
          <p:nvSpPr>
            <p:cNvPr id="55" name=""/>
            <p:cNvSpPr/>
            <p:nvPr/>
          </p:nvSpPr>
          <p:spPr>
            <a:xfrm>
              <a:off x="5867280" y="3200400"/>
              <a:ext cx="838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792760" y="2666520"/>
              <a:ext cx="98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657a"/>
                </a:solidFill>
                <a:latin typeface="Verdana"/>
              </a:rPr>
              <a:t>TeraGrid Account Creation</a:t>
            </a: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3126960" y="1065600"/>
            <a:ext cx="30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roject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1600200" cy="360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6880" y="2894400"/>
            <a:ext cx="92592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0400" y="4280040"/>
            <a:ext cx="1517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33526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480024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 V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2803680"/>
            <a:ext cx="3167640" cy="459720"/>
            <a:chOff x="1676520" y="2803680"/>
            <a:chExt cx="3167640" cy="459720"/>
          </a:xfrm>
        </p:grpSpPr>
        <p:sp>
          <p:nvSpPr>
            <p:cNvPr id="65" name=""/>
            <p:cNvSpPr/>
            <p:nvPr/>
          </p:nvSpPr>
          <p:spPr>
            <a:xfrm>
              <a:off x="3598200" y="2803680"/>
              <a:ext cx="124596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TGCD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76520" y="304812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012440" y="1295280"/>
            <a:ext cx="1232280" cy="3520800"/>
            <a:chOff x="7012440" y="1295280"/>
            <a:chExt cx="1232280" cy="3520800"/>
          </a:xfrm>
        </p:grpSpPr>
        <p:sp>
          <p:nvSpPr>
            <p:cNvPr id="68" name=""/>
            <p:cNvSpPr/>
            <p:nvPr/>
          </p:nvSpPr>
          <p:spPr>
            <a:xfrm>
              <a:off x="7158960" y="2070360"/>
              <a:ext cx="772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AN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83000" y="2832480"/>
              <a:ext cx="80568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PS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83000" y="3594240"/>
              <a:ext cx="102492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SDS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082640" y="4356360"/>
              <a:ext cx="116208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Purd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12440" y="1295280"/>
              <a:ext cx="104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876560" y="2437560"/>
            <a:ext cx="2057760" cy="459000"/>
            <a:chOff x="4876560" y="2437560"/>
            <a:chExt cx="2057760" cy="459000"/>
          </a:xfrm>
        </p:grpSpPr>
        <p:sp>
          <p:nvSpPr>
            <p:cNvPr id="74" name=""/>
            <p:cNvSpPr/>
            <p:nvPr/>
          </p:nvSpPr>
          <p:spPr>
            <a:xfrm>
              <a:off x="4876560" y="2437560"/>
              <a:ext cx="187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Arial"/>
                </a:rPr>
                <a:t>RP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Arial"/>
                </a:rPr>
                <a:t>(Request Project Creat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6920" y="2895480"/>
              <a:ext cx="2057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876920" y="3123360"/>
            <a:ext cx="2057400" cy="459000"/>
            <a:chOff x="4876920" y="3123360"/>
            <a:chExt cx="2057400" cy="459000"/>
          </a:xfrm>
        </p:grpSpPr>
        <p:sp>
          <p:nvSpPr>
            <p:cNvPr id="77" name=""/>
            <p:cNvSpPr/>
            <p:nvPr/>
          </p:nvSpPr>
          <p:spPr>
            <a:xfrm>
              <a:off x="5029200" y="3123360"/>
              <a:ext cx="1692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NP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(Notify Project Creat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6920" y="3124080"/>
              <a:ext cx="20574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657a"/>
                </a:solidFill>
                <a:latin typeface="Verdana"/>
              </a:rPr>
              <a:t>TeraGrid Account Creation</a:t>
            </a: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1365120" cy="2057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4800" y="4495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archer/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7760" y="4723920"/>
            <a:ext cx="3804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aGrid Add/Delete User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teragrid.org/userinfo/add_user.p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342900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51000" y="76104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User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38280" y="1600200"/>
            <a:ext cx="4114800" cy="305928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7275600" y="4267080"/>
            <a:ext cx="1706400" cy="565560"/>
            <a:chOff x="7275600" y="4267080"/>
            <a:chExt cx="1706400" cy="565560"/>
          </a:xfrm>
        </p:grpSpPr>
        <p:pic>
          <p:nvPicPr>
            <p:cNvPr id="87" name="" descr=""/>
            <p:cNvPicPr/>
            <p:nvPr/>
          </p:nvPicPr>
          <p:blipFill>
            <a:blip r:embed="rId3"/>
            <a:stretch/>
          </p:blipFill>
          <p:spPr>
            <a:xfrm>
              <a:off x="7467480" y="4267080"/>
              <a:ext cx="121932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275600" y="4495320"/>
              <a:ext cx="170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locations Dep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603920" y="2895480"/>
            <a:ext cx="1070640" cy="1132560"/>
            <a:chOff x="7603920" y="2895480"/>
            <a:chExt cx="1070640" cy="1132560"/>
          </a:xfrm>
        </p:grpSpPr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7772400" y="2895480"/>
              <a:ext cx="80964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603920" y="3690720"/>
              <a:ext cx="107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w 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7696080" y="1143000"/>
            <a:ext cx="858960" cy="1632240"/>
            <a:chOff x="7696080" y="1143000"/>
            <a:chExt cx="858960" cy="1632240"/>
          </a:xfrm>
        </p:grpSpPr>
        <p:pic>
          <p:nvPicPr>
            <p:cNvPr id="93" name="" descr=""/>
            <p:cNvPicPr/>
            <p:nvPr/>
          </p:nvPicPr>
          <p:blipFill>
            <a:blip r:embed="rId5"/>
            <a:stretch/>
          </p:blipFill>
          <p:spPr>
            <a:xfrm>
              <a:off x="7696080" y="1143000"/>
              <a:ext cx="8589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924680" y="2437920"/>
              <a:ext cx="37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477120" y="2438280"/>
            <a:ext cx="1143000" cy="609840"/>
            <a:chOff x="6477120" y="2438280"/>
            <a:chExt cx="1143000" cy="609840"/>
          </a:xfrm>
        </p:grpSpPr>
        <p:sp>
          <p:nvSpPr>
            <p:cNvPr id="96" name=""/>
            <p:cNvSpPr/>
            <p:nvPr/>
          </p:nvSpPr>
          <p:spPr>
            <a:xfrm>
              <a:off x="6477120" y="3048120"/>
              <a:ext cx="1143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67480" y="2438280"/>
              <a:ext cx="66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p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657a"/>
                </a:solidFill>
                <a:latin typeface="Verdana"/>
              </a:rPr>
              <a:t>TeraGrid Account Creation</a:t>
            </a: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3053880" y="106560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Account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1600200" cy="360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6880" y="2894400"/>
            <a:ext cx="92592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6760" y="4281480"/>
            <a:ext cx="1070640" cy="580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New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V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3526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676520" y="2803680"/>
            <a:ext cx="3167640" cy="459720"/>
            <a:chOff x="1676520" y="2803680"/>
            <a:chExt cx="3167640" cy="459720"/>
          </a:xfrm>
        </p:grpSpPr>
        <p:sp>
          <p:nvSpPr>
            <p:cNvPr id="105" name=""/>
            <p:cNvSpPr/>
            <p:nvPr/>
          </p:nvSpPr>
          <p:spPr>
            <a:xfrm>
              <a:off x="3598200" y="2803680"/>
              <a:ext cx="124596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TGCD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304812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7012440" y="1295280"/>
            <a:ext cx="1232280" cy="3520800"/>
            <a:chOff x="7012440" y="1295280"/>
            <a:chExt cx="1232280" cy="3520800"/>
          </a:xfrm>
        </p:grpSpPr>
        <p:sp>
          <p:nvSpPr>
            <p:cNvPr id="108" name=""/>
            <p:cNvSpPr/>
            <p:nvPr/>
          </p:nvSpPr>
          <p:spPr>
            <a:xfrm>
              <a:off x="7162200" y="2070360"/>
              <a:ext cx="772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AN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83000" y="2832480"/>
              <a:ext cx="80568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PS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3000" y="3594240"/>
              <a:ext cx="102492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SDS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82640" y="4356360"/>
              <a:ext cx="116208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Purd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12440" y="1295280"/>
              <a:ext cx="104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840920" y="2437560"/>
            <a:ext cx="2093400" cy="459000"/>
            <a:chOff x="4840920" y="2437560"/>
            <a:chExt cx="2093400" cy="459000"/>
          </a:xfrm>
        </p:grpSpPr>
        <p:sp>
          <p:nvSpPr>
            <p:cNvPr id="114" name=""/>
            <p:cNvSpPr/>
            <p:nvPr/>
          </p:nvSpPr>
          <p:spPr>
            <a:xfrm>
              <a:off x="4840920" y="2437560"/>
              <a:ext cx="194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Arial"/>
                </a:rPr>
                <a:t>RA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Arial"/>
                </a:rPr>
                <a:t>(Request Account Creat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2895480"/>
              <a:ext cx="2057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876920" y="3123360"/>
            <a:ext cx="2133360" cy="459000"/>
            <a:chOff x="4876920" y="3123360"/>
            <a:chExt cx="2133360" cy="459000"/>
          </a:xfrm>
        </p:grpSpPr>
        <p:sp>
          <p:nvSpPr>
            <p:cNvPr id="117" name=""/>
            <p:cNvSpPr/>
            <p:nvPr/>
          </p:nvSpPr>
          <p:spPr>
            <a:xfrm>
              <a:off x="5029200" y="3123360"/>
              <a:ext cx="198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NA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(Notify Account Creat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6920" y="3124080"/>
              <a:ext cx="20574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09480" y="5152680"/>
            <a:ext cx="2362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 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ffiliation Ve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657a"/>
                </a:solidFill>
                <a:latin typeface="Verdana"/>
              </a:rPr>
              <a:t>TeraGrid Account Creation</a:t>
            </a: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3051000" y="76104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User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68280" y="2895480"/>
            <a:ext cx="1219320" cy="274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79280" y="3123720"/>
            <a:ext cx="17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cations Dep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299000" y="2590920"/>
            <a:ext cx="1070640" cy="1132200"/>
            <a:chOff x="7299000" y="2590920"/>
            <a:chExt cx="1070640" cy="1132200"/>
          </a:xfrm>
        </p:grpSpPr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7467480" y="2590920"/>
              <a:ext cx="80964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299000" y="3385800"/>
              <a:ext cx="107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w 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114800" y="2438280"/>
            <a:ext cx="858960" cy="1632600"/>
            <a:chOff x="4114800" y="2438280"/>
            <a:chExt cx="858960" cy="1632600"/>
          </a:xfrm>
        </p:grpSpPr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4114800" y="2438280"/>
              <a:ext cx="858960" cy="12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4343400" y="3733560"/>
              <a:ext cx="37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828800" y="2468520"/>
            <a:ext cx="2133720" cy="655560"/>
            <a:chOff x="1828800" y="2468520"/>
            <a:chExt cx="2133720" cy="655560"/>
          </a:xfrm>
        </p:grpSpPr>
        <p:sp>
          <p:nvSpPr>
            <p:cNvPr id="131" name=""/>
            <p:cNvSpPr/>
            <p:nvPr/>
          </p:nvSpPr>
          <p:spPr>
            <a:xfrm>
              <a:off x="1828800" y="3124080"/>
              <a:ext cx="2133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18800" y="2468520"/>
              <a:ext cx="1593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nail Mai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count Pack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074560" y="2438280"/>
            <a:ext cx="2164320" cy="685800"/>
            <a:chOff x="5074560" y="2438280"/>
            <a:chExt cx="2164320" cy="685800"/>
          </a:xfrm>
        </p:grpSpPr>
        <p:sp>
          <p:nvSpPr>
            <p:cNvPr id="134" name=""/>
            <p:cNvSpPr/>
            <p:nvPr/>
          </p:nvSpPr>
          <p:spPr>
            <a:xfrm>
              <a:off x="5105520" y="3124080"/>
              <a:ext cx="2133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74560" y="2438280"/>
              <a:ext cx="1974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I Distribu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cket to New 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3520" y="3581280"/>
            <a:ext cx="190476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C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3276720"/>
            <a:ext cx="19047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2362320"/>
            <a:ext cx="762120" cy="1371600"/>
          </a:xfrm>
          <a:prstGeom prst="can">
            <a:avLst>
              <a:gd name="adj" fmla="val 158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t’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905120" y="2286000"/>
            <a:ext cx="838080" cy="533520"/>
            <a:chOff x="1905120" y="2286000"/>
            <a:chExt cx="838080" cy="533520"/>
          </a:xfrm>
        </p:grpSpPr>
        <p:sp>
          <p:nvSpPr>
            <p:cNvPr id="140" name=""/>
            <p:cNvSpPr/>
            <p:nvPr/>
          </p:nvSpPr>
          <p:spPr>
            <a:xfrm>
              <a:off x="2133720" y="2286000"/>
              <a:ext cx="609480" cy="533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57400" y="2286000"/>
              <a:ext cx="609480" cy="533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1080" y="2286000"/>
              <a:ext cx="609840" cy="533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05120" y="2286000"/>
              <a:ext cx="609480" cy="533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31720" y="4724280"/>
            <a:ext cx="36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P traditional HPC accou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2057400"/>
            <a:ext cx="4114800" cy="3124080"/>
          </a:xfrm>
          <a:prstGeom prst="rect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3276720"/>
            <a:ext cx="914400" cy="228600"/>
          </a:xfrm>
          <a:prstGeom prst="leftRightArrow">
            <a:avLst>
              <a:gd name="adj1" fmla="val 50000"/>
              <a:gd name="adj2" fmla="val 59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514600"/>
            <a:ext cx="609480" cy="152280"/>
          </a:xfrm>
          <a:prstGeom prst="leftArrow">
            <a:avLst>
              <a:gd name="adj1" fmla="val 50000"/>
              <a:gd name="adj2" fmla="val 1000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2819520"/>
            <a:ext cx="457200" cy="457200"/>
          </a:xfrm>
          <a:prstGeom prst="downArrow">
            <a:avLst>
              <a:gd name="adj1" fmla="val 63889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2514600"/>
            <a:ext cx="1447920" cy="1828800"/>
          </a:xfrm>
          <a:prstGeom prst="can">
            <a:avLst>
              <a:gd name="adj" fmla="val 15106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C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2971800"/>
            <a:ext cx="1676160" cy="609480"/>
          </a:xfrm>
          <a:prstGeom prst="leftRightArrow">
            <a:avLst>
              <a:gd name="adj1" fmla="val 68231"/>
              <a:gd name="adj2" fmla="val 5495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01000" y="4343400"/>
            <a:ext cx="838080" cy="11430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15200" y="4800600"/>
            <a:ext cx="685800" cy="152280"/>
          </a:xfrm>
          <a:prstGeom prst="leftArrow">
            <a:avLst>
              <a:gd name="adj1" fmla="val 50000"/>
              <a:gd name="adj2" fmla="val 11258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4724280"/>
            <a:ext cx="68580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C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81680" y="434340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657a"/>
                </a:solidFill>
                <a:latin typeface="Verdana"/>
              </a:rPr>
              <a:t>TG Account Management</a:t>
            </a:r>
            <a:br>
              <a:rPr sz="3200"/>
            </a:br>
            <a:r>
              <a:rPr b="0" lang="en-US" sz="3200" spc="-1" strike="noStrike">
                <a:solidFill>
                  <a:srgbClr val="53657a"/>
                </a:solidFill>
                <a:latin typeface="Verdana"/>
              </a:rPr>
              <a:t>Overview</a:t>
            </a: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54864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_us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81680" y="5105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41148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4068720"/>
            <a:ext cx="72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gu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24680" y="1752480"/>
            <a:ext cx="990720" cy="914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60" idx="2"/>
            <a:endCxn id="149" idx="4"/>
          </p:cNvCxnSpPr>
          <p:nvPr/>
        </p:nvCxnSpPr>
        <p:spPr>
          <a:xfrm rot="5400000">
            <a:off x="7600320" y="2609640"/>
            <a:ext cx="76284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1671480" y="5924520"/>
            <a:ext cx="3129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6400440"/>
            <a:ext cx="41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Diagram Provided by Dave Hart (SDS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657a"/>
                </a:solidFill>
                <a:latin typeface="Verdana"/>
              </a:rPr>
              <a:t>FIN</a:t>
            </a:r>
            <a:endParaRPr b="0" lang="en-US" sz="3200" spc="-1" strike="noStrike">
              <a:solidFill>
                <a:srgbClr val="53657a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3475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m Marsteller</cp:lastModifiedBy>
  <dcterms:modified xsi:type="dcterms:W3CDTF">2006-09-01T13:01:04Z</dcterms:modified>
  <cp:revision>12</cp:revision>
  <dc:subject/>
  <dc:title>TeraGrid 2.0</dc:title>
</cp:coreProperties>
</file>