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9CE-8FE6-4F4A-A05C-B9BC975D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000-83AB-40EE-9271-666C1293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76E-C0E9-4E46-8719-7DE95407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88D-1B23-4D93-BB21-A2120465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1C2-902D-4A05-940C-F4755ED6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B35-CDE3-48E7-9A25-6DDCED43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281-46FB-4382-B884-617A00A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DDB-CA20-4227-8452-346194CE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389-C9FB-419C-8219-96D98B56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8E0-00C6-4B82-9C47-9A2340C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DC4-95DB-4B68-AA18-67FBB8EB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CCE-8AE1-4C45-8CBD-CB10E3C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0A37-E724-4795-AA2F-6CB0C183C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g Gra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to 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pecification of fully reduced workflow specification (all contexts resolved, job leve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pecification of contexts actually used in modifying a workflow (why does a constant have value x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pecifica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Job is an Application Configuration and Job Cre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uses metadata to abstract application steps and bolt them together into a workflow (Configura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uses metadata to abstract service invocations and iterators to parallelize job creation (other Configurator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has an abstract model of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can be translated into concrete jobs for a variety of environments (local or grid)  later depending on what modules are plugg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Job does job creation in scripts (parallelized or n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Job scripts support external service invocations, looping over data things, inline job submission, metadata constraint modeling among applications and services, persistence, and conventional prov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s can be factored into simpler scripts and contexts.  Contexts contain site level details, administrative details, logical details about constraints on the simpler scrip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ing the context scripts can enable “meta-provenance” in the sense that recording constraints provides clues as to why certain parameters are set the way they are instead of just their val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ial Monte Carlo Gene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30 sites, over 75 million GEANT events, controlled centrally by central RefDB (pull mode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halleng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CERN to govern online reconstruction of simulated data at 25 Hz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FNAL to create physics plots from reconstructed data transferred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Job in C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to Run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P: An XML persistenc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EEK: Runtime extensions to RunJob, monitoring, and late job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ger: An event lo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Objects: Abstract descriptions of jobs that serve as input to code generators producing actual jobs for specific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: A GUI for construction Configurators and workf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5105520"/>
            <a:ext cx="15238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Cata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5105520"/>
            <a:ext cx="152424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/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99480" y="2819520"/>
            <a:ext cx="62485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tainer for Configurators that en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 propagation, workflow modeling, proven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ing, and context resolution of scrip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62520"/>
            <a:ext cx="62485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riented,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description of services or application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s for extending behaviors to many enviro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51055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5105520"/>
            <a:ext cx="15238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13372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133720"/>
            <a:ext cx="3124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2860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2860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1371600"/>
            <a:ext cx="838080" cy="900000"/>
          </a:xfrm>
          <a:prstGeom prst="downArrow">
            <a:avLst>
              <a:gd name="adj1" fmla="val 50000"/>
              <a:gd name="adj2" fmla="val 26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1371600"/>
            <a:ext cx="838080" cy="900000"/>
          </a:xfrm>
          <a:prstGeom prst="downArrow">
            <a:avLst>
              <a:gd name="adj1" fmla="val 50000"/>
              <a:gd name="adj2" fmla="val 26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943600"/>
            <a:ext cx="1676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ript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to Phy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 Parameters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hysics group: in a context file written by a special user designated by the physic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s working within a physics group will inherit these parameters by using a common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s multiple applications according to the same set of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knowledgeable user: in a personal MCRunjob script file or in a personal context fi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novice user: on the command line of a pre-existing MCRunjob script written by a knowledgeabl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case, the novice is restricted to specifying parameters foreseen by the author of the MCRunjob script in ques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685080" y="3733920"/>
            <a:ext cx="70102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tainer for Configurators that en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 propagation, workflow modeling, proven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ing, and context resolution of scrip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74320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74320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Job Con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2860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152280"/>
            <a:ext cx="1828800" cy="914400"/>
          </a:xfrm>
          <a:prstGeom prst="ellipse">
            <a:avLst/>
          </a:prstGeom>
          <a:solidFill>
            <a:srgbClr val="75e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143000"/>
            <a:ext cx="685800" cy="1752480"/>
          </a:xfrm>
          <a:prstGeom prst="downArrow">
            <a:avLst>
              <a:gd name="adj1" fmla="val 50000"/>
              <a:gd name="adj2" fmla="val 63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066680"/>
            <a:ext cx="609480" cy="1828800"/>
          </a:xfrm>
          <a:prstGeom prst="downArrow">
            <a:avLst>
              <a:gd name="adj1" fmla="val 50000"/>
              <a:gd name="adj2" fmla="val 7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2240" y="1219320"/>
            <a:ext cx="2968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User’s Job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Batch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Physics Parameters of User Inte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TopMass=27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Specification of Which Contex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03960" y="990720"/>
            <a:ext cx="371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Physics Parameters set by Physic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HiggsMass=11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3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 Parameters from a Control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Physical Description of Site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 BatchManager=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Configuration of Site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FBSQueueName=CMS; Submit Jobs I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4876920"/>
            <a:ext cx="914400" cy="1295280"/>
          </a:xfrm>
          <a:prstGeom prst="downArrow">
            <a:avLst>
              <a:gd name="adj1" fmla="val 50000"/>
              <a:gd name="adj2" fmla="val 354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8160" y="4876920"/>
            <a:ext cx="392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Combine all specified contex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Fully Specified Workflow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attach Control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gsMass=11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 Parameters from a Control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S QueueName=CMS; Submit Jobs I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4290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3429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42900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Read User Scr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1920" y="3429000"/>
            <a:ext cx="28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Read Context(s) specified by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066680"/>
            <a:ext cx="380880" cy="2286000"/>
          </a:xfrm>
          <a:prstGeom prst="upArrow">
            <a:avLst>
              <a:gd name="adj1" fmla="val 50000"/>
              <a:gd name="adj2" fmla="val 15004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240" y="34290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6120" y="586728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4724280"/>
            <a:ext cx="457200" cy="18288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00200" y="57150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447920" y="152280"/>
            <a:ext cx="62481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tainer for Configurators that en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 propagation, workflow modeling, proven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ing, and context resolution of scrip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048120"/>
            <a:ext cx="62481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Oriented,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description of services or application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s for extending behaviors to many enviro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71500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th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71500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4560" y="1254240"/>
            <a:ext cx="3448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Fully Specified Workflow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g- attach Control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gsMass=11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5 GeV/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 Parameters from a Control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S QueueName=CMS; Submit J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295280"/>
            <a:ext cx="380880" cy="1752840"/>
          </a:xfrm>
          <a:prstGeom prst="downArrow">
            <a:avLst>
              <a:gd name="adj1" fmla="val 50000"/>
              <a:gd name="adj2" fmla="val 1150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5715000"/>
            <a:ext cx="990720" cy="685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943600"/>
            <a:ext cx="304560" cy="228600"/>
          </a:xfrm>
          <a:prstGeom prst="leftRightArrow">
            <a:avLst>
              <a:gd name="adj1" fmla="val 50000"/>
              <a:gd name="adj2" fmla="val 265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648320"/>
            <a:ext cx="228600" cy="1143000"/>
          </a:xfrm>
          <a:prstGeom prst="downArrow">
            <a:avLst>
              <a:gd name="adj1" fmla="val 50000"/>
              <a:gd name="adj2" fmla="val 1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7360" y="4191120"/>
            <a:ext cx="17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Control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 decay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2640" y="5257800"/>
            <a:ext cx="138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urn dec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s: {x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11480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44197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191120"/>
            <a:ext cx="182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gsMass=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Mass=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ayParameters {x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11480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1800" y="5273640"/>
            <a:ext cx="121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urn Pyt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ipt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876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1143000"/>
            <a:ext cx="457200" cy="1447920"/>
          </a:xfrm>
          <a:prstGeom prst="upArrow">
            <a:avLst>
              <a:gd name="adj1" fmla="val 50000"/>
              <a:gd name="adj2" fmla="val 791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1911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 F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SQueueName=C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Job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4038480"/>
            <a:ext cx="228600" cy="1219320"/>
          </a:xfrm>
          <a:prstGeom prst="upArrow">
            <a:avLst>
              <a:gd name="adj1" fmla="val 50000"/>
              <a:gd name="adj2" fmla="val 13334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25780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BS 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259092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BS Subm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5638680"/>
            <a:ext cx="985680" cy="762120"/>
          </a:xfrm>
          <a:custGeom>
            <a:avLst/>
            <a:gdLst>
              <a:gd name="textAreaLeft" fmla="*/ 216720 w 985680"/>
              <a:gd name="textAreaRight" fmla="*/ 768960 w 98568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5943600"/>
            <a:ext cx="290520" cy="228600"/>
          </a:xfrm>
          <a:prstGeom prst="rightArrow">
            <a:avLst>
              <a:gd name="adj1" fmla="val 50000"/>
              <a:gd name="adj2" fmla="val 31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37:30Z</dcterms:created>
  <dc:creator>Trial User</dc:creator>
  <dc:description/>
  <dc:language>en-US</dc:language>
  <cp:lastModifiedBy>Trial User</cp:lastModifiedBy>
  <dcterms:modified xsi:type="dcterms:W3CDTF">2004-03-16T16:35:23Z</dcterms:modified>
  <cp:revision>14</cp:revision>
  <dc:subject/>
  <dc:title>RunJob in CMS</dc:title>
</cp:coreProperties>
</file>