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4.emf" ContentType="image/x-emf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2ED12-0CE9-457A-9137-AB9A63299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73AC-FC0E-4856-B3F9-84CF0EE54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8B7F-8826-45C0-BD9F-B7E72118F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E40A-03FF-4172-8559-2CBB15921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12D54-C7EC-465C-8CE4-355EE01912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051AA-F70B-4FD8-A0EB-10501DE828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7BF1A-4145-4882-903F-F56383C81D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25C0F-FB40-4C8E-AA5D-7A24A6B299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A88D3-2685-480D-AF01-E051B441E8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696F7-0F92-4072-9D43-459A115BF1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BE1F8-0EBB-4CDE-B983-B04000A955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5B51-A6B4-483C-A0A7-6894FDED8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D26D4-2460-4FB3-8A49-8C173AC70B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BCD53-6A12-425E-B56F-E19FF1B92D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345FD-01A7-4F38-B220-B28511031B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0D02E-D0E4-4C6F-9067-D52E7697D9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96481-F1F5-44E3-95BA-3435004505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5BA9-B88C-461E-B130-C3FFBE3AF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BCFE-1E79-4E9D-9020-B60D1728D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6913-D7BF-4A98-BA0C-3516565F5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5C33-7D43-4ADD-B233-29D090BF7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53C4-9C2F-4515-B2DD-D10F89BF4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A5D96-579C-42AE-8D93-0573C1E2B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4402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47DF-D798-49E3-A844-325ACC125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e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38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38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38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3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38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3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46B1-0B83-4FD7-B801-4E64415FA6A6}" type="slidenum">
              <a:rPr b="0" lang="en-US" sz="1400" spc="-1" strike="noStrike">
                <a:solidFill>
                  <a:srgbClr val="00038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685800" cy="4032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533520" cy="3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8458200" y="0"/>
          <a:ext cx="4953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58200" y="0"/>
                    <a:ext cx="495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60020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3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38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3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8907-FA5A-4F77-90DA-D4548396B034}" type="slidenum">
              <a:rPr b="0" lang="en-US" sz="1400" spc="-1" strike="noStrike">
                <a:solidFill>
                  <a:srgbClr val="00038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81680" y="457200"/>
            <a:ext cx="1752840" cy="1030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62120" y="439560"/>
            <a:ext cx="1523880" cy="104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886200" y="304920"/>
          <a:ext cx="1447920" cy="118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304920"/>
                    <a:ext cx="14479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38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38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38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38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38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38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38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38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38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38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38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38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3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60020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ing Space-Based Constraints on the Chemical Composition of Aeroso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Pepijn Veefkind, Ben Veihelmann,</a:t>
            </a:r>
            <a:br>
              <a:rPr sz="2400"/>
            </a:b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Folkert Boersma and Pieternel Levelt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bal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98040" y="1231560"/>
            <a:ext cx="8115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OMI NO</a:t>
            </a:r>
            <a:r>
              <a:rPr b="0" lang="en-US" sz="28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 Domino Product monthly mean </a:t>
            </a:r>
            <a:br>
              <a:rPr sz="2800"/>
            </a:b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(1x1 degree) </a:t>
            </a:r>
            <a:endParaRPr b="0" lang="en-US" sz="28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MODIS Aqua AOD at 550 nm monthly mean, (1x1 degree)</a:t>
            </a:r>
            <a:endParaRPr b="0" lang="en-US" sz="28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Correlation calculated for 10x10 degree regions (max 100 points, at least 50 co-locations)</a:t>
            </a:r>
            <a:endParaRPr b="0" lang="en-US" sz="28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Data is filtered for tropospheric NO</a:t>
            </a:r>
            <a:r>
              <a:rPr b="0" lang="en-US" sz="28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 larger than 5x10</a:t>
            </a:r>
            <a:r>
              <a:rPr b="0" lang="en-US" sz="2800" spc="-1" strike="noStrike" baseline="30000">
                <a:solidFill>
                  <a:srgbClr val="00038b"/>
                </a:solidFill>
                <a:latin typeface="Arial"/>
              </a:rPr>
              <a:t>14 </a:t>
            </a: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molec./cm</a:t>
            </a:r>
            <a:r>
              <a:rPr b="0" lang="en-US" sz="2800" spc="-1" strike="noStrike" baseline="30000">
                <a:solidFill>
                  <a:srgbClr val="00038b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38b"/>
                </a:solidFill>
                <a:latin typeface="Arial"/>
              </a:rPr>
              <a:t>Data period 2005-2007</a:t>
            </a:r>
            <a:endParaRPr b="0" lang="en-US" sz="2800" spc="-1" strike="noStrike">
              <a:solidFill>
                <a:srgbClr val="0003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073840" cy="3498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0" t="2580" r="0" b="0"/>
          <a:stretch/>
        </p:blipFill>
        <p:spPr>
          <a:xfrm>
            <a:off x="1903320" y="3429000"/>
            <a:ext cx="5335560" cy="360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152120" y="228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48600" y="342900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.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rrelation between 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O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60400" y="1095480"/>
            <a:ext cx="74581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92560" y="3784680"/>
            <a:ext cx="3814920" cy="30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79880" y="363600"/>
            <a:ext cx="3979800" cy="3065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49200" y="345960"/>
            <a:ext cx="3911760" cy="3090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82680" y="3778200"/>
            <a:ext cx="3922560" cy="3079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92360" y="50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W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624360" y="-360"/>
            <a:ext cx="1020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US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15560" y="347976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ij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43760" y="350532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Coast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70520" y="500040"/>
            <a:ext cx="100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M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DGAR Database 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/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at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3520" y="1084320"/>
            <a:ext cx="80103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Significant correlation between AOT and tropospheric NO</a:t>
            </a:r>
            <a:r>
              <a:rPr b="0" lang="en-US" sz="24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 is observed in both industrial and biomass burning regions.  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The slope between tropospheric NO</a:t>
            </a:r>
            <a:r>
              <a:rPr b="0" lang="en-US" sz="24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 and AOT is larger for East Europe as compared to West Europe, which may be explained by the difference of NO</a:t>
            </a:r>
            <a:r>
              <a:rPr b="0" lang="en-US" sz="2400" spc="-1" strike="noStrike" baseline="-25000">
                <a:solidFill>
                  <a:srgbClr val="00038b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 and SO</a:t>
            </a:r>
            <a:r>
              <a:rPr b="0" lang="en-US" sz="24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 emissions;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There is a large range in the slope of AOT versus NO</a:t>
            </a:r>
            <a:r>
              <a:rPr b="0" lang="en-US" sz="24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, which can be used to get indirect information on the aerosol composition.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nex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Include SO</a:t>
            </a:r>
            <a:r>
              <a:rPr b="0" lang="en-US" sz="2400" spc="-1" strike="noStrike" baseline="-25000">
                <a:solidFill>
                  <a:srgbClr val="00038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 and Formaldehyde in the analysis;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Compare the data with chemical transport model results;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Provide detailed analysis for regional differences;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3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38b"/>
                </a:solidFill>
                <a:latin typeface="Arial"/>
              </a:rPr>
              <a:t>Use additional aerosol parameters, like the fine mode fraction.</a:t>
            </a:r>
            <a:endParaRPr b="0" lang="en-US" sz="2400" spc="-1" strike="noStrike">
              <a:solidFill>
                <a:srgbClr val="00038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25550"/>
          <a:stretch/>
        </p:blipFill>
        <p:spPr>
          <a:xfrm>
            <a:off x="1728720" y="3651120"/>
            <a:ext cx="52354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69800"/>
            <a:ext cx="9144000" cy="60984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Emissions from of 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Europe for 199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7083" t="20696" r="10854" b="22292"/>
          <a:stretch/>
        </p:blipFill>
        <p:spPr>
          <a:xfrm>
            <a:off x="184320" y="1274760"/>
            <a:ext cx="8775360" cy="4308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023520" y="6012000"/>
            <a:ext cx="26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ata taken from Schaap et 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P 4, 857-874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4572000" cy="3265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265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72000" y="12600"/>
            <a:ext cx="4572000" cy="3265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72000" y="3349800"/>
            <a:ext cx="4572000" cy="3152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145040" y="6553080"/>
            <a:ext cx="50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CART Model Data from the NASA GIOVANNI web si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1280" y="237636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880" y="54118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23280" y="2401920"/>
            <a:ext cx="15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ganic Carb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5840" y="531036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IS Aq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73200" y="2374920"/>
            <a:ext cx="3416400" cy="546120"/>
          </a:xfrm>
          <a:prstGeom prst="roundRect">
            <a:avLst>
              <a:gd name="adj" fmla="val 16667"/>
            </a:avLst>
          </a:prstGeom>
          <a:solidFill>
            <a:srgbClr val="3366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803240"/>
            <a:ext cx="1270080" cy="3251520"/>
          </a:xfrm>
          <a:custGeom>
            <a:avLst/>
            <a:gdLst>
              <a:gd name="textAreaLeft" fmla="*/ 61920 w 1270080"/>
              <a:gd name="textAreaRight" fmla="*/ 1208160 w 1270080"/>
              <a:gd name="textAreaTop" fmla="*/ 61920 h 3251520"/>
              <a:gd name="textAreaBottom" fmla="*/ 3189600 h 3251520"/>
            </a:gdLst>
            <a:ahLst/>
            <a:rect l="textAreaLeft" t="textAreaTop" r="textAreaRight" b="textAreaBottom"/>
            <a:pathLst>
              <a:path w="21600" h="55288">
                <a:moveTo>
                  <a:pt x="3600" y="0"/>
                </a:moveTo>
                <a:arcTo wR="3600" hR="3600" stAng="16200000" swAng="-5400000"/>
                <a:lnTo>
                  <a:pt x="0" y="51688"/>
                </a:lnTo>
                <a:arcTo wR="3600" hR="3600" stAng="10800000" swAng="-5400000"/>
                <a:lnTo>
                  <a:pt x="18000" y="552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8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servations of Aerosol Composi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11560" y="1549440"/>
            <a:ext cx="0" cy="359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311560" y="5118120"/>
            <a:ext cx="3598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61600" y="525456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254520" y="306612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le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45520" y="249876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D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40520" y="24685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mas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99440" y="45784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99120" y="42004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36920" y="45561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t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37640" y="38070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0040" y="18144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781280"/>
            <a:ext cx="1955880" cy="3241440"/>
          </a:xfrm>
          <a:custGeom>
            <a:avLst/>
            <a:gdLst>
              <a:gd name="textAreaLeft" fmla="*/ 95400 w 1955880"/>
              <a:gd name="textAreaRight" fmla="*/ 1860480 w 1955880"/>
              <a:gd name="textAreaTop" fmla="*/ 95400 h 3241440"/>
              <a:gd name="textAreaBottom" fmla="*/ 3146040 h 3241440"/>
            </a:gdLst>
            <a:ahLst/>
            <a:rect l="textAreaLeft" t="textAreaTop" r="textAreaRight" b="textAreaBottom"/>
            <a:pathLst>
              <a:path w="21600" h="35795">
                <a:moveTo>
                  <a:pt x="3600" y="0"/>
                </a:moveTo>
                <a:arcTo wR="3600" hR="3600" stAng="16200000" swAng="-5400000"/>
                <a:lnTo>
                  <a:pt x="0" y="32195"/>
                </a:lnTo>
                <a:arcTo wR="3600" hR="3600" stAng="10800000" swAng="-5400000"/>
                <a:lnTo>
                  <a:pt x="18000" y="35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rces of 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eroso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384200"/>
          <a:ext cx="6858000" cy="3826080"/>
        </p:xfrm>
        <a:graphic>
          <a:graphicData uri="http://schemas.openxmlformats.org/drawingml/2006/table">
            <a:tbl>
              <a:tblPr/>
              <a:tblGrid>
                <a:gridCol w="4243320"/>
                <a:gridCol w="1244520"/>
                <a:gridCol w="137016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Emission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NO</a:t>
                      </a:r>
                      <a:r>
                        <a:rPr b="1" lang="en-US" sz="2000" spc="-1" strike="noStrike" baseline="-25000">
                          <a:solidFill>
                            <a:srgbClr val="00038b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Aeros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Fossil Fuel Combu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Biomass Bu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Desert D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Sea Spr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Light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Biog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Arial"/>
                        </a:rPr>
                        <a:t>So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38b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463760" y="5683320"/>
            <a:ext cx="6521400" cy="965160"/>
          </a:xfrm>
          <a:prstGeom prst="roundRect">
            <a:avLst>
              <a:gd name="adj" fmla="val 16667"/>
            </a:avLst>
          </a:prstGeom>
          <a:solidFill>
            <a:srgbClr val="00038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Europe N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is an important precursor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r ammonium nitrate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381" r="0" b="0"/>
          <a:stretch/>
        </p:blipFill>
        <p:spPr>
          <a:xfrm>
            <a:off x="0" y="941400"/>
            <a:ext cx="9144000" cy="497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85120" y="104760"/>
            <a:ext cx="497232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OMI Tropospheric NO</a:t>
            </a:r>
            <a:r>
              <a:rPr b="1" i="1" lang="en-US" sz="2400" spc="-1" strike="noStrike" baseline="-25000">
                <a:solidFill>
                  <a:srgbClr val="e6e6e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 2005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e6e6"/>
                </a:solidFill>
                <a:latin typeface="Arial"/>
              </a:rPr>
              <a:t>Linear color scale from 0-1.3 10</a:t>
            </a:r>
            <a:r>
              <a:rPr b="0" lang="en-US" sz="1600" spc="-1" strike="noStrike" baseline="30000">
                <a:solidFill>
                  <a:srgbClr val="e6e6e6"/>
                </a:solidFill>
                <a:latin typeface="Arial"/>
              </a:rPr>
              <a:t>16</a:t>
            </a:r>
            <a:r>
              <a:rPr b="0" lang="en-US" sz="1600" spc="-1" strike="noStrike">
                <a:solidFill>
                  <a:srgbClr val="e6e6e6"/>
                </a:solidFill>
                <a:latin typeface="Arial"/>
              </a:rPr>
              <a:t> molecules/cm</a:t>
            </a:r>
            <a:r>
              <a:rPr b="0" lang="en-US" sz="1600" spc="-1" strike="noStrike" baseline="30000">
                <a:solidFill>
                  <a:srgbClr val="e6e6e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MI 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MODIS AO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" y="1974960"/>
            <a:ext cx="4289400" cy="2906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2038320"/>
            <a:ext cx="4332240" cy="2857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323760" y="584352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 period 2005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idded 1x1 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4560" y="1643040"/>
            <a:ext cx="32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I Tropospheric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26760" y="167148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S AOT at 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2120" y="2863800"/>
            <a:ext cx="6108840" cy="565200"/>
            <a:chOff x="222120" y="2863800"/>
            <a:chExt cx="6108840" cy="565200"/>
          </a:xfrm>
        </p:grpSpPr>
        <p:sp>
          <p:nvSpPr>
            <p:cNvPr id="118" name=""/>
            <p:cNvSpPr/>
            <p:nvPr/>
          </p:nvSpPr>
          <p:spPr>
            <a:xfrm>
              <a:off x="222120" y="2863800"/>
              <a:ext cx="1644840" cy="565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86480" y="2863800"/>
              <a:ext cx="1644480" cy="565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66960" y="2863800"/>
            <a:ext cx="6108120" cy="565200"/>
            <a:chOff x="1866960" y="2863800"/>
            <a:chExt cx="6108120" cy="565200"/>
          </a:xfrm>
        </p:grpSpPr>
        <p:sp>
          <p:nvSpPr>
            <p:cNvPr id="121" name=""/>
            <p:cNvSpPr/>
            <p:nvPr/>
          </p:nvSpPr>
          <p:spPr>
            <a:xfrm>
              <a:off x="1866960" y="2863800"/>
              <a:ext cx="1644480" cy="565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30960" y="2863800"/>
              <a:ext cx="1644120" cy="565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35080" y="4013280"/>
            <a:ext cx="8521560" cy="374400"/>
            <a:chOff x="235080" y="4013280"/>
            <a:chExt cx="8521560" cy="374400"/>
          </a:xfrm>
        </p:grpSpPr>
        <p:sp>
          <p:nvSpPr>
            <p:cNvPr id="124" name=""/>
            <p:cNvSpPr/>
            <p:nvPr/>
          </p:nvSpPr>
          <p:spPr>
            <a:xfrm>
              <a:off x="235080" y="4013280"/>
              <a:ext cx="4057560" cy="374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99080" y="4013280"/>
              <a:ext cx="4057560" cy="3744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71960" y="535788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-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terran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831" t="18437" r="33127" b="13244"/>
          <a:stretch/>
        </p:blipFill>
        <p:spPr>
          <a:xfrm>
            <a:off x="0" y="0"/>
            <a:ext cx="4564080" cy="344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4915" t="18723" r="32790" b="13864"/>
          <a:stretch/>
        </p:blipFill>
        <p:spPr>
          <a:xfrm>
            <a:off x="4572000" y="4680"/>
            <a:ext cx="4478400" cy="3424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5632" t="19176" r="32403" b="13025"/>
          <a:stretch/>
        </p:blipFill>
        <p:spPr>
          <a:xfrm>
            <a:off x="200160" y="3429000"/>
            <a:ext cx="443520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4743360" y="3925800"/>
          <a:ext cx="4103640" cy="1625760"/>
        </p:xfrm>
        <a:graphic>
          <a:graphicData uri="http://schemas.openxmlformats.org/drawingml/2006/table">
            <a:tbl>
              <a:tblPr/>
              <a:tblGrid>
                <a:gridCol w="1565280"/>
                <a:gridCol w="1276200"/>
                <a:gridCol w="12621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3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8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terran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6056" t="13425" r="25475" b="11977"/>
          <a:stretch/>
        </p:blipFill>
        <p:spPr>
          <a:xfrm>
            <a:off x="763560" y="858960"/>
            <a:ext cx="73216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0" y="1155600"/>
            <a:ext cx="4038480" cy="3810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1257480"/>
            <a:ext cx="3543480" cy="346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erosol-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lop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7480" y="1727280"/>
            <a:ext cx="900000" cy="900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48240" y="1562040"/>
            <a:ext cx="1725840" cy="1573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88120" y="2529000"/>
            <a:ext cx="1103400" cy="11030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24160" y="2401920"/>
            <a:ext cx="1103400" cy="11034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187800"/>
            <a:ext cx="900360" cy="900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9960" y="3181320"/>
            <a:ext cx="1116000" cy="10778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36920" y="4729320"/>
            <a:ext cx="0" cy="16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421080" y="6400800"/>
            <a:ext cx="179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5120" y="64008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67320" y="52585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84440" y="5668920"/>
            <a:ext cx="1622520" cy="687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452760" y="5027760"/>
            <a:ext cx="1525680" cy="1312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39880" y="3594240"/>
            <a:ext cx="1116000" cy="1039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8200" y="3657600"/>
            <a:ext cx="1116000" cy="1039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solidFill>
            <a:srgbClr val="00038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Emissions from of 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Europe for 199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840" y="1486080"/>
            <a:ext cx="8624880" cy="3543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246680" y="49291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25760" y="4935600"/>
            <a:ext cx="72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92760" y="5499000"/>
            <a:ext cx="24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from Schaap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P 4, 857-874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3280" y="5545080"/>
            <a:ext cx="6313680" cy="1133640"/>
          </a:xfrm>
          <a:prstGeom prst="roundRect">
            <a:avLst>
              <a:gd name="adj" fmla="val 16667"/>
            </a:avLst>
          </a:prstGeom>
          <a:solidFill>
            <a:srgbClr val="00038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 Eastern Europe more S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is emitted per unit N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eading to more aerosol mass per unit N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and to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 larger slope between the N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concentration and AO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0:34:05Z</dcterms:created>
  <dc:creator>Pepijn Veefkind</dc:creator>
  <dc:description/>
  <dc:language>en-US</dc:language>
  <cp:lastModifiedBy>Pepijn Veefkind</cp:lastModifiedBy>
  <dcterms:modified xsi:type="dcterms:W3CDTF">2008-10-30T03:10:13Z</dcterms:modified>
  <cp:revision>122</cp:revision>
  <dc:subject/>
  <dc:title>Analysis of OMI Tropospheric NO2 data for Northwestern Europe</dc:title>
</cp:coreProperties>
</file>