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D2B-81E4-4F80-8AE5-5146C396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BCD-B950-41A3-A646-42EB9832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207-1A76-418B-8F0D-77922F9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083-3CF0-4D6C-8AD1-D18B2F6F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7C4-A19E-47D6-97CB-FD5ABE55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AF60-D0BF-4C8B-9083-9E468DE8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E51-1DFB-4933-8608-F31F2770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68EA-DF32-4F8F-A285-DF57D913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F9B4-7988-46DA-860E-5549A3E8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1FA3-8E2B-4E31-9FA3-0FBEF9AF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289C-3AF3-4781-B3D9-93E8721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9F7-0D7B-4991-A4CC-A72841F5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7458-7C83-4C81-AC43-E6B77206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DAC5-D690-4E74-BB96-BC28B1D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5E6F-F1E8-4A5F-A615-A5A1B5D0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B590-E843-439E-B291-923F7E34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51E5-1656-4D2C-ACD1-821B733E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A75-468B-4B4B-8F72-3A842B43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0CA-E7E9-406D-8689-EABBABE4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DFE-9A87-4431-98B3-4F5D273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531-B44B-4750-A9DF-27E98E72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661-5257-4CFF-82C8-14D1EA2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A1A-5D4F-4216-82C0-2BBF5D3A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BE7-6DE5-4553-B63F-8247D2A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AD22-2338-4C97-8CF9-906C208353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D1F-9F02-4F6F-99BF-A77FEE37AC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G Governance issu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h Rasch, U.S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gional meetings / Technical Assistance (WB-DGF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meetings and provision of technical assistance are supported via the World Bank Development Grant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for the use of these funds for these purposes will take place at thi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proposed through September of 2006 based on time frame of DG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an opportunity for renewal of the DGF and extension of thes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ng-range work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cuss issue of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group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groups formed each time a major work topic is agreed upon at annual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3-4 workgroups will exist at any poi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task is completed the group will di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group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preparing / presenting position papers at annual mee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ill solicit comments on position papers from the full WG membership via the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ill provide a brief, semi-annual report of progress to the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orkgroup format: discussion poi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s of workgroup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pportunity for multiple contribu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ariety of persp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otentially reduces workl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 of workgroup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mmunication difficul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nflicting time sche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ther commit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orkgroup format: discussion poi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ze of work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chanism for input from the full WG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stablish new workgroups and/or reformulate workgroups based on outcomes of thi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os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goal of the WG be to develop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ld Compendium of Disability Statistics in conjunction with the UNSD and OEC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ents on WG gover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ering Committee: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tation sched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 represent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, present and future meeting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reps from each major geograph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is non-rotating ex-officio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ng body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members replaced y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selected at annual meetings by full WG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terms with option to complete 2nd term if WG membership a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ering Committee: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tation sched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mittee will have terms varying from 1-3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lecting new member, a balanced regional representation will be s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/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/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/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ring committee will select committe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ering committe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handout (SC rotation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filled a temporary position for the initial SC (for continuity) and will rotat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zil will rotate into position of current meet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past meeting host) will rotat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need to select new SC member, trying to maintain a balanced regional re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ng-range work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eting, the steering committee was charged with developing a long-range work plan and timeline for implementation of the work plan to facilitate W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aft of the plan was developed by the SC for review at this meeting (refer to hand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ng-range work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 annual meetings, 5 categories of activity are propo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nd implement general disability measure (short s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nd implement extended measurement 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ological issues and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al meetings (WB-DG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Assistance (WB-DG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evelop and implement general disability measure (short se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proposed throug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include selecting the short set/s of measures; developing a plan for implementation; pre-testing; developing training materials; preparing translations; enumerator training; implementing the measure in targeted countries; and dissemination of th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evelop and implement extended measurement se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proposed through September of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similar to those for developing and implementing the short set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ethodological issues and resear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is concurrent with development of short and extended question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meeting and 2005, discussion of full population coverage has been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2006, discussion of the use of combined survey data and administrative data has been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th Meeting of the Washington Group on Disability Statistic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24:54Z</dcterms:created>
  <dc:creator>egr4</dc:creator>
  <dc:description/>
  <dc:language>en-US</dc:language>
  <cp:lastModifiedBy>egr4</cp:lastModifiedBy>
  <dcterms:modified xsi:type="dcterms:W3CDTF">2004-10-19T14:39:28Z</dcterms:modified>
  <cp:revision>11</cp:revision>
  <dc:subject/>
  <dc:title>WG Governance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5281588</vt:r8>
  </property>
  <property fmtid="{D5CDD505-2E9C-101B-9397-08002B2CF9AE}" pid="3" name="_AuthorEmail">
    <vt:lpwstr>EGR4@CDC.GOV</vt:lpwstr>
  </property>
  <property fmtid="{D5CDD505-2E9C-101B-9397-08002B2CF9AE}" pid="4" name="_AuthorEmailDisplayName">
    <vt:lpwstr>Rasch, Elizabeth K.</vt:lpwstr>
  </property>
  <property fmtid="{D5CDD505-2E9C-101B-9397-08002B2CF9AE}" pid="5" name="_EmailSubject">
    <vt:lpwstr>Need your review: WG website updates</vt:lpwstr>
  </property>
</Properties>
</file>