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7.wmf" ContentType="image/x-wmf"/>
  <Override PartName="/ppt/media/image19.wmf" ContentType="image/x-wmf"/>
  <Override PartName="/ppt/media/image14.jpeg" ContentType="image/jpeg"/>
  <Override PartName="/ppt/media/image16.wmf" ContentType="image/x-wmf"/>
  <Override PartName="/ppt/media/image2.png" ContentType="image/png"/>
  <Override PartName="/ppt/media/image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FC16-4F2F-42B7-9E84-D03D734A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4E76-FB45-42EE-AE85-A252EDBE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745B-9FE5-4260-A11A-B6C2700E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5B7D-6AC0-4A66-9475-96D8DDC6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BC56-E596-4CFA-902B-1D61C29B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464D-F965-417B-A93C-353864DF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07FE-7193-46EB-A11E-4DCE4E29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F58E-B98A-4B89-8C8C-B61FC725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363A-7857-42CC-B41D-69ADB223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A934-B4B5-4FAA-9356-D7A165D3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C238-5DC4-4885-9D24-B6B524F2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8684-9C9A-4675-BD74-38165616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058C-15AC-45D2-BE94-13BF34E09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osei.noaa.gov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43000" y="289512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tellite Services Div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AA Science Ce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sion Brief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anuary 28, 20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457200"/>
            <a:ext cx="7620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National Environmental Satellite, Data, and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Satellite Services Divis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1905120"/>
          <a:ext cx="7400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7400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Satellite Services Divis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1828800"/>
          <a:ext cx="7715160" cy="40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71516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Satellite Services Divis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80880" y="1905120"/>
          <a:ext cx="7209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7209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Satellite Services Divis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00200" y="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Satellite Services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600200"/>
            <a:ext cx="670536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Key Mission Are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azards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3733920"/>
            <a:ext cx="63244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umerical Weather Prediction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WS Field Offices &amp; National Ce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AA Coast W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AA Web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entral Satellite Data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3048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pecial Events/Operational Significant Events Imag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76520" y="3049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SSD Products and Serv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2057400"/>
            <a:ext cx="6705720" cy="46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t Applications and Service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olcanic Ash Advis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opical Cyclone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xperimental Smoke and Fire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eavy precipitation Estim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98108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ssion Area:   Natural Hazards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unction:  To provide interpretative analysis support in monitoring global natural haz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3049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SSD Products and Serv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600200"/>
            <a:ext cx="8153640" cy="65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t Applications and Services 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vents include, but not limited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ust st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ildf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a ic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vere st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ther hazards including volcanic ash and tropical cycl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82880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ssion Area:  Special Events/Operational Significant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unction:  To provide specialized, high resolution imagery for significant natural and anthropogenic events on a world-wide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676520" y="3049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SSD Products and Serv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447920"/>
            <a:ext cx="670536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t Applications  and Service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aily snow c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OES Soun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igh density wi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cipitation Estim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7524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ssion Area:  Numerical Weather Prediction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unction:   To provide global operational interpretive analysis support to NC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676520" y="3049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SSD Products and Serv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2057400"/>
            <a:ext cx="670572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t Applications and Service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WIPS satellite imag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SOS satellite cloud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eavy precipitation estimates (flash floo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mapped GOES, POES IR, VIS, &amp; water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7524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ssion Area:   NWS and National Center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unction:  To provide NWS forecast and field offices, and national centers with operational satellite-derived product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676520" y="3049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SSD Products and Serv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2057400"/>
            <a:ext cx="7543800" cy="4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t Applications and Service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erational sea surface temper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igh resolution IR, VIS and water vapor image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cean Co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1752480"/>
            <a:ext cx="883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ssion Area:     NOAA Coast W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unction:   To provide operational satellite-derived products and in-situ data to Federal , state, and local marine scientists and coastal resource agencies and man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Satellite Services Divis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day’s Agenda – 1.5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roduction &amp; Overview -- Reggie Law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atellite Analysis Branch -- George  Serafino, Ch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ractive Processing Branch -- Sharolyn Young, Ch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uture Directions-- John Paquette, Team Lead, Products &amp;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 &amp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ur -- SSD Sp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76520" y="3049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SSD Products and Serv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1600200"/>
            <a:ext cx="8610480" cy="60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SD Web Sites and Service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olcanic Ash Advis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ernational GOES imagery 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erational significant imagery 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ast W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azard Analy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OES special bulletins, eclipse &amp; dissemination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7524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ssion Area:       NOAA We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unction:  To provide public and private access to satellite-derived products and services produced by Satellite Services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71600" y="1522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Some of SSD’s Custo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920" y="1822320"/>
            <a:ext cx="7981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NWS Forecast Offices, National Centers, and Riverforecast Ce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National Marine Fisheries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ld Meteorological Organization (WM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European Weather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ureau of Recla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N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Fleet Numerical Meteorology and Oceanography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The Weather 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National Snow and Ice Data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Various Worldwide Univers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Department of Defense (Air Force Weather Agency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National Weather Service (NW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Federal Aviation Administration (FA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Federal Emergency Management Agency (FE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US Airlines (United, Continental, American, Atl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Federal Ex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0 Meteorological Watch Offices in Mexico, Central America, northern So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merica, and Caribb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19240" y="380520"/>
            <a:ext cx="5105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 Black"/>
              </a:rPr>
              <a:t>Websites of Inter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Operational Significant Event Imagery Website (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osei.noaa.gov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Satellite Services Division Website (http://www.ssd.noaa.go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Joint Typhoon Warning Center Products (http://www.npmoc.navy.mil/jtwc.ht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National Hurricane Center (http://www.nhc.noaa.gov/products.ht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Volcanic Ash Advisory Centers (http://www.ssd.noaa.gov/VAAC/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Global Volcanism Program (http://www.volcano.si.edu/gvp/gvn/notices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National Interagency Fire Center (http://www.nifc.go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Global Fire Monitoring Center (GFMC) (http://www.ruf.uni-freiburg.de/fireglobe/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NASA Global Fire Monitoring (http://earthobservatory.nasa.gov/Library/GlobalFire/fire_5.ht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International Geosynchronous Imagery (http://www.goes.noaa.go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95280" y="457200"/>
            <a:ext cx="7620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14600" y="2666880"/>
            <a:ext cx="5334120" cy="3505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19320" y="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National Environmental Satellite, Data, and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47920" y="1522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Satellite Services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828800"/>
            <a:ext cx="861048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Mission Sta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Satellite Services Division supports the National Oceanic and Atmospheric Administration and the National Environmental Satellite, Data, and Information Services mission by providing real-time and near real-time environmental data, analyses, and interpretations from polar-orbiting and geostationary operational environmental satellites to a diverse user community for environmental assessment, prediction, and stewardship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Satellite Services Division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Tech and Admin Sta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94480" y="345924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ggie Lawrence, Chi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1600" y="3306600"/>
            <a:ext cx="146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freda Carter, Div. A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03560" y="2620800"/>
            <a:ext cx="148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Kathy Dinkins, IPD S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0400" y="5059440"/>
            <a:ext cx="169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ebra Marchant, SAB Se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2600" y="4983120"/>
            <a:ext cx="132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il Neal, Tech Sta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191120" y="2971800"/>
            <a:ext cx="2743200" cy="2209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52280" y="2971800"/>
            <a:ext cx="2667240" cy="1981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495680" y="5029200"/>
            <a:ext cx="1905120" cy="1676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105520" y="1219320"/>
            <a:ext cx="1981080" cy="1752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2819520" y="1295280"/>
            <a:ext cx="2286000" cy="190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6934320" y="32004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6934320" y="1600200"/>
            <a:ext cx="1752480" cy="1643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838080" y="4800600"/>
            <a:ext cx="1752840" cy="1533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914400" y="1447920"/>
            <a:ext cx="1905120" cy="1562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2286000" y="3124080"/>
            <a:ext cx="1989000" cy="1722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2438280" y="4724280"/>
            <a:ext cx="2293920" cy="1847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2"/>
          <a:stretch/>
        </p:blipFill>
        <p:spPr>
          <a:xfrm>
            <a:off x="6400800" y="4952880"/>
            <a:ext cx="2027160" cy="1752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71600" y="251460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Black"/>
              </a:rPr>
              <a:t>CATHY PAX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29718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Black"/>
              </a:rPr>
              <a:t>JOHN PAQU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19920" y="26668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Black"/>
              </a:rPr>
              <a:t>PHILLIP NE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15200" y="26668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Black"/>
              </a:rPr>
              <a:t>ELIZABETH E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5720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Black"/>
              </a:rPr>
              <a:t>THOMAS RENKEV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457200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Black"/>
              </a:rPr>
              <a:t>SHAROL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8680" y="47242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Black"/>
              </a:rPr>
              <a:t>REGINALD LAW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77320" y="47242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Black"/>
              </a:rPr>
              <a:t>GEORGE SERAF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8672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Black"/>
              </a:rPr>
              <a:t>ZIYADAH JACK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61722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Black"/>
              </a:rPr>
              <a:t>KATHY DINK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63244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Black"/>
              </a:rPr>
              <a:t>ALFREDA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91520" y="624852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Black"/>
              </a:rPr>
              <a:t>DEBRA MARCH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47520" y="31680"/>
          <a:ext cx="9048960" cy="679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31680"/>
                    <a:ext cx="9048960" cy="67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Satellite Services Divis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overnment Personne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46 F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ract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$25.0M support &amp; services contract awarded to RSIS, Inc in February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ase contract is now $6M per year with 3 option years rem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st plus performance award 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60 contract employees staffed in systems engineering, software engineering, communications, system maintenance, and 24/7 help desk a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70200" y="302256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Satellite Services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90640" y="1981080"/>
          <a:ext cx="5560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1981080"/>
                    <a:ext cx="5560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14400" y="685800"/>
            <a:ext cx="8397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Satellite Services Division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3800" y="2752560"/>
            <a:ext cx="3016440" cy="1532160"/>
          </a:xfrm>
          <a:prstGeom prst="ellipse">
            <a:avLst/>
          </a:prstGeom>
          <a:solidFill>
            <a:srgbClr val="a0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19760" y="2693880"/>
            <a:ext cx="3016080" cy="1474920"/>
          </a:xfrm>
          <a:prstGeom prst="ellipse">
            <a:avLst/>
          </a:prstGeom>
          <a:solidFill>
            <a:srgbClr val="a0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09800" y="4923000"/>
            <a:ext cx="2957760" cy="1533240"/>
          </a:xfrm>
          <a:prstGeom prst="ellipse">
            <a:avLst/>
          </a:prstGeom>
          <a:solidFill>
            <a:srgbClr val="a0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43160" y="5581800"/>
            <a:ext cx="23479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T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41880" y="3184560"/>
            <a:ext cx="313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TRATEGIC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RODUCTS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8440" y="3355920"/>
            <a:ext cx="3132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NTINUITY OF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RODUCTS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4286160"/>
            <a:ext cx="915840" cy="916200"/>
          </a:xfrm>
          <a:custGeom>
            <a:avLst/>
            <a:gdLst/>
            <a:ahLst/>
            <a:rect l="l" t="t" r="r" b="b"/>
            <a:pathLst>
              <a:path w="577" h="577">
                <a:moveTo>
                  <a:pt x="0" y="0"/>
                </a:moveTo>
                <a:lnTo>
                  <a:pt x="576" y="576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172040"/>
            <a:ext cx="1144440" cy="1087200"/>
          </a:xfrm>
          <a:custGeom>
            <a:avLst/>
            <a:gdLst/>
            <a:ahLst/>
            <a:rect l="l" t="t" r="r" b="b"/>
            <a:pathLst>
              <a:path w="721" h="685">
                <a:moveTo>
                  <a:pt x="0" y="684"/>
                </a:moveTo>
                <a:lnTo>
                  <a:pt x="720" y="0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43480" y="3429000"/>
            <a:ext cx="1373040" cy="1440"/>
          </a:xfrm>
          <a:custGeom>
            <a:avLst/>
            <a:gdLst/>
            <a:ahLst/>
            <a:rect l="l" t="t" r="r" b="b"/>
            <a:pathLst>
              <a:path w="865" h="1">
                <a:moveTo>
                  <a:pt x="0" y="0"/>
                </a:moveTo>
                <a:lnTo>
                  <a:pt x="864" y="0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84280" y="2057400"/>
            <a:ext cx="39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D T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14:07:42Z</dcterms:created>
  <dc:creator>Satellite Services Division</dc:creator>
  <dc:description/>
  <dc:language>en-US</dc:language>
  <cp:lastModifiedBy>sabadmin</cp:lastModifiedBy>
  <dcterms:modified xsi:type="dcterms:W3CDTF">2003-01-30T11:22:34Z</dcterms:modified>
  <cp:revision>105</cp:revision>
  <dc:subject/>
  <dc:title>SAB Mission</dc:title>
</cp:coreProperties>
</file>