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BE9-1292-44EB-A995-0FA462E1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B21-DEB4-4886-803E-DDA37B97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B28-2E45-4DBB-87CE-C6F09B93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70A-A600-4B8E-85C4-D9ED5FFE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970-356F-41EA-A97E-098DAAD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663-9C29-41B6-A436-551F4E2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89A-8333-409A-A3C1-AAB425B2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9F8-9DA0-4B4D-89FF-320F189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795-3FBF-4DE1-B1E8-D14259C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9E2-F0E1-4482-B152-C0710CE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AC5-66E8-4220-9112-0CB9094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B0C-5755-4FE8-86A0-E8C0C49B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89A-8930-4A26-A8E1-EB5BB011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tes on NWP and the History of Long Range Forecas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Gilman (ret) and Huug van den Dool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NOAA/NCEP/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666720" y="-619200"/>
            <a:ext cx="10477440" cy="8096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 assessment of C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Ficial Forecast(element, lead, location, initial month) =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* A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 * B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* C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nest hindcast required 1950-present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variance (A,B), (A,C), (B,C), (A, obs), (B, obs), (C, obs) allows solution for a, b, c (element, lead, location, initial month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66680" y="0"/>
            <a:ext cx="94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P techniques have entered the arena of seasonal forecasts, from 1995 onward, and are expa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 remains modest (predictabilit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chniques have not yet been ret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nalysis (as such NWP related) has boosted empirical work thru availability of global data sets (1948-present). (Reanalysis was a revolution for empirical wor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65320" y="0"/>
            <a:ext cx="65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05160" y="0"/>
            <a:ext cx="4333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86600" y="38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 written by Nam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ittle NWP-influence on operational seasonal forecasts (at NMC/NCEP) prior to 199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in 1995 the coupled ocean/atmosphere model routinely became a tool for the seasonal forecast. NWP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precursors of NWP (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NCP) are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Pioneering integrations by Miyakoda, Gilchrist, Shukla and others. 1970s, 1980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(linear, steady state) Global models describing Rossby wave dispersion from long-lived tropical sources of heat and vorticity. Explained Teleconnections?? 1980 onw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MIP runs from 1989 onward (Gates, PCMDI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 ocean data assimilation system (Leetmaa et al) for initial conditions of the coupled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: a proper land initial condition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wo-ti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 to ‘Coupled’ Modeling (still widespre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ed to deal with (very) large bi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‘anomaly’ be salvaged when the mean is that far off??  (history of bias corr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ummer 2004: NCEP is going ‘1-tier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fensive approaches with a profound impa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pled Models at NC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, Leetmaa and Kumar (CMP12/14; 199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amitsu et al (SFM; 200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 et al (CFS; 200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P and SFM had only Pacific Tropical ocean and were 2-tiered. CFS is global, 1-tiered, and at T62L64 (atmosphere),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reeL40 (ocean) resolution. CFS has 2500 years worth of hindc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of skill and ‘consolidation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kill of NC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kill of NCP vis-à-vis other methods (like C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ombine Methods A, B and 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oneering role of seasonal prediction in hindcasts and ‘a-priori’ skil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shorter range NWP follow with hindc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5:55:57Z</dcterms:created>
  <dc:creator>hvandendool</dc:creator>
  <dc:description/>
  <dc:language>en-US</dc:language>
  <cp:lastModifiedBy>NCEP_user</cp:lastModifiedBy>
  <dcterms:modified xsi:type="dcterms:W3CDTF">2004-06-14T15:33:58Z</dcterms:modified>
  <cp:revision>5</cp:revision>
  <dc:subject/>
  <dc:title>Notes on NWP and the History of Long Range Forecasting     Don Gilman (ret) and Huug van den Dool,                NOAA/NCEP/CPC</dc:title>
</cp:coreProperties>
</file>