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22D1-1BCF-4EDD-B5DC-8DF692C9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59E-A975-4DFE-8D59-E69C0712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4CF7-0083-48F9-B7FD-1FB2F1FE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FB50-7220-4049-9647-DBBC68D9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0728-3944-4EC5-9EB7-0304B8EE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45CB-0CD0-452A-8967-3DDEFC58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AE59-1C2A-4CD0-876D-772A5992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B9E6-ED61-4F66-9333-F81A4C66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07A4-23C5-43CA-A523-0D78FA16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EEBA-27B2-4A7A-9E94-25F3545E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5721-98AC-4D7E-B8A9-6DDB6D71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48B8-AEAD-4B34-8EFD-9AAE5118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7DB2-FD97-48CA-80EA-4597CDC3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E2D8-9F7A-489A-B388-79BA4C07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A92A-1246-4AB2-8E86-2455431B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39FF-30A8-4E4C-B885-9E402CFD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B07F-2598-405F-870F-E2A68F9F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048B-40F0-437D-ACA1-BF0E7042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324-EEE0-41A8-933A-44117937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F46-B70A-4CFB-B884-C05FEF68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79E-D672-4E57-8876-B4157F85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A44-98FE-4C22-A3B1-7E192C0C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2BCB-CF9E-4723-883F-2AE2E207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4188-CAE3-4BD5-B04C-CBCC45BB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81E4-F67B-413C-B1EB-43C632B01B42}" type="datetime3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 de julio de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5813-4C64-4D5C-A962-4FE68D87D59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007C-BF23-4650-B548-C88A6ABEE457}" type="datetime3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 de julio de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F6A9-3B8B-4647-9173-E9DF8DBA83C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000" spc="-1" strike="noStrike">
                <a:solidFill>
                  <a:srgbClr val="fbf755"/>
                </a:solidFill>
                <a:latin typeface="Times New Roman"/>
                <a:ea typeface="Times New Roman"/>
              </a:rPr>
              <a:t>Genetically Modified Organisms: </a:t>
            </a:r>
            <a:br>
              <a:rPr sz="1600"/>
            </a:br>
            <a:r>
              <a:rPr b="1" lang="en-US" sz="4000" spc="-1" strike="noStrike">
                <a:solidFill>
                  <a:srgbClr val="fbf755"/>
                </a:solidFill>
                <a:latin typeface="Times New Roman"/>
                <a:ea typeface="Times New Roman"/>
              </a:rPr>
              <a:t>Regulatory Framework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 Argentina.</a:t>
            </a:r>
            <a:br>
              <a:rPr sz="4000"/>
            </a:br>
            <a:r>
              <a:rPr b="1" lang="en-US" sz="40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An Overview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-360" y="3657600"/>
            <a:ext cx="89917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eeeec0"/>
                </a:solidFill>
                <a:latin typeface="Book Antiqua"/>
              </a:rPr>
              <a:t>Ministerial Conference on Use of  Science and Technolog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eeeec0"/>
                </a:solidFill>
                <a:latin typeface="Book Antiqua"/>
              </a:rPr>
              <a:t>For Improving Competitiveness in the Agricultural Sector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eeeec0"/>
                </a:solidFill>
                <a:latin typeface="Book Antiqua"/>
              </a:rPr>
              <a:t>IICA, Costa Ric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eeeec0"/>
                </a:solidFill>
                <a:latin typeface="Book Antiqua"/>
              </a:rPr>
              <a:t>May 10-11, SanJosé de Costa Ric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eeec0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eeeec0"/>
                </a:solidFill>
                <a:latin typeface="Tahoma"/>
              </a:rPr>
              <a:t>     </a:t>
            </a:r>
            <a:r>
              <a:rPr b="0" lang="es-ES" sz="1200" spc="-1" strike="noStrike">
                <a:solidFill>
                  <a:srgbClr val="eeeec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eeeec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eeeec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eeeec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eeeec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eeeec0"/>
                </a:solidFill>
                <a:latin typeface="Times New Roman"/>
              </a:rPr>
              <a:t>	</a:t>
            </a:r>
            <a:r>
              <a:rPr b="0" lang="es-ES" sz="2100" spc="-1" strike="noStrike">
                <a:solidFill>
                  <a:srgbClr val="eeeec0"/>
                </a:solidFill>
                <a:latin typeface="Times New Roman"/>
              </a:rPr>
              <a:t>	</a:t>
            </a:r>
            <a:r>
              <a:rPr b="0" lang="es-ES" sz="2100" spc="-1" strike="noStrike">
                <a:solidFill>
                  <a:srgbClr val="eeeec0"/>
                </a:solidFill>
                <a:latin typeface="Times New Roman"/>
              </a:rPr>
              <a:t>	</a:t>
            </a:r>
            <a:r>
              <a:rPr b="0" lang="es-ES" sz="2100" spc="-1" strike="noStrike">
                <a:solidFill>
                  <a:srgbClr val="eeeec0"/>
                </a:solidFill>
                <a:latin typeface="Times New Roman"/>
              </a:rPr>
              <a:t>	</a:t>
            </a:r>
            <a:r>
              <a:rPr b="0" lang="es-ES" sz="2100" spc="-1" strike="noStrike">
                <a:solidFill>
                  <a:srgbClr val="eeeec0"/>
                </a:solidFill>
                <a:latin typeface="Times New Roman"/>
              </a:rPr>
              <a:t>	</a:t>
            </a:r>
            <a:r>
              <a:rPr b="0" lang="es-ES" sz="2100" spc="-1" strike="noStrike">
                <a:solidFill>
                  <a:srgbClr val="eeeec0"/>
                </a:solidFill>
                <a:latin typeface="Times New Roman"/>
              </a:rPr>
              <a:t>	</a:t>
            </a:r>
            <a:r>
              <a:rPr b="1" lang="es-ES" sz="2200" spc="-1" strike="noStrike">
                <a:solidFill>
                  <a:srgbClr val="eeeec0"/>
                </a:solidFill>
                <a:latin typeface="Times New Roman"/>
              </a:rPr>
              <a:t>Dr Moisés Burachi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D494-3841-42DF-9A3A-E163A3D404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28600"/>
            <a:ext cx="914400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4ec54"/>
                </a:solidFill>
                <a:latin typeface="Bookman Old Style"/>
                <a:ea typeface="Arial"/>
              </a:rPr>
              <a:t>1. Environmental Risk Assessmen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4ec54"/>
                </a:solidFill>
                <a:latin typeface="Bookman Old Style"/>
                <a:ea typeface="Arial"/>
              </a:rPr>
              <a:t>CONABIA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        </a:t>
            </a: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Two phas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1.1. FIRST PHASE. GREENHOUSE AND FIELD TRIAL 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RELEASE TESTS (APPLICATION WITH </a:t>
            </a:r>
            <a:r>
              <a:rPr b="1" lang="es-MX" sz="2200" spc="-1" strike="noStrike">
                <a:solidFill>
                  <a:srgbClr val="eeeec0"/>
                </a:solidFill>
                <a:latin typeface="Symbol"/>
                <a:ea typeface="Symbol"/>
              </a:rPr>
              <a:t>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 150 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QUESTIONS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ALLOWS EARLY DETECTION OF UNINTENDED 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EFFECTS</a:t>
            </a:r>
            <a:r>
              <a:rPr b="0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(PRECAUTIONARY APPROACH)</a:t>
            </a:r>
            <a:r>
              <a:rPr b="0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141C-6D8E-4AC0-92A6-9B166C1649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8600"/>
            <a:ext cx="9144000" cy="66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4ec54"/>
                </a:solidFill>
                <a:latin typeface="Bookman Old Style"/>
                <a:ea typeface="Arial"/>
              </a:rPr>
              <a:t>1. Environmental Risk Assessmen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4ec54"/>
                </a:solidFill>
                <a:latin typeface="Bookman Old Style"/>
                <a:ea typeface="Arial"/>
              </a:rPr>
              <a:t>CONABIA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1.2.</a:t>
            </a:r>
            <a:r>
              <a:rPr b="0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SECOND PHASE. COMPREHENSIVE 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DOSSIER (COMPLETE SUPPORTING DATA 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AND RESTRICTED CONFIDENTIAL 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INFORMATION)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GRANTING OF FURTHER RELEASE PERMITS 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REQUIRE LESS INFORMATION (FOR LARGE 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PLANTINGS, E.G., OFF-SEASON SEED 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PRODUCTION FOR EXPORT, REGULATORY 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STUDIES)</a:t>
            </a: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800" spc="-1" strike="noStrike">
                <a:solidFill>
                  <a:srgbClr val="ffff85"/>
                </a:solidFill>
                <a:latin typeface="Bookman Old Style"/>
                <a:ea typeface="Arial"/>
              </a:rPr>
              <a:t>NOT A COMMERCIALIZATION PERMIT</a:t>
            </a:r>
            <a:r>
              <a:rPr b="1" lang="es-MX" sz="2200" spc="-1" strike="noStrike">
                <a:solidFill>
                  <a:srgbClr val="ffff85"/>
                </a:solidFill>
                <a:latin typeface="Bookman Old Style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B9CE-321E-4B4F-92A2-121A0CA773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380880"/>
            <a:ext cx="9144000" cy="616176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4ec54"/>
                </a:solidFill>
                <a:latin typeface="Bookman Old Style"/>
                <a:ea typeface="Arial"/>
              </a:rPr>
              <a:t>Risk Managemen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Symbol"/>
                <a:ea typeface="Symbol"/>
              </a:rPr>
              <a:t>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 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SPECIFIC RULES ARE ESTABLISHED ON 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ISOLATION DISTANCES AND FURTHER USE 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OF FIELD</a:t>
            </a:r>
            <a:r>
              <a:rPr b="1" lang="es-MX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MX" sz="32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Symbol"/>
                <a:ea typeface="Symbol"/>
              </a:rPr>
              <a:t>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 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A SYSTEM OF INSPECTIONS IS IN PLAC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Symbol"/>
                <a:ea typeface="Symbol"/>
              </a:rPr>
              <a:t>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 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APPLICANTS ARE REQUIRED COMPREHENSIV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  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REPORTS OF TRIAL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 </a:t>
            </a:r>
            <a:r>
              <a:rPr b="1" lang="es-MX" sz="2300" spc="-1" strike="noStrike">
                <a:solidFill>
                  <a:srgbClr val="ffff85"/>
                </a:solidFill>
                <a:latin typeface="Symbol"/>
                <a:ea typeface="Symbol"/>
              </a:rPr>
              <a:t>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 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EVALUATIONS ARE STRICTLY TECHNICAL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   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(BIOSAFETY, PRECAUTIONARY APPROACH, 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Etc) AND BASED ON THE INFORMATION 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PRESENTE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7755-E920-488E-94A5-55B592AC7F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2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f4ec54"/>
                </a:solidFill>
                <a:latin typeface="Arial"/>
              </a:rPr>
              <a:t>	</a:t>
            </a:r>
            <a:r>
              <a:rPr b="1" lang="es-MX" sz="2700" spc="-1" strike="noStrike">
                <a:solidFill>
                  <a:srgbClr val="f4ec54"/>
                </a:solidFill>
                <a:latin typeface="Bookman Old Style"/>
                <a:ea typeface="Arial"/>
              </a:rPr>
              <a:t>2. Food Safety Assessment</a:t>
            </a:r>
            <a:r>
              <a:rPr b="1" lang="es-MX" sz="2700" spc="-1" strike="noStrike">
                <a:solidFill>
                  <a:srgbClr val="f4ec54"/>
                </a:solidFill>
                <a:latin typeface="Bookman Old Style"/>
                <a:ea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buClr>
                <a:srgbClr val="eeeec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SUBSTANTIAL EQUIVALENCE CON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buClr>
                <a:srgbClr val="eeeec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CODEX ALIMENTARIUS + OTH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buClr>
                <a:srgbClr val="eeeec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PROTEIN DATABASE USED (TOXICS AND </a:t>
            </a: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ALLERGEN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buClr>
                <a:srgbClr val="eeeec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ANIMAL FEED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buClr>
                <a:srgbClr val="eeeec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TOXICOLOGY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eeeec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eeeec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eeeec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s-MX" sz="1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s-MX" sz="12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C16D-B117-45DE-9983-23D7761AEA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2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f4ec54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eeeec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eeeec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eeeec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s-MX" sz="2700" spc="-1" strike="noStrike">
                <a:solidFill>
                  <a:srgbClr val="f4ec54"/>
                </a:solidFill>
                <a:latin typeface="Bookman Old Style"/>
                <a:ea typeface="Arial"/>
              </a:rPr>
              <a:t>3. Impact on international trad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85000"/>
              </a:lnSpc>
              <a:buClr>
                <a:srgbClr val="ffff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REGULARY SITUATION ( IN IMPORTING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COUNTR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85000"/>
              </a:lnSpc>
              <a:buClr>
                <a:srgbClr val="ffff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MARKET SH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85000"/>
              </a:lnSpc>
              <a:buClr>
                <a:srgbClr val="ffff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PROSPECTIVE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85000"/>
              </a:lnSpc>
              <a:buClr>
                <a:srgbClr val="ffff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NEW MARKETS AND/OR COMPETI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85000"/>
              </a:lnSpc>
              <a:buClr>
                <a:srgbClr val="ffff99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PUBLIC PERCEPCION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s-MX" sz="12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FCD6-89C6-4397-8A5D-F83FEEFDA2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a92"/>
                </a:solidFill>
                <a:latin typeface="Bookman Old Style"/>
                <a:ea typeface="Arial"/>
              </a:rPr>
              <a:t>4.  Main principles:</a:t>
            </a:r>
            <a:r>
              <a:rPr b="1" lang="en-US" sz="2400" spc="-1" strike="noStrike">
                <a:solidFill>
                  <a:srgbClr val="fafa92"/>
                </a:solidFill>
                <a:latin typeface="Bookman Old Style"/>
                <a:ea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lnSpc>
                <a:spcPct val="160000"/>
              </a:lnSpc>
              <a:spcBef>
                <a:spcPts val="575"/>
              </a:spcBef>
              <a:buClr>
                <a:srgbClr val="fbf755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FOCUS ON BIOSAFETY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60000"/>
              </a:lnSpc>
              <a:spcBef>
                <a:spcPts val="575"/>
              </a:spcBef>
              <a:buClr>
                <a:srgbClr val="faf5b4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5b4"/>
                </a:solidFill>
                <a:latin typeface="Bookman Old Style"/>
                <a:ea typeface="Arial"/>
              </a:rPr>
              <a:t>SCIENCE-BASED REVIEW PROCESS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60000"/>
              </a:lnSpc>
              <a:spcBef>
                <a:spcPts val="575"/>
              </a:spcBef>
              <a:buClr>
                <a:srgbClr val="fbf755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CASE-BY-CASE BASIS REVIEW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60000"/>
              </a:lnSpc>
              <a:spcBef>
                <a:spcPts val="575"/>
              </a:spcBef>
              <a:buClr>
                <a:srgbClr val="faf5b4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5b4"/>
                </a:solidFill>
                <a:latin typeface="Bookman Old Style"/>
                <a:ea typeface="Arial"/>
              </a:rPr>
              <a:t>PRECAUTIONARY APPROACH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60000"/>
              </a:lnSpc>
              <a:spcBef>
                <a:spcPts val="575"/>
              </a:spcBef>
              <a:buClr>
                <a:srgbClr val="fbf755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AGRO-ECOSYSTEM CONCEPT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60000"/>
              </a:lnSpc>
              <a:spcBef>
                <a:spcPts val="575"/>
              </a:spcBef>
              <a:buClr>
                <a:srgbClr val="faf5b4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5b4"/>
                </a:solidFill>
                <a:latin typeface="Bookman Old Style"/>
                <a:ea typeface="Arial"/>
              </a:rPr>
              <a:t>SUBSTANTIAL EQUIVALENCE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E612-3659-47D7-8C7F-ED4E0C3EA0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85"/>
                </a:solidFill>
                <a:latin typeface="Bookman Old Style"/>
                <a:ea typeface="Arial"/>
              </a:rPr>
              <a:t>GENETICALLY MODIFIED CROPS</a:t>
            </a:r>
            <a:br>
              <a:rPr sz="2700"/>
            </a:br>
            <a:r>
              <a:rPr b="1" lang="en-US" sz="2700" spc="-1" strike="noStrike">
                <a:solidFill>
                  <a:srgbClr val="ffff85"/>
                </a:solidFill>
                <a:latin typeface="Bookman Old Style"/>
                <a:ea typeface="Arial"/>
              </a:rPr>
              <a:t>APPROVED FOR COMMERCIALIZATION IN ARGENTINA</a:t>
            </a:r>
            <a:endParaRPr b="0" lang="en-US" sz="27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40000"/>
              </a:lnSpc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afa92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Soybean</a:t>
            </a:r>
            <a:r>
              <a:rPr b="1" lang="es-ES_tradnl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_tradnl" sz="2200" spc="-1" strike="noStrike">
                <a:solidFill>
                  <a:srgbClr val="fb9e6f"/>
                </a:solidFill>
                <a:latin typeface="Bookman Old Style"/>
                <a:ea typeface="Arial"/>
              </a:rPr>
              <a:t>Glyphosate tolerance</a:t>
            </a:r>
            <a:r>
              <a:rPr b="1" lang="es-ES_tradnl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s-ES_tradnl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ES_tradnl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"40-3-2"</a:t>
            </a:r>
            <a:r>
              <a:rPr b="1" lang="es-ES_tradnl" sz="2200" spc="-1" strike="noStrike">
                <a:solidFill>
                  <a:srgbClr val="fbf755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6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bf755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Maize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00"/>
                </a:solidFill>
                <a:latin typeface="Bookman Old Style"/>
                <a:ea typeface="Arial"/>
              </a:rPr>
              <a:t>Lepidopteran resistance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 "176"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6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Maize  </a:t>
            </a:r>
            <a:r>
              <a:rPr b="1" lang="en-US" sz="2200" spc="-1" strike="noStrike">
                <a:solidFill>
                  <a:srgbClr val="fb9e6f"/>
                </a:solidFill>
                <a:latin typeface="Bookman Old Style"/>
                <a:ea typeface="Arial"/>
              </a:rPr>
              <a:t>Ammonium glufosinate tolerance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“ T 25"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6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 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Maize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00"/>
                </a:solidFill>
                <a:latin typeface="Bookman Old Style"/>
                <a:ea typeface="Arial"/>
              </a:rPr>
              <a:t>Lepidopteran </a:t>
            </a:r>
            <a:r>
              <a:rPr b="1" lang="es-ES_tradnl" sz="2200" spc="-1" strike="noStrike">
                <a:solidFill>
                  <a:srgbClr val="00ff00"/>
                </a:solidFill>
                <a:latin typeface="Bookman Old Style"/>
                <a:ea typeface="Arial"/>
              </a:rPr>
              <a:t>resistance</a:t>
            </a:r>
            <a:r>
              <a:rPr b="1" lang="es-ES_tradnl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  "MON 810”</a:t>
            </a:r>
            <a:r>
              <a:rPr b="1" lang="es-ES_tradnl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6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 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Cotton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ES_tradnl" sz="2200" spc="-1" strike="noStrike">
                <a:solidFill>
                  <a:srgbClr val="00ff00"/>
                </a:solidFill>
                <a:latin typeface="Bookman Old Style"/>
                <a:ea typeface="Arial"/>
              </a:rPr>
              <a:t>Lepidopteran resistance</a:t>
            </a:r>
            <a:r>
              <a:rPr b="1" lang="es-ES_tradnl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  "MON 531"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6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 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Cotton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9e6f"/>
                </a:solidFill>
                <a:latin typeface="Bookman Old Style"/>
                <a:ea typeface="Arial"/>
              </a:rPr>
              <a:t>Glyphosate tolerance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       "MON 1445"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60000"/>
              </a:lnSpc>
              <a:spcBef>
                <a:spcPts val="2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  </a:t>
            </a:r>
            <a:r>
              <a:rPr b="1" lang="en-US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Maize</a:t>
            </a:r>
            <a:r>
              <a:rPr b="1" lang="en-US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00"/>
                </a:solidFill>
                <a:latin typeface="Bookman Old Style"/>
                <a:ea typeface="Arial"/>
              </a:rPr>
              <a:t>Lepidopteran resistance</a:t>
            </a:r>
            <a:r>
              <a:rPr b="1" lang="en-US" sz="2200" spc="-1" strike="noStrike">
                <a:solidFill>
                  <a:srgbClr val="eeeec0"/>
                </a:solidFill>
                <a:latin typeface="Bookman Old Style"/>
                <a:ea typeface="Arial"/>
              </a:rPr>
              <a:t>    "Bt 11"</a:t>
            </a:r>
            <a:r>
              <a:rPr b="1" lang="en-US" sz="20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n-US" sz="8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0F26-F67D-4749-A128-A5AE9A93C1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a92"/>
                </a:solidFill>
                <a:latin typeface="Bookman Old Style"/>
                <a:ea typeface="Arial"/>
              </a:rPr>
              <a:t>BIOTECHNOLOGY OFFICE</a:t>
            </a:r>
            <a:br>
              <a:rPr sz="2700"/>
            </a:br>
            <a:r>
              <a:rPr b="1" lang="en-US" sz="2700" spc="-1" strike="noStrike">
                <a:solidFill>
                  <a:srgbClr val="fafa92"/>
                </a:solidFill>
                <a:latin typeface="Bookman Old Style"/>
                <a:ea typeface="Arial"/>
              </a:rPr>
              <a:t> (Other activities)</a:t>
            </a:r>
            <a:br>
              <a:rPr sz="2700"/>
            </a:br>
            <a:endParaRPr b="0" lang="en-US" sz="27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c0"/>
                </a:solidFill>
                <a:latin typeface="Bookman Old Style"/>
                <a:ea typeface="Arial"/>
              </a:rPr>
              <a:t>INTERACTION WITH SIMILAR FOREIGN BOD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85"/>
                </a:solidFill>
                <a:latin typeface="Bookman Old Style"/>
                <a:ea typeface="Arial"/>
              </a:rPr>
              <a:t>ANALYSIS OF OTHER CURRENT REGULATORY </a:t>
            </a:r>
            <a:r>
              <a:rPr b="1" lang="en-US" sz="20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fff85"/>
                </a:solidFill>
                <a:latin typeface="Bookman Old Style"/>
                <a:ea typeface="Arial"/>
              </a:rPr>
              <a:t>FRAMEWORK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r>
              <a:rPr b="1" lang="en-US" sz="2000" spc="-1" strike="noStrike">
                <a:solidFill>
                  <a:srgbClr val="eeeec0"/>
                </a:solidFill>
                <a:latin typeface="Bookman Old Style"/>
                <a:ea typeface="Arial"/>
              </a:rPr>
              <a:t>WORKSHOPS, INFORMATION EXCHA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85"/>
                </a:solidFill>
                <a:latin typeface="Bookman Old Style"/>
                <a:ea typeface="Arial"/>
              </a:rPr>
              <a:t>INSTITUTIONAL ADVICE IN THE REG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c0"/>
                </a:solidFill>
                <a:latin typeface="Bookman Old Style"/>
                <a:ea typeface="Arial"/>
              </a:rPr>
              <a:t>ENVIRONMENTAL RISK ASSESSMENTS COUR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5BB-08BA-4E08-A78B-7C9D604C71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50000"/>
              </a:lnSpc>
              <a:spcBef>
                <a:spcPts val="5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PARTICIPATION IN THE US/CANADA 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BILATERAL ON PHENOTYPIC EXPRESSION 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AND MOLECULAR GENETICS 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CHARACTERIZATIO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150000"/>
              </a:lnSpc>
              <a:spcBef>
                <a:spcPts val="5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DATA AND ENVIRONMENTAL RISK 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ASSESSMENT CRITERIA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150000"/>
              </a:lnSpc>
              <a:spcBef>
                <a:spcPts val="5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 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ASSESSMENT ASSISTANCE AT REGIONAL 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n-US" sz="2300" spc="-1" strike="noStrike">
                <a:solidFill>
                  <a:srgbClr val="ffff85"/>
                </a:solidFill>
                <a:latin typeface="Bookman Old Style"/>
                <a:ea typeface="Arial"/>
              </a:rPr>
              <a:t>LEVEL, WORKSHOP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457200"/>
            <a:ext cx="746748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a92"/>
                </a:solidFill>
                <a:latin typeface="Bookman Old Style"/>
                <a:ea typeface="Arial"/>
              </a:rPr>
              <a:t>HARMONIZATION INITIATIV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C21F-CA40-472C-9E09-AB4231A6ED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700" spc="-1" strike="noStrike">
                <a:solidFill>
                  <a:srgbClr val="fafa92"/>
                </a:solidFill>
                <a:latin typeface="Bookman Old Style"/>
                <a:ea typeface="Arial"/>
              </a:rPr>
              <a:t>NATIONAL POLICY</a:t>
            </a:r>
            <a:r>
              <a:rPr b="1" lang="en-US" sz="2700" spc="-1" strike="noStrike">
                <a:solidFill>
                  <a:srgbClr val="c1e9e6"/>
                </a:solidFill>
                <a:latin typeface="Bookman Old Style"/>
                <a:ea typeface="Arial"/>
              </a:rPr>
              <a:t> </a:t>
            </a:r>
            <a:endParaRPr b="0" lang="en-US" sz="27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6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n-US" sz="2100" spc="-1" strike="noStrike">
                <a:solidFill>
                  <a:srgbClr val="fbf755"/>
                </a:solidFill>
                <a:latin typeface="Bookman Old Style"/>
                <a:ea typeface="Arial"/>
              </a:rPr>
              <a:t>REGULATORY LEGISLATION (LAW)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6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bf755"/>
                </a:solidFill>
                <a:latin typeface="Bookman Old Style"/>
                <a:ea typeface="Arial"/>
              </a:rPr>
              <a:t>CONVENTION  ON BIOLOGICAL DIVERSITY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6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bf755"/>
                </a:solidFill>
                <a:latin typeface="Bookman Old Style"/>
                <a:ea typeface="Arial"/>
              </a:rPr>
              <a:t>CARTAGENA PROTOCOL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6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bf755"/>
                </a:solidFill>
                <a:latin typeface="Bookman Old Style"/>
                <a:ea typeface="Arial"/>
              </a:rPr>
              <a:t>PREPARATION OF POSITION DOCUMENTS AT </a:t>
            </a:r>
            <a:r>
              <a:rPr b="1" lang="es-ES_tradnl" sz="2100" spc="-1" strike="noStrike">
                <a:solidFill>
                  <a:srgbClr val="fbf755"/>
                </a:solidFill>
                <a:latin typeface="Bookman Old Style"/>
                <a:ea typeface="Arial"/>
              </a:rPr>
              <a:t>INTERNACIONAL FORA (FAO, CODEX, ISO, IPPC)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6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bf755"/>
                </a:solidFill>
                <a:latin typeface="Bookman Old Style"/>
                <a:ea typeface="Arial"/>
              </a:rPr>
              <a:t>TECHNICAL SUPPORT TO NEGOTIATION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6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bf755"/>
                </a:solidFill>
                <a:latin typeface="Bookman Old Style"/>
                <a:ea typeface="Arial"/>
              </a:rPr>
              <a:t>RESPONSE TO PUBLIC INQUIRIE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CFFD-8E61-426D-8E43-DDAD4125B7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br>
              <a:rPr sz="2400"/>
            </a:br>
            <a:r>
              <a:rPr b="1" lang="en-US" sz="2700" spc="-1" strike="noStrike">
                <a:solidFill>
                  <a:srgbClr val="fafa92"/>
                </a:solidFill>
                <a:latin typeface="Bookman Old Style"/>
                <a:ea typeface="Arial"/>
              </a:rPr>
              <a:t>   </a:t>
            </a:r>
            <a:r>
              <a:rPr b="1" lang="en-US" sz="2700" spc="-1" strike="noStrike">
                <a:solidFill>
                  <a:srgbClr val="fafa92"/>
                </a:solidFill>
                <a:latin typeface="Bookman Old Style"/>
                <a:ea typeface="Arial"/>
              </a:rPr>
              <a:t>Three steps system</a:t>
            </a:r>
            <a:r>
              <a:rPr b="1" lang="en-US" sz="2700" spc="-1" strike="noStrike">
                <a:solidFill>
                  <a:srgbClr val="53c6e1"/>
                </a:solidFill>
                <a:latin typeface="바탕"/>
                <a:ea typeface="Arial"/>
              </a:rPr>
              <a:t> </a:t>
            </a:r>
            <a:r>
              <a:rPr b="1" lang="en-US" sz="2700" spc="-1" strike="noStrike">
                <a:solidFill>
                  <a:srgbClr val="faf5b4"/>
                </a:solidFill>
                <a:latin typeface="Bookman Old Style"/>
                <a:ea typeface="Arial"/>
              </a:rPr>
              <a:t> (SAGPyA</a:t>
            </a:r>
            <a:r>
              <a:rPr b="1" lang="en-US" sz="2700" spc="-1" strike="noStrike">
                <a:solidFill>
                  <a:srgbClr val="fafa92"/>
                </a:solidFill>
                <a:latin typeface="바탕"/>
                <a:ea typeface="Arial"/>
              </a:rPr>
              <a:t>)</a:t>
            </a:r>
            <a:br>
              <a:rPr sz="2700"/>
            </a:br>
            <a:br>
              <a:rPr sz="2400"/>
            </a:br>
            <a:endParaRPr b="0" lang="en-US" sz="27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286000"/>
            <a:ext cx="815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eeeec0"/>
                </a:solidFill>
                <a:latin typeface="Bookman Old Style"/>
                <a:ea typeface="Arial"/>
              </a:rPr>
              <a:t>• </a:t>
            </a:r>
            <a:r>
              <a:rPr b="1" lang="en-US" sz="2400" spc="-1" strike="noStrike">
                <a:solidFill>
                  <a:srgbClr val="00ffcc"/>
                </a:solidFill>
                <a:latin typeface="Bookman Old Style"/>
                <a:ea typeface="Arial"/>
              </a:rPr>
              <a:t>ENVIRONMENTAL RISK ASSESSMENT</a:t>
            </a:r>
            <a:r>
              <a:rPr b="1" lang="en-US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r>
              <a:rPr b="1" lang="en-US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n-US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n-US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n-US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(CONABIA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• </a:t>
            </a:r>
            <a:r>
              <a:rPr b="1" lang="en-US" sz="2400" spc="-1" strike="noStrike">
                <a:solidFill>
                  <a:srgbClr val="00ffcc"/>
                </a:solidFill>
                <a:latin typeface="Bookman Old Style"/>
                <a:ea typeface="Arial"/>
              </a:rPr>
              <a:t>FOOD SAFETY</a:t>
            </a:r>
            <a:r>
              <a:rPr b="1" lang="en-US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n-US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(CTA, SENASA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• </a:t>
            </a:r>
            <a:r>
              <a:rPr b="1" lang="en-US" sz="2400" spc="-1" strike="noStrike">
                <a:solidFill>
                  <a:srgbClr val="00ffcc"/>
                </a:solidFill>
                <a:latin typeface="Bookman Old Style"/>
                <a:ea typeface="Arial"/>
              </a:rPr>
              <a:t>IMPACT ON INTERNATIONAL TRADE</a:t>
            </a:r>
            <a:r>
              <a:rPr b="1" lang="en-US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n-US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(DNM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ED0B-B6D9-46C2-908E-2B4839504A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762120"/>
            <a:ext cx="9144000" cy="56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fbf755"/>
                </a:solidFill>
                <a:latin typeface="Bookman Old Style"/>
                <a:ea typeface="Arial"/>
              </a:rPr>
              <a:t>NATIONAL CONTEX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300" spc="-1" strike="noStrike">
                <a:solidFill>
                  <a:srgbClr val="fbf755"/>
                </a:solidFill>
                <a:latin typeface="Symbol"/>
                <a:ea typeface="Symbol"/>
              </a:rPr>
              <a:t></a:t>
            </a:r>
            <a:r>
              <a:rPr b="0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Low % of GNP applied to S&amp;T budget (0,25 %, with 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almost no contribution from the private 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sector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ES_tradnl" sz="2300" spc="-1" strike="noStrike">
                <a:solidFill>
                  <a:srgbClr val="fbf755"/>
                </a:solidFill>
                <a:latin typeface="Symbol"/>
                <a:ea typeface="Symbol"/>
              </a:rPr>
              <a:t>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Increasing (still low) University-Industry linkag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ES_tradnl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s-ES_tradnl" sz="2300" spc="-1" strike="noStrike">
                <a:solidFill>
                  <a:srgbClr val="fbf755"/>
                </a:solidFill>
                <a:latin typeface="Symbol"/>
                <a:ea typeface="Symbol"/>
              </a:rPr>
              <a:t>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High level of scientific expertis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bf755"/>
                </a:solidFill>
                <a:latin typeface="Symbol"/>
                <a:ea typeface="Symbol"/>
              </a:rPr>
              <a:t>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Strong emphasis in basic research, less interest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   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in real life applications (now slowly changing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ES_tradnl" sz="2300" spc="-1" strike="noStrike">
                <a:solidFill>
                  <a:srgbClr val="fbf755"/>
                </a:solidFill>
                <a:latin typeface="Symbol"/>
                <a:ea typeface="Symbol"/>
              </a:rPr>
              <a:t>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s-MX" sz="2300" spc="-1" strike="noStrike">
                <a:solidFill>
                  <a:srgbClr val="fbf755"/>
                </a:solidFill>
                <a:latin typeface="Bookman Old Style"/>
                <a:ea typeface="Arial"/>
              </a:rPr>
              <a:t>Low exposure of regulatory agenci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5F7-3E02-40D2-AF8A-32416C85FA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6978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4ec54"/>
                </a:solidFill>
                <a:latin typeface="Bookman Old Style"/>
                <a:ea typeface="Arial"/>
              </a:rPr>
              <a:t>INTERNATIONAL 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4ec54"/>
                </a:solidFill>
                <a:latin typeface="Symbol"/>
                <a:ea typeface="Symbol"/>
              </a:rPr>
              <a:t></a:t>
            </a:r>
            <a:r>
              <a:rPr b="1" lang="es-MX" sz="2400" spc="-1" strike="noStrike">
                <a:solidFill>
                  <a:srgbClr val="f4ec54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f4ec54"/>
                </a:solidFill>
                <a:latin typeface="Bookman Old Style"/>
                <a:ea typeface="Arial"/>
              </a:rPr>
              <a:t>EU “SUSPENSION” OF APPROVALS </a:t>
            </a:r>
            <a:r>
              <a:rPr b="1" lang="es-MX" sz="2400" spc="-1" strike="noStrike">
                <a:solidFill>
                  <a:srgbClr val="f4ec54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4ec54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4ec54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4ec54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4ec54"/>
                </a:solidFill>
                <a:latin typeface="Bookman Old Style"/>
                <a:ea typeface="Arial"/>
              </a:rPr>
              <a:t>(MORATORIUM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ffff99"/>
                </a:solidFill>
                <a:latin typeface="Symbol"/>
                <a:ea typeface="Symbol"/>
              </a:rPr>
              <a:t>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NEGATIVE LABELING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4ec54"/>
                </a:solidFill>
                <a:latin typeface="Bookman Old Style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4ec54"/>
                </a:solidFill>
                <a:latin typeface="Bookman Old Style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f4ec54"/>
                </a:solidFill>
                <a:latin typeface="Symbol"/>
                <a:ea typeface="Symbol"/>
              </a:rPr>
              <a:t></a:t>
            </a:r>
            <a:r>
              <a:rPr b="1" lang="es-MX" sz="2400" spc="-1" strike="noStrike">
                <a:solidFill>
                  <a:srgbClr val="f4ec54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f4ec54"/>
                </a:solidFill>
                <a:latin typeface="Bookman Old Style"/>
                <a:ea typeface="Arial"/>
              </a:rPr>
              <a:t>ONGs ACTIVITIES AGAINST G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ffff85"/>
                </a:solidFill>
                <a:latin typeface="Symbol"/>
                <a:ea typeface="Symbol"/>
              </a:rPr>
              <a:t></a:t>
            </a:r>
            <a:r>
              <a:rPr b="1" lang="es-MX" sz="2400" spc="-1" strike="noStrike">
                <a:solidFill>
                  <a:srgbClr val="ffff85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ffff85"/>
                </a:solidFill>
                <a:latin typeface="Bookman Old Style"/>
                <a:ea typeface="Arial"/>
              </a:rPr>
              <a:t>NEGATIVE ENVIRONMENT AT INTERNATIONAL </a:t>
            </a:r>
            <a:r>
              <a:rPr b="1" lang="es-MX" sz="24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85"/>
                </a:solidFill>
                <a:latin typeface="Bookman Old Style"/>
                <a:ea typeface="Arial"/>
              </a:rPr>
              <a:t>FORA  (E.G., SPS INCLUDING ANALYSIS OF </a:t>
            </a:r>
            <a:r>
              <a:rPr b="1" lang="es-MX" sz="24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85"/>
                </a:solidFill>
                <a:latin typeface="Bookman Old Style"/>
                <a:ea typeface="Arial"/>
              </a:rPr>
              <a:t>GMOs AS PESTS, BIOSECURITY = </a:t>
            </a:r>
            <a:r>
              <a:rPr b="1" lang="es-MX" sz="24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85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85"/>
                </a:solidFill>
                <a:latin typeface="Bookman Old Style"/>
                <a:ea typeface="Arial"/>
              </a:rPr>
              <a:t>BIOSAFE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C28E-6F99-4077-A0C8-CE57ED5B23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554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bf755"/>
                </a:solidFill>
                <a:latin typeface="Bookman Old Style"/>
                <a:ea typeface="Arial"/>
              </a:rPr>
              <a:t>INTERNATIONAL 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2300" spc="-1" strike="noStrike">
                <a:solidFill>
                  <a:srgbClr val="ffff99"/>
                </a:solidFill>
                <a:latin typeface="Symbol"/>
                <a:ea typeface="Symbol"/>
              </a:rPr>
              <a:t></a:t>
            </a:r>
            <a:r>
              <a:rPr b="0" lang="es-MX" sz="2300" spc="-1" strike="noStrike">
                <a:solidFill>
                  <a:srgbClr val="ffff99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REQUIREMENTS FOR IDENTITY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PRESERVATION </a:t>
            </a:r>
            <a:r>
              <a:rPr b="1" lang="es-MX" sz="2400" spc="-1" strike="noStrike">
                <a:solidFill>
                  <a:srgbClr val="00ffcc"/>
                </a:solidFill>
                <a:latin typeface="Bookman Old Style"/>
                <a:ea typeface="Arial"/>
              </a:rPr>
              <a:t>(ONLY  LABELING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</a:t>
            </a:r>
            <a:r>
              <a:rPr b="0" lang="es-MX" sz="2300" spc="-1" strike="noStrike">
                <a:solidFill>
                  <a:srgbClr val="ffff99"/>
                </a:solidFill>
                <a:latin typeface="Symbol"/>
                <a:ea typeface="Symbol"/>
              </a:rPr>
              <a:t>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SEGREGATION AT THE COMMODITY LEVEL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(COST OF IMPLEMENTATION, FOR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DEVELOPING COUNTRIES) </a:t>
            </a:r>
            <a:r>
              <a:rPr b="1" lang="es-MX" sz="2400" spc="-1" strike="noStrike">
                <a:solidFill>
                  <a:srgbClr val="00ffcc"/>
                </a:solidFill>
                <a:latin typeface="Bookman Old Style"/>
                <a:ea typeface="Arial"/>
              </a:rPr>
              <a:t>(ON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00ffcc"/>
                </a:solidFill>
                <a:latin typeface="Bookman Old Style"/>
                <a:ea typeface="Arial"/>
              </a:rPr>
              <a:t>LABELING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</a:t>
            </a:r>
            <a:r>
              <a:rPr b="1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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INTELLECTUAL PROPERTY PROBLEMS (MAIN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PROBLEM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ffff99"/>
                </a:solidFill>
                <a:latin typeface="Symbol"/>
                <a:ea typeface="Symbol"/>
              </a:rPr>
              <a:t>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 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PRIVATIZED RESEARCH (LESS ACADEMIC 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	</a:t>
            </a:r>
            <a:r>
              <a:rPr b="1" lang="es-MX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COMMUNICAT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1742-C322-4697-8B76-93D7AC50D5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bf755"/>
                </a:solidFill>
                <a:latin typeface="Bookman Old Style"/>
                <a:ea typeface="Arial"/>
              </a:rPr>
              <a:t>THE RISKS</a:t>
            </a:r>
            <a:br>
              <a:rPr sz="2700"/>
            </a:br>
            <a:br>
              <a:rPr sz="1600"/>
            </a:br>
            <a:r>
              <a:rPr b="1" lang="en-US" sz="2400" spc="-1" strike="noStrike">
                <a:solidFill>
                  <a:srgbClr val="fbf755"/>
                </a:solidFill>
                <a:latin typeface="Bookman Old Style"/>
                <a:ea typeface="Arial"/>
              </a:rPr>
              <a:t>PROBLEMS IN THE IDENTIFICATION, ASSESSMENT AND MANAGEMENT OF RISKS</a:t>
            </a:r>
            <a:br>
              <a:rPr sz="2400"/>
            </a:b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UNCERTAINTIES ASSOCIATED WITH TECHNOLOGY 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INNOV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OBJECTIVE vs SUBJECTIVE JUDGEMEN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PUBLIC PERCEPTION – DRIVEN  EFFECTS ON THE 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REGU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- SCIENTIFIC vs EMOTIONAL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- SCIENTIFIC vs COMMERCIAL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TECHNOLOGY GA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PRESSURE BY INTEREST GRUP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3730-DF3A-4174-8E2D-BA3E024046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bf755"/>
                </a:solidFill>
                <a:latin typeface="Bookman Old Style"/>
                <a:ea typeface="Arial"/>
              </a:rPr>
              <a:t>THE RISKS</a:t>
            </a:r>
            <a:endParaRPr b="0" lang="en-US" sz="27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Bookman Old Style"/>
                <a:ea typeface="Arial"/>
              </a:rPr>
              <a:t>LOSS OF BIODIVERSIT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MARKET PRESSURE ON FARMERS: PRODUCTION ADVANTAGES   </a:t>
            </a:r>
            <a:r>
              <a:rPr b="1" lang="es-ES_tradnl" sz="2000" spc="-1" strike="noStrike">
                <a:solidFill>
                  <a:srgbClr val="fbf755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   LOSS OF LAND-RA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CULTIVATION NEAR CENTERS OF ORIGIN OF BIODIVERSITY </a:t>
            </a:r>
            <a:r>
              <a:rPr b="1" lang="es-ES_tradnl" sz="2000" spc="-1" strike="noStrike">
                <a:solidFill>
                  <a:srgbClr val="fbf755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   GENE FLOW, LOSS OF WILD ANCESTOR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bf755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PRODUCTION DE UNDESIRED PHENOTYPES THROUGH GENE TRANSFER TO SEXUALLY COMPATIBLE SPECIES (OUTCROSSING)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bf755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WILD RELATIVES OF GM PLANT, WEE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F06A-52E6-41A5-914C-42F943EBAA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bcbcb"/>
              </a:solidFill>
              <a:latin typeface="바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Bookman Old Style"/>
                <a:ea typeface="Arial"/>
              </a:rPr>
              <a:t>SELECTIVE PRESSURE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 TOWARDS INCREASED PEST TOLERANCE TO CURRENTLY USEFUL PESTICID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BIODEGRADABLE HERBICID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MICROBIAL INSECTICI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BIOLOGICAL CONTROL AGEN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MANAGEMENT OF THE ABOVE CHANG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- FARMERS COMPLIA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- MONITORING, WARNING PROCED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70CF-54C3-4210-A91A-2E146A8036A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CHANGES IN THE PREDATOR-PREY RELATIONSHI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NEGATIVE  EFFECTS ON BENEFICIAL INSEC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THREAT  TO ENDANGERED SPECI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LOSS OF REFUGIA / RESERVOI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(HORIZONTAL) GENE TRANSFER PHENOMENA IN NATURAL HABITAT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SO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MAMMALIAN INTEST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ANTIBIOTICS RESISTANCE GENES TO HUMAN PATHOGE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7FB-3481-4B82-BE79-AA2D085CACC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bcbcb"/>
              </a:solidFill>
              <a:latin typeface="바탕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LONG TERM CHANGES IN ECOLOGY RELATIONSHIP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UNEXPECTED GENETIC RECOMBINATION PHENOMENA   </a:t>
            </a: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WITH EFFECTS ON PATHOGEN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13040" indent="-2124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EPIDEMIOLOG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13040" indent="-2124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ECOLO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13040" indent="-2124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HOST RANGE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ANTIBIOTICS INACTIVATION PROTEINS ENTERING THE </a:t>
            </a: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FOOD CHAIN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NEED TO CHANGE TYPE OF SELECTION MARKER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CHANGES IN THE TRANSFORMATION METHODS         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(“CLEAN INSERTS”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8C99-1934-49FD-AD25-01F2AE8C27F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2" marL="1085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COMMERCIAL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EFFECTS: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POSSIBLE CHANGES IN TRADE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PATTERNS </a:t>
            </a:r>
            <a:br>
              <a:rPr sz="2200"/>
            </a:br>
            <a:r>
              <a:rPr b="1" lang="en-US" sz="2200" spc="-1" strike="noStrike">
                <a:solidFill>
                  <a:srgbClr val="fbf755"/>
                </a:solidFill>
                <a:latin typeface="Bookman Old Style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CHANGES IN CROP GEOGRAPHIC AREA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NEW PRODUCER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TRADE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BARRIERS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TRACEABILITY (Not mentioned in the Cartagena Protocol, but needed for labeling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BAE-9010-431F-8E64-E6ABC62926D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Bookman Old Style"/>
              </a:rPr>
              <a:t>THE PRESENT DYNAMIC SCENARIO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-185760">
              <a:lnSpc>
                <a:spcPct val="14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CROPS OF ECONOMIC IMPORTANCE HAVING HIGH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OUTCROSSING POTENTIAL (E.G. SUNFLOWER,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TOWARDS WILD RELATIVES AND RELATED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SPECIES, OTHER TROPICAL SPECIES?)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HOW TO OBTAIN USEFUL GM CROPS FROM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THE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5760" indent="0">
              <a:lnSpc>
                <a:spcPct val="14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14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REVIEW  ISOLATION DISTANC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5760" indent="0">
              <a:lnSpc>
                <a:spcPct val="14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14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GENE FLOW TO WILD RELATIVES, COMPATIBLE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WEED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576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8576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B7AA-8A9F-4941-9240-3EE97FE63E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002f5e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371600"/>
            <a:ext cx="9144000" cy="53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4ec54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f4ec54"/>
                </a:solidFill>
                <a:latin typeface="Bookman Old Style"/>
                <a:ea typeface="Arial"/>
              </a:rPr>
              <a:t>SAGPYA</a:t>
            </a:r>
            <a:r>
              <a:rPr b="0" lang="en-US" sz="2200" spc="-1" strike="noStrike">
                <a:solidFill>
                  <a:srgbClr val="f4ec54"/>
                </a:solidFill>
                <a:latin typeface="Bookman Old Style"/>
                <a:ea typeface="Arial"/>
              </a:rPr>
              <a:t>:</a:t>
            </a:r>
            <a:r>
              <a:rPr b="0" lang="en-US" sz="2200" spc="-1" strike="noStrike">
                <a:solidFill>
                  <a:srgbClr val="faf5b4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SECRETARY OF AGRICULTURE, LIVESTOCK, 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FISHERIES AND FOO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4ec54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f4ec54"/>
                </a:solidFill>
                <a:latin typeface="Bookman Old Style"/>
                <a:ea typeface="Arial"/>
              </a:rPr>
              <a:t>CONABIA</a:t>
            </a:r>
            <a:r>
              <a:rPr b="0" lang="en-US" sz="2200" spc="-1" strike="noStrike">
                <a:solidFill>
                  <a:srgbClr val="f4ec54"/>
                </a:solidFill>
                <a:latin typeface="Bookman Old Style"/>
                <a:ea typeface="Arial"/>
              </a:rPr>
              <a:t>:</a:t>
            </a:r>
            <a:r>
              <a:rPr b="0" lang="en-US" sz="2200" spc="-1" strike="noStrike">
                <a:solidFill>
                  <a:srgbClr val="faf5b4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NATIONAL ADVISORY COMMISSION ON 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AGRICULTURAL BIOTECHNOLOG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85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ffff85"/>
                </a:solidFill>
                <a:latin typeface="Bookman Old Style"/>
                <a:ea typeface="Arial"/>
              </a:rPr>
              <a:t>CTA</a:t>
            </a:r>
            <a:r>
              <a:rPr b="0" lang="en-US" sz="2200" spc="-1" strike="noStrike">
                <a:solidFill>
                  <a:srgbClr val="ffff85"/>
                </a:solidFill>
                <a:latin typeface="Bookman Old Style"/>
                <a:ea typeface="Arial"/>
              </a:rPr>
              <a:t>:</a:t>
            </a:r>
            <a:r>
              <a:rPr b="0" lang="en-US" sz="2200" spc="-1" strike="noStrike">
                <a:solidFill>
                  <a:srgbClr val="faf5b4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TECHNICAL ADVISORY COMMISSION ON USE OF 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FOOD DERIVED FROM GM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85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ffff85"/>
                </a:solidFill>
                <a:latin typeface="Bookman Old Style"/>
                <a:ea typeface="Arial"/>
              </a:rPr>
              <a:t>SENASA</a:t>
            </a:r>
            <a:r>
              <a:rPr b="0" lang="en-US" sz="2200" spc="-1" strike="noStrike">
                <a:solidFill>
                  <a:srgbClr val="ffff85"/>
                </a:solidFill>
                <a:latin typeface="Bookman Old Style"/>
                <a:ea typeface="Arial"/>
              </a:rPr>
              <a:t>:</a:t>
            </a:r>
            <a:r>
              <a:rPr b="0" lang="en-US" sz="2200" spc="-1" strike="noStrike">
                <a:solidFill>
                  <a:srgbClr val="faf5b4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NATIONAL SERVICE FOR AGRI-FOOD SAFETY 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AND QUAL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85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ffff85"/>
                </a:solidFill>
                <a:latin typeface="Bookman Old Style"/>
                <a:ea typeface="Arial"/>
              </a:rPr>
              <a:t>DNMA</a:t>
            </a:r>
            <a:r>
              <a:rPr b="0" lang="en-US" sz="2200" spc="-1" strike="noStrike">
                <a:solidFill>
                  <a:srgbClr val="ffff85"/>
                </a:solidFill>
                <a:latin typeface="Bookman Old Style"/>
                <a:ea typeface="Arial"/>
              </a:rPr>
              <a:t>:</a:t>
            </a:r>
            <a:r>
              <a:rPr b="0" lang="en-US" sz="2200" spc="-1" strike="noStrike">
                <a:solidFill>
                  <a:srgbClr val="faf5b4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NATIONAL DIRECTORATE OF AGRI-FOOD 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MARKE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28D2-7FFA-4AEF-A219-EDAB1825FE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Bookman Old Style"/>
              </a:rPr>
              <a:t>THE PRESENT DYNAMIC SCENARIO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17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STRENGTHENING CAPACITY FOR FOOD SAFETY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REVIEW  PROCESS (ANIMAL MODELS FOR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ALLERGENICITY, PROTEIN DATA BASE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5760" indent="0">
              <a:lnSpc>
                <a:spcPct val="1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85760" indent="0">
              <a:lnSpc>
                <a:spcPct val="1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17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EFFECTIVE COMMUNICATION STRATEG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D7E6-ABAA-4EBC-90B0-5F848D8EBA6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bcbcb"/>
                </a:solidFill>
                <a:latin typeface="바탕"/>
              </a:rPr>
              <a:t>	</a:t>
            </a: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THE MEDIUM TERM SCENARIO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EXPANDING CAPACITY BUILDING FOR REVIEW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EXTENDED USE OF THE BIOSAFETY CLEARING HOUSE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INCREASED GENETIC CONSTRUCTS COMPLEXITY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MULTIGENIC TRAITS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GURT’S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BASELINE RESISTANCE/TOLERANCE LEVELS (INSECTS, </a:t>
            </a:r>
            <a:r>
              <a:rPr b="1" lang="en-U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WEEDS)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DEVELOPING OF “LONG TERM” MONITORING </a:t>
            </a:r>
            <a:r>
              <a:rPr b="1" lang="es-E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E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E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s-E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INDICATORS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bf755"/>
                </a:solidFill>
                <a:latin typeface="Bookman Old Style"/>
                <a:ea typeface="Arial"/>
              </a:rPr>
              <a:t>BIOLOGICAL DIVERSITY SURVEYS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9A85-CF54-4DCE-89AA-69824C38C01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THE MEDIUM TERM SCENARIO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5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MORE COUNTRIES ACCEPTING GM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5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NEW CROPS (TROPICAL?) ENTERING THE MARK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5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COMMODITY TRADE COMPLICATED (cost increas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5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CHANGING INTELLECTUAL PROPERTY RU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5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END OR EASENING OF MORATO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5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PRIMERS AND PCR PROTOCOLS BANK 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(CONFIDENTIALITY, INTELLECTUAL PROPERTY 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fbf755"/>
                </a:solidFill>
                <a:latin typeface="Bookman Old Style"/>
                <a:ea typeface="Arial"/>
              </a:rPr>
              <a:t>ISSUES, LEGAL MATTERS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9E85-C6B0-4ED9-B989-BC78E1AD6FE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afa92"/>
                </a:solidFill>
                <a:latin typeface="Bookman Old Style"/>
              </a:rPr>
              <a:t>FINAL COMMENTS</a:t>
            </a:r>
            <a:endParaRPr b="0" lang="en-US" sz="27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REGULATORY</a:t>
            </a:r>
            <a:r>
              <a:rPr b="1" lang="es-ES" sz="2400" spc="-1" strike="noStrike">
                <a:solidFill>
                  <a:srgbClr val="ffff99"/>
                </a:solidFill>
                <a:latin typeface="Bookman Old Style"/>
              </a:rPr>
              <a:t> </a:t>
            </a: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FRAME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fbf755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SCIENTIFIC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fbf755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CASE BY CA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fbf755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PRECAUTIONARY APPROACH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fbf755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CLEA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fbf755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TRANSPARENT DECISION MAKING PROCE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fbf755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VISIBILITY TO SOCIE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fbf755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INFORMATION DATABASE FOR PUBLIC 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	</a:t>
            </a:r>
            <a:r>
              <a:rPr b="1" lang="en-US" sz="2200" spc="-1" strike="noStrike">
                <a:solidFill>
                  <a:srgbClr val="fbf755"/>
                </a:solidFill>
                <a:latin typeface="Bookman Old Style"/>
                <a:ea typeface="Arial"/>
              </a:rPr>
              <a:t>CONSULT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9BD7-2B56-4D53-B96F-4266C4E5A0C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4ec54"/>
                </a:solidFill>
                <a:latin typeface="Bookman Old Style"/>
              </a:rPr>
              <a:t>BUILDING A SYSTE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RECRUIT A HIGH QUALITY SCIENTIFIC STAF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THE ENVIRONMENT - AGROECOSYSTEM TR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CERTAIN CROPS, ACREAGE SIZE, SITES, </a:t>
            </a: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	</a:t>
            </a: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	</a:t>
            </a: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QUALITY REQUIREMENTS, MAY REQUIRE </a:t>
            </a: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	</a:t>
            </a: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SPECIFIC HANDLING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BE UPDATED ON THE PERTINENT SCIENTIFIC </a:t>
            </a: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	</a:t>
            </a: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MAT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CALL OTHER EXPERTS WHEN NEE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A857-5356-4F23-90B9-1069E9D840B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700" spc="-1" strike="noStrike">
              <a:solidFill>
                <a:srgbClr val="fbf755"/>
              </a:solidFill>
              <a:latin typeface="Bookman Old Style"/>
              <a:ea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DEVELOP A COMMUNICATION STRATE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PROMOTE PROACTIVE PARTICIPATION OF </a:t>
            </a: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	</a:t>
            </a: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ALL STAKEHOL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afa92"/>
                </a:solidFill>
                <a:latin typeface="Bookman Old Style"/>
              </a:rPr>
              <a:t>DEVELOP PUBLIC PERCE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473D-8D31-4F99-8BFC-8086A5B83A2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002f5e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6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ec54"/>
                </a:solidFill>
                <a:latin typeface="Bookman Old Style"/>
                <a:ea typeface="Arial"/>
              </a:rPr>
              <a:t>BIOTECHNOLOGY OFFICE</a:t>
            </a:r>
            <a:r>
              <a:rPr b="1" lang="en-US" sz="2200" spc="-1" strike="noStrike">
                <a:solidFill>
                  <a:srgbClr val="f4ec54"/>
                </a:solidFill>
                <a:latin typeface="Bookman Old Style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ec54"/>
                </a:solidFill>
                <a:latin typeface="Bookman Old Style"/>
                <a:ea typeface="Arial"/>
              </a:rPr>
              <a:t>(WITHIN SAGPY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af5b4"/>
                </a:solidFill>
                <a:latin typeface="Bookman Old Style"/>
                <a:ea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af5b4"/>
                </a:solidFill>
                <a:latin typeface="Bookman Old Style"/>
                <a:ea typeface="Arial"/>
              </a:rPr>
              <a:t>	</a:t>
            </a:r>
            <a:r>
              <a:rPr b="0" lang="es-ES" sz="2200" spc="-1" strike="noStrike">
                <a:solidFill>
                  <a:srgbClr val="faf5b4"/>
                </a:solidFill>
                <a:latin typeface="Bookman Old Style"/>
                <a:ea typeface="Arial"/>
              </a:rPr>
              <a:t>	</a:t>
            </a:r>
            <a:r>
              <a:rPr b="1" lang="es-ES" sz="2800" spc="-1" strike="noStrike">
                <a:solidFill>
                  <a:srgbClr val="00ffcc"/>
                </a:solidFill>
                <a:latin typeface="Bookman Old Style"/>
                <a:ea typeface="Arial"/>
              </a:rPr>
              <a:t>V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BIOTECNOLOGY IS CONSIDERED A STRATEGIC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TECHNOLOG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IT HAS THE POTENTIAL TO IMPROVE THE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WELFARE OF ARGENTINE SOCIETY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THROUGH SEVERAL WAY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14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F38D-DF72-4813-9D25-5C0E0ADA89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002f5e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4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ec54"/>
                </a:solidFill>
                <a:latin typeface="Bookman Old Style"/>
                <a:ea typeface="Arial"/>
              </a:rPr>
              <a:t>BIOTECHNOLOGY OFFICE</a:t>
            </a:r>
            <a:r>
              <a:rPr b="1" lang="en-US" sz="2200" spc="-1" strike="noStrike">
                <a:solidFill>
                  <a:srgbClr val="f4ec54"/>
                </a:solidFill>
                <a:latin typeface="Bookman Old Style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ec54"/>
                </a:solidFill>
                <a:latin typeface="Bookman Old Style"/>
                <a:ea typeface="Arial"/>
              </a:rPr>
              <a:t>(WITHIN SAGPY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af5b4"/>
                </a:solidFill>
                <a:latin typeface="Bookman Old Style"/>
                <a:ea typeface="Arial"/>
              </a:rPr>
              <a:t>	</a:t>
            </a:r>
            <a:r>
              <a:rPr b="1" lang="es-ES" sz="2800" spc="-1" strike="noStrike">
                <a:solidFill>
                  <a:srgbClr val="00ffcc"/>
                </a:solidFill>
                <a:latin typeface="Bookman Old Style"/>
                <a:ea typeface="Arial"/>
              </a:rPr>
              <a:t>MISS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INCREASING FOOD SECUR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15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INCREASE NUTRITIONAL STATUS OF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UNDERNURISHED POPULA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15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FAVOUR COMMERCE AND IMPROVE TRADE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BALAN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15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CREATE NEW  ADDED-VALUE PRODUCTS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ALLOWING TO MOVE AWAY FROM A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STRONGLY COMMODITY - BASED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ECONOM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15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CREATE NEW JOB OPPORTUNITIES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8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21CD-6D3D-4C99-AFDF-ECD5A59068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002f5e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4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ec54"/>
                </a:solidFill>
                <a:latin typeface="Bookman Old Style"/>
                <a:ea typeface="Arial"/>
              </a:rPr>
              <a:t>BIOTECHNOLOGY OFFICE</a:t>
            </a:r>
            <a:r>
              <a:rPr b="1" lang="en-US" sz="2200" spc="-1" strike="noStrike">
                <a:solidFill>
                  <a:srgbClr val="f4ec54"/>
                </a:solidFill>
                <a:latin typeface="Bookman Old Style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ec54"/>
                </a:solidFill>
                <a:latin typeface="Bookman Old Style"/>
                <a:ea typeface="Arial"/>
              </a:rPr>
              <a:t>(WITHIN SAGPY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af5b4"/>
                </a:solidFill>
                <a:latin typeface="Bookman Old Style"/>
                <a:ea typeface="Arial"/>
              </a:rPr>
              <a:t>	</a:t>
            </a:r>
            <a:r>
              <a:rPr b="1" lang="es-ES" sz="2800" spc="-1" strike="noStrike">
                <a:solidFill>
                  <a:srgbClr val="00ffcc"/>
                </a:solidFill>
                <a:latin typeface="Bookman Old Style"/>
                <a:ea typeface="Arial"/>
              </a:rPr>
              <a:t>MISSION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COORDINATE THE SEVERAL SECTORS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INVOLVED IN AGRICULTURAL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BIOTECHNOLOG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PROMOTE PRODUCTIVE INTERACTIONS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BETWEEN THESE SECTO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AVOID DUPLICATION OF WORK AND MAKE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BETTER USE OF CAPACITI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spcBef>
                <a:spcPts val="13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TAKE ADVANTAGE OF TEAM WORK</a:t>
            </a: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8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E6E3-EF72-4A9F-8B47-2179397C31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002f5e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76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ec54"/>
                </a:solidFill>
                <a:latin typeface="Bookman Old Style"/>
                <a:ea typeface="Arial"/>
              </a:rPr>
              <a:t>BIOTECHNOLOGY OFFICE</a:t>
            </a:r>
            <a:r>
              <a:rPr b="1" lang="en-US" sz="2200" spc="-1" strike="noStrike">
                <a:solidFill>
                  <a:srgbClr val="f4ec54"/>
                </a:solidFill>
                <a:latin typeface="Bookman Old Style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ec54"/>
                </a:solidFill>
                <a:latin typeface="Bookman Old Style"/>
                <a:ea typeface="Arial"/>
              </a:rPr>
              <a:t>(WITHIN SAGPY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af5b4"/>
                </a:solidFill>
                <a:latin typeface="Bookman Old Style"/>
                <a:ea typeface="Arial"/>
              </a:rPr>
              <a:t>	</a:t>
            </a:r>
            <a:r>
              <a:rPr b="1" lang="es-ES" sz="2800" spc="-1" strike="noStrike">
                <a:solidFill>
                  <a:srgbClr val="00ffcc"/>
                </a:solidFill>
                <a:latin typeface="Bookman Old Style"/>
                <a:ea typeface="Arial"/>
              </a:rPr>
              <a:t>THREE DIVISIONS : </a:t>
            </a:r>
            <a:r>
              <a:rPr b="1" lang="es-ES" sz="2400" spc="-1" strike="noStrike">
                <a:solidFill>
                  <a:srgbClr val="00ffcc"/>
                </a:solidFill>
                <a:latin typeface="Bookman Old Style"/>
                <a:ea typeface="Arial"/>
              </a:rPr>
              <a:t>(ALL INTERACT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spcBef>
                <a:spcPts val="1687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BIOSAFETY (CONABIA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spcBef>
                <a:spcPts val="12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spcBef>
                <a:spcPts val="1687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GUIDELINES AND STANDARD </a:t>
            </a: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OPERATING PROCEDUR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spcBef>
                <a:spcPts val="12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spcBef>
                <a:spcPts val="1687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 </a:t>
            </a: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ANLYSIS AND DESIGN OF </a:t>
            </a: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APPROPRIATE POLICIES </a:t>
            </a: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687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r>
              <a:rPr b="1" lang="es-ES" sz="2700" spc="-1" strike="noStrike">
                <a:solidFill>
                  <a:srgbClr val="00ffcc"/>
                </a:solidFill>
                <a:latin typeface="Bookman Old Style"/>
                <a:ea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C4FF-20C1-451E-AB8D-0C7C35DB46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3b7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04760" indent="0">
              <a:lnSpc>
                <a:spcPct val="100000"/>
              </a:lnSpc>
              <a:buNone/>
              <a:tabLst>
                <a:tab algn="l" pos="0"/>
                <a:tab algn="l" pos="18576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2700" spc="-1" strike="noStrike">
                <a:solidFill>
                  <a:srgbClr val="fafa92"/>
                </a:solidFill>
                <a:latin typeface="Bookman Old Style"/>
                <a:ea typeface="Arial"/>
              </a:rPr>
              <a:t>   </a:t>
            </a:r>
            <a:r>
              <a:rPr b="1" lang="en-US" sz="2700" spc="-1" strike="noStrike">
                <a:solidFill>
                  <a:srgbClr val="fafa92"/>
                </a:solidFill>
                <a:latin typeface="Bookman Old Style"/>
                <a:ea typeface="Arial"/>
              </a:rPr>
              <a:t>Technical Advisory (non decisory)</a:t>
            </a:r>
            <a:br>
              <a:rPr sz="2700"/>
            </a:br>
            <a:r>
              <a:rPr b="1" lang="en-US" sz="2700" spc="-1" strike="noStrike">
                <a:solidFill>
                  <a:srgbClr val="fafa92"/>
                </a:solidFill>
                <a:latin typeface="Bookman Old Style"/>
                <a:ea typeface="Arial"/>
              </a:rPr>
              <a:t>     Commissions (CONABIA, CTA)</a:t>
            </a:r>
            <a:br>
              <a:rPr sz="2500"/>
            </a:br>
            <a:r>
              <a:rPr b="1" lang="en-US" sz="2100" spc="-1" strike="noStrike">
                <a:solidFill>
                  <a:srgbClr val="cbcbcb"/>
                </a:solidFill>
                <a:latin typeface="Bookman Old Style"/>
                <a:ea typeface="Times New Roman"/>
              </a:rPr>
              <a:t> </a:t>
            </a:r>
            <a:br>
              <a:rPr sz="2100"/>
            </a:br>
            <a:endParaRPr b="0" lang="en-US" sz="2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5b4"/>
                </a:solidFill>
                <a:latin typeface="Bookman Old Style"/>
                <a:ea typeface="Arial"/>
              </a:rPr>
              <a:t> </a:t>
            </a:r>
            <a:r>
              <a:rPr b="1" lang="en-US" sz="2300" spc="-1" strike="noStrike">
                <a:solidFill>
                  <a:srgbClr val="eeeec0"/>
                </a:solidFill>
                <a:latin typeface="Bookman Old Style"/>
                <a:ea typeface="Arial"/>
              </a:rPr>
              <a:t>Decisions taken by the Secretary of SAGPYA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eeeec0"/>
                </a:solidFill>
                <a:latin typeface="Bookman Old Style"/>
                <a:ea typeface="Arial"/>
              </a:rPr>
              <a:t> </a:t>
            </a:r>
            <a:r>
              <a:rPr b="1" lang="en-US" sz="2300" spc="-1" strike="noStrike">
                <a:solidFill>
                  <a:srgbClr val="eeeec0"/>
                </a:solidFill>
                <a:latin typeface="Bookman Old Style"/>
                <a:ea typeface="Arial"/>
              </a:rPr>
              <a:t>Membership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eeeec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eeeec0"/>
                </a:solidFill>
                <a:latin typeface="Bookman Old Style"/>
                <a:ea typeface="Arial"/>
              </a:rPr>
              <a:t>Public (Government, Academic)</a:t>
            </a:r>
            <a:br>
              <a:rPr sz="2300"/>
            </a:br>
            <a:r>
              <a:rPr b="1" lang="es-ES_tradnl" sz="2300" spc="-1" strike="noStrike">
                <a:solidFill>
                  <a:srgbClr val="eeeec0"/>
                </a:solidFill>
                <a:latin typeface="Bookman Old Style"/>
              </a:rPr>
              <a:t>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eeeec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eeeec0"/>
                </a:solidFill>
                <a:latin typeface="Bookman Old Style"/>
                <a:ea typeface="Arial"/>
              </a:rPr>
              <a:t>Private (Trade Associations, not Companies)</a:t>
            </a:r>
            <a:br>
              <a:rPr sz="2300"/>
            </a:br>
            <a:r>
              <a:rPr b="1" lang="es-AR" sz="2300" spc="-1" strike="noStrike">
                <a:solidFill>
                  <a:srgbClr val="eeeec0"/>
                </a:solidFill>
                <a:latin typeface="Bookman Old Style"/>
              </a:rPr>
              <a:t>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EAD0-7D94-4600-BB7D-41E77AB486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a92"/>
                </a:solidFill>
                <a:latin typeface="Bookman Old Style"/>
                <a:ea typeface="Arial"/>
              </a:rPr>
              <a:t>RISK</a:t>
            </a:r>
            <a:r>
              <a:rPr b="1" lang="en-US" sz="27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afa92"/>
                </a:solidFill>
                <a:latin typeface="Bookman Old Style"/>
                <a:ea typeface="Arial"/>
              </a:rPr>
              <a:t>ANALYSIS</a:t>
            </a:r>
            <a:endParaRPr b="0" lang="en-US" sz="27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180000"/>
              </a:lnSpc>
              <a:spcBef>
                <a:spcPts val="601"/>
              </a:spcBef>
              <a:buClr>
                <a:srgbClr val="00ffcc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RISK ASSESS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180000"/>
              </a:lnSpc>
              <a:spcBef>
                <a:spcPts val="601"/>
              </a:spcBef>
              <a:buClr>
                <a:srgbClr val="00ffcc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RISK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180000"/>
              </a:lnSpc>
              <a:spcBef>
                <a:spcPts val="601"/>
              </a:spcBef>
              <a:buClr>
                <a:srgbClr val="00ffcc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  <a:ea typeface="Arial"/>
              </a:rPr>
              <a:t>RISK COMMUN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A51A-37C6-43AF-A883-38DE332432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ruikshankd</cp:lastModifiedBy>
  <dcterms:modified xsi:type="dcterms:W3CDTF">2004-08-03T18:52:32Z</dcterms:modified>
  <cp:revision>199</cp:revision>
  <dc:subject/>
  <dc:title>Presentación de PowerPoint</dc:title>
</cp:coreProperties>
</file>