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png" ContentType="image/png"/>
  <Override PartName="/ppt/media/image2.pct" ContentType="image/x-pict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7812-C40B-4F66-8264-40F17B066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6807-59E6-4DC0-8BFA-AB01AC64F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89D3-C4DC-41B9-9F73-CD96936D9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0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7799-E442-466C-95E7-BF37B5796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4F01-6B5A-41E5-A23B-E21B25BB9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19CC-2E04-4109-BFAD-212ECDEE5E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0356-0058-4A5B-B793-E8BCD348A9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E137-512C-409A-8126-CD210782BF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5960-6728-4D0C-8F4A-A27E90ED5C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B5AB-58AF-4836-AD1C-2DBBC8FE35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35AD-D192-4FF6-95CA-94D9165D26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668B-B7B5-4B64-8F80-89B2AA360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3688-FC25-4835-8BF5-E1714087B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A839-DCC3-4A54-B084-0274FA1B0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93E1-1AEF-4D0B-A8D9-96F5358335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04F9-8FF9-4264-8F54-A029A0A2D2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8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6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0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8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6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6B03-F330-448E-AF96-38C24C437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A80B-3A31-4AAB-998E-FA38F4911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2A3B-712D-4592-A41B-3D8FDEE29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FA80-F32B-4122-BAEF-61EEEEDD9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DB26-4215-4AA9-87C2-1DBF5E0AD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6C20-C67D-4A87-A6C8-100C7CD3A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3545-5596-411C-8F55-F32FB886D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0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B116-95BD-46A9-BFAC-FA8F1AAF7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B8E-2BFB-442A-8F96-BAC887B8D1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80240" y="6200640"/>
            <a:ext cx="1238400" cy="3495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7120" y="6089760"/>
            <a:ext cx="3422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O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K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R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IDGE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N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TIONAL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L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BORA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U. S. D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EPARTMENT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OF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E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866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CC68-9D74-4867-BDB8-C1A0EED7D0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80240" y="6200640"/>
            <a:ext cx="1238400" cy="349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7120" y="6093000"/>
            <a:ext cx="3422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O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K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R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IDGE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N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TIONAL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L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BORA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U. S. D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EPARTMENT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OF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E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73e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artmanbakrj@ornl.gov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.surrey.ac.uk/Teaching/Unix/" TargetMode="External"/><Relationship Id="rId3" Type="http://schemas.openxmlformats.org/officeDocument/2006/relationships/hyperlink" Target="http://www.mcsr.olemiss.edu/unixhelp/DOStoUNIX.html" TargetMode="External"/><Relationship Id="rId4" Type="http://schemas.openxmlformats.org/officeDocument/2006/relationships/hyperlink" Target="http://www.utexas.edu/cc/docs/ccug1/commandsum.html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lberta.ca/HELP/gpu/vi.html" TargetMode="External"/><Relationship Id="rId3" Type="http://schemas.openxmlformats.org/officeDocument/2006/relationships/hyperlink" Target="http://www.chem.brown.edu/instructions/vi.html" TargetMode="External"/><Relationship Id="rId4" Type="http://schemas.openxmlformats.org/officeDocument/2006/relationships/hyperlink" Target="http://www.cs.colostate.edu/helpdocs/vi.html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9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A Crash Course in Supercomputing: UNI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becca Hartman-Ba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k Ridge National Labora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2"/>
              </a:rPr>
              <a:t>hartmanbakrj@ornl.g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02920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4-2007 Rebecca Hartman-Baker.  Reproduction permitted for non-commercial, educational use on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oncept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has both GUI (graphical user interface) and command lin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similar to Windows, MacO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 line similar to DOS, identical to 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sensiti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ree different file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main difference between DOS and *nix: file separator in *nix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ward sl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/), no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ck sl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\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Useful Command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UNIX commands hand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most useful command ever (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find out why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motely log in to UNIX/Linux machin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sh username@machinen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sh hqi@fourier-desk.ornl.g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673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log out, when you are done,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o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ress 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Further Help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Tutorial for Beginners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2"/>
              </a:rPr>
              <a:t>http://www.ee.surrey.ac.uk/Teaching/Unix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to UNIX Translation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3"/>
              </a:rPr>
              <a:t>http://www.mcsr.olemiss.edu/unixhelp/DOStoUNIX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Command Summary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4"/>
              </a:rPr>
              <a:t>http://www.utexas.edu/cc/docs/ccug1/commandsum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III. The vi Editor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 of ed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of v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vi com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2755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History of Editor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ditors for 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n invention of terminal, line edi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ed of 24-line terminal, no ability to scroll bac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685800"/>
            <a:ext cx="219384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62720" y="28195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 PDP 12 Console, 1969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486400" y="3124080"/>
            <a:ext cx="2468520" cy="1949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62840" y="5257800"/>
            <a:ext cx="316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C 6600 Supercomputer Console, 196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reation of vi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0120" y="175212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75-76, Bill Joy w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 at Berke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satisf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is friends hack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und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y and Berkeley counterparts gave aw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every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me part of basic 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*nix system h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le not all have other editor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a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263760" cy="2438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62940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vi Concept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o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and Mod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 commands to delete, cut, paste, save, quit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xt Entry Mod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ype characters in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’t tell which mode you’re in, p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you will then be in command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ase-sensiti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very different thin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t command prompt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 file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edit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can just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out filename to open new buf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Useful vi Command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vi commands hand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ting into text entry mode: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 a 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command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do most recent com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do most recent com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o to end of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zero) go to beginning of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vi Resource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0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Editor Tutorial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2"/>
              </a:rPr>
              <a:t>http://www.ualberta.ca/HELP/gpu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Commands for vi Unix Editor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3"/>
              </a:rPr>
              <a:t>http://www.chem.brown.edu/instructions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vi Commands </a:t>
            </a:r>
            <a:r>
              <a:rPr b="1" lang="en-US" sz="2800" spc="-1" strike="noStrike" u="sng">
                <a:solidFill>
                  <a:srgbClr val="66007b"/>
                </a:solidFill>
                <a:uFillTx/>
                <a:latin typeface="Arial"/>
                <a:hlinkClick r:id="rId4"/>
              </a:rPr>
              <a:t>http://www.cs.colostate.edu/helpdocs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Lovers Home Page http://thomer.com/vi/vi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Bibliography/Resource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0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Creation of the UNIX* Operating System http://www.bell-labs.com/history/unix/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y of UNIX and Linux http://www.computerhope.com/history/unix.ht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iography of Linus Torvalds http://www.brainyencyclopedia.com/encyclopedia/l/li/linus_torvalds.htm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view with Bill Joy http://www.cs.pdx.edu/~kirkenda/joy84.htm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00673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673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UNIX com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673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i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Bibliography/Picture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1) UNIX/Linux Picture Gallery (people) http://penguin.dcs.bbk.ac.uk/academic/unix/linux/slides/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2) Lexicon’s History of Computing (computer hardware) http://www.computermuseum.li/Testpage/02HISTORYCD-Index.ht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I. Introduction to UNI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 of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 to create 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of 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of Linu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History of Computer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computers (1940’s, 1950’s) had no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just “number crunching machin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had no keyboard, monitor, mouse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: cards; Output: line pr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809880" cy="299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8320" y="541008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r Admiral Grace Hopper at UNIVAC machine, 1957.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History of Computer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custom built by different vendors (or even same vendor!) not interope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tandards, so programs must be completely rewritten for other platfo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50624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1919520" cy="174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2028960" cy="209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81480" y="3505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Punch Cards (1950s-1970s)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1722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Desktop Hand-Operated Card Punch (1960s)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cost millions of dollars, so want to get the most use from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to users exclusive tim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nconvenient (what if your time is 2–4 a.m. Saturday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ter way to share resourc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09880" cy="3005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800600" y="487692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iac IV, A $31 million machine built in 1965 by the University of Illinois and Burroughs Computer Company.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reation of UNI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04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 Thompson and Dennis Ritchie at Bell Labs were impatient about resource sha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y designed operating system to handle multiple users on on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a few failures, came up with UNIX operating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became industry standard for mainframe compu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8320" y="533412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nis Ritchie and Ken Thompson using UNIX on a machine at Bell Labs, 1972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reation of Linux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0120" y="1676520"/>
            <a:ext cx="494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91, Finnish college student Linus Torvalds announced creation of UNIX-like OS he wrote as hob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written for PC instead of mainfram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distribution available for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, Linux used on servers, clusters, office computers, and many hom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1782720" cy="2676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72200" y="4572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s Torvalds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II. Useful UNIX Commands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0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com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he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46101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21:09:54Z</dcterms:created>
  <dc:creator>Rebecca Hartman-Baker</dc:creator>
  <dc:description/>
  <dc:language>en-US</dc:language>
  <cp:lastModifiedBy>Rebecca Hartman-Baker</cp:lastModifiedBy>
  <cp:lastPrinted>2006-05-25T18:50:20Z</cp:lastPrinted>
  <dcterms:modified xsi:type="dcterms:W3CDTF">2007-04-24T20:10:10Z</dcterms:modified>
  <cp:revision>17</cp:revision>
  <dc:subject/>
  <dc:title>A Crash Course in Supercomputing: MPI Programming Project</dc:title>
</cp:coreProperties>
</file>