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485-11D6-4934-80A7-FF0F656B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42A-16A3-472F-A71D-BCBCF4C8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4EC-F141-4A3B-8BBE-C91F1A07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35A-EB0D-490C-ACE8-A6E87C24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0D3-8BD1-47DC-A118-C29E1541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50B-A6F8-44BB-A9CA-EE32957D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871-B643-4354-BB67-DCD6736F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BCA-E14E-4D00-AFAB-ECC6E512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4DB-96BF-44F3-8258-90EE115C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5CB-539E-4765-9A91-BC3393A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A57-14B7-40CF-9178-45BC55AF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E88-D524-44D9-B3EB-921243C5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647A-7B33-4958-908A-C48356D95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deal Data E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inimal Room For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ontented Data Entry Person 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695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Reality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Not So Contented Data Entry Person 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3827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Get Someone Else To Enter You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se A Program Designed To Make Data Entry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Life Afterwards 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s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omprehensive BatchFile And SIM File Cre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akes the guesswork out of coding files from hard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Handles sample, habitat and biolog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8769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nd of cours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es With An Artistic CD Lab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2031840"/>
            <a:ext cx="4267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Datastor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reates Batch Files For STORET or 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ses STORET Data Tables To Help Ensure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Handles Sample, Field Observation, Data Logger, Habitat and Biologic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an Be Used On Computer That Does Not Have STO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9480" y="144756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stor Als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209680"/>
            <a:ext cx="8001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Allows Creation Of New Trips And Visits In Batch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akes Advantage Of SIM Data Validation And Automatic Trip And Visit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cludes SIM Configurations For Water Quality And Biolog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t Comes With Dataconv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atches Datastor With Another Totally Unimaginative Name For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743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Howev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505320"/>
            <a:ext cx="83822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Dataconvert Helps Transform Spreadsheet Files To SIM Compatibl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Allows Creation Of Customized Files To ‘Fill In The Blanks’ For Analytical Method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Assists Moving Data To SIM Without Need For STORET Characteristic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convert Also Comes Wit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2096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ady To Use SIM Configuration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0481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nd Of Cours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8098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Since On The Same CD As Datastor It Also Has An Artistic CD 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57Z</dcterms:created>
  <dc:creator>Region09</dc:creator>
  <dc:description/>
  <dc:language>en-US</dc:language>
  <cp:lastModifiedBy> </cp:lastModifiedBy>
  <dcterms:modified xsi:type="dcterms:W3CDTF">2004-11-11T00:36:24Z</dcterms:modified>
  <cp:revision>11</cp:revision>
  <dc:subject/>
  <dc:title>Datastor</dc:title>
</cp:coreProperties>
</file>