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465-65E1-4D2F-91B2-61B8CBCA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DD7-5DFB-47A6-A8FC-1C24E417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4AC-26C5-49F0-BD13-A9867335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926-1E29-4AA9-8D89-83836865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322-62C0-48FE-A1F5-A116DA96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8F4-678D-4164-8C07-4069CBF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EB8-85C5-4E62-A7AD-D16A7C0A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6D1-D006-424D-A4A8-EDF7E110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6A3-D825-4129-8C35-F6BFC28F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9AF-B747-47C5-8130-C912374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C1D-653C-4718-B096-0DCA11C6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AA5-B0DC-4EA6-AEBD-D37F415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2D56-B3C3-4AF9-BD1C-F47809E0D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280" y="500040"/>
            <a:ext cx="86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RPA Calculation in Fitting Proces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Functio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16520" y="1905120"/>
            <a:ext cx="65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. Terasaki (Univ. North Carolina at Chapel H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86840" y="2859120"/>
            <a:ext cx="954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Q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. Motivation to search energy density 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 Energies and BE2’s of lowest 2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states of spherical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. Gamow-Teller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3960" y="420840"/>
            <a:ext cx="80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ergies and  BE2’s of lowest 2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tes of spherical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re compared with exp. data and different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ality of energy of QRPA calculation is comparabl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CM+coll.Hamiltonian and better than G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RPA is not good for light nuclei in terms of BE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RPA is powerful for calculating strength func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t it was not mentio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000" y="4892760"/>
            <a:ext cx="59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This talk is based on collaboration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r. J. E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6629400" cy="609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7800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Quasiparticle random-phase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90720"/>
            <a:ext cx="8076960" cy="49528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652760"/>
            <a:ext cx="3886200" cy="10666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60440" y="1728720"/>
                <a:ext cx="38228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5913360" y="34290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B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9960" y="990720"/>
            <a:ext cx="67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a creation operator of an excited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38080" y="4040280"/>
                <a:ext cx="53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57400" y="4038480"/>
                <a:ext cx="4381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7162920" y="3123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30160" y="274320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perator of quasi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114440" y="2276640"/>
            <a:ext cx="152280" cy="54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4120" y="405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66880" y="4272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4000" y="40147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RPA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87880" y="4702320"/>
                <a:ext cx="4332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ςξ</m:t>
                        </m:r>
                      </m:sub>
                      <m:sup/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p/>
                                      </m:sSup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p/>
                                      </m:sSup>
                                    </m:e>
                                  </m:mr>
                                </m:m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ςξ</m:t>
                            </m:r>
                          </m:sub>
                        </m:sSub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ςξ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ℏ</m:t>
                    </m:r>
                    <m:r>
                      <m:t xml:space="preserve">ω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62320" y="3581280"/>
            <a:ext cx="3886200" cy="1067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838080"/>
            <a:ext cx="3886200" cy="1067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16160" y="1042920"/>
                <a:ext cx="39117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71400" y="304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30520" y="19810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perator of single-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5120" y="2362320"/>
            <a:ext cx="785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ited states obtained by 2-particle transfer reaction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340000" y="3786120"/>
                <a:ext cx="39704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71400" y="3200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-annihilation and proton-creation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956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3840" y="5257800"/>
            <a:ext cx="78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ited states obtained by charge-exchange reaction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1752480"/>
            <a:ext cx="7238880" cy="396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c7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71600" y="1828800"/>
          <a:ext cx="6553080" cy="3500280"/>
        </p:xfrm>
        <a:graphic>
          <a:graphicData uri="http://schemas.openxmlformats.org/drawingml/2006/table">
            <a:tbl>
              <a:tblPr/>
              <a:tblGrid>
                <a:gridCol w="1066680"/>
                <a:gridCol w="898560"/>
                <a:gridCol w="917640"/>
                <a:gridCol w="917640"/>
                <a:gridCol w="917640"/>
                <a:gridCol w="917640"/>
                <a:gridCol w="917280"/>
              </a:tblGrid>
              <a:tr h="915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Z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f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x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/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(Me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x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083240" y="1143000"/>
            <a:ext cx="66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. Vautherin and D.M. Brink, PRC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626 (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7960" y="34452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of nuclear energy functional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72440" cy="5576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1027080"/>
            <a:ext cx="38124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4520" y="990720"/>
            <a:ext cx="34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d nuclei h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firs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24080" y="625320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igure: http://www.nndc.bnl.gov/char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255680"/>
            <a:ext cx="5932440" cy="2301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3123720" y="1066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9907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2560" y="776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L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8560" y="7621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gny, D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00" y="304920"/>
            <a:ext cx="49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s of spherical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960" y="5880240"/>
            <a:ext cx="507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J. T. and J. Engel, arXiv:0801.2346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B. Sabbey et al., Phys. Rev. C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75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, 044305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G.F. Bertsch et al., Phys. Rev. Lett.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99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, 032502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81280" y="2550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27720" y="2330280"/>
            <a:ext cx="2730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ve Hami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3641760"/>
            <a:ext cx="59324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1828800"/>
            <a:ext cx="716256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2133720"/>
          <a:ext cx="6477120" cy="349092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bey et 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tsch et 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14560" y="309240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380880"/>
                <a:ext cx="55832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↑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l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↑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057400" y="3722760"/>
                <a:ext cx="576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73240" y="4389480"/>
                <a:ext cx="544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073240" y="5029200"/>
                <a:ext cx="5446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666720"/>
            <a:ext cx="2422440" cy="238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41680" y="685800"/>
            <a:ext cx="6502320" cy="2381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43120" y="3192480"/>
            <a:ext cx="3071880" cy="2370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28600" y="3171960"/>
            <a:ext cx="2403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140000" cy="401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92440" y="4570560"/>
            <a:ext cx="26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um-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-isospin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560" y="5562720"/>
            <a:ext cx="51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M. Bender et al., Phys. Rev. C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5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054322 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03:33Z</dcterms:created>
  <dc:creator>Jun Terasaki</dc:creator>
  <dc:description/>
  <dc:language>en-US</dc:language>
  <cp:lastModifiedBy>Jun Terasaki</cp:lastModifiedBy>
  <dcterms:modified xsi:type="dcterms:W3CDTF">2008-01-24T13:41:36Z</dcterms:modified>
  <cp:revision>71</cp:revision>
  <dc:subject/>
  <dc:title>Slide 1</dc:title>
</cp:coreProperties>
</file>