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11.wmf" ContentType="image/x-wmf"/>
  <Override PartName="/ppt/media/image7.png" ContentType="image/png"/>
  <Override PartName="/ppt/media/image8.png" ContentType="image/png"/>
  <Override PartName="/ppt/media/image16.wmf" ContentType="image/x-wmf"/>
  <Override PartName="/ppt/media/image21.jpeg" ContentType="image/jpe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753-A965-41DC-8A19-4C6A0292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tial Patterns from H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atter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on, Keokuk, Winona.Clin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 ratios for these subbas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30640" cy="17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 slides from Hank showing basin landcover and nutrient appl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344-0EDB-49D4-8EC9-5590601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A05-47B5-4E96-B7AF-B975702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3EC-21A4-4B31-9D1E-6A6D6A5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5AD-DBA2-49F9-85BA-9E038C60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6CE-3354-4FA3-A0DA-795A3F9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C70-2EC8-4E14-9B21-A4FF752D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F92-B6CD-4F64-90D5-61CCFE2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BC3-589F-4F14-9A66-086E205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5BB-5874-4700-838A-F1B6015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68D-C0A7-4064-8DA4-655BE3E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800-D8E5-40D7-9687-8791BF6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FEE-45FD-4FD8-ACBD-7F97745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D975-D5F8-4EC8-A45C-C9A98D6D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0011" descr=""/>
          <p:cNvPicPr/>
          <p:nvPr/>
        </p:nvPicPr>
        <p:blipFill>
          <a:blip r:embed="rId1"/>
          <a:srcRect l="11978" t="18750" r="16147" b="10940"/>
          <a:stretch/>
        </p:blipFill>
        <p:spPr>
          <a:xfrm>
            <a:off x="-1219320" y="0"/>
            <a:ext cx="10515600" cy="6858000"/>
          </a:xfrm>
          <a:prstGeom prst="rect">
            <a:avLst/>
          </a:prstGeom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2768760" y="-304920"/>
            <a:ext cx="6298920" cy="2438640"/>
          </a:xfrm>
          <a:prstGeom prst="rect">
            <a:avLst/>
          </a:prstGeom>
          <a:solidFill>
            <a:srgbClr val="0d03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Long Term Biological Monitoring on the Upper Mississippi Riv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 Springboard For Broad-Scale, Multidisciplinary Investig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7440" y="5765760"/>
            <a:ext cx="5829120" cy="990720"/>
          </a:xfrm>
          <a:prstGeom prst="rect">
            <a:avLst/>
          </a:prstGeom>
          <a:solidFill>
            <a:srgbClr val="0d03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David M. Sob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U.S. Geologica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Upper Midwest Environmental Sciences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_USGSid" descr=""/>
          <p:cNvPicPr/>
          <p:nvPr/>
        </p:nvPicPr>
        <p:blipFill>
          <a:blip r:embed="rId2"/>
          <a:stretch/>
        </p:blipFill>
        <p:spPr>
          <a:xfrm>
            <a:off x="0" y="0"/>
            <a:ext cx="1809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ixed Locations - Fixed Interv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137160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manent sampling locations (8-20) in each of 6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n short-term variations, watershed influences, downstream transformation an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eek sampling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 3,800 site visits per y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ratified Random Samp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58680" y="1371600"/>
            <a:ext cx="7347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s unbiased estimates of seasonal conditions in broad aquatic areas within the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ly sampling in specific date wind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5 sampling strata (probability sample) in each of 6 study r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0 sites per episode, per study reach (3,600 site visits per y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athyB" descr=""/>
          <p:cNvPicPr/>
          <p:nvPr/>
        </p:nvPicPr>
        <p:blipFill>
          <a:blip r:embed="rId1"/>
          <a:stretch/>
        </p:blipFill>
        <p:spPr>
          <a:xfrm>
            <a:off x="1092240" y="262080"/>
            <a:ext cx="171144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27240" y="1481040"/>
            <a:ext cx="1268280" cy="2514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27240" y="1481040"/>
            <a:ext cx="2168280" cy="83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3440" y="4006800"/>
            <a:ext cx="3200400" cy="214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2840" y="3987720"/>
            <a:ext cx="2189160" cy="2170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481040"/>
            <a:ext cx="3182760" cy="8287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nox_velb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4764240" cy="379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76440" y="2320920"/>
            <a:ext cx="2319480" cy="3836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04920"/>
            <a:ext cx="37339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SRS Spatial Sc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ater Quality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4572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trate + nit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phosph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ble reactive p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olved 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atile 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lorophyll/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s : Ca,K,Mg,Na: Cl,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520" y="12193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chi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e and s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olved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b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WQ Provides Fundamental Limnologic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mphasis  on biological aspects of water quality: nutrients, sediment, and physical limn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993 to present: 7 study reaches (9 navigational pools,  40 tributar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source of current limnological data for much of Upper Mississippi River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gram Resources Are Stret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ver 1,000 river miles within the study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 field stations with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$150 per site vi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5,000 chemical measurements in 199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 &amp; Field QA/QC = about 40% of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 $2.50 per measurement (12% of WQ budget in LTR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% reduction in effort in FY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reductions lik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TRMP Supports Multiple Scales of Investigation and Collab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28600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le Basin - Dec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iver reaches (multiple yea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ividual locations (hours-yea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n-yield" descr=""/>
          <p:cNvPicPr/>
          <p:nvPr/>
        </p:nvPicPr>
        <p:blipFill>
          <a:blip r:embed="rId1"/>
          <a:stretch/>
        </p:blipFill>
        <p:spPr>
          <a:xfrm>
            <a:off x="0" y="-345960"/>
            <a:ext cx="9144000" cy="7203960"/>
          </a:xfrm>
          <a:prstGeom prst="rect">
            <a:avLst/>
          </a:prstGeom>
          <a:ln w="0">
            <a:noFill/>
          </a:ln>
        </p:spPr>
      </p:pic>
      <p:pic>
        <p:nvPicPr>
          <p:cNvPr id="124" name="c_USGSid_NM" descr=""/>
          <p:cNvPicPr/>
          <p:nvPr/>
        </p:nvPicPr>
        <p:blipFill>
          <a:blip r:embed="rId2"/>
          <a:stretch/>
        </p:blipFill>
        <p:spPr>
          <a:xfrm>
            <a:off x="14400" y="6630840"/>
            <a:ext cx="760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0560" y="3403440"/>
            <a:ext cx="1440" cy="4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0560" y="3403440"/>
            <a:ext cx="1440" cy="4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all Nitrate + Nitrite in Pools 4, 8, and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_USGSid_NM" descr=""/>
          <p:cNvPicPr/>
          <p:nvPr/>
        </p:nvPicPr>
        <p:blipFill>
          <a:blip r:embed="rId3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3520" y="971640"/>
            <a:ext cx="82296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Nitrogen Flux in Pool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295280"/>
          <a:ext cx="784872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8487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648320" y="2286000"/>
            <a:ext cx="990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0f9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3e0d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438280"/>
            <a:ext cx="118800" cy="1191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666880"/>
            <a:ext cx="152280" cy="152640"/>
          </a:xfrm>
          <a:prstGeom prst="flowChartExtract">
            <a:avLst/>
          </a:prstGeom>
          <a:solidFill>
            <a:srgbClr val="f13e0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_USGSid_NM" descr=""/>
          <p:cNvPicPr/>
          <p:nvPr/>
        </p:nvPicPr>
        <p:blipFill>
          <a:blip r:embed="rId3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342900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3434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SQ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10824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WQ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9810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49568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AC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1055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791320"/>
            <a:ext cx="243828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15238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F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7652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94360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6094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1148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E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7781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3716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P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7812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25780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6019920"/>
            <a:ext cx="259056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DN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2286000"/>
            <a:ext cx="289548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.Counc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0"/>
            <a:ext cx="4724640" cy="1556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UMR PARTN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80988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ME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94100466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9760" cy="541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9072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Mississippi River near Harper’s Ferry, Iowa  (Pool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kclassb" descr=""/>
          <p:cNvPicPr/>
          <p:nvPr/>
        </p:nvPicPr>
        <p:blipFill>
          <a:blip r:embed="rId1"/>
          <a:stretch/>
        </p:blipFill>
        <p:spPr>
          <a:xfrm>
            <a:off x="4876920" y="190440"/>
            <a:ext cx="3760560" cy="6477120"/>
          </a:xfrm>
          <a:prstGeom prst="rect">
            <a:avLst/>
          </a:prstGeom>
          <a:ln w="0">
            <a:noFill/>
          </a:ln>
        </p:spPr>
      </p:pic>
      <p:pic>
        <p:nvPicPr>
          <p:cNvPr id="141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447920" y="212760"/>
            <a:ext cx="2438280" cy="6431040"/>
            <a:chOff x="1447920" y="212760"/>
            <a:chExt cx="2438280" cy="6431040"/>
          </a:xfrm>
        </p:grpSpPr>
        <p:pic>
          <p:nvPicPr>
            <p:cNvPr id="143" name="TEST2" descr=""/>
            <p:cNvPicPr/>
            <p:nvPr/>
          </p:nvPicPr>
          <p:blipFill>
            <a:blip r:embed="rId3"/>
            <a:stretch/>
          </p:blipFill>
          <p:spPr>
            <a:xfrm>
              <a:off x="1447920" y="212760"/>
              <a:ext cx="2249280" cy="64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447920" y="35654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828440" y="3793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19652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unsui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71800" y="2193840"/>
              <a:ext cx="228600" cy="45720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UMR Collaborations Within USGS Are Well Establi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2666880"/>
            <a:ext cx="5467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-UMESC-NRP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MESC-LTRM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 – 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-Districts-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TRMP And NASQ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905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ffering objectives, differing design, but overlap in study areas and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llaborations in selected areas seem very promi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more complete picture can be obtained in combination than in iso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ffering Focus = Differing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419040" y="1447920"/>
            <a:ext cx="8305920" cy="2133360"/>
            <a:chOff x="419040" y="1447920"/>
            <a:chExt cx="8305920" cy="2133360"/>
          </a:xfrm>
        </p:grpSpPr>
        <p:grpSp>
          <p:nvGrpSpPr>
            <p:cNvPr id="157" name=""/>
            <p:cNvGrpSpPr/>
            <p:nvPr/>
          </p:nvGrpSpPr>
          <p:grpSpPr>
            <a:xfrm>
              <a:off x="6210360" y="1447920"/>
              <a:ext cx="2514600" cy="2057400"/>
              <a:chOff x="6210360" y="1447920"/>
              <a:chExt cx="2514600" cy="2057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210360" y="1447920"/>
                <a:ext cx="2400120" cy="787320"/>
                <a:chOff x="6210360" y="1447920"/>
                <a:chExt cx="2400120" cy="787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210360" y="1447920"/>
                  <a:ext cx="2400120" cy="787320"/>
                </a:xfrm>
                <a:custGeom>
                  <a:avLst/>
                  <a:gdLst/>
                  <a:ahLst/>
                  <a:rect l="l" t="t" r="r" b="b"/>
                  <a:pathLst>
                    <a:path w="1512" h="496">
                      <a:moveTo>
                        <a:pt x="264" y="0"/>
                      </a:moveTo>
                      <a:lnTo>
                        <a:pt x="1512" y="0"/>
                      </a:lnTo>
                      <a:cubicBezTo>
                        <a:pt x="1496" y="32"/>
                        <a:pt x="1475" y="62"/>
                        <a:pt x="1464" y="96"/>
                      </a:cubicBezTo>
                      <a:cubicBezTo>
                        <a:pt x="1461" y="104"/>
                        <a:pt x="1475" y="112"/>
                        <a:pt x="1472" y="120"/>
                      </a:cubicBezTo>
                      <a:cubicBezTo>
                        <a:pt x="1466" y="138"/>
                        <a:pt x="1451" y="152"/>
                        <a:pt x="1440" y="168"/>
                      </a:cubicBezTo>
                      <a:cubicBezTo>
                        <a:pt x="1427" y="188"/>
                        <a:pt x="1417" y="226"/>
                        <a:pt x="1400" y="240"/>
                      </a:cubicBezTo>
                      <a:cubicBezTo>
                        <a:pt x="1393" y="245"/>
                        <a:pt x="1384" y="245"/>
                        <a:pt x="1376" y="248"/>
                      </a:cubicBezTo>
                      <a:cubicBezTo>
                        <a:pt x="1371" y="256"/>
                        <a:pt x="1367" y="265"/>
                        <a:pt x="1360" y="272"/>
                      </a:cubicBezTo>
                      <a:cubicBezTo>
                        <a:pt x="1353" y="279"/>
                        <a:pt x="1342" y="280"/>
                        <a:pt x="1336" y="288"/>
                      </a:cubicBezTo>
                      <a:cubicBezTo>
                        <a:pt x="1322" y="306"/>
                        <a:pt x="1318" y="342"/>
                        <a:pt x="1304" y="360"/>
                      </a:cubicBezTo>
                      <a:cubicBezTo>
                        <a:pt x="1291" y="376"/>
                        <a:pt x="1250" y="404"/>
                        <a:pt x="1232" y="416"/>
                      </a:cubicBezTo>
                      <a:cubicBezTo>
                        <a:pt x="1185" y="487"/>
                        <a:pt x="1165" y="468"/>
                        <a:pt x="1088" y="480"/>
                      </a:cubicBezTo>
                      <a:cubicBezTo>
                        <a:pt x="1061" y="484"/>
                        <a:pt x="1008" y="496"/>
                        <a:pt x="1008" y="496"/>
                      </a:cubicBezTo>
                      <a:cubicBezTo>
                        <a:pt x="944" y="493"/>
                        <a:pt x="880" y="493"/>
                        <a:pt x="816" y="488"/>
                      </a:cubicBezTo>
                      <a:cubicBezTo>
                        <a:pt x="790" y="486"/>
                        <a:pt x="791" y="474"/>
                        <a:pt x="768" y="464"/>
                      </a:cubicBezTo>
                      <a:cubicBezTo>
                        <a:pt x="743" y="453"/>
                        <a:pt x="700" y="438"/>
                        <a:pt x="672" y="432"/>
                      </a:cubicBezTo>
                      <a:cubicBezTo>
                        <a:pt x="620" y="422"/>
                        <a:pt x="509" y="406"/>
                        <a:pt x="464" y="376"/>
                      </a:cubicBezTo>
                      <a:cubicBezTo>
                        <a:pt x="422" y="348"/>
                        <a:pt x="385" y="316"/>
                        <a:pt x="344" y="288"/>
                      </a:cubicBezTo>
                      <a:cubicBezTo>
                        <a:pt x="296" y="216"/>
                        <a:pt x="224" y="187"/>
                        <a:pt x="144" y="160"/>
                      </a:cubicBezTo>
                      <a:cubicBezTo>
                        <a:pt x="117" y="151"/>
                        <a:pt x="96" y="120"/>
                        <a:pt x="72" y="104"/>
                      </a:cubicBezTo>
                      <a:cubicBezTo>
                        <a:pt x="66" y="79"/>
                        <a:pt x="0" y="17"/>
                        <a:pt x="24" y="0"/>
                      </a:cubicBezTo>
                      <a:lnTo>
                        <a:pt x="216" y="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62640" y="14479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14920" y="1447920"/>
                  <a:ext cx="0" cy="28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6665400" y="1447920"/>
                  <a:ext cx="180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818400" y="1447920"/>
                  <a:ext cx="1440" cy="5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14479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122600" y="1447920"/>
                  <a:ext cx="1800" cy="65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77040" y="14479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29320" y="1447920"/>
                  <a:ext cx="0" cy="73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58196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73424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886520" y="144792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8035560" y="1447920"/>
                  <a:ext cx="3240" cy="74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190000" y="1457280"/>
                  <a:ext cx="1440" cy="62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4372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496360" y="1447920"/>
                  <a:ext cx="0" cy="24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048440" y="2514600"/>
                <a:ext cx="1371600" cy="685800"/>
                <a:chOff x="7048440" y="2514600"/>
                <a:chExt cx="1371600" cy="685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048440" y="251460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087320" y="263088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 flipV="1">
                <a:off x="6667560" y="1752120"/>
                <a:ext cx="761760" cy="762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67560" y="2514600"/>
                <a:ext cx="38088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200720" y="2666880"/>
                <a:ext cx="1371600" cy="685800"/>
                <a:chOff x="7200720" y="2666880"/>
                <a:chExt cx="1371600" cy="685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200720" y="266688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239600" y="278316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353360" y="2819520"/>
                <a:ext cx="1371600" cy="685800"/>
                <a:chOff x="7353360" y="2819520"/>
                <a:chExt cx="1371600" cy="685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353360" y="2819520"/>
                  <a:ext cx="1371600" cy="68580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92240" y="2935800"/>
                  <a:ext cx="1306440" cy="516600"/>
                </a:xfrm>
                <a:custGeom>
                  <a:avLst/>
                  <a:gdLst/>
                  <a:ahLst/>
                  <a:rect l="l" t="t" r="r" b="b"/>
                  <a:pathLst>
                    <a:path w="1143" h="470">
                      <a:moveTo>
                        <a:pt x="0" y="470"/>
                      </a:moveTo>
                      <a:cubicBezTo>
                        <a:pt x="24" y="447"/>
                        <a:pt x="23" y="420"/>
                        <a:pt x="46" y="397"/>
                      </a:cubicBezTo>
                      <a:cubicBezTo>
                        <a:pt x="65" y="378"/>
                        <a:pt x="96" y="357"/>
                        <a:pt x="119" y="342"/>
                      </a:cubicBezTo>
                      <a:cubicBezTo>
                        <a:pt x="139" y="313"/>
                        <a:pt x="154" y="298"/>
                        <a:pt x="183" y="278"/>
                      </a:cubicBezTo>
                      <a:cubicBezTo>
                        <a:pt x="193" y="247"/>
                        <a:pt x="211" y="232"/>
                        <a:pt x="229" y="205"/>
                      </a:cubicBezTo>
                      <a:cubicBezTo>
                        <a:pt x="251" y="135"/>
                        <a:pt x="326" y="74"/>
                        <a:pt x="393" y="49"/>
                      </a:cubicBezTo>
                      <a:cubicBezTo>
                        <a:pt x="445" y="0"/>
                        <a:pt x="545" y="27"/>
                        <a:pt x="604" y="31"/>
                      </a:cubicBezTo>
                      <a:cubicBezTo>
                        <a:pt x="657" y="49"/>
                        <a:pt x="691" y="102"/>
                        <a:pt x="732" y="141"/>
                      </a:cubicBezTo>
                      <a:cubicBezTo>
                        <a:pt x="753" y="203"/>
                        <a:pt x="722" y="129"/>
                        <a:pt x="796" y="205"/>
                      </a:cubicBezTo>
                      <a:cubicBezTo>
                        <a:pt x="827" y="237"/>
                        <a:pt x="850" y="263"/>
                        <a:pt x="887" y="287"/>
                      </a:cubicBezTo>
                      <a:cubicBezTo>
                        <a:pt x="929" y="352"/>
                        <a:pt x="977" y="346"/>
                        <a:pt x="1043" y="369"/>
                      </a:cubicBezTo>
                      <a:cubicBezTo>
                        <a:pt x="1113" y="393"/>
                        <a:pt x="1015" y="363"/>
                        <a:pt x="1116" y="388"/>
                      </a:cubicBezTo>
                      <a:cubicBezTo>
                        <a:pt x="1125" y="390"/>
                        <a:pt x="1143" y="397"/>
                        <a:pt x="1143" y="397"/>
                      </a:cubicBezTo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419040" y="1447920"/>
              <a:ext cx="55627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NASQA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Rating Curve approa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Long-term flux of many paramet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Broad spati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15-N-fert_input-map" descr=""/>
            <p:cNvPicPr/>
            <p:nvPr/>
          </p:nvPicPr>
          <p:blipFill>
            <a:blip r:embed="rId2"/>
            <a:stretch/>
          </p:blipFill>
          <p:spPr>
            <a:xfrm>
              <a:off x="5295960" y="2185920"/>
              <a:ext cx="1218960" cy="10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266760" y="4038480"/>
            <a:ext cx="8877240" cy="2273400"/>
            <a:chOff x="266760" y="4038480"/>
            <a:chExt cx="8877240" cy="2273400"/>
          </a:xfrm>
        </p:grpSpPr>
        <p:pic>
          <p:nvPicPr>
            <p:cNvPr id="189" name="tn-yield" descr=""/>
            <p:cNvPicPr/>
            <p:nvPr/>
          </p:nvPicPr>
          <p:blipFill>
            <a:blip r:embed="rId3"/>
            <a:stretch/>
          </p:blipFill>
          <p:spPr>
            <a:xfrm>
              <a:off x="7620120" y="4800600"/>
              <a:ext cx="152388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6760" y="4114800"/>
              <a:ext cx="57769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LTRMP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Habitat and long-term biotic response in UM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Short-term, spatially-varying ev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bathyB" descr=""/>
            <p:cNvPicPr/>
            <p:nvPr/>
          </p:nvPicPr>
          <p:blipFill>
            <a:blip r:embed="rId4"/>
            <a:stretch/>
          </p:blipFill>
          <p:spPr>
            <a:xfrm>
              <a:off x="5981760" y="4038480"/>
              <a:ext cx="806400" cy="227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7010280" y="5607000"/>
              <a:ext cx="870120" cy="547560"/>
              <a:chOff x="7010280" y="5607000"/>
              <a:chExt cx="870120" cy="54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7010280" y="5607000"/>
                <a:ext cx="870120" cy="5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35120" y="5614920"/>
                <a:ext cx="828720" cy="496800"/>
              </a:xfrm>
              <a:custGeom>
                <a:avLst/>
                <a:gdLst/>
                <a:ahLst/>
                <a:rect l="l" t="t" r="r" b="b"/>
                <a:pathLst>
                  <a:path w="960" h="479">
                    <a:moveTo>
                      <a:pt x="0" y="479"/>
                    </a:moveTo>
                    <a:cubicBezTo>
                      <a:pt x="20" y="460"/>
                      <a:pt x="8" y="300"/>
                      <a:pt x="28" y="280"/>
                    </a:cubicBezTo>
                    <a:cubicBezTo>
                      <a:pt x="44" y="264"/>
                      <a:pt x="81" y="384"/>
                      <a:pt x="100" y="371"/>
                    </a:cubicBezTo>
                    <a:cubicBezTo>
                      <a:pt x="117" y="346"/>
                      <a:pt x="137" y="410"/>
                      <a:pt x="162" y="393"/>
                    </a:cubicBezTo>
                    <a:cubicBezTo>
                      <a:pt x="170" y="367"/>
                      <a:pt x="166" y="207"/>
                      <a:pt x="181" y="184"/>
                    </a:cubicBezTo>
                    <a:cubicBezTo>
                      <a:pt x="199" y="160"/>
                      <a:pt x="198" y="342"/>
                      <a:pt x="219" y="355"/>
                    </a:cubicBezTo>
                    <a:cubicBezTo>
                      <a:pt x="231" y="341"/>
                      <a:pt x="235" y="141"/>
                      <a:pt x="255" y="99"/>
                    </a:cubicBezTo>
                    <a:cubicBezTo>
                      <a:pt x="299" y="58"/>
                      <a:pt x="291" y="100"/>
                      <a:pt x="340" y="103"/>
                    </a:cubicBezTo>
                    <a:cubicBezTo>
                      <a:pt x="362" y="98"/>
                      <a:pt x="360" y="73"/>
                      <a:pt x="378" y="99"/>
                    </a:cubicBezTo>
                    <a:cubicBezTo>
                      <a:pt x="396" y="125"/>
                      <a:pt x="427" y="276"/>
                      <a:pt x="448" y="261"/>
                    </a:cubicBezTo>
                    <a:cubicBezTo>
                      <a:pt x="469" y="246"/>
                      <a:pt x="477" y="0"/>
                      <a:pt x="502" y="9"/>
                    </a:cubicBezTo>
                    <a:cubicBezTo>
                      <a:pt x="539" y="48"/>
                      <a:pt x="535" y="248"/>
                      <a:pt x="598" y="312"/>
                    </a:cubicBezTo>
                    <a:cubicBezTo>
                      <a:pt x="624" y="339"/>
                      <a:pt x="653" y="53"/>
                      <a:pt x="684" y="73"/>
                    </a:cubicBezTo>
                    <a:cubicBezTo>
                      <a:pt x="719" y="128"/>
                      <a:pt x="794" y="410"/>
                      <a:pt x="849" y="430"/>
                    </a:cubicBezTo>
                    <a:cubicBezTo>
                      <a:pt x="908" y="450"/>
                      <a:pt x="852" y="346"/>
                      <a:pt x="937" y="367"/>
                    </a:cubicBezTo>
                    <a:cubicBezTo>
                      <a:pt x="945" y="368"/>
                      <a:pt x="960" y="417"/>
                      <a:pt x="960" y="417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931080" y="4430880"/>
              <a:ext cx="869400" cy="558360"/>
              <a:chOff x="6931080" y="4430880"/>
              <a:chExt cx="869400" cy="558360"/>
            </a:xfrm>
          </p:grpSpPr>
          <p:sp>
            <p:nvSpPr>
              <p:cNvPr id="196" name=""/>
              <p:cNvSpPr/>
              <p:nvPr/>
            </p:nvSpPr>
            <p:spPr>
              <a:xfrm>
                <a:off x="6931080" y="4440600"/>
                <a:ext cx="869400" cy="54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55560" y="4430880"/>
                <a:ext cx="828360" cy="547200"/>
              </a:xfrm>
              <a:custGeom>
                <a:avLst/>
                <a:gdLst/>
                <a:ahLst/>
                <a:rect l="l" t="t" r="r" b="b"/>
                <a:pathLst>
                  <a:path w="503" h="335">
                    <a:moveTo>
                      <a:pt x="0" y="316"/>
                    </a:moveTo>
                    <a:cubicBezTo>
                      <a:pt x="10" y="304"/>
                      <a:pt x="27" y="294"/>
                      <a:pt x="38" y="281"/>
                    </a:cubicBezTo>
                    <a:cubicBezTo>
                      <a:pt x="46" y="271"/>
                      <a:pt x="42" y="256"/>
                      <a:pt x="52" y="247"/>
                    </a:cubicBezTo>
                    <a:cubicBezTo>
                      <a:pt x="61" y="231"/>
                      <a:pt x="73" y="323"/>
                      <a:pt x="86" y="312"/>
                    </a:cubicBezTo>
                    <a:cubicBezTo>
                      <a:pt x="90" y="296"/>
                      <a:pt x="87" y="143"/>
                      <a:pt x="95" y="128"/>
                    </a:cubicBezTo>
                    <a:cubicBezTo>
                      <a:pt x="104" y="113"/>
                      <a:pt x="104" y="229"/>
                      <a:pt x="115" y="237"/>
                    </a:cubicBezTo>
                    <a:cubicBezTo>
                      <a:pt x="121" y="220"/>
                      <a:pt x="123" y="15"/>
                      <a:pt x="134" y="26"/>
                    </a:cubicBezTo>
                    <a:cubicBezTo>
                      <a:pt x="157" y="0"/>
                      <a:pt x="157" y="301"/>
                      <a:pt x="183" y="303"/>
                    </a:cubicBezTo>
                    <a:cubicBezTo>
                      <a:pt x="195" y="299"/>
                      <a:pt x="189" y="95"/>
                      <a:pt x="198" y="74"/>
                    </a:cubicBezTo>
                    <a:cubicBezTo>
                      <a:pt x="206" y="74"/>
                      <a:pt x="220" y="277"/>
                      <a:pt x="233" y="306"/>
                    </a:cubicBezTo>
                    <a:cubicBezTo>
                      <a:pt x="246" y="335"/>
                      <a:pt x="265" y="262"/>
                      <a:pt x="278" y="246"/>
                    </a:cubicBezTo>
                    <a:cubicBezTo>
                      <a:pt x="297" y="271"/>
                      <a:pt x="280" y="169"/>
                      <a:pt x="313" y="210"/>
                    </a:cubicBezTo>
                    <a:cubicBezTo>
                      <a:pt x="327" y="227"/>
                      <a:pt x="343" y="266"/>
                      <a:pt x="359" y="278"/>
                    </a:cubicBezTo>
                    <a:cubicBezTo>
                      <a:pt x="378" y="314"/>
                      <a:pt x="416" y="272"/>
                      <a:pt x="445" y="285"/>
                    </a:cubicBezTo>
                    <a:cubicBezTo>
                      <a:pt x="476" y="298"/>
                      <a:pt x="446" y="231"/>
                      <a:pt x="491" y="245"/>
                    </a:cubicBezTo>
                    <a:cubicBezTo>
                      <a:pt x="495" y="245"/>
                      <a:pt x="503" y="277"/>
                      <a:pt x="503" y="277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>
              <a:off x="6535800" y="5919840"/>
              <a:ext cx="474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456240" y="4743360"/>
              <a:ext cx="633600" cy="236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esign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" y="1123920"/>
            <a:ext cx="7581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ASQ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requent (monthly, quarter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grated, isokinetic channel cross-sec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param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 locations (3-4 in UMR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TRM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equent (biweekly, monthly, quarter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crete horizontal &amp; vertical s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 transects, few vertical pro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ewer param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locations (about 1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09720" y="151920"/>
            <a:ext cx="34290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on Loc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362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n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ltrmarea" descr=""/>
          <p:cNvPicPr/>
          <p:nvPr/>
        </p:nvPicPr>
        <p:blipFill>
          <a:blip r:embed="rId2"/>
          <a:stretch/>
        </p:blipFill>
        <p:spPr>
          <a:xfrm>
            <a:off x="0" y="0"/>
            <a:ext cx="526248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15000" y="4114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raf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334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b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733920" y="5410080"/>
            <a:ext cx="2141280" cy="201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52320" y="4392720"/>
            <a:ext cx="2521080" cy="255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46560" y="2637000"/>
            <a:ext cx="2527200" cy="8841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parability of Flux at The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5181480" cy="3103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886200" y="3944880"/>
            <a:ext cx="4876920" cy="2913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248520" y="4343400"/>
            <a:ext cx="2133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pended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Phospho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hort-term Patterns Not Addressed by NASQ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288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04840" y="1523880"/>
            <a:ext cx="693432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304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dditional NASQAN-LTRMP Comparison and Collaboration Unde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8640" y="2133720"/>
            <a:ext cx="768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litting samples between la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ultaneous samp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arisons of existing data at Thebes, Grafton, and Clinton are progres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delling to better cross-calib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3880" y="2514600"/>
            <a:ext cx="6096240" cy="147708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ME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103560"/>
            <a:ext cx="259092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0280" y="4648320"/>
            <a:ext cx="754380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s Foundation and Connecting Web for Big River Ecological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0"/>
            <a:ext cx="4724640" cy="1556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UMR PARTN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II: The Flood of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6765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bined BRD/WRD investi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-place capabilities allow this event to be monitor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bining expertise and sampling networks across divisions gives a more complete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e Po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5791320" y="4495680"/>
            <a:ext cx="2960640" cy="2210040"/>
            <a:chOff x="5791320" y="4495680"/>
            <a:chExt cx="2960640" cy="2210040"/>
          </a:xfrm>
        </p:grpSpPr>
        <p:pic>
          <p:nvPicPr>
            <p:cNvPr id="230" name="jja1993" descr=""/>
            <p:cNvPicPr/>
            <p:nvPr/>
          </p:nvPicPr>
          <p:blipFill>
            <a:blip r:embed="rId2"/>
            <a:stretch/>
          </p:blipFill>
          <p:spPr>
            <a:xfrm>
              <a:off x="5791320" y="4495680"/>
              <a:ext cx="1590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jja2001" descr=""/>
            <p:cNvPicPr/>
            <p:nvPr/>
          </p:nvPicPr>
          <p:blipFill>
            <a:blip r:embed="rId3"/>
            <a:stretch/>
          </p:blipFill>
          <p:spPr>
            <a:xfrm>
              <a:off x="7162920" y="4648320"/>
              <a:ext cx="158904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bined Con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1040" y="1219320"/>
            <a:ext cx="798192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RD and NASQAN: discharge records, lower Miss. and Ohio concen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RD Iowa City: special flood monitoring, (Lagrangian) of concentra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D and LTRMP: flood concentrations by routine monitor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D and WRD – data analysis and interpretation, joint authorship of manuscrip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eliminary Resul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ring flood (2001) substantially different from Spring-Summer Flood (199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lood from uppermost basin (2001) unlike flood of entire region (1993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01 flood volume was unremarkable below Thebes, but [NOx] was near recor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ck of dilution from lower basin (Ohio) in 2001 sent high [N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] to the Gulf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ld5a" descr=""/>
          <p:cNvPicPr/>
          <p:nvPr/>
        </p:nvPicPr>
        <p:blipFill>
          <a:blip r:embed="rId1"/>
          <a:stretch/>
        </p:blipFill>
        <p:spPr>
          <a:xfrm>
            <a:off x="228600" y="0"/>
            <a:ext cx="8793000" cy="6859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31800" y="535932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WWW.UMESC.USGS.G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49528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e Soballe &amp; Dennis Wa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rimary LTRMP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05740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ique information for resource managers and decision makers on large ri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gh-quality, relevant data, in readily accessible and useable 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on Grou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280" y="1638360"/>
            <a:ext cx="78865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verlap in major water quality constituents measur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th address long-term temporal patterns in the Upper Mississippi Riv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ata collected at overlapping location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arable measurements obtained to the extent allowed by differing objectiv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Part of the Environmental Management Program (EM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d by Act of Congress in 1986 to counter effects of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3 EMP budget = Habitat Rehabilitation and Enhancement Program (HREP -USAC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3 EMP budget = Long Term Resource Monitoring Program (LTRMP-USD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COE given oversigh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ltrmarea" descr=""/>
          <p:cNvPicPr/>
          <p:nvPr/>
        </p:nvPicPr>
        <p:blipFill>
          <a:blip r:embed="rId1"/>
          <a:stretch/>
        </p:blipFill>
        <p:spPr>
          <a:xfrm>
            <a:off x="0" y="0"/>
            <a:ext cx="5262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c_USGSid_NM" descr=""/>
          <p:cNvPicPr/>
          <p:nvPr/>
        </p:nvPicPr>
        <p:blipFill>
          <a:blip r:embed="rId2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41960" y="990720"/>
            <a:ext cx="3902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TRMP Study Area: The Upper Mississippi River System (UMR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ssissippi River mainstem between Ohio River and St. Paul, Minnesota, plus the Illinois Ri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LTRMP is Multi-Disciplinary: Research, Monitoring, and Data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0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at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quatic and Floodplain Veg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quatic Inverteb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imentation and Bathy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d Cover and Land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TRMP WQ Activity Driven by Resour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ct changes in habitat availability and su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normal variations and natural interactions among river biota and the physiochemic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effects of huma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effects of watershed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river biology to transport and transformation of nutrients and sedi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pper Mississippi Resource Issues Cover a Broa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quatic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 dis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o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809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sp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tory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able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mi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tic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&amp; archa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wo-Phase Approach to Limnological (WQ) Monitoring in LTR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0"/>
            <a:ext cx="7620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site sampling (FSS) at permanent locations and fixed intervals (2- 4 wee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ified random sampling (SRS) conducte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_USGSid_NM" descr=""/>
          <p:cNvPicPr/>
          <p:nvPr/>
        </p:nvPicPr>
        <p:blipFill>
          <a:blip r:embed="rId1"/>
          <a:stretch/>
        </p:blipFill>
        <p:spPr>
          <a:xfrm>
            <a:off x="0" y="6662880"/>
            <a:ext cx="72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8:57:40Z</dcterms:created>
  <dc:creator>DMS0</dc:creator>
  <dc:description/>
  <dc:language>en-US</dc:language>
  <cp:lastModifiedBy>David M. Soballe</cp:lastModifiedBy>
  <dcterms:modified xsi:type="dcterms:W3CDTF">2002-03-25T17:52:09Z</dcterms:modified>
  <cp:revision>23</cp:revision>
  <dc:subject/>
  <dc:title>Management Issues</dc:title>
</cp:coreProperties>
</file>