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25EC-3F14-4D5D-BA2F-23B3B0423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BDEC-FE3E-46E8-BBF9-2B1882FB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C0FC-B685-420E-BFD2-185B3CDB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2114-2EBB-423D-8C65-FC7068C3B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92AE-5500-4C85-A01D-A37DB1459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4A22-0C0B-4699-A53B-FD681781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0DBD-D79A-4D67-87C4-15C6A0EF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37E1-5F15-47F7-ACA7-C3878E83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EDF3-5E7F-4C3C-8DAE-62DF3067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F686-D979-4854-BE1C-69233AD7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D4CB-D10D-47D1-AD5B-0BFE99F9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0EA7-F6AA-44D0-AA60-5F8CAEE2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4A2C-D136-449A-8680-71C50E0D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270D-8D13-4286-B51F-53F349AB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48DD-8918-4851-95D2-C2D072D7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7C3D-C463-4573-9726-FDD24C4D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BDEA-CE61-45CE-946B-85722DC2D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44DB-1CD2-47AA-A076-1D2DA753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BE6C-0954-45C3-8ECA-44E157EE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AC83-AE2C-424D-BAF5-106D8C82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6A5A-3B7D-411A-88C3-89F0177F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9AC0-75C5-4C98-8C61-4C102AFB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C8CE-D768-4C72-B5BA-46366C9E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B9BE-3A4E-4859-9D11-39DF8C82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0099cc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0099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99cc"/>
          </a:solidFill>
          <a:ln w="93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EE35-164D-42DC-9FD9-9D760C73605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3737-6D90-46AB-9ABC-5D190C65089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99cc"/>
          </a:solidFill>
          <a:ln w="93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0099cc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0099cc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ustr.gov/Trade_Development/Preference_Programs/GSP/Section_Index.html" TargetMode="External"/><Relationship Id="rId3" Type="http://schemas.openxmlformats.org/officeDocument/2006/relationships/hyperlink" Target="http://www.customs.gov/xp/cgov/import/" TargetMode="External"/><Relationship Id="rId4" Type="http://schemas.openxmlformats.org/officeDocument/2006/relationships/hyperlink" Target="https://forms.customs.gov/customsrf/getformharness.asp?formName=cf-7501-form.xft" TargetMode="External"/><Relationship Id="rId5" Type="http://schemas.openxmlformats.org/officeDocument/2006/relationships/hyperlink" Target="http://www.customs.treas.gov/xp/cgov/toolbox/" TargetMode="External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usitc.gov/tata/hts" TargetMode="External"/><Relationship Id="rId3" Type="http://schemas.openxmlformats.org/officeDocument/2006/relationships/hyperlink" Target="http://www.trade.gov/td/tic/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unctad.org/Templates/Page.asp?intItemID=1418&amp;lang=1" TargetMode="External"/><Relationship Id="rId3" Type="http://schemas.openxmlformats.org/officeDocument/2006/relationships/hyperlink" Target="http://www.unctad.org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001000" cy="27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panding Ukraine’s Export Opportunities through GSP  </a:t>
            </a:r>
            <a:br>
              <a:rPr sz="4000"/>
            </a:b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.S. Department of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fice of the U.S. Trade Represent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y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848720" y="5562720"/>
            <a:ext cx="1028520" cy="1066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04920" y="5257800"/>
            <a:ext cx="1409760" cy="9399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Obverse Side of the Great Seal"/>
          <p:cNvPicPr/>
          <p:nvPr/>
        </p:nvPicPr>
        <p:blipFill>
          <a:blip r:embed="rId4"/>
          <a:stretch/>
        </p:blipFill>
        <p:spPr>
          <a:xfrm>
            <a:off x="7848720" y="4267080"/>
            <a:ext cx="102852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kraine’s GSP Exports to the U.S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Jan 23-Feb 28, 2006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gments &amp; preparations based on titanium dioxide (6% tariff), HTS 3206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ocolate and other cocoa preparations for wholesale use (6%), HTS 1806909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worked human hair and human hair waste (1.4%), HTS 05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words, bayonets and similar arms, sheaths, and scabbards (2.7%), HTS 930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rtain ready-to-eat sugar confections or sweetmeats - not of cocoa (5.6%), HTS 1704903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-threaded iron and steel articles - rivets, washers (2.8%), HTS 73182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getables preserved by vinegar or acetic acid (9.6%), HTS 2001903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76D2-3758-44D9-A9FD-8D5AE7598D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How to Increase Imports from Ukraine That Enter U.S. Duty-free Under GSP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.  Ensure that GSP treatment is claimed for  eligible products currently imported from Ukrain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.  Identify GSP-eligible products that Ukraine is exporting to other markets and consider exporting them to the U.S. duty-fre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.  Export eligible products under other countries’ GSP progra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A367-864A-4A06-9CD0-379174BB0F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sure GSP Treatment is Claim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or Eligible Produc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823760"/>
            <a:ext cx="80010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f $11.5 million in GSP-eligible products that U.S. imported from Ukraine between Jan. 23-Feb. 28, 2006, just $122,800 of those imports received GSP duty-free treatment.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SP utilization rate, therefore, for initial period of Ukraine’s restored GSP eligibility was very low (1.1 percent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41A9-F018-478A-BE30-75AD58CE07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sure GSP Treatment is Claim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or Eligible Produc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so - for all but one of the products that received GSP duty-free treatment, not all of the products’ shipments entered duty-free under GSP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 example, more than half ($112,000) of GSP-eligible titanium dioxide pigment and preparation imports were assessed 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6% tariff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s’ cost to U.S. user was $6,720 more than it could have been, or the exports’ revenue to producer was $6,720 les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1FFB-0995-4EA4-902D-C8944015F0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sure GSP Treatment is Claim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or Eligible Produc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nuary-February imports charged tariffs that were likely duty-free under GSP included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$4 million in radial tires of construction or industrial vehicles and machines @ 4% tariff =$160,0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$3.3 million in railway/tramway locomotives or cars @ 0.4% tariff=$132,0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$747,000 in rare gases (not argon) @ 3.7% tariff = $27,63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$285,000 in certain gallium and gallium powders @ 3% tariff =$8,550*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$269,000 in sports gloves and mittens @ 2.8% tariff = $7,53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EFB0-9EDC-441A-8896-EF8AC85ADF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SP-eligible Products Not Claim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$187,000 in boron carbine @ 3.7% =$6,919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$180,000 in downhill snow skis @ 2.6% tariff =$4,68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$131,600 in inflatable pleasure or sports vessels @ 2.4% tariff = $3,158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$116,000 in coloring matter of vegetable or animal origin @ 3.1% tariff =  $3,596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$113,800 in optical telescopes @ 8% tariff =$9,104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$110,000 in titanium oxides @ 5.5% tariff =$6,05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68F5-4D2B-4A0D-BA79-48EB4FAC3E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sure GSP Treatment is Claim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or Eligible Produc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66 categories of GSP-eligible imports (11.3 million) paid tariffs in Jan-Feb. Why?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hipments could have already occurr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has been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ive yea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ince Ukraine’s exports have been eligible for GSP duty-free preferences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kraine’s utilization of GSP will improve. Ways to do so include…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E0A0-D191-4C65-85B9-6AC4C9C4D7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sure GSP Treatment is Claim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or Eligible Expo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339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late GSP information into Ukrainian. Put both versions on government’s web-portal.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t word out about GSP to Ukraine’s producers, manufacturers, and business/industry associa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ave exporters ensure that their importers mark the customs form correct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ld GSP seminars in key c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C1E8-FFDE-47E6-87BD-678EA94B99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ek GSP Duty-Free Treatment for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Exports to the United Sta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dentify GSP-eligible products that Ukraine exports to other market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EU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OECD countrie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sider exporting them duty-free to the U.S. under GSP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45CE-1A5D-4A05-AD8F-62E9247A5E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tilize the Benefits of Other Countries’ GSP Programs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strali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laru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lgari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a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zech Republ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on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uropean Un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unga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ap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w Zealan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rway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lan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ussian Federation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lovak Republic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witzerlan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urkey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B42D-1A1D-4035-BC29-F3C0E453ED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oday’s Discuss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08240" y="1966680"/>
            <a:ext cx="68896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74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Ukraine’s current exports to the United States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Ukraine and the U.S. Generalized System of Preferences (GSP) Program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How to increase Ukraine’s use of GSP duty-free opportunities  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305D-5637-4592-879D-5603D4933A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or Further Inform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ffice of the U.S. Trade Representative Website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SP guidebook and lists of GSP eligible and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t eligible product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cc"/>
                </a:solidFill>
                <a:uFillTx/>
                <a:latin typeface="Verdana"/>
                <a:hlinkClick r:id="rId2"/>
              </a:rPr>
              <a:t>http://www.ustr.gov/Trade_Development/Preference_Programs/GSP/Section_Index.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partment of Homeland Security: Customs &amp; Border Protection:        </a:t>
            </a:r>
            <a:r>
              <a:rPr b="0" lang="en-US" sz="2100" spc="-1" strike="noStrike" u="sng">
                <a:solidFill>
                  <a:srgbClr val="0099cc"/>
                </a:solidFill>
                <a:uFillTx/>
                <a:latin typeface="Verdana"/>
                <a:hlinkClick r:id="rId3"/>
              </a:rPr>
              <a:t>http://www.customs.gov/xp/cgov/import/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STOMS FORM 7501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99cc"/>
                </a:solidFill>
                <a:uFillTx/>
                <a:latin typeface="Verdana"/>
                <a:hlinkClick r:id="rId4"/>
              </a:rPr>
              <a:t>https://forms.customs.gov/customsrf/getformharness.asp?formName=cf-7501-form.xf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cc"/>
                </a:solidFill>
                <a:uFillTx/>
                <a:latin typeface="Verdana"/>
                <a:hlinkClick r:id="rId5"/>
              </a:rPr>
              <a:t>http://www.customs.treas.gov/xp/cgov/toolbox/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99cc"/>
                </a:solidFill>
                <a:uFillTx/>
                <a:latin typeface="Verdana"/>
              </a:rPr>
              <a:t>publications</a:t>
            </a:r>
            <a:r>
              <a:rPr b="0" lang="en-US" sz="1800" spc="-1" strike="noStrike" u="sng">
                <a:solidFill>
                  <a:srgbClr val="0099cc"/>
                </a:solidFill>
                <a:uFillTx/>
                <a:latin typeface="Verdana"/>
              </a:rPr>
              <a:t>/</a:t>
            </a:r>
            <a:r>
              <a:rPr b="0" lang="en-US" sz="1800" spc="-1" strike="noStrike">
                <a:solidFill>
                  <a:srgbClr val="0099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C7A6-646F-4894-8558-D249C46A24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or Further Information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751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.S. Tariff Schedul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cc"/>
                </a:solidFill>
                <a:uFillTx/>
                <a:latin typeface="Verdana"/>
                <a:hlinkClick r:id="rId2"/>
              </a:rPr>
              <a:t>http://www.usitc.gov/tata/h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751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.S. Department of Commerce Trade Information Center: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75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cc"/>
                </a:solidFill>
                <a:uFillTx/>
                <a:latin typeface="Verdana"/>
                <a:hlinkClick r:id="rId3"/>
              </a:rPr>
              <a:t>http://www.trade.gov/td/tic/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75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cc"/>
                </a:solidFill>
                <a:latin typeface="Verdana"/>
              </a:rPr>
              <a:t>email counseling: tic@ita.doc.gov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6BB4-7F7B-4006-9B38-D2BA468A6E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GSP Progra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cc"/>
                </a:solidFill>
                <a:uFillTx/>
                <a:latin typeface="Verdana"/>
                <a:hlinkClick r:id="rId2"/>
              </a:rPr>
              <a:t>http://www.unctad.org/Templates/Page.asp?intItemID=1418&amp;lang=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go to </a:t>
            </a:r>
            <a:r>
              <a:rPr b="0" lang="en-US" sz="3000" spc="-1" strike="noStrike" u="sng">
                <a:solidFill>
                  <a:srgbClr val="0099cc"/>
                </a:solidFill>
                <a:uFillTx/>
                <a:latin typeface="Verdana"/>
                <a:hlinkClick r:id="rId3"/>
              </a:rPr>
              <a:t>http://www.unctad.org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 and type in “GSP” in the search window in the top right corner of the home pag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371600" y="5334120"/>
            <a:ext cx="1249200" cy="1295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Obverse Side of the Great Seal"/>
          <p:cNvPicPr/>
          <p:nvPr/>
        </p:nvPicPr>
        <p:blipFill>
          <a:blip r:embed="rId5"/>
          <a:stretch/>
        </p:blipFill>
        <p:spPr>
          <a:xfrm>
            <a:off x="6553080" y="53341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3809880" y="5486400"/>
            <a:ext cx="1600200" cy="106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6E54-3C17-45EB-9760-A62D5962CC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kraine’s Top Exports to the U.S.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by value in 200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524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nhydrous ammonia (fertilize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524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ertain semifinished products of iron or nonalloy ste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524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ertain nonalloy pig ir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524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ke &amp; semicoke of coal, lignite or pe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524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ertain hot-rolled flat-rolled iron/nonalloy steel product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524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ertain iron or nonalloy steel, seamless casing pip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524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ertain alloy and iron/nonalloy steel bars and ro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524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rea &amp; ammonium nitrate mixtur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524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ertain distillate &amp; residual fuel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524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omen’s or girls’ overcoats of wool or fine animal hai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4156-7A4F-4E79-B769-25522DF509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kraine and the U.S. GSP Progra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47560" y="1447560"/>
            <a:ext cx="7086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Ukraine was redesignated as a GSP beneficiary country on January 23,  2006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at does that mean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kraine can export 3,400 products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duty-fre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the United State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SP duty-free treatment gives certain exports from Ukraine a competitive edge in the U.S. market because importing companies do not pay tariffs of between 1% and 16% (for current exports)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50C7-0DFD-468D-862E-55E9D60C7A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.S. Generalized System of Preferences (GSP) Progra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6934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s economic opportunities in developing countries and expands choices of U.S.  industries and consum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s duty-free treatment for 3,400 products from 136 developing countri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$26.7 billion in U.S. GSP imports in 2005.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allowed are most textiles, watches, footwear, handbags, luggage, gloves &amp; leather appare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SP program expires December 31, 2006.  President Bush has requested a five-year reauthoriz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9ED9-5D94-470D-BF3B-9507CEFE40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ich Products from Ukraine Qualify for Duty-free Treatment under GSP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07880" y="1752480"/>
            <a:ext cx="6738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751"/>
              </a:spcBef>
              <a:buClr>
                <a:srgbClr val="0099cc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ust be a GSP-eligible product noted as “A” or “A*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751"/>
              </a:spcBef>
              <a:buClr>
                <a:srgbClr val="0099cc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ust be imported into the U.S. directly from Ukraine or pass through another country in a sealed container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751"/>
              </a:spcBef>
              <a:buClr>
                <a:srgbClr val="0099cc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ust be growth, product, or manufacture of Ukrain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A60D-12A4-458B-A5BF-503E98AABC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ich Products from Ukraine Qualify for Duty-free Treatment under GSP?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cc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First GSP value-added requirement (“Rule of Origin”)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um of the cost or value of the materials produced in Ukraine, plus the direct costs of processing, must equal at least 35% of the product’s value when the product is sold for export into the United Stat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7A8C-52EC-4039-A239-FBB1E866E1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ich Products from Ukraine Qualify for Duty-free Treatment under GSP?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cc"/>
                </a:solidFill>
                <a:latin typeface="Verdana"/>
              </a:rPr>
              <a:t>5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GSP value-added requirement (“Rule of Origin”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75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mported materials can count toward 35% value-added requirement. 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75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BUT, they must be “substantially transformed” in Ukraine into new and different constituent materials, which are then used to produce or manufacture the eligible article to be exported. 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75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ubstantially transformed” means the U.S. would classify them as different items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4FB2-53C0-414E-A7B9-B23F82E2B7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btaining Duty-free Treatment for Your Product under GSP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cc"/>
                </a:solidFill>
                <a:latin typeface="Verdana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 It is important for the manufacturer or producer to know (and ensure that the importer knows)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mporter must request the product’s duty-free treatment under GSP by placing an “A” or “A*” before the HTSUS number on form 7501, which is U.S. Customs’ shipment entry documentation 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57B3-310A-441B-A27C-01B8D8BC50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4:43:01Z</dcterms:created>
  <dc:creator>sandler_m</dc:creator>
  <dc:description/>
  <dc:language>en-US</dc:language>
  <cp:lastModifiedBy>kravchenkoS</cp:lastModifiedBy>
  <dcterms:modified xsi:type="dcterms:W3CDTF">2006-07-07T07:51:50Z</dcterms:modified>
  <cp:revision>174</cp:revision>
  <dc:subject/>
  <dc:title>Iraq’s Export Opportunities including under the U.S. Generalized System of Preferences (GSP)</dc:title>
</cp:coreProperties>
</file>