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ct" ContentType="image/x-pict"/>
  <Override PartName="/ppt/media/image1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84048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D810-D27A-4A76-A32A-D4360389E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79640" y="1951200"/>
            <a:ext cx="32645520" cy="365760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ctr">
            <a:noAutofit/>
          </a:bodyPr>
          <a:p>
            <a:pPr indent="0" algn="ctr">
              <a:buNone/>
              <a:tabLst>
                <a:tab algn="l" pos="0"/>
                <a:tab algn="l" pos="3448080"/>
                <a:tab algn="l" pos="6896160"/>
                <a:tab algn="l" pos="1034424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79640" y="6339960"/>
            <a:ext cx="32645520" cy="628056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48080"/>
                <a:tab algn="l" pos="6896160"/>
                <a:tab algn="l" pos="103442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79640" y="13217400"/>
            <a:ext cx="32645520" cy="628056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48080"/>
                <a:tab algn="l" pos="6896160"/>
                <a:tab algn="l" pos="103442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9833-5C2E-4601-A768-64EF3E07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79640" y="1951200"/>
            <a:ext cx="32645520" cy="365760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ctr">
            <a:noAutofit/>
          </a:bodyPr>
          <a:p>
            <a:pPr indent="0" algn="ctr">
              <a:buNone/>
              <a:tabLst>
                <a:tab algn="l" pos="0"/>
                <a:tab algn="l" pos="3448080"/>
                <a:tab algn="l" pos="6896160"/>
                <a:tab algn="l" pos="1034424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79640" y="6339960"/>
            <a:ext cx="15930720" cy="628056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48080"/>
                <a:tab algn="l" pos="6896160"/>
                <a:tab algn="l" pos="103442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607400" y="6339960"/>
            <a:ext cx="15930720" cy="628056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48080"/>
                <a:tab algn="l" pos="6896160"/>
                <a:tab algn="l" pos="103442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79640" y="13217400"/>
            <a:ext cx="15930720" cy="628056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48080"/>
                <a:tab algn="l" pos="6896160"/>
                <a:tab algn="l" pos="103442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9607400" y="13217400"/>
            <a:ext cx="15930720" cy="628056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48080"/>
                <a:tab algn="l" pos="6896160"/>
                <a:tab algn="l" pos="103442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C669-137A-4339-8ADB-F86763210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79640" y="1951200"/>
            <a:ext cx="32645520" cy="365760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ctr">
            <a:noAutofit/>
          </a:bodyPr>
          <a:p>
            <a:pPr indent="0" algn="ctr">
              <a:buNone/>
              <a:tabLst>
                <a:tab algn="l" pos="0"/>
                <a:tab algn="l" pos="3448080"/>
                <a:tab algn="l" pos="6896160"/>
                <a:tab algn="l" pos="1034424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79640" y="6339960"/>
            <a:ext cx="10511640" cy="628056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48080"/>
                <a:tab algn="l" pos="6896160"/>
                <a:tab algn="l" pos="103442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917240" y="6339960"/>
            <a:ext cx="10511640" cy="628056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48080"/>
                <a:tab algn="l" pos="6896160"/>
                <a:tab algn="l" pos="103442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954840" y="6339960"/>
            <a:ext cx="10511640" cy="628056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48080"/>
                <a:tab algn="l" pos="6896160"/>
                <a:tab algn="l" pos="103442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79640" y="13217400"/>
            <a:ext cx="10511640" cy="628056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48080"/>
                <a:tab algn="l" pos="6896160"/>
                <a:tab algn="l" pos="103442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3917240" y="13217400"/>
            <a:ext cx="10511640" cy="628056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48080"/>
                <a:tab algn="l" pos="6896160"/>
                <a:tab algn="l" pos="103442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954840" y="13217400"/>
            <a:ext cx="10511640" cy="628056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48080"/>
                <a:tab algn="l" pos="6896160"/>
                <a:tab algn="l" pos="103442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AFD2-5E7E-483B-B19F-7B8D104BE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79640" y="1951200"/>
            <a:ext cx="32645520" cy="365760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ctr">
            <a:noAutofit/>
          </a:bodyPr>
          <a:p>
            <a:pPr indent="0" algn="ctr">
              <a:buNone/>
              <a:tabLst>
                <a:tab algn="l" pos="0"/>
                <a:tab algn="l" pos="3448080"/>
                <a:tab algn="l" pos="6896160"/>
                <a:tab algn="l" pos="1034424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79640" y="6339960"/>
            <a:ext cx="32645520" cy="131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25"/>
              </a:spcBef>
              <a:buNone/>
              <a:tabLst>
                <a:tab algn="l" pos="0"/>
                <a:tab algn="l" pos="3448080"/>
                <a:tab algn="l" pos="6896160"/>
                <a:tab algn="l" pos="103442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A86C-9436-4CCA-BAFB-804BCE18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79640" y="1951200"/>
            <a:ext cx="32645520" cy="365760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ctr">
            <a:noAutofit/>
          </a:bodyPr>
          <a:p>
            <a:pPr indent="0" algn="ctr">
              <a:buNone/>
              <a:tabLst>
                <a:tab algn="l" pos="0"/>
                <a:tab algn="l" pos="3448080"/>
                <a:tab algn="l" pos="6896160"/>
                <a:tab algn="l" pos="1034424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79640" y="6339960"/>
            <a:ext cx="32645520" cy="1316700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48080"/>
                <a:tab algn="l" pos="6896160"/>
                <a:tab algn="l" pos="103442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206D-23BE-4D18-AA86-CEBDE661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79640" y="1951200"/>
            <a:ext cx="32645520" cy="365760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ctr">
            <a:noAutofit/>
          </a:bodyPr>
          <a:p>
            <a:pPr indent="0" algn="ctr">
              <a:buNone/>
              <a:tabLst>
                <a:tab algn="l" pos="0"/>
                <a:tab algn="l" pos="3448080"/>
                <a:tab algn="l" pos="6896160"/>
                <a:tab algn="l" pos="1034424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79640" y="6339960"/>
            <a:ext cx="15930720" cy="1316700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48080"/>
                <a:tab algn="l" pos="6896160"/>
                <a:tab algn="l" pos="103442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9607400" y="6339960"/>
            <a:ext cx="15930720" cy="1316700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48080"/>
                <a:tab algn="l" pos="6896160"/>
                <a:tab algn="l" pos="103442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3A61-B512-485E-9C3A-F22B17A0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79640" y="1951200"/>
            <a:ext cx="32645520" cy="365760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ctr">
            <a:noAutofit/>
          </a:bodyPr>
          <a:p>
            <a:pPr indent="0" algn="ctr">
              <a:buNone/>
              <a:tabLst>
                <a:tab algn="l" pos="0"/>
                <a:tab algn="l" pos="3448080"/>
                <a:tab algn="l" pos="6896160"/>
                <a:tab algn="l" pos="1034424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B814-B088-447F-8038-23A44D2F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79640" y="1951200"/>
            <a:ext cx="32645520" cy="169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25"/>
              </a:spcBef>
              <a:tabLst>
                <a:tab algn="l" pos="0"/>
                <a:tab algn="l" pos="3448080"/>
                <a:tab algn="l" pos="6896160"/>
                <a:tab algn="l" pos="103442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F75B-8B7D-45E2-B93B-0900DE80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79640" y="1951200"/>
            <a:ext cx="32645520" cy="365760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ctr">
            <a:noAutofit/>
          </a:bodyPr>
          <a:p>
            <a:pPr indent="0" algn="ctr">
              <a:buNone/>
              <a:tabLst>
                <a:tab algn="l" pos="0"/>
                <a:tab algn="l" pos="3448080"/>
                <a:tab algn="l" pos="6896160"/>
                <a:tab algn="l" pos="1034424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79640" y="6339960"/>
            <a:ext cx="15930720" cy="628056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48080"/>
                <a:tab algn="l" pos="6896160"/>
                <a:tab algn="l" pos="103442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9607400" y="6339960"/>
            <a:ext cx="15930720" cy="1316700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48080"/>
                <a:tab algn="l" pos="6896160"/>
                <a:tab algn="l" pos="103442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79640" y="13217400"/>
            <a:ext cx="15930720" cy="628056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48080"/>
                <a:tab algn="l" pos="6896160"/>
                <a:tab algn="l" pos="103442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7886-F209-465C-975E-62033BB0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79640" y="1951200"/>
            <a:ext cx="32645520" cy="365760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ctr">
            <a:noAutofit/>
          </a:bodyPr>
          <a:p>
            <a:pPr indent="0" algn="ctr">
              <a:buNone/>
              <a:tabLst>
                <a:tab algn="l" pos="0"/>
                <a:tab algn="l" pos="3448080"/>
                <a:tab algn="l" pos="6896160"/>
                <a:tab algn="l" pos="1034424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79640" y="6339960"/>
            <a:ext cx="15930720" cy="1316700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48080"/>
                <a:tab algn="l" pos="6896160"/>
                <a:tab algn="l" pos="103442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9607400" y="6339960"/>
            <a:ext cx="15930720" cy="628056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48080"/>
                <a:tab algn="l" pos="6896160"/>
                <a:tab algn="l" pos="103442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607400" y="13217400"/>
            <a:ext cx="15930720" cy="628056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48080"/>
                <a:tab algn="l" pos="6896160"/>
                <a:tab algn="l" pos="103442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8D69-773E-4241-B921-DD244709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79640" y="1951200"/>
            <a:ext cx="32645520" cy="365760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ctr">
            <a:noAutofit/>
          </a:bodyPr>
          <a:p>
            <a:pPr indent="0" algn="ctr">
              <a:buNone/>
              <a:tabLst>
                <a:tab algn="l" pos="0"/>
                <a:tab algn="l" pos="3448080"/>
                <a:tab algn="l" pos="6896160"/>
                <a:tab algn="l" pos="1034424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79640" y="6339960"/>
            <a:ext cx="15930720" cy="628056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48080"/>
                <a:tab algn="l" pos="6896160"/>
                <a:tab algn="l" pos="103442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9607400" y="6339960"/>
            <a:ext cx="15930720" cy="628056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48080"/>
                <a:tab algn="l" pos="6896160"/>
                <a:tab algn="l" pos="103442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79640" y="13217400"/>
            <a:ext cx="32645520" cy="628056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t">
            <a:normAutofit/>
          </a:bodyPr>
          <a:p>
            <a:pPr indent="0">
              <a:spcBef>
                <a:spcPts val="3025"/>
              </a:spcBef>
              <a:buNone/>
              <a:tabLst>
                <a:tab algn="l" pos="3448080"/>
                <a:tab algn="l" pos="6896160"/>
                <a:tab algn="l" pos="103442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E663-4F8D-499A-A9FD-76268737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79640" y="1951200"/>
            <a:ext cx="32645520" cy="365760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ctr">
            <a:noAutofit/>
          </a:bodyPr>
          <a:p>
            <a:pPr indent="0" algn="ctr">
              <a:buNone/>
              <a:tabLst>
                <a:tab algn="l" pos="0"/>
                <a:tab algn="l" pos="3448080"/>
                <a:tab algn="l" pos="6896160"/>
                <a:tab algn="l" pos="10344240"/>
              </a:tabLst>
            </a:pPr>
            <a:r>
              <a:rPr b="0" lang="en-US" sz="1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79640" y="6339960"/>
            <a:ext cx="32645520" cy="1316700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t">
            <a:normAutofit fontScale="84000"/>
          </a:bodyPr>
          <a:p>
            <a:pPr marL="1086480" indent="-1086480">
              <a:spcBef>
                <a:spcPts val="3025"/>
              </a:spcBef>
              <a:buClr>
                <a:srgbClr val="000000"/>
              </a:buClr>
              <a:buFont typeface="Arial"/>
              <a:buChar char="•"/>
              <a:tabLst>
                <a:tab algn="l" pos="3448080"/>
                <a:tab algn="l" pos="6896160"/>
                <a:tab algn="l" pos="1034424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  <a:p>
            <a:pPr lvl="1" marL="2353320" indent="-905040">
              <a:spcBef>
                <a:spcPts val="3025"/>
              </a:spcBef>
              <a:buClr>
                <a:srgbClr val="000000"/>
              </a:buClr>
              <a:buFont typeface="Arial"/>
              <a:buChar char="–"/>
              <a:tabLst>
                <a:tab algn="l" pos="3448080"/>
                <a:tab algn="l" pos="6896160"/>
                <a:tab algn="l" pos="1034424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  <a:p>
            <a:pPr lvl="2" marL="3620160" indent="-723600">
              <a:spcBef>
                <a:spcPts val="3025"/>
              </a:spcBef>
              <a:buClr>
                <a:srgbClr val="000000"/>
              </a:buClr>
              <a:buFont typeface="Arial"/>
              <a:buChar char="•"/>
              <a:tabLst>
                <a:tab algn="l" pos="3448080"/>
                <a:tab algn="l" pos="6896160"/>
                <a:tab algn="l" pos="1034424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  <a:p>
            <a:pPr lvl="3" marL="5069880" indent="-725400">
              <a:spcBef>
                <a:spcPts val="3025"/>
              </a:spcBef>
              <a:buClr>
                <a:srgbClr val="000000"/>
              </a:buClr>
              <a:buFont typeface="Arial"/>
              <a:buChar char="–"/>
              <a:tabLst>
                <a:tab algn="l" pos="3448080"/>
                <a:tab algn="l" pos="6896160"/>
                <a:tab algn="l" pos="1034424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  <a:p>
            <a:pPr lvl="4" marL="6518160" indent="-72396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48080"/>
                <a:tab algn="l" pos="6896160"/>
                <a:tab algn="l" pos="1034424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  <a:p>
            <a:pPr lvl="5" marL="6518160" indent="-72396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48080"/>
                <a:tab algn="l" pos="6896160"/>
                <a:tab algn="l" pos="1034424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  <a:p>
            <a:pPr lvl="6" marL="6518160" indent="-723960">
              <a:spcBef>
                <a:spcPts val="3025"/>
              </a:spcBef>
              <a:buClr>
                <a:srgbClr val="000000"/>
              </a:buClr>
              <a:buFont typeface="Arial"/>
              <a:buChar char="»"/>
              <a:tabLst>
                <a:tab algn="l" pos="3448080"/>
                <a:tab algn="l" pos="6896160"/>
                <a:tab algn="l" pos="1034424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79280" y="19994400"/>
            <a:ext cx="8001000" cy="146376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t">
            <a:noAutofit/>
          </a:bodyPr>
          <a:lstStyle>
            <a:lvl1pPr indent="0">
              <a:buNone/>
              <a:tabLst>
                <a:tab algn="l" pos="0"/>
                <a:tab algn="l" pos="3448080"/>
                <a:tab algn="l" pos="6896160"/>
                <a:tab algn="l" pos="10344240"/>
              </a:tabLst>
              <a:defRPr b="0" lang="en-US" sz="5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448080"/>
                <a:tab algn="l" pos="6896160"/>
                <a:tab algn="l" pos="1034424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3122360" y="19994400"/>
            <a:ext cx="12160080" cy="146376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t">
            <a:noAutofit/>
          </a:bodyPr>
          <a:lstStyle>
            <a:lvl1pPr indent="0" algn="ctr">
              <a:buNone/>
              <a:tabLst>
                <a:tab algn="l" pos="0"/>
                <a:tab algn="l" pos="3448080"/>
                <a:tab algn="l" pos="6896160"/>
                <a:tab algn="l" pos="10344240"/>
              </a:tabLst>
              <a:defRPr b="0" lang="en-US" sz="5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448080"/>
                <a:tab algn="l" pos="6896160"/>
                <a:tab algn="l" pos="1034424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7523800" y="19994400"/>
            <a:ext cx="8001000" cy="1463760"/>
          </a:xfrm>
          <a:prstGeom prst="rect">
            <a:avLst/>
          </a:prstGeom>
          <a:noFill/>
          <a:ln w="0">
            <a:noFill/>
          </a:ln>
        </p:spPr>
        <p:txBody>
          <a:bodyPr lIns="344880" rIns="344880" tIns="172440" bIns="172440" anchor="t">
            <a:noAutofit/>
          </a:bodyPr>
          <a:lstStyle>
            <a:lvl1pPr indent="0" algn="r">
              <a:buNone/>
              <a:tabLst>
                <a:tab algn="l" pos="0"/>
                <a:tab algn="l" pos="3448080"/>
                <a:tab algn="l" pos="6896160"/>
                <a:tab algn="l" pos="10344240"/>
              </a:tabLst>
              <a:defRPr b="0" lang="en-US" sz="5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448080"/>
                <a:tab algn="l" pos="6896160"/>
                <a:tab algn="l" pos="10344240"/>
              </a:tabLst>
            </a:pPr>
            <a:fld id="{F164169D-5FD8-4C35-A606-CD5FCDEF7673}" type="slidenum">
              <a:rPr b="0" lang="en-US" sz="5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ct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730280" y="2585880"/>
            <a:ext cx="12674520" cy="12382560"/>
          </a:xfrm>
          <a:prstGeom prst="rect">
            <a:avLst/>
          </a:prstGeom>
          <a:solidFill>
            <a:srgbClr val="00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49360" y="3789360"/>
            <a:ext cx="10449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luted profile from GEOS-Chem model used as initial gu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bled emissions to obtain new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 forward model over new profile to obtain simulated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ed no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ed retrie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01280" y="2540160"/>
            <a:ext cx="15878160" cy="779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680400" y="10441080"/>
            <a:ext cx="15878520" cy="11031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467480" y="457200"/>
            <a:ext cx="25603200" cy="764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spAutoFit/>
          </a:bodyPr>
          <a:p>
            <a:pPr algn="ct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tellite Observations of Tropospheric Ammonia - Motivation and First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142360" y="13716000"/>
            <a:ext cx="157464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1480" y="2467080"/>
            <a:ext cx="9029880" cy="10578960"/>
          </a:xfrm>
          <a:prstGeom prst="rect">
            <a:avLst/>
          </a:prstGeom>
          <a:solidFill>
            <a:srgbClr val="00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92280" y="2624040"/>
            <a:ext cx="8605800" cy="9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. M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itrogen in ammonia is deposited to Earth’s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1144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cess nitrogen lea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-1144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trient imbal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-1144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 in ecosystem 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-1144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gal blo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-1144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ypox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mmonium sulfate and ammonium nitrate form 10-20% of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fine particulate matter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(PM2.5)  in atmosphere over the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1144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ceeds recommended threshol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WHO,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1144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cessive exposure to aerosol concentration is associated with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-1144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reased chances of cardiovascular dise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-1144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hibited lung 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-1144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mature dea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-1144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ferences (Burnett et al., 2000; Dominici et al., 2006; Gauderman et al., 2004; Pope , 2000; Pope et al., 2002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1144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e particulates are also responsible for reduced visibility in national parks and scenic are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lm et al., 2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oint sources and short lifetime (less than 10 days) lead to high temporal and spatial var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-situ measurement of ammonia are difficult and spar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-1144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ly confined to near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and chemical processes governing ammonia emissions are  challenging to quant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7960" y="13222440"/>
            <a:ext cx="9042480" cy="8251560"/>
          </a:xfrm>
          <a:prstGeom prst="rect">
            <a:avLst/>
          </a:prstGeom>
          <a:solidFill>
            <a:srgbClr val="00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983880" y="2712960"/>
            <a:ext cx="14855760" cy="11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. Proof of concept NH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retrieval from 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imple scaling of NH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profile to reduce residuals (Beer et al., 20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085640" y="2577960"/>
            <a:ext cx="859500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spcBef>
                <a:spcPts val="3626"/>
              </a:spcBef>
              <a:tabLst>
                <a:tab algn="l" pos="0"/>
                <a:tab algn="l" pos="3448080"/>
                <a:tab algn="l" pos="6896160"/>
                <a:tab algn="l" pos="10344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10666" t="3684" r="1357" b="0"/>
          <a:stretch/>
        </p:blipFill>
        <p:spPr>
          <a:xfrm>
            <a:off x="9809280" y="3819600"/>
            <a:ext cx="6013440" cy="4721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343280" y="43768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572640" y="4471920"/>
            <a:ext cx="30477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ST CO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806960" y="8723160"/>
            <a:ext cx="8096040" cy="10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levated amounts over Beijing, China, July 10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ES spectra can provid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formation on N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variabi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5440" y="13331880"/>
            <a:ext cx="881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. What TES can prov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5440" y="14200200"/>
            <a:ext cx="8888400" cy="69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ES data have been collected over most of the Earth’ surface since July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ES can provide time series of NH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mixing ratios almost anywhere on the gl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his dataset will provide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uantitative, global, long-term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picture of NH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spatial and temporal var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objective: provide monthly means for a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are with output  from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egion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e.g., CMAQ)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glob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odels (e.g., GEOS-Ch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 objec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intensive TES Special Observations to obtain NH3 concentrations over areas of high emission (e.g. North Carolina, Midw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e with in-situ measuremen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realistic spatial and temporal distribution of ammonia e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: determine whether peak of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missions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2240" indent="-228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the spring (correlated with fertilizer applic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2240" indent="-228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the summer (higher temperatures lead to higher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missions from manure p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1330800" y="10679040"/>
            <a:ext cx="6207120" cy="4105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6473320" y="5964120"/>
            <a:ext cx="6526080" cy="4645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6150760" y="2751120"/>
            <a:ext cx="11930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5. Sample retrieval: Doubling of NH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e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841600" y="11120400"/>
            <a:ext cx="32511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trieved-truth differences are within error b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trieved profile is significantly different from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a pri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774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TES retrieval provided added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800600" y="1461960"/>
          <a:ext cx="28803600" cy="970200"/>
        </p:xfrm>
        <a:graphic>
          <a:graphicData uri="http://schemas.openxmlformats.org/drawingml/2006/table">
            <a:tbl>
              <a:tblPr/>
              <a:tblGrid>
                <a:gridCol w="4800600"/>
                <a:gridCol w="4800600"/>
                <a:gridCol w="4800600"/>
                <a:gridCol w="4800600"/>
                <a:gridCol w="4800600"/>
                <a:gridCol w="480060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3448080"/>
                          <a:tab algn="l" pos="6896160"/>
                          <a:tab algn="l" pos="103442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W.Shephar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Karen E. Cady-Pereira, Vivienne H.Pay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3448080"/>
                          <a:tab algn="l" pos="6896160"/>
                          <a:tab algn="l" pos="10344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ER, In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3448080"/>
                          <a:tab algn="l" pos="6896160"/>
                          <a:tab algn="l" pos="10344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g Luo, Curtis P. Rinsland, Reinhard Beer, Greg Osterman, Kevin Bow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3448080"/>
                          <a:tab algn="l" pos="6896160"/>
                          <a:tab algn="l" pos="10344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SA-JP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3448080"/>
                          <a:tab algn="l" pos="6896160"/>
                          <a:tab algn="l" pos="10344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ven He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3448080"/>
                          <a:tab algn="l" pos="6896160"/>
                          <a:tab algn="l" pos="10344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umbia Univer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3448080"/>
                          <a:tab algn="l" pos="6896160"/>
                          <a:tab algn="l" pos="10344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ert W.Pin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3448080"/>
                          <a:tab algn="l" pos="6896160"/>
                          <a:tab algn="l" pos="10344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 EPA-OR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3448080"/>
                          <a:tab algn="l" pos="6896160"/>
                          <a:tab algn="l" pos="10344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ry L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3448080"/>
                          <a:tab algn="l" pos="6896160"/>
                          <a:tab algn="l" pos="10344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 EPA-CA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3448080"/>
                          <a:tab algn="l" pos="6896160"/>
                          <a:tab algn="l" pos="10344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phard A. Clou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3448080"/>
                          <a:tab algn="l" pos="6896160"/>
                          <a:tab algn="l" pos="10344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ugh Associ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1141560" y="492120"/>
            <a:ext cx="2552400" cy="1249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34834680" y="606600"/>
            <a:ext cx="1935000" cy="1081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891720" y="8640720"/>
            <a:ext cx="594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pectrum from TES pass over Beij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495480" y="10564920"/>
            <a:ext cx="61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. Retriev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9693080" y="12045960"/>
            <a:ext cx="4649760" cy="4038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0207800" y="11520360"/>
            <a:ext cx="6305400" cy="15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ptimal estimation approach. (Rodgers, 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l-posed problem (number of potential solu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linear least square with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029240" y="11217240"/>
            <a:ext cx="56563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 priori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esti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OS-Chem profiles binned by surface 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10182240" y="13446000"/>
            <a:ext cx="7572240" cy="7094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5728480" y="15068520"/>
            <a:ext cx="12676320" cy="6462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>
            <a:off x="33043680" y="15908400"/>
            <a:ext cx="5112000" cy="2708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4798240" y="15222600"/>
            <a:ext cx="15065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6. Datasets for the Evaluation of TES NH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Retriev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3008760" y="20801160"/>
            <a:ext cx="378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GEOS-Chem Output for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843960" y="18781560"/>
            <a:ext cx="4174920" cy="10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PA NH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Monitoring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mpling began at most sites in October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9"/>
          <a:stretch/>
        </p:blipFill>
        <p:spPr>
          <a:xfrm>
            <a:off x="25903080" y="15840000"/>
            <a:ext cx="3551400" cy="2741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0"/>
          <a:stretch/>
        </p:blipFill>
        <p:spPr>
          <a:xfrm>
            <a:off x="29379960" y="15822720"/>
            <a:ext cx="3546360" cy="2741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1"/>
          <a:stretch/>
        </p:blipFill>
        <p:spPr>
          <a:xfrm>
            <a:off x="25827120" y="18683280"/>
            <a:ext cx="3549600" cy="27417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2"/>
          <a:stretch/>
        </p:blipFill>
        <p:spPr>
          <a:xfrm>
            <a:off x="29311560" y="18703800"/>
            <a:ext cx="3544920" cy="27417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3"/>
          <a:srcRect l="0" t="12466" r="0" b="0"/>
          <a:stretch/>
        </p:blipFill>
        <p:spPr>
          <a:xfrm>
            <a:off x="19259640" y="17124480"/>
            <a:ext cx="6137280" cy="38955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451520" y="16527600"/>
            <a:ext cx="565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 priori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for TES scans over 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3788520" y="5950080"/>
            <a:ext cx="4101840" cy="4435200"/>
            <a:chOff x="33788520" y="5950080"/>
            <a:chExt cx="4101840" cy="4435200"/>
          </a:xfrm>
        </p:grpSpPr>
        <p:pic>
          <p:nvPicPr>
            <p:cNvPr id="83" name="" descr=""/>
            <p:cNvPicPr/>
            <p:nvPr/>
          </p:nvPicPr>
          <p:blipFill>
            <a:blip r:embed="rId14"/>
            <a:stretch/>
          </p:blipFill>
          <p:spPr>
            <a:xfrm>
              <a:off x="33788520" y="5950080"/>
              <a:ext cx="4101840" cy="44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34785360" y="6311880"/>
              <a:ext cx="1231920" cy="22860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16035480" y="4826160"/>
            <a:ext cx="9374040" cy="3632040"/>
            <a:chOff x="16035480" y="4826160"/>
            <a:chExt cx="9374040" cy="3632040"/>
          </a:xfrm>
        </p:grpSpPr>
        <p:pic>
          <p:nvPicPr>
            <p:cNvPr id="86" name="" descr=""/>
            <p:cNvPicPr/>
            <p:nvPr/>
          </p:nvPicPr>
          <p:blipFill>
            <a:blip r:embed="rId15"/>
            <a:srcRect l="3049" t="54493" r="10398" b="0"/>
            <a:stretch/>
          </p:blipFill>
          <p:spPr>
            <a:xfrm>
              <a:off x="16035480" y="4826160"/>
              <a:ext cx="9374040" cy="36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 flipV="1" rot="10800000">
              <a:off x="20085120" y="5436000"/>
              <a:ext cx="454680" cy="21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Helvetica Neue Light"/>
                </a:rPr>
                <a:t>Latitude (deg</a:t>
              </a:r>
              <a:r>
                <a:rPr b="0" lang="en-US" sz="1600" spc="-1" strike="noStrike">
                  <a:solidFill>
                    <a:srgbClr val="000000"/>
                  </a:solidFill>
                  <a:latin typeface="Helvetica Neue Ligh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19:13:36Z</dcterms:created>
  <dc:creator>Eli Mlawer</dc:creator>
  <dc:description/>
  <dc:language>en-US</dc:language>
  <cp:lastModifiedBy>Mark Shephard</cp:lastModifiedBy>
  <cp:lastPrinted>2008-10-24T17:26:40Z</cp:lastPrinted>
  <dcterms:modified xsi:type="dcterms:W3CDTF">2008-10-30T12:44:58Z</dcterms:modified>
  <cp:revision>78</cp:revision>
  <dc:subject/>
  <dc:title>PowerPoint Presentation</dc:title>
</cp:coreProperties>
</file>