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AA9-B185-414A-B201-1F23AB63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AFD-93A8-4721-A68E-75992FD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46A-CD72-45BF-9350-F4B5BEFE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40A-E2D7-417D-964A-B3FABCBD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B84-0273-4B55-8739-5F79CCBE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166-4EDC-41D5-8C98-3E8A2388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D13-AC77-4A8B-A461-5D57E361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3C9-5452-4398-BB18-F3FA36B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552-54BD-4FC0-89A7-6C84986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1E0-49E3-4037-9390-9B4D38FB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31B-D7AE-405C-AC56-C245FA3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B51-9716-4C30-8992-8949FCA6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06B-7C5C-470D-A8A5-FB1A5A056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xel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presentation today ign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column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iel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damag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ulse heigh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knowledge of track angle, the best estimate of track position is given by the digital center of cluster (ignoring pulse heigh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rack angle is known, the best estimate of track position is given by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N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re are 2-3 possible values of N (others arise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pulse heights on the left and right edges of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lse heights in the center of the cluster contain NO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ing the track angle means knowing the track length in the central pixe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f is determined from data &amp;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54080" y="1592280"/>
            <a:ext cx="4956480" cy="462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85880" y="220680"/>
            <a:ext cx="593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of f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N,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56880" y="136224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from 1999 test beam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7560" y="6046920"/>
            <a:ext cx="6043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a = (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/(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P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… really would create a lookup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bits of pulse heigh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64 possi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2520" y="3130560"/>
            <a:ext cx="3598920" cy="1630440"/>
          </a:xfrm>
          <a:custGeom>
            <a:avLst/>
            <a:gdLst/>
            <a:ahLst/>
            <a:rect l="l" t="t" r="r" b="b"/>
            <a:pathLst>
              <a:path w="2267" h="1027">
                <a:moveTo>
                  <a:pt x="0" y="1027"/>
                </a:moveTo>
                <a:cubicBezTo>
                  <a:pt x="77" y="930"/>
                  <a:pt x="154" y="834"/>
                  <a:pt x="232" y="758"/>
                </a:cubicBezTo>
                <a:cubicBezTo>
                  <a:pt x="310" y="682"/>
                  <a:pt x="398" y="608"/>
                  <a:pt x="470" y="570"/>
                </a:cubicBezTo>
                <a:cubicBezTo>
                  <a:pt x="542" y="532"/>
                  <a:pt x="567" y="550"/>
                  <a:pt x="664" y="532"/>
                </a:cubicBezTo>
                <a:cubicBezTo>
                  <a:pt x="761" y="514"/>
                  <a:pt x="917" y="485"/>
                  <a:pt x="1052" y="463"/>
                </a:cubicBezTo>
                <a:cubicBezTo>
                  <a:pt x="1187" y="441"/>
                  <a:pt x="1362" y="430"/>
                  <a:pt x="1472" y="401"/>
                </a:cubicBezTo>
                <a:cubicBezTo>
                  <a:pt x="1582" y="372"/>
                  <a:pt x="1623" y="337"/>
                  <a:pt x="1710" y="288"/>
                </a:cubicBezTo>
                <a:cubicBezTo>
                  <a:pt x="1797" y="239"/>
                  <a:pt x="1917" y="150"/>
                  <a:pt x="1991" y="107"/>
                </a:cubicBezTo>
                <a:cubicBezTo>
                  <a:pt x="2065" y="64"/>
                  <a:pt x="2108" y="49"/>
                  <a:pt x="2154" y="31"/>
                </a:cubicBezTo>
                <a:cubicBezTo>
                  <a:pt x="2200" y="13"/>
                  <a:pt x="2244" y="5"/>
                  <a:pt x="226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3640" y="1652760"/>
            <a:ext cx="8023320" cy="402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60480" y="27288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ual distributions for tracks at normal inc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1960" y="5786280"/>
            <a:ext cx="116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redic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6880" y="446040"/>
            <a:ext cx="8488440" cy="604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0040" y="19368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 as a function of track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0" y="6351480"/>
            <a:ext cx="3696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tandard deviation of Gaussian f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on pulse height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ore than one pixel is hit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information is in the small pulse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lse height is more than ~1/2 M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fine binning of pulse height (fluctuations in dE/dx are larg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+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use only 3 bits for pulse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range still not finally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&gt;1/2 MIP, but &lt;1 M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4560" y="1917720"/>
            <a:ext cx="4173480" cy="4200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9680" y="317520"/>
            <a:ext cx="81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ulse height measurements on cluster edges have large information content --- Low discriminator threshold is importan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30080" y="148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charg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determine cluster si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carrier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or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bia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use of charge shar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e charge creation in silic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-hole pair is created per 3.62 eV lost by a particle.  On average, 24000 e-hole pairs are created per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rack length for a minimum-ionizing particle (~87 KeV lost by trac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been using 3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ck sensors so far; nominally expect to use 2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ck sensors in BT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height distribution is well fit with a Landau function convoluted with a Ga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ctuations are large: FHWM(30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0 e-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is asymmetric (long high-energy ta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14720" cy="5405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4040" y="22860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1999 testbea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9760" y="4343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C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200" y="4495680"/>
            <a:ext cx="189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loss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ixel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creation &amp;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426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-hole pairs are created within ~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ptions are due to “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ays” – electrons with energy of many 10’s of KeV (up to MeV) – these are the cause of the long high energy tail in dE/d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ays are produced nearly perpendicular to track (elastic scattering kinematic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adds to “width” of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riminator thres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ias volt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diffusion at higher bias volt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4057560"/>
            <a:ext cx="4155840" cy="206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9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“width” of trac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0" y="4591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" y="1230480"/>
            <a:ext cx="9141120" cy="439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978000" y="3287520"/>
            <a:ext cx="46044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3784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s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2400" y="5410080"/>
            <a:ext cx="23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iminator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Fraction on Bias Voltage and Discriminat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57560" y="6005520"/>
            <a:ext cx="503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get 50% charge sharing at normal incidence (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de pixels) with sensor just deple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size on track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1981080"/>
            <a:ext cx="7543800" cy="3810240"/>
            <a:chOff x="762120" y="1981080"/>
            <a:chExt cx="7543800" cy="3810240"/>
          </a:xfrm>
        </p:grpSpPr>
        <p:sp>
          <p:nvSpPr>
            <p:cNvPr id="65" name=""/>
            <p:cNvSpPr/>
            <p:nvPr/>
          </p:nvSpPr>
          <p:spPr>
            <a:xfrm>
              <a:off x="762120" y="1981080"/>
              <a:ext cx="7543800" cy="3810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5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9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1981080"/>
              <a:ext cx="68580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6848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3600" y="617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660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1360" y="613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74600" y="15692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54080" y="15836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342600">
            <a:off x="3297240" y="156600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171200">
            <a:off x="4956480" y="1740240"/>
            <a:ext cx="298440" cy="455148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480"/>
              <a:gd name="textAreaBottom" fmla="*/ 3375720 h 455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1456200">
            <a:off x="6948360" y="1714320"/>
            <a:ext cx="298440" cy="4551120"/>
          </a:xfrm>
          <a:custGeom>
            <a:avLst/>
            <a:gdLst>
              <a:gd name="textAreaLeft" fmla="*/ 77040 w 298440"/>
              <a:gd name="textAreaRight" fmla="*/ 221400 w 298440"/>
              <a:gd name="textAreaTop" fmla="*/ 1175760 h 4551120"/>
              <a:gd name="textAreaBottom" fmla="*/ 3375360 h 45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706" y="21600"/>
                </a:lnTo>
                <a:lnTo>
                  <a:pt x="6894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33520" y="1593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11120" y="5840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5960" y="2019240"/>
            <a:ext cx="3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11600" y="363996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26160" y="3398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26160" y="38703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59520" y="6018120"/>
            <a:ext cx="17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tan(1/6) = 9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29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f cluster size on track angle (data from 1999 testbeam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8954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1240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61008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84804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9440" y="3354480"/>
            <a:ext cx="1133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4760" y="4089240"/>
            <a:ext cx="22860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92280" y="1020600"/>
            <a:ext cx="574668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84800" y="1962000"/>
            <a:ext cx="12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% have more than 2 pixels 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8760" y="380880"/>
            <a:ext cx="12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1:07:25Z</dcterms:created>
  <dc:creator>David Christian</dc:creator>
  <dc:description/>
  <dc:language>en-US</dc:language>
  <cp:lastModifiedBy>David Christian</cp:lastModifiedBy>
  <dcterms:modified xsi:type="dcterms:W3CDTF">2004-02-11T20:20:38Z</dcterms:modified>
  <cp:revision>18</cp:revision>
  <dc:subject/>
  <dc:title>Mobile charge creation in silicon</dc:title>
</cp:coreProperties>
</file>