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5.wmf" ContentType="image/x-wmf"/>
  <Override PartName="/ppt/media/image10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A15-5703-4849-98FC-1A5C517C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D0C-E136-4F9F-8913-A7F6D43E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197F-6DEE-493C-93E8-BF5E62F0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41B-C5E4-43D9-8025-A098BAB3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C496-9FED-4408-9F78-158D6F3A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7FFF-231F-48DF-9BE1-AD465363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1F3B-3983-4A61-A4AA-3ADD1CBA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DDB2-08D6-4601-AAC8-09B8DA25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F677-9940-46DF-9335-DEA123C5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5DB4-A396-41D8-8B03-E5B84CD9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6184-E638-4DBA-8AFA-93F23764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8985-13CB-422C-A7CC-B4BD3A86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0526-1139-4A3C-89C9-C8637651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29F1-A64A-4F9D-A707-8AEB90AB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0244-D5FD-41C9-AE70-46AE3FA4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F267-D87E-4FED-B597-D43781D6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46C5-EA8E-4A4D-9980-124C243D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CBA-C6A8-4D3A-92C8-E1936767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A976-9175-4725-BD54-FC3B4CB2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102-A1E9-4024-9E4F-CB6A1019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B39-45B7-4FD7-9C21-2C0C0A5E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DE4-0CC9-4DDF-A027-B5404FE6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597-1E4B-44EF-9105-6EC70129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EB3D-E5AE-4A64-BECD-BDECF6C5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420C-0A4B-4177-AA81-D6C6E405E9EE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437D-112C-47F9-A511-6568069E3586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Event-by-event Multiplicity Fluctuations Analysis at PHOBOS</a:t>
            </a:r>
            <a:r>
              <a:rPr b="1" lang="en-US" sz="4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7720" y="2743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6699"/>
                </a:solidFill>
                <a:latin typeface="Verdana"/>
              </a:rPr>
              <a:t>Zhengwei Chai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Brookhaven National Laboratory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for the                    Collaboration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Correlations &amp; Fluctuations Workshop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2005 RHIC &amp; AGS Users’ Meeting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(June 20-24, 2005, BNL)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     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76720" y="4038480"/>
            <a:ext cx="1600200" cy="5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629400" cy="43052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138680" y="380880"/>
            <a:ext cx="724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 Distribution from Rec. HIJING+GEANT Hits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19320" y="1219320"/>
            <a:ext cx="472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2895480"/>
            <a:ext cx="990360" cy="228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08960" y="213372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.5&lt;|</a:t>
            </a:r>
            <a:r>
              <a:rPr b="0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|&lt;2.0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30840" y="5181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66480" y="350532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(C) = 1.33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56240" y="1143000"/>
            <a:ext cx="320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C) =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Arial"/>
              </a:rPr>
              <a:t>stat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dyn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 )+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de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2788-B756-4821-A740-49084A35AA4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20200" y="403200"/>
            <a:ext cx="8015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Extraction of Dynamic Fluctuation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1676520"/>
            <a:ext cx="804852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suming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(C) = 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Arial"/>
              </a:rPr>
              <a:t>stat</a:t>
            </a: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Arial"/>
              </a:rPr>
              <a:t>dyn</a:t>
            </a: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 )+ </a:t>
            </a:r>
            <a:r>
              <a:rPr b="0" i="1" lang="en-US" sz="32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3200" spc="-1" strike="noStrike" baseline="-25000">
                <a:solidFill>
                  <a:srgbClr val="006699"/>
                </a:solidFill>
                <a:latin typeface="Arial"/>
              </a:rPr>
              <a:t>de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15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Arial"/>
              </a:rPr>
              <a:t>stat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 = 1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by defini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15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400" spc="-1" strike="noStrike" baseline="-25000">
                <a:solidFill>
                  <a:srgbClr val="006699"/>
                </a:solidFill>
                <a:latin typeface="Arial"/>
              </a:rPr>
              <a:t>det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valuated from various simula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15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(C)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calculated from reconstructed hi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SzPct val="15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dy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a measure of particle correla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78C-3CA1-40F5-90B3-2587553B223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066680" y="33498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-5400" y="457200"/>
            <a:ext cx="6917040" cy="5697360"/>
            <a:chOff x="-5400" y="457200"/>
            <a:chExt cx="6917040" cy="5697360"/>
          </a:xfrm>
        </p:grpSpPr>
        <p:sp>
          <p:nvSpPr>
            <p:cNvPr id="316" name=""/>
            <p:cNvSpPr/>
            <p:nvPr/>
          </p:nvSpPr>
          <p:spPr>
            <a:xfrm>
              <a:off x="762120" y="2133720"/>
              <a:ext cx="2971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05520" y="1828800"/>
              <a:ext cx="1752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09680" y="45720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rial"/>
                </a:rPr>
                <a:t>PHOBOS Detectors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1"/>
            <a:stretch/>
          </p:blipFill>
          <p:spPr>
            <a:xfrm>
              <a:off x="228600" y="2440080"/>
              <a:ext cx="624852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5006880" y="4203720"/>
              <a:ext cx="1835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Beryllium Beam Pipe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2920" y="5791320"/>
              <a:ext cx="21240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Paddle Trigger Counters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1120" y="4876920"/>
              <a:ext cx="205596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Spectrometer Detectors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             </a:t>
              </a: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(Silicon)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5400" y="4191120"/>
              <a:ext cx="22366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Ring Multiplicity Detectors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(Silicon)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0680" y="2297160"/>
              <a:ext cx="2332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Cerenkov Trigger Counters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55840" y="2373480"/>
              <a:ext cx="203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Time of Flight Counters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96320" y="3516480"/>
              <a:ext cx="251532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Octagon Multiplicity Detector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Arial"/>
                </a:rPr>
                <a:t>and Vertex Detector (Silicon) 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114800" y="2666880"/>
              <a:ext cx="2209680" cy="1143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3657600" y="2895480"/>
              <a:ext cx="2286000" cy="129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733920" y="2819520"/>
              <a:ext cx="2286000" cy="1218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5334120" y="990720"/>
            <a:ext cx="3352680" cy="22860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86600" y="99072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Octag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047760" y="1523880"/>
            <a:ext cx="2514600" cy="25146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657600" y="3048120"/>
            <a:ext cx="449568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657600" y="3048120"/>
            <a:ext cx="4495680" cy="11430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705720" cy="48182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533520" y="457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ctagon Multiplicity Detector Acceptance Cover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43000" y="15238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553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83000" y="5638680"/>
            <a:ext cx="550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Hit distribution in </a:t>
            </a:r>
            <a:r>
              <a:rPr b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-</a:t>
            </a:r>
            <a:r>
              <a:rPr b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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 space with |Z</a:t>
            </a:r>
            <a:r>
              <a:rPr b="1" lang="zh-CN" sz="2000" spc="-1" strike="noStrike" baseline="-25000">
                <a:solidFill>
                  <a:srgbClr val="006699"/>
                </a:solidFill>
                <a:latin typeface="Arial"/>
                <a:ea typeface="Arial"/>
              </a:rPr>
              <a:t>vtx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|&lt;10c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828800"/>
            <a:ext cx="45720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33720" y="3505320"/>
            <a:ext cx="45720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666880"/>
            <a:ext cx="45720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133720" y="4343400"/>
            <a:ext cx="45720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A2A-70A9-40E6-AEE7-E03F90F2E02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Extracting Multiplicity Fluctuations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>
                <a:solidFill>
                  <a:srgbClr val="3333cc"/>
                </a:solidFill>
                <a:latin typeface="Verdana"/>
              </a:rPr>
              <a:t>(C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91120" cy="31449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28600" y="1219320"/>
            <a:ext cx="4664160" cy="40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ctagon silicon sensors  provid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6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宋体"/>
              </a:rPr>
              <a:t>Number of hits (</a:t>
            </a:r>
            <a:r>
              <a:rPr b="0" i="1" lang="en-US" sz="1800" spc="-1" strike="noStrike">
                <a:solidFill>
                  <a:srgbClr val="006699"/>
                </a:solidFill>
                <a:latin typeface="Arial"/>
                <a:ea typeface="宋体"/>
              </a:rPr>
              <a:t>N</a:t>
            </a:r>
            <a:r>
              <a:rPr b="0" i="1" lang="en-US" sz="1800" spc="-1" strike="noStrike" baseline="-25000">
                <a:solidFill>
                  <a:srgbClr val="006699"/>
                </a:solidFill>
                <a:latin typeface="Arial"/>
                <a:ea typeface="宋体"/>
              </a:rPr>
              <a:t>hit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6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宋体"/>
              </a:rPr>
              <a:t>Sum of the angle-corrected deposit energy </a:t>
            </a:r>
            <a:r>
              <a:rPr b="0" i="1" lang="en-US" sz="1800" spc="-1" strike="noStrike">
                <a:solidFill>
                  <a:srgbClr val="006699"/>
                </a:solidFill>
                <a:latin typeface="Arial"/>
                <a:ea typeface="宋体"/>
              </a:rPr>
              <a:t>dE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宋体"/>
              </a:rPr>
              <a:t>for charged particles (</a:t>
            </a:r>
            <a:r>
              <a:rPr b="0" i="1" lang="en-US" sz="1800" spc="-1" strike="noStrike">
                <a:solidFill>
                  <a:srgbClr val="006699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hit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=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max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1-exp(-E/E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max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max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/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: average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dE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by a charged particle in selected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bi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stimated multiplicity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      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N = E /(E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max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/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max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2760" y="4884840"/>
            <a:ext cx="80931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ultiplicities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in forward and backward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bins of equal siz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C)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581280" y="5334120"/>
                <a:ext cx="1673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6781680" y="4038480"/>
            <a:ext cx="1905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Arial"/>
              </a:rPr>
              <a:t>Deposit Energy (E)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0800000">
            <a:off x="4648320" y="1295280"/>
            <a:ext cx="42264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Arial"/>
              </a:rPr>
              <a:t>Number of hits (N</a:t>
            </a:r>
            <a:r>
              <a:rPr b="1" i="1" lang="en-US" sz="1400" spc="-1" strike="noStrike" baseline="-25000">
                <a:solidFill>
                  <a:srgbClr val="006699"/>
                </a:solidFill>
                <a:latin typeface="Arial"/>
              </a:rPr>
              <a:t>hit</a:t>
            </a: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7E51-5680-4879-A0D9-4B0E2645016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Preliminary Fluctuations Analysis Result</a:t>
            </a:r>
            <a:br>
              <a:rPr sz="2800"/>
            </a:b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(K.W. </a:t>
            </a:r>
            <a:r>
              <a:rPr b="0" i="1" lang="en-US" sz="1800" spc="-1" strike="noStrike">
                <a:solidFill>
                  <a:srgbClr val="3333cc"/>
                </a:solidFill>
                <a:latin typeface="Verdana"/>
              </a:rPr>
              <a:t>et el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QM04)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"/>
          <p:cNvSpPr/>
          <p:nvPr/>
        </p:nvSpPr>
        <p:spPr>
          <a:xfrm>
            <a:off x="225000" y="1981080"/>
            <a:ext cx="3082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Data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2000" spc="-1" strike="noStrike">
                <a:solidFill>
                  <a:srgbClr val="006699"/>
                </a:solidFill>
                <a:latin typeface="Arial"/>
              </a:rPr>
              <a:t>(C)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similar to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Rec.Hijing+Geant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2000" spc="-1" strike="noStrike">
                <a:solidFill>
                  <a:srgbClr val="006699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Data and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Rec. MC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2000" spc="-1" strike="noStrike">
                <a:solidFill>
                  <a:srgbClr val="006699"/>
                </a:solidFill>
                <a:latin typeface="Arial"/>
              </a:rPr>
              <a:t>(C)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dominated by detector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responses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Estimated systematic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error 5% (not shown)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557520" y="1676520"/>
            <a:ext cx="5586480" cy="4014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4481280" y="2193840"/>
            <a:ext cx="20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Phobos Prelim. Data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c. Hijing+Geant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Hijing (half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3428640" y="2438280"/>
            <a:ext cx="42372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A4F-BEEE-4BCA-A6E8-5674B4DB262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28600" y="1981080"/>
            <a:ext cx="3276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Data and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Rec. MC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2000" spc="-1" strike="noStrike">
                <a:solidFill>
                  <a:srgbClr val="006699"/>
                </a:solidFill>
                <a:latin typeface="Arial"/>
              </a:rPr>
              <a:t>(C)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are simila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Hijing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2000" spc="-1" strike="noStrike">
                <a:solidFill>
                  <a:srgbClr val="006699"/>
                </a:solidFill>
                <a:latin typeface="Arial"/>
              </a:rPr>
              <a:t>(C)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increase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with the separation in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pseudo-rapidity spac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Estimated systematic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error 5%(not shown)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649680" y="1219320"/>
            <a:ext cx="4729320" cy="345276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3124080" y="4952880"/>
            <a:ext cx="5724360" cy="990720"/>
            <a:chOff x="3124080" y="4952880"/>
            <a:chExt cx="5724360" cy="99072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3124080" y="4952880"/>
              <a:ext cx="191232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3"/>
            <a:stretch/>
          </p:blipFill>
          <p:spPr>
            <a:xfrm>
              <a:off x="5023800" y="4952880"/>
              <a:ext cx="19123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4"/>
            <a:stretch/>
          </p:blipFill>
          <p:spPr>
            <a:xfrm>
              <a:off x="6936120" y="4952880"/>
              <a:ext cx="191232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 rot="10800000">
            <a:off x="3505320" y="1600200"/>
            <a:ext cx="42372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20120" y="44956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Preliminary Fluctuations Analysis Result</a:t>
            </a:r>
            <a:br>
              <a:rPr sz="2800"/>
            </a:b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(K.W. </a:t>
            </a:r>
            <a:r>
              <a:rPr b="0" i="1" lang="en-US" sz="1800" spc="-1" strike="noStrike">
                <a:solidFill>
                  <a:srgbClr val="3333cc"/>
                </a:solidFill>
                <a:latin typeface="Verdana"/>
              </a:rPr>
              <a:t>et el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QM04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821-D483-46A1-9215-6D2270C916D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28600" y="1828800"/>
            <a:ext cx="327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Data and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Rec. MC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2000" spc="-1" strike="noStrike">
                <a:solidFill>
                  <a:srgbClr val="006699"/>
                </a:solidFill>
                <a:latin typeface="Arial"/>
              </a:rPr>
              <a:t>(C)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increase with the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bi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size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</a:rPr>
              <a:t>Hijing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2000" spc="-1" strike="noStrike">
                <a:solidFill>
                  <a:srgbClr val="006699"/>
                </a:solidFill>
                <a:latin typeface="Arial"/>
              </a:rPr>
              <a:t>(C)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increase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with the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Arial"/>
              </a:rPr>
              <a:t> bin siz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Estimated systematic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error 5%(not shown)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505320" y="1143000"/>
            <a:ext cx="5119560" cy="360828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3276720" y="5029200"/>
            <a:ext cx="5410080" cy="990720"/>
            <a:chOff x="3276720" y="5029200"/>
            <a:chExt cx="5410080" cy="990720"/>
          </a:xfrm>
        </p:grpSpPr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>
              <a:off x="3276720" y="5029200"/>
              <a:ext cx="18036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3"/>
            <a:stretch/>
          </p:blipFill>
          <p:spPr>
            <a:xfrm>
              <a:off x="5079240" y="5029200"/>
              <a:ext cx="18036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4"/>
            <a:stretch/>
          </p:blipFill>
          <p:spPr>
            <a:xfrm>
              <a:off x="6883200" y="5029200"/>
              <a:ext cx="180360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1" name=""/>
          <p:cNvSpPr/>
          <p:nvPr/>
        </p:nvSpPr>
        <p:spPr>
          <a:xfrm rot="10800000">
            <a:off x="3505320" y="1447560"/>
            <a:ext cx="4237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467480" y="45720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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2286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Preliminary Fluctuations Analysis Result</a:t>
            </a:r>
            <a:br>
              <a:rPr sz="2800"/>
            </a:b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(K.W. </a:t>
            </a:r>
            <a:r>
              <a:rPr b="0" i="1" lang="en-US" sz="1800" spc="-1" strike="noStrike">
                <a:solidFill>
                  <a:srgbClr val="3333cc"/>
                </a:solidFill>
                <a:latin typeface="Verdana"/>
              </a:rPr>
              <a:t>et el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QM04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11B-6580-40A4-82CE-563DDBF8196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97560" y="533520"/>
            <a:ext cx="76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uctuations Sources in Rec. MC Multiplic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2280" y="1752480"/>
            <a:ext cx="297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Acceptance Effect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Secondarie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zh-CN" sz="2000" spc="-1" strike="noStrike">
                <a:solidFill>
                  <a:srgbClr val="006699"/>
                </a:solidFill>
                <a:latin typeface="Arial"/>
              </a:rPr>
              <a:t>dE/dx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Fluctuation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Landau fluctua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Velocity (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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) varia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Statistical fluctuations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Model non-statistica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fluctuation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6324480" cy="45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ACB-9AD0-43C8-A3A1-611E8416DA7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Extraction of Dynamic Fluctuation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>
            <a:off x="1143000" y="2514600"/>
            <a:ext cx="7162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ptance gap effects suppression with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fse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-dependent dE/dx cuts to suppress contribution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rom secondary partic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i="1" lang="en-US" sz="2400" spc="-1" strike="noStrike" baseline="30000">
                <a:solidFill>
                  <a:srgbClr val="006699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rder detector effects adjustment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 dynamic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luctuations extrac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0FA-C2F9-43EC-95F5-A646A2F3860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152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                 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ollabora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Burak Alver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Birger Back,</a:t>
            </a:r>
            <a:r>
              <a:rPr b="0" lang="en-US" sz="1400" spc="-1" strike="noStrike">
                <a:solidFill>
                  <a:srgbClr val="ebf7ff"/>
                </a:solidFill>
                <a:latin typeface="Lucida Sans Unicode"/>
              </a:rPr>
              <a:t> 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Mark Baker, Maarten Ballintijn, Donald Barton, Russell Betts, </a:t>
            </a:r>
            <a:r>
              <a:rPr b="0" lang="en-US" sz="1400" spc="-1" strike="noStrike">
                <a:solidFill>
                  <a:srgbClr val="fc0000"/>
                </a:solidFill>
                <a:latin typeface="Lucida Sans Unicode"/>
              </a:rPr>
              <a:t>Richard Bindel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</a:t>
            </a:r>
            <a:r>
              <a:rPr b="0" lang="en-US" sz="1400" spc="-1" strike="noStrike">
                <a:solidFill>
                  <a:srgbClr val="006666"/>
                </a:solidFill>
                <a:latin typeface="Lucida Sans Unicode"/>
              </a:rPr>
              <a:t>Wit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 Busza (Spokesperson), Zhengwei Chai, </a:t>
            </a: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Vasundhara Chetluru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Edmundo Garc</a:t>
            </a:r>
            <a:r>
              <a:rPr b="0" lang="en-US" sz="1400" spc="-1" strike="noStrike">
                <a:solidFill>
                  <a:srgbClr val="006666"/>
                </a:solidFill>
                <a:latin typeface="Lucida Sans Unicode"/>
              </a:rPr>
              <a:t>í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a, Tomasz Gburek, Kristjan Gulbrandsen, Clive Halliwell, </a:t>
            </a:r>
            <a:r>
              <a:rPr b="0" lang="en-US" sz="1400" spc="-1" strike="noStrike">
                <a:solidFill>
                  <a:srgbClr val="fc0000"/>
                </a:solidFill>
                <a:latin typeface="Lucida Sans Unicode"/>
              </a:rPr>
              <a:t>Joshua Hamblen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</a:t>
            </a: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Ian Harnarine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</a:t>
            </a:r>
            <a:r>
              <a:rPr b="0" lang="en-US" sz="1400" spc="-1" strike="noStrike">
                <a:solidFill>
                  <a:srgbClr val="fc0000"/>
                </a:solidFill>
                <a:latin typeface="Lucida Sans Unicode"/>
              </a:rPr>
              <a:t>Conor Henderson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David Hofman, Richard Hollis, Roman Hołyński, Burt Holzman, Aneta Iordanova, </a:t>
            </a:r>
            <a:r>
              <a:rPr b="0" lang="en-US" sz="1400" spc="-1" strike="noStrike">
                <a:solidFill>
                  <a:srgbClr val="fc0000"/>
                </a:solidFill>
                <a:latin typeface="Lucida Sans Unicode"/>
              </a:rPr>
              <a:t>Jay Kane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Piotr Kulinich, Chia Ming Kuo, </a:t>
            </a: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Wei Li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Willis Lin, Steven Manly, Alice Mignerey,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Gerrit van Nieuwenhuizen, Rachid Nouicer, Andrzej Olszewski, Robert Pak, </a:t>
            </a:r>
            <a:r>
              <a:rPr b="0" lang="en-US" sz="1400" spc="-1" strike="noStrike">
                <a:solidFill>
                  <a:srgbClr val="fc0000"/>
                </a:solidFill>
                <a:latin typeface="Lucida Sans Unicode"/>
              </a:rPr>
              <a:t>Corey Reed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Eric Richardson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Christof Roland, Gunther Roland, </a:t>
            </a:r>
            <a:r>
              <a:rPr b="0" lang="en-US" sz="1400" spc="-1" strike="noStrike">
                <a:solidFill>
                  <a:srgbClr val="fc0000"/>
                </a:solidFill>
                <a:latin typeface="Lucida Sans Unicode"/>
              </a:rPr>
              <a:t>Joe Sagerer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Iouri Sedykh, Chadd Smith,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Maciej Stankiewicz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Peter Steinberg, George Stephans, Andrei Sukhanov, </a:t>
            </a: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Artur Szostak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Marguerite Belt Tonjes, Adam Trzupek, </a:t>
            </a: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Sergei Vaurynovich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Robin Verdier, Gábor Veres,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Peter Walters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</a:t>
            </a: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Edward Wenger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</a:t>
            </a: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Donald Willhelm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Frank Wolfs,  Barbara Wosiek, Krzysztof Woźniak, </a:t>
            </a: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Shaun Wyngaardt</a:t>
            </a:r>
            <a:r>
              <a:rPr b="0" lang="en-US" sz="1400" spc="-1" strike="noStrike">
                <a:solidFill>
                  <a:srgbClr val="006699"/>
                </a:solidFill>
                <a:latin typeface="Lucida Sans Unicode"/>
              </a:rPr>
              <a:t>, Bolek Wysłouch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f7ff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ARGONNE NATIONAL LABORATORY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BROOKHAVEN NATIONAL LABORATORY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INSTITUTE OF NUCLEAR PHYSICS PAN, KRAKOW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MASSACHUSETTS INSTITUTE OF TECHNOLOGY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NATIONAL CENTRAL UNIVERSITY, TAIWAN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UNIVERSITY OF ILLINOIS AT CHICAGO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7720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UNIVERSITY OF MARYLAND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Lucida Sans Unicode"/>
              </a:rPr>
              <a:t>UNIVERSITY OF ROCHESTER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932040" cy="58752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324480" y="1066680"/>
            <a:ext cx="1135080" cy="62100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114800" y="1066680"/>
            <a:ext cx="839880" cy="58752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828800" y="380880"/>
            <a:ext cx="1905120" cy="55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D12A-A730-4275-8D41-B244B4D157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6705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cceptance Gap Effects in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>
                <a:solidFill>
                  <a:srgbClr val="3333cc"/>
                </a:solidFill>
                <a:latin typeface="Verdana"/>
              </a:rPr>
              <a:t>(C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609480" y="990720"/>
                <a:ext cx="20574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81" name=""/>
          <p:cNvGraphicFramePr/>
          <p:nvPr/>
        </p:nvGraphicFramePr>
        <p:xfrm>
          <a:off x="5207040" y="1600200"/>
          <a:ext cx="2917800" cy="21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7040" y="1600200"/>
                    <a:ext cx="291780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4419720" y="3124080"/>
            <a:ext cx="3200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419720" y="3352680"/>
            <a:ext cx="3200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3341520" y="1905120"/>
            <a:ext cx="5802480" cy="33192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5105520" y="47242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707520" y="47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-Z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381880" y="457200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+Z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0920" y="35812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1" i="1" lang="en-US" sz="2000" spc="-1" strike="noStrike" baseline="-25000">
                <a:solidFill>
                  <a:srgbClr val="3333cc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346720" y="35812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1" i="1" lang="en-US" sz="2000" spc="-1" strike="noStrike" baseline="-25000">
                <a:solidFill>
                  <a:srgbClr val="3333cc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261120" y="35812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1B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0" y="358128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2B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" y="2057400"/>
            <a:ext cx="327672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Acceptance gap </a:t>
            </a:r>
            <a:r>
              <a:rPr b="0" lang="zh-CN" sz="1800" spc="-1" strike="noStrike">
                <a:solidFill>
                  <a:srgbClr val="006699"/>
                </a:solidFill>
                <a:latin typeface="Wingdings"/>
                <a:ea typeface="Wingdings"/>
              </a:rPr>
              <a:t>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asymmetric multiplicitie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At vertex A: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i="1" lang="zh-CN" sz="1800" spc="-1" strike="noStrike" baseline="-25000">
                <a:solidFill>
                  <a:srgbClr val="3333cc"/>
                </a:solidFill>
                <a:latin typeface="Arial"/>
              </a:rPr>
              <a:t>1A</a:t>
            </a:r>
            <a:r>
              <a:rPr b="0" lang="zh-CN" sz="18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i="1" lang="zh-CN" sz="1800" spc="-1" strike="noStrike" baseline="-25000">
                <a:solidFill>
                  <a:srgbClr val="3333cc"/>
                </a:solidFill>
                <a:latin typeface="Arial"/>
              </a:rPr>
              <a:t>2A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Wingdings"/>
                <a:ea typeface="Wingdings"/>
              </a:rPr>
              <a:t>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&lt;C&gt;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&gt;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At vertex B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i="1" lang="zh-CN" sz="1800" spc="-1" strike="noStrike" baseline="-25000">
                <a:solidFill>
                  <a:srgbClr val="ff0000"/>
                </a:solidFill>
                <a:latin typeface="Arial"/>
              </a:rPr>
              <a:t>1B</a:t>
            </a:r>
            <a:r>
              <a:rPr b="0" lang="zh-CN" sz="18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&lt;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i="1" lang="zh-CN" sz="1800" spc="-1" strike="noStrike" baseline="-25000">
                <a:solidFill>
                  <a:srgbClr val="ff0000"/>
                </a:solidFill>
                <a:latin typeface="Arial"/>
              </a:rPr>
              <a:t>2B </a:t>
            </a:r>
            <a:r>
              <a:rPr b="0" lang="zh-CN" sz="1800" spc="-1" strike="noStrike">
                <a:solidFill>
                  <a:srgbClr val="006699"/>
                </a:solidFill>
                <a:latin typeface="Wingdings"/>
                <a:ea typeface="Wingdings"/>
              </a:rPr>
              <a:t>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</a:rPr>
              <a:t> &lt;C&gt; </a:t>
            </a:r>
            <a:r>
              <a:rPr b="0" i="1" lang="zh-CN" sz="1800" spc="-1" strike="noStrike">
                <a:solidFill>
                  <a:srgbClr val="006699"/>
                </a:solidFill>
                <a:latin typeface="Arial"/>
              </a:rPr>
              <a:t>&lt;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Asymmetric forward and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backward multiplicities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6699"/>
                </a:solidFill>
                <a:latin typeface="Wingdings"/>
                <a:ea typeface="Wingdings"/>
              </a:rPr>
              <a:t>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varying mean of </a:t>
            </a:r>
            <a:r>
              <a:rPr b="0" i="1" lang="zh-CN" sz="1800" spc="-1" strike="noStrike">
                <a:solidFill>
                  <a:srgbClr val="006699"/>
                </a:solidFill>
                <a:latin typeface="Arial"/>
              </a:rPr>
              <a:t>C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in 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small </a:t>
            </a:r>
            <a:r>
              <a:rPr b="0" i="1" lang="zh-CN" sz="1800" spc="-1" strike="noStrike">
                <a:solidFill>
                  <a:srgbClr val="006699"/>
                </a:solidFill>
                <a:latin typeface="Arial"/>
              </a:rPr>
              <a:t>Z</a:t>
            </a:r>
            <a:r>
              <a:rPr b="0" i="1" lang="zh-CN" sz="1800" spc="-1" strike="noStrike" baseline="-25000">
                <a:solidFill>
                  <a:srgbClr val="006699"/>
                </a:solidFill>
                <a:latin typeface="Arial"/>
              </a:rPr>
              <a:t>vtx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bi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6699"/>
                </a:solidFill>
                <a:latin typeface="Wingdings"/>
                <a:ea typeface="Wingdings"/>
              </a:rPr>
              <a:t>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significant </a:t>
            </a:r>
            <a:r>
              <a:rPr b="0" lang="zh-CN" sz="1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(C) increase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in bigger </a:t>
            </a:r>
            <a:r>
              <a:rPr b="0" i="1" lang="zh-CN" sz="1800" spc="-1" strike="noStrike">
                <a:solidFill>
                  <a:srgbClr val="006699"/>
                </a:solidFill>
                <a:latin typeface="Arial"/>
              </a:rPr>
              <a:t>Z</a:t>
            </a:r>
            <a:r>
              <a:rPr b="0" i="1" lang="zh-CN" sz="1800" spc="-1" strike="noStrike" baseline="-25000">
                <a:solidFill>
                  <a:srgbClr val="006699"/>
                </a:solidFill>
                <a:latin typeface="Arial"/>
              </a:rPr>
              <a:t>vtx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bi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9236-651E-42E0-A9AD-4856F6BCCF8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44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cceptance Gap Effects Suppression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6699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vent-by-event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offset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81160" indent="-281160">
              <a:spcBef>
                <a:spcPts val="601"/>
              </a:spcBef>
              <a:buClr>
                <a:srgbClr val="006699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i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is the mean of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distribution in a specific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Z</a:t>
            </a:r>
            <a:r>
              <a:rPr b="0" i="1" lang="en-US" sz="2400" spc="-1" strike="noStrike" baseline="-25000">
                <a:solidFill>
                  <a:srgbClr val="006699"/>
                </a:solidFill>
                <a:latin typeface="Verdana"/>
              </a:rPr>
              <a:t>vtx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, Centrality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) bin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SzPct val="15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suppresses the acceptance gap effects by reducing the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&lt;C&gt;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variation while keeping other fluctuations unchanged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2473200" y="2327400"/>
                <a:ext cx="3511800" cy="10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C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rad>
                              </m:den>
                            </m:f>
                          </m:e>
                        </m:d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η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tx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Bin</m:t>
                            </m:r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02E-0D2D-4907-B5C2-4D968091A1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81960" cy="54482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057400" y="106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|</a:t>
            </a:r>
            <a:r>
              <a:rPr b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|&lt;0.5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5400" y="1066680"/>
            <a:ext cx="11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|</a:t>
            </a:r>
            <a:r>
              <a:rPr b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|&lt;0.5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44680" y="259092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w/o offset correc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31240" y="25909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/ offset correc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3560" y="10666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0" y="10666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05320" y="320040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Z</a:t>
            </a:r>
            <a:r>
              <a:rPr b="1" i="1" lang="en-US" sz="1600" spc="-1" strike="noStrike" baseline="-25000">
                <a:solidFill>
                  <a:srgbClr val="006699"/>
                </a:solidFill>
                <a:latin typeface="Arial"/>
              </a:rPr>
              <a:t>vtx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505320" y="586728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Z</a:t>
            </a:r>
            <a:r>
              <a:rPr b="1" i="1" lang="en-US" sz="1600" spc="-1" strike="noStrike" baseline="-25000">
                <a:solidFill>
                  <a:srgbClr val="006699"/>
                </a:solidFill>
                <a:latin typeface="Arial"/>
              </a:rPr>
              <a:t>vtx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15200" y="320040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Z</a:t>
            </a:r>
            <a:r>
              <a:rPr b="1" i="1" lang="en-US" sz="1600" spc="-1" strike="noStrike" baseline="-25000">
                <a:solidFill>
                  <a:srgbClr val="006699"/>
                </a:solidFill>
                <a:latin typeface="Arial"/>
              </a:rPr>
              <a:t>vtx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15200" y="586728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Z</a:t>
            </a:r>
            <a:r>
              <a:rPr b="1" i="1" lang="en-US" sz="1600" spc="-1" strike="noStrike" baseline="-25000">
                <a:solidFill>
                  <a:srgbClr val="006699"/>
                </a:solidFill>
                <a:latin typeface="Arial"/>
              </a:rPr>
              <a:t>vtx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1280" y="37339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&lt;C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19720" y="373392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904760" y="2895480"/>
            <a:ext cx="609480" cy="1524240"/>
          </a:xfrm>
          <a:prstGeom prst="line">
            <a:avLst/>
          </a:prstGeom>
          <a:ln w="1260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2895480"/>
            <a:ext cx="3429000" cy="1447920"/>
          </a:xfrm>
          <a:prstGeom prst="line">
            <a:avLst/>
          </a:prstGeom>
          <a:ln w="1260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505320" y="2895480"/>
            <a:ext cx="2286000" cy="1828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629400" y="2895480"/>
            <a:ext cx="609480" cy="2133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6B13-C0A5-4A59-BB0B-F5114A31C362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648320" cy="44038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4724280" cy="43974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/dx Distributions of MC Hits</a:t>
            </a:r>
            <a:br>
              <a:rPr sz="2000"/>
            </a:br>
            <a:br>
              <a:rPr sz="1200"/>
            </a:br>
            <a:br>
              <a:rPr sz="1200"/>
            </a:b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Black: Primaries + Secondaries, 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Red: Secondaries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Blue:  Primaries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8" name=""/>
          <p:cNvSpPr/>
          <p:nvPr/>
        </p:nvSpPr>
        <p:spPr>
          <a:xfrm>
            <a:off x="1902600" y="31240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-3.0&lt;</a:t>
            </a:r>
            <a:r>
              <a:rPr b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&lt;-2.5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75320" y="32004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-0.5&lt;</a:t>
            </a:r>
            <a:r>
              <a:rPr b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&lt;0.0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828800"/>
            <a:ext cx="1295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67080" y="17524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35F-B3CF-429B-A55A-BC5784472B7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464760" y="304920"/>
            <a:ext cx="82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tector Effects from Model+Geant Simula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10640" cy="48164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3054960" y="3124080"/>
            <a:ext cx="38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400" spc="-1" strike="noStrike" baseline="-25000">
                <a:solidFill>
                  <a:srgbClr val="006699"/>
                </a:solidFill>
                <a:latin typeface="Arial"/>
              </a:rPr>
              <a:t>det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(C) -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Arial"/>
              </a:rPr>
              <a:t>stat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dyn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57800" y="3886200"/>
            <a:ext cx="685800" cy="10666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D625-EF1B-4134-814B-BF67715AF2AF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400800" cy="43974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702800" y="685800"/>
            <a:ext cx="580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Arial"/>
              </a:rPr>
              <a:t>det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1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order dependence on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Arial"/>
              </a:rPr>
              <a:t>dy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358360" y="4724280"/>
            <a:ext cx="30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1.5&lt;|</a:t>
            </a:r>
            <a:r>
              <a:rPr b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|&lt;2.0 &amp; half </a:t>
            </a:r>
            <a:r>
              <a:rPr b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 acc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066400" y="1978200"/>
            <a:ext cx="33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Mod. HIJING (randomized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sign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60480" y="24382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td. AMPT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871600" y="388620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td. HIJING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180400" y="266688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0-20% Centra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01B-477B-4931-B4F4-E2E2D6DD31BF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62120" y="30492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Extracting Dynamic Fluctuations Using Detector Effects from Simula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62120" y="1600200"/>
            <a:ext cx="7848360" cy="48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66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eneral equation: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99"/>
                </a:solidFill>
                <a:latin typeface="Arial"/>
                <a:ea typeface="宋体"/>
              </a:rPr>
              <a:t>	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  <a:ea typeface="宋体"/>
              </a:rPr>
              <a:t>	</a:t>
            </a:r>
            <a:r>
              <a:rPr b="0" i="1" lang="en-US" sz="2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006699"/>
                </a:solidFill>
                <a:latin typeface="Arial"/>
                <a:ea typeface="宋体"/>
              </a:rPr>
              <a:t>2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  <a:ea typeface="宋体"/>
              </a:rPr>
              <a:t>(C) = </a:t>
            </a:r>
            <a:r>
              <a:rPr b="0" i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0" i="1" lang="en-US" sz="26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stat 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  <a:ea typeface="宋体"/>
              </a:rPr>
              <a:t>+ </a:t>
            </a:r>
            <a:r>
              <a:rPr b="0" i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i="1" lang="en-US" sz="26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dyn 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  <a:ea typeface="宋体"/>
              </a:rPr>
              <a:t>+ </a:t>
            </a:r>
            <a:r>
              <a:rPr b="0" i="1" lang="en-US" sz="2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006699"/>
                </a:solidFill>
                <a:latin typeface="Arial"/>
                <a:ea typeface="宋体"/>
              </a:rPr>
              <a:t>2</a:t>
            </a:r>
            <a:r>
              <a:rPr b="0" i="1" lang="en-US" sz="2600" spc="-1" strike="noStrike" baseline="-25000">
                <a:solidFill>
                  <a:srgbClr val="006699"/>
                </a:solidFill>
                <a:latin typeface="Arial"/>
                <a:ea typeface="宋体"/>
              </a:rPr>
              <a:t>det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Use MC to evaluate detector effects: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600" spc="-1" strike="noStrike" baseline="-25000">
                <a:solidFill>
                  <a:srgbClr val="006699"/>
                </a:solidFill>
                <a:latin typeface="Arial"/>
              </a:rPr>
              <a:t>det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= </a:t>
            </a:r>
            <a:r>
              <a:rPr b="0" i="1" lang="en-US" sz="2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(C) - (</a:t>
            </a:r>
            <a:r>
              <a:rPr b="0" i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600" spc="-1" strike="noStrike" baseline="-25000">
                <a:solidFill>
                  <a:srgbClr val="3333cc"/>
                </a:solidFill>
                <a:latin typeface="Arial"/>
              </a:rPr>
              <a:t>stat 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+ </a:t>
            </a:r>
            <a:r>
              <a:rPr b="0" i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2600" spc="-1" strike="noStrike" baseline="-25000">
                <a:solidFill>
                  <a:srgbClr val="ff0000"/>
                </a:solidFill>
                <a:latin typeface="Arial"/>
              </a:rPr>
              <a:t>dyn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)  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600" spc="-1" strike="noStrike" baseline="-25000">
                <a:solidFill>
                  <a:srgbClr val="006699"/>
                </a:solidFill>
                <a:latin typeface="Arial"/>
              </a:rPr>
              <a:t>det 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= </a:t>
            </a:r>
            <a:r>
              <a:rPr b="0" i="1" lang="en-US" sz="2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600" spc="-1" strike="noStrike" baseline="-25000">
                <a:solidFill>
                  <a:srgbClr val="006699"/>
                </a:solidFill>
                <a:latin typeface="Arial"/>
              </a:rPr>
              <a:t>det0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(1 - </a:t>
            </a:r>
            <a:r>
              <a:rPr b="0" i="1" lang="en-US" sz="2600" spc="-1" strike="noStrike">
                <a:solidFill>
                  <a:srgbClr val="006699"/>
                </a:solidFill>
                <a:latin typeface="Symbol"/>
                <a:ea typeface="Symbol"/>
              </a:rPr>
              <a:t></a:t>
            </a:r>
            <a:r>
              <a:rPr b="0" i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2600" spc="-1" strike="noStrike" baseline="-25000">
                <a:solidFill>
                  <a:srgbClr val="ff0000"/>
                </a:solidFill>
                <a:latin typeface="Arial"/>
              </a:rPr>
              <a:t>dyn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Use the adjusted detector effects to extract dynamic fluctuations: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(C) = </a:t>
            </a:r>
            <a:r>
              <a:rPr b="0" i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600" spc="-1" strike="noStrike" baseline="-25000">
                <a:solidFill>
                  <a:srgbClr val="3333cc"/>
                </a:solidFill>
                <a:latin typeface="Arial"/>
              </a:rPr>
              <a:t>stat 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+ </a:t>
            </a:r>
            <a:r>
              <a:rPr b="0" i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2600" spc="-1" strike="noStrike" baseline="-25000">
                <a:solidFill>
                  <a:srgbClr val="ff0000"/>
                </a:solidFill>
                <a:latin typeface="Arial"/>
              </a:rPr>
              <a:t>dyn 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+ </a:t>
            </a:r>
            <a:r>
              <a:rPr b="0" i="1" lang="en-US" sz="2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600" spc="-1" strike="noStrike" baseline="-25000">
                <a:solidFill>
                  <a:srgbClr val="006699"/>
                </a:solidFill>
                <a:latin typeface="Arial"/>
              </a:rPr>
              <a:t>det0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(1 - </a:t>
            </a:r>
            <a:r>
              <a:rPr b="0" i="1" lang="en-US" sz="2600" spc="-1" strike="noStrike">
                <a:solidFill>
                  <a:srgbClr val="006699"/>
                </a:solidFill>
                <a:latin typeface="Symbol"/>
                <a:ea typeface="Symbol"/>
              </a:rPr>
              <a:t>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2600" spc="-1" strike="noStrike" baseline="-25000">
                <a:solidFill>
                  <a:srgbClr val="ff0000"/>
                </a:solidFill>
                <a:latin typeface="Arial"/>
              </a:rPr>
              <a:t>dyn</a:t>
            </a:r>
            <a:r>
              <a:rPr b="0" i="1" lang="en-US" sz="26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ultiply the extracted dynamic fluctuations by 2 to extrapolate it from half to full </a:t>
            </a:r>
            <a:r>
              <a:rPr b="0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accept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A96E-70F0-4EB1-9B15-5046C4434FF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66200" y="380880"/>
            <a:ext cx="83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tracted and True Model Dynamic Fluctua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48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12EC-FCF4-4D85-A6B5-BAD4FC44294F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466200" y="380880"/>
            <a:ext cx="83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tracted and True Model Dynamic Fluctua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086600" cy="48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E9A-023D-42C7-90D2-B5CC010925EF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452600" y="2133720"/>
            <a:ext cx="714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Procedure for extraction of dynamic fluctua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tested with 3 simulations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200GeV Au+Au data dynamic fluctuations coming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out soon…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A93-6F6C-4BC8-82D7-2971A91DA74E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36680" y="258840"/>
            <a:ext cx="32227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Outline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2160" y="1973160"/>
            <a:ext cx="761544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ysics motiva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luctuations variables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(C)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en-US" sz="2800" spc="-1" strike="noStrike" baseline="-25000">
                <a:solidFill>
                  <a:srgbClr val="006699"/>
                </a:solidFill>
                <a:latin typeface="Verdana"/>
              </a:rPr>
              <a:t>dy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nalysis procedure for extracting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(C)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en-US" sz="2800" spc="-1" strike="noStrike" baseline="-25000">
                <a:solidFill>
                  <a:srgbClr val="006699"/>
                </a:solidFill>
                <a:latin typeface="Verdana"/>
              </a:rPr>
              <a:t>dy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eliminary resul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ummary and outloo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D0D-8764-4A73-8745-7E73624259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54194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Summary and Outlook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122640" y="2049480"/>
                <a:ext cx="6112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457200" y="1752480"/>
            <a:ext cx="830592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alyzed multiplicity fluctuations of the charged  particle production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 Au+Au collisions at </a:t>
            </a:r>
            <a:r>
              <a:rPr b="0" lang="pl-PL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    =200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GeV </a:t>
            </a:r>
            <a:r>
              <a:rPr b="0" lang="pl-PL" sz="2000" spc="-1" strike="noStrike">
                <a:solidFill>
                  <a:srgbClr val="006699"/>
                </a:solidFill>
                <a:latin typeface="Arial"/>
              </a:rPr>
              <a:t>over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wide pseudo-rapidity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pl-PL" sz="2000" spc="-1" strike="noStrike">
                <a:solidFill>
                  <a:srgbClr val="006699"/>
                </a:solidFill>
                <a:latin typeface="Arial"/>
              </a:rPr>
              <a:t>range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(-3.0 &lt;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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 +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3.0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The preliminary fluctuations in the Data are similar to that in  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reconstructed Au+Au MC (HIJING+GEANT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The physics fluctuations grow with increasing bin separation (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)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and width (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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) and may be explained by intrinsic correlations in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  <a:ea typeface="宋体"/>
              </a:rPr>
              <a:t>particle  produc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stablished a reliable procedure for extracting the dynamic 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luctuations from PHOBOS multiplicity measurement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Results of dynamic fluctuations compared with models to be released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FD6-5231-4ED2-B6F9-D65F1DFB671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0880" y="1596600"/>
            <a:ext cx="815364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-173160">
              <a:spcBef>
                <a:spcPts val="1250"/>
              </a:spcBef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article production in Au-Au collisions is dominated by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overlapping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geometry of the colliding ions, thus the particle multiplicity mainly depends on the number of participants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part</a:t>
            </a:r>
            <a:r>
              <a:rPr b="0" lang="en-US" sz="2000" spc="-1" strike="noStrike" baseline="-25000">
                <a:solidFill>
                  <a:srgbClr val="0066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173160" indent="-173160">
              <a:spcBef>
                <a:spcPts val="1250"/>
              </a:spcBef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Event-by-event multiplicity fluctuations could be a useful signature of the QGP-Hadron Gas phase transition due to the large difference of the degree of freedom between the two phas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173160" indent="-173160">
              <a:spcBef>
                <a:spcPts val="1250"/>
              </a:spcBef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ynamic fluctuations other than</a:t>
            </a:r>
            <a:r>
              <a:rPr b="0" lang="pl-PL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statistical and </a:t>
            </a:r>
            <a:r>
              <a:rPr b="0" i="1" lang="zh-CN" sz="20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0" i="1" lang="zh-CN" sz="2000" spc="-1" strike="noStrike" baseline="-25000">
                <a:solidFill>
                  <a:srgbClr val="006699"/>
                </a:solidFill>
                <a:latin typeface="Arial"/>
              </a:rPr>
              <a:t>part</a:t>
            </a: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 fluctuations may provide helpful insights on the intrinsic mechanisms of the particle produc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173160" indent="-173160">
              <a:spcBef>
                <a:spcPts val="1250"/>
              </a:spcBef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Arial"/>
              </a:rPr>
              <a:t>Dynamic fluctuations are also related to particle correlations, which could be resulted from jets, resonances and clusters effect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762120"/>
            <a:ext cx="7315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uctuations in Particle Produc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D960-AEF5-4DE1-93AC-3337D9400A8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38080" y="304920"/>
            <a:ext cx="7925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Arial"/>
              </a:rPr>
              <a:t>Event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pl-PL" sz="2800" spc="-1" strike="noStrike">
                <a:solidFill>
                  <a:srgbClr val="3333cc"/>
                </a:solidFill>
                <a:latin typeface="Arial"/>
              </a:rPr>
              <a:t>by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pl-PL" sz="2800" spc="-1" strike="noStrike">
                <a:solidFill>
                  <a:srgbClr val="3333cc"/>
                </a:solidFill>
                <a:latin typeface="Arial"/>
              </a:rPr>
              <a:t>event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F</a:t>
            </a:r>
            <a:r>
              <a:rPr b="1" lang="pl-PL" sz="2800" spc="-1" strike="noStrike">
                <a:solidFill>
                  <a:srgbClr val="3333cc"/>
                </a:solidFill>
                <a:latin typeface="Arial"/>
              </a:rPr>
              <a:t>luctuatio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ns Observable </a:t>
            </a:r>
            <a:r>
              <a:rPr b="1" i="1" lang="zh-CN" sz="28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i="1" lang="zh-CN" sz="2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i="1" lang="pl-PL" sz="28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i="1" lang="zh-CN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952880" y="914400"/>
            <a:ext cx="3886200" cy="2311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04920" y="11430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tudy multiplicity fluctuation using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2743200"/>
            <a:ext cx="46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C) = RM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distribution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10080" y="3200400"/>
            <a:ext cx="3048120" cy="2895480"/>
            <a:chOff x="5410080" y="3200400"/>
            <a:chExt cx="3048120" cy="289548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5410080" y="3200400"/>
              <a:ext cx="30481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 flipV="1">
              <a:off x="6078600" y="3641400"/>
              <a:ext cx="1894320" cy="181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57240" y="4192920"/>
              <a:ext cx="1002600" cy="9925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12680" y="4358520"/>
              <a:ext cx="780120" cy="772200"/>
            </a:xfrm>
            <a:prstGeom prst="line">
              <a:avLst/>
            </a:prstGeom>
            <a:ln w="2556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24280" y="4248360"/>
              <a:ext cx="779760" cy="771840"/>
            </a:xfrm>
            <a:prstGeom prst="line">
              <a:avLst/>
            </a:prstGeom>
            <a:ln w="2556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8900000">
              <a:off x="7248600" y="3433680"/>
              <a:ext cx="778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pl-PL" sz="16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r>
                <a:rPr b="1" lang="pl-PL" sz="16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pl-PL" sz="16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700000">
              <a:off x="7174080" y="4852800"/>
              <a:ext cx="770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66ff"/>
                  </a:solidFill>
                  <a:latin typeface="Arial"/>
                </a:rPr>
                <a:t>N</a:t>
              </a:r>
              <a:r>
                <a:rPr b="1" lang="en-US" sz="1400" spc="-1" strike="noStrike" baseline="-25000">
                  <a:solidFill>
                    <a:srgbClr val="0066ff"/>
                  </a:solidFill>
                  <a:latin typeface="Arial"/>
                </a:rPr>
                <a:t>1</a:t>
              </a:r>
              <a:r>
                <a:rPr b="1" lang="pl-PL" sz="14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66ff"/>
                  </a:solidFill>
                  <a:latin typeface="Arial"/>
                </a:rPr>
                <a:t>- N</a:t>
              </a:r>
              <a:r>
                <a:rPr b="1" lang="pl-PL" sz="14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066680" y="1600200"/>
                <a:ext cx="2133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300600" y="4114800"/>
            <a:ext cx="43106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006699"/>
                </a:solidFill>
                <a:latin typeface="Symbol"/>
                <a:ea typeface="Symbol"/>
              </a:rPr>
              <a:t>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C) = </a:t>
            </a:r>
            <a:r>
              <a:rPr b="0" i="1" lang="el-GR" sz="2000" spc="-1" strike="noStrike">
                <a:solidFill>
                  <a:srgbClr val="3333cc"/>
                </a:solidFill>
                <a:latin typeface="Symbol"/>
                <a:ea typeface="Symbol"/>
              </a:rPr>
              <a:t>σ</a:t>
            </a:r>
            <a:r>
              <a:rPr b="0" i="1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Arial"/>
                <a:ea typeface="Arial Unicode MS"/>
              </a:rPr>
              <a:t>stat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 + </a:t>
            </a:r>
            <a:r>
              <a:rPr b="0" i="1" lang="el-GR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σ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Arial"/>
                <a:ea typeface="Arial Unicode MS"/>
              </a:rPr>
              <a:t>2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dy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  <a:ea typeface="Arial Unicode MS"/>
              </a:rPr>
              <a:t>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,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3333cc"/>
                </a:solidFill>
                <a:latin typeface="Arial"/>
                <a:ea typeface="Arial Unicode MS"/>
              </a:rPr>
              <a:t>2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Arial"/>
                <a:ea typeface="Arial Unicode MS"/>
              </a:rPr>
              <a:t>stat</a:t>
            </a:r>
            <a:r>
              <a:rPr b="0" lang="en-US" sz="2000" spc="-1" strike="noStrike" baseline="-25000">
                <a:solidFill>
                  <a:srgbClr val="006699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=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1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statistical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dynamic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 fluctuation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C) = 1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or independent particle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6440" y="3276720"/>
            <a:ext cx="4395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-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in definition of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Arial"/>
              </a:rPr>
              <a:t>part</a:t>
            </a:r>
            <a:r>
              <a:rPr b="0" lang="en-US" sz="2000" spc="-1" strike="noStrike" baseline="-25000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luctuations suppressed in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54100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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C) </a:t>
            </a:r>
            <a:r>
              <a:rPr b="0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6699"/>
                </a:solidFill>
                <a:latin typeface="바탕"/>
                <a:ea typeface="바탕"/>
              </a:rPr>
              <a:t>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non-0 dynamic fluctuation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F7E-A107-4DDC-A8CC-30297E93121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Correlation Variable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3333cc"/>
                </a:solidFill>
                <a:latin typeface="Verdana"/>
              </a:rPr>
              <a:t>(C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6699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luctuations variable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(C)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is a measure of  the particles correlation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Long range (particles in different </a:t>
            </a:r>
            <a:r>
              <a:rPr b="0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bins)  correlations reduce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(C)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rom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1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hort range (particles usually in the same </a:t>
            </a:r>
            <a:r>
              <a:rPr b="0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bin) correlations increase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(C)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rom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1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hort range correlations could also have the long range effect if the correlated particles are selected into different bin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066680" y="3809880"/>
            <a:ext cx="6782040" cy="2522160"/>
            <a:chOff x="1066680" y="3809880"/>
            <a:chExt cx="6782040" cy="2522160"/>
          </a:xfrm>
        </p:grpSpPr>
        <p:sp>
          <p:nvSpPr>
            <p:cNvPr id="199" name=""/>
            <p:cNvSpPr/>
            <p:nvPr/>
          </p:nvSpPr>
          <p:spPr>
            <a:xfrm>
              <a:off x="4759920" y="5829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1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31160" y="5829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2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02040" y="5829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3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71120" y="5829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4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42720" y="5829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5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91520" y="582984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1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04440" y="582984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2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54080" y="582984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3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83200" y="582984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4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14840" y="582984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5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09520" y="575064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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66680" y="5730120"/>
              <a:ext cx="67820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7696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4784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1728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8672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5796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2704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0716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3772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6684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2760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97040" y="5730120"/>
              <a:ext cx="0" cy="99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98760" y="58161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0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46880" y="3809880"/>
              <a:ext cx="5045760" cy="1922040"/>
            </a:xfrm>
            <a:custGeom>
              <a:avLst/>
              <a:gdLst/>
              <a:ahLst/>
              <a:rect l="l" t="t" r="r" b="b"/>
              <a:pathLst>
                <a:path w="3607" h="1870">
                  <a:moveTo>
                    <a:pt x="0" y="1864"/>
                  </a:moveTo>
                  <a:cubicBezTo>
                    <a:pt x="76" y="1820"/>
                    <a:pt x="269" y="1869"/>
                    <a:pt x="458" y="1599"/>
                  </a:cubicBezTo>
                  <a:cubicBezTo>
                    <a:pt x="647" y="1329"/>
                    <a:pt x="911" y="486"/>
                    <a:pt x="1136" y="243"/>
                  </a:cubicBezTo>
                  <a:cubicBezTo>
                    <a:pt x="1361" y="0"/>
                    <a:pt x="1585" y="141"/>
                    <a:pt x="1809" y="141"/>
                  </a:cubicBezTo>
                  <a:cubicBezTo>
                    <a:pt x="2033" y="141"/>
                    <a:pt x="2259" y="0"/>
                    <a:pt x="2482" y="243"/>
                  </a:cubicBezTo>
                  <a:cubicBezTo>
                    <a:pt x="2705" y="486"/>
                    <a:pt x="2962" y="1328"/>
                    <a:pt x="3149" y="1599"/>
                  </a:cubicBezTo>
                  <a:cubicBezTo>
                    <a:pt x="3336" y="1870"/>
                    <a:pt x="3512" y="1812"/>
                    <a:pt x="3607" y="1868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048120" y="464832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4120" y="525780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91120" y="5257800"/>
            <a:ext cx="609480" cy="0"/>
          </a:xfrm>
          <a:prstGeom prst="line">
            <a:avLst/>
          </a:prstGeom>
          <a:ln w="381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41911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48769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48769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89A-3397-416D-B721-70A22E9005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Long Range Correlation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6699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Long range correlations effect in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(C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623880" indent="-239760">
              <a:spcBef>
                <a:spcPts val="499"/>
              </a:spcBef>
              <a:buClr>
                <a:srgbClr val="006699"/>
              </a:buClr>
              <a:buSzPct val="15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ssuming  &lt;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&gt;=&lt;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&gt;=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+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=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2N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nd the correlation coefficient is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23880" indent="-239760">
              <a:spcBef>
                <a:spcPts val="499"/>
              </a:spcBef>
              <a:buClr>
                <a:srgbClr val="006699"/>
              </a:buClr>
              <a:buSzPct val="15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ositive long range correlations 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en-US" sz="2000" spc="-1" strike="noStrike" baseline="-25000">
                <a:solidFill>
                  <a:srgbClr val="006699"/>
                </a:solidFill>
                <a:latin typeface="Verdana"/>
              </a:rPr>
              <a:t>dyn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&lt;0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and </a:t>
            </a: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(C)&lt;1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63800" y="2200320"/>
                <a:ext cx="708804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≈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ρσ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σ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tat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yn</m:t>
                                </m:r>
                              </m:sub>
                            </m:sSub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200400" y="4724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4648320"/>
            <a:ext cx="228600" cy="228600"/>
          </a:xfrm>
          <a:prstGeom prst="smileyFace">
            <a:avLst>
              <a:gd name="adj" fmla="val 928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24280" y="4648320"/>
            <a:ext cx="228600" cy="228600"/>
          </a:xfrm>
          <a:prstGeom prst="smileyFace">
            <a:avLst>
              <a:gd name="adj" fmla="val 928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28800" y="4114800"/>
            <a:ext cx="4325760" cy="1425960"/>
            <a:chOff x="1828800" y="4114800"/>
            <a:chExt cx="4325760" cy="1425960"/>
          </a:xfrm>
        </p:grpSpPr>
        <p:sp>
          <p:nvSpPr>
            <p:cNvPr id="237" name=""/>
            <p:cNvSpPr/>
            <p:nvPr/>
          </p:nvSpPr>
          <p:spPr>
            <a:xfrm>
              <a:off x="4082040" y="4992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1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77240" y="4992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2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70640" y="4992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3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61520" y="4992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4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400" y="49928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5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56720" y="499284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1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50000" y="499284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2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69200" y="499284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3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74000" y="499284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4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77000" y="499284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5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28320" y="495936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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4949640"/>
              <a:ext cx="42512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6648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6168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5580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5028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4548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3996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7200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7788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8232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9372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88200" y="494964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93320" y="49863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0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80680" y="4114800"/>
              <a:ext cx="3162960" cy="835560"/>
            </a:xfrm>
            <a:custGeom>
              <a:avLst/>
              <a:gdLst/>
              <a:ahLst/>
              <a:rect l="l" t="t" r="r" b="b"/>
              <a:pathLst>
                <a:path w="3607" h="1870">
                  <a:moveTo>
                    <a:pt x="0" y="1864"/>
                  </a:moveTo>
                  <a:cubicBezTo>
                    <a:pt x="76" y="1820"/>
                    <a:pt x="269" y="1869"/>
                    <a:pt x="458" y="1599"/>
                  </a:cubicBezTo>
                  <a:cubicBezTo>
                    <a:pt x="647" y="1329"/>
                    <a:pt x="911" y="486"/>
                    <a:pt x="1136" y="243"/>
                  </a:cubicBezTo>
                  <a:cubicBezTo>
                    <a:pt x="1361" y="0"/>
                    <a:pt x="1585" y="141"/>
                    <a:pt x="1809" y="141"/>
                  </a:cubicBezTo>
                  <a:cubicBezTo>
                    <a:pt x="2033" y="141"/>
                    <a:pt x="2259" y="0"/>
                    <a:pt x="2482" y="243"/>
                  </a:cubicBezTo>
                  <a:cubicBezTo>
                    <a:pt x="2705" y="486"/>
                    <a:pt x="2962" y="1328"/>
                    <a:pt x="3149" y="1599"/>
                  </a:cubicBezTo>
                  <a:cubicBezTo>
                    <a:pt x="3336" y="1870"/>
                    <a:pt x="3512" y="1812"/>
                    <a:pt x="3607" y="1868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CC1-F285-406F-91AB-C80EC0BC38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Short Range Correlation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Verdana"/>
              </a:rPr>
              <a:t>Short range correlations effect in </a:t>
            </a:r>
            <a:r>
              <a:rPr b="0" i="1" lang="zh-CN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2000" spc="-1" strike="noStrike">
                <a:solidFill>
                  <a:srgbClr val="006699"/>
                </a:solidFill>
                <a:latin typeface="Verdana"/>
              </a:rPr>
              <a:t>(C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-22572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SzPct val="15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Such correlation may be treated as cluster effect, the cluster multiplicity </a:t>
            </a:r>
            <a:r>
              <a:rPr b="0" i="1" lang="zh-CN" sz="1800" spc="-1" strike="noStrike">
                <a:solidFill>
                  <a:srgbClr val="006699"/>
                </a:solidFill>
                <a:latin typeface="Verdana"/>
              </a:rPr>
              <a:t>k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 studied by UA5  is related to </a:t>
            </a:r>
            <a:r>
              <a:rPr b="0" i="1" lang="zh-CN" sz="1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1800" spc="-1" strike="noStrike">
                <a:solidFill>
                  <a:srgbClr val="006699"/>
                </a:solidFill>
                <a:latin typeface="Verdana"/>
              </a:rPr>
              <a:t>(C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-22572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SzPct val="15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If particles are created in cluster with multiplicity </a:t>
            </a:r>
            <a:r>
              <a:rPr b="0" i="1" lang="zh-CN" sz="1800" spc="-1" strike="noStrike">
                <a:solidFill>
                  <a:srgbClr val="006699"/>
                </a:solidFill>
                <a:latin typeface="Verdana"/>
              </a:rPr>
              <a:t>k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, and the total multiplicity in a specific </a:t>
            </a:r>
            <a:r>
              <a:rPr b="0" i="1" lang="zh-CN" sz="18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 bin is increased from </a:t>
            </a:r>
            <a:r>
              <a:rPr b="0" i="1" lang="zh-CN" sz="18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 to </a:t>
            </a:r>
            <a:r>
              <a:rPr b="0" i="1" lang="zh-CN" sz="1800" spc="-1" strike="noStrike">
                <a:solidFill>
                  <a:srgbClr val="006699"/>
                </a:solidFill>
                <a:latin typeface="Verdana"/>
              </a:rPr>
              <a:t>k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-22572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SzPct val="150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18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zh-CN" sz="1800" spc="-1" strike="noStrike">
                <a:solidFill>
                  <a:srgbClr val="006699"/>
                </a:solidFill>
                <a:latin typeface="Verdana"/>
              </a:rPr>
              <a:t>(C)= </a:t>
            </a:r>
            <a:r>
              <a:rPr b="0" i="1" lang="zh-CN" sz="1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18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zh-CN" sz="1800" spc="-1" strike="noStrike" baseline="-25000">
                <a:solidFill>
                  <a:srgbClr val="006699"/>
                </a:solidFill>
                <a:latin typeface="Verdana"/>
              </a:rPr>
              <a:t>stat</a:t>
            </a:r>
            <a:r>
              <a:rPr b="0" i="1" lang="zh-CN" sz="1800" spc="-1" strike="noStrike">
                <a:solidFill>
                  <a:srgbClr val="006699"/>
                </a:solidFill>
                <a:latin typeface="Verdana"/>
              </a:rPr>
              <a:t>+</a:t>
            </a:r>
            <a:r>
              <a:rPr b="0" i="1" lang="zh-CN" sz="1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18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zh-CN" sz="1800" spc="-1" strike="noStrike" baseline="-25000">
                <a:solidFill>
                  <a:srgbClr val="006699"/>
                </a:solidFill>
                <a:latin typeface="Verdana"/>
              </a:rPr>
              <a:t>dyn</a:t>
            </a:r>
            <a:r>
              <a:rPr b="0" i="1" lang="zh-CN" sz="1800" spc="-1" strike="noStrike">
                <a:solidFill>
                  <a:srgbClr val="006699"/>
                </a:solidFill>
                <a:latin typeface="Verdana"/>
              </a:rPr>
              <a:t> = k 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is a measure of cluster multiplicity if all the associated particles in cluster are included in this </a:t>
            </a:r>
            <a:r>
              <a:rPr b="0" lang="zh-CN" sz="18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 bin. </a:t>
            </a:r>
            <a:r>
              <a:rPr b="0" i="1" lang="zh-CN" sz="1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18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zh-CN" sz="1800" spc="-1" strike="noStrike">
                <a:solidFill>
                  <a:srgbClr val="006699"/>
                </a:solidFill>
                <a:latin typeface="Verdana"/>
              </a:rPr>
              <a:t>(C)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 may be regarded as “effective” cluster multiplicity if some of the associated particles in cluster are included in different bins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86800" indent="-22572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SzPct val="15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Short range correlations </a:t>
            </a:r>
            <a:r>
              <a:rPr b="0" lang="zh-CN" sz="1800" spc="-1" strike="noStrike">
                <a:solidFill>
                  <a:srgbClr val="006699"/>
                </a:solidFill>
                <a:latin typeface="Wingdings"/>
                <a:ea typeface="Wingdings"/>
              </a:rPr>
              <a:t>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zh-CN" sz="1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zh-CN" sz="18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zh-CN" sz="1800" spc="-1" strike="noStrike" baseline="-25000">
                <a:solidFill>
                  <a:srgbClr val="006699"/>
                </a:solidFill>
                <a:latin typeface="Verdana"/>
              </a:rPr>
              <a:t>dyn</a:t>
            </a:r>
            <a:r>
              <a:rPr b="0" i="1" lang="zh-CN" sz="1800" spc="-1" strike="noStrike">
                <a:solidFill>
                  <a:srgbClr val="006699"/>
                </a:solidFill>
                <a:latin typeface="Verdana"/>
              </a:rPr>
              <a:t>&gt;0 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and </a:t>
            </a:r>
            <a:r>
              <a:rPr b="0" lang="zh-CN" sz="18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(C)&gt;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295280" y="2590920"/>
                <a:ext cx="44974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k</m:t>
                        </m:r>
                      </m:e>
                    </m:rad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019920" y="2743200"/>
                <a:ext cx="1674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k</m:t>
                        </m:r>
                      </m:e>
                    </m:rad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1676520" y="4495680"/>
            <a:ext cx="4325760" cy="1425960"/>
            <a:chOff x="1676520" y="4495680"/>
            <a:chExt cx="4325760" cy="1425960"/>
          </a:xfrm>
        </p:grpSpPr>
        <p:sp>
          <p:nvSpPr>
            <p:cNvPr id="267" name=""/>
            <p:cNvSpPr/>
            <p:nvPr/>
          </p:nvSpPr>
          <p:spPr>
            <a:xfrm>
              <a:off x="3929760" y="53737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1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24960" y="53737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2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18360" y="53737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3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9240" y="53737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4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09120" y="53737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5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04440" y="537372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1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97720" y="537372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2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16920" y="537372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3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21720" y="537372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4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24720" y="537372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-5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76040" y="534024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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5330520"/>
              <a:ext cx="42512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1420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0940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0352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9800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9320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8768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972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2560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3004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4144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35920" y="5330520"/>
              <a:ext cx="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41040" y="53672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0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28400" y="4495680"/>
              <a:ext cx="3162960" cy="835560"/>
            </a:xfrm>
            <a:custGeom>
              <a:avLst/>
              <a:gdLst/>
              <a:ahLst/>
              <a:rect l="l" t="t" r="r" b="b"/>
              <a:pathLst>
                <a:path w="3607" h="1870">
                  <a:moveTo>
                    <a:pt x="0" y="1864"/>
                  </a:moveTo>
                  <a:cubicBezTo>
                    <a:pt x="76" y="1820"/>
                    <a:pt x="269" y="1869"/>
                    <a:pt x="458" y="1599"/>
                  </a:cubicBezTo>
                  <a:cubicBezTo>
                    <a:pt x="647" y="1329"/>
                    <a:pt x="911" y="486"/>
                    <a:pt x="1136" y="243"/>
                  </a:cubicBezTo>
                  <a:cubicBezTo>
                    <a:pt x="1361" y="0"/>
                    <a:pt x="1585" y="141"/>
                    <a:pt x="1809" y="141"/>
                  </a:cubicBezTo>
                  <a:cubicBezTo>
                    <a:pt x="2033" y="141"/>
                    <a:pt x="2259" y="0"/>
                    <a:pt x="2482" y="243"/>
                  </a:cubicBezTo>
                  <a:cubicBezTo>
                    <a:pt x="2705" y="486"/>
                    <a:pt x="2962" y="1328"/>
                    <a:pt x="3149" y="1599"/>
                  </a:cubicBezTo>
                  <a:cubicBezTo>
                    <a:pt x="3336" y="1870"/>
                    <a:pt x="3512" y="1812"/>
                    <a:pt x="3607" y="1868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114800" y="50292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4952880"/>
            <a:ext cx="228600" cy="228600"/>
          </a:xfrm>
          <a:prstGeom prst="smileyFace">
            <a:avLst>
              <a:gd name="adj" fmla="val 9282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95680" y="4952880"/>
            <a:ext cx="228600" cy="228600"/>
          </a:xfrm>
          <a:prstGeom prst="smileyFace">
            <a:avLst>
              <a:gd name="adj" fmla="val 9282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0C3-C890-4F32-8184-253847BF2F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629400" cy="43056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676160" y="380880"/>
            <a:ext cx="59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 Distribution from HIJING Primaries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43000" y="1219320"/>
            <a:ext cx="4800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05720" y="304812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05720" y="2971800"/>
            <a:ext cx="990360" cy="228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30840" y="5257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08960" y="213372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.5&lt;|</a:t>
            </a:r>
            <a:r>
              <a:rPr b="0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|&lt;2.0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66480" y="358128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(C) = 1.08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41120" y="1295280"/>
            <a:ext cx="2544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C) =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Arial"/>
              </a:rPr>
              <a:t>stat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dyn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hengwei Cha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BB5-CE97-448F-88DB-BB9F3BF4BC0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-21-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05:13:34Z</dcterms:created>
  <dc:creator>USER</dc:creator>
  <dc:description/>
  <dc:language>en-US</dc:language>
  <cp:lastModifiedBy>CZW</cp:lastModifiedBy>
  <dcterms:modified xsi:type="dcterms:W3CDTF">2005-06-20T19:55:28Z</dcterms:modified>
  <cp:revision>197</cp:revision>
  <dc:subject/>
  <dc:title>Multiplicity Fluctuations in 200 GeV Au-Au Collisions</dc:title>
</cp:coreProperties>
</file>