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03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03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303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03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303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303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61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03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303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03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61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61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61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61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061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61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061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61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061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61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61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61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63240" y="6281640"/>
            <a:ext cx="514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hallenges in Urban Meteorology:  A Forum for Users and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079480" y="627840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OF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58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LLENGES IN URBAN METEOROLOG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orum for Users and Providers </a:t>
            </a:r>
            <a:endParaRPr b="1" lang="en-US" sz="40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5105520"/>
            <a:ext cx="7997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21-23 , 200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tree Hotel and Executive Meeting Cen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kville, Maryland (USA) </a:t>
            </a:r>
            <a:endParaRPr b="0" lang="en-US" sz="2400" spc="-1" strike="noStrike">
              <a:solidFill>
                <a:srgbClr val="f061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46120" y="1371600"/>
            <a:ext cx="7951680" cy="47800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rban Meteorological Impac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ir Quality</a:t>
            </a:r>
            <a:endParaRPr b="1" lang="en-US" sz="40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5600880" y="3014640"/>
            <a:ext cx="75960" cy="76320"/>
          </a:xfrm>
          <a:prstGeom prst="ellipse">
            <a:avLst/>
          </a:prstGeom>
          <a:solidFill>
            <a:srgbClr val="f06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600200"/>
            <a:ext cx="4343400" cy="10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isk” populations in some of the top 25 polluted cities in the U.S.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143000" y="2300400"/>
            <a:ext cx="45720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00400" y="2314440"/>
            <a:ext cx="1585800" cy="2486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97560" y="2298600"/>
            <a:ext cx="971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914040" y="2286000"/>
            <a:ext cx="685800" cy="13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2057400"/>
            <a:ext cx="2814480" cy="90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40640" y="2928960"/>
            <a:ext cx="76320" cy="76320"/>
          </a:xfrm>
          <a:prstGeom prst="ellipse">
            <a:avLst/>
          </a:prstGeom>
          <a:solidFill>
            <a:srgbClr val="f06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826160"/>
            <a:ext cx="76320" cy="75960"/>
          </a:xfrm>
          <a:prstGeom prst="ellipse">
            <a:avLst/>
          </a:prstGeom>
          <a:solidFill>
            <a:srgbClr val="f06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12880" y="3683160"/>
            <a:ext cx="75960" cy="75960"/>
          </a:xfrm>
          <a:prstGeom prst="ellipse">
            <a:avLst/>
          </a:prstGeom>
          <a:solidFill>
            <a:srgbClr val="f06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57320" y="4152960"/>
            <a:ext cx="76320" cy="76320"/>
          </a:xfrm>
          <a:prstGeom prst="ellipse">
            <a:avLst/>
          </a:prstGeom>
          <a:solidFill>
            <a:srgbClr val="f06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79360" y="41720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: over 17,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83760" y="472284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llas/Ft Worth: over 5,6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0560" y="3429000"/>
            <a:ext cx="25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sno: over 9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80720" y="296064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YC: over 21,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79200" y="307656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cago: over 9,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5760" y="5522760"/>
            <a:ext cx="377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merican Lung Association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tate of the Air 2004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tp://lungusa.kintera.org/sota04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46120" y="1371600"/>
            <a:ext cx="7951680" cy="47800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rban Meteorological Impac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mate</a:t>
            </a:r>
            <a:endParaRPr b="1" lang="en-US" sz="40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600200"/>
            <a:ext cx="4343400" cy="10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:  Southern California wildfires 743,000 ac burned, 3700 homes destroyed, 22 killed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743200"/>
            <a:ext cx="434340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:  Widespread over 30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 B in damages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3657600"/>
            <a:ext cx="4800600" cy="10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:  Western wildf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,000,000 ac burned, $2.1B in damages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4622760"/>
            <a:ext cx="480060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:  Heat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 149 deaths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75920" y="2743200"/>
            <a:ext cx="5950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DROUGH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9443600">
            <a:off x="1982520" y="2971440"/>
            <a:ext cx="486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EL NIN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erence “Thoughts”</a:t>
            </a:r>
            <a:endParaRPr b="1" lang="en-US" sz="44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hould we expect to accomplish at this forum?</a:t>
            </a:r>
            <a:endParaRPr b="0" lang="en-US" sz="2800" spc="-1" strike="noStrike">
              <a:solidFill>
                <a:srgbClr val="f061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better ways to integrate, apply, and deliver weather and climate science and technology to urban decision makers and reduce high impact weather and climate risk</a:t>
            </a:r>
            <a:endParaRPr b="0" lang="en-US" sz="2400" spc="-1" strike="noStrike">
              <a:solidFill>
                <a:srgbClr val="f061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attention on the relationship of natural hazards to urban ecosystems and their management and facilitate the transfer of emerging science and technology </a:t>
            </a:r>
            <a:endParaRPr b="0" lang="en-US" sz="2400" spc="-1" strike="noStrike">
              <a:solidFill>
                <a:srgbClr val="f061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e close collaboration and integration of multidisciplinary research to address weather and climate impacts on urban communities and improve forecasting for coastal and complex terrain areas</a:t>
            </a:r>
            <a:endParaRPr b="0" lang="en-US" sz="2400" spc="-1" strike="noStrike">
              <a:solidFill>
                <a:srgbClr val="f061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se the level of concern on priorities needed for funding research and application of science and technology on urban weather and climate problems/issues</a:t>
            </a:r>
            <a:endParaRPr b="0" lang="en-US" sz="2400" spc="-1" strike="noStrike">
              <a:solidFill>
                <a:srgbClr val="f061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LCOME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ENING  REMARKS</a:t>
            </a:r>
            <a:endParaRPr b="1" lang="en-US" sz="40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43000" y="2514600"/>
            <a:ext cx="685800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. Samuel P. Williamson</a:t>
            </a:r>
            <a:endParaRPr b="0" lang="en-US" sz="2800" spc="-1" strike="noStrike">
              <a:solidFill>
                <a:srgbClr val="f061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 Coordinator for Meteorological Services and Supporting Resear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061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lcome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ening Remarks</a:t>
            </a:r>
            <a:endParaRPr b="1" lang="en-US" sz="40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61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llenges in Urban Meteorology:  </a:t>
            </a:r>
            <a:endParaRPr b="0" lang="en-US" sz="2800" spc="-1" strike="noStrike">
              <a:solidFill>
                <a:srgbClr val="f061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rum for Users and Providers</a:t>
            </a:r>
            <a:endParaRPr b="0" lang="en-US" sz="2800" spc="-1" strike="noStrike">
              <a:solidFill>
                <a:srgbClr val="f061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61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ners: </a:t>
            </a:r>
            <a:endParaRPr b="0" lang="en-US" sz="2800" spc="-1" strike="noStrike">
              <a:solidFill>
                <a:srgbClr val="f061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artment of Homeland Security Science and Technology Directorate </a:t>
            </a:r>
            <a:endParaRPr b="0" lang="en-US" sz="2800" spc="-1" strike="noStrike">
              <a:solidFill>
                <a:srgbClr val="f061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of the Federal Coordinator for Meteorological Services and Supporting Research (OFCM) </a:t>
            </a:r>
            <a:endParaRPr b="0" lang="en-US" sz="2800" spc="-1" strike="noStrike">
              <a:solidFill>
                <a:srgbClr val="f061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lcome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ministrative Remarks</a:t>
            </a:r>
            <a:endParaRPr b="1" lang="en-US" sz="40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anks to everyone who has worked so hard to ensure the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Challenges in the Urban Meteorology: A Forum for Users and Providers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ference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ll be a success  </a:t>
            </a:r>
            <a:endParaRPr b="0" lang="en-US" sz="2100" spc="-1" strike="noStrike">
              <a:solidFill>
                <a:srgbClr val="f061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061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pecial thanks to our forum partner, the Department of Homeland Security Science and Technology Directorate</a:t>
            </a:r>
            <a:endParaRPr b="0" lang="en-US" sz="2100" spc="-1" strike="noStrike">
              <a:solidFill>
                <a:srgbClr val="f061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anks to the distinguished key speakers, moderators, panelists, workshop chairpersons </a:t>
            </a:r>
            <a:endParaRPr b="0" lang="en-US" sz="2100" spc="-1" strike="noStrike">
              <a:solidFill>
                <a:srgbClr val="f061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anks to the members of my staff at the Office of the Federal Coordinator for Meteorology </a:t>
            </a:r>
            <a:endParaRPr b="0" lang="en-US" sz="2100" spc="-1" strike="noStrike">
              <a:solidFill>
                <a:srgbClr val="f061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special “Thank You” to you, the participants of the conference, who will play an important role in making this forum a success</a:t>
            </a:r>
            <a:endParaRPr b="0" lang="en-US" sz="2100" spc="-1" strike="noStrike">
              <a:solidFill>
                <a:srgbClr val="f061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lcome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ministrative Remarks</a:t>
            </a:r>
            <a:endParaRPr b="1" lang="en-US" sz="40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s Erin McNamara--Conference Coordinator for Logistics</a:t>
            </a:r>
            <a:endParaRPr b="0" lang="en-US" sz="2500" spc="-1" strike="noStrike">
              <a:solidFill>
                <a:srgbClr val="f061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s Margaret McCalla--Conference Coordinator for Agenda </a:t>
            </a:r>
            <a:endParaRPr b="0" lang="en-US" sz="2500" spc="-1" strike="noStrike">
              <a:solidFill>
                <a:srgbClr val="f061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s Diana McQuestion--Registration Assistance</a:t>
            </a:r>
            <a:endParaRPr b="0" lang="en-US" sz="2500" spc="-1" strike="noStrike">
              <a:solidFill>
                <a:srgbClr val="f061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r Kent P. LaBorde (NOAA Public Affairs)--Arranging  Media Events</a:t>
            </a:r>
            <a:endParaRPr b="0" lang="en-US" sz="2500" spc="-1" strike="noStrike">
              <a:solidFill>
                <a:srgbClr val="f061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t Col Rob Rizza--Protocol and media co-coordinato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f061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r Ken Barnett/Ellis Godfrey--Audio/Visual Assistance (Note:  If you have not already done so, please turn in any slides you plan to present to Ken as soon as possible.)</a:t>
            </a:r>
            <a:endParaRPr b="0" lang="en-US" sz="2500" spc="-1" strike="noStrike">
              <a:solidFill>
                <a:srgbClr val="f061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061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um Theme</a:t>
            </a:r>
            <a:endParaRPr b="1" lang="en-US" sz="44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formation to Improve Community Responses to Urban Atmospheric Hazards, Weather Events, and Climate</a:t>
            </a:r>
            <a:br>
              <a:rPr sz="2400"/>
            </a:br>
            <a:endParaRPr b="0" lang="en-US" sz="24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162000" y="4197240"/>
            <a:ext cx="2155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e Wea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lan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te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8286200">
            <a:off x="2202120" y="2471400"/>
            <a:ext cx="291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onal Eco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ning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286200">
            <a:off x="2954160" y="2779920"/>
            <a:ext cx="27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arch and Tech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8286200">
            <a:off x="3813480" y="3270240"/>
            <a:ext cx="16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ing S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8286200">
            <a:off x="4220280" y="278280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, Outreach,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8286200">
            <a:off x="4879800" y="3125880"/>
            <a:ext cx="20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8286200">
            <a:off x="5302800" y="2847960"/>
            <a:ext cx="27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Health and Saf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8286200">
            <a:off x="5736600" y="2687040"/>
            <a:ext cx="31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 Dissemination and 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8286200">
            <a:off x="6449040" y="294228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face Transpor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8286200">
            <a:off x="6988680" y="291636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 Cont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4552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487044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518796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673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27200" y="4222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51240" y="42228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137040" y="1936800"/>
            <a:ext cx="16002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759120" y="1936800"/>
            <a:ext cx="16002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368960" y="1936800"/>
            <a:ext cx="16002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965840" y="1936800"/>
            <a:ext cx="16002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549760" y="1936800"/>
            <a:ext cx="16002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121440" y="1936800"/>
            <a:ext cx="16002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654960" y="1936800"/>
            <a:ext cx="16002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201080" y="1936800"/>
            <a:ext cx="16002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4222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46520" y="4222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56000" y="4222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4222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49760" y="4222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08840" y="4222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67560" y="4222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13680" y="4222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72400" y="4222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7772400" y="2597040"/>
            <a:ext cx="1155600" cy="162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8280" y="58294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erence “Thoughts”</a:t>
            </a:r>
            <a:endParaRPr b="1" lang="en-US" sz="44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an Urban Meteorology conference now?</a:t>
            </a:r>
            <a:endParaRPr b="0" lang="en-US" sz="3000" spc="-1" strike="noStrike">
              <a:solidFill>
                <a:srgbClr val="f061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ting demands/competition for urban resources.</a:t>
            </a:r>
            <a:endParaRPr b="0" lang="en-US" sz="2400" spc="-1" strike="noStrike">
              <a:solidFill>
                <a:srgbClr val="f061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ments in science and technology can substantially improve the accuracy and utility of weather and climate information in urban decision processes.</a:t>
            </a:r>
            <a:endParaRPr b="0" lang="en-US" sz="2400" spc="-1" strike="noStrike">
              <a:solidFill>
                <a:srgbClr val="f061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stage for better integration of multidisciplinary research to address urban weather and climate issues/concerns. </a:t>
            </a:r>
            <a:endParaRPr b="0" lang="en-US" sz="2400" spc="-1" strike="noStrike">
              <a:solidFill>
                <a:srgbClr val="f061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7951680" cy="4780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rban Meteorological Impac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re Weather</a:t>
            </a:r>
            <a:endParaRPr b="1" lang="en-US" sz="4000" spc="-1" strike="noStrike">
              <a:solidFill>
                <a:srgbClr val="f061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2349360" cy="1762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571920" y="2971800"/>
            <a:ext cx="2538360" cy="1951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454880" y="3352680"/>
            <a:ext cx="76320" cy="76320"/>
          </a:xfrm>
          <a:prstGeom prst="ellipse">
            <a:avLst/>
          </a:prstGeom>
          <a:solidFill>
            <a:srgbClr val="f06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99480" y="1965240"/>
            <a:ext cx="554976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rricane Isabel 2003:                 47 lives l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-Atlantic Coast impacts:       $ 4.0B dam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32440" y="2664000"/>
            <a:ext cx="59724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6692760" y="3871800"/>
            <a:ext cx="1551240" cy="2133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V="1">
            <a:off x="4800600" y="4114440"/>
            <a:ext cx="11430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828800" y="274320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7040" y="1600200"/>
            <a:ext cx="488988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il Damage June 04:   $ 146M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ver: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2300400"/>
            <a:ext cx="128520" cy="11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14880" y="3443400"/>
            <a:ext cx="75960" cy="75960"/>
          </a:xfrm>
          <a:prstGeom prst="ellipse">
            <a:avLst/>
          </a:prstGeom>
          <a:solidFill>
            <a:srgbClr val="f06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4800600" y="2743200"/>
            <a:ext cx="3048120" cy="2066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-2160" y="2971800"/>
            <a:ext cx="566712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rnados/Severe Storms Mar 00:     5 de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llas/Ft Worth:                          $ 500M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672000"/>
            <a:ext cx="45720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6840" y="5257800"/>
            <a:ext cx="548280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rnados/Severe Storms May 03:     41 de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N/OH Valleys:                          $ 3.1B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86360" y="5038560"/>
            <a:ext cx="75960" cy="76320"/>
          </a:xfrm>
          <a:prstGeom prst="ellipse">
            <a:avLst/>
          </a:prstGeom>
          <a:solidFill>
            <a:srgbClr val="f06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5029200" y="3730680"/>
            <a:ext cx="365760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96880" y="1371600"/>
            <a:ext cx="7951680" cy="4780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rban Meteorological Impac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meland Security</a:t>
            </a:r>
            <a:endParaRPr b="1" lang="en-US" sz="4000" spc="-1" strike="noStrike">
              <a:solidFill>
                <a:srgbClr val="f061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2971800"/>
            <a:ext cx="76320" cy="76320"/>
          </a:xfrm>
          <a:prstGeom prst="ellipse">
            <a:avLst/>
          </a:prstGeom>
          <a:solidFill>
            <a:srgbClr val="f06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2286000"/>
            <a:ext cx="9144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2286000"/>
            <a:ext cx="1109520" cy="1109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70640" y="3422520"/>
            <a:ext cx="76320" cy="76320"/>
          </a:xfrm>
          <a:prstGeom prst="ellipse">
            <a:avLst/>
          </a:prstGeom>
          <a:solidFill>
            <a:srgbClr val="f06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41560" y="1600200"/>
            <a:ext cx="4816440" cy="131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 of 9-11-01:                2000 death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York/Pentagon:      $ 200 B damage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906800" y="3513240"/>
            <a:ext cx="3743640" cy="2454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828800" y="251460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229440" y="2871720"/>
            <a:ext cx="75960" cy="76320"/>
          </a:xfrm>
          <a:prstGeom prst="ellipse">
            <a:avLst/>
          </a:prstGeom>
          <a:solidFill>
            <a:srgbClr val="f06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4317840"/>
            <a:ext cx="525780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 Derailment May 02:     2200 evacuated Lansing, Michigan: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800680" y="2943360"/>
            <a:ext cx="45720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657440" y="1484280"/>
            <a:ext cx="3886200" cy="27590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5800" y="4572000"/>
            <a:ext cx="6172200" cy="131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Mile Island Mar 79 - Harrisburg, Pennsylvania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0,000 evacuate.  Aftermath: 5-mile evacuation plan deemed inadequate, 20-mile plan drawn up, calls for evacuation of 65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858000" y="3200400"/>
            <a:ext cx="45720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96120" y="3086280"/>
            <a:ext cx="76320" cy="75960"/>
          </a:xfrm>
          <a:prstGeom prst="ellipse">
            <a:avLst/>
          </a:prstGeom>
          <a:solidFill>
            <a:srgbClr val="f06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2514600" y="1459080"/>
            <a:ext cx="3886200" cy="3044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257800" y="5168880"/>
            <a:ext cx="76320" cy="76320"/>
          </a:xfrm>
          <a:prstGeom prst="ellipse">
            <a:avLst/>
          </a:prstGeom>
          <a:solidFill>
            <a:srgbClr val="f06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4214880"/>
            <a:ext cx="6858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" y="3514680"/>
            <a:ext cx="502920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 Derailment May 00:  3500 evac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nice,  Louisiana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5257800" y="16002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9:05:11Z</dcterms:created>
  <dc:creator>OFCM</dc:creator>
  <dc:description/>
  <dc:language>en-US</dc:language>
  <cp:lastModifiedBy>OFCM</cp:lastModifiedBy>
  <dcterms:modified xsi:type="dcterms:W3CDTF">2004-09-27T16:54:17Z</dcterms:modified>
  <cp:revision>162</cp:revision>
  <dc:subject/>
  <dc:title>Slide 1</dc:title>
</cp:coreProperties>
</file>