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C2142-5752-4B4D-B54F-79152C43C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65E43-0EEF-4FC2-B447-825773B21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2EDE3-F525-4866-BE19-1B53D827B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6A1A5-BCBA-4272-9487-F7580666F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25F884-47F7-4967-90C1-1353BC97A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15472-5D80-4E9E-A0CC-53163EB0D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63F10-963E-4B47-95A4-CE3D5DDFC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61DE2-57D8-47FB-A925-20107D1B7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2CA99-A034-424E-A1F8-378763E7D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AF519-B4C1-47E3-982C-CC93D2365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74BC6-307D-4317-86B8-4A1BC5FA7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83644-94F6-42C7-A166-06847427B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0D008-83BA-4023-9E34-E277D5715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7E489-5412-4B80-A7EA-05DE173DA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9107E-98BE-47CA-BCF0-2304FA4E5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E2C5A9-EA5D-478A-9848-49E95362F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EC6FED-3FF5-4578-B069-A4AEC0642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EF960-EFFB-4CBF-9760-99B2A9615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94868-5668-403E-89BF-2FE570151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EEC13-F042-4E66-90C4-1E48107AC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EDFFF-8490-4558-BA9E-F0102163B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3122E-56C1-402E-AB47-6F3A90B8E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3C32F-554D-4B64-9BEA-713E55BE9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8A945-A33B-49E5-A2D0-DE4F194E1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BA48-FA03-47B8-AA00-65DB6C787F3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7F75-3DBA-4296-972E-81AEFE93C0F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MNM Fatal 2005-24</a:t>
            </a:r>
            <a:endParaRPr b="0" lang="en-US" sz="4400" spc="-1" strike="noStrike">
              <a:solidFill>
                <a:srgbClr val="e5ffff"/>
              </a:solidFill>
              <a:latin typeface="Tahoma"/>
            </a:endParaRPr>
          </a:p>
        </p:txBody>
      </p:sp>
      <p:sp>
        <p:nvSpPr>
          <p:cNvPr id="8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wered Haulag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13, 2005 (Pennsylvani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ushed Stone Oper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uck Drive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4 years ol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5 years mining experie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Overview</a:t>
            </a:r>
            <a:endParaRPr b="0" lang="en-US" sz="4400" spc="-1" strike="noStrike">
              <a:solidFill>
                <a:srgbClr val="e5ffff"/>
              </a:solidFill>
              <a:latin typeface="Tahoma"/>
            </a:endParaRPr>
          </a:p>
        </p:txBody>
      </p:sp>
      <p:sp>
        <p:nvSpPr>
          <p:cNvPr id="8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victim was fatally injured when the 50-ton haul truck he was operating overturned.  He was preparing to dump a load of rock over the edge of the 21-foot high truck dump site when a portion of the dump site failed.  The collapse caused the truck to overturn and land on its roo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Photo of Accident Scene"/>
          <p:cNvPicPr/>
          <p:nvPr/>
        </p:nvPicPr>
        <p:blipFill>
          <a:blip r:embed="rId2"/>
          <a:stretch/>
        </p:blipFill>
        <p:spPr>
          <a:xfrm>
            <a:off x="914400" y="685800"/>
            <a:ext cx="687384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Causal Factors</a:t>
            </a: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licies, standards, and controls were inadequate and failed to ensure that berms or similar impeding devices were maintained at the dump site.</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cedures were not in place to ensure that the dump site was inspected for hazards before a haul truck dumped the first load.  Material had been loaded from the stockpile directly below the dump locations which steepened the slope angle and reduced the stability.</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cedures were not in place to ensure that the provided seat belts were worn when persons operated mobile equipmen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Best Practices</a:t>
            </a:r>
            <a:endParaRPr b="0" lang="en-US" sz="44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6000"/>
          </a:bodyPr>
          <a:p>
            <a:pPr marL="294840" indent="-2948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op, Look, Analyze, and Manage ( SLAM ) each task to identify all possible hazards. Initiate action so the task can be safely performed. </a:t>
            </a:r>
            <a:endParaRPr b="0" lang="en-US" sz="2400" spc="-1" strike="noStrike">
              <a:solidFill>
                <a:srgbClr val="ffffff"/>
              </a:solidFill>
              <a:latin typeface="Tahoma"/>
            </a:endParaRPr>
          </a:p>
          <a:p>
            <a:pPr marL="294840" indent="-2948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ways inspect dumping locations prior to dumping the first load. Where material has been loaded out of the stockpile or where ground conditions may fail to support the weight of the mobile equipment, loads should be dumped a safe distance back from the edge. </a:t>
            </a:r>
            <a:endParaRPr b="0" lang="en-US" sz="2400" spc="-1" strike="noStrike">
              <a:solidFill>
                <a:srgbClr val="ffffff"/>
              </a:solidFill>
              <a:latin typeface="Tahoma"/>
            </a:endParaRPr>
          </a:p>
          <a:p>
            <a:pPr marL="294840" indent="-2948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tain berms or similar impeding devices at dumping locations where there is a hazard of overtravel. </a:t>
            </a:r>
            <a:endParaRPr b="0" lang="en-US" sz="2400" spc="-1" strike="noStrike">
              <a:solidFill>
                <a:srgbClr val="ffffff"/>
              </a:solidFill>
              <a:latin typeface="Tahoma"/>
            </a:endParaRPr>
          </a:p>
          <a:p>
            <a:pPr marL="294840" indent="-2948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ten your seat belt every time you operate a truck or self-propelled mobile equipment. </a:t>
            </a:r>
            <a:endParaRPr b="0" lang="en-US" sz="2400" spc="-1" strike="noStrike">
              <a:solidFill>
                <a:srgbClr val="ffffff"/>
              </a:solidFill>
              <a:latin typeface="Tahoma"/>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18:12:34Z</dcterms:created>
  <dc:creator>hancher-michael</dc:creator>
  <dc:description/>
  <dc:language>en-US</dc:language>
  <cp:lastModifiedBy>west-william</cp:lastModifiedBy>
  <dcterms:modified xsi:type="dcterms:W3CDTF">2005-11-10T18:31:55Z</dcterms:modified>
  <cp:revision>12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0382949</vt:r8>
  </property>
  <property fmtid="{D5CDD505-2E9C-101B-9397-08002B2CF9AE}" pid="3" name="_AuthorEmail">
    <vt:lpwstr>Hancher.Michael@DOL.GOV</vt:lpwstr>
  </property>
  <property fmtid="{D5CDD505-2E9C-101B-9397-08002B2CF9AE}" pid="4" name="_AuthorEmailDisplayName">
    <vt:lpwstr>Hancher, Michael - MSHA</vt:lpwstr>
  </property>
  <property fmtid="{D5CDD505-2E9C-101B-9397-08002B2CF9AE}" pid="5" name="_EmailSubject">
    <vt:lpwstr>MNM PPT's</vt:lpwstr>
  </property>
  <property fmtid="{D5CDD505-2E9C-101B-9397-08002B2CF9AE}" pid="6" name="_ReviewingToolsShownOnce">
    <vt:lpwstr/>
  </property>
</Properties>
</file>