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96E-8669-469F-ACDA-5882F7B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A2B-0C01-47DB-9FE8-294FB56C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63D-D0CB-491C-8D76-0E11C2A8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41A-C0F8-497E-9A64-65331223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CAC-15A6-4267-A969-8C1E8BC8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456-E31F-4414-A923-57BECDF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698-EAF2-46B4-99DF-B8D147D5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739-6794-4A14-A90A-3760518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DC5-F280-43D9-AD6D-8C9136E0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D9D-5F62-4452-8D3D-9F13664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4AC-526A-4ED3-A775-607D658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216-A794-45C2-A6EC-320FE84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41112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6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buClr>
                <a:srgbClr val="60000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6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324480" y="6477120"/>
            <a:ext cx="198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560" y="647712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771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264-05A4-459A-ABB4-924A6477D787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477120"/>
            <a:ext cx="8610480" cy="0"/>
          </a:xfrm>
          <a:prstGeom prst="line">
            <a:avLst/>
          </a:prstGeom>
          <a:ln w="1260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6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05920" y="152280"/>
            <a:ext cx="609480" cy="838440"/>
          </a:xfrm>
          <a:prstGeom prst="rect">
            <a:avLst/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a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411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00"/>
              </a:spcBef>
              <a:buClr>
                <a:srgbClr val="600000"/>
              </a:buClr>
              <a:buSzPct val="6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400"/>
              </a:spcBef>
              <a:buClr>
                <a:srgbClr val="6000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tlas Grid Status Part 1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verview, GriPhyN, Grappa, Monitoring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Jennifer Schopf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N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Fermi National Accelerator Laboratory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Nov 29, 2001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incipal ATLAS GriPhyN/iVDGL deliverable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1: Testbed with GriPhyN VDT 1.0, packaged with PacM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2: Serving DC1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003: Dataset re-creation/Data signa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dditional effort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nitoring: Dantong Yu, BNL, and J. Schopf,ANL,  joint with PPD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PPA: Rob Gardner and Randy Bramley, IU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9F2-CDAE-48E8-B4E9-169470BBE3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Testbed Issu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GriPhyN is defining VDT 1.0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W install for GriPhyN/PPDG, compatible with EDG as wel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Globus 2.0 beta when it’s released (10/30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GSI, GridFTP, MDS, repl, cat stuff, etc (Gram 1.5)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GDMP 2.0 (supports flat fil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ondor 6.3.1 (also Condor-G, Dagman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xtra tools for ATLA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bjectivity 6.1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agda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Still need to resolve CA issue between EDG and US test sites - being worked on within PPDG/ESNet/ED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F61-F103-41AD-9C2E-85A1352FDF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ATLAS Goal 1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rving DC1 Data (July-Dec 2002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imited reconstruction analysis job using grid job submission interfac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Serving the data results form DC1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s part of DC1, data must be tagged with meta data for ease of acc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al keywords would be suffici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gda already implements portions of thi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Job submission with minimal smar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tend GRAPPA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ove compute resources to data si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2BF-A0A6-4CD3-BC5C-BC3C7B6233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PhyN ATLAS Goal 2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aset Re-creation (Jan-Sept 2003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Goal: be able to re-create a data fi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evaluate what parameters need to be kept track of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evaluate data needed for full data signatur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ed to develop a metric for evaluating success - what is good enough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7A5-D738-4E3C-B925-98FE8C52DD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PPA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Grid Access Portal for Physics Applic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vide a point of access to ATLAS grid resourc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U (Physics, CS), Northwestern (ECE), ANL (CS), BU (Physics),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vide a simple interface for physicists to submit and monitor jobs on the Grid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eb-based as well as script-bas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ility to “replay”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patible with both ATLSim and Athena architectur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daptable and/or “extensible” to new developments in Grid software, Athena, etc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91C-7B9B-4CBD-9D3B-50912C808B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APPA Componen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b submiss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okkeep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ource selec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A73-8A86-49D1-8692-11DD082373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mple prototype that allows users to submit an Athena job from a web interface to the Condor pool on the Atlas IU cluster (via Globus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ding more Athena functionality to the interface (e.g., user's defined libraries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periment with other job launch mechanis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ndor-G and DAGMAN description language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Web Services Flow Language as a more general workflow description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800000"/>
              </a:buClr>
              <a:buSzPct val="75000"/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xplore interfaces for multiple metadata and replica catalog systems.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tp://lexus.physics.indiana.edu/~griphyn/grappa/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1E7-A0EE-426F-9231-8F69320F99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-Enabled Data Access in Athen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avid Malon, AN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Integrate Grid Data Access techniques (Globus replica catalog and/or GDMP) into the Athena event selection modu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When a file is needed, a check is done to see if the file is loca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f not, use Grid Data Access tools to make it loca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3FD-7A61-4FB9-958C-074A668D36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-Enabled Data Access in Athen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hena and Globu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arch Globus replica catalog and selec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nsfer file using the protocol associated with the location object in the catalog (gsiftp, https/globus-url-copy from a remote gass_server, ...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hena and GDM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to date uses GDMP 1.2.2, which had not yet incorporated the Globus replica catalo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s the GDMP import/export catalog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pports certain subscription-based approach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tomatically updates Objectivity/DB internal catalog when Objectivity database files are transferr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716-7D7B-4B03-B16F-9815EC7168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per presented at CHE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rototype up and running on ANL system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DMP-based prototype work done between CERN and Mi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xt Steps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DMP will use Globus data replica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GDMP to copy fil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ments and design work for interfaces between Athena data producers and metadata catalogs and replica management services (e.g., Magda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tadata work – extending the Athena Event Selector properties to allow for data signature/virtual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D8B-D5FF-4C7C-9B83-89F7340055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bined go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sential to have a coordinated plan between these efforts and the ATLAS data challenge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iPhyN: NSF funded, 4 physics exps., strong CS research compon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PDG: DOE funded, 5-7 physics exps., deployment orient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VDGL: NSF funded, GriPhyN part 2, testbed focus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G: EU funded, cross-Europe testbed and deploy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HC grid comput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d more….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ral overlapping objectives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stbed deployment, packaging, basic sequential servic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 management - replicas, reliable file transfers, catalo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urce management - job submission, scheduling, fault tolera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l of these are using Globu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B41-DBDB-44FC-9589-705236FDA1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nitor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oint working group set up between PPDG and GriPhyN to investigate monitoring issu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d by J. Schopf and D. Yu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 currently defined very broadly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 this router configured correctly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 the application finished using that file yet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at information do I need to determine where to run my application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B8C-DE23-4B5C-B4DA-BCA0406ACA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ridView (Kaushik De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Tool to show the status of the 8 test bed machines on the web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Uses Globus GRAM to query sites every 30 min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Hostname, Uptime, Idletime, # users, and Load averag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Next steps includ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tegration with Globus information service (MD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isualization as part of cross PPDG/GriPhyN monitoring wo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ACC-4F5E-4D42-9FE1-9296E8C76B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1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2CB-3CB2-4418-9B05-CF5ED0D14B3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pplication Level Monitoring (Taylor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itial testbed to incorporate GRID monitoring capabilities into Athe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laboration with Valerie Taylor, David Quarrie, and oth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Very long ramp-up due to difficulty of “outsiders” running an Athena applic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orking on developing an Auditor for Athen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tp://www.ece.nwu.edu/EXTERNAL/vtaylorlab/prophesy.htm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FF7-E3FD-4791-8D3C-B01B6733AD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iling list has been set up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g-monitoring@mcs.anl.gov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fining usage cas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dicto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chi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ill gather requirements and look at extending Globus MDS as a common framework to meet these requiremen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BA8-2114-4FEB-8E0F-FC57341D74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bined plann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/iVDG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app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d-Enabled Data Acces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nitoring and Visualizati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79F-64F9-4413-8152-ACB0768FF2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-1665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533520"/>
            <a:ext cx="8063640" cy="4335480"/>
            <a:chOff x="457200" y="533520"/>
            <a:chExt cx="8063640" cy="4335480"/>
          </a:xfrm>
        </p:grpSpPr>
        <p:sp>
          <p:nvSpPr>
            <p:cNvPr id="217" name=""/>
            <p:cNvSpPr/>
            <p:nvPr/>
          </p:nvSpPr>
          <p:spPr>
            <a:xfrm>
              <a:off x="457200" y="5335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424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26040" y="5335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64800" y="5335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3680" y="5335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1648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57920" y="53352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280" y="533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49840" y="5335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276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14560" y="5335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3200" y="53352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2320" y="533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4880" y="533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86680" y="53352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1760" y="533520"/>
              <a:ext cx="38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58600"/>
              <a:ext cx="1427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424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6040" y="85860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64800" y="858600"/>
              <a:ext cx="398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3680" y="858600"/>
              <a:ext cx="3528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1648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57920" y="858600"/>
              <a:ext cx="3690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7280" y="85860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9840" y="858600"/>
              <a:ext cx="3229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276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4560" y="858600"/>
              <a:ext cx="3682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3200" y="858600"/>
              <a:ext cx="3391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2320" y="85860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44880" y="85860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86680" y="858600"/>
              <a:ext cx="4150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1760" y="858600"/>
              <a:ext cx="3844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124560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424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6040" y="12456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746440" y="1239120"/>
              <a:ext cx="435600" cy="331200"/>
              <a:chOff x="2746440" y="1239120"/>
              <a:chExt cx="435600" cy="331200"/>
            </a:xfrm>
          </p:grpSpPr>
          <p:sp>
            <p:nvSpPr>
              <p:cNvPr id="253" name=""/>
              <p:cNvSpPr/>
              <p:nvPr/>
            </p:nvSpPr>
            <p:spPr>
              <a:xfrm>
                <a:off x="2746440" y="1239120"/>
                <a:ext cx="4356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64440" y="1245240"/>
                <a:ext cx="39852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66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182400" y="1239120"/>
              <a:ext cx="388800" cy="331200"/>
              <a:chOff x="3182400" y="1239120"/>
              <a:chExt cx="388800" cy="331200"/>
            </a:xfrm>
          </p:grpSpPr>
          <p:sp>
            <p:nvSpPr>
              <p:cNvPr id="256" name=""/>
              <p:cNvSpPr/>
              <p:nvPr/>
            </p:nvSpPr>
            <p:spPr>
              <a:xfrm>
                <a:off x="3182400" y="1239120"/>
                <a:ext cx="3888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0400" y="1245240"/>
                <a:ext cx="35244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571920" y="1239120"/>
              <a:ext cx="578160" cy="331200"/>
              <a:chOff x="3571920" y="1239120"/>
              <a:chExt cx="578160" cy="331200"/>
            </a:xfrm>
          </p:grpSpPr>
          <p:sp>
            <p:nvSpPr>
              <p:cNvPr id="259" name=""/>
              <p:cNvSpPr/>
              <p:nvPr/>
            </p:nvSpPr>
            <p:spPr>
              <a:xfrm>
                <a:off x="3571920" y="1239120"/>
                <a:ext cx="57816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89920" y="1245240"/>
                <a:ext cx="54108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150440" y="1239120"/>
              <a:ext cx="405000" cy="331200"/>
              <a:chOff x="4150440" y="1239120"/>
              <a:chExt cx="405000" cy="331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150440" y="1239120"/>
                <a:ext cx="405000" cy="33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68440" y="1245240"/>
                <a:ext cx="36792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74520" y="12456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97080" y="124560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036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61800" y="124560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0800" y="12456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9920" y="12456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2480" y="12456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33920" y="124560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49000" y="124560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157068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424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26040" y="157068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4800" y="157068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145320" y="1564200"/>
              <a:ext cx="388800" cy="331560"/>
              <a:chOff x="3145320" y="1564200"/>
              <a:chExt cx="388800" cy="331560"/>
            </a:xfrm>
          </p:grpSpPr>
          <p:sp>
            <p:nvSpPr>
              <p:cNvPr id="278" name=""/>
              <p:cNvSpPr/>
              <p:nvPr/>
            </p:nvSpPr>
            <p:spPr>
              <a:xfrm>
                <a:off x="3145320" y="1564200"/>
                <a:ext cx="38880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3320" y="1570320"/>
                <a:ext cx="35244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534840" y="1564200"/>
              <a:ext cx="578160" cy="331560"/>
              <a:chOff x="3534840" y="1564200"/>
              <a:chExt cx="578160" cy="331560"/>
            </a:xfrm>
          </p:grpSpPr>
          <p:sp>
            <p:nvSpPr>
              <p:cNvPr id="281" name=""/>
              <p:cNvSpPr/>
              <p:nvPr/>
            </p:nvSpPr>
            <p:spPr>
              <a:xfrm>
                <a:off x="3534840" y="1564200"/>
                <a:ext cx="57816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53560" y="1570320"/>
                <a:ext cx="54108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131720" y="157068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00720" y="15706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23280" y="157068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656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88000" y="157068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56640" y="157068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96120" y="15706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8680" y="15706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60120" y="157068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75200" y="157068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" y="18961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C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8424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26040" y="18961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64800" y="18961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63680" y="18961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498120" y="1889280"/>
              <a:ext cx="578160" cy="331560"/>
              <a:chOff x="3498120" y="1889280"/>
              <a:chExt cx="578160" cy="331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8120" y="1889280"/>
                <a:ext cx="578160" cy="331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16120" y="1895760"/>
                <a:ext cx="54108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077000" y="1889280"/>
              <a:ext cx="405000" cy="331560"/>
              <a:chOff x="4077000" y="1889280"/>
              <a:chExt cx="405000" cy="331560"/>
            </a:xfrm>
          </p:grpSpPr>
          <p:sp>
            <p:nvSpPr>
              <p:cNvPr id="302" name=""/>
              <p:cNvSpPr/>
              <p:nvPr/>
            </p:nvSpPr>
            <p:spPr>
              <a:xfrm>
                <a:off x="4077000" y="1889280"/>
                <a:ext cx="405000" cy="331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95000" y="1895760"/>
                <a:ext cx="36792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500720" y="18961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3280" y="18961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656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88000" y="18961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6640" y="189612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96120" y="18961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18680" y="18961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60120" y="189612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75200" y="189612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222120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8424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26040" y="22212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64800" y="222120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63680" y="222120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1648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7920" y="222120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408920" y="2214720"/>
              <a:ext cx="358560" cy="331560"/>
              <a:chOff x="4408920" y="2214720"/>
              <a:chExt cx="358560" cy="331560"/>
            </a:xfrm>
          </p:grpSpPr>
          <p:sp>
            <p:nvSpPr>
              <p:cNvPr id="321" name=""/>
              <p:cNvSpPr/>
              <p:nvPr/>
            </p:nvSpPr>
            <p:spPr>
              <a:xfrm>
                <a:off x="4408920" y="2214720"/>
                <a:ext cx="35856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26920" y="2221200"/>
                <a:ext cx="32220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768200" y="2214720"/>
              <a:ext cx="359280" cy="331560"/>
              <a:chOff x="4768200" y="2214720"/>
              <a:chExt cx="359280" cy="331560"/>
            </a:xfrm>
          </p:grpSpPr>
          <p:sp>
            <p:nvSpPr>
              <p:cNvPr id="324" name=""/>
              <p:cNvSpPr/>
              <p:nvPr/>
            </p:nvSpPr>
            <p:spPr>
              <a:xfrm>
                <a:off x="4768200" y="2214720"/>
                <a:ext cx="35928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6920" y="2221200"/>
                <a:ext cx="32220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127840" y="2214720"/>
              <a:ext cx="578160" cy="331560"/>
              <a:chOff x="5127840" y="2214720"/>
              <a:chExt cx="578160" cy="331560"/>
            </a:xfrm>
          </p:grpSpPr>
          <p:sp>
            <p:nvSpPr>
              <p:cNvPr id="327" name=""/>
              <p:cNvSpPr/>
              <p:nvPr/>
            </p:nvSpPr>
            <p:spPr>
              <a:xfrm>
                <a:off x="5127840" y="2214720"/>
                <a:ext cx="57816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46560" y="2221200"/>
                <a:ext cx="54108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706360" y="2214720"/>
              <a:ext cx="405000" cy="331560"/>
              <a:chOff x="5706360" y="2214720"/>
              <a:chExt cx="405000" cy="331560"/>
            </a:xfrm>
          </p:grpSpPr>
          <p:sp>
            <p:nvSpPr>
              <p:cNvPr id="330" name=""/>
              <p:cNvSpPr/>
              <p:nvPr/>
            </p:nvSpPr>
            <p:spPr>
              <a:xfrm>
                <a:off x="5706360" y="2214720"/>
                <a:ext cx="405000" cy="331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24360" y="2221200"/>
                <a:ext cx="368640" cy="312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130800" y="222120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69920" y="222120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2480" y="222120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33920" y="222120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9000" y="222120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" y="254628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8424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26040" y="254628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4800" y="254628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63680" y="254628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648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7920" y="254628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408920" y="2539800"/>
              <a:ext cx="358560" cy="331560"/>
              <a:chOff x="4408920" y="2539800"/>
              <a:chExt cx="358560" cy="331560"/>
            </a:xfrm>
          </p:grpSpPr>
          <p:sp>
            <p:nvSpPr>
              <p:cNvPr id="345" name=""/>
              <p:cNvSpPr/>
              <p:nvPr/>
            </p:nvSpPr>
            <p:spPr>
              <a:xfrm>
                <a:off x="4408920" y="2539800"/>
                <a:ext cx="35856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26920" y="2546280"/>
                <a:ext cx="32220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768200" y="2539800"/>
              <a:ext cx="359280" cy="331560"/>
              <a:chOff x="4768200" y="2539800"/>
              <a:chExt cx="359280" cy="331560"/>
            </a:xfrm>
          </p:grpSpPr>
          <p:sp>
            <p:nvSpPr>
              <p:cNvPr id="348" name=""/>
              <p:cNvSpPr/>
              <p:nvPr/>
            </p:nvSpPr>
            <p:spPr>
              <a:xfrm>
                <a:off x="4768200" y="2539800"/>
                <a:ext cx="359280" cy="3315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86920" y="2546280"/>
                <a:ext cx="322200" cy="3121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14656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8000" y="254628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6640" y="254628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96120" y="254628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8680" y="254628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60120" y="254628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75200" y="254628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287136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C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424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6040" y="287136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64800" y="287136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3680" y="287136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1648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57920" y="287136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27280" y="28713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731480" y="2864880"/>
              <a:ext cx="359280" cy="331200"/>
              <a:chOff x="4731480" y="2864880"/>
              <a:chExt cx="359280" cy="331200"/>
            </a:xfrm>
          </p:grpSpPr>
          <p:sp>
            <p:nvSpPr>
              <p:cNvPr id="366" name=""/>
              <p:cNvSpPr/>
              <p:nvPr/>
            </p:nvSpPr>
            <p:spPr>
              <a:xfrm>
                <a:off x="4731480" y="2864880"/>
                <a:ext cx="3592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49480" y="2871000"/>
                <a:ext cx="32256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091120" y="2864880"/>
              <a:ext cx="578160" cy="331200"/>
              <a:chOff x="5091120" y="2864880"/>
              <a:chExt cx="578160" cy="331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091120" y="2864880"/>
                <a:ext cx="57816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09120" y="2871000"/>
                <a:ext cx="54108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670000" y="2864880"/>
              <a:ext cx="405000" cy="331200"/>
              <a:chOff x="5670000" y="2864880"/>
              <a:chExt cx="405000" cy="331200"/>
            </a:xfrm>
          </p:grpSpPr>
          <p:sp>
            <p:nvSpPr>
              <p:cNvPr id="372" name=""/>
              <p:cNvSpPr/>
              <p:nvPr/>
            </p:nvSpPr>
            <p:spPr>
              <a:xfrm>
                <a:off x="5670000" y="2864880"/>
                <a:ext cx="40500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88000" y="2871000"/>
                <a:ext cx="36792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075720" y="2864880"/>
              <a:ext cx="375480" cy="331200"/>
              <a:chOff x="6075720" y="2864880"/>
              <a:chExt cx="375480" cy="331200"/>
            </a:xfrm>
          </p:grpSpPr>
          <p:sp>
            <p:nvSpPr>
              <p:cNvPr id="375" name=""/>
              <p:cNvSpPr/>
              <p:nvPr/>
            </p:nvSpPr>
            <p:spPr>
              <a:xfrm>
                <a:off x="6075720" y="2864880"/>
                <a:ext cx="3754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3720" y="2871000"/>
                <a:ext cx="338400" cy="311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469920" y="28713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92480" y="28713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33920" y="287136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49000" y="287136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319644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G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424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26040" y="319644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64800" y="319644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63680" y="319644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1648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57920" y="319644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27280" y="319644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731480" y="3189960"/>
              <a:ext cx="359280" cy="331200"/>
              <a:chOff x="4731480" y="3189960"/>
              <a:chExt cx="359280" cy="331200"/>
            </a:xfrm>
          </p:grpSpPr>
          <p:sp>
            <p:nvSpPr>
              <p:cNvPr id="390" name=""/>
              <p:cNvSpPr/>
              <p:nvPr/>
            </p:nvSpPr>
            <p:spPr>
              <a:xfrm>
                <a:off x="4731480" y="3189960"/>
                <a:ext cx="35928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49480" y="3196080"/>
                <a:ext cx="32256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091120" y="3189960"/>
              <a:ext cx="578160" cy="331200"/>
              <a:chOff x="5091120" y="3189960"/>
              <a:chExt cx="578160" cy="331200"/>
            </a:xfrm>
          </p:grpSpPr>
          <p:sp>
            <p:nvSpPr>
              <p:cNvPr id="393" name=""/>
              <p:cNvSpPr/>
              <p:nvPr/>
            </p:nvSpPr>
            <p:spPr>
              <a:xfrm>
                <a:off x="5091120" y="3189960"/>
                <a:ext cx="57816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109120" y="3196080"/>
                <a:ext cx="54108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670000" y="3189960"/>
              <a:ext cx="405000" cy="331200"/>
              <a:chOff x="5670000" y="3189960"/>
              <a:chExt cx="405000" cy="331200"/>
            </a:xfrm>
          </p:grpSpPr>
          <p:sp>
            <p:nvSpPr>
              <p:cNvPr id="396" name=""/>
              <p:cNvSpPr/>
              <p:nvPr/>
            </p:nvSpPr>
            <p:spPr>
              <a:xfrm>
                <a:off x="5670000" y="3189960"/>
                <a:ext cx="40500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88000" y="3196080"/>
                <a:ext cx="36792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075720" y="3189960"/>
              <a:ext cx="375480" cy="331200"/>
              <a:chOff x="6075720" y="3189960"/>
              <a:chExt cx="375480" cy="331200"/>
            </a:xfrm>
          </p:grpSpPr>
          <p:sp>
            <p:nvSpPr>
              <p:cNvPr id="399" name=""/>
              <p:cNvSpPr/>
              <p:nvPr/>
            </p:nvSpPr>
            <p:spPr>
              <a:xfrm>
                <a:off x="6075720" y="3189960"/>
                <a:ext cx="375480" cy="331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93720" y="3196080"/>
                <a:ext cx="338400" cy="3121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469920" y="319644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2480" y="319644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3920" y="319644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49000" y="319644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" y="352152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G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8424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6040" y="352152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64800" y="352152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63680" y="352152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1648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57920" y="352152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7280" y="352152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49840" y="352152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72760" y="352152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14560" y="352152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964840" y="3515400"/>
              <a:ext cx="375480" cy="331200"/>
              <a:chOff x="5964840" y="3515400"/>
              <a:chExt cx="375480" cy="331200"/>
            </a:xfrm>
          </p:grpSpPr>
          <p:sp>
            <p:nvSpPr>
              <p:cNvPr id="417" name=""/>
              <p:cNvSpPr/>
              <p:nvPr/>
            </p:nvSpPr>
            <p:spPr>
              <a:xfrm>
                <a:off x="5964840" y="3515400"/>
                <a:ext cx="3754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82840" y="3521520"/>
                <a:ext cx="3387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340680" y="3515400"/>
              <a:ext cx="359280" cy="331200"/>
              <a:chOff x="6340680" y="3515400"/>
              <a:chExt cx="359280" cy="331200"/>
            </a:xfrm>
          </p:grpSpPr>
          <p:sp>
            <p:nvSpPr>
              <p:cNvPr id="420" name=""/>
              <p:cNvSpPr/>
              <p:nvPr/>
            </p:nvSpPr>
            <p:spPr>
              <a:xfrm>
                <a:off x="6340680" y="3515400"/>
                <a:ext cx="3592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58680" y="3521520"/>
                <a:ext cx="3225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00320" y="3515400"/>
              <a:ext cx="578160" cy="331200"/>
              <a:chOff x="6700320" y="3515400"/>
              <a:chExt cx="578160" cy="3312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00320" y="3515400"/>
                <a:ext cx="57816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18320" y="3521520"/>
                <a:ext cx="54108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279200" y="3515400"/>
              <a:ext cx="451080" cy="331200"/>
              <a:chOff x="7279200" y="3515400"/>
              <a:chExt cx="451080" cy="331200"/>
            </a:xfrm>
          </p:grpSpPr>
          <p:sp>
            <p:nvSpPr>
              <p:cNvPr id="426" name=""/>
              <p:cNvSpPr/>
              <p:nvPr/>
            </p:nvSpPr>
            <p:spPr>
              <a:xfrm>
                <a:off x="7279200" y="3515400"/>
                <a:ext cx="451080" cy="33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97200" y="3521520"/>
                <a:ext cx="414360" cy="312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749000" y="3521520"/>
              <a:ext cx="385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" y="3846960"/>
              <a:ext cx="1427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8424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26040" y="3846960"/>
              <a:ext cx="338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4800" y="3846960"/>
              <a:ext cx="398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3680" y="3846960"/>
              <a:ext cx="352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648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57920" y="3846960"/>
              <a:ext cx="3690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27280" y="38469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49840" y="3846960"/>
              <a:ext cx="322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276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14560" y="3846960"/>
              <a:ext cx="36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83200" y="3846960"/>
              <a:ext cx="33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2320" y="3846960"/>
              <a:ext cx="322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44880" y="3846960"/>
              <a:ext cx="541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86680" y="3846960"/>
              <a:ext cx="41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01760" y="3846960"/>
              <a:ext cx="38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7200" y="4172040"/>
              <a:ext cx="14270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84240" y="417204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6040" y="417204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746440" y="4165560"/>
              <a:ext cx="435600" cy="393480"/>
              <a:chOff x="2746440" y="4165560"/>
              <a:chExt cx="435600" cy="393480"/>
            </a:xfrm>
          </p:grpSpPr>
          <p:sp>
            <p:nvSpPr>
              <p:cNvPr id="449" name=""/>
              <p:cNvSpPr/>
              <p:nvPr/>
            </p:nvSpPr>
            <p:spPr>
              <a:xfrm>
                <a:off x="2746440" y="4165560"/>
                <a:ext cx="4356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64440" y="4171680"/>
                <a:ext cx="39852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182400" y="4165560"/>
              <a:ext cx="388800" cy="393480"/>
              <a:chOff x="3182400" y="4165560"/>
              <a:chExt cx="388800" cy="393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182400" y="4165560"/>
                <a:ext cx="3888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00400" y="4171680"/>
                <a:ext cx="35244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571920" y="4165560"/>
              <a:ext cx="578160" cy="393480"/>
              <a:chOff x="3571920" y="4165560"/>
              <a:chExt cx="578160" cy="393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571920" y="4165560"/>
                <a:ext cx="57816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9920" y="4171680"/>
                <a:ext cx="54108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150440" y="4165560"/>
              <a:ext cx="405000" cy="393480"/>
              <a:chOff x="4150440" y="4165560"/>
              <a:chExt cx="405000" cy="393480"/>
            </a:xfrm>
          </p:grpSpPr>
          <p:sp>
            <p:nvSpPr>
              <p:cNvPr id="458" name=""/>
              <p:cNvSpPr/>
              <p:nvPr/>
            </p:nvSpPr>
            <p:spPr>
              <a:xfrm>
                <a:off x="4150440" y="4165560"/>
                <a:ext cx="4050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8440" y="4171680"/>
                <a:ext cx="36792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556160" y="4165560"/>
              <a:ext cx="359280" cy="393480"/>
              <a:chOff x="4556160" y="4165560"/>
              <a:chExt cx="359280" cy="393480"/>
            </a:xfrm>
          </p:grpSpPr>
          <p:sp>
            <p:nvSpPr>
              <p:cNvPr id="461" name=""/>
              <p:cNvSpPr/>
              <p:nvPr/>
            </p:nvSpPr>
            <p:spPr>
              <a:xfrm>
                <a:off x="4556160" y="4165560"/>
                <a:ext cx="35928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74160" y="4171680"/>
                <a:ext cx="32220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916160" y="4165560"/>
              <a:ext cx="359280" cy="393480"/>
              <a:chOff x="4916160" y="4165560"/>
              <a:chExt cx="359280" cy="393480"/>
            </a:xfrm>
          </p:grpSpPr>
          <p:sp>
            <p:nvSpPr>
              <p:cNvPr id="464" name=""/>
              <p:cNvSpPr/>
              <p:nvPr/>
            </p:nvSpPr>
            <p:spPr>
              <a:xfrm>
                <a:off x="4916160" y="4165560"/>
                <a:ext cx="35928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34160" y="4171680"/>
                <a:ext cx="322200" cy="374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293800" y="4172040"/>
              <a:ext cx="541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35600" y="4172040"/>
              <a:ext cx="3690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04600" y="4172040"/>
              <a:ext cx="3387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43360" y="4172040"/>
              <a:ext cx="322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65920" y="4172040"/>
              <a:ext cx="5418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08080" y="4172040"/>
              <a:ext cx="4143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22800" y="4172040"/>
              <a:ext cx="38520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4559400"/>
              <a:ext cx="1427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edu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1865880" y="4552920"/>
              <a:ext cx="577800" cy="303120"/>
              <a:chOff x="1865880" y="4552920"/>
              <a:chExt cx="577800" cy="303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883880" y="4559040"/>
                <a:ext cx="54108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65880" y="4552920"/>
                <a:ext cx="5778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444040" y="4552920"/>
              <a:ext cx="375480" cy="303120"/>
              <a:chOff x="2444040" y="4552920"/>
              <a:chExt cx="375480" cy="3031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62760" y="4559040"/>
                <a:ext cx="33840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44040" y="4552920"/>
                <a:ext cx="37548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2820240" y="4552920"/>
              <a:ext cx="435600" cy="303120"/>
              <a:chOff x="2820240" y="4552920"/>
              <a:chExt cx="435600" cy="303120"/>
            </a:xfrm>
          </p:grpSpPr>
          <p:sp>
            <p:nvSpPr>
              <p:cNvPr id="481" name=""/>
              <p:cNvSpPr/>
              <p:nvPr/>
            </p:nvSpPr>
            <p:spPr>
              <a:xfrm>
                <a:off x="2838960" y="4559040"/>
                <a:ext cx="398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20240" y="4552920"/>
                <a:ext cx="4356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256200" y="4552920"/>
              <a:ext cx="388800" cy="303120"/>
              <a:chOff x="3256200" y="4552920"/>
              <a:chExt cx="388800" cy="303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274200" y="4559040"/>
                <a:ext cx="3524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56200" y="4552920"/>
                <a:ext cx="3888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645720" y="4552920"/>
              <a:ext cx="578160" cy="303120"/>
              <a:chOff x="3645720" y="4552920"/>
              <a:chExt cx="578160" cy="303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663720" y="4559040"/>
                <a:ext cx="54108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45720" y="4552920"/>
                <a:ext cx="57816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224240" y="4552920"/>
              <a:ext cx="405000" cy="303120"/>
              <a:chOff x="4224240" y="4552920"/>
              <a:chExt cx="405000" cy="303120"/>
            </a:xfrm>
          </p:grpSpPr>
          <p:sp>
            <p:nvSpPr>
              <p:cNvPr id="490" name=""/>
              <p:cNvSpPr/>
              <p:nvPr/>
            </p:nvSpPr>
            <p:spPr>
              <a:xfrm>
                <a:off x="4242240" y="4559040"/>
                <a:ext cx="3686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24240" y="4552920"/>
                <a:ext cx="40500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629960" y="4552920"/>
              <a:ext cx="359280" cy="316080"/>
              <a:chOff x="4629960" y="4552920"/>
              <a:chExt cx="359280" cy="316080"/>
            </a:xfrm>
          </p:grpSpPr>
          <p:sp>
            <p:nvSpPr>
              <p:cNvPr id="493" name=""/>
              <p:cNvSpPr/>
              <p:nvPr/>
            </p:nvSpPr>
            <p:spPr>
              <a:xfrm>
                <a:off x="462996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4629960" y="4552920"/>
                <a:ext cx="358920" cy="303120"/>
                <a:chOff x="4629960" y="4552920"/>
                <a:chExt cx="358920" cy="303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647960" y="4559040"/>
                  <a:ext cx="3225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62996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4989600" y="4552920"/>
              <a:ext cx="359280" cy="316080"/>
              <a:chOff x="4989600" y="4552920"/>
              <a:chExt cx="359280" cy="316080"/>
            </a:xfrm>
          </p:grpSpPr>
          <p:sp>
            <p:nvSpPr>
              <p:cNvPr id="498" name=""/>
              <p:cNvSpPr/>
              <p:nvPr/>
            </p:nvSpPr>
            <p:spPr>
              <a:xfrm>
                <a:off x="498960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4989600" y="4552920"/>
                <a:ext cx="358920" cy="303120"/>
                <a:chOff x="4989600" y="4552920"/>
                <a:chExt cx="358920" cy="303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007600" y="4559040"/>
                  <a:ext cx="3218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98960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5349240" y="4552920"/>
              <a:ext cx="578160" cy="316080"/>
              <a:chOff x="5349240" y="4552920"/>
              <a:chExt cx="578160" cy="316080"/>
            </a:xfrm>
          </p:grpSpPr>
          <p:sp>
            <p:nvSpPr>
              <p:cNvPr id="503" name=""/>
              <p:cNvSpPr/>
              <p:nvPr/>
            </p:nvSpPr>
            <p:spPr>
              <a:xfrm>
                <a:off x="5349240" y="4552920"/>
                <a:ext cx="5781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5349240" y="4552920"/>
                <a:ext cx="577800" cy="303120"/>
                <a:chOff x="5349240" y="4552920"/>
                <a:chExt cx="577800" cy="303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367240" y="4559040"/>
                  <a:ext cx="54072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349240" y="4552920"/>
                  <a:ext cx="5778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5928120" y="4552920"/>
              <a:ext cx="405000" cy="316080"/>
              <a:chOff x="5928120" y="4552920"/>
              <a:chExt cx="405000" cy="316080"/>
            </a:xfrm>
          </p:grpSpPr>
          <p:sp>
            <p:nvSpPr>
              <p:cNvPr id="508" name=""/>
              <p:cNvSpPr/>
              <p:nvPr/>
            </p:nvSpPr>
            <p:spPr>
              <a:xfrm>
                <a:off x="5928120" y="4552920"/>
                <a:ext cx="40500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5928120" y="4552920"/>
                <a:ext cx="404640" cy="303120"/>
                <a:chOff x="5928120" y="4552920"/>
                <a:chExt cx="404640" cy="3031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946120" y="4559040"/>
                  <a:ext cx="3675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8120" y="4552920"/>
                  <a:ext cx="4046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2" name=""/>
            <p:cNvGrpSpPr/>
            <p:nvPr/>
          </p:nvGrpSpPr>
          <p:grpSpPr>
            <a:xfrm>
              <a:off x="6333840" y="4552920"/>
              <a:ext cx="374760" cy="316080"/>
              <a:chOff x="6333840" y="4552920"/>
              <a:chExt cx="374760" cy="316080"/>
            </a:xfrm>
          </p:grpSpPr>
          <p:sp>
            <p:nvSpPr>
              <p:cNvPr id="513" name=""/>
              <p:cNvSpPr/>
              <p:nvPr/>
            </p:nvSpPr>
            <p:spPr>
              <a:xfrm>
                <a:off x="6333840" y="4552920"/>
                <a:ext cx="3747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333840" y="4552920"/>
                <a:ext cx="374400" cy="303120"/>
                <a:chOff x="6333840" y="4552920"/>
                <a:chExt cx="374400" cy="303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51840" y="4559040"/>
                  <a:ext cx="3380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33840" y="4552920"/>
                  <a:ext cx="374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709320" y="4552920"/>
              <a:ext cx="359280" cy="316080"/>
              <a:chOff x="6709320" y="4552920"/>
              <a:chExt cx="359280" cy="316080"/>
            </a:xfrm>
          </p:grpSpPr>
          <p:sp>
            <p:nvSpPr>
              <p:cNvPr id="518" name=""/>
              <p:cNvSpPr/>
              <p:nvPr/>
            </p:nvSpPr>
            <p:spPr>
              <a:xfrm>
                <a:off x="6709320" y="4552920"/>
                <a:ext cx="35928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6709320" y="4552920"/>
                <a:ext cx="358920" cy="303120"/>
                <a:chOff x="6709320" y="4552920"/>
                <a:chExt cx="358920" cy="3031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728040" y="4559040"/>
                  <a:ext cx="32184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09320" y="4552920"/>
                  <a:ext cx="35892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7068960" y="4552920"/>
              <a:ext cx="578160" cy="316080"/>
              <a:chOff x="7068960" y="4552920"/>
              <a:chExt cx="578160" cy="316080"/>
            </a:xfrm>
          </p:grpSpPr>
          <p:sp>
            <p:nvSpPr>
              <p:cNvPr id="523" name=""/>
              <p:cNvSpPr/>
              <p:nvPr/>
            </p:nvSpPr>
            <p:spPr>
              <a:xfrm>
                <a:off x="7068960" y="4552920"/>
                <a:ext cx="57816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068960" y="4552920"/>
                <a:ext cx="577800" cy="303120"/>
                <a:chOff x="7068960" y="4552920"/>
                <a:chExt cx="577800" cy="303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087680" y="4559040"/>
                  <a:ext cx="54072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68960" y="4552920"/>
                  <a:ext cx="5778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7647480" y="4552920"/>
              <a:ext cx="451800" cy="316080"/>
              <a:chOff x="7647480" y="4552920"/>
              <a:chExt cx="451800" cy="316080"/>
            </a:xfrm>
          </p:grpSpPr>
          <p:sp>
            <p:nvSpPr>
              <p:cNvPr id="528" name=""/>
              <p:cNvSpPr/>
              <p:nvPr/>
            </p:nvSpPr>
            <p:spPr>
              <a:xfrm>
                <a:off x="7647480" y="4552920"/>
                <a:ext cx="451800" cy="316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7647480" y="4552920"/>
                <a:ext cx="451440" cy="303120"/>
                <a:chOff x="7647480" y="4552920"/>
                <a:chExt cx="451440" cy="303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665480" y="4559040"/>
                  <a:ext cx="414360" cy="29664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647480" y="4552920"/>
                  <a:ext cx="451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2" name=""/>
            <p:cNvGrpSpPr/>
            <p:nvPr/>
          </p:nvGrpSpPr>
          <p:grpSpPr>
            <a:xfrm>
              <a:off x="8100000" y="4552920"/>
              <a:ext cx="420840" cy="303120"/>
              <a:chOff x="8100000" y="4552920"/>
              <a:chExt cx="420840" cy="303120"/>
            </a:xfrm>
          </p:grpSpPr>
          <p:sp>
            <p:nvSpPr>
              <p:cNvPr id="533" name=""/>
              <p:cNvSpPr/>
              <p:nvPr/>
            </p:nvSpPr>
            <p:spPr>
              <a:xfrm>
                <a:off x="8118000" y="4559040"/>
                <a:ext cx="38412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00000" y="4552920"/>
                <a:ext cx="420840" cy="30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0" y="77011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EC3-B12E-4F78-89D3-99B54FF318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Joint Time Tab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w-June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anagement using MAGDA, Tier  Tier1, Tier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DT 1.0 deployed (basic infrastructure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 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ERN testbed node into US Atlas testbed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02-Jul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C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reation, use of MAGDA, Tier 0-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02-Jun0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job management, grid job submiss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y02-Dec02 G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ng data from DC1 to universities, simple grid job sub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-Sep03 D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id resource mgmt, data usage, smarter scheduling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-Sep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set re-creation, metadata, advanced data grid too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03-Jun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mart job submission, resource usa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G - PPDG Goal; GG - GriPhyN/iVDGL goal; DC - ATLAS Data Challen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772-6FED-4060-94B5-13230B5D75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Joint Time Tab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ow-June0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G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 management using MAGDA, Tier  Tier1, Tier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DT 1.0 deployed (basic infrastructure)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n 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G0.2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ERN testbed node into US Atlas testbed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Jan02-Jul0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C1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 creation, use of MAGDA, Tier 0-2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ul02-Jun03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G2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asic job management, grid job submiss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July02-Dec02 GG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erving data from DC1 to universities, simple grid job sub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c02-Sep03 DC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rid resource mgmt, data usage, smarter scheduling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c02-Sep0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G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ataset re-creation, metadata, advanced data grid too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ul03-Jun0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G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mart job submission, resource usage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testbed/deploy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ata-centric goals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Job/Scheduling-centric goal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C1F-0E78-4D6E-BD57-E203AE4700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bined Plann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11360" y="1181160"/>
            <a:ext cx="7581240" cy="4673520"/>
            <a:chOff x="711360" y="1181160"/>
            <a:chExt cx="7581240" cy="4673520"/>
          </a:xfrm>
        </p:grpSpPr>
        <p:grpSp>
          <p:nvGrpSpPr>
            <p:cNvPr id="95" name=""/>
            <p:cNvGrpSpPr/>
            <p:nvPr/>
          </p:nvGrpSpPr>
          <p:grpSpPr>
            <a:xfrm>
              <a:off x="711360" y="1181160"/>
              <a:ext cx="7581240" cy="4673520"/>
              <a:chOff x="711360" y="1181160"/>
              <a:chExt cx="7581240" cy="46735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711360" y="1181160"/>
                <a:ext cx="7581240" cy="4673520"/>
                <a:chOff x="711360" y="1181160"/>
                <a:chExt cx="7581240" cy="46735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99920" y="1181160"/>
                  <a:ext cx="7467120" cy="464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36760" y="1689120"/>
                  <a:ext cx="5409360" cy="4165560"/>
                  <a:chOff x="2336760" y="1689120"/>
                  <a:chExt cx="5409360" cy="4165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367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9221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0748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932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6404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1624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7225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30080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3079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80436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746120" y="1689120"/>
                    <a:ext cx="0" cy="416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787680" y="2019240"/>
                  <a:ext cx="7095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2080" y="163836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3160" y="2324160"/>
                  <a:ext cx="6789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C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2080" y="266868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1360" y="3016440"/>
                  <a:ext cx="8377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1720" y="3390840"/>
                  <a:ext cx="6789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C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87680" y="3772080"/>
                  <a:ext cx="7095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GG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2080" y="4152960"/>
                  <a:ext cx="68076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PG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74360" y="4915080"/>
                  <a:ext cx="15490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Data Mgm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5280" y="5346720"/>
                  <a:ext cx="99900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Sched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7320" y="209556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520" y="242568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9920" y="274320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9920" y="307368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12520" y="341640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12520" y="384804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7320" y="421668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9920" y="4584960"/>
                  <a:ext cx="748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7320" y="496584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6400" y="534672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87320" y="1676520"/>
                  <a:ext cx="747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289240" y="1181160"/>
                <a:ext cx="5878800" cy="540720"/>
                <a:chOff x="2289240" y="1181160"/>
                <a:chExt cx="5878800" cy="540720"/>
              </a:xfrm>
            </p:grpSpPr>
            <p:sp>
              <p:nvSpPr>
                <p:cNvPr id="132" name=""/>
                <p:cNvSpPr/>
                <p:nvPr/>
              </p:nvSpPr>
              <p:spPr>
                <a:xfrm flipV="1">
                  <a:off x="233640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292032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16852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7301880" y="1181160"/>
                  <a:ext cx="0" cy="49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89240" y="12128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52520" y="122580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51120" y="11876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32560" y="1187640"/>
                  <a:ext cx="73548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1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2323800" y="1676520"/>
              <a:ext cx="1777680" cy="41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9240" y="2743200"/>
              <a:ext cx="2234880" cy="330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11880" y="4216680"/>
              <a:ext cx="1955160" cy="368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36760" y="2095560"/>
              <a:ext cx="116784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9240" y="3073680"/>
              <a:ext cx="1079280" cy="342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55920" y="3848040"/>
              <a:ext cx="1638000" cy="368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20680" y="2425680"/>
              <a:ext cx="1714320" cy="31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68880" y="3416400"/>
              <a:ext cx="1637640" cy="431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6760" y="4965840"/>
              <a:ext cx="28317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9240" y="5346720"/>
              <a:ext cx="4177800" cy="4827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3760" y="6019920"/>
            <a:ext cx="770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G - PPDG Goal; GG - GriPhyN/iVDGL goal; DC - ATLAS Data Chall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57B-4F71-4791-8273-D09CAC7B07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/Atlas Intera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1680" y="1528200"/>
            <a:ext cx="146376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P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rdn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m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55160" y="1756800"/>
            <a:ext cx="217872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, Schop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ylor, Yu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6560" y="114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or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0680" y="1905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4000" y="24382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5440" y="2971800"/>
            <a:ext cx="157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D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IS/G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7920" y="388620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4000" y="4419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ica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94600" y="50292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ica M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2" idx="3"/>
            <a:endCxn id="154" idx="1"/>
          </p:cNvCxnSpPr>
          <p:nvPr/>
        </p:nvCxnSpPr>
        <p:spPr>
          <a:xfrm flipV="1">
            <a:off x="2178000" y="1371240"/>
            <a:ext cx="1442160" cy="7531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2" name=""/>
          <p:cNvCxnSpPr>
            <a:stCxn id="152" idx="3"/>
            <a:endCxn id="155" idx="1"/>
          </p:cNvCxnSpPr>
          <p:nvPr/>
        </p:nvCxnSpPr>
        <p:spPr>
          <a:xfrm>
            <a:off x="2178000" y="2123640"/>
            <a:ext cx="180576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3"/>
          </p:cNvCxnSpPr>
          <p:nvPr/>
        </p:nvCxnSpPr>
        <p:spPr>
          <a:xfrm>
            <a:off x="2177640" y="2124000"/>
            <a:ext cx="1251720" cy="573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3"/>
            <a:endCxn id="160" idx="1"/>
          </p:cNvCxnSpPr>
          <p:nvPr/>
        </p:nvCxnSpPr>
        <p:spPr>
          <a:xfrm>
            <a:off x="2017440" y="3998520"/>
            <a:ext cx="1532520" cy="1259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6" name=""/>
          <p:cNvCxnSpPr>
            <a:stCxn id="165" idx="3"/>
            <a:endCxn id="159" idx="1"/>
          </p:cNvCxnSpPr>
          <p:nvPr/>
        </p:nvCxnSpPr>
        <p:spPr>
          <a:xfrm>
            <a:off x="2017440" y="3998880"/>
            <a:ext cx="1564200" cy="650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5" idx="3"/>
            <a:endCxn id="158" idx="1"/>
          </p:cNvCxnSpPr>
          <p:nvPr/>
        </p:nvCxnSpPr>
        <p:spPr>
          <a:xfrm>
            <a:off x="2017800" y="3998880"/>
            <a:ext cx="1829520" cy="1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9" idx="1"/>
            <a:endCxn id="160" idx="3"/>
          </p:cNvCxnSpPr>
          <p:nvPr/>
        </p:nvCxnSpPr>
        <p:spPr>
          <a:xfrm flipH="1">
            <a:off x="5512680" y="4638600"/>
            <a:ext cx="1269000" cy="619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"/>
          <p:cNvCxnSpPr>
            <a:stCxn id="169" idx="1"/>
            <a:endCxn id="159" idx="3"/>
          </p:cNvCxnSpPr>
          <p:nvPr/>
        </p:nvCxnSpPr>
        <p:spPr>
          <a:xfrm flipH="1">
            <a:off x="5482440" y="4638240"/>
            <a:ext cx="12992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1"/>
            <a:endCxn id="158" idx="3"/>
          </p:cNvCxnSpPr>
          <p:nvPr/>
        </p:nvCxnSpPr>
        <p:spPr>
          <a:xfrm flipH="1" flipV="1">
            <a:off x="5217480" y="4114440"/>
            <a:ext cx="1564200" cy="52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3" idx="1"/>
            <a:endCxn id="157" idx="3"/>
          </p:cNvCxnSpPr>
          <p:nvPr/>
        </p:nvCxnSpPr>
        <p:spPr>
          <a:xfrm flipH="1">
            <a:off x="5436360" y="2352600"/>
            <a:ext cx="894600" cy="10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7" idx="1"/>
          </p:cNvCxnSpPr>
          <p:nvPr/>
        </p:nvCxnSpPr>
        <p:spPr>
          <a:xfrm>
            <a:off x="2178000" y="2123640"/>
            <a:ext cx="1450080" cy="1259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4" name=""/>
          <p:cNvCxnSpPr>
            <a:stCxn id="153" idx="1"/>
            <a:endCxn id="155" idx="3"/>
          </p:cNvCxnSpPr>
          <p:nvPr/>
        </p:nvCxnSpPr>
        <p:spPr>
          <a:xfrm flipH="1" flipV="1">
            <a:off x="5081400" y="2133360"/>
            <a:ext cx="124992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869760" y="5262480"/>
            <a:ext cx="1430280" cy="825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M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ss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3"/>
            <a:endCxn id="177" idx="1"/>
          </p:cNvCxnSpPr>
          <p:nvPr/>
        </p:nvCxnSpPr>
        <p:spPr>
          <a:xfrm>
            <a:off x="2332080" y="5675400"/>
            <a:ext cx="13737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741480" y="5715000"/>
            <a:ext cx="1658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8000" y="3585960"/>
            <a:ext cx="1331280" cy="825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d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n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4042800"/>
            <a:ext cx="1549440" cy="119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F21-1564-4D11-9CF7-7AE6340E86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 Toolkit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M</a:t>
            </a: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re protocols and servic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 Security Infrastruct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 Resource Access &amp; Manage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DS information service &amp; monitor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FTP data access &amp;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ata Grid technologie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plica catalog, replica management servi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liabl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efacto-standard for Grid projects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iPhyN, PPDG, NEES, EU DataGrid, ESG, Fusion Collaboratory, DISCOM, NASA IPG, NSF TeraGrid, DOE Science Grid, EU DataGrid, UK Grid Center, U.S. GRIDS Center, Access Grid, GridPort, MPICH-G2, Condor-G, GrADS, and oth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326-89C3-4882-AE47-0D2A24D984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lobus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w releas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alpha4 now, beta before SC ‘01 (Nov 15), 4Q01 rele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w packaging: enables modular binary and source distribu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M 1.5 (job submission): enhanced robustn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DS-2.1 (information service): security, better performance, etc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idFTP- secure larg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plica Mgt-  Data management, catalogs for replic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ntinuing work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unity Authorization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liable file transf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ava, other “Commodity Grid” toolki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200-977C-458D-92B8-985FDD3C69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838440"/>
          </a:xfrm>
          <a:prstGeom prst="rect">
            <a:avLst/>
          </a:prstGeom>
          <a:gradFill rotWithShape="0">
            <a:gsLst>
              <a:gs pos="0">
                <a:srgbClr val="d2c3b3"/>
              </a:gs>
              <a:gs pos="100000">
                <a:srgbClr val="f6e4d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TLAS GriPhyN/iVDG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 funded Fall 2000, $11.9M/5 year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VDGL funded Fall 2001, 5 years, $13.65M/5 year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th involve ATLAS, CMS, Ligo and SDS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TLAS support: 2.5 FTE IU, 1.5 FTE BU, $331K/5yr IU HW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. Gardner is the ATLAS lead, J. Schopf is the CS liaiso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riPhyN proposal emphasizes virtual data requirements, collaboration between experiments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VDGL proposal emphasizes testbed and infrastructure issues across experimen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nifer Schopf, A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1F7-AA29-4441-B7D9-67AA303BB1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 200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09:51:26Z</dcterms:created>
  <dc:creator>Torre Wenaus</dc:creator>
  <dc:description/>
  <dc:language>en-US</dc:language>
  <cp:lastModifiedBy>jms</cp:lastModifiedBy>
  <cp:lastPrinted>2000-03-22T17:16:56Z</cp:lastPrinted>
  <dcterms:modified xsi:type="dcterms:W3CDTF">2001-11-27T22:07:43Z</dcterms:modified>
  <cp:revision>597</cp:revision>
  <dc:subject/>
  <dc:title>US ATLAS Softwar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lexus.physics.indiana.edu/~rwg</vt:lpwstr>
  </property>
  <property fmtid="{D5CDD505-2E9C-101B-9397-08002B2CF9AE}" pid="9" name="LinkColor">
    <vt:r8>16711782</vt:r8>
  </property>
  <property fmtid="{D5CDD505-2E9C-101B-9397-08002B2CF9AE}" pid="10" name="MailAddress">
    <vt:lpwstr>rwg@indian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DESKTOP\atlas_facilities_tal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