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57A-98A7-4830-B7B6-12A524D6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5A1-A91E-4C60-A99D-647320F8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EA8-40D9-44C4-BAF0-7CB4138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137-C681-45F7-9CED-5EBB5BFE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EF6-6FC4-4E1D-B3D2-5D4B79BA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ED4-0224-4DE9-98CA-4424C3A4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1EC-B7EE-4D53-93E5-819FEEC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44D-4ED5-4A86-8136-37E657CE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3ED-72EC-4B15-9071-8EEAF86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3B7-237A-46B9-A5B7-9ADC3FDB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D9F-43A9-483F-821D-F454ACB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A55-C273-4DFE-8762-AACFCC6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B7E-2486-4648-9C9A-200F51BE0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AA Metadata Manager and Reposit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Shi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e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E. H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Image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4920" y="1600200"/>
            <a:ext cx="619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Micro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19360" y="1600200"/>
            <a:ext cx="570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52600" y="1600200"/>
            <a:ext cx="443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EI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5760" y="19670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5760" y="1751040"/>
            <a:ext cx="52527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tadat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cation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t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tation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iginator: Operational Significant Event Imag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blication Date: 199810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tle: Hurricane Mit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bstract: Hurricane Mitch. Central pressure: 923 MB. Sustained wind: 155 M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pose: The Operational Significant Event Imagery team produces high-resolution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tailed imagery of significant environmental events which are visible in remotely-sens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 available at the NOAA Science Center in Suitland, Maryl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Period of Content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Period Informatio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ngle Date/Time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endar Date: 199810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me of Day: 134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urrentness Reference: Publication 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tu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ess: Comp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intenance and Update Frequency: None Plan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patial Domain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unding Coordinate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st Bounding Coordinate: -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st Bounding Coordinate: -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rth Bounding Coordinate: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th Bounding Coordinate: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Keyword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 Keyword Thesaurus: NASA/GCMD Keyword Thesau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me Keyword: Earth Science  &gt; Atmosphere &gt; Atmospheric Phenomena &gt; Cycl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352680"/>
            <a:ext cx="2743200" cy="38124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86200"/>
            <a:ext cx="327672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or multipl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opera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ections using defaul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4160" y="1600200"/>
            <a:ext cx="50338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10080" y="4952880"/>
            <a:ext cx="533520" cy="304920"/>
          </a:xfrm>
          <a:prstGeom prst="ellipse">
            <a:avLst/>
          </a:prstGeom>
          <a:noFill/>
          <a:ln w="28440">
            <a:solidFill>
              <a:srgbClr val="fa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7"/>
            <a:endCxn id="130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1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0" idx="3"/>
            <a:endCxn id="129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29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2" idx="3"/>
            <a:endCxn id="129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0" idx="7"/>
            <a:endCxn id="131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1" idx="7"/>
            <a:endCxn id="132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checks and error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metadata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chema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917720"/>
            <a:ext cx="8229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8280" y="3276720"/>
            <a:ext cx="266724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819520"/>
            <a:ext cx="274320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94040" y="338940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1524240" cy="5335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257800"/>
            <a:ext cx="281952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5257800"/>
            <a:ext cx="1295640" cy="38088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752480"/>
            <a:ext cx="73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tadata formats can be a challenge. The basic FGDC format contains over 300 fields. There are various FGDC profiles, including Biological, Shoreline and Remote Sensing, which add even more fields. We need a tool that supports creation, editing, storage and public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4" idx="7"/>
            <a:endCxn id="155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3"/>
            <a:endCxn id="156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3"/>
            <a:endCxn id="154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6" idx="3"/>
            <a:endCxn id="154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7" idx="3"/>
            <a:endCxn id="154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55" idx="7"/>
            <a:endCxn id="156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6" idx="7"/>
            <a:endCxn id="157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itle, Abstrac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keywords/thesaurus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58760" y="1600200"/>
            <a:ext cx="702468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2120" y="26668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a16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666880"/>
            <a:ext cx="990720" cy="304920"/>
          </a:xfrm>
          <a:prstGeom prst="ellipse">
            <a:avLst/>
          </a:prstGeom>
          <a:noFill/>
          <a:ln w="19080">
            <a:solidFill>
              <a:srgbClr val="fa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1" idx="7"/>
            <a:endCxn id="182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3"/>
            <a:endCxn id="183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1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3" idx="3"/>
            <a:endCxn id="181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4" idx="3"/>
            <a:endCxn id="181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82" idx="7"/>
            <a:endCxn id="183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3" idx="7"/>
            <a:endCxn id="184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419720"/>
            <a:ext cx="1828800" cy="30456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available via publ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Z39.50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interna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GDC/NSDI Clearinghous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-based search (Title, Keyword,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39.50 client or Web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19440" y="1600200"/>
            <a:ext cx="550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ince 2002 by NGDC, NODC, C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thing since sliced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AA Metadata Manager and Repository (NM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NGDC and NO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multiple metadata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, SOAP, and search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metadata, with minimal understanding of FGD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workflow with multip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/granule (parent/child) record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2095560"/>
            <a:ext cx="1600200" cy="1600200"/>
            <a:chOff x="914400" y="2095560"/>
            <a:chExt cx="1600200" cy="1600200"/>
          </a:xfrm>
        </p:grpSpPr>
        <p:sp>
          <p:nvSpPr>
            <p:cNvPr id="55" name=""/>
            <p:cNvSpPr/>
            <p:nvPr/>
          </p:nvSpPr>
          <p:spPr>
            <a:xfrm>
              <a:off x="914400" y="209556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2400" y="2711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05720" y="2095560"/>
            <a:ext cx="1600200" cy="1600200"/>
            <a:chOff x="6705720" y="2095560"/>
            <a:chExt cx="1600200" cy="1600200"/>
          </a:xfrm>
        </p:grpSpPr>
        <p:sp>
          <p:nvSpPr>
            <p:cNvPr id="58" name=""/>
            <p:cNvSpPr/>
            <p:nvPr/>
          </p:nvSpPr>
          <p:spPr>
            <a:xfrm>
              <a:off x="6705720" y="209556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1640" y="27129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809880" y="4876920"/>
            <a:ext cx="1600200" cy="1600200"/>
            <a:chOff x="3809880" y="4876920"/>
            <a:chExt cx="1600200" cy="1600200"/>
          </a:xfrm>
        </p:grpSpPr>
        <p:sp>
          <p:nvSpPr>
            <p:cNvPr id="61" name=""/>
            <p:cNvSpPr/>
            <p:nvPr/>
          </p:nvSpPr>
          <p:spPr>
            <a:xfrm>
              <a:off x="3809880" y="4876920"/>
              <a:ext cx="1600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9640" y="5492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638680" y="274320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74320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57880" y="42670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e4b8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81280" y="1523880"/>
            <a:ext cx="2057400" cy="2743200"/>
            <a:chOff x="3581280" y="1523880"/>
            <a:chExt cx="2057400" cy="2743200"/>
          </a:xfrm>
        </p:grpSpPr>
        <p:sp>
          <p:nvSpPr>
            <p:cNvPr id="67" name=""/>
            <p:cNvSpPr/>
            <p:nvPr/>
          </p:nvSpPr>
          <p:spPr>
            <a:xfrm>
              <a:off x="3581280" y="1523880"/>
              <a:ext cx="2057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733920" y="1905120"/>
              <a:ext cx="1752480" cy="685800"/>
              <a:chOff x="3733920" y="1905120"/>
              <a:chExt cx="1752480" cy="685800"/>
            </a:xfrm>
          </p:grpSpPr>
          <p:sp>
            <p:nvSpPr>
              <p:cNvPr id="69" name=""/>
              <p:cNvSpPr/>
              <p:nvPr/>
            </p:nvSpPr>
            <p:spPr>
              <a:xfrm>
                <a:off x="3733920" y="1905120"/>
                <a:ext cx="1752480" cy="685800"/>
              </a:xfrm>
              <a:prstGeom prst="rect">
                <a:avLst/>
              </a:prstGeom>
              <a:solidFill>
                <a:srgbClr val="ade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65120" y="1927440"/>
                <a:ext cx="1090440" cy="641520"/>
              </a:xfrm>
              <a:prstGeom prst="rect">
                <a:avLst/>
              </a:prstGeom>
              <a:solidFill>
                <a:srgbClr val="ad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lue Ang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chnolog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ava Libra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809880" y="2895480"/>
              <a:ext cx="1600200" cy="609840"/>
              <a:chOff x="3809880" y="2895480"/>
              <a:chExt cx="1600200" cy="609840"/>
            </a:xfrm>
          </p:grpSpPr>
          <p:sp>
            <p:nvSpPr>
              <p:cNvPr id="72" name=""/>
              <p:cNvSpPr/>
              <p:nvPr/>
            </p:nvSpPr>
            <p:spPr>
              <a:xfrm>
                <a:off x="3809880" y="2895480"/>
                <a:ext cx="160020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191480" y="2971800"/>
                <a:ext cx="835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a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164480" y="15238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MM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69" idx="2"/>
              <a:endCxn id="72" idx="0"/>
            </p:cNvCxnSpPr>
            <p:nvPr/>
          </p:nvCxnSpPr>
          <p:spPr>
            <a:xfrm>
              <a:off x="4609800" y="25909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" name=""/>
            <p:cNvGrpSpPr/>
            <p:nvPr/>
          </p:nvGrpSpPr>
          <p:grpSpPr>
            <a:xfrm>
              <a:off x="3886200" y="3733920"/>
              <a:ext cx="1447920" cy="304560"/>
              <a:chOff x="3886200" y="3733920"/>
              <a:chExt cx="1447920" cy="304560"/>
            </a:xfrm>
          </p:grpSpPr>
          <p:sp>
            <p:nvSpPr>
              <p:cNvPr id="77" name=""/>
              <p:cNvSpPr/>
              <p:nvPr/>
            </p:nvSpPr>
            <p:spPr>
              <a:xfrm>
                <a:off x="3886200" y="3733920"/>
                <a:ext cx="1447920" cy="304560"/>
              </a:xfrm>
              <a:prstGeom prst="rect">
                <a:avLst/>
              </a:prstGeom>
              <a:solidFill>
                <a:srgbClr val="adef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5960" y="3747960"/>
                <a:ext cx="1149840" cy="276480"/>
              </a:xfrm>
              <a:prstGeom prst="rect">
                <a:avLst/>
              </a:prstGeom>
              <a:solidFill>
                <a:srgbClr val="ad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Z39.50 Ser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5720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metadat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data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types are defined by creation of templates that specif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 and vali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or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records for comm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support basic FGDC, plus Biological profile and Remote Sensing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o support ISO 19115/19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476440"/>
            <a:ext cx="1218960" cy="1219320"/>
          </a:xfrm>
          <a:prstGeom prst="ellipse">
            <a:avLst/>
          </a:prstGeom>
          <a:solidFill>
            <a:srgbClr val="f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5116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4760" y="247644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247644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4" idx="7"/>
            <a:endCxn id="85" idx="1"/>
          </p:cNvCxnSpPr>
          <p:nvPr/>
        </p:nvCxnSpPr>
        <p:spPr>
          <a:xfrm flipH="1" rot="16200000">
            <a:off x="2958120" y="2184840"/>
            <a:ext cx="2160" cy="940680"/>
          </a:xfrm>
          <a:prstGeom prst="curvedConnector5">
            <a:avLst>
              <a:gd name="adj1" fmla="val -12700000"/>
              <a:gd name="adj2" fmla="val 50000"/>
              <a:gd name="adj3" fmla="val -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7" idx="3"/>
            <a:endCxn id="86" idx="5"/>
          </p:cNvCxnSpPr>
          <p:nvPr/>
        </p:nvCxnSpPr>
        <p:spPr>
          <a:xfrm rot="5400000">
            <a:off x="6564240" y="3048480"/>
            <a:ext cx="2160" cy="940680"/>
          </a:xfrm>
          <a:prstGeom prst="curvedConnector5">
            <a:avLst>
              <a:gd name="adj1" fmla="val 15600000"/>
              <a:gd name="adj2" fmla="val 50000"/>
              <a:gd name="adj3" fmla="val 1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5" idx="3"/>
            <a:endCxn id="84" idx="5"/>
          </p:cNvCxnSpPr>
          <p:nvPr/>
        </p:nvCxnSpPr>
        <p:spPr>
          <a:xfrm rot="5400000">
            <a:off x="2957400" y="3048480"/>
            <a:ext cx="2160" cy="940680"/>
          </a:xfrm>
          <a:prstGeom prst="curvedConnector5">
            <a:avLst>
              <a:gd name="adj1" fmla="val 13700000"/>
              <a:gd name="adj2" fmla="val 50000"/>
              <a:gd name="adj3" fmla="val 13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4" idx="5"/>
          </p:cNvCxnSpPr>
          <p:nvPr/>
        </p:nvCxnSpPr>
        <p:spPr>
          <a:xfrm rot="5400000">
            <a:off x="3859200" y="2147040"/>
            <a:ext cx="2160" cy="2743920"/>
          </a:xfrm>
          <a:prstGeom prst="curvedConnector5">
            <a:avLst>
              <a:gd name="adj1" fmla="val 42500000"/>
              <a:gd name="adj2" fmla="val 49993"/>
              <a:gd name="adj3" fmla="val 42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4" idx="5"/>
          </p:cNvCxnSpPr>
          <p:nvPr/>
        </p:nvCxnSpPr>
        <p:spPr>
          <a:xfrm rot="5400000">
            <a:off x="4761000" y="1245240"/>
            <a:ext cx="2160" cy="4547520"/>
          </a:xfrm>
          <a:prstGeom prst="curvedConnector5">
            <a:avLst>
              <a:gd name="adj1" fmla="val 73300000"/>
              <a:gd name="adj2" fmla="val 49996"/>
              <a:gd name="adj3" fmla="val 73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09480" y="28195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3880" y="190512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0800" y="19810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13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73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pub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/Recor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343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5" idx="7"/>
            <a:endCxn id="86" idx="1"/>
          </p:cNvCxnSpPr>
          <p:nvPr/>
        </p:nvCxnSpPr>
        <p:spPr>
          <a:xfrm flipH="1" rot="16200000">
            <a:off x="4761720" y="2184840"/>
            <a:ext cx="2160" cy="940320"/>
          </a:xfrm>
          <a:prstGeom prst="curvedConnector5">
            <a:avLst>
              <a:gd name="adj1" fmla="val -10600000"/>
              <a:gd name="adj2" fmla="val 49980"/>
              <a:gd name="adj3" fmla="val -10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6" idx="7"/>
            <a:endCxn id="87" idx="1"/>
          </p:cNvCxnSpPr>
          <p:nvPr/>
        </p:nvCxnSpPr>
        <p:spPr>
          <a:xfrm flipH="1" rot="16200000">
            <a:off x="6564960" y="2184840"/>
            <a:ext cx="2160" cy="940680"/>
          </a:xfrm>
          <a:prstGeom prst="curvedConnector5">
            <a:avLst>
              <a:gd name="adj1" fmla="val -13000000"/>
              <a:gd name="adj2" fmla="val 50000"/>
              <a:gd name="adj3" fmla="val -1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2209680"/>
            <a:ext cx="365760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429000"/>
            <a:ext cx="6019920" cy="45720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existing record in XM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rom scr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rom default record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with customiz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703520"/>
            <a:ext cx="82296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5:50:39Z</dcterms:created>
  <dc:creator>jshirley</dc:creator>
  <dc:description/>
  <dc:language>en-US</dc:language>
  <cp:lastModifiedBy>jshirley</cp:lastModifiedBy>
  <dcterms:modified xsi:type="dcterms:W3CDTF">2005-10-31T21:40:46Z</dcterms:modified>
  <cp:revision>71</cp:revision>
  <dc:subject/>
  <dc:title>NOAA Metadata Manager and Repository </dc:title>
</cp:coreProperties>
</file>