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F6A-8740-483C-A47B-9A7A156A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494-ED10-4F11-AD1A-98756166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E2E-D499-4DB7-9F26-437ECECB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474-61BA-4214-A290-57051364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5B87-877C-4DDA-BBE2-DF5B7D3A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30E2-4069-4741-80DB-6F0AC83F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6A63-5FD3-4CA7-ABD5-6E129433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542-42F4-474D-A443-FF17459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E08A-276C-48E7-912E-E882D746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2CF0-9103-4C09-931B-A088DD3E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3751-0A07-4B09-AB91-FD975432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920-BA09-43E9-9648-DE3F0679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CA48-3C42-46A9-892A-0A7E8FE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37A7-6F64-4A30-8FB4-43B56BA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0D93-AC65-4014-952D-64E5FF72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8D1-4D15-46A2-BA3D-8355DDC6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A2A1-0756-42D8-8D9A-2B6D1B03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095-CE01-4DF3-800E-A7AE9C08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A44-41EE-4D72-B685-207A6F4B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783-5382-4510-AF74-5738B1DE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00C-D590-466E-B848-FE1C0A40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2DE-3EE1-4206-9DF9-6339853D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659-737F-4E6F-A977-5B9A9F02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B05-164A-451F-9C7F-F9DF717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BAAA-171E-4C95-A138-66D62ACBDEF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FC57-A0D0-45F3-A618-6DCB71771DB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ORMP DATA MANAGEMENT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TS PLANNING MEETING, 6/25/02, CHARLESTON, S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990720"/>
            <a:ext cx="13892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b5249"/>
                </a:solidFill>
                <a:latin typeface="Bauhaus 93"/>
              </a:rPr>
              <a:t>RMP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8132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981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1295280"/>
            <a:ext cx="3962160" cy="46137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arameter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nit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ocation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lum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helf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hysical: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ir pressur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/Hg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urrent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m/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adiance/irradianc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pl-PL" sz="1100" spc="-1" strike="noStrike">
                <a:solidFill>
                  <a:srgbClr val="5b5249"/>
                </a:solidFill>
                <a:latin typeface="WP MathA"/>
                <a:ea typeface="WP MathA"/>
              </a:rPr>
              <a:t></a:t>
            </a:r>
            <a:r>
              <a:rPr b="0" lang="pl-PL" sz="1100" spc="-1" strike="noStrike">
                <a:solidFill>
                  <a:srgbClr val="5b5249"/>
                </a:solidFill>
                <a:latin typeface="Times New Roman"/>
                <a:ea typeface="SimSun"/>
              </a:rPr>
              <a:t>E</a:t>
            </a:r>
            <a:r>
              <a:rPr b="0" lang="pl-PL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/m</a:t>
            </a:r>
            <a:r>
              <a:rPr b="0" lang="pl-PL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pl-PL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/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alinity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pt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a state/wave ht.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t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emperatur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o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</a:t>
            </a:r>
            <a:r>
              <a:rPr b="0" lang="en-US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nd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kt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ological: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urbidity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TU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hemical: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mmonium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issolved oxygen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OC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itrat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rthophosphat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H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-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licate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otal nitrogen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otal phosphorus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iological: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hlorophyll a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g/l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fauna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/m</a:t>
            </a:r>
            <a:r>
              <a:rPr b="0" lang="en-US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zoo/meroplankton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/m</a:t>
            </a:r>
            <a:r>
              <a:rPr b="0" lang="en-US" sz="11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x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2057400"/>
                <a:tab algn="l" pos="285768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obCFPsta" descr=""/>
          <p:cNvPicPr/>
          <p:nvPr/>
        </p:nvPicPr>
        <p:blipFill>
          <a:blip r:embed="rId1"/>
          <a:srcRect l="0" t="15306" r="0" b="0"/>
          <a:stretch/>
        </p:blipFill>
        <p:spPr>
          <a:xfrm>
            <a:off x="914400" y="990720"/>
            <a:ext cx="5372280" cy="3467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752480" y="1523880"/>
            <a:ext cx="6248520" cy="4552920"/>
            <a:chOff x="1752480" y="1523880"/>
            <a:chExt cx="6248520" cy="45529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52480" y="1523880"/>
              <a:ext cx="6248520" cy="45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20160" y="3041280"/>
              <a:ext cx="8146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OB1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34840" y="3437280"/>
              <a:ext cx="81504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OB2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84080" y="4625280"/>
              <a:ext cx="815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OB4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04760" y="3833280"/>
              <a:ext cx="815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OB3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54000" y="5416920"/>
              <a:ext cx="815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LB6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82560" y="4757040"/>
              <a:ext cx="8146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Arial Black"/>
                </a:rPr>
                <a:t>LB5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ETADAT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ring 02- train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ummer 02- drafting workshop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inter 02- posted to CastNet clearinghouse node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ATA S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ring 02- draft pl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y 02- requirements analysis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ata invento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ioritize (effort, value to user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otential produc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inter 02- QA/QC procedur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ust accompany metada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aried standar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ummer 02- DVTs* (e.g., www.uncwil.edu/riverview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BD- Relational dbase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BD- Archival/retention*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ring 03- GIS (UNCW Spatial Analysis La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22:29:10Z</dcterms:created>
  <dc:creator>Tom Potts</dc:creator>
  <dc:description/>
  <dc:language>en-US</dc:language>
  <cp:lastModifiedBy>Tom Potts</cp:lastModifiedBy>
  <dcterms:modified xsi:type="dcterms:W3CDTF">2002-06-25T12:16:59Z</dcterms:modified>
  <cp:revision>3</cp:revision>
  <dc:subject/>
  <dc:title>CORMP DATA MANAGEMENT</dc:title>
</cp:coreProperties>
</file>