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E30-823C-43EE-AEA8-A1C7D3DB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D78-50EC-4DB6-B7D9-D2AAD07E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C8B-DF04-4F11-8946-6F0B42E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5FF-8724-4215-9B25-BF9EB212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056-8646-4C0D-9057-1FF62E5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0B9-C7DF-44A6-BD43-7916FC7A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513-745C-4BCE-9F43-80E1F16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A7B-C729-4A44-9B24-D26ECE06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2C4-FED6-478B-8848-897CD3D5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9C5-E437-48F0-AC2D-D938EC2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E35-FC20-458A-9359-222E1F1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76-984B-4EEF-A16B-DFA42E9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898-BA06-4A6A-848B-BFB930A2BA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"/>
              </a:rPr>
              <a:t>Aspects of the use of 4 GCs in human and veterinary medicine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213000"/>
            <a:ext cx="69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terinary Medicine Advisory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c Hearing, 25 Sept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6200" y="6040440"/>
            <a:ext cx="39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7480" y="508464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. André Bryskier, 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856-AB24-4DE9-AC34-AFCF2E4DD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Mechanisms of resistance – Characteristics of ESBLs and A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75480" y="640080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5734080"/>
            <a:ext cx="26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1628640"/>
          <a:ext cx="8229600" cy="4011840"/>
        </p:xfrm>
        <a:graphic>
          <a:graphicData uri="http://schemas.openxmlformats.org/drawingml/2006/table">
            <a:tbl>
              <a:tblPr/>
              <a:tblGrid>
                <a:gridCol w="1701720"/>
                <a:gridCol w="3133800"/>
                <a:gridCol w="339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B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lec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beta-lact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beta-lactams (</a:t>
                      </a:r>
                      <a:r>
                        <a:rPr b="1" lang="en-US" sz="16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except 4GCs, carbapene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23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ctrum of hydro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inopenicill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Symbol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Carboxy-penicill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rrow spectrum cephalospor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tended spectrum beta-lact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inopenicill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boxy- and ureidopenicill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phamyc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ximino-cephalospor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ztreon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las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romosomal or plas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31840" y="645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92520" y="652608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rdmann P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C9C-1260-4C2C-A9E3-8AE427039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–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Prevalence of AmpC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16000" y="1773360"/>
          <a:ext cx="7200720" cy="3930480"/>
        </p:xfrm>
        <a:graphic>
          <a:graphicData uri="http://schemas.openxmlformats.org/drawingml/2006/table">
            <a:tbl>
              <a:tblPr/>
              <a:tblGrid>
                <a:gridCol w="1937520"/>
                <a:gridCol w="2363040"/>
                <a:gridCol w="29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t (livest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047960" y="5734080"/>
            <a:ext cx="36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-): sporadic cases have been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80" y="652140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ilippon A et al., 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77F-842D-4CD2-ACA7-B0CD277E1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-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Prevalence  of ESBLs in Europe</a:t>
            </a: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628640"/>
          <a:ext cx="7417080" cy="3807000"/>
        </p:xfrm>
        <a:graphic>
          <a:graphicData uri="http://schemas.openxmlformats.org/drawingml/2006/table">
            <a:tbl>
              <a:tblPr/>
              <a:tblGrid>
                <a:gridCol w="1976760"/>
                <a:gridCol w="2720880"/>
                <a:gridCol w="2719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B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t (livesto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ince 199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73512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5445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-): sporadic cases have been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50760" y="6521400"/>
            <a:ext cx="54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hey.org; Batchelor M et al., 2005; Miriagou V et al.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2BD-5FA5-4E8D-B51F-1F253B9BC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– Variety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  of  ESBLs and A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55640" y="1413000"/>
          <a:ext cx="7219800" cy="45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413000"/>
                    <a:ext cx="72198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067280" y="6165720"/>
            <a:ext cx="41036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Great variety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623736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339933"/>
          </a:solidFill>
          <a:ln w="9360">
            <a:solidFill>
              <a:srgbClr val="6158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rot="5400600">
            <a:off x="3601080" y="4400640"/>
            <a:ext cx="141120" cy="2808360"/>
          </a:xfrm>
          <a:custGeom>
            <a:avLst/>
            <a:gdLst>
              <a:gd name="textAreaLeft" fmla="*/ 90360 w 141120"/>
              <a:gd name="textAreaRight" fmla="*/ 141480 w 141120"/>
              <a:gd name="textAreaTop" fmla="*/ 69480 h 2808360"/>
              <a:gd name="textAreaBottom" fmla="*/ 27388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7"/>
                  <a:pt x="10800" y="1714"/>
                </a:cubicBezTo>
                <a:lnTo>
                  <a:pt x="10800" y="9086"/>
                </a:lnTo>
                <a:cubicBezTo>
                  <a:pt x="10800" y="9943"/>
                  <a:pt x="5400" y="10800"/>
                  <a:pt x="0" y="10800"/>
                </a:cubicBezTo>
                <a:cubicBezTo>
                  <a:pt x="5400" y="10800"/>
                  <a:pt x="10800" y="11657"/>
                  <a:pt x="10800" y="12514"/>
                </a:cubicBezTo>
                <a:lnTo>
                  <a:pt x="10800" y="19886"/>
                </a:lnTo>
                <a:cubicBezTo>
                  <a:pt x="10800" y="207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5244000">
            <a:off x="5724360" y="537336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25"/>
                  <a:pt x="10800" y="4050"/>
                </a:cubicBezTo>
                <a:lnTo>
                  <a:pt x="10800" y="6450"/>
                </a:lnTo>
                <a:cubicBezTo>
                  <a:pt x="10800" y="8475"/>
                  <a:pt x="16200" y="10500"/>
                  <a:pt x="21600" y="10500"/>
                </a:cubicBezTo>
                <a:cubicBezTo>
                  <a:pt x="16200" y="10500"/>
                  <a:pt x="10800" y="12525"/>
                  <a:pt x="10800" y="14550"/>
                </a:cubicBezTo>
                <a:lnTo>
                  <a:pt x="10800" y="17550"/>
                </a:lnTo>
                <a:cubicBezTo>
                  <a:pt x="10800" y="195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580536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488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3760" y="6521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hey.org; Batchelor M et al.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45B-F828-452C-BA07-56B426A35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Mechanisms of resistance -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B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oad spectrum of hydrolysis except carbapen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ed since 1988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eat variety in human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oradic cases in livestock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oad spectrum of hydrolysis except 4GCs and carbapen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ed since 1990 in huma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me variants in human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oradic cases in livestock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6AA-015A-4D92-A72E-E63E5C34DC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programs for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E.coli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and non typhoidal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Salmonell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shed susceptibility surveillance data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GCs (cefepime) are limi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.E.S.T and SENTRY surveillance programs identified as sources for human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SSA surveillance program for veterinary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6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uropean surveillance programs  are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GCs as representatives of 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RSS (ceftazidime, ceftriaxone, cefotaxime), Enter-net (cefotaxi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CD7-1A37-4365-ACC7-43035E47AF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E.coli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and non typhoidal 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165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.E.S.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gecycline Evaluation and Surveillance 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human clinical isolates from blood, respiratory tract, urine  and other infections (skin, wound, flu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as tigecycline comparator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ive criteria 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3068640"/>
            <a:ext cx="8280360" cy="1584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3" marL="1551960" indent="-221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NTRY surveillanc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ded 1993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human clinical isolate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ative criteria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32 µg/m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724280"/>
            <a:ext cx="8280360" cy="158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uropean Antimicrobial Susceptibility Surveillance in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llection of foodborne and commensals bacteria from healthy anim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t sl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IC determination of cefepime by broth micro-dilution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epime MIC interpretative criteria 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FD5-11F3-4935-B781-EC2949B40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Cefepime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544500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41300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.E.S.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efepime susceptibility data and percent of resistant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nterobacteriacea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uman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linical isolates collected in Europe in 2004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521400"/>
            <a:ext cx="89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ban D et al., E-326, ICAAC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63640" y="2492280"/>
          <a:ext cx="5832720" cy="3273480"/>
        </p:xfrm>
        <a:graphic>
          <a:graphicData uri="http://schemas.openxmlformats.org/drawingml/2006/table">
            <a:tbl>
              <a:tblPr/>
              <a:tblGrid>
                <a:gridCol w="2578320"/>
                <a:gridCol w="223560"/>
                <a:gridCol w="1284480"/>
                <a:gridCol w="174636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umber of isola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fep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erobacteriaceae </a:t>
                      </a: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.5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2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I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.5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 µg/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753-AEF4-4619-9853-BEE884033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and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 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NT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almonell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pp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collected i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diatric infections in Europe in 2004 to cefep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20" y="652608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edler KA et al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2924280"/>
          <a:ext cx="6193080" cy="2466720"/>
        </p:xfrm>
        <a:graphic>
          <a:graphicData uri="http://schemas.openxmlformats.org/drawingml/2006/table">
            <a:tbl>
              <a:tblPr/>
              <a:tblGrid>
                <a:gridCol w="2724120"/>
                <a:gridCol w="346896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terial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umber of isola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R cefep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6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A83-57F7-4C4B-A4E1-6F240F129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IV. Cefepime susceptibility surveillance for 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E.coli 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and</a:t>
            </a:r>
            <a:r>
              <a:rPr b="1" i="1" lang="de-DE" sz="2800" spc="-1" strike="noStrike">
                <a:solidFill>
                  <a:srgbClr val="339933"/>
                </a:solidFill>
                <a:latin typeface="Arial"/>
              </a:rPr>
              <a:t> Salmo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SS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usceptibility o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Salmonell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pp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collected from healthy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ivestock at slaughter to cefep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2565360"/>
          <a:ext cx="7632360" cy="3065400"/>
        </p:xfrm>
        <a:graphic>
          <a:graphicData uri="http://schemas.openxmlformats.org/drawingml/2006/table">
            <a:tbl>
              <a:tblPr/>
              <a:tblGrid>
                <a:gridCol w="1527120"/>
                <a:gridCol w="1526040"/>
                <a:gridCol w="1525680"/>
                <a:gridCol w="1526040"/>
                <a:gridCol w="152748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imal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C</a:t>
                      </a:r>
                      <a:r>
                        <a:rPr b="0" lang="de-DE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µg/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lmonella</a:t>
                      </a: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s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C</a:t>
                      </a:r>
                      <a:r>
                        <a:rPr b="0" lang="de-DE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90</a:t>
                      </a: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µg/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-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2-200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-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2-200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9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5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c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8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4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n = 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-93240" y="6567480"/>
            <a:ext cx="382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Bywater et al., 2004; *: unpublish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6021360"/>
            <a:ext cx="3673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No resistant isolate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6093000"/>
            <a:ext cx="976320" cy="288720"/>
          </a:xfrm>
          <a:prstGeom prst="rightArrow">
            <a:avLst>
              <a:gd name="adj1" fmla="val 50000"/>
              <a:gd name="adj2" fmla="val 8453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2B2-CB6A-4EE4-9807-05ABC4B5DB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Aspects un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racterization of C3’quaternary ammonium cephalosporins class (4GC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nical indications of 4GCs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chanisms of resistance of 4G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sceptibility surveillance programs f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 non typhoidal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almon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29-5696-473B-9F5A-3A7ACD48B6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17287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A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uropean Antimicrobial Resistance Surveillanc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ded by European Commission in 1999, partner of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going collection of antimicrobial susceptibility tests of invasive bacteria (Blood culture and CSF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860640"/>
            <a:ext cx="8280360" cy="21607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er-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national surveillance network for enteric infection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almonell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verotoxigenic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VTEC)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ampyl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ded by European Commission in 1993, partner of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national database of fully characterized bacteria including data on epidemiology and antibiotic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BEF-DEA5-41C8-8E24-451D444A18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rveillance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544" t="2601" r="23355" b="3192"/>
          <a:stretch/>
        </p:blipFill>
        <p:spPr>
          <a:xfrm>
            <a:off x="539640" y="2276640"/>
            <a:ext cx="4789440" cy="420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32084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484240" y="2781360"/>
            <a:ext cx="34772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2004 : 30119 iso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erage resistance rate : 2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istance breakpoints 1-32 µ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32200" y="1341360"/>
            <a:ext cx="7736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RS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rtion of invasive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solates with resistance to 3GCs in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6D1-3E2D-4F70-985F-50D8CAA811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</a:t>
            </a: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Susceptibility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341360"/>
          <a:ext cx="10404360" cy="49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1040436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76364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63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0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602136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86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6021360"/>
            <a:ext cx="71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00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566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79480" y="85716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36640"/>
            <a:ext cx="8712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Enter-net dat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Salmonella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spp isolates to ampicillin (21.7 to 27.5 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cefotaxime (0.2 to 0.4%) from 2001 to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8920" y="6186600"/>
            <a:ext cx="81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381720"/>
            <a:ext cx="85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uropean enlargement and inclusion of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DB5-5524-476D-8DB8-E27635499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European surveillance progra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-n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cent of resistant isolates of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(VTEC, environmental and anim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servoirs) to cefotaxime from 2005 to first quar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63640" y="2421000"/>
          <a:ext cx="6264000" cy="2759040"/>
        </p:xfrm>
        <a:graphic>
          <a:graphicData uri="http://schemas.openxmlformats.org/drawingml/2006/table">
            <a:tbl>
              <a:tblPr/>
              <a:tblGrid>
                <a:gridCol w="2265840"/>
                <a:gridCol w="1987920"/>
                <a:gridCol w="2010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mber of iso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of re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st quar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995640" y="5877000"/>
            <a:ext cx="4103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No resistance to ESC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5300640"/>
            <a:ext cx="808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95600" y="5157720"/>
            <a:ext cx="32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efotaxime R breakpoint &gt; 1µg/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595008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7C5-6310-42D8-A5D2-527BF43058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V. Susceptibility surveillance -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istance to ESC in human clinical case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imately 3 % i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.coli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solated from invasive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Very low in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almonell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&lt; 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t found in VTEC (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C68-057B-4215-876F-56687A35CA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V. Summary and 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80964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GC structure confers a low affinity for most 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lactamases including Am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sistance due to ESBL emerged about 15 years ago and evolved to a great variety in human iso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ly sporadic cases reported of ESBL and AmpC in veterinary medicin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 4GC resistance in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.coli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almonell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pp. in animals at sl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5589720"/>
            <a:ext cx="976320" cy="503280"/>
          </a:xfrm>
          <a:prstGeom prst="rightArrow">
            <a:avLst>
              <a:gd name="adj1" fmla="val 50000"/>
              <a:gd name="adj2" fmla="val 484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157720"/>
            <a:ext cx="5761080" cy="14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use of cefquinome for more than 10 years in Europe has not promoted the emergence of resistance in human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8A4-4E1E-4757-8AA0-6D0ECF2261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433520"/>
            <a:ext cx="8569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Penams (Penicill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Cephems (</a:t>
            </a:r>
            <a:r>
              <a:rPr b="0" lang="en-US" sz="2200" spc="-1" strike="noStrike">
                <a:solidFill>
                  <a:srgbClr val="339933"/>
                </a:solidFill>
                <a:latin typeface="Arial"/>
                <a:ea typeface="Arial"/>
              </a:rPr>
              <a:t>Cephalosporin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, Cephamycins, Oxa-1-cephem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Carbacephems, Isocephe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Monocyclic β-lactams (monobact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Penems (carbapenems</a:t>
            </a:r>
            <a:r>
              <a:rPr b="0" lang="fr-FR" sz="22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7468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lassification - </a:t>
            </a:r>
            <a:r>
              <a:rPr b="1" lang="en-US" sz="2800" spc="-1" strike="noStrike">
                <a:solidFill>
                  <a:srgbClr val="3399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-lactam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58972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4724280"/>
            <a:ext cx="6984720" cy="1434600"/>
          </a:xfrm>
          <a:prstGeom prst="rect">
            <a:avLst/>
          </a:prstGeom>
          <a:solidFill>
            <a:srgbClr val="d3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3’quaternary ammonium cephalosporins (4GCs) belong to the Cephem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ogether with 3GCs, they are identified as extended spectrum cephalosporins (E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29D-151E-4C05-9C0C-8841A4DF6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94400" y="1674720"/>
            <a:ext cx="1936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88080" y="1628280"/>
            <a:ext cx="2764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594560" y="1595160"/>
            <a:ext cx="20808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8480" y="1050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660800" y="1158480"/>
            <a:ext cx="203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3760" y="1152360"/>
            <a:ext cx="223560" cy="13824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64560" y="128592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64560" y="1628640"/>
            <a:ext cx="2746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3800" y="1565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8440" y="128592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000560" y="1628640"/>
            <a:ext cx="243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00920" y="128592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1285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98100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53320" y="112680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6280" y="97956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627600" y="104472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00920" y="979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303600" y="1042920"/>
            <a:ext cx="82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19760" y="1038240"/>
            <a:ext cx="24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2000" y="13190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3760" y="1127160"/>
            <a:ext cx="14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76920" y="205272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88080" y="1800360"/>
            <a:ext cx="180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28760" y="18050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32080" y="1590840"/>
            <a:ext cx="16380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73840" y="1633680"/>
            <a:ext cx="16200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43080" y="15494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N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139240" y="1674360"/>
            <a:ext cx="212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44080" y="66294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2960" y="685800"/>
            <a:ext cx="792360" cy="503280"/>
          </a:xfrm>
          <a:prstGeom prst="ellipse">
            <a:avLst/>
          </a:prstGeom>
          <a:solidFill>
            <a:srgbClr val="e7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10400" y="24210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Zwitterionic cephems (4G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924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7720" y="3716280"/>
            <a:ext cx="1590480" cy="916920"/>
          </a:xfrm>
          <a:prstGeom prst="rect">
            <a:avLst/>
          </a:prstGeom>
          <a:solidFill>
            <a:srgbClr val="db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ep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pi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quinom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57400" y="1577880"/>
            <a:ext cx="1936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51080" y="1531440"/>
            <a:ext cx="27648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157560" y="1498320"/>
            <a:ext cx="20808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981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223800" y="1083960"/>
            <a:ext cx="203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1076400"/>
            <a:ext cx="223920" cy="13788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7560" y="1214280"/>
            <a:ext cx="144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7560" y="1536840"/>
            <a:ext cx="2743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6800" y="1473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81440" y="118908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99920" y="1555920"/>
            <a:ext cx="24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63920" y="118908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19700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95360" y="88884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416320" y="105048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280" y="887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90600" y="968400"/>
            <a:ext cx="7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63920" y="887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66600" y="946080"/>
            <a:ext cx="82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760" y="941400"/>
            <a:ext cx="24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5000" y="12272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06400" y="1030320"/>
            <a:ext cx="18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9920" y="196056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51080" y="1708200"/>
            <a:ext cx="180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91760" y="17128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95440" y="1494000"/>
            <a:ext cx="1634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36840" y="1541520"/>
            <a:ext cx="1620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00320" y="1457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01880" y="1582200"/>
            <a:ext cx="212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93640"/>
            <a:ext cx="792000" cy="503280"/>
          </a:xfrm>
          <a:prstGeom prst="ellipse">
            <a:avLst/>
          </a:prstGeom>
          <a:solidFill>
            <a:srgbClr val="db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000" y="22701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Monoanionic cephems (3G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63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317760"/>
            <a:ext cx="14414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otax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triax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tiofu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Arial"/>
              </a:rPr>
              <a:t>Cefoveci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508640"/>
            <a:ext cx="1936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51640" y="4443480"/>
            <a:ext cx="29196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73600" y="4410000"/>
            <a:ext cx="20808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27520" y="3865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740560" y="3973680"/>
            <a:ext cx="20304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2800" y="3967200"/>
            <a:ext cx="223920" cy="138240"/>
          </a:xfrm>
          <a:custGeom>
            <a:avLst/>
            <a:gdLst/>
            <a:ahLst/>
            <a:rect l="l" t="t" r="r" b="b"/>
            <a:pathLst>
              <a:path w="305" h="176">
                <a:moveTo>
                  <a:pt x="0" y="163"/>
                </a:moveTo>
                <a:lnTo>
                  <a:pt x="9" y="176"/>
                </a:lnTo>
                <a:lnTo>
                  <a:pt x="305" y="20"/>
                </a:lnTo>
                <a:lnTo>
                  <a:pt x="277" y="10"/>
                </a:lnTo>
                <a:lnTo>
                  <a:pt x="249" y="0"/>
                </a:lnTo>
                <a:lnTo>
                  <a:pt x="0" y="163"/>
                </a:lnTo>
                <a:close/>
              </a:path>
            </a:pathLst>
          </a:custGeom>
          <a:solidFill>
            <a:srgbClr val="000000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4100400"/>
            <a:ext cx="144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4443480"/>
            <a:ext cx="27468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3200" y="4379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7480" y="4100400"/>
            <a:ext cx="144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9600" y="4443480"/>
            <a:ext cx="24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79960" y="4100040"/>
            <a:ext cx="180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9960" y="410040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11760" y="3795840"/>
            <a:ext cx="9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932360" y="3941280"/>
            <a:ext cx="1476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79404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06640" y="385920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79960" y="37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383000" y="3857760"/>
            <a:ext cx="8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24360" y="3854160"/>
            <a:ext cx="222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6080" y="413388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22800" y="3941640"/>
            <a:ext cx="14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5960" y="486720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COO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4653000"/>
            <a:ext cx="144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7800" y="46195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11840" y="4405320"/>
            <a:ext cx="16344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52880" y="4448160"/>
            <a:ext cx="1620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22480" y="43639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N</a:t>
            </a:r>
            <a:r>
              <a:rPr b="1" lang="en-US" sz="16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218280" y="4489560"/>
            <a:ext cx="212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3500280"/>
            <a:ext cx="792360" cy="503280"/>
          </a:xfrm>
          <a:prstGeom prst="ellipse">
            <a:avLst/>
          </a:prstGeom>
          <a:solidFill>
            <a:srgbClr val="db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30160" y="5013360"/>
            <a:ext cx="29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Dianionic cephems </a:t>
            </a: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(3G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2520" y="5950080"/>
            <a:ext cx="146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Ceftazi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" y="652140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Cephems only used in veterinar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468360" y="0"/>
            <a:ext cx="9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haracterization – Chemical structure of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CFB-D80E-43C8-A4B7-F1B55707F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. Characterization – Dual mod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79840" cy="4402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59280" y="1700280"/>
            <a:ext cx="4032360" cy="448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Rapid penetr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the outer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Rapid cross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eriplasm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Low affinity for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lactam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High affinity f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enicillin Bi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teins (P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1160" y="655308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ikaido et al., 1990; Pucci et al. 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EBB-30F3-4333-A456-3F154251B4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. Clinical indications of 4GCs in human    medicine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16000" y="1628640"/>
          <a:ext cx="7273800" cy="5035680"/>
        </p:xfrm>
        <a:graphic>
          <a:graphicData uri="http://schemas.openxmlformats.org/drawingml/2006/table">
            <a:tbl>
              <a:tblPr/>
              <a:tblGrid>
                <a:gridCol w="2441520"/>
                <a:gridCol w="483228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fepime – Cefpi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injecta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in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Respiratory tract infections/pneum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Bacteriemia/septi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Complicated urinary tract infections (U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Biliary tract inf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iric therapy for neutropenic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042920" y="6165720"/>
            <a:ext cx="60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1F4-DD9E-4FED-B22F-0170EC42B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. Clinical indications of cefquinome in veterinary medicine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00280"/>
          <a:ext cx="8229600" cy="4556160"/>
        </p:xfrm>
        <a:graphic>
          <a:graphicData uri="http://schemas.openxmlformats.org/drawingml/2006/table">
            <a:tbl>
              <a:tblPr/>
              <a:tblGrid>
                <a:gridCol w="1522440"/>
                <a:gridCol w="1944720"/>
                <a:gridCol w="1716120"/>
                <a:gridCol w="1657440"/>
                <a:gridCol w="1388880"/>
              </a:tblGrid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j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a-ma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ind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onatal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ute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mas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o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stitis Metritis Agalactiae (M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ning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piderm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iratory  tract inf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onatal </a:t>
                      </a:r>
                      <a:r>
                        <a:rPr b="1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.coli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  mas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328-AB68-4F44-B2AA-725A4CCB7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Resistance mechanisms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er-membran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nor epidemiolog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ermeability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levance in Gram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fflux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9933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-lactamases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ajor epidemiological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levance in Gram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nicillin Bindin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levance in Gram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tein (PB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teration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4797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841600">
            <a:off x="3779640" y="2565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516640"/>
            <a:ext cx="532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B94-FC24-4077-9A9A-988D50B92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a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II. Resistance mechanisms – Major </a:t>
            </a: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β</a:t>
            </a:r>
            <a:r>
              <a:rPr b="1" lang="de-DE" sz="2800" spc="-1" strike="noStrike">
                <a:solidFill>
                  <a:srgbClr val="339933"/>
                </a:solidFill>
                <a:latin typeface="Arial"/>
                <a:ea typeface="Arial"/>
              </a:rPr>
              <a:t>-lactam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-lactamase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are divided in four cl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Ambler classif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Class 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rrow- spectrum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lactamase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M-1, TEM-2, SHV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SBLs: TEM, SHV-derivatives, CTX-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 B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tallo enzymes: carbapenem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Class C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AmpC: FOX, MOX, CMY, A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ass D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xacillin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5445000"/>
            <a:ext cx="5616720" cy="114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ost important beta-lactamases are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cephalosporinases (AmpC) and Extended       Spectrum Beta-Lactamases (ESB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580536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5B1-8260-433B-BACF-E6A55A386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0:02:46Z</dcterms:created>
  <dc:creator>Andre Bryskier</dc:creator>
  <dc:description/>
  <cp:keywords>CVM veterinary VMAC Europe 4 GC's Bryskier</cp:keywords>
  <dc:language>en-US</dc:language>
  <cp:lastModifiedBy>dbrooks</cp:lastModifiedBy>
  <dcterms:modified xsi:type="dcterms:W3CDTF">2006-10-04T20:43:37Z</dcterms:modified>
  <cp:revision>169</cp:revision>
  <dc:subject>Bryskier - Aspects of the use of 4 GCs in human and veterinary medicine in Europe </dc:subject>
  <dc:title>VMAC Fall 2006 Meeting Presentations - Bryskier</dc:title>
</cp:coreProperties>
</file>