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20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gfa Rotis Sans Serif ExBd"/>
              </a:rPr>
              <a:t>Click to move the slide</a:t>
            </a:r>
            <a:endParaRPr b="1" lang="en-US" sz="1400" spc="-1" strike="noStrike">
              <a:solidFill>
                <a:srgbClr val="ffff00"/>
              </a:solidFill>
              <a:latin typeface="Agfa Rotis Sans Serif ExB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9CC2-D41C-4B48-B9FA-843E5C1A7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9240" y="399708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D6BB-B8B4-4AE0-A2C9-D3A21D7D9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40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9F6A-2460-4650-8F19-03897A6D3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632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340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924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632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340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2CDA-A6D8-4D60-847C-846A620C5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630000"/>
            <a:ext cx="91440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3B9E-90AC-4169-9418-892F9BA30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19240" y="399708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632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5340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1924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632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5340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1916-BE6C-45BF-861C-A7E88E63F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F30F-A9E2-47A9-8F98-8A78E00D4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A415-0703-4920-AA3B-114BE9342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630000"/>
            <a:ext cx="91440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A5C3-8098-4846-85C8-3397904F8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0B84-CAF7-41E2-A1C1-E305F04E5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40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A12F-D211-4A66-8331-1D53A13CD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3D7F-7379-452C-9348-F177370C9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18" t="7926" r="0" b="28463"/>
          <a:stretch/>
        </p:blipFill>
        <p:spPr>
          <a:xfrm>
            <a:off x="0" y="0"/>
            <a:ext cx="1474920" cy="120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597120" y="6589440"/>
            <a:ext cx="1694160" cy="26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D597-806A-4622-BAB3-982CBE5E2A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292000" y="0"/>
            <a:ext cx="38595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Department of Agriculture eGovernment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06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0760" y="6515280"/>
            <a:ext cx="821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278920" y="6230880"/>
            <a:ext cx="86508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416400"/>
          </a:xfrm>
          <a:prstGeom prst="rect">
            <a:avLst/>
          </a:prstGeom>
          <a:solidFill>
            <a:srgbClr val="005231"/>
          </a:solidFill>
          <a:ln w="9360">
            <a:solidFill>
              <a:srgbClr val="005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4769" r="0" b="26851"/>
          <a:stretch/>
        </p:blipFill>
        <p:spPr>
          <a:xfrm>
            <a:off x="0" y="0"/>
            <a:ext cx="3908520" cy="341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938920" y="600120"/>
            <a:ext cx="1361880" cy="985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22760" y="1878120"/>
            <a:ext cx="3899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.S. Department of Agri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overnment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43560"/>
            <a:ext cx="9144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3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gfa Rotis Sans Serif ExBd"/>
              </a:rPr>
              <a:t>Click to edit the title text format</a:t>
            </a:r>
            <a:endParaRPr b="1" lang="en-US" sz="1400" spc="-1" strike="noStrike">
              <a:solidFill>
                <a:srgbClr val="ffff00"/>
              </a:solidFill>
              <a:latin typeface="Agfa Rotis Sans Serif ExB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303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208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6036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260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260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6880" y="3733560"/>
            <a:ext cx="82836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uthentication Initiati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cy Funding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overnment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14280" y="1604880"/>
            <a:ext cx="847404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PEA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uthentication Funding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160" y="120636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720" y="154944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1532-3F5F-4A53-88BB-01719F691E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09880" y="2257560"/>
            <a:ext cx="3335400" cy="268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F1B5-B850-413F-A782-BD120C2819E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endix A –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cy GPEA and eAuthentication Responsibi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56120" y="2300400"/>
            <a:ext cx="5083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D GPEA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30200" y="2449440"/>
            <a:ext cx="5936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lian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84480" y="2598840"/>
            <a:ext cx="6836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action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71680" y="2151000"/>
            <a:ext cx="371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3680" y="2300400"/>
            <a:ext cx="5875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lectroni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14720" y="2449440"/>
            <a:ext cx="6836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miss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13280" y="2598840"/>
            <a:ext cx="689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b Tool(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81320" y="1852560"/>
            <a:ext cx="5554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le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1280" y="2001960"/>
            <a:ext cx="835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thentic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62520" y="2151000"/>
            <a:ext cx="7916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act Profil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04280" y="2300400"/>
            <a:ext cx="7095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ssessmen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56120" y="2449440"/>
            <a:ext cx="605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for Oct 21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97800" y="2598840"/>
            <a:ext cx="689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ac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22720" y="2300400"/>
            <a:ext cx="5554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le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9840" y="2449440"/>
            <a:ext cx="5630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98520" y="2598840"/>
            <a:ext cx="7718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23720" y="2300400"/>
            <a:ext cx="8265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firm GP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95640" y="2449440"/>
            <a:ext cx="8816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70680" y="2598840"/>
            <a:ext cx="3330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a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77080" y="2151000"/>
            <a:ext cx="5554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le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59440" y="2300400"/>
            <a:ext cx="5875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grat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7720" y="2449440"/>
            <a:ext cx="5738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port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90040" y="2598840"/>
            <a:ext cx="4975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45320" y="2449440"/>
            <a:ext cx="10980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hedule/Comple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11120" y="2598840"/>
            <a:ext cx="1134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-Design Mee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32960" y="2449440"/>
            <a:ext cx="10980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hedule/Comple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10000" y="2598840"/>
            <a:ext cx="9122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ign Mee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3680" y="2751120"/>
            <a:ext cx="281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M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42080" y="27637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50360" y="276372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73200" y="2763720"/>
            <a:ext cx="54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120" y="2908440"/>
            <a:ext cx="3754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PHI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42080" y="29210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50360" y="292104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20400" y="292104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160" y="3065400"/>
            <a:ext cx="2491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R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42080" y="30780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49440" y="3078000"/>
            <a:ext cx="191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2840" y="3222720"/>
            <a:ext cx="433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CSRE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42080" y="32353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54320" y="3235320"/>
            <a:ext cx="58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 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8640" y="3379680"/>
            <a:ext cx="1958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42080" y="33926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99320" y="33926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2680" y="3537000"/>
            <a:ext cx="2340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R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42080" y="35496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9440" y="3549600"/>
            <a:ext cx="191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800" y="3693960"/>
            <a:ext cx="23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F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42080" y="37051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50360" y="370512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18600" y="37051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73200" y="3705120"/>
            <a:ext cx="54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7640" y="3851280"/>
            <a:ext cx="2491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FN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42080" y="38624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99320" y="38624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73200" y="3862440"/>
            <a:ext cx="54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4760" y="4006800"/>
            <a:ext cx="1562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F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42080" y="40194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54320" y="4019400"/>
            <a:ext cx="58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 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73200" y="4019400"/>
            <a:ext cx="54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9800" y="4164120"/>
            <a:ext cx="23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FS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42080" y="41767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29480" y="41767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50360" y="417672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8440" y="4321080"/>
            <a:ext cx="232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F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42080" y="43340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50360" y="433404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32360" y="4334040"/>
            <a:ext cx="765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 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73200" y="4334040"/>
            <a:ext cx="54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4560" y="4478400"/>
            <a:ext cx="371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GIPS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42080" y="44910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54320" y="4491000"/>
            <a:ext cx="58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 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8600" y="44910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4840" y="4635360"/>
            <a:ext cx="3283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NAS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42080" y="46483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29480" y="46483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99320" y="46483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18600" y="46483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4400" y="4648320"/>
            <a:ext cx="54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154000" y="4648320"/>
            <a:ext cx="544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2680" y="4792680"/>
            <a:ext cx="335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NRC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42080" y="480528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9480" y="480528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50360" y="480528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0520" y="4950000"/>
            <a:ext cx="2462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B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42080" y="49608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29480" y="49608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50360" y="496080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0160" y="5106960"/>
            <a:ext cx="256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H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42080" y="51181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99320" y="51181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20400" y="511812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5840" y="5262480"/>
            <a:ext cx="32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MA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42080" y="52754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29480" y="52754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49440" y="5275440"/>
            <a:ext cx="191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720" y="5419800"/>
            <a:ext cx="2566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U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42080" y="542916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50360" y="542916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20400" y="5429160"/>
            <a:ext cx="5889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3320" y="1847880"/>
            <a:ext cx="25200" cy="37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71720" y="1873080"/>
            <a:ext cx="1440" cy="36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71720" y="1873080"/>
            <a:ext cx="10800" cy="369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73240" y="1873080"/>
            <a:ext cx="1800" cy="36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73240" y="1873080"/>
            <a:ext cx="11160" cy="369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33640" y="1873080"/>
            <a:ext cx="1800" cy="36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33640" y="1873080"/>
            <a:ext cx="12600" cy="369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75040" y="1873080"/>
            <a:ext cx="1800" cy="36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75040" y="1873080"/>
            <a:ext cx="12600" cy="369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18240" y="1873080"/>
            <a:ext cx="1440" cy="36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18240" y="1873080"/>
            <a:ext cx="10800" cy="369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48480" y="1873080"/>
            <a:ext cx="1440" cy="36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48480" y="1873080"/>
            <a:ext cx="12600" cy="369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49920" y="1873080"/>
            <a:ext cx="1800" cy="36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49920" y="1873080"/>
            <a:ext cx="11160" cy="369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831080" y="1873080"/>
            <a:ext cx="1800" cy="36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31080" y="1873080"/>
            <a:ext cx="11160" cy="369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015480" y="1873080"/>
            <a:ext cx="25200" cy="371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8520" y="1847880"/>
            <a:ext cx="891216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8520" y="273996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8520" y="2739960"/>
            <a:ext cx="8886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8520" y="289728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8520" y="2897280"/>
            <a:ext cx="8886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8520" y="305424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8520" y="3054240"/>
            <a:ext cx="8886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8520" y="320976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8520" y="3209760"/>
            <a:ext cx="88869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8520" y="336708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8520" y="3367080"/>
            <a:ext cx="8886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520" y="352440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8520" y="3524400"/>
            <a:ext cx="8886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8520" y="368136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8520" y="3681360"/>
            <a:ext cx="8886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8520" y="383868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8520" y="3838680"/>
            <a:ext cx="8886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8520" y="399564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8520" y="3995640"/>
            <a:ext cx="8886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8520" y="415296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8520" y="4152960"/>
            <a:ext cx="8886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8520" y="430992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8520" y="4309920"/>
            <a:ext cx="8886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8520" y="446580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8520" y="4465800"/>
            <a:ext cx="8886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8520" y="462276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8520" y="4622760"/>
            <a:ext cx="8886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8520" y="478008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8520" y="4780080"/>
            <a:ext cx="8886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8520" y="493704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8520" y="4937040"/>
            <a:ext cx="88869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8520" y="509436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8520" y="5094360"/>
            <a:ext cx="8886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8520" y="5251320"/>
            <a:ext cx="888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8520" y="5251320"/>
            <a:ext cx="8886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8520" y="5408640"/>
            <a:ext cx="888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8520" y="5408640"/>
            <a:ext cx="8886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8520" y="5567400"/>
            <a:ext cx="891216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12280" y="277668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12280" y="29336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12280" y="309096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12280" y="32479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12280" y="34052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12280" y="35622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12280" y="371808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12280" y="38750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12280" y="403236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12280" y="41893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12280" y="43466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12280" y="45036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12280" y="46609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12280" y="48182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2280" y="497376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12280" y="51307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12280" y="52880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12280" y="54421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77440" y="27637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77440" y="29210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77440" y="30780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77440" y="32353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77440" y="33926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977440" y="35496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77440" y="37051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77440" y="38624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77440" y="40194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77440" y="41767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77440" y="44910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77440" y="46483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77440" y="480528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77440" y="496080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77440" y="511812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77440" y="527544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77440" y="5429160"/>
            <a:ext cx="4914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1125-5F6D-43DE-853B-46BD52DFF97B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4280" y="1604880"/>
            <a:ext cx="847404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PEA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uthentication Funding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6C97-9D18-4F60-BF45-30137BAE630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160" y="6134040"/>
            <a:ext cx="2400120" cy="6606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6197760"/>
            <a:ext cx="431640" cy="139680"/>
          </a:xfrm>
          <a:prstGeom prst="rect">
            <a:avLst/>
          </a:prstGeom>
          <a:solidFill>
            <a:srgbClr val="e7e5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920" y="6180120"/>
            <a:ext cx="1165320" cy="2307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d Ta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6388200"/>
            <a:ext cx="431640" cy="1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00" y="6370560"/>
            <a:ext cx="1424160" cy="2307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uthentication Ta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6578640"/>
            <a:ext cx="431640" cy="1396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5480" y="6548400"/>
            <a:ext cx="1363320" cy="2307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cy GPEA Ta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05640" y="2514600"/>
            <a:ext cx="1397160" cy="11055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ertify Registr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1511280"/>
            <a:ext cx="0" cy="459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91040" y="1486080"/>
            <a:ext cx="0" cy="459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04120" y="1523880"/>
            <a:ext cx="0" cy="459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cy GPEA and eAuthentication Responsi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1219320"/>
            <a:ext cx="124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97960" y="1219320"/>
            <a:ext cx="124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84880" y="1219320"/>
            <a:ext cx="1333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5040" y="1219320"/>
            <a:ext cx="124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92640" y="5343480"/>
            <a:ext cx="1434960" cy="743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Coordination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55600" y="4622760"/>
            <a:ext cx="1231920" cy="2581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 ’03 F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9680" y="4610160"/>
            <a:ext cx="1269720" cy="2581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 ’04 F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2425680"/>
            <a:ext cx="1206360" cy="5864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 GPEA-Compliant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8560" y="1612800"/>
            <a:ext cx="1206360" cy="7506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Electronic Submission Web Tool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55600" y="3137040"/>
            <a:ext cx="1231920" cy="7506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uthentication Impact Profile 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11360" y="2107800"/>
            <a:ext cx="291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3200" y="3162240"/>
            <a:ext cx="304560" cy="20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5600" y="3962520"/>
            <a:ext cx="1231920" cy="5864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GPEA Implementation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03520" y="1828800"/>
            <a:ext cx="2260440" cy="18154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sign Applic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9680" y="4114800"/>
            <a:ext cx="1269720" cy="4222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MB Approv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43680" y="1841400"/>
            <a:ext cx="2095200" cy="18154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ild Applic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05640" y="2057400"/>
            <a:ext cx="1371600" cy="4222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1574640"/>
            <a:ext cx="1079640" cy="4222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8840" y="4114800"/>
            <a:ext cx="1168560" cy="7506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 eRecords Disposition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4419720"/>
            <a:ext cx="1447920" cy="8571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rain Perso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3000" y="2540160"/>
            <a:ext cx="1600200" cy="42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eAuth 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13000" y="2984400"/>
            <a:ext cx="1600200" cy="586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eAuth Identity &amp; Access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41680" y="2095560"/>
            <a:ext cx="1549440" cy="42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echnical  eAuth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94440" y="2120760"/>
            <a:ext cx="1765080" cy="42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echnical eAuth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13480" y="2565360"/>
            <a:ext cx="1574640" cy="42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 eAuth 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13480" y="3009960"/>
            <a:ext cx="1574640" cy="586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 eAuth Identity &amp; Access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05640" y="4952880"/>
            <a:ext cx="1371600" cy="258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L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05640" y="4699080"/>
            <a:ext cx="1371600" cy="258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Adm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111480"/>
            <a:ext cx="1066680" cy="42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y LRA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42120" y="2829240"/>
            <a:ext cx="1076400" cy="21024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 Goes Production (10/2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343480"/>
            <a:ext cx="1434960" cy="743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eAuth/ Design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1040" y="5343480"/>
            <a:ext cx="1434960" cy="743040"/>
          </a:xfrm>
          <a:prstGeom prst="rect">
            <a:avLst/>
          </a:prstGeom>
          <a:solidFill>
            <a:srgbClr val="e7e5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d Reporting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92840" y="5343480"/>
            <a:ext cx="1434960" cy="743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/ Certification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05640" y="5343480"/>
            <a:ext cx="1435320" cy="743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ion Read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9945-2659-44F4-A34E-571E6694807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3560" y="116856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4280" y="1604880"/>
            <a:ext cx="847404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PEA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uthentication Funding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0C06-27CF-41A5-B9B9-EEF35918190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4120" y="1233360"/>
            <a:ext cx="408168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X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 of central user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 of USDA-wide registration tool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 of USDA-wide user administration and role assignment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Software Lic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28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temin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28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dentityM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28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28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e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28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ing and development enviro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28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ntralized user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GSA eAuthentication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ions and Maintenance of curr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4280" indent="-221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94280" y="1233360"/>
            <a:ext cx="391644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ical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 s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quirements gath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ing as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 agent installation as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teminder policy 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lp Des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3920" y="5792760"/>
            <a:ext cx="8729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3 eAuthentication C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00CB-3EB0-4AA5-9368-EDE81AF49D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4120" y="1233360"/>
            <a:ext cx="443700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X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 of remote registration tool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ions and Maintenance of curr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12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ing f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12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administr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12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teminder, IdentityMinder, WebLogic and ActiveDirectory administr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keep of central user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12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curity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12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iodic external and CyberSecurity audi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itional software Lic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inuing integration with GSA eAuthentication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inuous improvements to the eAuthentication 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12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including any potential upgrades to support assurance level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94280" y="1233360"/>
            <a:ext cx="391644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ical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 s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quirements gath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ing as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 agent installation as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teminder policy 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lp Des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3920" y="5792760"/>
            <a:ext cx="8729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4 eAuthentication C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3DB6-8E91-4A7B-9E14-760D32F6C2F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9240" y="1373040"/>
            <a:ext cx="862776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fixed and variable costs for the eAuthentication initiative are broken out as follows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Agency Integration costs will vary by agency depending on the number and type of interactions and development currently underway or already complete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uthentication C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09600" y="2249640"/>
          <a:ext cx="6176880" cy="2360520"/>
        </p:xfrm>
        <a:graphic>
          <a:graphicData uri="http://schemas.openxmlformats.org/drawingml/2006/table">
            <a:tbl>
              <a:tblPr/>
              <a:tblGrid>
                <a:gridCol w="3089520"/>
                <a:gridCol w="308736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 2003 Outstanding Fixed eAuthentication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38,5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 2004 Fixed eAuthentication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,46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 2003  and FY 2004 Variable eAuthentication Integration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291960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 2003 and 2004 Agency Integration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11240" y="370368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9720" y="6494400"/>
            <a:ext cx="8729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TE:  All costs are estimates until requirements gathering process is completed by all a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B42C-47D7-4CB0-BA36-BC3B0132814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uthentication ’03 Funding Mode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230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602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42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3040" y="1384200"/>
            <a:ext cx="876312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gencies will contribute to the fixed costs based on their anticipated % of use and contribute towards the integration costs at the time of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xed Costs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Variabl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otal fixed cost x % of total interactions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er-application cost x # of applic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200" y="5803920"/>
            <a:ext cx="8369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tailed variable costs for each application will be determined with the Agencies upon completion of the Design mee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60920" y="3035160"/>
            <a:ext cx="42544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riable Cost Facto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exity of Application 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umber of URLs to be prot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stimates range from 40 man-hours to integration a simple web application (~$6,000) to 400 man-hours (~$60,000) for the most complex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8280" y="3035160"/>
            <a:ext cx="425448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xed Cost Compon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 of central user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 of USDA-wide registration tool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tion of USDA-wide user administration and role assignment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Software Lic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GSA eAuthentication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ions and Maintenance of curr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1CA7-EC6A-4969-BC55-AF74F227D3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9240" y="1309680"/>
            <a:ext cx="87296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rvice Center Agencies have contributed $3.38M towards the overall FY 03 eAuthentication Fixed Costs, leaving $1.14M in outstanding cost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Y03 Overall Cos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FY03 Outstanding Funding - $1.14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uthentication ’03 Fixed Costs Funding Mode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449600" y="2260440"/>
          <a:ext cx="3716640" cy="41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9600" y="2260440"/>
                    <a:ext cx="37166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0" y="3703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2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9720" y="6494400"/>
            <a:ext cx="8729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TE:  All costs are estimates until requirements gathering process is completed by all a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60520" y="2260440"/>
          <a:ext cx="3552840" cy="418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520" y="2260440"/>
                    <a:ext cx="35528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A9B6-0810-4028-9C5F-81C74533708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7:30:30Z</dcterms:created>
  <dc:creator>Martin_W_Rodgers</dc:creator>
  <dc:description>Accenture Sample Presentation v9.1</dc:description>
  <dc:language>en-US</dc:language>
  <cp:lastModifiedBy>jennifer.l.combs</cp:lastModifiedBy>
  <cp:lastPrinted>2000-08-10T20:43:38Z</cp:lastPrinted>
  <dcterms:modified xsi:type="dcterms:W3CDTF">2003-08-12T13:56:22Z</dcterms:modified>
  <cp:revision>1073</cp:revision>
  <dc:subject/>
  <dc:title>PowerPoint Presentation</dc:title>
</cp:coreProperties>
</file>