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A03-C757-43E1-8900-95B51524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462-4EC9-492A-8BF2-6409801D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8127-8526-4E1D-874F-88FD2032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344-40EB-4467-8C84-EDB8FD98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A1C-5E4C-41DE-A702-54B45038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9DF-1B00-481A-94FE-417C309A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937-14DC-4C2D-B76F-12AF9449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83A-9188-4CAC-BBA7-2B026D29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3C1-9DD2-4135-9167-AA85F46B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5CF8-CDBD-4D32-A894-DAAEE4DC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A51-9AB1-4D7C-98B0-A4DC0540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B59-F35B-4373-92C9-96CFDD36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BA0F-52DE-4B90-9EB4-FA36FE814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to Diversity Cou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3760" y="621360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ob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81280" y="457200"/>
            <a:ext cx="1963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Activiti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lot Leadership Development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O sponsored Pilot Leadership Development Program for the Financial and Resource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tion: 9 months (starts in 11/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Size: 18 journey- or senior-level personnel (GS11-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ticipants to develop competencies to become forward-looking leaders, capable of successfully helping our community define and create its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9051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825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336-4D29-4103-82F2-33527DAB5C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Activiti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lot Leadership Development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utilizes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er Director’s Colloqu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mentor-protégé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and group co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Development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dowing a mid- to senior-level manager for 1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l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iews with managers, special readings of articles/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 periodic self-assessment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82560" cy="1523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9480" y="19051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5A3D-2824-4934-AC52-31E1147CA8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R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ve Learning Group (CLG) for Supervi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 Diversity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s and Get Toge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 A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ru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ot Leadership Development Program for the Financial and Resource Management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75248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825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A69-AABD-42BC-9294-1A5B2CE588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t Activiti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on of the R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olidated 2 stovepipe organizations into one on 8/14/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t with a huge issue of res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s have been broken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employees no longer see HQ or GSFC, they see one organization planning for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051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825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D84-E205-4E55-AA08-DB346E6656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t Activiti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on of the R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have we been successfu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ment from supervisors and leaders within organization - involved throughou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page - ku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051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825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AE6-2C4E-4BED-999A-01E69396EA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ve Learning Group for Supervi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are individuals and partners who are dedicated to personal transformation and growth. We work to continually achieve excellence in serving our internal and external customers. We are committed to a work environment that reflects our shared values of respect, freedom, trust, integrity, balance, and crea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ised of all Code 150 Supervi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 monthly for 3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develop and maintain a high degree of  trust and respect among supervisors and eliminate barriers between accounting and resource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75248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825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1CAB-DC6B-42A9-9FBB-EBEAFD057B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 Diversity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ised of first line supervi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first line superviso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group - must understand the value of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mendous impact on employees - set the tone of th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ie Baker - l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ing arm for d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9051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825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C6DB-63FA-4E53-821B-61237E011D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s and Get Togeth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rterly All Hands meetin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 Annual Pic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 of Fiscal Year Pizza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 offsite retreat with Supervis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9051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825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514-2C83-4A39-BBBC-92AB904792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Aw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nual award program to recognize and reward exceptional members (civil servant and contractor) of the CFO community who best exemplify the following quality val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do attit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vity/Inno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eam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service orie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ards ceremony is held in conjunction with our CFO pic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9051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825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25B5-9A92-483B-8D70-4B65C4E3C4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150 Diversity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ru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relationships with University of Maryland, Towson University and Gallaudet for recruiting entry level 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ing to build relationships with University of Puerto Rico and Rochester Institute of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ggling to bring on board entry level accoun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9051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825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54E7-A906-49B9-A8E7-546FE4E219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16:37:25Z</dcterms:created>
  <dc:creator>PGALEDD</dc:creator>
  <dc:description/>
  <dc:language>en-US</dc:language>
  <cp:lastModifiedBy>SFTONGUE</cp:lastModifiedBy>
  <cp:lastPrinted>2001-10-09T16:58:56Z</cp:lastPrinted>
  <dcterms:modified xsi:type="dcterms:W3CDTF">2005-03-01T14:42:55Z</dcterms:modified>
  <cp:revision>13</cp:revision>
  <dc:subject/>
  <dc:title>Code 150 Diversity Activities</dc:title>
</cp:coreProperties>
</file>