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D3D4-D32D-4EE8-AECA-31E01178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785484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3000" y="4254480"/>
            <a:ext cx="785484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7A0A-90D9-47CD-A3F8-5376BDB1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3000" y="425448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7800" y="425448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33A9-E3A0-48F8-80F6-0F776734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8720" y="166644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4800" y="166644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3000" y="425448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8720" y="425448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4800" y="425448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AD35-1922-4682-8A4F-63F811F9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1F126-7BF0-44A1-895E-37A3AA8A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3000" y="1666440"/>
            <a:ext cx="785484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4E19E-8AB7-49EA-83B4-880B28C4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785484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FCD5D-ED60-4D01-A936-B212626B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B0D29-E827-4009-B899-24809830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2C17C-B72A-4E2F-83F7-75A1F55B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BFA87-C431-47B2-8C9C-6C4BDA84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3000" y="425448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73CF0-CC93-420B-BE39-E76798C7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3000" y="1666440"/>
            <a:ext cx="785484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1D62-1D7A-4941-8A2A-34AFEF0E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7800" y="425448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5DBA4-0BDD-45D3-BF05-C18DF022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3000" y="4254480"/>
            <a:ext cx="785484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36185-58DD-4E1C-A448-8FAAEFF8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785484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3000" y="4254480"/>
            <a:ext cx="785484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A49B6-02C2-4E9F-862D-F3E6F829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000" y="425448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7800" y="425448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17033-2851-4BE7-B2C2-4EAD16D5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8720" y="166644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4800" y="166644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3000" y="425448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8720" y="425448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4800" y="4254480"/>
            <a:ext cx="252900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ED799-4C8E-4C58-BAD7-81D6BBC3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785484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3F36-E72A-47D4-887B-642E189D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AA5F-A943-4FD2-B774-37CC7436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5F64-C105-4516-8BA0-73FEEF27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A0C5-863D-438A-9FD4-F8FCA1D3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3000" y="425448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8EA1-6464-40B4-8E19-7D3D8452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7800" y="425448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5C4A-DB33-4636-8390-C52B6A73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7800" y="1666440"/>
            <a:ext cx="383292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3000" y="4254480"/>
            <a:ext cx="7854840" cy="23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2E7F-43CF-421B-9A68-99C83E75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3000" y="1666440"/>
            <a:ext cx="785484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00120" y="6657840"/>
            <a:ext cx="1905120" cy="1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360" bIns="9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E4F8C0-813E-4589-B7FF-EA2CB7A223A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723920" y="6686640"/>
            <a:ext cx="3816360" cy="1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1bg" descr=""/>
          <p:cNvPicPr/>
          <p:nvPr/>
        </p:nvPicPr>
        <p:blipFill>
          <a:blip r:embed="rId2"/>
          <a:stretch/>
        </p:blipFill>
        <p:spPr>
          <a:xfrm>
            <a:off x="3941640" y="870120"/>
            <a:ext cx="1252800" cy="271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39720"/>
            <a:ext cx="7772400" cy="188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4"/>
          </p:nvPr>
        </p:nvSpPr>
        <p:spPr>
          <a:xfrm>
            <a:off x="600120" y="6648480"/>
            <a:ext cx="1905120" cy="2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360" bIns="9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7F23A7-8C0C-4473-B6F4-CC958CD9AB3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4343040" y="6399360"/>
            <a:ext cx="4181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48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792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95160" y="1122480"/>
            <a:ext cx="7769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39720"/>
            <a:ext cx="7772400" cy="10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99"/>
                </a:solidFill>
                <a:latin typeface="Times New Roman"/>
              </a:rPr>
              <a:t>Halon Replacement</a:t>
            </a:r>
            <a:br>
              <a:rPr sz="5400"/>
            </a:br>
            <a:r>
              <a:rPr b="1" lang="en-US" sz="5400" spc="-1" strike="noStrike">
                <a:solidFill>
                  <a:srgbClr val="330099"/>
                </a:solidFill>
                <a:latin typeface="Times New Roman"/>
              </a:rPr>
              <a:t>Lavex Bottle Tests</a:t>
            </a:r>
            <a:endParaRPr b="1" lang="en-US" sz="5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J. Maz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loads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ing Commercial Airplan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27 &amp; 28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avatory Trash Container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re Extinguisher (Lavex) Tes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128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11680" indent="-2116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16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1680" indent="-2116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ing requested all interested suppliers to submit data to show they have an agent/bottle candidate that meets Spec 10-619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16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1680" indent="-2116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supplier drawings &amp; data &amp; authorized five suppliers to proceed to alternative agent screening test at FAA Tech C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16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1680" indent="-2116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ed seven non-Halon and three Halon bottles from each supp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760" indent="-21456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AA conformity of non-Halon bottles done 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760" indent="-21456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r drawing w/exception no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7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1680" indent="-2116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ed two more Halon bottles from two different suppliers to re-validate test equipment and data collection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16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1680" indent="-21168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ed three agents from four suppliers week of Dec 11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Mazzone - BCA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F7A1-D0F3-43DC-A479-E6A8383CEF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avatory Trash Container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re Extinguisher (Lavex) Tes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3000" y="1666440"/>
            <a:ext cx="78548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agents pas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M-200™ (HFC-227ea)  one sup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-36™  (HFC-236fa)  two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gent from one supplier 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gel™ (Ammonium Polyphosphate in HFC 134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analysis being performed by sup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Mazzone - BCA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89FA-D976-4D78-A3B4-EEC1B9078A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cp_0422" descr=""/>
          <p:cNvPicPr/>
          <p:nvPr/>
        </p:nvPicPr>
        <p:blipFill>
          <a:blip r:embed="rId1"/>
          <a:srcRect l="6818" t="5139" r="0" b="0"/>
          <a:stretch/>
        </p:blipFill>
        <p:spPr>
          <a:xfrm>
            <a:off x="457200" y="380880"/>
            <a:ext cx="8236080" cy="6072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5790960"/>
            <a:ext cx="304812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AA Test Setup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Mazzone - BCA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3B12-001A-4005-B8B5-5E8806E41E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avatory Trash Container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re Extinguisher (Lavex) Tes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5520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ssons Lea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 concurrence on Test Acceptance Criteria before test st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rs, TBC &amp; FAA Airworthiness Certification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box leaked at air supply shut off sli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/repairs made early i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on to MPS to clarify Appendix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 wording of discharge performance criteria (Sec. 4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location of upper thermocouple (Sec 5.2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2286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upper thermocouple to Figure D-1. (page D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gathering interval should be less than five seconds a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Mazzone - BCA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CDFC-ED94-4FA0-B6F7-AB7CAA5D42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avatory Trash Container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re Extinguisher  (Lavex) Tes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8548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 suppliers preparing to submit Qualification Test Procedure to Boeing fo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rs then perform Qual tests with FAA  conformed bot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le passing Qual tests will then be tested by Boeing in actual waste compartment installation using conformed bo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ing Lavatory specification will be revised to add suppliers part number for bottles that meet al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v suppliers are then authorized add those parts to their own dra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Mazzone - BCA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A75A-E38B-4AB2-AB84-99E842FF32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18:25:54Z</dcterms:created>
  <dc:creator>Everett Site Standard</dc:creator>
  <dc:description/>
  <dc:language>en-US</dc:language>
  <cp:lastModifiedBy>Everett Site Standard</cp:lastModifiedBy>
  <cp:lastPrinted>2001-03-07T16:38:33Z</cp:lastPrinted>
  <dcterms:modified xsi:type="dcterms:W3CDTF">2001-04-10T13:40:53Z</dcterms:modified>
  <cp:revision>29</cp:revision>
  <dc:subject/>
  <dc:title>Halon Replacement Lavex Test Status</dc:title>
</cp:coreProperties>
</file>