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E87B-B4D3-4617-9DA0-A0E9674C4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60296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CC7A-2C3C-44EB-9414-5162993FB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6109-7F46-42BC-828D-7E7001362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E19A-6501-442B-BF2C-0DCFE938F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16C1A-B747-469C-BA51-4D0936F5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D477B-BE49-4869-9416-996D1261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61467-3699-4827-8871-5099C717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936E1-08AB-4448-B3B1-45D8E341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6D7F6-17E5-449D-9AFD-BFB634C0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C359D-72E6-47B4-9CE3-BB27F4EB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8FB46-8B1F-4236-AD0B-16F0ECB9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EAF8-FE4C-4B03-9C8F-62AE2A455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799D9-3913-4A74-8B98-D0B64CD8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B784A-9F31-48CD-A5DB-4FD6F8E8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60296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C8FDD-81D2-4DD7-A8E6-52D05875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EC127-CE27-4EB4-B76F-BFE43F93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60296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769B6-812D-4FDE-8B19-5DE167DE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7B29-BABE-4D6B-8296-F07C82553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2B16-73B9-459D-8665-523496F8E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B957-22E7-4568-843E-29FB57635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D548-2132-4534-912E-CB7D12DE0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4FAB-E7F5-49C0-8E7C-B20E179AE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60296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DE63-6BD4-495E-822B-F3634A714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60296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6E77E-5E17-404A-800D-A27379C71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69608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095880"/>
            <a:ext cx="28958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28240" y="63241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ge </a:t>
            </a:r>
            <a:fld id="{F53702C9-C28A-4947-BD16-653A4A7101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228600" y="6019920"/>
            <a:ext cx="1905120" cy="3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047760" y="6095880"/>
            <a:ext cx="2971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228600" y="6324120"/>
            <a:ext cx="190512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6D76-A10A-4A05-8612-F86829C56D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llectual Proper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rs, Mine, and Ou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2666520"/>
            <a:ext cx="8610480" cy="2590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able L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venab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Goll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-344-407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ollin@venable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3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64120" y="486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-76320" y="685800"/>
          <a:ext cx="9163080" cy="54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685800"/>
                    <a:ext cx="916308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8EC5-53D1-4199-821B-3DB442281C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emarks &amp; Service Ma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ciful / arbitrary / suggestive / descriptive (secondary m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1600200"/>
            <a:ext cx="3504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. Trade 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r 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. Trad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. Domain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nfringement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kelihood of con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074E-AE13-490C-826D-7650B344CD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-1600200" y="1219320"/>
          <a:ext cx="1234440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1219320"/>
                    <a:ext cx="1234440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3053C-F27C-4E6E-A22D-B53EB25410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righ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Works of Autho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programs, database architecture, software mining tools, reports, marketing materials, web-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nfringement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ubstantially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1855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E3D4-C15B-438F-9276-81989C6EA4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Management T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management of all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e responsi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de and out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, maintain, and enforce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 timing of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y fi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 planning for expensive 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 liability and ownership disp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ow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2441-0B48-499E-BF8C-AEA038B9E0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12193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er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7524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 or Non-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Contractor or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ourcing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DAs or Collab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, Distribution or Re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liances or J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A or 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 &amp; Investment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4DCD-7682-45AE-BC53-69CEF6E4ED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37160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 materials, instruments, reagents, software, documenta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and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 Sec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-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ndle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to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5D65-72E2-4D25-885C-93C2046FCE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523880"/>
            <a:ext cx="7620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etual v.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 v. Non-Exclu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licensable v. Non-Sublicens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able v. Non-Transf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v. Terr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v. No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yalty (Fixed, Sliding, Tiers, Caps, Floors, Variable on IP,, Deduction for other Royal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yalty-Free (e.g., Grantback, Improvements, other 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front Fee &amp; Mile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15FE-E962-40DA-BA1C-79DF726DEF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Check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00200"/>
            <a:ext cx="3505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d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rch-in, reporting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, Improve, or  Create  Deriv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Engin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600200"/>
            <a:ext cx="3962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Comp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cit Employees or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 in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w/ 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ble Laws, Rules, &amp;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&amp; 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P, GLP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7530-2C54-42E3-98F0-C97D15FE13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3505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s and Warran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m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ation of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1676520"/>
            <a:ext cx="3505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able Rel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ing Law &amp; 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Majeure &amp; Wa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tion &amp;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DF00-C794-4C7E-BF14-1D31DFF55D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IP systematically over time to improve an organization’s competitive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, long-term, consist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ound understanding of competitiv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appraisal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4BE7-01C2-4E9B-97F3-6ECEF36B7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Pitf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62680" y="1828800"/>
            <a:ext cx="377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ignment of ownership to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ring rights company does not have (assignment of federally funded inven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ownership vs.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adequate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tory grantbacks (federal lice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usiness, product or IP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ealistic expectations &amp; 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F242-2292-4157-A20F-682E3E4C91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62120" y="-38160"/>
          <a:ext cx="8800920" cy="897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38160"/>
                    <a:ext cx="8800920" cy="897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flipH="1" flipV="1">
            <a:off x="5921280" y="2749320"/>
            <a:ext cx="7668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81080" y="228600"/>
            <a:ext cx="6019920" cy="5786280"/>
            <a:chOff x="1981080" y="228600"/>
            <a:chExt cx="6019920" cy="5786280"/>
          </a:xfrm>
        </p:grpSpPr>
        <p:grpSp>
          <p:nvGrpSpPr>
            <p:cNvPr id="134" name=""/>
            <p:cNvGrpSpPr/>
            <p:nvPr/>
          </p:nvGrpSpPr>
          <p:grpSpPr>
            <a:xfrm>
              <a:off x="1981080" y="228600"/>
              <a:ext cx="6019920" cy="5786280"/>
              <a:chOff x="1981080" y="228600"/>
              <a:chExt cx="6019920" cy="5786280"/>
            </a:xfrm>
          </p:grpSpPr>
          <p:sp>
            <p:nvSpPr>
              <p:cNvPr id="135" name=""/>
              <p:cNvSpPr/>
              <p:nvPr/>
            </p:nvSpPr>
            <p:spPr>
              <a:xfrm>
                <a:off x="3411360" y="4395600"/>
                <a:ext cx="1197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5598720" y="4387680"/>
                <a:ext cx="107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8000" y="4395600"/>
                <a:ext cx="974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11360" y="5398920"/>
                <a:ext cx="1197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606920" y="5404320"/>
                <a:ext cx="206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22680" y="4075200"/>
                <a:ext cx="7660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592960" y="4052520"/>
                <a:ext cx="13359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llabora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64880" y="4075200"/>
                <a:ext cx="8182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JO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22680" y="5072760"/>
                <a:ext cx="7660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41960" y="5105880"/>
                <a:ext cx="13359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llabora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94360" y="5704920"/>
                <a:ext cx="7660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94400" y="5704920"/>
                <a:ext cx="13359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llabora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981080" y="228600"/>
                <a:ext cx="6019920" cy="5786280"/>
                <a:chOff x="1981080" y="228600"/>
                <a:chExt cx="6019920" cy="5786280"/>
              </a:xfrm>
            </p:grpSpPr>
            <p:sp>
              <p:nvSpPr>
                <p:cNvPr id="148" name=""/>
                <p:cNvSpPr/>
                <p:nvPr/>
              </p:nvSpPr>
              <p:spPr>
                <a:xfrm flipV="1">
                  <a:off x="3403800" y="6007680"/>
                  <a:ext cx="591120" cy="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4004280" y="6012000"/>
                  <a:ext cx="268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981080" y="228600"/>
                  <a:ext cx="6019920" cy="5786280"/>
                  <a:chOff x="1981080" y="228600"/>
                  <a:chExt cx="6019920" cy="578628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3960360" y="1500480"/>
                    <a:ext cx="20880" cy="45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403800" y="1485000"/>
                    <a:ext cx="0" cy="45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5921280" y="1500480"/>
                    <a:ext cx="0" cy="45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687360" y="1485000"/>
                    <a:ext cx="0" cy="45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608000" y="2413800"/>
                    <a:ext cx="766080" cy="260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li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846040" y="2413800"/>
                    <a:ext cx="1336320" cy="28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llabora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3403800" y="2748600"/>
                    <a:ext cx="2517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>
                    <a:off x="3409920" y="3380400"/>
                    <a:ext cx="2183040" cy="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5592960" y="3275280"/>
                    <a:ext cx="1094400" cy="202320"/>
                    <a:chOff x="5592960" y="3275280"/>
                    <a:chExt cx="1094400" cy="20232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 flipH="1">
                      <a:off x="5592960" y="3385080"/>
                      <a:ext cx="109440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flipV="1">
                      <a:off x="6687360" y="3275280"/>
                      <a:ext cx="0" cy="202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2" name=""/>
                  <p:cNvSpPr/>
                  <p:nvPr/>
                </p:nvSpPr>
                <p:spPr>
                  <a:xfrm>
                    <a:off x="4279320" y="3126960"/>
                    <a:ext cx="766080" cy="260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li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592960" y="3126960"/>
                    <a:ext cx="1335960" cy="28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llabora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1981080" y="228600"/>
                    <a:ext cx="6019920" cy="1937520"/>
                    <a:chOff x="1981080" y="228600"/>
                    <a:chExt cx="6019920" cy="193752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3981600" y="642240"/>
                      <a:ext cx="1939680" cy="1523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3388680" y="810360"/>
                      <a:ext cx="2079360" cy="120060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4608000" y="810360"/>
                      <a:ext cx="2079360" cy="1200600"/>
                    </a:xfrm>
                    <a:prstGeom prst="ellipse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981080" y="958320"/>
                      <a:ext cx="984960" cy="63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637720" y="1379520"/>
                      <a:ext cx="1041840" cy="210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418840" y="228600"/>
                      <a:ext cx="984960" cy="63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Scope of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184920" y="747720"/>
                      <a:ext cx="1094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6140160" y="228600"/>
                      <a:ext cx="984960" cy="63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Cre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6906600" y="958320"/>
                      <a:ext cx="1094400" cy="63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-rator Cre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H="1">
                      <a:off x="6391440" y="1274400"/>
                      <a:ext cx="733320" cy="105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4608000" y="958320"/>
                      <a:ext cx="984960" cy="947520"/>
                    </a:xfrm>
                    <a:prstGeom prst="ellipse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6" name=""/>
                  <p:cNvSpPr/>
                  <p:nvPr/>
                </p:nvSpPr>
                <p:spPr>
                  <a:xfrm>
                    <a:off x="4608000" y="1485000"/>
                    <a:ext cx="0" cy="45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592960" y="1485000"/>
                    <a:ext cx="0" cy="45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8" name=""/>
            <p:cNvSpPr/>
            <p:nvPr/>
          </p:nvSpPr>
          <p:spPr>
            <a:xfrm flipH="1">
              <a:off x="5045760" y="537120"/>
              <a:ext cx="120384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EB76-489F-4BF6-95EC-BDDCB99B63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ntee obligations to federal gover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s-edison.info.nih.gov/iEdison/timeline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invention disclosure/assignment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ee or Subcontractor retains title to i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paid up non-exclusive lic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 rights in released i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of patent application, issuance, and aband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siness can assign pa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7DE4-B5EE-4D06-9D42-50B80A4B73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ectual Property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s, Mine, and Our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 &amp; Answ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2971800"/>
            <a:ext cx="853416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Gollin  202-344-407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ollin@venab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Wiseman  202-344-4614  tgwiseman@venab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c  Namrow  202-344-4621  esnamrow@venab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64120" y="486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0666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IP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75248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enterprise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short and long term competi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marketing and pos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relationships with personnel and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 capital and protect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technology, materials, software &amp;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yourself, customers, and partners from IP challenges and avoid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dissemination of knowledge and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904F-6577-441C-9AD5-6819D169D7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TRIGGER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, investing in, starting up, or selling a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a name or logo for a product, service, or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a new product or service (biotechnology, software, devices, and instru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an existing product o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ing for a federal grant (SB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ing into government, academic, or corporate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ing on a key employee or contractor for design, research, or developmen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business or technical information to suppliers, customers, partners or inv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a major sales effort or marketing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or expanding a custom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advantages in a competitiv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C37A-CF80-4E82-8A0F-B055E7E0AE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INTELLECTUAL PROPER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Secr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s &amp; Service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AEC0-DE0A-4D6B-AC44-193DF9793E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-457200" y="800280"/>
          <a:ext cx="1003932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800280"/>
                    <a:ext cx="100393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57E7-7D30-4A13-B978-40F32253DF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-228600" y="457200"/>
          <a:ext cx="958212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57200"/>
                    <a:ext cx="958212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93B2-AC2C-4CDD-9196-18B2F1195E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52388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ublished anywhere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d within 1 year of sale or discl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t to invent and not abandon or sup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erson reasonably skilled in the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-- specific, substantial, cred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technology -- identify specif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4102-76BC-450E-A771-11C250C39B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ing with U.S. Patent &amp; Trademark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828800"/>
            <a:ext cx="4267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i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creation no 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 validity &amp; enforc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0FBD-B653-43D1-8F2B-7AD3987AF7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22:33:18Z</dcterms:created>
  <dc:creator>nzd02</dc:creator>
  <dc:description/>
  <dc:language>en-US</dc:language>
  <cp:lastModifiedBy>mag02</cp:lastModifiedBy>
  <cp:lastPrinted>2003-05-08T22:20:21Z</cp:lastPrinted>
  <dcterms:modified xsi:type="dcterms:W3CDTF">2004-05-25T19:51:37Z</dcterms:modified>
  <cp:revision>79</cp:revision>
  <dc:subject/>
  <dc:title>Intellectual Property Ownership:  United St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4791238</vt:r8>
  </property>
  <property fmtid="{D5CDD505-2E9C-101B-9397-08002B2CF9AE}" pid="3" name="_AuthorEmail">
    <vt:lpwstr>ACRuifrok@Venable.com</vt:lpwstr>
  </property>
  <property fmtid="{D5CDD505-2E9C-101B-9397-08002B2CF9AE}" pid="4" name="_AuthorEmailDisplayName">
    <vt:lpwstr>Ruifrok, Allison C.</vt:lpwstr>
  </property>
  <property fmtid="{D5CDD505-2E9C-101B-9397-08002B2CF9AE}" pid="5" name="_EmailSubject">
    <vt:lpwstr>Speaker Confirmation for NIH SBIR/STTR Conference, June 2-3</vt:lpwstr>
  </property>
</Properties>
</file>