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6"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955680" y="-360"/>
            <a:ext cx="302436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908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89" name="PlaceHolder 4"/>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74980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955680" y="8749800"/>
            <a:ext cx="302436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99DCE9A-419D-4387-8B29-91F002908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9080" y="690480"/>
            <a:ext cx="4605120" cy="3454560"/>
          </a:xfrm>
          <a:prstGeom prst="rect">
            <a:avLst/>
          </a:prstGeom>
          <a:ln w="0">
            <a:noFill/>
          </a:ln>
        </p:spPr>
      </p:sp>
      <p:sp>
        <p:nvSpPr>
          <p:cNvPr id="18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My name is Bertha Gelhaus.  I’m a Contracting Officer with the GSA SmartPay® Program Offic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heard if you joined me for an earlier session on how to “Manage Your Agency’s Transition”, even though the initial GSA SmartPay® contract doesn’t expire until November 2008, it’s time to start thinking about what we need to do to get ready for the new contract now. This is a major contract that impacts hundreds of thousands of government personnel, and it’s important that the transition is a smooth one. We learned a number of lessons when we initiated the GSA SmartPay® program in 1998, and hope to avoid a number of these challenges in the transition to the new contract. There are a number of things you can start doing now to get your agency ready for a smooth transition. One of these things is to start to understand the task order process and your role in that proces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I will provide you with an overview of what you need to know about the “Task Order Process” for GSA SmartPa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690480"/>
            <a:ext cx="4605120" cy="3454560"/>
          </a:xfrm>
          <a:prstGeom prst="rect">
            <a:avLst/>
          </a:prstGeom>
          <a:ln w="0">
            <a:noFill/>
          </a:ln>
        </p:spPr>
      </p:sp>
      <p:sp>
        <p:nvSpPr>
          <p:cNvPr id="20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ver the course of the next several months, you should be collecting information to define your agency’s needs, and determining whether you will be issuing one department-level task order, or allowing component agencies to issue their own task or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GSA will be soliciting and evaluating proposals from contractor banks on the new SP2 master contract. GSA expects to make awards on the new master contract in the first half of calendar year 2007. After the awards have been made, GSA will host a master contract kick-off conference in the Washington, DC metro area. The purpose of the kick-off conference will be to provide you with more information on the master contract and ordering procedures, and to formally introduce the awarded contractors to yo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690480"/>
            <a:ext cx="4605120" cy="3454560"/>
          </a:xfrm>
          <a:prstGeom prst="rect">
            <a:avLst/>
          </a:prstGeom>
          <a:ln w="0">
            <a:noFill/>
          </a:ln>
        </p:spPr>
      </p:sp>
      <p:sp>
        <p:nvSpPr>
          <p:cNvPr id="20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introduction at the kick-off conference, contractors can begin to reach out to the agencies directly to market thei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awardees will be available to answer questions at the conference. They’ll have booths set up so they’re easy to find. They’ll also be handing out presentation packages which will include pricing information, descriptions of the products and services they have to offer, and contact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690480"/>
            <a:ext cx="4605120" cy="3454560"/>
          </a:xfrm>
          <a:prstGeom prst="rect">
            <a:avLst/>
          </a:prstGeom>
          <a:ln w="0">
            <a:noFill/>
          </a:ln>
        </p:spPr>
      </p:sp>
      <p:sp>
        <p:nvSpPr>
          <p:cNvPr id="20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you should review the presentation packages as well as the task order guide provided by GSA. As I mentioned, the presentation packages will be distributed at the master contract kick-off conference. The task order guide is a document that GSA will be publishing after master contract award. This document will provide a summary of the master contract terms and conditions and the awarded contracts. The task order guide will include a matrix showing each master contract awardee’s CLINs, additional product and service offerings (e.g., debit cards), value added product and service offerings (e.g., card sleeves), electronic access system specifications, pricing, and past performance rating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690480"/>
            <a:ext cx="4605120" cy="3454560"/>
          </a:xfrm>
          <a:prstGeom prst="rect">
            <a:avLst/>
          </a:prstGeom>
          <a:ln w="0">
            <a:noFill/>
          </a:ln>
        </p:spPr>
      </p:sp>
      <p:sp>
        <p:nvSpPr>
          <p:cNvPr id="20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viewed your agency’s needs against the master contract terms and the awardees’ offerings, you can determine the task order approach that meets you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types of task order approaches: a standard or tailored task order, and tag-along or pool arrangements. I’ll discuss each of these approaches and the steps to implement each approach a little lat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ich approach you choose, it is important that your agency provide fair consideration of each of the awardees under the master contra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690480"/>
            <a:ext cx="4605120" cy="3454560"/>
          </a:xfrm>
          <a:prstGeom prst="rect">
            <a:avLst/>
          </a:prstGeom>
          <a:ln w="0">
            <a:noFill/>
          </a:ln>
        </p:spPr>
      </p:sp>
      <p:sp>
        <p:nvSpPr>
          <p:cNvPr id="20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fair consideration”? It means that agencies must review all qualified master contractors for potential a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 should closely read the presentation packages and task order guide or reach out directly to the master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aster contractors may not be “qualified”. For example, if your agency has a particular value added need (e.g., card sleeves) that only 3 of the 8 master contractors can provide, you only need to invite those 3 “qualified” contractors to compete for your task ord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690480"/>
            <a:ext cx="4605120" cy="3454560"/>
          </a:xfrm>
          <a:prstGeom prst="rect">
            <a:avLst/>
          </a:prstGeom>
          <a:ln w="0">
            <a:noFill/>
          </a:ln>
        </p:spPr>
      </p:sp>
      <p:sp>
        <p:nvSpPr>
          <p:cNvPr id="21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cases where fair consideration does not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or orders above the micro-purchase threshold, if your ordering Contracting Officer determines that there is “unusual urgency” for the service or product, that there is only one contractor capable of providing the good or service, or that the task order should be issued on a sole-source basis in the interests of economy and efficiency, you are not required to observe fair consid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pecial cases, and you should work closely with your ordering Contracting Officer to determine whether any of these criteria apply or, if they do not, to make sure that you are providing fair consideration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dditional questions about fair consideration or other contracting issues, you can also contact the GSA SmartPay® Program Office for suppor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689040"/>
            <a:ext cx="4605120" cy="3454200"/>
          </a:xfrm>
          <a:prstGeom prst="rect">
            <a:avLst/>
          </a:prstGeom>
          <a:ln w="0">
            <a:noFill/>
          </a:ln>
        </p:spPr>
      </p:sp>
      <p:sp>
        <p:nvSpPr>
          <p:cNvPr id="213"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fair consideration is something that must be respected no matter what task order approach your agency sel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rdering Contracting Officer can serve as a key resource to help you navigate fair consideration and other procurement rules. He or she can also provide guidance and advice on which of the four task order approache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few slides, I’ll provide brief overviews of the four possible approaches, starting with standard task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9080" y="690480"/>
            <a:ext cx="4605120" cy="3454560"/>
          </a:xfrm>
          <a:prstGeom prst="rect">
            <a:avLst/>
          </a:prstGeom>
          <a:ln w="0">
            <a:noFill/>
          </a:ln>
        </p:spPr>
      </p:sp>
      <p:sp>
        <p:nvSpPr>
          <p:cNvPr id="21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reviewed your agency’s needs, the master contract, and the presentation packages you’ll have an idea of whether the master contract and the contractors’ products and services meet your agency’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termine that the master contract covers your needs, then you should choose the standard task order approach.  If you choose the standard task order approach, you will not need to provide a separate statement of work to the contractors. The standard task orders incorporate the SOW included in the master contract.  Under a standard task order, you would go out to only the qualified contractors and have them come up with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advantage to standard task orders is that you will not be required to formally or informally compete the requirement or negotiate with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tractors that do meet your agency’s needs, you should provide them an opportunity to propose better pricing than what they’ve offered in the master contract. Contractors are not required to offer better pricing, but my philosophy is that it doesn’t hurt to as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9080" y="689040"/>
            <a:ext cx="4605120" cy="3454200"/>
          </a:xfrm>
          <a:prstGeom prst="rect">
            <a:avLst/>
          </a:prstGeom>
          <a:ln w="0">
            <a:noFill/>
          </a:ln>
        </p:spPr>
      </p:sp>
      <p:sp>
        <p:nvSpPr>
          <p:cNvPr id="217"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tandard task order approach does not work for your agency, you may need to use a tailored task ord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690480"/>
            <a:ext cx="4605120" cy="3454560"/>
          </a:xfrm>
          <a:prstGeom prst="rect">
            <a:avLst/>
          </a:prstGeom>
          <a:ln w="0">
            <a:noFill/>
          </a:ln>
        </p:spPr>
      </p:sp>
      <p:sp>
        <p:nvSpPr>
          <p:cNvPr id="21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ind that there are unique provisions, products or services that your agency requires that are not included in the master contract – for example, specific reports – you may choose to develop a tailored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ilored task order requires some additional steps. I’ll talk about these on the next few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9080" y="690480"/>
            <a:ext cx="4605120" cy="3454560"/>
          </a:xfrm>
          <a:prstGeom prst="rect">
            <a:avLst/>
          </a:prstGeom>
          <a:ln w="0">
            <a:noFill/>
          </a:ln>
        </p:spPr>
      </p:sp>
      <p:sp>
        <p:nvSpPr>
          <p:cNvPr id="18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ll provide an overview of the program and the transition tim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 will provide information on the guidelines and considerations that may come into play as you develop and award your agency’s task order(s), and detailed information about standard and tailored task orders, as well as tag-along and pool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 provide some general information about how task orders are structured and gove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ll tell you how the GSA SmartPay® Program Office will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ll address some of your ques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e’ve got a lot to cover in this session, so strap on your seat-be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roughout the presentation when I say “agency”, I am referring to “agency/organization.”  I do not mean to offend anyone by not saying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begin with an overview of GSA SmartPay® 2 and its transition tim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690480"/>
            <a:ext cx="4605120" cy="3454560"/>
          </a:xfrm>
          <a:prstGeom prst="rect">
            <a:avLst/>
          </a:prstGeom>
          <a:ln w="0">
            <a:noFill/>
          </a:ln>
        </p:spPr>
      </p:sp>
      <p:sp>
        <p:nvSpPr>
          <p:cNvPr id="22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tailored task order is to incorporate agency-specific requirements that are not included in the master contract. You’ll need to specify these requirements in a statement of work that you’ll issue to qualified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requires that you develop the SOW, so you’ll need to identify the resources needed to write the SOW, and translate the needs assessment you conducted earlier into SOW language. You should also begin to develop an evaluation framework so you can rate proposals based on the factors that are most important to meet your agency’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finalize the SOW/task order request, including establishing the formal evaluation factors, and the evaluation strategy (i.e., whether the agency will award the task for one business line only, for all three business lines, or to three separate contracto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690480"/>
            <a:ext cx="4605120" cy="3454560"/>
          </a:xfrm>
          <a:prstGeom prst="rect">
            <a:avLst/>
          </a:prstGeom>
          <a:ln w="0">
            <a:noFill/>
          </a:ln>
        </p:spPr>
      </p:sp>
      <p:sp>
        <p:nvSpPr>
          <p:cNvPr id="22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task order request is finalized, it should be issued to all qualified contractors. We recommend allowing for a one month response period because you do not want contractors to re-hash issues from the master contract.  You want to make sure they can address your tailored task order items.  This one month period does not include a formal response period for questions and answe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690480"/>
            <a:ext cx="4605120" cy="3454560"/>
          </a:xfrm>
          <a:prstGeom prst="rect">
            <a:avLst/>
          </a:prstGeom>
          <a:ln w="0">
            <a:noFill/>
          </a:ln>
        </p:spPr>
      </p:sp>
      <p:sp>
        <p:nvSpPr>
          <p:cNvPr id="22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solicitation is out, you should work to identify participants for the Technical Evaluation Panel, or TEP. You should include personnel from IT, Finance, Procurement, and Purchase, travel and/or fleet, depending on which business lines are being competed.  You want to make sure that the panel is representative  of the various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nd assign roles and responsibilities to the TEP members, and draft written guidance for the panel to follow based on the stated evaluation framework and facto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690480"/>
            <a:ext cx="4605120" cy="3454560"/>
          </a:xfrm>
          <a:prstGeom prst="rect">
            <a:avLst/>
          </a:prstGeom>
          <a:ln w="0">
            <a:noFill/>
          </a:ln>
        </p:spPr>
      </p:sp>
      <p:sp>
        <p:nvSpPr>
          <p:cNvPr id="22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ontractors’ proposals are in and the TEP is impaneled, they should evaluate the written proposals. All proposals must be evaluated against the established evaluation criteria, using the same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ecessary, the TEP can bring the offerors in for oral presentations. Please note that if you are contemplating oral presentations, this must be stated in the S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rder may be awarded without discussions or negoti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690480"/>
            <a:ext cx="4605120" cy="3454560"/>
          </a:xfrm>
          <a:prstGeom prst="rect">
            <a:avLst/>
          </a:prstGeom>
          <a:ln w="0">
            <a:noFill/>
          </a:ln>
        </p:spPr>
      </p:sp>
      <p:sp>
        <p:nvSpPr>
          <p:cNvPr id="22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agency would like to be able to conduct negotiations, this should be stated in the S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ions would occur at a time and place designated by the ordering Contracting Officer and/or his/her designated representative. Following negotiations, the contractor or contractors are required to submit final revisions to their technical and price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ow many of you are Contracting Officers? All of you who are COs are probably quite familiar with the process.  For those of you who aren’t, work with your contracting office/ordering Contracting Officer to ensure that the TEP follows the appropriate guidelines and documents its findings and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process is complete, the task order can be award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689040"/>
            <a:ext cx="4605120" cy="3454200"/>
          </a:xfrm>
          <a:prstGeom prst="rect">
            <a:avLst/>
          </a:prstGeom>
          <a:ln w="0">
            <a:noFill/>
          </a:ln>
        </p:spPr>
      </p:sp>
      <p:sp>
        <p:nvSpPr>
          <p:cNvPr id="231"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of you who represent smaller agencies or organizations, tag-along or pool arrangements may be a good option to help you get better pricing and reduce administrative hass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gency-specific requirements that are not included in the master contract, you should look for an opportunity to “tag-along” with an agency with similar requirements built into its own tailored task order. For example, if you find that another agency already holds its own tailored task order, and that task order meets your agency’s needs, you should check with that agency to see if they allow for tag-alo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is also the option to work out a pooling arrangement with other agencies. A pooling arrangement is one where a number of organizations develop a combined set of agreed requirements, and the group issues one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9080" y="690480"/>
            <a:ext cx="4605120" cy="3454560"/>
          </a:xfrm>
          <a:prstGeom prst="rect">
            <a:avLst/>
          </a:prstGeom>
          <a:ln w="0">
            <a:noFill/>
          </a:ln>
        </p:spPr>
      </p:sp>
      <p:sp>
        <p:nvSpPr>
          <p:cNvPr id="23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 have the option of requesting GSA assistance to facilitate pooling arrangements. Interested agencies should provide their requirements to GSA. GSA will compare these requirements to those of other agencies and find appropriate matches. GSA will provide contact information to each of the potential “match”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can also consolidate multiple agencies’ requirements and provide these requirements to the ordering agency, or place the order on the pool’s be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must accept all GSA-pooled orders, regardless of individual agency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9080" y="690480"/>
            <a:ext cx="4605120" cy="3454560"/>
          </a:xfrm>
          <a:prstGeom prst="rect">
            <a:avLst/>
          </a:prstGeom>
          <a:ln w="0">
            <a:noFill/>
          </a:ln>
        </p:spPr>
      </p:sp>
      <p:sp>
        <p:nvSpPr>
          <p:cNvPr id="23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gencies that want to pool their task orders without GSA’s assistance, GSA will compile and post a list of agencies interested in pooling and points of contact for each, on the GSA SmartPa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may also post some awarded agency task orders on its site for reference purposes. Agencies should submit their task requests electronically to facilitate information sharing with other agenc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9080" y="690480"/>
            <a:ext cx="4605120" cy="3454560"/>
          </a:xfrm>
          <a:prstGeom prst="rect">
            <a:avLst/>
          </a:prstGeom>
          <a:ln w="0">
            <a:noFill/>
          </a:ln>
        </p:spPr>
      </p:sp>
      <p:sp>
        <p:nvSpPr>
          <p:cNvPr id="23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interested in tagging-along on another agency’s task order, and their task order meets your agency’s needs, you’ll need to find out if they allow tag-alongs. Agencies must state whether or not they allow tag-alongs in their task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ome agencies charge a fee for agencies wanting to tag with them.  Be sure to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tag-along with another agency, your agency will receive the same services and pricing as the primary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9080" y="690480"/>
            <a:ext cx="4605120" cy="3454560"/>
          </a:xfrm>
          <a:prstGeom prst="rect">
            <a:avLst/>
          </a:prstGeom>
          <a:ln w="0">
            <a:noFill/>
          </a:ln>
        </p:spPr>
      </p:sp>
      <p:sp>
        <p:nvSpPr>
          <p:cNvPr id="23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 can also opt to tag-along with GSA under its task order. All master contractors must accept GSA’s task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you cannot tag-along with GSA if you require paper invoices or reports for centrally billed accounts. GSA’s task order will be 100% electronic for centrally billed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9080" y="690480"/>
            <a:ext cx="4605120" cy="3454560"/>
          </a:xfrm>
          <a:prstGeom prst="rect">
            <a:avLst/>
          </a:prstGeom>
          <a:ln w="0">
            <a:noFill/>
          </a:ln>
        </p:spPr>
      </p:sp>
      <p:sp>
        <p:nvSpPr>
          <p:cNvPr id="18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ay know, the GSA SmartPay® master contract was awarded in 1998. There was a 5-year base period, and we’re into the third of five one-year options. Assuming we exercise the remaining two options, the master contract will expire on November 29, 2008. The new program will be called “GSA SmartPay® 2” or “SP2”. We came up with this name after asking for suggestions from agencies, industry, and others within G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component of the transition to the new contract is the selection of contractors and award of task orders. With a program as large and complex as this one, it’s never too early to begin planning. In this case, it’s especially important to begin planning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were part of the transition in 1998, you may remember that we faced a number of challenges. For example, there were a number of issues related to the interface between the agencies’ financial systems and the contractors’ systems. We do not want to repeat these hardships / challenges. We’re doing a couple of things to make sure that the transition to SP2 goes smoothly. For example, we’d like to stagger agency transitions. Rather than transitioning all agencies at once, as we did last time, we’d like to stagger transitions. So that if any unforeseen problems occur, not all the agencies will be affected at one time, and there will be time to fix the problem before subsequent agencies transition. This will require some “early adopters” to transition in the second half of 2007. I’ll discuss that more a littl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9080" y="689040"/>
            <a:ext cx="4605120" cy="3454200"/>
          </a:xfrm>
          <a:prstGeom prst="rect">
            <a:avLst/>
          </a:prstGeom>
          <a:ln w="0">
            <a:noFill/>
          </a:ln>
        </p:spPr>
      </p:sp>
      <p:sp>
        <p:nvSpPr>
          <p:cNvPr id="241"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decided what task order approach to take, it’s time to actually develop the task order. In this next section, we’ll get down into the nuts and bolts of task order guidelines you need to follow.</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9080" y="690480"/>
            <a:ext cx="4605120" cy="3454560"/>
          </a:xfrm>
          <a:prstGeom prst="rect">
            <a:avLst/>
          </a:prstGeom>
          <a:ln w="0">
            <a:noFill/>
          </a:ln>
        </p:spPr>
      </p:sp>
      <p:sp>
        <p:nvSpPr>
          <p:cNvPr id="24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for all you folks who don’t have a background in contracts, I’ll go over some general task order rules, or rules you’d follow for any task order. Then I’ll talk more specifically about task orders under the GSA SmartPay® 2 master contract. This is not meant to be a comprehensive lecture on task order rules, rather it is a very broad and general primer, meant to help you be able to better understand the process, and work more effectively with your agency contracting shop to develop and execute your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to begin at the beginning. A task order may be an official government order form, such as a DD1155, or a GSA300; it may be on agency letterhead; or it may be electronic. Whatever form it takes, the task order must be in writing. A task order cannot increase the scope, period, or maximum value of a mast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in the event of a conflict between a task order and the master contract, the master contract will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you can add to the master contract terms, but you cannot remove anything from the master contract. For example, you can include a requirement that the contractor issue paper statements or reports, or a requirement that the contractor’s system meet certain security criteria. These requirements would still fall within the scope of the master contract. You could not, however, add a requirement that the contractor provide telecommunications services under the task order; this is – obviously – outside of the scope of the master contrac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9080" y="690480"/>
            <a:ext cx="4605120" cy="3454560"/>
          </a:xfrm>
          <a:prstGeom prst="rect">
            <a:avLst/>
          </a:prstGeom>
          <a:ln w="0">
            <a:noFill/>
          </a:ln>
        </p:spPr>
      </p:sp>
      <p:sp>
        <p:nvSpPr>
          <p:cNvPr id="24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general terms, a standard task order should include the items shown on this list, at a minimum. Some of these items may not be applicable for the SP2 task orders, for example, there is no “place of delivery or performance”. In addition, the SP2 task orders will include some information that is not typical, for example, productivity refund pricing.  You should use this list as a check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ask order should definitely include anything that is different from the master contract, for example, if the contractor offered your agency better pricing than proposed under the master contract, that should be included. If the contractor offers the same pricing as under the master contract, you do not need to include it in your task order, although it won’t “hurt” anything if you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9080" y="690480"/>
            <a:ext cx="4605120" cy="3454560"/>
          </a:xfrm>
          <a:prstGeom prst="rect">
            <a:avLst/>
          </a:prstGeom>
          <a:ln w="0">
            <a:noFill/>
          </a:ln>
        </p:spPr>
      </p:sp>
      <p:sp>
        <p:nvSpPr>
          <p:cNvPr id="24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ll move on to cover some issues specific to task orders under the SP2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minimum task order size for standard task or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size requirements for tailored task orders vary by business line. For fleet cards, there is a minimum $300,000 annual charge volume. For both travel cards and purchase cards, the annual minimum volume is $3 million. For agencies with tailored task orders for integrated cards, the minimum annual charge volume is the sum of the business lines being integrated. For example, for an integrated travel and fleet card, the annual minimum volume is $3.3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ractor can choose to waive the minimum volume requirement and accept a task order for less than the stated minimum. Should a Contractor elect not to accept a task order less than the minimum charge volume, the Contractor shall submit a “no offer” response including a brief statement as to the reason why they chose not to res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9080" y="690480"/>
            <a:ext cx="4605120" cy="3454560"/>
          </a:xfrm>
          <a:prstGeom prst="rect">
            <a:avLst/>
          </a:prstGeom>
          <a:ln w="0">
            <a:noFill/>
          </a:ln>
        </p:spPr>
      </p:sp>
      <p:sp>
        <p:nvSpPr>
          <p:cNvPr id="24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ncy’s initial task order must be for a minimum of 2 years, or the duration of the contract, whichever is sooner. Task orders may contain options to renew the initial task order, but the task order cannot exceed the period of the master contract. Contractors may accept initial task orders of less than 2 years if they wish. Should the Contractor elect not to accept a task order less than the minimum length, the Contractor shall submit a “no offer” response including a brief statement as to the reason why they chose not to res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length of the initial task order is a 4 year base period, plus one 4-year option, and one 3-year option – OR – the duration of the master contract, whichever is sooner. However, remember that these are maximums. You can change the lengths of the base period or the options to be less than 4 or 3 yea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9080" y="690480"/>
            <a:ext cx="4605120" cy="3454560"/>
          </a:xfrm>
          <a:prstGeom prst="rect">
            <a:avLst/>
          </a:prstGeom>
          <a:ln w="0">
            <a:noFill/>
          </a:ln>
        </p:spPr>
      </p:sp>
      <p:sp>
        <p:nvSpPr>
          <p:cNvPr id="25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task orders – or task orders issued after the initial task order has elapsed – are not required to have any minimum length, but they cannot exceed the transactional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everyone understand what the “transactional period” is? [wait for nods, etc.] The transactional period is the length of the master contract in which transactions can occur (i.e., November 30, 2007 – November 29, 20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brings me to the final point on task order length: agency task orders cannot, in any situation, exceed the length of the master contract. The full master contract, with all options, is expected to run until November 2018. However, GSA may choose not to exercise the option to extend one or more contractors for poor performance, for example. If, for any reason, the GSA decides not to extend an option to one or more of the contractors, we will let all affected agencies know well in advance so they can make other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9080" y="690480"/>
            <a:ext cx="4605120" cy="3454560"/>
          </a:xfrm>
          <a:prstGeom prst="rect">
            <a:avLst/>
          </a:prstGeom>
          <a:ln w="0">
            <a:noFill/>
          </a:ln>
        </p:spPr>
      </p:sp>
      <p:sp>
        <p:nvSpPr>
          <p:cNvPr id="25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is is a multiple award contract, as long as fair consideration is given, contractors can’t launch a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is the contracting arena, you know that anyone can basically protest anything.  In this case it is not sustainable.  Un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exception, and that is, a contractor may protest if a task order increases the scope or period of the master contract. Since there is no maximum value for this contract, the last exception does not app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9080" y="690480"/>
            <a:ext cx="4605120" cy="3454560"/>
          </a:xfrm>
          <a:prstGeom prst="rect">
            <a:avLst/>
          </a:prstGeom>
          <a:ln w="0">
            <a:noFill/>
          </a:ln>
        </p:spPr>
      </p:sp>
      <p:sp>
        <p:nvSpPr>
          <p:cNvPr id="25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does have an ombudsman who may hear concerns from offerors, potential offerors and contractors on the master contract. The ombudsman’s role is to independently review complaints from contractors and to ensure that all contractors are afforded fair consideration. He/she is a senior GSA official who is independent of the GSA Contracting Officer for the contract. The ombudsman does not have the authority to overturn award decisions or adjudicate formal contract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9080" y="690480"/>
            <a:ext cx="4605120" cy="3454560"/>
          </a:xfrm>
          <a:prstGeom prst="rect">
            <a:avLst/>
          </a:prstGeom>
          <a:ln w="0">
            <a:noFill/>
          </a:ln>
        </p:spPr>
      </p:sp>
      <p:sp>
        <p:nvSpPr>
          <p:cNvPr id="25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A will post highlights of the SP2 contract as well as any contract modifications on the GSA SmartPay® website. GSA may also post standard and tailored task orders, CLIN prices, and contractor technical proposals at the master contract level on its website. We will look at the information to determine if it is proprietary or personal before it is posted. All of these materials are meant to provide information and promote sharing of best practices among the agenci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9080" y="690480"/>
            <a:ext cx="4605120" cy="3454560"/>
          </a:xfrm>
          <a:prstGeom prst="rect">
            <a:avLst/>
          </a:prstGeom>
          <a:ln w="0">
            <a:noFill/>
          </a:ln>
        </p:spPr>
      </p:sp>
      <p:sp>
        <p:nvSpPr>
          <p:cNvPr id="25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have your task order in place, the administration of the task order begins.  Again, for any of you who don’t have a background in contracting, I wanted to highlight some general information about the administration of task or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ing agency is responsible for contract administration of its task order. Any changes to the task order should be issued in writing by the ordering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ordering Contracting Officer can modify the terms and condition of an agency’s task order. And finally, the ordering contracting officer does not have the authority to modify the terms and conditions of the master contra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9080" y="690480"/>
            <a:ext cx="4605120" cy="3454560"/>
          </a:xfrm>
          <a:prstGeom prst="rect">
            <a:avLst/>
          </a:prstGeom>
          <a:ln w="0">
            <a:noFill/>
          </a:ln>
        </p:spPr>
      </p:sp>
      <p:sp>
        <p:nvSpPr>
          <p:cNvPr id="18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A SmartPay® 2 contracts will be awarded in the first half of calendar year 2007. At that time GSA will host a kick-off conference to introduce agencies to the contractors selected under the master contract. The agencies will receive copies of the contractors’ presentation packages, which include pricing, descriptions of products/services available, and points of contact. Transitions will occur during the period between the kick-off conference and November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earlier, GSA is looking for agencies willing to be “early adopters” to transition in 2007.  The more agencies stagger their transition, the easier it will be for the program to transition smoothly to SP2. If you are interested in becoming an “early adopter”, please see me after this session, or email or call me. Whether you transition in 2007 or 2008, all agencies must transition by November 29,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 do not plan to be an “early adopter”, I hope I’ve expressed the importance of beginning to plan for the transition no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9080" y="689040"/>
            <a:ext cx="4605120" cy="3454200"/>
          </a:xfrm>
          <a:prstGeom prst="rect">
            <a:avLst/>
          </a:prstGeom>
          <a:ln w="0">
            <a:noFill/>
          </a:ln>
        </p:spPr>
      </p:sp>
      <p:sp>
        <p:nvSpPr>
          <p:cNvPr id="261" name="PlaceHolder 2"/>
          <p:cNvSpPr>
            <a:spLocks noGrp="1"/>
          </p:cNvSpPr>
          <p:nvPr>
            <p:ph type="body"/>
          </p:nvPr>
        </p:nvSpPr>
        <p:spPr>
          <a:xfrm>
            <a:off x="929880" y="4375080"/>
            <a:ext cx="511956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much earlier in the presentation, the GSA SmartPay® Program Office will be doing a number of things to help make this a seamless transition.  I  know I’ve mentioned a lot of tasks that agencies will undertake during transition throughout this presentations, but now I’d like to take a few minutes now to tell you a bit more about the roles that the GSA SmartPay® Program Office will be playing in the transition and how we will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9080" y="690480"/>
            <a:ext cx="4605120" cy="3454560"/>
          </a:xfrm>
          <a:prstGeom prst="rect">
            <a:avLst/>
          </a:prstGeom>
          <a:ln w="0">
            <a:noFill/>
          </a:ln>
        </p:spPr>
      </p:sp>
      <p:sp>
        <p:nvSpPr>
          <p:cNvPr id="26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we will work closely with agencies and the selected contractor banks to facilitate a seamless tran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work we’re doing currently is developing tools for pre- and post-award transition tasks, including checklists, FAQs, a self-assessment tool to help you define your needs, a tri-fold “cheat sheet” with quick facts about the program, and an executive briefing that you can present to help gain the buy-in of senior leaders within your agency. We are also working to develop a tool that will streamline the development of your agency’s task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ools will be available on our website when they are developed, so please check the GSA SmartPay® website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A SmartPay® Program Office will also establish BPAs for transition support contractors to help agencies transition to the new program. [note: provide additional information on how and when agencies can obtain this suppor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9080" y="690480"/>
            <a:ext cx="4605120" cy="3454560"/>
          </a:xfrm>
          <a:prstGeom prst="rect">
            <a:avLst/>
          </a:prstGeom>
          <a:ln w="0">
            <a:noFill/>
          </a:ln>
        </p:spPr>
      </p:sp>
      <p:sp>
        <p:nvSpPr>
          <p:cNvPr id="26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A SmartPay® program office’s overall objective is to minimize the impact of the transition on cardholders – to make the transition at each agency seamless. In that spirit, we will also be providing guidance and assistance as requested to help you develop SOWs and task orders, and coordinating pooling arrangements between age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post the “highlights” of the master contract and each of the selected contractors’ offerings on the GSA SmartPay® website for reference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facilitate user group meetings for A/OPCs to discuss their experience with the incumbent ba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operate a transition help line so that you can contact us if you have questions or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9080" y="690480"/>
            <a:ext cx="4605120" cy="3454560"/>
          </a:xfrm>
          <a:prstGeom prst="rect">
            <a:avLst/>
          </a:prstGeom>
          <a:ln w="0">
            <a:noFill/>
          </a:ln>
        </p:spPr>
      </p:sp>
      <p:sp>
        <p:nvSpPr>
          <p:cNvPr id="26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tools and guidance, please check our website. The GSA SmartPay® website is: www.gsa.gov/gsasmartpay.  New information will continuously be added as it is made availabl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9080" y="690480"/>
            <a:ext cx="4605120" cy="3454560"/>
          </a:xfrm>
          <a:prstGeom prst="rect">
            <a:avLst/>
          </a:prstGeom>
          <a:ln w="0">
            <a:noFill/>
          </a:ln>
        </p:spPr>
      </p:sp>
      <p:sp>
        <p:nvSpPr>
          <p:cNvPr id="26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my name is Bertha Gelhaus. I hope you’ve found this presentation helpful and informative. My contact information is listed here. I’m going to open it up for questions in a moment, but please take down my information in case you have any questions or concerns at a later date.  Your GSA SmartPay® representative is also available to answer questions you ma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9080" y="690480"/>
            <a:ext cx="4605120" cy="3454560"/>
          </a:xfrm>
          <a:prstGeom prst="rect">
            <a:avLst/>
          </a:prstGeom>
          <a:ln w="0">
            <a:noFill/>
          </a:ln>
        </p:spPr>
      </p:sp>
      <p:sp>
        <p:nvSpPr>
          <p:cNvPr id="27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ith that, I’d like to open up the floor to questions. We’ve covered a fair amount of ground today in a relatively short amount of time, so please, ask aw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9080" y="690480"/>
            <a:ext cx="4605120" cy="3454560"/>
          </a:xfrm>
          <a:prstGeom prst="rect">
            <a:avLst/>
          </a:prstGeom>
          <a:ln w="0">
            <a:noFill/>
          </a:ln>
        </p:spPr>
      </p:sp>
      <p:sp>
        <p:nvSpPr>
          <p:cNvPr id="191"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is too small to read here, but you can reference it on the GSA SmartPay® website (www.gsa.gov/gsasmartpay).  The presentations from the conference will be posted to the website within the next week or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e’ve already developed a very detailed transition timeline that shows timeframes for “early adopters” in 2007 and “regular” transitions in 2008.  Though we have broken it down into “two” transitions, it does not mean agencies can not transition between November 2007 and November 2008.  Agencies can transition at any time between November 2007 and November 2008.  Note that your task order may need to be modified depending on when you decide to trans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9080" y="690480"/>
            <a:ext cx="4605120" cy="3454560"/>
          </a:xfrm>
          <a:prstGeom prst="rect">
            <a:avLst/>
          </a:prstGeom>
          <a:ln w="0">
            <a:noFill/>
          </a:ln>
        </p:spPr>
      </p:sp>
      <p:sp>
        <p:nvSpPr>
          <p:cNvPr id="193"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that you have a broad understanding of the transition timeline, I’d like to talk some more about the individual agencies’ roles in the transition. Once GSA has awarded the master contract to the selected contractor banks, agencies will be responsible for awarding task orders to one or more of these contractor banks. There are a number of guidelines and considerations that may come into play as you develop and award your agency’s task ord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9080" y="690480"/>
            <a:ext cx="4605120" cy="3454560"/>
          </a:xfrm>
          <a:prstGeom prst="rect">
            <a:avLst/>
          </a:prstGeom>
          <a:ln w="0">
            <a:noFill/>
          </a:ln>
        </p:spPr>
      </p:sp>
      <p:sp>
        <p:nvSpPr>
          <p:cNvPr id="195"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now, before the master contract is in place, you can start thinking about your agency’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everyone in this audience should have some idea of what you need in your next charge card program. If you are an A/OPC, you need to start writing these ideas down.  It also helps to complete a more formal self-assessment of your current program, to determine where your program currently is and where you want to get to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needs assessment” step, it’s also important to define your agency’s system interface requirements. One of the most time-consuming issues under the current master contract has been ensuring that the contractor banks conform to the agencie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completed the preliminary research and data gathering, you should get your needs assessment information down in writing in a “needs assessment document”. GSA will be providing guidance and access to other agencies’ SOWs or tailored task orders for your reference. The needs assessment should also consider the needs of other stakeholders within your agency, including finance, policy, procurement and IT personnel and policies. Each of these groups may have special requirements or issue that should be incorporated into the needs assessment document that you have not considered.  Some ways in which you can solicit stakeholder input are by sending out questionnaires or holding for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9080" y="690480"/>
            <a:ext cx="4605120" cy="3454560"/>
          </a:xfrm>
          <a:prstGeom prst="rect">
            <a:avLst/>
          </a:prstGeom>
          <a:ln w="0">
            <a:noFill/>
          </a:ln>
        </p:spPr>
      </p:sp>
      <p:sp>
        <p:nvSpPr>
          <p:cNvPr id="197"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as you’re working to define your agency’s needs, your agency’s CFO, CAO and PE – or their designees – should begin considering how the agency will place the task order. That is, will there be one task order that covers the entire agency, or will components be allowed to place their own task orders with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cisions may be based in part on previous practices, the setup of financial or other reporting structures, or the specific needs of the agency and/or its compon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9080" y="690480"/>
            <a:ext cx="4605120" cy="3454560"/>
          </a:xfrm>
          <a:prstGeom prst="rect">
            <a:avLst/>
          </a:prstGeom>
          <a:ln w="0">
            <a:noFill/>
          </a:ln>
        </p:spPr>
      </p:sp>
      <p:sp>
        <p:nvSpPr>
          <p:cNvPr id="199"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gency decides to issue one task order at the departmental level, this means that all components of the department would have the same Contractor for a business line. For example Department of Interior has one task order for its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the task order at the departmental level gives the agency maximum leverage with the contractor bank. The agency has greater leverage with a greater spend volume; the bank may be more willing/able to negotiate better rates with a larger customer. Issuing a departmental level task order may also serve to streamline agency processes related to charge card management and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allowing components to place their own task orders is that this approach can provide maximum flexibility, especially for components that have unique needs that cannot be met by a department level task order. For example, under the current master contract, the Department of Defense has one task order for the purchase card business line that covers all branches EXCEPT for the Department of the Navy, which issued its own task order. There are two possible drawbacks to the component-level approach. First, it may result in higher pricing since you have a lower volume and thus lower negotiating power with the contractor banks. Second, this approach may lead to multiple streams of financial data from different sources. This may make it more difficult to consolidate and report financials for your charge card progra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D6587-574B-414F-BE2E-7A2F6BF5C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2C389-8B10-4E3D-8C15-E42D45CB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F83FC-A261-4EAD-992A-87D6122A9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DB3D1-DFE4-44AF-8638-07929ADAE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DDBBD-6AEF-4E5F-A50B-218082ECD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85A8C-8027-41D1-8D4F-0C77AF525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1B8F3-461E-4E18-B10E-B243F6063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73C20-0C66-4E56-8516-E7A495907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AD231-7192-48A8-B2A4-B2BA8AD3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807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9CE0E-BE63-42C9-8528-6A62AC69A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1AFF4-E96A-4D0C-B607-654F9B2AF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F2E9-7654-4EED-AA83-5DC5ADC4F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A9D10-5BCA-4BEC-837C-97D3ED855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27A76-1235-4193-BEEE-F72C7B988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11D9E-5678-4B9D-8C47-7301978B8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FE79C-85C0-44E1-B710-B07F861CD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DBD64-4138-451A-8E79-EE28C5808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F625-B9FD-407E-8F2A-2BC5EEC6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304CA-AAF4-4DD8-B276-A76B06890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6F7A-A168-4B16-BEC5-0533B387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07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EAA2-DA16-4E43-8242-3846BC05D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4D24-DBF4-41E9-B535-1A08806E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14F7-2903-4B48-8767-8FEC2582E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3466-6825-464D-A1B0-4C909A1C7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lick to edit the title text format</a:t>
            </a:r>
            <a:endParaRPr b="1" lang="en-US" sz="4000" spc="-1" strike="noStrike">
              <a:solidFill>
                <a:srgbClr val="a5002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2594-5088-4833-842C-9FB55B3DDA1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1509840"/>
            <a:ext cx="9144000" cy="5348160"/>
          </a:xfrm>
          <a:prstGeom prst="rect">
            <a:avLst/>
          </a:prstGeom>
          <a:ln w="0">
            <a:noFill/>
          </a:ln>
        </p:spPr>
      </p:pic>
      <p:sp>
        <p:nvSpPr>
          <p:cNvPr id="42" name="PlaceHolder 1"/>
          <p:cNvSpPr>
            <a:spLocks noGrp="1"/>
          </p:cNvSpPr>
          <p:nvPr>
            <p:ph type="title"/>
          </p:nvPr>
        </p:nvSpPr>
        <p:spPr>
          <a:xfrm>
            <a:off x="2990880" y="22856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499B-3530-41FE-AE00-5B6E6165A956}"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2057400" y="990720"/>
            <a:ext cx="678168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General Services Administration</a:t>
            </a:r>
            <a:endParaRPr b="0" lang="en-US" sz="2400" spc="-1" strike="noStrike">
              <a:solidFill>
                <a:srgbClr val="000066"/>
              </a:solidFill>
              <a:latin typeface="Times New Roman"/>
            </a:endParaRPr>
          </a:p>
        </p:txBody>
      </p:sp>
      <p:pic>
        <p:nvPicPr>
          <p:cNvPr id="47" name="" descr=""/>
          <p:cNvPicPr/>
          <p:nvPr/>
        </p:nvPicPr>
        <p:blipFill>
          <a:blip r:embed="rId4"/>
          <a:stretch/>
        </p:blipFill>
        <p:spPr>
          <a:xfrm>
            <a:off x="401760" y="514440"/>
            <a:ext cx="969840" cy="7999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30477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What to do for </a:t>
            </a:r>
            <a:br>
              <a:rPr sz="4000"/>
            </a:br>
            <a:r>
              <a:rPr b="1" lang="en-US" sz="4000" spc="-1" strike="noStrike">
                <a:solidFill>
                  <a:srgbClr val="000066"/>
                </a:solidFill>
                <a:latin typeface="Arial"/>
              </a:rPr>
              <a:t>GSA SmartPay® 2: </a:t>
            </a:r>
            <a:br>
              <a:rPr sz="4000"/>
            </a:br>
            <a:r>
              <a:rPr b="1" lang="en-US" sz="4000" spc="-1" strike="noStrike">
                <a:solidFill>
                  <a:srgbClr val="000066"/>
                </a:solidFill>
                <a:latin typeface="Arial"/>
              </a:rPr>
              <a:t>Task Order Process</a:t>
            </a:r>
            <a:endParaRPr b="1" lang="en-US" sz="4000" spc="-1" strike="noStrike">
              <a:solidFill>
                <a:srgbClr val="000066"/>
              </a:solidFill>
              <a:latin typeface="Arial"/>
            </a:endParaRPr>
          </a:p>
        </p:txBody>
      </p:sp>
      <p:sp>
        <p:nvSpPr>
          <p:cNvPr id="93" name=""/>
          <p:cNvSpPr/>
          <p:nvPr/>
        </p:nvSpPr>
        <p:spPr>
          <a:xfrm>
            <a:off x="4952880" y="5105520"/>
            <a:ext cx="4038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Bertha Gelhaus, </a:t>
            </a:r>
            <a:br>
              <a:rPr sz="2800"/>
            </a:br>
            <a:r>
              <a:rPr b="1" lang="en-US" sz="2800" spc="-1" strike="noStrike">
                <a:solidFill>
                  <a:srgbClr val="000066"/>
                </a:solidFill>
                <a:latin typeface="Arial Black"/>
              </a:rPr>
              <a:t>GSA SmartPay®</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tend Kick-Off Conference</a:t>
            </a:r>
            <a:endParaRPr b="1" lang="en-US" sz="4000" spc="-1" strike="noStrike">
              <a:solidFill>
                <a:srgbClr val="a50021"/>
              </a:solidFill>
              <a:latin typeface="Arial"/>
            </a:endParaRPr>
          </a:p>
        </p:txBody>
      </p:sp>
      <p:sp>
        <p:nvSpPr>
          <p:cNvPr id="11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will conduct a GSA SmartPay® Master Contract Kick-Off Conference in the Washington, DC metropolitan area for all awarded master Contractors and the government</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will explain the master contract, ordering procedures, etc., and formally introduce master contract awardees to the government</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 will be scheduled after the contract is awarded</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E8816CFB-E404-4074-AB17-7BBADA063C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tend Kick-Off Conference (cont’d)</a:t>
            </a:r>
            <a:endParaRPr b="1" lang="en-US" sz="3600" spc="-1" strike="noStrike">
              <a:solidFill>
                <a:srgbClr val="a50021"/>
              </a:solidFill>
              <a:latin typeface="Arial"/>
            </a:endParaRPr>
          </a:p>
        </p:txBody>
      </p:sp>
      <p:sp>
        <p:nvSpPr>
          <p:cNvPr id="11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the opening ceremony of the conference, Contractors may begin directly contacting the agencies/organizations to market and/or advertise their programs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tractor presentation packages will:</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 available at the kick-off conference</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 developed and published by each contractor</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clude pricing, descriptions of products/services, and points of contact</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BBBCF1FE-25B7-478C-B154-70A639B79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Determine Task Order Approach</a:t>
            </a:r>
            <a:endParaRPr b="1" lang="en-US" sz="4000" spc="-1" strike="noStrike">
              <a:solidFill>
                <a:srgbClr val="a50021"/>
              </a:solidFill>
              <a:latin typeface="Arial"/>
            </a:endParaRPr>
          </a:p>
        </p:txBody>
      </p:sp>
      <p:sp>
        <p:nvSpPr>
          <p:cNvPr id="11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view presentation packages</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view task order guide</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designed and issued publication that summarizes master contract terms and conditions and awarded contracts</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cludes a matrix of the Contractors’ offerings (e.g., contract line item numbers, additional product and service offerings, value added products and service offerings); types of electronic access and specifications; strengths; past performance ratings; and price</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40809F4F-4A19-49B6-B788-81579FCD87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rmine Task Order Approach (cont’d)</a:t>
            </a:r>
            <a:endParaRPr b="1" lang="en-US" sz="3600" spc="-1" strike="noStrike">
              <a:solidFill>
                <a:srgbClr val="a50021"/>
              </a:solidFill>
              <a:latin typeface="Arial"/>
            </a:endParaRPr>
          </a:p>
        </p:txBody>
      </p:sp>
      <p:sp>
        <p:nvSpPr>
          <p:cNvPr id="11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termine approach that best meets your agency’s needs</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andard task order</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ailored task order</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ol arrangement</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ag-along arrangement</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gardless of which task order approach your agency chooses, it must provide fair consideration </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E3EB5814-2745-44F4-9110-80B71DCC0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Observe Fair Consideration</a:t>
            </a:r>
            <a:endParaRPr b="1" lang="en-US" sz="4000" spc="-1" strike="noStrike">
              <a:solidFill>
                <a:srgbClr val="a50021"/>
              </a:solidFill>
              <a:latin typeface="Arial"/>
            </a:endParaRPr>
          </a:p>
        </p:txBody>
      </p:sp>
      <p:sp>
        <p:nvSpPr>
          <p:cNvPr id="11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agencies are required to provide fair consideration to all Contractors</a:t>
            </a:r>
            <a:r>
              <a:rPr b="0" lang="en-US" sz="2400" spc="-1" strike="noStrike">
                <a:solidFill>
                  <a:srgbClr val="000066"/>
                </a:solidFill>
                <a:latin typeface="Arial"/>
              </a:rPr>
              <a:t>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ir Consideration: Reviewing all qualified Master Contractors for potential award</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can be accomplished through agency/organization review of the presentation packages, the task order guide, or contact with Master Contractor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F60A7BD2-EF95-4B94-9857-E9341AFD7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bserve Fair Consideration (cont’d)</a:t>
            </a:r>
            <a:endParaRPr b="1" lang="en-US" sz="3600" spc="-1" strike="noStrike">
              <a:solidFill>
                <a:srgbClr val="a50021"/>
              </a:solidFill>
              <a:latin typeface="Arial"/>
            </a:endParaRPr>
          </a:p>
        </p:txBody>
      </p:sp>
      <p:sp>
        <p:nvSpPr>
          <p:cNvPr id="12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2000"/>
          </a:bodyPr>
          <a:p>
            <a:pPr marL="315360" indent="-3153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ement for fair consideration does not apply to orders above the micro-purchase threshold where the ordering Contracting Officer determines that:</a:t>
            </a:r>
            <a:endParaRPr b="0" lang="en-US" sz="2400" spc="-1" strike="noStrike">
              <a:solidFill>
                <a:srgbClr val="000066"/>
              </a:solidFill>
              <a:latin typeface="Arial"/>
            </a:endParaRPr>
          </a:p>
          <a:p>
            <a:pPr lvl="1" marL="683280" indent="-26280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need for the services or property ordered is of such unusual urgency that providing such opportunity to all such Contractors would result in unacceptable delays in fulfilling that need;</a:t>
            </a:r>
            <a:endParaRPr b="0" lang="en-US" sz="1600" spc="-1" strike="noStrike">
              <a:solidFill>
                <a:srgbClr val="000066"/>
              </a:solidFill>
              <a:latin typeface="Arial"/>
            </a:endParaRPr>
          </a:p>
          <a:p>
            <a:pPr lvl="1" marL="683280" indent="-26280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nly one such Contractor is capable of providing the services or property required at the level of quality required because the services or property ordered are unique or highly specialized; or</a:t>
            </a:r>
            <a:endParaRPr b="0" lang="en-US" sz="1600" spc="-1" strike="noStrike">
              <a:solidFill>
                <a:srgbClr val="000066"/>
              </a:solidFill>
              <a:latin typeface="Arial"/>
            </a:endParaRPr>
          </a:p>
          <a:p>
            <a:pPr lvl="1" marL="683280" indent="-26280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task order should be issued on a sole-source basis in the interest of economy and efficiency because it is a logical follow-on to a task order already issued on a competitive basis</a:t>
            </a:r>
            <a:r>
              <a:rPr b="0" lang="en" sz="1600" spc="-1" strike="noStrike">
                <a:solidFill>
                  <a:srgbClr val="000066"/>
                </a:solidFill>
                <a:latin typeface="Arial"/>
              </a:rPr>
              <a:t> provided that all awardees were given a fair opportunity to be considered for the original order</a:t>
            </a:r>
            <a:r>
              <a:rPr b="0" lang="en-US" sz="1600" spc="-1" strike="noStrike">
                <a:solidFill>
                  <a:srgbClr val="000066"/>
                </a:solidFill>
                <a:latin typeface="Arial"/>
              </a:rPr>
              <a:t>.</a:t>
            </a:r>
            <a:endParaRPr b="0" lang="en-US" sz="1600" spc="-1" strike="noStrike">
              <a:solidFill>
                <a:srgbClr val="000066"/>
              </a:solidFill>
              <a:latin typeface="Arial"/>
            </a:endParaRPr>
          </a:p>
        </p:txBody>
      </p:sp>
      <p:sp>
        <p:nvSpPr>
          <p:cNvPr id="4" name="PlaceHolder 3"/>
          <p:cNvSpPr>
            <a:spLocks noGrp="1"/>
          </p:cNvSpPr>
          <p:nvPr>
            <p:ph type="sldNum" idx="3"/>
          </p:nvPr>
        </p:nvSpPr>
        <p:spPr/>
        <p:txBody>
          <a:bodyPr/>
          <a:p>
            <a:fld id="{E6A2303A-4C7B-4546-9256-2CF698603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7720" y="2895120"/>
            <a:ext cx="769644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Standard Task Order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2CDA0545-9E7B-437A-9598-AF35D3C7C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Standard Task Orders</a:t>
            </a:r>
            <a:endParaRPr b="1" lang="en-US" sz="4000" spc="-1" strike="noStrike">
              <a:solidFill>
                <a:srgbClr val="a50021"/>
              </a:solidFill>
              <a:latin typeface="Arial"/>
            </a:endParaRPr>
          </a:p>
        </p:txBody>
      </p:sp>
      <p:sp>
        <p:nvSpPr>
          <p:cNvPr id="123" name="PlaceHolder 2"/>
          <p:cNvSpPr>
            <a:spLocks noGrp="1"/>
          </p:cNvSpPr>
          <p:nvPr>
            <p:ph/>
          </p:nvPr>
        </p:nvSpPr>
        <p:spPr>
          <a:xfrm>
            <a:off x="609120" y="1447920"/>
            <a:ext cx="8153640" cy="3504960"/>
          </a:xfrm>
          <a:prstGeom prst="rect">
            <a:avLst/>
          </a:prstGeom>
          <a:noFill/>
          <a:ln w="0">
            <a:noFill/>
          </a:ln>
        </p:spPr>
        <p:txBody>
          <a:bodyPr lIns="90000" rIns="90000" tIns="46800" bIns="46800" anchor="t">
            <a:normAutofit fontScale="89000"/>
          </a:bodyPr>
          <a:p>
            <a:pPr marL="305280" indent="-3052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 products and services in the Contractors’ presentation packages meet your agency’s/ organization’s requirements, issue a standard task order</a:t>
            </a:r>
            <a:endParaRPr b="0" lang="en-US" sz="24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eview the task order guide or Contractor presentation packages and determine which Contractor best meets your agency’s/organization's requirements</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gencies/organizations may contact the Master Contractors for additional information, as long as they give fair consideration to all qualified Contractors under the master contract</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gencies/organizations may request better pricing for products and services offered, but Contractors are not required or obligated to provide better pricing</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gencies/organizations do not submit a separate work statement with their standard task requests/orders</a:t>
            </a:r>
            <a:endParaRPr b="0" lang="en-US" sz="1600" spc="-1" strike="noStrike">
              <a:solidFill>
                <a:srgbClr val="000066"/>
              </a:solidFill>
              <a:latin typeface="Arial"/>
            </a:endParaRPr>
          </a:p>
          <a:p>
            <a:pPr lvl="1" marL="660960" indent="-2541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hen issuing standard task orders, agencies/organizations are not required to develop their own statements of work/task order requests or negotiate with Contractors</a:t>
            </a:r>
            <a:endParaRPr b="0" lang="en-US" sz="1600" spc="-1" strike="noStrike">
              <a:solidFill>
                <a:srgbClr val="000066"/>
              </a:solidFill>
              <a:latin typeface="Arial"/>
            </a:endParaRPr>
          </a:p>
        </p:txBody>
      </p:sp>
      <p:sp>
        <p:nvSpPr>
          <p:cNvPr id="4" name="PlaceHolder 3"/>
          <p:cNvSpPr>
            <a:spLocks noGrp="1"/>
          </p:cNvSpPr>
          <p:nvPr>
            <p:ph type="sldNum" idx="3"/>
          </p:nvPr>
        </p:nvSpPr>
        <p:spPr/>
        <p:txBody>
          <a:bodyPr/>
          <a:p>
            <a:fld id="{82BB0512-2513-4AD6-B6FB-4923A4167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7720" y="2742840"/>
            <a:ext cx="769644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Tailored Task Order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B963E08D-659D-4F69-A82A-696DA7C2B0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ilored Task Orders</a:t>
            </a:r>
            <a:endParaRPr b="1" lang="en-US" sz="4000" spc="-1" strike="noStrike">
              <a:solidFill>
                <a:srgbClr val="a50021"/>
              </a:solidFill>
              <a:latin typeface="Arial"/>
            </a:endParaRPr>
          </a:p>
        </p:txBody>
      </p:sp>
      <p:sp>
        <p:nvSpPr>
          <p:cNvPr id="12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9000"/>
          </a:bodyPr>
          <a:p>
            <a:pPr marL="339480" indent="-339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 products and services in the Contractors’ presentation packages do </a:t>
            </a:r>
            <a:r>
              <a:rPr b="0" i="1" lang="en-US" sz="2400" spc="-1" strike="noStrike">
                <a:solidFill>
                  <a:srgbClr val="000066"/>
                </a:solidFill>
                <a:latin typeface="Arial"/>
              </a:rPr>
              <a:t>not</a:t>
            </a:r>
            <a:r>
              <a:rPr b="0" lang="en-US" sz="2400" spc="-1" strike="noStrike">
                <a:solidFill>
                  <a:srgbClr val="000066"/>
                </a:solidFill>
                <a:latin typeface="Arial"/>
              </a:rPr>
              <a:t> meet your agency’s/organization’s requirements, use a tailored task order</a:t>
            </a:r>
            <a:endParaRPr b="0" lang="en-US" sz="2400" spc="-1" strike="noStrike">
              <a:solidFill>
                <a:srgbClr val="000066"/>
              </a:solidFill>
              <a:latin typeface="Arial"/>
            </a:endParaRPr>
          </a:p>
          <a:p>
            <a:pPr marL="339480" indent="-339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lored Statements of Work/SOO/Tailored Task Requests must be developed and issued for tailored task orders</a:t>
            </a:r>
            <a:endParaRPr b="0" lang="en-US" sz="2400" spc="-1" strike="noStrike">
              <a:solidFill>
                <a:srgbClr val="000066"/>
              </a:solidFill>
              <a:latin typeface="Arial"/>
            </a:endParaRPr>
          </a:p>
          <a:p>
            <a:pPr marL="339480" indent="-339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ssuing a tailored task order includes additional steps (The following slides outline these step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52FE2594-D0A4-48D9-A0D1-CD63EDD0AF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genda</a:t>
            </a:r>
            <a:endParaRPr b="1" lang="en-US" sz="4000" spc="-1" strike="noStrike">
              <a:solidFill>
                <a:srgbClr val="a50021"/>
              </a:solidFill>
              <a:latin typeface="Arial"/>
            </a:endParaRPr>
          </a:p>
        </p:txBody>
      </p:sp>
      <p:sp>
        <p:nvSpPr>
          <p:cNvPr id="95" name="PlaceHolder 2"/>
          <p:cNvSpPr>
            <a:spLocks noGrp="1"/>
          </p:cNvSpPr>
          <p:nvPr>
            <p:ph/>
          </p:nvPr>
        </p:nvSpPr>
        <p:spPr>
          <a:xfrm>
            <a:off x="685440" y="1905120"/>
            <a:ext cx="8458200" cy="3504960"/>
          </a:xfrm>
          <a:prstGeom prst="rect">
            <a:avLst/>
          </a:prstGeom>
          <a:noFill/>
          <a:ln w="0">
            <a:noFill/>
          </a:ln>
        </p:spPr>
        <p:txBody>
          <a:bodyPr lIns="90000" rIns="90000" tIns="46800" bIns="46800" anchor="t">
            <a:normAutofit fontScale="87000"/>
          </a:bodyPr>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verview</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line</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uidelines and Consideration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andard Task Order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lored Task Order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ol / Tag-Along Arrangement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sk Order Guideline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will the GSA SmartPay® 2 Program Office Help You?</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Question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579F90FA-901A-46B1-81CB-C3E11EA4C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rite SOW, SOO, or Tailored Task Request</a:t>
            </a:r>
            <a:endParaRPr b="1" lang="en-US" sz="3600" spc="-1" strike="noStrike">
              <a:solidFill>
                <a:srgbClr val="a50021"/>
              </a:solidFill>
              <a:latin typeface="Arial"/>
            </a:endParaRPr>
          </a:p>
        </p:txBody>
      </p:sp>
      <p:sp>
        <p:nvSpPr>
          <p:cNvPr id="12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resources for writing SOW</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late results of needs assessment into SOW language</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evaluation framework</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nalize SOW/SOO/tailored task reques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stablish evaluation factors</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ermine evaluation strategy</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31AFED33-9751-4C48-B7D0-23ED50389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ssue SOW, SOO, or Tailored Task Request</a:t>
            </a:r>
            <a:endParaRPr b="1" lang="en-US" sz="3600" spc="-1" strike="noStrike">
              <a:solidFill>
                <a:srgbClr val="a50021"/>
              </a:solidFill>
              <a:latin typeface="Arial"/>
            </a:endParaRPr>
          </a:p>
        </p:txBody>
      </p:sp>
      <p:sp>
        <p:nvSpPr>
          <p:cNvPr id="13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ow one month response period, assuming no provision for questions and clarifications</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spond to inquiries about SOW</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llect proposals</a:t>
            </a: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25187FA4-FE79-4559-927D-44A5990C2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Establish Technical Evaluation Panel</a:t>
            </a:r>
            <a:endParaRPr b="1" lang="en-US" sz="4000" spc="-1" strike="noStrike">
              <a:solidFill>
                <a:srgbClr val="a50021"/>
              </a:solidFill>
              <a:latin typeface="Arial"/>
            </a:endParaRPr>
          </a:p>
        </p:txBody>
      </p:sp>
      <p:sp>
        <p:nvSpPr>
          <p:cNvPr id="13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Technical Evaluation Panel (TEP) participants.  Include personnel from:</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nance</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curement</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rchase, travel, and/or fleet, depending on which business lines are being competed</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ign roles and responsibilities to the TEP</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raft guidance for panel</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EB110BDB-7D00-4549-BF81-686A91146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valuate Proposals and </a:t>
            </a:r>
            <a:br>
              <a:rPr sz="3600"/>
            </a:br>
            <a:r>
              <a:rPr b="1" lang="en-US" sz="3600" spc="-1" strike="noStrike">
                <a:solidFill>
                  <a:srgbClr val="a50021"/>
                </a:solidFill>
                <a:latin typeface="Arial"/>
              </a:rPr>
              <a:t>Make Award</a:t>
            </a:r>
            <a:endParaRPr b="1" lang="en-US" sz="3600" spc="-1" strike="noStrike">
              <a:solidFill>
                <a:srgbClr val="a50021"/>
              </a:solidFill>
              <a:latin typeface="Arial"/>
            </a:endParaRPr>
          </a:p>
        </p:txBody>
      </p:sp>
      <p:sp>
        <p:nvSpPr>
          <p:cNvPr id="13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valuate written proposals</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ies/organizations have to review and evaluate each proposal received against established evaluation criteria and methodology</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duct and evaluate oral presentations, if needed</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gencies/organizations may select the awardee without further discussion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2A503203-5609-4C4E-A968-F875580B9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valuate Proposals and </a:t>
            </a:r>
            <a:br>
              <a:rPr sz="3600"/>
            </a:br>
            <a:r>
              <a:rPr b="1" lang="en-US" sz="3600" spc="-1" strike="noStrike">
                <a:solidFill>
                  <a:srgbClr val="a50021"/>
                </a:solidFill>
                <a:latin typeface="Arial"/>
              </a:rPr>
              <a:t>Make Award (cont’d)</a:t>
            </a:r>
            <a:endParaRPr b="1" lang="en-US" sz="3600" spc="-1" strike="noStrike">
              <a:solidFill>
                <a:srgbClr val="a50021"/>
              </a:solidFill>
              <a:latin typeface="Arial"/>
            </a:endParaRPr>
          </a:p>
        </p:txBody>
      </p:sp>
      <p:sp>
        <p:nvSpPr>
          <p:cNvPr id="13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5000"/>
          </a:bodyPr>
          <a:p>
            <a:pPr marL="325800" indent="-3258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negotiations are conducted, they will occur at the time and place designated by the ordering Contracting Officer and/or his/her designated representative</a:t>
            </a:r>
            <a:endParaRPr b="0" lang="en-US" sz="2400" spc="-1" strike="noStrike">
              <a:solidFill>
                <a:srgbClr val="000066"/>
              </a:solidFill>
              <a:latin typeface="Arial"/>
            </a:endParaRPr>
          </a:p>
          <a:p>
            <a:pPr lvl="1" marL="705600" indent="-2714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llowing the completion of negotiations, the Contractor(s) have to submit a finalized tailored task order proposal, as directed by the agency/organization, which reflects the Final Proposal Revision, technical and price, and includes a schedule with firm milestones</a:t>
            </a:r>
            <a:endParaRPr b="0" lang="en-US" sz="2000" spc="-1" strike="noStrike">
              <a:solidFill>
                <a:srgbClr val="000066"/>
              </a:solidFill>
              <a:latin typeface="Arial"/>
            </a:endParaRPr>
          </a:p>
          <a:p>
            <a:pPr marL="325800" indent="-3258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ument findings</a:t>
            </a:r>
            <a:endParaRPr b="0" lang="en-US" sz="2400" spc="-1" strike="noStrike">
              <a:solidFill>
                <a:srgbClr val="000066"/>
              </a:solidFill>
              <a:latin typeface="Arial"/>
            </a:endParaRPr>
          </a:p>
          <a:p>
            <a:pPr marL="325800" indent="-3258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ward task order</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C90CC6D7-52B9-4F5A-BA62-197840EB2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2895120"/>
            <a:ext cx="914400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Pool / Tag-Along Arrangement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421D768D-311C-4B37-992E-4E5CDEE5C6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GSA Pool Assistance</a:t>
            </a:r>
            <a:endParaRPr b="1" lang="en-US" sz="4000" spc="-1" strike="noStrike">
              <a:solidFill>
                <a:srgbClr val="a50021"/>
              </a:solidFill>
              <a:latin typeface="Arial"/>
            </a:endParaRPr>
          </a:p>
        </p:txBody>
      </p:sp>
      <p:sp>
        <p:nvSpPr>
          <p:cNvPr id="139" name="PlaceHolder 2"/>
          <p:cNvSpPr>
            <a:spLocks noGrp="1"/>
          </p:cNvSpPr>
          <p:nvPr>
            <p:ph/>
          </p:nvPr>
        </p:nvSpPr>
        <p:spPr>
          <a:xfrm>
            <a:off x="685440" y="1599840"/>
            <a:ext cx="7924680" cy="3505320"/>
          </a:xfrm>
          <a:prstGeom prst="rect">
            <a:avLst/>
          </a:prstGeom>
          <a:noFill/>
          <a:ln w="0">
            <a:noFill/>
          </a:ln>
        </p:spPr>
        <p:txBody>
          <a:bodyPr lIns="90000" rIns="90000" tIns="46800" bIns="46800" anchor="t">
            <a:normAutofit fontScale="85000"/>
          </a:bodyPr>
          <a:p>
            <a:pPr marL="291600" indent="-291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agencies/organizations that want to pool their task orders with GSA’s assistance, GSA will facilitate this process upon request</a:t>
            </a:r>
            <a:endParaRPr b="0" lang="en-US" sz="2400" spc="-1" strike="noStrike">
              <a:solidFill>
                <a:srgbClr val="000066"/>
              </a:solidFill>
              <a:latin typeface="Arial"/>
            </a:endParaRPr>
          </a:p>
          <a:p>
            <a:pPr lvl="1" marL="631440" indent="-2426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ies/organizations may submit their requirements to GSA; GSA will compare agency/organization requirements to find an appropriate match, and provide the agency/ organization a point of contact and telephone number</a:t>
            </a:r>
            <a:endParaRPr b="0" lang="en-US" sz="2000" spc="-1" strike="noStrike">
              <a:solidFill>
                <a:srgbClr val="000066"/>
              </a:solidFill>
              <a:latin typeface="Arial"/>
            </a:endParaRPr>
          </a:p>
          <a:p>
            <a:pPr lvl="1" marL="631440" indent="-2426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will consolidate agency/organization requirements and either provide the consolidated requirements to the ordering agency/organization or place the order on the agency’s/ organization’s behalf, as requested</a:t>
            </a:r>
            <a:endParaRPr b="0" lang="en-US" sz="2000" spc="-1" strike="noStrike">
              <a:solidFill>
                <a:srgbClr val="000066"/>
              </a:solidFill>
              <a:latin typeface="Arial"/>
            </a:endParaRPr>
          </a:p>
          <a:p>
            <a:pPr lvl="1" marL="631440" indent="-2426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ractors must accept all GSA-pooled order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126FE052-F47C-43F3-8A87-68BD904D6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Order Assistance</a:t>
            </a:r>
            <a:endParaRPr b="1" lang="en-US" sz="4000" spc="-1" strike="noStrike">
              <a:solidFill>
                <a:srgbClr val="a50021"/>
              </a:solidFill>
              <a:latin typeface="Arial"/>
            </a:endParaRPr>
          </a:p>
        </p:txBody>
      </p:sp>
      <p:sp>
        <p:nvSpPr>
          <p:cNvPr id="141"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agencies/organizations that want to pool their task orders together without GSA or Contractor assistance, GSA will make available on the GSA SmartPay® website, lists of the agencies/organizations interested in pooling, points of contact, and telephone numbers</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may also make agency/organization-awarded task orders available for agencies to reference.  It is important for agencies/organizations to submit their task requests electronically to facilitate this proces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F6975C6E-DEA0-4A00-A49D-F5F4B02BF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g-Along Task Orders</a:t>
            </a:r>
            <a:endParaRPr b="1" lang="en-US" sz="4000" spc="-1" strike="noStrike">
              <a:solidFill>
                <a:srgbClr val="a50021"/>
              </a:solidFill>
              <a:latin typeface="Arial"/>
            </a:endParaRPr>
          </a:p>
        </p:txBody>
      </p:sp>
      <p:sp>
        <p:nvSpPr>
          <p:cNvPr id="143"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4000"/>
          </a:bodyPr>
          <a:p>
            <a:pPr marL="322200" indent="-3222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gencies/organizations that want to tag-along with another agency’s/organization’s task order should contact the agency/organization that they are interested in tagging-along with to see if they allow tagging-along, and to review the primary agency/organization requirements</a:t>
            </a:r>
            <a:endParaRPr b="0" lang="en-US" sz="2400" spc="-1" strike="noStrike">
              <a:solidFill>
                <a:srgbClr val="000066"/>
              </a:solidFill>
              <a:latin typeface="Arial"/>
            </a:endParaRPr>
          </a:p>
          <a:p>
            <a:pPr lvl="1" marL="698400" indent="-2685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rimary agency/organization must state whether or not they will allow tagging-along within their task order</a:t>
            </a:r>
            <a:endParaRPr b="0" lang="en-US" sz="2000" spc="-1" strike="noStrike">
              <a:solidFill>
                <a:srgbClr val="000066"/>
              </a:solidFill>
              <a:latin typeface="Arial"/>
            </a:endParaRPr>
          </a:p>
          <a:p>
            <a:pPr lvl="1" marL="698400" indent="-2685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rimary agency’s/organization’s Contractor will provide the agency/organization that is tagging-along with the same services as provided to the primary agency/organization</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54E1B500-B106-4F6C-8B59-31FC9E0AF2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ag-Along with GSA</a:t>
            </a:r>
            <a:endParaRPr b="1" lang="en-US" sz="3600" spc="-1" strike="noStrike">
              <a:solidFill>
                <a:srgbClr val="a50021"/>
              </a:solidFill>
              <a:latin typeface="Arial"/>
            </a:endParaRPr>
          </a:p>
        </p:txBody>
      </p:sp>
      <p:sp>
        <p:nvSpPr>
          <p:cNvPr id="145"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on request, agencies/organizations may tag-along with GSA’s task order</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ractors must accept GSA’s task order(s)</a:t>
            </a:r>
            <a:endParaRPr b="0" lang="en-US" sz="20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ote: If you require paper (e.g., invoices or reports) for centrally billed accounts, you cannot tag-along with GSA.  GSA’s task order is 100% electronic for centrally billed account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E42673EE-0110-444E-83A8-22E18087C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Overview</a:t>
            </a:r>
            <a:endParaRPr b="1" lang="en-US" sz="4000" spc="-1" strike="noStrike">
              <a:solidFill>
                <a:srgbClr val="a50021"/>
              </a:solidFill>
              <a:latin typeface="Arial"/>
            </a:endParaRPr>
          </a:p>
        </p:txBody>
      </p:sp>
      <p:sp>
        <p:nvSpPr>
          <p:cNvPr id="97" name="PlaceHolder 2"/>
          <p:cNvSpPr>
            <a:spLocks noGrp="1"/>
          </p:cNvSpPr>
          <p:nvPr>
            <p:ph/>
          </p:nvPr>
        </p:nvSpPr>
        <p:spPr>
          <a:xfrm>
            <a:off x="685800" y="1905120"/>
            <a:ext cx="8153280" cy="3504960"/>
          </a:xfrm>
          <a:prstGeom prst="rect">
            <a:avLst/>
          </a:prstGeom>
          <a:noFill/>
          <a:ln w="0">
            <a:noFill/>
          </a:ln>
        </p:spPr>
        <p:txBody>
          <a:bodyPr lIns="90000" rIns="90000" tIns="46800" bIns="46800" anchor="t">
            <a:normAutofit/>
          </a:bodyPr>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urrent Master Contract expires on November 29, 2008, assuming the remaining contract option periods are exercised</a:t>
            </a:r>
            <a:endParaRPr b="0" lang="en-US" sz="2400" spc="-1" strike="noStrike">
              <a:solidFill>
                <a:srgbClr val="000066"/>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ey component of the transition process is the selection of Contractors and the placement of task orders </a:t>
            </a:r>
            <a:endParaRPr b="0" lang="en-US" sz="2400" spc="-1" strike="noStrike">
              <a:solidFill>
                <a:srgbClr val="000066"/>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ed to plan early for transition, so that agency transitions can be staggered</a:t>
            </a:r>
            <a:endParaRPr b="0" lang="en-US" sz="2400" spc="-1" strike="noStrike">
              <a:solidFill>
                <a:srgbClr val="000066"/>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 not want to repeat the hardships/challenges many faced during the last transition</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033813CE-E211-4358-A760-0CE57FE4E6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37720" y="2742840"/>
            <a:ext cx="7696440" cy="685800"/>
          </a:xfrm>
          <a:prstGeom prst="rect">
            <a:avLst/>
          </a:prstGeom>
          <a:noFill/>
          <a:ln w="0">
            <a:noFill/>
          </a:ln>
        </p:spPr>
        <p:txBody>
          <a:bodyPr lIns="90000" rIns="90000" tIns="46800" bIns="46800" anchor="t">
            <a:normAutofit fontScale="97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Task Order Guidelines</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4C8C27BD-6E98-485F-ACCA-CDC17838C3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General Task Order Rules</a:t>
            </a:r>
            <a:endParaRPr b="1" lang="en-US" sz="4000" spc="-1" strike="noStrike">
              <a:solidFill>
                <a:srgbClr val="a50021"/>
              </a:solidFill>
              <a:latin typeface="Arial"/>
            </a:endParaRPr>
          </a:p>
        </p:txBody>
      </p:sp>
      <p:sp>
        <p:nvSpPr>
          <p:cNvPr id="14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sk orders may be on an official government order form (e.g., DD1155, GSA300), on agency letterhead, or electronic; must be in writing</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sk orders may not increase the scope, period, or maximum value of the master contract</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master contract is designed to provide flexibility at the task order level. However, in the event of direct conflict between a task order and the master contract, the master contract will take precedence</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C8C10A22-105C-407F-9279-4FC24DE0BC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General Task Order Rules (cont’d)</a:t>
            </a:r>
            <a:endParaRPr b="1" lang="en-US" sz="4000" spc="-1" strike="noStrike">
              <a:solidFill>
                <a:srgbClr val="a50021"/>
              </a:solidFill>
              <a:latin typeface="Arial"/>
            </a:endParaRPr>
          </a:p>
        </p:txBody>
      </p:sp>
      <p:sp>
        <p:nvSpPr>
          <p:cNvPr id="150" name="PlaceHolder 2"/>
          <p:cNvSpPr>
            <a:spLocks noGrp="1"/>
          </p:cNvSpPr>
          <p:nvPr>
            <p:ph/>
          </p:nvPr>
        </p:nvSpPr>
        <p:spPr>
          <a:xfrm>
            <a:off x="685440" y="1599840"/>
            <a:ext cx="7924680" cy="3505320"/>
          </a:xfrm>
          <a:prstGeom prst="rect">
            <a:avLst/>
          </a:prstGeom>
          <a:noFill/>
          <a:ln w="0">
            <a:noFill/>
          </a:ln>
        </p:spPr>
        <p:txBody>
          <a:bodyPr lIns="90000" rIns="90000" tIns="46800" bIns="46800" anchor="t">
            <a:normAutofit fontScale="78000"/>
          </a:bodyPr>
          <a:p>
            <a:pPr marL="267480" indent="-2674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ach task order should include, at a minimum:</a:t>
            </a:r>
            <a:endParaRPr b="0" lang="en-US" sz="24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statement “this is a standard </a:t>
            </a:r>
            <a:r>
              <a:rPr b="0" i="1" lang="en-US" sz="2000" spc="-1" strike="noStrike">
                <a:solidFill>
                  <a:srgbClr val="000066"/>
                </a:solidFill>
                <a:latin typeface="Arial"/>
              </a:rPr>
              <a:t>or</a:t>
            </a:r>
            <a:r>
              <a:rPr b="0" lang="en-US" sz="2000" spc="-1" strike="noStrike">
                <a:solidFill>
                  <a:srgbClr val="000066"/>
                </a:solidFill>
                <a:latin typeface="Arial"/>
              </a:rPr>
              <a:t> tailored task ord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ames of the activity or activities authorized to issue orders against the task ord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ate of ord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SA contract numb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y task order number</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tract line item numbers</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ice</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iod of performance</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ace of delivery or performance </a:t>
            </a:r>
            <a:endParaRPr b="0" lang="en-US" sz="2000" spc="-1" strike="noStrike">
              <a:solidFill>
                <a:srgbClr val="000066"/>
              </a:solidFill>
              <a:latin typeface="Arial"/>
            </a:endParaRPr>
          </a:p>
          <a:p>
            <a:pPr lvl="1" marL="579240" indent="-222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counting and appropriation data</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E54DF800-26BC-4B0B-B8CB-0F015758A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Minimum Task Order Size</a:t>
            </a:r>
            <a:endParaRPr b="1" lang="en-US" sz="4000" spc="-1" strike="noStrike">
              <a:solidFill>
                <a:srgbClr val="a50021"/>
              </a:solidFill>
              <a:latin typeface="Arial"/>
            </a:endParaRPr>
          </a:p>
        </p:txBody>
      </p:sp>
      <p:sp>
        <p:nvSpPr>
          <p:cNvPr id="15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83000"/>
          </a:bodyPr>
          <a:p>
            <a:pPr marL="284400" indent="-2844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 minimum task order size for standard task requests and orders</a:t>
            </a:r>
            <a:endParaRPr b="0" lang="en-US" sz="2400" spc="-1" strike="noStrike">
              <a:solidFill>
                <a:srgbClr val="000066"/>
              </a:solidFill>
              <a:latin typeface="Arial"/>
            </a:endParaRPr>
          </a:p>
          <a:p>
            <a:pPr marL="284400" indent="-2844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inimum task order size for tailored task requests and orders is as follows:</a:t>
            </a:r>
            <a:endParaRPr b="0" lang="en-US" sz="24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leet Card:  $300,000 annual charge volume</a:t>
            </a:r>
            <a:endParaRPr b="0" lang="en-US" sz="20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avel Card:  $3,000,000 annual charge volume</a:t>
            </a:r>
            <a:endParaRPr b="0" lang="en-US" sz="20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rchase Card:  $3,000,000 annual charge volume</a:t>
            </a:r>
            <a:endParaRPr b="0" lang="en-US" sz="2000" spc="-1" strike="noStrike">
              <a:solidFill>
                <a:srgbClr val="000066"/>
              </a:solidFill>
              <a:latin typeface="Arial"/>
            </a:endParaRPr>
          </a:p>
          <a:p>
            <a:pPr lvl="1" marL="616680" indent="-2372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tegrated Solution Card:  Annual charge volume of the business lines being integrated</a:t>
            </a:r>
            <a:endParaRPr b="0" lang="en-US" sz="2000" spc="-1" strike="noStrike">
              <a:solidFill>
                <a:srgbClr val="000066"/>
              </a:solidFill>
              <a:latin typeface="Arial"/>
            </a:endParaRPr>
          </a:p>
          <a:p>
            <a:pPr marL="284400" indent="-2844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ontractor may accept tailored task orders that are less than the minimum charge volume specified</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490F7F87-BD01-4D8F-BC10-1B70DA24D6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Length</a:t>
            </a:r>
            <a:endParaRPr b="1" lang="en-US" sz="4000" spc="-1" strike="noStrike">
              <a:solidFill>
                <a:srgbClr val="a50021"/>
              </a:solidFill>
              <a:latin typeface="Arial"/>
            </a:endParaRPr>
          </a:p>
        </p:txBody>
      </p:sp>
      <p:sp>
        <p:nvSpPr>
          <p:cNvPr id="15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the agency’s/organization’s </a:t>
            </a:r>
            <a:r>
              <a:rPr b="0" lang="en-US" sz="2400" spc="-1" strike="noStrike" u="sng">
                <a:solidFill>
                  <a:srgbClr val="000066"/>
                </a:solidFill>
                <a:uFillTx/>
                <a:latin typeface="Arial"/>
              </a:rPr>
              <a:t>initial</a:t>
            </a:r>
            <a:r>
              <a:rPr b="0" lang="en-US" sz="2400" spc="-1" strike="noStrike">
                <a:solidFill>
                  <a:srgbClr val="000066"/>
                </a:solidFill>
                <a:latin typeface="Arial"/>
              </a:rPr>
              <a:t> task order placed against the master contract, the minimum task order length for both standard and tailored task orders is two years or the duration of the master contract, whichever is sooner</a:t>
            </a:r>
            <a:endParaRPr b="0" lang="en-US" sz="24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ask orders may contain options to renew initial task order, but the task order can not exceed the period of the master contract</a:t>
            </a:r>
            <a:endParaRPr b="0"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Contractor may accept initial task orders placed against the master contract that are less than the minimum length specified</a:t>
            </a:r>
            <a:endParaRPr b="0"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ximum agency/organization task order for the initial order placement may be a maximum of 4 years with 1 four-year option and 1 three-year option to renew, or duration of master contract length, whichever is sooner</a:t>
            </a:r>
            <a:endParaRPr b="0" lang="en-US" sz="1800" spc="-1" strike="noStrike">
              <a:solidFill>
                <a:srgbClr val="0000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3"/>
          </p:nvPr>
        </p:nvSpPr>
        <p:spPr/>
        <p:txBody>
          <a:bodyPr/>
          <a:p>
            <a:fld id="{86F08583-EF13-4966-B45A-E9B7560BB1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Length (cont’d)</a:t>
            </a:r>
            <a:endParaRPr b="1" lang="en-US" sz="4000" spc="-1" strike="noStrike">
              <a:solidFill>
                <a:srgbClr val="a50021"/>
              </a:solidFill>
              <a:latin typeface="Arial"/>
            </a:endParaRPr>
          </a:p>
        </p:txBody>
      </p:sp>
      <p:sp>
        <p:nvSpPr>
          <p:cNvPr id="15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ubsequent task orders are not required to have any minimum length, but must not exceed the transactional period</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gency/organization task orders may not exceed the master contract length for either standard and tailored task order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496FE4AD-8139-4C77-9775-60EF659B5B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Protests</a:t>
            </a:r>
            <a:endParaRPr b="1" lang="en-US" sz="4000" spc="-1" strike="noStrike">
              <a:solidFill>
                <a:srgbClr val="a50021"/>
              </a:solidFill>
              <a:latin typeface="Arial"/>
            </a:endParaRPr>
          </a:p>
        </p:txBody>
      </p:sp>
      <p:sp>
        <p:nvSpPr>
          <p:cNvPr id="158"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 protest is authorized in connection with the issuance or proposed issuance of a task order </a:t>
            </a:r>
            <a:br>
              <a:rPr sz="2400"/>
            </a:br>
            <a:r>
              <a:rPr b="0" lang="en-US" sz="2400" spc="-1" strike="noStrike">
                <a:solidFill>
                  <a:srgbClr val="000066"/>
                </a:solidFill>
                <a:latin typeface="Arial"/>
              </a:rPr>
              <a:t>(FAR subpart 33.1)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ception:  A protest on the grounds that the task order increases the scope, period, or maximum value of the contract under which the order is issued</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65EA0AA0-8C6C-46A9-A7BA-783DBA1893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ask Order Ombudsman</a:t>
            </a:r>
            <a:endParaRPr b="1" lang="en-US" sz="4000" spc="-1" strike="noStrike">
              <a:solidFill>
                <a:srgbClr val="a50021"/>
              </a:solidFill>
              <a:latin typeface="Arial"/>
            </a:endParaRPr>
          </a:p>
        </p:txBody>
      </p:sp>
      <p:sp>
        <p:nvSpPr>
          <p:cNvPr id="160"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87000"/>
          </a:bodyPr>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s task order ombudsman may hear concerns from offerors, potential offerors, and Contractors for the master contract</a:t>
            </a:r>
            <a:endParaRPr b="0" lang="en-US" sz="24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rpose of the ombudsman is not to diminish the authority of the ordering or GSA Contracting Officer, but to be responsible for reviewing complaints from the Contractors and ensure that all of the Contractors are afforded a fair opportunity to be considered for task orders</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ombudsman is a senior GSA official who is independent of the GSA Contracting Officer for this contract</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ombudsman does not have the authority to overturn award decisions or adjudicate formal contract disputes </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D0D99E1D-3CD2-43D9-8FCF-EA78C8BD8C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Electronic Task Order Posting</a:t>
            </a:r>
            <a:endParaRPr b="1" lang="en-US" sz="4000" spc="-1" strike="noStrike">
              <a:solidFill>
                <a:srgbClr val="a50021"/>
              </a:solidFill>
              <a:latin typeface="Arial"/>
            </a:endParaRPr>
          </a:p>
        </p:txBody>
      </p:sp>
      <p:sp>
        <p:nvSpPr>
          <p:cNvPr id="162"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standard and tailored task orders and contract line item number (CLIN) prices, as well as any modifications, may be posted on the GSA SmartPay® website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Contractor technical proposals at the master contract level may also be posted on the GSA SmartPay® website, giving due regard to any information protected by the Freedom of Information Act (FOIA)</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C39D9133-5F22-4327-BE6F-AC60D41E8F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dministration of Task Orders</a:t>
            </a:r>
            <a:endParaRPr b="1" lang="en-US" sz="4000" spc="-1" strike="noStrike">
              <a:solidFill>
                <a:srgbClr val="a50021"/>
              </a:solidFill>
              <a:latin typeface="Arial"/>
            </a:endParaRPr>
          </a:p>
        </p:txBody>
      </p:sp>
      <p:sp>
        <p:nvSpPr>
          <p:cNvPr id="16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93000"/>
          </a:bodyPr>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tract administration of task orders is the responsibility of the ordering agency/organization</a:t>
            </a:r>
            <a:endParaRPr b="0" lang="en-US" sz="2400" spc="-1" strike="noStrike">
              <a:solidFill>
                <a:srgbClr val="000066"/>
              </a:solidFill>
              <a:latin typeface="Arial"/>
            </a:endParaRPr>
          </a:p>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 changes to the task order will be issued in writing by the ordering agency/organization</a:t>
            </a:r>
            <a:endParaRPr b="0" lang="en-US" sz="2400" spc="-1" strike="noStrike">
              <a:solidFill>
                <a:srgbClr val="000066"/>
              </a:solidFill>
              <a:latin typeface="Arial"/>
            </a:endParaRPr>
          </a:p>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nly the ordering contracting officer may modify the terms and conditions of the agency’s/organization’s task order</a:t>
            </a:r>
            <a:endParaRPr b="0" lang="en-US" sz="2400" spc="-1" strike="noStrike">
              <a:solidFill>
                <a:srgbClr val="000066"/>
              </a:solidFill>
              <a:latin typeface="Arial"/>
            </a:endParaRPr>
          </a:p>
          <a:p>
            <a:pPr marL="318960" indent="-318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ordering contracting officer does not have the authority to modify the terms and conditions of the master contract</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58FBCF3F-23EF-446D-883B-2EFBE634D6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imeline</a:t>
            </a:r>
            <a:endParaRPr b="1" lang="en-US" sz="4000" spc="-1" strike="noStrike">
              <a:solidFill>
                <a:srgbClr val="a50021"/>
              </a:solidFill>
              <a:latin typeface="Arial"/>
            </a:endParaRPr>
          </a:p>
        </p:txBody>
      </p:sp>
      <p:sp>
        <p:nvSpPr>
          <p:cNvPr id="99"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SmartPay® 2 contracts to be awarded in first half of CY 2007</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ition to occur through November 2008</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SA SmartPay® team is looking for agencies to be “early adopters” and transition in 2007</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ning needs to begin </a:t>
            </a:r>
            <a:r>
              <a:rPr b="1" i="1" lang="en-US" sz="2400" spc="-1" strike="noStrike">
                <a:solidFill>
                  <a:srgbClr val="000066"/>
                </a:solidFill>
                <a:latin typeface="Arial"/>
              </a:rPr>
              <a:t>NOW</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C3C5D072-8937-4315-A587-25995FDA21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52280" y="2285640"/>
            <a:ext cx="8839440" cy="685800"/>
          </a:xfrm>
          <a:prstGeom prst="rect">
            <a:avLst/>
          </a:prstGeom>
          <a:noFill/>
          <a:ln w="0">
            <a:noFill/>
          </a:ln>
        </p:spPr>
        <p:txBody>
          <a:bodyPr lIns="90000" rIns="90000" tIns="46800" bIns="46800" anchor="t">
            <a:normAutofit fontScale="60000"/>
          </a:bodyPr>
          <a:p>
            <a:pPr indent="0" algn="ctr">
              <a:lnSpc>
                <a:spcPct val="100000"/>
              </a:lnSpc>
              <a:spcBef>
                <a:spcPts val="10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4000" spc="-1" strike="noStrike">
                <a:solidFill>
                  <a:srgbClr val="000066"/>
                </a:solidFill>
                <a:latin typeface="Arial Rounded MT Bold"/>
              </a:rPr>
              <a:t>How will the GSA SmartPay® 2 Program Office Help You?</a:t>
            </a:r>
            <a:endParaRPr b="0" lang="en-US" sz="4000" spc="-1" strike="noStrike">
              <a:solidFill>
                <a:srgbClr val="000066"/>
              </a:solidFill>
              <a:latin typeface="Arial"/>
            </a:endParaRPr>
          </a:p>
        </p:txBody>
      </p:sp>
      <p:sp>
        <p:nvSpPr>
          <p:cNvPr id="3" name="PlaceHolder 2"/>
          <p:cNvSpPr>
            <a:spLocks noGrp="1"/>
          </p:cNvSpPr>
          <p:nvPr>
            <p:ph type="sldNum" idx="3"/>
          </p:nvPr>
        </p:nvSpPr>
        <p:spPr/>
        <p:txBody>
          <a:bodyPr/>
          <a:p>
            <a:fld id="{B3A90447-1CB3-4414-A058-2087693CFD3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SA SmartPay® Program Office Roles</a:t>
            </a:r>
            <a:endParaRPr b="1" lang="en-US" sz="3600" spc="-1" strike="noStrike">
              <a:solidFill>
                <a:srgbClr val="a50021"/>
              </a:solidFill>
              <a:latin typeface="Arial"/>
            </a:endParaRPr>
          </a:p>
        </p:txBody>
      </p:sp>
      <p:sp>
        <p:nvSpPr>
          <p:cNvPr id="167" name="PlaceHolder 2"/>
          <p:cNvSpPr>
            <a:spLocks noGrp="1"/>
          </p:cNvSpPr>
          <p:nvPr>
            <p:ph/>
          </p:nvPr>
        </p:nvSpPr>
        <p:spPr>
          <a:xfrm>
            <a:off x="685440" y="1752120"/>
            <a:ext cx="7924680" cy="3505320"/>
          </a:xfrm>
          <a:prstGeom prst="rect">
            <a:avLst/>
          </a:prstGeom>
          <a:noFill/>
          <a:ln w="0">
            <a:noFill/>
          </a:ln>
        </p:spPr>
        <p:txBody>
          <a:bodyPr lIns="90000" rIns="90000" tIns="46800" bIns="46800" anchor="t">
            <a:normAutofit fontScale="81000"/>
          </a:bodyPr>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ork closely with agencies and banks to facilitate a seamless transition</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transition planning tools for agency use:</a:t>
            </a:r>
            <a:endParaRPr b="0" lang="en-US" sz="24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y pre- and post-award checklists</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requently Asked Questions</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ecutive briefing</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ency program self assessment tool</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ansition tri-fold</a:t>
            </a:r>
            <a:endParaRPr b="0" lang="en-US" sz="2000" spc="-1" strike="noStrike">
              <a:solidFill>
                <a:srgbClr val="000066"/>
              </a:solidFill>
              <a:latin typeface="Arial"/>
            </a:endParaRPr>
          </a:p>
          <a:p>
            <a:pPr lvl="1" marL="601560" indent="-2314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ask order builder tool</a:t>
            </a:r>
            <a:endParaRPr b="0" lang="en-US" sz="20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blish BPAs for transition support contractors to help agencies transition to the new program</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DB9E0AB2-F48A-40BA-8906-5E28069099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SA SmartPay® Program Office Roles (cont’d)</a:t>
            </a:r>
            <a:endParaRPr b="1" lang="en-US" sz="3600" spc="-1" strike="noStrike">
              <a:solidFill>
                <a:srgbClr val="a50021"/>
              </a:solidFill>
              <a:latin typeface="Arial"/>
            </a:endParaRPr>
          </a:p>
        </p:txBody>
      </p:sp>
      <p:sp>
        <p:nvSpPr>
          <p:cNvPr id="169" name="PlaceHolder 2"/>
          <p:cNvSpPr>
            <a:spLocks noGrp="1"/>
          </p:cNvSpPr>
          <p:nvPr>
            <p:ph/>
          </p:nvPr>
        </p:nvSpPr>
        <p:spPr>
          <a:xfrm>
            <a:off x="685440" y="1828440"/>
            <a:ext cx="7924680" cy="3505320"/>
          </a:xfrm>
          <a:prstGeom prst="rect">
            <a:avLst/>
          </a:prstGeom>
          <a:noFill/>
          <a:ln w="0">
            <a:noFill/>
          </a:ln>
        </p:spPr>
        <p:txBody>
          <a:bodyPr lIns="90000" rIns="90000" tIns="46800" bIns="46800" anchor="t">
            <a:normAutofit fontScale="81000"/>
          </a:bodyPr>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 and prepare for the transition to minimize impact on cardholder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guidance on developing SOW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assistance with developing task order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assistance with negotiation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ordinate “pool” arrangement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st “highlights” of Master Contract on website</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te user group meetings for A/OPCs to discuss their current banks</a:t>
            </a:r>
            <a:endParaRPr b="0" lang="en-US" sz="2400" spc="-1" strike="noStrike">
              <a:solidFill>
                <a:srgbClr val="000066"/>
              </a:solidFill>
              <a:latin typeface="Arial"/>
            </a:endParaRPr>
          </a:p>
          <a:p>
            <a:pPr marL="277560" indent="-277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upport/operate a transition help line</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B6E8CDDF-4F76-4B66-821E-A2D1FAC033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SA SmartPay® Website</a:t>
            </a:r>
            <a:endParaRPr b="1" lang="en-US" sz="3600" spc="-1" strike="noStrike">
              <a:solidFill>
                <a:srgbClr val="a50021"/>
              </a:solidFill>
              <a:latin typeface="Arial"/>
            </a:endParaRPr>
          </a:p>
        </p:txBody>
      </p:sp>
      <p:grpSp>
        <p:nvGrpSpPr>
          <p:cNvPr id="171" name=""/>
          <p:cNvGrpSpPr/>
          <p:nvPr/>
        </p:nvGrpSpPr>
        <p:grpSpPr>
          <a:xfrm>
            <a:off x="990720" y="2438280"/>
            <a:ext cx="7238880" cy="761760"/>
            <a:chOff x="990720" y="2438280"/>
            <a:chExt cx="7238880" cy="761760"/>
          </a:xfrm>
        </p:grpSpPr>
        <p:sp>
          <p:nvSpPr>
            <p:cNvPr id="172" name=""/>
            <p:cNvSpPr/>
            <p:nvPr/>
          </p:nvSpPr>
          <p:spPr>
            <a:xfrm>
              <a:off x="1055520" y="2671560"/>
              <a:ext cx="7043760" cy="2746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
            <p:cNvSpPr/>
            <p:nvPr/>
          </p:nvSpPr>
          <p:spPr>
            <a:xfrm>
              <a:off x="990720" y="2438280"/>
              <a:ext cx="7237440" cy="761760"/>
            </a:xfrm>
            <a:prstGeom prst="rect">
              <a:avLst/>
            </a:prstGeom>
            <a:solidFill>
              <a:srgbClr val="eaeaea"/>
            </a:solidFill>
            <a:ln w="12600">
              <a:solidFill>
                <a:srgbClr val="00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66"/>
                </a:solidFill>
                <a:latin typeface="Times New Roman"/>
              </a:endParaRPr>
            </a:p>
          </p:txBody>
        </p:sp>
        <p:sp>
          <p:nvSpPr>
            <p:cNvPr id="174" name=""/>
            <p:cNvSpPr/>
            <p:nvPr/>
          </p:nvSpPr>
          <p:spPr>
            <a:xfrm>
              <a:off x="1055520" y="2514240"/>
              <a:ext cx="7174080" cy="581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200" spc="-1" strike="noStrike">
                  <a:solidFill>
                    <a:srgbClr val="000066"/>
                  </a:solidFill>
                  <a:latin typeface="Arial"/>
                </a:rPr>
                <a:t>www.gsa.gov/gsasmartpay</a:t>
              </a:r>
              <a:endParaRPr b="0" lang="en-US" sz="3200" spc="-1" strike="noStrike">
                <a:solidFill>
                  <a:srgbClr val="000066"/>
                </a:solidFill>
                <a:latin typeface="Times New Roman"/>
              </a:endParaRPr>
            </a:p>
          </p:txBody>
        </p:sp>
      </p:grpSp>
      <p:sp>
        <p:nvSpPr>
          <p:cNvPr id="3" name="PlaceHolder 2"/>
          <p:cNvSpPr>
            <a:spLocks noGrp="1"/>
          </p:cNvSpPr>
          <p:nvPr>
            <p:ph type="sldNum" idx="3"/>
          </p:nvPr>
        </p:nvSpPr>
        <p:spPr/>
        <p:txBody>
          <a:bodyPr/>
          <a:p>
            <a:fld id="{8D01403A-61F3-4E79-AA35-5AEE5702D7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Contact Information</a:t>
            </a:r>
            <a:endParaRPr b="1" lang="en-US" sz="4000" spc="-1" strike="noStrike">
              <a:solidFill>
                <a:srgbClr val="a50021"/>
              </a:solidFill>
              <a:latin typeface="Arial"/>
            </a:endParaRPr>
          </a:p>
        </p:txBody>
      </p:sp>
      <p:grpSp>
        <p:nvGrpSpPr>
          <p:cNvPr id="176" name=""/>
          <p:cNvGrpSpPr/>
          <p:nvPr/>
        </p:nvGrpSpPr>
        <p:grpSpPr>
          <a:xfrm>
            <a:off x="990720" y="2136600"/>
            <a:ext cx="7238520" cy="2590560"/>
            <a:chOff x="990720" y="2136600"/>
            <a:chExt cx="7238520" cy="2590560"/>
          </a:xfrm>
        </p:grpSpPr>
        <p:sp>
          <p:nvSpPr>
            <p:cNvPr id="177" name=""/>
            <p:cNvSpPr/>
            <p:nvPr/>
          </p:nvSpPr>
          <p:spPr>
            <a:xfrm>
              <a:off x="1055160" y="2935800"/>
              <a:ext cx="7043760" cy="2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
            <p:cNvSpPr/>
            <p:nvPr/>
          </p:nvSpPr>
          <p:spPr>
            <a:xfrm>
              <a:off x="990720" y="2136600"/>
              <a:ext cx="7237440" cy="2590560"/>
            </a:xfrm>
            <a:prstGeom prst="rect">
              <a:avLst/>
            </a:prstGeom>
            <a:solidFill>
              <a:srgbClr val="eaeaea"/>
            </a:solidFill>
            <a:ln w="12600">
              <a:solidFill>
                <a:srgbClr val="00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055160" y="2233800"/>
              <a:ext cx="717408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3200" spc="-1" strike="noStrike">
                  <a:solidFill>
                    <a:srgbClr val="000066"/>
                  </a:solidFill>
                  <a:latin typeface="Arial"/>
                </a:rPr>
                <a:t>Bertha Gelhaus</a:t>
              </a:r>
              <a:br>
                <a:rPr sz="3200"/>
              </a:br>
              <a:r>
                <a:rPr b="0" lang="en-US" sz="2800" spc="-1" strike="noStrike">
                  <a:solidFill>
                    <a:srgbClr val="000066"/>
                  </a:solidFill>
                  <a:latin typeface="Arial"/>
                </a:rPr>
                <a:t>Contracting Officer, GSA SmartPay®</a:t>
              </a:r>
              <a:endParaRPr b="0" lang="en-US" sz="2800" spc="-1" strike="noStrike">
                <a:solidFill>
                  <a:srgbClr val="000066"/>
                </a:solidFill>
                <a:latin typeface="Times New Roman"/>
              </a:endParaRPr>
            </a:p>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800" spc="-1" strike="noStrike">
                  <a:solidFill>
                    <a:srgbClr val="000066"/>
                  </a:solidFill>
                  <a:latin typeface="Arial"/>
                </a:rPr>
                <a:t>(703) 605-2865</a:t>
              </a:r>
              <a:endParaRPr b="0" lang="en-US" sz="2800" spc="-1" strike="noStrike">
                <a:solidFill>
                  <a:srgbClr val="000066"/>
                </a:solidFill>
                <a:latin typeface="Times New Roman"/>
              </a:endParaRPr>
            </a:p>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800" spc="-1" strike="noStrike">
                  <a:solidFill>
                    <a:srgbClr val="000066"/>
                  </a:solidFill>
                  <a:latin typeface="Arial"/>
                </a:rPr>
                <a:t>bertha.gelhaus@gsa.gov</a:t>
              </a:r>
              <a:endParaRPr b="0" lang="en-US" sz="2800" spc="-1" strike="noStrike">
                <a:solidFill>
                  <a:srgbClr val="000066"/>
                </a:solidFill>
                <a:latin typeface="Times New Roman"/>
              </a:endParaRPr>
            </a:p>
          </p:txBody>
        </p:sp>
      </p:grpSp>
      <p:sp>
        <p:nvSpPr>
          <p:cNvPr id="3" name="PlaceHolder 2"/>
          <p:cNvSpPr>
            <a:spLocks noGrp="1"/>
          </p:cNvSpPr>
          <p:nvPr>
            <p:ph type="sldNum" idx="3"/>
          </p:nvPr>
        </p:nvSpPr>
        <p:spPr/>
        <p:txBody>
          <a:bodyPr/>
          <a:p>
            <a:fld id="{582D42BB-273E-47EB-8AC3-CBA7D0D539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Questions</a:t>
            </a:r>
            <a:endParaRPr b="1" lang="en-US" sz="4000" spc="-1" strike="noStrike">
              <a:solidFill>
                <a:srgbClr val="a50021"/>
              </a:solidFill>
              <a:latin typeface="Arial"/>
            </a:endParaRPr>
          </a:p>
        </p:txBody>
      </p:sp>
      <p:sp>
        <p:nvSpPr>
          <p:cNvPr id="181" name=""/>
          <p:cNvSpPr txBox="1"/>
          <p:nvPr/>
        </p:nvSpPr>
        <p:spPr>
          <a:xfrm>
            <a:off x="2971800" y="1752480"/>
            <a:ext cx="3048120" cy="40388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000066"/>
                  </a:solidFill>
                  <a:miter/>
                </a:ln>
                <a:solidFill>
                  <a:srgbClr val="000066">
                    <a:alpha val="76000"/>
                  </a:srgbClr>
                </a:solidFill>
                <a:latin typeface="Arial Black"/>
              </a:rPr>
              <a:t>?</a:t>
            </a:r>
            <a:endParaRPr b="0" lang="en-US" sz="6000" spc="1" strike="noStrike">
              <a:ln w="25560">
                <a:solidFill>
                  <a:srgbClr val="000066"/>
                </a:solidFill>
                <a:miter/>
              </a:ln>
              <a:solidFill>
                <a:srgbClr val="000066">
                  <a:alpha val="76000"/>
                </a:srgbClr>
              </a:solidFill>
              <a:latin typeface="Arial Black"/>
              <a:ea typeface="Arial Black"/>
            </a:endParaRPr>
          </a:p>
        </p:txBody>
      </p:sp>
      <p:sp>
        <p:nvSpPr>
          <p:cNvPr id="3" name="PlaceHolder 2"/>
          <p:cNvSpPr>
            <a:spLocks noGrp="1"/>
          </p:cNvSpPr>
          <p:nvPr>
            <p:ph type="sldNum" idx="3"/>
          </p:nvPr>
        </p:nvSpPr>
        <p:spPr/>
        <p:txBody>
          <a:bodyPr/>
          <a:p>
            <a:fld id="{17D2ED6C-92BA-4B10-883E-912E1A7B74C1}"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Timeline (cont’d)</a:t>
            </a:r>
            <a:endParaRPr b="1" lang="en-US" sz="4000" spc="-1" strike="noStrike">
              <a:solidFill>
                <a:srgbClr val="a50021"/>
              </a:solidFill>
              <a:latin typeface="Arial"/>
            </a:endParaRPr>
          </a:p>
        </p:txBody>
      </p:sp>
      <p:pic>
        <p:nvPicPr>
          <p:cNvPr id="101" name="" descr=""/>
          <p:cNvPicPr/>
          <p:nvPr/>
        </p:nvPicPr>
        <p:blipFill>
          <a:blip r:embed="rId2"/>
          <a:stretch/>
        </p:blipFill>
        <p:spPr>
          <a:xfrm>
            <a:off x="0" y="1447920"/>
            <a:ext cx="9144000" cy="4572000"/>
          </a:xfrm>
          <a:prstGeom prst="rect">
            <a:avLst/>
          </a:prstGeom>
          <a:ln w="0">
            <a:noFill/>
          </a:ln>
        </p:spPr>
      </p:pic>
      <p:sp>
        <p:nvSpPr>
          <p:cNvPr id="3" name="PlaceHolder 2"/>
          <p:cNvSpPr>
            <a:spLocks noGrp="1"/>
          </p:cNvSpPr>
          <p:nvPr>
            <p:ph type="sldNum" idx="3"/>
          </p:nvPr>
        </p:nvSpPr>
        <p:spPr/>
        <p:txBody>
          <a:bodyPr/>
          <a:p>
            <a:fld id="{BF3287CD-2DDA-47E2-AFDC-493190D46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24600" y="2895480"/>
            <a:ext cx="7898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Guidelines and Considerations</a:t>
            </a:r>
            <a:endParaRPr b="0" lang="en-US" sz="4000" spc="-1" strike="noStrike">
              <a:solidFill>
                <a:srgbClr val="000066"/>
              </a:solidFill>
              <a:latin typeface="Times New Roman"/>
            </a:endParaRPr>
          </a:p>
        </p:txBody>
      </p:sp>
      <p:sp>
        <p:nvSpPr>
          <p:cNvPr id="2" name="PlaceHolder 1"/>
          <p:cNvSpPr>
            <a:spLocks noGrp="1"/>
          </p:cNvSpPr>
          <p:nvPr>
            <p:ph type="sldNum" idx="3"/>
          </p:nvPr>
        </p:nvSpPr>
        <p:spPr/>
        <p:txBody>
          <a:bodyPr/>
          <a:p>
            <a:fld id="{6C64CA1E-AE91-4956-9C87-E11804929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Define Current Needs</a:t>
            </a:r>
            <a:endParaRPr b="1" lang="en-US" sz="4000" spc="-1" strike="noStrike">
              <a:solidFill>
                <a:srgbClr val="a50021"/>
              </a:solidFill>
              <a:latin typeface="Arial"/>
            </a:endParaRPr>
          </a:p>
        </p:txBody>
      </p:sp>
      <p:sp>
        <p:nvSpPr>
          <p:cNvPr id="104"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fontScale="87000"/>
          </a:bodyPr>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rform a self assessment on your agency’s program</a:t>
            </a:r>
            <a:endParaRPr b="0" lang="en-US" sz="24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termine where your program currently is and where you want to get to in the future program</a:t>
            </a:r>
            <a:endParaRPr b="0" lang="en-US" sz="20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your agency’s system interface requirements</a:t>
            </a:r>
            <a:endParaRPr b="0" lang="en-US" sz="2400" spc="-1" strike="noStrike">
              <a:solidFill>
                <a:srgbClr val="000066"/>
              </a:solidFill>
              <a:latin typeface="Arial"/>
            </a:endParaRPr>
          </a:p>
          <a:p>
            <a:pPr marL="298440" indent="-2984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 needs assessment document</a:t>
            </a:r>
            <a:endParaRPr b="0" lang="en-US" sz="24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tilize GSA guidance</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view other agencies’ SOWs, needs assessments, or tailored task orders</a:t>
            </a:r>
            <a:endParaRPr b="0" lang="en-US" sz="2000" spc="-1" strike="noStrike">
              <a:solidFill>
                <a:srgbClr val="000066"/>
              </a:solidFill>
              <a:latin typeface="Arial"/>
            </a:endParaRPr>
          </a:p>
          <a:p>
            <a:pPr lvl="1" marL="646200" indent="-2484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ek input from numerous areas within your agency (e.g., finance, policy, procurement, IT) by surveying stakeholders, holding forums, etc.</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6D91D879-A8E4-4307-A7AA-A83AD1B6F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Determine Task Order Placement</a:t>
            </a:r>
            <a:endParaRPr b="1" lang="en-US" sz="4000" spc="-1" strike="noStrike">
              <a:solidFill>
                <a:srgbClr val="a50021"/>
              </a:solidFill>
              <a:latin typeface="Arial"/>
            </a:endParaRPr>
          </a:p>
        </p:txBody>
      </p:sp>
      <p:sp>
        <p:nvSpPr>
          <p:cNvPr id="106" name="PlaceHolder 2"/>
          <p:cNvSpPr>
            <a:spLocks noGrp="1"/>
          </p:cNvSpPr>
          <p:nvPr>
            <p:ph/>
          </p:nvPr>
        </p:nvSpPr>
        <p:spPr>
          <a:xfrm>
            <a:off x="685440" y="1905120"/>
            <a:ext cx="7924680" cy="350496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ach agency’s/organization’s Chief Financial Officer (CFO), Chief Acquisition Officer (CAO), and Procurement Executive (PE), or designees of each, are </a:t>
            </a:r>
            <a:r>
              <a:rPr b="0" lang="en-US" sz="2400" spc="-1" strike="noStrike">
                <a:solidFill>
                  <a:srgbClr val="000066"/>
                </a:solidFill>
                <a:latin typeface="Arial"/>
              </a:rPr>
              <a:t>	</a:t>
            </a:r>
            <a:r>
              <a:rPr b="0" lang="en-US" sz="2400" spc="-1" strike="noStrike">
                <a:solidFill>
                  <a:srgbClr val="000066"/>
                </a:solidFill>
                <a:latin typeface="Arial"/>
              </a:rPr>
              <a:t>responsible for making the decision on how the agency/organization will place a task order</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FO, CAO, and PE, or designees, may allow various organizational elements to place their task order directly with the Contractor or may ask GSA to do so on their behalf</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A87214F1-0018-4C3A-8D45-4437475658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77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rmine Task Order Placement (cont’d)</a:t>
            </a:r>
            <a:endParaRPr b="1" lang="en-US" sz="3600" spc="-1" strike="noStrike">
              <a:solidFill>
                <a:srgbClr val="a50021"/>
              </a:solidFill>
              <a:latin typeface="Arial"/>
            </a:endParaRPr>
          </a:p>
        </p:txBody>
      </p:sp>
      <p:sp>
        <p:nvSpPr>
          <p:cNvPr id="108" name="PlaceHolder 2"/>
          <p:cNvSpPr>
            <a:spLocks noGrp="1"/>
          </p:cNvSpPr>
          <p:nvPr>
            <p:ph/>
          </p:nvPr>
        </p:nvSpPr>
        <p:spPr>
          <a:xfrm>
            <a:off x="685440" y="1752120"/>
            <a:ext cx="7924680" cy="3505320"/>
          </a:xfrm>
          <a:prstGeom prst="rect">
            <a:avLst/>
          </a:prstGeom>
          <a:noFill/>
          <a:ln w="0">
            <a:noFill/>
          </a:ln>
        </p:spPr>
        <p:txBody>
          <a:bodyPr lIns="90000" rIns="90000" tIns="46800" bIns="46800" anchor="t">
            <a:normAutofit fontScale="82000"/>
          </a:bodyPr>
          <a:p>
            <a:pPr marL="281160" indent="-2811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partment Level – one task order is issued on behalf of all departmental components</a:t>
            </a:r>
            <a:endParaRPr b="0" lang="en-US" sz="2400" spc="-1" strike="noStrike">
              <a:solidFill>
                <a:srgbClr val="000066"/>
              </a:solidFill>
              <a:latin typeface="Arial"/>
            </a:endParaRPr>
          </a:p>
          <a:p>
            <a:pPr lvl="1" marL="609120" indent="-2343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components of the department would have the same Contractor for a business line</a:t>
            </a:r>
            <a:endParaRPr b="0" lang="en-US" sz="2000" spc="-1" strike="noStrike">
              <a:solidFill>
                <a:srgbClr val="000066"/>
              </a:solidFill>
              <a:latin typeface="Arial"/>
            </a:endParaRPr>
          </a:p>
          <a:p>
            <a:pPr lvl="1" marL="609120" indent="-2343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strategy maximizes buying leverage with Contractor(s) and may streamline agency processes</a:t>
            </a:r>
            <a:endParaRPr b="0" lang="en-US" sz="2000" spc="-1" strike="noStrike">
              <a:solidFill>
                <a:srgbClr val="000066"/>
              </a:solidFill>
              <a:latin typeface="Arial"/>
            </a:endParaRPr>
          </a:p>
          <a:p>
            <a:pPr marL="281160" indent="-2811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onent Levels of the Department – department allows various organizational elements to place their task orders directly with the Contractor(s)</a:t>
            </a:r>
            <a:endParaRPr b="0" lang="en-US" sz="2400" spc="-1" strike="noStrike">
              <a:solidFill>
                <a:srgbClr val="000066"/>
              </a:solidFill>
              <a:latin typeface="Arial"/>
            </a:endParaRPr>
          </a:p>
          <a:p>
            <a:pPr lvl="1" marL="609120" indent="-2343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strategy maximizes the department’s flexibility, but may result in higher pricing and/or multiple streams of financial data from different sources</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EE134E5C-2CC1-4C8D-A7E5-DAEAF00BA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0T12:10:32Z</dcterms:created>
  <dc:creator>Andy Black</dc:creator>
  <dc:description/>
  <dc:language>en-US</dc:language>
  <cp:lastModifiedBy>MalcolmFoo</cp:lastModifiedBy>
  <cp:lastPrinted>2000-10-09T13:28:30Z</cp:lastPrinted>
  <dcterms:modified xsi:type="dcterms:W3CDTF">2006-08-18T14:34:57Z</dcterms:modified>
  <cp:revision>371</cp:revision>
  <dc:subject/>
  <dc:title>No Slide Title</dc:title>
</cp:coreProperties>
</file>