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1F20-3E62-4BC1-AA53-11EEEBD9A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63BF-1B5F-4578-8031-A86FCED55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E037-78A7-4785-881D-43A05C486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720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7448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3992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720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7448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2F5A-061D-4331-BBE8-2F518677E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87160" y="54252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34A6-7D77-4FA6-8A8B-8033B18CC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0720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74480" y="236232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3992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0720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74480" y="45118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3F29-6DB4-43FF-BA8C-F4780B9E5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1209-B890-40B6-A6B1-B7BE5F871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159A-EA5D-4AC3-B538-63758BC1A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87160" y="54252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0C34-8761-4051-AAC7-8F51BF176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7199-46F7-4A10-9FAF-B8E218EDB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120" y="45118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A003-5958-4412-A397-43F153548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99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120" y="236232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9920" y="451188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FF66-43D5-480E-BC39-283E6E3C7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87160" y="542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39920" y="2362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E9A5-B0AE-494B-93E6-2EFBCEA4C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18804000">
            <a:off x="1016280" y="2407680"/>
            <a:ext cx="73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</a:rPr>
              <a:t>D R A F 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6996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98440" y="4040280"/>
            <a:ext cx="6885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 Jones-Le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States Environmental Protection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 of Research &amp;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L-Environmental Sciences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Chemistry Bra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 Nev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5400" y="1603440"/>
            <a:ext cx="77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mical markers of human waste contamination in source waters: A simplified analyt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6400" y="5835600"/>
            <a:ext cx="693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92000" y="1420920"/>
            <a:ext cx="7259760" cy="4290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2560" y="246240"/>
            <a:ext cx="790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. Portland Maine WWTP &amp;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Fore River Ma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A26906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A26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7301-06F9-4716-8C89-E54E741A84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5600" y="441000"/>
            <a:ext cx="77850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Yarmouth Boat Landing     &amp; Yarmouth POTW</a:t>
            </a:r>
            <a:br>
              <a:rPr sz="2400"/>
            </a:b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AA26903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AA26902</a:t>
            </a:r>
            <a:endParaRPr b="1" i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102120" y="307512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92120" y="1492200"/>
            <a:ext cx="5838840" cy="410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1880" y="5673600"/>
            <a:ext cx="769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Yarmouth water supply tested positive for coliform Aug and Oct 200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ples were collected Nov 2002.  Royal River Yarmouth Town Landing same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A1E0-90F8-4004-8856-119FF29EC0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87160" y="223920"/>
            <a:ext cx="61722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Hampden Boat Landing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360" y="1130400"/>
            <a:ext cx="8283600" cy="50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39ED-DAB1-4265-9A4C-BEF9CDECFF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4600" y="0"/>
            <a:ext cx="778356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New England –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gion 1 Connecticut</a:t>
            </a:r>
            <a:br>
              <a:rPr sz="2800"/>
            </a:b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9 sites</a:t>
            </a:r>
            <a:endParaRPr b="1" i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2120" y="1387440"/>
          <a:ext cx="8704080" cy="3313080"/>
        </p:xfrm>
        <a:graphic>
          <a:graphicData uri="http://schemas.openxmlformats.org/drawingml/2006/table">
            <a:tbl>
              <a:tblPr/>
              <a:tblGrid>
                <a:gridCol w="6251400"/>
                <a:gridCol w="798480"/>
                <a:gridCol w="1262160"/>
                <a:gridCol w="392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obil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ithromyc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23 – 1.64 miles downstream Manchester WW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24 – rural stream no housing in the immediate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25 – densely populated 60% stream flow wastewater 1.25mi upstr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26 – stream flow 70% wastewat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27 --  stream flow 90% waste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28 --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lected 0.8 km downstream from a senior hous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ominium complex, which has its own small WWT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29 0.65 mi from WW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30 field duplicate of 29829 but collected 15 min a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31 – 2mi downstream WWTP – failed septic systems 90% waste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9832 – 2mi downstream WWTP – stream flow 40 % waste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ol bl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30040" y="5443560"/>
            <a:ext cx="856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 of the Connecticut samples were collected directly from WWTPs. Most were located 1 km or greater from WWTP sewage outfalls, yet both urobilin and azithromycin were detected in some samp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0960" y="4743360"/>
            <a:ext cx="49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d = non-detect; † positive MS/MS identification, but below LO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56DA-4C78-47ED-B9DB-0FA408ABDD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7160" y="542880"/>
            <a:ext cx="61722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Conclusions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8800" y="1212480"/>
            <a:ext cx="7618320" cy="21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ion of urobilin, along w/ a human-use drugs can equivocally show that human waste is entering a water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tiary/secondary treatment does not seem to efficiently remove azithromycin, as evidenced by its detection at both the Sanford and Portland WWTPs, as they both have similar environmental loadings, 0.5 kg/yr and 0.6 kg/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33840" y="3208320"/>
            <a:ext cx="40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Future Researc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7440" y="4210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 correlations between urobilin, nitrate, and coliform levels using principal component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FF12-A60A-4B49-A90D-7328FF573B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93520" y="3548160"/>
            <a:ext cx="61722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NOTICE</a:t>
            </a:r>
            <a:endParaRPr b="1" i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4160520"/>
            <a:ext cx="85932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86"/>
              </a:spcBef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this work was reviewed by EPA and approved for publication, it may not necessarily reflect official Agency policy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ntion of trade names or commercial products does not constitute endorsement or recommendation for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47760" y="276120"/>
            <a:ext cx="63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Acknowle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880" y="973080"/>
            <a:ext cx="809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Y Miyabara, Shinshu University - Education and Research Center for Inlandwater Environment, for his very thoughtful discussions regarding urobilin as a human waste marker; Dr. Jaci Batista, University of Nevada-Las Vegas for sharing Southern Nevada site information; Mr. Peter Philbrook, USEPA Region 1, for sharing his environmental extracts; and Ms. Elizabeth Sams, USEPA ORD/NHEERL, for sampling throughout the summer 2004, at Lake Michig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DF53-FBFE-4DA4-B83C-9D7D9A309F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03000" y="223920"/>
            <a:ext cx="61722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Introduction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0680" y="1106640"/>
            <a:ext cx="82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ing public water authorities a tool to monitor and measure levels of human waste contamination of waters simply and rapidly would enhance public prot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s shed in feces and urine might be used to detect human waste contamination of environmental wa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e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obi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human-use drugs affiliated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obilin can help define the waste as hum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zithromycin (antibiotic) and methamphetamine (substance of abuse) were det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68880" y="2803680"/>
            <a:ext cx="2882880" cy="1434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3880" y="4944960"/>
            <a:ext cx="3775320" cy="12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4A81-2636-48AC-A7D6-52BE2B84B6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39640" y="163440"/>
            <a:ext cx="61722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Experimental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7920" y="855720"/>
            <a:ext cx="855036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b samples collected, 1L or less, keep cool, above freezing but &lt;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until extraction w/in 24-h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 adjust to &lt; 3.0 with 12N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id phase ex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SIS HLB cartridges [Waters Corporation (Milford, MA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-mL capacity, 0.2 g, 30-µ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 cartridges 5 mL methanol followed by 5 mL DI water at a rate of  1 mL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samples, 500 mL, into 60-mL reservoirs (60 mLs at a time); start extractions w/ pump at a rate of 4 mL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y samples, via pump, for &lt; 5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 with 40 mL methanol:1%acetic acid at a rate of 1mL/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gen blow-down extract to 0.5 mL – ready for LC/M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5800" y="4262400"/>
            <a:ext cx="333360" cy="71280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5600" y="4965840"/>
            <a:ext cx="164880" cy="35712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1200" y="3718080"/>
            <a:ext cx="189000" cy="558720"/>
          </a:xfrm>
          <a:prstGeom prst="downArrow">
            <a:avLst>
              <a:gd name="adj1" fmla="val 50000"/>
              <a:gd name="adj2" fmla="val 739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56000" y="3490920"/>
            <a:ext cx="1863720" cy="45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83720" y="3776760"/>
            <a:ext cx="276732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24200" y="2505240"/>
            <a:ext cx="1627200" cy="34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65280" y="2766960"/>
            <a:ext cx="1519200" cy="23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 rot="8335200">
            <a:off x="151920" y="2765520"/>
            <a:ext cx="754200" cy="83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2592-400E-40A6-BB03-8DA2CFA047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7168 L 4.16667E-006 0.23167 E">
                                      <p:cBhvr>
                                        <p:cTn id="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9160" y="198000"/>
            <a:ext cx="6256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Experimental con’t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627120"/>
            <a:ext cx="894888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-electrospray-ion trap mass spectrometer (ThermoQuest Finnigan LC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58720" y="3419640"/>
            <a:ext cx="3152880" cy="2855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464000" y="2992320"/>
            <a:ext cx="4205160" cy="31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S-IT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ionization m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ing - scanned from 120 to 830 amu (full-scan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ted capillary - 215°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quantifying and confirming - Two other modes, selected ion monitoring (SIM) and collision-induced dissociation (CID), wer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7360" y="1397160"/>
            <a:ext cx="7137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P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18 RP, 5 µm particle size, 150 × 3.2 mm liquid chromatography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rate of 0.40 mL min–1, and a 40:60 split after the column, such that 40% of the flow (160 µL min–1) goes to the ES-IT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phase: A: 99% water/1 mM ammonium acetate/0.1% acetic acid/1% methanol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: 98% methanol/1 mM ammonium acetate/0.1% acetic acid/2% wat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% mobile phase A (hold for 1 min) to 100% mobile phase B (hold for 5 min) over a 20-min gradient, with a 5-min equilibrium between r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D3FD-72CD-4BD4-B435-5E27DE5B6E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9640" y="150480"/>
            <a:ext cx="61722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Experimental cont</a:t>
            </a:r>
            <a:endParaRPr b="1" i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760" y="760320"/>
            <a:ext cx="8609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mits-of-detection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sing regression analysis on the data obtained from analyzing urobilin at four different concentrations, using full scan mode, the LOD for urobilin was calculated as 32 pg (r2 = 0.999) on-colum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Collision energy =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760" y="2400480"/>
            <a:ext cx="8602560" cy="3728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39880" y="4710240"/>
            <a:ext cx="3122640" cy="94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ED0B-36A7-4C0A-B14B-8C4B0A6661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8680" y="179280"/>
            <a:ext cx="617220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Sampling Sites</a:t>
            </a:r>
            <a:endParaRPr b="1" i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7960" y="1226880"/>
            <a:ext cx="673272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west – 1 site in Southern Nev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Lakes – 2 sites on Lake Michi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48440" y="287280"/>
            <a:ext cx="180972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95440" y="4518000"/>
            <a:ext cx="2143080" cy="144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916360" y="4354560"/>
            <a:ext cx="5949720" cy="21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England – 18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in 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in Connectic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325680" y="2849400"/>
            <a:ext cx="2943360" cy="12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C616-8907-42B3-BF81-433AC69700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85640" y="237600"/>
            <a:ext cx="61722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Southern Nevada – 1 site</a:t>
            </a:r>
            <a:endParaRPr b="1" i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88480" y="1476360"/>
            <a:ext cx="63248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39840" y="1512720"/>
            <a:ext cx="6940440" cy="433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2911-A2C9-4627-94B9-72AE27BAD8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6880" y="542520"/>
            <a:ext cx="881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Great Lakes – 2 sites </a:t>
            </a:r>
            <a:br>
              <a:rPr sz="3600"/>
            </a:br>
            <a:r>
              <a:rPr b="1" i="1" lang="en-US" sz="2000" spc="-1" strike="noStrike">
                <a:solidFill>
                  <a:srgbClr val="ff9900"/>
                </a:solidFill>
                <a:latin typeface="Times New Roman"/>
                <a:ea typeface="Arial"/>
              </a:rPr>
              <a:t>Lake Michigan beach site 1 (Silver Beach)     </a:t>
            </a:r>
            <a:br>
              <a:rPr sz="2000"/>
            </a:br>
            <a:r>
              <a:rPr b="1" i="1" lang="en-US" sz="2000" spc="-1" strike="noStrike">
                <a:solidFill>
                  <a:srgbClr val="ff9900"/>
                </a:solidFill>
                <a:latin typeface="Times New Roman"/>
                <a:ea typeface="Arial"/>
              </a:rPr>
              <a:t>  Lake Michigan beach site 2 (Washington Beach)</a:t>
            </a:r>
            <a:br>
              <a:rPr sz="2000"/>
            </a:br>
            <a:endParaRPr b="1" i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64960" y="1955880"/>
          <a:ext cx="8317080" cy="3948120"/>
        </p:xfrm>
        <a:graphic>
          <a:graphicData uri="http://schemas.openxmlformats.org/drawingml/2006/table">
            <a:tbl>
              <a:tblPr/>
              <a:tblGrid>
                <a:gridCol w="4597560"/>
                <a:gridCol w="2930400"/>
                <a:gridCol w="78912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obilin           Azithromyc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/L                        n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ke Michigan beach site 1 (Silver Beach)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e 29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y 13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y 27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 17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tember 8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                            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                            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                            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                            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s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ke Michigan beach site 2 (Washington Beac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e 29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y 13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y 27, 2004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 17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tember 8,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s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                           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                           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                           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                           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3014-8400-4652-A684-999F9611FB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1440" y="193320"/>
            <a:ext cx="811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New England –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gion 1 Maine </a:t>
            </a:r>
            <a:br>
              <a:rPr sz="2800"/>
            </a:b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9 sites</a:t>
            </a:r>
            <a:endParaRPr b="1" i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35080" y="20160"/>
            <a:ext cx="54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3560" y="1582560"/>
          <a:ext cx="8110800" cy="3603960"/>
        </p:xfrm>
        <a:graphic>
          <a:graphicData uri="http://schemas.openxmlformats.org/drawingml/2006/table">
            <a:tbl>
              <a:tblPr/>
              <a:tblGrid>
                <a:gridCol w="5051520"/>
                <a:gridCol w="971640"/>
                <a:gridCol w="1509840"/>
                <a:gridCol w="577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obil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ithromyc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0a – Sanford WW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0b   laboratory duplic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1    400 ft downstream Sanford WW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2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Yarmouth POT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2b   laboratory duplica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3    Royal River La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4    Lewiston WW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5    Androscoggin River 0.8 mi downstrea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wiston WW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6    South Portland WW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7    Fore River - mar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26909    Hampden boat la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53880" y="5564880"/>
            <a:ext cx="732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d = non-detect; † positive MS/MS identification, but below LOQ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thamphetamine detected: 5 ng/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07B7-20E6-4ED6-9EB3-CC7BEFF259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7:09:55Z</dcterms:created>
  <dc:creator>dermont</dc:creator>
  <dc:description/>
  <dc:language>en-US</dc:language>
  <cp:lastModifiedBy>Tammy Jones-Lepp</cp:lastModifiedBy>
  <dcterms:modified xsi:type="dcterms:W3CDTF">2006-05-09T21:13:00Z</dcterms:modified>
  <cp:revision>776</cp:revision>
  <dc:subject/>
  <dc:title>SS briefing</dc:title>
</cp:coreProperties>
</file>