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36CA-1477-4B25-A1BA-E66B07023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796A-4BD4-4973-9419-950C6519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C0C8-5503-4FB3-B1AE-25A2CE7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7EAC-6E39-4F74-B10C-FF21328F9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B970-9047-4B20-B088-4576473A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0E08-0D1D-43DA-94DD-F653F91E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90D7-E814-4B5B-B3D3-BD078B8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49CC-CBA8-4DDA-8CC2-5B331ED3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E50C-92E1-40C0-90C4-EA7BDA54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1C9B-2BE8-489E-A652-381A2C27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BB23-3802-4347-BB8A-33F4E87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75FC-CABA-4707-B419-82164E9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CBF3-5869-4BB8-95C7-2C3EF4C67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F FOODBORNE PATHOGENS IN MEAT PRODUCTS BY SANITATION, DRYING AND ANTIMICROBIALS</a:t>
            </a:r>
            <a:br>
              <a:rPr sz="32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N. Sof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ado State Univers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.Sofos@colostate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200240"/>
          <a:ext cx="914256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0240"/>
                    <a:ext cx="914256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rot="16200000">
            <a:off x="306000" y="2741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352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39080" y="31082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39080" y="35053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3413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260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413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260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336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1845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124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955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39080" y="4556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39080" y="47847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946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403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572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572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9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adap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vacuum packaged bee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treated:    , Water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Water (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Lac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  or Ace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4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914400"/>
            <a:ext cx="228600" cy="22860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914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533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609480"/>
            <a:ext cx="152640" cy="152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adap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vacuum packaged bee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treated:    , Water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Water (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, Lac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     or Acetic acid (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560" y="1143000"/>
          <a:ext cx="909144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143000"/>
                    <a:ext cx="90914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48320" y="6094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914400"/>
            <a:ext cx="228600" cy="22860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914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33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06000" y="2665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39080" y="4495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39080" y="2438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2666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3962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390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343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651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676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209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267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419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590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676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4419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133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449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098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946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609480"/>
            <a:ext cx="152640" cy="152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organic acids (acetic or lactic acid) to meat can reduce levels of contamination and then inhibit grow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ring storage at 4 or 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water decreased the initial popul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meat, growth of the pathogen occurred during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acid-adaptation of this strain did not enhance growth on meat treated with acid or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udy emphasizes the importance of long-term residual effects of acid and water decontamination treatments and storage temperatures on meat saf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PROCESSES TO DESTRO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157:H7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ERIA MONOCYTOGE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OLE MUSCLE HOME DRIED BEEF JER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survival of inocul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157:H7 populations during preparation of whole muscle beef jerky with and without marinade and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5600" y="30492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332640" y="2362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9544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67560" y="5954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15480" y="5954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19640" y="128124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756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1548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5238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symbols = T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mbols = S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065600" y="30492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332640" y="2362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609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67560" y="609480"/>
            <a:ext cx="625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15480" y="609480"/>
            <a:ext cx="625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128124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.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6756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5480" y="128124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.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15238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symbols = TS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mbols = S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065600" y="9216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 (68.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2860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d symbols = T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mbols = S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29400" y="22309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53352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ter = 9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15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53352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inate/store at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24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0666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son/store at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24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t brine = 7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9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1600200"/>
            <a:ext cx="29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etic acid (2.5%), 57.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2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1920" y="457200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 (68.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724280" y="4419720"/>
            <a:ext cx="4343400" cy="990000"/>
            <a:chOff x="4724280" y="4419720"/>
            <a:chExt cx="4343400" cy="990000"/>
          </a:xfrm>
        </p:grpSpPr>
        <p:sp>
          <p:nvSpPr>
            <p:cNvPr id="170" name=""/>
            <p:cNvSpPr/>
            <p:nvPr/>
          </p:nvSpPr>
          <p:spPr>
            <a:xfrm>
              <a:off x="4724280" y="4419720"/>
              <a:ext cx="175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ater = 9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15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0280" y="4419720"/>
              <a:ext cx="175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inate/store at 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24 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4647960"/>
              <a:ext cx="2133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ason/store at 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24 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464796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t brine = 78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, 9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4280" y="5181480"/>
              <a:ext cx="2971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cetic acid (2.5%), 57.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20 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141920" y="15228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157:H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f Jerky (62.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52520" y="708120"/>
          <a:ext cx="7256520" cy="544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708120"/>
                    <a:ext cx="725652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718080" y="11736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286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terial counts (TSA+0.1% pyruvate) on jerky (dried at 60.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) inoculated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157:H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2480" y="44197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0 log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800600"/>
            <a:ext cx="678168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ITIZER INACTIVATION OF ACID-ADAPTED AND NONADAP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OFIL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373480"/>
            <a:ext cx="79250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valuate the antimicrobial effects of sodium hypochlorite (200 ppm, pH 10.4), pH-adjusted (pH 6.8) sodium hypochlorite (200 ppm), a quaternary ammonium compound (200 ppm), and peroxyacetic acid (150 ppm) on biofilms produced by previously acid-adapted or nonadap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oculated in fresh beef decontamination was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82760" y="531720"/>
          <a:ext cx="7719840" cy="5791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31720"/>
                    <a:ext cx="7719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04840" y="36504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ival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beef jerky—(PALC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181480"/>
            <a:ext cx="685800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46480" y="48769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0 log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ditional marination procedure did not result in a 5 log reduction of either patho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, the traditional marination procedure may provide protection/resistance of pathogens during d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application of pre-drying treatments or modified marination was more detrimental to either pathogen than the control or traditional procedures and more detrimenta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157:H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l injury may be occurring during d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S TO CONTROL POST-PROCESSING CONTAMINATION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ORK FRANKFURTERS AND SLICED BOLOGNA STORED AT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 VACUUM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 evaluate antimicrobials or their combinations in the formulation of frankfurters, or as dipping solutions for bologna slices, against surface inocul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peeling/slicing and before vacuum packag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822240"/>
          <a:ext cx="9110520" cy="52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1052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rot="16200000">
            <a:off x="442080" y="306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1040" y="487692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804960"/>
          <a:ext cx="914400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4960"/>
                    <a:ext cx="914400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 rot="16200000">
            <a:off x="305640" y="306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58760" y="481500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804960"/>
          <a:ext cx="914400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4960"/>
                    <a:ext cx="914400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rot="16200000">
            <a:off x="288360" y="3061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8760" y="487692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0" y="711360"/>
          <a:ext cx="908064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1360"/>
                    <a:ext cx="908064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 rot="16200000">
            <a:off x="229320" y="3137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rot="16200000">
            <a:off x="366120" y="3442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1200" y="5334120"/>
            <a:ext cx="77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ogna slices inoculate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n immersed (1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oculated (2-3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n bologna slices before vacuum packaging reached high populations (&gt; 7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10-20 days of storage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rsion of inoculated bologna slices in acetic acid (2.5 and 5%), lactic acid (5%), sodium diacetate (5%) or potassium benzoate (5%) inhibi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over 90 days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immersion concentrations of lactic acid (2.5%) and sodium diacetate (2.5%), or immersion in sodium acetate (2.5 and 5%), and sodium lactate (5 and 10%) exhibited lower levels of inhibi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this study revealed that post-processing contam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controlled in cured meat products by post-processing exposure to solutions of acetic, lactic, benzoic or sorbic acid or their sal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y evaluation studies should be performed, however to refine the concentrations needed and to determine their effects in product shelf-life before the commercial application of any of the effective treatments of this stu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of antimicrobial effects at abusive temperature is also suggested and technological innovations are needed for commercial application of the trea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rot="16200000">
            <a:off x="213480" y="373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47680" y="2666880"/>
            <a:ext cx="65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d symbols = acid-adapted cells; open symbols = nonadapted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4880" y="304920"/>
            <a:ext cx="7745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inless steel attached cells; fresh beef washings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 days) inocul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369000" y="3429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952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kfurters with antimicrobials included in the formulation inocul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 rot="16200000">
            <a:off x="366120" y="3429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572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oculated frankfurters dipped in hot (7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water; open symbols = 1 frankfurter/bag; closed symbols = 2 frankfurters/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rot="16200000">
            <a:off x="275400" y="3518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997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kfurters with antimicrobials included in the formulation inocul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oculated (2-4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n frankfurters after peeling exceed 7 log CFU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20-35 day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n vacuum pa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ble concentrations of sodium acetate and sodium diacetate (both at  0.25% of the total formulation weight) were inhibitory to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oculated on frankfurters post-processing for up to 30 days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missible concentration of sodium lactate (3% of the total formulation weight) inhibited growth of the pathogen for 50 to 70 days during storage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nder the experiment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f the permissible concentrations of sodium acetate to 0.5% did not affect grow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more than 20 days, while by doubling their permissible concentrations,  sodium diacetate and sodium lactate exhibited complete control for 120 days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pplied, post-packaging thermal pasteurization (75-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30-90sec) had variable effects in reducing initial contamination and was not effective or reliable in controlling growth of L. monocytogenes during storage, especially when two frankfurters were included in a pack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crease in the permissible concentrations of antimicrobials in frankfurters could be avoided by combining a lower level of sodium lactate (1.8%) with sodium acetate (0.25%) or sodium diacetate (0.25%); these combinations inhibited growth of the pathogen for up to 120 days at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t-packaging thermal treatment may enhance the inhibitory activity of the combined antimicrobials during storage at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adequate levels of antimicrobials or their combinations, in the formulation of cooked meat products, needs to be evaluated for effects on product quality and shelf-life, and for antimicrobial effects at abusive tempera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E. Be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A. Kend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A. Sc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R. Schmi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C. 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Do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Same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Ik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 Caliciog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Assoc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ts val="25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L. K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6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bushelai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 Alb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And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B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Be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Burnh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Derrick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DiPers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 Lakkak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Ran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Segom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Stop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. Y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5257800"/>
            <a:ext cx="5638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DA-CS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ado Agricultural Experiment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Pork Producers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47680" y="2590920"/>
            <a:ext cx="65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d symbols = acid-adapted cells; open symbols = nonadapted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4120" y="380880"/>
            <a:ext cx="7917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ttached cells; fresh beef washings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 days) inoculated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steria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nocyto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5800"/>
            <a:ext cx="82296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acid adaptation did not affect biofilm formation or inacti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ct biofilms were more resistant to inactivation than biofilm cells (deattached) removed into susp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xyacetic acid was more effective on the attached cells of the natural flora than those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.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xyacetic acid was relatively less effective on biofilm cells in suspension than on attached biofilm cells when compared with the other sanitiz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hypochlorite adjusted to pH 6.8 was more effective than when unadjusted (pH 10.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FRESH MEAT DECONTAMIN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S AT 4 AND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valuate the potential for survival and growth of acid-adapted, partially acid-adapted or nonadap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ria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cid or nonacid (water) spray-washings of fresh beef at low temperatures to simulate conditions encountered in the meat industr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804960"/>
          <a:ext cx="914400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4960"/>
                    <a:ext cx="914400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77160" y="152280"/>
            <a:ext cx="68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ria monocytog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meat was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surviv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monocytoge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maximum 4 days may be expected in undiluted acidic (lactate or acetate) meat decontamination washings, or mixed with water washings, when the resulting pH is less than 4.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containing washings with a pH above 4.0 may support survival and potential growth for extended times, while in nonacid (water) washings the pathogen may increase to high numb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SH BEEF DECONTAMINATION AND POPULATI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RIA MONOCYTOGEN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VACUUM-PACKAGED STORAGE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(pH 6.7, 5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(pH 6.7,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(2%, pH 2.3, 5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c acid (2%, pH 2.8, 5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0:20:09Z</dcterms:created>
  <dc:creator>Mindy Kain</dc:creator>
  <dc:description/>
  <dc:language>en-US</dc:language>
  <cp:lastModifiedBy>OPPDE, FSIS</cp:lastModifiedBy>
  <dcterms:modified xsi:type="dcterms:W3CDTF">2001-06-21T18:42:47Z</dcterms:modified>
  <cp:revision>6</cp:revision>
  <dc:subject/>
  <dc:title>CONTROL OF FOODBORNE PATHOGENS IN MEAT PRODUCTS BY SANITATION, DRYING AND ANTIMICROBIA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eb Pages\RDAD Web Pages\97-01N files from Dan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